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12FDB-BC88-40A5-B66C-27682FB7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CB37-B0D1-4509-BA28-D0208AC8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D27B-5F0A-456B-B034-B43B019A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15042-4EFF-4873-A601-1B89BB12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D8F5-0AC4-40FD-AB23-AA0497A6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09B5-BB8C-4FD7-AC6C-3DC762A0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7ED5-1FB2-4FF3-A5C2-5AC127A9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986-20CE-4389-B809-EE547B4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428B-8E36-4405-9176-C12CA5C0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09E9-6EBA-4AAE-946A-1610452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28E-7A5D-478A-B109-67FF4196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BF90-6B94-45D6-99ED-1FF3EDC5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38B0-2F0A-4BB1-BF58-613ED14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403-06D4-42D9-91F0-8637DC0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5ADF-CBB8-4759-BA34-1AD9343B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69B8-7D7E-4A10-AEB4-F0248527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4D8-1F65-4D5D-850A-8D8BB8E1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45B1-D8D6-4B56-92FE-6FC83A65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A0BA-D285-48A2-AD78-A24778E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3305-7236-4815-A2C2-1E3229A1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479E-153A-4077-989A-A250D3DA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FF8AF-29FA-4277-A77B-4B3A927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8AF5-A918-42E8-B0A6-7C123429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CD037-01A7-4B28-A565-3D301BA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3825-78B0-414C-AA54-FB25F5FD8BC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A98D-EF45-45C1-8E4D-D2D5503EB2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单击此处添加标题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5f7b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日程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1828800" y="182880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828800" y="266688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3d4969"/>
              </a:gs>
              <a:gs pos="50000">
                <a:srgbClr val="839ee3"/>
              </a:gs>
              <a:gs pos="100000">
                <a:srgbClr val="3d4969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828800" y="3505320"/>
            <a:ext cx="5410080" cy="53316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305e55"/>
              </a:gs>
              <a:gs pos="50000">
                <a:srgbClr val="68ccb7"/>
              </a:gs>
              <a:gs pos="100000">
                <a:srgbClr val="305e55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828800" y="434340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716138"/>
              </a:gs>
              <a:gs pos="50000">
                <a:srgbClr val="f4d17a"/>
              </a:gs>
              <a:gs pos="100000">
                <a:srgbClr val="71613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 </a:t>
            </a: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循环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f4f4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1412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fcad3"/>
              </a:gs>
              <a:gs pos="100000">
                <a:srgbClr val="323f4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f385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8ccb7"/>
              </a:gs>
              <a:gs pos="100000">
                <a:srgbClr val="305e5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4482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23180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163640" y="241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37372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55276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9ee3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Text Box 29"/>
          <p:cNvSpPr/>
          <p:nvPr/>
        </p:nvSpPr>
        <p:spPr>
          <a:xfrm>
            <a:off x="101484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流程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d4969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05e55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161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61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5e55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4969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框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3118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559400" y="29718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819520" y="29718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0540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2040" y="1477800"/>
            <a:ext cx="6436800" cy="1387800"/>
            <a:chOff x="1112040" y="1477800"/>
            <a:chExt cx="6436800" cy="1387800"/>
          </a:xfrm>
        </p:grpSpPr>
        <p:sp>
          <p:nvSpPr>
            <p:cNvPr id="136" name="Rectangle 10"/>
            <p:cNvSpPr/>
            <p:nvPr/>
          </p:nvSpPr>
          <p:spPr>
            <a:xfrm rot="3418800">
              <a:off x="1322640" y="1702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360" y="1874520"/>
              <a:ext cx="932040" cy="131760"/>
              <a:chOff x="2286360" y="1874520"/>
              <a:chExt cx="932040" cy="131760"/>
            </a:xfrm>
          </p:grpSpPr>
          <p:sp>
            <p:nvSpPr>
              <p:cNvPr id="138" name="Oval 12"/>
              <p:cNvSpPr/>
              <p:nvPr/>
            </p:nvSpPr>
            <p:spPr>
              <a:xfrm>
                <a:off x="228636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2375640" y="18756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4"/>
              <p:cNvSpPr/>
              <p:nvPr/>
            </p:nvSpPr>
            <p:spPr>
              <a:xfrm>
                <a:off x="307728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315252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6"/>
            <p:cNvSpPr/>
            <p:nvPr/>
          </p:nvSpPr>
          <p:spPr>
            <a:xfrm rot="3418800">
              <a:off x="304380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007520" y="1874520"/>
              <a:ext cx="932040" cy="131760"/>
              <a:chOff x="4007520" y="1874520"/>
              <a:chExt cx="932040" cy="131760"/>
            </a:xfrm>
          </p:grpSpPr>
          <p:sp>
            <p:nvSpPr>
              <p:cNvPr id="144" name="Oval 18"/>
              <p:cNvSpPr/>
              <p:nvPr/>
            </p:nvSpPr>
            <p:spPr>
              <a:xfrm>
                <a:off x="400752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9"/>
              <p:cNvSpPr/>
              <p:nvPr/>
            </p:nvSpPr>
            <p:spPr>
              <a:xfrm>
                <a:off x="4096800" y="18756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0"/>
              <p:cNvSpPr/>
              <p:nvPr/>
            </p:nvSpPr>
            <p:spPr>
              <a:xfrm>
                <a:off x="479844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1"/>
              <p:cNvSpPr/>
              <p:nvPr/>
            </p:nvSpPr>
            <p:spPr>
              <a:xfrm>
                <a:off x="487368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22"/>
            <p:cNvSpPr/>
            <p:nvPr/>
          </p:nvSpPr>
          <p:spPr>
            <a:xfrm rot="3418800">
              <a:off x="4692600" y="16365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28680" y="1874520"/>
              <a:ext cx="1218600" cy="131760"/>
              <a:chOff x="5728680" y="1874520"/>
              <a:chExt cx="1218600" cy="131760"/>
            </a:xfrm>
          </p:grpSpPr>
          <p:sp>
            <p:nvSpPr>
              <p:cNvPr id="150" name="Oval 24"/>
              <p:cNvSpPr/>
              <p:nvPr/>
            </p:nvSpPr>
            <p:spPr>
              <a:xfrm>
                <a:off x="5728680" y="18745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>
                <a:off x="5845320" y="1875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6"/>
              <p:cNvSpPr/>
              <p:nvPr/>
            </p:nvSpPr>
            <p:spPr>
              <a:xfrm>
                <a:off x="6762600" y="18766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>
                <a:off x="6861240" y="19177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28"/>
            <p:cNvSpPr/>
            <p:nvPr/>
          </p:nvSpPr>
          <p:spPr>
            <a:xfrm rot="3418800">
              <a:off x="6413760" y="16365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0"/>
          <p:cNvSpPr/>
          <p:nvPr/>
        </p:nvSpPr>
        <p:spPr>
          <a:xfrm>
            <a:off x="159804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3505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49507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70356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16045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35700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510948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68623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表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54080" y="1328760"/>
          <a:ext cx="7196040" cy="7211880"/>
        </p:xfrm>
        <a:graphic>
          <a:graphicData uri="http://schemas.openxmlformats.org/drawingml/2006/table">
            <a:tbl>
              <a:tblPr/>
              <a:tblGrid>
                <a:gridCol w="1438200"/>
                <a:gridCol w="1150920"/>
                <a:gridCol w="1150920"/>
                <a:gridCol w="1150920"/>
                <a:gridCol w="1154160"/>
                <a:gridCol w="115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三维饼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2187720" y="41450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 rot="20601600">
            <a:off x="1461960" y="203148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 rot="20601600">
            <a:off x="151740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8"/>
          <p:cNvSpPr/>
          <p:nvPr/>
        </p:nvSpPr>
        <p:spPr>
          <a:xfrm rot="20601600">
            <a:off x="4390920" y="294156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9"/>
          <p:cNvSpPr/>
          <p:nvPr/>
        </p:nvSpPr>
        <p:spPr>
          <a:xfrm rot="20601600">
            <a:off x="4167360" y="1947960"/>
            <a:ext cx="28494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0"/>
          <p:cNvSpPr/>
          <p:nvPr/>
        </p:nvSpPr>
        <p:spPr>
          <a:xfrm flipH="1" rot="20602200">
            <a:off x="1599840" y="324288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1"/>
          <p:cNvSpPr/>
          <p:nvPr/>
        </p:nvSpPr>
        <p:spPr>
          <a:xfrm rot="20601600">
            <a:off x="3409920" y="16765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2"/>
          <p:cNvSpPr/>
          <p:nvPr/>
        </p:nvSpPr>
        <p:spPr>
          <a:xfrm flipH="1" rot="20602200">
            <a:off x="1371240" y="232848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 rot="20601600">
            <a:off x="4506480" y="319104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4"/>
          <p:cNvSpPr/>
          <p:nvPr/>
        </p:nvSpPr>
        <p:spPr>
          <a:xfrm rot="20601600">
            <a:off x="4400280" y="293796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88800" y="2615040"/>
            <a:ext cx="3251520" cy="2231280"/>
            <a:chOff x="3988800" y="2615040"/>
            <a:chExt cx="3251520" cy="2231280"/>
          </a:xfrm>
        </p:grpSpPr>
        <p:sp>
          <p:nvSpPr>
            <p:cNvPr id="177" name="Arc 16"/>
            <p:cNvSpPr/>
            <p:nvPr/>
          </p:nvSpPr>
          <p:spPr>
            <a:xfrm rot="20712600">
              <a:off x="4102200" y="297000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 rot="20712600">
              <a:off x="4186080" y="31590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 rot="20712600">
              <a:off x="5562000" y="33271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82360" y="2441160"/>
            <a:ext cx="3270960" cy="2463840"/>
            <a:chOff x="4482360" y="2441160"/>
            <a:chExt cx="3270960" cy="2463840"/>
          </a:xfrm>
        </p:grpSpPr>
        <p:sp>
          <p:nvSpPr>
            <p:cNvPr id="181" name="Freeform 19"/>
            <p:cNvSpPr/>
            <p:nvPr/>
          </p:nvSpPr>
          <p:spPr>
            <a:xfrm rot="20601600">
              <a:off x="6073560" y="32299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20"/>
            <p:cNvSpPr/>
            <p:nvPr/>
          </p:nvSpPr>
          <p:spPr>
            <a:xfrm rot="20539200">
              <a:off x="4625640" y="284904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20601600">
              <a:off x="4757760" y="306000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22"/>
          <p:cNvSpPr/>
          <p:nvPr/>
        </p:nvSpPr>
        <p:spPr>
          <a:xfrm rot="20601600">
            <a:off x="2979720" y="2584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3"/>
          <p:cNvSpPr/>
          <p:nvPr/>
        </p:nvSpPr>
        <p:spPr>
          <a:xfrm rot="20601600">
            <a:off x="3056040" y="281916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5871600" y="2405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4271400" y="1947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442600" y="270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21400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3966480" y="42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7920" y="3395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966960" y="3797280"/>
            <a:ext cx="1512720" cy="1511280"/>
            <a:chOff x="966960" y="3797280"/>
            <a:chExt cx="1512720" cy="1511280"/>
          </a:xfrm>
        </p:grpSpPr>
        <p:sp>
          <p:nvSpPr>
            <p:cNvPr id="193" name="Oval 37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ffffff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8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8bbe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9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386e63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0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04d6e"/>
                </a:gs>
                <a:gs pos="100000">
                  <a:srgbClr val="839e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1"/>
            <p:cNvSpPr/>
            <p:nvPr/>
          </p:nvSpPr>
          <p:spPr>
            <a:xfrm>
              <a:off x="1131840" y="39618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d4969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市场分析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92280" y="20858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ded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14840" y="3809880"/>
            <a:ext cx="1513080" cy="1511280"/>
            <a:chOff x="4614840" y="3809880"/>
            <a:chExt cx="1513080" cy="1511280"/>
          </a:xfrm>
        </p:grpSpPr>
        <p:sp>
          <p:nvSpPr>
            <p:cNvPr id="201" name="Oval 7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50000">
                  <a:srgbClr val="ffffff"/>
                </a:gs>
                <a:gs pos="100000">
                  <a:srgbClr val="9fca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c8e1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50000">
                  <a:srgbClr val="566d72"/>
                </a:gs>
                <a:gs pos="100000">
                  <a:srgbClr val="9fca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d6267"/>
                </a:gs>
                <a:gs pos="100000">
                  <a:srgbClr val="9fca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4779720" y="39744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a5d62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88280" y="3809880"/>
            <a:ext cx="1512720" cy="1511280"/>
            <a:chOff x="6488280" y="3809880"/>
            <a:chExt cx="1512720" cy="1511280"/>
          </a:xfrm>
        </p:grpSpPr>
        <p:sp>
          <p:nvSpPr>
            <p:cNvPr id="207" name="Oval 19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50000">
                  <a:srgbClr val="ffffff"/>
                </a:gs>
                <a:gs pos="100000">
                  <a:srgbClr val="f4d1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100000">
                  <a:srgbClr val="f8e0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50000">
                  <a:srgbClr val="847142"/>
                </a:gs>
                <a:gs pos="100000">
                  <a:srgbClr val="f4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2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7663b"/>
                </a:gs>
                <a:gs pos="100000">
                  <a:srgbClr val="f4d1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3"/>
            <p:cNvSpPr/>
            <p:nvPr/>
          </p:nvSpPr>
          <p:spPr>
            <a:xfrm>
              <a:off x="6653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716138"/>
                </a:gs>
                <a:gs pos="100000">
                  <a:srgbClr val="f4d1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6280" y="3809880"/>
            <a:ext cx="1512720" cy="1511280"/>
            <a:chOff x="2816280" y="3809880"/>
            <a:chExt cx="1512720" cy="1511280"/>
          </a:xfrm>
        </p:grpSpPr>
        <p:sp>
          <p:nvSpPr>
            <p:cNvPr id="213" name="Oval 25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ffffff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6db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7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386e63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8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36359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9"/>
            <p:cNvSpPr/>
            <p:nvPr/>
          </p:nvSpPr>
          <p:spPr>
            <a:xfrm>
              <a:off x="2981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05e55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31"/>
          <p:cNvSpPr/>
          <p:nvPr/>
        </p:nvSpPr>
        <p:spPr>
          <a:xfrm>
            <a:off x="2033640" y="1447920"/>
            <a:ext cx="4876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3ed"/>
              </a:gs>
              <a:gs pos="50000">
                <a:srgbClr val="68ccb7"/>
              </a:gs>
              <a:gs pos="100000">
                <a:srgbClr val="daf3ed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5044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51620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33332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706716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/>
  <dc:description/>
  <cp:keywords/>
  <dc:language>en-US</dc:language>
  <cp:lastModifiedBy>GZB</cp:lastModifiedBy>
  <cp:lastPrinted>1899-12-30T00:00:00Z</cp:lastPrinted>
  <dcterms:modified xsi:type="dcterms:W3CDTF">2012-09-09T03:18:31Z</dcterms:modified>
  <cp:revision>15</cp:revision>
  <dc:subject/>
  <dc:title>单击此处添加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NXTAG2">
    <vt:lpwstr>000800b601000000000001024140</vt:lpwstr>
  </property>
  <property fmtid="{D5CDD505-2E9C-101B-9397-08002B2CF9AE}" pid="4" name="_TemplateID">
    <vt:lpwstr>TC011368002052</vt:lpwstr>
  </property>
</Properties>
</file>