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14051-286E-4BFD-B987-2E783C26A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0001C-6DED-437A-90BA-084585C0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5C1E4-45EE-42A7-B08E-5EB0D65E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6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372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6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372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D2172-74E0-436D-BA7C-AF1357C0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BAA1-B21C-4445-B93E-37DC7644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312B-5155-415F-B0E9-0906278E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9178-24E8-4A4C-B11A-0B55DEA7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205E-17A3-4C39-938D-09544A50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CE31-723E-4926-B539-68F9B7C9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738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C7E2-7152-422C-BECC-91784307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8F10-4D4B-4ED3-A66A-8CDAC22C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F6BE0-AF38-4745-9A67-948412E3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CB15-A2C9-4344-B2C7-44087316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FC76-0172-47A2-B9D5-8609E79C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1573-6ECB-4414-9FDF-061A308C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AAFA-5064-41E7-8680-B69CD7A2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66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372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8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466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9372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7C35-73AB-449B-B1A1-93E95533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33B30-7D1C-400D-BB1A-3FDE6936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E9C31-C661-46A3-A7C5-C45B24D1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2CF4B-DB8D-45F1-B150-5040E6D2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738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85C4E-39BB-4E3D-BB99-B566F44C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FF078-8780-4559-98A5-03DCBAF8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622C1-70F1-4918-BCB1-D347E526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7C5AD-EE3C-4F6C-BACF-1C64B142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7057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CEEB-F294-4D41-9F49-EB34187EA09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4"/>
          <p:cNvSpPr/>
          <p:nvPr/>
        </p:nvSpPr>
        <p:spPr>
          <a:xfrm>
            <a:off x="0" y="762120"/>
            <a:ext cx="685800" cy="6095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25"/>
          <p:cNvSpPr/>
          <p:nvPr/>
        </p:nvSpPr>
        <p:spPr>
          <a:xfrm>
            <a:off x="0" y="6400800"/>
            <a:ext cx="6934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010280" y="5877000"/>
            <a:ext cx="1828800" cy="533160"/>
            <a:chOff x="7010280" y="5877000"/>
            <a:chExt cx="1828800" cy="533160"/>
          </a:xfrm>
        </p:grpSpPr>
        <p:pic>
          <p:nvPicPr>
            <p:cNvPr id="7" name="Picture 26" descr="j0315558"/>
            <p:cNvPicPr/>
            <p:nvPr/>
          </p:nvPicPr>
          <p:blipFill>
            <a:blip r:embed="rId4"/>
            <a:stretch/>
          </p:blipFill>
          <p:spPr>
            <a:xfrm>
              <a:off x="765576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27" descr="j0315568"/>
            <p:cNvPicPr/>
            <p:nvPr/>
          </p:nvPicPr>
          <p:blipFill>
            <a:blip r:embed="rId5"/>
            <a:stretch/>
          </p:blipFill>
          <p:spPr>
            <a:xfrm>
              <a:off x="7010280" y="5877000"/>
              <a:ext cx="53820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28" descr="j0315584"/>
            <p:cNvPicPr/>
            <p:nvPr/>
          </p:nvPicPr>
          <p:blipFill>
            <a:blip r:embed="rId6"/>
            <a:stretch/>
          </p:blipFill>
          <p:spPr>
            <a:xfrm>
              <a:off x="830124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15f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8cc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fca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8"/>
          <p:cNvSpPr/>
          <p:nvPr/>
        </p:nvSpPr>
        <p:spPr>
          <a:xfrm>
            <a:off x="1523880" y="1981080"/>
            <a:ext cx="1524240" cy="1451160"/>
          </a:xfrm>
          <a:prstGeom prst="rect">
            <a:avLst/>
          </a:prstGeom>
          <a:solidFill>
            <a:srgbClr val="9fc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9"/>
          <p:cNvSpPr/>
          <p:nvPr/>
        </p:nvSpPr>
        <p:spPr>
          <a:xfrm>
            <a:off x="4572000" y="1981080"/>
            <a:ext cx="1523880" cy="1451160"/>
          </a:xfrm>
          <a:prstGeom prst="rect">
            <a:avLst/>
          </a:prstGeom>
          <a:solidFill>
            <a:srgbClr val="515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0"/>
          <p:cNvSpPr/>
          <p:nvPr/>
        </p:nvSpPr>
        <p:spPr>
          <a:xfrm>
            <a:off x="3048120" y="3429000"/>
            <a:ext cx="1523880" cy="1450800"/>
          </a:xfrm>
          <a:prstGeom prst="rect">
            <a:avLst/>
          </a:prstGeom>
          <a:solidFill>
            <a:srgbClr val="68cc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1"/>
          <p:cNvSpPr/>
          <p:nvPr/>
        </p:nvSpPr>
        <p:spPr>
          <a:xfrm>
            <a:off x="6095880" y="3429000"/>
            <a:ext cx="1524240" cy="1450800"/>
          </a:xfrm>
          <a:prstGeom prst="rect">
            <a:avLst/>
          </a:prstGeom>
          <a:solidFill>
            <a:srgbClr val="f4d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6" descr="j0315558"/>
          <p:cNvPicPr/>
          <p:nvPr/>
        </p:nvPicPr>
        <p:blipFill>
          <a:blip r:embed="rId2"/>
          <a:stretch/>
        </p:blipFill>
        <p:spPr>
          <a:xfrm>
            <a:off x="4572000" y="1979640"/>
            <a:ext cx="1523880" cy="144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2" descr="j0315568"/>
          <p:cNvPicPr/>
          <p:nvPr/>
        </p:nvPicPr>
        <p:blipFill>
          <a:blip r:embed="rId3"/>
          <a:stretch/>
        </p:blipFill>
        <p:spPr>
          <a:xfrm>
            <a:off x="3035160" y="3417840"/>
            <a:ext cx="1525680" cy="145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3" descr="j0315584"/>
          <p:cNvPicPr/>
          <p:nvPr/>
        </p:nvPicPr>
        <p:blipFill>
          <a:blip r:embed="rId4"/>
          <a:stretch/>
        </p:blipFill>
        <p:spPr>
          <a:xfrm>
            <a:off x="6094440" y="3430440"/>
            <a:ext cx="1523880" cy="1436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4" descr="j0174862"/>
          <p:cNvPicPr/>
          <p:nvPr/>
        </p:nvPicPr>
        <p:blipFill>
          <a:blip r:embed="rId5"/>
          <a:stretch/>
        </p:blipFill>
        <p:spPr>
          <a:xfrm>
            <a:off x="1536840" y="19810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2"/>
          <p:cNvSpPr/>
          <p:nvPr/>
        </p:nvSpPr>
        <p:spPr>
          <a:xfrm>
            <a:off x="11160" y="838080"/>
            <a:ext cx="9132840" cy="762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6"/>
          <p:cNvSpPr/>
          <p:nvPr/>
        </p:nvSpPr>
        <p:spPr>
          <a:xfrm>
            <a:off x="3048120" y="1981080"/>
            <a:ext cx="1523880" cy="1451160"/>
          </a:xfrm>
          <a:prstGeom prst="rect">
            <a:avLst/>
          </a:prstGeom>
          <a:solidFill>
            <a:srgbClr val="f4d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7"/>
          <p:cNvSpPr/>
          <p:nvPr/>
        </p:nvSpPr>
        <p:spPr>
          <a:xfrm>
            <a:off x="4572000" y="3429000"/>
            <a:ext cx="1523880" cy="1447920"/>
          </a:xfrm>
          <a:prstGeom prst="rect">
            <a:avLst/>
          </a:prstGeom>
          <a:solidFill>
            <a:srgbClr val="9fc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15f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8cc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fca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EF64-8A22-4466-8E34-9E8A69515C2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单击此处添加标题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15f7b"/>
                </a:solidFill>
                <a:latin typeface="Arial"/>
                <a:ea typeface="宋体"/>
              </a:rPr>
              <a:t>单击此处添加副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日程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1828800" y="1828800"/>
            <a:ext cx="5410080" cy="533520"/>
          </a:xfrm>
          <a:prstGeom prst="roundRect">
            <a:avLst>
              <a:gd name="adj" fmla="val 27681"/>
            </a:avLst>
          </a:prstGeom>
          <a:gradFill rotWithShape="0">
            <a:gsLst>
              <a:gs pos="0">
                <a:srgbClr val="4a5d62"/>
              </a:gs>
              <a:gs pos="50000">
                <a:srgbClr val="9fcad3"/>
              </a:gs>
              <a:gs pos="100000">
                <a:srgbClr val="4a5d62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1828800" y="2666880"/>
            <a:ext cx="5410080" cy="533520"/>
          </a:xfrm>
          <a:prstGeom prst="roundRect">
            <a:avLst>
              <a:gd name="adj" fmla="val 25597"/>
            </a:avLst>
          </a:prstGeom>
          <a:gradFill rotWithShape="0">
            <a:gsLst>
              <a:gs pos="0">
                <a:srgbClr val="3d4969"/>
              </a:gs>
              <a:gs pos="50000">
                <a:srgbClr val="839ee3"/>
              </a:gs>
              <a:gs pos="100000">
                <a:srgbClr val="3d4969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1828800" y="3505320"/>
            <a:ext cx="5410080" cy="533160"/>
          </a:xfrm>
          <a:prstGeom prst="roundRect">
            <a:avLst>
              <a:gd name="adj" fmla="val 21431"/>
            </a:avLst>
          </a:prstGeom>
          <a:gradFill rotWithShape="0">
            <a:gsLst>
              <a:gs pos="0">
                <a:srgbClr val="305e55"/>
              </a:gs>
              <a:gs pos="50000">
                <a:srgbClr val="68ccb7"/>
              </a:gs>
              <a:gs pos="100000">
                <a:srgbClr val="305e55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1828800" y="4343400"/>
            <a:ext cx="5410080" cy="533520"/>
          </a:xfrm>
          <a:prstGeom prst="roundRect">
            <a:avLst>
              <a:gd name="adj" fmla="val 25296"/>
            </a:avLst>
          </a:prstGeom>
          <a:gradFill rotWithShape="0">
            <a:gsLst>
              <a:gs pos="0">
                <a:srgbClr val="716138"/>
              </a:gs>
              <a:gs pos="50000">
                <a:srgbClr val="f4d17a"/>
              </a:gs>
              <a:gs pos="100000">
                <a:srgbClr val="716138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日程项目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 </a:t>
            </a: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循环图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08" name="Freeform 5"/>
          <p:cNvSpPr/>
          <p:nvPr/>
        </p:nvSpPr>
        <p:spPr>
          <a:xfrm rot="20241600">
            <a:off x="1077480" y="25380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cacaca"/>
              </a:gs>
              <a:gs pos="100000">
                <a:srgbClr val="f4f4f4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3809880" y="16765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8dbb6b"/>
              </a:gs>
              <a:gs pos="100000">
                <a:srgbClr val="31412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1295280" y="3200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fcad3"/>
              </a:gs>
              <a:gs pos="100000">
                <a:srgbClr val="323f42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2178000" y="489744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839ee3"/>
              </a:gs>
              <a:gs pos="100000">
                <a:srgbClr val="2f3851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4952880" y="4267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68ccb7"/>
              </a:gs>
              <a:gs pos="100000">
                <a:srgbClr val="305e5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9"/>
          <p:cNvSpPr/>
          <p:nvPr/>
        </p:nvSpPr>
        <p:spPr>
          <a:xfrm>
            <a:off x="6781680" y="19051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f4d17a"/>
              </a:gs>
              <a:gs pos="100000">
                <a:srgbClr val="54482a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1640160" y="3657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2"/>
          <p:cNvSpPr/>
          <p:nvPr/>
        </p:nvSpPr>
        <p:spPr>
          <a:xfrm>
            <a:off x="4231800" y="2133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7163640" y="241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5373720" y="472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2552760" y="5348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3429000" y="3662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39ee3"/>
                </a:solidFill>
                <a:latin typeface="Arial"/>
                <a:ea typeface="宋体"/>
              </a:rPr>
              <a:t>循环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7"/>
          <p:cNvSpPr/>
          <p:nvPr/>
        </p:nvSpPr>
        <p:spPr>
          <a:xfrm>
            <a:off x="2473200" y="1963800"/>
            <a:ext cx="1793880" cy="16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28"/>
          <p:cNvCxnSpPr/>
          <p:nvPr/>
        </p:nvCxnSpPr>
        <p:spPr>
          <a:xfrm flipH="1">
            <a:off x="456840" y="1963440"/>
            <a:ext cx="20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Text Box 29"/>
          <p:cNvSpPr/>
          <p:nvPr/>
        </p:nvSpPr>
        <p:spPr>
          <a:xfrm>
            <a:off x="1014840" y="1523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流程图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5562720" y="27432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3d4969"/>
              </a:gs>
              <a:gs pos="100000">
                <a:srgbClr val="839ee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20040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05e55"/>
              </a:gs>
              <a:gs pos="100000">
                <a:srgbClr val="68ccb7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838080" y="27432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716138"/>
              </a:gs>
              <a:gs pos="100000">
                <a:srgbClr val="f4d17a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06668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16138"/>
              </a:gs>
              <a:gs pos="100000">
                <a:srgbClr val="f4d17a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338616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05e55"/>
              </a:gs>
              <a:gs pos="100000">
                <a:srgbClr val="68ccb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5715000" y="190512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d4969"/>
              </a:gs>
              <a:gs pos="100000">
                <a:srgbClr val="839ee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阶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框图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6311880" y="29718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4559400" y="29718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2819520" y="29718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1054080" y="29718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ac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12040" y="1477800"/>
            <a:ext cx="6436800" cy="1387800"/>
            <a:chOff x="1112040" y="1477800"/>
            <a:chExt cx="6436800" cy="1387800"/>
          </a:xfrm>
        </p:grpSpPr>
        <p:sp>
          <p:nvSpPr>
            <p:cNvPr id="136" name="Rectangle 10"/>
            <p:cNvSpPr/>
            <p:nvPr/>
          </p:nvSpPr>
          <p:spPr>
            <a:xfrm rot="3418800">
              <a:off x="1322640" y="17024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68ccb7"/>
                </a:gs>
                <a:gs pos="100000">
                  <a:srgbClr val="305e55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286360" y="1874520"/>
              <a:ext cx="932040" cy="131760"/>
              <a:chOff x="2286360" y="1874520"/>
              <a:chExt cx="932040" cy="131760"/>
            </a:xfrm>
          </p:grpSpPr>
          <p:sp>
            <p:nvSpPr>
              <p:cNvPr id="138" name="Oval 12"/>
              <p:cNvSpPr/>
              <p:nvPr/>
            </p:nvSpPr>
            <p:spPr>
              <a:xfrm>
                <a:off x="2286360" y="18745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3"/>
              <p:cNvSpPr/>
              <p:nvPr/>
            </p:nvSpPr>
            <p:spPr>
              <a:xfrm>
                <a:off x="2375640" y="18756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14"/>
              <p:cNvSpPr/>
              <p:nvPr/>
            </p:nvSpPr>
            <p:spPr>
              <a:xfrm>
                <a:off x="3077280" y="18766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5"/>
              <p:cNvSpPr/>
              <p:nvPr/>
            </p:nvSpPr>
            <p:spPr>
              <a:xfrm>
                <a:off x="3152520" y="19177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Rectangle 16"/>
            <p:cNvSpPr/>
            <p:nvPr/>
          </p:nvSpPr>
          <p:spPr>
            <a:xfrm rot="3418800">
              <a:off x="3043800" y="16365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839ee3"/>
                </a:gs>
                <a:gs pos="100000">
                  <a:srgbClr val="3d49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4007520" y="1874520"/>
              <a:ext cx="932040" cy="131760"/>
              <a:chOff x="4007520" y="1874520"/>
              <a:chExt cx="932040" cy="131760"/>
            </a:xfrm>
          </p:grpSpPr>
          <p:sp>
            <p:nvSpPr>
              <p:cNvPr id="144" name="Oval 18"/>
              <p:cNvSpPr/>
              <p:nvPr/>
            </p:nvSpPr>
            <p:spPr>
              <a:xfrm>
                <a:off x="4007520" y="18745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9"/>
              <p:cNvSpPr/>
              <p:nvPr/>
            </p:nvSpPr>
            <p:spPr>
              <a:xfrm>
                <a:off x="4096800" y="18756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0"/>
              <p:cNvSpPr/>
              <p:nvPr/>
            </p:nvSpPr>
            <p:spPr>
              <a:xfrm>
                <a:off x="4798440" y="18766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21"/>
              <p:cNvSpPr/>
              <p:nvPr/>
            </p:nvSpPr>
            <p:spPr>
              <a:xfrm>
                <a:off x="4873680" y="19177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Rectangle 22"/>
            <p:cNvSpPr/>
            <p:nvPr/>
          </p:nvSpPr>
          <p:spPr>
            <a:xfrm rot="3418800">
              <a:off x="4692600" y="16365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68ccb7"/>
                </a:gs>
                <a:gs pos="100000">
                  <a:srgbClr val="305e55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728680" y="1874520"/>
              <a:ext cx="1218600" cy="131760"/>
              <a:chOff x="5728680" y="1874520"/>
              <a:chExt cx="1218600" cy="131760"/>
            </a:xfrm>
          </p:grpSpPr>
          <p:sp>
            <p:nvSpPr>
              <p:cNvPr id="150" name="Oval 24"/>
              <p:cNvSpPr/>
              <p:nvPr/>
            </p:nvSpPr>
            <p:spPr>
              <a:xfrm>
                <a:off x="5728680" y="187452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25"/>
              <p:cNvSpPr/>
              <p:nvPr/>
            </p:nvSpPr>
            <p:spPr>
              <a:xfrm>
                <a:off x="5845320" y="18756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26"/>
              <p:cNvSpPr/>
              <p:nvPr/>
            </p:nvSpPr>
            <p:spPr>
              <a:xfrm>
                <a:off x="6762600" y="18766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27"/>
              <p:cNvSpPr/>
              <p:nvPr/>
            </p:nvSpPr>
            <p:spPr>
              <a:xfrm>
                <a:off x="6861240" y="19177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Rectangle 28"/>
            <p:cNvSpPr/>
            <p:nvPr/>
          </p:nvSpPr>
          <p:spPr>
            <a:xfrm rot="3418800">
              <a:off x="6413760" y="16365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839ee3"/>
                </a:gs>
                <a:gs pos="100000">
                  <a:srgbClr val="3d49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30"/>
          <p:cNvSpPr/>
          <p:nvPr/>
        </p:nvSpPr>
        <p:spPr>
          <a:xfrm>
            <a:off x="1598040" y="1995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3350520" y="1995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2"/>
          <p:cNvSpPr/>
          <p:nvPr/>
        </p:nvSpPr>
        <p:spPr>
          <a:xfrm>
            <a:off x="4950720" y="1995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3"/>
          <p:cNvSpPr/>
          <p:nvPr/>
        </p:nvSpPr>
        <p:spPr>
          <a:xfrm>
            <a:off x="6703560" y="1995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4"/>
          <p:cNvSpPr/>
          <p:nvPr/>
        </p:nvSpPr>
        <p:spPr>
          <a:xfrm>
            <a:off x="1604520" y="3276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3357000" y="3276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6"/>
          <p:cNvSpPr/>
          <p:nvPr/>
        </p:nvSpPr>
        <p:spPr>
          <a:xfrm>
            <a:off x="5109480" y="3276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7"/>
          <p:cNvSpPr/>
          <p:nvPr/>
        </p:nvSpPr>
        <p:spPr>
          <a:xfrm>
            <a:off x="6862320" y="3276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表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54080" y="1328760"/>
          <a:ext cx="7196040" cy="7211880"/>
        </p:xfrm>
        <a:graphic>
          <a:graphicData uri="http://schemas.openxmlformats.org/drawingml/2006/table">
            <a:tbl>
              <a:tblPr/>
              <a:tblGrid>
                <a:gridCol w="1438200"/>
                <a:gridCol w="1150920"/>
                <a:gridCol w="1150920"/>
                <a:gridCol w="1150920"/>
                <a:gridCol w="1154160"/>
                <a:gridCol w="11509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a5d62"/>
                        </a:gs>
                        <a:gs pos="50000">
                          <a:srgbClr val="9fcad3"/>
                        </a:gs>
                        <a:gs pos="100000">
                          <a:srgbClr val="4a5d6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a5d62"/>
                        </a:gs>
                        <a:gs pos="50000">
                          <a:srgbClr val="9fcad3"/>
                        </a:gs>
                        <a:gs pos="100000">
                          <a:srgbClr val="4a5d6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a5d62"/>
                        </a:gs>
                        <a:gs pos="50000">
                          <a:srgbClr val="9fcad3"/>
                        </a:gs>
                        <a:gs pos="100000">
                          <a:srgbClr val="4a5d6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a5d62"/>
                        </a:gs>
                        <a:gs pos="50000">
                          <a:srgbClr val="9fcad3"/>
                        </a:gs>
                        <a:gs pos="100000">
                          <a:srgbClr val="4a5d6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文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a5d62"/>
                        </a:gs>
                        <a:gs pos="50000">
                          <a:srgbClr val="9fcad3"/>
                        </a:gs>
                        <a:gs pos="100000">
                          <a:srgbClr val="4a5d62"/>
                        </a:gs>
                      </a:gsLst>
                      <a:lin ang="5400000"/>
                    </a:gra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d4969"/>
                        </a:gs>
                        <a:gs pos="50000">
                          <a:srgbClr val="839ee3"/>
                        </a:gs>
                        <a:gs pos="100000">
                          <a:srgbClr val="3d49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d4969"/>
                        </a:gs>
                        <a:gs pos="50000">
                          <a:srgbClr val="839ee3"/>
                        </a:gs>
                        <a:gs pos="100000">
                          <a:srgbClr val="3d49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d4969"/>
                        </a:gs>
                        <a:gs pos="50000">
                          <a:srgbClr val="839ee3"/>
                        </a:gs>
                        <a:gs pos="100000">
                          <a:srgbClr val="3d49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d4969"/>
                        </a:gs>
                        <a:gs pos="50000">
                          <a:srgbClr val="839ee3"/>
                        </a:gs>
                        <a:gs pos="100000">
                          <a:srgbClr val="3d49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d4969"/>
                        </a:gs>
                        <a:gs pos="50000">
                          <a:srgbClr val="839ee3"/>
                        </a:gs>
                        <a:gs pos="100000">
                          <a:srgbClr val="3d49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标题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d4969"/>
                        </a:gs>
                        <a:gs pos="50000">
                          <a:srgbClr val="839ee3"/>
                        </a:gs>
                        <a:gs pos="100000">
                          <a:srgbClr val="3d496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三维饼图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66" name="Oval 5"/>
          <p:cNvSpPr/>
          <p:nvPr/>
        </p:nvSpPr>
        <p:spPr>
          <a:xfrm>
            <a:off x="2187720" y="4145040"/>
            <a:ext cx="5562360" cy="1325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29292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6"/>
          <p:cNvSpPr/>
          <p:nvPr/>
        </p:nvSpPr>
        <p:spPr>
          <a:xfrm rot="20601600">
            <a:off x="1461960" y="2031480"/>
            <a:ext cx="5762880" cy="3016440"/>
          </a:xfrm>
          <a:prstGeom prst="ellipse">
            <a:avLst/>
          </a:prstGeom>
          <a:gradFill rotWithShape="0">
            <a:gsLst>
              <a:gs pos="0">
                <a:srgbClr val="cbdbe3"/>
              </a:gs>
              <a:gs pos="50000">
                <a:srgbClr val="29698d"/>
              </a:gs>
              <a:gs pos="100000">
                <a:srgbClr val="cbdb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7"/>
          <p:cNvSpPr/>
          <p:nvPr/>
        </p:nvSpPr>
        <p:spPr>
          <a:xfrm rot="20601600">
            <a:off x="1517400" y="1870200"/>
            <a:ext cx="556416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282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rc 8"/>
          <p:cNvSpPr/>
          <p:nvPr/>
        </p:nvSpPr>
        <p:spPr>
          <a:xfrm rot="20601600">
            <a:off x="4390920" y="2941560"/>
            <a:ext cx="2652840" cy="1320840"/>
          </a:xfrm>
          <a:custGeom>
            <a:avLst/>
            <a:gdLst/>
            <a:ahLst/>
            <a:rect l="l" t="t" r="r" b="b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rc 9"/>
          <p:cNvSpPr/>
          <p:nvPr/>
        </p:nvSpPr>
        <p:spPr>
          <a:xfrm rot="20601600">
            <a:off x="4167360" y="1947960"/>
            <a:ext cx="2849400" cy="1538280"/>
          </a:xfrm>
          <a:prstGeom prst="pi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rc 10"/>
          <p:cNvSpPr/>
          <p:nvPr/>
        </p:nvSpPr>
        <p:spPr>
          <a:xfrm flipH="1" rot="20602200">
            <a:off x="1599840" y="3242880"/>
            <a:ext cx="2876400" cy="163008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bd9f2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rc 11"/>
          <p:cNvSpPr/>
          <p:nvPr/>
        </p:nvSpPr>
        <p:spPr>
          <a:xfrm rot="20601600">
            <a:off x="3409920" y="1676520"/>
            <a:ext cx="2814840" cy="141768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f4a73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12"/>
          <p:cNvSpPr/>
          <p:nvPr/>
        </p:nvSpPr>
        <p:spPr>
          <a:xfrm flipH="1" rot="20602200">
            <a:off x="1371240" y="232848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214f69"/>
              </a:gs>
              <a:gs pos="100000">
                <a:srgbClr val="47abe3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3"/>
          <p:cNvSpPr/>
          <p:nvPr/>
        </p:nvSpPr>
        <p:spPr>
          <a:xfrm rot="20601600">
            <a:off x="4506480" y="3191040"/>
            <a:ext cx="1220760" cy="1498320"/>
          </a:xfrm>
          <a:custGeom>
            <a:avLst/>
            <a:gdLst/>
            <a:ahLst/>
            <a:rect l="l" t="t" r="r" b="b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4"/>
          <p:cNvSpPr/>
          <p:nvPr/>
        </p:nvSpPr>
        <p:spPr>
          <a:xfrm rot="20601600">
            <a:off x="4400280" y="2937960"/>
            <a:ext cx="2562120" cy="809640"/>
          </a:xfrm>
          <a:custGeom>
            <a:avLst/>
            <a:gdLst/>
            <a:ahLst/>
            <a:rect l="l" t="t" r="r" b="b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988800" y="2615040"/>
            <a:ext cx="3251520" cy="2231280"/>
            <a:chOff x="3988800" y="2615040"/>
            <a:chExt cx="3251520" cy="2231280"/>
          </a:xfrm>
        </p:grpSpPr>
        <p:sp>
          <p:nvSpPr>
            <p:cNvPr id="177" name="Arc 16"/>
            <p:cNvSpPr/>
            <p:nvPr/>
          </p:nvSpPr>
          <p:spPr>
            <a:xfrm rot="20712600">
              <a:off x="4102200" y="2970000"/>
              <a:ext cx="2949120" cy="127152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7"/>
            <p:cNvSpPr/>
            <p:nvPr/>
          </p:nvSpPr>
          <p:spPr>
            <a:xfrm rot="20712600">
              <a:off x="4186080" y="3159000"/>
              <a:ext cx="1377360" cy="153648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352973"/>
                </a:gs>
                <a:gs pos="100000">
                  <a:srgbClr val="6a6198"/>
                </a:gs>
              </a:gsLst>
              <a:lin ang="89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"/>
            <p:cNvSpPr/>
            <p:nvPr/>
          </p:nvSpPr>
          <p:spPr>
            <a:xfrm rot="20712600">
              <a:off x="5562000" y="3327120"/>
              <a:ext cx="1579320" cy="97956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482360" y="2441160"/>
            <a:ext cx="3270960" cy="2463840"/>
            <a:chOff x="4482360" y="2441160"/>
            <a:chExt cx="3270960" cy="2463840"/>
          </a:xfrm>
        </p:grpSpPr>
        <p:sp>
          <p:nvSpPr>
            <p:cNvPr id="181" name="Freeform 19"/>
            <p:cNvSpPr/>
            <p:nvPr/>
          </p:nvSpPr>
          <p:spPr>
            <a:xfrm rot="20601600">
              <a:off x="6073560" y="3229920"/>
              <a:ext cx="1555560" cy="1092240"/>
            </a:xfrm>
            <a:custGeom>
              <a:avLst/>
              <a:gdLst/>
              <a:ahLst/>
              <a:rect l="l" t="t" r="r" b="b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98b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rc 20"/>
            <p:cNvSpPr/>
            <p:nvPr/>
          </p:nvSpPr>
          <p:spPr>
            <a:xfrm rot="20539200">
              <a:off x="4625640" y="2849040"/>
              <a:ext cx="2905200" cy="1397160"/>
            </a:xfrm>
            <a:custGeom>
              <a:avLst/>
              <a:gdLst/>
              <a:ahLst/>
              <a:rect l="l" t="t" r="r" b="b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20601600">
              <a:off x="4757760" y="3060000"/>
              <a:ext cx="1332000" cy="1689120"/>
            </a:xfrm>
            <a:custGeom>
              <a:avLst/>
              <a:gdLst/>
              <a:ahLst/>
              <a:rect l="l" t="t" r="r" b="b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Oval 22"/>
          <p:cNvSpPr/>
          <p:nvPr/>
        </p:nvSpPr>
        <p:spPr>
          <a:xfrm rot="20601600">
            <a:off x="2979720" y="258408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c1c1c1"/>
              </a:gs>
              <a:gs pos="50000">
                <a:srgbClr val="000000"/>
              </a:gs>
              <a:gs pos="100000">
                <a:srgbClr val="c1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3"/>
          <p:cNvSpPr/>
          <p:nvPr/>
        </p:nvSpPr>
        <p:spPr>
          <a:xfrm rot="20601600">
            <a:off x="3056040" y="2819160"/>
            <a:ext cx="2624040" cy="1098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5871600" y="2405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7"/>
          <p:cNvSpPr/>
          <p:nvPr/>
        </p:nvSpPr>
        <p:spPr>
          <a:xfrm>
            <a:off x="4271400" y="1947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8"/>
          <p:cNvSpPr/>
          <p:nvPr/>
        </p:nvSpPr>
        <p:spPr>
          <a:xfrm>
            <a:off x="2442600" y="2709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214000" y="4005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3966480" y="4233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947920" y="3395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966960" y="3797280"/>
            <a:ext cx="1512720" cy="1511280"/>
            <a:chOff x="966960" y="3797280"/>
            <a:chExt cx="1512720" cy="1511280"/>
          </a:xfrm>
        </p:grpSpPr>
        <p:sp>
          <p:nvSpPr>
            <p:cNvPr id="193" name="Oval 37"/>
            <p:cNvSpPr/>
            <p:nvPr/>
          </p:nvSpPr>
          <p:spPr>
            <a:xfrm>
              <a:off x="966960" y="37972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68ccb7"/>
                </a:gs>
                <a:gs pos="50000">
                  <a:srgbClr val="ffffff"/>
                </a:gs>
                <a:gs pos="100000">
                  <a:srgbClr val="68cc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38"/>
            <p:cNvSpPr/>
            <p:nvPr/>
          </p:nvSpPr>
          <p:spPr>
            <a:xfrm>
              <a:off x="966960" y="37972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839ee3"/>
                </a:gs>
                <a:gs pos="100000">
                  <a:srgbClr val="a8bbe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39"/>
            <p:cNvSpPr/>
            <p:nvPr/>
          </p:nvSpPr>
          <p:spPr>
            <a:xfrm>
              <a:off x="1065960" y="38959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68ccb7"/>
                </a:gs>
                <a:gs pos="50000">
                  <a:srgbClr val="386e63"/>
                </a:gs>
                <a:gs pos="100000">
                  <a:srgbClr val="68cc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40"/>
            <p:cNvSpPr/>
            <p:nvPr/>
          </p:nvSpPr>
          <p:spPr>
            <a:xfrm>
              <a:off x="1065960" y="38959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404d6e"/>
                </a:gs>
                <a:gs pos="100000">
                  <a:srgbClr val="839ee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41"/>
            <p:cNvSpPr/>
            <p:nvPr/>
          </p:nvSpPr>
          <p:spPr>
            <a:xfrm>
              <a:off x="1131840" y="39618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d4969"/>
                </a:gs>
                <a:gs pos="100000">
                  <a:srgbClr val="839e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5f7b"/>
                </a:solidFill>
                <a:latin typeface="Arial"/>
                <a:ea typeface="宋体"/>
              </a:rPr>
              <a:t>市场分析图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1592280" y="2085840"/>
            <a:ext cx="5759280" cy="21592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cacaca"/>
              </a:gs>
              <a:gs pos="100000">
                <a:srgbClr val="edede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14840" y="3809880"/>
            <a:ext cx="1513080" cy="1511280"/>
            <a:chOff x="4614840" y="3809880"/>
            <a:chExt cx="1513080" cy="1511280"/>
          </a:xfrm>
        </p:grpSpPr>
        <p:sp>
          <p:nvSpPr>
            <p:cNvPr id="201" name="Oval 7"/>
            <p:cNvSpPr/>
            <p:nvPr/>
          </p:nvSpPr>
          <p:spPr>
            <a:xfrm>
              <a:off x="4614840" y="38098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9fcad3"/>
                </a:gs>
                <a:gs pos="50000">
                  <a:srgbClr val="ffffff"/>
                </a:gs>
                <a:gs pos="100000">
                  <a:srgbClr val="9fca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4614840" y="3809880"/>
              <a:ext cx="1513080" cy="1511280"/>
            </a:xfrm>
            <a:prstGeom prst="ellipse">
              <a:avLst/>
            </a:prstGeom>
            <a:gradFill rotWithShape="0">
              <a:gsLst>
                <a:gs pos="0">
                  <a:srgbClr val="9fcad3"/>
                </a:gs>
                <a:gs pos="100000">
                  <a:srgbClr val="c8e1e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9"/>
            <p:cNvSpPr/>
            <p:nvPr/>
          </p:nvSpPr>
          <p:spPr>
            <a:xfrm>
              <a:off x="4713840" y="39085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9fcad3"/>
                </a:gs>
                <a:gs pos="50000">
                  <a:srgbClr val="566d72"/>
                </a:gs>
                <a:gs pos="100000">
                  <a:srgbClr val="9fca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0"/>
            <p:cNvSpPr/>
            <p:nvPr/>
          </p:nvSpPr>
          <p:spPr>
            <a:xfrm>
              <a:off x="4713840" y="3908520"/>
              <a:ext cx="1314720" cy="1313280"/>
            </a:xfrm>
            <a:prstGeom prst="ellipse">
              <a:avLst/>
            </a:prstGeom>
            <a:gradFill rotWithShape="0">
              <a:gsLst>
                <a:gs pos="0">
                  <a:srgbClr val="4d6267"/>
                </a:gs>
                <a:gs pos="100000">
                  <a:srgbClr val="9fcad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1"/>
            <p:cNvSpPr/>
            <p:nvPr/>
          </p:nvSpPr>
          <p:spPr>
            <a:xfrm>
              <a:off x="4779720" y="3974400"/>
              <a:ext cx="1183320" cy="1181880"/>
            </a:xfrm>
            <a:prstGeom prst="ellipse">
              <a:avLst/>
            </a:prstGeom>
            <a:gradFill rotWithShape="0">
              <a:gsLst>
                <a:gs pos="0">
                  <a:srgbClr val="4a5d62"/>
                </a:gs>
                <a:gs pos="100000">
                  <a:srgbClr val="9fca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488280" y="3809880"/>
            <a:ext cx="1512720" cy="1511280"/>
            <a:chOff x="6488280" y="3809880"/>
            <a:chExt cx="1512720" cy="1511280"/>
          </a:xfrm>
        </p:grpSpPr>
        <p:sp>
          <p:nvSpPr>
            <p:cNvPr id="207" name="Oval 19"/>
            <p:cNvSpPr/>
            <p:nvPr/>
          </p:nvSpPr>
          <p:spPr>
            <a:xfrm>
              <a:off x="6488280" y="38098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4d17a"/>
                </a:gs>
                <a:gs pos="50000">
                  <a:srgbClr val="ffffff"/>
                </a:gs>
                <a:gs pos="100000">
                  <a:srgbClr val="f4d17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0"/>
            <p:cNvSpPr/>
            <p:nvPr/>
          </p:nvSpPr>
          <p:spPr>
            <a:xfrm>
              <a:off x="6488280" y="38098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f4d17a"/>
                </a:gs>
                <a:gs pos="100000">
                  <a:srgbClr val="f8e0a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"/>
            <p:cNvSpPr/>
            <p:nvPr/>
          </p:nvSpPr>
          <p:spPr>
            <a:xfrm>
              <a:off x="6587280" y="39085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f4d17a"/>
                </a:gs>
                <a:gs pos="50000">
                  <a:srgbClr val="847142"/>
                </a:gs>
                <a:gs pos="100000">
                  <a:srgbClr val="f4d1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2"/>
            <p:cNvSpPr/>
            <p:nvPr/>
          </p:nvSpPr>
          <p:spPr>
            <a:xfrm>
              <a:off x="6587280" y="39085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77663b"/>
                </a:gs>
                <a:gs pos="100000">
                  <a:srgbClr val="f4d17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3"/>
            <p:cNvSpPr/>
            <p:nvPr/>
          </p:nvSpPr>
          <p:spPr>
            <a:xfrm>
              <a:off x="6653160" y="39744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716138"/>
                </a:gs>
                <a:gs pos="100000">
                  <a:srgbClr val="f4d17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816280" y="3809880"/>
            <a:ext cx="1512720" cy="1511280"/>
            <a:chOff x="2816280" y="3809880"/>
            <a:chExt cx="1512720" cy="1511280"/>
          </a:xfrm>
        </p:grpSpPr>
        <p:sp>
          <p:nvSpPr>
            <p:cNvPr id="213" name="Oval 25"/>
            <p:cNvSpPr/>
            <p:nvPr/>
          </p:nvSpPr>
          <p:spPr>
            <a:xfrm>
              <a:off x="2816280" y="38098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68ccb7"/>
                </a:gs>
                <a:gs pos="50000">
                  <a:srgbClr val="ffffff"/>
                </a:gs>
                <a:gs pos="100000">
                  <a:srgbClr val="68cc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6"/>
            <p:cNvSpPr/>
            <p:nvPr/>
          </p:nvSpPr>
          <p:spPr>
            <a:xfrm>
              <a:off x="2816280" y="3809880"/>
              <a:ext cx="1512720" cy="1511280"/>
            </a:xfrm>
            <a:prstGeom prst="ellipse">
              <a:avLst/>
            </a:prstGeom>
            <a:gradFill rotWithShape="0">
              <a:gsLst>
                <a:gs pos="0">
                  <a:srgbClr val="68ccb7"/>
                </a:gs>
                <a:gs pos="100000">
                  <a:srgbClr val="96dbc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7"/>
            <p:cNvSpPr/>
            <p:nvPr/>
          </p:nvSpPr>
          <p:spPr>
            <a:xfrm>
              <a:off x="2915280" y="39085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68ccb7"/>
                </a:gs>
                <a:gs pos="50000">
                  <a:srgbClr val="386e63"/>
                </a:gs>
                <a:gs pos="100000">
                  <a:srgbClr val="68cc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8"/>
            <p:cNvSpPr/>
            <p:nvPr/>
          </p:nvSpPr>
          <p:spPr>
            <a:xfrm>
              <a:off x="2915280" y="3908520"/>
              <a:ext cx="1314360" cy="1313280"/>
            </a:xfrm>
            <a:prstGeom prst="ellipse">
              <a:avLst/>
            </a:prstGeom>
            <a:gradFill rotWithShape="0">
              <a:gsLst>
                <a:gs pos="0">
                  <a:srgbClr val="336359"/>
                </a:gs>
                <a:gs pos="100000">
                  <a:srgbClr val="68cc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9"/>
            <p:cNvSpPr/>
            <p:nvPr/>
          </p:nvSpPr>
          <p:spPr>
            <a:xfrm>
              <a:off x="2981160" y="3974400"/>
              <a:ext cx="1182960" cy="1181880"/>
            </a:xfrm>
            <a:prstGeom prst="ellipse">
              <a:avLst/>
            </a:prstGeom>
            <a:gradFill rotWithShape="0">
              <a:gsLst>
                <a:gs pos="0">
                  <a:srgbClr val="305e55"/>
                </a:gs>
                <a:gs pos="100000">
                  <a:srgbClr val="68cc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AutoShape 31"/>
          <p:cNvSpPr/>
          <p:nvPr/>
        </p:nvSpPr>
        <p:spPr>
          <a:xfrm>
            <a:off x="2033640" y="1447920"/>
            <a:ext cx="4876920" cy="457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af3ed"/>
              </a:gs>
              <a:gs pos="50000">
                <a:srgbClr val="68ccb7"/>
              </a:gs>
              <a:gs pos="100000">
                <a:srgbClr val="daf3ed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2"/>
          <p:cNvSpPr/>
          <p:nvPr/>
        </p:nvSpPr>
        <p:spPr>
          <a:xfrm>
            <a:off x="1504440" y="4433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3"/>
          <p:cNvSpPr/>
          <p:nvPr/>
        </p:nvSpPr>
        <p:spPr>
          <a:xfrm>
            <a:off x="5162040" y="4433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3333240" y="4433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7067160" y="4419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0T03:06:56Z</dcterms:created>
  <dc:creator/>
  <dc:description/>
  <cp:keywords/>
  <dc:language>en-US</dc:language>
  <cp:lastModifiedBy>GZB</cp:lastModifiedBy>
  <cp:lastPrinted>1899-12-30T00:00:00Z</cp:lastPrinted>
  <dcterms:modified xsi:type="dcterms:W3CDTF">2012-09-09T03:18:31Z</dcterms:modified>
  <cp:revision>15</cp:revision>
  <dc:subject/>
  <dc:title>单击此处添加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  <property fmtid="{D5CDD505-2E9C-101B-9397-08002B2CF9AE}" pid="3" name="NXTAG2">
    <vt:lpwstr>000800b601000000000001024140</vt:lpwstr>
  </property>
  <property fmtid="{D5CDD505-2E9C-101B-9397-08002B2CF9AE}" pid="4" name="_TemplateID">
    <vt:lpwstr>TC011368002052</vt:lpwstr>
  </property>
</Properties>
</file>