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6.gif" ContentType="image/gif"/>
  <Override PartName="/ppt/media/image7.jpeg" ContentType="image/jpeg"/>
  <Override PartName="/ppt/media/image8.png" ContentType="image/png"/>
  <Override PartName="/ppt/media/image30.gif" ContentType="image/gif"/>
  <Override PartName="/ppt/media/image28.gif" ContentType="image/gif"/>
  <Override PartName="/ppt/media/image10.gif" ContentType="image/gif"/>
  <Override PartName="/ppt/media/image11.gif" ContentType="image/gif"/>
  <Override PartName="/ppt/media/image3.jpeg" ContentType="image/jpeg"/>
  <Override PartName="/ppt/media/image12.gif" ContentType="image/gif"/>
  <Override PartName="/ppt/media/image16.jpeg" ContentType="image/jpeg"/>
  <Override PartName="/ppt/media/image13.gif" ContentType="image/gif"/>
  <Override PartName="/ppt/media/image5.png" ContentType="image/png"/>
  <Override PartName="/ppt/media/image9.jpeg" ContentType="image/jpeg"/>
  <Override PartName="/ppt/media/image31.png" ContentType="image/png"/>
  <Override PartName="/ppt/media/image25.gif" ContentType="image/gif"/>
  <Override PartName="/ppt/media/image6.jpeg" ContentType="image/jpeg"/>
  <Override PartName="/ppt/media/image4.wmf" ContentType="image/x-wmf"/>
  <Override PartName="/ppt/media/image1.jpeg" ContentType="image/jpeg"/>
  <Override PartName="/ppt/media/image27.gif" ContentType="image/gif"/>
  <Override PartName="/ppt/media/image14.gif" ContentType="image/gif"/>
  <Override PartName="/ppt/media/image17.gif" ContentType="image/gif"/>
  <Override PartName="/ppt/media/image18.wmf" ContentType="image/x-wmf"/>
  <Override PartName="/ppt/media/image2.gif" ContentType="image/gif"/>
  <Override PartName="/ppt/media/image32.gif" ContentType="image/gif"/>
  <Override PartName="/ppt/media/image19.jpeg" ContentType="image/jpeg"/>
  <Override PartName="/ppt/media/image20.gif" ContentType="image/gif"/>
  <Override PartName="/ppt/media/image21.png" ContentType="image/png"/>
  <Override PartName="/ppt/media/image22.gif" ContentType="image/gif"/>
  <Override PartName="/ppt/media/image23.gif" ContentType="image/gif"/>
  <Override PartName="/ppt/media/image24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CF4B-E4C3-484F-971E-F87EFD967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4045-CC45-40A8-B9B0-09F43D68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C17E-E5B0-48D7-8867-4C828725C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ED5B-0126-4CB8-8515-44ABEE2B2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C61C-5BC7-4F21-BAD1-6B22B59D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0ADD-E6E0-4937-AA13-78C5A273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7494-58E5-45FA-B4E3-07982E84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C894-211C-4099-89FC-44F9E1BE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300C-8CF9-4F81-AD8E-82683A8D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08BD-5B03-45B2-9DE3-1E43A2F9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EDBC-61D4-4633-8624-E5AC49C2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D429-D478-4140-AC19-391AB03B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1E7E-957C-4FF4-8F4C-AA018F70D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60" y="836640"/>
            <a:ext cx="8774280" cy="31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90000"/>
              </a:lnSpc>
              <a:spcBef>
                <a:spcPts val="49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宋体"/>
              </a:rPr>
              <a:t>离</a:t>
            </a:r>
            <a:r>
              <a:rPr b="0" lang="zh-CN" sz="8800" spc="-1" strike="noStrike">
                <a:solidFill>
                  <a:srgbClr val="ff0000"/>
                </a:solidFill>
                <a:latin typeface="宋体"/>
              </a:rPr>
              <a:t>2013</a:t>
            </a:r>
            <a:r>
              <a:rPr b="0" lang="zh-CN" sz="8800" spc="-1" strike="noStrike">
                <a:solidFill>
                  <a:srgbClr val="ff0000"/>
                </a:solidFill>
                <a:latin typeface="宋体"/>
              </a:rPr>
              <a:t>年高考仅有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90000"/>
              </a:lnSpc>
              <a:spcBef>
                <a:spcPts val="49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宋体"/>
              </a:rPr>
              <a:t>         </a:t>
            </a:r>
            <a:r>
              <a:rPr b="1" lang="zh-CN" sz="8800" spc="-1" strike="noStrike">
                <a:solidFill>
                  <a:srgbClr val="ff0000"/>
                </a:solidFill>
                <a:latin typeface="宋体"/>
              </a:rPr>
              <a:t>130</a:t>
            </a:r>
            <a:r>
              <a:rPr b="0" lang="zh-CN" sz="8800" spc="-1" strike="noStrike">
                <a:solidFill>
                  <a:srgbClr val="ff0000"/>
                </a:solidFill>
                <a:latin typeface="宋体"/>
              </a:rPr>
              <a:t>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16000" y="3068640"/>
            <a:ext cx="2919600" cy="307656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38080" y="83808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隶书"/>
              </a:rPr>
              <a:t>老师的教学理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1905120"/>
            <a:ext cx="5257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关注班上每一个学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没有最好，只有更好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班级没有后进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不以一时成败论英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希望每个人都有好前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62120" y="2133720"/>
            <a:ext cx="380880" cy="3581280"/>
            <a:chOff x="762120" y="2133720"/>
            <a:chExt cx="380880" cy="3581280"/>
          </a:xfrm>
        </p:grpSpPr>
        <p:sp>
          <p:nvSpPr>
            <p:cNvPr id="68" name=""/>
            <p:cNvSpPr/>
            <p:nvPr/>
          </p:nvSpPr>
          <p:spPr>
            <a:xfrm>
              <a:off x="762120" y="2971800"/>
              <a:ext cx="380880" cy="30492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920"/>
                <a:gd name="textAreaBottom" fmla="*/ 191160 h 304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2133720"/>
              <a:ext cx="380880" cy="30492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920"/>
                <a:gd name="textAreaBottom" fmla="*/ 191160 h 304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2120" y="3733920"/>
              <a:ext cx="380880" cy="30492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920"/>
                <a:gd name="textAreaBottom" fmla="*/ 191160 h 304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2120" y="4572000"/>
              <a:ext cx="380880" cy="30492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920"/>
                <a:gd name="textAreaBottom" fmla="*/ 191160 h 304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62120" y="5410440"/>
              <a:ext cx="380880" cy="30456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560"/>
                <a:gd name="textAreaBottom" fmla="*/ 191160 h 3045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835280" y="765000"/>
            <a:ext cx="66294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培养有理想抱负的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培养良好的道德品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培养良好的心理素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培养良好的学习习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严格要求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自主管理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让每一位学生都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健康成功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 rot="5400000">
            <a:off x="-1477440" y="2553480"/>
            <a:ext cx="4795920" cy="1523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华文新魏"/>
              </a:rPr>
              <a:t>班级管理理念</a:t>
            </a:r>
            <a:endParaRPr b="1" lang="en-US" sz="5400" spc="-1" strike="noStrike">
              <a:ln w="0">
                <a:noFill/>
              </a:ln>
              <a:solidFill>
                <a:srgbClr val="ff0000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advTm="1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914400" y="304920"/>
            <a:ext cx="6934320" cy="838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324480" y="1143000"/>
            <a:ext cx="2819520" cy="3276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5410080" y="3809880"/>
            <a:ext cx="3200400" cy="1752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1066680" y="3505320"/>
            <a:ext cx="3733920" cy="33526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050840" y="2133720"/>
            <a:ext cx="7178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00"/>
                </a:solidFill>
                <a:latin typeface="华文彩云"/>
                <a:ea typeface="华文彩云"/>
              </a:rPr>
              <a:t>  </a:t>
            </a:r>
            <a:r>
              <a:rPr b="1" lang="zh-CN" sz="8000" spc="-1" strike="noStrike">
                <a:solidFill>
                  <a:srgbClr val="00ff00"/>
                </a:solidFill>
                <a:latin typeface="华文彩云"/>
                <a:ea typeface="华文彩云"/>
              </a:rPr>
              <a:t>高三（    ）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00"/>
                </a:solidFill>
                <a:latin typeface="华文彩云"/>
                <a:ea typeface="华文彩云"/>
              </a:rPr>
              <a:t>   </a:t>
            </a:r>
            <a:r>
              <a:rPr b="1" lang="zh-CN" sz="8000" spc="-1" strike="noStrike">
                <a:solidFill>
                  <a:srgbClr val="00ff00"/>
                </a:solidFill>
                <a:latin typeface="华文彩云"/>
                <a:ea typeface="华文彩云"/>
              </a:rPr>
              <a:t>联考分析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反思一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这次考试在个人名次上发生了一些明显的变化，原因为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们也有不少同学在考试前也投入了大量精力，但未收到如期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联考是冶炼，心态最重要。经历是最好的老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03280" y="549360"/>
            <a:ext cx="43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ff0000"/>
                </a:solidFill>
                <a:latin typeface="Arial"/>
              </a:rPr>
              <a:t>反思二</a:t>
            </a:r>
            <a:r>
              <a:rPr b="0" lang="en-US" sz="4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zh-CN" sz="4600" spc="-1" strike="noStrike">
                <a:solidFill>
                  <a:srgbClr val="ff0000"/>
                </a:solidFill>
                <a:latin typeface="Arial"/>
              </a:rPr>
              <a:t>显露出的问题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这次考后，我们发现有些同学的总分高不了，究其原因，偏科太厉害！尤其要引起重视的是英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学和地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因为这三科拉的分数最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但部分学生在语文、政治、历史等学科也存在较大问题由于各个方面的原因，很多同学都在这些科目中出现“瘸腿”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试卷答题过程中暴露出来的不规范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基础掌握不扎实、知识漏洞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8000" y="549360"/>
            <a:ext cx="8893080" cy="59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反思三</a:t>
            </a:r>
            <a:r>
              <a:rPr b="1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个别学生目前存在的问题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学习目的不明确，甚至模糊。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集体主义观念淡漠、自私。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3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责任感较差，自我中心。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4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学习方法需要调整，没有计划。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5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心理素质，适应性需要加强。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6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同学关系、师生关系需要改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835280" y="1341360"/>
            <a:ext cx="609588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333399"/>
                </a:solidFill>
                <a:latin typeface="汉仪圆叠体简"/>
              </a:rPr>
              <a:t>家长如何看待孩子</a:t>
            </a:r>
            <a:endParaRPr b="0" lang="en-US" sz="4800" spc="-1" strike="noStrike">
              <a:ln w="9360">
                <a:solidFill>
                  <a:srgbClr val="cc0000"/>
                </a:solidFill>
                <a:miter/>
              </a:ln>
              <a:solidFill>
                <a:srgbClr val="333399"/>
              </a:solidFill>
              <a:latin typeface="汉仪圆叠体简"/>
              <a:ea typeface="汉仪圆叠体简"/>
            </a:endParaRPr>
          </a:p>
        </p:txBody>
      </p:sp>
    </p:spTree>
  </p:cSld>
  <p:transition advTm="15000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1979640" y="0"/>
            <a:ext cx="5181480" cy="3432240"/>
            <a:chOff x="1979640" y="0"/>
            <a:chExt cx="5181480" cy="343224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627280" y="0"/>
              <a:ext cx="40323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 txBox="1"/>
            <p:nvPr/>
          </p:nvSpPr>
          <p:spPr>
            <a:xfrm>
              <a:off x="1979640" y="2060640"/>
              <a:ext cx="5181480" cy="1371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Triangle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cc"/>
                      </a:gs>
                      <a:gs pos="100000">
                        <a:srgbClr val="ff9999"/>
                      </a:gs>
                    </a:gsLst>
                    <a:lin ang="5400000"/>
                  </a:gradFill>
                  <a:latin typeface="宋体"/>
                </a:rPr>
                <a:t>如何看待成绩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</p:grpSp>
      <p:sp>
        <p:nvSpPr>
          <p:cNvPr id="91" name=""/>
          <p:cNvSpPr txBox="1"/>
          <p:nvPr/>
        </p:nvSpPr>
        <p:spPr>
          <a:xfrm>
            <a:off x="0" y="3429000"/>
            <a:ext cx="5105520" cy="19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5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肯定子女的每一滴收获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492360" y="4581360"/>
            <a:ext cx="5410440" cy="17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1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鼓励子女的每一点进步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advTm="15000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685800"/>
            <a:ext cx="690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家长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适当的期望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16000" y="2922480"/>
            <a:ext cx="73152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孩子是家长的希望，教育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孩子是老师的希望。父母对孩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期望值的高低直接影响孩子将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所取得成就的大小。应该有一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期望值，尽量要恰到好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908000" y="1557360"/>
            <a:ext cx="504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幼圆"/>
              </a:rPr>
              <a:t>给孩子一个能达到的目标</a:t>
            </a:r>
            <a:endParaRPr b="1" lang="en-US" sz="1800" spc="-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幼圆"/>
              <a:ea typeface="幼圆"/>
            </a:endParaRPr>
          </a:p>
        </p:txBody>
      </p:sp>
    </p:spTree>
  </p:cSld>
  <p:transition advTm="15000"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11280" y="189000"/>
            <a:ext cx="7618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*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期望值过高：孩子拼命按家长的意愿生活、学习，也许父母感到满足，但孩子生活得较为压抑，甚至影响心理健康。尽力后仍达不到家长的要求，双方均失望，可能导致孩子自暴自弃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2971800"/>
            <a:ext cx="7543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* 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期望值过低或没有：尚不自觉的孩子缺少外在精神支持，认为不重视、无所谓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472428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5050"/>
                </a:solidFill>
                <a:latin typeface="Times New Roman"/>
              </a:rPr>
              <a:t>*     </a:t>
            </a:r>
            <a:r>
              <a:rPr b="1" lang="zh-CN" sz="3400" spc="-1" strike="noStrike">
                <a:solidFill>
                  <a:srgbClr val="ff5050"/>
                </a:solidFill>
                <a:latin typeface="Times New Roman"/>
              </a:rPr>
              <a:t>适当的期望值：在原有基础上适当拔高，不操之过急，不高不可攀，否则可能大家都失望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3500280"/>
            <a:ext cx="828684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9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宋体"/>
              </a:rPr>
              <a:t>高三</a:t>
            </a:r>
            <a:r>
              <a:rPr b="1" lang="zh-CN" sz="8800" spc="-1" strike="noStrike">
                <a:solidFill>
                  <a:srgbClr val="ff0000"/>
                </a:solidFill>
                <a:latin typeface="宋体"/>
              </a:rPr>
              <a:t>(11)</a:t>
            </a:r>
            <a:r>
              <a:rPr b="1" lang="zh-CN" sz="8800" spc="-1" strike="noStrike">
                <a:solidFill>
                  <a:srgbClr val="ff0000"/>
                </a:solidFill>
                <a:latin typeface="宋体"/>
              </a:rPr>
              <a:t>家长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044720" y="1197000"/>
            <a:ext cx="6984720" cy="302400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11430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放飞希望</a:t>
            </a:r>
            <a:r>
              <a:rPr b="1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,</a:t>
            </a:r>
            <a:r>
              <a:rPr b="1" lang="zh-CN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沟通无限</a:t>
            </a:r>
            <a:endParaRPr b="1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  <p:transition advTm="15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50920" y="18900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Tahoma"/>
              </a:rPr>
              <a:t>高考倒计时</a:t>
            </a:r>
            <a:r>
              <a:rPr b="1" lang="zh-CN" sz="4000" spc="-1" strike="noStrike">
                <a:solidFill>
                  <a:srgbClr val="009999"/>
                </a:solidFill>
                <a:latin typeface="Tahoma"/>
              </a:rPr>
              <a:t>130</a:t>
            </a:r>
            <a:r>
              <a:rPr b="1" lang="zh-CN" sz="4000" spc="-1" strike="noStrike">
                <a:solidFill>
                  <a:srgbClr val="009999"/>
                </a:solidFill>
                <a:latin typeface="Tahoma"/>
              </a:rPr>
              <a:t>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3280" y="549360"/>
            <a:ext cx="83844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62720" y="1890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了解高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907920"/>
            <a:ext cx="845820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、高考实行“三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+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综合”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满分：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750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分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三：语文、数学、外语（各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150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分），共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450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综合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: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历史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 地理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 政治计入高考成绩，共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300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月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25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日—百日誓师大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月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15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16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日广东省省一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月中旬二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、体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、考前心理调整。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月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8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日高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月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25</a:t>
            </a:r>
            <a:r>
              <a:rPr b="1" lang="zh-CN" sz="2800" spc="-1" strike="noStrike">
                <a:solidFill>
                  <a:srgbClr val="a50021"/>
                </a:solidFill>
                <a:latin typeface="Tahoma"/>
              </a:rPr>
              <a:t>日公布成绩，网上填报志愿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3520" y="2095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14800" y="609480"/>
            <a:ext cx="914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228600"/>
            <a:ext cx="35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了解孩子可能存在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问题以及应对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1447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自习课说话、看小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1447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提醒</a:t>
            </a:r>
            <a:r>
              <a:rPr b="1" lang="en-US" sz="2400" spc="-1" strike="noStrike">
                <a:solidFill>
                  <a:srgbClr val="009999"/>
                </a:solidFill>
                <a:latin typeface="Tahoma"/>
              </a:rPr>
              <a:t>: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晚间在自己的房间在看什么书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6560" y="215892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上课、自习课睡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59120" y="2158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晚间不要太晚  不要疲劳战要效率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28954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补课现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33920" y="28195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是否必要   如必要  勤和补课老师沟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3733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心理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358128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控制自己情绪 ，多观察、  多交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注意交流的内容、方式、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8720" y="4724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早恋现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97440" y="48690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Tahoma"/>
              </a:rPr>
              <a:t>您发现什么异样了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600200" y="4572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9999"/>
                </a:solidFill>
                <a:uFillTx/>
                <a:latin typeface="Tahoma"/>
              </a:rPr>
              <a:t>对您的几点参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40384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4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积极配合老师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00200" y="31240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作好后勤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22096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掩藏负面情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29528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以孩子为中心  不要过分唠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3124080"/>
            <a:ext cx="4114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饮食要有奶类、豆类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蔬菜、水果、谷类、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629400" y="4589640"/>
            <a:ext cx="2514600" cy="2268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990720" y="601992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93880" y="5943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让孩子感觉这是一个温暖的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96840" y="4876920"/>
            <a:ext cx="16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5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广开渠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4419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124000" y="50781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孩子的健康成长，有赖您精心的呵护、正确的教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91440" y="260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寄语家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1125720"/>
            <a:ext cx="7561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生的成功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40%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学生的自身努力）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30%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教师的力量）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30%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家长的推动力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2360" y="1052640"/>
            <a:ext cx="871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在思想上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家长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多与子女沟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及时了解和掌握自己子女的心理动向，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给其学习施加一定的压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对子女的教育方式方法，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多鼓励少批评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子女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要有一定的期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但不能过高或过低，注意观察学生变化，及时发现并纠正其不良行为而切忌护短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27160" y="33336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黑体"/>
              </a:rPr>
              <a:t>希望家长配合的工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96720" y="44280"/>
            <a:ext cx="86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zh-CN" sz="3600" spc="-1" strike="noStrike">
                <a:solidFill>
                  <a:srgbClr val="a50021"/>
                </a:solidFill>
                <a:latin typeface="宋体"/>
              </a:rPr>
              <a:t>生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上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合理安排饮食，注意补充营养关心照顾，身体是革命的本钱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提醒孩子注意安全（交通安全、运动安全、饮食安全等），保证学生按时作息，不要因晚上学习时间过长或看电视无度、睡眠不足影响第二天学习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特殊情况要请假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控制零花钱，引导孩子合理消费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抓好子女在家的行为习惯。如良好的休息、科学的安排学习、适量的家务劳动。在孩子面前做好表率，身教重于言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24000" y="333360"/>
            <a:ext cx="856908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zh-CN" sz="2800" spc="-1" strike="noStrike">
                <a:solidFill>
                  <a:srgbClr val="a50021"/>
                </a:solidFill>
                <a:latin typeface="宋体"/>
              </a:rPr>
              <a:t>学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上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家长能够教育孩子在上课时专心听老师讲课，不懂就是不懂，要虚心请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强调“认真”二字。少做最好不做与学习无关的事。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现在的社会需要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各种各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人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只要有能力，任何一个学生都能在社会上立足，并且成就一番事业。科学的分析子女的成绩档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与其他同学作比较，而是着眼于自身的比较。比较前后几次考试，看是否退步，原因是什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比较各科之间的成绩，看哪科是弱项，多花些时间补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6094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教育方式上，要尊重学生人格，用科学方法教育、引导，切忌因简单、粗暴的武力压服而影响其身心健康，导致教育失败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286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家长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多和老师联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支持班级工作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掌握子女在学校的学习情况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帮助学生树立人生或高考目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1148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总之，希望家长能以负责的态度，正确的方法，与教师共同塑造学生健康的心态，培养其良好行为习惯，激发其勇于创新、不懈努力的积极性的目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981080"/>
            <a:ext cx="8610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宋体"/>
                <a:ea typeface="黑体"/>
              </a:rPr>
              <a:t>我们重视学生的成长，而不仅仅是成功；我们重视学生的人格，而不仅仅是成绩；我们重视学生的创新，而不仅仅是接受；我们重视学生的终身，而不仅仅是现在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19720" y="4952880"/>
            <a:ext cx="3809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65240" y="40831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0880" y="38088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共勉：</a:t>
            </a:r>
            <a:endParaRPr b="1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  <p:transition advTm="15000"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143000" y="533520"/>
            <a:ext cx="769608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成功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=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智商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+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情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(20%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(80%</a:t>
            </a:r>
            <a:r>
              <a:rPr b="0" lang="zh-CN" sz="48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86200" y="3297240"/>
            <a:ext cx="5257800" cy="356076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260280"/>
            <a:ext cx="48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尊敬的各位家长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2205000"/>
            <a:ext cx="727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Arial"/>
              </a:rPr>
              <a:t>欢迎您的到来</a:t>
            </a:r>
            <a:r>
              <a:rPr b="1" lang="en-US" sz="8800" spc="-1" strike="noStrike">
                <a:solidFill>
                  <a:srgbClr val="0000ff"/>
                </a:solidFill>
                <a:latin typeface="Arial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24360" y="5734080"/>
            <a:ext cx="57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高三   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(11)  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path" presetID="6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animMotion origin="layout" path="M -0.05104 -0.01734 C -0.04931 0.00185 -0.04445 0.02937 -0.02622 0.02868 C 0.00034 0.02868 0.00225 -0.06244 0.03368 -0.06244 C 0.06198 -0.06244 0.04705 0.01712 0.07396 0.01665 C 0.10243 0.01665 0.08715 -0.04093 0.11771 -0.04093 C 0.14496 -0.04093 0.12968 -0.00208 0.15399 -0.00208 C 0.17743 -0.00208 0.16528 -0.03191 0.18646 -0.03191 C 0.19861 -0.03191 0.19948 -0.02382 0.20087 -0.01734 E">
                                      <p:cBhvr>
                                        <p:cTn id="6" dur="5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autoRev="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wd">
                                    <p:tmAbs val="500"/>
                                  </p:iterate>
                                  <p:childTnLst>
                                    <p:animMotion origin="layout" path="M -0.07084 0.00301 L -0.90556 0.01364 E">
                                      <p:cBhvr>
                                        <p:cTn id="8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600" y="0"/>
            <a:ext cx="85345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指責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怨天尤人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敵意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好斗逞勇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恐懼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畏首畏尾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憐憫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自怨自艾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嘲諷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消極退縮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嫉妒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勾心斗角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羞辱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心懷內疚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容忍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極富耐性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鼓勵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充滿自信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讚美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心存感恩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嘉許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愛人愛己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接納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心胸寬大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認同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掌握目標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分享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慷慨大方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誠實公平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必能維護正義真理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安定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信任自己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信任他人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友善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對世界多一份關懷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祥和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有和平的心境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858000" y="18288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1143000"/>
            <a:ext cx="830592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</a:t>
            </a:r>
            <a:r>
              <a:rPr b="1" i="1" lang="zh-CN" sz="40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孩子们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爸爸、妈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你们辛苦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我们平时忙于学习，因此和你们交流得机会很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但是作为你的儿女，我们深知你们很辛苦，也很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我们回报您的唯一办法就是好好学习，不虚度光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争取考取理想大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爸爸妈妈你们千万要注意身体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儿女在这里真诚地道一声：谢谢你们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638680" y="685800"/>
            <a:ext cx="2251080" cy="228600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81080" y="246204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刻苦努力，不断拼搏，是我们奋进的号角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坚忍顽强，超越自我，是我们追求的品格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克服困难，励志向前，是我们不改的信念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乌鸦反哺，回报父母，是我们不变的誓言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健康成长，创造辉煌，是我们共同的心愿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 rot="513000">
            <a:off x="541080" y="371520"/>
            <a:ext cx="6557760" cy="187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说给爸爸妈妈的话</a:t>
            </a:r>
            <a:endParaRPr b="0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advTm="15000">
    <p:random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150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152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5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238880" cy="4286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50292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8080"/>
                </a:solidFill>
                <a:latin typeface="Tahoma"/>
                <a:ea typeface="华文行楷"/>
              </a:rPr>
              <a:t>雪莱说“冬天到了，春天还会远吗？”春天是万物复苏的季节，我们仍在快乐的播种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6934320" cy="4267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990720" y="481644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339933"/>
                </a:solidFill>
                <a:latin typeface="Tahoma"/>
                <a:ea typeface="华文行楷"/>
              </a:rPr>
              <a:t>迎接高考一路坎坷，我们已感受到夏雨的清凉。当今年的六月来临，我相信我们已经做好了准备。这应该是一条通向成功的道路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163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165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8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391520" cy="44467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62120" y="51055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cc3300"/>
                </a:solidFill>
                <a:latin typeface="Tahoma"/>
                <a:ea typeface="华文行楷"/>
              </a:rPr>
              <a:t>秋天是收获的季节，我们却在播种。道路可能很艰苦，但我们是朝着太阳的方向前进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174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176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9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2" name=""/>
          <p:cNvSpPr/>
          <p:nvPr/>
        </p:nvSpPr>
        <p:spPr>
          <a:xfrm>
            <a:off x="1066680" y="51055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行楷"/>
              </a:rPr>
              <a:t>雪花儿飘起来了，我们舍弃了小屋的舒适，沿着这条路仍在艰难地跋涉…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华文行楷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184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186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9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086600" cy="448632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194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196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9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6858000" cy="44355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838080" y="50292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339933"/>
                </a:solidFill>
                <a:latin typeface="Tahoma"/>
                <a:ea typeface="华文行楷"/>
              </a:rPr>
              <a:t>走过春夏秋冬，走过风风雨雨……当我们如雄鹰展翅，所有的辛苦，所有的泪水，都会在一笑中淡然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0" y="4952520"/>
            <a:ext cx="60372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让我们携起来，共创孩子的美好明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79280" y="3716280"/>
            <a:ext cx="2136960" cy="281952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600200" y="3124080"/>
            <a:ext cx="6858000" cy="1524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隶书"/>
              </a:rPr>
              <a:t>家长会到此结束</a:t>
            </a:r>
            <a:endParaRPr b="0" lang="en-US" sz="6000" spc="-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隶书"/>
              </a:rPr>
              <a:t>祝各位家长健康愉快</a:t>
            </a:r>
            <a:endParaRPr b="0" lang="en-US" sz="6000" spc="-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隶书"/>
              <a:ea typeface="隶书"/>
            </a:endParaRPr>
          </a:p>
        </p:txBody>
      </p:sp>
      <p:sp>
        <p:nvSpPr>
          <p:cNvPr id="208" name=""/>
          <p:cNvSpPr/>
          <p:nvPr/>
        </p:nvSpPr>
        <p:spPr>
          <a:xfrm>
            <a:off x="3653280" y="4267080"/>
            <a:ext cx="296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rebuchet MS"/>
              </a:rPr>
              <a:t>Bye-bye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1828800" cy="15242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35200" cy="29718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6934320" y="380880"/>
            <a:ext cx="1904760" cy="158760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600200" y="1143000"/>
            <a:ext cx="56386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一切为了孩子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做好孩子的护航使者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advTm="1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22096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首先感谢您在百忙之中抽空来参加家长会。关心、帮助、督促贵子女是我们共同的心愿！使您的孩子得到全面发展、提高是我们共同的目标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685800"/>
            <a:ext cx="58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50021"/>
                </a:solidFill>
                <a:latin typeface="Times New Roman"/>
              </a:rPr>
              <a:t>尊敬的各位家长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400800" y="0"/>
            <a:ext cx="2514600" cy="2224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556000" y="5518080"/>
            <a:ext cx="3844800" cy="66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我们需要共同努力！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advTm="15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74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知识改变命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态度决定一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刻苦完成学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奋斗成就人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65040" y="70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536280" y="1522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家长会议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1066680"/>
            <a:ext cx="83818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家长会召开的意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班级基本情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学生在校表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联考情况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存在的问题及下一阶段工作思路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需要家长配合的工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给家长的一些建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个别交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066680" y="380880"/>
            <a:ext cx="75438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我们本次家长会的目的是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</a:t>
            </a:r>
            <a:r>
              <a:rPr b="0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促进交流与合作，达成教育共识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562720" y="4460760"/>
            <a:ext cx="3276360" cy="212436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843280" y="1700280"/>
            <a:ext cx="51847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家长积极配合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老师倾情教育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学生努力进步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33360"/>
            <a:ext cx="2987640" cy="2548080"/>
          </a:xfrm>
          <a:prstGeom prst="cloudCallout">
            <a:avLst>
              <a:gd name="adj1" fmla="val 29810"/>
              <a:gd name="adj2" fmla="val 7704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我们的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愿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0:43:50Z</dcterms:created>
  <dc:creator>fxzm</dc:creator>
  <dc:description/>
  <dc:language>en-US</dc:language>
  <cp:lastModifiedBy>USER</cp:lastModifiedBy>
  <dcterms:modified xsi:type="dcterms:W3CDTF">2013-01-25T08:43:48Z</dcterms:modified>
  <cp:revision>1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