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AB7-6559-4714-A2E0-A88C7838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007-F92C-4B91-BE82-90619547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C31-423E-4B79-9D50-73AEBA15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05D-441F-4369-BCAA-BE18DCBC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0CC1-1C96-413A-B124-2501C4C6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4541-B320-4313-B510-E3C5B886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0EC4-F09F-4426-953A-1E55892C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5753-C33C-463E-976C-3979C80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DD47-3AD6-429C-B974-FFE2D560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1700-5244-4A9A-B772-971C1FD3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30F7-9C73-48C5-8340-12B9003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09A-24E8-4E5C-A840-BB9435FD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2FCB-9B4A-4915-8D52-9794AFC2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6BA5-C337-4FDC-A891-65885F39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9A3C-8B08-47A2-84C8-D1D9744C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6451-B773-4DFB-B74D-E91BC549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483C-054A-4BEB-8504-1B2B8F91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556-70B2-46F6-9DCE-CCF5835B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7B1-8BBD-46AC-825A-AC2D153C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B81-E2EE-4130-A65E-AE7F978B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5D5-BA84-437F-9170-3C08F720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3ED-FC7B-4FD3-8D0E-915053ED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D87-3004-43EA-A58D-046D62A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B89-6972-48F9-AB2A-4FD6B7C2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8053-D12A-466D-AA28-B61D3B9700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AE95-EA84-4DF3-8C46-09760B775F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9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0" name="直接箭头​​连接符 22"/>
          <p:cNvCxnSpPr/>
          <p:nvPr/>
        </p:nvCxnSpPr>
        <p:spPr>
          <a:xfrm flipV="1">
            <a:off x="7846560" y="3112560"/>
            <a:ext cx="108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1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34"/>
          <p:cNvSpPr/>
          <p:nvPr/>
        </p:nvSpPr>
        <p:spPr>
          <a:xfrm>
            <a:off x="182160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36"/>
          <p:cNvSpPr/>
          <p:nvPr/>
        </p:nvSpPr>
        <p:spPr>
          <a:xfrm>
            <a:off x="189540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38"/>
          <p:cNvSpPr/>
          <p:nvPr/>
        </p:nvSpPr>
        <p:spPr>
          <a:xfrm>
            <a:off x="194220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组合 6" descr=""/>
          <p:cNvPicPr/>
          <p:nvPr/>
        </p:nvPicPr>
        <p:blipFill>
          <a:blip r:embed="rId2"/>
          <a:stretch/>
        </p:blipFill>
        <p:spPr>
          <a:xfrm>
            <a:off x="3797280" y="1268280"/>
            <a:ext cx="2664000" cy="1876680"/>
          </a:xfrm>
          <a:prstGeom prst="rect">
            <a:avLst/>
          </a:prstGeom>
          <a:ln w="0">
            <a:noFill/>
          </a:ln>
        </p:spPr>
      </p:pic>
      <p:pic>
        <p:nvPicPr>
          <p:cNvPr id="329" name="组合 7" descr=""/>
          <p:cNvPicPr/>
          <p:nvPr/>
        </p:nvPicPr>
        <p:blipFill>
          <a:blip r:embed="rId3"/>
          <a:stretch/>
        </p:blipFill>
        <p:spPr>
          <a:xfrm>
            <a:off x="5419800" y="3097080"/>
            <a:ext cx="1888920" cy="2602080"/>
          </a:xfrm>
          <a:prstGeom prst="rect">
            <a:avLst/>
          </a:prstGeom>
          <a:ln w="0">
            <a:noFill/>
          </a:ln>
        </p:spPr>
      </p:pic>
      <p:pic>
        <p:nvPicPr>
          <p:cNvPr id="330" name="组合 13" descr=""/>
          <p:cNvPicPr/>
          <p:nvPr/>
        </p:nvPicPr>
        <p:blipFill>
          <a:blip r:embed="rId4"/>
          <a:stretch/>
        </p:blipFill>
        <p:spPr>
          <a:xfrm>
            <a:off x="2792520" y="4705200"/>
            <a:ext cx="2712960" cy="1719360"/>
          </a:xfrm>
          <a:prstGeom prst="rect">
            <a:avLst/>
          </a:prstGeom>
          <a:ln w="0">
            <a:noFill/>
          </a:ln>
        </p:spPr>
      </p:pic>
      <p:pic>
        <p:nvPicPr>
          <p:cNvPr id="331" name="组合 14" descr=""/>
          <p:cNvPicPr/>
          <p:nvPr/>
        </p:nvPicPr>
        <p:blipFill>
          <a:blip r:embed="rId5"/>
          <a:stretch/>
        </p:blipFill>
        <p:spPr>
          <a:xfrm>
            <a:off x="1951200" y="2023920"/>
            <a:ext cx="1871640" cy="267048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组合 33" descr=""/>
          <p:cNvPicPr/>
          <p:nvPr/>
        </p:nvPicPr>
        <p:blipFill>
          <a:blip r:embed="rId2"/>
          <a:stretch/>
        </p:blipFill>
        <p:spPr>
          <a:xfrm>
            <a:off x="3382920" y="3382920"/>
            <a:ext cx="2487600" cy="1981080"/>
          </a:xfrm>
          <a:prstGeom prst="rect">
            <a:avLst/>
          </a:prstGeom>
          <a:ln w="0">
            <a:noFill/>
          </a:ln>
        </p:spPr>
      </p:pic>
      <p:pic>
        <p:nvPicPr>
          <p:cNvPr id="338" name="组合 13" descr=""/>
          <p:cNvPicPr/>
          <p:nvPr/>
        </p:nvPicPr>
        <p:blipFill>
          <a:blip r:embed="rId3"/>
          <a:stretch/>
        </p:blipFill>
        <p:spPr>
          <a:xfrm>
            <a:off x="981000" y="2693880"/>
            <a:ext cx="2335320" cy="1244880"/>
          </a:xfrm>
          <a:prstGeom prst="rect">
            <a:avLst/>
          </a:prstGeom>
          <a:ln w="0">
            <a:noFill/>
          </a:ln>
        </p:spPr>
      </p:pic>
      <p:pic>
        <p:nvPicPr>
          <p:cNvPr id="339" name="组合 14" descr=""/>
          <p:cNvPicPr/>
          <p:nvPr/>
        </p:nvPicPr>
        <p:blipFill>
          <a:blip r:embed="rId4"/>
          <a:stretch/>
        </p:blipFill>
        <p:spPr>
          <a:xfrm>
            <a:off x="5931000" y="4486320"/>
            <a:ext cx="2341440" cy="1244520"/>
          </a:xfrm>
          <a:prstGeom prst="rect">
            <a:avLst/>
          </a:prstGeom>
          <a:ln w="0">
            <a:noFill/>
          </a:ln>
        </p:spPr>
      </p:pic>
      <p:pic>
        <p:nvPicPr>
          <p:cNvPr id="340" name="组合 20" descr=""/>
          <p:cNvPicPr/>
          <p:nvPr/>
        </p:nvPicPr>
        <p:blipFill>
          <a:blip r:embed="rId5"/>
          <a:stretch/>
        </p:blipFill>
        <p:spPr>
          <a:xfrm>
            <a:off x="5919840" y="2614680"/>
            <a:ext cx="2340000" cy="1251000"/>
          </a:xfrm>
          <a:prstGeom prst="rect">
            <a:avLst/>
          </a:prstGeom>
          <a:ln w="0">
            <a:noFill/>
          </a:ln>
        </p:spPr>
      </p:pic>
      <p:pic>
        <p:nvPicPr>
          <p:cNvPr id="341" name="组合 26" descr=""/>
          <p:cNvPicPr/>
          <p:nvPr/>
        </p:nvPicPr>
        <p:blipFill>
          <a:blip r:embed="rId6"/>
          <a:stretch/>
        </p:blipFill>
        <p:spPr>
          <a:xfrm>
            <a:off x="969840" y="4559400"/>
            <a:ext cx="2333880" cy="12510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41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44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6" name="组合 7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47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fcd5b5"/>
                  </a:gs>
                  <a:gs pos="100000">
                    <a:srgbClr val="fac090"/>
                  </a:gs>
                </a:gsLst>
                <a:lin ang="135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9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1" name="Group 3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352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5832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组合 42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56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8" name="组合 11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59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ccc1da"/>
                  </a:gs>
                  <a:gs pos="100000">
                    <a:srgbClr val="ccc1da"/>
                  </a:gs>
                </a:gsLst>
                <a:lin ang="189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1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43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7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3" name="组合 15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7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ebf1de"/>
                  </a:gs>
                  <a:gs pos="100000">
                    <a:srgbClr val="c3d69b"/>
                  </a:gs>
                </a:gsLst>
                <a:lin ang="108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8" name="Group 22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79" name="AutoShape 23"/>
              <p:cNvSpPr/>
              <p:nvPr/>
            </p:nvSpPr>
            <p:spPr>
              <a:xfrm>
                <a:off x="652896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5"/>
              <p:cNvSpPr/>
              <p:nvPr/>
            </p:nvSpPr>
            <p:spPr>
              <a:xfrm flipH="1">
                <a:off x="6750360" y="5103000"/>
                <a:ext cx="67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6"/>
              <p:cNvSpPr/>
              <p:nvPr/>
            </p:nvSpPr>
            <p:spPr>
              <a:xfrm flipH="1">
                <a:off x="6617520" y="4871880"/>
                <a:ext cx="109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7"/>
              <p:cNvSpPr/>
              <p:nvPr/>
            </p:nvSpPr>
            <p:spPr>
              <a:xfrm flipH="1">
                <a:off x="6660000" y="4910040"/>
                <a:ext cx="67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 flipH="1">
                <a:off x="6679440" y="4981680"/>
                <a:ext cx="47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1"/>
          <p:cNvSpPr/>
          <p:nvPr/>
        </p:nvSpPr>
        <p:spPr>
          <a:xfrm>
            <a:off x="108936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108936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5"/>
          <p:cNvSpPr/>
          <p:nvPr/>
        </p:nvSpPr>
        <p:spPr>
          <a:xfrm>
            <a:off x="108936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组合 14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99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0" name="直接箭头​​连接符 16"/>
            <p:cNvCxnSpPr/>
            <p:nvPr/>
          </p:nvCxnSpPr>
          <p:spPr>
            <a:xfrm>
              <a:off x="5484960" y="301788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401" name="直接箭头​​连接符 18"/>
          <p:cNvCxnSpPr/>
          <p:nvPr/>
        </p:nvCxnSpPr>
        <p:spPr>
          <a:xfrm flipH="1">
            <a:off x="3668040" y="5398560"/>
            <a:ext cx="108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402" name="组合 12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403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梯形 4"/>
          <p:cNvSpPr/>
          <p:nvPr/>
        </p:nvSpPr>
        <p:spPr>
          <a:xfrm rot="3588600">
            <a:off x="3819960" y="3450240"/>
            <a:ext cx="3241440" cy="312840"/>
          </a:xfrm>
          <a:prstGeom prst="pie">
            <a:avLst/>
          </a:prstGeom>
          <a:solidFill>
            <a:srgbClr val="8064a2"/>
          </a:solidFill>
          <a:ln w="38160">
            <a:solidFill>
              <a:srgbClr val="604a7b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梯形 5"/>
          <p:cNvSpPr/>
          <p:nvPr/>
        </p:nvSpPr>
        <p:spPr>
          <a:xfrm rot="18056400">
            <a:off x="1928520" y="3419280"/>
            <a:ext cx="3192480" cy="312840"/>
          </a:xfrm>
          <a:prstGeom prst="pie">
            <a:avLst/>
          </a:prstGeom>
          <a:solidFill>
            <a:srgbClr val="9bbb59"/>
          </a:solidFill>
          <a:ln w="38160">
            <a:solidFill>
              <a:srgbClr val="77933c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梯形 6"/>
          <p:cNvSpPr/>
          <p:nvPr/>
        </p:nvSpPr>
        <p:spPr>
          <a:xfrm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3191020" h="312219">
                <a:moveTo>
                  <a:pt x="0" y="312219"/>
                </a:moveTo>
                <a:lnTo>
                  <a:pt x="553074" y="0"/>
                </a:lnTo>
                <a:lnTo>
                  <a:pt x="2637946" y="0"/>
                </a:lnTo>
                <a:lnTo>
                  <a:pt x="3191020" y="312219"/>
                </a:lnTo>
                <a:lnTo>
                  <a:pt x="0" y="312219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46c0a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25"/>
          <p:cNvSpPr/>
          <p:nvPr/>
        </p:nvSpPr>
        <p:spPr>
          <a:xfrm>
            <a:off x="10591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26"/>
          <p:cNvSpPr/>
          <p:nvPr/>
        </p:nvSpPr>
        <p:spPr>
          <a:xfrm>
            <a:off x="6181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7"/>
          <p:cNvSpPr/>
          <p:nvPr/>
        </p:nvSpPr>
        <p:spPr>
          <a:xfrm>
            <a:off x="4061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Group 33" descr=""/>
          <p:cNvPicPr/>
          <p:nvPr/>
        </p:nvPicPr>
        <p:blipFill>
          <a:blip r:embed="rId2"/>
          <a:stretch/>
        </p:blipFill>
        <p:spPr>
          <a:xfrm>
            <a:off x="7497720" y="2462040"/>
            <a:ext cx="341280" cy="40356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Group 124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421" name="Group 125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422" name="Freeform 126"/>
              <p:cNvSpPr/>
              <p:nvPr/>
            </p:nvSpPr>
            <p:spPr>
              <a:xfrm flipH="1">
                <a:off x="322128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128"/>
              <p:cNvSpPr/>
              <p:nvPr/>
            </p:nvSpPr>
            <p:spPr>
              <a:xfrm flipH="1">
                <a:off x="3194280" y="558720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129"/>
              <p:cNvSpPr/>
              <p:nvPr/>
            </p:nvSpPr>
            <p:spPr>
              <a:xfrm flipH="1">
                <a:off x="321840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7" name="Group 131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428" name="Freeform 132"/>
              <p:cNvSpPr/>
              <p:nvPr/>
            </p:nvSpPr>
            <p:spPr>
              <a:xfrm flipH="1">
                <a:off x="331848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134"/>
              <p:cNvSpPr/>
              <p:nvPr/>
            </p:nvSpPr>
            <p:spPr>
              <a:xfrm flipH="1">
                <a:off x="3291480" y="56566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135"/>
              <p:cNvSpPr/>
              <p:nvPr/>
            </p:nvSpPr>
            <p:spPr>
              <a:xfrm flipH="1">
                <a:off x="331560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3" name="Group 137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434" name="Freeform 138"/>
              <p:cNvSpPr/>
              <p:nvPr/>
            </p:nvSpPr>
            <p:spPr>
              <a:xfrm flipH="1">
                <a:off x="311940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40"/>
              <p:cNvSpPr/>
              <p:nvPr/>
            </p:nvSpPr>
            <p:spPr>
              <a:xfrm flipH="1">
                <a:off x="3092400" y="566892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41"/>
              <p:cNvSpPr/>
              <p:nvPr/>
            </p:nvSpPr>
            <p:spPr>
              <a:xfrm flipH="1">
                <a:off x="311652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39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0" name="Group 83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441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Line 85"/>
            <p:cNvSpPr/>
            <p:nvPr/>
          </p:nvSpPr>
          <p:spPr>
            <a:xfrm>
              <a:off x="1400760" y="2568960"/>
              <a:ext cx="163440" cy="8064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 flipH="1">
              <a:off x="1484280" y="2544120"/>
              <a:ext cx="33120" cy="6624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组合 5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47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8" name="椭圆​​ 4"/>
            <p:cNvGrpSpPr/>
            <p:nvPr/>
          </p:nvGrpSpPr>
          <p:grpSpPr>
            <a:xfrm>
              <a:off x="3249360" y="2919240"/>
              <a:ext cx="2675520" cy="2676600"/>
              <a:chOff x="3249360" y="2919240"/>
              <a:chExt cx="2675520" cy="2676600"/>
            </a:xfrm>
          </p:grpSpPr>
          <p:pic>
            <p:nvPicPr>
              <p:cNvPr id="449" name="椭圆​​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9360" y="2919240"/>
                <a:ext cx="2675520" cy="267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3638880" y="3309840"/>
                <a:ext cx="1892520" cy="18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中心内容描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51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直接连接符​​ 10"/>
          <p:cNvSpPr/>
          <p:nvPr/>
        </p:nvSpPr>
        <p:spPr>
          <a:xfrm>
            <a:off x="2513160" y="3284640"/>
            <a:ext cx="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直接连接符​​ 13"/>
          <p:cNvSpPr/>
          <p:nvPr/>
        </p:nvSpPr>
        <p:spPr>
          <a:xfrm>
            <a:off x="6732720" y="3700440"/>
            <a:ext cx="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4"/>
          <p:cNvSpPr/>
          <p:nvPr/>
        </p:nvSpPr>
        <p:spPr>
          <a:xfrm>
            <a:off x="5624640" y="151272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-108000" y="3232080"/>
            <a:ext cx="254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1" name="组合 10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62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17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68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14"/>
            <p:cNvSpPr/>
            <p:nvPr/>
          </p:nvSpPr>
          <p:spPr>
            <a:xfrm>
              <a:off x="5597640" y="27424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矩形 15"/>
            <p:cNvSpPr/>
            <p:nvPr/>
          </p:nvSpPr>
          <p:spPr>
            <a:xfrm>
              <a:off x="5586120" y="38502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矩形 16"/>
            <p:cNvSpPr/>
            <p:nvPr/>
          </p:nvSpPr>
          <p:spPr>
            <a:xfrm>
              <a:off x="5613480" y="49420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左右箭头 14"/>
          <p:cNvSpPr/>
          <p:nvPr/>
        </p:nvSpPr>
        <p:spPr>
          <a:xfrm>
            <a:off x="3789360" y="349092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组合 46"/>
          <p:cNvGrpSpPr/>
          <p:nvPr/>
        </p:nvGrpSpPr>
        <p:grpSpPr>
          <a:xfrm>
            <a:off x="2604960" y="2058840"/>
            <a:ext cx="3809160" cy="3899160"/>
            <a:chOff x="2604960" y="2058840"/>
            <a:chExt cx="3809160" cy="3899160"/>
          </a:xfrm>
        </p:grpSpPr>
        <p:sp>
          <p:nvSpPr>
            <p:cNvPr id="476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7" name="组合 9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78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0" name="组合 19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81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3" name="组合 20"/>
            <p:cNvGrpSpPr/>
            <p:nvPr/>
          </p:nvGrpSpPr>
          <p:grpSpPr>
            <a:xfrm>
              <a:off x="5077800" y="3326400"/>
              <a:ext cx="1336320" cy="478080"/>
              <a:chOff x="5077800" y="3326400"/>
              <a:chExt cx="1336320" cy="478080"/>
            </a:xfrm>
          </p:grpSpPr>
          <p:sp>
            <p:nvSpPr>
              <p:cNvPr id="484" name="直接连接符 21"/>
              <p:cNvSpPr/>
              <p:nvPr/>
            </p:nvSpPr>
            <p:spPr>
              <a:xfrm flipH="1">
                <a:off x="5077800" y="3548880"/>
                <a:ext cx="1016640" cy="25560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椭圆 22"/>
              <p:cNvSpPr/>
              <p:nvPr/>
            </p:nvSpPr>
            <p:spPr>
              <a:xfrm rot="2982600">
                <a:off x="6114600" y="3374640"/>
                <a:ext cx="245160" cy="25560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6" name="组合 26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87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31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90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32"/>
            <p:cNvGrpSpPr/>
            <p:nvPr/>
          </p:nvGrpSpPr>
          <p:grpSpPr>
            <a:xfrm>
              <a:off x="4642920" y="4734000"/>
              <a:ext cx="578520" cy="1224000"/>
              <a:chOff x="4642920" y="4734000"/>
              <a:chExt cx="578520" cy="1224000"/>
            </a:xfrm>
          </p:grpSpPr>
          <p:sp>
            <p:nvSpPr>
              <p:cNvPr id="493" name="椭圆 33"/>
              <p:cNvSpPr/>
              <p:nvPr/>
            </p:nvSpPr>
            <p:spPr>
              <a:xfrm rot="7615200">
                <a:off x="4986000" y="572292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直接连接符 34"/>
              <p:cNvSpPr/>
              <p:nvPr/>
            </p:nvSpPr>
            <p:spPr>
              <a:xfrm flipH="1" flipV="1">
                <a:off x="4642920" y="4734000"/>
                <a:ext cx="40464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弧形 36"/>
            <p:cNvSpPr/>
            <p:nvPr/>
          </p:nvSpPr>
          <p:spPr>
            <a:xfrm>
              <a:off x="3384360" y="3027240"/>
              <a:ext cx="1982880" cy="1982880"/>
            </a:xfrm>
            <a:custGeom>
              <a:avLst/>
              <a:gdLst/>
              <a:ahLst/>
              <a:rect l="l" t="t" r="r" b="b"/>
              <a:pathLst>
                <a:path stroke="0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  <a:lnTo>
                    <a:pt x="991588" y="991557"/>
                  </a:lnTo>
                  <a:lnTo>
                    <a:pt x="1289827" y="45912"/>
                  </a:lnTo>
                  <a:close/>
                </a:path>
                <a:path fill="none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</a:path>
              </a:pathLst>
            </a:custGeom>
            <a:noFill/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直接连接符 41"/>
            <p:cNvSpPr/>
            <p:nvPr/>
          </p:nvSpPr>
          <p:spPr>
            <a:xfrm flipH="1">
              <a:off x="2853720" y="437112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椭圆 43"/>
            <p:cNvSpPr/>
            <p:nvPr/>
          </p:nvSpPr>
          <p:spPr>
            <a:xfrm>
              <a:off x="2839680" y="291744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椭圆 44"/>
            <p:cNvSpPr/>
            <p:nvPr/>
          </p:nvSpPr>
          <p:spPr>
            <a:xfrm>
              <a:off x="2604960" y="374940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椭圆 45"/>
            <p:cNvSpPr/>
            <p:nvPr/>
          </p:nvSpPr>
          <p:spPr>
            <a:xfrm>
              <a:off x="2730240" y="463536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2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8"/>
          <p:cNvSpPr/>
          <p:nvPr/>
        </p:nvSpPr>
        <p:spPr>
          <a:xfrm>
            <a:off x="580536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33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85" name="组合 8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86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91" name="组合 8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92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1" y="0"/>
                  </a:lnTo>
                  <a:lnTo>
                    <a:pt x="21600" y="10800"/>
                  </a:lnTo>
                  <a:lnTo>
                    <a:pt x="190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3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97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" name="组合 8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99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2" name="TextBox 26"/>
          <p:cNvSpPr/>
          <p:nvPr/>
        </p:nvSpPr>
        <p:spPr>
          <a:xfrm>
            <a:off x="1244520" y="405288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3897360" y="341460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6526080" y="29527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26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111" name="组合 17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112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27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118" name="组合 6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119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9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125" name="组合 12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126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30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132" name="组合 7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133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46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141" name="组合 5" descr=""/>
            <p:cNvPicPr/>
            <p:nvPr/>
          </p:nvPicPr>
          <p:blipFill>
            <a:blip r:embed="rId2"/>
            <a:stretch/>
          </p:blipFill>
          <p:spPr>
            <a:xfrm>
              <a:off x="384120" y="3315600"/>
              <a:ext cx="129240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椭圆 4"/>
            <p:cNvSpPr/>
            <p:nvPr/>
          </p:nvSpPr>
          <p:spPr>
            <a:xfrm>
              <a:off x="160344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接连接符 6"/>
            <p:cNvSpPr/>
            <p:nvPr/>
          </p:nvSpPr>
          <p:spPr>
            <a:xfrm flipV="1">
              <a:off x="4110120" y="335700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直接连接符 7"/>
            <p:cNvSpPr/>
            <p:nvPr/>
          </p:nvSpPr>
          <p:spPr>
            <a:xfrm flipV="1">
              <a:off x="6293160" y="281088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43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53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44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56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45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59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42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62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组合 41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65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4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68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2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grpSp>
          <p:nvGrpSpPr>
            <p:cNvPr id="171" name="椭圆 3"/>
            <p:cNvGrpSpPr/>
            <p:nvPr/>
          </p:nvGrpSpPr>
          <p:grpSpPr>
            <a:xfrm>
              <a:off x="969840" y="3323520"/>
              <a:ext cx="1173960" cy="1171440"/>
              <a:chOff x="969840" y="3323520"/>
              <a:chExt cx="1173960" cy="1171440"/>
            </a:xfrm>
          </p:grpSpPr>
          <p:pic>
            <p:nvPicPr>
              <p:cNvPr id="172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69840" y="3323520"/>
                <a:ext cx="1173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79720" y="350856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4" name="椭圆 4"/>
            <p:cNvGrpSpPr/>
            <p:nvPr/>
          </p:nvGrpSpPr>
          <p:grpSpPr>
            <a:xfrm>
              <a:off x="2238480" y="2382840"/>
              <a:ext cx="1167840" cy="1165680"/>
              <a:chOff x="2238480" y="2382840"/>
              <a:chExt cx="1167840" cy="1165680"/>
            </a:xfrm>
          </p:grpSpPr>
          <p:pic>
            <p:nvPicPr>
              <p:cNvPr id="175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8480" y="2382840"/>
                <a:ext cx="116784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2446200" y="256716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椭圆 5"/>
            <p:cNvGrpSpPr/>
            <p:nvPr/>
          </p:nvGrpSpPr>
          <p:grpSpPr>
            <a:xfrm>
              <a:off x="3626280" y="3294000"/>
              <a:ext cx="1167840" cy="1171440"/>
              <a:chOff x="3626280" y="3294000"/>
              <a:chExt cx="1167840" cy="1171440"/>
            </a:xfrm>
          </p:grpSpPr>
          <p:pic>
            <p:nvPicPr>
              <p:cNvPr id="178" name="椭圆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6280" y="3294000"/>
                <a:ext cx="116784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3834720" y="348192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椭圆 6"/>
            <p:cNvGrpSpPr/>
            <p:nvPr/>
          </p:nvGrpSpPr>
          <p:grpSpPr>
            <a:xfrm>
              <a:off x="3151800" y="4897440"/>
              <a:ext cx="1173960" cy="1171440"/>
              <a:chOff x="3151800" y="4897440"/>
              <a:chExt cx="1173960" cy="1171440"/>
            </a:xfrm>
          </p:grpSpPr>
          <p:pic>
            <p:nvPicPr>
              <p:cNvPr id="181" name="椭圆 6" descr=""/>
              <p:cNvPicPr/>
              <p:nvPr/>
            </p:nvPicPr>
            <p:blipFill>
              <a:blip r:embed="rId5"/>
              <a:stretch/>
            </p:blipFill>
            <p:spPr>
              <a:xfrm>
                <a:off x="3151800" y="4897440"/>
                <a:ext cx="1173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3363120" y="508248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椭圆 7"/>
            <p:cNvGrpSpPr/>
            <p:nvPr/>
          </p:nvGrpSpPr>
          <p:grpSpPr>
            <a:xfrm>
              <a:off x="1414440" y="4897440"/>
              <a:ext cx="1173960" cy="1171440"/>
              <a:chOff x="1414440" y="4897440"/>
              <a:chExt cx="1173960" cy="1171440"/>
            </a:xfrm>
          </p:grpSpPr>
          <p:pic>
            <p:nvPicPr>
              <p:cNvPr id="184" name="椭圆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414440" y="4897440"/>
                <a:ext cx="1173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1624320" y="508248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右箭头 8"/>
            <p:cNvSpPr/>
            <p:nvPr/>
          </p:nvSpPr>
          <p:spPr>
            <a:xfrm rot="14120400">
              <a:off x="1391400" y="4514400"/>
              <a:ext cx="380520" cy="350280"/>
            </a:xfrm>
            <a:prstGeom prst="rightArrow">
              <a:avLst>
                <a:gd name="adj1" fmla="val 50000"/>
                <a:gd name="adj2" fmla="val 49926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右箭头 9"/>
            <p:cNvSpPr/>
            <p:nvPr/>
          </p:nvSpPr>
          <p:spPr>
            <a:xfrm rot="19503600">
              <a:off x="1821960" y="3035160"/>
              <a:ext cx="381240" cy="349560"/>
            </a:xfrm>
            <a:prstGeom prst="rightArrow">
              <a:avLst>
                <a:gd name="adj1" fmla="val 50000"/>
                <a:gd name="adj2" fmla="val 50108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右箭头 10"/>
            <p:cNvSpPr/>
            <p:nvPr/>
          </p:nvSpPr>
          <p:spPr>
            <a:xfrm rot="2103000">
              <a:off x="3480120" y="3049200"/>
              <a:ext cx="379800" cy="349560"/>
            </a:xfrm>
            <a:prstGeom prst="rightArrow">
              <a:avLst>
                <a:gd name="adj1" fmla="val 50000"/>
                <a:gd name="adj2" fmla="val 50125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右箭头 11"/>
            <p:cNvSpPr/>
            <p:nvPr/>
          </p:nvSpPr>
          <p:spPr>
            <a:xfrm rot="6205800">
              <a:off x="3978000" y="4569480"/>
              <a:ext cx="380520" cy="34884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右箭头 12"/>
            <p:cNvSpPr/>
            <p:nvPr/>
          </p:nvSpPr>
          <p:spPr>
            <a:xfrm rot="11088600">
              <a:off x="2656800" y="5496120"/>
              <a:ext cx="381240" cy="349560"/>
            </a:xfrm>
            <a:prstGeom prst="rightArrow">
              <a:avLst>
                <a:gd name="adj1" fmla="val 50000"/>
                <a:gd name="adj2" fmla="val 50108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上箭头 3"/>
          <p:cNvGrpSpPr/>
          <p:nvPr/>
        </p:nvGrpSpPr>
        <p:grpSpPr>
          <a:xfrm>
            <a:off x="2610000" y="1968480"/>
            <a:ext cx="3924000" cy="2347560"/>
            <a:chOff x="2610000" y="1968480"/>
            <a:chExt cx="3924000" cy="2347560"/>
          </a:xfrm>
        </p:grpSpPr>
        <p:pic>
          <p:nvPicPr>
            <p:cNvPr id="199" name="上箭头 3" descr=""/>
            <p:cNvPicPr/>
            <p:nvPr/>
          </p:nvPicPr>
          <p:blipFill>
            <a:blip r:embed="rId2"/>
            <a:stretch/>
          </p:blipFill>
          <p:spPr>
            <a:xfrm>
              <a:off x="2610000" y="1968480"/>
              <a:ext cx="392400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36840" y="2707560"/>
              <a:ext cx="247032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组合 8" descr=""/>
          <p:cNvPicPr/>
          <p:nvPr/>
        </p:nvPicPr>
        <p:blipFill>
          <a:blip r:embed="rId3"/>
          <a:stretch/>
        </p:blipFill>
        <p:spPr>
          <a:xfrm>
            <a:off x="1536840" y="3303720"/>
            <a:ext cx="1974600" cy="136512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9" descr=""/>
          <p:cNvPicPr/>
          <p:nvPr/>
        </p:nvPicPr>
        <p:blipFill>
          <a:blip r:embed="rId4"/>
          <a:stretch/>
        </p:blipFill>
        <p:spPr>
          <a:xfrm>
            <a:off x="5602320" y="3352680"/>
            <a:ext cx="1987560" cy="1365480"/>
          </a:xfrm>
          <a:prstGeom prst="rect">
            <a:avLst/>
          </a:prstGeom>
          <a:ln w="0">
            <a:noFill/>
          </a:ln>
        </p:spPr>
      </p:pic>
      <p:pic>
        <p:nvPicPr>
          <p:cNvPr id="205" name="组合 23" descr=""/>
          <p:cNvPicPr/>
          <p:nvPr/>
        </p:nvPicPr>
        <p:blipFill>
          <a:blip r:embed="rId5"/>
          <a:stretch/>
        </p:blipFill>
        <p:spPr>
          <a:xfrm>
            <a:off x="2816280" y="4432320"/>
            <a:ext cx="1407960" cy="1828800"/>
          </a:xfrm>
          <a:prstGeom prst="rect">
            <a:avLst/>
          </a:prstGeom>
          <a:ln w="0">
            <a:noFill/>
          </a:ln>
        </p:spPr>
      </p:pic>
      <p:pic>
        <p:nvPicPr>
          <p:cNvPr id="206" name="组合 24" descr=""/>
          <p:cNvPicPr/>
          <p:nvPr/>
        </p:nvPicPr>
        <p:blipFill>
          <a:blip r:embed="rId6"/>
          <a:stretch/>
        </p:blipFill>
        <p:spPr>
          <a:xfrm>
            <a:off x="5138640" y="4425840"/>
            <a:ext cx="1371600" cy="18590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圆角矩形 22"/>
          <p:cNvGrpSpPr/>
          <p:nvPr/>
        </p:nvGrpSpPr>
        <p:grpSpPr>
          <a:xfrm>
            <a:off x="1865160" y="1609560"/>
            <a:ext cx="5364360" cy="414360"/>
            <a:chOff x="1865160" y="1609560"/>
            <a:chExt cx="5364360" cy="414360"/>
          </a:xfrm>
        </p:grpSpPr>
        <p:pic>
          <p:nvPicPr>
            <p:cNvPr id="212" name="圆角矩形 22" descr=""/>
            <p:cNvPicPr/>
            <p:nvPr/>
          </p:nvPicPr>
          <p:blipFill>
            <a:blip r:embed="rId7"/>
            <a:stretch/>
          </p:blipFill>
          <p:spPr>
            <a:xfrm>
              <a:off x="1865160" y="1609560"/>
              <a:ext cx="536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935000" y="1681200"/>
              <a:ext cx="522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ＨＥＲ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38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215" name="组合 10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216" name="饼形 20"/>
              <p:cNvSpPr/>
              <p:nvPr/>
            </p:nvSpPr>
            <p:spPr>
              <a:xfrm rot="7000200">
                <a:off x="1239480" y="3692520"/>
                <a:ext cx="3589200" cy="358920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185261" y="2338942"/>
                    </a:moveTo>
                    <a:cubicBezTo>
                      <a:pt x="-14007" y="1962674"/>
                      <a:pt x="-54382" y="1522302"/>
                      <a:pt x="73142" y="1116072"/>
                    </a:cubicBezTo>
                    <a:cubicBezTo>
                      <a:pt x="200666" y="709842"/>
                      <a:pt x="485479" y="371554"/>
                      <a:pt x="864041" y="176679"/>
                    </a:cubicBezTo>
                    <a:lnTo>
                      <a:pt x="1593273" y="1593273"/>
                    </a:lnTo>
                    <a:lnTo>
                      <a:pt x="185261" y="2338942"/>
                    </a:lnTo>
                    <a:close/>
                  </a:path>
                </a:pathLst>
              </a:cu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饼形 21"/>
              <p:cNvSpPr/>
              <p:nvPr/>
            </p:nvSpPr>
            <p:spPr>
              <a:xfrm rot="7000200">
                <a:off x="1675440" y="4313880"/>
                <a:ext cx="2538360" cy="2536920"/>
              </a:xfrm>
              <a:custGeom>
                <a:avLst/>
                <a:gdLst/>
                <a:ahLst/>
                <a:rect l="l" t="t" r="r" b="b"/>
                <a:pathLst>
                  <a:path w="2253554" h="2252146">
                    <a:moveTo>
                      <a:pt x="131155" y="1653344"/>
                    </a:moveTo>
                    <a:cubicBezTo>
                      <a:pt x="-53998" y="1304165"/>
                      <a:pt x="-42450" y="883545"/>
                      <a:pt x="161582" y="545038"/>
                    </a:cubicBezTo>
                    <a:cubicBezTo>
                      <a:pt x="365446" y="206809"/>
                      <a:pt x="731680" y="0"/>
                      <a:pt x="1126778" y="0"/>
                    </a:cubicBezTo>
                    <a:cubicBezTo>
                      <a:pt x="1126778" y="375358"/>
                      <a:pt x="1126777" y="750715"/>
                      <a:pt x="1126777" y="1126073"/>
                    </a:cubicBezTo>
                    <a:lnTo>
                      <a:pt x="131155" y="16533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8" name="矩形 3" descr=""/>
            <p:cNvPicPr/>
            <p:nvPr/>
          </p:nvPicPr>
          <p:blipFill>
            <a:blip r:embed="rId2"/>
            <a:stretch/>
          </p:blipFill>
          <p:spPr>
            <a:xfrm rot="21599400">
              <a:off x="1932120" y="3706200"/>
              <a:ext cx="2773800" cy="28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组合 39"/>
          <p:cNvGrpSpPr/>
          <p:nvPr/>
        </p:nvGrpSpPr>
        <p:grpSpPr>
          <a:xfrm>
            <a:off x="4789440" y="196560"/>
            <a:ext cx="3589920" cy="3589560"/>
            <a:chOff x="4789440" y="196560"/>
            <a:chExt cx="3589920" cy="3589560"/>
          </a:xfrm>
        </p:grpSpPr>
        <p:grpSp>
          <p:nvGrpSpPr>
            <p:cNvPr id="220" name="组合 13"/>
            <p:cNvGrpSpPr/>
            <p:nvPr/>
          </p:nvGrpSpPr>
          <p:grpSpPr>
            <a:xfrm>
              <a:off x="4799160" y="196560"/>
              <a:ext cx="3580200" cy="3578400"/>
              <a:chOff x="4799160" y="196560"/>
              <a:chExt cx="3580200" cy="3578400"/>
            </a:xfrm>
          </p:grpSpPr>
          <p:sp>
            <p:nvSpPr>
              <p:cNvPr id="221" name="饼形 18"/>
              <p:cNvSpPr/>
              <p:nvPr/>
            </p:nvSpPr>
            <p:spPr>
              <a:xfrm rot="16199400">
                <a:off x="4800240" y="195840"/>
                <a:ext cx="3577680" cy="357948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1" y="1595389"/>
                    </a:moveTo>
                    <a:cubicBezTo>
                      <a:pt x="-561" y="1172460"/>
                      <a:pt x="167054" y="766662"/>
                      <a:pt x="465911" y="467407"/>
                    </a:cubicBezTo>
                    <a:cubicBezTo>
                      <a:pt x="764768" y="168153"/>
                      <a:pt x="1170344" y="0"/>
                      <a:pt x="1593273" y="0"/>
                    </a:cubicBezTo>
                    <a:lnTo>
                      <a:pt x="1593273" y="1593273"/>
                    </a:lnTo>
                    <a:lnTo>
                      <a:pt x="1" y="1595389"/>
                    </a:lnTo>
                    <a:close/>
                  </a:path>
                </a:pathLst>
              </a:cu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饼形 15"/>
              <p:cNvSpPr/>
              <p:nvPr/>
            </p:nvSpPr>
            <p:spPr>
              <a:xfrm rot="16199400">
                <a:off x="5320800" y="686520"/>
                <a:ext cx="2530080" cy="2531520"/>
              </a:xfrm>
              <a:custGeom>
                <a:avLst/>
                <a:gdLst/>
                <a:ahLst/>
                <a:rect l="l" t="t" r="r" b="b"/>
                <a:pathLst>
                  <a:path w="2253555" h="2253555">
                    <a:moveTo>
                      <a:pt x="131018" y="1654121"/>
                    </a:moveTo>
                    <a:cubicBezTo>
                      <a:pt x="-53944" y="1304866"/>
                      <a:pt x="-42407" y="884237"/>
                      <a:pt x="161421" y="545645"/>
                    </a:cubicBezTo>
                    <a:cubicBezTo>
                      <a:pt x="365249" y="207053"/>
                      <a:pt x="731569" y="-1"/>
                      <a:pt x="1126778" y="-1"/>
                    </a:cubicBezTo>
                    <a:lnTo>
                      <a:pt x="1126778" y="1126778"/>
                    </a:lnTo>
                    <a:lnTo>
                      <a:pt x="131018" y="1654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3" name="矩形 4" descr=""/>
            <p:cNvPicPr/>
            <p:nvPr/>
          </p:nvPicPr>
          <p:blipFill>
            <a:blip r:embed="rId3"/>
            <a:stretch/>
          </p:blipFill>
          <p:spPr>
            <a:xfrm>
              <a:off x="4789440" y="984960"/>
              <a:ext cx="2790360" cy="280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组合 37"/>
          <p:cNvGrpSpPr/>
          <p:nvPr/>
        </p:nvGrpSpPr>
        <p:grpSpPr>
          <a:xfrm>
            <a:off x="4778280" y="3676680"/>
            <a:ext cx="3589560" cy="3589200"/>
            <a:chOff x="4778280" y="3676680"/>
            <a:chExt cx="3589560" cy="3589200"/>
          </a:xfrm>
        </p:grpSpPr>
        <p:grpSp>
          <p:nvGrpSpPr>
            <p:cNvPr id="225" name="组合 9"/>
            <p:cNvGrpSpPr/>
            <p:nvPr/>
          </p:nvGrpSpPr>
          <p:grpSpPr>
            <a:xfrm>
              <a:off x="4778280" y="3713400"/>
              <a:ext cx="3589560" cy="3552480"/>
              <a:chOff x="4778280" y="3713400"/>
              <a:chExt cx="3589560" cy="3552480"/>
            </a:xfrm>
          </p:grpSpPr>
          <p:sp>
            <p:nvSpPr>
              <p:cNvPr id="226" name="饼形 7"/>
              <p:cNvSpPr/>
              <p:nvPr/>
            </p:nvSpPr>
            <p:spPr>
              <a:xfrm>
                <a:off x="4778280" y="3713400"/>
                <a:ext cx="3589560" cy="355248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209" y="1567447"/>
                    </a:moveTo>
                    <a:cubicBezTo>
                      <a:pt x="14309" y="697690"/>
                      <a:pt x="723402" y="0"/>
                      <a:pt x="1593273" y="0"/>
                    </a:cubicBezTo>
                    <a:lnTo>
                      <a:pt x="1593273" y="1593273"/>
                    </a:lnTo>
                    <a:lnTo>
                      <a:pt x="209" y="1567447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饼形 8"/>
              <p:cNvSpPr/>
              <p:nvPr/>
            </p:nvSpPr>
            <p:spPr>
              <a:xfrm>
                <a:off x="5332320" y="4247640"/>
                <a:ext cx="2538720" cy="2512440"/>
              </a:xfrm>
              <a:custGeom>
                <a:avLst/>
                <a:gdLst/>
                <a:ahLst/>
                <a:rect l="l" t="t" r="r" b="b"/>
                <a:pathLst>
                  <a:path w="2253554" h="2253555">
                    <a:moveTo>
                      <a:pt x="131018" y="1654121"/>
                    </a:moveTo>
                    <a:cubicBezTo>
                      <a:pt x="-53944" y="1304866"/>
                      <a:pt x="-42407" y="884237"/>
                      <a:pt x="161420" y="545646"/>
                    </a:cubicBezTo>
                    <a:cubicBezTo>
                      <a:pt x="365248" y="207054"/>
                      <a:pt x="731567" y="0"/>
                      <a:pt x="1126776" y="0"/>
                    </a:cubicBezTo>
                    <a:cubicBezTo>
                      <a:pt x="1126776" y="375593"/>
                      <a:pt x="1126777" y="751185"/>
                      <a:pt x="1126777" y="1126778"/>
                    </a:cubicBezTo>
                    <a:lnTo>
                      <a:pt x="131018" y="1654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8" name="矩形 5" descr=""/>
            <p:cNvPicPr/>
            <p:nvPr/>
          </p:nvPicPr>
          <p:blipFill>
            <a:blip r:embed="rId4"/>
            <a:stretch/>
          </p:blipFill>
          <p:spPr>
            <a:xfrm>
              <a:off x="4870440" y="3676680"/>
              <a:ext cx="2779920" cy="278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组合 42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23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1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组合 41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23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6750000" y="343152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组合 40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23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组合 36"/>
          <p:cNvGrpSpPr/>
          <p:nvPr/>
        </p:nvGrpSpPr>
        <p:grpSpPr>
          <a:xfrm>
            <a:off x="1187280" y="149040"/>
            <a:ext cx="3624120" cy="3612960"/>
            <a:chOff x="1187280" y="149040"/>
            <a:chExt cx="3624120" cy="3612960"/>
          </a:xfrm>
        </p:grpSpPr>
        <p:grpSp>
          <p:nvGrpSpPr>
            <p:cNvPr id="239" name="组合 13"/>
            <p:cNvGrpSpPr/>
            <p:nvPr/>
          </p:nvGrpSpPr>
          <p:grpSpPr>
            <a:xfrm>
              <a:off x="1187280" y="149040"/>
              <a:ext cx="3624120" cy="3612960"/>
              <a:chOff x="1187280" y="149040"/>
              <a:chExt cx="3624120" cy="3612960"/>
            </a:xfrm>
          </p:grpSpPr>
          <p:sp>
            <p:nvSpPr>
              <p:cNvPr id="240" name="饼形 29"/>
              <p:cNvSpPr/>
              <p:nvPr/>
            </p:nvSpPr>
            <p:spPr>
              <a:xfrm rot="10833600">
                <a:off x="1204560" y="166320"/>
                <a:ext cx="3589200" cy="357804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1" y="1595389"/>
                    </a:moveTo>
                    <a:cubicBezTo>
                      <a:pt x="-561" y="1172460"/>
                      <a:pt x="167054" y="766662"/>
                      <a:pt x="465911" y="467407"/>
                    </a:cubicBezTo>
                    <a:cubicBezTo>
                      <a:pt x="764768" y="168153"/>
                      <a:pt x="1170344" y="0"/>
                      <a:pt x="1593273" y="0"/>
                    </a:cubicBezTo>
                    <a:lnTo>
                      <a:pt x="1593273" y="1593273"/>
                    </a:lnTo>
                    <a:lnTo>
                      <a:pt x="1" y="1595389"/>
                    </a:ln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饼形 15"/>
              <p:cNvSpPr/>
              <p:nvPr/>
            </p:nvSpPr>
            <p:spPr>
              <a:xfrm rot="10833600">
                <a:off x="1697040" y="691560"/>
                <a:ext cx="2538360" cy="2530440"/>
              </a:xfrm>
              <a:custGeom>
                <a:avLst/>
                <a:gdLst/>
                <a:ahLst/>
                <a:rect l="l" t="t" r="r" b="b"/>
                <a:pathLst>
                  <a:path w="2253555" h="2253555">
                    <a:moveTo>
                      <a:pt x="131018" y="1654121"/>
                    </a:moveTo>
                    <a:cubicBezTo>
                      <a:pt x="-53944" y="1304866"/>
                      <a:pt x="-42407" y="884237"/>
                      <a:pt x="161421" y="545645"/>
                    </a:cubicBezTo>
                    <a:cubicBezTo>
                      <a:pt x="365249" y="207053"/>
                      <a:pt x="731569" y="-1"/>
                      <a:pt x="1126778" y="-1"/>
                    </a:cubicBezTo>
                    <a:lnTo>
                      <a:pt x="1126778" y="1126778"/>
                    </a:lnTo>
                    <a:lnTo>
                      <a:pt x="131018" y="1654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42" name="矩形 4" descr=""/>
            <p:cNvPicPr/>
            <p:nvPr/>
          </p:nvPicPr>
          <p:blipFill>
            <a:blip r:embed="rId8"/>
            <a:stretch/>
          </p:blipFill>
          <p:spPr>
            <a:xfrm>
              <a:off x="1974960" y="954360"/>
              <a:ext cx="2797920" cy="280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组合 47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245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6" name="Picture 2" descr="D:\PPT模版\素材\png素材\web sites\web sites2\32x32\sterling_pound_currency_sign.png"/>
            <p:cNvPicPr/>
            <p:nvPr/>
          </p:nvPicPr>
          <p:blipFill>
            <a:blip r:embed="rId9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直接箭头​​连接符 9"/>
          <p:cNvCxnSpPr/>
          <p:nvPr/>
        </p:nvCxnSpPr>
        <p:spPr>
          <a:xfrm>
            <a:off x="931680" y="4444560"/>
            <a:ext cx="108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58" name="直接箭头​​连接符 11"/>
          <p:cNvCxnSpPr/>
          <p:nvPr/>
        </p:nvCxnSpPr>
        <p:spPr>
          <a:xfrm>
            <a:off x="4509720" y="4444560"/>
            <a:ext cx="108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59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60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61" name="TextBox 15"/>
          <p:cNvSpPr/>
          <p:nvPr/>
        </p:nvSpPr>
        <p:spPr>
          <a:xfrm>
            <a:off x="3131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8"/>
          <p:cNvSpPr/>
          <p:nvPr/>
        </p:nvSpPr>
        <p:spPr>
          <a:xfrm>
            <a:off x="661572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30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267" name="组合 18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268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2" name="组合 17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273" name="组合 9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274" name="饼形 7"/>
                  <p:cNvSpPr/>
                  <p:nvPr/>
                </p:nvSpPr>
                <p:spPr>
                  <a:xfrm>
                    <a:off x="2903400" y="2058840"/>
                    <a:ext cx="3183120" cy="318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5" name="饼形 8"/>
                  <p:cNvSpPr/>
                  <p:nvPr/>
                </p:nvSpPr>
                <p:spPr>
                  <a:xfrm>
                    <a:off x="3395520" y="2536560"/>
                    <a:ext cx="2251440" cy="22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6" name="组合 10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277" name="饼形 21"/>
                  <p:cNvSpPr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8064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8" name="饼形 22"/>
                  <p:cNvSpPr/>
                  <p:nvPr/>
                </p:nvSpPr>
                <p:spPr>
                  <a:xfrm rot="7192200">
                    <a:off x="3412800" y="255384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9" name="组合 13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280" name="饼形 19"/>
                  <p:cNvSpPr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9bbb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1" name="饼形 15"/>
                  <p:cNvSpPr/>
                  <p:nvPr/>
                </p:nvSpPr>
                <p:spPr>
                  <a:xfrm rot="14392200">
                    <a:off x="3364920" y="256644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82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83" name="矩形 4" descr=""/>
            <p:cNvPicPr/>
            <p:nvPr/>
          </p:nvPicPr>
          <p:blipFill>
            <a:blip r:embed="rId2"/>
            <a:stretch/>
          </p:blipFill>
          <p:spPr>
            <a:xfrm>
              <a:off x="3785040" y="2163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矩形 5" descr=""/>
            <p:cNvPicPr/>
            <p:nvPr/>
          </p:nvPicPr>
          <p:blipFill>
            <a:blip r:embed="rId3"/>
            <a:stretch/>
          </p:blipFill>
          <p:spPr>
            <a:xfrm>
              <a:off x="3449520" y="340056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矩形 6" descr=""/>
            <p:cNvPicPr/>
            <p:nvPr/>
          </p:nvPicPr>
          <p:blipFill>
            <a:blip r:embed="rId4"/>
            <a:stretch/>
          </p:blipFill>
          <p:spPr>
            <a:xfrm>
              <a:off x="2943720" y="2065680"/>
              <a:ext cx="2383560" cy="249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6162840" y="2535120"/>
              <a:ext cx="40824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6Z</dcterms:created>
  <dc:creator>paralife</dc:creator>
  <dc:description/>
  <dc:language>en-US</dc:language>
  <cp:lastModifiedBy>GZB</cp:lastModifiedBy>
  <dcterms:modified xsi:type="dcterms:W3CDTF">2012-09-09T03:10:5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2000000000001024140</vt:lpwstr>
  </property>
</Properties>
</file>