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9CD-8462-49E3-B534-2D036DF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B4F-D0CE-4704-B4BD-6776951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802-C15B-4C5D-A45E-CD89CD18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191-8C0F-42DB-A7C4-E83E338F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97A3-6F0A-4832-88C7-3805CFF7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B5F5-1BCE-4F1C-99B5-AAFCA506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4874-72D8-4A22-B47D-AFF237C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BF9F-0445-4A08-BFE7-C6761447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1DF-B9CF-45F2-923B-CDC604C6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3AD9-7DE3-4D45-9794-3C9D3C8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322B-20D9-446A-982C-1EAB28A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514-2CEB-40AF-AE20-FB682F67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A6FC-00EF-49F6-AB91-666E97F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A38-272D-43F2-BCDF-25D330F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0872-A350-4788-939A-85F1A768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206E-2959-4674-8FDC-7BE7962C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3EB-0B1B-4381-9CFB-3B1C8164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EE5-B321-42F7-A6A1-B22D2C35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0CA-F76F-4E7E-A83F-CBF0261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00A-50CD-4796-A1CD-EAE68079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A05-5DAC-4876-8256-AC3A81C5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088-1E5A-413C-A74E-B677979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E72-FF7C-4BE5-BEB5-0C418EF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6F-490E-4BB1-9128-E0B7E60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976-2B9A-4AE1-9869-68B9D0EDC4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4EBB-46B5-4EC1-90F8-3DFF5F8B96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组合 6" descr=""/>
          <p:cNvPicPr/>
          <p:nvPr/>
        </p:nvPicPr>
        <p:blipFill>
          <a:blip r:embed="rId2"/>
          <a:stretch/>
        </p:blipFill>
        <p:spPr>
          <a:xfrm>
            <a:off x="3797280" y="1268280"/>
            <a:ext cx="2664000" cy="187668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7" descr=""/>
          <p:cNvPicPr/>
          <p:nvPr/>
        </p:nvPicPr>
        <p:blipFill>
          <a:blip r:embed="rId3"/>
          <a:stretch/>
        </p:blipFill>
        <p:spPr>
          <a:xfrm>
            <a:off x="5419800" y="3097080"/>
            <a:ext cx="1888920" cy="2602080"/>
          </a:xfrm>
          <a:prstGeom prst="rect">
            <a:avLst/>
          </a:prstGeom>
          <a:ln w="0">
            <a:noFill/>
          </a:ln>
        </p:spPr>
      </p:pic>
      <p:pic>
        <p:nvPicPr>
          <p:cNvPr id="330" name="组合 13" descr=""/>
          <p:cNvPicPr/>
          <p:nvPr/>
        </p:nvPicPr>
        <p:blipFill>
          <a:blip r:embed="rId4"/>
          <a:stretch/>
        </p:blipFill>
        <p:spPr>
          <a:xfrm>
            <a:off x="2792520" y="4705200"/>
            <a:ext cx="2712960" cy="171936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14" descr=""/>
          <p:cNvPicPr/>
          <p:nvPr/>
        </p:nvPicPr>
        <p:blipFill>
          <a:blip r:embed="rId5"/>
          <a:stretch/>
        </p:blipFill>
        <p:spPr>
          <a:xfrm>
            <a:off x="1951200" y="2023920"/>
            <a:ext cx="1871640" cy="26704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组合 33" descr=""/>
          <p:cNvPicPr/>
          <p:nvPr/>
        </p:nvPicPr>
        <p:blipFill>
          <a:blip r:embed="rId2"/>
          <a:stretch/>
        </p:blipFill>
        <p:spPr>
          <a:xfrm>
            <a:off x="3382920" y="3382920"/>
            <a:ext cx="2487600" cy="1981080"/>
          </a:xfrm>
          <a:prstGeom prst="rect">
            <a:avLst/>
          </a:prstGeom>
          <a:ln w="0">
            <a:noFill/>
          </a:ln>
        </p:spPr>
      </p:pic>
      <p:pic>
        <p:nvPicPr>
          <p:cNvPr id="338" name="组合 13" descr=""/>
          <p:cNvPicPr/>
          <p:nvPr/>
        </p:nvPicPr>
        <p:blipFill>
          <a:blip r:embed="rId3"/>
          <a:stretch/>
        </p:blipFill>
        <p:spPr>
          <a:xfrm>
            <a:off x="981000" y="2693880"/>
            <a:ext cx="2335320" cy="1244880"/>
          </a:xfrm>
          <a:prstGeom prst="rect">
            <a:avLst/>
          </a:prstGeom>
          <a:ln w="0">
            <a:noFill/>
          </a:ln>
        </p:spPr>
      </p:pic>
      <p:pic>
        <p:nvPicPr>
          <p:cNvPr id="339" name="组合 14" descr=""/>
          <p:cNvPicPr/>
          <p:nvPr/>
        </p:nvPicPr>
        <p:blipFill>
          <a:blip r:embed="rId4"/>
          <a:stretch/>
        </p:blipFill>
        <p:spPr>
          <a:xfrm>
            <a:off x="5931000" y="4486320"/>
            <a:ext cx="2341440" cy="1244520"/>
          </a:xfrm>
          <a:prstGeom prst="rect">
            <a:avLst/>
          </a:prstGeom>
          <a:ln w="0">
            <a:noFill/>
          </a:ln>
        </p:spPr>
      </p:pic>
      <p:pic>
        <p:nvPicPr>
          <p:cNvPr id="340" name="组合 20" descr=""/>
          <p:cNvPicPr/>
          <p:nvPr/>
        </p:nvPicPr>
        <p:blipFill>
          <a:blip r:embed="rId5"/>
          <a:stretch/>
        </p:blipFill>
        <p:spPr>
          <a:xfrm>
            <a:off x="5919840" y="2614680"/>
            <a:ext cx="2340000" cy="1251000"/>
          </a:xfrm>
          <a:prstGeom prst="rect">
            <a:avLst/>
          </a:prstGeom>
          <a:ln w="0">
            <a:noFill/>
          </a:ln>
        </p:spPr>
      </p:pic>
      <p:pic>
        <p:nvPicPr>
          <p:cNvPr id="341" name="组合 26" descr=""/>
          <p:cNvPicPr/>
          <p:nvPr/>
        </p:nvPicPr>
        <p:blipFill>
          <a:blip r:embed="rId6"/>
          <a:stretch/>
        </p:blipFill>
        <p:spPr>
          <a:xfrm>
            <a:off x="969840" y="4559400"/>
            <a:ext cx="2333880" cy="12510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44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6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47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cd5b5"/>
                  </a:gs>
                  <a:gs pos="100000">
                    <a:srgbClr val="fac090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9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1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52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56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8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59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ccc1da"/>
                  </a:gs>
                  <a:gs pos="100000">
                    <a:srgbClr val="ccc1da"/>
                  </a:gs>
                </a:gsLst>
                <a:lin ang="189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1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7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3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7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ebf1de"/>
                  </a:gs>
                  <a:gs pos="100000">
                    <a:srgbClr val="c3d69b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8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79" name="AutoShape 23"/>
              <p:cNvSpPr/>
              <p:nvPr/>
            </p:nvSpPr>
            <p:spPr>
              <a:xfrm>
                <a:off x="652896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5"/>
              <p:cNvSpPr/>
              <p:nvPr/>
            </p:nvSpPr>
            <p:spPr>
              <a:xfrm flipH="1">
                <a:off x="6750360" y="510300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6"/>
              <p:cNvSpPr/>
              <p:nvPr/>
            </p:nvSpPr>
            <p:spPr>
              <a:xfrm flipH="1">
                <a:off x="6617520" y="487188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7"/>
              <p:cNvSpPr/>
              <p:nvPr/>
            </p:nvSpPr>
            <p:spPr>
              <a:xfrm flipH="1">
                <a:off x="6660000" y="491004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 flipH="1">
                <a:off x="667944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99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0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401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402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03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604a7b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7933c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lnTo>
                  <a:pt x="0" y="312219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46c0a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Group 33" descr=""/>
          <p:cNvPicPr/>
          <p:nvPr/>
        </p:nvPicPr>
        <p:blipFill>
          <a:blip r:embed="rId2"/>
          <a:stretch/>
        </p:blipFill>
        <p:spPr>
          <a:xfrm>
            <a:off x="7497720" y="2462040"/>
            <a:ext cx="341280" cy="4035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21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22" name="Freeform 126"/>
              <p:cNvSpPr/>
              <p:nvPr/>
            </p:nvSpPr>
            <p:spPr>
              <a:xfrm flipH="1">
                <a:off x="322128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28"/>
              <p:cNvSpPr/>
              <p:nvPr/>
            </p:nvSpPr>
            <p:spPr>
              <a:xfrm flipH="1">
                <a:off x="3194280" y="558720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29"/>
              <p:cNvSpPr/>
              <p:nvPr/>
            </p:nvSpPr>
            <p:spPr>
              <a:xfrm flipH="1">
                <a:off x="321840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7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28" name="Freeform 132"/>
              <p:cNvSpPr/>
              <p:nvPr/>
            </p:nvSpPr>
            <p:spPr>
              <a:xfrm flipH="1">
                <a:off x="331848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34"/>
              <p:cNvSpPr/>
              <p:nvPr/>
            </p:nvSpPr>
            <p:spPr>
              <a:xfrm flipH="1">
                <a:off x="3291480" y="56566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35"/>
              <p:cNvSpPr/>
              <p:nvPr/>
            </p:nvSpPr>
            <p:spPr>
              <a:xfrm flipH="1">
                <a:off x="331560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3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34" name="Freeform 138"/>
              <p:cNvSpPr/>
              <p:nvPr/>
            </p:nvSpPr>
            <p:spPr>
              <a:xfrm flipH="1">
                <a:off x="311940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40"/>
              <p:cNvSpPr/>
              <p:nvPr/>
            </p:nvSpPr>
            <p:spPr>
              <a:xfrm flipH="1">
                <a:off x="3092400" y="566892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41"/>
              <p:cNvSpPr/>
              <p:nvPr/>
            </p:nvSpPr>
            <p:spPr>
              <a:xfrm flipH="1">
                <a:off x="311652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39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0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41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85"/>
            <p:cNvSpPr/>
            <p:nvPr/>
          </p:nvSpPr>
          <p:spPr>
            <a:xfrm>
              <a:off x="1400760" y="2568960"/>
              <a:ext cx="163440" cy="806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5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47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8" name="椭圆​​ 4"/>
            <p:cNvGrpSpPr/>
            <p:nvPr/>
          </p:nvGrpSpPr>
          <p:grpSpPr>
            <a:xfrm>
              <a:off x="3249360" y="2919240"/>
              <a:ext cx="2675520" cy="2676600"/>
              <a:chOff x="3249360" y="2919240"/>
              <a:chExt cx="2675520" cy="2676600"/>
            </a:xfrm>
          </p:grpSpPr>
          <p:pic>
            <p:nvPicPr>
              <p:cNvPr id="449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360" y="2919240"/>
                <a:ext cx="2675520" cy="267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1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-108000" y="3232080"/>
            <a:ext cx="254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1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62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17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68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46"/>
          <p:cNvGrpSpPr/>
          <p:nvPr/>
        </p:nvGrpSpPr>
        <p:grpSpPr>
          <a:xfrm>
            <a:off x="2604960" y="2058840"/>
            <a:ext cx="3809160" cy="3899160"/>
            <a:chOff x="2604960" y="2058840"/>
            <a:chExt cx="3809160" cy="3899160"/>
          </a:xfrm>
        </p:grpSpPr>
        <p:sp>
          <p:nvSpPr>
            <p:cNvPr id="476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组合 9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78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0" name="组合 19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81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3" name="组合 20"/>
            <p:cNvGrpSpPr/>
            <p:nvPr/>
          </p:nvGrpSpPr>
          <p:grpSpPr>
            <a:xfrm>
              <a:off x="5077800" y="3326400"/>
              <a:ext cx="1336320" cy="478080"/>
              <a:chOff x="5077800" y="3326400"/>
              <a:chExt cx="1336320" cy="478080"/>
            </a:xfrm>
          </p:grpSpPr>
          <p:sp>
            <p:nvSpPr>
              <p:cNvPr id="484" name="直接连接符 21"/>
              <p:cNvSpPr/>
              <p:nvPr/>
            </p:nvSpPr>
            <p:spPr>
              <a:xfrm flipH="1">
                <a:off x="5077800" y="3548880"/>
                <a:ext cx="1016640" cy="25560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椭圆 22"/>
              <p:cNvSpPr/>
              <p:nvPr/>
            </p:nvSpPr>
            <p:spPr>
              <a:xfrm rot="2982600">
                <a:off x="6114600" y="3374640"/>
                <a:ext cx="245160" cy="25560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6" name="组合 26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87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31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90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32"/>
            <p:cNvGrpSpPr/>
            <p:nvPr/>
          </p:nvGrpSpPr>
          <p:grpSpPr>
            <a:xfrm>
              <a:off x="4642920" y="4734000"/>
              <a:ext cx="578520" cy="1224000"/>
              <a:chOff x="4642920" y="4734000"/>
              <a:chExt cx="578520" cy="1224000"/>
            </a:xfrm>
          </p:grpSpPr>
          <p:sp>
            <p:nvSpPr>
              <p:cNvPr id="493" name="椭圆 33"/>
              <p:cNvSpPr/>
              <p:nvPr/>
            </p:nvSpPr>
            <p:spPr>
              <a:xfrm rot="7615200">
                <a:off x="4986000" y="572292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直接连接符 34"/>
              <p:cNvSpPr/>
              <p:nvPr/>
            </p:nvSpPr>
            <p:spPr>
              <a:xfrm flipH="1" flipV="1">
                <a:off x="4642920" y="4734000"/>
                <a:ext cx="40464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/>
              <a:ahLst/>
              <a:rect l="l" t="t" r="r" b="b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43"/>
            <p:cNvSpPr/>
            <p:nvPr/>
          </p:nvSpPr>
          <p:spPr>
            <a:xfrm>
              <a:off x="283968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椭圆 44"/>
            <p:cNvSpPr/>
            <p:nvPr/>
          </p:nvSpPr>
          <p:spPr>
            <a:xfrm>
              <a:off x="260496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椭圆 45"/>
            <p:cNvSpPr/>
            <p:nvPr/>
          </p:nvSpPr>
          <p:spPr>
            <a:xfrm>
              <a:off x="273024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85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86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91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92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1" y="0"/>
                  </a:lnTo>
                  <a:lnTo>
                    <a:pt x="21600" y="10800"/>
                  </a:lnTo>
                  <a:lnTo>
                    <a:pt x="190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97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99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2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11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12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18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19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25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26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32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33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141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53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56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59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62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65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68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grpSp>
          <p:nvGrpSpPr>
            <p:cNvPr id="171" name="椭圆 3"/>
            <p:cNvGrpSpPr/>
            <p:nvPr/>
          </p:nvGrpSpPr>
          <p:grpSpPr>
            <a:xfrm>
              <a:off x="969840" y="3323520"/>
              <a:ext cx="1173960" cy="1171440"/>
              <a:chOff x="969840" y="3323520"/>
              <a:chExt cx="1173960" cy="1171440"/>
            </a:xfrm>
          </p:grpSpPr>
          <p:pic>
            <p:nvPicPr>
              <p:cNvPr id="172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332352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79720" y="350856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椭圆 4"/>
            <p:cNvGrpSpPr/>
            <p:nvPr/>
          </p:nvGrpSpPr>
          <p:grpSpPr>
            <a:xfrm>
              <a:off x="2238480" y="2382840"/>
              <a:ext cx="1167840" cy="1165680"/>
              <a:chOff x="2238480" y="2382840"/>
              <a:chExt cx="1167840" cy="1165680"/>
            </a:xfrm>
          </p:grpSpPr>
          <p:pic>
            <p:nvPicPr>
              <p:cNvPr id="175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8480" y="2382840"/>
                <a:ext cx="116784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2446200" y="256716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椭圆 5"/>
            <p:cNvGrpSpPr/>
            <p:nvPr/>
          </p:nvGrpSpPr>
          <p:grpSpPr>
            <a:xfrm>
              <a:off x="3626280" y="3294000"/>
              <a:ext cx="1167840" cy="1171440"/>
              <a:chOff x="3626280" y="3294000"/>
              <a:chExt cx="1167840" cy="1171440"/>
            </a:xfrm>
          </p:grpSpPr>
          <p:pic>
            <p:nvPicPr>
              <p:cNvPr id="178" name="椭圆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6280" y="3294000"/>
                <a:ext cx="116784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3834720" y="348192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椭圆 6"/>
            <p:cNvGrpSpPr/>
            <p:nvPr/>
          </p:nvGrpSpPr>
          <p:grpSpPr>
            <a:xfrm>
              <a:off x="3151800" y="4897440"/>
              <a:ext cx="1173960" cy="1171440"/>
              <a:chOff x="3151800" y="4897440"/>
              <a:chExt cx="1173960" cy="1171440"/>
            </a:xfrm>
          </p:grpSpPr>
          <p:pic>
            <p:nvPicPr>
              <p:cNvPr id="181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1800" y="489744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363120" y="508248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椭圆 7"/>
            <p:cNvGrpSpPr/>
            <p:nvPr/>
          </p:nvGrpSpPr>
          <p:grpSpPr>
            <a:xfrm>
              <a:off x="1414440" y="4897440"/>
              <a:ext cx="1173960" cy="1171440"/>
              <a:chOff x="1414440" y="4897440"/>
              <a:chExt cx="1173960" cy="1171440"/>
            </a:xfrm>
          </p:grpSpPr>
          <p:pic>
            <p:nvPicPr>
              <p:cNvPr id="184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4440" y="489744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624320" y="508248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右箭头 8"/>
            <p:cNvSpPr/>
            <p:nvPr/>
          </p:nvSpPr>
          <p:spPr>
            <a:xfrm rot="14120400">
              <a:off x="1391400" y="4514400"/>
              <a:ext cx="380520" cy="3502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右箭头 9"/>
            <p:cNvSpPr/>
            <p:nvPr/>
          </p:nvSpPr>
          <p:spPr>
            <a:xfrm rot="19503600">
              <a:off x="1821960" y="3035160"/>
              <a:ext cx="381240" cy="349560"/>
            </a:xfrm>
            <a:prstGeom prst="rightArrow">
              <a:avLst>
                <a:gd name="adj1" fmla="val 50000"/>
                <a:gd name="adj2" fmla="val 5010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右箭头 10"/>
            <p:cNvSpPr/>
            <p:nvPr/>
          </p:nvSpPr>
          <p:spPr>
            <a:xfrm rot="2103000">
              <a:off x="3480120" y="3049200"/>
              <a:ext cx="379800" cy="349560"/>
            </a:xfrm>
            <a:prstGeom prst="rightArrow">
              <a:avLst>
                <a:gd name="adj1" fmla="val 50000"/>
                <a:gd name="adj2" fmla="val 50125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右箭头 11"/>
            <p:cNvSpPr/>
            <p:nvPr/>
          </p:nvSpPr>
          <p:spPr>
            <a:xfrm rot="6205800">
              <a:off x="3978000" y="4569480"/>
              <a:ext cx="380520" cy="34884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右箭头 12"/>
            <p:cNvSpPr/>
            <p:nvPr/>
          </p:nvSpPr>
          <p:spPr>
            <a:xfrm rot="11088600">
              <a:off x="2656800" y="5496120"/>
              <a:ext cx="381240" cy="349560"/>
            </a:xfrm>
            <a:prstGeom prst="rightArrow">
              <a:avLst>
                <a:gd name="adj1" fmla="val 50000"/>
                <a:gd name="adj2" fmla="val 5010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上箭头 3"/>
          <p:cNvGrpSpPr/>
          <p:nvPr/>
        </p:nvGrpSpPr>
        <p:grpSpPr>
          <a:xfrm>
            <a:off x="2610000" y="1968480"/>
            <a:ext cx="3924000" cy="2347560"/>
            <a:chOff x="2610000" y="1968480"/>
            <a:chExt cx="3924000" cy="2347560"/>
          </a:xfrm>
        </p:grpSpPr>
        <p:pic>
          <p:nvPicPr>
            <p:cNvPr id="199" name="上箭头 3" descr=""/>
            <p:cNvPicPr/>
            <p:nvPr/>
          </p:nvPicPr>
          <p:blipFill>
            <a:blip r:embed="rId2"/>
            <a:stretch/>
          </p:blipFill>
          <p:spPr>
            <a:xfrm>
              <a:off x="2610000" y="1968480"/>
              <a:ext cx="39240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36840" y="2707560"/>
              <a:ext cx="247032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组合 8" descr=""/>
          <p:cNvPicPr/>
          <p:nvPr/>
        </p:nvPicPr>
        <p:blipFill>
          <a:blip r:embed="rId3"/>
          <a:stretch/>
        </p:blipFill>
        <p:spPr>
          <a:xfrm>
            <a:off x="1536840" y="3303720"/>
            <a:ext cx="1974600" cy="136512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9" descr=""/>
          <p:cNvPicPr/>
          <p:nvPr/>
        </p:nvPicPr>
        <p:blipFill>
          <a:blip r:embed="rId4"/>
          <a:stretch/>
        </p:blipFill>
        <p:spPr>
          <a:xfrm>
            <a:off x="5602320" y="3352680"/>
            <a:ext cx="1987560" cy="1365480"/>
          </a:xfrm>
          <a:prstGeom prst="rect">
            <a:avLst/>
          </a:prstGeom>
          <a:ln w="0">
            <a:noFill/>
          </a:ln>
        </p:spPr>
      </p:pic>
      <p:pic>
        <p:nvPicPr>
          <p:cNvPr id="205" name="组合 23" descr=""/>
          <p:cNvPicPr/>
          <p:nvPr/>
        </p:nvPicPr>
        <p:blipFill>
          <a:blip r:embed="rId5"/>
          <a:stretch/>
        </p:blipFill>
        <p:spPr>
          <a:xfrm>
            <a:off x="2816280" y="4432320"/>
            <a:ext cx="1407960" cy="1828800"/>
          </a:xfrm>
          <a:prstGeom prst="rect">
            <a:avLst/>
          </a:prstGeom>
          <a:ln w="0">
            <a:noFill/>
          </a:ln>
        </p:spPr>
      </p:pic>
      <p:pic>
        <p:nvPicPr>
          <p:cNvPr id="206" name="组合 24" descr=""/>
          <p:cNvPicPr/>
          <p:nvPr/>
        </p:nvPicPr>
        <p:blipFill>
          <a:blip r:embed="rId6"/>
          <a:stretch/>
        </p:blipFill>
        <p:spPr>
          <a:xfrm>
            <a:off x="5138640" y="4425840"/>
            <a:ext cx="1371600" cy="18590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圆角矩形 22"/>
          <p:cNvGrpSpPr/>
          <p:nvPr/>
        </p:nvGrpSpPr>
        <p:grpSpPr>
          <a:xfrm>
            <a:off x="1865160" y="1609560"/>
            <a:ext cx="5364360" cy="414360"/>
            <a:chOff x="1865160" y="1609560"/>
            <a:chExt cx="5364360" cy="414360"/>
          </a:xfrm>
        </p:grpSpPr>
        <p:pic>
          <p:nvPicPr>
            <p:cNvPr id="212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65160" y="1609560"/>
              <a:ext cx="536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935000" y="168120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38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215" name="组合 10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216" name="饼形 20"/>
              <p:cNvSpPr/>
              <p:nvPr/>
            </p:nvSpPr>
            <p:spPr>
              <a:xfrm rot="7000200">
                <a:off x="1239480" y="3692520"/>
                <a:ext cx="3589200" cy="358920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85261" y="2338942"/>
                    </a:moveTo>
                    <a:cubicBezTo>
                      <a:pt x="-14007" y="1962674"/>
                      <a:pt x="-54382" y="1522302"/>
                      <a:pt x="73142" y="1116072"/>
                    </a:cubicBezTo>
                    <a:cubicBezTo>
                      <a:pt x="200666" y="709842"/>
                      <a:pt x="485479" y="371554"/>
                      <a:pt x="864041" y="176679"/>
                    </a:cubicBezTo>
                    <a:lnTo>
                      <a:pt x="1593273" y="1593273"/>
                    </a:lnTo>
                    <a:lnTo>
                      <a:pt x="185261" y="2338942"/>
                    </a:lnTo>
                    <a:close/>
                  </a:path>
                </a:pathLst>
              </a:cu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饼形 21"/>
              <p:cNvSpPr/>
              <p:nvPr/>
            </p:nvSpPr>
            <p:spPr>
              <a:xfrm rot="7000200">
                <a:off x="1675440" y="4313880"/>
                <a:ext cx="2538360" cy="2536920"/>
              </a:xfrm>
              <a:custGeom>
                <a:avLst/>
                <a:gdLst/>
                <a:ahLst/>
                <a:rect l="l" t="t" r="r" b="b"/>
                <a:pathLst>
                  <a:path w="2253554" h="2252146">
                    <a:moveTo>
                      <a:pt x="131155" y="1653344"/>
                    </a:moveTo>
                    <a:cubicBezTo>
                      <a:pt x="-53998" y="1304165"/>
                      <a:pt x="-42450" y="883545"/>
                      <a:pt x="161582" y="545038"/>
                    </a:cubicBezTo>
                    <a:cubicBezTo>
                      <a:pt x="365446" y="206809"/>
                      <a:pt x="731680" y="0"/>
                      <a:pt x="1126778" y="0"/>
                    </a:cubicBezTo>
                    <a:cubicBezTo>
                      <a:pt x="1126778" y="375358"/>
                      <a:pt x="1126777" y="750715"/>
                      <a:pt x="1126777" y="1126073"/>
                    </a:cubicBezTo>
                    <a:lnTo>
                      <a:pt x="131155" y="16533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8" name="矩形 3" descr=""/>
            <p:cNvPicPr/>
            <p:nvPr/>
          </p:nvPicPr>
          <p:blipFill>
            <a:blip r:embed="rId2"/>
            <a:stretch/>
          </p:blipFill>
          <p:spPr>
            <a:xfrm rot="21599400">
              <a:off x="1932120" y="3706200"/>
              <a:ext cx="2773800" cy="28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组合 39"/>
          <p:cNvGrpSpPr/>
          <p:nvPr/>
        </p:nvGrpSpPr>
        <p:grpSpPr>
          <a:xfrm>
            <a:off x="4789440" y="196560"/>
            <a:ext cx="3589920" cy="3589560"/>
            <a:chOff x="4789440" y="196560"/>
            <a:chExt cx="3589920" cy="3589560"/>
          </a:xfrm>
        </p:grpSpPr>
        <p:grpSp>
          <p:nvGrpSpPr>
            <p:cNvPr id="220" name="组合 13"/>
            <p:cNvGrpSpPr/>
            <p:nvPr/>
          </p:nvGrpSpPr>
          <p:grpSpPr>
            <a:xfrm>
              <a:off x="4799160" y="196560"/>
              <a:ext cx="3580200" cy="3578400"/>
              <a:chOff x="4799160" y="196560"/>
              <a:chExt cx="3580200" cy="3578400"/>
            </a:xfrm>
          </p:grpSpPr>
          <p:sp>
            <p:nvSpPr>
              <p:cNvPr id="221" name="饼形 18"/>
              <p:cNvSpPr/>
              <p:nvPr/>
            </p:nvSpPr>
            <p:spPr>
              <a:xfrm rot="16199400">
                <a:off x="4800240" y="195840"/>
                <a:ext cx="3577680" cy="357948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" y="1595389"/>
                    </a:moveTo>
                    <a:cubicBezTo>
                      <a:pt x="-561" y="1172460"/>
                      <a:pt x="167054" y="766662"/>
                      <a:pt x="465911" y="467407"/>
                    </a:cubicBezTo>
                    <a:cubicBezTo>
                      <a:pt x="764768" y="168153"/>
                      <a:pt x="1170344" y="0"/>
                      <a:pt x="1593273" y="0"/>
                    </a:cubicBezTo>
                    <a:lnTo>
                      <a:pt x="1593273" y="1593273"/>
                    </a:lnTo>
                    <a:lnTo>
                      <a:pt x="1" y="1595389"/>
                    </a:lnTo>
                    <a:close/>
                  </a:path>
                </a:pathLst>
              </a:cu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饼形 15"/>
              <p:cNvSpPr/>
              <p:nvPr/>
            </p:nvSpPr>
            <p:spPr>
              <a:xfrm rot="16199400">
                <a:off x="5320800" y="686520"/>
                <a:ext cx="2530080" cy="2531520"/>
              </a:xfrm>
              <a:custGeom>
                <a:avLst/>
                <a:gdLst/>
                <a:ahLst/>
                <a:rect l="l" t="t" r="r" b="b"/>
                <a:pathLst>
                  <a:path w="2253555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1" y="545645"/>
                    </a:cubicBezTo>
                    <a:cubicBezTo>
                      <a:pt x="365249" y="207053"/>
                      <a:pt x="731569" y="-1"/>
                      <a:pt x="1126778" y="-1"/>
                    </a:cubicBezTo>
                    <a:lnTo>
                      <a:pt x="1126778" y="1126778"/>
                    </a:ln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3" name="矩形 4" descr=""/>
            <p:cNvPicPr/>
            <p:nvPr/>
          </p:nvPicPr>
          <p:blipFill>
            <a:blip r:embed="rId3"/>
            <a:stretch/>
          </p:blipFill>
          <p:spPr>
            <a:xfrm>
              <a:off x="4789440" y="984960"/>
              <a:ext cx="2790360" cy="280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组合 37"/>
          <p:cNvGrpSpPr/>
          <p:nvPr/>
        </p:nvGrpSpPr>
        <p:grpSpPr>
          <a:xfrm>
            <a:off x="4778280" y="3676680"/>
            <a:ext cx="3589560" cy="3589200"/>
            <a:chOff x="4778280" y="3676680"/>
            <a:chExt cx="3589560" cy="3589200"/>
          </a:xfrm>
        </p:grpSpPr>
        <p:grpSp>
          <p:nvGrpSpPr>
            <p:cNvPr id="225" name="组合 9"/>
            <p:cNvGrpSpPr/>
            <p:nvPr/>
          </p:nvGrpSpPr>
          <p:grpSpPr>
            <a:xfrm>
              <a:off x="4778280" y="3713400"/>
              <a:ext cx="3589560" cy="3552480"/>
              <a:chOff x="4778280" y="3713400"/>
              <a:chExt cx="3589560" cy="3552480"/>
            </a:xfrm>
          </p:grpSpPr>
          <p:sp>
            <p:nvSpPr>
              <p:cNvPr id="226" name="饼形 7"/>
              <p:cNvSpPr/>
              <p:nvPr/>
            </p:nvSpPr>
            <p:spPr>
              <a:xfrm>
                <a:off x="4778280" y="3713400"/>
                <a:ext cx="3589560" cy="355248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209" y="1567447"/>
                    </a:moveTo>
                    <a:cubicBezTo>
                      <a:pt x="14309" y="697690"/>
                      <a:pt x="723402" y="0"/>
                      <a:pt x="1593273" y="0"/>
                    </a:cubicBezTo>
                    <a:lnTo>
                      <a:pt x="1593273" y="1593273"/>
                    </a:lnTo>
                    <a:lnTo>
                      <a:pt x="209" y="1567447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饼形 8"/>
              <p:cNvSpPr/>
              <p:nvPr/>
            </p:nvSpPr>
            <p:spPr>
              <a:xfrm>
                <a:off x="5332320" y="4247640"/>
                <a:ext cx="2538720" cy="2512440"/>
              </a:xfrm>
              <a:custGeom>
                <a:avLst/>
                <a:gdLst/>
                <a:ahLst/>
                <a:rect l="l" t="t" r="r" b="b"/>
                <a:pathLst>
                  <a:path w="2253554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0" y="545646"/>
                    </a:cubicBezTo>
                    <a:cubicBezTo>
                      <a:pt x="365248" y="207054"/>
                      <a:pt x="731567" y="0"/>
                      <a:pt x="1126776" y="0"/>
                    </a:cubicBezTo>
                    <a:cubicBezTo>
                      <a:pt x="1126776" y="375593"/>
                      <a:pt x="1126777" y="751185"/>
                      <a:pt x="1126777" y="1126778"/>
                    </a:cubicBez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8" name="矩形 5" descr=""/>
            <p:cNvPicPr/>
            <p:nvPr/>
          </p:nvPicPr>
          <p:blipFill>
            <a:blip r:embed="rId4"/>
            <a:stretch/>
          </p:blipFill>
          <p:spPr>
            <a:xfrm>
              <a:off x="4870440" y="3676680"/>
              <a:ext cx="2779920" cy="278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3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1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3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6750000" y="343152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3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组合 36"/>
          <p:cNvGrpSpPr/>
          <p:nvPr/>
        </p:nvGrpSpPr>
        <p:grpSpPr>
          <a:xfrm>
            <a:off x="1187280" y="149040"/>
            <a:ext cx="3624120" cy="3612960"/>
            <a:chOff x="1187280" y="149040"/>
            <a:chExt cx="3624120" cy="3612960"/>
          </a:xfrm>
        </p:grpSpPr>
        <p:grpSp>
          <p:nvGrpSpPr>
            <p:cNvPr id="239" name="组合 13"/>
            <p:cNvGrpSpPr/>
            <p:nvPr/>
          </p:nvGrpSpPr>
          <p:grpSpPr>
            <a:xfrm>
              <a:off x="1187280" y="149040"/>
              <a:ext cx="3624120" cy="3612960"/>
              <a:chOff x="1187280" y="149040"/>
              <a:chExt cx="3624120" cy="3612960"/>
            </a:xfrm>
          </p:grpSpPr>
          <p:sp>
            <p:nvSpPr>
              <p:cNvPr id="240" name="饼形 29"/>
              <p:cNvSpPr/>
              <p:nvPr/>
            </p:nvSpPr>
            <p:spPr>
              <a:xfrm rot="10833600">
                <a:off x="1204560" y="166320"/>
                <a:ext cx="3589200" cy="357804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" y="1595389"/>
                    </a:moveTo>
                    <a:cubicBezTo>
                      <a:pt x="-561" y="1172460"/>
                      <a:pt x="167054" y="766662"/>
                      <a:pt x="465911" y="467407"/>
                    </a:cubicBezTo>
                    <a:cubicBezTo>
                      <a:pt x="764768" y="168153"/>
                      <a:pt x="1170344" y="0"/>
                      <a:pt x="1593273" y="0"/>
                    </a:cubicBezTo>
                    <a:lnTo>
                      <a:pt x="1593273" y="1593273"/>
                    </a:lnTo>
                    <a:lnTo>
                      <a:pt x="1" y="159538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饼形 15"/>
              <p:cNvSpPr/>
              <p:nvPr/>
            </p:nvSpPr>
            <p:spPr>
              <a:xfrm rot="10833600">
                <a:off x="1697040" y="691560"/>
                <a:ext cx="2538360" cy="2530440"/>
              </a:xfrm>
              <a:custGeom>
                <a:avLst/>
                <a:gdLst/>
                <a:ahLst/>
                <a:rect l="l" t="t" r="r" b="b"/>
                <a:pathLst>
                  <a:path w="2253555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1" y="545645"/>
                    </a:cubicBezTo>
                    <a:cubicBezTo>
                      <a:pt x="365249" y="207053"/>
                      <a:pt x="731569" y="-1"/>
                      <a:pt x="1126778" y="-1"/>
                    </a:cubicBezTo>
                    <a:lnTo>
                      <a:pt x="1126778" y="1126778"/>
                    </a:ln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2" name="矩形 4" descr=""/>
            <p:cNvPicPr/>
            <p:nvPr/>
          </p:nvPicPr>
          <p:blipFill>
            <a:blip r:embed="rId8"/>
            <a:stretch/>
          </p:blipFill>
          <p:spPr>
            <a:xfrm>
              <a:off x="1974960" y="954360"/>
              <a:ext cx="2797920" cy="28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45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Picture 2" descr="D:\PPT模版\素材\png素材\web sites\web sites2\32x32\sterling_pound_currency_sign.png"/>
            <p:cNvPicPr/>
            <p:nvPr/>
          </p:nvPicPr>
          <p:blipFill>
            <a:blip r:embed="rId9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58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59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60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61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30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267" name="组合 18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26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2" name="组合 17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273" name="组合 9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274" name="饼形 7"/>
                  <p:cNvSpPr/>
                  <p:nvPr/>
                </p:nvSpPr>
                <p:spPr>
                  <a:xfrm>
                    <a:off x="2903400" y="2058840"/>
                    <a:ext cx="3183120" cy="318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饼形 8"/>
                  <p:cNvSpPr/>
                  <p:nvPr/>
                </p:nvSpPr>
                <p:spPr>
                  <a:xfrm>
                    <a:off x="3395520" y="2536560"/>
                    <a:ext cx="2251440" cy="22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6" name="组合 10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277" name="饼形 21"/>
                  <p:cNvSpPr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806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饼形 22"/>
                  <p:cNvSpPr/>
                  <p:nvPr/>
                </p:nvSpPr>
                <p:spPr>
                  <a:xfrm rot="7192200">
                    <a:off x="3412800" y="255384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9" name="组合 13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280" name="饼形 19"/>
                  <p:cNvSpPr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9bbb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1" name="饼形 15"/>
                  <p:cNvSpPr/>
                  <p:nvPr/>
                </p:nvSpPr>
                <p:spPr>
                  <a:xfrm rot="14392200">
                    <a:off x="3364920" y="256644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8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3" name="矩形 4" descr=""/>
            <p:cNvPicPr/>
            <p:nvPr/>
          </p:nvPicPr>
          <p:blipFill>
            <a:blip r:embed="rId2"/>
            <a:stretch/>
          </p:blipFill>
          <p:spPr>
            <a:xfrm>
              <a:off x="3785040" y="2163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矩形 5" descr=""/>
            <p:cNvPicPr/>
            <p:nvPr/>
          </p:nvPicPr>
          <p:blipFill>
            <a:blip r:embed="rId3"/>
            <a:stretch/>
          </p:blipFill>
          <p:spPr>
            <a:xfrm>
              <a:off x="3449520" y="340056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矩形 6" descr=""/>
            <p:cNvPicPr/>
            <p:nvPr/>
          </p:nvPicPr>
          <p:blipFill>
            <a:blip r:embed="rId4"/>
            <a:stretch/>
          </p:blipFill>
          <p:spPr>
            <a:xfrm>
              <a:off x="2943720" y="2065680"/>
              <a:ext cx="2383560" cy="24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162840" y="2535120"/>
              <a:ext cx="40824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6Z</dcterms:created>
  <dc:creator>paralife</dc:creator>
  <dc:description/>
  <dc:language>en-US</dc:language>
  <cp:lastModifiedBy>GZB</cp:lastModifiedBy>
  <dcterms:modified xsi:type="dcterms:W3CDTF">2012-09-09T03:10:5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2000000000001024140</vt:lpwstr>
  </property>
</Properties>
</file>