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7.wmf" ContentType="image/x-wmf"/>
  <Override PartName="/ppt/media/image23.jpeg" ContentType="image/jpeg"/>
  <Override PartName="/ppt/media/image21.jpeg" ContentType="image/jpeg"/>
  <Override PartName="/ppt/media/image36.gif" ContentType="image/gif"/>
  <Override PartName="/ppt/media/image19.jpeg" ContentType="image/jpeg"/>
  <Override PartName="/ppt/media/image2.gif" ContentType="image/gif"/>
  <Override PartName="/ppt/media/image32.gif" ContentType="image/gif"/>
  <Override PartName="/ppt/media/image18.jpeg" ContentType="image/jpeg"/>
  <Override PartName="/ppt/media/image16.gif" ContentType="image/gif"/>
  <Override PartName="/ppt/media/image28.jpeg" ContentType="image/jpeg"/>
  <Override PartName="/ppt/media/image20.png" ContentType="image/png"/>
  <Override PartName="/ppt/media/image15.gif" ContentType="image/gif"/>
  <Override PartName="/ppt/media/image14.gif" ContentType="image/gif"/>
  <Override PartName="/ppt/media/image40.jpeg" ContentType="image/jpeg"/>
  <Override PartName="/ppt/media/image30.png" ContentType="image/png"/>
  <Override PartName="/ppt/media/image25.gif" ContentType="image/gif"/>
  <Override PartName="/ppt/media/image31.gif" ContentType="image/gif"/>
  <Override PartName="/ppt/media/image11.jpeg" ContentType="image/jpeg"/>
  <Override PartName="/ppt/media/image35.gif" ContentType="image/gif"/>
  <Override PartName="/ppt/media/image9.jpeg" ContentType="image/jpeg"/>
  <Override PartName="/ppt/media/image33.gif" ContentType="image/gif"/>
  <Override PartName="/ppt/media/image34.gif" ContentType="image/gif"/>
  <Override PartName="/ppt/media/image37.gif" ContentType="image/gif"/>
  <Override PartName="/ppt/media/image38.gif" ContentType="image/gif"/>
  <Override PartName="/ppt/media/image43.png" ContentType="image/png"/>
  <Override PartName="/ppt/media/image41.jpeg" ContentType="image/jpeg"/>
  <Override PartName="/ppt/media/image8.jpeg" ContentType="image/jpeg"/>
  <Override PartName="/ppt/media/image39.jpeg" ContentType="image/jpeg"/>
  <Override PartName="/ppt/media/image24.jpeg" ContentType="image/jpeg"/>
  <Override PartName="/ppt/media/image42.gif" ContentType="image/gif"/>
  <Override PartName="/ppt/media/image5.wmf" ContentType="image/x-wmf"/>
  <Override PartName="/ppt/media/image44.gif" ContentType="image/gif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13.gif" ContentType="image/gif"/>
  <Override PartName="/ppt/media/image4.jpeg" ContentType="image/jpeg"/>
  <Override PartName="/ppt/media/image3.png" ContentType="image/png"/>
  <Override PartName="/ppt/media/image12.gif" ContentType="image/gif"/>
  <Override PartName="/ppt/media/image17.jpeg" ContentType="image/jpeg"/>
  <Override PartName="/ppt/media/image6.png" ContentType="image/png"/>
  <Override PartName="/ppt/media/image26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F704-485C-4895-8CED-6DE99B8B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02DD-F6B1-49D3-B69B-068EB4A2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CB37-E069-4DD3-A0D0-679F96E1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EFA3-5959-4828-ABF1-7515915B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A466-F3B7-43CF-B9E2-4ED0145B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C8AB-1B6E-45CE-BD09-EC718449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560-5024-4392-BA0D-66B853C2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91D-89B4-4B9B-A136-B242F6442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7A19-261F-446E-9A2A-5C1CC4E9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3343-D93D-4341-B47B-883C76E0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C550-7560-4C6A-B69F-BCDA9ECF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9AD-25D4-48D2-B759-CEB7226C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1F46E-5D98-40AD-9C1A-ED26D2A527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../Local%20Settings/Temp/Temporary%20Internet%20Files/Content.IE5/&#24180;&#32423;&#25945;&#21153;/&#34917;&#24046;&#23398;&#29983;&#21517;&#21333;(&#24635;&#34920;1&#65289;.xls" TargetMode="External"/><Relationship Id="rId2" Type="http://schemas.openxmlformats.org/officeDocument/2006/relationships/hyperlink" Target="../Local%20Settings/Temp/Temporary%20Internet%20Files/Content.IE5/&#24180;&#32423;&#25945;&#21153;/&#23398;&#29983;&#34917;&#24046;&#35760;&#24405;&#21333;.xls" TargetMode="Externa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file:///usr/lib/libreoffice/share/gallery/sounds/applause.wav" TargetMode="External"/><Relationship Id="rId3" Type="http://schemas.microsoft.com/office/2007/relationships/media" Target="file:///usr/lib/libreoffice/share/gallery/sounds/applaus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gi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../../Administrator/My%2520Documents/kejian/unit3huo.ppt" TargetMode="External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png"/><Relationship Id="rId3" Type="http://schemas.openxmlformats.org/officeDocument/2006/relationships/image" Target="../media/image44.gi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0960" y="0"/>
            <a:ext cx="60487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 u="sng">
                <a:solidFill>
                  <a:srgbClr val="ff0000"/>
                </a:solidFill>
                <a:uFillTx/>
                <a:latin typeface="宋体"/>
              </a:rPr>
              <a:t>温馨提醒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924200"/>
            <a:ext cx="8774280" cy="31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离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2016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年高考仅有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49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         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xxx</a:t>
            </a:r>
            <a:r>
              <a:rPr b="0" lang="zh-CN" sz="8800" spc="-1" strike="noStrike">
                <a:solidFill>
                  <a:srgbClr val="ff0000"/>
                </a:solidFill>
                <a:latin typeface="宋体"/>
              </a:rPr>
              <a:t>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16000" y="3068640"/>
            <a:ext cx="2919600" cy="30765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843280" y="1700280"/>
            <a:ext cx="5184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家长积极配合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老师倾情教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学生努力进步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33360"/>
            <a:ext cx="2987640" cy="2548080"/>
          </a:xfrm>
          <a:prstGeom prst="cloudCallout">
            <a:avLst>
              <a:gd name="adj1" fmla="val 29810"/>
              <a:gd name="adj2" fmla="val 77041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们的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愿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83808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Times New Roman"/>
                <a:ea typeface="隶书"/>
              </a:rPr>
              <a:t>老师的教学理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1905120"/>
            <a:ext cx="52578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关注班上每一个学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没有最好，只有更好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班级没有后进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不以一时成败论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隶书"/>
                <a:ea typeface="隶书"/>
              </a:rPr>
              <a:t>希望每个人都有好前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762120" y="2133720"/>
            <a:ext cx="380880" cy="3581280"/>
            <a:chOff x="762120" y="2133720"/>
            <a:chExt cx="380880" cy="3581280"/>
          </a:xfrm>
        </p:grpSpPr>
        <p:sp>
          <p:nvSpPr>
            <p:cNvPr id="73" name=""/>
            <p:cNvSpPr/>
            <p:nvPr/>
          </p:nvSpPr>
          <p:spPr>
            <a:xfrm>
              <a:off x="762120" y="29718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21337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373392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62120" y="4572000"/>
              <a:ext cx="380880" cy="30492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920"/>
                <a:gd name="textAreaBottom" fmla="*/ 191160 h 304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5410440"/>
              <a:ext cx="380880" cy="304560"/>
            </a:xfrm>
            <a:custGeom>
              <a:avLst/>
              <a:gdLst>
                <a:gd name="textAreaLeft" fmla="*/ 89280 w 380880"/>
                <a:gd name="textAreaRight" fmla="*/ 291240 w 380880"/>
                <a:gd name="textAreaTop" fmla="*/ 35640 h 304560"/>
                <a:gd name="textAreaBottom" fmla="*/ 191160 h 304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835280" y="765000"/>
            <a:ext cx="66294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有理想抱负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道德品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心理素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培养良好的学习习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严格要求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,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自主管理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Clr>
                <a:srgbClr val="0000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让每一位学生都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健康成功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 rot="5400000">
            <a:off x="-1477440" y="2553480"/>
            <a:ext cx="4795920" cy="15238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99192" dir="7781944" blurRad="0" rotWithShape="0">
                    <a:srgbClr val="000080"/>
                  </a:outerShdw>
                </a:effectLst>
                <a:latin typeface="华文新魏"/>
              </a:rPr>
              <a:t>班级管理理念</a:t>
            </a:r>
            <a:endParaRPr b="1" lang="en-US" sz="5400" spc="-1" strike="noStrike">
              <a:ln w="0">
                <a:noFill/>
              </a:ln>
              <a:solidFill>
                <a:srgbClr val="ff0000"/>
              </a:solidFill>
              <a:effectLst>
                <a:outerShdw dist="99192" dir="7781944" blurRad="0" rotWithShape="0">
                  <a:srgbClr val="00008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914400" y="304920"/>
            <a:ext cx="69343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324480" y="1143000"/>
            <a:ext cx="2819520" cy="3276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200400" cy="17528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1066680" y="3505320"/>
            <a:ext cx="3733920" cy="33526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50840" y="2133720"/>
            <a:ext cx="7178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高三（    ）班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   </a:t>
            </a:r>
            <a:r>
              <a:rPr b="1" lang="zh-CN" sz="8000" spc="-1" strike="noStrike">
                <a:solidFill>
                  <a:srgbClr val="00ff00"/>
                </a:solidFill>
                <a:latin typeface="华文彩云"/>
                <a:ea typeface="华文彩云"/>
              </a:rPr>
              <a:t>联考分析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581280" y="26668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743200"/>
            <a:ext cx="6096240" cy="1447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一、汇报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609480"/>
            <a:ext cx="495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2133720" y="2133720"/>
            <a:ext cx="5943600" cy="13716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ff00"/>
                </a:solidFill>
                <a:latin typeface="Arial"/>
                <a:ea typeface="华文新魏"/>
              </a:rPr>
              <a:t>成绩状况介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7520"/>
            <a:ext cx="10134720" cy="68104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900000" y="0"/>
            <a:ext cx="8406000" cy="64008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我班在这次联考中，继前三次月考后又一次取得稳中略有上升的成绩，其中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领先位置，尤其是     学科取得了班均分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的好成绩，其余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处于生源班级前     名位置。但各科发展不平衡，尤其是中等学生的学科发展不平衡现象较严重，主要表现在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00"/>
                </a:solidFill>
                <a:latin typeface="Arial"/>
              </a:rPr>
              <a:t>等学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80520" y="4876560"/>
            <a:ext cx="6248520" cy="1523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二、反思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反思一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次考试在个人名次上发生了一些明显的变化，原因为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我们也有不少同学在考试前也投入了大量精力，但未收到如期效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联考是冶炼，心态最重要。经历是最好的老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549360"/>
            <a:ext cx="43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反思二</a:t>
            </a:r>
            <a:r>
              <a:rPr b="0" lang="en-US" sz="46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zh-CN" sz="4600" spc="-1" strike="noStrike">
                <a:solidFill>
                  <a:srgbClr val="ff0000"/>
                </a:solidFill>
                <a:latin typeface="Arial"/>
              </a:rPr>
              <a:t>一模显露出的问题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2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这次考后，我们发现有些同学的总分高不了，究其原因，偏科太厉害！尤其要引起重视的是英语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数学和地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因为这三科拉的分数最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部分学生在语文、政治、历史等学科也存在较大问题由于各个方面的原因，很多同学都在这些科目中出现“瘸腿”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试卷答题过程中暴露出来的不规范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基础掌握不扎实、知识漏洞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11280" y="2724120"/>
            <a:ext cx="8286480" cy="32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XX</a:t>
            </a: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一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ctr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宋体"/>
              </a:rPr>
              <a:t>高三年级家长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42920" y="1052640"/>
            <a:ext cx="7034400" cy="2705040"/>
          </a:xfrm>
          <a:prstGeom prst="rect">
            <a:avLst/>
          </a:prstGeom>
        </p:spPr>
        <p:txBody>
          <a:bodyPr wrap="none" fromWordArt="1" lIns="90000" rIns="90000" tIns="46800" bIns="46800" anchor="ctr" anchorCtr="1">
            <a:prstTxWarp prst="textArchUp">
              <a:avLst>
                <a:gd name="adj" fmla="val 111430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放飞希望</a:t>
            </a: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沟通无限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ransition advTm="15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8000" y="673200"/>
            <a:ext cx="8893080" cy="59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反思三</a:t>
            </a:r>
            <a:r>
              <a:rPr b="1" lang="en-US" sz="4800" spc="-1" strike="noStrike">
                <a:solidFill>
                  <a:srgbClr val="ff0000"/>
                </a:solidFill>
                <a:latin typeface="隶书"/>
                <a:ea typeface="隶书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个别学生目前存在的问题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目的不明确，甚至模糊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集体主义观念淡漠、自私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责任感较差，自我中心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学习方法需要调整，没有计划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5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心理素质，适应性需要加强。</a:t>
            </a:r>
            <a:br>
              <a:rPr sz="4400"/>
            </a:br>
            <a:r>
              <a:rPr b="1" lang="en-US" sz="4400" spc="-1" strike="noStrike">
                <a:solidFill>
                  <a:srgbClr val="0000ff"/>
                </a:solidFill>
                <a:latin typeface="隶书"/>
                <a:ea typeface="隶书"/>
              </a:rPr>
              <a:t>6</a:t>
            </a:r>
            <a:r>
              <a:rPr b="1" lang="zh-CN" sz="4400" spc="-1" strike="noStrike">
                <a:solidFill>
                  <a:srgbClr val="0000ff"/>
                </a:solidFill>
                <a:latin typeface="隶书"/>
                <a:ea typeface="隶书"/>
              </a:rPr>
              <a:t>、同学关系、师生关系需要改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-1141560"/>
            <a:ext cx="9144000" cy="914256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5943600" cy="1524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Arial"/>
                <a:ea typeface="华文彩云"/>
              </a:rPr>
              <a:t>三、展望篇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联考之后我们老师要做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2682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落实学生的成绩情况之后，寻找该生的薄弱科目，确定补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学生名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通过班主任与各科任老师的联系，对补薄学生给予更多的关注，并通过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学生补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薄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</a:rPr>
              <a:t>记录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时时跟踪，使学生在薄弱科上有所进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2492280"/>
            <a:ext cx="79819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思想教育工作，增强学生的自信心和成才欲望，充分利用课堂及班会时间给同学们加油鼓劲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82160"/>
            <a:ext cx="8915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3300"/>
              </a:solidFill>
              <a:latin typeface="Arial"/>
              <a:ea typeface="华文行楷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990720"/>
            <a:ext cx="816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与各科任老师的联系，对学生给予更多的关注，使学生在薄弱科上有所进步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4495680"/>
            <a:ext cx="800100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严格常规管理，严格请假制度，严格班规班纪，稳定学习秩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24000" y="4653000"/>
            <a:ext cx="882000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老师们全力以赴，精心备课。和学生同甘共苦，关爱每一个学生，用真情激励学生奋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378936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加强自习课余时间的整体辅导和个别辅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292428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增强学生时间观念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828800"/>
            <a:ext cx="93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向偏科现象较严重的同学介绍好的学习经验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5335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谈话帮助学生分析成绩，找出原因，帮助学生确定目标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835280" y="1341360"/>
            <a:ext cx="609588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333399"/>
                </a:solidFill>
                <a:latin typeface="汉仪圆叠体简"/>
              </a:rPr>
              <a:t>家长如何看待孩子</a:t>
            </a:r>
            <a:endParaRPr b="0" lang="en-US" sz="4800" spc="-1" strike="noStrike">
              <a:ln w="9360">
                <a:solidFill>
                  <a:srgbClr val="cc0000"/>
                </a:solidFill>
                <a:miter/>
              </a:ln>
              <a:solidFill>
                <a:srgbClr val="333399"/>
              </a:solidFill>
              <a:latin typeface="汉仪圆叠体简"/>
              <a:ea typeface="汉仪圆叠体简"/>
            </a:endParaRPr>
          </a:p>
        </p:txBody>
      </p:sp>
    </p:spTree>
  </p:cSld>
  <p:transition advTm="15000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979640" y="0"/>
            <a:ext cx="5181480" cy="3432240"/>
            <a:chOff x="1979640" y="0"/>
            <a:chExt cx="5181480" cy="34322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2627280" y="0"/>
              <a:ext cx="40323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 txBox="1"/>
            <p:nvPr/>
          </p:nvSpPr>
          <p:spPr>
            <a:xfrm>
              <a:off x="1979640" y="2060640"/>
              <a:ext cx="5181480" cy="1371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Triangle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cc"/>
                      </a:gs>
                      <a:gs pos="100000">
                        <a:srgbClr val="ff9999"/>
                      </a:gs>
                    </a:gsLst>
                    <a:lin ang="5400000"/>
                  </a:gradFill>
                  <a:latin typeface="宋体"/>
                </a:rPr>
                <a:t>如何看待成绩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  <a:ea typeface="宋体"/>
              </a:endParaRPr>
            </a:p>
          </p:txBody>
        </p:sp>
      </p:grpSp>
      <p:sp>
        <p:nvSpPr>
          <p:cNvPr id="119" name=""/>
          <p:cNvSpPr txBox="1"/>
          <p:nvPr/>
        </p:nvSpPr>
        <p:spPr>
          <a:xfrm>
            <a:off x="0" y="3429000"/>
            <a:ext cx="5105520" cy="19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5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肯定子女的每一滴收获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92360" y="4581360"/>
            <a:ext cx="5410440" cy="17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1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鼓励子女的每一点进步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685800"/>
            <a:ext cx="6902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家长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适当的期望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2922480"/>
            <a:ext cx="73152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家长的希望，教育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孩子是老师的希望。父母对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期望值的高低直接影响孩子将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所取得成就的大小。应该有一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期望值，尽量要恰到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08000" y="1557360"/>
            <a:ext cx="504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幼圆"/>
              </a:rPr>
              <a:t>给孩子一个能达到的目标</a:t>
            </a:r>
            <a:endParaRPr b="1" lang="en-US" sz="1800" spc="-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幼圆"/>
              <a:ea typeface="幼圆"/>
            </a:endParaRPr>
          </a:p>
        </p:txBody>
      </p:sp>
    </p:spTree>
  </p:cSld>
  <p:transition advTm="15000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11280" y="189000"/>
            <a:ext cx="761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高：孩子拼命按家长的意愿生活、学习，也许父母感到满足，但孩子生活得较为压抑，甚至影响心理健康。尽力后仍达不到家长的要求，双方均失望，可能导致孩子自暴自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971800"/>
            <a:ext cx="7543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期望值过低或没有：尚不自觉的孩子缺少外在精神支持，认为不重视、无所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4724280"/>
            <a:ext cx="8153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5050"/>
                </a:solidFill>
                <a:latin typeface="Times New Roman"/>
              </a:rPr>
              <a:t>*     </a:t>
            </a:r>
            <a:r>
              <a:rPr b="1" lang="zh-CN" sz="3400" spc="-1" strike="noStrike">
                <a:solidFill>
                  <a:srgbClr val="ff5050"/>
                </a:solidFill>
                <a:latin typeface="Times New Roman"/>
              </a:rPr>
              <a:t>适当的期望值：在原有基础上适当拔高，不操之过急，不高不可攀，否则可能大家都失望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89000"/>
            <a:ext cx="487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高考倒计时</a:t>
            </a:r>
            <a:r>
              <a:rPr b="1" lang="en-US" sz="4000" spc="-1" strike="noStrike">
                <a:solidFill>
                  <a:srgbClr val="009999"/>
                </a:solidFill>
                <a:latin typeface="Tahoma"/>
              </a:rPr>
              <a:t>161</a:t>
            </a:r>
            <a:r>
              <a:rPr b="1" lang="zh-CN" sz="4000" spc="-1" strike="noStrike">
                <a:solidFill>
                  <a:srgbClr val="009999"/>
                </a:solidFill>
                <a:latin typeface="Tahoma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43280" y="549360"/>
            <a:ext cx="838440" cy="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8900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高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907920"/>
            <a:ext cx="845820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高考实行“三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+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”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满分：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三：语文、数学、外语（各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）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5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综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: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历史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地理</a:t>
            </a:r>
            <a:r>
              <a:rPr b="1" lang="zh-CN" sz="1800" spc="-1" strike="noStrike">
                <a:solidFill>
                  <a:srgbClr val="99cc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 政治计入高考成绩，共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00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—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网上报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3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2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陕西省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4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01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年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中旬汉中市联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下学期参加省、市联考、体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考前心理调整。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8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高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、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6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月</a:t>
            </a:r>
            <a:r>
              <a:rPr b="1" lang="en-US" sz="2800" spc="-1" strike="noStrike">
                <a:solidFill>
                  <a:srgbClr val="99cc00"/>
                </a:solidFill>
                <a:latin typeface="Tahoma"/>
              </a:rPr>
              <a:t>25</a:t>
            </a:r>
            <a:r>
              <a:rPr b="1" lang="zh-CN" sz="2800" spc="-1" strike="noStrike">
                <a:solidFill>
                  <a:srgbClr val="99cc00"/>
                </a:solidFill>
                <a:latin typeface="Tahoma"/>
              </a:rPr>
              <a:t>日公布成绩，网上填报志愿开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95280" y="260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尊敬的各位家长</a:t>
            </a:r>
            <a:r>
              <a:rPr b="1" lang="en-US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2205000"/>
            <a:ext cx="72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Arial"/>
              </a:rPr>
              <a:t>欢迎您的到来</a:t>
            </a:r>
            <a:r>
              <a:rPr b="1" lang="en-US" sz="8800" spc="-1" strike="noStrike">
                <a:solidFill>
                  <a:srgbClr val="0000ff"/>
                </a:solidFill>
                <a:latin typeface="Arial"/>
              </a:rPr>
              <a:t>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3640" y="5661000"/>
            <a:ext cx="57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XX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一中高三     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500"/>
                                  </p:iterate>
                                  <p:childTnLst>
                                    <p:animMotion origin="layout" path="M -0.05104 -0.01734 C -0.04931 0.00185 -0.04445 0.02937 -0.02622 0.02868 C 0.00034 0.02868 0.00225 -0.06244 0.03368 -0.06244 C 0.06198 -0.06244 0.04705 0.01712 0.07396 0.01665 C 0.10243 0.01665 0.08715 -0.04093 0.11771 -0.04093 C 0.14496 -0.04093 0.12968 -0.00208 0.15399 -0.00208 C 0.17743 -0.00208 0.16528 -0.03191 0.18646 -0.03191 C 0.19861 -0.03191 0.19948 -0.02382 0.20087 -0.01734 E">
                                      <p:cBhvr>
                                        <p:cTn id="6" dur="5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autoRev="1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wd">
                                    <p:tmAbs val="500"/>
                                  </p:iterate>
                                  <p:childTnLst>
                                    <p:animMotion origin="layout" path="M -0.07084 0.00301 L -0.90556 0.01364 E">
                                      <p:cBhvr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8406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85760" y="838080"/>
            <a:ext cx="3733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6200" y="12193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762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了解孩子一天的每段时间应该在做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22096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Tahoma"/>
              </a:rPr>
              <a:t>关键时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英语朗读听力时间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\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语文早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-2:00 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提倡回班级看书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21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：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</a:rPr>
              <a:t>00              </a:t>
            </a: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下晚自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周日             休息 </a:t>
            </a:r>
            <a:r>
              <a:rPr b="1" lang="en-US" sz="2800" spc="-1" strike="noStrike">
                <a:solidFill>
                  <a:srgbClr val="009999"/>
                </a:solidFill>
                <a:latin typeface="Tahoma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71640" y="549360"/>
            <a:ext cx="4868640" cy="1493640"/>
            <a:chOff x="971640" y="549360"/>
            <a:chExt cx="4868640" cy="1493640"/>
          </a:xfrm>
        </p:grpSpPr>
        <p:sp>
          <p:nvSpPr>
            <p:cNvPr id="136" name=""/>
            <p:cNvSpPr/>
            <p:nvPr/>
          </p:nvSpPr>
          <p:spPr>
            <a:xfrm>
              <a:off x="971640" y="549360"/>
              <a:ext cx="48686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971640" y="549360"/>
              <a:ext cx="1130760" cy="1493640"/>
              <a:chOff x="971640" y="549360"/>
              <a:chExt cx="1130760" cy="149364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549360"/>
                <a:ext cx="1130760" cy="1493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971640" y="549360"/>
                <a:ext cx="1130760" cy="1493640"/>
                <a:chOff x="971640" y="549360"/>
                <a:chExt cx="1130760" cy="149364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971640" y="549360"/>
                  <a:ext cx="1130760" cy="1493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" name=""/>
                <p:cNvGrpSpPr/>
                <p:nvPr/>
              </p:nvGrpSpPr>
              <p:grpSpPr>
                <a:xfrm>
                  <a:off x="971640" y="549360"/>
                  <a:ext cx="1130760" cy="1493640"/>
                  <a:chOff x="971640" y="549360"/>
                  <a:chExt cx="1130760" cy="149364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971640" y="549360"/>
                    <a:ext cx="1130760" cy="14936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934320" y="46483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33520" y="209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609480"/>
            <a:ext cx="91440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8600"/>
            <a:ext cx="35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了解孩子可能存在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ahoma"/>
              </a:rPr>
              <a:t>问题以及应对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447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自习课说话、看小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14479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</a:t>
            </a: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在自己的房间在看什么书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6560" y="215892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上课、自习课睡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759120" y="21589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晚间不要太晚  不要疲劳战要效率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28954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补课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733920" y="281952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是否必要   如必要  勤和补课老师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7339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心理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3581280"/>
            <a:ext cx="525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控制自己情绪 ，多观察、  多交流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注意交流的内容、方式、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7242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租房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48006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提醒：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</a:rPr>
              <a:t>每天晚自习以后，孩子在哪里，在做什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14400" y="58672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早恋现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2520" y="5867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Tahoma"/>
              </a:rPr>
              <a:t>您发现什么异样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600200" y="45720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9999"/>
                </a:solidFill>
                <a:uFillTx/>
                <a:latin typeface="Tahoma"/>
              </a:rPr>
              <a:t>对您的几点参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00200" y="40384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4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积极配合老师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00200" y="31240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作好后勤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22096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掩藏负面情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1295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以孩子为中心  不要过分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3124080"/>
            <a:ext cx="4114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饮食要有奶类、豆类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蔬菜、水果、谷类、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629400" y="4589640"/>
            <a:ext cx="2514600" cy="2268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90720" y="601992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3880" y="5943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ahoma"/>
              </a:rPr>
              <a:t>让孩子感觉这是一个温暖的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6840" y="4876920"/>
            <a:ext cx="160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ff"/>
                </a:solidFill>
                <a:latin typeface="Tahoma"/>
              </a:rPr>
              <a:t>5.</a:t>
            </a:r>
            <a:r>
              <a:rPr b="1" lang="zh-CN" sz="3200" spc="-1" strike="noStrike">
                <a:solidFill>
                  <a:srgbClr val="9933ff"/>
                </a:solidFill>
                <a:latin typeface="Tahoma"/>
              </a:rPr>
              <a:t>广开渠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124000" y="507816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孩子的健康成长，有赖您精心的呵护、正确的教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9144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寄语家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1125720"/>
            <a:ext cx="75614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生的成功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4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生的自身努力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教师的力量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30%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家长的推动力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0200" y="1676520"/>
            <a:ext cx="871380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思想上，家长能够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与子女沟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及时了解和掌握自己子女的心理动向，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给其学习施加一定的压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注意对子女的教育方式方法，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鼓励少批评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子女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要有一定的期望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不能过高或过低，注意观察学生变化，及时发现并纠正其不良行为而切忌护短；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要教育孩子怎样做人，关心孩子的思想动态使孩子有正确的思想导向、明确的奋斗目标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工作再忙也要抽点时间来多了解孩子在校的表现和学习成绩情况。因为孩子只有一个呀，我们的一切工作难道不是为了孩子将来的美好前途吗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学会欣赏孩子，要善于发现他们的闪光点，及时给予鼓励，以增强他们的自信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7160" y="380880"/>
            <a:ext cx="353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omic Sans MS"/>
                <a:ea typeface="黑体"/>
              </a:rPr>
              <a:t>希望家长配合的工作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7200" y="228600"/>
            <a:ext cx="868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生活上，家长能够合理安排饮食，注意补充营养关心照顾，身体是革命的本钱 。提醒孩子注意安全（交通安全、运动安全、饮食安全等），保证学生按时作息，不要因晚上学习时间过长或看电视无度、睡眠不足影响第二天学习；有特殊情况要请假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控制零花钱，引导孩子合理消费；抓好子女在家的行为习惯。如良好的休息、科学的安排学习、适量的家务劳动（劳动是教育人的较好方式，只有劳动，他才懂得来之不易，懂得珍惜）等。在孩子面前做好表率，身教重于言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74560" y="304920"/>
            <a:ext cx="8569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学习上，家长能够教育孩子在上课时专心听老师讲课，不懂就是不懂，要虚心请教。强调“认真”二字。少做最好不做与学习无关的事。多让他们在学习、精神等各方面得到父母的支持和鼓励，给孩子创造良好的学习环境（物质、文化、精神环境）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6094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教育方式上，要尊重学生人格，用科学方法教育、引导，切忌因简单、粗暴的武力压服而影响其身心健康，导致教育失败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2860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家长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多和老师联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支持班级工作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掌握子女在学校的学习情况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帮助学生树立人生或高考目标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148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之，希望家长能以负责的态度，正确的方法，与教师共同塑造学生健康的心态，培养其良好行为习惯，激发其勇于创新、不懈努力的积极性的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43000" y="533520"/>
            <a:ext cx="769608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成功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=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智商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+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情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20%</a:t>
            </a:r>
            <a:r>
              <a:rPr b="1" lang="zh-CN" sz="54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(80%</a:t>
            </a:r>
            <a:r>
              <a:rPr b="0" lang="zh-CN" sz="4800" spc="-1" strike="noStrike">
                <a:solidFill>
                  <a:srgbClr val="ff0000"/>
                </a:solidFill>
                <a:latin typeface="宋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86200" y="3297240"/>
            <a:ext cx="5257800" cy="35607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600200" y="1143000"/>
            <a:ext cx="56386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advTm="15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0"/>
            <a:ext cx="853452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指責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怨天尤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敵意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好斗逞勇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恐懼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畏首畏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憐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自怨自艾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嘲諷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消極退縮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嫉妒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勾心斗角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羞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容易心懷內疚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容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極富耐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鼓勵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充滿自信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讚美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存感恩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嘉許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愛人愛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接納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心胸寬大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認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掌握目標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分享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慷慨大方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誠實公平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必能維護正義真理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安定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信任自己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信任他人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友善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對世界多一份關懷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祥和中長大的孩子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cc0099"/>
                </a:solidFill>
                <a:latin typeface="宋体"/>
              </a:rPr>
              <a:t>將來必能有和平的心境</a:t>
            </a:r>
            <a:r>
              <a:rPr b="1" lang="en-US" sz="2400" spc="-1" strike="noStrike">
                <a:solidFill>
                  <a:srgbClr val="cc00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858000" y="18288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1143000"/>
            <a:ext cx="83059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</a:t>
            </a:r>
            <a:r>
              <a:rPr b="1" i="1" lang="zh-CN" sz="40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孩子们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、妈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你们辛苦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平时忙于学习，因此和你们交流得机会很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但是作为你的儿女，我们深知你们很辛苦，也很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我们回报您的唯一办法就是好好学习，不虚度光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争取考取理想大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爸爸妈妈你们千万要注意身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儿女在这里真诚地道一声：谢谢你们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638680" y="685800"/>
            <a:ext cx="2251080" cy="2286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81080" y="246204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刻苦努力，不断拼搏，是我们奋进的号角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坚忍顽强，超越自我，是我们追求的品格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克服困难，励志向前，是我们不改的信念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乌鸦反哺，回报父母，是我们不变的誓言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隶书"/>
              </a:rPr>
              <a:t>健康成长，创造辉煌，是我们共同的心愿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 rot="513000">
            <a:off x="541080" y="371520"/>
            <a:ext cx="6557760" cy="18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说给爸爸妈妈的话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194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196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42865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85800" y="50292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008080"/>
                </a:solidFill>
                <a:latin typeface="Tahoma"/>
                <a:ea typeface="华文行楷"/>
              </a:rPr>
              <a:t>雪莱说“冬天到了，春天还会远吗？”春天是万物复苏的季节，我们仍在快乐的播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533520"/>
            <a:ext cx="6934320" cy="426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990720" y="481644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迎接高考一路坎坷，我们已感受到夏雨的清凉。当今年的六月来临，我相信我们已经做好了准备。这应该是一条通向成功的道路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cc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07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09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38080" y="609480"/>
            <a:ext cx="7391520" cy="44467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62120" y="51055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cc3300"/>
                </a:solidFill>
                <a:latin typeface="Tahoma"/>
                <a:ea typeface="华文行楷"/>
              </a:rPr>
              <a:t>秋天是收获的季节，我们却在播种。道路可能很艰苦，但我们是朝着太阳的方向前进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1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2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26" name=""/>
          <p:cNvSpPr/>
          <p:nvPr/>
        </p:nvSpPr>
        <p:spPr>
          <a:xfrm>
            <a:off x="1066680" y="51055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行楷"/>
              </a:rPr>
              <a:t>雪花儿飘起来了，我们舍弃了小屋的舒适，沿着这条路仍在艰难地跋涉…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华文行楷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2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3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914400" y="533520"/>
            <a:ext cx="7086600" cy="44863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920960" y="2674800"/>
            <a:ext cx="5303880" cy="1494000"/>
            <a:chOff x="1920960" y="2674800"/>
            <a:chExt cx="5303880" cy="1494000"/>
          </a:xfrm>
        </p:grpSpPr>
        <p:sp>
          <p:nvSpPr>
            <p:cNvPr id="238" name=""/>
            <p:cNvSpPr/>
            <p:nvPr/>
          </p:nvSpPr>
          <p:spPr>
            <a:xfrm>
              <a:off x="1920960" y="2674800"/>
              <a:ext cx="5303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1920960" y="2674800"/>
              <a:ext cx="1231920" cy="1494000"/>
              <a:chOff x="1920960" y="2674800"/>
              <a:chExt cx="1231920" cy="1494000"/>
            </a:xfrm>
          </p:grpSpPr>
          <p:sp>
            <p:nvSpPr>
              <p:cNvPr id="240" name=""/>
              <p:cNvSpPr/>
              <p:nvPr/>
            </p:nvSpPr>
            <p:spPr>
              <a:xfrm>
                <a:off x="1920960" y="2674800"/>
                <a:ext cx="1231920" cy="1494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920960" y="2674800"/>
                <a:ext cx="1231920" cy="1494000"/>
                <a:chOff x="1920960" y="2674800"/>
                <a:chExt cx="1231920" cy="149400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1920960" y="2674800"/>
                  <a:ext cx="1231920" cy="1494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3" name=""/>
                <p:cNvGrpSpPr/>
                <p:nvPr/>
              </p:nvGrpSpPr>
              <p:grpSpPr>
                <a:xfrm>
                  <a:off x="1920960" y="2674800"/>
                  <a:ext cx="1231920" cy="1494000"/>
                  <a:chOff x="1920960" y="2674800"/>
                  <a:chExt cx="1231920" cy="149400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1920960" y="2674800"/>
                    <a:ext cx="1231920" cy="149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  </a:t>
                    </a:r>
                    <a:r>
                      <a:rPr b="0" lang="en-US" sz="9200" spc="-1" strike="noStrike">
                        <a:solidFill>
                          <a:srgbClr val="666666"/>
                        </a:solidFill>
                        <a:latin typeface="Verdana"/>
                      </a:rPr>
                      <a:t> </a:t>
                    </a:r>
                    <a:r>
                      <a:rPr b="0" lang="en-US" sz="800" spc="-1" strike="noStrike">
                        <a:solidFill>
                          <a:srgbClr val="666666"/>
                        </a:solidFill>
                        <a:latin typeface="Verdana"/>
                      </a:rPr>
                      <a:t>                                       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066680" y="457200"/>
            <a:ext cx="6858000" cy="44355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38080" y="50292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ahoma"/>
              </a:rPr>
              <a:t>      </a:t>
            </a:r>
            <a:r>
              <a:rPr b="1" lang="zh-CN" sz="3200" spc="-1" strike="noStrike">
                <a:solidFill>
                  <a:srgbClr val="339933"/>
                </a:solidFill>
                <a:latin typeface="Tahoma"/>
                <a:ea typeface="华文行楷"/>
              </a:rPr>
              <a:t>走过春夏秋冬，走过风风雨雨……当我们如雄鹰展翅，所有的辛苦，所有的泪水，都会在一笑中淡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家长代表经验交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3745080" cy="317664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28600" y="1981080"/>
            <a:ext cx="8610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宋体"/>
                <a:ea typeface="黑体"/>
              </a:rPr>
              <a:t>我们重视学生的成长，而不仅仅是成功；我们重视学生的人格，而不仅仅是成绩；我们重视学生的创新，而不仅仅是接受；我们重视学生的终身，而不仅仅是现在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419720" y="4952880"/>
            <a:ext cx="3809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65240" y="4083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0880" y="3808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黑体"/>
              </a:rPr>
              <a:t>共勉：</a:t>
            </a:r>
            <a:endParaRPr b="1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黑体"/>
              <a:ea typeface="黑体"/>
            </a:endParaRPr>
          </a:p>
        </p:txBody>
      </p:sp>
    </p:spTree>
  </p:cSld>
  <p:transition advTm="15000">
    <p:random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首先感谢您在百忙之中抽空来参加家长会。关心、帮助、督促贵子女是我们共同的心愿！使您的孩子得到全面发展、提高是我们共同的目标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85800"/>
            <a:ext cx="588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400800" y="0"/>
            <a:ext cx="2514600" cy="2224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429000" y="57150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我们需要共同努力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advTm="15000"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067280" y="1125360"/>
            <a:ext cx="41148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欢 迎 监 督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547640" y="0"/>
            <a:ext cx="4191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感 谢 指 导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09480" y="3200400"/>
            <a:ext cx="7994880" cy="166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祝各位家长：家庭幸福，事业顺利！</a:t>
            </a:r>
            <a:endParaRPr b="0" lang="en-US" sz="4800" spc="-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advTm="15000"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0" y="4952520"/>
            <a:ext cx="60372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让我们携起来，共创孩子的美好明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179280" y="3716280"/>
            <a:ext cx="2136960" cy="281952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43000" y="914400"/>
            <a:ext cx="8001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成長只有一次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陪孩子成長</a:t>
            </a:r>
            <a:r>
              <a:rPr b="0" lang="en-US" sz="4400" spc="-1" strike="noStrike">
                <a:solidFill>
                  <a:srgbClr val="ff3300"/>
                </a:solidFill>
                <a:latin typeface="隶书"/>
                <a:ea typeface="隶书"/>
              </a:rPr>
              <a:t>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让我们共同托起明天的太阳！</a:t>
            </a:r>
            <a:r>
              <a:rPr b="0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43400" y="3247920"/>
            <a:ext cx="4290840" cy="33861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1600200" y="3124080"/>
            <a:ext cx="6858000" cy="1524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家长会到此结束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祝各位家长健康愉快</a:t>
            </a:r>
            <a:endParaRPr b="0" lang="en-US" sz="6000" spc="-1" strike="noStrike">
              <a:ln w="93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sp>
        <p:nvSpPr>
          <p:cNvPr id="265" name=""/>
          <p:cNvSpPr/>
          <p:nvPr/>
        </p:nvSpPr>
        <p:spPr>
          <a:xfrm>
            <a:off x="3653280" y="4267080"/>
            <a:ext cx="296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rebuchet MS"/>
              </a:rPr>
              <a:t>Bye-bye</a:t>
            </a: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1828800" cy="15242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35200" cy="2971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6934320" y="380880"/>
            <a:ext cx="1904760" cy="158760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4360" y="3178080"/>
            <a:ext cx="7115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21337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让我们架起心灵沟通的桥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为孩子们的健康成长共商教育教学大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74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知识改变命运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态度决定一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刻苦完成学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66"/>
                </a:solidFill>
                <a:latin typeface="Arial"/>
              </a:rPr>
              <a:t>奋斗成就人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65040" y="70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53628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1066680"/>
            <a:ext cx="8381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家长会召开的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班级基本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学生在校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联考情况分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存在的问题及下一阶段工作思路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需要家长配合的工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给家长的一些建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个别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380880"/>
            <a:ext cx="7543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我们本次家长会的目的是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 </a:t>
            </a:r>
            <a:r>
              <a:rPr b="0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促进交流与合作，达成教育共识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62720" y="4460760"/>
            <a:ext cx="3276360" cy="2124360"/>
          </a:xfrm>
          <a:prstGeom prst="rect">
            <a:avLst/>
          </a:prstGeom>
          <a:ln w="0">
            <a:noFill/>
          </a:ln>
        </p:spPr>
      </p:pic>
    </p:spTree>
  </p:cSld>
  <p:transition advTm="15000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0:43:50Z</dcterms:created>
  <dc:creator>fxzm</dc:creator>
  <dc:description/>
  <dc:language>en-US</dc:language>
  <cp:lastModifiedBy>微软用户</cp:lastModifiedBy>
  <dcterms:modified xsi:type="dcterms:W3CDTF">2015-11-18T01:31:27Z</dcterms:modified>
  <cp:revision>1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