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3EF-2298-4C16-A492-24065C22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155-F6A3-4D21-BAEB-99AE7E2C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E6F-4746-4298-9143-04723F8D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6E1-4930-45A5-9187-5AD199DF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AC66-5540-41B3-867C-7CE120F9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5571-199D-453B-B8A5-E4D71415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C1B8-966C-47F8-BF0D-023715A8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870D-5084-4AF1-ABFB-F528D2CB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2F55-534C-4084-9415-DFBD44B5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8D8D-C126-4FEC-BB54-66B097BA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C992-D55A-4A32-A92D-470432E8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56E-CF8B-47C2-A09F-CE3AD373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449F-5EBF-49F8-9B11-81F120A3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2DBC-ABD5-4138-B6A3-AD65512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D9D4-7490-4D18-8190-8FB961C3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695D-927E-41C0-B000-FFBD2854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8D0F-CBA6-4F5E-8A4A-FEFB6576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CE6-7B41-4B6A-ABF8-312F6072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E94-E44E-4D06-9E36-7BC089A0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444-1838-4A30-B190-0B1FAAA2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7A4-18B5-4ED0-8A56-8200B1E7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A39-BA3C-4C11-933F-A801F284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399-238B-493C-A7A8-065FCEDD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03B-5DA6-479A-A0D2-21396BA2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DA17-7262-47EE-A85A-D13CA7B71E0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5768-5DB3-46AF-A91E-8014891FD34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l-on Demand Ro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按需拨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需要时才启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空闲时自动断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公共交换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灵活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R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l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口的物理端口的集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 poo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ool-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指定端口属于哪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ler p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 poo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ool-me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标准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R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与灵活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区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使能命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接口置入方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er-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l-me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SD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d Service Digit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提供全数字服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SD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高可用带宽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2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按需拨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快速连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高性价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安全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支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,cha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验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SD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信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信道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信道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用户接口类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基本速率接口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B+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2Kb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基群速率接口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B+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48Kb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SD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功能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网络终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T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网络终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T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类终端设备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类终端设备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终端适配器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ler-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进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接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配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接口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置对端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号码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地址的对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 map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激活呼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-group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节省费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适合突发传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实现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标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D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灵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D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标准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拨号接口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一个物理接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一个或多个物理接口绑定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er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标准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R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触发条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-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端口的呼叫，接收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单点，多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ial-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触发条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访问控制列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-li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CL-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协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-li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i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tocol permit/de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将拨号端口置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ler-lis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-group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roup-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配置接口发出和接收呼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使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D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er in-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设定拨号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er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al-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配置用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ssword 0/7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配置远端用户名与协议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er map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tocol next-hop-addre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灵活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不同的用户定义不同的呼叫服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多种不同的拨号配置使用共同的物理接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灵活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DR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配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触发条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-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配置一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l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dial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erface-num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设定拨号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 str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al-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能灵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er remote-n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cn</cp:lastModifiedBy>
  <dcterms:modified xsi:type="dcterms:W3CDTF">2002-07-04T09:56:48Z</dcterms:modified>
  <cp:revision>16</cp:revision>
  <dc:subject/>
  <dc:title>PowerPoint Presentation</dc:title>
</cp:coreProperties>
</file>