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01AB-22EF-47BF-9EEA-48AD5AF6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998-229B-463A-AA0D-89D5AA01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7E38-DFE7-4CB2-B02A-8BC65D7BB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6915-F3F7-4823-9BE0-F9A578BB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0E89-E2FC-4995-A369-B4DBC25F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A273-AADE-44FE-B29F-430CFC55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9430-F7D0-493B-A34E-FECF5796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0DB8-6936-40BA-897A-BF508EC0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F563-6AA4-4BC0-9CB6-4AF72A10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6DA7-5EFE-4C4B-BB1B-4D8AD74A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C02B-DFB7-4EB2-A8F3-4BD0DEE4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5005-FFEF-4D32-A5BD-88ED5B0A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3394-5F1A-4E5F-9F7B-800065D4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5FFA-2ADC-47F2-B649-47D54164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CBD0-9809-4783-8AA0-7766CC31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37DA-E470-40F2-945C-977BD7BC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19EC-B3A3-4262-BBE4-2FE5D96E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E680-9D02-404F-A229-665DA466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52C8-D875-4CF0-B55F-F87B682E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A2A1-4070-4F0A-BA5D-B73C02C1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2821-3A72-46D7-9260-47FB58C9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602C-B8B2-4142-B8B8-8EC73EB6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90FF-00FC-4569-8086-F7BD45C7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7857-89EC-461F-B0FE-CCD36FE7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68F7-A012-4218-867F-345E758738A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78EB-BB96-45A0-8279-2DFBBF8C540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HSR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t Standby Routing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概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基于热备份的可靠性协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提高网络与外界连接的可靠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中国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认证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HSR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用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广播或组播局域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静态的路由配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解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不能动态适应路由改变的问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HSRP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多备份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同一网段可以配置多个备份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一台路由器可以参加多个备份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不同接口可以配置多个备份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配置任务列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启动路由器以太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SRP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功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ndb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roup-numb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irtual-ip-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设置抢占方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ndb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oup-number preem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设置优先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ndb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oup-number prior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iority-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配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SRP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虚拟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地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ndb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p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B.C.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其它参数配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设定路由器监视指定的接口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ndb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oup-num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rial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iority-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设置使用实际的接口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C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地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ndby use-b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更改虚拟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C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地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ndby use-ovma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xx-xx-xx-xx-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其它参数配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设置授权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ndb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roup-num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设置定时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ndby tim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ello-time hold-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软件仓库</cp:lastModifiedBy>
  <dcterms:modified xsi:type="dcterms:W3CDTF">2005-05-17T02:39:44Z</dcterms:modified>
  <cp:revision>10</cp:revision>
  <dc:subject/>
  <dc:title>PowerPoint Presentation</dc:title>
</cp:coreProperties>
</file>