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F2A2-522B-4448-B506-FDE4750C5D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串口封装不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PX Net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ing ip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就能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必须要指定封装类型才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FD9-E56C-499F-AE4F-5A880434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5F4-1304-4333-92DC-7658590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9D6-4865-4504-B3CA-3E9840C3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A58-D64A-4ABE-BBDE-5468D747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F85-F338-4E63-BCB2-62BADC1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C8BD-E68F-4DB2-9CC2-DC3E571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4258-33F2-4DA1-8432-98364D6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F21-D140-490D-9DE1-D6FC8BAB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B89B-6A0A-4C44-996A-8B4789C4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C15-A878-47C7-AAC5-2AE33E47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21A-8888-478A-9E30-F75FF99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9C6-2D6F-4BE3-83B5-03DCBABE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04AB-5835-46F9-987E-6DE17EC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616E-AD98-4C3F-8595-72945C7D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9732-52CB-4645-B8BD-CD8F647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BBC4-C5E7-48AD-ADEB-96520902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8482-5E2E-4EED-B0BA-65B6CD1E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AC4-C436-4EF8-9F62-5886895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C3B-3D07-434D-B2C0-02871AF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257-3901-40B3-8AC4-D2FE073C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3FF-40B2-40E0-AE2E-5AFF4E2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6DF-B67E-4532-AC55-4EDF995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0D8-3D85-4652-B447-2E888EE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8AD-CAD7-4F4F-9F49-351564C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1CFE-7CF0-4E14-98D8-1B49D68454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FC31-B2A0-4D93-8866-1F03083B415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协议简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P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国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证实验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N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t Nearest Serv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客户需要访问服务器时，发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GN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广播报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件服务器和路由器收到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GN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报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件服务器返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GN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响应报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2089080" y="6130800"/>
            <a:ext cx="819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938960" y="3583080"/>
            <a:ext cx="4830120" cy="2436840"/>
            <a:chOff x="1938960" y="3583080"/>
            <a:chExt cx="4830120" cy="2436840"/>
          </a:xfrm>
        </p:grpSpPr>
        <p:sp>
          <p:nvSpPr>
            <p:cNvPr id="552" name=""/>
            <p:cNvSpPr/>
            <p:nvPr/>
          </p:nvSpPr>
          <p:spPr>
            <a:xfrm>
              <a:off x="2286000" y="4878360"/>
              <a:ext cx="4483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00720" y="4557600"/>
              <a:ext cx="452520" cy="320760"/>
            </a:xfrm>
            <a:custGeom>
              <a:avLst/>
              <a:gdLst/>
              <a:ahLst/>
              <a:rect l="l" t="t" r="r" b="b"/>
              <a:pathLst>
                <a:path w="303" h="186">
                  <a:moveTo>
                    <a:pt x="0" y="0"/>
                  </a:moveTo>
                  <a:lnTo>
                    <a:pt x="0" y="186"/>
                  </a:lnTo>
                  <a:lnTo>
                    <a:pt x="303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81680" y="4451400"/>
              <a:ext cx="961920" cy="426960"/>
            </a:xfrm>
            <a:custGeom>
              <a:avLst/>
              <a:gdLst/>
              <a:ahLst/>
              <a:rect l="l" t="t" r="r" b="b"/>
              <a:pathLst>
                <a:path w="593" h="404">
                  <a:moveTo>
                    <a:pt x="593" y="0"/>
                  </a:moveTo>
                  <a:lnTo>
                    <a:pt x="593" y="404"/>
                  </a:lnTo>
                  <a:lnTo>
                    <a:pt x="0" y="4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32280" y="4878360"/>
              <a:ext cx="1949400" cy="557280"/>
            </a:xfrm>
            <a:custGeom>
              <a:avLst/>
              <a:gdLst/>
              <a:ahLst/>
              <a:rect l="l" t="t" r="r" b="b"/>
              <a:pathLst>
                <a:path w="1228" h="367">
                  <a:moveTo>
                    <a:pt x="0" y="367"/>
                  </a:moveTo>
                  <a:lnTo>
                    <a:pt x="0" y="0"/>
                  </a:lnTo>
                  <a:lnTo>
                    <a:pt x="12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8200" y="4081320"/>
              <a:ext cx="298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8200" y="4029120"/>
              <a:ext cx="65160" cy="10476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1" y="0"/>
                  </a:moveTo>
                  <a:lnTo>
                    <a:pt x="0" y="33"/>
                  </a:lnTo>
                  <a:lnTo>
                    <a:pt x="41" y="6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7040" y="4081320"/>
              <a:ext cx="2966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78520" y="4029120"/>
              <a:ext cx="65160" cy="10476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0" y="66"/>
                  </a:moveTo>
                  <a:lnTo>
                    <a:pt x="41" y="3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69240" y="3962520"/>
              <a:ext cx="1440" cy="98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04080" y="3962520"/>
              <a:ext cx="130320" cy="52200"/>
            </a:xfrm>
            <a:custGeom>
              <a:avLst/>
              <a:gdLst/>
              <a:ahLst/>
              <a:rect l="l" t="t" r="r" b="b"/>
              <a:pathLst>
                <a:path w="82" h="33">
                  <a:moveTo>
                    <a:pt x="82" y="33"/>
                  </a:moveTo>
                  <a:lnTo>
                    <a:pt x="41" y="0"/>
                  </a:lnTo>
                  <a:lnTo>
                    <a:pt x="0" y="3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69240" y="4100400"/>
              <a:ext cx="1440" cy="100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04080" y="4148280"/>
              <a:ext cx="130320" cy="52200"/>
            </a:xfrm>
            <a:custGeom>
              <a:avLst/>
              <a:gdLst/>
              <a:ahLst/>
              <a:rect l="l" t="t" r="r" b="b"/>
              <a:pathLst>
                <a:path w="82" h="33">
                  <a:moveTo>
                    <a:pt x="0" y="0"/>
                  </a:moveTo>
                  <a:lnTo>
                    <a:pt x="41" y="33"/>
                  </a:lnTo>
                  <a:lnTo>
                    <a:pt x="8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38960" y="551808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66840" y="4375080"/>
              <a:ext cx="86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宋体"/>
                </a:rPr>
                <a:t>GNS </a:t>
              </a:r>
              <a:r>
                <a:rPr b="1" lang="zh-CN" sz="1800" spc="-1" strike="noStrike">
                  <a:solidFill>
                    <a:srgbClr val="333399"/>
                  </a:solidFill>
                  <a:latin typeface="宋体"/>
                </a:rPr>
                <a:t>响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57280" y="35830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文件服务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321440" y="5060880"/>
              <a:ext cx="1098000" cy="522360"/>
              <a:chOff x="4321440" y="5060880"/>
              <a:chExt cx="1098000" cy="522360"/>
            </a:xfrm>
          </p:grpSpPr>
          <p:sp>
            <p:nvSpPr>
              <p:cNvPr id="568" name=""/>
              <p:cNvSpPr/>
              <p:nvPr/>
            </p:nvSpPr>
            <p:spPr>
              <a:xfrm>
                <a:off x="4490640" y="5060880"/>
                <a:ext cx="867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99"/>
                    </a:solidFill>
                    <a:latin typeface="宋体"/>
                  </a:rPr>
                  <a:t>GNS </a:t>
                </a:r>
                <a:r>
                  <a:rPr b="1" lang="zh-CN" sz="1800" spc="-1" strike="noStrike">
                    <a:solidFill>
                      <a:srgbClr val="333399"/>
                    </a:solidFill>
                    <a:latin typeface="宋体"/>
                  </a:rPr>
                  <a:t>请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321440" y="5308560"/>
                <a:ext cx="1098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99"/>
                    </a:solidFill>
                    <a:latin typeface="宋体"/>
                  </a:rPr>
                  <a:t>希望获得文件服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6248520" y="4680000"/>
              <a:ext cx="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22840" y="4695840"/>
              <a:ext cx="18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29000" y="4984560"/>
              <a:ext cx="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29000" y="4984560"/>
              <a:ext cx="2828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819520" y="475596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14800" y="437508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19520" y="4755600"/>
              <a:ext cx="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43200" y="5137200"/>
              <a:ext cx="152640" cy="15228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122" y="0"/>
                  </a:moveTo>
                  <a:lnTo>
                    <a:pt x="61" y="145"/>
                  </a:lnTo>
                  <a:lnTo>
                    <a:pt x="0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5562720" y="4070160"/>
              <a:ext cx="762120" cy="381240"/>
              <a:chOff x="5562720" y="4070160"/>
              <a:chExt cx="762120" cy="381240"/>
            </a:xfrm>
          </p:grpSpPr>
          <p:sp>
            <p:nvSpPr>
              <p:cNvPr id="579" name=""/>
              <p:cNvSpPr/>
              <p:nvPr/>
            </p:nvSpPr>
            <p:spPr>
              <a:xfrm>
                <a:off x="5562720" y="4176720"/>
                <a:ext cx="762120" cy="27468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62720" y="4070160"/>
                <a:ext cx="759960" cy="2095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53320" y="410256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53320" y="410256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81520" y="4178520"/>
                <a:ext cx="248400" cy="705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81520" y="4178520"/>
                <a:ext cx="248400" cy="705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694120" y="409860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694120" y="409860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942880" y="418644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42880" y="418644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957640" y="4106160"/>
                <a:ext cx="246240" cy="66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957640" y="4106160"/>
                <a:ext cx="246240" cy="6660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85840" y="4182480"/>
                <a:ext cx="248040" cy="705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85840" y="4182480"/>
                <a:ext cx="248040" cy="7056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98440" y="4102560"/>
                <a:ext cx="24804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698440" y="4102560"/>
                <a:ext cx="24804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46840" y="419004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46840" y="4190040"/>
                <a:ext cx="248400" cy="6660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4191120" y="3917880"/>
              <a:ext cx="62532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2743200" y="5365800"/>
              <a:ext cx="62568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 flipV="1">
              <a:off x="4648320" y="4602960"/>
              <a:ext cx="152280" cy="15228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122" y="0"/>
                  </a:moveTo>
                  <a:lnTo>
                    <a:pt x="61" y="145"/>
                  </a:lnTo>
                  <a:lnTo>
                    <a:pt x="0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172200" y="4602960"/>
              <a:ext cx="152640" cy="15228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122" y="0"/>
                  </a:moveTo>
                  <a:lnTo>
                    <a:pt x="61" y="145"/>
                  </a:lnTo>
                  <a:lnTo>
                    <a:pt x="0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启用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IPX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路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px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封装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px encapsulation sap/sn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配置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IPX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网络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px network </a:t>
            </a:r>
            <a:r>
              <a:rPr b="1" i="1" lang="zh-CN" sz="2800" spc="-1" strike="noStrike">
                <a:solidFill>
                  <a:srgbClr val="000000"/>
                </a:solidFill>
                <a:latin typeface="Courier New"/>
              </a:rPr>
              <a:t>network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配置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IPX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节点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px routing </a:t>
            </a:r>
            <a:r>
              <a:rPr b="1" i="1" lang="zh-CN" sz="2800" spc="-1" strike="noStrike">
                <a:solidFill>
                  <a:srgbClr val="000000"/>
                </a:solidFill>
                <a:latin typeface="Courier New"/>
              </a:rPr>
              <a:t>H.H.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多条路径分担负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ipx max-paths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调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149480" y="2171880"/>
            <a:ext cx="7346880" cy="3794040"/>
            <a:chOff x="1149480" y="2171880"/>
            <a:chExt cx="7346880" cy="3794040"/>
          </a:xfrm>
        </p:grpSpPr>
        <p:sp>
          <p:nvSpPr>
            <p:cNvPr id="607" name=""/>
            <p:cNvSpPr/>
            <p:nvPr/>
          </p:nvSpPr>
          <p:spPr>
            <a:xfrm>
              <a:off x="1219320" y="2209680"/>
              <a:ext cx="7277040" cy="375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97000" y="2171880"/>
              <a:ext cx="3633840" cy="52848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74040" y="2254320"/>
              <a:ext cx="1976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显示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IPX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状态数据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97000" y="2171880"/>
              <a:ext cx="3633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30840" y="2171880"/>
              <a:ext cx="1440" cy="528480"/>
            </a:xfrm>
            <a:prstGeom prst="line">
              <a:avLst/>
            </a:prstGeom>
            <a:ln w="9360">
              <a:solidFill>
                <a:srgbClr val="002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197000" y="2700360"/>
              <a:ext cx="3633840" cy="1440"/>
            </a:xfrm>
            <a:prstGeom prst="line">
              <a:avLst/>
            </a:prstGeom>
            <a:ln w="36360">
              <a:solidFill>
                <a:srgbClr val="002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97000" y="2171880"/>
              <a:ext cx="144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30840" y="2171880"/>
              <a:ext cx="3633840" cy="52848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11080" y="2254320"/>
              <a:ext cx="1071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调试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IPX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30840" y="2171880"/>
              <a:ext cx="3633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64680" y="2171880"/>
              <a:ext cx="144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830840" y="2700360"/>
              <a:ext cx="3633840" cy="1440"/>
            </a:xfrm>
            <a:prstGeom prst="line">
              <a:avLst/>
            </a:prstGeom>
            <a:ln w="36360">
              <a:solidFill>
                <a:srgbClr val="002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6920" y="2209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97000" y="2700360"/>
              <a:ext cx="3633840" cy="32162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49480" y="2787480"/>
              <a:ext cx="3519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show ipx interfac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0160" y="3562200"/>
              <a:ext cx="2997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show ipx route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9640" y="4332240"/>
              <a:ext cx="3304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show ipx servers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63880" y="5105520"/>
              <a:ext cx="3111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show ipx traffic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97000" y="2700360"/>
              <a:ext cx="36338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30840" y="2700360"/>
              <a:ext cx="1440" cy="3216240"/>
            </a:xfrm>
            <a:prstGeom prst="line">
              <a:avLst/>
            </a:prstGeom>
            <a:ln w="9360">
              <a:solidFill>
                <a:srgbClr val="002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197000" y="5916600"/>
              <a:ext cx="3633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7000" y="2700360"/>
              <a:ext cx="1440" cy="32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30840" y="2700360"/>
              <a:ext cx="3633840" cy="32162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89440" y="2787480"/>
              <a:ext cx="3516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debug ipx routing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13200" y="3562200"/>
              <a:ext cx="2821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r>
                <a:rPr b="1" lang="zh-CN" sz="2700" spc="-1" strike="noStrike">
                  <a:solidFill>
                    <a:srgbClr val="000000"/>
                  </a:solidFill>
                  <a:latin typeface="Gill Sans"/>
                </a:rPr>
                <a:t>debug ipx sap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30840" y="2700360"/>
              <a:ext cx="36338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64680" y="2700360"/>
              <a:ext cx="1440" cy="32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830840" y="5916600"/>
              <a:ext cx="3633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7692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串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启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P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连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何使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命令，检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通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以太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启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P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更改封装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实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IPX route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的后两个参数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638680" y="2819520"/>
            <a:ext cx="2895480" cy="1371240"/>
            <a:chOff x="5638680" y="2819520"/>
            <a:chExt cx="2895480" cy="1371240"/>
          </a:xfrm>
        </p:grpSpPr>
        <p:sp>
          <p:nvSpPr>
            <p:cNvPr id="108" name=""/>
            <p:cNvSpPr/>
            <p:nvPr/>
          </p:nvSpPr>
          <p:spPr>
            <a:xfrm>
              <a:off x="5638680" y="3033720"/>
              <a:ext cx="2895480" cy="11570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11000" y="3124800"/>
              <a:ext cx="39960" cy="80280"/>
            </a:xfrm>
            <a:custGeom>
              <a:avLst/>
              <a:gdLst/>
              <a:ahLst/>
              <a:rect l="l" t="t" r="r" b="b"/>
              <a:pathLst>
                <a:path w="284" h="969">
                  <a:moveTo>
                    <a:pt x="284" y="0"/>
                  </a:moveTo>
                  <a:lnTo>
                    <a:pt x="70" y="780"/>
                  </a:lnTo>
                  <a:lnTo>
                    <a:pt x="55" y="828"/>
                  </a:lnTo>
                  <a:lnTo>
                    <a:pt x="39" y="875"/>
                  </a:lnTo>
                  <a:lnTo>
                    <a:pt x="21" y="922"/>
                  </a:lnTo>
                  <a:lnTo>
                    <a:pt x="0" y="969"/>
                  </a:lnTo>
                  <a:lnTo>
                    <a:pt x="212" y="194"/>
                  </a:lnTo>
                  <a:lnTo>
                    <a:pt x="234" y="147"/>
                  </a:lnTo>
                  <a:lnTo>
                    <a:pt x="252" y="99"/>
                  </a:lnTo>
                  <a:lnTo>
                    <a:pt x="270" y="5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96600" y="3140280"/>
              <a:ext cx="43920" cy="80280"/>
            </a:xfrm>
            <a:custGeom>
              <a:avLst/>
              <a:gdLst/>
              <a:ahLst/>
              <a:rect l="l" t="t" r="r" b="b"/>
              <a:pathLst>
                <a:path w="311" h="952">
                  <a:moveTo>
                    <a:pt x="311" y="0"/>
                  </a:moveTo>
                  <a:lnTo>
                    <a:pt x="99" y="775"/>
                  </a:lnTo>
                  <a:lnTo>
                    <a:pt x="78" y="819"/>
                  </a:lnTo>
                  <a:lnTo>
                    <a:pt x="53" y="864"/>
                  </a:lnTo>
                  <a:lnTo>
                    <a:pt x="27" y="908"/>
                  </a:lnTo>
                  <a:lnTo>
                    <a:pt x="0" y="952"/>
                  </a:lnTo>
                  <a:lnTo>
                    <a:pt x="210" y="181"/>
                  </a:lnTo>
                  <a:lnTo>
                    <a:pt x="238" y="137"/>
                  </a:lnTo>
                  <a:lnTo>
                    <a:pt x="264" y="92"/>
                  </a:lnTo>
                  <a:lnTo>
                    <a:pt x="289" y="47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78600" y="3156120"/>
              <a:ext cx="48240" cy="76680"/>
            </a:xfrm>
            <a:custGeom>
              <a:avLst/>
              <a:gdLst/>
              <a:ahLst/>
              <a:rect l="l" t="t" r="r" b="b"/>
              <a:pathLst>
                <a:path w="338" h="935">
                  <a:moveTo>
                    <a:pt x="338" y="0"/>
                  </a:moveTo>
                  <a:lnTo>
                    <a:pt x="128" y="771"/>
                  </a:lnTo>
                  <a:lnTo>
                    <a:pt x="99" y="813"/>
                  </a:lnTo>
                  <a:lnTo>
                    <a:pt x="68" y="855"/>
                  </a:lnTo>
                  <a:lnTo>
                    <a:pt x="35" y="896"/>
                  </a:lnTo>
                  <a:lnTo>
                    <a:pt x="0" y="935"/>
                  </a:lnTo>
                  <a:lnTo>
                    <a:pt x="207" y="170"/>
                  </a:lnTo>
                  <a:lnTo>
                    <a:pt x="242" y="128"/>
                  </a:lnTo>
                  <a:lnTo>
                    <a:pt x="275" y="86"/>
                  </a:lnTo>
                  <a:lnTo>
                    <a:pt x="307" y="44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cbe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62400" y="3169800"/>
              <a:ext cx="43920" cy="73440"/>
            </a:xfrm>
            <a:custGeom>
              <a:avLst/>
              <a:gdLst/>
              <a:ahLst/>
              <a:rect l="l" t="t" r="r" b="b"/>
              <a:pathLst>
                <a:path w="318" h="881">
                  <a:moveTo>
                    <a:pt x="318" y="0"/>
                  </a:moveTo>
                  <a:lnTo>
                    <a:pt x="111" y="765"/>
                  </a:lnTo>
                  <a:lnTo>
                    <a:pt x="76" y="805"/>
                  </a:lnTo>
                  <a:lnTo>
                    <a:pt x="39" y="843"/>
                  </a:lnTo>
                  <a:lnTo>
                    <a:pt x="0" y="881"/>
                  </a:lnTo>
                  <a:lnTo>
                    <a:pt x="202" y="117"/>
                  </a:lnTo>
                  <a:lnTo>
                    <a:pt x="243" y="79"/>
                  </a:lnTo>
                  <a:lnTo>
                    <a:pt x="281" y="39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44400" y="3178800"/>
              <a:ext cx="46440" cy="73440"/>
            </a:xfrm>
            <a:custGeom>
              <a:avLst/>
              <a:gdLst/>
              <a:ahLst/>
              <a:rect l="l" t="t" r="r" b="b"/>
              <a:pathLst>
                <a:path w="330" h="871">
                  <a:moveTo>
                    <a:pt x="330" y="0"/>
                  </a:moveTo>
                  <a:lnTo>
                    <a:pt x="128" y="764"/>
                  </a:lnTo>
                  <a:lnTo>
                    <a:pt x="87" y="800"/>
                  </a:lnTo>
                  <a:lnTo>
                    <a:pt x="45" y="836"/>
                  </a:lnTo>
                  <a:lnTo>
                    <a:pt x="0" y="871"/>
                  </a:lnTo>
                  <a:lnTo>
                    <a:pt x="200" y="111"/>
                  </a:lnTo>
                  <a:lnTo>
                    <a:pt x="245" y="74"/>
                  </a:lnTo>
                  <a:lnTo>
                    <a:pt x="289" y="38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15400" y="3376080"/>
              <a:ext cx="45720" cy="73080"/>
            </a:xfrm>
            <a:custGeom>
              <a:avLst/>
              <a:gdLst/>
              <a:ahLst/>
              <a:rect l="l" t="t" r="r" b="b"/>
              <a:pathLst>
                <a:path w="317" h="895">
                  <a:moveTo>
                    <a:pt x="317" y="0"/>
                  </a:moveTo>
                  <a:lnTo>
                    <a:pt x="79" y="703"/>
                  </a:lnTo>
                  <a:lnTo>
                    <a:pt x="42" y="800"/>
                  </a:lnTo>
                  <a:lnTo>
                    <a:pt x="0" y="895"/>
                  </a:lnTo>
                  <a:lnTo>
                    <a:pt x="236" y="197"/>
                  </a:lnTo>
                  <a:lnTo>
                    <a:pt x="279" y="10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01000" y="3391560"/>
              <a:ext cx="48240" cy="73440"/>
            </a:xfrm>
            <a:custGeom>
              <a:avLst/>
              <a:gdLst/>
              <a:ahLst/>
              <a:rect l="l" t="t" r="r" b="b"/>
              <a:pathLst>
                <a:path w="334" h="882">
                  <a:moveTo>
                    <a:pt x="334" y="0"/>
                  </a:moveTo>
                  <a:lnTo>
                    <a:pt x="98" y="698"/>
                  </a:lnTo>
                  <a:lnTo>
                    <a:pt x="51" y="791"/>
                  </a:lnTo>
                  <a:lnTo>
                    <a:pt x="0" y="882"/>
                  </a:lnTo>
                  <a:lnTo>
                    <a:pt x="234" y="188"/>
                  </a:lnTo>
                  <a:lnTo>
                    <a:pt x="286" y="9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85160" y="3407400"/>
              <a:ext cx="50040" cy="71280"/>
            </a:xfrm>
            <a:custGeom>
              <a:avLst/>
              <a:gdLst/>
              <a:ahLst/>
              <a:rect l="l" t="t" r="r" b="b"/>
              <a:pathLst>
                <a:path w="348" h="869">
                  <a:moveTo>
                    <a:pt x="348" y="0"/>
                  </a:moveTo>
                  <a:lnTo>
                    <a:pt x="114" y="694"/>
                  </a:lnTo>
                  <a:lnTo>
                    <a:pt x="60" y="783"/>
                  </a:lnTo>
                  <a:lnTo>
                    <a:pt x="0" y="869"/>
                  </a:lnTo>
                  <a:lnTo>
                    <a:pt x="230" y="181"/>
                  </a:lnTo>
                  <a:lnTo>
                    <a:pt x="291" y="92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66800" y="3423240"/>
              <a:ext cx="52200" cy="69480"/>
            </a:xfrm>
            <a:custGeom>
              <a:avLst/>
              <a:gdLst/>
              <a:ahLst/>
              <a:rect l="l" t="t" r="r" b="b"/>
              <a:pathLst>
                <a:path w="361" h="854">
                  <a:moveTo>
                    <a:pt x="361" y="0"/>
                  </a:moveTo>
                  <a:lnTo>
                    <a:pt x="131" y="688"/>
                  </a:lnTo>
                  <a:lnTo>
                    <a:pt x="67" y="771"/>
                  </a:lnTo>
                  <a:lnTo>
                    <a:pt x="0" y="854"/>
                  </a:lnTo>
                  <a:lnTo>
                    <a:pt x="226" y="169"/>
                  </a:lnTo>
                  <a:lnTo>
                    <a:pt x="296" y="85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47000" y="3436920"/>
              <a:ext cx="52200" cy="69480"/>
            </a:xfrm>
            <a:custGeom>
              <a:avLst/>
              <a:gdLst/>
              <a:ahLst/>
              <a:rect l="l" t="t" r="r" b="b"/>
              <a:pathLst>
                <a:path w="371" h="841">
                  <a:moveTo>
                    <a:pt x="371" y="0"/>
                  </a:moveTo>
                  <a:lnTo>
                    <a:pt x="145" y="685"/>
                  </a:lnTo>
                  <a:lnTo>
                    <a:pt x="75" y="764"/>
                  </a:lnTo>
                  <a:lnTo>
                    <a:pt x="0" y="841"/>
                  </a:lnTo>
                  <a:lnTo>
                    <a:pt x="224" y="161"/>
                  </a:lnTo>
                  <a:lnTo>
                    <a:pt x="300" y="8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2880" y="3449160"/>
              <a:ext cx="54000" cy="69480"/>
            </a:xfrm>
            <a:custGeom>
              <a:avLst/>
              <a:gdLst/>
              <a:ahLst/>
              <a:rect l="l" t="t" r="r" b="b"/>
              <a:pathLst>
                <a:path w="381" h="826">
                  <a:moveTo>
                    <a:pt x="381" y="0"/>
                  </a:moveTo>
                  <a:lnTo>
                    <a:pt x="157" y="680"/>
                  </a:lnTo>
                  <a:lnTo>
                    <a:pt x="80" y="754"/>
                  </a:lnTo>
                  <a:lnTo>
                    <a:pt x="0" y="826"/>
                  </a:lnTo>
                  <a:lnTo>
                    <a:pt x="219" y="150"/>
                  </a:lnTo>
                  <a:lnTo>
                    <a:pt x="301" y="76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11000" y="3461760"/>
              <a:ext cx="43920" cy="62640"/>
            </a:xfrm>
            <a:custGeom>
              <a:avLst/>
              <a:gdLst/>
              <a:ahLst/>
              <a:rect l="l" t="t" r="r" b="b"/>
              <a:pathLst>
                <a:path w="301" h="744">
                  <a:moveTo>
                    <a:pt x="301" y="0"/>
                  </a:moveTo>
                  <a:lnTo>
                    <a:pt x="82" y="676"/>
                  </a:lnTo>
                  <a:lnTo>
                    <a:pt x="0" y="744"/>
                  </a:lnTo>
                  <a:lnTo>
                    <a:pt x="216" y="7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98400" y="3468240"/>
              <a:ext cx="43920" cy="61200"/>
            </a:xfrm>
            <a:custGeom>
              <a:avLst/>
              <a:gdLst/>
              <a:ahLst/>
              <a:rect l="l" t="t" r="r" b="b"/>
              <a:pathLst>
                <a:path w="301" h="740">
                  <a:moveTo>
                    <a:pt x="301" y="0"/>
                  </a:moveTo>
                  <a:lnTo>
                    <a:pt x="85" y="673"/>
                  </a:lnTo>
                  <a:lnTo>
                    <a:pt x="0" y="740"/>
                  </a:lnTo>
                  <a:lnTo>
                    <a:pt x="213" y="6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86520" y="3474000"/>
              <a:ext cx="43920" cy="60840"/>
            </a:xfrm>
            <a:custGeom>
              <a:avLst/>
              <a:gdLst/>
              <a:ahLst/>
              <a:rect l="l" t="t" r="r" b="b"/>
              <a:pathLst>
                <a:path w="301" h="737">
                  <a:moveTo>
                    <a:pt x="301" y="0"/>
                  </a:moveTo>
                  <a:lnTo>
                    <a:pt x="88" y="672"/>
                  </a:lnTo>
                  <a:lnTo>
                    <a:pt x="0" y="737"/>
                  </a:lnTo>
                  <a:lnTo>
                    <a:pt x="211" y="66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74280" y="3479040"/>
              <a:ext cx="42120" cy="60840"/>
            </a:xfrm>
            <a:custGeom>
              <a:avLst/>
              <a:gdLst/>
              <a:ahLst/>
              <a:rect l="l" t="t" r="r" b="b"/>
              <a:pathLst>
                <a:path w="300" h="731">
                  <a:moveTo>
                    <a:pt x="300" y="0"/>
                  </a:moveTo>
                  <a:lnTo>
                    <a:pt x="89" y="671"/>
                  </a:lnTo>
                  <a:lnTo>
                    <a:pt x="0" y="731"/>
                  </a:lnTo>
                  <a:lnTo>
                    <a:pt x="208" y="6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f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60240" y="3484080"/>
              <a:ext cx="43920" cy="60840"/>
            </a:xfrm>
            <a:custGeom>
              <a:avLst/>
              <a:gdLst/>
              <a:ahLst/>
              <a:rect l="l" t="t" r="r" b="b"/>
              <a:pathLst>
                <a:path w="300" h="728">
                  <a:moveTo>
                    <a:pt x="300" y="0"/>
                  </a:moveTo>
                  <a:lnTo>
                    <a:pt x="92" y="669"/>
                  </a:lnTo>
                  <a:lnTo>
                    <a:pt x="0" y="728"/>
                  </a:lnTo>
                  <a:lnTo>
                    <a:pt x="206" y="6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8360" y="3489120"/>
              <a:ext cx="42120" cy="59040"/>
            </a:xfrm>
            <a:custGeom>
              <a:avLst/>
              <a:gdLst/>
              <a:ahLst/>
              <a:rect l="l" t="t" r="r" b="b"/>
              <a:pathLst>
                <a:path w="299" h="723">
                  <a:moveTo>
                    <a:pt x="299" y="0"/>
                  </a:moveTo>
                  <a:lnTo>
                    <a:pt x="93" y="668"/>
                  </a:lnTo>
                  <a:lnTo>
                    <a:pt x="0" y="723"/>
                  </a:lnTo>
                  <a:lnTo>
                    <a:pt x="203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34320" y="3494880"/>
              <a:ext cx="42120" cy="58680"/>
            </a:xfrm>
            <a:custGeom>
              <a:avLst/>
              <a:gdLst/>
              <a:ahLst/>
              <a:rect l="l" t="t" r="r" b="b"/>
              <a:pathLst>
                <a:path w="298" h="720">
                  <a:moveTo>
                    <a:pt x="298" y="0"/>
                  </a:moveTo>
                  <a:lnTo>
                    <a:pt x="95" y="666"/>
                  </a:lnTo>
                  <a:lnTo>
                    <a:pt x="0" y="720"/>
                  </a:lnTo>
                  <a:lnTo>
                    <a:pt x="200" y="5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20280" y="3498120"/>
              <a:ext cx="42120" cy="59040"/>
            </a:xfrm>
            <a:custGeom>
              <a:avLst/>
              <a:gdLst/>
              <a:ahLst/>
              <a:rect l="l" t="t" r="r" b="b"/>
              <a:pathLst>
                <a:path w="297" h="715">
                  <a:moveTo>
                    <a:pt x="297" y="0"/>
                  </a:moveTo>
                  <a:lnTo>
                    <a:pt x="97" y="666"/>
                  </a:lnTo>
                  <a:lnTo>
                    <a:pt x="0" y="715"/>
                  </a:lnTo>
                  <a:lnTo>
                    <a:pt x="198" y="51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05880" y="3503520"/>
              <a:ext cx="42120" cy="59040"/>
            </a:xfrm>
            <a:custGeom>
              <a:avLst/>
              <a:gdLst/>
              <a:ahLst/>
              <a:rect l="l" t="t" r="r" b="b"/>
              <a:pathLst>
                <a:path w="295" h="711">
                  <a:moveTo>
                    <a:pt x="295" y="0"/>
                  </a:moveTo>
                  <a:lnTo>
                    <a:pt x="97" y="664"/>
                  </a:lnTo>
                  <a:lnTo>
                    <a:pt x="0" y="711"/>
                  </a:lnTo>
                  <a:lnTo>
                    <a:pt x="195" y="4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91840" y="3506760"/>
              <a:ext cx="42120" cy="59040"/>
            </a:xfrm>
            <a:custGeom>
              <a:avLst/>
              <a:gdLst/>
              <a:ahLst/>
              <a:rect l="l" t="t" r="r" b="b"/>
              <a:pathLst>
                <a:path w="292" h="706">
                  <a:moveTo>
                    <a:pt x="292" y="0"/>
                  </a:moveTo>
                  <a:lnTo>
                    <a:pt x="97" y="662"/>
                  </a:lnTo>
                  <a:lnTo>
                    <a:pt x="0" y="706"/>
                  </a:lnTo>
                  <a:lnTo>
                    <a:pt x="191" y="45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8160" y="3510360"/>
              <a:ext cx="41760" cy="59040"/>
            </a:xfrm>
            <a:custGeom>
              <a:avLst/>
              <a:gdLst/>
              <a:ahLst/>
              <a:rect l="l" t="t" r="r" b="b"/>
              <a:pathLst>
                <a:path w="291" h="702">
                  <a:moveTo>
                    <a:pt x="291" y="0"/>
                  </a:moveTo>
                  <a:lnTo>
                    <a:pt x="100" y="661"/>
                  </a:lnTo>
                  <a:lnTo>
                    <a:pt x="0" y="702"/>
                  </a:lnTo>
                  <a:lnTo>
                    <a:pt x="189" y="4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9a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49720" y="3513960"/>
              <a:ext cx="54000" cy="60840"/>
            </a:xfrm>
            <a:custGeom>
              <a:avLst/>
              <a:gdLst/>
              <a:ahLst/>
              <a:rect l="l" t="t" r="r" b="b"/>
              <a:pathLst>
                <a:path w="388" h="732">
                  <a:moveTo>
                    <a:pt x="388" y="0"/>
                  </a:moveTo>
                  <a:lnTo>
                    <a:pt x="199" y="660"/>
                  </a:lnTo>
                  <a:lnTo>
                    <a:pt x="100" y="697"/>
                  </a:lnTo>
                  <a:lnTo>
                    <a:pt x="0" y="732"/>
                  </a:lnTo>
                  <a:lnTo>
                    <a:pt x="183" y="73"/>
                  </a:lnTo>
                  <a:lnTo>
                    <a:pt x="286" y="38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8e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9840" y="3520800"/>
              <a:ext cx="55800" cy="59040"/>
            </a:xfrm>
            <a:custGeom>
              <a:avLst/>
              <a:gdLst/>
              <a:ahLst/>
              <a:rect l="l" t="t" r="r" b="b"/>
              <a:pathLst>
                <a:path w="385" h="716">
                  <a:moveTo>
                    <a:pt x="385" y="0"/>
                  </a:moveTo>
                  <a:lnTo>
                    <a:pt x="202" y="659"/>
                  </a:lnTo>
                  <a:lnTo>
                    <a:pt x="168" y="669"/>
                  </a:lnTo>
                  <a:lnTo>
                    <a:pt x="134" y="679"/>
                  </a:lnTo>
                  <a:lnTo>
                    <a:pt x="102" y="689"/>
                  </a:lnTo>
                  <a:lnTo>
                    <a:pt x="68" y="698"/>
                  </a:lnTo>
                  <a:lnTo>
                    <a:pt x="34" y="708"/>
                  </a:lnTo>
                  <a:lnTo>
                    <a:pt x="0" y="716"/>
                  </a:lnTo>
                  <a:lnTo>
                    <a:pt x="177" y="60"/>
                  </a:lnTo>
                  <a:lnTo>
                    <a:pt x="212" y="50"/>
                  </a:lnTo>
                  <a:lnTo>
                    <a:pt x="247" y="41"/>
                  </a:lnTo>
                  <a:lnTo>
                    <a:pt x="281" y="32"/>
                  </a:lnTo>
                  <a:lnTo>
                    <a:pt x="316" y="21"/>
                  </a:lnTo>
                  <a:lnTo>
                    <a:pt x="351" y="12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1400" y="3526200"/>
              <a:ext cx="54000" cy="57240"/>
            </a:xfrm>
            <a:custGeom>
              <a:avLst/>
              <a:gdLst/>
              <a:ahLst/>
              <a:rect l="l" t="t" r="r" b="b"/>
              <a:pathLst>
                <a:path w="379" h="702">
                  <a:moveTo>
                    <a:pt x="379" y="0"/>
                  </a:moveTo>
                  <a:lnTo>
                    <a:pt x="202" y="656"/>
                  </a:lnTo>
                  <a:lnTo>
                    <a:pt x="169" y="664"/>
                  </a:lnTo>
                  <a:lnTo>
                    <a:pt x="135" y="673"/>
                  </a:lnTo>
                  <a:lnTo>
                    <a:pt x="102" y="680"/>
                  </a:lnTo>
                  <a:lnTo>
                    <a:pt x="68" y="688"/>
                  </a:lnTo>
                  <a:lnTo>
                    <a:pt x="34" y="694"/>
                  </a:lnTo>
                  <a:lnTo>
                    <a:pt x="0" y="702"/>
                  </a:lnTo>
                  <a:lnTo>
                    <a:pt x="172" y="46"/>
                  </a:lnTo>
                  <a:lnTo>
                    <a:pt x="207" y="39"/>
                  </a:lnTo>
                  <a:lnTo>
                    <a:pt x="241" y="32"/>
                  </a:lnTo>
                  <a:lnTo>
                    <a:pt x="276" y="24"/>
                  </a:lnTo>
                  <a:lnTo>
                    <a:pt x="311" y="17"/>
                  </a:lnTo>
                  <a:lnTo>
                    <a:pt x="346" y="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7f9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1520" y="3529800"/>
              <a:ext cx="54000" cy="57240"/>
            </a:xfrm>
            <a:custGeom>
              <a:avLst/>
              <a:gdLst/>
              <a:ahLst/>
              <a:rect l="l" t="t" r="r" b="b"/>
              <a:pathLst>
                <a:path w="375" h="689">
                  <a:moveTo>
                    <a:pt x="375" y="0"/>
                  </a:moveTo>
                  <a:lnTo>
                    <a:pt x="203" y="656"/>
                  </a:lnTo>
                  <a:lnTo>
                    <a:pt x="169" y="662"/>
                  </a:lnTo>
                  <a:lnTo>
                    <a:pt x="135" y="668"/>
                  </a:lnTo>
                  <a:lnTo>
                    <a:pt x="102" y="673"/>
                  </a:lnTo>
                  <a:lnTo>
                    <a:pt x="68" y="680"/>
                  </a:lnTo>
                  <a:lnTo>
                    <a:pt x="34" y="685"/>
                  </a:lnTo>
                  <a:lnTo>
                    <a:pt x="0" y="689"/>
                  </a:lnTo>
                  <a:lnTo>
                    <a:pt x="165" y="34"/>
                  </a:lnTo>
                  <a:lnTo>
                    <a:pt x="200" y="30"/>
                  </a:lnTo>
                  <a:lnTo>
                    <a:pt x="236" y="25"/>
                  </a:lnTo>
                  <a:lnTo>
                    <a:pt x="271" y="18"/>
                  </a:lnTo>
                  <a:lnTo>
                    <a:pt x="306" y="13"/>
                  </a:lnTo>
                  <a:lnTo>
                    <a:pt x="340" y="7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778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1280" y="3531240"/>
              <a:ext cx="54000" cy="57600"/>
            </a:xfrm>
            <a:custGeom>
              <a:avLst/>
              <a:gdLst/>
              <a:ahLst/>
              <a:rect l="l" t="t" r="r" b="b"/>
              <a:pathLst>
                <a:path w="371" h="677">
                  <a:moveTo>
                    <a:pt x="371" y="0"/>
                  </a:moveTo>
                  <a:lnTo>
                    <a:pt x="206" y="655"/>
                  </a:lnTo>
                  <a:lnTo>
                    <a:pt x="171" y="659"/>
                  </a:lnTo>
                  <a:lnTo>
                    <a:pt x="137" y="663"/>
                  </a:lnTo>
                  <a:lnTo>
                    <a:pt x="103" y="668"/>
                  </a:lnTo>
                  <a:lnTo>
                    <a:pt x="69" y="671"/>
                  </a:lnTo>
                  <a:lnTo>
                    <a:pt x="34" y="674"/>
                  </a:lnTo>
                  <a:lnTo>
                    <a:pt x="0" y="677"/>
                  </a:lnTo>
                  <a:lnTo>
                    <a:pt x="159" y="23"/>
                  </a:lnTo>
                  <a:lnTo>
                    <a:pt x="195" y="20"/>
                  </a:lnTo>
                  <a:lnTo>
                    <a:pt x="231" y="17"/>
                  </a:lnTo>
                  <a:lnTo>
                    <a:pt x="265" y="14"/>
                  </a:lnTo>
                  <a:lnTo>
                    <a:pt x="301" y="9"/>
                  </a:lnTo>
                  <a:lnTo>
                    <a:pt x="336" y="5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03200" y="3533040"/>
              <a:ext cx="52200" cy="55440"/>
            </a:xfrm>
            <a:custGeom>
              <a:avLst/>
              <a:gdLst/>
              <a:ahLst/>
              <a:rect l="l" t="t" r="r" b="b"/>
              <a:pathLst>
                <a:path w="368" h="663">
                  <a:moveTo>
                    <a:pt x="368" y="0"/>
                  </a:moveTo>
                  <a:lnTo>
                    <a:pt x="209" y="654"/>
                  </a:lnTo>
                  <a:lnTo>
                    <a:pt x="174" y="656"/>
                  </a:lnTo>
                  <a:lnTo>
                    <a:pt x="139" y="658"/>
                  </a:lnTo>
                  <a:lnTo>
                    <a:pt x="104" y="660"/>
                  </a:lnTo>
                  <a:lnTo>
                    <a:pt x="69" y="661"/>
                  </a:lnTo>
                  <a:lnTo>
                    <a:pt x="35" y="662"/>
                  </a:lnTo>
                  <a:lnTo>
                    <a:pt x="0" y="663"/>
                  </a:lnTo>
                  <a:lnTo>
                    <a:pt x="152" y="9"/>
                  </a:lnTo>
                  <a:lnTo>
                    <a:pt x="189" y="8"/>
                  </a:lnTo>
                  <a:lnTo>
                    <a:pt x="225" y="7"/>
                  </a:lnTo>
                  <a:lnTo>
                    <a:pt x="261" y="6"/>
                  </a:lnTo>
                  <a:lnTo>
                    <a:pt x="297" y="4"/>
                  </a:lnTo>
                  <a:lnTo>
                    <a:pt x="333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6d7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91320" y="3534840"/>
              <a:ext cx="31680" cy="54000"/>
            </a:xfrm>
            <a:custGeom>
              <a:avLst/>
              <a:gdLst/>
              <a:ahLst/>
              <a:rect l="l" t="t" r="r" b="b"/>
              <a:pathLst>
                <a:path w="223" h="654">
                  <a:moveTo>
                    <a:pt x="223" y="0"/>
                  </a:moveTo>
                  <a:lnTo>
                    <a:pt x="71" y="654"/>
                  </a:lnTo>
                  <a:lnTo>
                    <a:pt x="35" y="654"/>
                  </a:lnTo>
                  <a:lnTo>
                    <a:pt x="0" y="654"/>
                  </a:lnTo>
                  <a:lnTo>
                    <a:pt x="152" y="0"/>
                  </a:lnTo>
                  <a:lnTo>
                    <a:pt x="188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68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0880" y="3542040"/>
              <a:ext cx="30240" cy="69480"/>
            </a:xfrm>
            <a:custGeom>
              <a:avLst/>
              <a:gdLst/>
              <a:ahLst/>
              <a:rect l="l" t="t" r="r" b="b"/>
              <a:pathLst>
                <a:path w="201" h="832">
                  <a:moveTo>
                    <a:pt x="201" y="0"/>
                  </a:moveTo>
                  <a:lnTo>
                    <a:pt x="50" y="652"/>
                  </a:lnTo>
                  <a:lnTo>
                    <a:pt x="27" y="743"/>
                  </a:lnTo>
                  <a:lnTo>
                    <a:pt x="0" y="832"/>
                  </a:lnTo>
                  <a:lnTo>
                    <a:pt x="150" y="185"/>
                  </a:lnTo>
                  <a:lnTo>
                    <a:pt x="177" y="9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2960" y="3557520"/>
              <a:ext cx="29880" cy="68040"/>
            </a:xfrm>
            <a:custGeom>
              <a:avLst/>
              <a:gdLst/>
              <a:ahLst/>
              <a:rect l="l" t="t" r="r" b="b"/>
              <a:pathLst>
                <a:path w="210" h="821">
                  <a:moveTo>
                    <a:pt x="210" y="0"/>
                  </a:moveTo>
                  <a:lnTo>
                    <a:pt x="60" y="647"/>
                  </a:lnTo>
                  <a:lnTo>
                    <a:pt x="31" y="735"/>
                  </a:lnTo>
                  <a:lnTo>
                    <a:pt x="0" y="821"/>
                  </a:lnTo>
                  <a:lnTo>
                    <a:pt x="147" y="179"/>
                  </a:lnTo>
                  <a:lnTo>
                    <a:pt x="180" y="9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62880" y="3573360"/>
              <a:ext cx="31680" cy="66240"/>
            </a:xfrm>
            <a:custGeom>
              <a:avLst/>
              <a:gdLst/>
              <a:ahLst/>
              <a:rect l="l" t="t" r="r" b="b"/>
              <a:pathLst>
                <a:path w="219" h="810">
                  <a:moveTo>
                    <a:pt x="219" y="0"/>
                  </a:moveTo>
                  <a:lnTo>
                    <a:pt x="72" y="642"/>
                  </a:lnTo>
                  <a:lnTo>
                    <a:pt x="37" y="726"/>
                  </a:lnTo>
                  <a:lnTo>
                    <a:pt x="0" y="810"/>
                  </a:lnTo>
                  <a:lnTo>
                    <a:pt x="146" y="172"/>
                  </a:lnTo>
                  <a:lnTo>
                    <a:pt x="183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d6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50640" y="3587040"/>
              <a:ext cx="32040" cy="66240"/>
            </a:xfrm>
            <a:custGeom>
              <a:avLst/>
              <a:gdLst/>
              <a:ahLst/>
              <a:rect l="l" t="t" r="r" b="b"/>
              <a:pathLst>
                <a:path w="226" h="800">
                  <a:moveTo>
                    <a:pt x="226" y="0"/>
                  </a:moveTo>
                  <a:lnTo>
                    <a:pt x="80" y="638"/>
                  </a:lnTo>
                  <a:lnTo>
                    <a:pt x="41" y="720"/>
                  </a:lnTo>
                  <a:lnTo>
                    <a:pt x="0" y="800"/>
                  </a:lnTo>
                  <a:lnTo>
                    <a:pt x="143" y="167"/>
                  </a:lnTo>
                  <a:lnTo>
                    <a:pt x="185" y="8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d3e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38760" y="3601440"/>
              <a:ext cx="31680" cy="64440"/>
            </a:xfrm>
            <a:custGeom>
              <a:avLst/>
              <a:gdLst/>
              <a:ahLst/>
              <a:rect l="l" t="t" r="r" b="b"/>
              <a:pathLst>
                <a:path w="233" h="788">
                  <a:moveTo>
                    <a:pt x="233" y="0"/>
                  </a:moveTo>
                  <a:lnTo>
                    <a:pt x="90" y="633"/>
                  </a:lnTo>
                  <a:lnTo>
                    <a:pt x="46" y="711"/>
                  </a:lnTo>
                  <a:lnTo>
                    <a:pt x="0" y="788"/>
                  </a:lnTo>
                  <a:lnTo>
                    <a:pt x="140" y="159"/>
                  </a:lnTo>
                  <a:lnTo>
                    <a:pt x="187" y="8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4720" y="3613320"/>
              <a:ext cx="34200" cy="66240"/>
            </a:xfrm>
            <a:custGeom>
              <a:avLst/>
              <a:gdLst/>
              <a:ahLst/>
              <a:rect l="l" t="t" r="r" b="b"/>
              <a:pathLst>
                <a:path w="240" h="780">
                  <a:moveTo>
                    <a:pt x="240" y="0"/>
                  </a:moveTo>
                  <a:lnTo>
                    <a:pt x="100" y="629"/>
                  </a:lnTo>
                  <a:lnTo>
                    <a:pt x="51" y="705"/>
                  </a:lnTo>
                  <a:lnTo>
                    <a:pt x="0" y="780"/>
                  </a:lnTo>
                  <a:lnTo>
                    <a:pt x="139" y="154"/>
                  </a:lnTo>
                  <a:lnTo>
                    <a:pt x="191" y="7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ee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8520" y="3627360"/>
              <a:ext cx="36000" cy="62280"/>
            </a:xfrm>
            <a:custGeom>
              <a:avLst/>
              <a:gdLst/>
              <a:ahLst/>
              <a:rect l="l" t="t" r="r" b="b"/>
              <a:pathLst>
                <a:path w="247" h="770">
                  <a:moveTo>
                    <a:pt x="247" y="0"/>
                  </a:moveTo>
                  <a:lnTo>
                    <a:pt x="108" y="626"/>
                  </a:lnTo>
                  <a:lnTo>
                    <a:pt x="56" y="698"/>
                  </a:lnTo>
                  <a:lnTo>
                    <a:pt x="0" y="770"/>
                  </a:lnTo>
                  <a:lnTo>
                    <a:pt x="136" y="148"/>
                  </a:lnTo>
                  <a:lnTo>
                    <a:pt x="192" y="7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92320" y="3639600"/>
              <a:ext cx="36360" cy="62280"/>
            </a:xfrm>
            <a:custGeom>
              <a:avLst/>
              <a:gdLst/>
              <a:ahLst/>
              <a:rect l="l" t="t" r="r" b="b"/>
              <a:pathLst>
                <a:path w="250" h="761">
                  <a:moveTo>
                    <a:pt x="250" y="0"/>
                  </a:moveTo>
                  <a:lnTo>
                    <a:pt x="114" y="622"/>
                  </a:lnTo>
                  <a:lnTo>
                    <a:pt x="58" y="692"/>
                  </a:lnTo>
                  <a:lnTo>
                    <a:pt x="0" y="761"/>
                  </a:lnTo>
                  <a:lnTo>
                    <a:pt x="131" y="143"/>
                  </a:lnTo>
                  <a:lnTo>
                    <a:pt x="191" y="7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c6e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74320" y="3651480"/>
              <a:ext cx="36000" cy="61200"/>
            </a:xfrm>
            <a:custGeom>
              <a:avLst/>
              <a:gdLst/>
              <a:ahLst/>
              <a:rect l="l" t="t" r="r" b="b"/>
              <a:pathLst>
                <a:path w="254" h="750">
                  <a:moveTo>
                    <a:pt x="254" y="0"/>
                  </a:moveTo>
                  <a:lnTo>
                    <a:pt x="123" y="618"/>
                  </a:lnTo>
                  <a:lnTo>
                    <a:pt x="62" y="684"/>
                  </a:lnTo>
                  <a:lnTo>
                    <a:pt x="0" y="750"/>
                  </a:lnTo>
                  <a:lnTo>
                    <a:pt x="128" y="136"/>
                  </a:lnTo>
                  <a:lnTo>
                    <a:pt x="191" y="6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c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56320" y="3662280"/>
              <a:ext cx="36000" cy="60840"/>
            </a:xfrm>
            <a:custGeom>
              <a:avLst/>
              <a:gdLst/>
              <a:ahLst/>
              <a:rect l="l" t="t" r="r" b="b"/>
              <a:pathLst>
                <a:path w="259" h="741">
                  <a:moveTo>
                    <a:pt x="259" y="0"/>
                  </a:moveTo>
                  <a:lnTo>
                    <a:pt x="131" y="614"/>
                  </a:lnTo>
                  <a:lnTo>
                    <a:pt x="66" y="678"/>
                  </a:lnTo>
                  <a:lnTo>
                    <a:pt x="0" y="741"/>
                  </a:lnTo>
                  <a:lnTo>
                    <a:pt x="124" y="131"/>
                  </a:lnTo>
                  <a:lnTo>
                    <a:pt x="192" y="66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e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36160" y="3672360"/>
              <a:ext cx="38160" cy="61200"/>
            </a:xfrm>
            <a:custGeom>
              <a:avLst/>
              <a:gdLst/>
              <a:ahLst/>
              <a:rect l="l" t="t" r="r" b="b"/>
              <a:pathLst>
                <a:path w="261" h="731">
                  <a:moveTo>
                    <a:pt x="261" y="0"/>
                  </a:moveTo>
                  <a:lnTo>
                    <a:pt x="137" y="610"/>
                  </a:lnTo>
                  <a:lnTo>
                    <a:pt x="70" y="671"/>
                  </a:lnTo>
                  <a:lnTo>
                    <a:pt x="0" y="731"/>
                  </a:lnTo>
                  <a:lnTo>
                    <a:pt x="120" y="124"/>
                  </a:lnTo>
                  <a:lnTo>
                    <a:pt x="192" y="62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9e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16000" y="3683160"/>
              <a:ext cx="36000" cy="60840"/>
            </a:xfrm>
            <a:custGeom>
              <a:avLst/>
              <a:gdLst/>
              <a:ahLst/>
              <a:rect l="l" t="t" r="r" b="b"/>
              <a:pathLst>
                <a:path w="264" h="722">
                  <a:moveTo>
                    <a:pt x="264" y="0"/>
                  </a:moveTo>
                  <a:lnTo>
                    <a:pt x="144" y="607"/>
                  </a:lnTo>
                  <a:lnTo>
                    <a:pt x="73" y="665"/>
                  </a:lnTo>
                  <a:lnTo>
                    <a:pt x="0" y="722"/>
                  </a:lnTo>
                  <a:lnTo>
                    <a:pt x="116" y="118"/>
                  </a:lnTo>
                  <a:lnTo>
                    <a:pt x="191" y="6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7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93680" y="3693600"/>
              <a:ext cx="38160" cy="59040"/>
            </a:xfrm>
            <a:custGeom>
              <a:avLst/>
              <a:gdLst/>
              <a:ahLst/>
              <a:rect l="l" t="t" r="r" b="b"/>
              <a:pathLst>
                <a:path w="265" h="715">
                  <a:moveTo>
                    <a:pt x="265" y="0"/>
                  </a:moveTo>
                  <a:lnTo>
                    <a:pt x="149" y="604"/>
                  </a:lnTo>
                  <a:lnTo>
                    <a:pt x="75" y="661"/>
                  </a:lnTo>
                  <a:lnTo>
                    <a:pt x="0" y="715"/>
                  </a:lnTo>
                  <a:lnTo>
                    <a:pt x="111" y="113"/>
                  </a:lnTo>
                  <a:lnTo>
                    <a:pt x="189" y="5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b3d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71720" y="3702240"/>
              <a:ext cx="38160" cy="59040"/>
            </a:xfrm>
            <a:custGeom>
              <a:avLst/>
              <a:gdLst/>
              <a:ahLst/>
              <a:rect l="l" t="t" r="r" b="b"/>
              <a:pathLst>
                <a:path w="266" h="706">
                  <a:moveTo>
                    <a:pt x="266" y="0"/>
                  </a:moveTo>
                  <a:lnTo>
                    <a:pt x="155" y="602"/>
                  </a:lnTo>
                  <a:lnTo>
                    <a:pt x="78" y="654"/>
                  </a:lnTo>
                  <a:lnTo>
                    <a:pt x="0" y="706"/>
                  </a:lnTo>
                  <a:lnTo>
                    <a:pt x="107" y="107"/>
                  </a:lnTo>
                  <a:lnTo>
                    <a:pt x="187" y="5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47600" y="3710880"/>
              <a:ext cx="39960" cy="59040"/>
            </a:xfrm>
            <a:custGeom>
              <a:avLst/>
              <a:gdLst/>
              <a:ahLst/>
              <a:rect l="l" t="t" r="r" b="b"/>
              <a:pathLst>
                <a:path w="267" h="698">
                  <a:moveTo>
                    <a:pt x="267" y="0"/>
                  </a:moveTo>
                  <a:lnTo>
                    <a:pt x="160" y="599"/>
                  </a:lnTo>
                  <a:lnTo>
                    <a:pt x="81" y="649"/>
                  </a:lnTo>
                  <a:lnTo>
                    <a:pt x="0" y="698"/>
                  </a:lnTo>
                  <a:lnTo>
                    <a:pt x="102" y="102"/>
                  </a:lnTo>
                  <a:lnTo>
                    <a:pt x="185" y="52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a9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37520" y="3719520"/>
              <a:ext cx="25920" cy="54000"/>
            </a:xfrm>
            <a:custGeom>
              <a:avLst/>
              <a:gdLst/>
              <a:ahLst/>
              <a:rect l="l" t="t" r="r" b="b"/>
              <a:pathLst>
                <a:path w="184" h="643">
                  <a:moveTo>
                    <a:pt x="184" y="0"/>
                  </a:moveTo>
                  <a:lnTo>
                    <a:pt x="82" y="596"/>
                  </a:lnTo>
                  <a:lnTo>
                    <a:pt x="0" y="643"/>
                  </a:lnTo>
                  <a:lnTo>
                    <a:pt x="100" y="4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6d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1600" y="3725280"/>
              <a:ext cx="39960" cy="55440"/>
            </a:xfrm>
            <a:custGeom>
              <a:avLst/>
              <a:gdLst/>
              <a:ahLst/>
              <a:rect l="l" t="t" r="r" b="b"/>
              <a:pathLst>
                <a:path w="272" h="683">
                  <a:moveTo>
                    <a:pt x="272" y="0"/>
                  </a:moveTo>
                  <a:lnTo>
                    <a:pt x="172" y="595"/>
                  </a:lnTo>
                  <a:lnTo>
                    <a:pt x="144" y="610"/>
                  </a:lnTo>
                  <a:lnTo>
                    <a:pt x="115" y="625"/>
                  </a:lnTo>
                  <a:lnTo>
                    <a:pt x="87" y="639"/>
                  </a:lnTo>
                  <a:lnTo>
                    <a:pt x="58" y="654"/>
                  </a:lnTo>
                  <a:lnTo>
                    <a:pt x="29" y="669"/>
                  </a:lnTo>
                  <a:lnTo>
                    <a:pt x="0" y="683"/>
                  </a:lnTo>
                  <a:lnTo>
                    <a:pt x="96" y="91"/>
                  </a:lnTo>
                  <a:lnTo>
                    <a:pt x="125" y="76"/>
                  </a:lnTo>
                  <a:lnTo>
                    <a:pt x="154" y="61"/>
                  </a:lnTo>
                  <a:lnTo>
                    <a:pt x="184" y="47"/>
                  </a:lnTo>
                  <a:lnTo>
                    <a:pt x="214" y="31"/>
                  </a:lnTo>
                  <a:lnTo>
                    <a:pt x="242" y="16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87480" y="3731760"/>
              <a:ext cx="37800" cy="55440"/>
            </a:xfrm>
            <a:custGeom>
              <a:avLst/>
              <a:gdLst/>
              <a:ahLst/>
              <a:rect l="l" t="t" r="r" b="b"/>
              <a:pathLst>
                <a:path w="270" h="674">
                  <a:moveTo>
                    <a:pt x="270" y="0"/>
                  </a:moveTo>
                  <a:lnTo>
                    <a:pt x="174" y="592"/>
                  </a:lnTo>
                  <a:lnTo>
                    <a:pt x="146" y="606"/>
                  </a:lnTo>
                  <a:lnTo>
                    <a:pt x="116" y="620"/>
                  </a:lnTo>
                  <a:lnTo>
                    <a:pt x="87" y="634"/>
                  </a:lnTo>
                  <a:lnTo>
                    <a:pt x="59" y="647"/>
                  </a:lnTo>
                  <a:lnTo>
                    <a:pt x="29" y="661"/>
                  </a:lnTo>
                  <a:lnTo>
                    <a:pt x="0" y="674"/>
                  </a:lnTo>
                  <a:lnTo>
                    <a:pt x="90" y="85"/>
                  </a:lnTo>
                  <a:lnTo>
                    <a:pt x="120" y="70"/>
                  </a:lnTo>
                  <a:lnTo>
                    <a:pt x="150" y="57"/>
                  </a:lnTo>
                  <a:lnTo>
                    <a:pt x="180" y="43"/>
                  </a:lnTo>
                  <a:lnTo>
                    <a:pt x="210" y="29"/>
                  </a:lnTo>
                  <a:lnTo>
                    <a:pt x="240" y="1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69120" y="3738960"/>
              <a:ext cx="29880" cy="54000"/>
            </a:xfrm>
            <a:custGeom>
              <a:avLst/>
              <a:gdLst/>
              <a:ahLst/>
              <a:rect l="l" t="t" r="r" b="b"/>
              <a:pathLst>
                <a:path w="208" h="643">
                  <a:moveTo>
                    <a:pt x="208" y="0"/>
                  </a:moveTo>
                  <a:lnTo>
                    <a:pt x="118" y="589"/>
                  </a:lnTo>
                  <a:lnTo>
                    <a:pt x="88" y="603"/>
                  </a:lnTo>
                  <a:lnTo>
                    <a:pt x="60" y="617"/>
                  </a:lnTo>
                  <a:lnTo>
                    <a:pt x="30" y="630"/>
                  </a:lnTo>
                  <a:lnTo>
                    <a:pt x="0" y="643"/>
                  </a:lnTo>
                  <a:lnTo>
                    <a:pt x="86" y="54"/>
                  </a:lnTo>
                  <a:lnTo>
                    <a:pt x="117" y="41"/>
                  </a:lnTo>
                  <a:lnTo>
                    <a:pt x="148" y="27"/>
                  </a:lnTo>
                  <a:lnTo>
                    <a:pt x="178" y="1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98c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41040" y="3742560"/>
              <a:ext cx="42120" cy="55440"/>
            </a:xfrm>
            <a:custGeom>
              <a:avLst/>
              <a:gdLst/>
              <a:ahLst/>
              <a:rect l="l" t="t" r="r" b="b"/>
              <a:pathLst>
                <a:path w="284" h="662">
                  <a:moveTo>
                    <a:pt x="284" y="0"/>
                  </a:moveTo>
                  <a:lnTo>
                    <a:pt x="198" y="589"/>
                  </a:lnTo>
                  <a:lnTo>
                    <a:pt x="132" y="615"/>
                  </a:lnTo>
                  <a:lnTo>
                    <a:pt x="66" y="639"/>
                  </a:lnTo>
                  <a:lnTo>
                    <a:pt x="0" y="662"/>
                  </a:lnTo>
                  <a:lnTo>
                    <a:pt x="80" y="76"/>
                  </a:lnTo>
                  <a:lnTo>
                    <a:pt x="149" y="52"/>
                  </a:lnTo>
                  <a:lnTo>
                    <a:pt x="217" y="2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91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12600" y="3749400"/>
              <a:ext cx="40320" cy="54000"/>
            </a:xfrm>
            <a:custGeom>
              <a:avLst/>
              <a:gdLst/>
              <a:ahLst/>
              <a:rect l="l" t="t" r="r" b="b"/>
              <a:pathLst>
                <a:path w="277" h="653">
                  <a:moveTo>
                    <a:pt x="277" y="0"/>
                  </a:moveTo>
                  <a:lnTo>
                    <a:pt x="197" y="586"/>
                  </a:lnTo>
                  <a:lnTo>
                    <a:pt x="132" y="609"/>
                  </a:lnTo>
                  <a:lnTo>
                    <a:pt x="66" y="631"/>
                  </a:lnTo>
                  <a:lnTo>
                    <a:pt x="0" y="653"/>
                  </a:lnTo>
                  <a:lnTo>
                    <a:pt x="75" y="68"/>
                  </a:lnTo>
                  <a:lnTo>
                    <a:pt x="142" y="46"/>
                  </a:lnTo>
                  <a:lnTo>
                    <a:pt x="210" y="24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8b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84880" y="3754800"/>
              <a:ext cx="39960" cy="53640"/>
            </a:xfrm>
            <a:custGeom>
              <a:avLst/>
              <a:gdLst/>
              <a:ahLst/>
              <a:rect l="l" t="t" r="r" b="b"/>
              <a:pathLst>
                <a:path w="272" h="642">
                  <a:moveTo>
                    <a:pt x="272" y="0"/>
                  </a:moveTo>
                  <a:lnTo>
                    <a:pt x="197" y="585"/>
                  </a:lnTo>
                  <a:lnTo>
                    <a:pt x="132" y="605"/>
                  </a:lnTo>
                  <a:lnTo>
                    <a:pt x="66" y="624"/>
                  </a:lnTo>
                  <a:lnTo>
                    <a:pt x="0" y="642"/>
                  </a:lnTo>
                  <a:lnTo>
                    <a:pt x="69" y="59"/>
                  </a:lnTo>
                  <a:lnTo>
                    <a:pt x="137" y="40"/>
                  </a:lnTo>
                  <a:lnTo>
                    <a:pt x="205" y="2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84a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56440" y="3759840"/>
              <a:ext cx="38160" cy="52200"/>
            </a:xfrm>
            <a:custGeom>
              <a:avLst/>
              <a:gdLst/>
              <a:ahLst/>
              <a:rect l="l" t="t" r="r" b="b"/>
              <a:pathLst>
                <a:path w="265" h="633">
                  <a:moveTo>
                    <a:pt x="265" y="0"/>
                  </a:moveTo>
                  <a:lnTo>
                    <a:pt x="196" y="583"/>
                  </a:lnTo>
                  <a:lnTo>
                    <a:pt x="131" y="601"/>
                  </a:lnTo>
                  <a:lnTo>
                    <a:pt x="65" y="618"/>
                  </a:lnTo>
                  <a:lnTo>
                    <a:pt x="0" y="633"/>
                  </a:lnTo>
                  <a:lnTo>
                    <a:pt x="63" y="51"/>
                  </a:lnTo>
                  <a:lnTo>
                    <a:pt x="131" y="36"/>
                  </a:lnTo>
                  <a:lnTo>
                    <a:pt x="199" y="1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83a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28360" y="3765240"/>
              <a:ext cx="38160" cy="50400"/>
            </a:xfrm>
            <a:custGeom>
              <a:avLst/>
              <a:gdLst/>
              <a:ahLst/>
              <a:rect l="l" t="t" r="r" b="b"/>
              <a:pathLst>
                <a:path w="260" h="625">
                  <a:moveTo>
                    <a:pt x="260" y="0"/>
                  </a:moveTo>
                  <a:lnTo>
                    <a:pt x="197" y="582"/>
                  </a:lnTo>
                  <a:lnTo>
                    <a:pt x="131" y="597"/>
                  </a:lnTo>
                  <a:lnTo>
                    <a:pt x="65" y="612"/>
                  </a:lnTo>
                  <a:lnTo>
                    <a:pt x="0" y="625"/>
                  </a:lnTo>
                  <a:lnTo>
                    <a:pt x="57" y="44"/>
                  </a:lnTo>
                  <a:lnTo>
                    <a:pt x="125" y="30"/>
                  </a:lnTo>
                  <a:lnTo>
                    <a:pt x="192" y="1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7d9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00640" y="3768840"/>
              <a:ext cx="36000" cy="50400"/>
            </a:xfrm>
            <a:custGeom>
              <a:avLst/>
              <a:gdLst/>
              <a:ahLst/>
              <a:rect l="l" t="t" r="r" b="b"/>
              <a:pathLst>
                <a:path w="256" h="615">
                  <a:moveTo>
                    <a:pt x="256" y="0"/>
                  </a:moveTo>
                  <a:lnTo>
                    <a:pt x="199" y="581"/>
                  </a:lnTo>
                  <a:lnTo>
                    <a:pt x="132" y="593"/>
                  </a:lnTo>
                  <a:lnTo>
                    <a:pt x="66" y="604"/>
                  </a:lnTo>
                  <a:lnTo>
                    <a:pt x="0" y="615"/>
                  </a:lnTo>
                  <a:lnTo>
                    <a:pt x="51" y="35"/>
                  </a:lnTo>
                  <a:lnTo>
                    <a:pt x="120" y="24"/>
                  </a:lnTo>
                  <a:lnTo>
                    <a:pt x="187" y="12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79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72200" y="3770280"/>
              <a:ext cx="36000" cy="5040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251" y="0"/>
                  </a:moveTo>
                  <a:lnTo>
                    <a:pt x="200" y="580"/>
                  </a:lnTo>
                  <a:lnTo>
                    <a:pt x="133" y="590"/>
                  </a:lnTo>
                  <a:lnTo>
                    <a:pt x="66" y="599"/>
                  </a:lnTo>
                  <a:lnTo>
                    <a:pt x="0" y="607"/>
                  </a:lnTo>
                  <a:lnTo>
                    <a:pt x="45" y="27"/>
                  </a:lnTo>
                  <a:lnTo>
                    <a:pt x="114" y="19"/>
                  </a:lnTo>
                  <a:lnTo>
                    <a:pt x="182" y="1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758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41960" y="3773880"/>
              <a:ext cx="36000" cy="48960"/>
            </a:xfrm>
            <a:custGeom>
              <a:avLst/>
              <a:gdLst/>
              <a:ahLst/>
              <a:rect l="l" t="t" r="r" b="b"/>
              <a:pathLst>
                <a:path w="248" h="599">
                  <a:moveTo>
                    <a:pt x="248" y="0"/>
                  </a:moveTo>
                  <a:lnTo>
                    <a:pt x="203" y="580"/>
                  </a:lnTo>
                  <a:lnTo>
                    <a:pt x="135" y="588"/>
                  </a:lnTo>
                  <a:lnTo>
                    <a:pt x="67" y="594"/>
                  </a:lnTo>
                  <a:lnTo>
                    <a:pt x="0" y="599"/>
                  </a:lnTo>
                  <a:lnTo>
                    <a:pt x="39" y="20"/>
                  </a:lnTo>
                  <a:lnTo>
                    <a:pt x="108" y="15"/>
                  </a:lnTo>
                  <a:lnTo>
                    <a:pt x="178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738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2080" y="3775680"/>
              <a:ext cx="36000" cy="48600"/>
            </a:xfrm>
            <a:custGeom>
              <a:avLst/>
              <a:gdLst/>
              <a:ahLst/>
              <a:rect l="l" t="t" r="r" b="b"/>
              <a:pathLst>
                <a:path w="245" h="592">
                  <a:moveTo>
                    <a:pt x="245" y="0"/>
                  </a:moveTo>
                  <a:lnTo>
                    <a:pt x="206" y="579"/>
                  </a:lnTo>
                  <a:lnTo>
                    <a:pt x="137" y="585"/>
                  </a:lnTo>
                  <a:lnTo>
                    <a:pt x="68" y="589"/>
                  </a:lnTo>
                  <a:lnTo>
                    <a:pt x="0" y="592"/>
                  </a:lnTo>
                  <a:lnTo>
                    <a:pt x="32" y="13"/>
                  </a:lnTo>
                  <a:lnTo>
                    <a:pt x="104" y="10"/>
                  </a:lnTo>
                  <a:lnTo>
                    <a:pt x="174" y="5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f7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81480" y="3775680"/>
              <a:ext cx="36360" cy="48600"/>
            </a:xfrm>
            <a:custGeom>
              <a:avLst/>
              <a:gdLst/>
              <a:ahLst/>
              <a:rect l="l" t="t" r="r" b="b"/>
              <a:pathLst>
                <a:path w="243" h="584">
                  <a:moveTo>
                    <a:pt x="243" y="0"/>
                  </a:moveTo>
                  <a:lnTo>
                    <a:pt x="211" y="579"/>
                  </a:lnTo>
                  <a:lnTo>
                    <a:pt x="141" y="581"/>
                  </a:lnTo>
                  <a:lnTo>
                    <a:pt x="71" y="583"/>
                  </a:lnTo>
                  <a:lnTo>
                    <a:pt x="0" y="584"/>
                  </a:lnTo>
                  <a:lnTo>
                    <a:pt x="28" y="5"/>
                  </a:lnTo>
                  <a:lnTo>
                    <a:pt x="100" y="5"/>
                  </a:lnTo>
                  <a:lnTo>
                    <a:pt x="172" y="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b7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61320" y="3775680"/>
              <a:ext cx="24120" cy="4860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169" y="0"/>
                  </a:moveTo>
                  <a:lnTo>
                    <a:pt x="141" y="579"/>
                  </a:lnTo>
                  <a:lnTo>
                    <a:pt x="71" y="579"/>
                  </a:lnTo>
                  <a:lnTo>
                    <a:pt x="0" y="578"/>
                  </a:lnTo>
                  <a:lnTo>
                    <a:pt x="22" y="0"/>
                  </a:lnTo>
                  <a:lnTo>
                    <a:pt x="96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05160" y="3773880"/>
              <a:ext cx="60120" cy="50400"/>
            </a:xfrm>
            <a:custGeom>
              <a:avLst/>
              <a:gdLst/>
              <a:ahLst/>
              <a:rect l="l" t="t" r="r" b="b"/>
              <a:pathLst>
                <a:path w="412" h="607">
                  <a:moveTo>
                    <a:pt x="412" y="29"/>
                  </a:moveTo>
                  <a:lnTo>
                    <a:pt x="390" y="607"/>
                  </a:lnTo>
                  <a:lnTo>
                    <a:pt x="0" y="579"/>
                  </a:lnTo>
                  <a:lnTo>
                    <a:pt x="11" y="0"/>
                  </a:lnTo>
                  <a:lnTo>
                    <a:pt x="412" y="29"/>
                  </a:lnTo>
                  <a:close/>
                </a:path>
              </a:pathLst>
            </a:custGeom>
            <a:solidFill>
              <a:srgbClr val="5c6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7080" y="3772080"/>
              <a:ext cx="29880" cy="50400"/>
            </a:xfrm>
            <a:custGeom>
              <a:avLst/>
              <a:gdLst/>
              <a:ahLst/>
              <a:rect l="l" t="t" r="r" b="b"/>
              <a:pathLst>
                <a:path w="208" h="609">
                  <a:moveTo>
                    <a:pt x="208" y="30"/>
                  </a:moveTo>
                  <a:lnTo>
                    <a:pt x="197" y="609"/>
                  </a:lnTo>
                  <a:lnTo>
                    <a:pt x="99" y="595"/>
                  </a:lnTo>
                  <a:lnTo>
                    <a:pt x="0" y="581"/>
                  </a:lnTo>
                  <a:lnTo>
                    <a:pt x="6" y="0"/>
                  </a:lnTo>
                  <a:lnTo>
                    <a:pt x="107" y="16"/>
                  </a:lnTo>
                  <a:lnTo>
                    <a:pt x="208" y="30"/>
                  </a:lnTo>
                  <a:close/>
                </a:path>
              </a:pathLst>
            </a:custGeom>
            <a:solidFill>
              <a:srgbClr val="505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8640" y="3768840"/>
              <a:ext cx="29880" cy="50400"/>
            </a:xfrm>
            <a:custGeom>
              <a:avLst/>
              <a:gdLst/>
              <a:ahLst/>
              <a:rect l="l" t="t" r="r" b="b"/>
              <a:pathLst>
                <a:path w="202" h="618">
                  <a:moveTo>
                    <a:pt x="202" y="37"/>
                  </a:moveTo>
                  <a:lnTo>
                    <a:pt x="196" y="618"/>
                  </a:lnTo>
                  <a:lnTo>
                    <a:pt x="99" y="600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101" y="19"/>
                  </a:lnTo>
                  <a:lnTo>
                    <a:pt x="202" y="37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20920" y="3765240"/>
              <a:ext cx="27720" cy="52200"/>
            </a:xfrm>
            <a:custGeom>
              <a:avLst/>
              <a:gdLst/>
              <a:ahLst/>
              <a:rect l="l" t="t" r="r" b="b"/>
              <a:pathLst>
                <a:path w="201" h="626">
                  <a:moveTo>
                    <a:pt x="201" y="45"/>
                  </a:moveTo>
                  <a:lnTo>
                    <a:pt x="201" y="626"/>
                  </a:lnTo>
                  <a:lnTo>
                    <a:pt x="104" y="605"/>
                  </a:lnTo>
                  <a:lnTo>
                    <a:pt x="8" y="584"/>
                  </a:lnTo>
                  <a:lnTo>
                    <a:pt x="0" y="0"/>
                  </a:lnTo>
                  <a:lnTo>
                    <a:pt x="101" y="24"/>
                  </a:lnTo>
                  <a:lnTo>
                    <a:pt x="201" y="45"/>
                  </a:lnTo>
                  <a:close/>
                </a:path>
              </a:pathLst>
            </a:custGeom>
            <a:solidFill>
              <a:srgbClr val="414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2840" y="3759840"/>
              <a:ext cx="28080" cy="54000"/>
            </a:xfrm>
            <a:custGeom>
              <a:avLst/>
              <a:gdLst/>
              <a:ahLst/>
              <a:rect l="l" t="t" r="r" b="b"/>
              <a:pathLst>
                <a:path w="206" h="635">
                  <a:moveTo>
                    <a:pt x="198" y="51"/>
                  </a:moveTo>
                  <a:lnTo>
                    <a:pt x="206" y="635"/>
                  </a:lnTo>
                  <a:lnTo>
                    <a:pt x="108" y="610"/>
                  </a:lnTo>
                  <a:lnTo>
                    <a:pt x="13" y="584"/>
                  </a:lnTo>
                  <a:lnTo>
                    <a:pt x="0" y="0"/>
                  </a:lnTo>
                  <a:lnTo>
                    <a:pt x="99" y="26"/>
                  </a:lnTo>
                  <a:lnTo>
                    <a:pt x="198" y="51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4400" y="3754800"/>
              <a:ext cx="29880" cy="53640"/>
            </a:xfrm>
            <a:custGeom>
              <a:avLst/>
              <a:gdLst/>
              <a:ahLst/>
              <a:rect l="l" t="t" r="r" b="b"/>
              <a:pathLst>
                <a:path w="207" h="644">
                  <a:moveTo>
                    <a:pt x="194" y="60"/>
                  </a:moveTo>
                  <a:lnTo>
                    <a:pt x="207" y="644"/>
                  </a:lnTo>
                  <a:lnTo>
                    <a:pt x="111" y="615"/>
                  </a:lnTo>
                  <a:lnTo>
                    <a:pt x="17" y="586"/>
                  </a:lnTo>
                  <a:lnTo>
                    <a:pt x="0" y="0"/>
                  </a:lnTo>
                  <a:lnTo>
                    <a:pt x="97" y="31"/>
                  </a:lnTo>
                  <a:lnTo>
                    <a:pt x="194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6320" y="3749400"/>
              <a:ext cx="30240" cy="54000"/>
            </a:xfrm>
            <a:custGeom>
              <a:avLst/>
              <a:gdLst/>
              <a:ahLst/>
              <a:rect l="l" t="t" r="r" b="b"/>
              <a:pathLst>
                <a:path w="210" h="654">
                  <a:moveTo>
                    <a:pt x="193" y="68"/>
                  </a:moveTo>
                  <a:lnTo>
                    <a:pt x="210" y="654"/>
                  </a:lnTo>
                  <a:lnTo>
                    <a:pt x="117" y="622"/>
                  </a:lnTo>
                  <a:lnTo>
                    <a:pt x="23" y="588"/>
                  </a:lnTo>
                  <a:lnTo>
                    <a:pt x="0" y="0"/>
                  </a:lnTo>
                  <a:lnTo>
                    <a:pt x="96" y="36"/>
                  </a:lnTo>
                  <a:lnTo>
                    <a:pt x="193" y="68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10040" y="3744000"/>
              <a:ext cx="29880" cy="54000"/>
            </a:xfrm>
            <a:custGeom>
              <a:avLst/>
              <a:gdLst/>
              <a:ahLst/>
              <a:rect l="l" t="t" r="r" b="b"/>
              <a:pathLst>
                <a:path w="211" h="664">
                  <a:moveTo>
                    <a:pt x="188" y="76"/>
                  </a:moveTo>
                  <a:lnTo>
                    <a:pt x="211" y="664"/>
                  </a:lnTo>
                  <a:lnTo>
                    <a:pt x="120" y="628"/>
                  </a:lnTo>
                  <a:lnTo>
                    <a:pt x="29" y="590"/>
                  </a:lnTo>
                  <a:lnTo>
                    <a:pt x="0" y="0"/>
                  </a:lnTo>
                  <a:lnTo>
                    <a:pt x="94" y="40"/>
                  </a:lnTo>
                  <a:lnTo>
                    <a:pt x="188" y="76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4120" y="3737520"/>
              <a:ext cx="29880" cy="55440"/>
            </a:xfrm>
            <a:custGeom>
              <a:avLst/>
              <a:gdLst/>
              <a:ahLst/>
              <a:rect l="l" t="t" r="r" b="b"/>
              <a:pathLst>
                <a:path w="212" h="674">
                  <a:moveTo>
                    <a:pt x="183" y="84"/>
                  </a:moveTo>
                  <a:lnTo>
                    <a:pt x="212" y="674"/>
                  </a:lnTo>
                  <a:lnTo>
                    <a:pt x="123" y="634"/>
                  </a:lnTo>
                  <a:lnTo>
                    <a:pt x="33" y="591"/>
                  </a:lnTo>
                  <a:lnTo>
                    <a:pt x="0" y="0"/>
                  </a:lnTo>
                  <a:lnTo>
                    <a:pt x="91" y="43"/>
                  </a:lnTo>
                  <a:lnTo>
                    <a:pt x="183" y="84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57840" y="3728160"/>
              <a:ext cx="30240" cy="57600"/>
            </a:xfrm>
            <a:custGeom>
              <a:avLst/>
              <a:gdLst/>
              <a:ahLst/>
              <a:rect l="l" t="t" r="r" b="b"/>
              <a:pathLst>
                <a:path w="212" h="686">
                  <a:moveTo>
                    <a:pt x="179" y="95"/>
                  </a:moveTo>
                  <a:lnTo>
                    <a:pt x="212" y="686"/>
                  </a:lnTo>
                  <a:lnTo>
                    <a:pt x="125" y="642"/>
                  </a:lnTo>
                  <a:lnTo>
                    <a:pt x="39" y="595"/>
                  </a:lnTo>
                  <a:lnTo>
                    <a:pt x="0" y="0"/>
                  </a:lnTo>
                  <a:lnTo>
                    <a:pt x="89" y="48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33720" y="3719520"/>
              <a:ext cx="30240" cy="57600"/>
            </a:xfrm>
            <a:custGeom>
              <a:avLst/>
              <a:gdLst/>
              <a:ahLst/>
              <a:rect l="l" t="t" r="r" b="b"/>
              <a:pathLst>
                <a:path w="211" h="698">
                  <a:moveTo>
                    <a:pt x="172" y="103"/>
                  </a:moveTo>
                  <a:lnTo>
                    <a:pt x="211" y="698"/>
                  </a:lnTo>
                  <a:lnTo>
                    <a:pt x="127" y="649"/>
                  </a:lnTo>
                  <a:lnTo>
                    <a:pt x="44" y="598"/>
                  </a:lnTo>
                  <a:lnTo>
                    <a:pt x="0" y="0"/>
                  </a:lnTo>
                  <a:lnTo>
                    <a:pt x="86" y="53"/>
                  </a:lnTo>
                  <a:lnTo>
                    <a:pt x="172" y="10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9960" y="3710880"/>
              <a:ext cx="29880" cy="59040"/>
            </a:xfrm>
            <a:custGeom>
              <a:avLst/>
              <a:gdLst/>
              <a:ahLst/>
              <a:rect l="l" t="t" r="r" b="b"/>
              <a:pathLst>
                <a:path w="210" h="710">
                  <a:moveTo>
                    <a:pt x="166" y="112"/>
                  </a:moveTo>
                  <a:lnTo>
                    <a:pt x="210" y="710"/>
                  </a:lnTo>
                  <a:lnTo>
                    <a:pt x="129" y="656"/>
                  </a:lnTo>
                  <a:lnTo>
                    <a:pt x="49" y="599"/>
                  </a:lnTo>
                  <a:lnTo>
                    <a:pt x="0" y="0"/>
                  </a:lnTo>
                  <a:lnTo>
                    <a:pt x="82" y="57"/>
                  </a:lnTo>
                  <a:lnTo>
                    <a:pt x="166" y="112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85480" y="3700440"/>
              <a:ext cx="29880" cy="59040"/>
            </a:xfrm>
            <a:custGeom>
              <a:avLst/>
              <a:gdLst/>
              <a:ahLst/>
              <a:rect l="l" t="t" r="r" b="b"/>
              <a:pathLst>
                <a:path w="208" h="722">
                  <a:moveTo>
                    <a:pt x="159" y="123"/>
                  </a:moveTo>
                  <a:lnTo>
                    <a:pt x="208" y="722"/>
                  </a:lnTo>
                  <a:lnTo>
                    <a:pt x="130" y="664"/>
                  </a:lnTo>
                  <a:lnTo>
                    <a:pt x="53" y="604"/>
                  </a:lnTo>
                  <a:lnTo>
                    <a:pt x="0" y="0"/>
                  </a:lnTo>
                  <a:lnTo>
                    <a:pt x="79" y="62"/>
                  </a:lnTo>
                  <a:lnTo>
                    <a:pt x="159" y="12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5680" y="3690000"/>
              <a:ext cx="27720" cy="61200"/>
            </a:xfrm>
            <a:custGeom>
              <a:avLst/>
              <a:gdLst/>
              <a:ahLst/>
              <a:rect l="l" t="t" r="r" b="b"/>
              <a:pathLst>
                <a:path w="205" h="737">
                  <a:moveTo>
                    <a:pt x="152" y="133"/>
                  </a:moveTo>
                  <a:lnTo>
                    <a:pt x="205" y="737"/>
                  </a:lnTo>
                  <a:lnTo>
                    <a:pt x="130" y="673"/>
                  </a:lnTo>
                  <a:lnTo>
                    <a:pt x="57" y="608"/>
                  </a:lnTo>
                  <a:lnTo>
                    <a:pt x="0" y="0"/>
                  </a:lnTo>
                  <a:lnTo>
                    <a:pt x="75" y="68"/>
                  </a:lnTo>
                  <a:lnTo>
                    <a:pt x="152" y="13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43360" y="3678120"/>
              <a:ext cx="29880" cy="62280"/>
            </a:xfrm>
            <a:custGeom>
              <a:avLst/>
              <a:gdLst/>
              <a:ahLst/>
              <a:rect l="l" t="t" r="r" b="b"/>
              <a:pathLst>
                <a:path w="201" h="751">
                  <a:moveTo>
                    <a:pt x="144" y="143"/>
                  </a:moveTo>
                  <a:lnTo>
                    <a:pt x="201" y="751"/>
                  </a:lnTo>
                  <a:lnTo>
                    <a:pt x="132" y="682"/>
                  </a:lnTo>
                  <a:lnTo>
                    <a:pt x="63" y="611"/>
                  </a:lnTo>
                  <a:lnTo>
                    <a:pt x="0" y="0"/>
                  </a:lnTo>
                  <a:lnTo>
                    <a:pt x="71" y="73"/>
                  </a:lnTo>
                  <a:lnTo>
                    <a:pt x="144" y="14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25000" y="3665880"/>
              <a:ext cx="28080" cy="62280"/>
            </a:xfrm>
            <a:custGeom>
              <a:avLst/>
              <a:gdLst/>
              <a:ahLst/>
              <a:rect l="l" t="t" r="r" b="b"/>
              <a:pathLst>
                <a:path w="197" h="764">
                  <a:moveTo>
                    <a:pt x="134" y="153"/>
                  </a:moveTo>
                  <a:lnTo>
                    <a:pt x="197" y="764"/>
                  </a:lnTo>
                  <a:lnTo>
                    <a:pt x="130" y="691"/>
                  </a:lnTo>
                  <a:lnTo>
                    <a:pt x="66" y="615"/>
                  </a:lnTo>
                  <a:lnTo>
                    <a:pt x="0" y="0"/>
                  </a:lnTo>
                  <a:lnTo>
                    <a:pt x="67" y="78"/>
                  </a:lnTo>
                  <a:lnTo>
                    <a:pt x="134" y="153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07360" y="3651480"/>
              <a:ext cx="25920" cy="64800"/>
            </a:xfrm>
            <a:custGeom>
              <a:avLst/>
              <a:gdLst/>
              <a:ahLst/>
              <a:rect l="l" t="t" r="r" b="b"/>
              <a:pathLst>
                <a:path w="191" h="780">
                  <a:moveTo>
                    <a:pt x="125" y="165"/>
                  </a:moveTo>
                  <a:lnTo>
                    <a:pt x="191" y="780"/>
                  </a:lnTo>
                  <a:lnTo>
                    <a:pt x="129" y="701"/>
                  </a:lnTo>
                  <a:lnTo>
                    <a:pt x="70" y="620"/>
                  </a:lnTo>
                  <a:lnTo>
                    <a:pt x="0" y="0"/>
                  </a:lnTo>
                  <a:lnTo>
                    <a:pt x="62" y="83"/>
                  </a:lnTo>
                  <a:lnTo>
                    <a:pt x="125" y="165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80720" y="3650040"/>
              <a:ext cx="36360" cy="52200"/>
            </a:xfrm>
            <a:custGeom>
              <a:avLst/>
              <a:gdLst/>
              <a:ahLst/>
              <a:rect l="l" t="t" r="r" b="b"/>
              <a:pathLst>
                <a:path w="250" h="643">
                  <a:moveTo>
                    <a:pt x="180" y="23"/>
                  </a:moveTo>
                  <a:lnTo>
                    <a:pt x="250" y="643"/>
                  </a:lnTo>
                  <a:lnTo>
                    <a:pt x="162" y="632"/>
                  </a:lnTo>
                  <a:lnTo>
                    <a:pt x="73" y="621"/>
                  </a:lnTo>
                  <a:lnTo>
                    <a:pt x="0" y="0"/>
                  </a:lnTo>
                  <a:lnTo>
                    <a:pt x="90" y="13"/>
                  </a:lnTo>
                  <a:lnTo>
                    <a:pt x="180" y="23"/>
                  </a:lnTo>
                  <a:close/>
                </a:path>
              </a:pathLst>
            </a:custGeom>
            <a:solidFill>
              <a:srgbClr val="53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54800" y="3646440"/>
              <a:ext cx="36000" cy="54000"/>
            </a:xfrm>
            <a:custGeom>
              <a:avLst/>
              <a:gdLst/>
              <a:ahLst/>
              <a:rect l="l" t="t" r="r" b="b"/>
              <a:pathLst>
                <a:path w="254" h="650">
                  <a:moveTo>
                    <a:pt x="181" y="29"/>
                  </a:moveTo>
                  <a:lnTo>
                    <a:pt x="254" y="650"/>
                  </a:lnTo>
                  <a:lnTo>
                    <a:pt x="167" y="636"/>
                  </a:lnTo>
                  <a:lnTo>
                    <a:pt x="80" y="621"/>
                  </a:lnTo>
                  <a:lnTo>
                    <a:pt x="0" y="0"/>
                  </a:lnTo>
                  <a:lnTo>
                    <a:pt x="90" y="16"/>
                  </a:lnTo>
                  <a:lnTo>
                    <a:pt x="181" y="29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8880" y="3644640"/>
              <a:ext cx="37800" cy="54000"/>
            </a:xfrm>
            <a:custGeom>
              <a:avLst/>
              <a:gdLst/>
              <a:ahLst/>
              <a:rect l="l" t="t" r="r" b="b"/>
              <a:pathLst>
                <a:path w="258" h="656">
                  <a:moveTo>
                    <a:pt x="178" y="35"/>
                  </a:moveTo>
                  <a:lnTo>
                    <a:pt x="258" y="656"/>
                  </a:lnTo>
                  <a:lnTo>
                    <a:pt x="171" y="639"/>
                  </a:lnTo>
                  <a:lnTo>
                    <a:pt x="85" y="621"/>
                  </a:lnTo>
                  <a:lnTo>
                    <a:pt x="0" y="0"/>
                  </a:lnTo>
                  <a:lnTo>
                    <a:pt x="89" y="18"/>
                  </a:lnTo>
                  <a:lnTo>
                    <a:pt x="178" y="35"/>
                  </a:lnTo>
                  <a:close/>
                </a:path>
              </a:pathLst>
            </a:custGeom>
            <a:solidFill>
              <a:srgbClr val="45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4760" y="3639600"/>
              <a:ext cx="36000" cy="55440"/>
            </a:xfrm>
            <a:custGeom>
              <a:avLst/>
              <a:gdLst/>
              <a:ahLst/>
              <a:rect l="l" t="t" r="r" b="b"/>
              <a:pathLst>
                <a:path w="262" h="665">
                  <a:moveTo>
                    <a:pt x="177" y="44"/>
                  </a:moveTo>
                  <a:lnTo>
                    <a:pt x="262" y="665"/>
                  </a:lnTo>
                  <a:lnTo>
                    <a:pt x="176" y="646"/>
                  </a:lnTo>
                  <a:lnTo>
                    <a:pt x="89" y="624"/>
                  </a:lnTo>
                  <a:lnTo>
                    <a:pt x="0" y="0"/>
                  </a:lnTo>
                  <a:lnTo>
                    <a:pt x="88" y="23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3c3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8120" y="3636000"/>
              <a:ext cx="38160" cy="55440"/>
            </a:xfrm>
            <a:custGeom>
              <a:avLst/>
              <a:gdLst/>
              <a:ahLst/>
              <a:rect l="l" t="t" r="r" b="b"/>
              <a:pathLst>
                <a:path w="264" h="673">
                  <a:moveTo>
                    <a:pt x="175" y="49"/>
                  </a:moveTo>
                  <a:lnTo>
                    <a:pt x="264" y="673"/>
                  </a:lnTo>
                  <a:lnTo>
                    <a:pt x="179" y="649"/>
                  </a:lnTo>
                  <a:lnTo>
                    <a:pt x="95" y="624"/>
                  </a:lnTo>
                  <a:lnTo>
                    <a:pt x="0" y="0"/>
                  </a:lnTo>
                  <a:lnTo>
                    <a:pt x="87" y="25"/>
                  </a:lnTo>
                  <a:lnTo>
                    <a:pt x="175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4360" y="3630960"/>
              <a:ext cx="37800" cy="57240"/>
            </a:xfrm>
            <a:custGeom>
              <a:avLst/>
              <a:gdLst/>
              <a:ahLst/>
              <a:rect l="l" t="t" r="r" b="b"/>
              <a:pathLst>
                <a:path w="266" h="681">
                  <a:moveTo>
                    <a:pt x="171" y="57"/>
                  </a:moveTo>
                  <a:lnTo>
                    <a:pt x="266" y="681"/>
                  </a:lnTo>
                  <a:lnTo>
                    <a:pt x="182" y="654"/>
                  </a:lnTo>
                  <a:lnTo>
                    <a:pt x="99" y="625"/>
                  </a:lnTo>
                  <a:lnTo>
                    <a:pt x="0" y="0"/>
                  </a:lnTo>
                  <a:lnTo>
                    <a:pt x="85" y="29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0240" y="3625560"/>
              <a:ext cx="37800" cy="57600"/>
            </a:xfrm>
            <a:custGeom>
              <a:avLst/>
              <a:gdLst/>
              <a:ahLst/>
              <a:rect l="l" t="t" r="r" b="b"/>
              <a:pathLst>
                <a:path w="269" h="690">
                  <a:moveTo>
                    <a:pt x="170" y="65"/>
                  </a:moveTo>
                  <a:lnTo>
                    <a:pt x="269" y="690"/>
                  </a:lnTo>
                  <a:lnTo>
                    <a:pt x="187" y="660"/>
                  </a:lnTo>
                  <a:lnTo>
                    <a:pt x="105" y="628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6120" y="3620160"/>
              <a:ext cx="37800" cy="57600"/>
            </a:xfrm>
            <a:custGeom>
              <a:avLst/>
              <a:gdLst/>
              <a:ahLst/>
              <a:rect l="l" t="t" r="r" b="b"/>
              <a:pathLst>
                <a:path w="270" h="700">
                  <a:moveTo>
                    <a:pt x="165" y="72"/>
                  </a:moveTo>
                  <a:lnTo>
                    <a:pt x="270" y="700"/>
                  </a:lnTo>
                  <a:lnTo>
                    <a:pt x="190" y="666"/>
                  </a:lnTo>
                  <a:lnTo>
                    <a:pt x="110" y="629"/>
                  </a:lnTo>
                  <a:lnTo>
                    <a:pt x="0" y="0"/>
                  </a:lnTo>
                  <a:lnTo>
                    <a:pt x="82" y="37"/>
                  </a:lnTo>
                  <a:lnTo>
                    <a:pt x="165" y="72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3800" y="3613320"/>
              <a:ext cx="38160" cy="59040"/>
            </a:xfrm>
            <a:custGeom>
              <a:avLst/>
              <a:gdLst/>
              <a:ahLst/>
              <a:rect l="l" t="t" r="r" b="b"/>
              <a:pathLst>
                <a:path w="270" h="709">
                  <a:moveTo>
                    <a:pt x="160" y="80"/>
                  </a:moveTo>
                  <a:lnTo>
                    <a:pt x="270" y="709"/>
                  </a:lnTo>
                  <a:lnTo>
                    <a:pt x="191" y="672"/>
                  </a:lnTo>
                  <a:lnTo>
                    <a:pt x="114" y="632"/>
                  </a:lnTo>
                  <a:lnTo>
                    <a:pt x="0" y="0"/>
                  </a:lnTo>
                  <a:lnTo>
                    <a:pt x="80" y="41"/>
                  </a:lnTo>
                  <a:lnTo>
                    <a:pt x="160" y="8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59680" y="3606480"/>
              <a:ext cx="39960" cy="59040"/>
            </a:xfrm>
            <a:custGeom>
              <a:avLst/>
              <a:gdLst/>
              <a:ahLst/>
              <a:rect l="l" t="t" r="r" b="b"/>
              <a:pathLst>
                <a:path w="270" h="719">
                  <a:moveTo>
                    <a:pt x="156" y="87"/>
                  </a:moveTo>
                  <a:lnTo>
                    <a:pt x="270" y="719"/>
                  </a:lnTo>
                  <a:lnTo>
                    <a:pt x="193" y="677"/>
                  </a:lnTo>
                  <a:lnTo>
                    <a:pt x="118" y="634"/>
                  </a:lnTo>
                  <a:lnTo>
                    <a:pt x="0" y="0"/>
                  </a:lnTo>
                  <a:lnTo>
                    <a:pt x="77" y="44"/>
                  </a:lnTo>
                  <a:lnTo>
                    <a:pt x="156" y="87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9520" y="3597840"/>
              <a:ext cx="38160" cy="60840"/>
            </a:xfrm>
            <a:custGeom>
              <a:avLst/>
              <a:gdLst/>
              <a:ahLst/>
              <a:rect l="l" t="t" r="r" b="b"/>
              <a:pathLst>
                <a:path w="268" h="730">
                  <a:moveTo>
                    <a:pt x="150" y="96"/>
                  </a:moveTo>
                  <a:lnTo>
                    <a:pt x="268" y="730"/>
                  </a:lnTo>
                  <a:lnTo>
                    <a:pt x="195" y="684"/>
                  </a:lnTo>
                  <a:lnTo>
                    <a:pt x="122" y="636"/>
                  </a:lnTo>
                  <a:lnTo>
                    <a:pt x="0" y="0"/>
                  </a:lnTo>
                  <a:lnTo>
                    <a:pt x="75" y="49"/>
                  </a:lnTo>
                  <a:lnTo>
                    <a:pt x="150" y="96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17560" y="3588840"/>
              <a:ext cx="37800" cy="62280"/>
            </a:xfrm>
            <a:custGeom>
              <a:avLst/>
              <a:gdLst/>
              <a:ahLst/>
              <a:rect l="l" t="t" r="r" b="b"/>
              <a:pathLst>
                <a:path w="268" h="740">
                  <a:moveTo>
                    <a:pt x="146" y="104"/>
                  </a:moveTo>
                  <a:lnTo>
                    <a:pt x="268" y="740"/>
                  </a:lnTo>
                  <a:lnTo>
                    <a:pt x="197" y="691"/>
                  </a:lnTo>
                  <a:lnTo>
                    <a:pt x="127" y="639"/>
                  </a:lnTo>
                  <a:lnTo>
                    <a:pt x="0" y="0"/>
                  </a:lnTo>
                  <a:lnTo>
                    <a:pt x="72" y="53"/>
                  </a:lnTo>
                  <a:lnTo>
                    <a:pt x="146" y="104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97760" y="3580200"/>
              <a:ext cx="37800" cy="62280"/>
            </a:xfrm>
            <a:custGeom>
              <a:avLst/>
              <a:gdLst/>
              <a:ahLst/>
              <a:rect l="l" t="t" r="r" b="b"/>
              <a:pathLst>
                <a:path w="265" h="752">
                  <a:moveTo>
                    <a:pt x="138" y="113"/>
                  </a:moveTo>
                  <a:lnTo>
                    <a:pt x="265" y="752"/>
                  </a:lnTo>
                  <a:lnTo>
                    <a:pt x="198" y="699"/>
                  </a:lnTo>
                  <a:lnTo>
                    <a:pt x="131" y="643"/>
                  </a:lnTo>
                  <a:lnTo>
                    <a:pt x="0" y="0"/>
                  </a:lnTo>
                  <a:lnTo>
                    <a:pt x="68" y="57"/>
                  </a:lnTo>
                  <a:lnTo>
                    <a:pt x="138" y="113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9400" y="3569760"/>
              <a:ext cx="38160" cy="64440"/>
            </a:xfrm>
            <a:custGeom>
              <a:avLst/>
              <a:gdLst/>
              <a:ahLst/>
              <a:rect l="l" t="t" r="r" b="b"/>
              <a:pathLst>
                <a:path w="263" h="764">
                  <a:moveTo>
                    <a:pt x="132" y="121"/>
                  </a:moveTo>
                  <a:lnTo>
                    <a:pt x="263" y="764"/>
                  </a:lnTo>
                  <a:lnTo>
                    <a:pt x="197" y="706"/>
                  </a:lnTo>
                  <a:lnTo>
                    <a:pt x="135" y="646"/>
                  </a:lnTo>
                  <a:lnTo>
                    <a:pt x="0" y="0"/>
                  </a:lnTo>
                  <a:lnTo>
                    <a:pt x="65" y="62"/>
                  </a:lnTo>
                  <a:lnTo>
                    <a:pt x="132" y="12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61040" y="3559320"/>
              <a:ext cx="38160" cy="64440"/>
            </a:xfrm>
            <a:custGeom>
              <a:avLst/>
              <a:gdLst/>
              <a:ahLst/>
              <a:rect l="l" t="t" r="r" b="b"/>
              <a:pathLst>
                <a:path w="260" h="776">
                  <a:moveTo>
                    <a:pt x="125" y="130"/>
                  </a:moveTo>
                  <a:lnTo>
                    <a:pt x="260" y="776"/>
                  </a:lnTo>
                  <a:lnTo>
                    <a:pt x="198" y="713"/>
                  </a:lnTo>
                  <a:lnTo>
                    <a:pt x="139" y="650"/>
                  </a:lnTo>
                  <a:lnTo>
                    <a:pt x="0" y="0"/>
                  </a:lnTo>
                  <a:lnTo>
                    <a:pt x="62" y="67"/>
                  </a:lnTo>
                  <a:lnTo>
                    <a:pt x="125" y="13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45200" y="3547080"/>
              <a:ext cx="36000" cy="65880"/>
            </a:xfrm>
            <a:custGeom>
              <a:avLst/>
              <a:gdLst/>
              <a:ahLst/>
              <a:rect l="l" t="t" r="r" b="b"/>
              <a:pathLst>
                <a:path w="256" h="788">
                  <a:moveTo>
                    <a:pt x="117" y="138"/>
                  </a:moveTo>
                  <a:lnTo>
                    <a:pt x="256" y="788"/>
                  </a:lnTo>
                  <a:lnTo>
                    <a:pt x="197" y="721"/>
                  </a:lnTo>
                  <a:lnTo>
                    <a:pt x="142" y="653"/>
                  </a:lnTo>
                  <a:lnTo>
                    <a:pt x="0" y="0"/>
                  </a:lnTo>
                  <a:lnTo>
                    <a:pt x="58" y="70"/>
                  </a:lnTo>
                  <a:lnTo>
                    <a:pt x="117" y="138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68520" y="3450960"/>
              <a:ext cx="46440" cy="57600"/>
            </a:xfrm>
            <a:custGeom>
              <a:avLst/>
              <a:gdLst/>
              <a:ahLst/>
              <a:rect l="l" t="t" r="r" b="b"/>
              <a:pathLst>
                <a:path w="332" h="686">
                  <a:moveTo>
                    <a:pt x="182" y="0"/>
                  </a:moveTo>
                  <a:lnTo>
                    <a:pt x="332" y="684"/>
                  </a:lnTo>
                  <a:lnTo>
                    <a:pt x="244" y="686"/>
                  </a:lnTo>
                  <a:lnTo>
                    <a:pt x="156" y="685"/>
                  </a:lnTo>
                  <a:lnTo>
                    <a:pt x="0" y="0"/>
                  </a:lnTo>
                  <a:lnTo>
                    <a:pt x="91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667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42600" y="3450960"/>
              <a:ext cx="48240" cy="57600"/>
            </a:xfrm>
            <a:custGeom>
              <a:avLst/>
              <a:gdLst/>
              <a:ahLst/>
              <a:rect l="l" t="t" r="r" b="b"/>
              <a:pathLst>
                <a:path w="336" h="694">
                  <a:moveTo>
                    <a:pt x="180" y="9"/>
                  </a:moveTo>
                  <a:lnTo>
                    <a:pt x="336" y="694"/>
                  </a:lnTo>
                  <a:lnTo>
                    <a:pt x="249" y="689"/>
                  </a:lnTo>
                  <a:lnTo>
                    <a:pt x="161" y="684"/>
                  </a:lnTo>
                  <a:lnTo>
                    <a:pt x="0" y="0"/>
                  </a:lnTo>
                  <a:lnTo>
                    <a:pt x="90" y="6"/>
                  </a:lnTo>
                  <a:lnTo>
                    <a:pt x="180" y="9"/>
                  </a:lnTo>
                  <a:close/>
                </a:path>
              </a:pathLst>
            </a:custGeom>
            <a:solidFill>
              <a:srgbClr val="5f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6680" y="3449160"/>
              <a:ext cx="48240" cy="5724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180" y="20"/>
                  </a:moveTo>
                  <a:lnTo>
                    <a:pt x="341" y="704"/>
                  </a:lnTo>
                  <a:lnTo>
                    <a:pt x="253" y="696"/>
                  </a:lnTo>
                  <a:lnTo>
                    <a:pt x="166" y="685"/>
                  </a:lnTo>
                  <a:lnTo>
                    <a:pt x="0" y="0"/>
                  </a:lnTo>
                  <a:lnTo>
                    <a:pt x="89" y="12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55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0040" y="3445920"/>
              <a:ext cx="50400" cy="59040"/>
            </a:xfrm>
            <a:custGeom>
              <a:avLst/>
              <a:gdLst/>
              <a:ahLst/>
              <a:rect l="l" t="t" r="r" b="b"/>
              <a:pathLst>
                <a:path w="343" h="713">
                  <a:moveTo>
                    <a:pt x="177" y="28"/>
                  </a:moveTo>
                  <a:lnTo>
                    <a:pt x="343" y="713"/>
                  </a:lnTo>
                  <a:lnTo>
                    <a:pt x="257" y="700"/>
                  </a:lnTo>
                  <a:lnTo>
                    <a:pt x="171" y="685"/>
                  </a:lnTo>
                  <a:lnTo>
                    <a:pt x="0" y="0"/>
                  </a:lnTo>
                  <a:lnTo>
                    <a:pt x="88" y="16"/>
                  </a:lnTo>
                  <a:lnTo>
                    <a:pt x="177" y="28"/>
                  </a:lnTo>
                  <a:close/>
                </a:path>
              </a:pathLst>
            </a:custGeom>
            <a:solidFill>
              <a:srgbClr val="4c4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65920" y="3444120"/>
              <a:ext cx="48240" cy="59040"/>
            </a:xfrm>
            <a:custGeom>
              <a:avLst/>
              <a:gdLst/>
              <a:ahLst/>
              <a:rect l="l" t="t" r="r" b="b"/>
              <a:pathLst>
                <a:path w="345" h="724">
                  <a:moveTo>
                    <a:pt x="174" y="39"/>
                  </a:moveTo>
                  <a:lnTo>
                    <a:pt x="345" y="724"/>
                  </a:lnTo>
                  <a:lnTo>
                    <a:pt x="261" y="707"/>
                  </a:lnTo>
                  <a:lnTo>
                    <a:pt x="177" y="686"/>
                  </a:lnTo>
                  <a:lnTo>
                    <a:pt x="0" y="0"/>
                  </a:lnTo>
                  <a:lnTo>
                    <a:pt x="87" y="20"/>
                  </a:lnTo>
                  <a:lnTo>
                    <a:pt x="174" y="39"/>
                  </a:lnTo>
                  <a:close/>
                </a:path>
              </a:pathLst>
            </a:custGeom>
            <a:solidFill>
              <a:srgbClr val="3f3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2160" y="3438720"/>
              <a:ext cx="47880" cy="61200"/>
            </a:xfrm>
            <a:custGeom>
              <a:avLst/>
              <a:gdLst/>
              <a:ahLst/>
              <a:rect l="l" t="t" r="r" b="b"/>
              <a:pathLst>
                <a:path w="348" h="735">
                  <a:moveTo>
                    <a:pt x="171" y="49"/>
                  </a:moveTo>
                  <a:lnTo>
                    <a:pt x="348" y="735"/>
                  </a:lnTo>
                  <a:lnTo>
                    <a:pt x="264" y="712"/>
                  </a:lnTo>
                  <a:lnTo>
                    <a:pt x="182" y="687"/>
                  </a:lnTo>
                  <a:lnTo>
                    <a:pt x="0" y="0"/>
                  </a:lnTo>
                  <a:lnTo>
                    <a:pt x="85" y="26"/>
                  </a:lnTo>
                  <a:lnTo>
                    <a:pt x="171" y="4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18040" y="3433320"/>
              <a:ext cx="47880" cy="62640"/>
            </a:xfrm>
            <a:custGeom>
              <a:avLst/>
              <a:gdLst/>
              <a:ahLst/>
              <a:rect l="l" t="t" r="r" b="b"/>
              <a:pathLst>
                <a:path w="347" h="747">
                  <a:moveTo>
                    <a:pt x="165" y="60"/>
                  </a:moveTo>
                  <a:lnTo>
                    <a:pt x="347" y="747"/>
                  </a:lnTo>
                  <a:lnTo>
                    <a:pt x="266" y="720"/>
                  </a:lnTo>
                  <a:lnTo>
                    <a:pt x="186" y="690"/>
                  </a:lnTo>
                  <a:lnTo>
                    <a:pt x="0" y="0"/>
                  </a:lnTo>
                  <a:lnTo>
                    <a:pt x="82" y="31"/>
                  </a:lnTo>
                  <a:lnTo>
                    <a:pt x="165" y="60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93920" y="3428280"/>
              <a:ext cx="50040" cy="62640"/>
            </a:xfrm>
            <a:custGeom>
              <a:avLst/>
              <a:gdLst/>
              <a:ahLst/>
              <a:rect l="l" t="t" r="r" b="b"/>
              <a:pathLst>
                <a:path w="347" h="759">
                  <a:moveTo>
                    <a:pt x="161" y="69"/>
                  </a:moveTo>
                  <a:lnTo>
                    <a:pt x="347" y="759"/>
                  </a:lnTo>
                  <a:lnTo>
                    <a:pt x="268" y="726"/>
                  </a:lnTo>
                  <a:lnTo>
                    <a:pt x="190" y="692"/>
                  </a:lnTo>
                  <a:lnTo>
                    <a:pt x="0" y="0"/>
                  </a:lnTo>
                  <a:lnTo>
                    <a:pt x="80" y="36"/>
                  </a:lnTo>
                  <a:lnTo>
                    <a:pt x="161" y="6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71600" y="3421080"/>
              <a:ext cx="50040" cy="64800"/>
            </a:xfrm>
            <a:custGeom>
              <a:avLst/>
              <a:gdLst/>
              <a:ahLst/>
              <a:rect l="l" t="t" r="r" b="b"/>
              <a:pathLst>
                <a:path w="345" h="771">
                  <a:moveTo>
                    <a:pt x="155" y="79"/>
                  </a:moveTo>
                  <a:lnTo>
                    <a:pt x="345" y="771"/>
                  </a:lnTo>
                  <a:lnTo>
                    <a:pt x="269" y="734"/>
                  </a:lnTo>
                  <a:lnTo>
                    <a:pt x="195" y="693"/>
                  </a:lnTo>
                  <a:lnTo>
                    <a:pt x="0" y="0"/>
                  </a:lnTo>
                  <a:lnTo>
                    <a:pt x="76" y="41"/>
                  </a:lnTo>
                  <a:lnTo>
                    <a:pt x="155" y="79"/>
                  </a:lnTo>
                  <a:close/>
                </a:path>
              </a:pathLst>
            </a:custGeom>
            <a:solidFill>
              <a:srgbClr val="38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51440" y="3414600"/>
              <a:ext cx="48240" cy="64440"/>
            </a:xfrm>
            <a:custGeom>
              <a:avLst/>
              <a:gdLst/>
              <a:ahLst/>
              <a:rect l="l" t="t" r="r" b="b"/>
              <a:pathLst>
                <a:path w="344" h="782">
                  <a:moveTo>
                    <a:pt x="149" y="89"/>
                  </a:moveTo>
                  <a:lnTo>
                    <a:pt x="344" y="782"/>
                  </a:lnTo>
                  <a:lnTo>
                    <a:pt x="270" y="740"/>
                  </a:lnTo>
                  <a:lnTo>
                    <a:pt x="199" y="695"/>
                  </a:lnTo>
                  <a:lnTo>
                    <a:pt x="0" y="0"/>
                  </a:lnTo>
                  <a:lnTo>
                    <a:pt x="73" y="46"/>
                  </a:lnTo>
                  <a:lnTo>
                    <a:pt x="149" y="89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29480" y="3405960"/>
              <a:ext cx="50040" cy="65880"/>
            </a:xfrm>
            <a:custGeom>
              <a:avLst/>
              <a:gdLst/>
              <a:ahLst/>
              <a:rect l="l" t="t" r="r" b="b"/>
              <a:pathLst>
                <a:path w="340" h="795">
                  <a:moveTo>
                    <a:pt x="141" y="100"/>
                  </a:moveTo>
                  <a:lnTo>
                    <a:pt x="340" y="795"/>
                  </a:lnTo>
                  <a:lnTo>
                    <a:pt x="271" y="748"/>
                  </a:lnTo>
                  <a:lnTo>
                    <a:pt x="203" y="698"/>
                  </a:lnTo>
                  <a:lnTo>
                    <a:pt x="0" y="0"/>
                  </a:lnTo>
                  <a:lnTo>
                    <a:pt x="70" y="51"/>
                  </a:lnTo>
                  <a:lnTo>
                    <a:pt x="141" y="100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11480" y="3396960"/>
              <a:ext cx="48240" cy="68040"/>
            </a:xfrm>
            <a:custGeom>
              <a:avLst/>
              <a:gdLst/>
              <a:ahLst/>
              <a:rect l="l" t="t" r="r" b="b"/>
              <a:pathLst>
                <a:path w="336" h="809">
                  <a:moveTo>
                    <a:pt x="133" y="111"/>
                  </a:moveTo>
                  <a:lnTo>
                    <a:pt x="336" y="809"/>
                  </a:lnTo>
                  <a:lnTo>
                    <a:pt x="270" y="756"/>
                  </a:lnTo>
                  <a:lnTo>
                    <a:pt x="207" y="701"/>
                  </a:lnTo>
                  <a:lnTo>
                    <a:pt x="0" y="0"/>
                  </a:lnTo>
                  <a:lnTo>
                    <a:pt x="65" y="57"/>
                  </a:lnTo>
                  <a:lnTo>
                    <a:pt x="133" y="111"/>
                  </a:lnTo>
                  <a:close/>
                </a:path>
              </a:pathLst>
            </a:custGeom>
            <a:solidFill>
              <a:srgbClr val="36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3120" y="3386520"/>
              <a:ext cx="48240" cy="68040"/>
            </a:xfrm>
            <a:custGeom>
              <a:avLst/>
              <a:gdLst/>
              <a:ahLst/>
              <a:rect l="l" t="t" r="r" b="b"/>
              <a:pathLst>
                <a:path w="331" h="822">
                  <a:moveTo>
                    <a:pt x="124" y="121"/>
                  </a:moveTo>
                  <a:lnTo>
                    <a:pt x="331" y="822"/>
                  </a:lnTo>
                  <a:lnTo>
                    <a:pt x="269" y="764"/>
                  </a:lnTo>
                  <a:lnTo>
                    <a:pt x="210" y="705"/>
                  </a:lnTo>
                  <a:lnTo>
                    <a:pt x="0" y="0"/>
                  </a:lnTo>
                  <a:lnTo>
                    <a:pt x="60" y="62"/>
                  </a:lnTo>
                  <a:lnTo>
                    <a:pt x="124" y="12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77280" y="3376080"/>
              <a:ext cx="45720" cy="69480"/>
            </a:xfrm>
            <a:custGeom>
              <a:avLst/>
              <a:gdLst/>
              <a:ahLst/>
              <a:rect l="l" t="t" r="r" b="b"/>
              <a:pathLst>
                <a:path w="325" h="837">
                  <a:moveTo>
                    <a:pt x="115" y="132"/>
                  </a:moveTo>
                  <a:lnTo>
                    <a:pt x="325" y="837"/>
                  </a:lnTo>
                  <a:lnTo>
                    <a:pt x="267" y="773"/>
                  </a:lnTo>
                  <a:lnTo>
                    <a:pt x="213" y="709"/>
                  </a:lnTo>
                  <a:lnTo>
                    <a:pt x="0" y="0"/>
                  </a:lnTo>
                  <a:lnTo>
                    <a:pt x="56" y="68"/>
                  </a:lnTo>
                  <a:lnTo>
                    <a:pt x="11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1080" y="3363840"/>
              <a:ext cx="45720" cy="71280"/>
            </a:xfrm>
            <a:custGeom>
              <a:avLst/>
              <a:gdLst/>
              <a:ahLst/>
              <a:rect l="l" t="t" r="r" b="b"/>
              <a:pathLst>
                <a:path w="319" h="850">
                  <a:moveTo>
                    <a:pt x="106" y="141"/>
                  </a:moveTo>
                  <a:lnTo>
                    <a:pt x="319" y="850"/>
                  </a:lnTo>
                  <a:lnTo>
                    <a:pt x="267" y="781"/>
                  </a:lnTo>
                  <a:lnTo>
                    <a:pt x="216" y="711"/>
                  </a:lnTo>
                  <a:lnTo>
                    <a:pt x="0" y="0"/>
                  </a:lnTo>
                  <a:lnTo>
                    <a:pt x="51" y="72"/>
                  </a:lnTo>
                  <a:lnTo>
                    <a:pt x="106" y="141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8840" y="3351600"/>
              <a:ext cx="43920" cy="71280"/>
            </a:xfrm>
            <a:custGeom>
              <a:avLst/>
              <a:gdLst/>
              <a:ahLst/>
              <a:rect l="l" t="t" r="r" b="b"/>
              <a:pathLst>
                <a:path w="310" h="864">
                  <a:moveTo>
                    <a:pt x="94" y="153"/>
                  </a:moveTo>
                  <a:lnTo>
                    <a:pt x="310" y="864"/>
                  </a:lnTo>
                  <a:lnTo>
                    <a:pt x="263" y="791"/>
                  </a:lnTo>
                  <a:lnTo>
                    <a:pt x="219" y="715"/>
                  </a:lnTo>
                  <a:lnTo>
                    <a:pt x="0" y="0"/>
                  </a:lnTo>
                  <a:lnTo>
                    <a:pt x="46" y="78"/>
                  </a:lnTo>
                  <a:lnTo>
                    <a:pt x="94" y="153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2640" y="3450960"/>
              <a:ext cx="28080" cy="59040"/>
            </a:xfrm>
            <a:custGeom>
              <a:avLst/>
              <a:gdLst/>
              <a:ahLst/>
              <a:rect l="l" t="t" r="r" b="b"/>
              <a:pathLst>
                <a:path w="187" h="722">
                  <a:moveTo>
                    <a:pt x="38" y="40"/>
                  </a:moveTo>
                  <a:lnTo>
                    <a:pt x="187" y="722"/>
                  </a:lnTo>
                  <a:lnTo>
                    <a:pt x="182" y="718"/>
                  </a:lnTo>
                  <a:lnTo>
                    <a:pt x="178" y="713"/>
                  </a:lnTo>
                  <a:lnTo>
                    <a:pt x="173" y="708"/>
                  </a:lnTo>
                  <a:lnTo>
                    <a:pt x="169" y="703"/>
                  </a:lnTo>
                  <a:lnTo>
                    <a:pt x="165" y="698"/>
                  </a:lnTo>
                  <a:lnTo>
                    <a:pt x="160" y="694"/>
                  </a:lnTo>
                  <a:lnTo>
                    <a:pt x="155" y="689"/>
                  </a:lnTo>
                  <a:lnTo>
                    <a:pt x="150" y="684"/>
                  </a:lnTo>
                  <a:lnTo>
                    <a:pt x="0" y="0"/>
                  </a:lnTo>
                  <a:lnTo>
                    <a:pt x="5" y="6"/>
                  </a:lnTo>
                  <a:lnTo>
                    <a:pt x="9" y="11"/>
                  </a:lnTo>
                  <a:lnTo>
                    <a:pt x="14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2" y="35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29360" y="3534840"/>
              <a:ext cx="36000" cy="68040"/>
            </a:xfrm>
            <a:custGeom>
              <a:avLst/>
              <a:gdLst/>
              <a:ahLst/>
              <a:rect l="l" t="t" r="r" b="b"/>
              <a:pathLst>
                <a:path w="246" h="814">
                  <a:moveTo>
                    <a:pt x="104" y="161"/>
                  </a:moveTo>
                  <a:lnTo>
                    <a:pt x="246" y="814"/>
                  </a:lnTo>
                  <a:lnTo>
                    <a:pt x="224" y="783"/>
                  </a:lnTo>
                  <a:lnTo>
                    <a:pt x="203" y="752"/>
                  </a:lnTo>
                  <a:lnTo>
                    <a:pt x="182" y="721"/>
                  </a:lnTo>
                  <a:lnTo>
                    <a:pt x="163" y="690"/>
                  </a:lnTo>
                  <a:lnTo>
                    <a:pt x="143" y="657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40" y="65"/>
                  </a:lnTo>
                  <a:lnTo>
                    <a:pt x="60" y="97"/>
                  </a:lnTo>
                  <a:lnTo>
                    <a:pt x="82" y="129"/>
                  </a:lnTo>
                  <a:lnTo>
                    <a:pt x="104" y="161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6760" y="3520800"/>
              <a:ext cx="32040" cy="68040"/>
            </a:xfrm>
            <a:custGeom>
              <a:avLst/>
              <a:gdLst/>
              <a:ahLst/>
              <a:rect l="l" t="t" r="r" b="b"/>
              <a:pathLst>
                <a:path w="232" h="822">
                  <a:moveTo>
                    <a:pt x="89" y="165"/>
                  </a:moveTo>
                  <a:lnTo>
                    <a:pt x="232" y="822"/>
                  </a:lnTo>
                  <a:lnTo>
                    <a:pt x="214" y="791"/>
                  </a:lnTo>
                  <a:lnTo>
                    <a:pt x="196" y="759"/>
                  </a:lnTo>
                  <a:lnTo>
                    <a:pt x="179" y="727"/>
                  </a:lnTo>
                  <a:lnTo>
                    <a:pt x="163" y="694"/>
                  </a:lnTo>
                  <a:lnTo>
                    <a:pt x="146" y="661"/>
                  </a:lnTo>
                  <a:lnTo>
                    <a:pt x="0" y="0"/>
                  </a:lnTo>
                  <a:lnTo>
                    <a:pt x="16" y="33"/>
                  </a:lnTo>
                  <a:lnTo>
                    <a:pt x="33" y="66"/>
                  </a:lnTo>
                  <a:lnTo>
                    <a:pt x="51" y="100"/>
                  </a:lnTo>
                  <a:lnTo>
                    <a:pt x="69" y="133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04880" y="3503520"/>
              <a:ext cx="31680" cy="70920"/>
            </a:xfrm>
            <a:custGeom>
              <a:avLst/>
              <a:gdLst/>
              <a:ahLst/>
              <a:rect l="l" t="t" r="r" b="b"/>
              <a:pathLst>
                <a:path w="226" h="869">
                  <a:moveTo>
                    <a:pt x="80" y="208"/>
                  </a:moveTo>
                  <a:lnTo>
                    <a:pt x="226" y="869"/>
                  </a:lnTo>
                  <a:lnTo>
                    <a:pt x="212" y="836"/>
                  </a:lnTo>
                  <a:lnTo>
                    <a:pt x="197" y="802"/>
                  </a:lnTo>
                  <a:lnTo>
                    <a:pt x="184" y="769"/>
                  </a:lnTo>
                  <a:lnTo>
                    <a:pt x="171" y="736"/>
                  </a:lnTo>
                  <a:lnTo>
                    <a:pt x="160" y="702"/>
                  </a:lnTo>
                  <a:lnTo>
                    <a:pt x="148" y="668"/>
                  </a:lnTo>
                  <a:lnTo>
                    <a:pt x="0" y="0"/>
                  </a:lnTo>
                  <a:lnTo>
                    <a:pt x="11" y="36"/>
                  </a:lnTo>
                  <a:lnTo>
                    <a:pt x="23" y="70"/>
                  </a:lnTo>
                  <a:lnTo>
                    <a:pt x="35" y="105"/>
                  </a:lnTo>
                  <a:lnTo>
                    <a:pt x="50" y="139"/>
                  </a:lnTo>
                  <a:lnTo>
                    <a:pt x="64" y="173"/>
                  </a:lnTo>
                  <a:lnTo>
                    <a:pt x="80" y="20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00920" y="3494880"/>
              <a:ext cx="25920" cy="64440"/>
            </a:xfrm>
            <a:custGeom>
              <a:avLst/>
              <a:gdLst/>
              <a:ahLst/>
              <a:rect l="l" t="t" r="r" b="b"/>
              <a:pathLst>
                <a:path w="177" h="774">
                  <a:moveTo>
                    <a:pt x="29" y="106"/>
                  </a:moveTo>
                  <a:lnTo>
                    <a:pt x="177" y="774"/>
                  </a:lnTo>
                  <a:lnTo>
                    <a:pt x="167" y="740"/>
                  </a:lnTo>
                  <a:lnTo>
                    <a:pt x="158" y="705"/>
                  </a:lnTo>
                  <a:lnTo>
                    <a:pt x="150" y="670"/>
                  </a:lnTo>
                  <a:lnTo>
                    <a:pt x="0" y="0"/>
                  </a:lnTo>
                  <a:lnTo>
                    <a:pt x="8" y="36"/>
                  </a:lnTo>
                  <a:lnTo>
                    <a:pt x="18" y="71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8760" y="3337560"/>
              <a:ext cx="39960" cy="73080"/>
            </a:xfrm>
            <a:custGeom>
              <a:avLst/>
              <a:gdLst/>
              <a:ahLst/>
              <a:rect l="l" t="t" r="r" b="b"/>
              <a:pathLst>
                <a:path w="289" h="872">
                  <a:moveTo>
                    <a:pt x="70" y="157"/>
                  </a:moveTo>
                  <a:lnTo>
                    <a:pt x="289" y="872"/>
                  </a:lnTo>
                  <a:lnTo>
                    <a:pt x="265" y="821"/>
                  </a:lnTo>
                  <a:lnTo>
                    <a:pt x="242" y="771"/>
                  </a:lnTo>
                  <a:lnTo>
                    <a:pt x="221" y="720"/>
                  </a:lnTo>
                  <a:lnTo>
                    <a:pt x="0" y="0"/>
                  </a:lnTo>
                  <a:lnTo>
                    <a:pt x="22" y="53"/>
                  </a:lnTo>
                  <a:lnTo>
                    <a:pt x="45" y="105"/>
                  </a:lnTo>
                  <a:lnTo>
                    <a:pt x="70" y="157"/>
                  </a:lnTo>
                  <a:close/>
                </a:path>
              </a:pathLst>
            </a:custGeom>
            <a:solidFill>
              <a:srgbClr val="2d2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1200" y="3325320"/>
              <a:ext cx="37800" cy="73080"/>
            </a:xfrm>
            <a:custGeom>
              <a:avLst/>
              <a:gdLst/>
              <a:ahLst/>
              <a:rect l="l" t="t" r="r" b="b"/>
              <a:pathLst>
                <a:path w="274" h="875">
                  <a:moveTo>
                    <a:pt x="53" y="155"/>
                  </a:moveTo>
                  <a:lnTo>
                    <a:pt x="274" y="875"/>
                  </a:lnTo>
                  <a:lnTo>
                    <a:pt x="255" y="824"/>
                  </a:lnTo>
                  <a:lnTo>
                    <a:pt x="238" y="774"/>
                  </a:lnTo>
                  <a:lnTo>
                    <a:pt x="221" y="724"/>
                  </a:lnTo>
                  <a:lnTo>
                    <a:pt x="0" y="0"/>
                  </a:lnTo>
                  <a:lnTo>
                    <a:pt x="16" y="52"/>
                  </a:lnTo>
                  <a:lnTo>
                    <a:pt x="33" y="103"/>
                  </a:lnTo>
                  <a:lnTo>
                    <a:pt x="53" y="155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00120" y="3119400"/>
              <a:ext cx="42120" cy="77040"/>
            </a:xfrm>
            <a:custGeom>
              <a:avLst/>
              <a:gdLst/>
              <a:ahLst/>
              <a:rect l="l" t="t" r="r" b="b"/>
              <a:pathLst>
                <a:path w="289" h="914">
                  <a:moveTo>
                    <a:pt x="125" y="132"/>
                  </a:moveTo>
                  <a:lnTo>
                    <a:pt x="289" y="914"/>
                  </a:lnTo>
                  <a:lnTo>
                    <a:pt x="256" y="883"/>
                  </a:lnTo>
                  <a:lnTo>
                    <a:pt x="225" y="851"/>
                  </a:lnTo>
                  <a:lnTo>
                    <a:pt x="195" y="818"/>
                  </a:lnTo>
                  <a:lnTo>
                    <a:pt x="168" y="785"/>
                  </a:lnTo>
                  <a:lnTo>
                    <a:pt x="0" y="0"/>
                  </a:lnTo>
                  <a:lnTo>
                    <a:pt x="29" y="33"/>
                  </a:lnTo>
                  <a:lnTo>
                    <a:pt x="60" y="67"/>
                  </a:lnTo>
                  <a:lnTo>
                    <a:pt x="92" y="100"/>
                  </a:lnTo>
                  <a:lnTo>
                    <a:pt x="125" y="132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82480" y="3105360"/>
              <a:ext cx="41760" cy="80280"/>
            </a:xfrm>
            <a:custGeom>
              <a:avLst/>
              <a:gdLst/>
              <a:ahLst/>
              <a:rect l="l" t="t" r="r" b="b"/>
              <a:pathLst>
                <a:path w="288" h="961">
                  <a:moveTo>
                    <a:pt x="120" y="176"/>
                  </a:moveTo>
                  <a:lnTo>
                    <a:pt x="288" y="961"/>
                  </a:lnTo>
                  <a:lnTo>
                    <a:pt x="261" y="928"/>
                  </a:lnTo>
                  <a:lnTo>
                    <a:pt x="236" y="894"/>
                  </a:lnTo>
                  <a:lnTo>
                    <a:pt x="213" y="860"/>
                  </a:lnTo>
                  <a:lnTo>
                    <a:pt x="191" y="826"/>
                  </a:lnTo>
                  <a:lnTo>
                    <a:pt x="171" y="790"/>
                  </a:lnTo>
                  <a:lnTo>
                    <a:pt x="0" y="0"/>
                  </a:lnTo>
                  <a:lnTo>
                    <a:pt x="21" y="36"/>
                  </a:lnTo>
                  <a:lnTo>
                    <a:pt x="43" y="72"/>
                  </a:lnTo>
                  <a:lnTo>
                    <a:pt x="68" y="107"/>
                  </a:lnTo>
                  <a:lnTo>
                    <a:pt x="94" y="141"/>
                  </a:lnTo>
                  <a:lnTo>
                    <a:pt x="120" y="176"/>
                  </a:lnTo>
                  <a:close/>
                </a:path>
              </a:pathLst>
            </a:custGeom>
            <a:solidFill>
              <a:srgbClr val="312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72400" y="3089880"/>
              <a:ext cx="36000" cy="81720"/>
            </a:xfrm>
            <a:custGeom>
              <a:avLst/>
              <a:gdLst/>
              <a:ahLst/>
              <a:rect l="l" t="t" r="r" b="b"/>
              <a:pathLst>
                <a:path w="252" h="978">
                  <a:moveTo>
                    <a:pt x="81" y="188"/>
                  </a:moveTo>
                  <a:lnTo>
                    <a:pt x="252" y="978"/>
                  </a:lnTo>
                  <a:lnTo>
                    <a:pt x="232" y="942"/>
                  </a:lnTo>
                  <a:lnTo>
                    <a:pt x="216" y="906"/>
                  </a:lnTo>
                  <a:lnTo>
                    <a:pt x="199" y="870"/>
                  </a:lnTo>
                  <a:lnTo>
                    <a:pt x="186" y="833"/>
                  </a:lnTo>
                  <a:lnTo>
                    <a:pt x="173" y="795"/>
                  </a:lnTo>
                  <a:lnTo>
                    <a:pt x="0" y="0"/>
                  </a:lnTo>
                  <a:lnTo>
                    <a:pt x="14" y="39"/>
                  </a:lnTo>
                  <a:lnTo>
                    <a:pt x="28" y="76"/>
                  </a:lnTo>
                  <a:lnTo>
                    <a:pt x="43" y="114"/>
                  </a:lnTo>
                  <a:lnTo>
                    <a:pt x="62" y="151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68080" y="3083040"/>
              <a:ext cx="28080" cy="73080"/>
            </a:xfrm>
            <a:custGeom>
              <a:avLst/>
              <a:gdLst/>
              <a:ahLst/>
              <a:rect l="l" t="t" r="r" b="b"/>
              <a:pathLst>
                <a:path w="193" h="873">
                  <a:moveTo>
                    <a:pt x="20" y="78"/>
                  </a:moveTo>
                  <a:lnTo>
                    <a:pt x="193" y="873"/>
                  </a:lnTo>
                  <a:lnTo>
                    <a:pt x="182" y="836"/>
                  </a:lnTo>
                  <a:lnTo>
                    <a:pt x="173" y="798"/>
                  </a:lnTo>
                  <a:lnTo>
                    <a:pt x="0" y="0"/>
                  </a:lnTo>
                  <a:lnTo>
                    <a:pt x="9" y="40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262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0760" y="2819520"/>
              <a:ext cx="2356920" cy="956160"/>
            </a:xfrm>
            <a:custGeom>
              <a:avLst/>
              <a:gdLst/>
              <a:ahLst/>
              <a:rect l="l" t="t" r="r" b="b"/>
              <a:pathLst>
                <a:path w="16408" h="11518">
                  <a:moveTo>
                    <a:pt x="12894" y="1455"/>
                  </a:moveTo>
                  <a:lnTo>
                    <a:pt x="12992" y="1452"/>
                  </a:lnTo>
                  <a:lnTo>
                    <a:pt x="13091" y="1453"/>
                  </a:lnTo>
                  <a:lnTo>
                    <a:pt x="13190" y="1456"/>
                  </a:lnTo>
                  <a:lnTo>
                    <a:pt x="13290" y="1463"/>
                  </a:lnTo>
                  <a:lnTo>
                    <a:pt x="13391" y="1473"/>
                  </a:lnTo>
                  <a:lnTo>
                    <a:pt x="13490" y="1485"/>
                  </a:lnTo>
                  <a:lnTo>
                    <a:pt x="13591" y="1501"/>
                  </a:lnTo>
                  <a:lnTo>
                    <a:pt x="13690" y="1519"/>
                  </a:lnTo>
                  <a:lnTo>
                    <a:pt x="13790" y="1541"/>
                  </a:lnTo>
                  <a:lnTo>
                    <a:pt x="13888" y="1566"/>
                  </a:lnTo>
                  <a:lnTo>
                    <a:pt x="13987" y="1594"/>
                  </a:lnTo>
                  <a:lnTo>
                    <a:pt x="14083" y="1626"/>
                  </a:lnTo>
                  <a:lnTo>
                    <a:pt x="14179" y="1659"/>
                  </a:lnTo>
                  <a:lnTo>
                    <a:pt x="14273" y="1696"/>
                  </a:lnTo>
                  <a:lnTo>
                    <a:pt x="14365" y="1737"/>
                  </a:lnTo>
                  <a:lnTo>
                    <a:pt x="14455" y="1781"/>
                  </a:lnTo>
                  <a:lnTo>
                    <a:pt x="14545" y="1828"/>
                  </a:lnTo>
                  <a:lnTo>
                    <a:pt x="14631" y="1878"/>
                  </a:lnTo>
                  <a:lnTo>
                    <a:pt x="14715" y="1931"/>
                  </a:lnTo>
                  <a:lnTo>
                    <a:pt x="14797" y="1987"/>
                  </a:lnTo>
                  <a:lnTo>
                    <a:pt x="14876" y="2046"/>
                  </a:lnTo>
                  <a:lnTo>
                    <a:pt x="14952" y="2109"/>
                  </a:lnTo>
                  <a:lnTo>
                    <a:pt x="15026" y="2174"/>
                  </a:lnTo>
                  <a:lnTo>
                    <a:pt x="15095" y="2244"/>
                  </a:lnTo>
                  <a:lnTo>
                    <a:pt x="15162" y="2316"/>
                  </a:lnTo>
                  <a:lnTo>
                    <a:pt x="15225" y="2392"/>
                  </a:lnTo>
                  <a:lnTo>
                    <a:pt x="15283" y="2471"/>
                  </a:lnTo>
                  <a:lnTo>
                    <a:pt x="15338" y="2554"/>
                  </a:lnTo>
                  <a:lnTo>
                    <a:pt x="15389" y="2639"/>
                  </a:lnTo>
                  <a:lnTo>
                    <a:pt x="15436" y="2727"/>
                  </a:lnTo>
                  <a:lnTo>
                    <a:pt x="15478" y="2820"/>
                  </a:lnTo>
                  <a:lnTo>
                    <a:pt x="15515" y="2915"/>
                  </a:lnTo>
                  <a:lnTo>
                    <a:pt x="15530" y="2973"/>
                  </a:lnTo>
                  <a:lnTo>
                    <a:pt x="15544" y="3031"/>
                  </a:lnTo>
                  <a:lnTo>
                    <a:pt x="15555" y="3088"/>
                  </a:lnTo>
                  <a:lnTo>
                    <a:pt x="15563" y="3144"/>
                  </a:lnTo>
                  <a:lnTo>
                    <a:pt x="15569" y="3199"/>
                  </a:lnTo>
                  <a:lnTo>
                    <a:pt x="15573" y="3255"/>
                  </a:lnTo>
                  <a:lnTo>
                    <a:pt x="15575" y="3310"/>
                  </a:lnTo>
                  <a:lnTo>
                    <a:pt x="15575" y="3364"/>
                  </a:lnTo>
                  <a:lnTo>
                    <a:pt x="15572" y="3417"/>
                  </a:lnTo>
                  <a:lnTo>
                    <a:pt x="15568" y="3470"/>
                  </a:lnTo>
                  <a:lnTo>
                    <a:pt x="15561" y="3522"/>
                  </a:lnTo>
                  <a:lnTo>
                    <a:pt x="15553" y="3573"/>
                  </a:lnTo>
                  <a:lnTo>
                    <a:pt x="15541" y="3624"/>
                  </a:lnTo>
                  <a:lnTo>
                    <a:pt x="15528" y="3674"/>
                  </a:lnTo>
                  <a:lnTo>
                    <a:pt x="15514" y="3724"/>
                  </a:lnTo>
                  <a:lnTo>
                    <a:pt x="15496" y="3773"/>
                  </a:lnTo>
                  <a:lnTo>
                    <a:pt x="15478" y="3821"/>
                  </a:lnTo>
                  <a:lnTo>
                    <a:pt x="15456" y="3868"/>
                  </a:lnTo>
                  <a:lnTo>
                    <a:pt x="15434" y="3915"/>
                  </a:lnTo>
                  <a:lnTo>
                    <a:pt x="15409" y="3960"/>
                  </a:lnTo>
                  <a:lnTo>
                    <a:pt x="15383" y="4005"/>
                  </a:lnTo>
                  <a:lnTo>
                    <a:pt x="15355" y="4049"/>
                  </a:lnTo>
                  <a:lnTo>
                    <a:pt x="15324" y="4093"/>
                  </a:lnTo>
                  <a:lnTo>
                    <a:pt x="15292" y="4135"/>
                  </a:lnTo>
                  <a:lnTo>
                    <a:pt x="15259" y="4177"/>
                  </a:lnTo>
                  <a:lnTo>
                    <a:pt x="15224" y="4219"/>
                  </a:lnTo>
                  <a:lnTo>
                    <a:pt x="15187" y="4258"/>
                  </a:lnTo>
                  <a:lnTo>
                    <a:pt x="15149" y="4298"/>
                  </a:lnTo>
                  <a:lnTo>
                    <a:pt x="15108" y="4336"/>
                  </a:lnTo>
                  <a:lnTo>
                    <a:pt x="15067" y="4374"/>
                  </a:lnTo>
                  <a:lnTo>
                    <a:pt x="15023" y="4410"/>
                  </a:lnTo>
                  <a:lnTo>
                    <a:pt x="14978" y="4447"/>
                  </a:lnTo>
                  <a:lnTo>
                    <a:pt x="15048" y="4466"/>
                  </a:lnTo>
                  <a:lnTo>
                    <a:pt x="15117" y="4487"/>
                  </a:lnTo>
                  <a:lnTo>
                    <a:pt x="15186" y="4510"/>
                  </a:lnTo>
                  <a:lnTo>
                    <a:pt x="15252" y="4534"/>
                  </a:lnTo>
                  <a:lnTo>
                    <a:pt x="15318" y="4561"/>
                  </a:lnTo>
                  <a:lnTo>
                    <a:pt x="15381" y="4588"/>
                  </a:lnTo>
                  <a:lnTo>
                    <a:pt x="15444" y="4619"/>
                  </a:lnTo>
                  <a:lnTo>
                    <a:pt x="15506" y="4650"/>
                  </a:lnTo>
                  <a:lnTo>
                    <a:pt x="15566" y="4683"/>
                  </a:lnTo>
                  <a:lnTo>
                    <a:pt x="15625" y="4718"/>
                  </a:lnTo>
                  <a:lnTo>
                    <a:pt x="15681" y="4755"/>
                  </a:lnTo>
                  <a:lnTo>
                    <a:pt x="15736" y="4793"/>
                  </a:lnTo>
                  <a:lnTo>
                    <a:pt x="15790" y="4833"/>
                  </a:lnTo>
                  <a:lnTo>
                    <a:pt x="15841" y="4875"/>
                  </a:lnTo>
                  <a:lnTo>
                    <a:pt x="15891" y="4919"/>
                  </a:lnTo>
                  <a:lnTo>
                    <a:pt x="15939" y="4964"/>
                  </a:lnTo>
                  <a:lnTo>
                    <a:pt x="15985" y="5011"/>
                  </a:lnTo>
                  <a:lnTo>
                    <a:pt x="16030" y="5060"/>
                  </a:lnTo>
                  <a:lnTo>
                    <a:pt x="16072" y="5111"/>
                  </a:lnTo>
                  <a:lnTo>
                    <a:pt x="16112" y="5164"/>
                  </a:lnTo>
                  <a:lnTo>
                    <a:pt x="16150" y="5219"/>
                  </a:lnTo>
                  <a:lnTo>
                    <a:pt x="16184" y="5275"/>
                  </a:lnTo>
                  <a:lnTo>
                    <a:pt x="16218" y="5333"/>
                  </a:lnTo>
                  <a:lnTo>
                    <a:pt x="16249" y="5392"/>
                  </a:lnTo>
                  <a:lnTo>
                    <a:pt x="16278" y="5455"/>
                  </a:lnTo>
                  <a:lnTo>
                    <a:pt x="16303" y="5518"/>
                  </a:lnTo>
                  <a:lnTo>
                    <a:pt x="16327" y="5584"/>
                  </a:lnTo>
                  <a:lnTo>
                    <a:pt x="16349" y="5651"/>
                  </a:lnTo>
                  <a:lnTo>
                    <a:pt x="16367" y="5720"/>
                  </a:lnTo>
                  <a:lnTo>
                    <a:pt x="16382" y="5791"/>
                  </a:lnTo>
                  <a:lnTo>
                    <a:pt x="16396" y="5864"/>
                  </a:lnTo>
                  <a:lnTo>
                    <a:pt x="16406" y="5939"/>
                  </a:lnTo>
                  <a:lnTo>
                    <a:pt x="16408" y="6053"/>
                  </a:lnTo>
                  <a:lnTo>
                    <a:pt x="16404" y="6164"/>
                  </a:lnTo>
                  <a:lnTo>
                    <a:pt x="16395" y="6273"/>
                  </a:lnTo>
                  <a:lnTo>
                    <a:pt x="16378" y="6381"/>
                  </a:lnTo>
                  <a:lnTo>
                    <a:pt x="16357" y="6487"/>
                  </a:lnTo>
                  <a:lnTo>
                    <a:pt x="16329" y="6591"/>
                  </a:lnTo>
                  <a:lnTo>
                    <a:pt x="16296" y="6692"/>
                  </a:lnTo>
                  <a:lnTo>
                    <a:pt x="16258" y="6792"/>
                  </a:lnTo>
                  <a:lnTo>
                    <a:pt x="16215" y="6889"/>
                  </a:lnTo>
                  <a:lnTo>
                    <a:pt x="16167" y="6985"/>
                  </a:lnTo>
                  <a:lnTo>
                    <a:pt x="16115" y="7077"/>
                  </a:lnTo>
                  <a:lnTo>
                    <a:pt x="16058" y="7169"/>
                  </a:lnTo>
                  <a:lnTo>
                    <a:pt x="15997" y="7258"/>
                  </a:lnTo>
                  <a:lnTo>
                    <a:pt x="15932" y="7343"/>
                  </a:lnTo>
                  <a:lnTo>
                    <a:pt x="15862" y="7427"/>
                  </a:lnTo>
                  <a:lnTo>
                    <a:pt x="15791" y="7509"/>
                  </a:lnTo>
                  <a:lnTo>
                    <a:pt x="15715" y="7588"/>
                  </a:lnTo>
                  <a:lnTo>
                    <a:pt x="15635" y="7664"/>
                  </a:lnTo>
                  <a:lnTo>
                    <a:pt x="15553" y="7738"/>
                  </a:lnTo>
                  <a:lnTo>
                    <a:pt x="15468" y="7809"/>
                  </a:lnTo>
                  <a:lnTo>
                    <a:pt x="15380" y="7877"/>
                  </a:lnTo>
                  <a:lnTo>
                    <a:pt x="15290" y="7943"/>
                  </a:lnTo>
                  <a:lnTo>
                    <a:pt x="15198" y="8005"/>
                  </a:lnTo>
                  <a:lnTo>
                    <a:pt x="15104" y="8065"/>
                  </a:lnTo>
                  <a:lnTo>
                    <a:pt x="15008" y="8122"/>
                  </a:lnTo>
                  <a:lnTo>
                    <a:pt x="14910" y="8176"/>
                  </a:lnTo>
                  <a:lnTo>
                    <a:pt x="14811" y="8227"/>
                  </a:lnTo>
                  <a:lnTo>
                    <a:pt x="14711" y="8276"/>
                  </a:lnTo>
                  <a:lnTo>
                    <a:pt x="14610" y="8321"/>
                  </a:lnTo>
                  <a:lnTo>
                    <a:pt x="14508" y="8363"/>
                  </a:lnTo>
                  <a:lnTo>
                    <a:pt x="14406" y="8401"/>
                  </a:lnTo>
                  <a:lnTo>
                    <a:pt x="14303" y="8436"/>
                  </a:lnTo>
                  <a:lnTo>
                    <a:pt x="14269" y="8448"/>
                  </a:lnTo>
                  <a:lnTo>
                    <a:pt x="14234" y="8457"/>
                  </a:lnTo>
                  <a:lnTo>
                    <a:pt x="14199" y="8468"/>
                  </a:lnTo>
                  <a:lnTo>
                    <a:pt x="14165" y="8477"/>
                  </a:lnTo>
                  <a:lnTo>
                    <a:pt x="14130" y="8486"/>
                  </a:lnTo>
                  <a:lnTo>
                    <a:pt x="14095" y="8496"/>
                  </a:lnTo>
                  <a:lnTo>
                    <a:pt x="14062" y="8504"/>
                  </a:lnTo>
                  <a:lnTo>
                    <a:pt x="14027" y="8513"/>
                  </a:lnTo>
                  <a:lnTo>
                    <a:pt x="13992" y="8520"/>
                  </a:lnTo>
                  <a:lnTo>
                    <a:pt x="13957" y="8528"/>
                  </a:lnTo>
                  <a:lnTo>
                    <a:pt x="13923" y="8535"/>
                  </a:lnTo>
                  <a:lnTo>
                    <a:pt x="13888" y="8542"/>
                  </a:lnTo>
                  <a:lnTo>
                    <a:pt x="13853" y="8549"/>
                  </a:lnTo>
                  <a:lnTo>
                    <a:pt x="13819" y="8555"/>
                  </a:lnTo>
                  <a:lnTo>
                    <a:pt x="13784" y="8560"/>
                  </a:lnTo>
                  <a:lnTo>
                    <a:pt x="13749" y="8567"/>
                  </a:lnTo>
                  <a:lnTo>
                    <a:pt x="13713" y="8572"/>
                  </a:lnTo>
                  <a:lnTo>
                    <a:pt x="13678" y="8576"/>
                  </a:lnTo>
                  <a:lnTo>
                    <a:pt x="13643" y="8581"/>
                  </a:lnTo>
                  <a:lnTo>
                    <a:pt x="13608" y="8585"/>
                  </a:lnTo>
                  <a:lnTo>
                    <a:pt x="13572" y="8590"/>
                  </a:lnTo>
                  <a:lnTo>
                    <a:pt x="13538" y="8593"/>
                  </a:lnTo>
                  <a:lnTo>
                    <a:pt x="13502" y="8596"/>
                  </a:lnTo>
                  <a:lnTo>
                    <a:pt x="13466" y="8599"/>
                  </a:lnTo>
                  <a:lnTo>
                    <a:pt x="13431" y="8601"/>
                  </a:lnTo>
                  <a:lnTo>
                    <a:pt x="13395" y="8603"/>
                  </a:lnTo>
                  <a:lnTo>
                    <a:pt x="13359" y="8605"/>
                  </a:lnTo>
                  <a:lnTo>
                    <a:pt x="13323" y="8606"/>
                  </a:lnTo>
                  <a:lnTo>
                    <a:pt x="13287" y="8607"/>
                  </a:lnTo>
                  <a:lnTo>
                    <a:pt x="13250" y="8608"/>
                  </a:lnTo>
                  <a:lnTo>
                    <a:pt x="13215" y="8608"/>
                  </a:lnTo>
                  <a:lnTo>
                    <a:pt x="13179" y="8608"/>
                  </a:lnTo>
                  <a:lnTo>
                    <a:pt x="13156" y="8703"/>
                  </a:lnTo>
                  <a:lnTo>
                    <a:pt x="13132" y="8797"/>
                  </a:lnTo>
                  <a:lnTo>
                    <a:pt x="13105" y="8888"/>
                  </a:lnTo>
                  <a:lnTo>
                    <a:pt x="13075" y="8978"/>
                  </a:lnTo>
                  <a:lnTo>
                    <a:pt x="13042" y="9067"/>
                  </a:lnTo>
                  <a:lnTo>
                    <a:pt x="13006" y="9154"/>
                  </a:lnTo>
                  <a:lnTo>
                    <a:pt x="12969" y="9239"/>
                  </a:lnTo>
                  <a:lnTo>
                    <a:pt x="12928" y="9323"/>
                  </a:lnTo>
                  <a:lnTo>
                    <a:pt x="12886" y="9406"/>
                  </a:lnTo>
                  <a:lnTo>
                    <a:pt x="12840" y="9486"/>
                  </a:lnTo>
                  <a:lnTo>
                    <a:pt x="12793" y="9565"/>
                  </a:lnTo>
                  <a:lnTo>
                    <a:pt x="12744" y="9643"/>
                  </a:lnTo>
                  <a:lnTo>
                    <a:pt x="12692" y="9719"/>
                  </a:lnTo>
                  <a:lnTo>
                    <a:pt x="12637" y="9794"/>
                  </a:lnTo>
                  <a:lnTo>
                    <a:pt x="12581" y="9867"/>
                  </a:lnTo>
                  <a:lnTo>
                    <a:pt x="12522" y="9939"/>
                  </a:lnTo>
                  <a:lnTo>
                    <a:pt x="12462" y="10010"/>
                  </a:lnTo>
                  <a:lnTo>
                    <a:pt x="12399" y="10079"/>
                  </a:lnTo>
                  <a:lnTo>
                    <a:pt x="12336" y="10146"/>
                  </a:lnTo>
                  <a:lnTo>
                    <a:pt x="12269" y="10212"/>
                  </a:lnTo>
                  <a:lnTo>
                    <a:pt x="12201" y="10277"/>
                  </a:lnTo>
                  <a:lnTo>
                    <a:pt x="12132" y="10339"/>
                  </a:lnTo>
                  <a:lnTo>
                    <a:pt x="12060" y="10401"/>
                  </a:lnTo>
                  <a:lnTo>
                    <a:pt x="11987" y="10461"/>
                  </a:lnTo>
                  <a:lnTo>
                    <a:pt x="11912" y="10519"/>
                  </a:lnTo>
                  <a:lnTo>
                    <a:pt x="11836" y="10577"/>
                  </a:lnTo>
                  <a:lnTo>
                    <a:pt x="11758" y="10632"/>
                  </a:lnTo>
                  <a:lnTo>
                    <a:pt x="11679" y="10686"/>
                  </a:lnTo>
                  <a:lnTo>
                    <a:pt x="11599" y="10739"/>
                  </a:lnTo>
                  <a:lnTo>
                    <a:pt x="11517" y="10791"/>
                  </a:lnTo>
                  <a:lnTo>
                    <a:pt x="11434" y="10841"/>
                  </a:lnTo>
                  <a:lnTo>
                    <a:pt x="11350" y="10889"/>
                  </a:lnTo>
                  <a:lnTo>
                    <a:pt x="11320" y="10905"/>
                  </a:lnTo>
                  <a:lnTo>
                    <a:pt x="11292" y="10920"/>
                  </a:lnTo>
                  <a:lnTo>
                    <a:pt x="11262" y="10936"/>
                  </a:lnTo>
                  <a:lnTo>
                    <a:pt x="11232" y="10950"/>
                  </a:lnTo>
                  <a:lnTo>
                    <a:pt x="11203" y="10965"/>
                  </a:lnTo>
                  <a:lnTo>
                    <a:pt x="11174" y="10980"/>
                  </a:lnTo>
                  <a:lnTo>
                    <a:pt x="11144" y="10994"/>
                  </a:lnTo>
                  <a:lnTo>
                    <a:pt x="11114" y="11009"/>
                  </a:lnTo>
                  <a:lnTo>
                    <a:pt x="11084" y="11023"/>
                  </a:lnTo>
                  <a:lnTo>
                    <a:pt x="11054" y="11037"/>
                  </a:lnTo>
                  <a:lnTo>
                    <a:pt x="11024" y="11050"/>
                  </a:lnTo>
                  <a:lnTo>
                    <a:pt x="10994" y="11065"/>
                  </a:lnTo>
                  <a:lnTo>
                    <a:pt x="10964" y="11079"/>
                  </a:lnTo>
                  <a:lnTo>
                    <a:pt x="10934" y="11092"/>
                  </a:lnTo>
                  <a:lnTo>
                    <a:pt x="10903" y="11106"/>
                  </a:lnTo>
                  <a:lnTo>
                    <a:pt x="10872" y="11119"/>
                  </a:lnTo>
                  <a:lnTo>
                    <a:pt x="10805" y="11145"/>
                  </a:lnTo>
                  <a:lnTo>
                    <a:pt x="10737" y="11171"/>
                  </a:lnTo>
                  <a:lnTo>
                    <a:pt x="10668" y="11195"/>
                  </a:lnTo>
                  <a:lnTo>
                    <a:pt x="10601" y="11219"/>
                  </a:lnTo>
                  <a:lnTo>
                    <a:pt x="10533" y="11241"/>
                  </a:lnTo>
                  <a:lnTo>
                    <a:pt x="10466" y="11263"/>
                  </a:lnTo>
                  <a:lnTo>
                    <a:pt x="10399" y="11284"/>
                  </a:lnTo>
                  <a:lnTo>
                    <a:pt x="10331" y="11303"/>
                  </a:lnTo>
                  <a:lnTo>
                    <a:pt x="10263" y="11322"/>
                  </a:lnTo>
                  <a:lnTo>
                    <a:pt x="10197" y="11340"/>
                  </a:lnTo>
                  <a:lnTo>
                    <a:pt x="10129" y="11358"/>
                  </a:lnTo>
                  <a:lnTo>
                    <a:pt x="10061" y="11373"/>
                  </a:lnTo>
                  <a:lnTo>
                    <a:pt x="9993" y="11389"/>
                  </a:lnTo>
                  <a:lnTo>
                    <a:pt x="9926" y="11403"/>
                  </a:lnTo>
                  <a:lnTo>
                    <a:pt x="9858" y="11417"/>
                  </a:lnTo>
                  <a:lnTo>
                    <a:pt x="9789" y="11429"/>
                  </a:lnTo>
                  <a:lnTo>
                    <a:pt x="9722" y="11441"/>
                  </a:lnTo>
                  <a:lnTo>
                    <a:pt x="9653" y="11452"/>
                  </a:lnTo>
                  <a:lnTo>
                    <a:pt x="9584" y="11462"/>
                  </a:lnTo>
                  <a:lnTo>
                    <a:pt x="9516" y="11471"/>
                  </a:lnTo>
                  <a:lnTo>
                    <a:pt x="9447" y="11479"/>
                  </a:lnTo>
                  <a:lnTo>
                    <a:pt x="9377" y="11487"/>
                  </a:lnTo>
                  <a:lnTo>
                    <a:pt x="9307" y="11494"/>
                  </a:lnTo>
                  <a:lnTo>
                    <a:pt x="9238" y="11499"/>
                  </a:lnTo>
                  <a:lnTo>
                    <a:pt x="9167" y="11504"/>
                  </a:lnTo>
                  <a:lnTo>
                    <a:pt x="9097" y="11509"/>
                  </a:lnTo>
                  <a:lnTo>
                    <a:pt x="9025" y="11512"/>
                  </a:lnTo>
                  <a:lnTo>
                    <a:pt x="8954" y="11515"/>
                  </a:lnTo>
                  <a:lnTo>
                    <a:pt x="8882" y="11517"/>
                  </a:lnTo>
                  <a:lnTo>
                    <a:pt x="8810" y="11517"/>
                  </a:lnTo>
                  <a:lnTo>
                    <a:pt x="8737" y="11518"/>
                  </a:lnTo>
                  <a:lnTo>
                    <a:pt x="8663" y="11517"/>
                  </a:lnTo>
                  <a:lnTo>
                    <a:pt x="8262" y="11488"/>
                  </a:lnTo>
                  <a:lnTo>
                    <a:pt x="8161" y="11474"/>
                  </a:lnTo>
                  <a:lnTo>
                    <a:pt x="8060" y="11458"/>
                  </a:lnTo>
                  <a:lnTo>
                    <a:pt x="7959" y="11440"/>
                  </a:lnTo>
                  <a:lnTo>
                    <a:pt x="7858" y="11421"/>
                  </a:lnTo>
                  <a:lnTo>
                    <a:pt x="7758" y="11400"/>
                  </a:lnTo>
                  <a:lnTo>
                    <a:pt x="7657" y="11376"/>
                  </a:lnTo>
                  <a:lnTo>
                    <a:pt x="7558" y="11351"/>
                  </a:lnTo>
                  <a:lnTo>
                    <a:pt x="7459" y="11325"/>
                  </a:lnTo>
                  <a:lnTo>
                    <a:pt x="7362" y="11296"/>
                  </a:lnTo>
                  <a:lnTo>
                    <a:pt x="7265" y="11265"/>
                  </a:lnTo>
                  <a:lnTo>
                    <a:pt x="7168" y="11233"/>
                  </a:lnTo>
                  <a:lnTo>
                    <a:pt x="7072" y="11197"/>
                  </a:lnTo>
                  <a:lnTo>
                    <a:pt x="6978" y="11161"/>
                  </a:lnTo>
                  <a:lnTo>
                    <a:pt x="6884" y="11121"/>
                  </a:lnTo>
                  <a:lnTo>
                    <a:pt x="6792" y="11080"/>
                  </a:lnTo>
                  <a:lnTo>
                    <a:pt x="6701" y="11037"/>
                  </a:lnTo>
                  <a:lnTo>
                    <a:pt x="6611" y="10990"/>
                  </a:lnTo>
                  <a:lnTo>
                    <a:pt x="6522" y="10942"/>
                  </a:lnTo>
                  <a:lnTo>
                    <a:pt x="6436" y="10892"/>
                  </a:lnTo>
                  <a:lnTo>
                    <a:pt x="6350" y="10839"/>
                  </a:lnTo>
                  <a:lnTo>
                    <a:pt x="6266" y="10784"/>
                  </a:lnTo>
                  <a:lnTo>
                    <a:pt x="6184" y="10727"/>
                  </a:lnTo>
                  <a:lnTo>
                    <a:pt x="6104" y="10666"/>
                  </a:lnTo>
                  <a:lnTo>
                    <a:pt x="6025" y="10604"/>
                  </a:lnTo>
                  <a:lnTo>
                    <a:pt x="5948" y="10539"/>
                  </a:lnTo>
                  <a:lnTo>
                    <a:pt x="5873" y="10471"/>
                  </a:lnTo>
                  <a:lnTo>
                    <a:pt x="5800" y="10401"/>
                  </a:lnTo>
                  <a:lnTo>
                    <a:pt x="5729" y="10328"/>
                  </a:lnTo>
                  <a:lnTo>
                    <a:pt x="5662" y="10253"/>
                  </a:lnTo>
                  <a:lnTo>
                    <a:pt x="5595" y="10175"/>
                  </a:lnTo>
                  <a:lnTo>
                    <a:pt x="5532" y="10093"/>
                  </a:lnTo>
                  <a:lnTo>
                    <a:pt x="5470" y="10010"/>
                  </a:lnTo>
                  <a:lnTo>
                    <a:pt x="5380" y="10000"/>
                  </a:lnTo>
                  <a:lnTo>
                    <a:pt x="5290" y="9987"/>
                  </a:lnTo>
                  <a:lnTo>
                    <a:pt x="5199" y="9974"/>
                  </a:lnTo>
                  <a:lnTo>
                    <a:pt x="5109" y="9958"/>
                  </a:lnTo>
                  <a:lnTo>
                    <a:pt x="5020" y="9941"/>
                  </a:lnTo>
                  <a:lnTo>
                    <a:pt x="4931" y="9923"/>
                  </a:lnTo>
                  <a:lnTo>
                    <a:pt x="4842" y="9902"/>
                  </a:lnTo>
                  <a:lnTo>
                    <a:pt x="4754" y="9879"/>
                  </a:lnTo>
                  <a:lnTo>
                    <a:pt x="4666" y="9855"/>
                  </a:lnTo>
                  <a:lnTo>
                    <a:pt x="4579" y="9830"/>
                  </a:lnTo>
                  <a:lnTo>
                    <a:pt x="4493" y="9802"/>
                  </a:lnTo>
                  <a:lnTo>
                    <a:pt x="4408" y="9773"/>
                  </a:lnTo>
                  <a:lnTo>
                    <a:pt x="4322" y="9741"/>
                  </a:lnTo>
                  <a:lnTo>
                    <a:pt x="4238" y="9708"/>
                  </a:lnTo>
                  <a:lnTo>
                    <a:pt x="4155" y="9673"/>
                  </a:lnTo>
                  <a:lnTo>
                    <a:pt x="4073" y="9636"/>
                  </a:lnTo>
                  <a:lnTo>
                    <a:pt x="3993" y="9597"/>
                  </a:lnTo>
                  <a:lnTo>
                    <a:pt x="3913" y="9556"/>
                  </a:lnTo>
                  <a:lnTo>
                    <a:pt x="3834" y="9513"/>
                  </a:lnTo>
                  <a:lnTo>
                    <a:pt x="3757" y="9469"/>
                  </a:lnTo>
                  <a:lnTo>
                    <a:pt x="3682" y="9422"/>
                  </a:lnTo>
                  <a:lnTo>
                    <a:pt x="3607" y="9373"/>
                  </a:lnTo>
                  <a:lnTo>
                    <a:pt x="3533" y="9322"/>
                  </a:lnTo>
                  <a:lnTo>
                    <a:pt x="3461" y="9269"/>
                  </a:lnTo>
                  <a:lnTo>
                    <a:pt x="3391" y="9213"/>
                  </a:lnTo>
                  <a:lnTo>
                    <a:pt x="3323" y="9156"/>
                  </a:lnTo>
                  <a:lnTo>
                    <a:pt x="3256" y="9097"/>
                  </a:lnTo>
                  <a:lnTo>
                    <a:pt x="3191" y="9035"/>
                  </a:lnTo>
                  <a:lnTo>
                    <a:pt x="3128" y="8972"/>
                  </a:lnTo>
                  <a:lnTo>
                    <a:pt x="3066" y="8905"/>
                  </a:lnTo>
                  <a:lnTo>
                    <a:pt x="3007" y="8837"/>
                  </a:lnTo>
                  <a:lnTo>
                    <a:pt x="2949" y="8767"/>
                  </a:lnTo>
                  <a:lnTo>
                    <a:pt x="2927" y="8735"/>
                  </a:lnTo>
                  <a:lnTo>
                    <a:pt x="2905" y="8703"/>
                  </a:lnTo>
                  <a:lnTo>
                    <a:pt x="2885" y="8671"/>
                  </a:lnTo>
                  <a:lnTo>
                    <a:pt x="2864" y="8639"/>
                  </a:lnTo>
                  <a:lnTo>
                    <a:pt x="2845" y="8606"/>
                  </a:lnTo>
                  <a:lnTo>
                    <a:pt x="2825" y="8574"/>
                  </a:lnTo>
                  <a:lnTo>
                    <a:pt x="2807" y="8541"/>
                  </a:lnTo>
                  <a:lnTo>
                    <a:pt x="2789" y="8507"/>
                  </a:lnTo>
                  <a:lnTo>
                    <a:pt x="2772" y="8474"/>
                  </a:lnTo>
                  <a:lnTo>
                    <a:pt x="2756" y="8441"/>
                  </a:lnTo>
                  <a:lnTo>
                    <a:pt x="2740" y="8406"/>
                  </a:lnTo>
                  <a:lnTo>
                    <a:pt x="2726" y="8372"/>
                  </a:lnTo>
                  <a:lnTo>
                    <a:pt x="2711" y="8338"/>
                  </a:lnTo>
                  <a:lnTo>
                    <a:pt x="2699" y="8303"/>
                  </a:lnTo>
                  <a:lnTo>
                    <a:pt x="2687" y="8269"/>
                  </a:lnTo>
                  <a:lnTo>
                    <a:pt x="2676" y="8233"/>
                  </a:lnTo>
                  <a:lnTo>
                    <a:pt x="2665" y="8198"/>
                  </a:lnTo>
                  <a:lnTo>
                    <a:pt x="2655" y="8163"/>
                  </a:lnTo>
                  <a:lnTo>
                    <a:pt x="2647" y="8127"/>
                  </a:lnTo>
                  <a:lnTo>
                    <a:pt x="2640" y="8092"/>
                  </a:lnTo>
                  <a:lnTo>
                    <a:pt x="2633" y="8055"/>
                  </a:lnTo>
                  <a:lnTo>
                    <a:pt x="2627" y="8019"/>
                  </a:lnTo>
                  <a:lnTo>
                    <a:pt x="2623" y="7982"/>
                  </a:lnTo>
                  <a:lnTo>
                    <a:pt x="2620" y="7946"/>
                  </a:lnTo>
                  <a:lnTo>
                    <a:pt x="2617" y="7908"/>
                  </a:lnTo>
                  <a:lnTo>
                    <a:pt x="2616" y="7872"/>
                  </a:lnTo>
                  <a:lnTo>
                    <a:pt x="2616" y="7835"/>
                  </a:lnTo>
                  <a:lnTo>
                    <a:pt x="2617" y="7797"/>
                  </a:lnTo>
                  <a:lnTo>
                    <a:pt x="2620" y="7759"/>
                  </a:lnTo>
                  <a:lnTo>
                    <a:pt x="2623" y="7721"/>
                  </a:lnTo>
                  <a:lnTo>
                    <a:pt x="2628" y="7682"/>
                  </a:lnTo>
                  <a:lnTo>
                    <a:pt x="2635" y="7644"/>
                  </a:lnTo>
                  <a:lnTo>
                    <a:pt x="2629" y="7639"/>
                  </a:lnTo>
                  <a:lnTo>
                    <a:pt x="2625" y="7635"/>
                  </a:lnTo>
                  <a:lnTo>
                    <a:pt x="2620" y="7629"/>
                  </a:lnTo>
                  <a:lnTo>
                    <a:pt x="2615" y="7624"/>
                  </a:lnTo>
                  <a:lnTo>
                    <a:pt x="2611" y="7619"/>
                  </a:lnTo>
                  <a:lnTo>
                    <a:pt x="2606" y="7615"/>
                  </a:lnTo>
                  <a:lnTo>
                    <a:pt x="2602" y="7610"/>
                  </a:lnTo>
                  <a:lnTo>
                    <a:pt x="2597" y="7604"/>
                  </a:lnTo>
                  <a:lnTo>
                    <a:pt x="2506" y="7605"/>
                  </a:lnTo>
                  <a:lnTo>
                    <a:pt x="2415" y="7604"/>
                  </a:lnTo>
                  <a:lnTo>
                    <a:pt x="2325" y="7601"/>
                  </a:lnTo>
                  <a:lnTo>
                    <a:pt x="2235" y="7595"/>
                  </a:lnTo>
                  <a:lnTo>
                    <a:pt x="2144" y="7587"/>
                  </a:lnTo>
                  <a:lnTo>
                    <a:pt x="2055" y="7575"/>
                  </a:lnTo>
                  <a:lnTo>
                    <a:pt x="1966" y="7563"/>
                  </a:lnTo>
                  <a:lnTo>
                    <a:pt x="1878" y="7547"/>
                  </a:lnTo>
                  <a:lnTo>
                    <a:pt x="1791" y="7528"/>
                  </a:lnTo>
                  <a:lnTo>
                    <a:pt x="1704" y="7508"/>
                  </a:lnTo>
                  <a:lnTo>
                    <a:pt x="1618" y="7485"/>
                  </a:lnTo>
                  <a:lnTo>
                    <a:pt x="1533" y="7459"/>
                  </a:lnTo>
                  <a:lnTo>
                    <a:pt x="1450" y="7430"/>
                  </a:lnTo>
                  <a:lnTo>
                    <a:pt x="1368" y="7399"/>
                  </a:lnTo>
                  <a:lnTo>
                    <a:pt x="1287" y="7366"/>
                  </a:lnTo>
                  <a:lnTo>
                    <a:pt x="1207" y="7330"/>
                  </a:lnTo>
                  <a:lnTo>
                    <a:pt x="1128" y="7292"/>
                  </a:lnTo>
                  <a:lnTo>
                    <a:pt x="1052" y="7251"/>
                  </a:lnTo>
                  <a:lnTo>
                    <a:pt x="976" y="7208"/>
                  </a:lnTo>
                  <a:lnTo>
                    <a:pt x="903" y="7162"/>
                  </a:lnTo>
                  <a:lnTo>
                    <a:pt x="832" y="7113"/>
                  </a:lnTo>
                  <a:lnTo>
                    <a:pt x="762" y="7062"/>
                  </a:lnTo>
                  <a:lnTo>
                    <a:pt x="694" y="7008"/>
                  </a:lnTo>
                  <a:lnTo>
                    <a:pt x="629" y="6951"/>
                  </a:lnTo>
                  <a:lnTo>
                    <a:pt x="565" y="6892"/>
                  </a:lnTo>
                  <a:lnTo>
                    <a:pt x="505" y="6830"/>
                  </a:lnTo>
                  <a:lnTo>
                    <a:pt x="446" y="6766"/>
                  </a:lnTo>
                  <a:lnTo>
                    <a:pt x="390" y="6698"/>
                  </a:lnTo>
                  <a:lnTo>
                    <a:pt x="335" y="6629"/>
                  </a:lnTo>
                  <a:lnTo>
                    <a:pt x="284" y="6557"/>
                  </a:lnTo>
                  <a:lnTo>
                    <a:pt x="236" y="6482"/>
                  </a:lnTo>
                  <a:lnTo>
                    <a:pt x="190" y="6404"/>
                  </a:lnTo>
                  <a:lnTo>
                    <a:pt x="165" y="6352"/>
                  </a:lnTo>
                  <a:lnTo>
                    <a:pt x="142" y="6300"/>
                  </a:lnTo>
                  <a:lnTo>
                    <a:pt x="120" y="6247"/>
                  </a:lnTo>
                  <a:lnTo>
                    <a:pt x="100" y="6195"/>
                  </a:lnTo>
                  <a:lnTo>
                    <a:pt x="83" y="6144"/>
                  </a:lnTo>
                  <a:lnTo>
                    <a:pt x="67" y="6092"/>
                  </a:lnTo>
                  <a:lnTo>
                    <a:pt x="52" y="6040"/>
                  </a:lnTo>
                  <a:lnTo>
                    <a:pt x="39" y="5989"/>
                  </a:lnTo>
                  <a:lnTo>
                    <a:pt x="29" y="5937"/>
                  </a:lnTo>
                  <a:lnTo>
                    <a:pt x="19" y="5886"/>
                  </a:lnTo>
                  <a:lnTo>
                    <a:pt x="11" y="5834"/>
                  </a:lnTo>
                  <a:lnTo>
                    <a:pt x="6" y="5783"/>
                  </a:lnTo>
                  <a:lnTo>
                    <a:pt x="2" y="5732"/>
                  </a:lnTo>
                  <a:lnTo>
                    <a:pt x="0" y="5680"/>
                  </a:lnTo>
                  <a:lnTo>
                    <a:pt x="0" y="5629"/>
                  </a:lnTo>
                  <a:lnTo>
                    <a:pt x="1" y="5578"/>
                  </a:lnTo>
                  <a:lnTo>
                    <a:pt x="5" y="5527"/>
                  </a:lnTo>
                  <a:lnTo>
                    <a:pt x="10" y="5476"/>
                  </a:lnTo>
                  <a:lnTo>
                    <a:pt x="16" y="5425"/>
                  </a:lnTo>
                  <a:lnTo>
                    <a:pt x="26" y="5374"/>
                  </a:lnTo>
                  <a:lnTo>
                    <a:pt x="36" y="5323"/>
                  </a:lnTo>
                  <a:lnTo>
                    <a:pt x="48" y="5272"/>
                  </a:lnTo>
                  <a:lnTo>
                    <a:pt x="62" y="5221"/>
                  </a:lnTo>
                  <a:lnTo>
                    <a:pt x="78" y="5171"/>
                  </a:lnTo>
                  <a:lnTo>
                    <a:pt x="95" y="5120"/>
                  </a:lnTo>
                  <a:lnTo>
                    <a:pt x="115" y="5069"/>
                  </a:lnTo>
                  <a:lnTo>
                    <a:pt x="135" y="5018"/>
                  </a:lnTo>
                  <a:lnTo>
                    <a:pt x="158" y="4968"/>
                  </a:lnTo>
                  <a:lnTo>
                    <a:pt x="183" y="4917"/>
                  </a:lnTo>
                  <a:lnTo>
                    <a:pt x="209" y="4867"/>
                  </a:lnTo>
                  <a:lnTo>
                    <a:pt x="238" y="4815"/>
                  </a:lnTo>
                  <a:lnTo>
                    <a:pt x="268" y="4764"/>
                  </a:lnTo>
                  <a:lnTo>
                    <a:pt x="308" y="4708"/>
                  </a:lnTo>
                  <a:lnTo>
                    <a:pt x="349" y="4654"/>
                  </a:lnTo>
                  <a:lnTo>
                    <a:pt x="392" y="4601"/>
                  </a:lnTo>
                  <a:lnTo>
                    <a:pt x="436" y="4550"/>
                  </a:lnTo>
                  <a:lnTo>
                    <a:pt x="481" y="4500"/>
                  </a:lnTo>
                  <a:lnTo>
                    <a:pt x="527" y="4452"/>
                  </a:lnTo>
                  <a:lnTo>
                    <a:pt x="575" y="4406"/>
                  </a:lnTo>
                  <a:lnTo>
                    <a:pt x="625" y="4361"/>
                  </a:lnTo>
                  <a:lnTo>
                    <a:pt x="675" y="4318"/>
                  </a:lnTo>
                  <a:lnTo>
                    <a:pt x="726" y="4276"/>
                  </a:lnTo>
                  <a:lnTo>
                    <a:pt x="778" y="4236"/>
                  </a:lnTo>
                  <a:lnTo>
                    <a:pt x="832" y="4198"/>
                  </a:lnTo>
                  <a:lnTo>
                    <a:pt x="886" y="4161"/>
                  </a:lnTo>
                  <a:lnTo>
                    <a:pt x="941" y="4126"/>
                  </a:lnTo>
                  <a:lnTo>
                    <a:pt x="999" y="4092"/>
                  </a:lnTo>
                  <a:lnTo>
                    <a:pt x="1055" y="4060"/>
                  </a:lnTo>
                  <a:lnTo>
                    <a:pt x="1114" y="4029"/>
                  </a:lnTo>
                  <a:lnTo>
                    <a:pt x="1173" y="4000"/>
                  </a:lnTo>
                  <a:lnTo>
                    <a:pt x="1233" y="3973"/>
                  </a:lnTo>
                  <a:lnTo>
                    <a:pt x="1293" y="3947"/>
                  </a:lnTo>
                  <a:lnTo>
                    <a:pt x="1355" y="3922"/>
                  </a:lnTo>
                  <a:lnTo>
                    <a:pt x="1417" y="3899"/>
                  </a:lnTo>
                  <a:lnTo>
                    <a:pt x="1480" y="3877"/>
                  </a:lnTo>
                  <a:lnTo>
                    <a:pt x="1543" y="3857"/>
                  </a:lnTo>
                  <a:lnTo>
                    <a:pt x="1608" y="3839"/>
                  </a:lnTo>
                  <a:lnTo>
                    <a:pt x="1673" y="3822"/>
                  </a:lnTo>
                  <a:lnTo>
                    <a:pt x="1737" y="3806"/>
                  </a:lnTo>
                  <a:lnTo>
                    <a:pt x="1803" y="3792"/>
                  </a:lnTo>
                  <a:lnTo>
                    <a:pt x="1869" y="3779"/>
                  </a:lnTo>
                  <a:lnTo>
                    <a:pt x="1936" y="3768"/>
                  </a:lnTo>
                  <a:lnTo>
                    <a:pt x="2003" y="3758"/>
                  </a:lnTo>
                  <a:lnTo>
                    <a:pt x="2070" y="3750"/>
                  </a:lnTo>
                  <a:lnTo>
                    <a:pt x="2037" y="3718"/>
                  </a:lnTo>
                  <a:lnTo>
                    <a:pt x="2005" y="3685"/>
                  </a:lnTo>
                  <a:lnTo>
                    <a:pt x="1974" y="3651"/>
                  </a:lnTo>
                  <a:lnTo>
                    <a:pt x="1945" y="3618"/>
                  </a:lnTo>
                  <a:lnTo>
                    <a:pt x="1919" y="3583"/>
                  </a:lnTo>
                  <a:lnTo>
                    <a:pt x="1893" y="3549"/>
                  </a:lnTo>
                  <a:lnTo>
                    <a:pt x="1868" y="3514"/>
                  </a:lnTo>
                  <a:lnTo>
                    <a:pt x="1846" y="3478"/>
                  </a:lnTo>
                  <a:lnTo>
                    <a:pt x="1825" y="3442"/>
                  </a:lnTo>
                  <a:lnTo>
                    <a:pt x="1806" y="3405"/>
                  </a:lnTo>
                  <a:lnTo>
                    <a:pt x="1787" y="3368"/>
                  </a:lnTo>
                  <a:lnTo>
                    <a:pt x="1772" y="3330"/>
                  </a:lnTo>
                  <a:lnTo>
                    <a:pt x="1758" y="3293"/>
                  </a:lnTo>
                  <a:lnTo>
                    <a:pt x="1744" y="3254"/>
                  </a:lnTo>
                  <a:lnTo>
                    <a:pt x="1733" y="3216"/>
                  </a:lnTo>
                  <a:lnTo>
                    <a:pt x="1724" y="3176"/>
                  </a:lnTo>
                  <a:lnTo>
                    <a:pt x="1717" y="3137"/>
                  </a:lnTo>
                  <a:lnTo>
                    <a:pt x="1711" y="3097"/>
                  </a:lnTo>
                  <a:lnTo>
                    <a:pt x="1706" y="3058"/>
                  </a:lnTo>
                  <a:lnTo>
                    <a:pt x="1703" y="3017"/>
                  </a:lnTo>
                  <a:lnTo>
                    <a:pt x="1702" y="2975"/>
                  </a:lnTo>
                  <a:lnTo>
                    <a:pt x="1703" y="2935"/>
                  </a:lnTo>
                  <a:lnTo>
                    <a:pt x="1706" y="2893"/>
                  </a:lnTo>
                  <a:lnTo>
                    <a:pt x="1712" y="2851"/>
                  </a:lnTo>
                  <a:lnTo>
                    <a:pt x="1718" y="2809"/>
                  </a:lnTo>
                  <a:lnTo>
                    <a:pt x="1726" y="2767"/>
                  </a:lnTo>
                  <a:lnTo>
                    <a:pt x="1736" y="2724"/>
                  </a:lnTo>
                  <a:lnTo>
                    <a:pt x="1747" y="2681"/>
                  </a:lnTo>
                  <a:lnTo>
                    <a:pt x="1761" y="2638"/>
                  </a:lnTo>
                  <a:lnTo>
                    <a:pt x="1777" y="2594"/>
                  </a:lnTo>
                  <a:lnTo>
                    <a:pt x="1795" y="2550"/>
                  </a:lnTo>
                  <a:lnTo>
                    <a:pt x="1813" y="2507"/>
                  </a:lnTo>
                  <a:lnTo>
                    <a:pt x="1843" y="2454"/>
                  </a:lnTo>
                  <a:lnTo>
                    <a:pt x="1874" y="2404"/>
                  </a:lnTo>
                  <a:lnTo>
                    <a:pt x="1906" y="2354"/>
                  </a:lnTo>
                  <a:lnTo>
                    <a:pt x="1940" y="2306"/>
                  </a:lnTo>
                  <a:lnTo>
                    <a:pt x="1976" y="2260"/>
                  </a:lnTo>
                  <a:lnTo>
                    <a:pt x="2013" y="2215"/>
                  </a:lnTo>
                  <a:lnTo>
                    <a:pt x="2052" y="2171"/>
                  </a:lnTo>
                  <a:lnTo>
                    <a:pt x="2092" y="2129"/>
                  </a:lnTo>
                  <a:lnTo>
                    <a:pt x="2133" y="2088"/>
                  </a:lnTo>
                  <a:lnTo>
                    <a:pt x="2175" y="2048"/>
                  </a:lnTo>
                  <a:lnTo>
                    <a:pt x="2219" y="2011"/>
                  </a:lnTo>
                  <a:lnTo>
                    <a:pt x="2264" y="1973"/>
                  </a:lnTo>
                  <a:lnTo>
                    <a:pt x="2310" y="1938"/>
                  </a:lnTo>
                  <a:lnTo>
                    <a:pt x="2358" y="1904"/>
                  </a:lnTo>
                  <a:lnTo>
                    <a:pt x="2405" y="1871"/>
                  </a:lnTo>
                  <a:lnTo>
                    <a:pt x="2454" y="1839"/>
                  </a:lnTo>
                  <a:lnTo>
                    <a:pt x="2504" y="1809"/>
                  </a:lnTo>
                  <a:lnTo>
                    <a:pt x="2555" y="1780"/>
                  </a:lnTo>
                  <a:lnTo>
                    <a:pt x="2607" y="1752"/>
                  </a:lnTo>
                  <a:lnTo>
                    <a:pt x="2659" y="1725"/>
                  </a:lnTo>
                  <a:lnTo>
                    <a:pt x="2712" y="1699"/>
                  </a:lnTo>
                  <a:lnTo>
                    <a:pt x="2766" y="1675"/>
                  </a:lnTo>
                  <a:lnTo>
                    <a:pt x="2820" y="1651"/>
                  </a:lnTo>
                  <a:lnTo>
                    <a:pt x="2876" y="1629"/>
                  </a:lnTo>
                  <a:lnTo>
                    <a:pt x="2931" y="1607"/>
                  </a:lnTo>
                  <a:lnTo>
                    <a:pt x="2986" y="1587"/>
                  </a:lnTo>
                  <a:lnTo>
                    <a:pt x="3043" y="1568"/>
                  </a:lnTo>
                  <a:lnTo>
                    <a:pt x="3099" y="1550"/>
                  </a:lnTo>
                  <a:lnTo>
                    <a:pt x="3155" y="1533"/>
                  </a:lnTo>
                  <a:lnTo>
                    <a:pt x="3213" y="1516"/>
                  </a:lnTo>
                  <a:lnTo>
                    <a:pt x="3270" y="1502"/>
                  </a:lnTo>
                  <a:lnTo>
                    <a:pt x="3328" y="1487"/>
                  </a:lnTo>
                  <a:lnTo>
                    <a:pt x="3378" y="1477"/>
                  </a:lnTo>
                  <a:lnTo>
                    <a:pt x="3427" y="1467"/>
                  </a:lnTo>
                  <a:lnTo>
                    <a:pt x="3477" y="1458"/>
                  </a:lnTo>
                  <a:lnTo>
                    <a:pt x="3528" y="1451"/>
                  </a:lnTo>
                  <a:lnTo>
                    <a:pt x="3577" y="1442"/>
                  </a:lnTo>
                  <a:lnTo>
                    <a:pt x="3627" y="1436"/>
                  </a:lnTo>
                  <a:lnTo>
                    <a:pt x="3677" y="1430"/>
                  </a:lnTo>
                  <a:lnTo>
                    <a:pt x="3727" y="1425"/>
                  </a:lnTo>
                  <a:lnTo>
                    <a:pt x="3777" y="1420"/>
                  </a:lnTo>
                  <a:lnTo>
                    <a:pt x="3827" y="1416"/>
                  </a:lnTo>
                  <a:lnTo>
                    <a:pt x="3876" y="1413"/>
                  </a:lnTo>
                  <a:lnTo>
                    <a:pt x="3927" y="1411"/>
                  </a:lnTo>
                  <a:lnTo>
                    <a:pt x="3977" y="1410"/>
                  </a:lnTo>
                  <a:lnTo>
                    <a:pt x="4026" y="1409"/>
                  </a:lnTo>
                  <a:lnTo>
                    <a:pt x="4076" y="1409"/>
                  </a:lnTo>
                  <a:lnTo>
                    <a:pt x="4126" y="1410"/>
                  </a:lnTo>
                  <a:lnTo>
                    <a:pt x="4176" y="1412"/>
                  </a:lnTo>
                  <a:lnTo>
                    <a:pt x="4225" y="1414"/>
                  </a:lnTo>
                  <a:lnTo>
                    <a:pt x="4275" y="1417"/>
                  </a:lnTo>
                  <a:lnTo>
                    <a:pt x="4325" y="1422"/>
                  </a:lnTo>
                  <a:lnTo>
                    <a:pt x="4374" y="1427"/>
                  </a:lnTo>
                  <a:lnTo>
                    <a:pt x="4423" y="1433"/>
                  </a:lnTo>
                  <a:lnTo>
                    <a:pt x="4472" y="1439"/>
                  </a:lnTo>
                  <a:lnTo>
                    <a:pt x="4521" y="1447"/>
                  </a:lnTo>
                  <a:lnTo>
                    <a:pt x="4571" y="1455"/>
                  </a:lnTo>
                  <a:lnTo>
                    <a:pt x="4620" y="1464"/>
                  </a:lnTo>
                  <a:lnTo>
                    <a:pt x="4669" y="1475"/>
                  </a:lnTo>
                  <a:lnTo>
                    <a:pt x="4718" y="1485"/>
                  </a:lnTo>
                  <a:lnTo>
                    <a:pt x="4767" y="1498"/>
                  </a:lnTo>
                  <a:lnTo>
                    <a:pt x="4816" y="1510"/>
                  </a:lnTo>
                  <a:lnTo>
                    <a:pt x="4864" y="1524"/>
                  </a:lnTo>
                  <a:lnTo>
                    <a:pt x="4912" y="1537"/>
                  </a:lnTo>
                  <a:lnTo>
                    <a:pt x="4927" y="1532"/>
                  </a:lnTo>
                  <a:lnTo>
                    <a:pt x="4940" y="1526"/>
                  </a:lnTo>
                  <a:lnTo>
                    <a:pt x="4953" y="1519"/>
                  </a:lnTo>
                  <a:lnTo>
                    <a:pt x="4968" y="1513"/>
                  </a:lnTo>
                  <a:lnTo>
                    <a:pt x="4981" y="1508"/>
                  </a:lnTo>
                  <a:lnTo>
                    <a:pt x="4995" y="1502"/>
                  </a:lnTo>
                  <a:lnTo>
                    <a:pt x="5009" y="1495"/>
                  </a:lnTo>
                  <a:lnTo>
                    <a:pt x="5023" y="1490"/>
                  </a:lnTo>
                  <a:lnTo>
                    <a:pt x="5070" y="1401"/>
                  </a:lnTo>
                  <a:lnTo>
                    <a:pt x="5121" y="1315"/>
                  </a:lnTo>
                  <a:lnTo>
                    <a:pt x="5177" y="1232"/>
                  </a:lnTo>
                  <a:lnTo>
                    <a:pt x="5237" y="1153"/>
                  </a:lnTo>
                  <a:lnTo>
                    <a:pt x="5301" y="1077"/>
                  </a:lnTo>
                  <a:lnTo>
                    <a:pt x="5367" y="1003"/>
                  </a:lnTo>
                  <a:lnTo>
                    <a:pt x="5438" y="932"/>
                  </a:lnTo>
                  <a:lnTo>
                    <a:pt x="5513" y="865"/>
                  </a:lnTo>
                  <a:lnTo>
                    <a:pt x="5590" y="801"/>
                  </a:lnTo>
                  <a:lnTo>
                    <a:pt x="5670" y="738"/>
                  </a:lnTo>
                  <a:lnTo>
                    <a:pt x="5752" y="680"/>
                  </a:lnTo>
                  <a:lnTo>
                    <a:pt x="5838" y="624"/>
                  </a:lnTo>
                  <a:lnTo>
                    <a:pt x="5925" y="571"/>
                  </a:lnTo>
                  <a:lnTo>
                    <a:pt x="6015" y="520"/>
                  </a:lnTo>
                  <a:lnTo>
                    <a:pt x="6107" y="472"/>
                  </a:lnTo>
                  <a:lnTo>
                    <a:pt x="6200" y="426"/>
                  </a:lnTo>
                  <a:lnTo>
                    <a:pt x="6295" y="383"/>
                  </a:lnTo>
                  <a:lnTo>
                    <a:pt x="6391" y="343"/>
                  </a:lnTo>
                  <a:lnTo>
                    <a:pt x="6488" y="305"/>
                  </a:lnTo>
                  <a:lnTo>
                    <a:pt x="6587" y="269"/>
                  </a:lnTo>
                  <a:lnTo>
                    <a:pt x="6686" y="235"/>
                  </a:lnTo>
                  <a:lnTo>
                    <a:pt x="6787" y="205"/>
                  </a:lnTo>
                  <a:lnTo>
                    <a:pt x="6886" y="176"/>
                  </a:lnTo>
                  <a:lnTo>
                    <a:pt x="6988" y="150"/>
                  </a:lnTo>
                  <a:lnTo>
                    <a:pt x="7088" y="126"/>
                  </a:lnTo>
                  <a:lnTo>
                    <a:pt x="7189" y="103"/>
                  </a:lnTo>
                  <a:lnTo>
                    <a:pt x="7289" y="83"/>
                  </a:lnTo>
                  <a:lnTo>
                    <a:pt x="7389" y="66"/>
                  </a:lnTo>
                  <a:lnTo>
                    <a:pt x="7488" y="50"/>
                  </a:lnTo>
                  <a:lnTo>
                    <a:pt x="7587" y="36"/>
                  </a:lnTo>
                  <a:lnTo>
                    <a:pt x="7683" y="24"/>
                  </a:lnTo>
                  <a:lnTo>
                    <a:pt x="7779" y="14"/>
                  </a:lnTo>
                  <a:lnTo>
                    <a:pt x="7866" y="8"/>
                  </a:lnTo>
                  <a:lnTo>
                    <a:pt x="7952" y="4"/>
                  </a:lnTo>
                  <a:lnTo>
                    <a:pt x="8038" y="2"/>
                  </a:lnTo>
                  <a:lnTo>
                    <a:pt x="8125" y="0"/>
                  </a:lnTo>
                  <a:lnTo>
                    <a:pt x="8212" y="0"/>
                  </a:lnTo>
                  <a:lnTo>
                    <a:pt x="8299" y="1"/>
                  </a:lnTo>
                  <a:lnTo>
                    <a:pt x="8387" y="4"/>
                  </a:lnTo>
                  <a:lnTo>
                    <a:pt x="8475" y="8"/>
                  </a:lnTo>
                  <a:lnTo>
                    <a:pt x="8562" y="15"/>
                  </a:lnTo>
                  <a:lnTo>
                    <a:pt x="8650" y="22"/>
                  </a:lnTo>
                  <a:lnTo>
                    <a:pt x="8737" y="31"/>
                  </a:lnTo>
                  <a:lnTo>
                    <a:pt x="8824" y="42"/>
                  </a:lnTo>
                  <a:lnTo>
                    <a:pt x="8912" y="55"/>
                  </a:lnTo>
                  <a:lnTo>
                    <a:pt x="8998" y="69"/>
                  </a:lnTo>
                  <a:lnTo>
                    <a:pt x="9084" y="85"/>
                  </a:lnTo>
                  <a:lnTo>
                    <a:pt x="9170" y="104"/>
                  </a:lnTo>
                  <a:lnTo>
                    <a:pt x="9255" y="124"/>
                  </a:lnTo>
                  <a:lnTo>
                    <a:pt x="9339" y="146"/>
                  </a:lnTo>
                  <a:lnTo>
                    <a:pt x="9422" y="171"/>
                  </a:lnTo>
                  <a:lnTo>
                    <a:pt x="9505" y="197"/>
                  </a:lnTo>
                  <a:lnTo>
                    <a:pt x="9587" y="225"/>
                  </a:lnTo>
                  <a:lnTo>
                    <a:pt x="9668" y="256"/>
                  </a:lnTo>
                  <a:lnTo>
                    <a:pt x="9748" y="290"/>
                  </a:lnTo>
                  <a:lnTo>
                    <a:pt x="9827" y="324"/>
                  </a:lnTo>
                  <a:lnTo>
                    <a:pt x="9904" y="361"/>
                  </a:lnTo>
                  <a:lnTo>
                    <a:pt x="9981" y="402"/>
                  </a:lnTo>
                  <a:lnTo>
                    <a:pt x="10056" y="445"/>
                  </a:lnTo>
                  <a:lnTo>
                    <a:pt x="10130" y="489"/>
                  </a:lnTo>
                  <a:lnTo>
                    <a:pt x="10202" y="536"/>
                  </a:lnTo>
                  <a:lnTo>
                    <a:pt x="10272" y="586"/>
                  </a:lnTo>
                  <a:lnTo>
                    <a:pt x="10341" y="639"/>
                  </a:lnTo>
                  <a:lnTo>
                    <a:pt x="10409" y="695"/>
                  </a:lnTo>
                  <a:lnTo>
                    <a:pt x="10490" y="661"/>
                  </a:lnTo>
                  <a:lnTo>
                    <a:pt x="10572" y="633"/>
                  </a:lnTo>
                  <a:lnTo>
                    <a:pt x="10655" y="609"/>
                  </a:lnTo>
                  <a:lnTo>
                    <a:pt x="10739" y="589"/>
                  </a:lnTo>
                  <a:lnTo>
                    <a:pt x="10824" y="575"/>
                  </a:lnTo>
                  <a:lnTo>
                    <a:pt x="10910" y="563"/>
                  </a:lnTo>
                  <a:lnTo>
                    <a:pt x="10996" y="557"/>
                  </a:lnTo>
                  <a:lnTo>
                    <a:pt x="11083" y="554"/>
                  </a:lnTo>
                  <a:lnTo>
                    <a:pt x="11170" y="555"/>
                  </a:lnTo>
                  <a:lnTo>
                    <a:pt x="11256" y="559"/>
                  </a:lnTo>
                  <a:lnTo>
                    <a:pt x="11343" y="569"/>
                  </a:lnTo>
                  <a:lnTo>
                    <a:pt x="11429" y="581"/>
                  </a:lnTo>
                  <a:lnTo>
                    <a:pt x="11515" y="597"/>
                  </a:lnTo>
                  <a:lnTo>
                    <a:pt x="11600" y="615"/>
                  </a:lnTo>
                  <a:lnTo>
                    <a:pt x="11686" y="638"/>
                  </a:lnTo>
                  <a:lnTo>
                    <a:pt x="11770" y="664"/>
                  </a:lnTo>
                  <a:lnTo>
                    <a:pt x="11853" y="694"/>
                  </a:lnTo>
                  <a:lnTo>
                    <a:pt x="11936" y="726"/>
                  </a:lnTo>
                  <a:lnTo>
                    <a:pt x="12016" y="761"/>
                  </a:lnTo>
                  <a:lnTo>
                    <a:pt x="12096" y="800"/>
                  </a:lnTo>
                  <a:lnTo>
                    <a:pt x="12174" y="840"/>
                  </a:lnTo>
                  <a:lnTo>
                    <a:pt x="12251" y="884"/>
                  </a:lnTo>
                  <a:lnTo>
                    <a:pt x="12325" y="931"/>
                  </a:lnTo>
                  <a:lnTo>
                    <a:pt x="12398" y="980"/>
                  </a:lnTo>
                  <a:lnTo>
                    <a:pt x="12469" y="1031"/>
                  </a:lnTo>
                  <a:lnTo>
                    <a:pt x="12537" y="1085"/>
                  </a:lnTo>
                  <a:lnTo>
                    <a:pt x="12603" y="1141"/>
                  </a:lnTo>
                  <a:lnTo>
                    <a:pt x="12667" y="1200"/>
                  </a:lnTo>
                  <a:lnTo>
                    <a:pt x="12727" y="1261"/>
                  </a:lnTo>
                  <a:lnTo>
                    <a:pt x="12786" y="1324"/>
                  </a:lnTo>
                  <a:lnTo>
                    <a:pt x="12841" y="1388"/>
                  </a:lnTo>
                  <a:lnTo>
                    <a:pt x="12894" y="145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809880"/>
            <a:ext cx="152280" cy="1219320"/>
          </a:xfrm>
          <a:custGeom>
            <a:avLst/>
            <a:gdLst/>
            <a:ahLst/>
            <a:rect l="l" t="t" r="r" b="b"/>
            <a:pathLst>
              <a:path w="92" h="588">
                <a:moveTo>
                  <a:pt x="60" y="588"/>
                </a:moveTo>
                <a:lnTo>
                  <a:pt x="0" y="253"/>
                </a:lnTo>
                <a:lnTo>
                  <a:pt x="63" y="282"/>
                </a:lnTo>
                <a:lnTo>
                  <a:pt x="34" y="0"/>
                </a:lnTo>
                <a:lnTo>
                  <a:pt x="92" y="336"/>
                </a:lnTo>
                <a:lnTo>
                  <a:pt x="30" y="306"/>
                </a:lnTo>
                <a:lnTo>
                  <a:pt x="60" y="588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054000">
            <a:off x="4729320" y="3215880"/>
            <a:ext cx="982440" cy="147600"/>
          </a:xfrm>
          <a:custGeom>
            <a:avLst/>
            <a:gdLst/>
            <a:ahLst/>
            <a:rect l="l" t="t" r="r" b="b"/>
            <a:pathLst>
              <a:path w="545" h="96">
                <a:moveTo>
                  <a:pt x="0" y="0"/>
                </a:moveTo>
                <a:lnTo>
                  <a:pt x="322" y="13"/>
                </a:lnTo>
                <a:lnTo>
                  <a:pt x="281" y="68"/>
                </a:lnTo>
                <a:lnTo>
                  <a:pt x="545" y="96"/>
                </a:lnTo>
                <a:lnTo>
                  <a:pt x="221" y="83"/>
                </a:lnTo>
                <a:lnTo>
                  <a:pt x="264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962520"/>
            <a:ext cx="3112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8400" y="3392640"/>
            <a:ext cx="1059120" cy="569880"/>
          </a:xfrm>
          <a:custGeom>
            <a:avLst/>
            <a:gdLst/>
            <a:ahLst/>
            <a:rect l="l" t="t" r="r" b="b"/>
            <a:pathLst>
              <a:path w="667" h="354">
                <a:moveTo>
                  <a:pt x="0" y="0"/>
                </a:moveTo>
                <a:lnTo>
                  <a:pt x="0" y="354"/>
                </a:lnTo>
                <a:lnTo>
                  <a:pt x="667" y="35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0200" y="3392640"/>
            <a:ext cx="74520" cy="569880"/>
          </a:xfrm>
          <a:custGeom>
            <a:avLst/>
            <a:gdLst/>
            <a:ahLst/>
            <a:rect l="l" t="t" r="r" b="b"/>
            <a:pathLst>
              <a:path w="118" h="354">
                <a:moveTo>
                  <a:pt x="118" y="0"/>
                </a:moveTo>
                <a:lnTo>
                  <a:pt x="118" y="354"/>
                </a:lnTo>
                <a:lnTo>
                  <a:pt x="0" y="35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436920"/>
            <a:ext cx="1447560" cy="525600"/>
          </a:xfrm>
          <a:custGeom>
            <a:avLst/>
            <a:gdLst/>
            <a:ahLst/>
            <a:rect l="l" t="t" r="r" b="b"/>
            <a:pathLst>
              <a:path w="980" h="354">
                <a:moveTo>
                  <a:pt x="980" y="0"/>
                </a:moveTo>
                <a:lnTo>
                  <a:pt x="980" y="354"/>
                </a:lnTo>
                <a:lnTo>
                  <a:pt x="0" y="35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63680" y="2127240"/>
            <a:ext cx="977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NetW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9400" y="239076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</a:rPr>
              <a:t>文件服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6000840"/>
            <a:ext cx="31143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4680" y="5410080"/>
            <a:ext cx="1027440" cy="590760"/>
          </a:xfrm>
          <a:custGeom>
            <a:avLst/>
            <a:gdLst/>
            <a:ahLst/>
            <a:rect l="l" t="t" r="r" b="b"/>
            <a:pathLst>
              <a:path w="647" h="372">
                <a:moveTo>
                  <a:pt x="0" y="0"/>
                </a:moveTo>
                <a:lnTo>
                  <a:pt x="0" y="372"/>
                </a:lnTo>
                <a:lnTo>
                  <a:pt x="647" y="37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42120" y="5442120"/>
            <a:ext cx="187200" cy="558720"/>
          </a:xfrm>
          <a:custGeom>
            <a:avLst/>
            <a:gdLst/>
            <a:ahLst/>
            <a:rect l="l" t="t" r="r" b="b"/>
            <a:pathLst>
              <a:path w="118" h="352">
                <a:moveTo>
                  <a:pt x="118" y="0"/>
                </a:moveTo>
                <a:lnTo>
                  <a:pt x="118" y="352"/>
                </a:lnTo>
                <a:lnTo>
                  <a:pt x="0" y="35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42120" y="5442120"/>
            <a:ext cx="1557000" cy="558720"/>
          </a:xfrm>
          <a:custGeom>
            <a:avLst/>
            <a:gdLst/>
            <a:ahLst/>
            <a:rect l="l" t="t" r="r" b="b"/>
            <a:pathLst>
              <a:path w="981" h="352">
                <a:moveTo>
                  <a:pt x="981" y="0"/>
                </a:moveTo>
                <a:lnTo>
                  <a:pt x="981" y="352"/>
                </a:lnTo>
                <a:lnTo>
                  <a:pt x="0" y="35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6960" y="5046840"/>
            <a:ext cx="977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NetW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62680" y="531036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</a:rPr>
              <a:t>目录服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629400" y="5029200"/>
            <a:ext cx="685800" cy="380880"/>
            <a:chOff x="6629400" y="5029200"/>
            <a:chExt cx="685800" cy="380880"/>
          </a:xfrm>
        </p:grpSpPr>
        <p:sp>
          <p:nvSpPr>
            <p:cNvPr id="245" name=""/>
            <p:cNvSpPr/>
            <p:nvPr/>
          </p:nvSpPr>
          <p:spPr>
            <a:xfrm>
              <a:off x="6629400" y="5135760"/>
              <a:ext cx="685800" cy="27432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5029200"/>
              <a:ext cx="684000" cy="209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0760" y="506160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0760" y="506160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6320" y="5137560"/>
              <a:ext cx="22356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6320" y="5137560"/>
              <a:ext cx="22356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47480" y="505764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7480" y="505764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71400" y="514512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71400" y="514512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4720" y="5065200"/>
              <a:ext cx="221400" cy="666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4720" y="5065200"/>
              <a:ext cx="221400" cy="666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40280" y="5141520"/>
              <a:ext cx="22320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0280" y="5141520"/>
              <a:ext cx="22320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440" y="5061600"/>
              <a:ext cx="22320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51440" y="5061600"/>
              <a:ext cx="22320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75000" y="514908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75000" y="514908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114800" y="3124080"/>
            <a:ext cx="685800" cy="381240"/>
            <a:chOff x="4114800" y="3124080"/>
            <a:chExt cx="685800" cy="381240"/>
          </a:xfrm>
        </p:grpSpPr>
        <p:sp>
          <p:nvSpPr>
            <p:cNvPr id="264" name=""/>
            <p:cNvSpPr/>
            <p:nvPr/>
          </p:nvSpPr>
          <p:spPr>
            <a:xfrm>
              <a:off x="4114800" y="3230640"/>
              <a:ext cx="685800" cy="27468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14800" y="3124080"/>
              <a:ext cx="684000" cy="20952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6160" y="315648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6160" y="315648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21720" y="3232440"/>
              <a:ext cx="22356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720" y="3232440"/>
              <a:ext cx="22356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32880" y="315252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2880" y="315252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6800" y="324036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56800" y="324036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0120" y="3160080"/>
              <a:ext cx="221400" cy="666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70120" y="3160080"/>
              <a:ext cx="221400" cy="6660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25680" y="3236400"/>
              <a:ext cx="22320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25680" y="3236400"/>
              <a:ext cx="223200" cy="70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36840" y="3156480"/>
              <a:ext cx="22320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6840" y="3156480"/>
              <a:ext cx="22320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60400" y="324396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60400" y="3243960"/>
              <a:ext cx="223560" cy="666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731280" y="2819520"/>
            <a:ext cx="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.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625320" cy="654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819520" y="2971800"/>
            <a:ext cx="625320" cy="6541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114800" y="4952880"/>
            <a:ext cx="625320" cy="654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5334120" y="4952880"/>
            <a:ext cx="6253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90720" y="2057400"/>
            <a:ext cx="7107120" cy="4017960"/>
            <a:chOff x="990720" y="2057400"/>
            <a:chExt cx="7107120" cy="4017960"/>
          </a:xfrm>
        </p:grpSpPr>
        <p:grpSp>
          <p:nvGrpSpPr>
            <p:cNvPr id="289" name=""/>
            <p:cNvGrpSpPr/>
            <p:nvPr/>
          </p:nvGrpSpPr>
          <p:grpSpPr>
            <a:xfrm>
              <a:off x="990720" y="2057400"/>
              <a:ext cx="7107120" cy="4017960"/>
              <a:chOff x="990720" y="2057400"/>
              <a:chExt cx="7107120" cy="4017960"/>
            </a:xfrm>
          </p:grpSpPr>
          <p:sp>
            <p:nvSpPr>
              <p:cNvPr id="290" name=""/>
              <p:cNvSpPr/>
              <p:nvPr/>
            </p:nvSpPr>
            <p:spPr>
              <a:xfrm>
                <a:off x="990720" y="4840200"/>
                <a:ext cx="7107120" cy="1235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3787920"/>
                <a:ext cx="7107120" cy="1052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90720" y="2365200"/>
                <a:ext cx="1233360" cy="14227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4080" y="2797200"/>
                <a:ext cx="928800" cy="9907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52880" y="2057400"/>
                <a:ext cx="1544760" cy="17305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97640" y="2057400"/>
                <a:ext cx="1731960" cy="17305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97920" y="2057400"/>
                <a:ext cx="1699920" cy="17305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076400" y="2913120"/>
              <a:ext cx="1081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NetBIO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24600" y="3129120"/>
              <a:ext cx="535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P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91200" y="2287440"/>
              <a:ext cx="1079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NetWar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27360" y="260208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4080" y="291636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62560" y="3230640"/>
              <a:ext cx="73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NCP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69880" y="2287440"/>
              <a:ext cx="1008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3440" y="2602080"/>
              <a:ext cx="1468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32440" y="291636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56360" y="3230640"/>
              <a:ext cx="6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RIP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80960" y="2287440"/>
              <a:ext cx="948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4360" y="2602080"/>
              <a:ext cx="1466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16880" y="291636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4360" y="3230640"/>
              <a:ext cx="72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SAP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38440" y="3992400"/>
              <a:ext cx="3865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Internetwork Packet Exch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08400" y="4307040"/>
              <a:ext cx="68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(IPX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13840" y="5137200"/>
              <a:ext cx="331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edium Access Protocol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27200" y="5451480"/>
              <a:ext cx="4118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Token Ring, Ethernet, ARCNET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在路由器中的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44640" y="2112840"/>
            <a:ext cx="6346800" cy="3830760"/>
            <a:chOff x="1844640" y="2112840"/>
            <a:chExt cx="6346800" cy="3830760"/>
          </a:xfrm>
        </p:grpSpPr>
        <p:sp>
          <p:nvSpPr>
            <p:cNvPr id="317" name=""/>
            <p:cNvSpPr/>
            <p:nvPr/>
          </p:nvSpPr>
          <p:spPr>
            <a:xfrm>
              <a:off x="1844640" y="4187880"/>
              <a:ext cx="6346800" cy="175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27008" dir="1938390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44640" y="3198960"/>
              <a:ext cx="3432240" cy="988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76880" y="3693960"/>
              <a:ext cx="2914560" cy="4939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76880" y="3198960"/>
              <a:ext cx="1433520" cy="49500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10400" y="3198960"/>
              <a:ext cx="1481040" cy="49500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44640" y="2606760"/>
              <a:ext cx="1763640" cy="5922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08280" y="2606760"/>
              <a:ext cx="1668600" cy="5922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44640" y="2112840"/>
              <a:ext cx="3432240" cy="493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18480" y="22273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应用层协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5400" y="277164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31440" y="277164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5000" y="3564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25880" y="331488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48600" y="331488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71800" y="3809880"/>
              <a:ext cx="3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6120" y="4324320"/>
              <a:ext cx="1644480" cy="1482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93800" y="455760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3800" y="48085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59080" y="5060880"/>
              <a:ext cx="99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thernet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8400" y="5311800"/>
              <a:ext cx="144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thernet SN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63880" y="4324320"/>
              <a:ext cx="1176480" cy="1482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2680" y="49356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76880" y="4324320"/>
              <a:ext cx="1176480" cy="1482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64520" y="480852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01240" y="506088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86640" y="4324320"/>
              <a:ext cx="1409760" cy="1482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84880" y="48085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22960" y="506088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P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992520" y="2227320"/>
            <a:ext cx="457920" cy="2934000"/>
            <a:chOff x="992520" y="2227320"/>
            <a:chExt cx="457920" cy="2934000"/>
          </a:xfrm>
        </p:grpSpPr>
        <p:sp>
          <p:nvSpPr>
            <p:cNvPr id="346" name=""/>
            <p:cNvSpPr/>
            <p:nvPr/>
          </p:nvSpPr>
          <p:spPr>
            <a:xfrm>
              <a:off x="992520" y="485604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链路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92520" y="356400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网络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2520" y="28209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传输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92520" y="222732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应用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结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个字节：网络号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节点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接口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作为逻辑地址的一部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种封装格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路由协议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服务广告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tWar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客户机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N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请求寻找服务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IPX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协议的地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地址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000000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地网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FFFFFFFF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间广播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FFFFFFF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缺省路由的网络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节点地址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以太网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址对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FFFF.FFFF.FFFF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内广播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.e0.fc01.02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太网封装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thernet_802.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etWare3.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及其以前版本缺省封装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thernet_802.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etWare3.1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及其后续版本缺省封装格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thernet_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thernet_SN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P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outing Information Protoc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距离向量路由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ick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/1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秒）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op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最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5hop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与相邻路由器交换路由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143000" y="3581280"/>
            <a:ext cx="6887880" cy="2285640"/>
            <a:chOff x="1143000" y="3581280"/>
            <a:chExt cx="6887880" cy="2285640"/>
          </a:xfrm>
        </p:grpSpPr>
        <p:grpSp>
          <p:nvGrpSpPr>
            <p:cNvPr id="359" name=""/>
            <p:cNvGrpSpPr/>
            <p:nvPr/>
          </p:nvGrpSpPr>
          <p:grpSpPr>
            <a:xfrm>
              <a:off x="1143000" y="4873680"/>
              <a:ext cx="6887880" cy="993240"/>
              <a:chOff x="1143000" y="4873680"/>
              <a:chExt cx="6887880" cy="993240"/>
            </a:xfrm>
          </p:grpSpPr>
          <p:sp>
            <p:nvSpPr>
              <p:cNvPr id="360" name=""/>
              <p:cNvSpPr/>
              <p:nvPr/>
            </p:nvSpPr>
            <p:spPr>
              <a:xfrm>
                <a:off x="1774800" y="4873680"/>
                <a:ext cx="798480" cy="9932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26080" y="508248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63880" y="536220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路由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73560" y="4873680"/>
                <a:ext cx="799920" cy="9932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5200" y="508248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62640" y="536220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路由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58640" y="4873680"/>
                <a:ext cx="799920" cy="9932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10640" y="508248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48800" y="536220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路由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57400" y="4873680"/>
                <a:ext cx="786960" cy="9932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95720" y="508248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833520" y="536220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路由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28080" y="5205960"/>
                <a:ext cx="4773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0680" y="5135040"/>
                <a:ext cx="182880" cy="15768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0" y="0"/>
                    </a:moveTo>
                    <a:lnTo>
                      <a:pt x="111" y="39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96200" y="5536440"/>
                <a:ext cx="4773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28080" y="5465520"/>
                <a:ext cx="182880" cy="15804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111" y="87"/>
                    </a:moveTo>
                    <a:lnTo>
                      <a:pt x="0" y="39"/>
                    </a:lnTo>
                    <a:lnTo>
                      <a:pt x="111" y="0"/>
                    </a:lnTo>
                    <a:lnTo>
                      <a:pt x="1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26840" y="5205960"/>
                <a:ext cx="4644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76120" y="5135040"/>
                <a:ext cx="182520" cy="15768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0" y="0"/>
                    </a:moveTo>
                    <a:lnTo>
                      <a:pt x="111" y="39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96040" y="5536440"/>
                <a:ext cx="4622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26840" y="5465520"/>
                <a:ext cx="182520" cy="15804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111" y="87"/>
                    </a:moveTo>
                    <a:lnTo>
                      <a:pt x="0" y="39"/>
                    </a:lnTo>
                    <a:lnTo>
                      <a:pt x="111" y="0"/>
                    </a:lnTo>
                    <a:lnTo>
                      <a:pt x="1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12280" y="5205960"/>
                <a:ext cx="477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76320" y="5135040"/>
                <a:ext cx="180720" cy="157680"/>
              </a:xfrm>
              <a:custGeom>
                <a:avLst/>
                <a:gdLst/>
                <a:ahLst/>
                <a:rect l="l" t="t" r="r" b="b"/>
                <a:pathLst>
                  <a:path w="110" h="87">
                    <a:moveTo>
                      <a:pt x="0" y="0"/>
                    </a:moveTo>
                    <a:lnTo>
                      <a:pt x="110" y="39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81840" y="5536440"/>
                <a:ext cx="4755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912280" y="5465520"/>
                <a:ext cx="182520" cy="15804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111" y="87"/>
                    </a:moveTo>
                    <a:lnTo>
                      <a:pt x="0" y="39"/>
                    </a:lnTo>
                    <a:lnTo>
                      <a:pt x="111" y="0"/>
                    </a:lnTo>
                    <a:lnTo>
                      <a:pt x="1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10400" y="5536440"/>
                <a:ext cx="4644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3000" y="5465520"/>
                <a:ext cx="182520" cy="15804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111" y="87"/>
                    </a:moveTo>
                    <a:lnTo>
                      <a:pt x="0" y="39"/>
                    </a:lnTo>
                    <a:lnTo>
                      <a:pt x="111" y="0"/>
                    </a:lnTo>
                    <a:lnTo>
                      <a:pt x="1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00520" y="5205960"/>
                <a:ext cx="4755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848000" y="5135040"/>
                <a:ext cx="182880" cy="15768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0" y="0"/>
                    </a:moveTo>
                    <a:lnTo>
                      <a:pt x="111" y="39"/>
                    </a:lnTo>
                    <a:lnTo>
                      <a:pt x="0" y="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4114800" y="4114800"/>
              <a:ext cx="1015920" cy="76320"/>
            </a:xfrm>
            <a:custGeom>
              <a:avLst/>
              <a:gdLst/>
              <a:ahLst/>
              <a:rect l="l" t="t" r="r" b="b"/>
              <a:pathLst>
                <a:path w="613" h="86">
                  <a:moveTo>
                    <a:pt x="0" y="86"/>
                  </a:moveTo>
                  <a:lnTo>
                    <a:pt x="332" y="0"/>
                  </a:lnTo>
                  <a:lnTo>
                    <a:pt x="264" y="86"/>
                  </a:lnTo>
                  <a:lnTo>
                    <a:pt x="61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66920" y="3602160"/>
              <a:ext cx="1440" cy="1184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366920" y="4122720"/>
              <a:ext cx="474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0960" y="3581280"/>
              <a:ext cx="1440" cy="1184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412416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62320" y="4114800"/>
              <a:ext cx="1015920" cy="76320"/>
            </a:xfrm>
            <a:custGeom>
              <a:avLst/>
              <a:gdLst/>
              <a:ahLst/>
              <a:rect l="l" t="t" r="r" b="b"/>
              <a:pathLst>
                <a:path w="613" h="86">
                  <a:moveTo>
                    <a:pt x="0" y="86"/>
                  </a:moveTo>
                  <a:lnTo>
                    <a:pt x="332" y="0"/>
                  </a:lnTo>
                  <a:lnTo>
                    <a:pt x="264" y="86"/>
                  </a:lnTo>
                  <a:lnTo>
                    <a:pt x="61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38680" y="4114800"/>
              <a:ext cx="1016280" cy="76320"/>
            </a:xfrm>
            <a:custGeom>
              <a:avLst/>
              <a:gdLst/>
              <a:ahLst/>
              <a:rect l="l" t="t" r="r" b="b"/>
              <a:pathLst>
                <a:path w="613" h="86">
                  <a:moveTo>
                    <a:pt x="0" y="86"/>
                  </a:moveTo>
                  <a:lnTo>
                    <a:pt x="332" y="0"/>
                  </a:lnTo>
                  <a:lnTo>
                    <a:pt x="264" y="86"/>
                  </a:lnTo>
                  <a:lnTo>
                    <a:pt x="61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762200" y="3949560"/>
              <a:ext cx="790560" cy="436680"/>
              <a:chOff x="1762200" y="3949560"/>
              <a:chExt cx="790560" cy="436680"/>
            </a:xfrm>
          </p:grpSpPr>
          <p:sp>
            <p:nvSpPr>
              <p:cNvPr id="396" name=""/>
              <p:cNvSpPr/>
              <p:nvPr/>
            </p:nvSpPr>
            <p:spPr>
              <a:xfrm>
                <a:off x="1762200" y="4071600"/>
                <a:ext cx="790560" cy="31464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2200" y="3949560"/>
                <a:ext cx="788400" cy="2401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6720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6720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85320" y="407376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85320" y="407376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98640" y="398232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98640" y="398232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56400" y="408276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156400" y="408276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71880" y="3990960"/>
                <a:ext cx="25524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71880" y="3990960"/>
                <a:ext cx="25524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90000" y="407808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0000" y="407808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296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0296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160720" y="408708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160720" y="408708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341520" y="3949560"/>
              <a:ext cx="790920" cy="436680"/>
              <a:chOff x="3341520" y="3949560"/>
              <a:chExt cx="790920" cy="436680"/>
            </a:xfrm>
          </p:grpSpPr>
          <p:sp>
            <p:nvSpPr>
              <p:cNvPr id="415" name=""/>
              <p:cNvSpPr/>
              <p:nvPr/>
            </p:nvSpPr>
            <p:spPr>
              <a:xfrm>
                <a:off x="3341520" y="4071600"/>
                <a:ext cx="790920" cy="31464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41520" y="3949560"/>
                <a:ext cx="788760" cy="2401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46880" y="398664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46880" y="398664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464640" y="4073760"/>
                <a:ext cx="25776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464640" y="4073760"/>
                <a:ext cx="25776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77960" y="398232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77960" y="398232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36080" y="408276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36080" y="408276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51200" y="3990960"/>
                <a:ext cx="25524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51200" y="3990960"/>
                <a:ext cx="25524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69320" y="4078080"/>
                <a:ext cx="25776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69320" y="4078080"/>
                <a:ext cx="25776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82280" y="398664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82280" y="398664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40040" y="408708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40040" y="408708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002200" y="3949560"/>
              <a:ext cx="789120" cy="436680"/>
              <a:chOff x="5002200" y="3949560"/>
              <a:chExt cx="789120" cy="436680"/>
            </a:xfrm>
          </p:grpSpPr>
          <p:sp>
            <p:nvSpPr>
              <p:cNvPr id="434" name=""/>
              <p:cNvSpPr/>
              <p:nvPr/>
            </p:nvSpPr>
            <p:spPr>
              <a:xfrm>
                <a:off x="5002200" y="4071600"/>
                <a:ext cx="789120" cy="31464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02200" y="3949560"/>
                <a:ext cx="786960" cy="2401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406480" y="398664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06480" y="398664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25320" y="4073760"/>
                <a:ext cx="25704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25320" y="4073760"/>
                <a:ext cx="25704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38280" y="398232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138280" y="398232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395680" y="408276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95680" y="408276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11160" y="3990960"/>
                <a:ext cx="25488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11160" y="3990960"/>
                <a:ext cx="25488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29640" y="4078080"/>
                <a:ext cx="25704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129640" y="4078080"/>
                <a:ext cx="25704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42600" y="398664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42600" y="398664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00000" y="408708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00000" y="408708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581880" y="3949560"/>
              <a:ext cx="790560" cy="436680"/>
              <a:chOff x="6581880" y="3949560"/>
              <a:chExt cx="790560" cy="436680"/>
            </a:xfrm>
          </p:grpSpPr>
          <p:sp>
            <p:nvSpPr>
              <p:cNvPr id="453" name=""/>
              <p:cNvSpPr/>
              <p:nvPr/>
            </p:nvSpPr>
            <p:spPr>
              <a:xfrm>
                <a:off x="6581880" y="4071600"/>
                <a:ext cx="790560" cy="314640"/>
              </a:xfrm>
              <a:custGeom>
                <a:avLst/>
                <a:gdLst/>
                <a:ahLst/>
                <a:rect l="l" t="t" r="r" b="b"/>
                <a:pathLst>
                  <a:path w="303" h="137">
                    <a:moveTo>
                      <a:pt x="302" y="80"/>
                    </a:moveTo>
                    <a:cubicBezTo>
                      <a:pt x="302" y="81"/>
                      <a:pt x="302" y="81"/>
                      <a:pt x="301" y="82"/>
                    </a:cubicBezTo>
                    <a:cubicBezTo>
                      <a:pt x="302" y="83"/>
                      <a:pt x="302" y="85"/>
                      <a:pt x="302" y="86"/>
                    </a:cubicBezTo>
                    <a:cubicBezTo>
                      <a:pt x="302" y="114"/>
                      <a:pt x="234" y="137"/>
                      <a:pt x="152" y="137"/>
                    </a:cubicBezTo>
                    <a:cubicBezTo>
                      <a:pt x="68" y="137"/>
                      <a:pt x="0" y="114"/>
                      <a:pt x="0" y="86"/>
                    </a:cubicBezTo>
                    <a:cubicBezTo>
                      <a:pt x="0" y="85"/>
                      <a:pt x="0" y="83"/>
                      <a:pt x="1" y="82"/>
                    </a:cubicBezTo>
                    <a:cubicBezTo>
                      <a:pt x="0" y="81"/>
                      <a:pt x="0" y="81"/>
                      <a:pt x="0" y="80"/>
                    </a:cubicBezTo>
                    <a:lnTo>
                      <a:pt x="0" y="0"/>
                    </a:lnTo>
                    <a:lnTo>
                      <a:pt x="302" y="0"/>
                    </a:lnTo>
                    <a:lnTo>
                      <a:pt x="302" y="77"/>
                    </a:lnTo>
                    <a:cubicBezTo>
                      <a:pt x="303" y="78"/>
                      <a:pt x="302" y="79"/>
                      <a:pt x="302" y="80"/>
                    </a:cubicBezTo>
                  </a:path>
                </a:pathLst>
              </a:custGeom>
              <a:solidFill>
                <a:srgbClr val="918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81880" y="3949560"/>
                <a:ext cx="788400" cy="240120"/>
              </a:xfrm>
              <a:custGeom>
                <a:avLst/>
                <a:gdLst/>
                <a:ahLst/>
                <a:rect l="l" t="t" r="r" b="b"/>
                <a:pathLst>
                  <a:path w="302" h="104">
                    <a:moveTo>
                      <a:pt x="302" y="53"/>
                    </a:moveTo>
                    <a:cubicBezTo>
                      <a:pt x="302" y="81"/>
                      <a:pt x="234" y="104"/>
                      <a:pt x="152" y="104"/>
                    </a:cubicBezTo>
                    <a:cubicBezTo>
                      <a:pt x="68" y="104"/>
                      <a:pt x="0" y="81"/>
                      <a:pt x="0" y="53"/>
                    </a:cubicBezTo>
                    <a:cubicBezTo>
                      <a:pt x="0" y="24"/>
                      <a:pt x="68" y="0"/>
                      <a:pt x="152" y="0"/>
                    </a:cubicBezTo>
                    <a:cubicBezTo>
                      <a:pt x="234" y="0"/>
                      <a:pt x="302" y="24"/>
                      <a:pt x="302" y="53"/>
                    </a:cubicBezTo>
                  </a:path>
                </a:pathLst>
              </a:custGeom>
              <a:solidFill>
                <a:srgbClr val="bcb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8688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8688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9" y="18"/>
                    </a:lnTo>
                    <a:lnTo>
                      <a:pt x="86" y="0"/>
                    </a:lnTo>
                    <a:lnTo>
                      <a:pt x="24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05000" y="407376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705000" y="407376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8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18320" y="398232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18320" y="398232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5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76080" y="408276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76080" y="408276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50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991560" y="3990960"/>
                <a:ext cx="25524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91560" y="3990960"/>
                <a:ext cx="255240" cy="7632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0" y="25"/>
                    </a:moveTo>
                    <a:lnTo>
                      <a:pt x="22" y="33"/>
                    </a:lnTo>
                    <a:lnTo>
                      <a:pt x="75" y="11"/>
                    </a:lnTo>
                    <a:lnTo>
                      <a:pt x="98" y="18"/>
                    </a:lnTo>
                    <a:lnTo>
                      <a:pt x="86" y="0"/>
                    </a:lnTo>
                    <a:lnTo>
                      <a:pt x="23" y="0"/>
                    </a:lnTo>
                    <a:lnTo>
                      <a:pt x="49" y="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709680" y="407808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09680" y="4078080"/>
                <a:ext cx="25740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7"/>
                    </a:moveTo>
                    <a:lnTo>
                      <a:pt x="77" y="0"/>
                    </a:lnTo>
                    <a:lnTo>
                      <a:pt x="25" y="22"/>
                    </a:lnTo>
                    <a:lnTo>
                      <a:pt x="0" y="15"/>
                    </a:lnTo>
                    <a:lnTo>
                      <a:pt x="13" y="35"/>
                    </a:lnTo>
                    <a:lnTo>
                      <a:pt x="77" y="35"/>
                    </a:lnTo>
                    <a:lnTo>
                      <a:pt x="49" y="27"/>
                    </a:lnTo>
                    <a:lnTo>
                      <a:pt x="99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2264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22640" y="398664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0" y="7"/>
                    </a:moveTo>
                    <a:lnTo>
                      <a:pt x="22" y="0"/>
                    </a:lnTo>
                    <a:lnTo>
                      <a:pt x="75" y="20"/>
                    </a:lnTo>
                    <a:lnTo>
                      <a:pt x="99" y="14"/>
                    </a:lnTo>
                    <a:lnTo>
                      <a:pt x="86" y="33"/>
                    </a:lnTo>
                    <a:lnTo>
                      <a:pt x="24" y="33"/>
                    </a:lnTo>
                    <a:lnTo>
                      <a:pt x="50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80400" y="408708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980400" y="4087080"/>
                <a:ext cx="257760" cy="76320"/>
              </a:xfrm>
              <a:custGeom>
                <a:avLst/>
                <a:gdLst/>
                <a:ahLst/>
                <a:rect l="l" t="t" r="r" b="b"/>
                <a:pathLst>
                  <a:path w="99" h="33">
                    <a:moveTo>
                      <a:pt x="99" y="25"/>
                    </a:moveTo>
                    <a:lnTo>
                      <a:pt x="77" y="33"/>
                    </a:lnTo>
                    <a:lnTo>
                      <a:pt x="26" y="11"/>
                    </a:lnTo>
                    <a:lnTo>
                      <a:pt x="0" y="18"/>
                    </a:lnTo>
                    <a:lnTo>
                      <a:pt x="13" y="0"/>
                    </a:lnTo>
                    <a:lnTo>
                      <a:pt x="77" y="0"/>
                    </a:lnTo>
                    <a:lnTo>
                      <a:pt x="49" y="5"/>
                    </a:lnTo>
                    <a:lnTo>
                      <a:pt x="99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P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rvice Advertising Protoc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5432400"/>
            <a:ext cx="5959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82840" y="4998960"/>
            <a:ext cx="2341440" cy="433440"/>
          </a:xfrm>
          <a:custGeom>
            <a:avLst/>
            <a:gdLst/>
            <a:ahLst/>
            <a:rect l="l" t="t" r="r" b="b"/>
            <a:pathLst>
              <a:path w="1475" h="273">
                <a:moveTo>
                  <a:pt x="0" y="0"/>
                </a:moveTo>
                <a:lnTo>
                  <a:pt x="0" y="273"/>
                </a:lnTo>
                <a:lnTo>
                  <a:pt x="1475" y="2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78160" y="4998960"/>
            <a:ext cx="598680" cy="433440"/>
          </a:xfrm>
          <a:custGeom>
            <a:avLst/>
            <a:gdLst/>
            <a:ahLst/>
            <a:rect l="l" t="t" r="r" b="b"/>
            <a:pathLst>
              <a:path w="377" h="273">
                <a:moveTo>
                  <a:pt x="0" y="0"/>
                </a:moveTo>
                <a:lnTo>
                  <a:pt x="0" y="273"/>
                </a:lnTo>
                <a:lnTo>
                  <a:pt x="377" y="2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5432400"/>
            <a:ext cx="1725840" cy="316080"/>
          </a:xfrm>
          <a:custGeom>
            <a:avLst/>
            <a:gdLst/>
            <a:ahLst/>
            <a:rect l="l" t="t" r="r" b="b"/>
            <a:pathLst>
              <a:path w="1087" h="199">
                <a:moveTo>
                  <a:pt x="1087" y="199"/>
                </a:moveTo>
                <a:lnTo>
                  <a:pt x="108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59160" y="3551400"/>
            <a:ext cx="1874880" cy="1064880"/>
          </a:xfrm>
          <a:custGeom>
            <a:avLst/>
            <a:gdLst/>
            <a:ahLst/>
            <a:rect l="l" t="t" r="r" b="b"/>
            <a:pathLst>
              <a:path w="1181" h="671">
                <a:moveTo>
                  <a:pt x="1181" y="0"/>
                </a:moveTo>
                <a:lnTo>
                  <a:pt x="585" y="367"/>
                </a:lnTo>
                <a:lnTo>
                  <a:pt x="585" y="325"/>
                </a:lnTo>
                <a:lnTo>
                  <a:pt x="0" y="671"/>
                </a:lnTo>
                <a:lnTo>
                  <a:pt x="606" y="294"/>
                </a:lnTo>
                <a:lnTo>
                  <a:pt x="606" y="336"/>
                </a:lnTo>
                <a:lnTo>
                  <a:pt x="118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176640" y="3765600"/>
            <a:ext cx="846000" cy="615960"/>
            <a:chOff x="3176640" y="3765600"/>
            <a:chExt cx="846000" cy="615960"/>
          </a:xfrm>
        </p:grpSpPr>
        <p:sp>
          <p:nvSpPr>
            <p:cNvPr id="478" name=""/>
            <p:cNvSpPr/>
            <p:nvPr/>
          </p:nvSpPr>
          <p:spPr>
            <a:xfrm>
              <a:off x="3176640" y="3765600"/>
              <a:ext cx="846000" cy="61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73560" y="380052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54560" y="4065480"/>
              <a:ext cx="38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信息表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248560" y="58230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宋体"/>
              </a:rPr>
              <a:t>服务信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7320" y="5030640"/>
            <a:ext cx="1244520" cy="716040"/>
            <a:chOff x="1957320" y="5030640"/>
            <a:chExt cx="1244520" cy="716040"/>
          </a:xfrm>
        </p:grpSpPr>
        <p:sp>
          <p:nvSpPr>
            <p:cNvPr id="483" name=""/>
            <p:cNvSpPr/>
            <p:nvPr/>
          </p:nvSpPr>
          <p:spPr>
            <a:xfrm>
              <a:off x="2587680" y="5030640"/>
              <a:ext cx="1440" cy="63180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73320" y="5662440"/>
              <a:ext cx="81288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7320" y="5580000"/>
              <a:ext cx="249120" cy="1666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157" y="105"/>
                  </a:moveTo>
                  <a:lnTo>
                    <a:pt x="0" y="52"/>
                  </a:lnTo>
                  <a:lnTo>
                    <a:pt x="157" y="0"/>
                  </a:lnTo>
                  <a:lnTo>
                    <a:pt x="157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2720" y="5580000"/>
              <a:ext cx="249120" cy="1666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0" y="0"/>
                  </a:moveTo>
                  <a:lnTo>
                    <a:pt x="157" y="52"/>
                  </a:lnTo>
                  <a:lnTo>
                    <a:pt x="0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356120" y="335448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打印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382840" y="3551400"/>
            <a:ext cx="1440" cy="81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0000" y="586908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75560" y="58230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宋体"/>
              </a:rPr>
              <a:t>服务信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710160" y="5060880"/>
            <a:ext cx="1261440" cy="715680"/>
            <a:chOff x="3710160" y="5060880"/>
            <a:chExt cx="1261440" cy="715680"/>
          </a:xfrm>
        </p:grpSpPr>
        <p:sp>
          <p:nvSpPr>
            <p:cNvPr id="492" name=""/>
            <p:cNvSpPr/>
            <p:nvPr/>
          </p:nvSpPr>
          <p:spPr>
            <a:xfrm>
              <a:off x="4341600" y="5060880"/>
              <a:ext cx="1440" cy="63180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43440" y="5692680"/>
              <a:ext cx="79632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10160" y="5609880"/>
              <a:ext cx="249120" cy="1666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157" y="105"/>
                  </a:moveTo>
                  <a:lnTo>
                    <a:pt x="0" y="52"/>
                  </a:lnTo>
                  <a:lnTo>
                    <a:pt x="157" y="0"/>
                  </a:lnTo>
                  <a:lnTo>
                    <a:pt x="157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22840" y="5609880"/>
              <a:ext cx="248760" cy="1666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0" y="0"/>
                  </a:moveTo>
                  <a:lnTo>
                    <a:pt x="157" y="52"/>
                  </a:lnTo>
                  <a:lnTo>
                    <a:pt x="0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911560" y="5067360"/>
            <a:ext cx="77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</a:rPr>
              <a:t>侦听服务信息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07000" y="3551400"/>
            <a:ext cx="1427040" cy="815400"/>
            <a:chOff x="4707000" y="3551400"/>
            <a:chExt cx="1427040" cy="815400"/>
          </a:xfrm>
        </p:grpSpPr>
        <p:sp>
          <p:nvSpPr>
            <p:cNvPr id="498" name=""/>
            <p:cNvSpPr/>
            <p:nvPr/>
          </p:nvSpPr>
          <p:spPr>
            <a:xfrm flipV="1">
              <a:off x="4889520" y="3551400"/>
              <a:ext cx="631800" cy="38232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07000" y="3850920"/>
              <a:ext cx="249120" cy="199800"/>
            </a:xfrm>
            <a:custGeom>
              <a:avLst/>
              <a:gdLst/>
              <a:ahLst/>
              <a:rect l="l" t="t" r="r" b="b"/>
              <a:pathLst>
                <a:path w="157" h="126">
                  <a:moveTo>
                    <a:pt x="157" y="84"/>
                  </a:moveTo>
                  <a:lnTo>
                    <a:pt x="0" y="126"/>
                  </a:lnTo>
                  <a:lnTo>
                    <a:pt x="105" y="0"/>
                  </a:lnTo>
                  <a:lnTo>
                    <a:pt x="157" y="8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321520" y="3984480"/>
              <a:ext cx="630000" cy="38232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86360" y="3868560"/>
              <a:ext cx="247680" cy="198000"/>
            </a:xfrm>
            <a:custGeom>
              <a:avLst/>
              <a:gdLst/>
              <a:ahLst/>
              <a:rect l="l" t="t" r="r" b="b"/>
              <a:pathLst>
                <a:path w="156" h="125">
                  <a:moveTo>
                    <a:pt x="0" y="31"/>
                  </a:moveTo>
                  <a:lnTo>
                    <a:pt x="156" y="0"/>
                  </a:lnTo>
                  <a:lnTo>
                    <a:pt x="52" y="12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986520" y="3308400"/>
            <a:ext cx="847440" cy="631800"/>
            <a:chOff x="6986520" y="3308400"/>
            <a:chExt cx="847440" cy="631800"/>
          </a:xfrm>
        </p:grpSpPr>
        <p:sp>
          <p:nvSpPr>
            <p:cNvPr id="503" name=""/>
            <p:cNvSpPr/>
            <p:nvPr/>
          </p:nvSpPr>
          <p:spPr>
            <a:xfrm>
              <a:off x="6986520" y="3308400"/>
              <a:ext cx="847440" cy="631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85600" y="334188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64440" y="3608280"/>
              <a:ext cx="38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信息表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72120" y="3232080"/>
            <a:ext cx="762120" cy="457200"/>
            <a:chOff x="6072120" y="3232080"/>
            <a:chExt cx="762120" cy="457200"/>
          </a:xfrm>
        </p:grpSpPr>
        <p:sp>
          <p:nvSpPr>
            <p:cNvPr id="507" name=""/>
            <p:cNvSpPr/>
            <p:nvPr/>
          </p:nvSpPr>
          <p:spPr>
            <a:xfrm>
              <a:off x="6072120" y="3359880"/>
              <a:ext cx="762120" cy="3294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72120" y="3232080"/>
              <a:ext cx="759960" cy="2512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62720" y="327096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2720" y="327096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90920" y="3362400"/>
              <a:ext cx="24840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90920" y="3362400"/>
              <a:ext cx="24840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03520" y="326628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03520" y="326628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2280" y="337140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2280" y="337140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67040" y="3275280"/>
              <a:ext cx="246240" cy="799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67040" y="3275280"/>
              <a:ext cx="246240" cy="799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95240" y="3366720"/>
              <a:ext cx="24804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95240" y="3366720"/>
              <a:ext cx="24804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7840" y="3270960"/>
              <a:ext cx="24804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07840" y="3270960"/>
              <a:ext cx="24804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56240" y="337608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6240" y="337608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786120" y="4527720"/>
            <a:ext cx="762120" cy="457200"/>
            <a:chOff x="3786120" y="4527720"/>
            <a:chExt cx="762120" cy="457200"/>
          </a:xfrm>
        </p:grpSpPr>
        <p:sp>
          <p:nvSpPr>
            <p:cNvPr id="526" name=""/>
            <p:cNvSpPr/>
            <p:nvPr/>
          </p:nvSpPr>
          <p:spPr>
            <a:xfrm>
              <a:off x="3786120" y="4655520"/>
              <a:ext cx="762120" cy="329400"/>
            </a:xfrm>
            <a:custGeom>
              <a:avLst/>
              <a:gdLst/>
              <a:ahLst/>
              <a:rect l="l" t="t" r="r" b="b"/>
              <a:pathLst>
                <a:path w="303" h="137">
                  <a:moveTo>
                    <a:pt x="302" y="80"/>
                  </a:moveTo>
                  <a:cubicBezTo>
                    <a:pt x="302" y="81"/>
                    <a:pt x="302" y="81"/>
                    <a:pt x="301" y="82"/>
                  </a:cubicBezTo>
                  <a:cubicBezTo>
                    <a:pt x="302" y="83"/>
                    <a:pt x="302" y="85"/>
                    <a:pt x="302" y="86"/>
                  </a:cubicBezTo>
                  <a:cubicBezTo>
                    <a:pt x="302" y="114"/>
                    <a:pt x="234" y="137"/>
                    <a:pt x="152" y="137"/>
                  </a:cubicBezTo>
                  <a:cubicBezTo>
                    <a:pt x="68" y="137"/>
                    <a:pt x="0" y="114"/>
                    <a:pt x="0" y="86"/>
                  </a:cubicBezTo>
                  <a:cubicBezTo>
                    <a:pt x="0" y="85"/>
                    <a:pt x="0" y="83"/>
                    <a:pt x="1" y="82"/>
                  </a:cubicBezTo>
                  <a:cubicBezTo>
                    <a:pt x="0" y="81"/>
                    <a:pt x="0" y="81"/>
                    <a:pt x="0" y="80"/>
                  </a:cubicBezTo>
                  <a:lnTo>
                    <a:pt x="0" y="0"/>
                  </a:lnTo>
                  <a:lnTo>
                    <a:pt x="302" y="0"/>
                  </a:lnTo>
                  <a:lnTo>
                    <a:pt x="302" y="77"/>
                  </a:lnTo>
                  <a:cubicBezTo>
                    <a:pt x="303" y="78"/>
                    <a:pt x="302" y="79"/>
                    <a:pt x="302" y="80"/>
                  </a:cubicBezTo>
                </a:path>
              </a:pathLst>
            </a:custGeom>
            <a:solidFill>
              <a:srgbClr val="918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86120" y="4527720"/>
              <a:ext cx="759960" cy="251280"/>
            </a:xfrm>
            <a:custGeom>
              <a:avLst/>
              <a:gdLst/>
              <a:ahLst/>
              <a:rect l="l" t="t" r="r" b="b"/>
              <a:pathLst>
                <a:path w="302" h="104">
                  <a:moveTo>
                    <a:pt x="302" y="53"/>
                  </a:moveTo>
                  <a:cubicBezTo>
                    <a:pt x="302" y="81"/>
                    <a:pt x="234" y="104"/>
                    <a:pt x="152" y="104"/>
                  </a:cubicBezTo>
                  <a:cubicBezTo>
                    <a:pt x="68" y="104"/>
                    <a:pt x="0" y="81"/>
                    <a:pt x="0" y="53"/>
                  </a:cubicBezTo>
                  <a:cubicBezTo>
                    <a:pt x="0" y="24"/>
                    <a:pt x="68" y="0"/>
                    <a:pt x="152" y="0"/>
                  </a:cubicBezTo>
                  <a:cubicBezTo>
                    <a:pt x="234" y="0"/>
                    <a:pt x="302" y="24"/>
                    <a:pt x="302" y="53"/>
                  </a:cubicBezTo>
                </a:path>
              </a:pathLst>
            </a:custGeom>
            <a:solidFill>
              <a:srgbClr val="bcb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6720" y="456660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76720" y="456660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9" y="18"/>
                  </a:lnTo>
                  <a:lnTo>
                    <a:pt x="86" y="0"/>
                  </a:lnTo>
                  <a:lnTo>
                    <a:pt x="24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04920" y="4658040"/>
              <a:ext cx="24840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04920" y="4658040"/>
              <a:ext cx="24840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6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8"/>
                  </a:lnTo>
                  <a:lnTo>
                    <a:pt x="99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17520" y="456192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17520" y="456192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5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66280" y="466704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66280" y="466704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50" y="5"/>
                  </a:lnTo>
                  <a:lnTo>
                    <a:pt x="99" y="25"/>
                  </a:lnTo>
                </a:path>
              </a:pathLst>
            </a:custGeom>
            <a:solidFill>
              <a:srgbClr val="2427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81040" y="4570920"/>
              <a:ext cx="246240" cy="799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81040" y="4570920"/>
              <a:ext cx="246240" cy="7992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5"/>
                  </a:moveTo>
                  <a:lnTo>
                    <a:pt x="22" y="33"/>
                  </a:lnTo>
                  <a:lnTo>
                    <a:pt x="75" y="11"/>
                  </a:lnTo>
                  <a:lnTo>
                    <a:pt x="98" y="18"/>
                  </a:lnTo>
                  <a:lnTo>
                    <a:pt x="86" y="0"/>
                  </a:lnTo>
                  <a:lnTo>
                    <a:pt x="23" y="0"/>
                  </a:lnTo>
                  <a:lnTo>
                    <a:pt x="49" y="5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09240" y="4662360"/>
              <a:ext cx="24804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09240" y="4662360"/>
              <a:ext cx="248040" cy="8460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7"/>
                  </a:moveTo>
                  <a:lnTo>
                    <a:pt x="77" y="0"/>
                  </a:lnTo>
                  <a:lnTo>
                    <a:pt x="25" y="22"/>
                  </a:lnTo>
                  <a:lnTo>
                    <a:pt x="0" y="15"/>
                  </a:lnTo>
                  <a:lnTo>
                    <a:pt x="13" y="35"/>
                  </a:lnTo>
                  <a:lnTo>
                    <a:pt x="77" y="35"/>
                  </a:lnTo>
                  <a:lnTo>
                    <a:pt x="49" y="27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66600"/>
              <a:ext cx="24804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1840" y="4566600"/>
              <a:ext cx="24804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7"/>
                  </a:moveTo>
                  <a:lnTo>
                    <a:pt x="22" y="0"/>
                  </a:lnTo>
                  <a:lnTo>
                    <a:pt x="75" y="20"/>
                  </a:lnTo>
                  <a:lnTo>
                    <a:pt x="99" y="14"/>
                  </a:lnTo>
                  <a:lnTo>
                    <a:pt x="86" y="33"/>
                  </a:lnTo>
                  <a:lnTo>
                    <a:pt x="24" y="33"/>
                  </a:lnTo>
                  <a:lnTo>
                    <a:pt x="50" y="2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0240" y="467172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0240" y="4671720"/>
              <a:ext cx="248400" cy="7992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25"/>
                  </a:moveTo>
                  <a:lnTo>
                    <a:pt x="77" y="33"/>
                  </a:lnTo>
                  <a:lnTo>
                    <a:pt x="26" y="11"/>
                  </a:lnTo>
                  <a:lnTo>
                    <a:pt x="0" y="18"/>
                  </a:lnTo>
                  <a:lnTo>
                    <a:pt x="13" y="0"/>
                  </a:lnTo>
                  <a:lnTo>
                    <a:pt x="77" y="0"/>
                  </a:lnTo>
                  <a:lnTo>
                    <a:pt x="49" y="5"/>
                  </a:lnTo>
                  <a:lnTo>
                    <a:pt x="99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109960" y="4330800"/>
            <a:ext cx="625320" cy="654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6148440" y="5746680"/>
            <a:ext cx="625320" cy="654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2033640" y="3156120"/>
            <a:ext cx="641160" cy="63972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SAP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报文对外广播所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etWar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网络服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给网络增加额外的广播负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1:06:14Z</dcterms:created>
  <dc:creator>ccn</dc:creator>
  <dc:description/>
  <dc:language>en-US</dc:language>
  <cp:lastModifiedBy>软件仓库</cp:lastModifiedBy>
  <dcterms:modified xsi:type="dcterms:W3CDTF">2005-05-17T02:41:23Z</dcterms:modified>
  <cp:revision>6</cp:revision>
  <dc:subject/>
  <dc:title>IPX协议</dc:title>
</cp:coreProperties>
</file>