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A8B-A041-4DCD-8414-0618D6D34A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网络需要连接，相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??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子网划分灵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可以超过每个子网的最大主机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P 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CC0-802E-457E-A2A9-ECB622B2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78F-0F11-422F-A152-D1AABC2C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4E3-921E-440D-9487-E7B71ECF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CB7-F21F-4AE0-A9F2-8E0257ED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1EF5-1B05-4CED-A897-6539A03A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8A4-DEDC-422E-8C21-F7BA685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0D29-75D8-4B63-B6B7-804A2EFA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5B7-B5AD-454C-AD76-617421F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D9A9-59CB-4173-A98C-2AB964F6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2412-5D9D-496B-8350-3EFBE74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2AB-5471-4F8D-9218-9143B7C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AD4-A804-402C-AAF8-6F3A2CA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1C84-ED9E-4890-A54B-D919131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5CD-6E18-4FB7-816A-F6015B6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7D1C-83A0-40E3-B684-945A252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D6A-8EF9-4AB1-A3F5-189E97A9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D4A-1A1B-4A80-9E16-6F537603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2EF-2A9D-48C4-B1B4-ECF7E14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B8C-6A39-4306-B173-DF47E0C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0E4-29D3-439B-9178-F9ACE203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2A9-DAA1-4F94-9027-48096B8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360-167D-4A80-AC27-F71868D9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FAB-3C00-4CBE-BA52-2896586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457-154D-4263-B4D7-86E6C6B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C52-439B-460D-9357-D609A112E3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502-F567-45BC-99FE-EF3095AC3EC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tf.org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四章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认证实验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143000" y="1981080"/>
            <a:ext cx="2381400" cy="3124440"/>
            <a:chOff x="1143000" y="1981080"/>
            <a:chExt cx="2381400" cy="3124440"/>
          </a:xfrm>
        </p:grpSpPr>
        <p:sp>
          <p:nvSpPr>
            <p:cNvPr id="349" name=""/>
            <p:cNvSpPr/>
            <p:nvPr/>
          </p:nvSpPr>
          <p:spPr>
            <a:xfrm>
              <a:off x="1143000" y="1981080"/>
              <a:ext cx="2381400" cy="69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2867040"/>
              <a:ext cx="2381400" cy="61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3000" y="3676680"/>
              <a:ext cx="2381400" cy="614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3000" y="4491000"/>
              <a:ext cx="2381400" cy="614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st to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应用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1828800"/>
            <a:ext cx="4190760" cy="297180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/HT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581280" y="1828440"/>
            <a:ext cx="609840" cy="212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5320" y="2666880"/>
            <a:ext cx="685800" cy="2057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43000" y="1981080"/>
            <a:ext cx="2381400" cy="3124440"/>
            <a:chOff x="1143000" y="1981080"/>
            <a:chExt cx="2381400" cy="3124440"/>
          </a:xfrm>
        </p:grpSpPr>
        <p:sp>
          <p:nvSpPr>
            <p:cNvPr id="358" name=""/>
            <p:cNvSpPr/>
            <p:nvPr/>
          </p:nvSpPr>
          <p:spPr>
            <a:xfrm>
              <a:off x="1143000" y="1981080"/>
              <a:ext cx="2381400" cy="69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3000" y="2867040"/>
              <a:ext cx="2381400" cy="61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676680"/>
              <a:ext cx="2381400" cy="614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43000" y="4491000"/>
              <a:ext cx="2381400" cy="614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st to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传输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505320" y="2666520"/>
            <a:ext cx="609480" cy="212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3429000"/>
            <a:ext cx="60948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2666880"/>
            <a:ext cx="4103640" cy="129564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2057400"/>
            <a:ext cx="2381400" cy="61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819520"/>
            <a:ext cx="2381400" cy="660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76680"/>
            <a:ext cx="2381400" cy="614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491000"/>
            <a:ext cx="2381400" cy="61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 to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C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面向连接的协议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可以保证数据传输的正确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据传输过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连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发送数据和接收数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释放连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TTP, FT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非面向连接的协议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能保证数据传输的正确性，靠上层保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无需建立连接，减少了通讯的开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发送广播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寻址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NM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                  1                   2                  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1 2 3 4 5 6 7 8 9 0 1 2 3 4 5 6 7 8 9 0 1 2 3 4 5 6 7 8 9 0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Source Port          |       Destination Port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 Sequence Number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Acknowledgment Number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Data |           |U|A|P|R|S|F| 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Offset| Reserved  |R|C|S|S|Y|I|            Window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|           |G|K|H|T|N|N| 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Checksum            |         Urgent Pointer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+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Options                    |    Padding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      data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                  1                   2                  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1 2 3 4 5 6 7 8 9 0 1 2 3 4 5 6 7 8 9 0 1 2 3 4 5 6 7 8 9 0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Source Port          |       Destination Port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 Sequence Number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Acknowledgment Number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Data |           |U|A|P|R|S|F| 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Offset| Reserved  |R|C|S|S|Y|I|            Window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|           |G|K|H|T|N|N| 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Checksum            |         Urgent Pointer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+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Options                    |    Padding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      data                  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2590920"/>
            <a:ext cx="205740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81080" y="2514600"/>
            <a:ext cx="1905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2971800"/>
            <a:ext cx="19051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3505320"/>
            <a:ext cx="2743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4495680"/>
            <a:ext cx="19047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3962520"/>
            <a:ext cx="19051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包丢失避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479680" y="2982960"/>
            <a:ext cx="2556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809880"/>
            <a:ext cx="1855800" cy="180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6120" y="3716280"/>
            <a:ext cx="281160" cy="185760"/>
          </a:xfrm>
          <a:custGeom>
            <a:avLst/>
            <a:gdLst/>
            <a:ahLst/>
            <a:rect l="l" t="t" r="r" b="b"/>
            <a:pathLst>
              <a:path w="270" h="181">
                <a:moveTo>
                  <a:pt x="0" y="0"/>
                </a:moveTo>
                <a:lnTo>
                  <a:pt x="270" y="90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124080" y="4648320"/>
            <a:ext cx="1994040" cy="936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5840" y="4572000"/>
            <a:ext cx="279360" cy="187200"/>
          </a:xfrm>
          <a:custGeom>
            <a:avLst/>
            <a:gdLst/>
            <a:ahLst/>
            <a:rect l="l" t="t" r="r" b="b"/>
            <a:pathLst>
              <a:path w="271" h="181">
                <a:moveTo>
                  <a:pt x="0" y="0"/>
                </a:moveTo>
                <a:lnTo>
                  <a:pt x="271" y="90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5410080"/>
            <a:ext cx="1859040" cy="180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98880" y="5315040"/>
            <a:ext cx="279360" cy="187200"/>
          </a:xfrm>
          <a:custGeom>
            <a:avLst/>
            <a:gdLst/>
            <a:ahLst/>
            <a:rect l="l" t="t" r="r" b="b"/>
            <a:pathLst>
              <a:path w="271" h="180">
                <a:moveTo>
                  <a:pt x="271" y="180"/>
                </a:moveTo>
                <a:lnTo>
                  <a:pt x="0" y="90"/>
                </a:lnTo>
                <a:lnTo>
                  <a:pt x="271" y="0"/>
                </a:lnTo>
                <a:lnTo>
                  <a:pt x="271" y="18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1160" y="3316320"/>
            <a:ext cx="67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8840" y="3316320"/>
            <a:ext cx="8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99480" y="3618000"/>
            <a:ext cx="59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n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64240" y="388620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2480" y="5715000"/>
            <a:ext cx="59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n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2480" y="4419720"/>
            <a:ext cx="59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n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64240" y="510552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整套电脑-3" descr=""/>
          <p:cNvPicPr/>
          <p:nvPr/>
        </p:nvPicPr>
        <p:blipFill>
          <a:blip r:embed="rId1"/>
          <a:stretch/>
        </p:blipFill>
        <p:spPr>
          <a:xfrm>
            <a:off x="5791320" y="262260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400" name="整套电脑-3" descr=""/>
          <p:cNvPicPr/>
          <p:nvPr/>
        </p:nvPicPr>
        <p:blipFill>
          <a:blip r:embed="rId2"/>
          <a:stretch/>
        </p:blipFill>
        <p:spPr>
          <a:xfrm>
            <a:off x="1981080" y="2622600"/>
            <a:ext cx="625680" cy="6541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276720" y="4191120"/>
            <a:ext cx="1858680" cy="144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22560" y="4095720"/>
            <a:ext cx="279360" cy="187200"/>
          </a:xfrm>
          <a:custGeom>
            <a:avLst/>
            <a:gdLst/>
            <a:ahLst/>
            <a:rect l="l" t="t" r="r" b="b"/>
            <a:pathLst>
              <a:path w="271" h="180">
                <a:moveTo>
                  <a:pt x="271" y="180"/>
                </a:moveTo>
                <a:lnTo>
                  <a:pt x="0" y="90"/>
                </a:lnTo>
                <a:lnTo>
                  <a:pt x="271" y="0"/>
                </a:lnTo>
                <a:lnTo>
                  <a:pt x="271" y="18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34290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Y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65680" y="4267080"/>
            <a:ext cx="5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Y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124080" y="5866920"/>
            <a:ext cx="1994040" cy="972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65840" y="5791320"/>
            <a:ext cx="279360" cy="187200"/>
          </a:xfrm>
          <a:custGeom>
            <a:avLst/>
            <a:gdLst/>
            <a:ahLst/>
            <a:rect l="l" t="t" r="r" b="b"/>
            <a:pathLst>
              <a:path w="271" h="181">
                <a:moveTo>
                  <a:pt x="0" y="0"/>
                </a:moveTo>
                <a:lnTo>
                  <a:pt x="271" y="90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65680" y="5562720"/>
            <a:ext cx="5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Y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6324480"/>
            <a:ext cx="1859040" cy="1800"/>
          </a:xfrm>
          <a:prstGeom prst="line">
            <a:avLst/>
          </a:prstGeom>
          <a:ln w="39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98880" y="6229440"/>
            <a:ext cx="279360" cy="187200"/>
          </a:xfrm>
          <a:custGeom>
            <a:avLst/>
            <a:gdLst/>
            <a:ahLst/>
            <a:rect l="l" t="t" r="r" b="b"/>
            <a:pathLst>
              <a:path w="271" h="180">
                <a:moveTo>
                  <a:pt x="271" y="180"/>
                </a:moveTo>
                <a:lnTo>
                  <a:pt x="0" y="90"/>
                </a:lnTo>
                <a:lnTo>
                  <a:pt x="271" y="0"/>
                </a:lnTo>
                <a:lnTo>
                  <a:pt x="271" y="18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64240" y="594360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4800600"/>
            <a:ext cx="14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第二个包没收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建立连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-Way Handshake for Connection Synchroniz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交换初始序列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-——-&gt;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YN my sequence number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&lt;-——-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CK your sequence number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&lt;-——-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YN my sequence number is 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-——-&gt;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CK your sequence number is 130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用窗口进行流控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188040" y="5143680"/>
            <a:ext cx="100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25800" y="3152880"/>
            <a:ext cx="61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25800" y="3152880"/>
            <a:ext cx="61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5200" y="3219480"/>
            <a:ext cx="19080" cy="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8160" y="3116160"/>
            <a:ext cx="19080" cy="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07040" y="3152880"/>
            <a:ext cx="46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07040" y="3152880"/>
            <a:ext cx="46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43560" y="3218040"/>
            <a:ext cx="19080" cy="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59400" y="3116160"/>
            <a:ext cx="17640" cy="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71680" y="5295960"/>
            <a:ext cx="19080" cy="7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79520" y="5388120"/>
            <a:ext cx="108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53120" y="5334120"/>
            <a:ext cx="324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53120" y="5334120"/>
            <a:ext cx="324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4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04040" y="5297400"/>
            <a:ext cx="19080" cy="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05120" y="2092320"/>
            <a:ext cx="4814640" cy="4003560"/>
            <a:chOff x="1905120" y="2092320"/>
            <a:chExt cx="4814640" cy="4003560"/>
          </a:xfrm>
        </p:grpSpPr>
        <p:sp>
          <p:nvSpPr>
            <p:cNvPr id="430" name=""/>
            <p:cNvSpPr/>
            <p:nvPr/>
          </p:nvSpPr>
          <p:spPr>
            <a:xfrm>
              <a:off x="3295800" y="2530440"/>
              <a:ext cx="1440" cy="13762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2720" y="2530440"/>
              <a:ext cx="1800" cy="13381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95800" y="2530440"/>
              <a:ext cx="1325520" cy="10008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99000" y="2552760"/>
              <a:ext cx="233280" cy="152280"/>
            </a:xfrm>
            <a:custGeom>
              <a:avLst/>
              <a:gdLst/>
              <a:ahLst/>
              <a:rect l="l" t="t" r="r" b="b"/>
              <a:pathLst>
                <a:path w="276" h="181">
                  <a:moveTo>
                    <a:pt x="13" y="0"/>
                  </a:moveTo>
                  <a:lnTo>
                    <a:pt x="276" y="110"/>
                  </a:lnTo>
                  <a:lnTo>
                    <a:pt x="0" y="1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697200" y="2913120"/>
              <a:ext cx="1325520" cy="10008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87680" y="2935440"/>
              <a:ext cx="233280" cy="152280"/>
            </a:xfrm>
            <a:custGeom>
              <a:avLst/>
              <a:gdLst/>
              <a:ahLst/>
              <a:rect l="l" t="t" r="r" b="b"/>
              <a:pathLst>
                <a:path w="277" h="181">
                  <a:moveTo>
                    <a:pt x="277" y="181"/>
                  </a:moveTo>
                  <a:lnTo>
                    <a:pt x="0" y="112"/>
                  </a:lnTo>
                  <a:lnTo>
                    <a:pt x="263" y="0"/>
                  </a:lnTo>
                  <a:lnTo>
                    <a:pt x="277" y="18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95800" y="3295800"/>
              <a:ext cx="1325520" cy="9828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99000" y="3316320"/>
              <a:ext cx="233280" cy="152280"/>
            </a:xfrm>
            <a:custGeom>
              <a:avLst/>
              <a:gdLst/>
              <a:ahLst/>
              <a:rect l="l" t="t" r="r" b="b"/>
              <a:pathLst>
                <a:path w="276" h="181">
                  <a:moveTo>
                    <a:pt x="13" y="0"/>
                  </a:moveTo>
                  <a:lnTo>
                    <a:pt x="276" y="112"/>
                  </a:lnTo>
                  <a:lnTo>
                    <a:pt x="0" y="1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697200" y="3678120"/>
              <a:ext cx="1325520" cy="9864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87680" y="3700440"/>
              <a:ext cx="233280" cy="150840"/>
            </a:xfrm>
            <a:custGeom>
              <a:avLst/>
              <a:gdLst/>
              <a:ahLst/>
              <a:rect l="l" t="t" r="r" b="b"/>
              <a:pathLst>
                <a:path w="277" h="179">
                  <a:moveTo>
                    <a:pt x="277" y="179"/>
                  </a:moveTo>
                  <a:lnTo>
                    <a:pt x="0" y="110"/>
                  </a:lnTo>
                  <a:lnTo>
                    <a:pt x="263" y="0"/>
                  </a:lnTo>
                  <a:lnTo>
                    <a:pt x="277" y="1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2680" y="2092320"/>
              <a:ext cx="12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Window size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29680" y="349884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92520" y="243828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520" y="320364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15960" y="272412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03440" y="292104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AC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2000" y="349884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15960" y="33354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03440" y="352908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ACK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06320" y="545616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ACK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00480" y="4719600"/>
              <a:ext cx="1440" cy="13762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7760" y="4719600"/>
              <a:ext cx="1440" cy="13399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00480" y="4708440"/>
              <a:ext cx="1325520" cy="180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06920" y="4632480"/>
              <a:ext cx="228600" cy="15228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0" y="0"/>
                  </a:moveTo>
                  <a:lnTo>
                    <a:pt x="271" y="90"/>
                  </a:lnTo>
                  <a:lnTo>
                    <a:pt x="0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701520" y="5549760"/>
              <a:ext cx="1325880" cy="180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0920" y="5473800"/>
              <a:ext cx="230040" cy="152280"/>
            </a:xfrm>
            <a:custGeom>
              <a:avLst/>
              <a:gdLst/>
              <a:ahLst/>
              <a:rect l="l" t="t" r="r" b="b"/>
              <a:pathLst>
                <a:path w="271" h="181">
                  <a:moveTo>
                    <a:pt x="271" y="181"/>
                  </a:moveTo>
                  <a:lnTo>
                    <a:pt x="0" y="90"/>
                  </a:lnTo>
                  <a:lnTo>
                    <a:pt x="271" y="0"/>
                  </a:lnTo>
                  <a:lnTo>
                    <a:pt x="271" y="18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00480" y="4975200"/>
              <a:ext cx="1325520" cy="144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06920" y="4898880"/>
              <a:ext cx="228600" cy="1526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0" y="0"/>
                  </a:moveTo>
                  <a:lnTo>
                    <a:pt x="271" y="90"/>
                  </a:lnTo>
                  <a:lnTo>
                    <a:pt x="0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45920" y="4281480"/>
              <a:ext cx="124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Window size=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97200" y="462924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97200" y="488304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73480" y="463716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3480" y="488304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00480" y="5932440"/>
              <a:ext cx="1325520" cy="180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06920" y="5856120"/>
              <a:ext cx="228600" cy="152640"/>
            </a:xfrm>
            <a:custGeom>
              <a:avLst/>
              <a:gdLst/>
              <a:ahLst/>
              <a:rect l="l" t="t" r="r" b="b"/>
              <a:pathLst>
                <a:path w="271" h="181">
                  <a:moveTo>
                    <a:pt x="0" y="0"/>
                  </a:moveTo>
                  <a:lnTo>
                    <a:pt x="271" y="90"/>
                  </a:lnTo>
                  <a:lnTo>
                    <a:pt x="0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0480" y="5245200"/>
              <a:ext cx="1325520" cy="1440"/>
            </a:xfrm>
            <a:prstGeom prst="line">
              <a:avLst/>
            </a:prstGeom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06920" y="5168880"/>
              <a:ext cx="228600" cy="150840"/>
            </a:xfrm>
            <a:custGeom>
              <a:avLst/>
              <a:gdLst/>
              <a:ahLst/>
              <a:rect l="l" t="t" r="r" b="b"/>
              <a:pathLst>
                <a:path w="271" h="181">
                  <a:moveTo>
                    <a:pt x="0" y="0"/>
                  </a:moveTo>
                  <a:lnTo>
                    <a:pt x="271" y="91"/>
                  </a:lnTo>
                  <a:lnTo>
                    <a:pt x="0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7200" y="512928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73480" y="512928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3480" y="584028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97200" y="5840280"/>
              <a:ext cx="52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96200" y="57070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en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78520" y="570708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整套电脑-3" descr=""/>
            <p:cNvPicPr/>
            <p:nvPr/>
          </p:nvPicPr>
          <p:blipFill>
            <a:blip r:embed="rId1"/>
            <a:stretch/>
          </p:blipFill>
          <p:spPr>
            <a:xfrm>
              <a:off x="5943600" y="2774880"/>
              <a:ext cx="62532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整套电脑-3" descr=""/>
            <p:cNvPicPr/>
            <p:nvPr/>
          </p:nvPicPr>
          <p:blipFill>
            <a:blip r:embed="rId2"/>
            <a:stretch/>
          </p:blipFill>
          <p:spPr>
            <a:xfrm>
              <a:off x="1905120" y="2774880"/>
              <a:ext cx="62532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整套电脑-3" descr=""/>
            <p:cNvPicPr/>
            <p:nvPr/>
          </p:nvPicPr>
          <p:blipFill>
            <a:blip r:embed="rId3"/>
            <a:stretch/>
          </p:blipFill>
          <p:spPr>
            <a:xfrm>
              <a:off x="6004080" y="4984920"/>
              <a:ext cx="62532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整套电脑-3" descr=""/>
            <p:cNvPicPr/>
            <p:nvPr/>
          </p:nvPicPr>
          <p:blipFill>
            <a:blip r:embed="rId4"/>
            <a:stretch/>
          </p:blipFill>
          <p:spPr>
            <a:xfrm>
              <a:off x="1965240" y="4984920"/>
              <a:ext cx="625680" cy="65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四章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协议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协议模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应用层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传输层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网间层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子网划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用窗口进行流控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617920" y="2914560"/>
            <a:ext cx="237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15360" y="2438280"/>
            <a:ext cx="5428440" cy="3441960"/>
            <a:chOff x="2115360" y="2438280"/>
            <a:chExt cx="5428440" cy="3441960"/>
          </a:xfrm>
        </p:grpSpPr>
        <p:sp>
          <p:nvSpPr>
            <p:cNvPr id="480" name=""/>
            <p:cNvSpPr/>
            <p:nvPr/>
          </p:nvSpPr>
          <p:spPr>
            <a:xfrm>
              <a:off x="3233880" y="3098880"/>
              <a:ext cx="1960560" cy="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70320" y="3000240"/>
              <a:ext cx="295560" cy="19692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0" y="0"/>
                  </a:moveTo>
                  <a:lnTo>
                    <a:pt x="186" y="62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3520" y="4290840"/>
              <a:ext cx="1962360" cy="180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3880" y="4192560"/>
              <a:ext cx="295200" cy="19692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186" y="124"/>
                  </a:moveTo>
                  <a:lnTo>
                    <a:pt x="0" y="62"/>
                  </a:lnTo>
                  <a:lnTo>
                    <a:pt x="186" y="0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33880" y="3397320"/>
              <a:ext cx="1960560" cy="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70320" y="3298680"/>
              <a:ext cx="295560" cy="19692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0" y="0"/>
                  </a:moveTo>
                  <a:lnTo>
                    <a:pt x="186" y="62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3520" y="5037120"/>
              <a:ext cx="1962360" cy="1440"/>
            </a:xfrm>
            <a:prstGeom prst="line">
              <a:avLst/>
            </a:prstGeom>
            <a:ln w="54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33880" y="4938840"/>
              <a:ext cx="295200" cy="19656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186" y="124"/>
                  </a:moveTo>
                  <a:lnTo>
                    <a:pt x="0" y="62"/>
                  </a:lnTo>
                  <a:lnTo>
                    <a:pt x="186" y="0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33880" y="3695760"/>
              <a:ext cx="1960560" cy="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70320" y="3597120"/>
              <a:ext cx="295560" cy="19692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0" y="0"/>
                  </a:moveTo>
                  <a:lnTo>
                    <a:pt x="186" y="62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5360" y="3106800"/>
              <a:ext cx="925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Send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89240" y="3106800"/>
              <a:ext cx="1137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Receiv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2600" y="3448080"/>
              <a:ext cx="1681200" cy="19620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2080" y="3541680"/>
              <a:ext cx="134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Buffer ful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09120" y="4046400"/>
              <a:ext cx="1375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100" spc="-1" strike="noStrike">
                  <a:solidFill>
                    <a:srgbClr val="000000"/>
                  </a:solidFill>
                  <a:latin typeface="宋体"/>
                </a:rPr>
                <a:t>Progr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33880" y="4299120"/>
              <a:ext cx="1526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100" spc="-1" strike="noStrike">
                  <a:solidFill>
                    <a:srgbClr val="000000"/>
                  </a:solidFill>
                  <a:latin typeface="宋体"/>
                </a:rPr>
                <a:t>Segmen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19560" y="4803840"/>
              <a:ext cx="1297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Buffer O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84960" y="2684520"/>
              <a:ext cx="120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Transm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57680" y="3924360"/>
              <a:ext cx="138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Not Read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50720" y="4668840"/>
              <a:ext cx="81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宋体"/>
                </a:rPr>
                <a:t>Read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33880" y="5532480"/>
              <a:ext cx="1960560" cy="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70320" y="5433840"/>
              <a:ext cx="295560" cy="196920"/>
            </a:xfrm>
            <a:custGeom>
              <a:avLst/>
              <a:gdLst/>
              <a:ahLst/>
              <a:rect l="l" t="t" r="r" b="b"/>
              <a:pathLst>
                <a:path w="186" h="124">
                  <a:moveTo>
                    <a:pt x="0" y="0"/>
                  </a:moveTo>
                  <a:lnTo>
                    <a:pt x="186" y="62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33880" y="5780160"/>
              <a:ext cx="1960560" cy="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70320" y="5681520"/>
              <a:ext cx="295560" cy="198720"/>
            </a:xfrm>
            <a:custGeom>
              <a:avLst/>
              <a:gdLst/>
              <a:ahLst/>
              <a:rect l="l" t="t" r="r" b="b"/>
              <a:pathLst>
                <a:path w="186" h="125">
                  <a:moveTo>
                    <a:pt x="0" y="0"/>
                  </a:moveTo>
                  <a:lnTo>
                    <a:pt x="186" y="62"/>
                  </a:lnTo>
                  <a:lnTo>
                    <a:pt x="0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89320" y="3943440"/>
              <a:ext cx="596880" cy="595080"/>
            </a:xfrm>
            <a:custGeom>
              <a:avLst/>
              <a:gdLst/>
              <a:ahLst/>
              <a:rect l="l" t="t" r="r" b="b"/>
              <a:pathLst>
                <a:path w="376" h="375">
                  <a:moveTo>
                    <a:pt x="0" y="188"/>
                  </a:moveTo>
                  <a:lnTo>
                    <a:pt x="3" y="219"/>
                  </a:lnTo>
                  <a:lnTo>
                    <a:pt x="11" y="249"/>
                  </a:lnTo>
                  <a:lnTo>
                    <a:pt x="22" y="277"/>
                  </a:lnTo>
                  <a:lnTo>
                    <a:pt x="40" y="304"/>
                  </a:lnTo>
                  <a:lnTo>
                    <a:pt x="61" y="326"/>
                  </a:lnTo>
                  <a:lnTo>
                    <a:pt x="86" y="345"/>
                  </a:lnTo>
                  <a:lnTo>
                    <a:pt x="112" y="359"/>
                  </a:lnTo>
                  <a:lnTo>
                    <a:pt x="142" y="370"/>
                  </a:lnTo>
                  <a:lnTo>
                    <a:pt x="172" y="375"/>
                  </a:lnTo>
                  <a:lnTo>
                    <a:pt x="204" y="375"/>
                  </a:lnTo>
                  <a:lnTo>
                    <a:pt x="234" y="370"/>
                  </a:lnTo>
                  <a:lnTo>
                    <a:pt x="263" y="359"/>
                  </a:lnTo>
                  <a:lnTo>
                    <a:pt x="291" y="345"/>
                  </a:lnTo>
                  <a:lnTo>
                    <a:pt x="315" y="326"/>
                  </a:lnTo>
                  <a:lnTo>
                    <a:pt x="336" y="304"/>
                  </a:lnTo>
                  <a:lnTo>
                    <a:pt x="353" y="277"/>
                  </a:lnTo>
                  <a:lnTo>
                    <a:pt x="365" y="249"/>
                  </a:lnTo>
                  <a:lnTo>
                    <a:pt x="373" y="219"/>
                  </a:lnTo>
                  <a:lnTo>
                    <a:pt x="376" y="188"/>
                  </a:lnTo>
                  <a:lnTo>
                    <a:pt x="373" y="157"/>
                  </a:lnTo>
                  <a:lnTo>
                    <a:pt x="365" y="128"/>
                  </a:lnTo>
                  <a:lnTo>
                    <a:pt x="353" y="98"/>
                  </a:lnTo>
                  <a:lnTo>
                    <a:pt x="336" y="73"/>
                  </a:lnTo>
                  <a:lnTo>
                    <a:pt x="315" y="49"/>
                  </a:lnTo>
                  <a:lnTo>
                    <a:pt x="291" y="31"/>
                  </a:lnTo>
                  <a:lnTo>
                    <a:pt x="263" y="16"/>
                  </a:lnTo>
                  <a:lnTo>
                    <a:pt x="234" y="6"/>
                  </a:lnTo>
                  <a:lnTo>
                    <a:pt x="204" y="0"/>
                  </a:lnTo>
                  <a:lnTo>
                    <a:pt x="172" y="0"/>
                  </a:lnTo>
                  <a:lnTo>
                    <a:pt x="142" y="6"/>
                  </a:lnTo>
                  <a:lnTo>
                    <a:pt x="112" y="16"/>
                  </a:lnTo>
                  <a:lnTo>
                    <a:pt x="86" y="31"/>
                  </a:lnTo>
                  <a:lnTo>
                    <a:pt x="61" y="49"/>
                  </a:lnTo>
                  <a:lnTo>
                    <a:pt x="40" y="73"/>
                  </a:lnTo>
                  <a:lnTo>
                    <a:pt x="22" y="98"/>
                  </a:lnTo>
                  <a:lnTo>
                    <a:pt x="11" y="128"/>
                  </a:lnTo>
                  <a:lnTo>
                    <a:pt x="3" y="157"/>
                  </a:lnTo>
                  <a:lnTo>
                    <a:pt x="0" y="188"/>
                  </a:lnTo>
                  <a:close/>
                  <a:moveTo>
                    <a:pt x="266" y="293"/>
                  </a:moveTo>
                  <a:lnTo>
                    <a:pt x="246" y="306"/>
                  </a:lnTo>
                  <a:lnTo>
                    <a:pt x="224" y="314"/>
                  </a:lnTo>
                  <a:lnTo>
                    <a:pt x="200" y="318"/>
                  </a:lnTo>
                  <a:lnTo>
                    <a:pt x="176" y="318"/>
                  </a:lnTo>
                  <a:lnTo>
                    <a:pt x="152" y="314"/>
                  </a:lnTo>
                  <a:lnTo>
                    <a:pt x="130" y="305"/>
                  </a:lnTo>
                  <a:lnTo>
                    <a:pt x="108" y="293"/>
                  </a:lnTo>
                  <a:lnTo>
                    <a:pt x="91" y="276"/>
                  </a:lnTo>
                  <a:lnTo>
                    <a:pt x="77" y="257"/>
                  </a:lnTo>
                  <a:lnTo>
                    <a:pt x="66" y="235"/>
                  </a:lnTo>
                  <a:lnTo>
                    <a:pt x="59" y="212"/>
                  </a:lnTo>
                  <a:lnTo>
                    <a:pt x="57" y="188"/>
                  </a:lnTo>
                  <a:lnTo>
                    <a:pt x="58" y="167"/>
                  </a:lnTo>
                  <a:lnTo>
                    <a:pt x="63" y="146"/>
                  </a:lnTo>
                  <a:lnTo>
                    <a:pt x="71" y="128"/>
                  </a:lnTo>
                  <a:lnTo>
                    <a:pt x="83" y="109"/>
                  </a:lnTo>
                  <a:lnTo>
                    <a:pt x="266" y="293"/>
                  </a:lnTo>
                  <a:close/>
                  <a:moveTo>
                    <a:pt x="110" y="82"/>
                  </a:moveTo>
                  <a:lnTo>
                    <a:pt x="130" y="71"/>
                  </a:lnTo>
                  <a:lnTo>
                    <a:pt x="152" y="61"/>
                  </a:lnTo>
                  <a:lnTo>
                    <a:pt x="176" y="57"/>
                  </a:lnTo>
                  <a:lnTo>
                    <a:pt x="201" y="57"/>
                  </a:lnTo>
                  <a:lnTo>
                    <a:pt x="225" y="61"/>
                  </a:lnTo>
                  <a:lnTo>
                    <a:pt x="247" y="71"/>
                  </a:lnTo>
                  <a:lnTo>
                    <a:pt x="267" y="84"/>
                  </a:lnTo>
                  <a:lnTo>
                    <a:pt x="286" y="100"/>
                  </a:lnTo>
                  <a:lnTo>
                    <a:pt x="300" y="120"/>
                  </a:lnTo>
                  <a:lnTo>
                    <a:pt x="311" y="141"/>
                  </a:lnTo>
                  <a:lnTo>
                    <a:pt x="317" y="163"/>
                  </a:lnTo>
                  <a:lnTo>
                    <a:pt x="319" y="188"/>
                  </a:lnTo>
                  <a:lnTo>
                    <a:pt x="317" y="210"/>
                  </a:lnTo>
                  <a:lnTo>
                    <a:pt x="312" y="229"/>
                  </a:lnTo>
                  <a:lnTo>
                    <a:pt x="304" y="249"/>
                  </a:lnTo>
                  <a:lnTo>
                    <a:pt x="294" y="267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9040" y="4786200"/>
              <a:ext cx="497160" cy="498600"/>
            </a:xfrm>
            <a:custGeom>
              <a:avLst/>
              <a:gdLst/>
              <a:ahLst/>
              <a:rect l="l" t="t" r="r" b="b"/>
              <a:pathLst>
                <a:path w="313" h="314">
                  <a:moveTo>
                    <a:pt x="0" y="158"/>
                  </a:moveTo>
                  <a:lnTo>
                    <a:pt x="2" y="130"/>
                  </a:lnTo>
                  <a:lnTo>
                    <a:pt x="10" y="104"/>
                  </a:lnTo>
                  <a:lnTo>
                    <a:pt x="20" y="80"/>
                  </a:lnTo>
                  <a:lnTo>
                    <a:pt x="36" y="57"/>
                  </a:lnTo>
                  <a:lnTo>
                    <a:pt x="56" y="37"/>
                  </a:lnTo>
                  <a:lnTo>
                    <a:pt x="79" y="21"/>
                  </a:lnTo>
                  <a:lnTo>
                    <a:pt x="102" y="11"/>
                  </a:lnTo>
                  <a:lnTo>
                    <a:pt x="129" y="3"/>
                  </a:lnTo>
                  <a:lnTo>
                    <a:pt x="157" y="0"/>
                  </a:lnTo>
                  <a:lnTo>
                    <a:pt x="183" y="3"/>
                  </a:lnTo>
                  <a:lnTo>
                    <a:pt x="209" y="11"/>
                  </a:lnTo>
                  <a:lnTo>
                    <a:pt x="235" y="21"/>
                  </a:lnTo>
                  <a:lnTo>
                    <a:pt x="257" y="37"/>
                  </a:lnTo>
                  <a:lnTo>
                    <a:pt x="276" y="57"/>
                  </a:lnTo>
                  <a:lnTo>
                    <a:pt x="292" y="80"/>
                  </a:lnTo>
                  <a:lnTo>
                    <a:pt x="303" y="104"/>
                  </a:lnTo>
                  <a:lnTo>
                    <a:pt x="310" y="130"/>
                  </a:lnTo>
                  <a:lnTo>
                    <a:pt x="313" y="158"/>
                  </a:lnTo>
                  <a:lnTo>
                    <a:pt x="310" y="184"/>
                  </a:lnTo>
                  <a:lnTo>
                    <a:pt x="303" y="211"/>
                  </a:lnTo>
                  <a:lnTo>
                    <a:pt x="292" y="236"/>
                  </a:lnTo>
                  <a:lnTo>
                    <a:pt x="276" y="258"/>
                  </a:lnTo>
                  <a:lnTo>
                    <a:pt x="257" y="277"/>
                  </a:lnTo>
                  <a:lnTo>
                    <a:pt x="235" y="293"/>
                  </a:lnTo>
                  <a:lnTo>
                    <a:pt x="209" y="305"/>
                  </a:lnTo>
                  <a:lnTo>
                    <a:pt x="183" y="311"/>
                  </a:lnTo>
                  <a:lnTo>
                    <a:pt x="157" y="314"/>
                  </a:lnTo>
                  <a:lnTo>
                    <a:pt x="129" y="311"/>
                  </a:lnTo>
                  <a:lnTo>
                    <a:pt x="102" y="305"/>
                  </a:lnTo>
                  <a:lnTo>
                    <a:pt x="79" y="293"/>
                  </a:lnTo>
                  <a:lnTo>
                    <a:pt x="56" y="277"/>
                  </a:lnTo>
                  <a:lnTo>
                    <a:pt x="36" y="258"/>
                  </a:lnTo>
                  <a:lnTo>
                    <a:pt x="20" y="236"/>
                  </a:lnTo>
                  <a:lnTo>
                    <a:pt x="10" y="211"/>
                  </a:lnTo>
                  <a:lnTo>
                    <a:pt x="2" y="184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54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7720" y="5062680"/>
              <a:ext cx="125640" cy="1440"/>
            </a:xfrm>
            <a:prstGeom prst="line">
              <a:avLst/>
            </a:prstGeom>
            <a:ln w="54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6280" y="4962600"/>
              <a:ext cx="297000" cy="198360"/>
            </a:xfrm>
            <a:custGeom>
              <a:avLst/>
              <a:gdLst/>
              <a:ahLst/>
              <a:rect l="l" t="t" r="r" b="b"/>
              <a:pathLst>
                <a:path w="187" h="125">
                  <a:moveTo>
                    <a:pt x="187" y="125"/>
                  </a:moveTo>
                  <a:lnTo>
                    <a:pt x="0" y="63"/>
                  </a:lnTo>
                  <a:lnTo>
                    <a:pt x="187" y="0"/>
                  </a:lnTo>
                  <a:lnTo>
                    <a:pt x="187" y="1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8" name="整套电脑-3" descr=""/>
            <p:cNvPicPr/>
            <p:nvPr/>
          </p:nvPicPr>
          <p:blipFill>
            <a:blip r:embed="rId1"/>
            <a:stretch/>
          </p:blipFill>
          <p:spPr>
            <a:xfrm>
              <a:off x="2209680" y="2438280"/>
              <a:ext cx="6256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整套电脑-3" descr=""/>
            <p:cNvPicPr/>
            <p:nvPr/>
          </p:nvPicPr>
          <p:blipFill>
            <a:blip r:embed="rId2"/>
            <a:stretch/>
          </p:blipFill>
          <p:spPr>
            <a:xfrm>
              <a:off x="5943600" y="2438280"/>
              <a:ext cx="625320" cy="6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UD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2209680"/>
            <a:ext cx="80769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                  1                   2                  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1 2 3 4 5 6 7 8 9 0 1 2 3 4 5 6 7 8 9 0 1 2 3 4 5 6 7 8 9 0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Source Port          |       Destination Port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Length             |           Checksum       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data octets ...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 ...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传输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端口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标识应用层某种具体的服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-655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-102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保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传输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端口号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识某种具体的服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6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0-102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保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0-655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套接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识应用程序间的连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CP or UDP + IP + 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常用的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端口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端口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0  FTP server (data channel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1  FTP server (control channel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3  Telnet serv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  SMTP serv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80  Web server (HTTP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10  POP3 serv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39  NetBIOS session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常用的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UD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端口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端口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3 DNS name querie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9 Trivial File Transfer Protocol (TFTP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37 NetBIOS name servic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38 NetBIOS Datagram servic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1 Simple Network Management Protocol (SNMP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20 Routing Information Protocol (R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UD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服务性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传输可靠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传输开销，速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传输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否广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nternet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614520" y="2214720"/>
            <a:ext cx="2381040" cy="614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4520" y="3024360"/>
            <a:ext cx="2381040" cy="61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520" y="3833640"/>
            <a:ext cx="2381040" cy="61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4648320"/>
            <a:ext cx="23814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 to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000240" y="3047760"/>
            <a:ext cx="657360" cy="78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71800" y="4419720"/>
            <a:ext cx="68580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57600" y="3048120"/>
            <a:ext cx="5029200" cy="243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Control Messag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Group Manageme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Resolution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ddress Resolut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解析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 -&gt; MA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解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广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RP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ARP –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路由器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察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RP Cach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命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清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RP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组通信协议（传输协议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Transmission Control Protocol /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的产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RP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A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verse Address Resolution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反地址解析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C-&gt;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获得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AR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应用场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ternet Control Messages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间消息控制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发送者知道数据包传输过程中出现的问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须被所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主机实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否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协议传输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应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cho, Echo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网络不可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stination Unreachab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                  1                   2                   3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+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Version|  IHL  |Type of Service|          Total Length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+---------------+-----+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Identification        |Flags|      Fragment Offset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+---------------+-----+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Time to Live |    Protocol   |         Header Checksum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+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Source Address                 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Destination Address               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Options                    |    Padding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帧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                  1                   2                   3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0 1 2 3 4 5 6 7 8 9 0 1 2 3 4 5 6 7 8 9 0 1 2 3 4 5 6 7 8 9 0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+---------------+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Version|  IHL  |Type of Service|          Total Length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+-------+---------------+-----+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Identification        |Flags|      Fragment Offset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+---------------+-----+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Time to Live |    Protocol   |         Header Checksum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+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   Source Address                 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Destination Address                    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|                    Options                    |    Padding    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+-----------------------------------------------+---------------+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4343400"/>
            <a:ext cx="23619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4876920"/>
            <a:ext cx="23619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3886200"/>
            <a:ext cx="23623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逻辑地址，用于标识网络中的主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二进制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点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一个字节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yt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9.         254.              0.          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101001. 11111110. 00000000. 000000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onverting to Binary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14400" y="1143000"/>
            <a:ext cx="7238880" cy="4959360"/>
            <a:chOff x="914400" y="1143000"/>
            <a:chExt cx="7238880" cy="4959360"/>
          </a:xfrm>
        </p:grpSpPr>
        <p:sp>
          <p:nvSpPr>
            <p:cNvPr id="555" name=""/>
            <p:cNvSpPr/>
            <p:nvPr/>
          </p:nvSpPr>
          <p:spPr>
            <a:xfrm>
              <a:off x="914400" y="1143000"/>
              <a:ext cx="7238880" cy="49593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79360" y="1866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85080" y="1866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179360" y="2171880"/>
              <a:ext cx="289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13280" y="217188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7360" y="194328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 Narrow"/>
                </a:rPr>
                <a:t>8 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79360" y="476244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85080" y="476244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179000" y="506736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51360" y="506736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95160" y="483876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 Narrow"/>
                </a:rPr>
                <a:t>Decimal Value 2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7792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1780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5588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93960" y="2629080"/>
              <a:ext cx="841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3240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7048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08560" y="2629080"/>
              <a:ext cx="841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47000" y="262908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1780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5588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93960" y="4076640"/>
              <a:ext cx="841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3240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048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08560" y="4076640"/>
              <a:ext cx="841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47000" y="4076640"/>
              <a:ext cx="841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07960" y="3238560"/>
              <a:ext cx="381240" cy="762120"/>
            </a:xfrm>
            <a:prstGeom prst="downArrow">
              <a:avLst>
                <a:gd name="adj1" fmla="val 50000"/>
                <a:gd name="adj2" fmla="val 79129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46400" y="3238560"/>
              <a:ext cx="380880" cy="762120"/>
            </a:xfrm>
            <a:prstGeom prst="downArrow">
              <a:avLst>
                <a:gd name="adj1" fmla="val 50000"/>
                <a:gd name="adj2" fmla="val 7920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4480" y="3238560"/>
              <a:ext cx="380880" cy="762120"/>
            </a:xfrm>
            <a:prstGeom prst="downArrow">
              <a:avLst>
                <a:gd name="adj1" fmla="val 50000"/>
                <a:gd name="adj2" fmla="val 7920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22560" y="3238560"/>
              <a:ext cx="381240" cy="762120"/>
            </a:xfrm>
            <a:prstGeom prst="downArrow">
              <a:avLst>
                <a:gd name="adj1" fmla="val 50000"/>
                <a:gd name="adj2" fmla="val 79129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61000" y="3238560"/>
              <a:ext cx="380880" cy="762120"/>
            </a:xfrm>
            <a:prstGeom prst="downArrow">
              <a:avLst>
                <a:gd name="adj1" fmla="val 50000"/>
                <a:gd name="adj2" fmla="val 7920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99080" y="3238560"/>
              <a:ext cx="380880" cy="762120"/>
            </a:xfrm>
            <a:prstGeom prst="downArrow">
              <a:avLst>
                <a:gd name="adj1" fmla="val 50000"/>
                <a:gd name="adj2" fmla="val 7920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37160" y="3238560"/>
              <a:ext cx="381240" cy="762120"/>
            </a:xfrm>
            <a:prstGeom prst="downArrow">
              <a:avLst>
                <a:gd name="adj1" fmla="val 50000"/>
                <a:gd name="adj2" fmla="val 79129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75600" y="3238560"/>
              <a:ext cx="380880" cy="762120"/>
            </a:xfrm>
            <a:prstGeom prst="downArrow">
              <a:avLst>
                <a:gd name="adj1" fmla="val 50000"/>
                <a:gd name="adj2" fmla="val 7920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914400" y="1143000"/>
            <a:ext cx="7238880" cy="4959360"/>
            <a:chOff x="914400" y="1143000"/>
            <a:chExt cx="7238880" cy="4959360"/>
          </a:xfrm>
        </p:grpSpPr>
        <p:sp>
          <p:nvSpPr>
            <p:cNvPr id="591" name=""/>
            <p:cNvSpPr/>
            <p:nvPr/>
          </p:nvSpPr>
          <p:spPr>
            <a:xfrm>
              <a:off x="914400" y="1143000"/>
              <a:ext cx="7238880" cy="49593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</a:rPr>
                <a:t>Binary Notation (Base 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33560" y="1590840"/>
              <a:ext cx="87948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11240" y="1590840"/>
              <a:ext cx="87804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86040" y="1590840"/>
              <a:ext cx="88092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62280" y="1590840"/>
              <a:ext cx="88128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43560" y="1590840"/>
              <a:ext cx="88092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23040" y="1590840"/>
              <a:ext cx="87768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9280" y="1590840"/>
              <a:ext cx="87948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69040" y="1590840"/>
              <a:ext cx="879480" cy="357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1c1c1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41560" y="3033720"/>
              <a:ext cx="6835680" cy="2922480"/>
            </a:xfrm>
            <a:prstGeom prst="rect">
              <a:avLst/>
            </a:prstGeom>
            <a:gradFill rotWithShape="0">
              <a:gsLst>
                <a:gs pos="0">
                  <a:srgbClr val="ffffeb"/>
                </a:gs>
                <a:gs pos="100000">
                  <a:srgbClr val="fcfe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74040" y="54792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c1c1c"/>
                  </a:solidFill>
                  <a:latin typeface="Arial Narrow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033560" y="3132000"/>
              <a:ext cx="7013160" cy="357480"/>
              <a:chOff x="1033560" y="3132000"/>
              <a:chExt cx="7013160" cy="357480"/>
            </a:xfrm>
          </p:grpSpPr>
          <p:sp>
            <p:nvSpPr>
              <p:cNvPr id="603" name=""/>
              <p:cNvSpPr/>
              <p:nvPr/>
            </p:nvSpPr>
            <p:spPr>
              <a:xfrm>
                <a:off x="1033560" y="3132000"/>
                <a:ext cx="87876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10160" y="3132000"/>
                <a:ext cx="87876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785320" y="3132000"/>
                <a:ext cx="88056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662280" y="3132000"/>
                <a:ext cx="88020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42840" y="3132000"/>
                <a:ext cx="88020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21600" y="3132000"/>
                <a:ext cx="87804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98200" y="3132000"/>
                <a:ext cx="87876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67960" y="3132000"/>
                <a:ext cx="878760" cy="35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1344600" y="360360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033560" y="3925800"/>
              <a:ext cx="7013160" cy="357120"/>
              <a:chOff x="1033560" y="3925800"/>
              <a:chExt cx="7013160" cy="357120"/>
            </a:xfrm>
          </p:grpSpPr>
          <p:sp>
            <p:nvSpPr>
              <p:cNvPr id="613" name=""/>
              <p:cNvSpPr/>
              <p:nvPr/>
            </p:nvSpPr>
            <p:spPr>
              <a:xfrm>
                <a:off x="1033560" y="3925800"/>
                <a:ext cx="87876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*1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910160" y="3925800"/>
                <a:ext cx="87876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*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85320" y="3925800"/>
                <a:ext cx="88056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*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662280" y="3925800"/>
                <a:ext cx="88020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*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42840" y="3925800"/>
                <a:ext cx="88020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*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21600" y="3925800"/>
                <a:ext cx="87804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*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98200" y="3925800"/>
                <a:ext cx="87876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0*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67960" y="3925800"/>
                <a:ext cx="87876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Arial Narrow"/>
                  </a:rPr>
                  <a:t>1*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28124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55680" y="1954080"/>
              <a:ext cx="381240" cy="420840"/>
            </a:xfrm>
            <a:prstGeom prst="downArrow">
              <a:avLst>
                <a:gd name="adj1" fmla="val 44167"/>
                <a:gd name="adj2" fmla="val 7581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3228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0852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82960" y="1954080"/>
              <a:ext cx="381240" cy="420840"/>
            </a:xfrm>
            <a:prstGeom prst="downArrow">
              <a:avLst>
                <a:gd name="adj1" fmla="val 44167"/>
                <a:gd name="adj2" fmla="val 7581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5956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3580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12040" y="1954080"/>
              <a:ext cx="380880" cy="420840"/>
            </a:xfrm>
            <a:prstGeom prst="downArrow">
              <a:avLst>
                <a:gd name="adj1" fmla="val 44167"/>
                <a:gd name="adj2" fmla="val 75886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033560" y="2368440"/>
              <a:ext cx="7014600" cy="357120"/>
              <a:chOff x="1033560" y="2368440"/>
              <a:chExt cx="7014600" cy="357120"/>
            </a:xfrm>
          </p:grpSpPr>
          <p:sp>
            <p:nvSpPr>
              <p:cNvPr id="630" name=""/>
              <p:cNvSpPr/>
              <p:nvPr/>
            </p:nvSpPr>
            <p:spPr>
              <a:xfrm>
                <a:off x="1033560" y="2368440"/>
                <a:ext cx="8787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1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910880" y="2368440"/>
                <a:ext cx="87840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86040" y="2368440"/>
                <a:ext cx="8805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63000" y="2368440"/>
                <a:ext cx="8805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543560" y="2368440"/>
                <a:ext cx="8805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22320" y="2368440"/>
                <a:ext cx="8787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99280" y="2368440"/>
                <a:ext cx="8787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69400" y="2368440"/>
                <a:ext cx="878760" cy="3571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21752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9376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7036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44800" y="4719600"/>
              <a:ext cx="51444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752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0556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8180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51560" y="4719600"/>
              <a:ext cx="51120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83120" y="5638680"/>
              <a:ext cx="8888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Arial Narrow"/>
                </a:rPr>
                <a:t>2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36920" y="5181480"/>
              <a:ext cx="381240" cy="420840"/>
            </a:xfrm>
            <a:prstGeom prst="downArrow">
              <a:avLst>
                <a:gd name="adj1" fmla="val 44167"/>
                <a:gd name="adj2" fmla="val 75814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0504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8272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6220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3232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0064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8012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59600" y="4772160"/>
              <a:ext cx="228600" cy="228600"/>
            </a:xfrm>
            <a:prstGeom prst="plus">
              <a:avLst>
                <a:gd name="adj" fmla="val 38889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0840" y="360360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97080" y="360360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73680" y="360360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49920" y="360360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26160" y="360360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02400" y="360360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78640" y="360360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44600" y="439416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20840" y="439416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97080" y="439416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3680" y="439416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49920" y="439416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26160" y="4394160"/>
              <a:ext cx="261720" cy="287280"/>
            </a:xfrm>
            <a:prstGeom prst="downArrow">
              <a:avLst>
                <a:gd name="adj1" fmla="val 53935"/>
                <a:gd name="adj2" fmla="val 7338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02400" y="439416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78640" y="4394160"/>
              <a:ext cx="262080" cy="287280"/>
            </a:xfrm>
            <a:prstGeom prst="downArrow">
              <a:avLst>
                <a:gd name="adj1" fmla="val 53935"/>
                <a:gd name="adj2" fmla="val 7328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FC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quest For Comment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关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RPANE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技术文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，概念的标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IETF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P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71" name="IPStructure" descr=""/>
          <p:cNvPicPr/>
          <p:nvPr/>
        </p:nvPicPr>
        <p:blipFill>
          <a:blip r:embed="rId1"/>
          <a:stretch/>
        </p:blipFill>
        <p:spPr>
          <a:xfrm>
            <a:off x="1346040" y="2017800"/>
            <a:ext cx="688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规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Net ID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Host 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进制位不能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Net ID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0.0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本地广播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255.255.25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网广播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55.255.255.25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Address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828800"/>
            <a:ext cx="7238880" cy="465444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143000" y="2470320"/>
            <a:ext cx="6705720" cy="3244680"/>
            <a:chOff x="1143000" y="2470320"/>
            <a:chExt cx="6705720" cy="3244680"/>
          </a:xfrm>
        </p:grpSpPr>
        <p:sp>
          <p:nvSpPr>
            <p:cNvPr id="678" name=""/>
            <p:cNvSpPr/>
            <p:nvPr/>
          </p:nvSpPr>
          <p:spPr>
            <a:xfrm>
              <a:off x="2895480" y="5289480"/>
              <a:ext cx="838440" cy="425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20073"/>
                  </a:solidFill>
                  <a:latin typeface="Arial Narrow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67080" y="5289480"/>
              <a:ext cx="838440" cy="425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20073"/>
                  </a:solidFill>
                  <a:latin typeface="Arial Narrow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6400" y="5289480"/>
              <a:ext cx="838080" cy="425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20073"/>
                  </a:solidFill>
                  <a:latin typeface="Arial Narrow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81680" y="5289480"/>
              <a:ext cx="838440" cy="425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20073"/>
                  </a:solidFill>
                  <a:latin typeface="Arial Narrow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43000" y="2470320"/>
              <a:ext cx="670572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 Narrow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66880" y="2546280"/>
              <a:ext cx="129564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62520" y="2546280"/>
              <a:ext cx="373356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86200" y="31561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05520" y="31561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24480" y="315612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43000" y="3384720"/>
              <a:ext cx="670572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 Narrow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66880" y="3460680"/>
              <a:ext cx="251460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81480" y="3460680"/>
              <a:ext cx="251460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86200" y="40705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05520" y="40705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324480" y="407052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43000" y="4299120"/>
              <a:ext cx="670572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 Narrow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66880" y="4375080"/>
              <a:ext cx="373392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4375080"/>
              <a:ext cx="129528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86200" y="49849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05520" y="49849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24480" y="498492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P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分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    0xxxxxxx.x.y.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1 ~126.x.y.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B    10xxxxxx.x.y.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~191.x.y.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C    110xxxxx.x.y.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2 ~223.x.y.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D    1110xxxx.x.y.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4 ~239.x.y.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E    11110xxx.x.y.z  24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20" y="231624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xxxxxx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0000000 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2697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00 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73400" y="307800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1111110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12840" y="3489480"/>
            <a:ext cx="27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 . 0 . 0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74800" y="3489480"/>
            <a:ext cx="27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 . 0 .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3920" y="185904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网络号范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0640" y="464652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00000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xxxxxxxx . xxxxxxxx . xxx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4320" y="50594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0000001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4320" y="54705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0000001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5760" y="4221000"/>
            <a:ext cx="39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主机范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 . 0 . 0 .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99960" y="5897520"/>
            <a:ext cx="27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 . 0 . 1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560120" y="589752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255 . 255 . 2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11880" y="2697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00000001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26400" y="310824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00 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50440" y="505944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00 . 00000000 . 0000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50440" y="547056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1 . 11111111 . 1111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459720" y="216360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0xxxxxx . xxxxxxxx</a:t>
            </a:r>
            <a:r>
              <a:rPr b="1" lang="zh-CN" sz="3200" spc="-1" strike="noStrike">
                <a:solidFill>
                  <a:srgbClr val="ffcf01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2575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9080" y="292572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0111111 . 1111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2560" y="333684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28 . 0</a:t>
            </a:r>
            <a:r>
              <a:rPr b="1" lang="zh-CN" sz="3200" spc="-1" strike="noStrike">
                <a:solidFill>
                  <a:srgbClr val="ffcf01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 . 0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73720" y="333684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91 . 25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 .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3920" y="170640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网络号范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0640" y="449424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0000000 . 0000000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xxxxxxxx . xxx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9280" y="49068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0000000 . 00000000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9280" y="531828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0000000 . 00000000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4680" y="406872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主机范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28 . 0 . 0 .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59320" y="574524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28 .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 . 1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60120" y="574524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28 .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255 . 2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01080" y="254484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07240" y="2955960"/>
            <a:ext cx="44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60240" y="49068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00 . 0000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60240" y="53182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1 . 1111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59720" y="223992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10xxxxx . xxxxxxxx . xxxxxxxx 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5880" y="26510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4400" y="300204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1011111 . 11111111 . 1111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40560" y="341316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92 . 0 .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15800" y="34131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223 . 255 . 25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3920" y="178272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网络号范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0640" y="457056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1000000 . 00000000 . 00000000 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xxx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4960" y="498312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1000000 . 00000000 . 00000000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4600" y="539424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1000000 . 00000000 . 00000000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4680" y="414504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主机范围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92 . 0 . 0 .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33960" y="582120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92 . 0 .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. 1  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35840" y="582120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92 . 0 . 0</a:t>
            </a:r>
            <a:r>
              <a:rPr b="1" lang="zh-CN" sz="3200" spc="-1" strike="noStrike">
                <a:solidFill>
                  <a:srgbClr val="ffcf01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2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46800" y="2620800"/>
            <a:ext cx="56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000000 . 00000000 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3360" y="303228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65440" y="498312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65440" y="53942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络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主机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- 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–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–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–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组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保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特殊的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0.0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5.255.255.25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27.0.0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合法的主机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1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.0.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.0.1.2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7.0.0.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1.107.0.2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2.0.0.2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5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net M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网掩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net M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2.168.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 ID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2.168.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0000. 10101000. 00000001. 00000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11111. 11111111. 11111111. 0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0000. 10101000. 00000001. 0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子网掩码的作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区分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Network 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st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确定目标主机所在的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”运算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net M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 Subnet M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 -- 255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B -- 255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C -- 255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确定目标网络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初始化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本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P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”本机子网掩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本网络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送数据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P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”本机子网掩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网络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目标网络号和本网络号比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说明在本网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相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据包发往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数据帧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相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762120" y="2819520"/>
          <a:ext cx="7010280" cy="6998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  <a:gridCol w="1168560"/>
                <a:gridCol w="1168200"/>
                <a:gridCol w="1168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目标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目标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762120" y="4572000"/>
          <a:ext cx="7010280" cy="7002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  <a:gridCol w="1168560"/>
                <a:gridCol w="1168200"/>
                <a:gridCol w="11685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目标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源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网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子网掩码表示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种新的子网掩码的表示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2.168.0.1/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IDR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表示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lassless Inter-Domain Routing (CID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再遵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类地址的缺省子网掩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.0.0.0/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8.64.1.0/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2.168.1.64/2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子网划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子网划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ubnettin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IP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网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Subn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同访问技术的网络处于不同子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减少网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拥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广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模型    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OSI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905120"/>
            <a:ext cx="2209680" cy="4495320"/>
            <a:chOff x="1447920" y="1905120"/>
            <a:chExt cx="2209680" cy="4495320"/>
          </a:xfrm>
        </p:grpSpPr>
        <p:sp>
          <p:nvSpPr>
            <p:cNvPr id="117" name=""/>
            <p:cNvSpPr/>
            <p:nvPr/>
          </p:nvSpPr>
          <p:spPr>
            <a:xfrm>
              <a:off x="1447920" y="1905120"/>
              <a:ext cx="2209680" cy="1915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3968280"/>
              <a:ext cx="2209680" cy="460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4558320"/>
              <a:ext cx="2209680" cy="515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5147640"/>
              <a:ext cx="2209680" cy="1252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Host to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1480" y="1828800"/>
            <a:ext cx="2209680" cy="4597200"/>
            <a:chOff x="5181480" y="1828800"/>
            <a:chExt cx="2209680" cy="4597200"/>
          </a:xfrm>
        </p:grpSpPr>
        <p:sp>
          <p:nvSpPr>
            <p:cNvPr id="122" name=""/>
            <p:cNvSpPr/>
            <p:nvPr/>
          </p:nvSpPr>
          <p:spPr>
            <a:xfrm>
              <a:off x="5181480" y="1828800"/>
              <a:ext cx="2209680" cy="55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2514600"/>
              <a:ext cx="22096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3276360"/>
              <a:ext cx="2209680" cy="533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962160"/>
              <a:ext cx="2209680" cy="533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4572000"/>
              <a:ext cx="2209680" cy="55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5181480"/>
              <a:ext cx="2209680" cy="55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Data 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5867280"/>
              <a:ext cx="2209680" cy="55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借位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st 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位起划分子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借位连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少要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个二进制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能全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能全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bnet I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419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.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x.xxxxxx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2925720"/>
            <a:ext cx="39625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0" y="3505320"/>
            <a:ext cx="3733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" y="3560760"/>
            <a:ext cx="3352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1.107.6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31.107.12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0680" y="240660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1.11111111.11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" y="1905120"/>
            <a:ext cx="4648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000011.011010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560" y="17971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31.1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5008680"/>
            <a:ext cx="3067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bnet M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5.255.19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net 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899280" y="223992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000011.01101011.0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52400" y="351936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00000.0000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52400" y="391644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1111.1111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57200" y="3519360"/>
            <a:ext cx="40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0011.0110101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57200" y="3916440"/>
            <a:ext cx="40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0011.0110101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69040" y="2986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机范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36720" y="4464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1.107.64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80120" y="446400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~ 131.107.127.2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6320" y="1706400"/>
            <a:ext cx="38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子网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1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31.107.64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520" y="4449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22600" y="597384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1.11111111. 11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5546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28800" y="5516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5.255.19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net 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899280" y="216360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000011.01101011.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252400" y="34434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00000.0000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2400" y="38401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1111.1111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357200" y="3443400"/>
            <a:ext cx="40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0011.0110101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57200" y="3840120"/>
            <a:ext cx="40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00011.0110101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69040" y="2909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机范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36720" y="438768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31.107.128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32400" y="438768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~ 131.107.191.2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6320" y="1630440"/>
            <a:ext cx="40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子网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131.107.128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20" y="4373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22600" y="589752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11111.11111111. 11000000.0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54705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828800" y="5440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5.255.19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划分子网试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28.0.0.0/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划分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子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子网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机范围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2.168.1.0/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划分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子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子网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机范围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连接两以太网的路由器的路由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211480" y="2819520"/>
            <a:ext cx="5173200" cy="1631880"/>
            <a:chOff x="2211480" y="2819520"/>
            <a:chExt cx="5173200" cy="1631880"/>
          </a:xfrm>
        </p:grpSpPr>
        <p:pic>
          <p:nvPicPr>
            <p:cNvPr id="824" name="整套电脑-3" descr=""/>
            <p:cNvPicPr/>
            <p:nvPr/>
          </p:nvPicPr>
          <p:blipFill>
            <a:blip r:embed="rId1"/>
            <a:stretch/>
          </p:blipFill>
          <p:spPr>
            <a:xfrm>
              <a:off x="3169440" y="3544560"/>
              <a:ext cx="476640" cy="5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整套电脑-3" descr=""/>
            <p:cNvPicPr/>
            <p:nvPr/>
          </p:nvPicPr>
          <p:blipFill>
            <a:blip r:embed="rId2"/>
            <a:stretch/>
          </p:blipFill>
          <p:spPr>
            <a:xfrm>
              <a:off x="5660640" y="3544560"/>
              <a:ext cx="476640" cy="54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 flipH="1">
              <a:off x="3552120" y="3181680"/>
              <a:ext cx="95796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94200" y="3181680"/>
              <a:ext cx="76644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318920" y="3000600"/>
              <a:ext cx="702720" cy="362520"/>
              <a:chOff x="4318920" y="3000600"/>
              <a:chExt cx="702720" cy="362520"/>
            </a:xfrm>
          </p:grpSpPr>
          <p:sp>
            <p:nvSpPr>
              <p:cNvPr id="829" name=""/>
              <p:cNvSpPr/>
              <p:nvPr/>
            </p:nvSpPr>
            <p:spPr>
              <a:xfrm>
                <a:off x="4318920" y="3101400"/>
                <a:ext cx="702720" cy="26172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18920" y="3000600"/>
                <a:ext cx="699840" cy="19908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4428000" y="3024000"/>
                <a:ext cx="482760" cy="150840"/>
                <a:chOff x="4428000" y="3024000"/>
                <a:chExt cx="482760" cy="1508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678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678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428000" y="310032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428000" y="310032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439520" y="302400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439520" y="302400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669200" y="310824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669200" y="310824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682880" y="3031920"/>
                  <a:ext cx="227880" cy="622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682880" y="3031920"/>
                  <a:ext cx="227880" cy="622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432320" y="310428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432320" y="310428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444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444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673880" y="311220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673880" y="311220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8" name=""/>
            <p:cNvSpPr/>
            <p:nvPr/>
          </p:nvSpPr>
          <p:spPr>
            <a:xfrm>
              <a:off x="3361320" y="2819520"/>
              <a:ext cx="13410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11480" y="3726000"/>
              <a:ext cx="13410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43680" y="3726000"/>
              <a:ext cx="13410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94200" y="2819520"/>
              <a:ext cx="13410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958680" y="5532480"/>
            <a:ext cx="3443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发送数据包的主机填写的包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914400" y="5099040"/>
            <a:ext cx="2638080" cy="720360"/>
            <a:chOff x="914400" y="5099040"/>
            <a:chExt cx="2638080" cy="720360"/>
          </a:xfrm>
        </p:grpSpPr>
        <p:grpSp>
          <p:nvGrpSpPr>
            <p:cNvPr id="854" name=""/>
            <p:cNvGrpSpPr/>
            <p:nvPr/>
          </p:nvGrpSpPr>
          <p:grpSpPr>
            <a:xfrm>
              <a:off x="2233440" y="5099040"/>
              <a:ext cx="1319040" cy="720360"/>
              <a:chOff x="2233440" y="5099040"/>
              <a:chExt cx="1319040" cy="720360"/>
            </a:xfrm>
          </p:grpSpPr>
          <p:sp>
            <p:nvSpPr>
              <p:cNvPr id="855" name=""/>
              <p:cNvSpPr/>
              <p:nvPr/>
            </p:nvSpPr>
            <p:spPr>
              <a:xfrm>
                <a:off x="223344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89296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914400" y="5099040"/>
              <a:ext cx="1319040" cy="720360"/>
              <a:chOff x="914400" y="5099040"/>
              <a:chExt cx="1319040" cy="720360"/>
            </a:xfrm>
          </p:grpSpPr>
          <p:sp>
            <p:nvSpPr>
              <p:cNvPr id="858" name=""/>
              <p:cNvSpPr/>
              <p:nvPr/>
            </p:nvSpPr>
            <p:spPr>
              <a:xfrm>
                <a:off x="91440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7392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914400" y="4738680"/>
            <a:ext cx="3487320" cy="289080"/>
            <a:chOff x="914400" y="4738680"/>
            <a:chExt cx="3487320" cy="289080"/>
          </a:xfrm>
        </p:grpSpPr>
        <p:sp>
          <p:nvSpPr>
            <p:cNvPr id="861" name=""/>
            <p:cNvSpPr/>
            <p:nvPr/>
          </p:nvSpPr>
          <p:spPr>
            <a:xfrm>
              <a:off x="2233440" y="4738680"/>
              <a:ext cx="65988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93680" y="4738680"/>
              <a:ext cx="6588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914400" y="4738680"/>
              <a:ext cx="1319040" cy="289080"/>
              <a:chOff x="914400" y="4738680"/>
              <a:chExt cx="1319040" cy="289080"/>
            </a:xfrm>
          </p:grpSpPr>
          <p:sp>
            <p:nvSpPr>
              <p:cNvPr id="864" name=""/>
              <p:cNvSpPr/>
              <p:nvPr/>
            </p:nvSpPr>
            <p:spPr>
              <a:xfrm>
                <a:off x="914400" y="4738680"/>
                <a:ext cx="659520" cy="28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73920" y="4738680"/>
                <a:ext cx="659520" cy="28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3552480" y="4738680"/>
              <a:ext cx="849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03320" y="4451400"/>
            <a:ext cx="2414520" cy="287280"/>
            <a:chOff x="1003320" y="4451400"/>
            <a:chExt cx="2414520" cy="287280"/>
          </a:xfrm>
        </p:grpSpPr>
        <p:sp>
          <p:nvSpPr>
            <p:cNvPr id="868" name=""/>
            <p:cNvSpPr/>
            <p:nvPr/>
          </p:nvSpPr>
          <p:spPr>
            <a:xfrm>
              <a:off x="2210760" y="4451400"/>
              <a:ext cx="120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03320" y="4451400"/>
              <a:ext cx="1207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连接两以太网的路由器的路由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211480" y="2819520"/>
            <a:ext cx="5173200" cy="1631880"/>
            <a:chOff x="2211480" y="2819520"/>
            <a:chExt cx="5173200" cy="1631880"/>
          </a:xfrm>
        </p:grpSpPr>
        <p:pic>
          <p:nvPicPr>
            <p:cNvPr id="873" name="整套电脑-3" descr=""/>
            <p:cNvPicPr/>
            <p:nvPr/>
          </p:nvPicPr>
          <p:blipFill>
            <a:blip r:embed="rId1"/>
            <a:stretch/>
          </p:blipFill>
          <p:spPr>
            <a:xfrm>
              <a:off x="3169440" y="3544560"/>
              <a:ext cx="476640" cy="5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整套电脑-3" descr=""/>
            <p:cNvPicPr/>
            <p:nvPr/>
          </p:nvPicPr>
          <p:blipFill>
            <a:blip r:embed="rId2"/>
            <a:stretch/>
          </p:blipFill>
          <p:spPr>
            <a:xfrm>
              <a:off x="5660640" y="3544560"/>
              <a:ext cx="476640" cy="54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 flipH="1">
              <a:off x="3552120" y="3181680"/>
              <a:ext cx="95796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94200" y="3181680"/>
              <a:ext cx="76644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318920" y="3000600"/>
              <a:ext cx="702720" cy="362520"/>
              <a:chOff x="4318920" y="3000600"/>
              <a:chExt cx="702720" cy="362520"/>
            </a:xfrm>
          </p:grpSpPr>
          <p:sp>
            <p:nvSpPr>
              <p:cNvPr id="878" name=""/>
              <p:cNvSpPr/>
              <p:nvPr/>
            </p:nvSpPr>
            <p:spPr>
              <a:xfrm>
                <a:off x="4318920" y="3101400"/>
                <a:ext cx="702720" cy="26172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18920" y="3000600"/>
                <a:ext cx="699840" cy="19908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4428000" y="3024000"/>
                <a:ext cx="482760" cy="150840"/>
                <a:chOff x="4428000" y="3024000"/>
                <a:chExt cx="482760" cy="15084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678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678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9" y="18"/>
                      </a:lnTo>
                      <a:lnTo>
                        <a:pt x="86" y="0"/>
                      </a:lnTo>
                      <a:lnTo>
                        <a:pt x="24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428000" y="310032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428000" y="310032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6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8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439520" y="302400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439520" y="302400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5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669200" y="310824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669200" y="310824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50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682880" y="3031920"/>
                  <a:ext cx="227880" cy="622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682880" y="3031920"/>
                  <a:ext cx="227880" cy="62280"/>
                </a:xfrm>
                <a:custGeom>
                  <a:avLst/>
                  <a:gdLst/>
                  <a:ahLst/>
                  <a:rect l="l" t="t" r="r" b="b"/>
                  <a:pathLst>
                    <a:path w="98" h="33">
                      <a:moveTo>
                        <a:pt x="0" y="25"/>
                      </a:moveTo>
                      <a:lnTo>
                        <a:pt x="22" y="33"/>
                      </a:lnTo>
                      <a:lnTo>
                        <a:pt x="75" y="11"/>
                      </a:lnTo>
                      <a:lnTo>
                        <a:pt x="98" y="18"/>
                      </a:lnTo>
                      <a:lnTo>
                        <a:pt x="86" y="0"/>
                      </a:lnTo>
                      <a:lnTo>
                        <a:pt x="23" y="0"/>
                      </a:lnTo>
                      <a:lnTo>
                        <a:pt x="49" y="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432320" y="310428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432320" y="3104280"/>
                  <a:ext cx="229680" cy="66600"/>
                </a:xfrm>
                <a:custGeom>
                  <a:avLst/>
                  <a:gdLst/>
                  <a:ahLst/>
                  <a:rect l="l" t="t" r="r" b="b"/>
                  <a:pathLst>
                    <a:path w="99" h="35">
                      <a:moveTo>
                        <a:pt x="99" y="7"/>
                      </a:moveTo>
                      <a:lnTo>
                        <a:pt x="77" y="0"/>
                      </a:lnTo>
                      <a:lnTo>
                        <a:pt x="25" y="22"/>
                      </a:lnTo>
                      <a:lnTo>
                        <a:pt x="0" y="15"/>
                      </a:lnTo>
                      <a:lnTo>
                        <a:pt x="13" y="35"/>
                      </a:lnTo>
                      <a:lnTo>
                        <a:pt x="77" y="35"/>
                      </a:lnTo>
                      <a:lnTo>
                        <a:pt x="49" y="27"/>
                      </a:lnTo>
                      <a:lnTo>
                        <a:pt x="99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444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444200" y="3027960"/>
                  <a:ext cx="229680" cy="6228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5" y="20"/>
                      </a:lnTo>
                      <a:lnTo>
                        <a:pt x="99" y="14"/>
                      </a:lnTo>
                      <a:lnTo>
                        <a:pt x="86" y="33"/>
                      </a:lnTo>
                      <a:lnTo>
                        <a:pt x="24" y="33"/>
                      </a:lnTo>
                      <a:lnTo>
                        <a:pt x="50" y="2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673880" y="311220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673880" y="3112200"/>
                  <a:ext cx="229680" cy="62640"/>
                </a:xfrm>
                <a:custGeom>
                  <a:avLst/>
                  <a:gdLst/>
                  <a:ahLst/>
                  <a:rect l="l" t="t" r="r" b="b"/>
                  <a:pathLst>
                    <a:path w="99" h="33">
                      <a:moveTo>
                        <a:pt x="99" y="25"/>
                      </a:moveTo>
                      <a:lnTo>
                        <a:pt x="77" y="33"/>
                      </a:lnTo>
                      <a:lnTo>
                        <a:pt x="26" y="11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77" y="0"/>
                      </a:lnTo>
                      <a:lnTo>
                        <a:pt x="49" y="5"/>
                      </a:lnTo>
                      <a:lnTo>
                        <a:pt x="99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3361320" y="2819520"/>
              <a:ext cx="13410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11480" y="3726000"/>
              <a:ext cx="13410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43680" y="3726000"/>
              <a:ext cx="13410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94200" y="2819520"/>
              <a:ext cx="13410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MA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958680" y="5532480"/>
            <a:ext cx="3443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发送数据包的主机填写的包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86320" y="5532480"/>
            <a:ext cx="259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路由器修改后的包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938840" y="5099040"/>
            <a:ext cx="2638080" cy="720360"/>
            <a:chOff x="4938840" y="5099040"/>
            <a:chExt cx="2638080" cy="720360"/>
          </a:xfrm>
        </p:grpSpPr>
        <p:grpSp>
          <p:nvGrpSpPr>
            <p:cNvPr id="904" name=""/>
            <p:cNvGrpSpPr/>
            <p:nvPr/>
          </p:nvGrpSpPr>
          <p:grpSpPr>
            <a:xfrm>
              <a:off x="6257880" y="5099040"/>
              <a:ext cx="1319040" cy="720360"/>
              <a:chOff x="6257880" y="5099040"/>
              <a:chExt cx="1319040" cy="720360"/>
            </a:xfrm>
          </p:grpSpPr>
          <p:sp>
            <p:nvSpPr>
              <p:cNvPr id="905" name=""/>
              <p:cNvSpPr/>
              <p:nvPr/>
            </p:nvSpPr>
            <p:spPr>
              <a:xfrm>
                <a:off x="625788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91740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4938840" y="5099040"/>
              <a:ext cx="1319040" cy="720360"/>
              <a:chOff x="4938840" y="5099040"/>
              <a:chExt cx="1319040" cy="720360"/>
            </a:xfrm>
          </p:grpSpPr>
          <p:sp>
            <p:nvSpPr>
              <p:cNvPr id="908" name=""/>
              <p:cNvSpPr/>
              <p:nvPr/>
            </p:nvSpPr>
            <p:spPr>
              <a:xfrm>
                <a:off x="493884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59836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914400" y="5099040"/>
            <a:ext cx="2638080" cy="720360"/>
            <a:chOff x="914400" y="5099040"/>
            <a:chExt cx="2638080" cy="720360"/>
          </a:xfrm>
        </p:grpSpPr>
        <p:grpSp>
          <p:nvGrpSpPr>
            <p:cNvPr id="911" name=""/>
            <p:cNvGrpSpPr/>
            <p:nvPr/>
          </p:nvGrpSpPr>
          <p:grpSpPr>
            <a:xfrm>
              <a:off x="2233440" y="5099040"/>
              <a:ext cx="1319040" cy="720360"/>
              <a:chOff x="2233440" y="5099040"/>
              <a:chExt cx="1319040" cy="720360"/>
            </a:xfrm>
          </p:grpSpPr>
          <p:sp>
            <p:nvSpPr>
              <p:cNvPr id="912" name=""/>
              <p:cNvSpPr/>
              <p:nvPr/>
            </p:nvSpPr>
            <p:spPr>
              <a:xfrm>
                <a:off x="223344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89296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914400" y="5099040"/>
              <a:ext cx="1319040" cy="720360"/>
              <a:chOff x="914400" y="5099040"/>
              <a:chExt cx="1319040" cy="720360"/>
            </a:xfrm>
          </p:grpSpPr>
          <p:sp>
            <p:nvSpPr>
              <p:cNvPr id="915" name=""/>
              <p:cNvSpPr/>
              <p:nvPr/>
            </p:nvSpPr>
            <p:spPr>
              <a:xfrm>
                <a:off x="91440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73920" y="5099040"/>
                <a:ext cx="659520" cy="7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7" name=""/>
          <p:cNvGrpSpPr/>
          <p:nvPr/>
        </p:nvGrpSpPr>
        <p:grpSpPr>
          <a:xfrm>
            <a:off x="914400" y="4738680"/>
            <a:ext cx="3487320" cy="289080"/>
            <a:chOff x="914400" y="4738680"/>
            <a:chExt cx="3487320" cy="289080"/>
          </a:xfrm>
        </p:grpSpPr>
        <p:sp>
          <p:nvSpPr>
            <p:cNvPr id="918" name=""/>
            <p:cNvSpPr/>
            <p:nvPr/>
          </p:nvSpPr>
          <p:spPr>
            <a:xfrm>
              <a:off x="2233440" y="4738680"/>
              <a:ext cx="65988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93680" y="4738680"/>
              <a:ext cx="6588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914400" y="4738680"/>
              <a:ext cx="1319040" cy="289080"/>
              <a:chOff x="914400" y="4738680"/>
              <a:chExt cx="1319040" cy="289080"/>
            </a:xfrm>
          </p:grpSpPr>
          <p:sp>
            <p:nvSpPr>
              <p:cNvPr id="921" name=""/>
              <p:cNvSpPr/>
              <p:nvPr/>
            </p:nvSpPr>
            <p:spPr>
              <a:xfrm>
                <a:off x="914400" y="4738680"/>
                <a:ext cx="659520" cy="28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573920" y="4738680"/>
                <a:ext cx="659520" cy="28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552480" y="4738680"/>
              <a:ext cx="849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4938840" y="4738680"/>
            <a:ext cx="3443040" cy="289080"/>
            <a:chOff x="4938840" y="4738680"/>
            <a:chExt cx="3443040" cy="289080"/>
          </a:xfrm>
        </p:grpSpPr>
        <p:grpSp>
          <p:nvGrpSpPr>
            <p:cNvPr id="925" name=""/>
            <p:cNvGrpSpPr/>
            <p:nvPr/>
          </p:nvGrpSpPr>
          <p:grpSpPr>
            <a:xfrm>
              <a:off x="4938840" y="4738680"/>
              <a:ext cx="2592720" cy="289080"/>
              <a:chOff x="4938840" y="4738680"/>
              <a:chExt cx="2592720" cy="28908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235560" y="4738680"/>
                <a:ext cx="1296000" cy="289080"/>
                <a:chOff x="6235560" y="4738680"/>
                <a:chExt cx="1296000" cy="2890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235560" y="4738680"/>
                  <a:ext cx="648000" cy="289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1.1.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883560" y="4738680"/>
                  <a:ext cx="648000" cy="289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3.3.3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4938840" y="4738680"/>
                <a:ext cx="1296720" cy="289080"/>
                <a:chOff x="4938840" y="4738680"/>
                <a:chExt cx="1296720" cy="28908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4938840" y="4738680"/>
                  <a:ext cx="648360" cy="289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c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587200" y="4738680"/>
                  <a:ext cx="648360" cy="289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c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2" name=""/>
            <p:cNvSpPr/>
            <p:nvPr/>
          </p:nvSpPr>
          <p:spPr>
            <a:xfrm>
              <a:off x="7532280" y="4738680"/>
              <a:ext cx="8496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003320" y="4451400"/>
            <a:ext cx="2414520" cy="287280"/>
            <a:chOff x="1003320" y="4451400"/>
            <a:chExt cx="2414520" cy="287280"/>
          </a:xfrm>
        </p:grpSpPr>
        <p:sp>
          <p:nvSpPr>
            <p:cNvPr id="934" name=""/>
            <p:cNvSpPr/>
            <p:nvPr/>
          </p:nvSpPr>
          <p:spPr>
            <a:xfrm>
              <a:off x="2210760" y="4451400"/>
              <a:ext cx="120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03320" y="4451400"/>
              <a:ext cx="1207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027760" y="4451400"/>
            <a:ext cx="2414520" cy="287280"/>
            <a:chOff x="5027760" y="4451400"/>
            <a:chExt cx="2414520" cy="287280"/>
          </a:xfrm>
        </p:grpSpPr>
        <p:sp>
          <p:nvSpPr>
            <p:cNvPr id="937" name=""/>
            <p:cNvSpPr/>
            <p:nvPr/>
          </p:nvSpPr>
          <p:spPr>
            <a:xfrm>
              <a:off x="6235200" y="4451400"/>
              <a:ext cx="1207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27760" y="4451400"/>
              <a:ext cx="1207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496800" y="5313240"/>
            <a:ext cx="31068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发送数据包的主机填写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80880" y="5070600"/>
            <a:ext cx="2379240" cy="807120"/>
            <a:chOff x="380880" y="5070600"/>
            <a:chExt cx="2379240" cy="807120"/>
          </a:xfrm>
        </p:grpSpPr>
        <p:grpSp>
          <p:nvGrpSpPr>
            <p:cNvPr id="942" name=""/>
            <p:cNvGrpSpPr/>
            <p:nvPr/>
          </p:nvGrpSpPr>
          <p:grpSpPr>
            <a:xfrm>
              <a:off x="1570680" y="5070600"/>
              <a:ext cx="1189440" cy="807120"/>
              <a:chOff x="1570680" y="5070600"/>
              <a:chExt cx="1189440" cy="807120"/>
            </a:xfrm>
          </p:grpSpPr>
          <p:sp>
            <p:nvSpPr>
              <p:cNvPr id="943" name=""/>
              <p:cNvSpPr/>
              <p:nvPr/>
            </p:nvSpPr>
            <p:spPr>
              <a:xfrm>
                <a:off x="15706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1654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380880" y="5070600"/>
              <a:ext cx="1189440" cy="807120"/>
              <a:chOff x="380880" y="5070600"/>
              <a:chExt cx="1189440" cy="807120"/>
            </a:xfrm>
          </p:grpSpPr>
          <p:sp>
            <p:nvSpPr>
              <p:cNvPr id="946" name=""/>
              <p:cNvSpPr/>
              <p:nvPr/>
            </p:nvSpPr>
            <p:spPr>
              <a:xfrm>
                <a:off x="3808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9756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8" name=""/>
          <p:cNvGrpSpPr/>
          <p:nvPr/>
        </p:nvGrpSpPr>
        <p:grpSpPr>
          <a:xfrm>
            <a:off x="326880" y="4702320"/>
            <a:ext cx="3406680" cy="250560"/>
            <a:chOff x="326880" y="4702320"/>
            <a:chExt cx="3406680" cy="250560"/>
          </a:xfrm>
        </p:grpSpPr>
        <p:sp>
          <p:nvSpPr>
            <p:cNvPr id="949" name=""/>
            <p:cNvSpPr/>
            <p:nvPr/>
          </p:nvSpPr>
          <p:spPr>
            <a:xfrm>
              <a:off x="1615320" y="4702320"/>
              <a:ext cx="64476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60080" y="4702320"/>
              <a:ext cx="64368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326880" y="4702320"/>
              <a:ext cx="1288080" cy="250560"/>
              <a:chOff x="326880" y="4702320"/>
              <a:chExt cx="1288080" cy="250560"/>
            </a:xfrm>
          </p:grpSpPr>
          <p:sp>
            <p:nvSpPr>
              <p:cNvPr id="952" name=""/>
              <p:cNvSpPr/>
              <p:nvPr/>
            </p:nvSpPr>
            <p:spPr>
              <a:xfrm>
                <a:off x="32688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7092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904120" y="4702320"/>
              <a:ext cx="82944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38200" y="4343400"/>
            <a:ext cx="2177640" cy="324000"/>
            <a:chOff x="538200" y="4343400"/>
            <a:chExt cx="2177640" cy="324000"/>
          </a:xfrm>
        </p:grpSpPr>
        <p:sp>
          <p:nvSpPr>
            <p:cNvPr id="956" name=""/>
            <p:cNvSpPr/>
            <p:nvPr/>
          </p:nvSpPr>
          <p:spPr>
            <a:xfrm>
              <a:off x="1627200" y="434340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8200" y="434340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057320" y="2209680"/>
            <a:ext cx="7589520" cy="1868760"/>
            <a:chOff x="1057320" y="2209680"/>
            <a:chExt cx="7589520" cy="1868760"/>
          </a:xfrm>
        </p:grpSpPr>
        <p:sp>
          <p:nvSpPr>
            <p:cNvPr id="959" name=""/>
            <p:cNvSpPr/>
            <p:nvPr/>
          </p:nvSpPr>
          <p:spPr>
            <a:xfrm>
              <a:off x="7436880" y="3259800"/>
              <a:ext cx="120996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3.3.3.2/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MA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057320" y="2209680"/>
              <a:ext cx="6580800" cy="1868760"/>
              <a:chOff x="1057320" y="2209680"/>
              <a:chExt cx="6580800" cy="1868760"/>
            </a:xfrm>
          </p:grpSpPr>
          <p:pic>
            <p:nvPicPr>
              <p:cNvPr id="961" name="整套电脑-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1680" y="3061800"/>
                <a:ext cx="42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2" name="整套电脑-3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720" y="3184560"/>
                <a:ext cx="430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3" name=""/>
              <p:cNvSpPr/>
              <p:nvPr/>
            </p:nvSpPr>
            <p:spPr>
              <a:xfrm flipH="1">
                <a:off x="2266920" y="2655000"/>
                <a:ext cx="8643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428160" y="2777760"/>
                <a:ext cx="6915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2958840" y="2451960"/>
                <a:ext cx="633600" cy="406440"/>
                <a:chOff x="2958840" y="2451960"/>
                <a:chExt cx="633600" cy="40644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95884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95884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8" name=""/>
                <p:cNvGrpSpPr/>
                <p:nvPr/>
              </p:nvGrpSpPr>
              <p:grpSpPr>
                <a:xfrm>
                  <a:off x="3057120" y="2478240"/>
                  <a:ext cx="434880" cy="169200"/>
                  <a:chOff x="3057120" y="2478240"/>
                  <a:chExt cx="434880" cy="16920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5" name=""/>
              <p:cNvSpPr/>
              <p:nvPr/>
            </p:nvSpPr>
            <p:spPr>
              <a:xfrm>
                <a:off x="2094480" y="224856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057320" y="326520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2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428160" y="237132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3.3.3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5823000" y="2451960"/>
                <a:ext cx="633600" cy="406440"/>
                <a:chOff x="5823000" y="2451960"/>
                <a:chExt cx="633600" cy="40644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82300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82300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5921280" y="2478240"/>
                  <a:ext cx="434880" cy="169200"/>
                  <a:chOff x="5921280" y="2478240"/>
                  <a:chExt cx="434880" cy="1692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8" name=""/>
              <p:cNvSpPr/>
              <p:nvPr/>
            </p:nvSpPr>
            <p:spPr>
              <a:xfrm>
                <a:off x="3564000" y="2694240"/>
                <a:ext cx="22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04320" y="220968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1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16240" y="220968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2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169160" y="277524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989440" y="3781440"/>
            <a:ext cx="3364920" cy="250920"/>
            <a:chOff x="2989440" y="3781440"/>
            <a:chExt cx="3364920" cy="250920"/>
          </a:xfrm>
        </p:grpSpPr>
        <p:sp>
          <p:nvSpPr>
            <p:cNvPr id="1014" name=""/>
            <p:cNvSpPr/>
            <p:nvPr/>
          </p:nvSpPr>
          <p:spPr>
            <a:xfrm>
              <a:off x="4234680" y="3781440"/>
              <a:ext cx="64512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880160" y="3781440"/>
              <a:ext cx="6440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89440" y="3781440"/>
              <a:ext cx="12452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4200" y="3781440"/>
              <a:ext cx="83016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119400" y="4311720"/>
            <a:ext cx="3106800" cy="8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RTA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修改后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3160800" y="3422520"/>
            <a:ext cx="2177640" cy="324000"/>
            <a:chOff x="3160800" y="3422520"/>
            <a:chExt cx="2177640" cy="324000"/>
          </a:xfrm>
        </p:grpSpPr>
        <p:sp>
          <p:nvSpPr>
            <p:cNvPr id="1020" name=""/>
            <p:cNvSpPr/>
            <p:nvPr/>
          </p:nvSpPr>
          <p:spPr>
            <a:xfrm>
              <a:off x="4249800" y="342252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60800" y="342252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079800" y="4149720"/>
            <a:ext cx="2379240" cy="807480"/>
            <a:chOff x="3079800" y="4149720"/>
            <a:chExt cx="2379240" cy="807480"/>
          </a:xfrm>
        </p:grpSpPr>
        <p:grpSp>
          <p:nvGrpSpPr>
            <p:cNvPr id="1023" name=""/>
            <p:cNvGrpSpPr/>
            <p:nvPr/>
          </p:nvGrpSpPr>
          <p:grpSpPr>
            <a:xfrm>
              <a:off x="4269600" y="4149720"/>
              <a:ext cx="1189440" cy="807480"/>
              <a:chOff x="4269600" y="4149720"/>
              <a:chExt cx="1189440" cy="8074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26960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6432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3079800" y="4149720"/>
              <a:ext cx="1189440" cy="807480"/>
              <a:chOff x="3079800" y="4149720"/>
              <a:chExt cx="1189440" cy="807480"/>
            </a:xfrm>
          </p:grpSpPr>
          <p:sp>
            <p:nvSpPr>
              <p:cNvPr id="1027" name=""/>
              <p:cNvSpPr/>
              <p:nvPr/>
            </p:nvSpPr>
            <p:spPr>
              <a:xfrm>
                <a:off x="307980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67452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9" name=""/>
          <p:cNvSpPr/>
          <p:nvPr/>
        </p:nvSpPr>
        <p:spPr>
          <a:xfrm>
            <a:off x="496800" y="5313240"/>
            <a:ext cx="31068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发送数据包的主机填写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380880" y="5070600"/>
            <a:ext cx="2379240" cy="807120"/>
            <a:chOff x="380880" y="5070600"/>
            <a:chExt cx="2379240" cy="807120"/>
          </a:xfrm>
        </p:grpSpPr>
        <p:grpSp>
          <p:nvGrpSpPr>
            <p:cNvPr id="1031" name=""/>
            <p:cNvGrpSpPr/>
            <p:nvPr/>
          </p:nvGrpSpPr>
          <p:grpSpPr>
            <a:xfrm>
              <a:off x="1570680" y="5070600"/>
              <a:ext cx="1189440" cy="807120"/>
              <a:chOff x="1570680" y="5070600"/>
              <a:chExt cx="1189440" cy="807120"/>
            </a:xfrm>
          </p:grpSpPr>
          <p:sp>
            <p:nvSpPr>
              <p:cNvPr id="1032" name=""/>
              <p:cNvSpPr/>
              <p:nvPr/>
            </p:nvSpPr>
            <p:spPr>
              <a:xfrm>
                <a:off x="15706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1654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80880" y="5070600"/>
              <a:ext cx="1189440" cy="807120"/>
              <a:chOff x="380880" y="5070600"/>
              <a:chExt cx="1189440" cy="807120"/>
            </a:xfrm>
          </p:grpSpPr>
          <p:sp>
            <p:nvSpPr>
              <p:cNvPr id="1035" name=""/>
              <p:cNvSpPr/>
              <p:nvPr/>
            </p:nvSpPr>
            <p:spPr>
              <a:xfrm>
                <a:off x="3808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9756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7" name=""/>
          <p:cNvGrpSpPr/>
          <p:nvPr/>
        </p:nvGrpSpPr>
        <p:grpSpPr>
          <a:xfrm>
            <a:off x="326880" y="4702320"/>
            <a:ext cx="3406680" cy="250560"/>
            <a:chOff x="326880" y="4702320"/>
            <a:chExt cx="3406680" cy="250560"/>
          </a:xfrm>
        </p:grpSpPr>
        <p:sp>
          <p:nvSpPr>
            <p:cNvPr id="1038" name=""/>
            <p:cNvSpPr/>
            <p:nvPr/>
          </p:nvSpPr>
          <p:spPr>
            <a:xfrm>
              <a:off x="1615320" y="4702320"/>
              <a:ext cx="64476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260080" y="4702320"/>
              <a:ext cx="64368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326880" y="4702320"/>
              <a:ext cx="1288080" cy="250560"/>
              <a:chOff x="326880" y="4702320"/>
              <a:chExt cx="1288080" cy="250560"/>
            </a:xfrm>
          </p:grpSpPr>
          <p:sp>
            <p:nvSpPr>
              <p:cNvPr id="1041" name=""/>
              <p:cNvSpPr/>
              <p:nvPr/>
            </p:nvSpPr>
            <p:spPr>
              <a:xfrm>
                <a:off x="32688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97092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2904120" y="4702320"/>
              <a:ext cx="82944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538200" y="4343400"/>
            <a:ext cx="2177640" cy="324000"/>
            <a:chOff x="538200" y="4343400"/>
            <a:chExt cx="2177640" cy="324000"/>
          </a:xfrm>
        </p:grpSpPr>
        <p:sp>
          <p:nvSpPr>
            <p:cNvPr id="1045" name=""/>
            <p:cNvSpPr/>
            <p:nvPr/>
          </p:nvSpPr>
          <p:spPr>
            <a:xfrm>
              <a:off x="1627200" y="434340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8200" y="434340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1057320" y="2209680"/>
            <a:ext cx="7589520" cy="1868760"/>
            <a:chOff x="1057320" y="2209680"/>
            <a:chExt cx="7589520" cy="1868760"/>
          </a:xfrm>
        </p:grpSpPr>
        <p:sp>
          <p:nvSpPr>
            <p:cNvPr id="1048" name=""/>
            <p:cNvSpPr/>
            <p:nvPr/>
          </p:nvSpPr>
          <p:spPr>
            <a:xfrm>
              <a:off x="7436880" y="3259800"/>
              <a:ext cx="120996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3.3.3.2/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MA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1057320" y="2209680"/>
              <a:ext cx="6580800" cy="1868760"/>
              <a:chOff x="1057320" y="2209680"/>
              <a:chExt cx="6580800" cy="1868760"/>
            </a:xfrm>
          </p:grpSpPr>
          <p:pic>
            <p:nvPicPr>
              <p:cNvPr id="1050" name="整套电脑-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1680" y="3061800"/>
                <a:ext cx="42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整套电脑-3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720" y="3184560"/>
                <a:ext cx="430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"/>
              <p:cNvSpPr/>
              <p:nvPr/>
            </p:nvSpPr>
            <p:spPr>
              <a:xfrm flipH="1">
                <a:off x="2266920" y="2655000"/>
                <a:ext cx="8643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28160" y="2777760"/>
                <a:ext cx="6915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2958840" y="2451960"/>
                <a:ext cx="633600" cy="406440"/>
                <a:chOff x="2958840" y="2451960"/>
                <a:chExt cx="633600" cy="4064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295884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95884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7" name=""/>
                <p:cNvGrpSpPr/>
                <p:nvPr/>
              </p:nvGrpSpPr>
              <p:grpSpPr>
                <a:xfrm>
                  <a:off x="3057120" y="2478240"/>
                  <a:ext cx="434880" cy="169200"/>
                  <a:chOff x="3057120" y="2478240"/>
                  <a:chExt cx="434880" cy="16920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74" name=""/>
              <p:cNvSpPr/>
              <p:nvPr/>
            </p:nvSpPr>
            <p:spPr>
              <a:xfrm>
                <a:off x="2094480" y="224856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057320" y="326520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2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428160" y="237132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3.3.3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5823000" y="2451960"/>
                <a:ext cx="633600" cy="406440"/>
                <a:chOff x="5823000" y="2451960"/>
                <a:chExt cx="633600" cy="4064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582300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82300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0" name=""/>
                <p:cNvGrpSpPr/>
                <p:nvPr/>
              </p:nvGrpSpPr>
              <p:grpSpPr>
                <a:xfrm>
                  <a:off x="5921280" y="2478240"/>
                  <a:ext cx="434880" cy="169200"/>
                  <a:chOff x="5921280" y="2478240"/>
                  <a:chExt cx="434880" cy="16920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7" name=""/>
              <p:cNvSpPr/>
              <p:nvPr/>
            </p:nvSpPr>
            <p:spPr>
              <a:xfrm>
                <a:off x="3564000" y="2694240"/>
                <a:ext cx="22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4320" y="220968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1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16240" y="220968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2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169160" y="277524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路由的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2989440" y="3781440"/>
            <a:ext cx="3364920" cy="250920"/>
            <a:chOff x="2989440" y="3781440"/>
            <a:chExt cx="3364920" cy="250920"/>
          </a:xfrm>
        </p:grpSpPr>
        <p:sp>
          <p:nvSpPr>
            <p:cNvPr id="1103" name=""/>
            <p:cNvSpPr/>
            <p:nvPr/>
          </p:nvSpPr>
          <p:spPr>
            <a:xfrm>
              <a:off x="4234680" y="3781440"/>
              <a:ext cx="64512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80160" y="3781440"/>
              <a:ext cx="6440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89440" y="3781440"/>
              <a:ext cx="12452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524200" y="3781440"/>
              <a:ext cx="83016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19400" y="4311720"/>
            <a:ext cx="3106800" cy="8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RTA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修改后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3160800" y="3422520"/>
            <a:ext cx="2177640" cy="324000"/>
            <a:chOff x="3160800" y="3422520"/>
            <a:chExt cx="2177640" cy="324000"/>
          </a:xfrm>
        </p:grpSpPr>
        <p:sp>
          <p:nvSpPr>
            <p:cNvPr id="1109" name=""/>
            <p:cNvSpPr/>
            <p:nvPr/>
          </p:nvSpPr>
          <p:spPr>
            <a:xfrm>
              <a:off x="4249800" y="342252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60800" y="342252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079800" y="4149720"/>
            <a:ext cx="2379240" cy="807480"/>
            <a:chOff x="3079800" y="4149720"/>
            <a:chExt cx="2379240" cy="807480"/>
          </a:xfrm>
        </p:grpSpPr>
        <p:grpSp>
          <p:nvGrpSpPr>
            <p:cNvPr id="1112" name=""/>
            <p:cNvGrpSpPr/>
            <p:nvPr/>
          </p:nvGrpSpPr>
          <p:grpSpPr>
            <a:xfrm>
              <a:off x="4269600" y="4149720"/>
              <a:ext cx="1189440" cy="807480"/>
              <a:chOff x="4269600" y="4149720"/>
              <a:chExt cx="1189440" cy="807480"/>
            </a:xfrm>
          </p:grpSpPr>
          <p:sp>
            <p:nvSpPr>
              <p:cNvPr id="1113" name=""/>
              <p:cNvSpPr/>
              <p:nvPr/>
            </p:nvSpPr>
            <p:spPr>
              <a:xfrm>
                <a:off x="426960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86432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079800" y="4149720"/>
              <a:ext cx="1189440" cy="807480"/>
              <a:chOff x="3079800" y="4149720"/>
              <a:chExt cx="1189440" cy="8074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07980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674520" y="4149720"/>
                <a:ext cx="594720" cy="8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496800" y="5313240"/>
            <a:ext cx="31068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发送数据包的主机填写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80880" y="5070600"/>
            <a:ext cx="2379240" cy="807120"/>
            <a:chOff x="380880" y="5070600"/>
            <a:chExt cx="2379240" cy="807120"/>
          </a:xfrm>
        </p:grpSpPr>
        <p:grpSp>
          <p:nvGrpSpPr>
            <p:cNvPr id="1120" name=""/>
            <p:cNvGrpSpPr/>
            <p:nvPr/>
          </p:nvGrpSpPr>
          <p:grpSpPr>
            <a:xfrm>
              <a:off x="1570680" y="5070600"/>
              <a:ext cx="1189440" cy="807120"/>
              <a:chOff x="1570680" y="5070600"/>
              <a:chExt cx="1189440" cy="807120"/>
            </a:xfrm>
          </p:grpSpPr>
          <p:sp>
            <p:nvSpPr>
              <p:cNvPr id="1121" name=""/>
              <p:cNvSpPr/>
              <p:nvPr/>
            </p:nvSpPr>
            <p:spPr>
              <a:xfrm>
                <a:off x="15706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1654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380880" y="5070600"/>
              <a:ext cx="1189440" cy="807120"/>
              <a:chOff x="380880" y="5070600"/>
              <a:chExt cx="1189440" cy="8071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8088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975600" y="5070600"/>
                <a:ext cx="594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6" name=""/>
          <p:cNvGrpSpPr/>
          <p:nvPr/>
        </p:nvGrpSpPr>
        <p:grpSpPr>
          <a:xfrm>
            <a:off x="326880" y="4702320"/>
            <a:ext cx="3406680" cy="250560"/>
            <a:chOff x="326880" y="4702320"/>
            <a:chExt cx="3406680" cy="250560"/>
          </a:xfrm>
        </p:grpSpPr>
        <p:sp>
          <p:nvSpPr>
            <p:cNvPr id="1127" name=""/>
            <p:cNvSpPr/>
            <p:nvPr/>
          </p:nvSpPr>
          <p:spPr>
            <a:xfrm>
              <a:off x="1615320" y="4702320"/>
              <a:ext cx="64476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1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260080" y="4702320"/>
              <a:ext cx="64368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3.3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326880" y="4702320"/>
              <a:ext cx="1288080" cy="250560"/>
              <a:chOff x="326880" y="4702320"/>
              <a:chExt cx="1288080" cy="250560"/>
            </a:xfrm>
          </p:grpSpPr>
          <p:sp>
            <p:nvSpPr>
              <p:cNvPr id="1130" name=""/>
              <p:cNvSpPr/>
              <p:nvPr/>
            </p:nvSpPr>
            <p:spPr>
              <a:xfrm>
                <a:off x="32688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970920" y="4702320"/>
                <a:ext cx="644040" cy="25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7308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2904120" y="4702320"/>
              <a:ext cx="82944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38200" y="4343400"/>
            <a:ext cx="2177640" cy="324000"/>
            <a:chOff x="538200" y="4343400"/>
            <a:chExt cx="2177640" cy="324000"/>
          </a:xfrm>
        </p:grpSpPr>
        <p:sp>
          <p:nvSpPr>
            <p:cNvPr id="1134" name=""/>
            <p:cNvSpPr/>
            <p:nvPr/>
          </p:nvSpPr>
          <p:spPr>
            <a:xfrm>
              <a:off x="1627200" y="434340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8200" y="434340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5983200" y="5280120"/>
            <a:ext cx="234000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修改后的包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5486400" y="5070600"/>
            <a:ext cx="2380680" cy="808920"/>
            <a:chOff x="5486400" y="5070600"/>
            <a:chExt cx="2380680" cy="808920"/>
          </a:xfrm>
        </p:grpSpPr>
        <p:grpSp>
          <p:nvGrpSpPr>
            <p:cNvPr id="1138" name=""/>
            <p:cNvGrpSpPr/>
            <p:nvPr/>
          </p:nvGrpSpPr>
          <p:grpSpPr>
            <a:xfrm>
              <a:off x="6676920" y="5070600"/>
              <a:ext cx="1190160" cy="808920"/>
              <a:chOff x="6676920" y="5070600"/>
              <a:chExt cx="1190160" cy="808920"/>
            </a:xfrm>
          </p:grpSpPr>
          <p:sp>
            <p:nvSpPr>
              <p:cNvPr id="1139" name=""/>
              <p:cNvSpPr/>
              <p:nvPr/>
            </p:nvSpPr>
            <p:spPr>
              <a:xfrm>
                <a:off x="6676920" y="5070600"/>
                <a:ext cx="5950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272000" y="5070600"/>
                <a:ext cx="5950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 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5486400" y="5070600"/>
              <a:ext cx="1190160" cy="808920"/>
              <a:chOff x="5486400" y="5070600"/>
              <a:chExt cx="1190160" cy="808920"/>
            </a:xfrm>
          </p:grpSpPr>
          <p:sp>
            <p:nvSpPr>
              <p:cNvPr id="1142" name=""/>
              <p:cNvSpPr/>
              <p:nvPr/>
            </p:nvSpPr>
            <p:spPr>
              <a:xfrm>
                <a:off x="5486400" y="5070600"/>
                <a:ext cx="5950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D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81480" y="5070600"/>
                <a:ext cx="5950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SM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4" name=""/>
          <p:cNvGrpSpPr/>
          <p:nvPr/>
        </p:nvGrpSpPr>
        <p:grpSpPr>
          <a:xfrm>
            <a:off x="5450040" y="4702320"/>
            <a:ext cx="3364920" cy="250560"/>
            <a:chOff x="5450040" y="4702320"/>
            <a:chExt cx="3364920" cy="250560"/>
          </a:xfrm>
        </p:grpSpPr>
        <p:grpSp>
          <p:nvGrpSpPr>
            <p:cNvPr id="1145" name=""/>
            <p:cNvGrpSpPr/>
            <p:nvPr/>
          </p:nvGrpSpPr>
          <p:grpSpPr>
            <a:xfrm>
              <a:off x="5450040" y="4702320"/>
              <a:ext cx="2534760" cy="250560"/>
              <a:chOff x="5450040" y="4702320"/>
              <a:chExt cx="2534760" cy="25056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6717600" y="4702320"/>
                <a:ext cx="1267200" cy="250560"/>
                <a:chOff x="6717600" y="4702320"/>
                <a:chExt cx="1267200" cy="250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6717600" y="4702320"/>
                  <a:ext cx="633600" cy="2505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1.1.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351200" y="4702320"/>
                  <a:ext cx="633600" cy="2505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3.3.3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450040" y="4702320"/>
                <a:ext cx="1267200" cy="250560"/>
                <a:chOff x="5450040" y="4702320"/>
                <a:chExt cx="1267200" cy="2505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450040" y="4702320"/>
                  <a:ext cx="633600" cy="2505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c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083640" y="4702320"/>
                  <a:ext cx="633600" cy="2505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73080" bIns="18000" anchor="t">
                  <a:noAutofit/>
                </a:bodyPr>
                <a:p>
                  <a:pPr algn="ctr"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c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2" name=""/>
            <p:cNvSpPr/>
            <p:nvPr/>
          </p:nvSpPr>
          <p:spPr>
            <a:xfrm>
              <a:off x="7984800" y="4702320"/>
              <a:ext cx="830160" cy="2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308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5661000" y="4343400"/>
            <a:ext cx="2177640" cy="324000"/>
            <a:chOff x="5661000" y="4343400"/>
            <a:chExt cx="2177640" cy="324000"/>
          </a:xfrm>
        </p:grpSpPr>
        <p:sp>
          <p:nvSpPr>
            <p:cNvPr id="1154" name=""/>
            <p:cNvSpPr/>
            <p:nvPr/>
          </p:nvSpPr>
          <p:spPr>
            <a:xfrm>
              <a:off x="6750000" y="4343400"/>
              <a:ext cx="108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61000" y="4343400"/>
              <a:ext cx="108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包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057320" y="2209680"/>
            <a:ext cx="7589520" cy="1868760"/>
            <a:chOff x="1057320" y="2209680"/>
            <a:chExt cx="7589520" cy="1868760"/>
          </a:xfrm>
        </p:grpSpPr>
        <p:sp>
          <p:nvSpPr>
            <p:cNvPr id="1157" name=""/>
            <p:cNvSpPr/>
            <p:nvPr/>
          </p:nvSpPr>
          <p:spPr>
            <a:xfrm>
              <a:off x="7436880" y="3259800"/>
              <a:ext cx="120996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3.3.3.2/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MA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057320" y="2209680"/>
              <a:ext cx="6580800" cy="1868760"/>
              <a:chOff x="1057320" y="2209680"/>
              <a:chExt cx="6580800" cy="1868760"/>
            </a:xfrm>
          </p:grpSpPr>
          <p:pic>
            <p:nvPicPr>
              <p:cNvPr id="1159" name="整套电脑-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1680" y="3061800"/>
                <a:ext cx="42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整套电脑-3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720" y="3184560"/>
                <a:ext cx="430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1" name=""/>
              <p:cNvSpPr/>
              <p:nvPr/>
            </p:nvSpPr>
            <p:spPr>
              <a:xfrm flipH="1">
                <a:off x="2266920" y="2655000"/>
                <a:ext cx="8643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28160" y="2777760"/>
                <a:ext cx="6915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2958840" y="2451960"/>
                <a:ext cx="633600" cy="406440"/>
                <a:chOff x="2958840" y="2451960"/>
                <a:chExt cx="633600" cy="4064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95884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95884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6" name=""/>
                <p:cNvGrpSpPr/>
                <p:nvPr/>
              </p:nvGrpSpPr>
              <p:grpSpPr>
                <a:xfrm>
                  <a:off x="3057120" y="2478240"/>
                  <a:ext cx="434880" cy="169200"/>
                  <a:chOff x="3057120" y="2478240"/>
                  <a:chExt cx="434880" cy="16920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2824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05712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06756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27456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28680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6108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7188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27888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3" name=""/>
              <p:cNvSpPr/>
              <p:nvPr/>
            </p:nvSpPr>
            <p:spPr>
              <a:xfrm>
                <a:off x="2094480" y="224856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057320" y="326520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1.1.1.2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8160" y="237132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3.3.3.1/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MAC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6" name=""/>
              <p:cNvGrpSpPr/>
              <p:nvPr/>
            </p:nvGrpSpPr>
            <p:grpSpPr>
              <a:xfrm>
                <a:off x="5823000" y="2451960"/>
                <a:ext cx="633600" cy="406440"/>
                <a:chOff x="5823000" y="2451960"/>
                <a:chExt cx="633600" cy="40644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5823000" y="2565000"/>
                  <a:ext cx="633600" cy="293400"/>
                </a:xfrm>
                <a:custGeom>
                  <a:avLst/>
                  <a:gdLst/>
                  <a:ahLst/>
                  <a:rect l="l" t="t" r="r" b="b"/>
                  <a:pathLst>
                    <a:path w="303" h="137">
                      <a:moveTo>
                        <a:pt x="302" y="80"/>
                      </a:moveTo>
                      <a:cubicBezTo>
                        <a:pt x="302" y="81"/>
                        <a:pt x="302" y="81"/>
                        <a:pt x="301" y="82"/>
                      </a:cubicBezTo>
                      <a:cubicBezTo>
                        <a:pt x="302" y="83"/>
                        <a:pt x="302" y="85"/>
                        <a:pt x="302" y="86"/>
                      </a:cubicBezTo>
                      <a:cubicBezTo>
                        <a:pt x="302" y="114"/>
                        <a:pt x="234" y="137"/>
                        <a:pt x="152" y="137"/>
                      </a:cubicBezTo>
                      <a:cubicBezTo>
                        <a:pt x="68" y="137"/>
                        <a:pt x="0" y="114"/>
                        <a:pt x="0" y="86"/>
                      </a:cubicBezTo>
                      <a:cubicBezTo>
                        <a:pt x="0" y="85"/>
                        <a:pt x="0" y="83"/>
                        <a:pt x="1" y="82"/>
                      </a:cubicBezTo>
                      <a:cubicBezTo>
                        <a:pt x="0" y="81"/>
                        <a:pt x="0" y="81"/>
                        <a:pt x="0" y="80"/>
                      </a:cubicBezTo>
                      <a:lnTo>
                        <a:pt x="0" y="0"/>
                      </a:lnTo>
                      <a:lnTo>
                        <a:pt x="302" y="0"/>
                      </a:lnTo>
                      <a:lnTo>
                        <a:pt x="302" y="77"/>
                      </a:lnTo>
                      <a:cubicBezTo>
                        <a:pt x="303" y="78"/>
                        <a:pt x="302" y="79"/>
                        <a:pt x="302" y="80"/>
                      </a:cubicBezTo>
                    </a:path>
                  </a:pathLst>
                </a:custGeom>
                <a:solidFill>
                  <a:srgbClr val="9182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823000" y="2451960"/>
                  <a:ext cx="631080" cy="223200"/>
                </a:xfrm>
                <a:custGeom>
                  <a:avLst/>
                  <a:gdLst/>
                  <a:ahLst/>
                  <a:rect l="l" t="t" r="r" b="b"/>
                  <a:pathLst>
                    <a:path w="302" h="104">
                      <a:moveTo>
                        <a:pt x="302" y="53"/>
                      </a:moveTo>
                      <a:cubicBezTo>
                        <a:pt x="302" y="81"/>
                        <a:pt x="234" y="104"/>
                        <a:pt x="152" y="104"/>
                      </a:cubicBezTo>
                      <a:cubicBezTo>
                        <a:pt x="68" y="104"/>
                        <a:pt x="0" y="81"/>
                        <a:pt x="0" y="53"/>
                      </a:cubicBezTo>
                      <a:cubicBezTo>
                        <a:pt x="0" y="24"/>
                        <a:pt x="68" y="0"/>
                        <a:pt x="152" y="0"/>
                      </a:cubicBezTo>
                      <a:cubicBezTo>
                        <a:pt x="234" y="0"/>
                        <a:pt x="302" y="24"/>
                        <a:pt x="302" y="53"/>
                      </a:cubicBezTo>
                    </a:path>
                  </a:pathLst>
                </a:custGeom>
                <a:solidFill>
                  <a:srgbClr val="bcb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5921280" y="2478240"/>
                  <a:ext cx="434880" cy="169200"/>
                  <a:chOff x="5921280" y="2478240"/>
                  <a:chExt cx="434880" cy="16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61466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9" y="18"/>
                        </a:lnTo>
                        <a:lnTo>
                          <a:pt x="86" y="0"/>
                        </a:lnTo>
                        <a:lnTo>
                          <a:pt x="24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5921280" y="256356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6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8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931720" y="247824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5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6138720" y="257256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50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6150960" y="2487240"/>
                    <a:ext cx="20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3">
                        <a:moveTo>
                          <a:pt x="0" y="25"/>
                        </a:moveTo>
                        <a:lnTo>
                          <a:pt x="22" y="33"/>
                        </a:lnTo>
                        <a:lnTo>
                          <a:pt x="75" y="11"/>
                        </a:lnTo>
                        <a:lnTo>
                          <a:pt x="98" y="18"/>
                        </a:lnTo>
                        <a:lnTo>
                          <a:pt x="86" y="0"/>
                        </a:lnTo>
                        <a:lnTo>
                          <a:pt x="23" y="0"/>
                        </a:lnTo>
                        <a:lnTo>
                          <a:pt x="49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925240" y="2568240"/>
                    <a:ext cx="207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5">
                        <a:moveTo>
                          <a:pt x="99" y="7"/>
                        </a:moveTo>
                        <a:lnTo>
                          <a:pt x="77" y="0"/>
                        </a:lnTo>
                        <a:lnTo>
                          <a:pt x="25" y="22"/>
                        </a:lnTo>
                        <a:lnTo>
                          <a:pt x="0" y="15"/>
                        </a:lnTo>
                        <a:lnTo>
                          <a:pt x="13" y="35"/>
                        </a:lnTo>
                        <a:lnTo>
                          <a:pt x="77" y="35"/>
                        </a:lnTo>
                        <a:lnTo>
                          <a:pt x="49" y="27"/>
                        </a:lnTo>
                        <a:lnTo>
                          <a:pt x="99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936040" y="2482560"/>
                    <a:ext cx="207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0" y="7"/>
                        </a:moveTo>
                        <a:lnTo>
                          <a:pt x="22" y="0"/>
                        </a:lnTo>
                        <a:lnTo>
                          <a:pt x="75" y="20"/>
                        </a:lnTo>
                        <a:lnTo>
                          <a:pt x="99" y="14"/>
                        </a:lnTo>
                        <a:lnTo>
                          <a:pt x="86" y="33"/>
                        </a:lnTo>
                        <a:lnTo>
                          <a:pt x="24" y="33"/>
                        </a:lnTo>
                        <a:lnTo>
                          <a:pt x="50" y="27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143040" y="2577240"/>
                    <a:ext cx="207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3">
                        <a:moveTo>
                          <a:pt x="99" y="25"/>
                        </a:moveTo>
                        <a:lnTo>
                          <a:pt x="77" y="33"/>
                        </a:lnTo>
                        <a:lnTo>
                          <a:pt x="26" y="11"/>
                        </a:lnTo>
                        <a:lnTo>
                          <a:pt x="0" y="18"/>
                        </a:lnTo>
                        <a:lnTo>
                          <a:pt x="13" y="0"/>
                        </a:lnTo>
                        <a:lnTo>
                          <a:pt x="77" y="0"/>
                        </a:lnTo>
                        <a:lnTo>
                          <a:pt x="49" y="5"/>
                        </a:lnTo>
                        <a:lnTo>
                          <a:pt x="99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6" name=""/>
              <p:cNvSpPr/>
              <p:nvPr/>
            </p:nvSpPr>
            <p:spPr>
              <a:xfrm>
                <a:off x="3564000" y="2694240"/>
                <a:ext cx="22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604320" y="220968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1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016240" y="2209680"/>
                <a:ext cx="12099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2.2.2.2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69160" y="2775240"/>
                <a:ext cx="121032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19120" y="952560"/>
            <a:ext cx="8077320" cy="5157720"/>
            <a:chOff x="519120" y="952560"/>
            <a:chExt cx="8077320" cy="5157720"/>
          </a:xfrm>
        </p:grpSpPr>
        <p:grpSp>
          <p:nvGrpSpPr>
            <p:cNvPr id="131" name=""/>
            <p:cNvGrpSpPr/>
            <p:nvPr/>
          </p:nvGrpSpPr>
          <p:grpSpPr>
            <a:xfrm>
              <a:off x="519120" y="952560"/>
              <a:ext cx="8077320" cy="5157720"/>
              <a:chOff x="519120" y="952560"/>
              <a:chExt cx="8077320" cy="5157720"/>
            </a:xfrm>
          </p:grpSpPr>
          <p:sp>
            <p:nvSpPr>
              <p:cNvPr id="132" name=""/>
              <p:cNvSpPr/>
              <p:nvPr/>
            </p:nvSpPr>
            <p:spPr>
              <a:xfrm>
                <a:off x="992160" y="1209600"/>
                <a:ext cx="7108920" cy="4853160"/>
              </a:xfrm>
              <a:prstGeom prst="rect">
                <a:avLst/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19120" y="952560"/>
                <a:ext cx="8077320" cy="5157720"/>
                <a:chOff x="519120" y="952560"/>
                <a:chExt cx="8077320" cy="5157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87360" y="5961240"/>
                  <a:ext cx="6518520" cy="14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0099"/>
                    </a:gs>
                    <a:gs pos="50000">
                      <a:srgbClr val="f3c8e8"/>
                    </a:gs>
                    <a:gs pos="100000">
                      <a:srgbClr val="cc00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5400000">
                  <a:off x="-242280" y="3918600"/>
                  <a:ext cx="4219560" cy="150840"/>
                </a:xfrm>
                <a:custGeom>
                  <a:avLst/>
                  <a:gdLst>
                    <a:gd name="textAreaLeft" fmla="*/ 0 w 4219560"/>
                    <a:gd name="textAreaRight" fmla="*/ 4219920 w 42195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0894" y="0"/>
                      </a:lnTo>
                      <a:lnTo>
                        <a:pt x="21600" y="10800"/>
                      </a:lnTo>
                      <a:lnTo>
                        <a:pt x="2089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f3c8e8"/>
                    </a:gs>
                    <a:gs pos="100000">
                      <a:srgbClr val="cc00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519120" y="2313000"/>
                  <a:ext cx="2695680" cy="3222720"/>
                  <a:chOff x="519120" y="2313000"/>
                  <a:chExt cx="2695680" cy="32227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519120" y="317808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a4a4c2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19120" y="231300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acadc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19120" y="404496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7b7ba7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9120" y="4911840"/>
                    <a:ext cx="2695680" cy="623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5c5c88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85880" y="3317760"/>
                    <a:ext cx="2139840" cy="358920"/>
                    <a:chOff x="785880" y="3317760"/>
                    <a:chExt cx="2139840" cy="35892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17800" y="331776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85880" y="331776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785880" y="2451240"/>
                    <a:ext cx="2139840" cy="358560"/>
                    <a:chOff x="785880" y="2451240"/>
                    <a:chExt cx="2139840" cy="35856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017800" y="2451240"/>
                      <a:ext cx="907920" cy="358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85880" y="2451240"/>
                      <a:ext cx="907920" cy="358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T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592200" y="4170240"/>
                    <a:ext cx="2516040" cy="358920"/>
                    <a:chOff x="592200" y="4170240"/>
                    <a:chExt cx="2516040" cy="35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59220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23660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C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881360" y="4170240"/>
                      <a:ext cx="58068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G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52720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785880" y="5037120"/>
                    <a:ext cx="2139840" cy="358920"/>
                    <a:chOff x="785880" y="5037120"/>
                    <a:chExt cx="2139840" cy="3589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017800" y="503712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th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85880" y="503712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155" name="computer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3040" y="952560"/>
                  <a:ext cx="10224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5400000">
                  <a:off x="5139360" y="3918600"/>
                  <a:ext cx="4219560" cy="150480"/>
                </a:xfrm>
                <a:custGeom>
                  <a:avLst/>
                  <a:gdLst>
                    <a:gd name="textAreaLeft" fmla="*/ 0 w 4219560"/>
                    <a:gd name="textAreaRight" fmla="*/ 4219920 w 421956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0894" y="0"/>
                      </a:lnTo>
                      <a:lnTo>
                        <a:pt x="21600" y="10800"/>
                      </a:lnTo>
                      <a:lnTo>
                        <a:pt x="2089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f3c8e8"/>
                    </a:gs>
                    <a:gs pos="100000">
                      <a:srgbClr val="cc00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5900760" y="2313000"/>
                  <a:ext cx="2695680" cy="3222720"/>
                  <a:chOff x="5900760" y="2313000"/>
                  <a:chExt cx="2695680" cy="3222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5900760" y="317808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a4a4c2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900760" y="231300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acadc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00760" y="404496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7b7ba7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900760" y="4911840"/>
                    <a:ext cx="2695680" cy="623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5c5c88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167520" y="3317760"/>
                    <a:ext cx="2139840" cy="358920"/>
                    <a:chOff x="6167520" y="3317760"/>
                    <a:chExt cx="2139840" cy="35892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7399440" y="331776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167520" y="331776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6167520" y="2451240"/>
                    <a:ext cx="2139840" cy="358560"/>
                    <a:chOff x="6167520" y="2451240"/>
                    <a:chExt cx="2139840" cy="3585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399440" y="2451240"/>
                      <a:ext cx="907920" cy="358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167520" y="2451240"/>
                      <a:ext cx="907920" cy="358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T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5973840" y="4170240"/>
                    <a:ext cx="2516040" cy="358920"/>
                    <a:chOff x="5973840" y="4170240"/>
                    <a:chExt cx="2516040" cy="35892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97384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61824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C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26264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G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908840" y="4170240"/>
                      <a:ext cx="58104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5a5a86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6167520" y="5037120"/>
                    <a:ext cx="2139840" cy="358920"/>
                    <a:chOff x="6167520" y="5037120"/>
                    <a:chExt cx="2139840" cy="35892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399440" y="503712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th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6167520" y="5037120"/>
                      <a:ext cx="907920" cy="358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3f3f5d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176" name="computer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754680" y="952560"/>
                  <a:ext cx="10224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7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896280" y="1958040"/>
              <a:ext cx="1309680" cy="1330200"/>
            </a:xfrm>
            <a:prstGeom prst="cube">
              <a:avLst>
                <a:gd name="adj" fmla="val 13222"/>
              </a:avLst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9120" y="1490760"/>
            <a:ext cx="5278320" cy="4448160"/>
            <a:chOff x="519120" y="1490760"/>
            <a:chExt cx="5278320" cy="4448160"/>
          </a:xfrm>
        </p:grpSpPr>
        <p:sp>
          <p:nvSpPr>
            <p:cNvPr id="180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6200000">
              <a:off x="3275640" y="2458080"/>
              <a:ext cx="560520" cy="447840"/>
            </a:xfrm>
            <a:prstGeom prst="rightArrow">
              <a:avLst>
                <a:gd name="adj1" fmla="val 49741"/>
                <a:gd name="adj2" fmla="val 70854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4197240" y="2773080"/>
              <a:ext cx="708120" cy="1330200"/>
            </a:xfrm>
            <a:prstGeom prst="cube">
              <a:avLst>
                <a:gd name="adj" fmla="val 24884"/>
              </a:avLst>
            </a:prstGeom>
            <a:solidFill>
              <a:srgbClr val="d6009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3896280" y="1958040"/>
              <a:ext cx="1309680" cy="1330200"/>
            </a:xfrm>
            <a:prstGeom prst="cube">
              <a:avLst>
                <a:gd name="adj" fmla="val 13222"/>
              </a:avLst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19120" y="2313000"/>
              <a:ext cx="2695680" cy="611280"/>
              <a:chOff x="519120" y="2313000"/>
              <a:chExt cx="2695680" cy="61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519120" y="2313000"/>
                <a:ext cx="2695680" cy="611280"/>
              </a:xfrm>
              <a:prstGeom prst="roundRect">
                <a:avLst>
                  <a:gd name="adj" fmla="val 16667"/>
                </a:avLst>
              </a:prstGeom>
              <a:solidFill>
                <a:srgbClr val="d60093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36147" dir="135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17800" y="2451240"/>
                <a:ext cx="907920" cy="358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F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5880" y="2451240"/>
                <a:ext cx="907920" cy="358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519120" y="1490760"/>
            <a:ext cx="5278320" cy="4448160"/>
            <a:chOff x="519120" y="1490760"/>
            <a:chExt cx="5278320" cy="4448160"/>
          </a:xfrm>
        </p:grpSpPr>
        <p:sp>
          <p:nvSpPr>
            <p:cNvPr id="189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886200" y="1968480"/>
              <a:ext cx="1330200" cy="2339640"/>
              <a:chOff x="3886200" y="1968480"/>
              <a:chExt cx="1330200" cy="2339640"/>
            </a:xfrm>
          </p:grpSpPr>
          <p:sp>
            <p:nvSpPr>
              <p:cNvPr id="191" name=""/>
              <p:cNvSpPr/>
              <p:nvPr/>
            </p:nvSpPr>
            <p:spPr>
              <a:xfrm rot="16200000">
                <a:off x="4196520" y="3288240"/>
                <a:ext cx="709560" cy="1330200"/>
              </a:xfrm>
              <a:prstGeom prst="cube">
                <a:avLst>
                  <a:gd name="adj" fmla="val 24884"/>
                </a:avLst>
              </a:prstGeom>
              <a:solidFill>
                <a:srgbClr val="d6009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200000">
                <a:off x="4197240" y="2773080"/>
                <a:ext cx="708120" cy="1330200"/>
              </a:xfrm>
              <a:prstGeom prst="cube">
                <a:avLst>
                  <a:gd name="adj" fmla="val 24884"/>
                </a:avLst>
              </a:prstGeom>
              <a:solidFill>
                <a:srgbClr val="cacadc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200000">
                <a:off x="3896280" y="1958040"/>
                <a:ext cx="1309680" cy="1330200"/>
              </a:xfrm>
              <a:prstGeom prst="cube">
                <a:avLst>
                  <a:gd name="adj" fmla="val 13222"/>
                </a:avLst>
              </a:prstGeom>
              <a:solidFill>
                <a:srgbClr val="ffffff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19120" y="3178080"/>
              <a:ext cx="2695680" cy="611280"/>
              <a:chOff x="519120" y="3178080"/>
              <a:chExt cx="2695680" cy="61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519120" y="3178080"/>
                <a:ext cx="2695680" cy="611280"/>
              </a:xfrm>
              <a:prstGeom prst="roundRect">
                <a:avLst>
                  <a:gd name="adj" fmla="val 16667"/>
                </a:avLst>
              </a:prstGeom>
              <a:solidFill>
                <a:srgbClr val="d60093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36147" dir="135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17800" y="3317760"/>
                <a:ext cx="907920" cy="358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UD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5880" y="3317760"/>
                <a:ext cx="907920" cy="358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TC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19120" y="2313000"/>
              <a:ext cx="2695680" cy="611280"/>
              <a:chOff x="519120" y="2313000"/>
              <a:chExt cx="2695680" cy="611280"/>
            </a:xfrm>
          </p:grpSpPr>
          <p:sp>
            <p:nvSpPr>
              <p:cNvPr id="199" name=""/>
              <p:cNvSpPr/>
              <p:nvPr/>
            </p:nvSpPr>
            <p:spPr>
              <a:xfrm>
                <a:off x="519120" y="2313000"/>
                <a:ext cx="2695680" cy="611280"/>
              </a:xfrm>
              <a:prstGeom prst="roundRect">
                <a:avLst>
                  <a:gd name="adj" fmla="val 16667"/>
                </a:avLst>
              </a:prstGeom>
              <a:solidFill>
                <a:srgbClr val="cacadc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36147" dir="135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17800" y="2451240"/>
                <a:ext cx="907920" cy="358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F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5880" y="2451240"/>
                <a:ext cx="907920" cy="358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3f3f5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H="1" rot="16200000">
              <a:off x="3276000" y="3286800"/>
              <a:ext cx="560160" cy="447840"/>
            </a:xfrm>
            <a:prstGeom prst="rightArrow">
              <a:avLst>
                <a:gd name="adj1" fmla="val 49741"/>
                <a:gd name="adj2" fmla="val 70809"/>
              </a:avLst>
            </a:prstGeom>
            <a:gradFill rotWithShape="0">
              <a:gsLst>
                <a:gs pos="0">
                  <a:srgbClr val="d20091"/>
                </a:gs>
                <a:gs pos="100000">
                  <a:srgbClr val="e885ca"/>
                </a:gs>
              </a:gsLst>
              <a:lin ang="5400000"/>
            </a:gradFill>
            <a:ln w="6480">
              <a:solidFill>
                <a:srgbClr val="80008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19120" y="1490760"/>
            <a:ext cx="5278320" cy="4448160"/>
            <a:chOff x="519120" y="1490760"/>
            <a:chExt cx="5278320" cy="4448160"/>
          </a:xfrm>
        </p:grpSpPr>
        <p:sp>
          <p:nvSpPr>
            <p:cNvPr id="204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19120" y="1968480"/>
              <a:ext cx="4697280" cy="2854080"/>
              <a:chOff x="519120" y="1968480"/>
              <a:chExt cx="4697280" cy="2854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886200" y="1968480"/>
                <a:ext cx="1330200" cy="2854080"/>
                <a:chOff x="3886200" y="1968480"/>
                <a:chExt cx="1330200" cy="2854080"/>
              </a:xfrm>
            </p:grpSpPr>
            <p:sp>
              <p:nvSpPr>
                <p:cNvPr id="207" name=""/>
                <p:cNvSpPr/>
                <p:nvPr/>
              </p:nvSpPr>
              <p:spPr>
                <a:xfrm rot="16200000">
                  <a:off x="4197240" y="380340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d60093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19120" y="3178080"/>
                <a:ext cx="2695680" cy="611280"/>
                <a:chOff x="519120" y="3178080"/>
                <a:chExt cx="2695680" cy="611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19120" y="317808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a4a4c2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17800" y="331776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UD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5880" y="331776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TC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19120" y="4044960"/>
                <a:ext cx="2695680" cy="611280"/>
                <a:chOff x="519120" y="4044960"/>
                <a:chExt cx="2695680" cy="611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19120" y="404496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60093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22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66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C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881360" y="4170240"/>
                  <a:ext cx="58068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G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5272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R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H="1" rot="16200000">
                <a:off x="3275640" y="4140720"/>
                <a:ext cx="560520" cy="447840"/>
              </a:xfrm>
              <a:prstGeom prst="rightArrow">
                <a:avLst>
                  <a:gd name="adj1" fmla="val 49741"/>
                  <a:gd name="adj2" fmla="val 70854"/>
                </a:avLst>
              </a:prstGeom>
              <a:gradFill rotWithShape="0">
                <a:gsLst>
                  <a:gs pos="0">
                    <a:srgbClr val="d20091"/>
                  </a:gs>
                  <a:gs pos="100000">
                    <a:srgbClr val="e885ca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19120" y="1490760"/>
            <a:ext cx="5278320" cy="4448160"/>
            <a:chOff x="519120" y="1490760"/>
            <a:chExt cx="5278320" cy="4448160"/>
          </a:xfrm>
        </p:grpSpPr>
        <p:sp>
          <p:nvSpPr>
            <p:cNvPr id="223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19120" y="1652400"/>
              <a:ext cx="4697280" cy="3895920"/>
              <a:chOff x="519120" y="1652400"/>
              <a:chExt cx="4697280" cy="38959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886200" y="1652400"/>
                <a:ext cx="1330200" cy="3686040"/>
                <a:chOff x="3886200" y="1652400"/>
                <a:chExt cx="1330200" cy="3686040"/>
              </a:xfrm>
            </p:grpSpPr>
            <p:sp>
              <p:nvSpPr>
                <p:cNvPr id="226" name=""/>
                <p:cNvSpPr/>
                <p:nvPr/>
              </p:nvSpPr>
              <p:spPr>
                <a:xfrm rot="16200000">
                  <a:off x="4197240" y="43192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d60093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Pream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6200000">
                  <a:off x="4197240" y="380340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7b7ba7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6200000">
                  <a:off x="4297320" y="1241280"/>
                  <a:ext cx="507960" cy="1330200"/>
                </a:xfrm>
                <a:prstGeom prst="cube">
                  <a:avLst>
                    <a:gd name="adj" fmla="val 34449"/>
                  </a:avLst>
                </a:prstGeom>
                <a:solidFill>
                  <a:srgbClr val="d60093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CR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19120" y="4044960"/>
                <a:ext cx="2695680" cy="611280"/>
                <a:chOff x="519120" y="4044960"/>
                <a:chExt cx="2695680" cy="611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19120" y="404496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b7ba7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922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366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C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881360" y="4170240"/>
                  <a:ext cx="58068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G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2720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R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19120" y="4911840"/>
                <a:ext cx="2695680" cy="623880"/>
                <a:chOff x="519120" y="4911840"/>
                <a:chExt cx="2695680" cy="6238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19120" y="4911840"/>
                  <a:ext cx="2695680" cy="6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60093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01780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Eth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8588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 rot="16200000">
                <a:off x="3275640" y="5043960"/>
                <a:ext cx="560520" cy="447840"/>
              </a:xfrm>
              <a:prstGeom prst="rightArrow">
                <a:avLst>
                  <a:gd name="adj1" fmla="val 49741"/>
                  <a:gd name="adj2" fmla="val 70854"/>
                </a:avLst>
              </a:prstGeom>
              <a:gradFill rotWithShape="0">
                <a:gsLst>
                  <a:gs pos="0">
                    <a:srgbClr val="d20091"/>
                  </a:gs>
                  <a:gs pos="100000">
                    <a:srgbClr val="e885ca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519120" y="1490760"/>
            <a:ext cx="5278320" cy="4448160"/>
            <a:chOff x="519120" y="1490760"/>
            <a:chExt cx="5278320" cy="4448160"/>
          </a:xfrm>
        </p:grpSpPr>
        <p:sp>
          <p:nvSpPr>
            <p:cNvPr id="244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19120" y="1652400"/>
              <a:ext cx="4697280" cy="4197600"/>
              <a:chOff x="519120" y="1652400"/>
              <a:chExt cx="4697280" cy="41976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886200" y="1652400"/>
                <a:ext cx="1330200" cy="3686040"/>
                <a:chOff x="3886200" y="1652400"/>
                <a:chExt cx="1330200" cy="3686040"/>
              </a:xfrm>
            </p:grpSpPr>
            <p:sp>
              <p:nvSpPr>
                <p:cNvPr id="247" name=""/>
                <p:cNvSpPr/>
                <p:nvPr/>
              </p:nvSpPr>
              <p:spPr>
                <a:xfrm rot="16200000">
                  <a:off x="4197240" y="43192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5c5c88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6200000">
                  <a:off x="4197240" y="380340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7b7ba7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6200000">
                  <a:off x="4297320" y="1241280"/>
                  <a:ext cx="507960" cy="1330200"/>
                </a:xfrm>
                <a:prstGeom prst="cube">
                  <a:avLst>
                    <a:gd name="adj" fmla="val 34449"/>
                  </a:avLst>
                </a:prstGeom>
                <a:solidFill>
                  <a:srgbClr val="5c5c88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19120" y="4911840"/>
                <a:ext cx="2695680" cy="623880"/>
                <a:chOff x="519120" y="4911840"/>
                <a:chExt cx="2695680" cy="623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19120" y="4911840"/>
                  <a:ext cx="2695680" cy="6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5c5c88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1780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Eth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8588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3933720" y="5452920"/>
                <a:ext cx="1266840" cy="397080"/>
              </a:xfrm>
              <a:prstGeom prst="rightArrow">
                <a:avLst>
                  <a:gd name="adj1" fmla="val 54398"/>
                  <a:gd name="adj2" fmla="val 109138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108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4303641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3284640" y="1490760"/>
            <a:ext cx="5311800" cy="4448160"/>
            <a:chOff x="3284640" y="1490760"/>
            <a:chExt cx="5311800" cy="4448160"/>
          </a:xfrm>
        </p:grpSpPr>
        <p:sp>
          <p:nvSpPr>
            <p:cNvPr id="259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886200" y="1968480"/>
              <a:ext cx="4710240" cy="3579480"/>
              <a:chOff x="3886200" y="1968480"/>
              <a:chExt cx="4710240" cy="357948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886200" y="1968480"/>
                <a:ext cx="1330200" cy="2854080"/>
                <a:chOff x="3886200" y="1968480"/>
                <a:chExt cx="1330200" cy="2854080"/>
              </a:xfrm>
            </p:grpSpPr>
            <p:sp>
              <p:nvSpPr>
                <p:cNvPr id="262" name=""/>
                <p:cNvSpPr/>
                <p:nvPr/>
              </p:nvSpPr>
              <p:spPr>
                <a:xfrm rot="16200000">
                  <a:off x="4197240" y="380340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7b7ba7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900760" y="4911840"/>
                <a:ext cx="2695680" cy="623880"/>
                <a:chOff x="5900760" y="4911840"/>
                <a:chExt cx="2695680" cy="6238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900760" y="4911840"/>
                  <a:ext cx="2695680" cy="6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60093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39944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Eth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67520" y="503712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flipH="1" flipV="1" rot="5400000">
                <a:off x="5229720" y="5043240"/>
                <a:ext cx="560520" cy="447840"/>
              </a:xfrm>
              <a:prstGeom prst="rightArrow">
                <a:avLst>
                  <a:gd name="adj1" fmla="val 49741"/>
                  <a:gd name="adj2" fmla="val 70854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3284640" y="1490760"/>
            <a:ext cx="5311800" cy="4448160"/>
            <a:chOff x="3284640" y="1490760"/>
            <a:chExt cx="5311800" cy="4448160"/>
          </a:xfrm>
        </p:grpSpPr>
        <p:sp>
          <p:nvSpPr>
            <p:cNvPr id="272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886200" y="1968480"/>
              <a:ext cx="4710240" cy="3567240"/>
              <a:chOff x="3886200" y="1968480"/>
              <a:chExt cx="4710240" cy="356724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886200" y="1968480"/>
                <a:ext cx="1330200" cy="2339640"/>
                <a:chOff x="3886200" y="1968480"/>
                <a:chExt cx="1330200" cy="2339640"/>
              </a:xfrm>
            </p:grpSpPr>
            <p:sp>
              <p:nvSpPr>
                <p:cNvPr id="275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900760" y="4044960"/>
                <a:ext cx="2695680" cy="1490760"/>
                <a:chOff x="5900760" y="4044960"/>
                <a:chExt cx="2695680" cy="149076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5900760" y="4044960"/>
                  <a:ext cx="2695680" cy="611280"/>
                  <a:chOff x="5900760" y="4044960"/>
                  <a:chExt cx="2695680" cy="6112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900760" y="404496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973840" y="4170240"/>
                    <a:ext cx="5810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5a5a8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I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618240" y="4170240"/>
                    <a:ext cx="5810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5a5a8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ICM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262640" y="4170240"/>
                    <a:ext cx="5810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5a5a8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IGM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908840" y="4170240"/>
                    <a:ext cx="58104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5a5a8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AR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5900760" y="4911840"/>
                  <a:ext cx="2695680" cy="623880"/>
                  <a:chOff x="5900760" y="4911840"/>
                  <a:chExt cx="2695680" cy="6238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900760" y="4911840"/>
                    <a:ext cx="2695680" cy="623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5c5c88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399440" y="5037120"/>
                    <a:ext cx="90792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Ethern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167520" y="5037120"/>
                    <a:ext cx="90792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AT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9" name=""/>
              <p:cNvSpPr/>
              <p:nvPr/>
            </p:nvSpPr>
            <p:spPr>
              <a:xfrm flipH="1" flipV="1" rot="5400000">
                <a:off x="5229720" y="4140000"/>
                <a:ext cx="560520" cy="447840"/>
              </a:xfrm>
              <a:prstGeom prst="rightArrow">
                <a:avLst>
                  <a:gd name="adj1" fmla="val 49741"/>
                  <a:gd name="adj2" fmla="val 70854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3284640" y="1490760"/>
            <a:ext cx="5311800" cy="4448160"/>
            <a:chOff x="3284640" y="1490760"/>
            <a:chExt cx="5311800" cy="4448160"/>
          </a:xfrm>
        </p:grpSpPr>
        <p:sp>
          <p:nvSpPr>
            <p:cNvPr id="291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86200" y="1968480"/>
              <a:ext cx="4710240" cy="2687760"/>
              <a:chOff x="3886200" y="1968480"/>
              <a:chExt cx="4710240" cy="26877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886200" y="1968480"/>
                <a:ext cx="1330200" cy="1823760"/>
                <a:chOff x="3886200" y="1968480"/>
                <a:chExt cx="1330200" cy="1823760"/>
              </a:xfrm>
            </p:grpSpPr>
            <p:sp>
              <p:nvSpPr>
                <p:cNvPr id="294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900760" y="3178080"/>
                <a:ext cx="2695680" cy="611280"/>
                <a:chOff x="5900760" y="3178080"/>
                <a:chExt cx="2695680" cy="611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900760" y="317808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60093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99440" y="331776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UD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67520" y="3317760"/>
                  <a:ext cx="90792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TC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900760" y="4044960"/>
                <a:ext cx="2695680" cy="611280"/>
                <a:chOff x="5900760" y="4044960"/>
                <a:chExt cx="2695680" cy="61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900760" y="404496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b7ba7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7384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1824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C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26264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GM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908840" y="4170240"/>
                  <a:ext cx="581040" cy="35892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a5a8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R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 flipH="1" flipV="1" rot="5400000">
                <a:off x="5230080" y="3286800"/>
                <a:ext cx="560160" cy="447840"/>
              </a:xfrm>
              <a:prstGeom prst="rightArrow">
                <a:avLst>
                  <a:gd name="adj1" fmla="val 49741"/>
                  <a:gd name="adj2" fmla="val 70809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3284640" y="1490760"/>
            <a:ext cx="5311800" cy="4448160"/>
            <a:chOff x="3284640" y="1490760"/>
            <a:chExt cx="5311800" cy="4448160"/>
          </a:xfrm>
        </p:grpSpPr>
        <p:sp>
          <p:nvSpPr>
            <p:cNvPr id="308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886200" y="1968480"/>
              <a:ext cx="4710240" cy="1820880"/>
              <a:chOff x="3886200" y="1968480"/>
              <a:chExt cx="4710240" cy="1820880"/>
            </a:xfrm>
          </p:grpSpPr>
          <p:sp>
            <p:nvSpPr>
              <p:cNvPr id="310" name=""/>
              <p:cNvSpPr/>
              <p:nvPr/>
            </p:nvSpPr>
            <p:spPr>
              <a:xfrm rot="16200000">
                <a:off x="3896280" y="1958040"/>
                <a:ext cx="1309680" cy="1330200"/>
              </a:xfrm>
              <a:prstGeom prst="cube">
                <a:avLst>
                  <a:gd name="adj" fmla="val 13222"/>
                </a:avLst>
              </a:prstGeom>
              <a:solidFill>
                <a:srgbClr val="ffffff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900760" y="2313000"/>
                <a:ext cx="2695680" cy="1476360"/>
                <a:chOff x="5900760" y="2313000"/>
                <a:chExt cx="2695680" cy="147636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5900760" y="3178080"/>
                  <a:ext cx="2695680" cy="611280"/>
                  <a:chOff x="5900760" y="3178080"/>
                  <a:chExt cx="2695680" cy="6112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5900760" y="317808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a4a4c2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399440" y="3317760"/>
                    <a:ext cx="90792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UD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167520" y="3317760"/>
                    <a:ext cx="907920" cy="35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TC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5900760" y="2313000"/>
                  <a:ext cx="2695680" cy="611280"/>
                  <a:chOff x="5900760" y="2313000"/>
                  <a:chExt cx="2695680" cy="6112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5900760" y="2313000"/>
                    <a:ext cx="2695680" cy="611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d60093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36147" dir="135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399440" y="2451240"/>
                    <a:ext cx="907920" cy="3585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FT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167520" y="2451240"/>
                    <a:ext cx="907920" cy="3585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3f3f5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</a:rPr>
                      <a:t>HTT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0" name=""/>
              <p:cNvSpPr/>
              <p:nvPr/>
            </p:nvSpPr>
            <p:spPr>
              <a:xfrm flipH="1" flipV="1" rot="5400000">
                <a:off x="5229720" y="2457360"/>
                <a:ext cx="560520" cy="447840"/>
              </a:xfrm>
              <a:prstGeom prst="rightArrow">
                <a:avLst>
                  <a:gd name="adj1" fmla="val 49741"/>
                  <a:gd name="adj2" fmla="val 70854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3284640" y="1490760"/>
            <a:ext cx="5311800" cy="4448160"/>
            <a:chOff x="3284640" y="1490760"/>
            <a:chExt cx="5311800" cy="4448160"/>
          </a:xfrm>
        </p:grpSpPr>
        <p:sp>
          <p:nvSpPr>
            <p:cNvPr id="322" name=""/>
            <p:cNvSpPr/>
            <p:nvPr/>
          </p:nvSpPr>
          <p:spPr>
            <a:xfrm>
              <a:off x="3284640" y="1490760"/>
              <a:ext cx="2512800" cy="44481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352680" y="1652400"/>
              <a:ext cx="5243760" cy="4197600"/>
              <a:chOff x="3352680" y="1652400"/>
              <a:chExt cx="5243760" cy="4197600"/>
            </a:xfrm>
          </p:grpSpPr>
          <p:sp>
            <p:nvSpPr>
              <p:cNvPr id="324" name=""/>
              <p:cNvSpPr/>
              <p:nvPr/>
            </p:nvSpPr>
            <p:spPr>
              <a:xfrm flipH="1" rot="16200000">
                <a:off x="2176920" y="3516840"/>
                <a:ext cx="2799000" cy="447840"/>
              </a:xfrm>
              <a:prstGeom prst="rightArrow">
                <a:avLst>
                  <a:gd name="adj1" fmla="val 49648"/>
                  <a:gd name="adj2" fmla="val 89352"/>
                </a:avLst>
              </a:prstGeom>
              <a:gradFill rotWithShape="0">
                <a:gsLst>
                  <a:gs pos="0">
                    <a:srgbClr val="d20091"/>
                  </a:gs>
                  <a:gs pos="100000">
                    <a:srgbClr val="e885ca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3886200" y="1652400"/>
                <a:ext cx="1330200" cy="3686040"/>
                <a:chOff x="3886200" y="1652400"/>
                <a:chExt cx="1330200" cy="3686040"/>
              </a:xfrm>
            </p:grpSpPr>
            <p:sp>
              <p:nvSpPr>
                <p:cNvPr id="326" name=""/>
                <p:cNvSpPr/>
                <p:nvPr/>
              </p:nvSpPr>
              <p:spPr>
                <a:xfrm rot="16200000">
                  <a:off x="4197240" y="43192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5c5c88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Pream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6200000">
                  <a:off x="4197240" y="380340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7b7ba7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6200000">
                  <a:off x="4196520" y="3288240"/>
                  <a:ext cx="70956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a4a4c2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Trans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6200000">
                  <a:off x="4197240" y="2773080"/>
                  <a:ext cx="708120" cy="1330200"/>
                </a:xfrm>
                <a:prstGeom prst="cube">
                  <a:avLst>
                    <a:gd name="adj" fmla="val 24884"/>
                  </a:avLst>
                </a:prstGeom>
                <a:solidFill>
                  <a:srgbClr val="cacadc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Appl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6200000">
                  <a:off x="3896280" y="1958040"/>
                  <a:ext cx="1309680" cy="1330200"/>
                </a:xfrm>
                <a:prstGeom prst="cube">
                  <a:avLst>
                    <a:gd name="adj" fmla="val 13222"/>
                  </a:avLst>
                </a:prstGeom>
                <a:solidFill>
                  <a:srgbClr val="ffffff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6200000">
                  <a:off x="4297320" y="1241280"/>
                  <a:ext cx="507960" cy="1330200"/>
                </a:xfrm>
                <a:prstGeom prst="cube">
                  <a:avLst>
                    <a:gd name="adj" fmla="val 34449"/>
                  </a:avLst>
                </a:prstGeom>
                <a:solidFill>
                  <a:srgbClr val="5c5c88"/>
                </a:solidFill>
                <a:ln w="126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CR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 flipH="1" flipV="1" rot="5400000">
                <a:off x="4118400" y="3516120"/>
                <a:ext cx="2799000" cy="447840"/>
              </a:xfrm>
              <a:prstGeom prst="rightArrow">
                <a:avLst>
                  <a:gd name="adj1" fmla="val 49648"/>
                  <a:gd name="adj2" fmla="val 89352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54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5900760" y="2313000"/>
                <a:ext cx="2695680" cy="611280"/>
                <a:chOff x="5900760" y="2313000"/>
                <a:chExt cx="2695680" cy="611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900760" y="2313000"/>
                  <a:ext cx="2695680" cy="611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acadc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36147" dir="135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399440" y="2451240"/>
                  <a:ext cx="907920" cy="358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FT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167520" y="2451240"/>
                  <a:ext cx="907920" cy="358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3f3f5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HTT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933720" y="5452920"/>
                <a:ext cx="1266840" cy="397080"/>
              </a:xfrm>
              <a:prstGeom prst="rightArrow">
                <a:avLst>
                  <a:gd name="adj1" fmla="val 54398"/>
                  <a:gd name="adj2" fmla="val 109138"/>
                </a:avLst>
              </a:prstGeom>
              <a:gradFill rotWithShape="0">
                <a:gsLst>
                  <a:gs pos="0">
                    <a:srgbClr val="e885ca"/>
                  </a:gs>
                  <a:gs pos="100000">
                    <a:srgbClr val="d20091"/>
                  </a:gs>
                </a:gsLst>
                <a:lin ang="10800000"/>
              </a:gradFill>
              <a:ln w="6480">
                <a:solidFill>
                  <a:srgbClr val="800080"/>
                </a:solidFill>
                <a:miter/>
              </a:ln>
              <a:effectLst>
                <a:outerShdw dist="40186" dir="4303641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私有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ublic 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ivate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保留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ivate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.0.0.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72.16.0.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5.24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92.168.0.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址耗尽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888480" y="2346480"/>
            <a:ext cx="6989760" cy="3140640"/>
            <a:chOff x="888480" y="2346480"/>
            <a:chExt cx="6989760" cy="3140640"/>
          </a:xfrm>
        </p:grpSpPr>
        <p:sp>
          <p:nvSpPr>
            <p:cNvPr id="1214" name=""/>
            <p:cNvSpPr/>
            <p:nvPr/>
          </p:nvSpPr>
          <p:spPr>
            <a:xfrm>
              <a:off x="1905120" y="2971800"/>
              <a:ext cx="228600" cy="83808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581280"/>
              <a:ext cx="203400" cy="406440"/>
            </a:xfrm>
            <a:custGeom>
              <a:avLst/>
              <a:gdLst/>
              <a:ahLst/>
              <a:rect l="l" t="t" r="r" b="b"/>
              <a:pathLst>
                <a:path w="255" h="511">
                  <a:moveTo>
                    <a:pt x="239" y="0"/>
                  </a:moveTo>
                  <a:lnTo>
                    <a:pt x="255" y="511"/>
                  </a:lnTo>
                  <a:lnTo>
                    <a:pt x="0" y="67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ff0000"/>
            </a:solidFill>
            <a:ln w="61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88480" y="2346480"/>
              <a:ext cx="1017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e"/>
                  </a:solidFill>
                  <a:latin typeface="Times New Roman"/>
                </a:rPr>
                <a:t>IPV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13320" y="4191120"/>
              <a:ext cx="13932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IP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地址耗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宋体"/>
                </a:rPr>
                <a:t>路由表的增长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3429000" y="3352680"/>
              <a:ext cx="839880" cy="609840"/>
            </a:xfrm>
            <a:prstGeom prst="line">
              <a:avLst/>
            </a:prstGeom>
            <a:ln w="6192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82960" y="3352680"/>
              <a:ext cx="384120" cy="300240"/>
            </a:xfrm>
            <a:custGeom>
              <a:avLst/>
              <a:gdLst/>
              <a:ahLst/>
              <a:rect l="l" t="t" r="r" b="b"/>
              <a:pathLst>
                <a:path w="484" h="379">
                  <a:moveTo>
                    <a:pt x="0" y="172"/>
                  </a:moveTo>
                  <a:lnTo>
                    <a:pt x="484" y="0"/>
                  </a:lnTo>
                  <a:lnTo>
                    <a:pt x="138" y="379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9800"/>
            </a:solidFill>
            <a:ln w="61920">
              <a:solidFill>
                <a:srgbClr val="0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59800" y="2562120"/>
              <a:ext cx="2818440" cy="29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Subneting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子网划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VLSM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变长子网掩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CIDR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无类别域间路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Private I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私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PV6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最终方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协议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ProtocolSuite" descr=""/>
          <p:cNvPicPr/>
          <p:nvPr/>
        </p:nvPicPr>
        <p:blipFill>
          <a:blip r:embed="rId1"/>
          <a:stretch/>
        </p:blipFill>
        <p:spPr>
          <a:xfrm>
            <a:off x="3316320" y="2017800"/>
            <a:ext cx="499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TCP/I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体系结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1" name="ProtocolSuite" descr=""/>
          <p:cNvPicPr/>
          <p:nvPr/>
        </p:nvPicPr>
        <p:blipFill>
          <a:blip r:embed="rId1"/>
          <a:stretch/>
        </p:blipFill>
        <p:spPr>
          <a:xfrm>
            <a:off x="3316320" y="2017800"/>
            <a:ext cx="49989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066680" y="2743200"/>
            <a:ext cx="1981440" cy="3276720"/>
            <a:chOff x="1066680" y="2743200"/>
            <a:chExt cx="1981440" cy="3276720"/>
          </a:xfrm>
        </p:grpSpPr>
        <p:sp>
          <p:nvSpPr>
            <p:cNvPr id="343" name=""/>
            <p:cNvSpPr/>
            <p:nvPr/>
          </p:nvSpPr>
          <p:spPr>
            <a:xfrm>
              <a:off x="1066680" y="2743200"/>
              <a:ext cx="1981440" cy="55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6680" y="3505320"/>
              <a:ext cx="1981440" cy="628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6680" y="4324320"/>
              <a:ext cx="1981440" cy="628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6680" y="5181480"/>
              <a:ext cx="1981440" cy="838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Host to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3:01:20Z</dcterms:created>
  <dc:creator>ccn</dc:creator>
  <dc:description/>
  <dc:language>en-US</dc:language>
  <cp:lastModifiedBy>软件仓库</cp:lastModifiedBy>
  <dcterms:modified xsi:type="dcterms:W3CDTF">2005-05-17T02:43:41Z</dcterms:modified>
  <cp:revision>78</cp:revision>
  <dc:subject/>
  <dc:title>TCP/IP的应用层</dc:title>
</cp:coreProperties>
</file>