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63D-C4C3-4575-AABB-1DD4321F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7BCE-AF32-4D3A-81FD-EEC7A0BB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83D-65A1-41AC-8857-19367577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79E-A4CB-4C31-9E3E-C4DAA5A6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3F67-4F97-478E-8A45-D6F75D4B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F808-5B23-4254-9279-F677195D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FC77-AEA7-411F-BBC5-038D423A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FF8E-F875-4E71-BC56-28447084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F938-6954-4DDD-9C03-614EF47C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4FDE-F287-4B58-B5B6-6D7AA923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A80D-BDC2-4A48-9867-76B61009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F48-759B-402E-94D2-1B0AC72B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3685-A1DF-4E35-A294-6AD984DE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059B-5236-4CF2-8292-CC0BB3FC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FD2E-0CFC-486F-A86D-464B1412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7D72-C5BB-4DB5-AEB7-9D0AA23B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5367-D6C8-4E4F-8121-B9C2D762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C1E-AE79-4670-8715-B4F882C5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3360-3A85-47FD-B916-24DB9E2F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49CA-55F4-46F1-A5BA-7710988F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49A-50DF-4DD5-9546-2AA3B18D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276F-9840-4172-9F61-92AA9166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1BA-13AA-42B8-A402-71D1B2CE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1C5-CB3D-4920-A592-0328F7E3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785F-8DBE-4A11-B742-1D939ED4317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F51D-4E08-4317-BB16-AEF9EB2DAAE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备份中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4076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国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I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认证实验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R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RTA(config-if-Serial0)#</a:t>
            </a:r>
            <a:r>
              <a:rPr b="1" lang="zh-CN" sz="2000" spc="-1" strike="noStrike">
                <a:solidFill>
                  <a:srgbClr val="000000"/>
                </a:solidFill>
                <a:latin typeface="Courier New"/>
              </a:rPr>
              <a:t>backup interface serial</a:t>
            </a: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RTA(config-if-Serial0)#backup delay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&lt;0-65535&gt;seconds  Enable delay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RTA(config-if-Serial0)#backup delay 10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&lt;0-65535&gt;seconds  Disable delay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RTA(config-if-Serial0)#</a:t>
            </a:r>
            <a:r>
              <a:rPr b="1" lang="zh-CN" sz="2000" spc="-1" strike="noStrike">
                <a:solidFill>
                  <a:srgbClr val="000000"/>
                </a:solidFill>
                <a:latin typeface="Courier New"/>
              </a:rPr>
              <a:t>backup delay 10 10</a:t>
            </a: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RTA(config)#router r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RTA(config-router-rip)#neighbor 2.2.2.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RTA(config-router-rip)#neighbor 10.10.10.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RT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RTB(config-if-Serial0)#</a:t>
            </a:r>
            <a:r>
              <a:rPr b="1" lang="zh-CN" sz="2000" spc="-1" strike="noStrike">
                <a:solidFill>
                  <a:srgbClr val="000000"/>
                </a:solidFill>
                <a:latin typeface="Courier New"/>
              </a:rPr>
              <a:t>back interface serial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RTB(config-if-Serial0)#backup delay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&lt;0-65535&gt;seconds  Enable delay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RTB(config-if-Serial0)#backup delay 10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&lt;0-65535&gt;seconds  Disable delay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RTB(config-if-Serial0)#</a:t>
            </a:r>
            <a:r>
              <a:rPr b="1" lang="zh-CN" sz="2000" spc="-1" strike="noStrike">
                <a:solidFill>
                  <a:srgbClr val="000000"/>
                </a:solidFill>
                <a:latin typeface="Courier New"/>
              </a:rPr>
              <a:t>backup delay 10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RTB(config)#router r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RTB(config-router-rip)#neighbor 2.2.2.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RTB(config-router-rip)#neighbor 10.10.10.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228600" y="1981080"/>
            <a:ext cx="8915040" cy="3701880"/>
            <a:chOff x="228600" y="1981080"/>
            <a:chExt cx="8915040" cy="3701880"/>
          </a:xfrm>
        </p:grpSpPr>
        <p:sp>
          <p:nvSpPr>
            <p:cNvPr id="182" name=""/>
            <p:cNvSpPr/>
            <p:nvPr/>
          </p:nvSpPr>
          <p:spPr>
            <a:xfrm>
              <a:off x="6688440" y="4671000"/>
              <a:ext cx="783000" cy="62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90440" y="3614040"/>
              <a:ext cx="4893840" cy="82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62760" y="2786040"/>
              <a:ext cx="783000" cy="62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15760" y="2786040"/>
              <a:ext cx="783000" cy="62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079760" y="3614040"/>
              <a:ext cx="97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815760" y="3614040"/>
              <a:ext cx="137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81760" y="2786040"/>
              <a:ext cx="783000" cy="62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05440" y="2786040"/>
              <a:ext cx="783000" cy="62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98760" y="2787480"/>
              <a:ext cx="78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8440" y="2787480"/>
              <a:ext cx="103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T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6688440" y="3407040"/>
              <a:ext cx="738360" cy="496440"/>
              <a:chOff x="6688440" y="3407040"/>
              <a:chExt cx="738360" cy="496440"/>
            </a:xfrm>
          </p:grpSpPr>
          <p:sp>
            <p:nvSpPr>
              <p:cNvPr id="193" name=""/>
              <p:cNvSpPr/>
              <p:nvPr/>
            </p:nvSpPr>
            <p:spPr>
              <a:xfrm>
                <a:off x="6688440" y="3407040"/>
                <a:ext cx="735120" cy="27288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6688440" y="3438720"/>
                <a:ext cx="738360" cy="464760"/>
                <a:chOff x="6688440" y="3438720"/>
                <a:chExt cx="738360" cy="464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6688440" y="3544560"/>
                  <a:ext cx="738360" cy="358920"/>
                </a:xfrm>
                <a:custGeom>
                  <a:avLst/>
                  <a:gdLst/>
                  <a:ahLst/>
                  <a:rect l="l" t="t" r="r" b="b"/>
                  <a:pathLst>
                    <a:path w="303" h="137">
                      <a:moveTo>
                        <a:pt x="302" y="80"/>
                      </a:moveTo>
                      <a:cubicBezTo>
                        <a:pt x="302" y="81"/>
                        <a:pt x="302" y="81"/>
                        <a:pt x="301" y="82"/>
                      </a:cubicBezTo>
                      <a:cubicBezTo>
                        <a:pt x="302" y="83"/>
                        <a:pt x="302" y="85"/>
                        <a:pt x="302" y="86"/>
                      </a:cubicBezTo>
                      <a:cubicBezTo>
                        <a:pt x="302" y="114"/>
                        <a:pt x="234" y="137"/>
                        <a:pt x="152" y="137"/>
                      </a:cubicBezTo>
                      <a:cubicBezTo>
                        <a:pt x="68" y="137"/>
                        <a:pt x="0" y="114"/>
                        <a:pt x="0" y="86"/>
                      </a:cubicBezTo>
                      <a:cubicBezTo>
                        <a:pt x="0" y="85"/>
                        <a:pt x="0" y="83"/>
                        <a:pt x="1" y="82"/>
                      </a:cubicBezTo>
                      <a:cubicBezTo>
                        <a:pt x="0" y="81"/>
                        <a:pt x="0" y="81"/>
                        <a:pt x="0" y="80"/>
                      </a:cubicBezTo>
                      <a:lnTo>
                        <a:pt x="0" y="0"/>
                      </a:lnTo>
                      <a:lnTo>
                        <a:pt x="302" y="0"/>
                      </a:lnTo>
                      <a:lnTo>
                        <a:pt x="302" y="77"/>
                      </a:lnTo>
                      <a:cubicBezTo>
                        <a:pt x="303" y="78"/>
                        <a:pt x="302" y="79"/>
                        <a:pt x="302" y="80"/>
                      </a:cubicBezTo>
                    </a:path>
                  </a:pathLst>
                </a:custGeom>
                <a:solidFill>
                  <a:srgbClr val="9182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6803280" y="3438720"/>
                  <a:ext cx="506520" cy="206640"/>
                  <a:chOff x="6803280" y="3438720"/>
                  <a:chExt cx="506520" cy="20664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7065720" y="3444120"/>
                    <a:ext cx="240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9" y="18"/>
                        </a:lnTo>
                        <a:lnTo>
                          <a:pt x="86" y="0"/>
                        </a:lnTo>
                        <a:lnTo>
                          <a:pt x="24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065720" y="3444120"/>
                    <a:ext cx="240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9" y="18"/>
                        </a:lnTo>
                        <a:lnTo>
                          <a:pt x="86" y="0"/>
                        </a:lnTo>
                        <a:lnTo>
                          <a:pt x="24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803280" y="3543120"/>
                    <a:ext cx="24084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6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8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6803280" y="3543120"/>
                    <a:ext cx="24084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6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8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815520" y="3438720"/>
                    <a:ext cx="240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5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815520" y="3438720"/>
                    <a:ext cx="240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5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056360" y="3553920"/>
                    <a:ext cx="240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50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056360" y="3553920"/>
                    <a:ext cx="240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50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7070760" y="3449520"/>
                    <a:ext cx="2390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8" y="18"/>
                        </a:lnTo>
                        <a:lnTo>
                          <a:pt x="86" y="0"/>
                        </a:lnTo>
                        <a:lnTo>
                          <a:pt x="23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070760" y="3449520"/>
                    <a:ext cx="2390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8" y="18"/>
                        </a:lnTo>
                        <a:lnTo>
                          <a:pt x="86" y="0"/>
                        </a:lnTo>
                        <a:lnTo>
                          <a:pt x="23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807960" y="3548520"/>
                    <a:ext cx="24084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5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7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807960" y="3548520"/>
                    <a:ext cx="24084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5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7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820200" y="3444120"/>
                    <a:ext cx="240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4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820200" y="3444120"/>
                    <a:ext cx="240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4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061400" y="3559680"/>
                    <a:ext cx="240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49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061400" y="3559680"/>
                    <a:ext cx="240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49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3" name=""/>
            <p:cNvGrpSpPr/>
            <p:nvPr/>
          </p:nvGrpSpPr>
          <p:grpSpPr>
            <a:xfrm>
              <a:off x="1598760" y="3407040"/>
              <a:ext cx="738360" cy="496800"/>
              <a:chOff x="1598760" y="3407040"/>
              <a:chExt cx="738360" cy="49680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1598760" y="3407040"/>
                <a:ext cx="738360" cy="496800"/>
                <a:chOff x="1598760" y="3407040"/>
                <a:chExt cx="738360" cy="4968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1598760" y="3544920"/>
                  <a:ext cx="738360" cy="358920"/>
                </a:xfrm>
                <a:custGeom>
                  <a:avLst/>
                  <a:gdLst/>
                  <a:ahLst/>
                  <a:rect l="l" t="t" r="r" b="b"/>
                  <a:pathLst>
                    <a:path w="303" h="137">
                      <a:moveTo>
                        <a:pt x="302" y="80"/>
                      </a:moveTo>
                      <a:cubicBezTo>
                        <a:pt x="302" y="81"/>
                        <a:pt x="302" y="81"/>
                        <a:pt x="301" y="82"/>
                      </a:cubicBezTo>
                      <a:cubicBezTo>
                        <a:pt x="302" y="83"/>
                        <a:pt x="302" y="85"/>
                        <a:pt x="302" y="86"/>
                      </a:cubicBezTo>
                      <a:cubicBezTo>
                        <a:pt x="302" y="114"/>
                        <a:pt x="234" y="137"/>
                        <a:pt x="152" y="137"/>
                      </a:cubicBezTo>
                      <a:cubicBezTo>
                        <a:pt x="68" y="137"/>
                        <a:pt x="0" y="114"/>
                        <a:pt x="0" y="86"/>
                      </a:cubicBezTo>
                      <a:cubicBezTo>
                        <a:pt x="0" y="85"/>
                        <a:pt x="0" y="83"/>
                        <a:pt x="1" y="82"/>
                      </a:cubicBezTo>
                      <a:cubicBezTo>
                        <a:pt x="0" y="81"/>
                        <a:pt x="0" y="81"/>
                        <a:pt x="0" y="80"/>
                      </a:cubicBezTo>
                      <a:lnTo>
                        <a:pt x="0" y="0"/>
                      </a:lnTo>
                      <a:lnTo>
                        <a:pt x="302" y="0"/>
                      </a:lnTo>
                      <a:lnTo>
                        <a:pt x="302" y="77"/>
                      </a:lnTo>
                      <a:cubicBezTo>
                        <a:pt x="303" y="78"/>
                        <a:pt x="302" y="79"/>
                        <a:pt x="302" y="80"/>
                      </a:cubicBezTo>
                    </a:path>
                  </a:pathLst>
                </a:custGeom>
                <a:solidFill>
                  <a:srgbClr val="9182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598760" y="3407040"/>
                  <a:ext cx="735120" cy="273240"/>
                </a:xfrm>
                <a:custGeom>
                  <a:avLst/>
                  <a:gdLst/>
                  <a:ahLst/>
                  <a:rect l="l" t="t" r="r" b="b"/>
                  <a:pathLst>
                    <a:path w="302" h="104">
                      <a:moveTo>
                        <a:pt x="302" y="53"/>
                      </a:moveTo>
                      <a:cubicBezTo>
                        <a:pt x="302" y="81"/>
                        <a:pt x="234" y="104"/>
                        <a:pt x="152" y="104"/>
                      </a:cubicBezTo>
                      <a:cubicBezTo>
                        <a:pt x="68" y="104"/>
                        <a:pt x="0" y="81"/>
                        <a:pt x="0" y="53"/>
                      </a:cubicBezTo>
                      <a:cubicBezTo>
                        <a:pt x="0" y="24"/>
                        <a:pt x="68" y="0"/>
                        <a:pt x="152" y="0"/>
                      </a:cubicBezTo>
                      <a:cubicBezTo>
                        <a:pt x="234" y="0"/>
                        <a:pt x="302" y="24"/>
                        <a:pt x="302" y="53"/>
                      </a:cubicBezTo>
                    </a:path>
                  </a:pathLst>
                </a:custGeom>
                <a:solidFill>
                  <a:srgbClr val="bcb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1713600" y="3438720"/>
                <a:ext cx="506520" cy="206640"/>
                <a:chOff x="1713600" y="3438720"/>
                <a:chExt cx="506520" cy="2066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1976040" y="3444120"/>
                  <a:ext cx="240840" cy="8568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976040" y="3444120"/>
                  <a:ext cx="240840" cy="8568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713600" y="3543120"/>
                  <a:ext cx="240840" cy="910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713600" y="3543120"/>
                  <a:ext cx="240840" cy="910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725840" y="3438720"/>
                  <a:ext cx="240840" cy="8568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725840" y="3438720"/>
                  <a:ext cx="240840" cy="8568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966680" y="3553920"/>
                  <a:ext cx="240840" cy="8568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966680" y="3553920"/>
                  <a:ext cx="240840" cy="8568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981080" y="3449520"/>
                  <a:ext cx="239040" cy="8568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981080" y="3449520"/>
                  <a:ext cx="239040" cy="8568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718280" y="3548520"/>
                  <a:ext cx="240840" cy="910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718280" y="3548520"/>
                  <a:ext cx="240840" cy="910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730520" y="3444120"/>
                  <a:ext cx="240840" cy="8568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730520" y="3444120"/>
                  <a:ext cx="240840" cy="8568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971720" y="3559680"/>
                  <a:ext cx="240840" cy="8568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971720" y="3559680"/>
                  <a:ext cx="240840" cy="8568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" name=""/>
            <p:cNvSpPr/>
            <p:nvPr/>
          </p:nvSpPr>
          <p:spPr>
            <a:xfrm>
              <a:off x="4143600" y="2993040"/>
              <a:ext cx="978480" cy="62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.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3822120"/>
              <a:ext cx="147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</a:rPr>
                <a:t>1.1.1.1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68000" y="3822120"/>
              <a:ext cx="147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</a:rPr>
                <a:t>3.3.3.2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94600" y="4648320"/>
              <a:ext cx="783000" cy="62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43600" y="4648320"/>
              <a:ext cx="978480" cy="62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94600" y="5062320"/>
              <a:ext cx="1761840" cy="62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</a:rPr>
                <a:t>10.10.10.1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22440" y="5062320"/>
              <a:ext cx="1761840" cy="62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</a:rPr>
                <a:t>10.10.10.2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79760" y="1981080"/>
              <a:ext cx="147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</a:rPr>
                <a:t>2.2.2.1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30760" y="1981080"/>
              <a:ext cx="14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</a:rPr>
                <a:t>2.2.2.2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urier New"/>
              </a:rPr>
              <a:t>R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TA(config-if-Serial0)#x25 map ip 2.2.2.1 46082110111045 </a:t>
            </a:r>
            <a:r>
              <a:rPr b="1" lang="zh-CN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in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TA(config-if-Serial0)#</a:t>
            </a:r>
            <a:r>
              <a:rPr b="1" lang="zh-CN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ogic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TA(config-logic-channel10)#</a:t>
            </a:r>
            <a:r>
              <a:rPr b="1" lang="zh-CN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up interface serial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TA(config)#router r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TA(config-router-rip)#neighbor 2.2.2.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TA(config-router-rip)#neighbor 10.10.10.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urier New"/>
              </a:rPr>
              <a:t>RT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TB(config-if-Serial0)#x25 map ip 2.2.2.1 46082100111023 </a:t>
            </a:r>
            <a:r>
              <a:rPr b="1" lang="zh-CN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in 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TB(config-if-Serial0)#</a:t>
            </a:r>
            <a:r>
              <a:rPr b="1" lang="zh-CN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ogic 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TB(config-logic-channel20)#</a:t>
            </a:r>
            <a:r>
              <a:rPr b="1" lang="zh-CN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up interface serial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TB(config)#ip route 1.1.1.1 255.0.0.0 2.2.2.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TB(config)#ip route 1.1.1.1 255.0.0.0 10.10.10.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TB(config)#router r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TB(config-router-rip)#neighbor 2.2.2.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TB(config-router-rip)#neighbor 10.10.10.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本章的重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理解备份中心的概念，工作原理（切换过程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知道哪些接口可以参与备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熟练掌握配置命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什么是备份中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Quidway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路由器中管理备份功能的模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思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备份中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优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提高网络的可靠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可用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备份中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ahoma"/>
              </a:rPr>
              <a:t>任何接口都可以作为备份接口（拨号口特殊）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ahoma"/>
              </a:rPr>
              <a:t>任何接口都可以作为主接口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ahoma"/>
              </a:rPr>
              <a:t>对一个主接口，可以为它提供多个备份接口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配置备份中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任务列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进入使用备份功能的主接口的配置模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选择用什么接口作为备份接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设定判断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own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u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条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如果有多个备份接口，设定优先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进入主接口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主接口是物理接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nterface interface-type interface-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主接口是逻辑接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X25 map protocol address x.121-address [lin logic-channel-number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Logic-channel logic-channel-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主备份接口切换时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当主备份接口为物理接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Backup delay{enable-delay|never}{disable-delay|never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主备份接口切换时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主接口为逻辑接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判断主逻辑口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own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条件，呼叫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number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次仍未成功，则认为主接口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own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backup state-down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当主接口切换到备份接口后，为了判断其是否恢复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u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设定时间间隔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tim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以定时检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backup state-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09480" y="2057400"/>
            <a:ext cx="8534520" cy="3580920"/>
            <a:chOff x="609480" y="2057400"/>
            <a:chExt cx="8534520" cy="3580920"/>
          </a:xfrm>
        </p:grpSpPr>
        <p:sp>
          <p:nvSpPr>
            <p:cNvPr id="116" name=""/>
            <p:cNvSpPr/>
            <p:nvPr/>
          </p:nvSpPr>
          <p:spPr>
            <a:xfrm>
              <a:off x="2484360" y="2057400"/>
              <a:ext cx="141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</a:rPr>
                <a:t>2.2.2.1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3080" y="2057400"/>
              <a:ext cx="131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</a:rPr>
                <a:t>2.2.2.2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95720" y="3531960"/>
              <a:ext cx="4684680" cy="84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17840" y="2689200"/>
              <a:ext cx="749520" cy="63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71800" y="2689200"/>
              <a:ext cx="749520" cy="63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168320" y="35319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171440" y="3531960"/>
              <a:ext cx="131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70840" y="2689200"/>
              <a:ext cx="749520" cy="63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43680" y="2689200"/>
              <a:ext cx="749520" cy="63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21320" y="2689200"/>
              <a:ext cx="74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96440" y="2689200"/>
              <a:ext cx="98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T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793200" y="3321360"/>
              <a:ext cx="706680" cy="506160"/>
              <a:chOff x="6793200" y="3321360"/>
              <a:chExt cx="706680" cy="506160"/>
            </a:xfrm>
          </p:grpSpPr>
          <p:sp>
            <p:nvSpPr>
              <p:cNvPr id="128" name=""/>
              <p:cNvSpPr/>
              <p:nvPr/>
            </p:nvSpPr>
            <p:spPr>
              <a:xfrm>
                <a:off x="6793200" y="3321360"/>
                <a:ext cx="703440" cy="27756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6793200" y="3353760"/>
                <a:ext cx="706680" cy="473760"/>
                <a:chOff x="6793200" y="3353760"/>
                <a:chExt cx="706680" cy="4737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6793200" y="3461760"/>
                  <a:ext cx="706680" cy="365760"/>
                </a:xfrm>
                <a:custGeom>
                  <a:avLst/>
                  <a:gdLst/>
                  <a:ahLst/>
                  <a:rect l="l" t="t" r="r" b="b"/>
                  <a:pathLst>
                    <a:path w="303" h="137">
                      <a:moveTo>
                        <a:pt x="302" y="80"/>
                      </a:moveTo>
                      <a:cubicBezTo>
                        <a:pt x="302" y="81"/>
                        <a:pt x="302" y="81"/>
                        <a:pt x="301" y="82"/>
                      </a:cubicBezTo>
                      <a:cubicBezTo>
                        <a:pt x="302" y="83"/>
                        <a:pt x="302" y="85"/>
                        <a:pt x="302" y="86"/>
                      </a:cubicBezTo>
                      <a:cubicBezTo>
                        <a:pt x="302" y="114"/>
                        <a:pt x="234" y="137"/>
                        <a:pt x="152" y="137"/>
                      </a:cubicBezTo>
                      <a:cubicBezTo>
                        <a:pt x="68" y="137"/>
                        <a:pt x="0" y="114"/>
                        <a:pt x="0" y="86"/>
                      </a:cubicBezTo>
                      <a:cubicBezTo>
                        <a:pt x="0" y="85"/>
                        <a:pt x="0" y="83"/>
                        <a:pt x="1" y="82"/>
                      </a:cubicBezTo>
                      <a:cubicBezTo>
                        <a:pt x="0" y="81"/>
                        <a:pt x="0" y="81"/>
                        <a:pt x="0" y="80"/>
                      </a:cubicBezTo>
                      <a:lnTo>
                        <a:pt x="0" y="0"/>
                      </a:lnTo>
                      <a:lnTo>
                        <a:pt x="302" y="0"/>
                      </a:lnTo>
                      <a:lnTo>
                        <a:pt x="302" y="77"/>
                      </a:lnTo>
                      <a:cubicBezTo>
                        <a:pt x="303" y="78"/>
                        <a:pt x="302" y="79"/>
                        <a:pt x="302" y="80"/>
                      </a:cubicBezTo>
                    </a:path>
                  </a:pathLst>
                </a:custGeom>
                <a:solidFill>
                  <a:srgbClr val="9182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" name=""/>
                <p:cNvGrpSpPr/>
                <p:nvPr/>
              </p:nvGrpSpPr>
              <p:grpSpPr>
                <a:xfrm>
                  <a:off x="6903360" y="3353760"/>
                  <a:ext cx="484920" cy="210240"/>
                  <a:chOff x="6903360" y="3353760"/>
                  <a:chExt cx="484920" cy="21024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7154640" y="3359160"/>
                    <a:ext cx="2307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9" y="18"/>
                        </a:lnTo>
                        <a:lnTo>
                          <a:pt x="86" y="0"/>
                        </a:lnTo>
                        <a:lnTo>
                          <a:pt x="24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154640" y="3359160"/>
                    <a:ext cx="2307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9" y="18"/>
                        </a:lnTo>
                        <a:lnTo>
                          <a:pt x="86" y="0"/>
                        </a:lnTo>
                        <a:lnTo>
                          <a:pt x="24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6903360" y="3459960"/>
                    <a:ext cx="23040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6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8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6903360" y="3459960"/>
                    <a:ext cx="23040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6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8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6914880" y="3353760"/>
                    <a:ext cx="2304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5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6914880" y="3353760"/>
                    <a:ext cx="2304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5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7145640" y="3471120"/>
                    <a:ext cx="2304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50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7145640" y="3471120"/>
                    <a:ext cx="2304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50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7159320" y="3364920"/>
                    <a:ext cx="2289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8" y="18"/>
                        </a:lnTo>
                        <a:lnTo>
                          <a:pt x="86" y="0"/>
                        </a:lnTo>
                        <a:lnTo>
                          <a:pt x="23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7159320" y="3364920"/>
                    <a:ext cx="2289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8" y="18"/>
                        </a:lnTo>
                        <a:lnTo>
                          <a:pt x="86" y="0"/>
                        </a:lnTo>
                        <a:lnTo>
                          <a:pt x="23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6908040" y="3465360"/>
                    <a:ext cx="23040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5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7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6908040" y="3465360"/>
                    <a:ext cx="23040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5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7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6919560" y="3359160"/>
                    <a:ext cx="2307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4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6919560" y="3359160"/>
                    <a:ext cx="2307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4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7150680" y="3476880"/>
                    <a:ext cx="2304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49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7150680" y="3476880"/>
                    <a:ext cx="2304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49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8" name=""/>
            <p:cNvGrpSpPr/>
            <p:nvPr/>
          </p:nvGrpSpPr>
          <p:grpSpPr>
            <a:xfrm>
              <a:off x="1921320" y="3321360"/>
              <a:ext cx="706680" cy="505800"/>
              <a:chOff x="1921320" y="3321360"/>
              <a:chExt cx="706680" cy="5058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1921320" y="3321360"/>
                <a:ext cx="706680" cy="505800"/>
                <a:chOff x="1921320" y="3321360"/>
                <a:chExt cx="706680" cy="5058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921320" y="3461760"/>
                  <a:ext cx="706680" cy="365400"/>
                </a:xfrm>
                <a:custGeom>
                  <a:avLst/>
                  <a:gdLst/>
                  <a:ahLst/>
                  <a:rect l="l" t="t" r="r" b="b"/>
                  <a:pathLst>
                    <a:path w="303" h="137">
                      <a:moveTo>
                        <a:pt x="302" y="80"/>
                      </a:moveTo>
                      <a:cubicBezTo>
                        <a:pt x="302" y="81"/>
                        <a:pt x="302" y="81"/>
                        <a:pt x="301" y="82"/>
                      </a:cubicBezTo>
                      <a:cubicBezTo>
                        <a:pt x="302" y="83"/>
                        <a:pt x="302" y="85"/>
                        <a:pt x="302" y="86"/>
                      </a:cubicBezTo>
                      <a:cubicBezTo>
                        <a:pt x="302" y="114"/>
                        <a:pt x="234" y="137"/>
                        <a:pt x="152" y="137"/>
                      </a:cubicBezTo>
                      <a:cubicBezTo>
                        <a:pt x="68" y="137"/>
                        <a:pt x="0" y="114"/>
                        <a:pt x="0" y="86"/>
                      </a:cubicBezTo>
                      <a:cubicBezTo>
                        <a:pt x="0" y="85"/>
                        <a:pt x="0" y="83"/>
                        <a:pt x="1" y="82"/>
                      </a:cubicBezTo>
                      <a:cubicBezTo>
                        <a:pt x="0" y="81"/>
                        <a:pt x="0" y="81"/>
                        <a:pt x="0" y="80"/>
                      </a:cubicBezTo>
                      <a:lnTo>
                        <a:pt x="0" y="0"/>
                      </a:lnTo>
                      <a:lnTo>
                        <a:pt x="302" y="0"/>
                      </a:lnTo>
                      <a:lnTo>
                        <a:pt x="302" y="77"/>
                      </a:lnTo>
                      <a:cubicBezTo>
                        <a:pt x="303" y="78"/>
                        <a:pt x="302" y="79"/>
                        <a:pt x="302" y="80"/>
                      </a:cubicBezTo>
                    </a:path>
                  </a:pathLst>
                </a:custGeom>
                <a:solidFill>
                  <a:srgbClr val="9182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21320" y="3321360"/>
                  <a:ext cx="703440" cy="277920"/>
                </a:xfrm>
                <a:custGeom>
                  <a:avLst/>
                  <a:gdLst/>
                  <a:ahLst/>
                  <a:rect l="l" t="t" r="r" b="b"/>
                  <a:pathLst>
                    <a:path w="302" h="104">
                      <a:moveTo>
                        <a:pt x="302" y="53"/>
                      </a:moveTo>
                      <a:cubicBezTo>
                        <a:pt x="302" y="81"/>
                        <a:pt x="234" y="104"/>
                        <a:pt x="152" y="104"/>
                      </a:cubicBezTo>
                      <a:cubicBezTo>
                        <a:pt x="68" y="104"/>
                        <a:pt x="0" y="81"/>
                        <a:pt x="0" y="53"/>
                      </a:cubicBezTo>
                      <a:cubicBezTo>
                        <a:pt x="0" y="24"/>
                        <a:pt x="68" y="0"/>
                        <a:pt x="152" y="0"/>
                      </a:cubicBezTo>
                      <a:cubicBezTo>
                        <a:pt x="234" y="0"/>
                        <a:pt x="302" y="24"/>
                        <a:pt x="302" y="53"/>
                      </a:cubicBezTo>
                    </a:path>
                  </a:pathLst>
                </a:custGeom>
                <a:solidFill>
                  <a:srgbClr val="bcb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031480" y="3353760"/>
                <a:ext cx="484920" cy="210240"/>
                <a:chOff x="2031480" y="3353760"/>
                <a:chExt cx="484920" cy="2102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282760" y="3359160"/>
                  <a:ext cx="230760" cy="871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282760" y="3359160"/>
                  <a:ext cx="230760" cy="871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031480" y="3459960"/>
                  <a:ext cx="230400" cy="92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031480" y="3459960"/>
                  <a:ext cx="230400" cy="92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043000" y="3353760"/>
                  <a:ext cx="230400" cy="871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043000" y="3353760"/>
                  <a:ext cx="230400" cy="871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273760" y="3471120"/>
                  <a:ext cx="230400" cy="871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273760" y="3471120"/>
                  <a:ext cx="230400" cy="871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287440" y="3364920"/>
                  <a:ext cx="228960" cy="8712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287440" y="3364920"/>
                  <a:ext cx="228960" cy="8712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036160" y="3465360"/>
                  <a:ext cx="230400" cy="92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036160" y="3465360"/>
                  <a:ext cx="230400" cy="9288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047680" y="3359160"/>
                  <a:ext cx="230760" cy="871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047680" y="3359160"/>
                  <a:ext cx="230760" cy="871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278800" y="3476880"/>
                  <a:ext cx="230400" cy="871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278800" y="3476880"/>
                  <a:ext cx="230400" cy="8712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>
              <a:off x="4357080" y="2899800"/>
              <a:ext cx="936720" cy="63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480" y="3741120"/>
              <a:ext cx="141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</a:rPr>
                <a:t>1.1.1.1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31360" y="3741120"/>
              <a:ext cx="141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</a:rPr>
                <a:t>3.3.3.2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08520" y="4584960"/>
              <a:ext cx="749520" cy="63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18440" y="4584960"/>
              <a:ext cx="749520" cy="63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57080" y="4584960"/>
              <a:ext cx="936720" cy="63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08520" y="5006520"/>
              <a:ext cx="1686240" cy="63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</a:rPr>
                <a:t>10.10.10.1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94160" y="5006520"/>
              <a:ext cx="1686240" cy="63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</a:rPr>
                <a:t>10.10.10.2/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5:32:54Z</dcterms:created>
  <dc:creator>ccn</dc:creator>
  <dc:description/>
  <dc:language>en-US</dc:language>
  <cp:lastModifiedBy>软件仓库</cp:lastModifiedBy>
  <dcterms:modified xsi:type="dcterms:W3CDTF">2005-05-17T02:43:54Z</dcterms:modified>
  <cp:revision>10</cp:revision>
  <dc:subject/>
  <dc:title>备份中心</dc:title>
</cp:coreProperties>
</file>