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AB1B-BFF5-4848-847F-32A671C3E7D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英国华裔科学家高锟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96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月提出，制造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db/km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损耗的光纤是可能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目前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0.14 db/km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已接近石英光纤的理论值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0.1 db/km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氟化物光纤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2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db/km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金属卤化物光纤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zh-CN" sz="1200" spc="-1" strike="noStrike" baseline="30000">
                <a:solidFill>
                  <a:srgbClr val="000000"/>
                </a:solidFill>
                <a:latin typeface="Times New Roman"/>
              </a:rPr>
              <a:t>–2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 10 </a:t>
            </a:r>
            <a:r>
              <a:rPr b="0" lang="zh-CN" sz="1200" spc="-1" strike="noStrike" baseline="30000">
                <a:solidFill>
                  <a:srgbClr val="000000"/>
                </a:solidFill>
                <a:latin typeface="Times New Roman"/>
              </a:rPr>
              <a:t>–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db/km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继达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万公里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RJ4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线路，电气物理特性符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G.70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建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ECD1-D28B-4361-9D94-73F10198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7A3D-EF8B-4B73-859A-4D46E4B2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1383-F0C3-43E3-89BD-298E17C3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141-27B3-4D28-BFCC-2A87FC8E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06AC-2CA3-46B0-B910-3D46C0BC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3A1D-4248-4945-B895-276BA83D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C7BF-A996-4185-9C2D-F7EEA1B8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C28A-8856-47D9-99E8-046918BD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935C-18D7-4558-998B-2345F26E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EB04-0C32-445B-B326-D0775A67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2118-124F-400C-9DAE-7126400F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81B-F963-41B5-9EDF-9C01CB45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DC89-F071-4F8F-ABC7-4F994407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4A65-3971-4C05-AEA8-68784D2B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F54A-26EC-46E3-8694-C98F5F47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75D4-5467-4B3E-AFF0-68643A5F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659D-6361-455F-B597-C9C23CF4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F40-78B5-4915-B7A7-FA63F890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16E-BB42-4B32-8FFC-3F291B53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17D-D178-499B-88B6-BCD9AA2D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2BF-DD5E-47FA-A91C-28C9C04A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253-2B1F-463B-A56B-6D6A8B4F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569-C58D-4740-AC22-CCB4296B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296-3A9B-407E-874F-F26B1FE5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7729-56B6-49E6-929D-55704121A3B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89C4-342F-4E1B-A490-9C54FC2B56E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二章 常见网络电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太网常见缆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设备间接口电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用户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4221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认证实验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以太网接口标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网卡，路由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介质相关接口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MD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交换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交叉介质相关接口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MD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光纤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Fiber-Optic C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特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带宽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抗干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继距离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量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光纤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Fiber-Optic C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多模光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50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62.5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最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单模光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9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公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无线传输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Wirel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应用场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设备间接口电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5753160" y="4548240"/>
            <a:ext cx="3004560" cy="1090080"/>
            <a:chOff x="5753160" y="4548240"/>
            <a:chExt cx="3004560" cy="1090080"/>
          </a:xfrm>
        </p:grpSpPr>
        <p:sp>
          <p:nvSpPr>
            <p:cNvPr id="776" name=""/>
            <p:cNvSpPr/>
            <p:nvPr/>
          </p:nvSpPr>
          <p:spPr>
            <a:xfrm>
              <a:off x="5753160" y="4718520"/>
              <a:ext cx="3004560" cy="9198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110800" y="4790880"/>
              <a:ext cx="41400" cy="63720"/>
            </a:xfrm>
            <a:custGeom>
              <a:avLst/>
              <a:gdLst/>
              <a:ahLst/>
              <a:rect l="l" t="t" r="r" b="b"/>
              <a:pathLst>
                <a:path w="284" h="969">
                  <a:moveTo>
                    <a:pt x="284" y="0"/>
                  </a:moveTo>
                  <a:lnTo>
                    <a:pt x="70" y="780"/>
                  </a:lnTo>
                  <a:lnTo>
                    <a:pt x="55" y="828"/>
                  </a:lnTo>
                  <a:lnTo>
                    <a:pt x="39" y="875"/>
                  </a:lnTo>
                  <a:lnTo>
                    <a:pt x="21" y="922"/>
                  </a:lnTo>
                  <a:lnTo>
                    <a:pt x="0" y="969"/>
                  </a:lnTo>
                  <a:lnTo>
                    <a:pt x="212" y="194"/>
                  </a:lnTo>
                  <a:lnTo>
                    <a:pt x="234" y="147"/>
                  </a:lnTo>
                  <a:lnTo>
                    <a:pt x="252" y="99"/>
                  </a:lnTo>
                  <a:lnTo>
                    <a:pt x="270" y="5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96400" y="4803120"/>
              <a:ext cx="45720" cy="63720"/>
            </a:xfrm>
            <a:custGeom>
              <a:avLst/>
              <a:gdLst/>
              <a:ahLst/>
              <a:rect l="l" t="t" r="r" b="b"/>
              <a:pathLst>
                <a:path w="311" h="952">
                  <a:moveTo>
                    <a:pt x="311" y="0"/>
                  </a:moveTo>
                  <a:lnTo>
                    <a:pt x="99" y="775"/>
                  </a:lnTo>
                  <a:lnTo>
                    <a:pt x="78" y="819"/>
                  </a:lnTo>
                  <a:lnTo>
                    <a:pt x="53" y="864"/>
                  </a:lnTo>
                  <a:lnTo>
                    <a:pt x="27" y="908"/>
                  </a:lnTo>
                  <a:lnTo>
                    <a:pt x="0" y="952"/>
                  </a:lnTo>
                  <a:lnTo>
                    <a:pt x="210" y="181"/>
                  </a:lnTo>
                  <a:lnTo>
                    <a:pt x="238" y="137"/>
                  </a:lnTo>
                  <a:lnTo>
                    <a:pt x="264" y="92"/>
                  </a:lnTo>
                  <a:lnTo>
                    <a:pt x="289" y="47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077320" y="4815720"/>
              <a:ext cx="50040" cy="60840"/>
            </a:xfrm>
            <a:custGeom>
              <a:avLst/>
              <a:gdLst/>
              <a:ahLst/>
              <a:rect l="l" t="t" r="r" b="b"/>
              <a:pathLst>
                <a:path w="338" h="935">
                  <a:moveTo>
                    <a:pt x="338" y="0"/>
                  </a:moveTo>
                  <a:lnTo>
                    <a:pt x="128" y="771"/>
                  </a:lnTo>
                  <a:lnTo>
                    <a:pt x="99" y="813"/>
                  </a:lnTo>
                  <a:lnTo>
                    <a:pt x="68" y="855"/>
                  </a:lnTo>
                  <a:lnTo>
                    <a:pt x="35" y="896"/>
                  </a:lnTo>
                  <a:lnTo>
                    <a:pt x="0" y="935"/>
                  </a:lnTo>
                  <a:lnTo>
                    <a:pt x="207" y="170"/>
                  </a:lnTo>
                  <a:lnTo>
                    <a:pt x="242" y="128"/>
                  </a:lnTo>
                  <a:lnTo>
                    <a:pt x="275" y="86"/>
                  </a:lnTo>
                  <a:lnTo>
                    <a:pt x="307" y="44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cbe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060760" y="4826880"/>
              <a:ext cx="45720" cy="58320"/>
            </a:xfrm>
            <a:custGeom>
              <a:avLst/>
              <a:gdLst/>
              <a:ahLst/>
              <a:rect l="l" t="t" r="r" b="b"/>
              <a:pathLst>
                <a:path w="318" h="881">
                  <a:moveTo>
                    <a:pt x="318" y="0"/>
                  </a:moveTo>
                  <a:lnTo>
                    <a:pt x="111" y="765"/>
                  </a:lnTo>
                  <a:lnTo>
                    <a:pt x="76" y="805"/>
                  </a:lnTo>
                  <a:lnTo>
                    <a:pt x="39" y="843"/>
                  </a:lnTo>
                  <a:lnTo>
                    <a:pt x="0" y="881"/>
                  </a:lnTo>
                  <a:lnTo>
                    <a:pt x="202" y="117"/>
                  </a:lnTo>
                  <a:lnTo>
                    <a:pt x="243" y="79"/>
                  </a:lnTo>
                  <a:lnTo>
                    <a:pt x="281" y="39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41680" y="4833720"/>
              <a:ext cx="48240" cy="58320"/>
            </a:xfrm>
            <a:custGeom>
              <a:avLst/>
              <a:gdLst/>
              <a:ahLst/>
              <a:rect l="l" t="t" r="r" b="b"/>
              <a:pathLst>
                <a:path w="330" h="871">
                  <a:moveTo>
                    <a:pt x="330" y="0"/>
                  </a:moveTo>
                  <a:lnTo>
                    <a:pt x="128" y="764"/>
                  </a:lnTo>
                  <a:lnTo>
                    <a:pt x="87" y="800"/>
                  </a:lnTo>
                  <a:lnTo>
                    <a:pt x="45" y="836"/>
                  </a:lnTo>
                  <a:lnTo>
                    <a:pt x="0" y="871"/>
                  </a:lnTo>
                  <a:lnTo>
                    <a:pt x="200" y="111"/>
                  </a:lnTo>
                  <a:lnTo>
                    <a:pt x="245" y="74"/>
                  </a:lnTo>
                  <a:lnTo>
                    <a:pt x="289" y="38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219160" y="4990680"/>
              <a:ext cx="47520" cy="57960"/>
            </a:xfrm>
            <a:custGeom>
              <a:avLst/>
              <a:gdLst/>
              <a:ahLst/>
              <a:rect l="l" t="t" r="r" b="b"/>
              <a:pathLst>
                <a:path w="317" h="895">
                  <a:moveTo>
                    <a:pt x="317" y="0"/>
                  </a:moveTo>
                  <a:lnTo>
                    <a:pt x="79" y="703"/>
                  </a:lnTo>
                  <a:lnTo>
                    <a:pt x="42" y="800"/>
                  </a:lnTo>
                  <a:lnTo>
                    <a:pt x="0" y="895"/>
                  </a:lnTo>
                  <a:lnTo>
                    <a:pt x="236" y="197"/>
                  </a:lnTo>
                  <a:lnTo>
                    <a:pt x="279" y="10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204760" y="5002920"/>
              <a:ext cx="50040" cy="58320"/>
            </a:xfrm>
            <a:custGeom>
              <a:avLst/>
              <a:gdLst/>
              <a:ahLst/>
              <a:rect l="l" t="t" r="r" b="b"/>
              <a:pathLst>
                <a:path w="334" h="882">
                  <a:moveTo>
                    <a:pt x="334" y="0"/>
                  </a:moveTo>
                  <a:lnTo>
                    <a:pt x="98" y="698"/>
                  </a:lnTo>
                  <a:lnTo>
                    <a:pt x="51" y="791"/>
                  </a:lnTo>
                  <a:lnTo>
                    <a:pt x="0" y="882"/>
                  </a:lnTo>
                  <a:lnTo>
                    <a:pt x="234" y="188"/>
                  </a:lnTo>
                  <a:lnTo>
                    <a:pt x="286" y="96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188200" y="5015520"/>
              <a:ext cx="51840" cy="56880"/>
            </a:xfrm>
            <a:custGeom>
              <a:avLst/>
              <a:gdLst/>
              <a:ahLst/>
              <a:rect l="l" t="t" r="r" b="b"/>
              <a:pathLst>
                <a:path w="348" h="869">
                  <a:moveTo>
                    <a:pt x="348" y="0"/>
                  </a:moveTo>
                  <a:lnTo>
                    <a:pt x="114" y="694"/>
                  </a:lnTo>
                  <a:lnTo>
                    <a:pt x="60" y="783"/>
                  </a:lnTo>
                  <a:lnTo>
                    <a:pt x="0" y="869"/>
                  </a:lnTo>
                  <a:lnTo>
                    <a:pt x="230" y="181"/>
                  </a:lnTo>
                  <a:lnTo>
                    <a:pt x="291" y="92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169120" y="5028120"/>
              <a:ext cx="54360" cy="55080"/>
            </a:xfrm>
            <a:custGeom>
              <a:avLst/>
              <a:gdLst/>
              <a:ahLst/>
              <a:rect l="l" t="t" r="r" b="b"/>
              <a:pathLst>
                <a:path w="361" h="854">
                  <a:moveTo>
                    <a:pt x="361" y="0"/>
                  </a:moveTo>
                  <a:lnTo>
                    <a:pt x="131" y="688"/>
                  </a:lnTo>
                  <a:lnTo>
                    <a:pt x="67" y="771"/>
                  </a:lnTo>
                  <a:lnTo>
                    <a:pt x="0" y="854"/>
                  </a:lnTo>
                  <a:lnTo>
                    <a:pt x="226" y="169"/>
                  </a:lnTo>
                  <a:lnTo>
                    <a:pt x="296" y="85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148240" y="5039280"/>
              <a:ext cx="54360" cy="55080"/>
            </a:xfrm>
            <a:custGeom>
              <a:avLst/>
              <a:gdLst/>
              <a:ahLst/>
              <a:rect l="l" t="t" r="r" b="b"/>
              <a:pathLst>
                <a:path w="371" h="841">
                  <a:moveTo>
                    <a:pt x="371" y="0"/>
                  </a:moveTo>
                  <a:lnTo>
                    <a:pt x="145" y="685"/>
                  </a:lnTo>
                  <a:lnTo>
                    <a:pt x="75" y="764"/>
                  </a:lnTo>
                  <a:lnTo>
                    <a:pt x="0" y="841"/>
                  </a:lnTo>
                  <a:lnTo>
                    <a:pt x="224" y="161"/>
                  </a:lnTo>
                  <a:lnTo>
                    <a:pt x="300" y="82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23400" y="5049000"/>
              <a:ext cx="56160" cy="55080"/>
            </a:xfrm>
            <a:custGeom>
              <a:avLst/>
              <a:gdLst/>
              <a:ahLst/>
              <a:rect l="l" t="t" r="r" b="b"/>
              <a:pathLst>
                <a:path w="381" h="826">
                  <a:moveTo>
                    <a:pt x="381" y="0"/>
                  </a:moveTo>
                  <a:lnTo>
                    <a:pt x="157" y="680"/>
                  </a:lnTo>
                  <a:lnTo>
                    <a:pt x="80" y="754"/>
                  </a:lnTo>
                  <a:lnTo>
                    <a:pt x="0" y="826"/>
                  </a:lnTo>
                  <a:lnTo>
                    <a:pt x="219" y="150"/>
                  </a:lnTo>
                  <a:lnTo>
                    <a:pt x="301" y="76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110800" y="5058720"/>
              <a:ext cx="45720" cy="49680"/>
            </a:xfrm>
            <a:custGeom>
              <a:avLst/>
              <a:gdLst/>
              <a:ahLst/>
              <a:rect l="l" t="t" r="r" b="b"/>
              <a:pathLst>
                <a:path w="301" h="744">
                  <a:moveTo>
                    <a:pt x="301" y="0"/>
                  </a:moveTo>
                  <a:lnTo>
                    <a:pt x="82" y="676"/>
                  </a:lnTo>
                  <a:lnTo>
                    <a:pt x="0" y="744"/>
                  </a:lnTo>
                  <a:lnTo>
                    <a:pt x="216" y="7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098200" y="5064120"/>
              <a:ext cx="45720" cy="48600"/>
            </a:xfrm>
            <a:custGeom>
              <a:avLst/>
              <a:gdLst/>
              <a:ahLst/>
              <a:rect l="l" t="t" r="r" b="b"/>
              <a:pathLst>
                <a:path w="301" h="740">
                  <a:moveTo>
                    <a:pt x="301" y="0"/>
                  </a:moveTo>
                  <a:lnTo>
                    <a:pt x="85" y="673"/>
                  </a:lnTo>
                  <a:lnTo>
                    <a:pt x="0" y="740"/>
                  </a:lnTo>
                  <a:lnTo>
                    <a:pt x="213" y="68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085960" y="5068440"/>
              <a:ext cx="45720" cy="48240"/>
            </a:xfrm>
            <a:custGeom>
              <a:avLst/>
              <a:gdLst/>
              <a:ahLst/>
              <a:rect l="l" t="t" r="r" b="b"/>
              <a:pathLst>
                <a:path w="301" h="737">
                  <a:moveTo>
                    <a:pt x="301" y="0"/>
                  </a:moveTo>
                  <a:lnTo>
                    <a:pt x="88" y="672"/>
                  </a:lnTo>
                  <a:lnTo>
                    <a:pt x="0" y="737"/>
                  </a:lnTo>
                  <a:lnTo>
                    <a:pt x="211" y="66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73000" y="5072400"/>
              <a:ext cx="43920" cy="48240"/>
            </a:xfrm>
            <a:custGeom>
              <a:avLst/>
              <a:gdLst/>
              <a:ahLst/>
              <a:rect l="l" t="t" r="r" b="b"/>
              <a:pathLst>
                <a:path w="300" h="731">
                  <a:moveTo>
                    <a:pt x="300" y="0"/>
                  </a:moveTo>
                  <a:lnTo>
                    <a:pt x="89" y="671"/>
                  </a:lnTo>
                  <a:lnTo>
                    <a:pt x="0" y="731"/>
                  </a:lnTo>
                  <a:lnTo>
                    <a:pt x="208" y="62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f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058240" y="5076720"/>
              <a:ext cx="45720" cy="48240"/>
            </a:xfrm>
            <a:custGeom>
              <a:avLst/>
              <a:gdLst/>
              <a:ahLst/>
              <a:rect l="l" t="t" r="r" b="b"/>
              <a:pathLst>
                <a:path w="300" h="728">
                  <a:moveTo>
                    <a:pt x="300" y="0"/>
                  </a:moveTo>
                  <a:lnTo>
                    <a:pt x="92" y="669"/>
                  </a:lnTo>
                  <a:lnTo>
                    <a:pt x="0" y="728"/>
                  </a:lnTo>
                  <a:lnTo>
                    <a:pt x="206" y="6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046000" y="5080680"/>
              <a:ext cx="43920" cy="47160"/>
            </a:xfrm>
            <a:custGeom>
              <a:avLst/>
              <a:gdLst/>
              <a:ahLst/>
              <a:rect l="l" t="t" r="r" b="b"/>
              <a:pathLst>
                <a:path w="299" h="723">
                  <a:moveTo>
                    <a:pt x="299" y="0"/>
                  </a:moveTo>
                  <a:lnTo>
                    <a:pt x="93" y="668"/>
                  </a:lnTo>
                  <a:lnTo>
                    <a:pt x="0" y="723"/>
                  </a:lnTo>
                  <a:lnTo>
                    <a:pt x="203" y="57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31600" y="5085000"/>
              <a:ext cx="43920" cy="46800"/>
            </a:xfrm>
            <a:custGeom>
              <a:avLst/>
              <a:gdLst/>
              <a:ahLst/>
              <a:rect l="l" t="t" r="r" b="b"/>
              <a:pathLst>
                <a:path w="298" h="720">
                  <a:moveTo>
                    <a:pt x="298" y="0"/>
                  </a:moveTo>
                  <a:lnTo>
                    <a:pt x="95" y="666"/>
                  </a:lnTo>
                  <a:lnTo>
                    <a:pt x="0" y="720"/>
                  </a:lnTo>
                  <a:lnTo>
                    <a:pt x="200" y="54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016840" y="5087520"/>
              <a:ext cx="43920" cy="47160"/>
            </a:xfrm>
            <a:custGeom>
              <a:avLst/>
              <a:gdLst/>
              <a:ahLst/>
              <a:rect l="l" t="t" r="r" b="b"/>
              <a:pathLst>
                <a:path w="297" h="715">
                  <a:moveTo>
                    <a:pt x="297" y="0"/>
                  </a:moveTo>
                  <a:lnTo>
                    <a:pt x="97" y="666"/>
                  </a:lnTo>
                  <a:lnTo>
                    <a:pt x="0" y="715"/>
                  </a:lnTo>
                  <a:lnTo>
                    <a:pt x="198" y="51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02080" y="5092200"/>
              <a:ext cx="43920" cy="47160"/>
            </a:xfrm>
            <a:custGeom>
              <a:avLst/>
              <a:gdLst/>
              <a:ahLst/>
              <a:rect l="l" t="t" r="r" b="b"/>
              <a:pathLst>
                <a:path w="295" h="711">
                  <a:moveTo>
                    <a:pt x="295" y="0"/>
                  </a:moveTo>
                  <a:lnTo>
                    <a:pt x="97" y="664"/>
                  </a:lnTo>
                  <a:lnTo>
                    <a:pt x="0" y="711"/>
                  </a:lnTo>
                  <a:lnTo>
                    <a:pt x="195" y="4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87320" y="5094720"/>
              <a:ext cx="43920" cy="47160"/>
            </a:xfrm>
            <a:custGeom>
              <a:avLst/>
              <a:gdLst/>
              <a:ahLst/>
              <a:rect l="l" t="t" r="r" b="b"/>
              <a:pathLst>
                <a:path w="292" h="706">
                  <a:moveTo>
                    <a:pt x="292" y="0"/>
                  </a:moveTo>
                  <a:lnTo>
                    <a:pt x="97" y="662"/>
                  </a:lnTo>
                  <a:lnTo>
                    <a:pt x="0" y="706"/>
                  </a:lnTo>
                  <a:lnTo>
                    <a:pt x="191" y="45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73280" y="5097240"/>
              <a:ext cx="43200" cy="47160"/>
            </a:xfrm>
            <a:custGeom>
              <a:avLst/>
              <a:gdLst/>
              <a:ahLst/>
              <a:rect l="l" t="t" r="r" b="b"/>
              <a:pathLst>
                <a:path w="291" h="702">
                  <a:moveTo>
                    <a:pt x="291" y="0"/>
                  </a:moveTo>
                  <a:lnTo>
                    <a:pt x="100" y="661"/>
                  </a:lnTo>
                  <a:lnTo>
                    <a:pt x="0" y="702"/>
                  </a:lnTo>
                  <a:lnTo>
                    <a:pt x="189" y="4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9a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943760" y="5100120"/>
              <a:ext cx="56160" cy="48240"/>
            </a:xfrm>
            <a:custGeom>
              <a:avLst/>
              <a:gdLst/>
              <a:ahLst/>
              <a:rect l="l" t="t" r="r" b="b"/>
              <a:pathLst>
                <a:path w="388" h="732">
                  <a:moveTo>
                    <a:pt x="388" y="0"/>
                  </a:moveTo>
                  <a:lnTo>
                    <a:pt x="199" y="660"/>
                  </a:lnTo>
                  <a:lnTo>
                    <a:pt x="100" y="697"/>
                  </a:lnTo>
                  <a:lnTo>
                    <a:pt x="0" y="732"/>
                  </a:lnTo>
                  <a:lnTo>
                    <a:pt x="183" y="73"/>
                  </a:lnTo>
                  <a:lnTo>
                    <a:pt x="286" y="38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8e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912800" y="5105880"/>
              <a:ext cx="57960" cy="47160"/>
            </a:xfrm>
            <a:custGeom>
              <a:avLst/>
              <a:gdLst/>
              <a:ahLst/>
              <a:rect l="l" t="t" r="r" b="b"/>
              <a:pathLst>
                <a:path w="385" h="716">
                  <a:moveTo>
                    <a:pt x="385" y="0"/>
                  </a:moveTo>
                  <a:lnTo>
                    <a:pt x="202" y="659"/>
                  </a:lnTo>
                  <a:lnTo>
                    <a:pt x="168" y="669"/>
                  </a:lnTo>
                  <a:lnTo>
                    <a:pt x="134" y="679"/>
                  </a:lnTo>
                  <a:lnTo>
                    <a:pt x="102" y="689"/>
                  </a:lnTo>
                  <a:lnTo>
                    <a:pt x="68" y="698"/>
                  </a:lnTo>
                  <a:lnTo>
                    <a:pt x="34" y="708"/>
                  </a:lnTo>
                  <a:lnTo>
                    <a:pt x="0" y="716"/>
                  </a:lnTo>
                  <a:lnTo>
                    <a:pt x="177" y="60"/>
                  </a:lnTo>
                  <a:lnTo>
                    <a:pt x="212" y="50"/>
                  </a:lnTo>
                  <a:lnTo>
                    <a:pt x="247" y="41"/>
                  </a:lnTo>
                  <a:lnTo>
                    <a:pt x="281" y="32"/>
                  </a:lnTo>
                  <a:lnTo>
                    <a:pt x="316" y="21"/>
                  </a:lnTo>
                  <a:lnTo>
                    <a:pt x="351" y="12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883280" y="5109840"/>
              <a:ext cx="56160" cy="45360"/>
            </a:xfrm>
            <a:custGeom>
              <a:avLst/>
              <a:gdLst/>
              <a:ahLst/>
              <a:rect l="l" t="t" r="r" b="b"/>
              <a:pathLst>
                <a:path w="379" h="702">
                  <a:moveTo>
                    <a:pt x="379" y="0"/>
                  </a:moveTo>
                  <a:lnTo>
                    <a:pt x="202" y="656"/>
                  </a:lnTo>
                  <a:lnTo>
                    <a:pt x="169" y="664"/>
                  </a:lnTo>
                  <a:lnTo>
                    <a:pt x="135" y="673"/>
                  </a:lnTo>
                  <a:lnTo>
                    <a:pt x="102" y="680"/>
                  </a:lnTo>
                  <a:lnTo>
                    <a:pt x="68" y="688"/>
                  </a:lnTo>
                  <a:lnTo>
                    <a:pt x="34" y="694"/>
                  </a:lnTo>
                  <a:lnTo>
                    <a:pt x="0" y="702"/>
                  </a:lnTo>
                  <a:lnTo>
                    <a:pt x="172" y="46"/>
                  </a:lnTo>
                  <a:lnTo>
                    <a:pt x="207" y="39"/>
                  </a:lnTo>
                  <a:lnTo>
                    <a:pt x="241" y="32"/>
                  </a:lnTo>
                  <a:lnTo>
                    <a:pt x="276" y="24"/>
                  </a:lnTo>
                  <a:lnTo>
                    <a:pt x="311" y="17"/>
                  </a:lnTo>
                  <a:lnTo>
                    <a:pt x="346" y="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7f9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51960" y="5112720"/>
              <a:ext cx="56160" cy="45360"/>
            </a:xfrm>
            <a:custGeom>
              <a:avLst/>
              <a:gdLst/>
              <a:ahLst/>
              <a:rect l="l" t="t" r="r" b="b"/>
              <a:pathLst>
                <a:path w="375" h="689">
                  <a:moveTo>
                    <a:pt x="375" y="0"/>
                  </a:moveTo>
                  <a:lnTo>
                    <a:pt x="203" y="656"/>
                  </a:lnTo>
                  <a:lnTo>
                    <a:pt x="169" y="662"/>
                  </a:lnTo>
                  <a:lnTo>
                    <a:pt x="135" y="668"/>
                  </a:lnTo>
                  <a:lnTo>
                    <a:pt x="102" y="673"/>
                  </a:lnTo>
                  <a:lnTo>
                    <a:pt x="68" y="680"/>
                  </a:lnTo>
                  <a:lnTo>
                    <a:pt x="34" y="685"/>
                  </a:lnTo>
                  <a:lnTo>
                    <a:pt x="0" y="689"/>
                  </a:lnTo>
                  <a:lnTo>
                    <a:pt x="165" y="34"/>
                  </a:lnTo>
                  <a:lnTo>
                    <a:pt x="200" y="30"/>
                  </a:lnTo>
                  <a:lnTo>
                    <a:pt x="236" y="25"/>
                  </a:lnTo>
                  <a:lnTo>
                    <a:pt x="271" y="18"/>
                  </a:lnTo>
                  <a:lnTo>
                    <a:pt x="306" y="13"/>
                  </a:lnTo>
                  <a:lnTo>
                    <a:pt x="340" y="7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778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821000" y="5114160"/>
              <a:ext cx="56160" cy="45720"/>
            </a:xfrm>
            <a:custGeom>
              <a:avLst/>
              <a:gdLst/>
              <a:ahLst/>
              <a:rect l="l" t="t" r="r" b="b"/>
              <a:pathLst>
                <a:path w="371" h="677">
                  <a:moveTo>
                    <a:pt x="371" y="0"/>
                  </a:moveTo>
                  <a:lnTo>
                    <a:pt x="206" y="655"/>
                  </a:lnTo>
                  <a:lnTo>
                    <a:pt x="171" y="659"/>
                  </a:lnTo>
                  <a:lnTo>
                    <a:pt x="137" y="663"/>
                  </a:lnTo>
                  <a:lnTo>
                    <a:pt x="103" y="668"/>
                  </a:lnTo>
                  <a:lnTo>
                    <a:pt x="69" y="671"/>
                  </a:lnTo>
                  <a:lnTo>
                    <a:pt x="34" y="674"/>
                  </a:lnTo>
                  <a:lnTo>
                    <a:pt x="0" y="677"/>
                  </a:lnTo>
                  <a:lnTo>
                    <a:pt x="159" y="23"/>
                  </a:lnTo>
                  <a:lnTo>
                    <a:pt x="195" y="20"/>
                  </a:lnTo>
                  <a:lnTo>
                    <a:pt x="231" y="17"/>
                  </a:lnTo>
                  <a:lnTo>
                    <a:pt x="265" y="14"/>
                  </a:lnTo>
                  <a:lnTo>
                    <a:pt x="301" y="9"/>
                  </a:lnTo>
                  <a:lnTo>
                    <a:pt x="336" y="5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91480" y="5115600"/>
              <a:ext cx="54360" cy="44280"/>
            </a:xfrm>
            <a:custGeom>
              <a:avLst/>
              <a:gdLst/>
              <a:ahLst/>
              <a:rect l="l" t="t" r="r" b="b"/>
              <a:pathLst>
                <a:path w="368" h="663">
                  <a:moveTo>
                    <a:pt x="368" y="0"/>
                  </a:moveTo>
                  <a:lnTo>
                    <a:pt x="209" y="654"/>
                  </a:lnTo>
                  <a:lnTo>
                    <a:pt x="174" y="656"/>
                  </a:lnTo>
                  <a:lnTo>
                    <a:pt x="139" y="658"/>
                  </a:lnTo>
                  <a:lnTo>
                    <a:pt x="104" y="660"/>
                  </a:lnTo>
                  <a:lnTo>
                    <a:pt x="69" y="661"/>
                  </a:lnTo>
                  <a:lnTo>
                    <a:pt x="35" y="662"/>
                  </a:lnTo>
                  <a:lnTo>
                    <a:pt x="0" y="663"/>
                  </a:lnTo>
                  <a:lnTo>
                    <a:pt x="152" y="9"/>
                  </a:lnTo>
                  <a:lnTo>
                    <a:pt x="189" y="8"/>
                  </a:lnTo>
                  <a:lnTo>
                    <a:pt x="225" y="7"/>
                  </a:lnTo>
                  <a:lnTo>
                    <a:pt x="261" y="6"/>
                  </a:lnTo>
                  <a:lnTo>
                    <a:pt x="297" y="4"/>
                  </a:lnTo>
                  <a:lnTo>
                    <a:pt x="333" y="2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6d7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79240" y="5117040"/>
              <a:ext cx="33120" cy="42840"/>
            </a:xfrm>
            <a:custGeom>
              <a:avLst/>
              <a:gdLst/>
              <a:ahLst/>
              <a:rect l="l" t="t" r="r" b="b"/>
              <a:pathLst>
                <a:path w="223" h="654">
                  <a:moveTo>
                    <a:pt x="223" y="0"/>
                  </a:moveTo>
                  <a:lnTo>
                    <a:pt x="71" y="654"/>
                  </a:lnTo>
                  <a:lnTo>
                    <a:pt x="35" y="654"/>
                  </a:lnTo>
                  <a:lnTo>
                    <a:pt x="0" y="654"/>
                  </a:lnTo>
                  <a:lnTo>
                    <a:pt x="152" y="0"/>
                  </a:lnTo>
                  <a:lnTo>
                    <a:pt x="188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68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768440" y="5122440"/>
              <a:ext cx="31680" cy="55080"/>
            </a:xfrm>
            <a:custGeom>
              <a:avLst/>
              <a:gdLst/>
              <a:ahLst/>
              <a:rect l="l" t="t" r="r" b="b"/>
              <a:pathLst>
                <a:path w="201" h="832">
                  <a:moveTo>
                    <a:pt x="201" y="0"/>
                  </a:moveTo>
                  <a:lnTo>
                    <a:pt x="50" y="652"/>
                  </a:lnTo>
                  <a:lnTo>
                    <a:pt x="27" y="743"/>
                  </a:lnTo>
                  <a:lnTo>
                    <a:pt x="0" y="832"/>
                  </a:lnTo>
                  <a:lnTo>
                    <a:pt x="150" y="185"/>
                  </a:lnTo>
                  <a:lnTo>
                    <a:pt x="177" y="9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760160" y="5134680"/>
              <a:ext cx="30960" cy="54000"/>
            </a:xfrm>
            <a:custGeom>
              <a:avLst/>
              <a:gdLst/>
              <a:ahLst/>
              <a:rect l="l" t="t" r="r" b="b"/>
              <a:pathLst>
                <a:path w="210" h="821">
                  <a:moveTo>
                    <a:pt x="210" y="0"/>
                  </a:moveTo>
                  <a:lnTo>
                    <a:pt x="60" y="647"/>
                  </a:lnTo>
                  <a:lnTo>
                    <a:pt x="31" y="735"/>
                  </a:lnTo>
                  <a:lnTo>
                    <a:pt x="0" y="821"/>
                  </a:lnTo>
                  <a:lnTo>
                    <a:pt x="147" y="179"/>
                  </a:lnTo>
                  <a:lnTo>
                    <a:pt x="180" y="9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749720" y="5147280"/>
              <a:ext cx="33120" cy="52560"/>
            </a:xfrm>
            <a:custGeom>
              <a:avLst/>
              <a:gdLst/>
              <a:ahLst/>
              <a:rect l="l" t="t" r="r" b="b"/>
              <a:pathLst>
                <a:path w="219" h="810">
                  <a:moveTo>
                    <a:pt x="219" y="0"/>
                  </a:moveTo>
                  <a:lnTo>
                    <a:pt x="72" y="642"/>
                  </a:lnTo>
                  <a:lnTo>
                    <a:pt x="37" y="726"/>
                  </a:lnTo>
                  <a:lnTo>
                    <a:pt x="0" y="810"/>
                  </a:lnTo>
                  <a:lnTo>
                    <a:pt x="146" y="172"/>
                  </a:lnTo>
                  <a:lnTo>
                    <a:pt x="183" y="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737120" y="5158440"/>
              <a:ext cx="33480" cy="52560"/>
            </a:xfrm>
            <a:custGeom>
              <a:avLst/>
              <a:gdLst/>
              <a:ahLst/>
              <a:rect l="l" t="t" r="r" b="b"/>
              <a:pathLst>
                <a:path w="226" h="800">
                  <a:moveTo>
                    <a:pt x="226" y="0"/>
                  </a:moveTo>
                  <a:lnTo>
                    <a:pt x="80" y="638"/>
                  </a:lnTo>
                  <a:lnTo>
                    <a:pt x="41" y="720"/>
                  </a:lnTo>
                  <a:lnTo>
                    <a:pt x="0" y="800"/>
                  </a:lnTo>
                  <a:lnTo>
                    <a:pt x="143" y="167"/>
                  </a:lnTo>
                  <a:lnTo>
                    <a:pt x="185" y="84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724880" y="5169600"/>
              <a:ext cx="33120" cy="51120"/>
            </a:xfrm>
            <a:custGeom>
              <a:avLst/>
              <a:gdLst/>
              <a:ahLst/>
              <a:rect l="l" t="t" r="r" b="b"/>
              <a:pathLst>
                <a:path w="233" h="788">
                  <a:moveTo>
                    <a:pt x="233" y="0"/>
                  </a:moveTo>
                  <a:lnTo>
                    <a:pt x="90" y="633"/>
                  </a:lnTo>
                  <a:lnTo>
                    <a:pt x="46" y="711"/>
                  </a:lnTo>
                  <a:lnTo>
                    <a:pt x="0" y="788"/>
                  </a:lnTo>
                  <a:lnTo>
                    <a:pt x="140" y="159"/>
                  </a:lnTo>
                  <a:lnTo>
                    <a:pt x="187" y="8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10120" y="5179320"/>
              <a:ext cx="35280" cy="52560"/>
            </a:xfrm>
            <a:custGeom>
              <a:avLst/>
              <a:gdLst/>
              <a:ahLst/>
              <a:rect l="l" t="t" r="r" b="b"/>
              <a:pathLst>
                <a:path w="240" h="780">
                  <a:moveTo>
                    <a:pt x="240" y="0"/>
                  </a:moveTo>
                  <a:lnTo>
                    <a:pt x="100" y="629"/>
                  </a:lnTo>
                  <a:lnTo>
                    <a:pt x="51" y="705"/>
                  </a:lnTo>
                  <a:lnTo>
                    <a:pt x="0" y="780"/>
                  </a:lnTo>
                  <a:lnTo>
                    <a:pt x="139" y="154"/>
                  </a:lnTo>
                  <a:lnTo>
                    <a:pt x="191" y="78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693560" y="5190480"/>
              <a:ext cx="37080" cy="49680"/>
            </a:xfrm>
            <a:custGeom>
              <a:avLst/>
              <a:gdLst/>
              <a:ahLst/>
              <a:rect l="l" t="t" r="r" b="b"/>
              <a:pathLst>
                <a:path w="247" h="770">
                  <a:moveTo>
                    <a:pt x="247" y="0"/>
                  </a:moveTo>
                  <a:lnTo>
                    <a:pt x="108" y="626"/>
                  </a:lnTo>
                  <a:lnTo>
                    <a:pt x="56" y="698"/>
                  </a:lnTo>
                  <a:lnTo>
                    <a:pt x="0" y="770"/>
                  </a:lnTo>
                  <a:lnTo>
                    <a:pt x="136" y="148"/>
                  </a:lnTo>
                  <a:lnTo>
                    <a:pt x="192" y="7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76640" y="5200200"/>
              <a:ext cx="37800" cy="49680"/>
            </a:xfrm>
            <a:custGeom>
              <a:avLst/>
              <a:gdLst/>
              <a:ahLst/>
              <a:rect l="l" t="t" r="r" b="b"/>
              <a:pathLst>
                <a:path w="250" h="761">
                  <a:moveTo>
                    <a:pt x="250" y="0"/>
                  </a:moveTo>
                  <a:lnTo>
                    <a:pt x="114" y="622"/>
                  </a:lnTo>
                  <a:lnTo>
                    <a:pt x="58" y="692"/>
                  </a:lnTo>
                  <a:lnTo>
                    <a:pt x="0" y="761"/>
                  </a:lnTo>
                  <a:lnTo>
                    <a:pt x="131" y="143"/>
                  </a:lnTo>
                  <a:lnTo>
                    <a:pt x="191" y="7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657920" y="5209560"/>
              <a:ext cx="37080" cy="48600"/>
            </a:xfrm>
            <a:custGeom>
              <a:avLst/>
              <a:gdLst/>
              <a:ahLst/>
              <a:rect l="l" t="t" r="r" b="b"/>
              <a:pathLst>
                <a:path w="254" h="750">
                  <a:moveTo>
                    <a:pt x="254" y="0"/>
                  </a:moveTo>
                  <a:lnTo>
                    <a:pt x="123" y="618"/>
                  </a:lnTo>
                  <a:lnTo>
                    <a:pt x="62" y="684"/>
                  </a:lnTo>
                  <a:lnTo>
                    <a:pt x="0" y="750"/>
                  </a:lnTo>
                  <a:lnTo>
                    <a:pt x="128" y="136"/>
                  </a:lnTo>
                  <a:lnTo>
                    <a:pt x="191" y="6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39200" y="5218200"/>
              <a:ext cx="37080" cy="48240"/>
            </a:xfrm>
            <a:custGeom>
              <a:avLst/>
              <a:gdLst/>
              <a:ahLst/>
              <a:rect l="l" t="t" r="r" b="b"/>
              <a:pathLst>
                <a:path w="259" h="741">
                  <a:moveTo>
                    <a:pt x="259" y="0"/>
                  </a:moveTo>
                  <a:lnTo>
                    <a:pt x="131" y="614"/>
                  </a:lnTo>
                  <a:lnTo>
                    <a:pt x="66" y="678"/>
                  </a:lnTo>
                  <a:lnTo>
                    <a:pt x="0" y="741"/>
                  </a:lnTo>
                  <a:lnTo>
                    <a:pt x="124" y="131"/>
                  </a:lnTo>
                  <a:lnTo>
                    <a:pt x="192" y="66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bde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18320" y="5226480"/>
              <a:ext cx="39600" cy="48600"/>
            </a:xfrm>
            <a:custGeom>
              <a:avLst/>
              <a:gdLst/>
              <a:ahLst/>
              <a:rect l="l" t="t" r="r" b="b"/>
              <a:pathLst>
                <a:path w="261" h="731">
                  <a:moveTo>
                    <a:pt x="261" y="0"/>
                  </a:moveTo>
                  <a:lnTo>
                    <a:pt x="137" y="610"/>
                  </a:lnTo>
                  <a:lnTo>
                    <a:pt x="70" y="671"/>
                  </a:lnTo>
                  <a:lnTo>
                    <a:pt x="0" y="731"/>
                  </a:lnTo>
                  <a:lnTo>
                    <a:pt x="120" y="124"/>
                  </a:lnTo>
                  <a:lnTo>
                    <a:pt x="192" y="6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597440" y="5234760"/>
              <a:ext cx="37080" cy="48240"/>
            </a:xfrm>
            <a:custGeom>
              <a:avLst/>
              <a:gdLst/>
              <a:ahLst/>
              <a:rect l="l" t="t" r="r" b="b"/>
              <a:pathLst>
                <a:path w="264" h="722">
                  <a:moveTo>
                    <a:pt x="264" y="0"/>
                  </a:moveTo>
                  <a:lnTo>
                    <a:pt x="144" y="607"/>
                  </a:lnTo>
                  <a:lnTo>
                    <a:pt x="73" y="665"/>
                  </a:lnTo>
                  <a:lnTo>
                    <a:pt x="0" y="722"/>
                  </a:lnTo>
                  <a:lnTo>
                    <a:pt x="116" y="118"/>
                  </a:lnTo>
                  <a:lnTo>
                    <a:pt x="191" y="6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574400" y="5243040"/>
              <a:ext cx="39600" cy="47160"/>
            </a:xfrm>
            <a:custGeom>
              <a:avLst/>
              <a:gdLst/>
              <a:ahLst/>
              <a:rect l="l" t="t" r="r" b="b"/>
              <a:pathLst>
                <a:path w="265" h="715">
                  <a:moveTo>
                    <a:pt x="265" y="0"/>
                  </a:moveTo>
                  <a:lnTo>
                    <a:pt x="149" y="604"/>
                  </a:lnTo>
                  <a:lnTo>
                    <a:pt x="75" y="661"/>
                  </a:lnTo>
                  <a:lnTo>
                    <a:pt x="0" y="715"/>
                  </a:lnTo>
                  <a:lnTo>
                    <a:pt x="111" y="113"/>
                  </a:lnTo>
                  <a:lnTo>
                    <a:pt x="189" y="5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551720" y="5249880"/>
              <a:ext cx="39600" cy="47160"/>
            </a:xfrm>
            <a:custGeom>
              <a:avLst/>
              <a:gdLst/>
              <a:ahLst/>
              <a:rect l="l" t="t" r="r" b="b"/>
              <a:pathLst>
                <a:path w="266" h="706">
                  <a:moveTo>
                    <a:pt x="266" y="0"/>
                  </a:moveTo>
                  <a:lnTo>
                    <a:pt x="155" y="602"/>
                  </a:lnTo>
                  <a:lnTo>
                    <a:pt x="78" y="654"/>
                  </a:lnTo>
                  <a:lnTo>
                    <a:pt x="0" y="706"/>
                  </a:lnTo>
                  <a:lnTo>
                    <a:pt x="107" y="107"/>
                  </a:lnTo>
                  <a:lnTo>
                    <a:pt x="187" y="54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26520" y="5257080"/>
              <a:ext cx="41400" cy="47160"/>
            </a:xfrm>
            <a:custGeom>
              <a:avLst/>
              <a:gdLst/>
              <a:ahLst/>
              <a:rect l="l" t="t" r="r" b="b"/>
              <a:pathLst>
                <a:path w="267" h="698">
                  <a:moveTo>
                    <a:pt x="267" y="0"/>
                  </a:moveTo>
                  <a:lnTo>
                    <a:pt x="160" y="599"/>
                  </a:lnTo>
                  <a:lnTo>
                    <a:pt x="81" y="649"/>
                  </a:lnTo>
                  <a:lnTo>
                    <a:pt x="0" y="698"/>
                  </a:lnTo>
                  <a:lnTo>
                    <a:pt x="102" y="102"/>
                  </a:lnTo>
                  <a:lnTo>
                    <a:pt x="185" y="52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a9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516080" y="5263920"/>
              <a:ext cx="26640" cy="42840"/>
            </a:xfrm>
            <a:custGeom>
              <a:avLst/>
              <a:gdLst/>
              <a:ahLst/>
              <a:rect l="l" t="t" r="r" b="b"/>
              <a:pathLst>
                <a:path w="184" h="643">
                  <a:moveTo>
                    <a:pt x="184" y="0"/>
                  </a:moveTo>
                  <a:lnTo>
                    <a:pt x="82" y="596"/>
                  </a:lnTo>
                  <a:lnTo>
                    <a:pt x="0" y="643"/>
                  </a:lnTo>
                  <a:lnTo>
                    <a:pt x="100" y="4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89080" y="5268240"/>
              <a:ext cx="41400" cy="44280"/>
            </a:xfrm>
            <a:custGeom>
              <a:avLst/>
              <a:gdLst/>
              <a:ahLst/>
              <a:rect l="l" t="t" r="r" b="b"/>
              <a:pathLst>
                <a:path w="272" h="683">
                  <a:moveTo>
                    <a:pt x="272" y="0"/>
                  </a:moveTo>
                  <a:lnTo>
                    <a:pt x="172" y="595"/>
                  </a:lnTo>
                  <a:lnTo>
                    <a:pt x="144" y="610"/>
                  </a:lnTo>
                  <a:lnTo>
                    <a:pt x="115" y="625"/>
                  </a:lnTo>
                  <a:lnTo>
                    <a:pt x="87" y="639"/>
                  </a:lnTo>
                  <a:lnTo>
                    <a:pt x="58" y="654"/>
                  </a:lnTo>
                  <a:lnTo>
                    <a:pt x="29" y="669"/>
                  </a:lnTo>
                  <a:lnTo>
                    <a:pt x="0" y="683"/>
                  </a:lnTo>
                  <a:lnTo>
                    <a:pt x="96" y="91"/>
                  </a:lnTo>
                  <a:lnTo>
                    <a:pt x="125" y="76"/>
                  </a:lnTo>
                  <a:lnTo>
                    <a:pt x="154" y="61"/>
                  </a:lnTo>
                  <a:lnTo>
                    <a:pt x="184" y="47"/>
                  </a:lnTo>
                  <a:lnTo>
                    <a:pt x="214" y="31"/>
                  </a:lnTo>
                  <a:lnTo>
                    <a:pt x="242" y="16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64240" y="5273640"/>
              <a:ext cx="39240" cy="44280"/>
            </a:xfrm>
            <a:custGeom>
              <a:avLst/>
              <a:gdLst/>
              <a:ahLst/>
              <a:rect l="l" t="t" r="r" b="b"/>
              <a:pathLst>
                <a:path w="270" h="674">
                  <a:moveTo>
                    <a:pt x="270" y="0"/>
                  </a:moveTo>
                  <a:lnTo>
                    <a:pt x="174" y="592"/>
                  </a:lnTo>
                  <a:lnTo>
                    <a:pt x="146" y="606"/>
                  </a:lnTo>
                  <a:lnTo>
                    <a:pt x="116" y="620"/>
                  </a:lnTo>
                  <a:lnTo>
                    <a:pt x="87" y="634"/>
                  </a:lnTo>
                  <a:lnTo>
                    <a:pt x="59" y="647"/>
                  </a:lnTo>
                  <a:lnTo>
                    <a:pt x="29" y="661"/>
                  </a:lnTo>
                  <a:lnTo>
                    <a:pt x="0" y="674"/>
                  </a:lnTo>
                  <a:lnTo>
                    <a:pt x="90" y="85"/>
                  </a:lnTo>
                  <a:lnTo>
                    <a:pt x="120" y="70"/>
                  </a:lnTo>
                  <a:lnTo>
                    <a:pt x="150" y="57"/>
                  </a:lnTo>
                  <a:lnTo>
                    <a:pt x="180" y="43"/>
                  </a:lnTo>
                  <a:lnTo>
                    <a:pt x="210" y="29"/>
                  </a:lnTo>
                  <a:lnTo>
                    <a:pt x="240" y="1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45160" y="5279400"/>
              <a:ext cx="30960" cy="42840"/>
            </a:xfrm>
            <a:custGeom>
              <a:avLst/>
              <a:gdLst/>
              <a:ahLst/>
              <a:rect l="l" t="t" r="r" b="b"/>
              <a:pathLst>
                <a:path w="208" h="643">
                  <a:moveTo>
                    <a:pt x="208" y="0"/>
                  </a:moveTo>
                  <a:lnTo>
                    <a:pt x="118" y="589"/>
                  </a:lnTo>
                  <a:lnTo>
                    <a:pt x="88" y="603"/>
                  </a:lnTo>
                  <a:lnTo>
                    <a:pt x="60" y="617"/>
                  </a:lnTo>
                  <a:lnTo>
                    <a:pt x="30" y="630"/>
                  </a:lnTo>
                  <a:lnTo>
                    <a:pt x="0" y="643"/>
                  </a:lnTo>
                  <a:lnTo>
                    <a:pt x="86" y="54"/>
                  </a:lnTo>
                  <a:lnTo>
                    <a:pt x="117" y="41"/>
                  </a:lnTo>
                  <a:lnTo>
                    <a:pt x="148" y="27"/>
                  </a:lnTo>
                  <a:lnTo>
                    <a:pt x="178" y="1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415640" y="5281920"/>
              <a:ext cx="43920" cy="44280"/>
            </a:xfrm>
            <a:custGeom>
              <a:avLst/>
              <a:gdLst/>
              <a:ahLst/>
              <a:rect l="l" t="t" r="r" b="b"/>
              <a:pathLst>
                <a:path w="284" h="662">
                  <a:moveTo>
                    <a:pt x="284" y="0"/>
                  </a:moveTo>
                  <a:lnTo>
                    <a:pt x="198" y="589"/>
                  </a:lnTo>
                  <a:lnTo>
                    <a:pt x="132" y="615"/>
                  </a:lnTo>
                  <a:lnTo>
                    <a:pt x="66" y="639"/>
                  </a:lnTo>
                  <a:lnTo>
                    <a:pt x="0" y="662"/>
                  </a:lnTo>
                  <a:lnTo>
                    <a:pt x="80" y="76"/>
                  </a:lnTo>
                  <a:lnTo>
                    <a:pt x="149" y="52"/>
                  </a:lnTo>
                  <a:lnTo>
                    <a:pt x="217" y="2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91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6480" y="5287320"/>
              <a:ext cx="41760" cy="42840"/>
            </a:xfrm>
            <a:custGeom>
              <a:avLst/>
              <a:gdLst/>
              <a:ahLst/>
              <a:rect l="l" t="t" r="r" b="b"/>
              <a:pathLst>
                <a:path w="277" h="653">
                  <a:moveTo>
                    <a:pt x="277" y="0"/>
                  </a:moveTo>
                  <a:lnTo>
                    <a:pt x="197" y="586"/>
                  </a:lnTo>
                  <a:lnTo>
                    <a:pt x="132" y="609"/>
                  </a:lnTo>
                  <a:lnTo>
                    <a:pt x="66" y="631"/>
                  </a:lnTo>
                  <a:lnTo>
                    <a:pt x="0" y="653"/>
                  </a:lnTo>
                  <a:lnTo>
                    <a:pt x="75" y="68"/>
                  </a:lnTo>
                  <a:lnTo>
                    <a:pt x="142" y="46"/>
                  </a:lnTo>
                  <a:lnTo>
                    <a:pt x="210" y="24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8b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57680" y="5292000"/>
              <a:ext cx="41400" cy="42480"/>
            </a:xfrm>
            <a:custGeom>
              <a:avLst/>
              <a:gdLst/>
              <a:ahLst/>
              <a:rect l="l" t="t" r="r" b="b"/>
              <a:pathLst>
                <a:path w="272" h="642">
                  <a:moveTo>
                    <a:pt x="272" y="0"/>
                  </a:moveTo>
                  <a:lnTo>
                    <a:pt x="197" y="585"/>
                  </a:lnTo>
                  <a:lnTo>
                    <a:pt x="132" y="605"/>
                  </a:lnTo>
                  <a:lnTo>
                    <a:pt x="66" y="624"/>
                  </a:lnTo>
                  <a:lnTo>
                    <a:pt x="0" y="642"/>
                  </a:lnTo>
                  <a:lnTo>
                    <a:pt x="69" y="59"/>
                  </a:lnTo>
                  <a:lnTo>
                    <a:pt x="137" y="40"/>
                  </a:lnTo>
                  <a:lnTo>
                    <a:pt x="205" y="21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28160" y="5295960"/>
              <a:ext cx="39600" cy="41400"/>
            </a:xfrm>
            <a:custGeom>
              <a:avLst/>
              <a:gdLst/>
              <a:ahLst/>
              <a:rect l="l" t="t" r="r" b="b"/>
              <a:pathLst>
                <a:path w="265" h="633">
                  <a:moveTo>
                    <a:pt x="265" y="0"/>
                  </a:moveTo>
                  <a:lnTo>
                    <a:pt x="196" y="583"/>
                  </a:lnTo>
                  <a:lnTo>
                    <a:pt x="131" y="601"/>
                  </a:lnTo>
                  <a:lnTo>
                    <a:pt x="65" y="618"/>
                  </a:lnTo>
                  <a:lnTo>
                    <a:pt x="0" y="633"/>
                  </a:lnTo>
                  <a:lnTo>
                    <a:pt x="63" y="51"/>
                  </a:lnTo>
                  <a:lnTo>
                    <a:pt x="131" y="36"/>
                  </a:lnTo>
                  <a:lnTo>
                    <a:pt x="199" y="1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83a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99000" y="5299920"/>
              <a:ext cx="39600" cy="39960"/>
            </a:xfrm>
            <a:custGeom>
              <a:avLst/>
              <a:gdLst/>
              <a:ahLst/>
              <a:rect l="l" t="t" r="r" b="b"/>
              <a:pathLst>
                <a:path w="260" h="625">
                  <a:moveTo>
                    <a:pt x="260" y="0"/>
                  </a:moveTo>
                  <a:lnTo>
                    <a:pt x="197" y="582"/>
                  </a:lnTo>
                  <a:lnTo>
                    <a:pt x="131" y="597"/>
                  </a:lnTo>
                  <a:lnTo>
                    <a:pt x="65" y="612"/>
                  </a:lnTo>
                  <a:lnTo>
                    <a:pt x="0" y="625"/>
                  </a:lnTo>
                  <a:lnTo>
                    <a:pt x="57" y="44"/>
                  </a:lnTo>
                  <a:lnTo>
                    <a:pt x="125" y="30"/>
                  </a:lnTo>
                  <a:lnTo>
                    <a:pt x="192" y="16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7d9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70200" y="5302800"/>
              <a:ext cx="37080" cy="39960"/>
            </a:xfrm>
            <a:custGeom>
              <a:avLst/>
              <a:gdLst/>
              <a:ahLst/>
              <a:rect l="l" t="t" r="r" b="b"/>
              <a:pathLst>
                <a:path w="256" h="615">
                  <a:moveTo>
                    <a:pt x="256" y="0"/>
                  </a:moveTo>
                  <a:lnTo>
                    <a:pt x="199" y="581"/>
                  </a:lnTo>
                  <a:lnTo>
                    <a:pt x="132" y="593"/>
                  </a:lnTo>
                  <a:lnTo>
                    <a:pt x="66" y="604"/>
                  </a:lnTo>
                  <a:lnTo>
                    <a:pt x="0" y="615"/>
                  </a:lnTo>
                  <a:lnTo>
                    <a:pt x="51" y="35"/>
                  </a:lnTo>
                  <a:lnTo>
                    <a:pt x="120" y="24"/>
                  </a:lnTo>
                  <a:lnTo>
                    <a:pt x="187" y="12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79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40680" y="5304240"/>
              <a:ext cx="37080" cy="39960"/>
            </a:xfrm>
            <a:custGeom>
              <a:avLst/>
              <a:gdLst/>
              <a:ahLst/>
              <a:rect l="l" t="t" r="r" b="b"/>
              <a:pathLst>
                <a:path w="251" h="607">
                  <a:moveTo>
                    <a:pt x="251" y="0"/>
                  </a:moveTo>
                  <a:lnTo>
                    <a:pt x="200" y="580"/>
                  </a:lnTo>
                  <a:lnTo>
                    <a:pt x="133" y="590"/>
                  </a:lnTo>
                  <a:lnTo>
                    <a:pt x="66" y="599"/>
                  </a:lnTo>
                  <a:lnTo>
                    <a:pt x="0" y="607"/>
                  </a:lnTo>
                  <a:lnTo>
                    <a:pt x="45" y="27"/>
                  </a:lnTo>
                  <a:lnTo>
                    <a:pt x="114" y="19"/>
                  </a:lnTo>
                  <a:lnTo>
                    <a:pt x="182" y="1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758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09360" y="5306760"/>
              <a:ext cx="37080" cy="38880"/>
            </a:xfrm>
            <a:custGeom>
              <a:avLst/>
              <a:gdLst/>
              <a:ahLst/>
              <a:rect l="l" t="t" r="r" b="b"/>
              <a:pathLst>
                <a:path w="248" h="599">
                  <a:moveTo>
                    <a:pt x="248" y="0"/>
                  </a:moveTo>
                  <a:lnTo>
                    <a:pt x="203" y="580"/>
                  </a:lnTo>
                  <a:lnTo>
                    <a:pt x="135" y="588"/>
                  </a:lnTo>
                  <a:lnTo>
                    <a:pt x="67" y="594"/>
                  </a:lnTo>
                  <a:lnTo>
                    <a:pt x="0" y="599"/>
                  </a:lnTo>
                  <a:lnTo>
                    <a:pt x="39" y="20"/>
                  </a:lnTo>
                  <a:lnTo>
                    <a:pt x="108" y="15"/>
                  </a:lnTo>
                  <a:lnTo>
                    <a:pt x="178" y="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178400" y="5308560"/>
              <a:ext cx="37080" cy="38520"/>
            </a:xfrm>
            <a:custGeom>
              <a:avLst/>
              <a:gdLst/>
              <a:ahLst/>
              <a:rect l="l" t="t" r="r" b="b"/>
              <a:pathLst>
                <a:path w="245" h="592">
                  <a:moveTo>
                    <a:pt x="245" y="0"/>
                  </a:moveTo>
                  <a:lnTo>
                    <a:pt x="206" y="579"/>
                  </a:lnTo>
                  <a:lnTo>
                    <a:pt x="137" y="585"/>
                  </a:lnTo>
                  <a:lnTo>
                    <a:pt x="68" y="589"/>
                  </a:lnTo>
                  <a:lnTo>
                    <a:pt x="0" y="592"/>
                  </a:lnTo>
                  <a:lnTo>
                    <a:pt x="32" y="13"/>
                  </a:lnTo>
                  <a:lnTo>
                    <a:pt x="104" y="10"/>
                  </a:lnTo>
                  <a:lnTo>
                    <a:pt x="174" y="5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6f7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46720" y="5308560"/>
              <a:ext cx="37800" cy="38520"/>
            </a:xfrm>
            <a:custGeom>
              <a:avLst/>
              <a:gdLst/>
              <a:ahLst/>
              <a:rect l="l" t="t" r="r" b="b"/>
              <a:pathLst>
                <a:path w="243" h="584">
                  <a:moveTo>
                    <a:pt x="243" y="0"/>
                  </a:moveTo>
                  <a:lnTo>
                    <a:pt x="211" y="579"/>
                  </a:lnTo>
                  <a:lnTo>
                    <a:pt x="141" y="581"/>
                  </a:lnTo>
                  <a:lnTo>
                    <a:pt x="71" y="583"/>
                  </a:lnTo>
                  <a:lnTo>
                    <a:pt x="0" y="584"/>
                  </a:lnTo>
                  <a:lnTo>
                    <a:pt x="28" y="5"/>
                  </a:lnTo>
                  <a:lnTo>
                    <a:pt x="100" y="5"/>
                  </a:lnTo>
                  <a:lnTo>
                    <a:pt x="172" y="3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b7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25840" y="5308560"/>
              <a:ext cx="24840" cy="3852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169" y="0"/>
                  </a:moveTo>
                  <a:lnTo>
                    <a:pt x="141" y="579"/>
                  </a:lnTo>
                  <a:lnTo>
                    <a:pt x="71" y="579"/>
                  </a:lnTo>
                  <a:lnTo>
                    <a:pt x="0" y="578"/>
                  </a:lnTo>
                  <a:lnTo>
                    <a:pt x="22" y="0"/>
                  </a:lnTo>
                  <a:lnTo>
                    <a:pt x="96" y="1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67520" y="5306760"/>
              <a:ext cx="62280" cy="39960"/>
            </a:xfrm>
            <a:custGeom>
              <a:avLst/>
              <a:gdLst/>
              <a:ahLst/>
              <a:rect l="l" t="t" r="r" b="b"/>
              <a:pathLst>
                <a:path w="412" h="607">
                  <a:moveTo>
                    <a:pt x="412" y="29"/>
                  </a:moveTo>
                  <a:lnTo>
                    <a:pt x="390" y="607"/>
                  </a:lnTo>
                  <a:lnTo>
                    <a:pt x="0" y="579"/>
                  </a:lnTo>
                  <a:lnTo>
                    <a:pt x="11" y="0"/>
                  </a:lnTo>
                  <a:lnTo>
                    <a:pt x="412" y="29"/>
                  </a:lnTo>
                  <a:close/>
                </a:path>
              </a:pathLst>
            </a:custGeom>
            <a:solidFill>
              <a:srgbClr val="5c6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38360" y="5305680"/>
              <a:ext cx="30960" cy="39960"/>
            </a:xfrm>
            <a:custGeom>
              <a:avLst/>
              <a:gdLst/>
              <a:ahLst/>
              <a:rect l="l" t="t" r="r" b="b"/>
              <a:pathLst>
                <a:path w="208" h="609">
                  <a:moveTo>
                    <a:pt x="208" y="30"/>
                  </a:moveTo>
                  <a:lnTo>
                    <a:pt x="197" y="609"/>
                  </a:lnTo>
                  <a:lnTo>
                    <a:pt x="99" y="595"/>
                  </a:lnTo>
                  <a:lnTo>
                    <a:pt x="0" y="581"/>
                  </a:lnTo>
                  <a:lnTo>
                    <a:pt x="6" y="0"/>
                  </a:lnTo>
                  <a:lnTo>
                    <a:pt x="107" y="16"/>
                  </a:lnTo>
                  <a:lnTo>
                    <a:pt x="208" y="30"/>
                  </a:lnTo>
                  <a:close/>
                </a:path>
              </a:pathLst>
            </a:custGeom>
            <a:solidFill>
              <a:srgbClr val="505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08840" y="5302800"/>
              <a:ext cx="30960" cy="39960"/>
            </a:xfrm>
            <a:custGeom>
              <a:avLst/>
              <a:gdLst/>
              <a:ahLst/>
              <a:rect l="l" t="t" r="r" b="b"/>
              <a:pathLst>
                <a:path w="202" h="618">
                  <a:moveTo>
                    <a:pt x="202" y="37"/>
                  </a:moveTo>
                  <a:lnTo>
                    <a:pt x="196" y="618"/>
                  </a:lnTo>
                  <a:lnTo>
                    <a:pt x="99" y="600"/>
                  </a:lnTo>
                  <a:lnTo>
                    <a:pt x="0" y="581"/>
                  </a:lnTo>
                  <a:lnTo>
                    <a:pt x="0" y="0"/>
                  </a:lnTo>
                  <a:lnTo>
                    <a:pt x="101" y="19"/>
                  </a:lnTo>
                  <a:lnTo>
                    <a:pt x="202" y="37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980040" y="5299920"/>
              <a:ext cx="28800" cy="41400"/>
            </a:xfrm>
            <a:custGeom>
              <a:avLst/>
              <a:gdLst/>
              <a:ahLst/>
              <a:rect l="l" t="t" r="r" b="b"/>
              <a:pathLst>
                <a:path w="201" h="626">
                  <a:moveTo>
                    <a:pt x="201" y="45"/>
                  </a:moveTo>
                  <a:lnTo>
                    <a:pt x="201" y="626"/>
                  </a:lnTo>
                  <a:lnTo>
                    <a:pt x="104" y="605"/>
                  </a:lnTo>
                  <a:lnTo>
                    <a:pt x="8" y="584"/>
                  </a:lnTo>
                  <a:lnTo>
                    <a:pt x="0" y="0"/>
                  </a:lnTo>
                  <a:lnTo>
                    <a:pt x="101" y="24"/>
                  </a:lnTo>
                  <a:lnTo>
                    <a:pt x="201" y="45"/>
                  </a:lnTo>
                  <a:close/>
                </a:path>
              </a:pathLst>
            </a:custGeom>
            <a:solidFill>
              <a:srgbClr val="414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950520" y="5295960"/>
              <a:ext cx="29160" cy="42840"/>
            </a:xfrm>
            <a:custGeom>
              <a:avLst/>
              <a:gdLst/>
              <a:ahLst/>
              <a:rect l="l" t="t" r="r" b="b"/>
              <a:pathLst>
                <a:path w="206" h="635">
                  <a:moveTo>
                    <a:pt x="198" y="51"/>
                  </a:moveTo>
                  <a:lnTo>
                    <a:pt x="206" y="635"/>
                  </a:lnTo>
                  <a:lnTo>
                    <a:pt x="108" y="610"/>
                  </a:lnTo>
                  <a:lnTo>
                    <a:pt x="13" y="584"/>
                  </a:lnTo>
                  <a:lnTo>
                    <a:pt x="0" y="0"/>
                  </a:lnTo>
                  <a:lnTo>
                    <a:pt x="99" y="26"/>
                  </a:lnTo>
                  <a:lnTo>
                    <a:pt x="198" y="51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921360" y="5292000"/>
              <a:ext cx="30960" cy="42480"/>
            </a:xfrm>
            <a:custGeom>
              <a:avLst/>
              <a:gdLst/>
              <a:ahLst/>
              <a:rect l="l" t="t" r="r" b="b"/>
              <a:pathLst>
                <a:path w="207" h="644">
                  <a:moveTo>
                    <a:pt x="194" y="60"/>
                  </a:moveTo>
                  <a:lnTo>
                    <a:pt x="207" y="644"/>
                  </a:lnTo>
                  <a:lnTo>
                    <a:pt x="111" y="615"/>
                  </a:lnTo>
                  <a:lnTo>
                    <a:pt x="17" y="586"/>
                  </a:lnTo>
                  <a:lnTo>
                    <a:pt x="0" y="0"/>
                  </a:lnTo>
                  <a:lnTo>
                    <a:pt x="97" y="31"/>
                  </a:lnTo>
                  <a:lnTo>
                    <a:pt x="194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891840" y="5287320"/>
              <a:ext cx="31680" cy="42840"/>
            </a:xfrm>
            <a:custGeom>
              <a:avLst/>
              <a:gdLst/>
              <a:ahLst/>
              <a:rect l="l" t="t" r="r" b="b"/>
              <a:pathLst>
                <a:path w="210" h="654">
                  <a:moveTo>
                    <a:pt x="193" y="68"/>
                  </a:moveTo>
                  <a:lnTo>
                    <a:pt x="210" y="654"/>
                  </a:lnTo>
                  <a:lnTo>
                    <a:pt x="117" y="622"/>
                  </a:lnTo>
                  <a:lnTo>
                    <a:pt x="23" y="588"/>
                  </a:lnTo>
                  <a:lnTo>
                    <a:pt x="0" y="0"/>
                  </a:lnTo>
                  <a:lnTo>
                    <a:pt x="96" y="36"/>
                  </a:lnTo>
                  <a:lnTo>
                    <a:pt x="193" y="68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64840" y="5283360"/>
              <a:ext cx="30960" cy="42840"/>
            </a:xfrm>
            <a:custGeom>
              <a:avLst/>
              <a:gdLst/>
              <a:ahLst/>
              <a:rect l="l" t="t" r="r" b="b"/>
              <a:pathLst>
                <a:path w="211" h="664">
                  <a:moveTo>
                    <a:pt x="188" y="76"/>
                  </a:moveTo>
                  <a:lnTo>
                    <a:pt x="211" y="664"/>
                  </a:lnTo>
                  <a:lnTo>
                    <a:pt x="120" y="628"/>
                  </a:lnTo>
                  <a:lnTo>
                    <a:pt x="29" y="590"/>
                  </a:lnTo>
                  <a:lnTo>
                    <a:pt x="0" y="0"/>
                  </a:lnTo>
                  <a:lnTo>
                    <a:pt x="94" y="40"/>
                  </a:lnTo>
                  <a:lnTo>
                    <a:pt x="188" y="76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38200" y="5277960"/>
              <a:ext cx="30960" cy="44280"/>
            </a:xfrm>
            <a:custGeom>
              <a:avLst/>
              <a:gdLst/>
              <a:ahLst/>
              <a:rect l="l" t="t" r="r" b="b"/>
              <a:pathLst>
                <a:path w="212" h="674">
                  <a:moveTo>
                    <a:pt x="183" y="84"/>
                  </a:moveTo>
                  <a:lnTo>
                    <a:pt x="212" y="674"/>
                  </a:lnTo>
                  <a:lnTo>
                    <a:pt x="123" y="634"/>
                  </a:lnTo>
                  <a:lnTo>
                    <a:pt x="33" y="591"/>
                  </a:lnTo>
                  <a:lnTo>
                    <a:pt x="0" y="0"/>
                  </a:lnTo>
                  <a:lnTo>
                    <a:pt x="91" y="43"/>
                  </a:lnTo>
                  <a:lnTo>
                    <a:pt x="183" y="84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10480" y="5270760"/>
              <a:ext cx="31680" cy="45720"/>
            </a:xfrm>
            <a:custGeom>
              <a:avLst/>
              <a:gdLst/>
              <a:ahLst/>
              <a:rect l="l" t="t" r="r" b="b"/>
              <a:pathLst>
                <a:path w="212" h="686">
                  <a:moveTo>
                    <a:pt x="179" y="95"/>
                  </a:moveTo>
                  <a:lnTo>
                    <a:pt x="212" y="686"/>
                  </a:lnTo>
                  <a:lnTo>
                    <a:pt x="125" y="642"/>
                  </a:lnTo>
                  <a:lnTo>
                    <a:pt x="39" y="595"/>
                  </a:lnTo>
                  <a:lnTo>
                    <a:pt x="0" y="0"/>
                  </a:lnTo>
                  <a:lnTo>
                    <a:pt x="89" y="48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785640" y="5263920"/>
              <a:ext cx="31680" cy="45720"/>
            </a:xfrm>
            <a:custGeom>
              <a:avLst/>
              <a:gdLst/>
              <a:ahLst/>
              <a:rect l="l" t="t" r="r" b="b"/>
              <a:pathLst>
                <a:path w="211" h="698">
                  <a:moveTo>
                    <a:pt x="172" y="103"/>
                  </a:moveTo>
                  <a:lnTo>
                    <a:pt x="211" y="698"/>
                  </a:lnTo>
                  <a:lnTo>
                    <a:pt x="127" y="649"/>
                  </a:lnTo>
                  <a:lnTo>
                    <a:pt x="44" y="598"/>
                  </a:lnTo>
                  <a:lnTo>
                    <a:pt x="0" y="0"/>
                  </a:lnTo>
                  <a:lnTo>
                    <a:pt x="86" y="53"/>
                  </a:lnTo>
                  <a:lnTo>
                    <a:pt x="172" y="10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760800" y="5257080"/>
              <a:ext cx="30960" cy="47160"/>
            </a:xfrm>
            <a:custGeom>
              <a:avLst/>
              <a:gdLst/>
              <a:ahLst/>
              <a:rect l="l" t="t" r="r" b="b"/>
              <a:pathLst>
                <a:path w="210" h="710">
                  <a:moveTo>
                    <a:pt x="166" y="112"/>
                  </a:moveTo>
                  <a:lnTo>
                    <a:pt x="210" y="710"/>
                  </a:lnTo>
                  <a:lnTo>
                    <a:pt x="129" y="656"/>
                  </a:lnTo>
                  <a:lnTo>
                    <a:pt x="49" y="599"/>
                  </a:lnTo>
                  <a:lnTo>
                    <a:pt x="0" y="0"/>
                  </a:lnTo>
                  <a:lnTo>
                    <a:pt x="82" y="57"/>
                  </a:lnTo>
                  <a:lnTo>
                    <a:pt x="166" y="112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735960" y="5248800"/>
              <a:ext cx="30960" cy="47160"/>
            </a:xfrm>
            <a:custGeom>
              <a:avLst/>
              <a:gdLst/>
              <a:ahLst/>
              <a:rect l="l" t="t" r="r" b="b"/>
              <a:pathLst>
                <a:path w="208" h="722">
                  <a:moveTo>
                    <a:pt x="159" y="123"/>
                  </a:moveTo>
                  <a:lnTo>
                    <a:pt x="208" y="722"/>
                  </a:lnTo>
                  <a:lnTo>
                    <a:pt x="130" y="664"/>
                  </a:lnTo>
                  <a:lnTo>
                    <a:pt x="53" y="604"/>
                  </a:lnTo>
                  <a:lnTo>
                    <a:pt x="0" y="0"/>
                  </a:lnTo>
                  <a:lnTo>
                    <a:pt x="79" y="62"/>
                  </a:lnTo>
                  <a:lnTo>
                    <a:pt x="159" y="12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715080" y="5240160"/>
              <a:ext cx="28800" cy="48600"/>
            </a:xfrm>
            <a:custGeom>
              <a:avLst/>
              <a:gdLst/>
              <a:ahLst/>
              <a:rect l="l" t="t" r="r" b="b"/>
              <a:pathLst>
                <a:path w="205" h="737">
                  <a:moveTo>
                    <a:pt x="152" y="133"/>
                  </a:moveTo>
                  <a:lnTo>
                    <a:pt x="205" y="737"/>
                  </a:lnTo>
                  <a:lnTo>
                    <a:pt x="130" y="673"/>
                  </a:lnTo>
                  <a:lnTo>
                    <a:pt x="57" y="608"/>
                  </a:lnTo>
                  <a:lnTo>
                    <a:pt x="0" y="0"/>
                  </a:lnTo>
                  <a:lnTo>
                    <a:pt x="75" y="68"/>
                  </a:lnTo>
                  <a:lnTo>
                    <a:pt x="152" y="13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691680" y="5230800"/>
              <a:ext cx="30960" cy="49680"/>
            </a:xfrm>
            <a:custGeom>
              <a:avLst/>
              <a:gdLst/>
              <a:ahLst/>
              <a:rect l="l" t="t" r="r" b="b"/>
              <a:pathLst>
                <a:path w="201" h="751">
                  <a:moveTo>
                    <a:pt x="144" y="143"/>
                  </a:moveTo>
                  <a:lnTo>
                    <a:pt x="201" y="751"/>
                  </a:lnTo>
                  <a:lnTo>
                    <a:pt x="132" y="682"/>
                  </a:lnTo>
                  <a:lnTo>
                    <a:pt x="63" y="611"/>
                  </a:lnTo>
                  <a:lnTo>
                    <a:pt x="0" y="0"/>
                  </a:lnTo>
                  <a:lnTo>
                    <a:pt x="71" y="73"/>
                  </a:lnTo>
                  <a:lnTo>
                    <a:pt x="144" y="14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672960" y="5221080"/>
              <a:ext cx="29160" cy="49680"/>
            </a:xfrm>
            <a:custGeom>
              <a:avLst/>
              <a:gdLst/>
              <a:ahLst/>
              <a:rect l="l" t="t" r="r" b="b"/>
              <a:pathLst>
                <a:path w="197" h="764">
                  <a:moveTo>
                    <a:pt x="134" y="153"/>
                  </a:moveTo>
                  <a:lnTo>
                    <a:pt x="197" y="764"/>
                  </a:lnTo>
                  <a:lnTo>
                    <a:pt x="130" y="691"/>
                  </a:lnTo>
                  <a:lnTo>
                    <a:pt x="66" y="615"/>
                  </a:lnTo>
                  <a:lnTo>
                    <a:pt x="0" y="0"/>
                  </a:lnTo>
                  <a:lnTo>
                    <a:pt x="67" y="78"/>
                  </a:lnTo>
                  <a:lnTo>
                    <a:pt x="134" y="15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654600" y="5209560"/>
              <a:ext cx="26640" cy="51480"/>
            </a:xfrm>
            <a:custGeom>
              <a:avLst/>
              <a:gdLst/>
              <a:ahLst/>
              <a:rect l="l" t="t" r="r" b="b"/>
              <a:pathLst>
                <a:path w="191" h="780">
                  <a:moveTo>
                    <a:pt x="125" y="165"/>
                  </a:moveTo>
                  <a:lnTo>
                    <a:pt x="191" y="780"/>
                  </a:lnTo>
                  <a:lnTo>
                    <a:pt x="129" y="701"/>
                  </a:lnTo>
                  <a:lnTo>
                    <a:pt x="70" y="620"/>
                  </a:lnTo>
                  <a:lnTo>
                    <a:pt x="0" y="0"/>
                  </a:lnTo>
                  <a:lnTo>
                    <a:pt x="62" y="83"/>
                  </a:lnTo>
                  <a:lnTo>
                    <a:pt x="125" y="165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626880" y="5208480"/>
              <a:ext cx="37800" cy="41400"/>
            </a:xfrm>
            <a:custGeom>
              <a:avLst/>
              <a:gdLst/>
              <a:ahLst/>
              <a:rect l="l" t="t" r="r" b="b"/>
              <a:pathLst>
                <a:path w="250" h="643">
                  <a:moveTo>
                    <a:pt x="180" y="23"/>
                  </a:moveTo>
                  <a:lnTo>
                    <a:pt x="250" y="643"/>
                  </a:lnTo>
                  <a:lnTo>
                    <a:pt x="162" y="632"/>
                  </a:lnTo>
                  <a:lnTo>
                    <a:pt x="73" y="621"/>
                  </a:lnTo>
                  <a:lnTo>
                    <a:pt x="0" y="0"/>
                  </a:lnTo>
                  <a:lnTo>
                    <a:pt x="90" y="13"/>
                  </a:lnTo>
                  <a:lnTo>
                    <a:pt x="180" y="23"/>
                  </a:lnTo>
                  <a:close/>
                </a:path>
              </a:pathLst>
            </a:custGeom>
            <a:solidFill>
              <a:srgbClr val="535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599880" y="5205600"/>
              <a:ext cx="37080" cy="42840"/>
            </a:xfrm>
            <a:custGeom>
              <a:avLst/>
              <a:gdLst/>
              <a:ahLst/>
              <a:rect l="l" t="t" r="r" b="b"/>
              <a:pathLst>
                <a:path w="254" h="650">
                  <a:moveTo>
                    <a:pt x="181" y="29"/>
                  </a:moveTo>
                  <a:lnTo>
                    <a:pt x="254" y="650"/>
                  </a:lnTo>
                  <a:lnTo>
                    <a:pt x="167" y="636"/>
                  </a:lnTo>
                  <a:lnTo>
                    <a:pt x="80" y="621"/>
                  </a:lnTo>
                  <a:lnTo>
                    <a:pt x="0" y="0"/>
                  </a:lnTo>
                  <a:lnTo>
                    <a:pt x="90" y="16"/>
                  </a:lnTo>
                  <a:lnTo>
                    <a:pt x="181" y="29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572880" y="5204520"/>
              <a:ext cx="39240" cy="42840"/>
            </a:xfrm>
            <a:custGeom>
              <a:avLst/>
              <a:gdLst/>
              <a:ahLst/>
              <a:rect l="l" t="t" r="r" b="b"/>
              <a:pathLst>
                <a:path w="258" h="656">
                  <a:moveTo>
                    <a:pt x="178" y="35"/>
                  </a:moveTo>
                  <a:lnTo>
                    <a:pt x="258" y="656"/>
                  </a:lnTo>
                  <a:lnTo>
                    <a:pt x="171" y="639"/>
                  </a:lnTo>
                  <a:lnTo>
                    <a:pt x="85" y="621"/>
                  </a:lnTo>
                  <a:lnTo>
                    <a:pt x="0" y="0"/>
                  </a:lnTo>
                  <a:lnTo>
                    <a:pt x="89" y="18"/>
                  </a:lnTo>
                  <a:lnTo>
                    <a:pt x="178" y="35"/>
                  </a:lnTo>
                  <a:close/>
                </a:path>
              </a:pathLst>
            </a:custGeom>
            <a:solidFill>
              <a:srgbClr val="45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48040" y="5200200"/>
              <a:ext cx="37080" cy="44280"/>
            </a:xfrm>
            <a:custGeom>
              <a:avLst/>
              <a:gdLst/>
              <a:ahLst/>
              <a:rect l="l" t="t" r="r" b="b"/>
              <a:pathLst>
                <a:path w="262" h="665">
                  <a:moveTo>
                    <a:pt x="177" y="44"/>
                  </a:moveTo>
                  <a:lnTo>
                    <a:pt x="262" y="665"/>
                  </a:lnTo>
                  <a:lnTo>
                    <a:pt x="176" y="646"/>
                  </a:lnTo>
                  <a:lnTo>
                    <a:pt x="89" y="624"/>
                  </a:lnTo>
                  <a:lnTo>
                    <a:pt x="0" y="0"/>
                  </a:lnTo>
                  <a:lnTo>
                    <a:pt x="88" y="23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3c3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20680" y="5197320"/>
              <a:ext cx="39600" cy="44280"/>
            </a:xfrm>
            <a:custGeom>
              <a:avLst/>
              <a:gdLst/>
              <a:ahLst/>
              <a:rect l="l" t="t" r="r" b="b"/>
              <a:pathLst>
                <a:path w="264" h="673">
                  <a:moveTo>
                    <a:pt x="175" y="49"/>
                  </a:moveTo>
                  <a:lnTo>
                    <a:pt x="264" y="673"/>
                  </a:lnTo>
                  <a:lnTo>
                    <a:pt x="179" y="649"/>
                  </a:lnTo>
                  <a:lnTo>
                    <a:pt x="95" y="624"/>
                  </a:lnTo>
                  <a:lnTo>
                    <a:pt x="0" y="0"/>
                  </a:lnTo>
                  <a:lnTo>
                    <a:pt x="87" y="25"/>
                  </a:lnTo>
                  <a:lnTo>
                    <a:pt x="175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495840" y="5193360"/>
              <a:ext cx="39240" cy="45360"/>
            </a:xfrm>
            <a:custGeom>
              <a:avLst/>
              <a:gdLst/>
              <a:ahLst/>
              <a:rect l="l" t="t" r="r" b="b"/>
              <a:pathLst>
                <a:path w="266" h="681">
                  <a:moveTo>
                    <a:pt x="171" y="57"/>
                  </a:moveTo>
                  <a:lnTo>
                    <a:pt x="266" y="681"/>
                  </a:lnTo>
                  <a:lnTo>
                    <a:pt x="182" y="654"/>
                  </a:lnTo>
                  <a:lnTo>
                    <a:pt x="99" y="625"/>
                  </a:lnTo>
                  <a:lnTo>
                    <a:pt x="0" y="0"/>
                  </a:lnTo>
                  <a:lnTo>
                    <a:pt x="85" y="29"/>
                  </a:lnTo>
                  <a:lnTo>
                    <a:pt x="171" y="57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471000" y="5189040"/>
              <a:ext cx="39240" cy="45720"/>
            </a:xfrm>
            <a:custGeom>
              <a:avLst/>
              <a:gdLst/>
              <a:ahLst/>
              <a:rect l="l" t="t" r="r" b="b"/>
              <a:pathLst>
                <a:path w="269" h="690">
                  <a:moveTo>
                    <a:pt x="170" y="65"/>
                  </a:moveTo>
                  <a:lnTo>
                    <a:pt x="269" y="690"/>
                  </a:lnTo>
                  <a:lnTo>
                    <a:pt x="187" y="660"/>
                  </a:lnTo>
                  <a:lnTo>
                    <a:pt x="105" y="628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170" y="6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445800" y="5184720"/>
              <a:ext cx="39240" cy="45720"/>
            </a:xfrm>
            <a:custGeom>
              <a:avLst/>
              <a:gdLst/>
              <a:ahLst/>
              <a:rect l="l" t="t" r="r" b="b"/>
              <a:pathLst>
                <a:path w="270" h="700">
                  <a:moveTo>
                    <a:pt x="165" y="72"/>
                  </a:moveTo>
                  <a:lnTo>
                    <a:pt x="270" y="700"/>
                  </a:lnTo>
                  <a:lnTo>
                    <a:pt x="190" y="666"/>
                  </a:lnTo>
                  <a:lnTo>
                    <a:pt x="110" y="629"/>
                  </a:lnTo>
                  <a:lnTo>
                    <a:pt x="0" y="0"/>
                  </a:lnTo>
                  <a:lnTo>
                    <a:pt x="82" y="37"/>
                  </a:lnTo>
                  <a:lnTo>
                    <a:pt x="165" y="72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22400" y="5179320"/>
              <a:ext cx="39600" cy="47160"/>
            </a:xfrm>
            <a:custGeom>
              <a:avLst/>
              <a:gdLst/>
              <a:ahLst/>
              <a:rect l="l" t="t" r="r" b="b"/>
              <a:pathLst>
                <a:path w="270" h="709">
                  <a:moveTo>
                    <a:pt x="160" y="80"/>
                  </a:moveTo>
                  <a:lnTo>
                    <a:pt x="270" y="709"/>
                  </a:lnTo>
                  <a:lnTo>
                    <a:pt x="191" y="672"/>
                  </a:lnTo>
                  <a:lnTo>
                    <a:pt x="114" y="632"/>
                  </a:lnTo>
                  <a:lnTo>
                    <a:pt x="0" y="0"/>
                  </a:lnTo>
                  <a:lnTo>
                    <a:pt x="80" y="41"/>
                  </a:lnTo>
                  <a:lnTo>
                    <a:pt x="160" y="8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397560" y="5173920"/>
              <a:ext cx="41400" cy="47160"/>
            </a:xfrm>
            <a:custGeom>
              <a:avLst/>
              <a:gdLst/>
              <a:ahLst/>
              <a:rect l="l" t="t" r="r" b="b"/>
              <a:pathLst>
                <a:path w="270" h="719">
                  <a:moveTo>
                    <a:pt x="156" y="87"/>
                  </a:moveTo>
                  <a:lnTo>
                    <a:pt x="270" y="719"/>
                  </a:lnTo>
                  <a:lnTo>
                    <a:pt x="193" y="677"/>
                  </a:lnTo>
                  <a:lnTo>
                    <a:pt x="118" y="634"/>
                  </a:lnTo>
                  <a:lnTo>
                    <a:pt x="0" y="0"/>
                  </a:lnTo>
                  <a:lnTo>
                    <a:pt x="77" y="44"/>
                  </a:lnTo>
                  <a:lnTo>
                    <a:pt x="156" y="87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76680" y="5167080"/>
              <a:ext cx="39600" cy="48240"/>
            </a:xfrm>
            <a:custGeom>
              <a:avLst/>
              <a:gdLst/>
              <a:ahLst/>
              <a:rect l="l" t="t" r="r" b="b"/>
              <a:pathLst>
                <a:path w="268" h="730">
                  <a:moveTo>
                    <a:pt x="150" y="96"/>
                  </a:moveTo>
                  <a:lnTo>
                    <a:pt x="268" y="730"/>
                  </a:lnTo>
                  <a:lnTo>
                    <a:pt x="195" y="684"/>
                  </a:lnTo>
                  <a:lnTo>
                    <a:pt x="122" y="636"/>
                  </a:lnTo>
                  <a:lnTo>
                    <a:pt x="0" y="0"/>
                  </a:lnTo>
                  <a:lnTo>
                    <a:pt x="75" y="49"/>
                  </a:lnTo>
                  <a:lnTo>
                    <a:pt x="150" y="96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54000" y="5159880"/>
              <a:ext cx="39240" cy="49680"/>
            </a:xfrm>
            <a:custGeom>
              <a:avLst/>
              <a:gdLst/>
              <a:ahLst/>
              <a:rect l="l" t="t" r="r" b="b"/>
              <a:pathLst>
                <a:path w="268" h="740">
                  <a:moveTo>
                    <a:pt x="146" y="104"/>
                  </a:moveTo>
                  <a:lnTo>
                    <a:pt x="268" y="740"/>
                  </a:lnTo>
                  <a:lnTo>
                    <a:pt x="197" y="691"/>
                  </a:lnTo>
                  <a:lnTo>
                    <a:pt x="127" y="639"/>
                  </a:lnTo>
                  <a:lnTo>
                    <a:pt x="0" y="0"/>
                  </a:lnTo>
                  <a:lnTo>
                    <a:pt x="72" y="53"/>
                  </a:lnTo>
                  <a:lnTo>
                    <a:pt x="146" y="104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333120" y="5153040"/>
              <a:ext cx="39240" cy="49680"/>
            </a:xfrm>
            <a:custGeom>
              <a:avLst/>
              <a:gdLst/>
              <a:ahLst/>
              <a:rect l="l" t="t" r="r" b="b"/>
              <a:pathLst>
                <a:path w="265" h="752">
                  <a:moveTo>
                    <a:pt x="138" y="113"/>
                  </a:moveTo>
                  <a:lnTo>
                    <a:pt x="265" y="752"/>
                  </a:lnTo>
                  <a:lnTo>
                    <a:pt x="198" y="699"/>
                  </a:lnTo>
                  <a:lnTo>
                    <a:pt x="131" y="643"/>
                  </a:lnTo>
                  <a:lnTo>
                    <a:pt x="0" y="0"/>
                  </a:lnTo>
                  <a:lnTo>
                    <a:pt x="68" y="57"/>
                  </a:lnTo>
                  <a:lnTo>
                    <a:pt x="138" y="11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14040" y="5144760"/>
              <a:ext cx="39600" cy="51120"/>
            </a:xfrm>
            <a:custGeom>
              <a:avLst/>
              <a:gdLst/>
              <a:ahLst/>
              <a:rect l="l" t="t" r="r" b="b"/>
              <a:pathLst>
                <a:path w="263" h="764">
                  <a:moveTo>
                    <a:pt x="132" y="121"/>
                  </a:moveTo>
                  <a:lnTo>
                    <a:pt x="263" y="764"/>
                  </a:lnTo>
                  <a:lnTo>
                    <a:pt x="197" y="706"/>
                  </a:lnTo>
                  <a:lnTo>
                    <a:pt x="135" y="646"/>
                  </a:lnTo>
                  <a:lnTo>
                    <a:pt x="0" y="0"/>
                  </a:lnTo>
                  <a:lnTo>
                    <a:pt x="65" y="62"/>
                  </a:lnTo>
                  <a:lnTo>
                    <a:pt x="132" y="12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95320" y="5136480"/>
              <a:ext cx="39600" cy="51120"/>
            </a:xfrm>
            <a:custGeom>
              <a:avLst/>
              <a:gdLst/>
              <a:ahLst/>
              <a:rect l="l" t="t" r="r" b="b"/>
              <a:pathLst>
                <a:path w="260" h="776">
                  <a:moveTo>
                    <a:pt x="125" y="130"/>
                  </a:moveTo>
                  <a:lnTo>
                    <a:pt x="260" y="776"/>
                  </a:lnTo>
                  <a:lnTo>
                    <a:pt x="198" y="713"/>
                  </a:lnTo>
                  <a:lnTo>
                    <a:pt x="139" y="650"/>
                  </a:lnTo>
                  <a:lnTo>
                    <a:pt x="0" y="0"/>
                  </a:lnTo>
                  <a:lnTo>
                    <a:pt x="62" y="67"/>
                  </a:lnTo>
                  <a:lnTo>
                    <a:pt x="125" y="13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278760" y="5126760"/>
              <a:ext cx="37080" cy="52200"/>
            </a:xfrm>
            <a:custGeom>
              <a:avLst/>
              <a:gdLst/>
              <a:ahLst/>
              <a:rect l="l" t="t" r="r" b="b"/>
              <a:pathLst>
                <a:path w="256" h="788">
                  <a:moveTo>
                    <a:pt x="117" y="138"/>
                  </a:moveTo>
                  <a:lnTo>
                    <a:pt x="256" y="788"/>
                  </a:lnTo>
                  <a:lnTo>
                    <a:pt x="197" y="721"/>
                  </a:lnTo>
                  <a:lnTo>
                    <a:pt x="142" y="653"/>
                  </a:lnTo>
                  <a:lnTo>
                    <a:pt x="0" y="0"/>
                  </a:lnTo>
                  <a:lnTo>
                    <a:pt x="58" y="70"/>
                  </a:lnTo>
                  <a:lnTo>
                    <a:pt x="117" y="138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199200" y="5050080"/>
              <a:ext cx="48240" cy="45720"/>
            </a:xfrm>
            <a:custGeom>
              <a:avLst/>
              <a:gdLst/>
              <a:ahLst/>
              <a:rect l="l" t="t" r="r" b="b"/>
              <a:pathLst>
                <a:path w="332" h="686">
                  <a:moveTo>
                    <a:pt x="182" y="0"/>
                  </a:moveTo>
                  <a:lnTo>
                    <a:pt x="332" y="684"/>
                  </a:lnTo>
                  <a:lnTo>
                    <a:pt x="244" y="686"/>
                  </a:lnTo>
                  <a:lnTo>
                    <a:pt x="156" y="685"/>
                  </a:lnTo>
                  <a:lnTo>
                    <a:pt x="0" y="0"/>
                  </a:lnTo>
                  <a:lnTo>
                    <a:pt x="91" y="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172200" y="5050080"/>
              <a:ext cx="50040" cy="45720"/>
            </a:xfrm>
            <a:custGeom>
              <a:avLst/>
              <a:gdLst/>
              <a:ahLst/>
              <a:rect l="l" t="t" r="r" b="b"/>
              <a:pathLst>
                <a:path w="336" h="694">
                  <a:moveTo>
                    <a:pt x="180" y="9"/>
                  </a:moveTo>
                  <a:lnTo>
                    <a:pt x="336" y="694"/>
                  </a:lnTo>
                  <a:lnTo>
                    <a:pt x="249" y="689"/>
                  </a:lnTo>
                  <a:lnTo>
                    <a:pt x="161" y="684"/>
                  </a:lnTo>
                  <a:lnTo>
                    <a:pt x="0" y="0"/>
                  </a:lnTo>
                  <a:lnTo>
                    <a:pt x="90" y="6"/>
                  </a:lnTo>
                  <a:lnTo>
                    <a:pt x="180" y="9"/>
                  </a:lnTo>
                  <a:close/>
                </a:path>
              </a:pathLst>
            </a:custGeom>
            <a:solidFill>
              <a:srgbClr val="5f6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45200" y="5049000"/>
              <a:ext cx="50040" cy="45360"/>
            </a:xfrm>
            <a:custGeom>
              <a:avLst/>
              <a:gdLst/>
              <a:ahLst/>
              <a:rect l="l" t="t" r="r" b="b"/>
              <a:pathLst>
                <a:path w="341" h="704">
                  <a:moveTo>
                    <a:pt x="180" y="20"/>
                  </a:moveTo>
                  <a:lnTo>
                    <a:pt x="341" y="704"/>
                  </a:lnTo>
                  <a:lnTo>
                    <a:pt x="253" y="696"/>
                  </a:lnTo>
                  <a:lnTo>
                    <a:pt x="166" y="685"/>
                  </a:lnTo>
                  <a:lnTo>
                    <a:pt x="0" y="0"/>
                  </a:lnTo>
                  <a:lnTo>
                    <a:pt x="89" y="12"/>
                  </a:lnTo>
                  <a:lnTo>
                    <a:pt x="180" y="20"/>
                  </a:lnTo>
                  <a:close/>
                </a:path>
              </a:pathLst>
            </a:custGeom>
            <a:solidFill>
              <a:srgbClr val="55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117840" y="5046120"/>
              <a:ext cx="52200" cy="47160"/>
            </a:xfrm>
            <a:custGeom>
              <a:avLst/>
              <a:gdLst/>
              <a:ahLst/>
              <a:rect l="l" t="t" r="r" b="b"/>
              <a:pathLst>
                <a:path w="343" h="713">
                  <a:moveTo>
                    <a:pt x="177" y="28"/>
                  </a:moveTo>
                  <a:lnTo>
                    <a:pt x="343" y="713"/>
                  </a:lnTo>
                  <a:lnTo>
                    <a:pt x="257" y="700"/>
                  </a:lnTo>
                  <a:lnTo>
                    <a:pt x="171" y="685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77" y="28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092640" y="5044680"/>
              <a:ext cx="50040" cy="47160"/>
            </a:xfrm>
            <a:custGeom>
              <a:avLst/>
              <a:gdLst/>
              <a:ahLst/>
              <a:rect l="l" t="t" r="r" b="b"/>
              <a:pathLst>
                <a:path w="345" h="724">
                  <a:moveTo>
                    <a:pt x="174" y="39"/>
                  </a:moveTo>
                  <a:lnTo>
                    <a:pt x="345" y="724"/>
                  </a:lnTo>
                  <a:lnTo>
                    <a:pt x="261" y="707"/>
                  </a:lnTo>
                  <a:lnTo>
                    <a:pt x="177" y="686"/>
                  </a:lnTo>
                  <a:lnTo>
                    <a:pt x="0" y="0"/>
                  </a:lnTo>
                  <a:lnTo>
                    <a:pt x="87" y="20"/>
                  </a:lnTo>
                  <a:lnTo>
                    <a:pt x="174" y="39"/>
                  </a:lnTo>
                  <a:close/>
                </a:path>
              </a:pathLst>
            </a:custGeom>
            <a:solidFill>
              <a:srgbClr val="3f3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068160" y="5040360"/>
              <a:ext cx="49680" cy="48600"/>
            </a:xfrm>
            <a:custGeom>
              <a:avLst/>
              <a:gdLst/>
              <a:ahLst/>
              <a:rect l="l" t="t" r="r" b="b"/>
              <a:pathLst>
                <a:path w="348" h="735">
                  <a:moveTo>
                    <a:pt x="171" y="49"/>
                  </a:moveTo>
                  <a:lnTo>
                    <a:pt x="348" y="735"/>
                  </a:lnTo>
                  <a:lnTo>
                    <a:pt x="264" y="712"/>
                  </a:lnTo>
                  <a:lnTo>
                    <a:pt x="182" y="687"/>
                  </a:lnTo>
                  <a:lnTo>
                    <a:pt x="0" y="0"/>
                  </a:lnTo>
                  <a:lnTo>
                    <a:pt x="85" y="26"/>
                  </a:lnTo>
                  <a:lnTo>
                    <a:pt x="171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42960" y="5036400"/>
              <a:ext cx="49680" cy="49680"/>
            </a:xfrm>
            <a:custGeom>
              <a:avLst/>
              <a:gdLst/>
              <a:ahLst/>
              <a:rect l="l" t="t" r="r" b="b"/>
              <a:pathLst>
                <a:path w="347" h="747">
                  <a:moveTo>
                    <a:pt x="165" y="60"/>
                  </a:moveTo>
                  <a:lnTo>
                    <a:pt x="347" y="747"/>
                  </a:lnTo>
                  <a:lnTo>
                    <a:pt x="266" y="720"/>
                  </a:lnTo>
                  <a:lnTo>
                    <a:pt x="186" y="690"/>
                  </a:lnTo>
                  <a:lnTo>
                    <a:pt x="0" y="0"/>
                  </a:lnTo>
                  <a:lnTo>
                    <a:pt x="82" y="31"/>
                  </a:lnTo>
                  <a:lnTo>
                    <a:pt x="165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018120" y="5032440"/>
              <a:ext cx="51840" cy="49680"/>
            </a:xfrm>
            <a:custGeom>
              <a:avLst/>
              <a:gdLst/>
              <a:ahLst/>
              <a:rect l="l" t="t" r="r" b="b"/>
              <a:pathLst>
                <a:path w="347" h="759">
                  <a:moveTo>
                    <a:pt x="161" y="69"/>
                  </a:moveTo>
                  <a:lnTo>
                    <a:pt x="347" y="759"/>
                  </a:lnTo>
                  <a:lnTo>
                    <a:pt x="268" y="726"/>
                  </a:lnTo>
                  <a:lnTo>
                    <a:pt x="190" y="692"/>
                  </a:lnTo>
                  <a:lnTo>
                    <a:pt x="0" y="0"/>
                  </a:lnTo>
                  <a:lnTo>
                    <a:pt x="80" y="36"/>
                  </a:lnTo>
                  <a:lnTo>
                    <a:pt x="161" y="6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994720" y="5026680"/>
              <a:ext cx="51840" cy="51480"/>
            </a:xfrm>
            <a:custGeom>
              <a:avLst/>
              <a:gdLst/>
              <a:ahLst/>
              <a:rect l="l" t="t" r="r" b="b"/>
              <a:pathLst>
                <a:path w="345" h="771">
                  <a:moveTo>
                    <a:pt x="155" y="79"/>
                  </a:moveTo>
                  <a:lnTo>
                    <a:pt x="345" y="771"/>
                  </a:lnTo>
                  <a:lnTo>
                    <a:pt x="269" y="734"/>
                  </a:lnTo>
                  <a:lnTo>
                    <a:pt x="195" y="693"/>
                  </a:lnTo>
                  <a:lnTo>
                    <a:pt x="0" y="0"/>
                  </a:lnTo>
                  <a:lnTo>
                    <a:pt x="76" y="41"/>
                  </a:lnTo>
                  <a:lnTo>
                    <a:pt x="155" y="7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973840" y="5021280"/>
              <a:ext cx="50040" cy="51120"/>
            </a:xfrm>
            <a:custGeom>
              <a:avLst/>
              <a:gdLst/>
              <a:ahLst/>
              <a:rect l="l" t="t" r="r" b="b"/>
              <a:pathLst>
                <a:path w="344" h="782">
                  <a:moveTo>
                    <a:pt x="149" y="89"/>
                  </a:moveTo>
                  <a:lnTo>
                    <a:pt x="344" y="782"/>
                  </a:lnTo>
                  <a:lnTo>
                    <a:pt x="270" y="740"/>
                  </a:lnTo>
                  <a:lnTo>
                    <a:pt x="199" y="695"/>
                  </a:lnTo>
                  <a:lnTo>
                    <a:pt x="0" y="0"/>
                  </a:lnTo>
                  <a:lnTo>
                    <a:pt x="73" y="46"/>
                  </a:lnTo>
                  <a:lnTo>
                    <a:pt x="149" y="89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951160" y="5014440"/>
              <a:ext cx="51840" cy="52200"/>
            </a:xfrm>
            <a:custGeom>
              <a:avLst/>
              <a:gdLst/>
              <a:ahLst/>
              <a:rect l="l" t="t" r="r" b="b"/>
              <a:pathLst>
                <a:path w="340" h="795">
                  <a:moveTo>
                    <a:pt x="141" y="100"/>
                  </a:moveTo>
                  <a:lnTo>
                    <a:pt x="340" y="795"/>
                  </a:lnTo>
                  <a:lnTo>
                    <a:pt x="271" y="748"/>
                  </a:lnTo>
                  <a:lnTo>
                    <a:pt x="203" y="698"/>
                  </a:lnTo>
                  <a:lnTo>
                    <a:pt x="0" y="0"/>
                  </a:lnTo>
                  <a:lnTo>
                    <a:pt x="70" y="51"/>
                  </a:lnTo>
                  <a:lnTo>
                    <a:pt x="141" y="100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932440" y="5007240"/>
              <a:ext cx="50040" cy="54000"/>
            </a:xfrm>
            <a:custGeom>
              <a:avLst/>
              <a:gdLst/>
              <a:ahLst/>
              <a:rect l="l" t="t" r="r" b="b"/>
              <a:pathLst>
                <a:path w="336" h="809">
                  <a:moveTo>
                    <a:pt x="133" y="111"/>
                  </a:moveTo>
                  <a:lnTo>
                    <a:pt x="336" y="809"/>
                  </a:lnTo>
                  <a:lnTo>
                    <a:pt x="270" y="756"/>
                  </a:lnTo>
                  <a:lnTo>
                    <a:pt x="207" y="701"/>
                  </a:lnTo>
                  <a:lnTo>
                    <a:pt x="0" y="0"/>
                  </a:lnTo>
                  <a:lnTo>
                    <a:pt x="65" y="57"/>
                  </a:lnTo>
                  <a:lnTo>
                    <a:pt x="133" y="11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913360" y="4998960"/>
              <a:ext cx="50040" cy="54000"/>
            </a:xfrm>
            <a:custGeom>
              <a:avLst/>
              <a:gdLst/>
              <a:ahLst/>
              <a:rect l="l" t="t" r="r" b="b"/>
              <a:pathLst>
                <a:path w="331" h="822">
                  <a:moveTo>
                    <a:pt x="124" y="121"/>
                  </a:moveTo>
                  <a:lnTo>
                    <a:pt x="331" y="822"/>
                  </a:lnTo>
                  <a:lnTo>
                    <a:pt x="269" y="764"/>
                  </a:lnTo>
                  <a:lnTo>
                    <a:pt x="210" y="705"/>
                  </a:lnTo>
                  <a:lnTo>
                    <a:pt x="0" y="0"/>
                  </a:lnTo>
                  <a:lnTo>
                    <a:pt x="60" y="62"/>
                  </a:lnTo>
                  <a:lnTo>
                    <a:pt x="124" y="12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896800" y="4990680"/>
              <a:ext cx="47520" cy="55080"/>
            </a:xfrm>
            <a:custGeom>
              <a:avLst/>
              <a:gdLst/>
              <a:ahLst/>
              <a:rect l="l" t="t" r="r" b="b"/>
              <a:pathLst>
                <a:path w="325" h="837">
                  <a:moveTo>
                    <a:pt x="115" y="132"/>
                  </a:moveTo>
                  <a:lnTo>
                    <a:pt x="325" y="837"/>
                  </a:lnTo>
                  <a:lnTo>
                    <a:pt x="267" y="773"/>
                  </a:lnTo>
                  <a:lnTo>
                    <a:pt x="213" y="709"/>
                  </a:lnTo>
                  <a:lnTo>
                    <a:pt x="0" y="0"/>
                  </a:lnTo>
                  <a:lnTo>
                    <a:pt x="56" y="68"/>
                  </a:lnTo>
                  <a:lnTo>
                    <a:pt x="11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880240" y="4980960"/>
              <a:ext cx="47520" cy="56880"/>
            </a:xfrm>
            <a:custGeom>
              <a:avLst/>
              <a:gdLst/>
              <a:ahLst/>
              <a:rect l="l" t="t" r="r" b="b"/>
              <a:pathLst>
                <a:path w="319" h="850">
                  <a:moveTo>
                    <a:pt x="106" y="141"/>
                  </a:moveTo>
                  <a:lnTo>
                    <a:pt x="319" y="850"/>
                  </a:lnTo>
                  <a:lnTo>
                    <a:pt x="267" y="781"/>
                  </a:lnTo>
                  <a:lnTo>
                    <a:pt x="216" y="711"/>
                  </a:lnTo>
                  <a:lnTo>
                    <a:pt x="0" y="0"/>
                  </a:lnTo>
                  <a:lnTo>
                    <a:pt x="51" y="72"/>
                  </a:lnTo>
                  <a:lnTo>
                    <a:pt x="106" y="14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67640" y="4971240"/>
              <a:ext cx="45720" cy="56880"/>
            </a:xfrm>
            <a:custGeom>
              <a:avLst/>
              <a:gdLst/>
              <a:ahLst/>
              <a:rect l="l" t="t" r="r" b="b"/>
              <a:pathLst>
                <a:path w="310" h="864">
                  <a:moveTo>
                    <a:pt x="94" y="153"/>
                  </a:moveTo>
                  <a:lnTo>
                    <a:pt x="310" y="864"/>
                  </a:lnTo>
                  <a:lnTo>
                    <a:pt x="263" y="791"/>
                  </a:lnTo>
                  <a:lnTo>
                    <a:pt x="219" y="715"/>
                  </a:lnTo>
                  <a:lnTo>
                    <a:pt x="0" y="0"/>
                  </a:lnTo>
                  <a:lnTo>
                    <a:pt x="46" y="78"/>
                  </a:lnTo>
                  <a:lnTo>
                    <a:pt x="94" y="153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24400" y="5050080"/>
              <a:ext cx="29160" cy="47160"/>
            </a:xfrm>
            <a:custGeom>
              <a:avLst/>
              <a:gdLst/>
              <a:ahLst/>
              <a:rect l="l" t="t" r="r" b="b"/>
              <a:pathLst>
                <a:path w="187" h="722">
                  <a:moveTo>
                    <a:pt x="38" y="40"/>
                  </a:moveTo>
                  <a:lnTo>
                    <a:pt x="187" y="722"/>
                  </a:lnTo>
                  <a:lnTo>
                    <a:pt x="182" y="718"/>
                  </a:lnTo>
                  <a:lnTo>
                    <a:pt x="178" y="713"/>
                  </a:lnTo>
                  <a:lnTo>
                    <a:pt x="173" y="708"/>
                  </a:lnTo>
                  <a:lnTo>
                    <a:pt x="169" y="703"/>
                  </a:lnTo>
                  <a:lnTo>
                    <a:pt x="165" y="698"/>
                  </a:lnTo>
                  <a:lnTo>
                    <a:pt x="160" y="694"/>
                  </a:lnTo>
                  <a:lnTo>
                    <a:pt x="155" y="689"/>
                  </a:lnTo>
                  <a:lnTo>
                    <a:pt x="150" y="684"/>
                  </a:lnTo>
                  <a:lnTo>
                    <a:pt x="0" y="0"/>
                  </a:lnTo>
                  <a:lnTo>
                    <a:pt x="5" y="6"/>
                  </a:lnTo>
                  <a:lnTo>
                    <a:pt x="9" y="11"/>
                  </a:lnTo>
                  <a:lnTo>
                    <a:pt x="14" y="15"/>
                  </a:lnTo>
                  <a:lnTo>
                    <a:pt x="18" y="20"/>
                  </a:lnTo>
                  <a:lnTo>
                    <a:pt x="23" y="25"/>
                  </a:lnTo>
                  <a:lnTo>
                    <a:pt x="28" y="31"/>
                  </a:lnTo>
                  <a:lnTo>
                    <a:pt x="32" y="35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62200" y="5117040"/>
              <a:ext cx="37080" cy="54000"/>
            </a:xfrm>
            <a:custGeom>
              <a:avLst/>
              <a:gdLst/>
              <a:ahLst/>
              <a:rect l="l" t="t" r="r" b="b"/>
              <a:pathLst>
                <a:path w="246" h="814">
                  <a:moveTo>
                    <a:pt x="104" y="161"/>
                  </a:moveTo>
                  <a:lnTo>
                    <a:pt x="246" y="814"/>
                  </a:lnTo>
                  <a:lnTo>
                    <a:pt x="224" y="783"/>
                  </a:lnTo>
                  <a:lnTo>
                    <a:pt x="203" y="752"/>
                  </a:lnTo>
                  <a:lnTo>
                    <a:pt x="182" y="721"/>
                  </a:lnTo>
                  <a:lnTo>
                    <a:pt x="163" y="690"/>
                  </a:lnTo>
                  <a:lnTo>
                    <a:pt x="143" y="657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40" y="65"/>
                  </a:lnTo>
                  <a:lnTo>
                    <a:pt x="60" y="97"/>
                  </a:lnTo>
                  <a:lnTo>
                    <a:pt x="82" y="129"/>
                  </a:lnTo>
                  <a:lnTo>
                    <a:pt x="104" y="161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49240" y="5105880"/>
              <a:ext cx="33480" cy="54000"/>
            </a:xfrm>
            <a:custGeom>
              <a:avLst/>
              <a:gdLst/>
              <a:ahLst/>
              <a:rect l="l" t="t" r="r" b="b"/>
              <a:pathLst>
                <a:path w="232" h="822">
                  <a:moveTo>
                    <a:pt x="89" y="165"/>
                  </a:moveTo>
                  <a:lnTo>
                    <a:pt x="232" y="822"/>
                  </a:lnTo>
                  <a:lnTo>
                    <a:pt x="214" y="791"/>
                  </a:lnTo>
                  <a:lnTo>
                    <a:pt x="196" y="759"/>
                  </a:lnTo>
                  <a:lnTo>
                    <a:pt x="179" y="727"/>
                  </a:lnTo>
                  <a:lnTo>
                    <a:pt x="163" y="694"/>
                  </a:lnTo>
                  <a:lnTo>
                    <a:pt x="146" y="661"/>
                  </a:lnTo>
                  <a:lnTo>
                    <a:pt x="0" y="0"/>
                  </a:lnTo>
                  <a:lnTo>
                    <a:pt x="16" y="33"/>
                  </a:lnTo>
                  <a:lnTo>
                    <a:pt x="33" y="66"/>
                  </a:lnTo>
                  <a:lnTo>
                    <a:pt x="51" y="100"/>
                  </a:lnTo>
                  <a:lnTo>
                    <a:pt x="69" y="133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37000" y="5092200"/>
              <a:ext cx="33120" cy="56520"/>
            </a:xfrm>
            <a:custGeom>
              <a:avLst/>
              <a:gdLst/>
              <a:ahLst/>
              <a:rect l="l" t="t" r="r" b="b"/>
              <a:pathLst>
                <a:path w="226" h="869">
                  <a:moveTo>
                    <a:pt x="80" y="208"/>
                  </a:moveTo>
                  <a:lnTo>
                    <a:pt x="226" y="869"/>
                  </a:lnTo>
                  <a:lnTo>
                    <a:pt x="212" y="836"/>
                  </a:lnTo>
                  <a:lnTo>
                    <a:pt x="197" y="802"/>
                  </a:lnTo>
                  <a:lnTo>
                    <a:pt x="184" y="769"/>
                  </a:lnTo>
                  <a:lnTo>
                    <a:pt x="171" y="736"/>
                  </a:lnTo>
                  <a:lnTo>
                    <a:pt x="160" y="702"/>
                  </a:lnTo>
                  <a:lnTo>
                    <a:pt x="148" y="668"/>
                  </a:lnTo>
                  <a:lnTo>
                    <a:pt x="0" y="0"/>
                  </a:lnTo>
                  <a:lnTo>
                    <a:pt x="11" y="36"/>
                  </a:lnTo>
                  <a:lnTo>
                    <a:pt x="23" y="70"/>
                  </a:lnTo>
                  <a:lnTo>
                    <a:pt x="35" y="105"/>
                  </a:lnTo>
                  <a:lnTo>
                    <a:pt x="50" y="139"/>
                  </a:lnTo>
                  <a:lnTo>
                    <a:pt x="64" y="173"/>
                  </a:lnTo>
                  <a:lnTo>
                    <a:pt x="80" y="20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32680" y="5085000"/>
              <a:ext cx="26640" cy="51120"/>
            </a:xfrm>
            <a:custGeom>
              <a:avLst/>
              <a:gdLst/>
              <a:ahLst/>
              <a:rect l="l" t="t" r="r" b="b"/>
              <a:pathLst>
                <a:path w="177" h="774">
                  <a:moveTo>
                    <a:pt x="29" y="106"/>
                  </a:moveTo>
                  <a:lnTo>
                    <a:pt x="177" y="774"/>
                  </a:lnTo>
                  <a:lnTo>
                    <a:pt x="167" y="740"/>
                  </a:lnTo>
                  <a:lnTo>
                    <a:pt x="158" y="705"/>
                  </a:lnTo>
                  <a:lnTo>
                    <a:pt x="150" y="670"/>
                  </a:lnTo>
                  <a:lnTo>
                    <a:pt x="0" y="0"/>
                  </a:lnTo>
                  <a:lnTo>
                    <a:pt x="8" y="36"/>
                  </a:lnTo>
                  <a:lnTo>
                    <a:pt x="18" y="71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857200" y="4960080"/>
              <a:ext cx="41400" cy="57960"/>
            </a:xfrm>
            <a:custGeom>
              <a:avLst/>
              <a:gdLst/>
              <a:ahLst/>
              <a:rect l="l" t="t" r="r" b="b"/>
              <a:pathLst>
                <a:path w="289" h="872">
                  <a:moveTo>
                    <a:pt x="70" y="157"/>
                  </a:moveTo>
                  <a:lnTo>
                    <a:pt x="289" y="872"/>
                  </a:lnTo>
                  <a:lnTo>
                    <a:pt x="265" y="821"/>
                  </a:lnTo>
                  <a:lnTo>
                    <a:pt x="242" y="771"/>
                  </a:lnTo>
                  <a:lnTo>
                    <a:pt x="221" y="720"/>
                  </a:lnTo>
                  <a:lnTo>
                    <a:pt x="0" y="0"/>
                  </a:lnTo>
                  <a:lnTo>
                    <a:pt x="22" y="53"/>
                  </a:lnTo>
                  <a:lnTo>
                    <a:pt x="45" y="105"/>
                  </a:lnTo>
                  <a:lnTo>
                    <a:pt x="70" y="157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848920" y="4950360"/>
              <a:ext cx="39240" cy="57960"/>
            </a:xfrm>
            <a:custGeom>
              <a:avLst/>
              <a:gdLst/>
              <a:ahLst/>
              <a:rect l="l" t="t" r="r" b="b"/>
              <a:pathLst>
                <a:path w="274" h="875">
                  <a:moveTo>
                    <a:pt x="53" y="155"/>
                  </a:moveTo>
                  <a:lnTo>
                    <a:pt x="274" y="875"/>
                  </a:lnTo>
                  <a:lnTo>
                    <a:pt x="255" y="824"/>
                  </a:lnTo>
                  <a:lnTo>
                    <a:pt x="238" y="774"/>
                  </a:lnTo>
                  <a:lnTo>
                    <a:pt x="221" y="724"/>
                  </a:lnTo>
                  <a:lnTo>
                    <a:pt x="0" y="0"/>
                  </a:lnTo>
                  <a:lnTo>
                    <a:pt x="16" y="52"/>
                  </a:lnTo>
                  <a:lnTo>
                    <a:pt x="33" y="103"/>
                  </a:lnTo>
                  <a:lnTo>
                    <a:pt x="53" y="155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28280" y="4786560"/>
              <a:ext cx="43920" cy="61200"/>
            </a:xfrm>
            <a:custGeom>
              <a:avLst/>
              <a:gdLst/>
              <a:ahLst/>
              <a:rect l="l" t="t" r="r" b="b"/>
              <a:pathLst>
                <a:path w="289" h="914">
                  <a:moveTo>
                    <a:pt x="125" y="132"/>
                  </a:moveTo>
                  <a:lnTo>
                    <a:pt x="289" y="914"/>
                  </a:lnTo>
                  <a:lnTo>
                    <a:pt x="256" y="883"/>
                  </a:lnTo>
                  <a:lnTo>
                    <a:pt x="225" y="851"/>
                  </a:lnTo>
                  <a:lnTo>
                    <a:pt x="195" y="818"/>
                  </a:lnTo>
                  <a:lnTo>
                    <a:pt x="168" y="785"/>
                  </a:lnTo>
                  <a:lnTo>
                    <a:pt x="0" y="0"/>
                  </a:lnTo>
                  <a:lnTo>
                    <a:pt x="29" y="33"/>
                  </a:lnTo>
                  <a:lnTo>
                    <a:pt x="60" y="67"/>
                  </a:lnTo>
                  <a:lnTo>
                    <a:pt x="92" y="100"/>
                  </a:lnTo>
                  <a:lnTo>
                    <a:pt x="12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09920" y="4775400"/>
              <a:ext cx="43200" cy="63720"/>
            </a:xfrm>
            <a:custGeom>
              <a:avLst/>
              <a:gdLst/>
              <a:ahLst/>
              <a:rect l="l" t="t" r="r" b="b"/>
              <a:pathLst>
                <a:path w="288" h="961">
                  <a:moveTo>
                    <a:pt x="120" y="176"/>
                  </a:moveTo>
                  <a:lnTo>
                    <a:pt x="288" y="961"/>
                  </a:lnTo>
                  <a:lnTo>
                    <a:pt x="261" y="928"/>
                  </a:lnTo>
                  <a:lnTo>
                    <a:pt x="236" y="894"/>
                  </a:lnTo>
                  <a:lnTo>
                    <a:pt x="213" y="860"/>
                  </a:lnTo>
                  <a:lnTo>
                    <a:pt x="191" y="826"/>
                  </a:lnTo>
                  <a:lnTo>
                    <a:pt x="171" y="790"/>
                  </a:lnTo>
                  <a:lnTo>
                    <a:pt x="0" y="0"/>
                  </a:lnTo>
                  <a:lnTo>
                    <a:pt x="21" y="36"/>
                  </a:lnTo>
                  <a:lnTo>
                    <a:pt x="43" y="72"/>
                  </a:lnTo>
                  <a:lnTo>
                    <a:pt x="68" y="107"/>
                  </a:lnTo>
                  <a:lnTo>
                    <a:pt x="94" y="141"/>
                  </a:lnTo>
                  <a:lnTo>
                    <a:pt x="120" y="176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099480" y="4763160"/>
              <a:ext cx="37080" cy="64800"/>
            </a:xfrm>
            <a:custGeom>
              <a:avLst/>
              <a:gdLst/>
              <a:ahLst/>
              <a:rect l="l" t="t" r="r" b="b"/>
              <a:pathLst>
                <a:path w="252" h="978">
                  <a:moveTo>
                    <a:pt x="81" y="188"/>
                  </a:moveTo>
                  <a:lnTo>
                    <a:pt x="252" y="978"/>
                  </a:lnTo>
                  <a:lnTo>
                    <a:pt x="232" y="942"/>
                  </a:lnTo>
                  <a:lnTo>
                    <a:pt x="216" y="906"/>
                  </a:lnTo>
                  <a:lnTo>
                    <a:pt x="199" y="870"/>
                  </a:lnTo>
                  <a:lnTo>
                    <a:pt x="186" y="833"/>
                  </a:lnTo>
                  <a:lnTo>
                    <a:pt x="173" y="795"/>
                  </a:lnTo>
                  <a:lnTo>
                    <a:pt x="0" y="0"/>
                  </a:lnTo>
                  <a:lnTo>
                    <a:pt x="14" y="39"/>
                  </a:lnTo>
                  <a:lnTo>
                    <a:pt x="28" y="76"/>
                  </a:lnTo>
                  <a:lnTo>
                    <a:pt x="43" y="114"/>
                  </a:lnTo>
                  <a:lnTo>
                    <a:pt x="62" y="151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095160" y="4757760"/>
              <a:ext cx="29160" cy="57960"/>
            </a:xfrm>
            <a:custGeom>
              <a:avLst/>
              <a:gdLst/>
              <a:ahLst/>
              <a:rect l="l" t="t" r="r" b="b"/>
              <a:pathLst>
                <a:path w="193" h="873">
                  <a:moveTo>
                    <a:pt x="20" y="78"/>
                  </a:moveTo>
                  <a:lnTo>
                    <a:pt x="193" y="873"/>
                  </a:lnTo>
                  <a:lnTo>
                    <a:pt x="182" y="836"/>
                  </a:lnTo>
                  <a:lnTo>
                    <a:pt x="173" y="798"/>
                  </a:lnTo>
                  <a:lnTo>
                    <a:pt x="0" y="0"/>
                  </a:lnTo>
                  <a:lnTo>
                    <a:pt x="9" y="40"/>
                  </a:lnTo>
                  <a:lnTo>
                    <a:pt x="20" y="78"/>
                  </a:lnTo>
                  <a:close/>
                </a:path>
              </a:pathLst>
            </a:custGeom>
            <a:solidFill>
              <a:srgbClr val="262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838120" y="4548240"/>
              <a:ext cx="2445840" cy="760320"/>
            </a:xfrm>
            <a:custGeom>
              <a:avLst/>
              <a:gdLst/>
              <a:ahLst/>
              <a:rect l="l" t="t" r="r" b="b"/>
              <a:pathLst>
                <a:path w="16408" h="11518">
                  <a:moveTo>
                    <a:pt x="12894" y="1455"/>
                  </a:moveTo>
                  <a:lnTo>
                    <a:pt x="12992" y="1452"/>
                  </a:lnTo>
                  <a:lnTo>
                    <a:pt x="13091" y="1453"/>
                  </a:lnTo>
                  <a:lnTo>
                    <a:pt x="13190" y="1456"/>
                  </a:lnTo>
                  <a:lnTo>
                    <a:pt x="13290" y="1463"/>
                  </a:lnTo>
                  <a:lnTo>
                    <a:pt x="13391" y="1473"/>
                  </a:lnTo>
                  <a:lnTo>
                    <a:pt x="13490" y="1485"/>
                  </a:lnTo>
                  <a:lnTo>
                    <a:pt x="13591" y="1501"/>
                  </a:lnTo>
                  <a:lnTo>
                    <a:pt x="13690" y="1519"/>
                  </a:lnTo>
                  <a:lnTo>
                    <a:pt x="13790" y="1541"/>
                  </a:lnTo>
                  <a:lnTo>
                    <a:pt x="13888" y="1566"/>
                  </a:lnTo>
                  <a:lnTo>
                    <a:pt x="13987" y="1594"/>
                  </a:lnTo>
                  <a:lnTo>
                    <a:pt x="14083" y="1626"/>
                  </a:lnTo>
                  <a:lnTo>
                    <a:pt x="14179" y="1659"/>
                  </a:lnTo>
                  <a:lnTo>
                    <a:pt x="14273" y="1696"/>
                  </a:lnTo>
                  <a:lnTo>
                    <a:pt x="14365" y="1737"/>
                  </a:lnTo>
                  <a:lnTo>
                    <a:pt x="14455" y="1781"/>
                  </a:lnTo>
                  <a:lnTo>
                    <a:pt x="14545" y="1828"/>
                  </a:lnTo>
                  <a:lnTo>
                    <a:pt x="14631" y="1878"/>
                  </a:lnTo>
                  <a:lnTo>
                    <a:pt x="14715" y="1931"/>
                  </a:lnTo>
                  <a:lnTo>
                    <a:pt x="14797" y="1987"/>
                  </a:lnTo>
                  <a:lnTo>
                    <a:pt x="14876" y="2046"/>
                  </a:lnTo>
                  <a:lnTo>
                    <a:pt x="14952" y="2109"/>
                  </a:lnTo>
                  <a:lnTo>
                    <a:pt x="15026" y="2174"/>
                  </a:lnTo>
                  <a:lnTo>
                    <a:pt x="15095" y="2244"/>
                  </a:lnTo>
                  <a:lnTo>
                    <a:pt x="15162" y="2316"/>
                  </a:lnTo>
                  <a:lnTo>
                    <a:pt x="15225" y="2392"/>
                  </a:lnTo>
                  <a:lnTo>
                    <a:pt x="15283" y="2471"/>
                  </a:lnTo>
                  <a:lnTo>
                    <a:pt x="15338" y="2554"/>
                  </a:lnTo>
                  <a:lnTo>
                    <a:pt x="15389" y="2639"/>
                  </a:lnTo>
                  <a:lnTo>
                    <a:pt x="15436" y="2727"/>
                  </a:lnTo>
                  <a:lnTo>
                    <a:pt x="15478" y="2820"/>
                  </a:lnTo>
                  <a:lnTo>
                    <a:pt x="15515" y="2915"/>
                  </a:lnTo>
                  <a:lnTo>
                    <a:pt x="15530" y="2973"/>
                  </a:lnTo>
                  <a:lnTo>
                    <a:pt x="15544" y="3031"/>
                  </a:lnTo>
                  <a:lnTo>
                    <a:pt x="15555" y="3088"/>
                  </a:lnTo>
                  <a:lnTo>
                    <a:pt x="15563" y="3144"/>
                  </a:lnTo>
                  <a:lnTo>
                    <a:pt x="15569" y="3199"/>
                  </a:lnTo>
                  <a:lnTo>
                    <a:pt x="15573" y="3255"/>
                  </a:lnTo>
                  <a:lnTo>
                    <a:pt x="15575" y="3310"/>
                  </a:lnTo>
                  <a:lnTo>
                    <a:pt x="15575" y="3364"/>
                  </a:lnTo>
                  <a:lnTo>
                    <a:pt x="15572" y="3417"/>
                  </a:lnTo>
                  <a:lnTo>
                    <a:pt x="15568" y="3470"/>
                  </a:lnTo>
                  <a:lnTo>
                    <a:pt x="15561" y="3522"/>
                  </a:lnTo>
                  <a:lnTo>
                    <a:pt x="15553" y="3573"/>
                  </a:lnTo>
                  <a:lnTo>
                    <a:pt x="15541" y="3624"/>
                  </a:lnTo>
                  <a:lnTo>
                    <a:pt x="15528" y="3674"/>
                  </a:lnTo>
                  <a:lnTo>
                    <a:pt x="15514" y="3724"/>
                  </a:lnTo>
                  <a:lnTo>
                    <a:pt x="15496" y="3773"/>
                  </a:lnTo>
                  <a:lnTo>
                    <a:pt x="15478" y="3821"/>
                  </a:lnTo>
                  <a:lnTo>
                    <a:pt x="15456" y="3868"/>
                  </a:lnTo>
                  <a:lnTo>
                    <a:pt x="15434" y="3915"/>
                  </a:lnTo>
                  <a:lnTo>
                    <a:pt x="15409" y="3960"/>
                  </a:lnTo>
                  <a:lnTo>
                    <a:pt x="15383" y="4005"/>
                  </a:lnTo>
                  <a:lnTo>
                    <a:pt x="15355" y="4049"/>
                  </a:lnTo>
                  <a:lnTo>
                    <a:pt x="15324" y="4093"/>
                  </a:lnTo>
                  <a:lnTo>
                    <a:pt x="15292" y="4135"/>
                  </a:lnTo>
                  <a:lnTo>
                    <a:pt x="15259" y="4177"/>
                  </a:lnTo>
                  <a:lnTo>
                    <a:pt x="15224" y="4219"/>
                  </a:lnTo>
                  <a:lnTo>
                    <a:pt x="15187" y="4258"/>
                  </a:lnTo>
                  <a:lnTo>
                    <a:pt x="15149" y="4298"/>
                  </a:lnTo>
                  <a:lnTo>
                    <a:pt x="15108" y="4336"/>
                  </a:lnTo>
                  <a:lnTo>
                    <a:pt x="15067" y="4374"/>
                  </a:lnTo>
                  <a:lnTo>
                    <a:pt x="15023" y="4410"/>
                  </a:lnTo>
                  <a:lnTo>
                    <a:pt x="14978" y="4447"/>
                  </a:lnTo>
                  <a:lnTo>
                    <a:pt x="15048" y="4466"/>
                  </a:lnTo>
                  <a:lnTo>
                    <a:pt x="15117" y="4487"/>
                  </a:lnTo>
                  <a:lnTo>
                    <a:pt x="15186" y="4510"/>
                  </a:lnTo>
                  <a:lnTo>
                    <a:pt x="15252" y="4534"/>
                  </a:lnTo>
                  <a:lnTo>
                    <a:pt x="15318" y="4561"/>
                  </a:lnTo>
                  <a:lnTo>
                    <a:pt x="15381" y="4588"/>
                  </a:lnTo>
                  <a:lnTo>
                    <a:pt x="15444" y="4619"/>
                  </a:lnTo>
                  <a:lnTo>
                    <a:pt x="15506" y="4650"/>
                  </a:lnTo>
                  <a:lnTo>
                    <a:pt x="15566" y="4683"/>
                  </a:lnTo>
                  <a:lnTo>
                    <a:pt x="15625" y="4718"/>
                  </a:lnTo>
                  <a:lnTo>
                    <a:pt x="15681" y="4755"/>
                  </a:lnTo>
                  <a:lnTo>
                    <a:pt x="15736" y="4793"/>
                  </a:lnTo>
                  <a:lnTo>
                    <a:pt x="15790" y="4833"/>
                  </a:lnTo>
                  <a:lnTo>
                    <a:pt x="15841" y="4875"/>
                  </a:lnTo>
                  <a:lnTo>
                    <a:pt x="15891" y="4919"/>
                  </a:lnTo>
                  <a:lnTo>
                    <a:pt x="15939" y="4964"/>
                  </a:lnTo>
                  <a:lnTo>
                    <a:pt x="15985" y="5011"/>
                  </a:lnTo>
                  <a:lnTo>
                    <a:pt x="16030" y="5060"/>
                  </a:lnTo>
                  <a:lnTo>
                    <a:pt x="16072" y="5111"/>
                  </a:lnTo>
                  <a:lnTo>
                    <a:pt x="16112" y="5164"/>
                  </a:lnTo>
                  <a:lnTo>
                    <a:pt x="16150" y="5219"/>
                  </a:lnTo>
                  <a:lnTo>
                    <a:pt x="16184" y="5275"/>
                  </a:lnTo>
                  <a:lnTo>
                    <a:pt x="16218" y="5333"/>
                  </a:lnTo>
                  <a:lnTo>
                    <a:pt x="16249" y="5392"/>
                  </a:lnTo>
                  <a:lnTo>
                    <a:pt x="16278" y="5455"/>
                  </a:lnTo>
                  <a:lnTo>
                    <a:pt x="16303" y="5518"/>
                  </a:lnTo>
                  <a:lnTo>
                    <a:pt x="16327" y="5584"/>
                  </a:lnTo>
                  <a:lnTo>
                    <a:pt x="16349" y="5651"/>
                  </a:lnTo>
                  <a:lnTo>
                    <a:pt x="16367" y="5720"/>
                  </a:lnTo>
                  <a:lnTo>
                    <a:pt x="16382" y="5791"/>
                  </a:lnTo>
                  <a:lnTo>
                    <a:pt x="16396" y="5864"/>
                  </a:lnTo>
                  <a:lnTo>
                    <a:pt x="16406" y="5939"/>
                  </a:lnTo>
                  <a:lnTo>
                    <a:pt x="16408" y="6053"/>
                  </a:lnTo>
                  <a:lnTo>
                    <a:pt x="16404" y="6164"/>
                  </a:lnTo>
                  <a:lnTo>
                    <a:pt x="16395" y="6273"/>
                  </a:lnTo>
                  <a:lnTo>
                    <a:pt x="16378" y="6381"/>
                  </a:lnTo>
                  <a:lnTo>
                    <a:pt x="16357" y="6487"/>
                  </a:lnTo>
                  <a:lnTo>
                    <a:pt x="16329" y="6591"/>
                  </a:lnTo>
                  <a:lnTo>
                    <a:pt x="16296" y="6692"/>
                  </a:lnTo>
                  <a:lnTo>
                    <a:pt x="16258" y="6792"/>
                  </a:lnTo>
                  <a:lnTo>
                    <a:pt x="16215" y="6889"/>
                  </a:lnTo>
                  <a:lnTo>
                    <a:pt x="16167" y="6985"/>
                  </a:lnTo>
                  <a:lnTo>
                    <a:pt x="16115" y="7077"/>
                  </a:lnTo>
                  <a:lnTo>
                    <a:pt x="16058" y="7169"/>
                  </a:lnTo>
                  <a:lnTo>
                    <a:pt x="15997" y="7258"/>
                  </a:lnTo>
                  <a:lnTo>
                    <a:pt x="15932" y="7343"/>
                  </a:lnTo>
                  <a:lnTo>
                    <a:pt x="15862" y="7427"/>
                  </a:lnTo>
                  <a:lnTo>
                    <a:pt x="15791" y="7509"/>
                  </a:lnTo>
                  <a:lnTo>
                    <a:pt x="15715" y="7588"/>
                  </a:lnTo>
                  <a:lnTo>
                    <a:pt x="15635" y="7664"/>
                  </a:lnTo>
                  <a:lnTo>
                    <a:pt x="15553" y="7738"/>
                  </a:lnTo>
                  <a:lnTo>
                    <a:pt x="15468" y="7809"/>
                  </a:lnTo>
                  <a:lnTo>
                    <a:pt x="15380" y="7877"/>
                  </a:lnTo>
                  <a:lnTo>
                    <a:pt x="15290" y="7943"/>
                  </a:lnTo>
                  <a:lnTo>
                    <a:pt x="15198" y="8005"/>
                  </a:lnTo>
                  <a:lnTo>
                    <a:pt x="15104" y="8065"/>
                  </a:lnTo>
                  <a:lnTo>
                    <a:pt x="15008" y="8122"/>
                  </a:lnTo>
                  <a:lnTo>
                    <a:pt x="14910" y="8176"/>
                  </a:lnTo>
                  <a:lnTo>
                    <a:pt x="14811" y="8227"/>
                  </a:lnTo>
                  <a:lnTo>
                    <a:pt x="14711" y="8276"/>
                  </a:lnTo>
                  <a:lnTo>
                    <a:pt x="14610" y="8321"/>
                  </a:lnTo>
                  <a:lnTo>
                    <a:pt x="14508" y="8363"/>
                  </a:lnTo>
                  <a:lnTo>
                    <a:pt x="14406" y="8401"/>
                  </a:lnTo>
                  <a:lnTo>
                    <a:pt x="14303" y="8436"/>
                  </a:lnTo>
                  <a:lnTo>
                    <a:pt x="14269" y="8448"/>
                  </a:lnTo>
                  <a:lnTo>
                    <a:pt x="14234" y="8457"/>
                  </a:lnTo>
                  <a:lnTo>
                    <a:pt x="14199" y="8468"/>
                  </a:lnTo>
                  <a:lnTo>
                    <a:pt x="14165" y="8477"/>
                  </a:lnTo>
                  <a:lnTo>
                    <a:pt x="14130" y="8486"/>
                  </a:lnTo>
                  <a:lnTo>
                    <a:pt x="14095" y="8496"/>
                  </a:lnTo>
                  <a:lnTo>
                    <a:pt x="14062" y="8504"/>
                  </a:lnTo>
                  <a:lnTo>
                    <a:pt x="14027" y="8513"/>
                  </a:lnTo>
                  <a:lnTo>
                    <a:pt x="13992" y="8520"/>
                  </a:lnTo>
                  <a:lnTo>
                    <a:pt x="13957" y="8528"/>
                  </a:lnTo>
                  <a:lnTo>
                    <a:pt x="13923" y="8535"/>
                  </a:lnTo>
                  <a:lnTo>
                    <a:pt x="13888" y="8542"/>
                  </a:lnTo>
                  <a:lnTo>
                    <a:pt x="13853" y="8549"/>
                  </a:lnTo>
                  <a:lnTo>
                    <a:pt x="13819" y="8555"/>
                  </a:lnTo>
                  <a:lnTo>
                    <a:pt x="13784" y="8560"/>
                  </a:lnTo>
                  <a:lnTo>
                    <a:pt x="13749" y="8567"/>
                  </a:lnTo>
                  <a:lnTo>
                    <a:pt x="13713" y="8572"/>
                  </a:lnTo>
                  <a:lnTo>
                    <a:pt x="13678" y="8576"/>
                  </a:lnTo>
                  <a:lnTo>
                    <a:pt x="13643" y="8581"/>
                  </a:lnTo>
                  <a:lnTo>
                    <a:pt x="13608" y="8585"/>
                  </a:lnTo>
                  <a:lnTo>
                    <a:pt x="13572" y="8590"/>
                  </a:lnTo>
                  <a:lnTo>
                    <a:pt x="13538" y="8593"/>
                  </a:lnTo>
                  <a:lnTo>
                    <a:pt x="13502" y="8596"/>
                  </a:lnTo>
                  <a:lnTo>
                    <a:pt x="13466" y="8599"/>
                  </a:lnTo>
                  <a:lnTo>
                    <a:pt x="13431" y="8601"/>
                  </a:lnTo>
                  <a:lnTo>
                    <a:pt x="13395" y="8603"/>
                  </a:lnTo>
                  <a:lnTo>
                    <a:pt x="13359" y="8605"/>
                  </a:lnTo>
                  <a:lnTo>
                    <a:pt x="13323" y="8606"/>
                  </a:lnTo>
                  <a:lnTo>
                    <a:pt x="13287" y="8607"/>
                  </a:lnTo>
                  <a:lnTo>
                    <a:pt x="13250" y="8608"/>
                  </a:lnTo>
                  <a:lnTo>
                    <a:pt x="13215" y="8608"/>
                  </a:lnTo>
                  <a:lnTo>
                    <a:pt x="13179" y="8608"/>
                  </a:lnTo>
                  <a:lnTo>
                    <a:pt x="13156" y="8703"/>
                  </a:lnTo>
                  <a:lnTo>
                    <a:pt x="13132" y="8797"/>
                  </a:lnTo>
                  <a:lnTo>
                    <a:pt x="13105" y="8888"/>
                  </a:lnTo>
                  <a:lnTo>
                    <a:pt x="13075" y="8978"/>
                  </a:lnTo>
                  <a:lnTo>
                    <a:pt x="13042" y="9067"/>
                  </a:lnTo>
                  <a:lnTo>
                    <a:pt x="13006" y="9154"/>
                  </a:lnTo>
                  <a:lnTo>
                    <a:pt x="12969" y="9239"/>
                  </a:lnTo>
                  <a:lnTo>
                    <a:pt x="12928" y="9323"/>
                  </a:lnTo>
                  <a:lnTo>
                    <a:pt x="12886" y="9406"/>
                  </a:lnTo>
                  <a:lnTo>
                    <a:pt x="12840" y="9486"/>
                  </a:lnTo>
                  <a:lnTo>
                    <a:pt x="12793" y="9565"/>
                  </a:lnTo>
                  <a:lnTo>
                    <a:pt x="12744" y="9643"/>
                  </a:lnTo>
                  <a:lnTo>
                    <a:pt x="12692" y="9719"/>
                  </a:lnTo>
                  <a:lnTo>
                    <a:pt x="12637" y="9794"/>
                  </a:lnTo>
                  <a:lnTo>
                    <a:pt x="12581" y="9867"/>
                  </a:lnTo>
                  <a:lnTo>
                    <a:pt x="12522" y="9939"/>
                  </a:lnTo>
                  <a:lnTo>
                    <a:pt x="12462" y="10010"/>
                  </a:lnTo>
                  <a:lnTo>
                    <a:pt x="12399" y="10079"/>
                  </a:lnTo>
                  <a:lnTo>
                    <a:pt x="12336" y="10146"/>
                  </a:lnTo>
                  <a:lnTo>
                    <a:pt x="12269" y="10212"/>
                  </a:lnTo>
                  <a:lnTo>
                    <a:pt x="12201" y="10277"/>
                  </a:lnTo>
                  <a:lnTo>
                    <a:pt x="12132" y="10339"/>
                  </a:lnTo>
                  <a:lnTo>
                    <a:pt x="12060" y="10401"/>
                  </a:lnTo>
                  <a:lnTo>
                    <a:pt x="11987" y="10461"/>
                  </a:lnTo>
                  <a:lnTo>
                    <a:pt x="11912" y="10519"/>
                  </a:lnTo>
                  <a:lnTo>
                    <a:pt x="11836" y="10577"/>
                  </a:lnTo>
                  <a:lnTo>
                    <a:pt x="11758" y="10632"/>
                  </a:lnTo>
                  <a:lnTo>
                    <a:pt x="11679" y="10686"/>
                  </a:lnTo>
                  <a:lnTo>
                    <a:pt x="11599" y="10739"/>
                  </a:lnTo>
                  <a:lnTo>
                    <a:pt x="11517" y="10791"/>
                  </a:lnTo>
                  <a:lnTo>
                    <a:pt x="11434" y="10841"/>
                  </a:lnTo>
                  <a:lnTo>
                    <a:pt x="11350" y="10889"/>
                  </a:lnTo>
                  <a:lnTo>
                    <a:pt x="11320" y="10905"/>
                  </a:lnTo>
                  <a:lnTo>
                    <a:pt x="11292" y="10920"/>
                  </a:lnTo>
                  <a:lnTo>
                    <a:pt x="11262" y="10936"/>
                  </a:lnTo>
                  <a:lnTo>
                    <a:pt x="11232" y="10950"/>
                  </a:lnTo>
                  <a:lnTo>
                    <a:pt x="11203" y="10965"/>
                  </a:lnTo>
                  <a:lnTo>
                    <a:pt x="11174" y="10980"/>
                  </a:lnTo>
                  <a:lnTo>
                    <a:pt x="11144" y="10994"/>
                  </a:lnTo>
                  <a:lnTo>
                    <a:pt x="11114" y="11009"/>
                  </a:lnTo>
                  <a:lnTo>
                    <a:pt x="11084" y="11023"/>
                  </a:lnTo>
                  <a:lnTo>
                    <a:pt x="11054" y="11037"/>
                  </a:lnTo>
                  <a:lnTo>
                    <a:pt x="11024" y="11050"/>
                  </a:lnTo>
                  <a:lnTo>
                    <a:pt x="10994" y="11065"/>
                  </a:lnTo>
                  <a:lnTo>
                    <a:pt x="10964" y="11079"/>
                  </a:lnTo>
                  <a:lnTo>
                    <a:pt x="10934" y="11092"/>
                  </a:lnTo>
                  <a:lnTo>
                    <a:pt x="10903" y="11106"/>
                  </a:lnTo>
                  <a:lnTo>
                    <a:pt x="10872" y="11119"/>
                  </a:lnTo>
                  <a:lnTo>
                    <a:pt x="10805" y="11145"/>
                  </a:lnTo>
                  <a:lnTo>
                    <a:pt x="10737" y="11171"/>
                  </a:lnTo>
                  <a:lnTo>
                    <a:pt x="10668" y="11195"/>
                  </a:lnTo>
                  <a:lnTo>
                    <a:pt x="10601" y="11219"/>
                  </a:lnTo>
                  <a:lnTo>
                    <a:pt x="10533" y="11241"/>
                  </a:lnTo>
                  <a:lnTo>
                    <a:pt x="10466" y="11263"/>
                  </a:lnTo>
                  <a:lnTo>
                    <a:pt x="10399" y="11284"/>
                  </a:lnTo>
                  <a:lnTo>
                    <a:pt x="10331" y="11303"/>
                  </a:lnTo>
                  <a:lnTo>
                    <a:pt x="10263" y="11322"/>
                  </a:lnTo>
                  <a:lnTo>
                    <a:pt x="10197" y="11340"/>
                  </a:lnTo>
                  <a:lnTo>
                    <a:pt x="10129" y="11358"/>
                  </a:lnTo>
                  <a:lnTo>
                    <a:pt x="10061" y="11373"/>
                  </a:lnTo>
                  <a:lnTo>
                    <a:pt x="9993" y="11389"/>
                  </a:lnTo>
                  <a:lnTo>
                    <a:pt x="9926" y="11403"/>
                  </a:lnTo>
                  <a:lnTo>
                    <a:pt x="9858" y="11417"/>
                  </a:lnTo>
                  <a:lnTo>
                    <a:pt x="9789" y="11429"/>
                  </a:lnTo>
                  <a:lnTo>
                    <a:pt x="9722" y="11441"/>
                  </a:lnTo>
                  <a:lnTo>
                    <a:pt x="9653" y="11452"/>
                  </a:lnTo>
                  <a:lnTo>
                    <a:pt x="9584" y="11462"/>
                  </a:lnTo>
                  <a:lnTo>
                    <a:pt x="9516" y="11471"/>
                  </a:lnTo>
                  <a:lnTo>
                    <a:pt x="9447" y="11479"/>
                  </a:lnTo>
                  <a:lnTo>
                    <a:pt x="9377" y="11487"/>
                  </a:lnTo>
                  <a:lnTo>
                    <a:pt x="9307" y="11494"/>
                  </a:lnTo>
                  <a:lnTo>
                    <a:pt x="9238" y="11499"/>
                  </a:lnTo>
                  <a:lnTo>
                    <a:pt x="9167" y="11504"/>
                  </a:lnTo>
                  <a:lnTo>
                    <a:pt x="9097" y="11509"/>
                  </a:lnTo>
                  <a:lnTo>
                    <a:pt x="9025" y="11512"/>
                  </a:lnTo>
                  <a:lnTo>
                    <a:pt x="8954" y="11515"/>
                  </a:lnTo>
                  <a:lnTo>
                    <a:pt x="8882" y="11517"/>
                  </a:lnTo>
                  <a:lnTo>
                    <a:pt x="8810" y="11517"/>
                  </a:lnTo>
                  <a:lnTo>
                    <a:pt x="8737" y="11518"/>
                  </a:lnTo>
                  <a:lnTo>
                    <a:pt x="8663" y="11517"/>
                  </a:lnTo>
                  <a:lnTo>
                    <a:pt x="8262" y="11488"/>
                  </a:lnTo>
                  <a:lnTo>
                    <a:pt x="8161" y="11474"/>
                  </a:lnTo>
                  <a:lnTo>
                    <a:pt x="8060" y="11458"/>
                  </a:lnTo>
                  <a:lnTo>
                    <a:pt x="7959" y="11440"/>
                  </a:lnTo>
                  <a:lnTo>
                    <a:pt x="7858" y="11421"/>
                  </a:lnTo>
                  <a:lnTo>
                    <a:pt x="7758" y="11400"/>
                  </a:lnTo>
                  <a:lnTo>
                    <a:pt x="7657" y="11376"/>
                  </a:lnTo>
                  <a:lnTo>
                    <a:pt x="7558" y="11351"/>
                  </a:lnTo>
                  <a:lnTo>
                    <a:pt x="7459" y="11325"/>
                  </a:lnTo>
                  <a:lnTo>
                    <a:pt x="7362" y="11296"/>
                  </a:lnTo>
                  <a:lnTo>
                    <a:pt x="7265" y="11265"/>
                  </a:lnTo>
                  <a:lnTo>
                    <a:pt x="7168" y="11233"/>
                  </a:lnTo>
                  <a:lnTo>
                    <a:pt x="7072" y="11197"/>
                  </a:lnTo>
                  <a:lnTo>
                    <a:pt x="6978" y="11161"/>
                  </a:lnTo>
                  <a:lnTo>
                    <a:pt x="6884" y="11121"/>
                  </a:lnTo>
                  <a:lnTo>
                    <a:pt x="6792" y="11080"/>
                  </a:lnTo>
                  <a:lnTo>
                    <a:pt x="6701" y="11037"/>
                  </a:lnTo>
                  <a:lnTo>
                    <a:pt x="6611" y="10990"/>
                  </a:lnTo>
                  <a:lnTo>
                    <a:pt x="6522" y="10942"/>
                  </a:lnTo>
                  <a:lnTo>
                    <a:pt x="6436" y="10892"/>
                  </a:lnTo>
                  <a:lnTo>
                    <a:pt x="6350" y="10839"/>
                  </a:lnTo>
                  <a:lnTo>
                    <a:pt x="6266" y="10784"/>
                  </a:lnTo>
                  <a:lnTo>
                    <a:pt x="6184" y="10727"/>
                  </a:lnTo>
                  <a:lnTo>
                    <a:pt x="6104" y="10666"/>
                  </a:lnTo>
                  <a:lnTo>
                    <a:pt x="6025" y="10604"/>
                  </a:lnTo>
                  <a:lnTo>
                    <a:pt x="5948" y="10539"/>
                  </a:lnTo>
                  <a:lnTo>
                    <a:pt x="5873" y="10471"/>
                  </a:lnTo>
                  <a:lnTo>
                    <a:pt x="5800" y="10401"/>
                  </a:lnTo>
                  <a:lnTo>
                    <a:pt x="5729" y="10328"/>
                  </a:lnTo>
                  <a:lnTo>
                    <a:pt x="5662" y="10253"/>
                  </a:lnTo>
                  <a:lnTo>
                    <a:pt x="5595" y="10175"/>
                  </a:lnTo>
                  <a:lnTo>
                    <a:pt x="5532" y="10093"/>
                  </a:lnTo>
                  <a:lnTo>
                    <a:pt x="5470" y="10010"/>
                  </a:lnTo>
                  <a:lnTo>
                    <a:pt x="5380" y="10000"/>
                  </a:lnTo>
                  <a:lnTo>
                    <a:pt x="5290" y="9987"/>
                  </a:lnTo>
                  <a:lnTo>
                    <a:pt x="5199" y="9974"/>
                  </a:lnTo>
                  <a:lnTo>
                    <a:pt x="5109" y="9958"/>
                  </a:lnTo>
                  <a:lnTo>
                    <a:pt x="5020" y="9941"/>
                  </a:lnTo>
                  <a:lnTo>
                    <a:pt x="4931" y="9923"/>
                  </a:lnTo>
                  <a:lnTo>
                    <a:pt x="4842" y="9902"/>
                  </a:lnTo>
                  <a:lnTo>
                    <a:pt x="4754" y="9879"/>
                  </a:lnTo>
                  <a:lnTo>
                    <a:pt x="4666" y="9855"/>
                  </a:lnTo>
                  <a:lnTo>
                    <a:pt x="4579" y="9830"/>
                  </a:lnTo>
                  <a:lnTo>
                    <a:pt x="4493" y="9802"/>
                  </a:lnTo>
                  <a:lnTo>
                    <a:pt x="4408" y="9773"/>
                  </a:lnTo>
                  <a:lnTo>
                    <a:pt x="4322" y="9741"/>
                  </a:lnTo>
                  <a:lnTo>
                    <a:pt x="4238" y="9708"/>
                  </a:lnTo>
                  <a:lnTo>
                    <a:pt x="4155" y="9673"/>
                  </a:lnTo>
                  <a:lnTo>
                    <a:pt x="4073" y="9636"/>
                  </a:lnTo>
                  <a:lnTo>
                    <a:pt x="3993" y="9597"/>
                  </a:lnTo>
                  <a:lnTo>
                    <a:pt x="3913" y="9556"/>
                  </a:lnTo>
                  <a:lnTo>
                    <a:pt x="3834" y="9513"/>
                  </a:lnTo>
                  <a:lnTo>
                    <a:pt x="3757" y="9469"/>
                  </a:lnTo>
                  <a:lnTo>
                    <a:pt x="3682" y="9422"/>
                  </a:lnTo>
                  <a:lnTo>
                    <a:pt x="3607" y="9373"/>
                  </a:lnTo>
                  <a:lnTo>
                    <a:pt x="3533" y="9322"/>
                  </a:lnTo>
                  <a:lnTo>
                    <a:pt x="3461" y="9269"/>
                  </a:lnTo>
                  <a:lnTo>
                    <a:pt x="3391" y="9213"/>
                  </a:lnTo>
                  <a:lnTo>
                    <a:pt x="3323" y="9156"/>
                  </a:lnTo>
                  <a:lnTo>
                    <a:pt x="3256" y="9097"/>
                  </a:lnTo>
                  <a:lnTo>
                    <a:pt x="3191" y="9035"/>
                  </a:lnTo>
                  <a:lnTo>
                    <a:pt x="3128" y="8972"/>
                  </a:lnTo>
                  <a:lnTo>
                    <a:pt x="3066" y="8905"/>
                  </a:lnTo>
                  <a:lnTo>
                    <a:pt x="3007" y="8837"/>
                  </a:lnTo>
                  <a:lnTo>
                    <a:pt x="2949" y="8767"/>
                  </a:lnTo>
                  <a:lnTo>
                    <a:pt x="2927" y="8735"/>
                  </a:lnTo>
                  <a:lnTo>
                    <a:pt x="2905" y="8703"/>
                  </a:lnTo>
                  <a:lnTo>
                    <a:pt x="2885" y="8671"/>
                  </a:lnTo>
                  <a:lnTo>
                    <a:pt x="2864" y="8639"/>
                  </a:lnTo>
                  <a:lnTo>
                    <a:pt x="2845" y="8606"/>
                  </a:lnTo>
                  <a:lnTo>
                    <a:pt x="2825" y="8574"/>
                  </a:lnTo>
                  <a:lnTo>
                    <a:pt x="2807" y="8541"/>
                  </a:lnTo>
                  <a:lnTo>
                    <a:pt x="2789" y="8507"/>
                  </a:lnTo>
                  <a:lnTo>
                    <a:pt x="2772" y="8474"/>
                  </a:lnTo>
                  <a:lnTo>
                    <a:pt x="2756" y="8441"/>
                  </a:lnTo>
                  <a:lnTo>
                    <a:pt x="2740" y="8406"/>
                  </a:lnTo>
                  <a:lnTo>
                    <a:pt x="2726" y="8372"/>
                  </a:lnTo>
                  <a:lnTo>
                    <a:pt x="2711" y="8338"/>
                  </a:lnTo>
                  <a:lnTo>
                    <a:pt x="2699" y="8303"/>
                  </a:lnTo>
                  <a:lnTo>
                    <a:pt x="2687" y="8269"/>
                  </a:lnTo>
                  <a:lnTo>
                    <a:pt x="2676" y="8233"/>
                  </a:lnTo>
                  <a:lnTo>
                    <a:pt x="2665" y="8198"/>
                  </a:lnTo>
                  <a:lnTo>
                    <a:pt x="2655" y="8163"/>
                  </a:lnTo>
                  <a:lnTo>
                    <a:pt x="2647" y="8127"/>
                  </a:lnTo>
                  <a:lnTo>
                    <a:pt x="2640" y="8092"/>
                  </a:lnTo>
                  <a:lnTo>
                    <a:pt x="2633" y="8055"/>
                  </a:lnTo>
                  <a:lnTo>
                    <a:pt x="2627" y="8019"/>
                  </a:lnTo>
                  <a:lnTo>
                    <a:pt x="2623" y="7982"/>
                  </a:lnTo>
                  <a:lnTo>
                    <a:pt x="2620" y="7946"/>
                  </a:lnTo>
                  <a:lnTo>
                    <a:pt x="2617" y="7908"/>
                  </a:lnTo>
                  <a:lnTo>
                    <a:pt x="2616" y="7872"/>
                  </a:lnTo>
                  <a:lnTo>
                    <a:pt x="2616" y="7835"/>
                  </a:lnTo>
                  <a:lnTo>
                    <a:pt x="2617" y="7797"/>
                  </a:lnTo>
                  <a:lnTo>
                    <a:pt x="2620" y="7759"/>
                  </a:lnTo>
                  <a:lnTo>
                    <a:pt x="2623" y="7721"/>
                  </a:lnTo>
                  <a:lnTo>
                    <a:pt x="2628" y="7682"/>
                  </a:lnTo>
                  <a:lnTo>
                    <a:pt x="2635" y="7644"/>
                  </a:lnTo>
                  <a:lnTo>
                    <a:pt x="2629" y="7639"/>
                  </a:lnTo>
                  <a:lnTo>
                    <a:pt x="2625" y="7635"/>
                  </a:lnTo>
                  <a:lnTo>
                    <a:pt x="2620" y="7629"/>
                  </a:lnTo>
                  <a:lnTo>
                    <a:pt x="2615" y="7624"/>
                  </a:lnTo>
                  <a:lnTo>
                    <a:pt x="2611" y="7619"/>
                  </a:lnTo>
                  <a:lnTo>
                    <a:pt x="2606" y="7615"/>
                  </a:lnTo>
                  <a:lnTo>
                    <a:pt x="2602" y="7610"/>
                  </a:lnTo>
                  <a:lnTo>
                    <a:pt x="2597" y="7604"/>
                  </a:lnTo>
                  <a:lnTo>
                    <a:pt x="2506" y="7605"/>
                  </a:lnTo>
                  <a:lnTo>
                    <a:pt x="2415" y="7604"/>
                  </a:lnTo>
                  <a:lnTo>
                    <a:pt x="2325" y="7601"/>
                  </a:lnTo>
                  <a:lnTo>
                    <a:pt x="2235" y="7595"/>
                  </a:lnTo>
                  <a:lnTo>
                    <a:pt x="2144" y="7587"/>
                  </a:lnTo>
                  <a:lnTo>
                    <a:pt x="2055" y="7575"/>
                  </a:lnTo>
                  <a:lnTo>
                    <a:pt x="1966" y="7563"/>
                  </a:lnTo>
                  <a:lnTo>
                    <a:pt x="1878" y="7547"/>
                  </a:lnTo>
                  <a:lnTo>
                    <a:pt x="1791" y="7528"/>
                  </a:lnTo>
                  <a:lnTo>
                    <a:pt x="1704" y="7508"/>
                  </a:lnTo>
                  <a:lnTo>
                    <a:pt x="1618" y="7485"/>
                  </a:lnTo>
                  <a:lnTo>
                    <a:pt x="1533" y="7459"/>
                  </a:lnTo>
                  <a:lnTo>
                    <a:pt x="1450" y="7430"/>
                  </a:lnTo>
                  <a:lnTo>
                    <a:pt x="1368" y="7399"/>
                  </a:lnTo>
                  <a:lnTo>
                    <a:pt x="1287" y="7366"/>
                  </a:lnTo>
                  <a:lnTo>
                    <a:pt x="1207" y="7330"/>
                  </a:lnTo>
                  <a:lnTo>
                    <a:pt x="1128" y="7292"/>
                  </a:lnTo>
                  <a:lnTo>
                    <a:pt x="1052" y="7251"/>
                  </a:lnTo>
                  <a:lnTo>
                    <a:pt x="976" y="7208"/>
                  </a:lnTo>
                  <a:lnTo>
                    <a:pt x="903" y="7162"/>
                  </a:lnTo>
                  <a:lnTo>
                    <a:pt x="832" y="7113"/>
                  </a:lnTo>
                  <a:lnTo>
                    <a:pt x="762" y="7062"/>
                  </a:lnTo>
                  <a:lnTo>
                    <a:pt x="694" y="7008"/>
                  </a:lnTo>
                  <a:lnTo>
                    <a:pt x="629" y="6951"/>
                  </a:lnTo>
                  <a:lnTo>
                    <a:pt x="565" y="6892"/>
                  </a:lnTo>
                  <a:lnTo>
                    <a:pt x="505" y="6830"/>
                  </a:lnTo>
                  <a:lnTo>
                    <a:pt x="446" y="6766"/>
                  </a:lnTo>
                  <a:lnTo>
                    <a:pt x="390" y="6698"/>
                  </a:lnTo>
                  <a:lnTo>
                    <a:pt x="335" y="6629"/>
                  </a:lnTo>
                  <a:lnTo>
                    <a:pt x="284" y="6557"/>
                  </a:lnTo>
                  <a:lnTo>
                    <a:pt x="236" y="6482"/>
                  </a:lnTo>
                  <a:lnTo>
                    <a:pt x="190" y="6404"/>
                  </a:lnTo>
                  <a:lnTo>
                    <a:pt x="165" y="6352"/>
                  </a:lnTo>
                  <a:lnTo>
                    <a:pt x="142" y="6300"/>
                  </a:lnTo>
                  <a:lnTo>
                    <a:pt x="120" y="6247"/>
                  </a:lnTo>
                  <a:lnTo>
                    <a:pt x="100" y="6195"/>
                  </a:lnTo>
                  <a:lnTo>
                    <a:pt x="83" y="6144"/>
                  </a:lnTo>
                  <a:lnTo>
                    <a:pt x="67" y="6092"/>
                  </a:lnTo>
                  <a:lnTo>
                    <a:pt x="52" y="6040"/>
                  </a:lnTo>
                  <a:lnTo>
                    <a:pt x="39" y="5989"/>
                  </a:lnTo>
                  <a:lnTo>
                    <a:pt x="29" y="5937"/>
                  </a:lnTo>
                  <a:lnTo>
                    <a:pt x="19" y="5886"/>
                  </a:lnTo>
                  <a:lnTo>
                    <a:pt x="11" y="5834"/>
                  </a:lnTo>
                  <a:lnTo>
                    <a:pt x="6" y="5783"/>
                  </a:lnTo>
                  <a:lnTo>
                    <a:pt x="2" y="5732"/>
                  </a:lnTo>
                  <a:lnTo>
                    <a:pt x="0" y="5680"/>
                  </a:lnTo>
                  <a:lnTo>
                    <a:pt x="0" y="5629"/>
                  </a:lnTo>
                  <a:lnTo>
                    <a:pt x="1" y="5578"/>
                  </a:lnTo>
                  <a:lnTo>
                    <a:pt x="5" y="5527"/>
                  </a:lnTo>
                  <a:lnTo>
                    <a:pt x="10" y="5476"/>
                  </a:lnTo>
                  <a:lnTo>
                    <a:pt x="16" y="5425"/>
                  </a:lnTo>
                  <a:lnTo>
                    <a:pt x="26" y="5374"/>
                  </a:lnTo>
                  <a:lnTo>
                    <a:pt x="36" y="5323"/>
                  </a:lnTo>
                  <a:lnTo>
                    <a:pt x="48" y="5272"/>
                  </a:lnTo>
                  <a:lnTo>
                    <a:pt x="62" y="5221"/>
                  </a:lnTo>
                  <a:lnTo>
                    <a:pt x="78" y="5171"/>
                  </a:lnTo>
                  <a:lnTo>
                    <a:pt x="95" y="5120"/>
                  </a:lnTo>
                  <a:lnTo>
                    <a:pt x="115" y="5069"/>
                  </a:lnTo>
                  <a:lnTo>
                    <a:pt x="135" y="5018"/>
                  </a:lnTo>
                  <a:lnTo>
                    <a:pt x="158" y="4968"/>
                  </a:lnTo>
                  <a:lnTo>
                    <a:pt x="183" y="4917"/>
                  </a:lnTo>
                  <a:lnTo>
                    <a:pt x="209" y="4867"/>
                  </a:lnTo>
                  <a:lnTo>
                    <a:pt x="238" y="4815"/>
                  </a:lnTo>
                  <a:lnTo>
                    <a:pt x="268" y="4764"/>
                  </a:lnTo>
                  <a:lnTo>
                    <a:pt x="308" y="4708"/>
                  </a:lnTo>
                  <a:lnTo>
                    <a:pt x="349" y="4654"/>
                  </a:lnTo>
                  <a:lnTo>
                    <a:pt x="392" y="4601"/>
                  </a:lnTo>
                  <a:lnTo>
                    <a:pt x="436" y="4550"/>
                  </a:lnTo>
                  <a:lnTo>
                    <a:pt x="481" y="4500"/>
                  </a:lnTo>
                  <a:lnTo>
                    <a:pt x="527" y="4452"/>
                  </a:lnTo>
                  <a:lnTo>
                    <a:pt x="575" y="4406"/>
                  </a:lnTo>
                  <a:lnTo>
                    <a:pt x="625" y="4361"/>
                  </a:lnTo>
                  <a:lnTo>
                    <a:pt x="675" y="4318"/>
                  </a:lnTo>
                  <a:lnTo>
                    <a:pt x="726" y="4276"/>
                  </a:lnTo>
                  <a:lnTo>
                    <a:pt x="778" y="4236"/>
                  </a:lnTo>
                  <a:lnTo>
                    <a:pt x="832" y="4198"/>
                  </a:lnTo>
                  <a:lnTo>
                    <a:pt x="886" y="4161"/>
                  </a:lnTo>
                  <a:lnTo>
                    <a:pt x="941" y="4126"/>
                  </a:lnTo>
                  <a:lnTo>
                    <a:pt x="999" y="4092"/>
                  </a:lnTo>
                  <a:lnTo>
                    <a:pt x="1055" y="4060"/>
                  </a:lnTo>
                  <a:lnTo>
                    <a:pt x="1114" y="4029"/>
                  </a:lnTo>
                  <a:lnTo>
                    <a:pt x="1173" y="4000"/>
                  </a:lnTo>
                  <a:lnTo>
                    <a:pt x="1233" y="3973"/>
                  </a:lnTo>
                  <a:lnTo>
                    <a:pt x="1293" y="3947"/>
                  </a:lnTo>
                  <a:lnTo>
                    <a:pt x="1355" y="3922"/>
                  </a:lnTo>
                  <a:lnTo>
                    <a:pt x="1417" y="3899"/>
                  </a:lnTo>
                  <a:lnTo>
                    <a:pt x="1480" y="3877"/>
                  </a:lnTo>
                  <a:lnTo>
                    <a:pt x="1543" y="3857"/>
                  </a:lnTo>
                  <a:lnTo>
                    <a:pt x="1608" y="3839"/>
                  </a:lnTo>
                  <a:lnTo>
                    <a:pt x="1673" y="3822"/>
                  </a:lnTo>
                  <a:lnTo>
                    <a:pt x="1737" y="3806"/>
                  </a:lnTo>
                  <a:lnTo>
                    <a:pt x="1803" y="3792"/>
                  </a:lnTo>
                  <a:lnTo>
                    <a:pt x="1869" y="3779"/>
                  </a:lnTo>
                  <a:lnTo>
                    <a:pt x="1936" y="3768"/>
                  </a:lnTo>
                  <a:lnTo>
                    <a:pt x="2003" y="3758"/>
                  </a:lnTo>
                  <a:lnTo>
                    <a:pt x="2070" y="3750"/>
                  </a:lnTo>
                  <a:lnTo>
                    <a:pt x="2037" y="3718"/>
                  </a:lnTo>
                  <a:lnTo>
                    <a:pt x="2005" y="3685"/>
                  </a:lnTo>
                  <a:lnTo>
                    <a:pt x="1974" y="3651"/>
                  </a:lnTo>
                  <a:lnTo>
                    <a:pt x="1945" y="3618"/>
                  </a:lnTo>
                  <a:lnTo>
                    <a:pt x="1919" y="3583"/>
                  </a:lnTo>
                  <a:lnTo>
                    <a:pt x="1893" y="3549"/>
                  </a:lnTo>
                  <a:lnTo>
                    <a:pt x="1868" y="3514"/>
                  </a:lnTo>
                  <a:lnTo>
                    <a:pt x="1846" y="3478"/>
                  </a:lnTo>
                  <a:lnTo>
                    <a:pt x="1825" y="3442"/>
                  </a:lnTo>
                  <a:lnTo>
                    <a:pt x="1806" y="3405"/>
                  </a:lnTo>
                  <a:lnTo>
                    <a:pt x="1787" y="3368"/>
                  </a:lnTo>
                  <a:lnTo>
                    <a:pt x="1772" y="3330"/>
                  </a:lnTo>
                  <a:lnTo>
                    <a:pt x="1758" y="3293"/>
                  </a:lnTo>
                  <a:lnTo>
                    <a:pt x="1744" y="3254"/>
                  </a:lnTo>
                  <a:lnTo>
                    <a:pt x="1733" y="3216"/>
                  </a:lnTo>
                  <a:lnTo>
                    <a:pt x="1724" y="3176"/>
                  </a:lnTo>
                  <a:lnTo>
                    <a:pt x="1717" y="3137"/>
                  </a:lnTo>
                  <a:lnTo>
                    <a:pt x="1711" y="3097"/>
                  </a:lnTo>
                  <a:lnTo>
                    <a:pt x="1706" y="3058"/>
                  </a:lnTo>
                  <a:lnTo>
                    <a:pt x="1703" y="3017"/>
                  </a:lnTo>
                  <a:lnTo>
                    <a:pt x="1702" y="2975"/>
                  </a:lnTo>
                  <a:lnTo>
                    <a:pt x="1703" y="2935"/>
                  </a:lnTo>
                  <a:lnTo>
                    <a:pt x="1706" y="2893"/>
                  </a:lnTo>
                  <a:lnTo>
                    <a:pt x="1712" y="2851"/>
                  </a:lnTo>
                  <a:lnTo>
                    <a:pt x="1718" y="2809"/>
                  </a:lnTo>
                  <a:lnTo>
                    <a:pt x="1726" y="2767"/>
                  </a:lnTo>
                  <a:lnTo>
                    <a:pt x="1736" y="2724"/>
                  </a:lnTo>
                  <a:lnTo>
                    <a:pt x="1747" y="2681"/>
                  </a:lnTo>
                  <a:lnTo>
                    <a:pt x="1761" y="2638"/>
                  </a:lnTo>
                  <a:lnTo>
                    <a:pt x="1777" y="2594"/>
                  </a:lnTo>
                  <a:lnTo>
                    <a:pt x="1795" y="2550"/>
                  </a:lnTo>
                  <a:lnTo>
                    <a:pt x="1813" y="2507"/>
                  </a:lnTo>
                  <a:lnTo>
                    <a:pt x="1843" y="2454"/>
                  </a:lnTo>
                  <a:lnTo>
                    <a:pt x="1874" y="2404"/>
                  </a:lnTo>
                  <a:lnTo>
                    <a:pt x="1906" y="2354"/>
                  </a:lnTo>
                  <a:lnTo>
                    <a:pt x="1940" y="2306"/>
                  </a:lnTo>
                  <a:lnTo>
                    <a:pt x="1976" y="2260"/>
                  </a:lnTo>
                  <a:lnTo>
                    <a:pt x="2013" y="2215"/>
                  </a:lnTo>
                  <a:lnTo>
                    <a:pt x="2052" y="2171"/>
                  </a:lnTo>
                  <a:lnTo>
                    <a:pt x="2092" y="2129"/>
                  </a:lnTo>
                  <a:lnTo>
                    <a:pt x="2133" y="2088"/>
                  </a:lnTo>
                  <a:lnTo>
                    <a:pt x="2175" y="2048"/>
                  </a:lnTo>
                  <a:lnTo>
                    <a:pt x="2219" y="2011"/>
                  </a:lnTo>
                  <a:lnTo>
                    <a:pt x="2264" y="1973"/>
                  </a:lnTo>
                  <a:lnTo>
                    <a:pt x="2310" y="1938"/>
                  </a:lnTo>
                  <a:lnTo>
                    <a:pt x="2358" y="1904"/>
                  </a:lnTo>
                  <a:lnTo>
                    <a:pt x="2405" y="1871"/>
                  </a:lnTo>
                  <a:lnTo>
                    <a:pt x="2454" y="1839"/>
                  </a:lnTo>
                  <a:lnTo>
                    <a:pt x="2504" y="1809"/>
                  </a:lnTo>
                  <a:lnTo>
                    <a:pt x="2555" y="1780"/>
                  </a:lnTo>
                  <a:lnTo>
                    <a:pt x="2607" y="1752"/>
                  </a:lnTo>
                  <a:lnTo>
                    <a:pt x="2659" y="1725"/>
                  </a:lnTo>
                  <a:lnTo>
                    <a:pt x="2712" y="1699"/>
                  </a:lnTo>
                  <a:lnTo>
                    <a:pt x="2766" y="1675"/>
                  </a:lnTo>
                  <a:lnTo>
                    <a:pt x="2820" y="1651"/>
                  </a:lnTo>
                  <a:lnTo>
                    <a:pt x="2876" y="1629"/>
                  </a:lnTo>
                  <a:lnTo>
                    <a:pt x="2931" y="1607"/>
                  </a:lnTo>
                  <a:lnTo>
                    <a:pt x="2986" y="1587"/>
                  </a:lnTo>
                  <a:lnTo>
                    <a:pt x="3043" y="1568"/>
                  </a:lnTo>
                  <a:lnTo>
                    <a:pt x="3099" y="1550"/>
                  </a:lnTo>
                  <a:lnTo>
                    <a:pt x="3155" y="1533"/>
                  </a:lnTo>
                  <a:lnTo>
                    <a:pt x="3213" y="1516"/>
                  </a:lnTo>
                  <a:lnTo>
                    <a:pt x="3270" y="1502"/>
                  </a:lnTo>
                  <a:lnTo>
                    <a:pt x="3328" y="1487"/>
                  </a:lnTo>
                  <a:lnTo>
                    <a:pt x="3378" y="1477"/>
                  </a:lnTo>
                  <a:lnTo>
                    <a:pt x="3427" y="1467"/>
                  </a:lnTo>
                  <a:lnTo>
                    <a:pt x="3477" y="1458"/>
                  </a:lnTo>
                  <a:lnTo>
                    <a:pt x="3528" y="1451"/>
                  </a:lnTo>
                  <a:lnTo>
                    <a:pt x="3577" y="1442"/>
                  </a:lnTo>
                  <a:lnTo>
                    <a:pt x="3627" y="1436"/>
                  </a:lnTo>
                  <a:lnTo>
                    <a:pt x="3677" y="1430"/>
                  </a:lnTo>
                  <a:lnTo>
                    <a:pt x="3727" y="1425"/>
                  </a:lnTo>
                  <a:lnTo>
                    <a:pt x="3777" y="1420"/>
                  </a:lnTo>
                  <a:lnTo>
                    <a:pt x="3827" y="1416"/>
                  </a:lnTo>
                  <a:lnTo>
                    <a:pt x="3876" y="1413"/>
                  </a:lnTo>
                  <a:lnTo>
                    <a:pt x="3927" y="1411"/>
                  </a:lnTo>
                  <a:lnTo>
                    <a:pt x="3977" y="1410"/>
                  </a:lnTo>
                  <a:lnTo>
                    <a:pt x="4026" y="1409"/>
                  </a:lnTo>
                  <a:lnTo>
                    <a:pt x="4076" y="1409"/>
                  </a:lnTo>
                  <a:lnTo>
                    <a:pt x="4126" y="1410"/>
                  </a:lnTo>
                  <a:lnTo>
                    <a:pt x="4176" y="1412"/>
                  </a:lnTo>
                  <a:lnTo>
                    <a:pt x="4225" y="1414"/>
                  </a:lnTo>
                  <a:lnTo>
                    <a:pt x="4275" y="1417"/>
                  </a:lnTo>
                  <a:lnTo>
                    <a:pt x="4325" y="1422"/>
                  </a:lnTo>
                  <a:lnTo>
                    <a:pt x="4374" y="1427"/>
                  </a:lnTo>
                  <a:lnTo>
                    <a:pt x="4423" y="1433"/>
                  </a:lnTo>
                  <a:lnTo>
                    <a:pt x="4472" y="1439"/>
                  </a:lnTo>
                  <a:lnTo>
                    <a:pt x="4521" y="1447"/>
                  </a:lnTo>
                  <a:lnTo>
                    <a:pt x="4571" y="1455"/>
                  </a:lnTo>
                  <a:lnTo>
                    <a:pt x="4620" y="1464"/>
                  </a:lnTo>
                  <a:lnTo>
                    <a:pt x="4669" y="1475"/>
                  </a:lnTo>
                  <a:lnTo>
                    <a:pt x="4718" y="1485"/>
                  </a:lnTo>
                  <a:lnTo>
                    <a:pt x="4767" y="1498"/>
                  </a:lnTo>
                  <a:lnTo>
                    <a:pt x="4816" y="1510"/>
                  </a:lnTo>
                  <a:lnTo>
                    <a:pt x="4864" y="1524"/>
                  </a:lnTo>
                  <a:lnTo>
                    <a:pt x="4912" y="1537"/>
                  </a:lnTo>
                  <a:lnTo>
                    <a:pt x="4927" y="1532"/>
                  </a:lnTo>
                  <a:lnTo>
                    <a:pt x="4940" y="1526"/>
                  </a:lnTo>
                  <a:lnTo>
                    <a:pt x="4953" y="1519"/>
                  </a:lnTo>
                  <a:lnTo>
                    <a:pt x="4968" y="1513"/>
                  </a:lnTo>
                  <a:lnTo>
                    <a:pt x="4981" y="1508"/>
                  </a:lnTo>
                  <a:lnTo>
                    <a:pt x="4995" y="1502"/>
                  </a:lnTo>
                  <a:lnTo>
                    <a:pt x="5009" y="1495"/>
                  </a:lnTo>
                  <a:lnTo>
                    <a:pt x="5023" y="1490"/>
                  </a:lnTo>
                  <a:lnTo>
                    <a:pt x="5070" y="1401"/>
                  </a:lnTo>
                  <a:lnTo>
                    <a:pt x="5121" y="1315"/>
                  </a:lnTo>
                  <a:lnTo>
                    <a:pt x="5177" y="1232"/>
                  </a:lnTo>
                  <a:lnTo>
                    <a:pt x="5237" y="1153"/>
                  </a:lnTo>
                  <a:lnTo>
                    <a:pt x="5301" y="1077"/>
                  </a:lnTo>
                  <a:lnTo>
                    <a:pt x="5367" y="1003"/>
                  </a:lnTo>
                  <a:lnTo>
                    <a:pt x="5438" y="932"/>
                  </a:lnTo>
                  <a:lnTo>
                    <a:pt x="5513" y="865"/>
                  </a:lnTo>
                  <a:lnTo>
                    <a:pt x="5590" y="801"/>
                  </a:lnTo>
                  <a:lnTo>
                    <a:pt x="5670" y="738"/>
                  </a:lnTo>
                  <a:lnTo>
                    <a:pt x="5752" y="680"/>
                  </a:lnTo>
                  <a:lnTo>
                    <a:pt x="5838" y="624"/>
                  </a:lnTo>
                  <a:lnTo>
                    <a:pt x="5925" y="571"/>
                  </a:lnTo>
                  <a:lnTo>
                    <a:pt x="6015" y="520"/>
                  </a:lnTo>
                  <a:lnTo>
                    <a:pt x="6107" y="472"/>
                  </a:lnTo>
                  <a:lnTo>
                    <a:pt x="6200" y="426"/>
                  </a:lnTo>
                  <a:lnTo>
                    <a:pt x="6295" y="383"/>
                  </a:lnTo>
                  <a:lnTo>
                    <a:pt x="6391" y="343"/>
                  </a:lnTo>
                  <a:lnTo>
                    <a:pt x="6488" y="305"/>
                  </a:lnTo>
                  <a:lnTo>
                    <a:pt x="6587" y="269"/>
                  </a:lnTo>
                  <a:lnTo>
                    <a:pt x="6686" y="235"/>
                  </a:lnTo>
                  <a:lnTo>
                    <a:pt x="6787" y="205"/>
                  </a:lnTo>
                  <a:lnTo>
                    <a:pt x="6886" y="176"/>
                  </a:lnTo>
                  <a:lnTo>
                    <a:pt x="6988" y="150"/>
                  </a:lnTo>
                  <a:lnTo>
                    <a:pt x="7088" y="126"/>
                  </a:lnTo>
                  <a:lnTo>
                    <a:pt x="7189" y="103"/>
                  </a:lnTo>
                  <a:lnTo>
                    <a:pt x="7289" y="83"/>
                  </a:lnTo>
                  <a:lnTo>
                    <a:pt x="7389" y="66"/>
                  </a:lnTo>
                  <a:lnTo>
                    <a:pt x="7488" y="50"/>
                  </a:lnTo>
                  <a:lnTo>
                    <a:pt x="7587" y="36"/>
                  </a:lnTo>
                  <a:lnTo>
                    <a:pt x="7683" y="24"/>
                  </a:lnTo>
                  <a:lnTo>
                    <a:pt x="7779" y="14"/>
                  </a:lnTo>
                  <a:lnTo>
                    <a:pt x="7866" y="8"/>
                  </a:lnTo>
                  <a:lnTo>
                    <a:pt x="7952" y="4"/>
                  </a:lnTo>
                  <a:lnTo>
                    <a:pt x="8038" y="2"/>
                  </a:lnTo>
                  <a:lnTo>
                    <a:pt x="8125" y="0"/>
                  </a:lnTo>
                  <a:lnTo>
                    <a:pt x="8212" y="0"/>
                  </a:lnTo>
                  <a:lnTo>
                    <a:pt x="8299" y="1"/>
                  </a:lnTo>
                  <a:lnTo>
                    <a:pt x="8387" y="4"/>
                  </a:lnTo>
                  <a:lnTo>
                    <a:pt x="8475" y="8"/>
                  </a:lnTo>
                  <a:lnTo>
                    <a:pt x="8562" y="15"/>
                  </a:lnTo>
                  <a:lnTo>
                    <a:pt x="8650" y="22"/>
                  </a:lnTo>
                  <a:lnTo>
                    <a:pt x="8737" y="31"/>
                  </a:lnTo>
                  <a:lnTo>
                    <a:pt x="8824" y="42"/>
                  </a:lnTo>
                  <a:lnTo>
                    <a:pt x="8912" y="55"/>
                  </a:lnTo>
                  <a:lnTo>
                    <a:pt x="8998" y="69"/>
                  </a:lnTo>
                  <a:lnTo>
                    <a:pt x="9084" y="85"/>
                  </a:lnTo>
                  <a:lnTo>
                    <a:pt x="9170" y="104"/>
                  </a:lnTo>
                  <a:lnTo>
                    <a:pt x="9255" y="124"/>
                  </a:lnTo>
                  <a:lnTo>
                    <a:pt x="9339" y="146"/>
                  </a:lnTo>
                  <a:lnTo>
                    <a:pt x="9422" y="171"/>
                  </a:lnTo>
                  <a:lnTo>
                    <a:pt x="9505" y="197"/>
                  </a:lnTo>
                  <a:lnTo>
                    <a:pt x="9587" y="225"/>
                  </a:lnTo>
                  <a:lnTo>
                    <a:pt x="9668" y="256"/>
                  </a:lnTo>
                  <a:lnTo>
                    <a:pt x="9748" y="290"/>
                  </a:lnTo>
                  <a:lnTo>
                    <a:pt x="9827" y="324"/>
                  </a:lnTo>
                  <a:lnTo>
                    <a:pt x="9904" y="361"/>
                  </a:lnTo>
                  <a:lnTo>
                    <a:pt x="9981" y="402"/>
                  </a:lnTo>
                  <a:lnTo>
                    <a:pt x="10056" y="445"/>
                  </a:lnTo>
                  <a:lnTo>
                    <a:pt x="10130" y="489"/>
                  </a:lnTo>
                  <a:lnTo>
                    <a:pt x="10202" y="536"/>
                  </a:lnTo>
                  <a:lnTo>
                    <a:pt x="10272" y="586"/>
                  </a:lnTo>
                  <a:lnTo>
                    <a:pt x="10341" y="639"/>
                  </a:lnTo>
                  <a:lnTo>
                    <a:pt x="10409" y="695"/>
                  </a:lnTo>
                  <a:lnTo>
                    <a:pt x="10490" y="661"/>
                  </a:lnTo>
                  <a:lnTo>
                    <a:pt x="10572" y="633"/>
                  </a:lnTo>
                  <a:lnTo>
                    <a:pt x="10655" y="609"/>
                  </a:lnTo>
                  <a:lnTo>
                    <a:pt x="10739" y="589"/>
                  </a:lnTo>
                  <a:lnTo>
                    <a:pt x="10824" y="575"/>
                  </a:lnTo>
                  <a:lnTo>
                    <a:pt x="10910" y="563"/>
                  </a:lnTo>
                  <a:lnTo>
                    <a:pt x="10996" y="557"/>
                  </a:lnTo>
                  <a:lnTo>
                    <a:pt x="11083" y="554"/>
                  </a:lnTo>
                  <a:lnTo>
                    <a:pt x="11170" y="555"/>
                  </a:lnTo>
                  <a:lnTo>
                    <a:pt x="11256" y="559"/>
                  </a:lnTo>
                  <a:lnTo>
                    <a:pt x="11343" y="569"/>
                  </a:lnTo>
                  <a:lnTo>
                    <a:pt x="11429" y="581"/>
                  </a:lnTo>
                  <a:lnTo>
                    <a:pt x="11515" y="597"/>
                  </a:lnTo>
                  <a:lnTo>
                    <a:pt x="11600" y="615"/>
                  </a:lnTo>
                  <a:lnTo>
                    <a:pt x="11686" y="638"/>
                  </a:lnTo>
                  <a:lnTo>
                    <a:pt x="11770" y="664"/>
                  </a:lnTo>
                  <a:lnTo>
                    <a:pt x="11853" y="694"/>
                  </a:lnTo>
                  <a:lnTo>
                    <a:pt x="11936" y="726"/>
                  </a:lnTo>
                  <a:lnTo>
                    <a:pt x="12016" y="761"/>
                  </a:lnTo>
                  <a:lnTo>
                    <a:pt x="12096" y="800"/>
                  </a:lnTo>
                  <a:lnTo>
                    <a:pt x="12174" y="840"/>
                  </a:lnTo>
                  <a:lnTo>
                    <a:pt x="12251" y="884"/>
                  </a:lnTo>
                  <a:lnTo>
                    <a:pt x="12325" y="931"/>
                  </a:lnTo>
                  <a:lnTo>
                    <a:pt x="12398" y="980"/>
                  </a:lnTo>
                  <a:lnTo>
                    <a:pt x="12469" y="1031"/>
                  </a:lnTo>
                  <a:lnTo>
                    <a:pt x="12537" y="1085"/>
                  </a:lnTo>
                  <a:lnTo>
                    <a:pt x="12603" y="1141"/>
                  </a:lnTo>
                  <a:lnTo>
                    <a:pt x="12667" y="1200"/>
                  </a:lnTo>
                  <a:lnTo>
                    <a:pt x="12727" y="1261"/>
                  </a:lnTo>
                  <a:lnTo>
                    <a:pt x="12786" y="1324"/>
                  </a:lnTo>
                  <a:lnTo>
                    <a:pt x="12841" y="1388"/>
                  </a:lnTo>
                  <a:lnTo>
                    <a:pt x="12894" y="145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3112920" y="4867200"/>
            <a:ext cx="81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381400" y="4648320"/>
            <a:ext cx="806400" cy="396720"/>
            <a:chOff x="2381400" y="4648320"/>
            <a:chExt cx="806400" cy="396720"/>
          </a:xfrm>
        </p:grpSpPr>
        <p:sp>
          <p:nvSpPr>
            <p:cNvPr id="899" name=""/>
            <p:cNvSpPr/>
            <p:nvPr/>
          </p:nvSpPr>
          <p:spPr>
            <a:xfrm>
              <a:off x="2381400" y="4759200"/>
              <a:ext cx="806400" cy="2858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81400" y="4648320"/>
              <a:ext cx="804240" cy="2181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794680" y="4681800"/>
              <a:ext cx="262800" cy="691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794680" y="4681800"/>
              <a:ext cx="262800" cy="691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507040" y="4761360"/>
              <a:ext cx="262800" cy="734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507040" y="4761360"/>
              <a:ext cx="262800" cy="734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520360" y="4677840"/>
              <a:ext cx="262800" cy="691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20360" y="4677840"/>
              <a:ext cx="262800" cy="691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783520" y="4769280"/>
              <a:ext cx="262800" cy="694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783520" y="4769280"/>
              <a:ext cx="262800" cy="694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99000" y="4685760"/>
              <a:ext cx="260280" cy="691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99000" y="4685760"/>
              <a:ext cx="260280" cy="691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511720" y="4765320"/>
              <a:ext cx="262800" cy="734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511720" y="4765320"/>
              <a:ext cx="262800" cy="734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25040" y="4681800"/>
              <a:ext cx="262800" cy="691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525040" y="4681800"/>
              <a:ext cx="262800" cy="691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787840" y="4773240"/>
              <a:ext cx="262800" cy="694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787840" y="4773240"/>
              <a:ext cx="262800" cy="694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5566320" y="396252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457880" y="5452920"/>
            <a:ext cx="109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号调制设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718000" y="396252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设备间接口线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270160" y="5454720"/>
            <a:ext cx="109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边缘设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44320" y="468648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ill Sans"/>
              </a:rPr>
              <a:t>服务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506840" y="4867200"/>
            <a:ext cx="1363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2703600" y="5027400"/>
            <a:ext cx="145800" cy="42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 flipV="1">
            <a:off x="4527360" y="4973400"/>
            <a:ext cx="145800" cy="47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429000" y="4343400"/>
            <a:ext cx="7776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5621040" y="4281480"/>
            <a:ext cx="73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846960" y="4724280"/>
            <a:ext cx="952200" cy="304920"/>
            <a:chOff x="3846960" y="4724280"/>
            <a:chExt cx="952200" cy="304920"/>
          </a:xfrm>
        </p:grpSpPr>
        <p:sp>
          <p:nvSpPr>
            <p:cNvPr id="928" name=""/>
            <p:cNvSpPr/>
            <p:nvPr/>
          </p:nvSpPr>
          <p:spPr>
            <a:xfrm flipH="1">
              <a:off x="3846600" y="4745880"/>
              <a:ext cx="214200" cy="263160"/>
            </a:xfrm>
            <a:custGeom>
              <a:avLst/>
              <a:gdLst/>
              <a:ahLst/>
              <a:rect l="l" t="t" r="r" b="b"/>
              <a:pathLst>
                <a:path w="131" h="168">
                  <a:moveTo>
                    <a:pt x="0" y="168"/>
                  </a:moveTo>
                  <a:cubicBezTo>
                    <a:pt x="42" y="129"/>
                    <a:pt x="85" y="91"/>
                    <a:pt x="127" y="52"/>
                  </a:cubicBezTo>
                  <a:cubicBezTo>
                    <a:pt x="128" y="52"/>
                    <a:pt x="129" y="48"/>
                    <a:pt x="130" y="46"/>
                  </a:cubicBezTo>
                  <a:cubicBezTo>
                    <a:pt x="130" y="45"/>
                    <a:pt x="131" y="43"/>
                    <a:pt x="130" y="40"/>
                  </a:cubicBezTo>
                  <a:lnTo>
                    <a:pt x="130" y="0"/>
                  </a:lnTo>
                  <a:lnTo>
                    <a:pt x="3" y="97"/>
                  </a:lnTo>
                  <a:lnTo>
                    <a:pt x="0" y="168"/>
                  </a:lnTo>
                </a:path>
              </a:pathLst>
            </a:custGeom>
            <a:solidFill>
              <a:srgbClr val="8f9475"/>
            </a:solidFill>
            <a:ln w="0">
              <a:solidFill>
                <a:srgbClr val="5157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3846960" y="4724280"/>
              <a:ext cx="264960" cy="168840"/>
            </a:xfrm>
            <a:custGeom>
              <a:avLst/>
              <a:gdLst/>
              <a:ahLst/>
              <a:rect l="l" t="t" r="r" b="b"/>
              <a:pathLst>
                <a:path w="162" h="108">
                  <a:moveTo>
                    <a:pt x="0" y="82"/>
                  </a:moveTo>
                  <a:lnTo>
                    <a:pt x="40" y="108"/>
                  </a:lnTo>
                  <a:lnTo>
                    <a:pt x="161" y="14"/>
                  </a:lnTo>
                  <a:cubicBezTo>
                    <a:pt x="161" y="14"/>
                    <a:pt x="162" y="8"/>
                    <a:pt x="158" y="4"/>
                  </a:cubicBezTo>
                  <a:cubicBezTo>
                    <a:pt x="153" y="0"/>
                    <a:pt x="147" y="1"/>
                    <a:pt x="147" y="1"/>
                  </a:cubicBezTo>
                  <a:lnTo>
                    <a:pt x="0" y="82"/>
                  </a:lnTo>
                </a:path>
              </a:pathLst>
            </a:custGeom>
            <a:solidFill>
              <a:srgbClr val="d3d7ae"/>
            </a:solidFill>
            <a:ln w="0">
              <a:solidFill>
                <a:srgbClr val="5157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3870720" y="4725000"/>
              <a:ext cx="899280" cy="137880"/>
            </a:xfrm>
            <a:custGeom>
              <a:avLst/>
              <a:gdLst/>
              <a:ahLst/>
              <a:rect l="l" t="t" r="r" b="b"/>
              <a:pathLst>
                <a:path w="548" h="88">
                  <a:moveTo>
                    <a:pt x="0" y="88"/>
                  </a:moveTo>
                  <a:lnTo>
                    <a:pt x="243" y="0"/>
                  </a:lnTo>
                  <a:lnTo>
                    <a:pt x="548" y="0"/>
                  </a:lnTo>
                  <a:lnTo>
                    <a:pt x="407" y="83"/>
                  </a:lnTo>
                  <a:lnTo>
                    <a:pt x="0" y="88"/>
                  </a:lnTo>
                </a:path>
              </a:pathLst>
            </a:custGeom>
            <a:solidFill>
              <a:srgbClr val="b4b99d"/>
            </a:solidFill>
            <a:ln w="0">
              <a:solidFill>
                <a:srgbClr val="5157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4051080" y="4860360"/>
              <a:ext cx="739800" cy="160560"/>
            </a:xfrm>
            <a:custGeom>
              <a:avLst/>
              <a:gdLst/>
              <a:ahLst/>
              <a:rect l="l" t="t" r="r" b="b"/>
              <a:pathLst>
                <a:path w="451" h="103">
                  <a:moveTo>
                    <a:pt x="39" y="0"/>
                  </a:moveTo>
                  <a:lnTo>
                    <a:pt x="412" y="0"/>
                  </a:lnTo>
                  <a:cubicBezTo>
                    <a:pt x="433" y="0"/>
                    <a:pt x="451" y="13"/>
                    <a:pt x="451" y="29"/>
                  </a:cubicBezTo>
                  <a:lnTo>
                    <a:pt x="451" y="74"/>
                  </a:lnTo>
                  <a:cubicBezTo>
                    <a:pt x="451" y="90"/>
                    <a:pt x="433" y="103"/>
                    <a:pt x="412" y="103"/>
                  </a:cubicBezTo>
                  <a:lnTo>
                    <a:pt x="39" y="103"/>
                  </a:lnTo>
                  <a:cubicBezTo>
                    <a:pt x="18" y="103"/>
                    <a:pt x="0" y="90"/>
                    <a:pt x="0" y="74"/>
                  </a:cubicBezTo>
                  <a:lnTo>
                    <a:pt x="0" y="29"/>
                  </a:lnTo>
                  <a:cubicBezTo>
                    <a:pt x="0" y="13"/>
                    <a:pt x="18" y="0"/>
                    <a:pt x="39" y="0"/>
                  </a:cubicBezTo>
                </a:path>
              </a:pathLst>
            </a:custGeom>
            <a:solidFill>
              <a:srgbClr val="7d8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4114800" y="4852080"/>
              <a:ext cx="612000" cy="15120"/>
            </a:xfrm>
            <a:custGeom>
              <a:avLst/>
              <a:gdLst/>
              <a:ahLst/>
              <a:rect l="l" t="t" r="r" b="b"/>
              <a:pathLst>
                <a:path w="962" h="26">
                  <a:moveTo>
                    <a:pt x="962" y="26"/>
                  </a:moveTo>
                  <a:lnTo>
                    <a:pt x="962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962" y="26"/>
                  </a:lnTo>
                  <a:lnTo>
                    <a:pt x="962" y="26"/>
                  </a:lnTo>
                  <a:close/>
                </a:path>
              </a:pathLst>
            </a:cu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4043520" y="4852080"/>
              <a:ext cx="71280" cy="53280"/>
            </a:xfrm>
            <a:custGeom>
              <a:avLst/>
              <a:gdLst/>
              <a:ahLst/>
              <a:rect l="l" t="t" r="r" b="b"/>
              <a:pathLst>
                <a:path w="113" h="89">
                  <a:moveTo>
                    <a:pt x="113" y="89"/>
                  </a:moveTo>
                  <a:lnTo>
                    <a:pt x="113" y="89"/>
                  </a:lnTo>
                  <a:lnTo>
                    <a:pt x="110" y="71"/>
                  </a:lnTo>
                  <a:lnTo>
                    <a:pt x="103" y="55"/>
                  </a:lnTo>
                  <a:lnTo>
                    <a:pt x="92" y="39"/>
                  </a:lnTo>
                  <a:lnTo>
                    <a:pt x="79" y="26"/>
                  </a:lnTo>
                  <a:lnTo>
                    <a:pt x="61" y="16"/>
                  </a:lnTo>
                  <a:lnTo>
                    <a:pt x="43" y="8"/>
                  </a:lnTo>
                  <a:lnTo>
                    <a:pt x="23" y="3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8" y="29"/>
                  </a:lnTo>
                  <a:lnTo>
                    <a:pt x="36" y="34"/>
                  </a:lnTo>
                  <a:lnTo>
                    <a:pt x="51" y="39"/>
                  </a:lnTo>
                  <a:lnTo>
                    <a:pt x="64" y="47"/>
                  </a:lnTo>
                  <a:lnTo>
                    <a:pt x="74" y="58"/>
                  </a:lnTo>
                  <a:lnTo>
                    <a:pt x="82" y="68"/>
                  </a:lnTo>
                  <a:lnTo>
                    <a:pt x="85" y="79"/>
                  </a:lnTo>
                  <a:lnTo>
                    <a:pt x="87" y="89"/>
                  </a:lnTo>
                  <a:lnTo>
                    <a:pt x="87" y="89"/>
                  </a:lnTo>
                  <a:lnTo>
                    <a:pt x="113" y="89"/>
                  </a:lnTo>
                  <a:close/>
                </a:path>
              </a:pathLst>
            </a:cu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4043520" y="4905720"/>
              <a:ext cx="16560" cy="69840"/>
            </a:xfrm>
            <a:custGeom>
              <a:avLst/>
              <a:gdLst/>
              <a:ahLst/>
              <a:rect l="l" t="t" r="r" b="b"/>
              <a:pathLst>
                <a:path w="26" h="118">
                  <a:moveTo>
                    <a:pt x="0" y="118"/>
                  </a:moveTo>
                  <a:lnTo>
                    <a:pt x="26" y="118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4043520" y="4975560"/>
              <a:ext cx="71280" cy="53280"/>
            </a:xfrm>
            <a:custGeom>
              <a:avLst/>
              <a:gdLst/>
              <a:ahLst/>
              <a:rect l="l" t="t" r="r" b="b"/>
              <a:pathLst>
                <a:path w="113" h="90">
                  <a:moveTo>
                    <a:pt x="0" y="90"/>
                  </a:moveTo>
                  <a:lnTo>
                    <a:pt x="0" y="90"/>
                  </a:lnTo>
                  <a:lnTo>
                    <a:pt x="23" y="87"/>
                  </a:lnTo>
                  <a:lnTo>
                    <a:pt x="43" y="82"/>
                  </a:lnTo>
                  <a:lnTo>
                    <a:pt x="61" y="74"/>
                  </a:lnTo>
                  <a:lnTo>
                    <a:pt x="79" y="63"/>
                  </a:lnTo>
                  <a:lnTo>
                    <a:pt x="92" y="50"/>
                  </a:lnTo>
                  <a:lnTo>
                    <a:pt x="103" y="35"/>
                  </a:lnTo>
                  <a:lnTo>
                    <a:pt x="110" y="19"/>
                  </a:lnTo>
                  <a:lnTo>
                    <a:pt x="113" y="0"/>
                  </a:lnTo>
                  <a:lnTo>
                    <a:pt x="87" y="0"/>
                  </a:lnTo>
                  <a:lnTo>
                    <a:pt x="85" y="11"/>
                  </a:lnTo>
                  <a:lnTo>
                    <a:pt x="82" y="21"/>
                  </a:lnTo>
                  <a:lnTo>
                    <a:pt x="74" y="32"/>
                  </a:lnTo>
                  <a:lnTo>
                    <a:pt x="64" y="42"/>
                  </a:lnTo>
                  <a:lnTo>
                    <a:pt x="51" y="50"/>
                  </a:lnTo>
                  <a:lnTo>
                    <a:pt x="36" y="56"/>
                  </a:lnTo>
                  <a:lnTo>
                    <a:pt x="18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4114800" y="5011920"/>
              <a:ext cx="612000" cy="17280"/>
            </a:xfrm>
            <a:custGeom>
              <a:avLst/>
              <a:gdLst/>
              <a:ahLst/>
              <a:rect l="l" t="t" r="r" b="b"/>
              <a:pathLst>
                <a:path w="962" h="29">
                  <a:moveTo>
                    <a:pt x="0" y="0"/>
                  </a:moveTo>
                  <a:lnTo>
                    <a:pt x="0" y="29"/>
                  </a:lnTo>
                  <a:lnTo>
                    <a:pt x="962" y="29"/>
                  </a:lnTo>
                  <a:lnTo>
                    <a:pt x="96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4726440" y="4975560"/>
              <a:ext cx="72360" cy="53280"/>
            </a:xfrm>
            <a:custGeom>
              <a:avLst/>
              <a:gdLst/>
              <a:ahLst/>
              <a:rect l="l" t="t" r="r" b="b"/>
              <a:pathLst>
                <a:path w="113" h="90">
                  <a:moveTo>
                    <a:pt x="0" y="0"/>
                  </a:moveTo>
                  <a:lnTo>
                    <a:pt x="0" y="0"/>
                  </a:lnTo>
                  <a:lnTo>
                    <a:pt x="2" y="19"/>
                  </a:lnTo>
                  <a:lnTo>
                    <a:pt x="10" y="35"/>
                  </a:lnTo>
                  <a:lnTo>
                    <a:pt x="20" y="50"/>
                  </a:lnTo>
                  <a:lnTo>
                    <a:pt x="36" y="63"/>
                  </a:lnTo>
                  <a:lnTo>
                    <a:pt x="51" y="74"/>
                  </a:lnTo>
                  <a:lnTo>
                    <a:pt x="72" y="82"/>
                  </a:lnTo>
                  <a:lnTo>
                    <a:pt x="92" y="87"/>
                  </a:lnTo>
                  <a:lnTo>
                    <a:pt x="113" y="90"/>
                  </a:lnTo>
                  <a:lnTo>
                    <a:pt x="113" y="61"/>
                  </a:lnTo>
                  <a:lnTo>
                    <a:pt x="95" y="61"/>
                  </a:lnTo>
                  <a:lnTo>
                    <a:pt x="80" y="56"/>
                  </a:lnTo>
                  <a:lnTo>
                    <a:pt x="64" y="50"/>
                  </a:lnTo>
                  <a:lnTo>
                    <a:pt x="51" y="42"/>
                  </a:lnTo>
                  <a:lnTo>
                    <a:pt x="41" y="32"/>
                  </a:lnTo>
                  <a:lnTo>
                    <a:pt x="33" y="21"/>
                  </a:lnTo>
                  <a:lnTo>
                    <a:pt x="28" y="1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4781880" y="4905720"/>
              <a:ext cx="17280" cy="6984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0"/>
                  </a:moveTo>
                  <a:lnTo>
                    <a:pt x="0" y="0"/>
                  </a:lnTo>
                  <a:lnTo>
                    <a:pt x="0" y="118"/>
                  </a:lnTo>
                  <a:lnTo>
                    <a:pt x="28" y="118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4726440" y="4852080"/>
              <a:ext cx="72360" cy="53280"/>
            </a:xfrm>
            <a:custGeom>
              <a:avLst/>
              <a:gdLst/>
              <a:ahLst/>
              <a:rect l="l" t="t" r="r" b="b"/>
              <a:pathLst>
                <a:path w="113" h="89">
                  <a:moveTo>
                    <a:pt x="113" y="0"/>
                  </a:moveTo>
                  <a:lnTo>
                    <a:pt x="113" y="0"/>
                  </a:lnTo>
                  <a:lnTo>
                    <a:pt x="92" y="3"/>
                  </a:lnTo>
                  <a:lnTo>
                    <a:pt x="72" y="8"/>
                  </a:lnTo>
                  <a:lnTo>
                    <a:pt x="51" y="16"/>
                  </a:lnTo>
                  <a:lnTo>
                    <a:pt x="36" y="26"/>
                  </a:lnTo>
                  <a:lnTo>
                    <a:pt x="20" y="39"/>
                  </a:lnTo>
                  <a:lnTo>
                    <a:pt x="10" y="55"/>
                  </a:lnTo>
                  <a:lnTo>
                    <a:pt x="2" y="71"/>
                  </a:lnTo>
                  <a:lnTo>
                    <a:pt x="0" y="89"/>
                  </a:lnTo>
                  <a:lnTo>
                    <a:pt x="28" y="89"/>
                  </a:lnTo>
                  <a:lnTo>
                    <a:pt x="28" y="79"/>
                  </a:lnTo>
                  <a:lnTo>
                    <a:pt x="33" y="68"/>
                  </a:lnTo>
                  <a:lnTo>
                    <a:pt x="41" y="58"/>
                  </a:lnTo>
                  <a:lnTo>
                    <a:pt x="51" y="47"/>
                  </a:lnTo>
                  <a:lnTo>
                    <a:pt x="64" y="39"/>
                  </a:lnTo>
                  <a:lnTo>
                    <a:pt x="80" y="34"/>
                  </a:lnTo>
                  <a:lnTo>
                    <a:pt x="95" y="29"/>
                  </a:lnTo>
                  <a:lnTo>
                    <a:pt x="113" y="26"/>
                  </a:lnTo>
                  <a:lnTo>
                    <a:pt x="113" y="26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637520" y="4886640"/>
              <a:ext cx="95040" cy="7920"/>
            </a:xfrm>
            <a:prstGeom prst="rect">
              <a:avLst/>
            </a:pr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4637520" y="4894920"/>
              <a:ext cx="95040" cy="7200"/>
            </a:xfrm>
            <a:prstGeom prst="rect">
              <a:avLst/>
            </a:prstGeom>
            <a:solidFill>
              <a:srgbClr val="b4b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4635360" y="4912200"/>
              <a:ext cx="96840" cy="5400"/>
            </a:xfrm>
            <a:prstGeom prst="rect">
              <a:avLst/>
            </a:pr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4635360" y="4919400"/>
              <a:ext cx="96840" cy="7920"/>
            </a:xfrm>
            <a:prstGeom prst="rect">
              <a:avLst/>
            </a:prstGeom>
            <a:solidFill>
              <a:srgbClr val="b4b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4107600" y="4886640"/>
              <a:ext cx="394200" cy="7920"/>
            </a:xfrm>
            <a:prstGeom prst="rect">
              <a:avLst/>
            </a:pr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4107600" y="4895640"/>
              <a:ext cx="394200" cy="7920"/>
            </a:xfrm>
            <a:prstGeom prst="rect">
              <a:avLst/>
            </a:prstGeom>
            <a:solidFill>
              <a:srgbClr val="b4b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4107600" y="4912200"/>
              <a:ext cx="394200" cy="7200"/>
            </a:xfrm>
            <a:prstGeom prst="rect">
              <a:avLst/>
            </a:pr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107600" y="4921200"/>
              <a:ext cx="394200" cy="7920"/>
            </a:xfrm>
            <a:prstGeom prst="rect">
              <a:avLst/>
            </a:prstGeom>
            <a:solidFill>
              <a:srgbClr val="b4b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常见设备间接口电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.2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规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.3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规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"/>
          <p:cNvSpPr/>
          <p:nvPr/>
        </p:nvSpPr>
        <p:spPr>
          <a:xfrm>
            <a:off x="5630040" y="2057400"/>
            <a:ext cx="173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机械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电气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常用控制信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传输速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传输距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接口电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V.24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电缆机械特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1676520" y="2209680"/>
          <a:ext cx="6172200" cy="29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09680"/>
                    <a:ext cx="61722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"/>
          <p:cNvSpPr/>
          <p:nvPr/>
        </p:nvSpPr>
        <p:spPr>
          <a:xfrm>
            <a:off x="1404000" y="51055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B50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路由器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402160" y="4908600"/>
            <a:ext cx="24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接网络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TE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CE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V.24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其他特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符合标准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RS-23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电平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2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最大传输速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同步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4000 bp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异步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15200 bps 1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V.2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电缆的最大传输速率受限于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TTL -- RS23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电平的转换速率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8" name=""/>
          <p:cNvGraphicFramePr/>
          <p:nvPr/>
        </p:nvGraphicFramePr>
        <p:xfrm>
          <a:off x="4648320" y="3200400"/>
          <a:ext cx="4267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200400"/>
                    <a:ext cx="4267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路由器上使用的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V.24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电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WAN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广域网电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UX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备份口电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8AS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八异步串口电缆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ONSOLE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控制台接口电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838080" y="3881520"/>
          <a:ext cx="3353040" cy="22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881520"/>
                    <a:ext cx="335304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典型网络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85800" y="2362320"/>
            <a:ext cx="7620120" cy="3429000"/>
            <a:chOff x="685800" y="2362320"/>
            <a:chExt cx="7620120" cy="3429000"/>
          </a:xfrm>
        </p:grpSpPr>
        <p:sp>
          <p:nvSpPr>
            <p:cNvPr id="110" name=""/>
            <p:cNvSpPr/>
            <p:nvPr/>
          </p:nvSpPr>
          <p:spPr>
            <a:xfrm>
              <a:off x="2969280" y="2362320"/>
              <a:ext cx="1121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Gill Sans"/>
                </a:rPr>
                <a:t>广域网边缘设备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09040" y="2362320"/>
              <a:ext cx="80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Gill Sans"/>
                </a:rPr>
                <a:t>局域网接口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70600" y="4495680"/>
              <a:ext cx="80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Gill Sans"/>
                </a:rPr>
                <a:t>广域网接口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914400" y="4876920"/>
              <a:ext cx="1035000" cy="909000"/>
              <a:chOff x="914400" y="4876920"/>
              <a:chExt cx="1035000" cy="909000"/>
            </a:xfrm>
          </p:grpSpPr>
          <p:sp>
            <p:nvSpPr>
              <p:cNvPr id="114" name=""/>
              <p:cNvSpPr/>
              <p:nvPr/>
            </p:nvSpPr>
            <p:spPr>
              <a:xfrm>
                <a:off x="1228680" y="4876920"/>
                <a:ext cx="720720" cy="579240"/>
              </a:xfrm>
              <a:custGeom>
                <a:avLst/>
                <a:gdLst/>
                <a:ahLst/>
                <a:rect l="l" t="t" r="r" b="b"/>
                <a:pathLst>
                  <a:path w="907" h="731">
                    <a:moveTo>
                      <a:pt x="93" y="4"/>
                    </a:moveTo>
                    <a:lnTo>
                      <a:pt x="0" y="537"/>
                    </a:lnTo>
                    <a:lnTo>
                      <a:pt x="4" y="550"/>
                    </a:lnTo>
                    <a:lnTo>
                      <a:pt x="768" y="731"/>
                    </a:lnTo>
                    <a:lnTo>
                      <a:pt x="804" y="725"/>
                    </a:lnTo>
                    <a:lnTo>
                      <a:pt x="812" y="721"/>
                    </a:lnTo>
                    <a:lnTo>
                      <a:pt x="813" y="712"/>
                    </a:lnTo>
                    <a:lnTo>
                      <a:pt x="907" y="161"/>
                    </a:lnTo>
                    <a:lnTo>
                      <a:pt x="907" y="144"/>
                    </a:lnTo>
                    <a:lnTo>
                      <a:pt x="900" y="137"/>
                    </a:lnTo>
                    <a:lnTo>
                      <a:pt x="887" y="130"/>
                    </a:lnTo>
                    <a:lnTo>
                      <a:pt x="104" y="0"/>
                    </a:lnTo>
                    <a:lnTo>
                      <a:pt x="93" y="4"/>
                    </a:lnTo>
                    <a:close/>
                  </a:path>
                </a:pathLst>
              </a:custGeom>
              <a:solidFill>
                <a:srgbClr val="5a5a5a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33360" y="4879800"/>
                <a:ext cx="677880" cy="568080"/>
              </a:xfrm>
              <a:custGeom>
                <a:avLst/>
                <a:gdLst/>
                <a:ahLst/>
                <a:rect l="l" t="t" r="r" b="b"/>
                <a:pathLst>
                  <a:path w="856" h="716">
                    <a:moveTo>
                      <a:pt x="856" y="135"/>
                    </a:moveTo>
                    <a:lnTo>
                      <a:pt x="847" y="123"/>
                    </a:lnTo>
                    <a:lnTo>
                      <a:pt x="104" y="0"/>
                    </a:lnTo>
                    <a:lnTo>
                      <a:pt x="93" y="6"/>
                    </a:lnTo>
                    <a:lnTo>
                      <a:pt x="0" y="532"/>
                    </a:lnTo>
                    <a:lnTo>
                      <a:pt x="6" y="541"/>
                    </a:lnTo>
                    <a:lnTo>
                      <a:pt x="758" y="716"/>
                    </a:lnTo>
                    <a:lnTo>
                      <a:pt x="854" y="135"/>
                    </a:lnTo>
                    <a:lnTo>
                      <a:pt x="856" y="135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dcdc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06440" y="4913280"/>
                <a:ext cx="519120" cy="486720"/>
              </a:xfrm>
              <a:custGeom>
                <a:avLst/>
                <a:gdLst/>
                <a:ahLst/>
                <a:rect l="l" t="t" r="r" b="b"/>
                <a:pathLst>
                  <a:path w="656" h="616">
                    <a:moveTo>
                      <a:pt x="94" y="0"/>
                    </a:moveTo>
                    <a:lnTo>
                      <a:pt x="656" y="102"/>
                    </a:lnTo>
                    <a:lnTo>
                      <a:pt x="567" y="616"/>
                    </a:lnTo>
                    <a:lnTo>
                      <a:pt x="0" y="486"/>
                    </a:lnTo>
                    <a:lnTo>
                      <a:pt x="84" y="9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00360" y="5227560"/>
                <a:ext cx="46080" cy="159840"/>
              </a:xfrm>
              <a:custGeom>
                <a:avLst/>
                <a:gdLst/>
                <a:ahLst/>
                <a:rect l="l" t="t" r="r" b="b"/>
                <a:pathLst>
                  <a:path w="58" h="202">
                    <a:moveTo>
                      <a:pt x="30" y="0"/>
                    </a:moveTo>
                    <a:lnTo>
                      <a:pt x="58" y="7"/>
                    </a:lnTo>
                    <a:lnTo>
                      <a:pt x="30" y="202"/>
                    </a:lnTo>
                    <a:lnTo>
                      <a:pt x="0" y="195"/>
                    </a:lnTo>
                    <a:lnTo>
                      <a:pt x="32" y="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7360" y="5263920"/>
                <a:ext cx="6120" cy="6120"/>
              </a:xfrm>
              <a:prstGeom prst="ellipse">
                <a:avLst/>
              </a:prstGeom>
              <a:solidFill>
                <a:srgbClr val="e6e6e6"/>
              </a:solidFill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12960" y="5322600"/>
                <a:ext cx="15840" cy="288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14400" y="5316480"/>
                <a:ext cx="15840" cy="252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14400" y="5310000"/>
                <a:ext cx="17640" cy="288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816200" y="5303520"/>
                <a:ext cx="17280" cy="288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17640" y="5295600"/>
                <a:ext cx="17640" cy="288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06480" y="5357520"/>
                <a:ext cx="17640" cy="288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08280" y="5349600"/>
                <a:ext cx="17280" cy="288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09720" y="5343480"/>
                <a:ext cx="17640" cy="252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11520" y="5337000"/>
                <a:ext cx="15840" cy="288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11520" y="5330520"/>
                <a:ext cx="17280" cy="288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36720" y="502416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2" y="0"/>
                    </a:lnTo>
                    <a:lnTo>
                      <a:pt x="12" y="4"/>
                    </a:lnTo>
                    <a:lnTo>
                      <a:pt x="7" y="4"/>
                    </a:lnTo>
                    <a:lnTo>
                      <a:pt x="7" y="18"/>
                    </a:lnTo>
                    <a:lnTo>
                      <a:pt x="12" y="18"/>
                    </a:lnTo>
                    <a:lnTo>
                      <a:pt x="12" y="22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4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46440" y="5024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" y="0"/>
                    </a:moveTo>
                    <a:lnTo>
                      <a:pt x="1" y="4"/>
                    </a:lnTo>
                    <a:lnTo>
                      <a:pt x="6" y="4"/>
                    </a:lnTo>
                    <a:lnTo>
                      <a:pt x="6" y="17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6" y="22"/>
                    </a:lnTo>
                    <a:lnTo>
                      <a:pt x="20" y="19"/>
                    </a:lnTo>
                    <a:lnTo>
                      <a:pt x="20" y="13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0" y="3"/>
                    </a:lnTo>
                    <a:lnTo>
                      <a:pt x="17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474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63720" y="5024160"/>
                <a:ext cx="22320" cy="1728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1" y="20"/>
                    </a:moveTo>
                    <a:lnTo>
                      <a:pt x="1" y="17"/>
                    </a:lnTo>
                    <a:lnTo>
                      <a:pt x="4" y="17"/>
                    </a:lnTo>
                    <a:lnTo>
                      <a:pt x="4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4" y="10"/>
                    </a:lnTo>
                    <a:lnTo>
                      <a:pt x="22" y="0"/>
                    </a:lnTo>
                    <a:lnTo>
                      <a:pt x="30" y="0"/>
                    </a:lnTo>
                    <a:lnTo>
                      <a:pt x="30" y="3"/>
                    </a:lnTo>
                    <a:lnTo>
                      <a:pt x="26" y="4"/>
                    </a:lnTo>
                    <a:lnTo>
                      <a:pt x="26" y="16"/>
                    </a:lnTo>
                    <a:lnTo>
                      <a:pt x="30" y="16"/>
                    </a:lnTo>
                    <a:lnTo>
                      <a:pt x="30" y="20"/>
                    </a:lnTo>
                    <a:lnTo>
                      <a:pt x="22" y="20"/>
                    </a:lnTo>
                    <a:lnTo>
                      <a:pt x="22" y="7"/>
                    </a:lnTo>
                    <a:lnTo>
                      <a:pt x="15" y="18"/>
                    </a:lnTo>
                    <a:lnTo>
                      <a:pt x="9" y="8"/>
                    </a:lnTo>
                    <a:lnTo>
                      <a:pt x="8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0"/>
                    </a:lnTo>
                    <a:close/>
                  </a:path>
                </a:pathLst>
              </a:custGeom>
              <a:solidFill>
                <a:srgbClr val="6474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54360" y="502740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854360" y="5033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190520" y="5313240"/>
                <a:ext cx="627120" cy="159840"/>
              </a:xfrm>
              <a:custGeom>
                <a:avLst/>
                <a:gdLst/>
                <a:ahLst/>
                <a:rect l="l" t="t" r="r" b="b"/>
                <a:pathLst>
                  <a:path w="789" h="203">
                    <a:moveTo>
                      <a:pt x="789" y="176"/>
                    </a:moveTo>
                    <a:lnTo>
                      <a:pt x="755" y="203"/>
                    </a:lnTo>
                    <a:lnTo>
                      <a:pt x="0" y="12"/>
                    </a:lnTo>
                    <a:lnTo>
                      <a:pt x="40" y="0"/>
                    </a:lnTo>
                    <a:lnTo>
                      <a:pt x="786" y="178"/>
                    </a:lnTo>
                    <a:lnTo>
                      <a:pt x="789" y="17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914400" y="5308560"/>
                <a:ext cx="925560" cy="415440"/>
              </a:xfrm>
              <a:custGeom>
                <a:avLst/>
                <a:gdLst/>
                <a:ahLst/>
                <a:rect l="l" t="t" r="r" b="b"/>
                <a:pathLst>
                  <a:path w="1164" h="524">
                    <a:moveTo>
                      <a:pt x="146" y="190"/>
                    </a:moveTo>
                    <a:lnTo>
                      <a:pt x="0" y="287"/>
                    </a:lnTo>
                    <a:lnTo>
                      <a:pt x="786" y="524"/>
                    </a:lnTo>
                    <a:lnTo>
                      <a:pt x="1164" y="199"/>
                    </a:lnTo>
                    <a:lnTo>
                      <a:pt x="1138" y="193"/>
                    </a:lnTo>
                    <a:lnTo>
                      <a:pt x="865" y="422"/>
                    </a:lnTo>
                    <a:lnTo>
                      <a:pt x="1037" y="183"/>
                    </a:lnTo>
                    <a:lnTo>
                      <a:pt x="310" y="0"/>
                    </a:lnTo>
                    <a:lnTo>
                      <a:pt x="161" y="181"/>
                    </a:lnTo>
                    <a:lnTo>
                      <a:pt x="146" y="190"/>
                    </a:lnTo>
                    <a:close/>
                  </a:path>
                </a:pathLst>
              </a:custGeom>
              <a:solidFill>
                <a:srgbClr val="d2d2d2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636560" y="5465520"/>
                <a:ext cx="165240" cy="150480"/>
              </a:xfrm>
              <a:custGeom>
                <a:avLst/>
                <a:gdLst/>
                <a:ahLst/>
                <a:rect l="l" t="t" r="r" b="b"/>
                <a:pathLst>
                  <a:path w="208" h="189">
                    <a:moveTo>
                      <a:pt x="138" y="0"/>
                    </a:moveTo>
                    <a:lnTo>
                      <a:pt x="0" y="189"/>
                    </a:lnTo>
                    <a:lnTo>
                      <a:pt x="208" y="1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06640" y="535284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68" h="48">
                    <a:moveTo>
                      <a:pt x="51" y="45"/>
                    </a:moveTo>
                    <a:lnTo>
                      <a:pt x="68" y="17"/>
                    </a:lnTo>
                    <a:lnTo>
                      <a:pt x="62" y="6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2" y="19"/>
                    </a:lnTo>
                    <a:lnTo>
                      <a:pt x="0" y="34"/>
                    </a:lnTo>
                    <a:lnTo>
                      <a:pt x="50" y="48"/>
                    </a:lnTo>
                    <a:lnTo>
                      <a:pt x="51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06640" y="5352840"/>
                <a:ext cx="45720" cy="2664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42" y="33"/>
                    </a:moveTo>
                    <a:lnTo>
                      <a:pt x="59" y="8"/>
                    </a:lnTo>
                    <a:lnTo>
                      <a:pt x="22" y="0"/>
                    </a:lnTo>
                    <a:lnTo>
                      <a:pt x="0" y="22"/>
                    </a:lnTo>
                    <a:lnTo>
                      <a:pt x="38" y="34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44440" y="5362560"/>
                <a:ext cx="54000" cy="39240"/>
              </a:xfrm>
              <a:custGeom>
                <a:avLst/>
                <a:gdLst/>
                <a:ahLst/>
                <a:rect l="l" t="t" r="r" b="b"/>
                <a:pathLst>
                  <a:path w="68" h="50">
                    <a:moveTo>
                      <a:pt x="53" y="46"/>
                    </a:moveTo>
                    <a:lnTo>
                      <a:pt x="68" y="18"/>
                    </a:lnTo>
                    <a:lnTo>
                      <a:pt x="61" y="7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2" y="20"/>
                    </a:lnTo>
                    <a:lnTo>
                      <a:pt x="0" y="34"/>
                    </a:lnTo>
                    <a:lnTo>
                      <a:pt x="51" y="50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44440" y="5362560"/>
                <a:ext cx="46080" cy="2628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41" y="32"/>
                    </a:moveTo>
                    <a:lnTo>
                      <a:pt x="59" y="8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38" y="34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89000" y="537336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88" h="54">
                    <a:moveTo>
                      <a:pt x="69" y="54"/>
                    </a:moveTo>
                    <a:lnTo>
                      <a:pt x="88" y="28"/>
                    </a:lnTo>
                    <a:lnTo>
                      <a:pt x="78" y="15"/>
                    </a:lnTo>
                    <a:lnTo>
                      <a:pt x="27" y="0"/>
                    </a:lnTo>
                    <a:lnTo>
                      <a:pt x="15" y="3"/>
                    </a:lnTo>
                    <a:lnTo>
                      <a:pt x="1" y="19"/>
                    </a:lnTo>
                    <a:lnTo>
                      <a:pt x="0" y="35"/>
                    </a:lnTo>
                    <a:lnTo>
                      <a:pt x="69" y="54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089000" y="5375160"/>
                <a:ext cx="58680" cy="31320"/>
              </a:xfrm>
              <a:custGeom>
                <a:avLst/>
                <a:gdLst/>
                <a:ahLst/>
                <a:rect l="l" t="t" r="r" b="b"/>
                <a:pathLst>
                  <a:path w="74" h="39">
                    <a:moveTo>
                      <a:pt x="74" y="12"/>
                    </a:moveTo>
                    <a:lnTo>
                      <a:pt x="21" y="0"/>
                    </a:lnTo>
                    <a:lnTo>
                      <a:pt x="0" y="22"/>
                    </a:lnTo>
                    <a:lnTo>
                      <a:pt x="55" y="39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82600" y="5371920"/>
                <a:ext cx="52560" cy="378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52" y="45"/>
                    </a:moveTo>
                    <a:lnTo>
                      <a:pt x="66" y="17"/>
                    </a:lnTo>
                    <a:lnTo>
                      <a:pt x="59" y="7"/>
                    </a:lnTo>
                    <a:lnTo>
                      <a:pt x="27" y="0"/>
                    </a:lnTo>
                    <a:lnTo>
                      <a:pt x="15" y="3"/>
                    </a:lnTo>
                    <a:lnTo>
                      <a:pt x="1" y="19"/>
                    </a:lnTo>
                    <a:lnTo>
                      <a:pt x="0" y="33"/>
                    </a:lnTo>
                    <a:lnTo>
                      <a:pt x="49" y="48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82600" y="537192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8" h="33">
                    <a:moveTo>
                      <a:pt x="41" y="32"/>
                    </a:moveTo>
                    <a:lnTo>
                      <a:pt x="58" y="8"/>
                    </a:lnTo>
                    <a:lnTo>
                      <a:pt x="21" y="0"/>
                    </a:lnTo>
                    <a:lnTo>
                      <a:pt x="0" y="23"/>
                    </a:lnTo>
                    <a:lnTo>
                      <a:pt x="38" y="33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20760" y="5381280"/>
                <a:ext cx="52560" cy="39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50" y="45"/>
                    </a:moveTo>
                    <a:lnTo>
                      <a:pt x="66" y="18"/>
                    </a:lnTo>
                    <a:lnTo>
                      <a:pt x="60" y="6"/>
                    </a:lnTo>
                    <a:lnTo>
                      <a:pt x="27" y="0"/>
                    </a:lnTo>
                    <a:lnTo>
                      <a:pt x="14" y="3"/>
                    </a:lnTo>
                    <a:lnTo>
                      <a:pt x="1" y="18"/>
                    </a:lnTo>
                    <a:lnTo>
                      <a:pt x="0" y="34"/>
                    </a:lnTo>
                    <a:lnTo>
                      <a:pt x="49" y="48"/>
                    </a:lnTo>
                    <a:lnTo>
                      <a:pt x="50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20760" y="538128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0" y="33"/>
                    </a:moveTo>
                    <a:lnTo>
                      <a:pt x="58" y="8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37" y="34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55680" y="5391000"/>
                <a:ext cx="54000" cy="39240"/>
              </a:xfrm>
              <a:custGeom>
                <a:avLst/>
                <a:gdLst/>
                <a:ahLst/>
                <a:rect l="l" t="t" r="r" b="b"/>
                <a:pathLst>
                  <a:path w="67" h="50">
                    <a:moveTo>
                      <a:pt x="52" y="46"/>
                    </a:moveTo>
                    <a:lnTo>
                      <a:pt x="67" y="18"/>
                    </a:lnTo>
                    <a:lnTo>
                      <a:pt x="60" y="7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1" y="20"/>
                    </a:lnTo>
                    <a:lnTo>
                      <a:pt x="0" y="35"/>
                    </a:lnTo>
                    <a:lnTo>
                      <a:pt x="50" y="50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55680" y="5391000"/>
                <a:ext cx="46080" cy="2808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41" y="33"/>
                    </a:moveTo>
                    <a:lnTo>
                      <a:pt x="59" y="8"/>
                    </a:lnTo>
                    <a:lnTo>
                      <a:pt x="22" y="0"/>
                    </a:lnTo>
                    <a:lnTo>
                      <a:pt x="0" y="24"/>
                    </a:lnTo>
                    <a:lnTo>
                      <a:pt x="38" y="35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3840" y="540216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68" h="48">
                    <a:moveTo>
                      <a:pt x="51" y="44"/>
                    </a:moveTo>
                    <a:lnTo>
                      <a:pt x="68" y="16"/>
                    </a:lnTo>
                    <a:lnTo>
                      <a:pt x="60" y="6"/>
                    </a:lnTo>
                    <a:lnTo>
                      <a:pt x="27" y="0"/>
                    </a:lnTo>
                    <a:lnTo>
                      <a:pt x="16" y="3"/>
                    </a:lnTo>
                    <a:lnTo>
                      <a:pt x="2" y="18"/>
                    </a:lnTo>
                    <a:lnTo>
                      <a:pt x="0" y="32"/>
                    </a:lnTo>
                    <a:lnTo>
                      <a:pt x="50" y="48"/>
                    </a:lnTo>
                    <a:lnTo>
                      <a:pt x="51" y="44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93840" y="5402160"/>
                <a:ext cx="46080" cy="24840"/>
              </a:xfrm>
              <a:custGeom>
                <a:avLst/>
                <a:gdLst/>
                <a:ahLst/>
                <a:rect l="l" t="t" r="r" b="b"/>
                <a:pathLst>
                  <a:path w="57" h="32">
                    <a:moveTo>
                      <a:pt x="40" y="31"/>
                    </a:moveTo>
                    <a:lnTo>
                      <a:pt x="57" y="7"/>
                    </a:lnTo>
                    <a:lnTo>
                      <a:pt x="21" y="0"/>
                    </a:lnTo>
                    <a:lnTo>
                      <a:pt x="0" y="22"/>
                    </a:lnTo>
                    <a:lnTo>
                      <a:pt x="37" y="32"/>
                    </a:lnTo>
                    <a:lnTo>
                      <a:pt x="40" y="31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30200" y="5410080"/>
                <a:ext cx="54000" cy="3924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2" y="46"/>
                    </a:moveTo>
                    <a:lnTo>
                      <a:pt x="68" y="18"/>
                    </a:lnTo>
                    <a:lnTo>
                      <a:pt x="62" y="7"/>
                    </a:lnTo>
                    <a:lnTo>
                      <a:pt x="28" y="0"/>
                    </a:lnTo>
                    <a:lnTo>
                      <a:pt x="16" y="4"/>
                    </a:lnTo>
                    <a:lnTo>
                      <a:pt x="2" y="20"/>
                    </a:lnTo>
                    <a:lnTo>
                      <a:pt x="0" y="35"/>
                    </a:lnTo>
                    <a:lnTo>
                      <a:pt x="51" y="49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332000" y="5410080"/>
                <a:ext cx="46080" cy="28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1" y="33"/>
                    </a:moveTo>
                    <a:lnTo>
                      <a:pt x="58" y="8"/>
                    </a:lnTo>
                    <a:lnTo>
                      <a:pt x="22" y="0"/>
                    </a:lnTo>
                    <a:lnTo>
                      <a:pt x="0" y="24"/>
                    </a:lnTo>
                    <a:lnTo>
                      <a:pt x="37" y="35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68360" y="5421240"/>
                <a:ext cx="54000" cy="37440"/>
              </a:xfrm>
              <a:custGeom>
                <a:avLst/>
                <a:gdLst/>
                <a:ahLst/>
                <a:rect l="l" t="t" r="r" b="b"/>
                <a:pathLst>
                  <a:path w="68" h="50">
                    <a:moveTo>
                      <a:pt x="53" y="45"/>
                    </a:moveTo>
                    <a:lnTo>
                      <a:pt x="68" y="19"/>
                    </a:lnTo>
                    <a:lnTo>
                      <a:pt x="61" y="7"/>
                    </a:lnTo>
                    <a:lnTo>
                      <a:pt x="29" y="0"/>
                    </a:lnTo>
                    <a:lnTo>
                      <a:pt x="16" y="3"/>
                    </a:lnTo>
                    <a:lnTo>
                      <a:pt x="2" y="21"/>
                    </a:lnTo>
                    <a:lnTo>
                      <a:pt x="0" y="35"/>
                    </a:lnTo>
                    <a:lnTo>
                      <a:pt x="51" y="50"/>
                    </a:lnTo>
                    <a:lnTo>
                      <a:pt x="53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370160" y="5421240"/>
                <a:ext cx="44280" cy="266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1" y="33"/>
                    </a:moveTo>
                    <a:lnTo>
                      <a:pt x="58" y="9"/>
                    </a:lnTo>
                    <a:lnTo>
                      <a:pt x="22" y="0"/>
                    </a:lnTo>
                    <a:lnTo>
                      <a:pt x="0" y="24"/>
                    </a:lnTo>
                    <a:lnTo>
                      <a:pt x="38" y="35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03280" y="5430600"/>
                <a:ext cx="54000" cy="4104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50" y="46"/>
                    </a:moveTo>
                    <a:lnTo>
                      <a:pt x="66" y="18"/>
                    </a:lnTo>
                    <a:lnTo>
                      <a:pt x="59" y="7"/>
                    </a:lnTo>
                    <a:lnTo>
                      <a:pt x="26" y="0"/>
                    </a:lnTo>
                    <a:lnTo>
                      <a:pt x="14" y="3"/>
                    </a:lnTo>
                    <a:lnTo>
                      <a:pt x="1" y="19"/>
                    </a:lnTo>
                    <a:lnTo>
                      <a:pt x="0" y="35"/>
                    </a:lnTo>
                    <a:lnTo>
                      <a:pt x="49" y="50"/>
                    </a:lnTo>
                    <a:lnTo>
                      <a:pt x="50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03280" y="5430600"/>
                <a:ext cx="46080" cy="28080"/>
              </a:xfrm>
              <a:custGeom>
                <a:avLst/>
                <a:gdLst/>
                <a:ahLst/>
                <a:rect l="l" t="t" r="r" b="b"/>
                <a:pathLst>
                  <a:path w="57" h="35">
                    <a:moveTo>
                      <a:pt x="40" y="33"/>
                    </a:moveTo>
                    <a:lnTo>
                      <a:pt x="57" y="8"/>
                    </a:lnTo>
                    <a:lnTo>
                      <a:pt x="21" y="0"/>
                    </a:lnTo>
                    <a:lnTo>
                      <a:pt x="0" y="23"/>
                    </a:lnTo>
                    <a:lnTo>
                      <a:pt x="37" y="35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41440" y="5440320"/>
                <a:ext cx="52560" cy="3924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1" y="46"/>
                    </a:moveTo>
                    <a:lnTo>
                      <a:pt x="67" y="18"/>
                    </a:lnTo>
                    <a:lnTo>
                      <a:pt x="60" y="7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1" y="19"/>
                    </a:lnTo>
                    <a:lnTo>
                      <a:pt x="0" y="35"/>
                    </a:lnTo>
                    <a:lnTo>
                      <a:pt x="50" y="49"/>
                    </a:lnTo>
                    <a:lnTo>
                      <a:pt x="51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441440" y="5440320"/>
                <a:ext cx="46080" cy="2808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41" y="33"/>
                    </a:moveTo>
                    <a:lnTo>
                      <a:pt x="59" y="9"/>
                    </a:lnTo>
                    <a:lnTo>
                      <a:pt x="23" y="0"/>
                    </a:lnTo>
                    <a:lnTo>
                      <a:pt x="0" y="24"/>
                    </a:lnTo>
                    <a:lnTo>
                      <a:pt x="38" y="35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479600" y="5451120"/>
                <a:ext cx="52200" cy="3780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51" y="47"/>
                    </a:moveTo>
                    <a:lnTo>
                      <a:pt x="66" y="19"/>
                    </a:lnTo>
                    <a:lnTo>
                      <a:pt x="60" y="7"/>
                    </a:lnTo>
                    <a:lnTo>
                      <a:pt x="27" y="0"/>
                    </a:lnTo>
                    <a:lnTo>
                      <a:pt x="15" y="4"/>
                    </a:lnTo>
                    <a:lnTo>
                      <a:pt x="1" y="20"/>
                    </a:lnTo>
                    <a:lnTo>
                      <a:pt x="0" y="35"/>
                    </a:lnTo>
                    <a:lnTo>
                      <a:pt x="50" y="50"/>
                    </a:lnTo>
                    <a:lnTo>
                      <a:pt x="51" y="47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479600" y="545112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1" y="33"/>
                    </a:moveTo>
                    <a:lnTo>
                      <a:pt x="58" y="9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7" y="35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39760" y="5389200"/>
                <a:ext cx="52560" cy="37800"/>
              </a:xfrm>
              <a:custGeom>
                <a:avLst/>
                <a:gdLst/>
                <a:ahLst/>
                <a:rect l="l" t="t" r="r" b="b"/>
                <a:pathLst>
                  <a:path w="68" h="48">
                    <a:moveTo>
                      <a:pt x="51" y="45"/>
                    </a:moveTo>
                    <a:lnTo>
                      <a:pt x="68" y="19"/>
                    </a:lnTo>
                    <a:lnTo>
                      <a:pt x="61" y="6"/>
                    </a:lnTo>
                    <a:lnTo>
                      <a:pt x="28" y="0"/>
                    </a:lnTo>
                    <a:lnTo>
                      <a:pt x="15" y="3"/>
                    </a:lnTo>
                    <a:lnTo>
                      <a:pt x="2" y="20"/>
                    </a:lnTo>
                    <a:lnTo>
                      <a:pt x="0" y="34"/>
                    </a:lnTo>
                    <a:lnTo>
                      <a:pt x="50" y="48"/>
                    </a:lnTo>
                    <a:lnTo>
                      <a:pt x="51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39760" y="538920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0" y="32"/>
                    </a:moveTo>
                    <a:lnTo>
                      <a:pt x="58" y="9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0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176480" y="5398920"/>
                <a:ext cx="54000" cy="39240"/>
              </a:xfrm>
              <a:custGeom>
                <a:avLst/>
                <a:gdLst/>
                <a:ahLst/>
                <a:rect l="l" t="t" r="r" b="b"/>
                <a:pathLst>
                  <a:path w="67" h="50">
                    <a:moveTo>
                      <a:pt x="52" y="46"/>
                    </a:moveTo>
                    <a:lnTo>
                      <a:pt x="67" y="19"/>
                    </a:lnTo>
                    <a:lnTo>
                      <a:pt x="61" y="8"/>
                    </a:lnTo>
                    <a:lnTo>
                      <a:pt x="28" y="0"/>
                    </a:lnTo>
                    <a:lnTo>
                      <a:pt x="16" y="4"/>
                    </a:lnTo>
                    <a:lnTo>
                      <a:pt x="2" y="20"/>
                    </a:lnTo>
                    <a:lnTo>
                      <a:pt x="0" y="35"/>
                    </a:lnTo>
                    <a:lnTo>
                      <a:pt x="51" y="50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76480" y="5398920"/>
                <a:ext cx="47520" cy="2808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42" y="33"/>
                    </a:moveTo>
                    <a:lnTo>
                      <a:pt x="59" y="9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8" y="35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14280" y="540828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2" y="46"/>
                    </a:moveTo>
                    <a:lnTo>
                      <a:pt x="68" y="17"/>
                    </a:lnTo>
                    <a:lnTo>
                      <a:pt x="60" y="7"/>
                    </a:lnTo>
                    <a:lnTo>
                      <a:pt x="29" y="0"/>
                    </a:lnTo>
                    <a:lnTo>
                      <a:pt x="15" y="3"/>
                    </a:lnTo>
                    <a:lnTo>
                      <a:pt x="2" y="20"/>
                    </a:lnTo>
                    <a:lnTo>
                      <a:pt x="0" y="35"/>
                    </a:lnTo>
                    <a:lnTo>
                      <a:pt x="50" y="49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14280" y="5408280"/>
                <a:ext cx="46080" cy="28440"/>
              </a:xfrm>
              <a:custGeom>
                <a:avLst/>
                <a:gdLst/>
                <a:ahLst/>
                <a:rect l="l" t="t" r="r" b="b"/>
                <a:pathLst>
                  <a:path w="57" h="35">
                    <a:moveTo>
                      <a:pt x="41" y="33"/>
                    </a:moveTo>
                    <a:lnTo>
                      <a:pt x="57" y="8"/>
                    </a:lnTo>
                    <a:lnTo>
                      <a:pt x="21" y="0"/>
                    </a:lnTo>
                    <a:lnTo>
                      <a:pt x="0" y="23"/>
                    </a:lnTo>
                    <a:lnTo>
                      <a:pt x="37" y="35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52440" y="541944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2" y="44"/>
                    </a:moveTo>
                    <a:lnTo>
                      <a:pt x="68" y="18"/>
                    </a:lnTo>
                    <a:lnTo>
                      <a:pt x="61" y="6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2" y="19"/>
                    </a:lnTo>
                    <a:lnTo>
                      <a:pt x="0" y="33"/>
                    </a:lnTo>
                    <a:lnTo>
                      <a:pt x="51" y="49"/>
                    </a:lnTo>
                    <a:lnTo>
                      <a:pt x="52" y="44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52440" y="541944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9" h="33">
                    <a:moveTo>
                      <a:pt x="41" y="32"/>
                    </a:moveTo>
                    <a:lnTo>
                      <a:pt x="59" y="7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38" y="33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89160" y="5429160"/>
                <a:ext cx="52200" cy="37800"/>
              </a:xfrm>
              <a:custGeom>
                <a:avLst/>
                <a:gdLst/>
                <a:ahLst/>
                <a:rect l="l" t="t" r="r" b="b"/>
                <a:pathLst>
                  <a:path w="67" h="48">
                    <a:moveTo>
                      <a:pt x="52" y="45"/>
                    </a:moveTo>
                    <a:lnTo>
                      <a:pt x="67" y="17"/>
                    </a:lnTo>
                    <a:lnTo>
                      <a:pt x="61" y="6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2" y="19"/>
                    </a:lnTo>
                    <a:lnTo>
                      <a:pt x="0" y="33"/>
                    </a:lnTo>
                    <a:lnTo>
                      <a:pt x="51" y="48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89160" y="542916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8" h="33">
                    <a:moveTo>
                      <a:pt x="42" y="31"/>
                    </a:moveTo>
                    <a:lnTo>
                      <a:pt x="58" y="8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37" y="33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325520" y="5438520"/>
                <a:ext cx="54000" cy="39240"/>
              </a:xfrm>
              <a:custGeom>
                <a:avLst/>
                <a:gdLst/>
                <a:ahLst/>
                <a:rect l="l" t="t" r="r" b="b"/>
                <a:pathLst>
                  <a:path w="67" h="48">
                    <a:moveTo>
                      <a:pt x="51" y="45"/>
                    </a:moveTo>
                    <a:lnTo>
                      <a:pt x="67" y="18"/>
                    </a:lnTo>
                    <a:lnTo>
                      <a:pt x="59" y="6"/>
                    </a:lnTo>
                    <a:lnTo>
                      <a:pt x="27" y="0"/>
                    </a:lnTo>
                    <a:lnTo>
                      <a:pt x="14" y="2"/>
                    </a:lnTo>
                    <a:lnTo>
                      <a:pt x="1" y="18"/>
                    </a:lnTo>
                    <a:lnTo>
                      <a:pt x="0" y="34"/>
                    </a:lnTo>
                    <a:lnTo>
                      <a:pt x="49" y="48"/>
                    </a:lnTo>
                    <a:lnTo>
                      <a:pt x="51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325520" y="5438520"/>
                <a:ext cx="47520" cy="2664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1" y="33"/>
                    </a:moveTo>
                    <a:lnTo>
                      <a:pt x="58" y="8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38" y="34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365120" y="5449680"/>
                <a:ext cx="52560" cy="37800"/>
              </a:xfrm>
              <a:custGeom>
                <a:avLst/>
                <a:gdLst/>
                <a:ahLst/>
                <a:rect l="l" t="t" r="r" b="b"/>
                <a:pathLst>
                  <a:path w="66" h="49">
                    <a:moveTo>
                      <a:pt x="51" y="46"/>
                    </a:moveTo>
                    <a:lnTo>
                      <a:pt x="66" y="18"/>
                    </a:lnTo>
                    <a:lnTo>
                      <a:pt x="59" y="6"/>
                    </a:lnTo>
                    <a:lnTo>
                      <a:pt x="27" y="0"/>
                    </a:lnTo>
                    <a:lnTo>
                      <a:pt x="15" y="3"/>
                    </a:lnTo>
                    <a:lnTo>
                      <a:pt x="0" y="20"/>
                    </a:lnTo>
                    <a:lnTo>
                      <a:pt x="0" y="34"/>
                    </a:lnTo>
                    <a:lnTo>
                      <a:pt x="50" y="49"/>
                    </a:lnTo>
                    <a:lnTo>
                      <a:pt x="51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65120" y="5449680"/>
                <a:ext cx="44640" cy="2664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0" y="33"/>
                    </a:moveTo>
                    <a:lnTo>
                      <a:pt x="58" y="8"/>
                    </a:lnTo>
                    <a:lnTo>
                      <a:pt x="21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401840" y="5459040"/>
                <a:ext cx="52200" cy="4104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51" y="46"/>
                    </a:moveTo>
                    <a:lnTo>
                      <a:pt x="66" y="17"/>
                    </a:lnTo>
                    <a:lnTo>
                      <a:pt x="60" y="7"/>
                    </a:lnTo>
                    <a:lnTo>
                      <a:pt x="27" y="0"/>
                    </a:lnTo>
                    <a:lnTo>
                      <a:pt x="15" y="3"/>
                    </a:lnTo>
                    <a:lnTo>
                      <a:pt x="2" y="20"/>
                    </a:lnTo>
                    <a:lnTo>
                      <a:pt x="0" y="35"/>
                    </a:lnTo>
                    <a:lnTo>
                      <a:pt x="50" y="50"/>
                    </a:lnTo>
                    <a:lnTo>
                      <a:pt x="51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01840" y="5459040"/>
                <a:ext cx="46080" cy="284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2" y="33"/>
                    </a:moveTo>
                    <a:lnTo>
                      <a:pt x="58" y="8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8" y="35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434960" y="5468760"/>
                <a:ext cx="54000" cy="3924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2" y="46"/>
                    </a:moveTo>
                    <a:lnTo>
                      <a:pt x="67" y="18"/>
                    </a:lnTo>
                    <a:lnTo>
                      <a:pt x="60" y="6"/>
                    </a:lnTo>
                    <a:lnTo>
                      <a:pt x="27" y="0"/>
                    </a:lnTo>
                    <a:lnTo>
                      <a:pt x="15" y="3"/>
                    </a:lnTo>
                    <a:lnTo>
                      <a:pt x="2" y="20"/>
                    </a:lnTo>
                    <a:lnTo>
                      <a:pt x="0" y="35"/>
                    </a:lnTo>
                    <a:lnTo>
                      <a:pt x="50" y="49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34960" y="5468760"/>
                <a:ext cx="47880" cy="266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2" y="33"/>
                    </a:moveTo>
                    <a:lnTo>
                      <a:pt x="58" y="9"/>
                    </a:lnTo>
                    <a:lnTo>
                      <a:pt x="23" y="0"/>
                    </a:lnTo>
                    <a:lnTo>
                      <a:pt x="0" y="24"/>
                    </a:lnTo>
                    <a:lnTo>
                      <a:pt x="38" y="35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17760" y="5459040"/>
                <a:ext cx="52200" cy="4104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51" y="46"/>
                    </a:moveTo>
                    <a:lnTo>
                      <a:pt x="66" y="17"/>
                    </a:lnTo>
                    <a:lnTo>
                      <a:pt x="59" y="7"/>
                    </a:lnTo>
                    <a:lnTo>
                      <a:pt x="26" y="0"/>
                    </a:lnTo>
                    <a:lnTo>
                      <a:pt x="15" y="3"/>
                    </a:lnTo>
                    <a:lnTo>
                      <a:pt x="2" y="20"/>
                    </a:lnTo>
                    <a:lnTo>
                      <a:pt x="0" y="35"/>
                    </a:lnTo>
                    <a:lnTo>
                      <a:pt x="49" y="50"/>
                    </a:lnTo>
                    <a:lnTo>
                      <a:pt x="51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17760" y="54590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1" y="33"/>
                    </a:moveTo>
                    <a:lnTo>
                      <a:pt x="58" y="8"/>
                    </a:lnTo>
                    <a:lnTo>
                      <a:pt x="21" y="0"/>
                    </a:lnTo>
                    <a:lnTo>
                      <a:pt x="0" y="23"/>
                    </a:lnTo>
                    <a:lnTo>
                      <a:pt x="37" y="35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54120" y="5470200"/>
                <a:ext cx="55440" cy="3780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52" y="45"/>
                    </a:moveTo>
                    <a:lnTo>
                      <a:pt x="69" y="18"/>
                    </a:lnTo>
                    <a:lnTo>
                      <a:pt x="62" y="6"/>
                    </a:lnTo>
                    <a:lnTo>
                      <a:pt x="29" y="0"/>
                    </a:lnTo>
                    <a:lnTo>
                      <a:pt x="16" y="3"/>
                    </a:lnTo>
                    <a:lnTo>
                      <a:pt x="2" y="18"/>
                    </a:lnTo>
                    <a:lnTo>
                      <a:pt x="0" y="34"/>
                    </a:lnTo>
                    <a:lnTo>
                      <a:pt x="51" y="48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55920" y="5470200"/>
                <a:ext cx="45720" cy="2664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1" y="33"/>
                    </a:moveTo>
                    <a:lnTo>
                      <a:pt x="58" y="8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38" y="34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68480" y="5400360"/>
                <a:ext cx="96840" cy="50400"/>
              </a:xfrm>
              <a:custGeom>
                <a:avLst/>
                <a:gdLst/>
                <a:ahLst/>
                <a:rect l="l" t="t" r="r" b="b"/>
                <a:pathLst>
                  <a:path w="123" h="62">
                    <a:moveTo>
                      <a:pt x="104" y="62"/>
                    </a:moveTo>
                    <a:lnTo>
                      <a:pt x="123" y="38"/>
                    </a:lnTo>
                    <a:lnTo>
                      <a:pt x="114" y="23"/>
                    </a:lnTo>
                    <a:lnTo>
                      <a:pt x="27" y="0"/>
                    </a:lnTo>
                    <a:lnTo>
                      <a:pt x="16" y="3"/>
                    </a:lnTo>
                    <a:lnTo>
                      <a:pt x="2" y="19"/>
                    </a:lnTo>
                    <a:lnTo>
                      <a:pt x="0" y="33"/>
                    </a:lnTo>
                    <a:lnTo>
                      <a:pt x="104" y="6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066680" y="5402160"/>
                <a:ext cx="88920" cy="40680"/>
              </a:xfrm>
              <a:custGeom>
                <a:avLst/>
                <a:gdLst/>
                <a:ahLst/>
                <a:rect l="l" t="t" r="r" b="b"/>
                <a:pathLst>
                  <a:path w="112" h="51">
                    <a:moveTo>
                      <a:pt x="112" y="24"/>
                    </a:moveTo>
                    <a:lnTo>
                      <a:pt x="23" y="0"/>
                    </a:lnTo>
                    <a:lnTo>
                      <a:pt x="0" y="21"/>
                    </a:lnTo>
                    <a:lnTo>
                      <a:pt x="90" y="51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74920" y="5479920"/>
                <a:ext cx="52200" cy="37800"/>
              </a:xfrm>
              <a:custGeom>
                <a:avLst/>
                <a:gdLst/>
                <a:ahLst/>
                <a:rect l="l" t="t" r="r" b="b"/>
                <a:pathLst>
                  <a:path w="68" h="50">
                    <a:moveTo>
                      <a:pt x="53" y="47"/>
                    </a:moveTo>
                    <a:lnTo>
                      <a:pt x="68" y="19"/>
                    </a:lnTo>
                    <a:lnTo>
                      <a:pt x="61" y="7"/>
                    </a:lnTo>
                    <a:lnTo>
                      <a:pt x="29" y="0"/>
                    </a:lnTo>
                    <a:lnTo>
                      <a:pt x="15" y="4"/>
                    </a:lnTo>
                    <a:lnTo>
                      <a:pt x="1" y="20"/>
                    </a:lnTo>
                    <a:lnTo>
                      <a:pt x="0" y="34"/>
                    </a:lnTo>
                    <a:lnTo>
                      <a:pt x="49" y="50"/>
                    </a:lnTo>
                    <a:lnTo>
                      <a:pt x="53" y="47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474920" y="547992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42" y="33"/>
                    </a:moveTo>
                    <a:lnTo>
                      <a:pt x="59" y="9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38" y="34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511280" y="548928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68" h="48">
                    <a:moveTo>
                      <a:pt x="52" y="45"/>
                    </a:moveTo>
                    <a:lnTo>
                      <a:pt x="68" y="17"/>
                    </a:lnTo>
                    <a:lnTo>
                      <a:pt x="61" y="6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1" y="19"/>
                    </a:lnTo>
                    <a:lnTo>
                      <a:pt x="0" y="34"/>
                    </a:lnTo>
                    <a:lnTo>
                      <a:pt x="50" y="48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512720" y="548928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1" y="33"/>
                    </a:moveTo>
                    <a:lnTo>
                      <a:pt x="58" y="8"/>
                    </a:lnTo>
                    <a:lnTo>
                      <a:pt x="22" y="0"/>
                    </a:lnTo>
                    <a:lnTo>
                      <a:pt x="0" y="22"/>
                    </a:lnTo>
                    <a:lnTo>
                      <a:pt x="36" y="34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47680" y="542592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2" y="46"/>
                    </a:moveTo>
                    <a:lnTo>
                      <a:pt x="68" y="18"/>
                    </a:lnTo>
                    <a:lnTo>
                      <a:pt x="61" y="7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1" y="19"/>
                    </a:lnTo>
                    <a:lnTo>
                      <a:pt x="0" y="34"/>
                    </a:lnTo>
                    <a:lnTo>
                      <a:pt x="51" y="49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147680" y="542592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41" y="32"/>
                    </a:moveTo>
                    <a:lnTo>
                      <a:pt x="59" y="8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84400" y="5433840"/>
                <a:ext cx="54000" cy="3924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1" y="46"/>
                    </a:moveTo>
                    <a:lnTo>
                      <a:pt x="67" y="17"/>
                    </a:lnTo>
                    <a:lnTo>
                      <a:pt x="60" y="7"/>
                    </a:lnTo>
                    <a:lnTo>
                      <a:pt x="27" y="0"/>
                    </a:lnTo>
                    <a:lnTo>
                      <a:pt x="15" y="3"/>
                    </a:lnTo>
                    <a:lnTo>
                      <a:pt x="2" y="19"/>
                    </a:lnTo>
                    <a:lnTo>
                      <a:pt x="0" y="35"/>
                    </a:lnTo>
                    <a:lnTo>
                      <a:pt x="49" y="49"/>
                    </a:lnTo>
                    <a:lnTo>
                      <a:pt x="51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184400" y="5433840"/>
                <a:ext cx="47520" cy="28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1" y="33"/>
                    </a:moveTo>
                    <a:lnTo>
                      <a:pt x="58" y="8"/>
                    </a:lnTo>
                    <a:lnTo>
                      <a:pt x="21" y="0"/>
                    </a:lnTo>
                    <a:lnTo>
                      <a:pt x="0" y="23"/>
                    </a:lnTo>
                    <a:lnTo>
                      <a:pt x="37" y="35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224000" y="5445000"/>
                <a:ext cx="50760" cy="378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52" y="45"/>
                    </a:moveTo>
                    <a:lnTo>
                      <a:pt x="66" y="18"/>
                    </a:lnTo>
                    <a:lnTo>
                      <a:pt x="60" y="6"/>
                    </a:lnTo>
                    <a:lnTo>
                      <a:pt x="27" y="0"/>
                    </a:lnTo>
                    <a:lnTo>
                      <a:pt x="14" y="3"/>
                    </a:lnTo>
                    <a:lnTo>
                      <a:pt x="1" y="19"/>
                    </a:lnTo>
                    <a:lnTo>
                      <a:pt x="0" y="33"/>
                    </a:lnTo>
                    <a:lnTo>
                      <a:pt x="49" y="48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24000" y="5445000"/>
                <a:ext cx="44280" cy="26640"/>
              </a:xfrm>
              <a:custGeom>
                <a:avLst/>
                <a:gdLst/>
                <a:ahLst/>
                <a:rect l="l" t="t" r="r" b="b"/>
                <a:pathLst>
                  <a:path w="58" h="33">
                    <a:moveTo>
                      <a:pt x="41" y="33"/>
                    </a:moveTo>
                    <a:lnTo>
                      <a:pt x="58" y="7"/>
                    </a:lnTo>
                    <a:lnTo>
                      <a:pt x="22" y="0"/>
                    </a:lnTo>
                    <a:lnTo>
                      <a:pt x="0" y="22"/>
                    </a:lnTo>
                    <a:lnTo>
                      <a:pt x="37" y="33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60360" y="545436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68" h="51">
                    <a:moveTo>
                      <a:pt x="53" y="47"/>
                    </a:moveTo>
                    <a:lnTo>
                      <a:pt x="68" y="19"/>
                    </a:lnTo>
                    <a:lnTo>
                      <a:pt x="62" y="8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2" y="20"/>
                    </a:lnTo>
                    <a:lnTo>
                      <a:pt x="0" y="36"/>
                    </a:lnTo>
                    <a:lnTo>
                      <a:pt x="51" y="51"/>
                    </a:lnTo>
                    <a:lnTo>
                      <a:pt x="53" y="47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60360" y="5454360"/>
                <a:ext cx="46080" cy="28440"/>
              </a:xfrm>
              <a:custGeom>
                <a:avLst/>
                <a:gdLst/>
                <a:ahLst/>
                <a:rect l="l" t="t" r="r" b="b"/>
                <a:pathLst>
                  <a:path w="59" h="36">
                    <a:moveTo>
                      <a:pt x="43" y="33"/>
                    </a:moveTo>
                    <a:lnTo>
                      <a:pt x="59" y="10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38" y="36"/>
                    </a:lnTo>
                    <a:lnTo>
                      <a:pt x="43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5280" y="5465520"/>
                <a:ext cx="54000" cy="3924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2" y="46"/>
                    </a:moveTo>
                    <a:lnTo>
                      <a:pt x="68" y="17"/>
                    </a:lnTo>
                    <a:lnTo>
                      <a:pt x="61" y="6"/>
                    </a:lnTo>
                    <a:lnTo>
                      <a:pt x="27" y="0"/>
                    </a:lnTo>
                    <a:lnTo>
                      <a:pt x="16" y="3"/>
                    </a:lnTo>
                    <a:lnTo>
                      <a:pt x="3" y="20"/>
                    </a:lnTo>
                    <a:lnTo>
                      <a:pt x="0" y="35"/>
                    </a:lnTo>
                    <a:lnTo>
                      <a:pt x="51" y="49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7080" y="5465520"/>
                <a:ext cx="46080" cy="28440"/>
              </a:xfrm>
              <a:custGeom>
                <a:avLst/>
                <a:gdLst/>
                <a:ahLst/>
                <a:rect l="l" t="t" r="r" b="b"/>
                <a:pathLst>
                  <a:path w="57" h="35">
                    <a:moveTo>
                      <a:pt x="41" y="33"/>
                    </a:moveTo>
                    <a:lnTo>
                      <a:pt x="57" y="8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7" y="35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33440" y="547668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68" h="50">
                    <a:moveTo>
                      <a:pt x="53" y="45"/>
                    </a:moveTo>
                    <a:lnTo>
                      <a:pt x="68" y="18"/>
                    </a:lnTo>
                    <a:lnTo>
                      <a:pt x="61" y="7"/>
                    </a:lnTo>
                    <a:lnTo>
                      <a:pt x="29" y="0"/>
                    </a:lnTo>
                    <a:lnTo>
                      <a:pt x="15" y="3"/>
                    </a:lnTo>
                    <a:lnTo>
                      <a:pt x="2" y="19"/>
                    </a:lnTo>
                    <a:lnTo>
                      <a:pt x="0" y="34"/>
                    </a:lnTo>
                    <a:lnTo>
                      <a:pt x="50" y="50"/>
                    </a:lnTo>
                    <a:lnTo>
                      <a:pt x="53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333440" y="547668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42" y="33"/>
                    </a:moveTo>
                    <a:lnTo>
                      <a:pt x="59" y="8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39" y="34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371600" y="548604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2" y="46"/>
                    </a:moveTo>
                    <a:lnTo>
                      <a:pt x="67" y="17"/>
                    </a:lnTo>
                    <a:lnTo>
                      <a:pt x="60" y="6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1" y="19"/>
                    </a:lnTo>
                    <a:lnTo>
                      <a:pt x="0" y="33"/>
                    </a:lnTo>
                    <a:lnTo>
                      <a:pt x="50" y="49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373040" y="548604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8" h="33">
                    <a:moveTo>
                      <a:pt x="41" y="31"/>
                    </a:moveTo>
                    <a:lnTo>
                      <a:pt x="58" y="8"/>
                    </a:lnTo>
                    <a:lnTo>
                      <a:pt x="21" y="0"/>
                    </a:lnTo>
                    <a:lnTo>
                      <a:pt x="0" y="22"/>
                    </a:lnTo>
                    <a:lnTo>
                      <a:pt x="37" y="33"/>
                    </a:lnTo>
                    <a:lnTo>
                      <a:pt x="41" y="31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409760" y="549576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68" h="48">
                    <a:moveTo>
                      <a:pt x="51" y="45"/>
                    </a:moveTo>
                    <a:lnTo>
                      <a:pt x="68" y="18"/>
                    </a:lnTo>
                    <a:lnTo>
                      <a:pt x="60" y="7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2" y="19"/>
                    </a:lnTo>
                    <a:lnTo>
                      <a:pt x="0" y="35"/>
                    </a:lnTo>
                    <a:lnTo>
                      <a:pt x="50" y="48"/>
                    </a:lnTo>
                    <a:lnTo>
                      <a:pt x="51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409760" y="549576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7" h="35">
                    <a:moveTo>
                      <a:pt x="40" y="33"/>
                    </a:moveTo>
                    <a:lnTo>
                      <a:pt x="57" y="9"/>
                    </a:lnTo>
                    <a:lnTo>
                      <a:pt x="21" y="0"/>
                    </a:lnTo>
                    <a:lnTo>
                      <a:pt x="0" y="24"/>
                    </a:lnTo>
                    <a:lnTo>
                      <a:pt x="37" y="35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442880" y="550692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67" h="50">
                    <a:moveTo>
                      <a:pt x="52" y="47"/>
                    </a:moveTo>
                    <a:lnTo>
                      <a:pt x="67" y="19"/>
                    </a:lnTo>
                    <a:lnTo>
                      <a:pt x="61" y="6"/>
                    </a:lnTo>
                    <a:lnTo>
                      <a:pt x="28" y="0"/>
                    </a:lnTo>
                    <a:lnTo>
                      <a:pt x="15" y="3"/>
                    </a:lnTo>
                    <a:lnTo>
                      <a:pt x="2" y="20"/>
                    </a:lnTo>
                    <a:lnTo>
                      <a:pt x="0" y="35"/>
                    </a:lnTo>
                    <a:lnTo>
                      <a:pt x="50" y="50"/>
                    </a:lnTo>
                    <a:lnTo>
                      <a:pt x="52" y="47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442880" y="5506920"/>
                <a:ext cx="47880" cy="2664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42" y="32"/>
                    </a:moveTo>
                    <a:lnTo>
                      <a:pt x="59" y="8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38" y="35"/>
                    </a:ln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82840" y="5516280"/>
                <a:ext cx="52200" cy="3780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3" y="46"/>
                    </a:moveTo>
                    <a:lnTo>
                      <a:pt x="67" y="18"/>
                    </a:lnTo>
                    <a:lnTo>
                      <a:pt x="60" y="7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1" y="19"/>
                    </a:lnTo>
                    <a:lnTo>
                      <a:pt x="0" y="35"/>
                    </a:lnTo>
                    <a:lnTo>
                      <a:pt x="50" y="49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82840" y="551628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42" y="32"/>
                    </a:moveTo>
                    <a:lnTo>
                      <a:pt x="59" y="8"/>
                    </a:lnTo>
                    <a:lnTo>
                      <a:pt x="22" y="0"/>
                    </a:lnTo>
                    <a:lnTo>
                      <a:pt x="0" y="22"/>
                    </a:lnTo>
                    <a:lnTo>
                      <a:pt x="38" y="35"/>
                    </a:ln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46160" y="542736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2" h="70">
                    <a:moveTo>
                      <a:pt x="123" y="70"/>
                    </a:moveTo>
                    <a:lnTo>
                      <a:pt x="142" y="45"/>
                    </a:lnTo>
                    <a:lnTo>
                      <a:pt x="132" y="30"/>
                    </a:lnTo>
                    <a:lnTo>
                      <a:pt x="27" y="0"/>
                    </a:lnTo>
                    <a:lnTo>
                      <a:pt x="14" y="4"/>
                    </a:lnTo>
                    <a:lnTo>
                      <a:pt x="1" y="20"/>
                    </a:lnTo>
                    <a:lnTo>
                      <a:pt x="0" y="34"/>
                    </a:lnTo>
                    <a:lnTo>
                      <a:pt x="123" y="70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046160" y="5427360"/>
                <a:ext cx="104760" cy="44280"/>
              </a:xfrm>
              <a:custGeom>
                <a:avLst/>
                <a:gdLst/>
                <a:ahLst/>
                <a:rect l="l" t="t" r="r" b="b"/>
                <a:pathLst>
                  <a:path w="132" h="55">
                    <a:moveTo>
                      <a:pt x="132" y="32"/>
                    </a:moveTo>
                    <a:lnTo>
                      <a:pt x="21" y="0"/>
                    </a:lnTo>
                    <a:lnTo>
                      <a:pt x="0" y="23"/>
                    </a:lnTo>
                    <a:lnTo>
                      <a:pt x="113" y="55"/>
                    </a:lnTo>
                    <a:lnTo>
                      <a:pt x="132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519200" y="5526000"/>
                <a:ext cx="54000" cy="3924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0" y="46"/>
                    </a:moveTo>
                    <a:lnTo>
                      <a:pt x="67" y="17"/>
                    </a:lnTo>
                    <a:lnTo>
                      <a:pt x="59" y="7"/>
                    </a:lnTo>
                    <a:lnTo>
                      <a:pt x="26" y="0"/>
                    </a:lnTo>
                    <a:lnTo>
                      <a:pt x="15" y="3"/>
                    </a:lnTo>
                    <a:lnTo>
                      <a:pt x="1" y="19"/>
                    </a:lnTo>
                    <a:lnTo>
                      <a:pt x="0" y="35"/>
                    </a:lnTo>
                    <a:lnTo>
                      <a:pt x="49" y="49"/>
                    </a:lnTo>
                    <a:lnTo>
                      <a:pt x="50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519200" y="552600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7" h="35">
                    <a:moveTo>
                      <a:pt x="40" y="33"/>
                    </a:moveTo>
                    <a:lnTo>
                      <a:pt x="57" y="8"/>
                    </a:lnTo>
                    <a:lnTo>
                      <a:pt x="21" y="0"/>
                    </a:lnTo>
                    <a:lnTo>
                      <a:pt x="0" y="23"/>
                    </a:lnTo>
                    <a:lnTo>
                      <a:pt x="37" y="35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143000" y="545616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2" y="46"/>
                    </a:moveTo>
                    <a:lnTo>
                      <a:pt x="68" y="18"/>
                    </a:lnTo>
                    <a:lnTo>
                      <a:pt x="61" y="7"/>
                    </a:lnTo>
                    <a:lnTo>
                      <a:pt x="28" y="0"/>
                    </a:lnTo>
                    <a:lnTo>
                      <a:pt x="17" y="4"/>
                    </a:lnTo>
                    <a:lnTo>
                      <a:pt x="2" y="20"/>
                    </a:lnTo>
                    <a:lnTo>
                      <a:pt x="0" y="34"/>
                    </a:lnTo>
                    <a:lnTo>
                      <a:pt x="51" y="49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43000" y="545616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0" y="33"/>
                    </a:moveTo>
                    <a:lnTo>
                      <a:pt x="58" y="9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79360" y="546552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68" h="48">
                    <a:moveTo>
                      <a:pt x="53" y="45"/>
                    </a:moveTo>
                    <a:lnTo>
                      <a:pt x="68" y="17"/>
                    </a:lnTo>
                    <a:lnTo>
                      <a:pt x="62" y="7"/>
                    </a:lnTo>
                    <a:lnTo>
                      <a:pt x="28" y="0"/>
                    </a:lnTo>
                    <a:lnTo>
                      <a:pt x="17" y="3"/>
                    </a:lnTo>
                    <a:lnTo>
                      <a:pt x="4" y="19"/>
                    </a:lnTo>
                    <a:lnTo>
                      <a:pt x="0" y="34"/>
                    </a:lnTo>
                    <a:lnTo>
                      <a:pt x="52" y="48"/>
                    </a:lnTo>
                    <a:lnTo>
                      <a:pt x="53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79360" y="5465520"/>
                <a:ext cx="47880" cy="2664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43" y="32"/>
                    </a:moveTo>
                    <a:lnTo>
                      <a:pt x="59" y="7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39" y="34"/>
                    </a:lnTo>
                    <a:lnTo>
                      <a:pt x="43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17520" y="5475240"/>
                <a:ext cx="54000" cy="39240"/>
              </a:xfrm>
              <a:custGeom>
                <a:avLst/>
                <a:gdLst/>
                <a:ahLst/>
                <a:rect l="l" t="t" r="r" b="b"/>
                <a:pathLst>
                  <a:path w="67" h="50">
                    <a:moveTo>
                      <a:pt x="52" y="45"/>
                    </a:moveTo>
                    <a:lnTo>
                      <a:pt x="67" y="19"/>
                    </a:lnTo>
                    <a:lnTo>
                      <a:pt x="61" y="6"/>
                    </a:lnTo>
                    <a:lnTo>
                      <a:pt x="28" y="0"/>
                    </a:lnTo>
                    <a:lnTo>
                      <a:pt x="15" y="3"/>
                    </a:lnTo>
                    <a:lnTo>
                      <a:pt x="2" y="20"/>
                    </a:lnTo>
                    <a:lnTo>
                      <a:pt x="0" y="35"/>
                    </a:lnTo>
                    <a:lnTo>
                      <a:pt x="50" y="50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17520" y="5475240"/>
                <a:ext cx="47880" cy="2808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42" y="33"/>
                    </a:moveTo>
                    <a:lnTo>
                      <a:pt x="59" y="9"/>
                    </a:lnTo>
                    <a:lnTo>
                      <a:pt x="23" y="0"/>
                    </a:lnTo>
                    <a:lnTo>
                      <a:pt x="0" y="24"/>
                    </a:lnTo>
                    <a:lnTo>
                      <a:pt x="38" y="35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55680" y="548460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2" y="46"/>
                    </a:moveTo>
                    <a:lnTo>
                      <a:pt x="67" y="19"/>
                    </a:lnTo>
                    <a:lnTo>
                      <a:pt x="60" y="7"/>
                    </a:lnTo>
                    <a:lnTo>
                      <a:pt x="28" y="0"/>
                    </a:lnTo>
                    <a:lnTo>
                      <a:pt x="16" y="4"/>
                    </a:lnTo>
                    <a:lnTo>
                      <a:pt x="1" y="19"/>
                    </a:lnTo>
                    <a:lnTo>
                      <a:pt x="0" y="34"/>
                    </a:lnTo>
                    <a:lnTo>
                      <a:pt x="50" y="49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55680" y="548460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41" y="32"/>
                    </a:moveTo>
                    <a:lnTo>
                      <a:pt x="59" y="8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8" y="34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5497200"/>
                <a:ext cx="52200" cy="378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51" y="45"/>
                    </a:moveTo>
                    <a:lnTo>
                      <a:pt x="66" y="17"/>
                    </a:lnTo>
                    <a:lnTo>
                      <a:pt x="59" y="6"/>
                    </a:lnTo>
                    <a:lnTo>
                      <a:pt x="27" y="0"/>
                    </a:lnTo>
                    <a:lnTo>
                      <a:pt x="14" y="3"/>
                    </a:lnTo>
                    <a:lnTo>
                      <a:pt x="1" y="18"/>
                    </a:lnTo>
                    <a:lnTo>
                      <a:pt x="0" y="34"/>
                    </a:lnTo>
                    <a:lnTo>
                      <a:pt x="49" y="48"/>
                    </a:lnTo>
                    <a:lnTo>
                      <a:pt x="51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5497200"/>
                <a:ext cx="45720" cy="26640"/>
              </a:xfrm>
              <a:custGeom>
                <a:avLst/>
                <a:gdLst/>
                <a:ahLst/>
                <a:rect l="l" t="t" r="r" b="b"/>
                <a:pathLst>
                  <a:path w="57" h="34">
                    <a:moveTo>
                      <a:pt x="41" y="32"/>
                    </a:moveTo>
                    <a:lnTo>
                      <a:pt x="57" y="7"/>
                    </a:lnTo>
                    <a:lnTo>
                      <a:pt x="21" y="0"/>
                    </a:lnTo>
                    <a:lnTo>
                      <a:pt x="0" y="23"/>
                    </a:lnTo>
                    <a:lnTo>
                      <a:pt x="38" y="34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28760" y="550692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67" h="50">
                    <a:moveTo>
                      <a:pt x="51" y="47"/>
                    </a:moveTo>
                    <a:lnTo>
                      <a:pt x="67" y="19"/>
                    </a:lnTo>
                    <a:lnTo>
                      <a:pt x="60" y="6"/>
                    </a:lnTo>
                    <a:lnTo>
                      <a:pt x="28" y="0"/>
                    </a:lnTo>
                    <a:lnTo>
                      <a:pt x="15" y="3"/>
                    </a:lnTo>
                    <a:lnTo>
                      <a:pt x="2" y="20"/>
                    </a:lnTo>
                    <a:lnTo>
                      <a:pt x="0" y="35"/>
                    </a:lnTo>
                    <a:lnTo>
                      <a:pt x="49" y="50"/>
                    </a:lnTo>
                    <a:lnTo>
                      <a:pt x="51" y="47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328760" y="5506920"/>
                <a:ext cx="47520" cy="2664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41" y="32"/>
                    </a:moveTo>
                    <a:lnTo>
                      <a:pt x="59" y="8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38" y="35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368360" y="5516280"/>
                <a:ext cx="52560" cy="37800"/>
              </a:xfrm>
              <a:custGeom>
                <a:avLst/>
                <a:gdLst/>
                <a:ahLst/>
                <a:rect l="l" t="t" r="r" b="b"/>
                <a:pathLst>
                  <a:path w="67" h="48">
                    <a:moveTo>
                      <a:pt x="51" y="45"/>
                    </a:moveTo>
                    <a:lnTo>
                      <a:pt x="67" y="18"/>
                    </a:lnTo>
                    <a:lnTo>
                      <a:pt x="60" y="6"/>
                    </a:lnTo>
                    <a:lnTo>
                      <a:pt x="27" y="0"/>
                    </a:lnTo>
                    <a:lnTo>
                      <a:pt x="16" y="3"/>
                    </a:lnTo>
                    <a:lnTo>
                      <a:pt x="1" y="18"/>
                    </a:lnTo>
                    <a:lnTo>
                      <a:pt x="0" y="34"/>
                    </a:lnTo>
                    <a:lnTo>
                      <a:pt x="51" y="48"/>
                    </a:lnTo>
                    <a:lnTo>
                      <a:pt x="51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368360" y="5516280"/>
                <a:ext cx="44640" cy="2664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0" y="33"/>
                    </a:moveTo>
                    <a:lnTo>
                      <a:pt x="58" y="8"/>
                    </a:lnTo>
                    <a:lnTo>
                      <a:pt x="22" y="0"/>
                    </a:lnTo>
                    <a:lnTo>
                      <a:pt x="0" y="21"/>
                    </a:lnTo>
                    <a:lnTo>
                      <a:pt x="37" y="34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05080" y="5529240"/>
                <a:ext cx="52200" cy="3744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52" y="45"/>
                    </a:moveTo>
                    <a:lnTo>
                      <a:pt x="66" y="17"/>
                    </a:lnTo>
                    <a:lnTo>
                      <a:pt x="60" y="7"/>
                    </a:lnTo>
                    <a:lnTo>
                      <a:pt x="27" y="0"/>
                    </a:lnTo>
                    <a:lnTo>
                      <a:pt x="15" y="3"/>
                    </a:lnTo>
                    <a:lnTo>
                      <a:pt x="2" y="20"/>
                    </a:lnTo>
                    <a:lnTo>
                      <a:pt x="0" y="34"/>
                    </a:lnTo>
                    <a:lnTo>
                      <a:pt x="50" y="48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05080" y="5529240"/>
                <a:ext cx="45720" cy="24840"/>
              </a:xfrm>
              <a:custGeom>
                <a:avLst/>
                <a:gdLst/>
                <a:ahLst/>
                <a:rect l="l" t="t" r="r" b="b"/>
                <a:pathLst>
                  <a:path w="57" h="34">
                    <a:moveTo>
                      <a:pt x="41" y="33"/>
                    </a:moveTo>
                    <a:lnTo>
                      <a:pt x="57" y="7"/>
                    </a:lnTo>
                    <a:lnTo>
                      <a:pt x="21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38200" y="553860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2" y="45"/>
                    </a:moveTo>
                    <a:lnTo>
                      <a:pt x="68" y="18"/>
                    </a:lnTo>
                    <a:lnTo>
                      <a:pt x="62" y="7"/>
                    </a:lnTo>
                    <a:lnTo>
                      <a:pt x="29" y="0"/>
                    </a:lnTo>
                    <a:lnTo>
                      <a:pt x="16" y="3"/>
                    </a:lnTo>
                    <a:lnTo>
                      <a:pt x="2" y="20"/>
                    </a:lnTo>
                    <a:lnTo>
                      <a:pt x="0" y="34"/>
                    </a:lnTo>
                    <a:lnTo>
                      <a:pt x="51" y="49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40000" y="553860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7" h="34">
                    <a:moveTo>
                      <a:pt x="41" y="32"/>
                    </a:moveTo>
                    <a:lnTo>
                      <a:pt x="57" y="9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77800" y="554796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2" y="46"/>
                    </a:moveTo>
                    <a:lnTo>
                      <a:pt x="68" y="17"/>
                    </a:lnTo>
                    <a:lnTo>
                      <a:pt x="61" y="7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1" y="19"/>
                    </a:lnTo>
                    <a:lnTo>
                      <a:pt x="0" y="34"/>
                    </a:lnTo>
                    <a:lnTo>
                      <a:pt x="51" y="49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77800" y="554796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41" y="32"/>
                    </a:moveTo>
                    <a:lnTo>
                      <a:pt x="59" y="7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38" y="34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022400" y="5451120"/>
                <a:ext cx="55440" cy="37800"/>
              </a:xfrm>
              <a:custGeom>
                <a:avLst/>
                <a:gdLst/>
                <a:ahLst/>
                <a:rect l="l" t="t" r="r" b="b"/>
                <a:pathLst>
                  <a:path w="70" h="50">
                    <a:moveTo>
                      <a:pt x="54" y="47"/>
                    </a:moveTo>
                    <a:lnTo>
                      <a:pt x="70" y="19"/>
                    </a:lnTo>
                    <a:lnTo>
                      <a:pt x="62" y="11"/>
                    </a:lnTo>
                    <a:lnTo>
                      <a:pt x="31" y="0"/>
                    </a:lnTo>
                    <a:lnTo>
                      <a:pt x="20" y="0"/>
                    </a:lnTo>
                    <a:lnTo>
                      <a:pt x="0" y="18"/>
                    </a:lnTo>
                    <a:lnTo>
                      <a:pt x="0" y="33"/>
                    </a:lnTo>
                    <a:lnTo>
                      <a:pt x="53" y="50"/>
                    </a:lnTo>
                    <a:lnTo>
                      <a:pt x="54" y="47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025640" y="5451120"/>
                <a:ext cx="46080" cy="25200"/>
              </a:xfrm>
              <a:custGeom>
                <a:avLst/>
                <a:gdLst/>
                <a:ahLst/>
                <a:rect l="l" t="t" r="r" b="b"/>
                <a:pathLst>
                  <a:path w="58" h="33">
                    <a:moveTo>
                      <a:pt x="41" y="33"/>
                    </a:moveTo>
                    <a:lnTo>
                      <a:pt x="58" y="12"/>
                    </a:lnTo>
                    <a:lnTo>
                      <a:pt x="22" y="0"/>
                    </a:lnTo>
                    <a:lnTo>
                      <a:pt x="0" y="19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62000" y="5460840"/>
                <a:ext cx="69840" cy="43920"/>
              </a:xfrm>
              <a:custGeom>
                <a:avLst/>
                <a:gdLst/>
                <a:ahLst/>
                <a:rect l="l" t="t" r="r" b="b"/>
                <a:pathLst>
                  <a:path w="88" h="55">
                    <a:moveTo>
                      <a:pt x="70" y="55"/>
                    </a:moveTo>
                    <a:lnTo>
                      <a:pt x="88" y="28"/>
                    </a:lnTo>
                    <a:lnTo>
                      <a:pt x="78" y="15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1" y="19"/>
                    </a:lnTo>
                    <a:lnTo>
                      <a:pt x="0" y="34"/>
                    </a:lnTo>
                    <a:lnTo>
                      <a:pt x="70" y="5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2000" y="5462280"/>
                <a:ext cx="58680" cy="31680"/>
              </a:xfrm>
              <a:custGeom>
                <a:avLst/>
                <a:gdLst/>
                <a:ahLst/>
                <a:rect l="l" t="t" r="r" b="b"/>
                <a:pathLst>
                  <a:path w="75" h="40">
                    <a:moveTo>
                      <a:pt x="75" y="14"/>
                    </a:moveTo>
                    <a:lnTo>
                      <a:pt x="22" y="0"/>
                    </a:lnTo>
                    <a:lnTo>
                      <a:pt x="0" y="23"/>
                    </a:lnTo>
                    <a:lnTo>
                      <a:pt x="55" y="40"/>
                    </a:lnTo>
                    <a:lnTo>
                      <a:pt x="75" y="14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117440" y="5478120"/>
                <a:ext cx="66960" cy="41040"/>
              </a:xfrm>
              <a:custGeom>
                <a:avLst/>
                <a:gdLst/>
                <a:ahLst/>
                <a:rect l="l" t="t" r="r" b="b"/>
                <a:pathLst>
                  <a:path w="85" h="52">
                    <a:moveTo>
                      <a:pt x="68" y="52"/>
                    </a:moveTo>
                    <a:lnTo>
                      <a:pt x="85" y="27"/>
                    </a:lnTo>
                    <a:lnTo>
                      <a:pt x="75" y="15"/>
                    </a:lnTo>
                    <a:lnTo>
                      <a:pt x="27" y="0"/>
                    </a:lnTo>
                    <a:lnTo>
                      <a:pt x="16" y="3"/>
                    </a:lnTo>
                    <a:lnTo>
                      <a:pt x="3" y="18"/>
                    </a:lnTo>
                    <a:lnTo>
                      <a:pt x="0" y="32"/>
                    </a:lnTo>
                    <a:lnTo>
                      <a:pt x="68" y="5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16000" y="5479920"/>
                <a:ext cx="58680" cy="280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14"/>
                    </a:moveTo>
                    <a:lnTo>
                      <a:pt x="22" y="0"/>
                    </a:lnTo>
                    <a:lnTo>
                      <a:pt x="0" y="23"/>
                    </a:lnTo>
                    <a:lnTo>
                      <a:pt x="53" y="37"/>
                    </a:lnTo>
                    <a:lnTo>
                      <a:pt x="73" y="14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68560" y="5491080"/>
                <a:ext cx="237960" cy="90000"/>
              </a:xfrm>
              <a:custGeom>
                <a:avLst/>
                <a:gdLst/>
                <a:ahLst/>
                <a:rect l="l" t="t" r="r" b="b"/>
                <a:pathLst>
                  <a:path w="301" h="115">
                    <a:moveTo>
                      <a:pt x="283" y="115"/>
                    </a:moveTo>
                    <a:lnTo>
                      <a:pt x="301" y="89"/>
                    </a:lnTo>
                    <a:lnTo>
                      <a:pt x="298" y="76"/>
                    </a:lnTo>
                    <a:lnTo>
                      <a:pt x="29" y="0"/>
                    </a:lnTo>
                    <a:lnTo>
                      <a:pt x="15" y="4"/>
                    </a:lnTo>
                    <a:lnTo>
                      <a:pt x="1" y="19"/>
                    </a:lnTo>
                    <a:lnTo>
                      <a:pt x="0" y="35"/>
                    </a:lnTo>
                    <a:lnTo>
                      <a:pt x="283" y="11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70000" y="5491080"/>
                <a:ext cx="231840" cy="80640"/>
              </a:xfrm>
              <a:custGeom>
                <a:avLst/>
                <a:gdLst/>
                <a:ahLst/>
                <a:rect l="l" t="t" r="r" b="b"/>
                <a:pathLst>
                  <a:path w="292" h="102">
                    <a:moveTo>
                      <a:pt x="292" y="78"/>
                    </a:moveTo>
                    <a:lnTo>
                      <a:pt x="21" y="0"/>
                    </a:lnTo>
                    <a:lnTo>
                      <a:pt x="0" y="22"/>
                    </a:lnTo>
                    <a:lnTo>
                      <a:pt x="275" y="102"/>
                    </a:lnTo>
                    <a:lnTo>
                      <a:pt x="292" y="78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95360" y="5554440"/>
                <a:ext cx="68400" cy="42480"/>
              </a:xfrm>
              <a:custGeom>
                <a:avLst/>
                <a:gdLst/>
                <a:ahLst/>
                <a:rect l="l" t="t" r="r" b="b"/>
                <a:pathLst>
                  <a:path w="88" h="54">
                    <a:moveTo>
                      <a:pt x="69" y="54"/>
                    </a:moveTo>
                    <a:lnTo>
                      <a:pt x="88" y="29"/>
                    </a:lnTo>
                    <a:lnTo>
                      <a:pt x="79" y="14"/>
                    </a:lnTo>
                    <a:lnTo>
                      <a:pt x="27" y="0"/>
                    </a:lnTo>
                    <a:lnTo>
                      <a:pt x="16" y="3"/>
                    </a:lnTo>
                    <a:lnTo>
                      <a:pt x="1" y="18"/>
                    </a:lnTo>
                    <a:lnTo>
                      <a:pt x="0" y="33"/>
                    </a:lnTo>
                    <a:lnTo>
                      <a:pt x="69" y="54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393920" y="5554440"/>
                <a:ext cx="60120" cy="31320"/>
              </a:xfrm>
              <a:custGeom>
                <a:avLst/>
                <a:gdLst/>
                <a:ahLst/>
                <a:rect l="l" t="t" r="r" b="b"/>
                <a:pathLst>
                  <a:path w="75" h="39">
                    <a:moveTo>
                      <a:pt x="75" y="13"/>
                    </a:moveTo>
                    <a:lnTo>
                      <a:pt x="22" y="0"/>
                    </a:lnTo>
                    <a:lnTo>
                      <a:pt x="0" y="23"/>
                    </a:lnTo>
                    <a:lnTo>
                      <a:pt x="55" y="39"/>
                    </a:lnTo>
                    <a:lnTo>
                      <a:pt x="75" y="1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450800" y="5570280"/>
                <a:ext cx="68400" cy="44280"/>
              </a:xfrm>
              <a:custGeom>
                <a:avLst/>
                <a:gdLst/>
                <a:ahLst/>
                <a:rect l="l" t="t" r="r" b="b"/>
                <a:pathLst>
                  <a:path w="88" h="56">
                    <a:moveTo>
                      <a:pt x="70" y="56"/>
                    </a:moveTo>
                    <a:lnTo>
                      <a:pt x="88" y="29"/>
                    </a:lnTo>
                    <a:lnTo>
                      <a:pt x="78" y="17"/>
                    </a:lnTo>
                    <a:lnTo>
                      <a:pt x="29" y="0"/>
                    </a:lnTo>
                    <a:lnTo>
                      <a:pt x="17" y="4"/>
                    </a:lnTo>
                    <a:lnTo>
                      <a:pt x="2" y="20"/>
                    </a:lnTo>
                    <a:lnTo>
                      <a:pt x="0" y="34"/>
                    </a:lnTo>
                    <a:lnTo>
                      <a:pt x="70" y="5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449360" y="5572080"/>
                <a:ext cx="60480" cy="29520"/>
              </a:xfrm>
              <a:custGeom>
                <a:avLst/>
                <a:gdLst/>
                <a:ahLst/>
                <a:rect l="l" t="t" r="r" b="b"/>
                <a:pathLst>
                  <a:path w="75" h="39">
                    <a:moveTo>
                      <a:pt x="75" y="13"/>
                    </a:moveTo>
                    <a:lnTo>
                      <a:pt x="23" y="0"/>
                    </a:lnTo>
                    <a:lnTo>
                      <a:pt x="0" y="22"/>
                    </a:lnTo>
                    <a:lnTo>
                      <a:pt x="55" y="39"/>
                    </a:lnTo>
                    <a:lnTo>
                      <a:pt x="75" y="1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596960" y="5481360"/>
                <a:ext cx="96840" cy="5040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04" y="64"/>
                    </a:moveTo>
                    <a:lnTo>
                      <a:pt x="124" y="38"/>
                    </a:lnTo>
                    <a:lnTo>
                      <a:pt x="115" y="22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3" y="20"/>
                    </a:lnTo>
                    <a:lnTo>
                      <a:pt x="0" y="37"/>
                    </a:lnTo>
                    <a:lnTo>
                      <a:pt x="104" y="64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98760" y="5483160"/>
                <a:ext cx="90360" cy="36000"/>
              </a:xfrm>
              <a:custGeom>
                <a:avLst/>
                <a:gdLst/>
                <a:ahLst/>
                <a:rect l="l" t="t" r="r" b="b"/>
                <a:pathLst>
                  <a:path w="114" h="47">
                    <a:moveTo>
                      <a:pt x="114" y="23"/>
                    </a:moveTo>
                    <a:lnTo>
                      <a:pt x="20" y="0"/>
                    </a:lnTo>
                    <a:lnTo>
                      <a:pt x="0" y="22"/>
                    </a:lnTo>
                    <a:lnTo>
                      <a:pt x="96" y="47"/>
                    </a:lnTo>
                    <a:lnTo>
                      <a:pt x="114" y="2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549440" y="549900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68" h="48">
                    <a:moveTo>
                      <a:pt x="51" y="44"/>
                    </a:moveTo>
                    <a:lnTo>
                      <a:pt x="68" y="17"/>
                    </a:lnTo>
                    <a:lnTo>
                      <a:pt x="61" y="6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1" y="20"/>
                    </a:lnTo>
                    <a:lnTo>
                      <a:pt x="0" y="34"/>
                    </a:lnTo>
                    <a:lnTo>
                      <a:pt x="50" y="48"/>
                    </a:lnTo>
                    <a:lnTo>
                      <a:pt x="51" y="44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550880" y="5499000"/>
                <a:ext cx="46080" cy="26640"/>
              </a:xfrm>
              <a:custGeom>
                <a:avLst/>
                <a:gdLst/>
                <a:ahLst/>
                <a:rect l="l" t="t" r="r" b="b"/>
                <a:pathLst>
                  <a:path w="57" h="34">
                    <a:moveTo>
                      <a:pt x="40" y="32"/>
                    </a:moveTo>
                    <a:lnTo>
                      <a:pt x="57" y="8"/>
                    </a:lnTo>
                    <a:lnTo>
                      <a:pt x="21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0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585800" y="5508360"/>
                <a:ext cx="88920" cy="48960"/>
              </a:xfrm>
              <a:custGeom>
                <a:avLst/>
                <a:gdLst/>
                <a:ahLst/>
                <a:rect l="l" t="t" r="r" b="b"/>
                <a:pathLst>
                  <a:path w="112" h="61">
                    <a:moveTo>
                      <a:pt x="93" y="61"/>
                    </a:moveTo>
                    <a:lnTo>
                      <a:pt x="112" y="34"/>
                    </a:lnTo>
                    <a:lnTo>
                      <a:pt x="104" y="18"/>
                    </a:lnTo>
                    <a:lnTo>
                      <a:pt x="30" y="0"/>
                    </a:lnTo>
                    <a:lnTo>
                      <a:pt x="18" y="3"/>
                    </a:lnTo>
                    <a:lnTo>
                      <a:pt x="3" y="20"/>
                    </a:lnTo>
                    <a:lnTo>
                      <a:pt x="0" y="36"/>
                    </a:lnTo>
                    <a:lnTo>
                      <a:pt x="93" y="6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89040" y="5510160"/>
                <a:ext cx="79560" cy="32760"/>
              </a:xfrm>
              <a:custGeom>
                <a:avLst/>
                <a:gdLst/>
                <a:ahLst/>
                <a:rect l="l" t="t" r="r" b="b"/>
                <a:pathLst>
                  <a:path w="99" h="42">
                    <a:moveTo>
                      <a:pt x="99" y="18"/>
                    </a:moveTo>
                    <a:lnTo>
                      <a:pt x="20" y="0"/>
                    </a:lnTo>
                    <a:lnTo>
                      <a:pt x="0" y="21"/>
                    </a:lnTo>
                    <a:lnTo>
                      <a:pt x="83" y="42"/>
                    </a:lnTo>
                    <a:lnTo>
                      <a:pt x="99" y="18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57360" y="5533920"/>
                <a:ext cx="98280" cy="51840"/>
              </a:xfrm>
              <a:custGeom>
                <a:avLst/>
                <a:gdLst/>
                <a:ahLst/>
                <a:rect l="l" t="t" r="r" b="b"/>
                <a:pathLst>
                  <a:path w="124" h="65">
                    <a:moveTo>
                      <a:pt x="104" y="65"/>
                    </a:moveTo>
                    <a:lnTo>
                      <a:pt x="124" y="38"/>
                    </a:lnTo>
                    <a:lnTo>
                      <a:pt x="114" y="22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2" y="19"/>
                    </a:lnTo>
                    <a:lnTo>
                      <a:pt x="0" y="36"/>
                    </a:lnTo>
                    <a:lnTo>
                      <a:pt x="104" y="6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560600" y="5535360"/>
                <a:ext cx="88920" cy="36360"/>
              </a:xfrm>
              <a:custGeom>
                <a:avLst/>
                <a:gdLst/>
                <a:ahLst/>
                <a:rect l="l" t="t" r="r" b="b"/>
                <a:pathLst>
                  <a:path w="112" h="46">
                    <a:moveTo>
                      <a:pt x="112" y="24"/>
                    </a:moveTo>
                    <a:lnTo>
                      <a:pt x="20" y="0"/>
                    </a:lnTo>
                    <a:lnTo>
                      <a:pt x="0" y="21"/>
                    </a:lnTo>
                    <a:lnTo>
                      <a:pt x="96" y="46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19200" y="5557680"/>
                <a:ext cx="112680" cy="59760"/>
              </a:xfrm>
              <a:custGeom>
                <a:avLst/>
                <a:gdLst/>
                <a:ahLst/>
                <a:rect l="l" t="t" r="r" b="b"/>
                <a:pathLst>
                  <a:path w="143" h="75">
                    <a:moveTo>
                      <a:pt x="122" y="75"/>
                    </a:moveTo>
                    <a:lnTo>
                      <a:pt x="143" y="45"/>
                    </a:lnTo>
                    <a:lnTo>
                      <a:pt x="133" y="28"/>
                    </a:lnTo>
                    <a:lnTo>
                      <a:pt x="31" y="0"/>
                    </a:lnTo>
                    <a:lnTo>
                      <a:pt x="16" y="3"/>
                    </a:lnTo>
                    <a:lnTo>
                      <a:pt x="2" y="21"/>
                    </a:lnTo>
                    <a:lnTo>
                      <a:pt x="0" y="39"/>
                    </a:lnTo>
                    <a:lnTo>
                      <a:pt x="122" y="7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21000" y="5559120"/>
                <a:ext cx="104760" cy="41040"/>
              </a:xfrm>
              <a:custGeom>
                <a:avLst/>
                <a:gdLst/>
                <a:ahLst/>
                <a:rect l="l" t="t" r="r" b="b"/>
                <a:pathLst>
                  <a:path w="131" h="53">
                    <a:moveTo>
                      <a:pt x="131" y="27"/>
                    </a:moveTo>
                    <a:lnTo>
                      <a:pt x="22" y="0"/>
                    </a:lnTo>
                    <a:lnTo>
                      <a:pt x="0" y="23"/>
                    </a:lnTo>
                    <a:lnTo>
                      <a:pt x="112" y="53"/>
                    </a:lnTo>
                    <a:lnTo>
                      <a:pt x="131" y="27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487520" y="5403600"/>
                <a:ext cx="39600" cy="23400"/>
              </a:xfrm>
              <a:custGeom>
                <a:avLst/>
                <a:gdLst/>
                <a:ahLst/>
                <a:rect l="l" t="t" r="r" b="b"/>
                <a:pathLst>
                  <a:path w="50" h="30">
                    <a:moveTo>
                      <a:pt x="41" y="30"/>
                    </a:moveTo>
                    <a:lnTo>
                      <a:pt x="50" y="17"/>
                    </a:lnTo>
                    <a:lnTo>
                      <a:pt x="46" y="9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41" y="30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487520" y="540360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6" h="21">
                    <a:moveTo>
                      <a:pt x="46" y="9"/>
                    </a:moveTo>
                    <a:lnTo>
                      <a:pt x="10" y="0"/>
                    </a:lnTo>
                    <a:lnTo>
                      <a:pt x="0" y="10"/>
                    </a:lnTo>
                    <a:lnTo>
                      <a:pt x="38" y="21"/>
                    </a:lnTo>
                    <a:lnTo>
                      <a:pt x="46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523880" y="5411520"/>
                <a:ext cx="39960" cy="25200"/>
              </a:xfrm>
              <a:custGeom>
                <a:avLst/>
                <a:gdLst/>
                <a:ahLst/>
                <a:rect l="l" t="t" r="r" b="b"/>
                <a:pathLst>
                  <a:path w="50" h="32">
                    <a:moveTo>
                      <a:pt x="41" y="32"/>
                    </a:moveTo>
                    <a:lnTo>
                      <a:pt x="50" y="18"/>
                    </a:lnTo>
                    <a:lnTo>
                      <a:pt x="47" y="9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523880" y="5414760"/>
                <a:ext cx="36720" cy="1548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45" y="9"/>
                    </a:moveTo>
                    <a:lnTo>
                      <a:pt x="10" y="0"/>
                    </a:lnTo>
                    <a:lnTo>
                      <a:pt x="0" y="10"/>
                    </a:lnTo>
                    <a:lnTo>
                      <a:pt x="38" y="22"/>
                    </a:lnTo>
                    <a:lnTo>
                      <a:pt x="45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557360" y="5422680"/>
                <a:ext cx="46080" cy="23400"/>
              </a:xfrm>
              <a:custGeom>
                <a:avLst/>
                <a:gdLst/>
                <a:ahLst/>
                <a:rect l="l" t="t" r="r" b="b"/>
                <a:pathLst>
                  <a:path w="59" h="31">
                    <a:moveTo>
                      <a:pt x="48" y="31"/>
                    </a:moveTo>
                    <a:lnTo>
                      <a:pt x="59" y="18"/>
                    </a:lnTo>
                    <a:lnTo>
                      <a:pt x="56" y="9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48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558800" y="5422680"/>
                <a:ext cx="41400" cy="15480"/>
              </a:xfrm>
              <a:custGeom>
                <a:avLst/>
                <a:gdLst/>
                <a:ahLst/>
                <a:rect l="l" t="t" r="r" b="b"/>
                <a:pathLst>
                  <a:path w="52" h="22">
                    <a:moveTo>
                      <a:pt x="52" y="11"/>
                    </a:moveTo>
                    <a:lnTo>
                      <a:pt x="10" y="0"/>
                    </a:lnTo>
                    <a:lnTo>
                      <a:pt x="0" y="12"/>
                    </a:lnTo>
                    <a:lnTo>
                      <a:pt x="43" y="22"/>
                    </a:lnTo>
                    <a:lnTo>
                      <a:pt x="52" y="11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433520" y="5408280"/>
                <a:ext cx="46080" cy="25200"/>
              </a:xfrm>
              <a:custGeom>
                <a:avLst/>
                <a:gdLst/>
                <a:ahLst/>
                <a:rect l="l" t="t" r="r" b="b"/>
                <a:pathLst>
                  <a:path w="57" h="31">
                    <a:moveTo>
                      <a:pt x="47" y="31"/>
                    </a:moveTo>
                    <a:lnTo>
                      <a:pt x="57" y="16"/>
                    </a:lnTo>
                    <a:lnTo>
                      <a:pt x="54" y="9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1" y="10"/>
                    </a:lnTo>
                    <a:lnTo>
                      <a:pt x="0" y="19"/>
                    </a:lnTo>
                    <a:lnTo>
                      <a:pt x="47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434960" y="5410080"/>
                <a:ext cx="41400" cy="16920"/>
              </a:xfrm>
              <a:custGeom>
                <a:avLst/>
                <a:gdLst/>
                <a:ahLst/>
                <a:rect l="l" t="t" r="r" b="b"/>
                <a:pathLst>
                  <a:path w="52" h="21">
                    <a:moveTo>
                      <a:pt x="52" y="9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43" y="21"/>
                    </a:lnTo>
                    <a:lnTo>
                      <a:pt x="52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74920" y="5419440"/>
                <a:ext cx="46080" cy="25200"/>
              </a:xfrm>
              <a:custGeom>
                <a:avLst/>
                <a:gdLst/>
                <a:ahLst/>
                <a:rect l="l" t="t" r="r" b="b"/>
                <a:pathLst>
                  <a:path w="59" h="31">
                    <a:moveTo>
                      <a:pt x="48" y="31"/>
                    </a:moveTo>
                    <a:lnTo>
                      <a:pt x="59" y="18"/>
                    </a:lnTo>
                    <a:lnTo>
                      <a:pt x="56" y="9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2" y="9"/>
                    </a:lnTo>
                    <a:lnTo>
                      <a:pt x="0" y="19"/>
                    </a:lnTo>
                    <a:lnTo>
                      <a:pt x="48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476360" y="5419440"/>
                <a:ext cx="41400" cy="17280"/>
              </a:xfrm>
              <a:custGeom>
                <a:avLst/>
                <a:gdLst/>
                <a:ahLst/>
                <a:rect l="l" t="t" r="r" b="b"/>
                <a:pathLst>
                  <a:path w="53" h="22">
                    <a:moveTo>
                      <a:pt x="53" y="10"/>
                    </a:moveTo>
                    <a:lnTo>
                      <a:pt x="10" y="0"/>
                    </a:lnTo>
                    <a:lnTo>
                      <a:pt x="0" y="10"/>
                    </a:lnTo>
                    <a:lnTo>
                      <a:pt x="43" y="22"/>
                    </a:lnTo>
                    <a:lnTo>
                      <a:pt x="53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512720" y="5429160"/>
                <a:ext cx="47880" cy="24840"/>
              </a:xfrm>
              <a:custGeom>
                <a:avLst/>
                <a:gdLst/>
                <a:ahLst/>
                <a:rect l="l" t="t" r="r" b="b"/>
                <a:pathLst>
                  <a:path w="59" h="31">
                    <a:moveTo>
                      <a:pt x="49" y="31"/>
                    </a:moveTo>
                    <a:lnTo>
                      <a:pt x="59" y="17"/>
                    </a:lnTo>
                    <a:lnTo>
                      <a:pt x="55" y="9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3" y="10"/>
                    </a:lnTo>
                    <a:lnTo>
                      <a:pt x="0" y="19"/>
                    </a:lnTo>
                    <a:lnTo>
                      <a:pt x="49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15960" y="5430600"/>
                <a:ext cx="41400" cy="17280"/>
              </a:xfrm>
              <a:custGeom>
                <a:avLst/>
                <a:gdLst/>
                <a:ahLst/>
                <a:rect l="l" t="t" r="r" b="b"/>
                <a:pathLst>
                  <a:path w="51" h="21">
                    <a:moveTo>
                      <a:pt x="51" y="9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42" y="21"/>
                    </a:lnTo>
                    <a:lnTo>
                      <a:pt x="51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550880" y="5438520"/>
                <a:ext cx="47880" cy="25200"/>
              </a:xfrm>
              <a:custGeom>
                <a:avLst/>
                <a:gdLst/>
                <a:ahLst/>
                <a:rect l="l" t="t" r="r" b="b"/>
                <a:pathLst>
                  <a:path w="59" h="32">
                    <a:moveTo>
                      <a:pt x="48" y="32"/>
                    </a:moveTo>
                    <a:lnTo>
                      <a:pt x="59" y="17"/>
                    </a:lnTo>
                    <a:lnTo>
                      <a:pt x="55" y="9"/>
                    </a:lnTo>
                    <a:lnTo>
                      <a:pt x="15" y="0"/>
                    </a:lnTo>
                    <a:lnTo>
                      <a:pt x="9" y="1"/>
                    </a:lnTo>
                    <a:lnTo>
                      <a:pt x="3" y="9"/>
                    </a:lnTo>
                    <a:lnTo>
                      <a:pt x="0" y="19"/>
                    </a:lnTo>
                    <a:lnTo>
                      <a:pt x="48" y="3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554120" y="5438520"/>
                <a:ext cx="39600" cy="1728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50" y="9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42" y="21"/>
                    </a:lnTo>
                    <a:lnTo>
                      <a:pt x="50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44440" y="5314680"/>
                <a:ext cx="39960" cy="2520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41" y="30"/>
                    </a:moveTo>
                    <a:lnTo>
                      <a:pt x="52" y="17"/>
                    </a:lnTo>
                    <a:lnTo>
                      <a:pt x="49" y="9"/>
                    </a:lnTo>
                    <a:lnTo>
                      <a:pt x="14" y="0"/>
                    </a:lnTo>
                    <a:lnTo>
                      <a:pt x="7" y="2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41" y="30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44440" y="5316480"/>
                <a:ext cx="36720" cy="15480"/>
              </a:xfrm>
              <a:custGeom>
                <a:avLst/>
                <a:gdLst/>
                <a:ahLst/>
                <a:rect l="l" t="t" r="r" b="b"/>
                <a:pathLst>
                  <a:path w="47" h="20">
                    <a:moveTo>
                      <a:pt x="47" y="9"/>
                    </a:moveTo>
                    <a:lnTo>
                      <a:pt x="10" y="0"/>
                    </a:lnTo>
                    <a:lnTo>
                      <a:pt x="0" y="10"/>
                    </a:lnTo>
                    <a:lnTo>
                      <a:pt x="39" y="20"/>
                    </a:lnTo>
                    <a:lnTo>
                      <a:pt x="47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30400" y="5330520"/>
                <a:ext cx="41040" cy="23400"/>
              </a:xfrm>
              <a:custGeom>
                <a:avLst/>
                <a:gdLst/>
                <a:ahLst/>
                <a:rect l="l" t="t" r="r" b="b"/>
                <a:pathLst>
                  <a:path w="50" h="32">
                    <a:moveTo>
                      <a:pt x="42" y="32"/>
                    </a:moveTo>
                    <a:lnTo>
                      <a:pt x="50" y="19"/>
                    </a:lnTo>
                    <a:lnTo>
                      <a:pt x="47" y="9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1" y="10"/>
                    </a:lnTo>
                    <a:lnTo>
                      <a:pt x="0" y="20"/>
                    </a:ln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131840" y="5330520"/>
                <a:ext cx="36720" cy="1728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46" y="9"/>
                    </a:moveTo>
                    <a:lnTo>
                      <a:pt x="9" y="0"/>
                    </a:lnTo>
                    <a:lnTo>
                      <a:pt x="0" y="11"/>
                    </a:lnTo>
                    <a:lnTo>
                      <a:pt x="38" y="22"/>
                    </a:lnTo>
                    <a:lnTo>
                      <a:pt x="46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166760" y="5340240"/>
                <a:ext cx="39600" cy="24840"/>
              </a:xfrm>
              <a:custGeom>
                <a:avLst/>
                <a:gdLst/>
                <a:ahLst/>
                <a:rect l="l" t="t" r="r" b="b"/>
                <a:pathLst>
                  <a:path w="50" h="32">
                    <a:moveTo>
                      <a:pt x="43" y="32"/>
                    </a:moveTo>
                    <a:lnTo>
                      <a:pt x="50" y="18"/>
                    </a:lnTo>
                    <a:lnTo>
                      <a:pt x="47" y="10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1" y="11"/>
                    </a:lnTo>
                    <a:lnTo>
                      <a:pt x="0" y="20"/>
                    </a:lnTo>
                    <a:lnTo>
                      <a:pt x="43" y="3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68560" y="5340240"/>
                <a:ext cx="36360" cy="1692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45" y="11"/>
                    </a:moveTo>
                    <a:lnTo>
                      <a:pt x="8" y="0"/>
                    </a:lnTo>
                    <a:lnTo>
                      <a:pt x="0" y="12"/>
                    </a:lnTo>
                    <a:lnTo>
                      <a:pt x="37" y="23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01680" y="5348160"/>
                <a:ext cx="46080" cy="24840"/>
              </a:xfrm>
              <a:custGeom>
                <a:avLst/>
                <a:gdLst/>
                <a:ahLst/>
                <a:rect l="l" t="t" r="r" b="b"/>
                <a:pathLst>
                  <a:path w="58" h="33">
                    <a:moveTo>
                      <a:pt x="48" y="33"/>
                    </a:moveTo>
                    <a:lnTo>
                      <a:pt x="58" y="18"/>
                    </a:lnTo>
                    <a:lnTo>
                      <a:pt x="54" y="9"/>
                    </a:lnTo>
                    <a:lnTo>
                      <a:pt x="15" y="0"/>
                    </a:lnTo>
                    <a:lnTo>
                      <a:pt x="7" y="3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48" y="33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01680" y="5348160"/>
                <a:ext cx="41400" cy="16920"/>
              </a:xfrm>
              <a:custGeom>
                <a:avLst/>
                <a:gdLst/>
                <a:ahLst/>
                <a:rect l="l" t="t" r="r" b="b"/>
                <a:pathLst>
                  <a:path w="53" h="21">
                    <a:moveTo>
                      <a:pt x="53" y="1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45" y="21"/>
                    </a:lnTo>
                    <a:lnTo>
                      <a:pt x="53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39840" y="5357520"/>
                <a:ext cx="46080" cy="23400"/>
              </a:xfrm>
              <a:custGeom>
                <a:avLst/>
                <a:gdLst/>
                <a:ahLst/>
                <a:rect l="l" t="t" r="r" b="b"/>
                <a:pathLst>
                  <a:path w="57" h="32">
                    <a:moveTo>
                      <a:pt x="48" y="32"/>
                    </a:moveTo>
                    <a:lnTo>
                      <a:pt x="57" y="17"/>
                    </a:lnTo>
                    <a:lnTo>
                      <a:pt x="54" y="9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48" y="3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39840" y="5357520"/>
                <a:ext cx="42840" cy="15480"/>
              </a:xfrm>
              <a:custGeom>
                <a:avLst/>
                <a:gdLst/>
                <a:ahLst/>
                <a:rect l="l" t="t" r="r" b="b"/>
                <a:pathLst>
                  <a:path w="53" h="21">
                    <a:moveTo>
                      <a:pt x="53" y="9"/>
                    </a:moveTo>
                    <a:lnTo>
                      <a:pt x="10" y="0"/>
                    </a:lnTo>
                    <a:lnTo>
                      <a:pt x="0" y="10"/>
                    </a:lnTo>
                    <a:lnTo>
                      <a:pt x="44" y="21"/>
                    </a:lnTo>
                    <a:lnTo>
                      <a:pt x="53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90600" y="5368680"/>
                <a:ext cx="39600" cy="25200"/>
              </a:xfrm>
              <a:custGeom>
                <a:avLst/>
                <a:gdLst/>
                <a:ahLst/>
                <a:rect l="l" t="t" r="r" b="b"/>
                <a:pathLst>
                  <a:path w="51" h="32">
                    <a:moveTo>
                      <a:pt x="42" y="32"/>
                    </a:moveTo>
                    <a:lnTo>
                      <a:pt x="51" y="19"/>
                    </a:lnTo>
                    <a:lnTo>
                      <a:pt x="47" y="10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0" y="11"/>
                    </a:lnTo>
                    <a:lnTo>
                      <a:pt x="0" y="20"/>
                    </a:ln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90600" y="5370480"/>
                <a:ext cx="34920" cy="16920"/>
              </a:xfrm>
              <a:custGeom>
                <a:avLst/>
                <a:gdLst/>
                <a:ahLst/>
                <a:rect l="l" t="t" r="r" b="b"/>
                <a:pathLst>
                  <a:path w="46" h="21">
                    <a:moveTo>
                      <a:pt x="46" y="1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9" y="21"/>
                    </a:lnTo>
                    <a:lnTo>
                      <a:pt x="46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324080" y="537840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50" h="31">
                    <a:moveTo>
                      <a:pt x="42" y="31"/>
                    </a:moveTo>
                    <a:lnTo>
                      <a:pt x="50" y="16"/>
                    </a:lnTo>
                    <a:lnTo>
                      <a:pt x="46" y="8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1" y="9"/>
                    </a:lnTo>
                    <a:lnTo>
                      <a:pt x="0" y="18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325520" y="5378400"/>
                <a:ext cx="36720" cy="187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44" y="10"/>
                    </a:moveTo>
                    <a:lnTo>
                      <a:pt x="7" y="0"/>
                    </a:lnTo>
                    <a:lnTo>
                      <a:pt x="0" y="11"/>
                    </a:lnTo>
                    <a:lnTo>
                      <a:pt x="37" y="22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359000" y="5387760"/>
                <a:ext cx="46080" cy="23400"/>
              </a:xfrm>
              <a:custGeom>
                <a:avLst/>
                <a:gdLst/>
                <a:ahLst/>
                <a:rect l="l" t="t" r="r" b="b"/>
                <a:pathLst>
                  <a:path w="58" h="32">
                    <a:moveTo>
                      <a:pt x="47" y="32"/>
                    </a:moveTo>
                    <a:lnTo>
                      <a:pt x="58" y="19"/>
                    </a:lnTo>
                    <a:lnTo>
                      <a:pt x="53" y="9"/>
                    </a:lnTo>
                    <a:lnTo>
                      <a:pt x="14" y="0"/>
                    </a:lnTo>
                    <a:lnTo>
                      <a:pt x="7" y="1"/>
                    </a:lnTo>
                    <a:lnTo>
                      <a:pt x="1" y="9"/>
                    </a:lnTo>
                    <a:lnTo>
                      <a:pt x="0" y="20"/>
                    </a:lnTo>
                    <a:lnTo>
                      <a:pt x="47" y="3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359000" y="5387760"/>
                <a:ext cx="41040" cy="1728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51" y="10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43" y="22"/>
                    </a:lnTo>
                    <a:lnTo>
                      <a:pt x="51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93920" y="5397480"/>
                <a:ext cx="39600" cy="23400"/>
              </a:xfrm>
              <a:custGeom>
                <a:avLst/>
                <a:gdLst/>
                <a:ahLst/>
                <a:rect l="l" t="t" r="r" b="b"/>
                <a:pathLst>
                  <a:path w="52" h="31">
                    <a:moveTo>
                      <a:pt x="42" y="31"/>
                    </a:moveTo>
                    <a:lnTo>
                      <a:pt x="52" y="17"/>
                    </a:lnTo>
                    <a:lnTo>
                      <a:pt x="47" y="1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1" y="10"/>
                    </a:lnTo>
                    <a:lnTo>
                      <a:pt x="0" y="19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395360" y="5397480"/>
                <a:ext cx="34920" cy="16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45" y="11"/>
                    </a:moveTo>
                    <a:lnTo>
                      <a:pt x="9" y="0"/>
                    </a:lnTo>
                    <a:lnTo>
                      <a:pt x="0" y="11"/>
                    </a:lnTo>
                    <a:lnTo>
                      <a:pt x="38" y="22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36840" y="5595840"/>
                <a:ext cx="54000" cy="39240"/>
              </a:xfrm>
              <a:custGeom>
                <a:avLst/>
                <a:gdLst/>
                <a:ahLst/>
                <a:rect l="l" t="t" r="r" b="b"/>
                <a:pathLst>
                  <a:path w="67" h="50">
                    <a:moveTo>
                      <a:pt x="53" y="47"/>
                    </a:moveTo>
                    <a:lnTo>
                      <a:pt x="67" y="19"/>
                    </a:lnTo>
                    <a:lnTo>
                      <a:pt x="61" y="8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2" y="20"/>
                    </a:lnTo>
                    <a:lnTo>
                      <a:pt x="0" y="35"/>
                    </a:lnTo>
                    <a:lnTo>
                      <a:pt x="51" y="50"/>
                    </a:lnTo>
                    <a:lnTo>
                      <a:pt x="53" y="47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38280" y="5595840"/>
                <a:ext cx="44640" cy="28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2" y="33"/>
                    </a:moveTo>
                    <a:lnTo>
                      <a:pt x="58" y="9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7" y="35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4400" y="5538600"/>
                <a:ext cx="628560" cy="247320"/>
              </a:xfrm>
              <a:custGeom>
                <a:avLst/>
                <a:gdLst/>
                <a:ahLst/>
                <a:rect l="l" t="t" r="r" b="b"/>
                <a:pathLst>
                  <a:path w="792" h="312">
                    <a:moveTo>
                      <a:pt x="0" y="6"/>
                    </a:moveTo>
                    <a:lnTo>
                      <a:pt x="4" y="66"/>
                    </a:lnTo>
                    <a:lnTo>
                      <a:pt x="9" y="73"/>
                    </a:lnTo>
                    <a:lnTo>
                      <a:pt x="792" y="312"/>
                    </a:lnTo>
                    <a:lnTo>
                      <a:pt x="792" y="233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27000" y="5564160"/>
                <a:ext cx="201600" cy="72360"/>
              </a:xfrm>
              <a:custGeom>
                <a:avLst/>
                <a:gdLst/>
                <a:ahLst/>
                <a:rect l="l" t="t" r="r" b="b"/>
                <a:pathLst>
                  <a:path w="256" h="92">
                    <a:moveTo>
                      <a:pt x="255" y="76"/>
                    </a:moveTo>
                    <a:lnTo>
                      <a:pt x="156" y="47"/>
                    </a:lnTo>
                    <a:lnTo>
                      <a:pt x="156" y="35"/>
                    </a:lnTo>
                    <a:lnTo>
                      <a:pt x="66" y="5"/>
                    </a:lnTo>
                    <a:lnTo>
                      <a:pt x="66" y="20"/>
                    </a:lnTo>
                    <a:lnTo>
                      <a:pt x="1" y="0"/>
                    </a:lnTo>
                    <a:lnTo>
                      <a:pt x="0" y="15"/>
                    </a:lnTo>
                    <a:lnTo>
                      <a:pt x="62" y="33"/>
                    </a:lnTo>
                    <a:lnTo>
                      <a:pt x="62" y="43"/>
                    </a:lnTo>
                    <a:lnTo>
                      <a:pt x="160" y="73"/>
                    </a:lnTo>
                    <a:lnTo>
                      <a:pt x="160" y="63"/>
                    </a:lnTo>
                    <a:lnTo>
                      <a:pt x="256" y="92"/>
                    </a:lnTo>
                    <a:lnTo>
                      <a:pt x="256" y="76"/>
                    </a:lnTo>
                    <a:lnTo>
                      <a:pt x="255" y="7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41520" y="5465520"/>
                <a:ext cx="299880" cy="320400"/>
              </a:xfrm>
              <a:custGeom>
                <a:avLst/>
                <a:gdLst/>
                <a:ahLst/>
                <a:rect l="l" t="t" r="r" b="b"/>
                <a:pathLst>
                  <a:path w="377" h="404">
                    <a:moveTo>
                      <a:pt x="377" y="84"/>
                    </a:moveTo>
                    <a:lnTo>
                      <a:pt x="0" y="404"/>
                    </a:lnTo>
                    <a:lnTo>
                      <a:pt x="2" y="324"/>
                    </a:lnTo>
                    <a:lnTo>
                      <a:pt x="377" y="0"/>
                    </a:lnTo>
                    <a:lnTo>
                      <a:pt x="377" y="84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60600" y="5700600"/>
                <a:ext cx="30240" cy="4068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34" y="0"/>
                    </a:moveTo>
                    <a:lnTo>
                      <a:pt x="37" y="4"/>
                    </a:lnTo>
                    <a:lnTo>
                      <a:pt x="37" y="31"/>
                    </a:lnTo>
                    <a:lnTo>
                      <a:pt x="33" y="33"/>
                    </a:lnTo>
                    <a:lnTo>
                      <a:pt x="33" y="39"/>
                    </a:lnTo>
                    <a:lnTo>
                      <a:pt x="23" y="46"/>
                    </a:lnTo>
                    <a:lnTo>
                      <a:pt x="16" y="46"/>
                    </a:lnTo>
                    <a:lnTo>
                      <a:pt x="3" y="52"/>
                    </a:lnTo>
                    <a:lnTo>
                      <a:pt x="0" y="29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620720" y="5663880"/>
                <a:ext cx="9720" cy="31680"/>
              </a:xfrm>
              <a:custGeom>
                <a:avLst/>
                <a:gdLst/>
                <a:ahLst/>
                <a:rect l="l" t="t" r="r" b="b"/>
                <a:pathLst>
                  <a:path w="13" h="41">
                    <a:moveTo>
                      <a:pt x="11" y="0"/>
                    </a:moveTo>
                    <a:lnTo>
                      <a:pt x="0" y="9"/>
                    </a:lnTo>
                    <a:lnTo>
                      <a:pt x="2" y="41"/>
                    </a:lnTo>
                    <a:lnTo>
                      <a:pt x="13" y="3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92360" y="5595840"/>
                <a:ext cx="14040" cy="3600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16" y="0"/>
                    </a:moveTo>
                    <a:lnTo>
                      <a:pt x="16" y="31"/>
                    </a:lnTo>
                    <a:lnTo>
                      <a:pt x="0" y="46"/>
                    </a:lnTo>
                    <a:lnTo>
                      <a:pt x="0" y="14"/>
                    </a:lnTo>
                    <a:lnTo>
                      <a:pt x="16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714680" y="5503680"/>
                <a:ext cx="95040" cy="97920"/>
              </a:xfrm>
              <a:custGeom>
                <a:avLst/>
                <a:gdLst/>
                <a:ahLst/>
                <a:rect l="l" t="t" r="r" b="b"/>
                <a:pathLst>
                  <a:path w="119" h="126">
                    <a:moveTo>
                      <a:pt x="119" y="0"/>
                    </a:moveTo>
                    <a:lnTo>
                      <a:pt x="0" y="104"/>
                    </a:lnTo>
                    <a:lnTo>
                      <a:pt x="0" y="126"/>
                    </a:lnTo>
                    <a:lnTo>
                      <a:pt x="118" y="29"/>
                    </a:lnTo>
                    <a:lnTo>
                      <a:pt x="117" y="2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464646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14680" y="5522760"/>
                <a:ext cx="95040" cy="10116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119" y="1"/>
                    </a:moveTo>
                    <a:lnTo>
                      <a:pt x="119" y="0"/>
                    </a:lnTo>
                    <a:lnTo>
                      <a:pt x="0" y="104"/>
                    </a:lnTo>
                    <a:lnTo>
                      <a:pt x="0" y="127"/>
                    </a:lnTo>
                    <a:lnTo>
                      <a:pt x="118" y="31"/>
                    </a:lnTo>
                    <a:lnTo>
                      <a:pt x="117" y="3"/>
                    </a:lnTo>
                    <a:lnTo>
                      <a:pt x="119" y="1"/>
                    </a:lnTo>
                    <a:close/>
                  </a:path>
                </a:pathLst>
              </a:custGeom>
              <a:solidFill>
                <a:srgbClr val="464646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20880" y="5502240"/>
                <a:ext cx="6480" cy="18360"/>
              </a:xfrm>
              <a:prstGeom prst="ellipse">
                <a:avLst/>
              </a:prstGeom>
              <a:solidFill>
                <a:srgbClr val="464646"/>
              </a:solidFill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19160" y="5475240"/>
                <a:ext cx="584280" cy="16776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12880" y="5445000"/>
                <a:ext cx="23760" cy="2016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11" y="28"/>
                    </a:moveTo>
                    <a:lnTo>
                      <a:pt x="0" y="25"/>
                    </a:lnTo>
                    <a:lnTo>
                      <a:pt x="1" y="9"/>
                    </a:lnTo>
                    <a:lnTo>
                      <a:pt x="13" y="0"/>
                    </a:lnTo>
                    <a:lnTo>
                      <a:pt x="30" y="0"/>
                    </a:lnTo>
                    <a:lnTo>
                      <a:pt x="20" y="3"/>
                    </a:lnTo>
                    <a:lnTo>
                      <a:pt x="11" y="13"/>
                    </a:lnTo>
                    <a:lnTo>
                      <a:pt x="13" y="28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603440" y="5445000"/>
                <a:ext cx="149040" cy="198000"/>
              </a:xfrm>
              <a:custGeom>
                <a:avLst/>
                <a:gdLst/>
                <a:ahLst/>
                <a:rect l="l" t="t" r="r" b="b"/>
                <a:pathLst>
                  <a:path w="187" h="251">
                    <a:moveTo>
                      <a:pt x="187" y="21"/>
                    </a:moveTo>
                    <a:lnTo>
                      <a:pt x="46" y="214"/>
                    </a:lnTo>
                    <a:lnTo>
                      <a:pt x="0" y="251"/>
                    </a:lnTo>
                    <a:lnTo>
                      <a:pt x="152" y="37"/>
                    </a:lnTo>
                    <a:lnTo>
                      <a:pt x="152" y="12"/>
                    </a:lnTo>
                    <a:lnTo>
                      <a:pt x="162" y="0"/>
                    </a:lnTo>
                    <a:lnTo>
                      <a:pt x="177" y="2"/>
                    </a:lnTo>
                    <a:lnTo>
                      <a:pt x="187" y="18"/>
                    </a:lnTo>
                    <a:lnTo>
                      <a:pt x="187" y="21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606680" y="5433840"/>
                <a:ext cx="41040" cy="24840"/>
              </a:xfrm>
              <a:custGeom>
                <a:avLst/>
                <a:gdLst/>
                <a:ahLst/>
                <a:rect l="l" t="t" r="r" b="b"/>
                <a:pathLst>
                  <a:path w="51" h="32">
                    <a:moveTo>
                      <a:pt x="42" y="32"/>
                    </a:moveTo>
                    <a:lnTo>
                      <a:pt x="51" y="18"/>
                    </a:lnTo>
                    <a:lnTo>
                      <a:pt x="47" y="9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1" y="11"/>
                    </a:lnTo>
                    <a:lnTo>
                      <a:pt x="0" y="18"/>
                    </a:ln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608120" y="5433840"/>
                <a:ext cx="36360" cy="16920"/>
              </a:xfrm>
              <a:custGeom>
                <a:avLst/>
                <a:gdLst/>
                <a:ahLst/>
                <a:rect l="l" t="t" r="r" b="b"/>
                <a:pathLst>
                  <a:path w="45" h="20">
                    <a:moveTo>
                      <a:pt x="45" y="10"/>
                    </a:moveTo>
                    <a:lnTo>
                      <a:pt x="9" y="0"/>
                    </a:lnTo>
                    <a:lnTo>
                      <a:pt x="0" y="11"/>
                    </a:lnTo>
                    <a:lnTo>
                      <a:pt x="38" y="2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44480" y="5443200"/>
                <a:ext cx="39960" cy="25200"/>
              </a:xfrm>
              <a:custGeom>
                <a:avLst/>
                <a:gdLst/>
                <a:ahLst/>
                <a:rect l="l" t="t" r="r" b="b"/>
                <a:pathLst>
                  <a:path w="51" h="32">
                    <a:moveTo>
                      <a:pt x="42" y="32"/>
                    </a:moveTo>
                    <a:lnTo>
                      <a:pt x="51" y="18"/>
                    </a:lnTo>
                    <a:lnTo>
                      <a:pt x="46" y="9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1" y="9"/>
                    </a:lnTo>
                    <a:lnTo>
                      <a:pt x="0" y="20"/>
                    </a:ln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44480" y="5445000"/>
                <a:ext cx="36720" cy="1548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45" y="9"/>
                    </a:moveTo>
                    <a:lnTo>
                      <a:pt x="9" y="0"/>
                    </a:lnTo>
                    <a:lnTo>
                      <a:pt x="0" y="11"/>
                    </a:lnTo>
                    <a:lnTo>
                      <a:pt x="38" y="22"/>
                    </a:lnTo>
                    <a:lnTo>
                      <a:pt x="45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677960" y="5452920"/>
                <a:ext cx="47520" cy="23400"/>
              </a:xfrm>
              <a:custGeom>
                <a:avLst/>
                <a:gdLst/>
                <a:ahLst/>
                <a:rect l="l" t="t" r="r" b="b"/>
                <a:pathLst>
                  <a:path w="59" h="31">
                    <a:moveTo>
                      <a:pt x="48" y="31"/>
                    </a:moveTo>
                    <a:lnTo>
                      <a:pt x="59" y="18"/>
                    </a:lnTo>
                    <a:lnTo>
                      <a:pt x="54" y="10"/>
                    </a:lnTo>
                    <a:lnTo>
                      <a:pt x="15" y="0"/>
                    </a:lnTo>
                    <a:lnTo>
                      <a:pt x="8" y="2"/>
                    </a:lnTo>
                    <a:lnTo>
                      <a:pt x="1" y="10"/>
                    </a:lnTo>
                    <a:lnTo>
                      <a:pt x="0" y="19"/>
                    </a:lnTo>
                    <a:lnTo>
                      <a:pt x="48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679400" y="5452920"/>
                <a:ext cx="39960" cy="15480"/>
              </a:xfrm>
              <a:custGeom>
                <a:avLst/>
                <a:gdLst/>
                <a:ahLst/>
                <a:rect l="l" t="t" r="r" b="b"/>
                <a:pathLst>
                  <a:path w="52" h="21">
                    <a:moveTo>
                      <a:pt x="52" y="1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44" y="21"/>
                    </a:lnTo>
                    <a:lnTo>
                      <a:pt x="52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95520" y="5451120"/>
                <a:ext cx="41040" cy="2520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43" y="32"/>
                    </a:moveTo>
                    <a:lnTo>
                      <a:pt x="52" y="19"/>
                    </a:lnTo>
                    <a:lnTo>
                      <a:pt x="49" y="11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1" y="11"/>
                    </a:lnTo>
                    <a:lnTo>
                      <a:pt x="0" y="20"/>
                    </a:lnTo>
                    <a:lnTo>
                      <a:pt x="43" y="3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596960" y="5451120"/>
                <a:ext cx="36720" cy="1728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6" y="11"/>
                    </a:moveTo>
                    <a:lnTo>
                      <a:pt x="9" y="0"/>
                    </a:lnTo>
                    <a:lnTo>
                      <a:pt x="0" y="12"/>
                    </a:lnTo>
                    <a:lnTo>
                      <a:pt x="38" y="23"/>
                    </a:lnTo>
                    <a:lnTo>
                      <a:pt x="46" y="11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631880" y="546084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50" h="30">
                    <a:moveTo>
                      <a:pt x="41" y="30"/>
                    </a:moveTo>
                    <a:lnTo>
                      <a:pt x="50" y="16"/>
                    </a:lnTo>
                    <a:lnTo>
                      <a:pt x="47" y="9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41" y="30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631880" y="5460840"/>
                <a:ext cx="38160" cy="16920"/>
              </a:xfrm>
              <a:custGeom>
                <a:avLst/>
                <a:gdLst/>
                <a:ahLst/>
                <a:rect l="l" t="t" r="r" b="b"/>
                <a:pathLst>
                  <a:path w="46" h="21">
                    <a:moveTo>
                      <a:pt x="46" y="9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38" y="21"/>
                    </a:lnTo>
                    <a:lnTo>
                      <a:pt x="46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666800" y="5468760"/>
                <a:ext cx="44640" cy="25200"/>
              </a:xfrm>
              <a:custGeom>
                <a:avLst/>
                <a:gdLst/>
                <a:ahLst/>
                <a:rect l="l" t="t" r="r" b="b"/>
                <a:pathLst>
                  <a:path w="57" h="32">
                    <a:moveTo>
                      <a:pt x="47" y="32"/>
                    </a:moveTo>
                    <a:lnTo>
                      <a:pt x="57" y="18"/>
                    </a:lnTo>
                    <a:lnTo>
                      <a:pt x="54" y="10"/>
                    </a:lnTo>
                    <a:lnTo>
                      <a:pt x="14" y="0"/>
                    </a:lnTo>
                    <a:lnTo>
                      <a:pt x="7" y="3"/>
                    </a:lnTo>
                    <a:lnTo>
                      <a:pt x="1" y="10"/>
                    </a:lnTo>
                    <a:lnTo>
                      <a:pt x="0" y="20"/>
                    </a:lnTo>
                    <a:lnTo>
                      <a:pt x="47" y="3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68600" y="5468760"/>
                <a:ext cx="39600" cy="1872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51" y="10"/>
                    </a:moveTo>
                    <a:lnTo>
                      <a:pt x="9" y="0"/>
                    </a:lnTo>
                    <a:lnTo>
                      <a:pt x="0" y="11"/>
                    </a:lnTo>
                    <a:lnTo>
                      <a:pt x="43" y="23"/>
                    </a:lnTo>
                    <a:lnTo>
                      <a:pt x="51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92440" y="5454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4" y="0"/>
                    </a:moveTo>
                    <a:lnTo>
                      <a:pt x="35" y="10"/>
                    </a:lnTo>
                    <a:lnTo>
                      <a:pt x="6" y="34"/>
                    </a:lnTo>
                    <a:lnTo>
                      <a:pt x="0" y="24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743120" y="5462280"/>
                <a:ext cx="57240" cy="25200"/>
              </a:xfrm>
              <a:custGeom>
                <a:avLst/>
                <a:gdLst/>
                <a:ahLst/>
                <a:rect l="l" t="t" r="r" b="b"/>
                <a:pathLst>
                  <a:path w="72" h="31">
                    <a:moveTo>
                      <a:pt x="62" y="13"/>
                    </a:moveTo>
                    <a:lnTo>
                      <a:pt x="10" y="0"/>
                    </a:lnTo>
                    <a:lnTo>
                      <a:pt x="0" y="14"/>
                    </a:lnTo>
                    <a:lnTo>
                      <a:pt x="63" y="31"/>
                    </a:lnTo>
                    <a:lnTo>
                      <a:pt x="72" y="23"/>
                    </a:lnTo>
                    <a:lnTo>
                      <a:pt x="66" y="20"/>
                    </a:lnTo>
                    <a:lnTo>
                      <a:pt x="60" y="13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1536840" y="5643360"/>
                <a:ext cx="7272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941400" y="5531760"/>
                <a:ext cx="596880" cy="17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937800" y="5478120"/>
                <a:ext cx="81000" cy="5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76320" y="5514840"/>
                <a:ext cx="77760" cy="32760"/>
              </a:xfrm>
              <a:custGeom>
                <a:avLst/>
                <a:gdLst/>
                <a:ahLst/>
                <a:rect l="l" t="t" r="r" b="b"/>
                <a:pathLst>
                  <a:path w="99" h="43">
                    <a:moveTo>
                      <a:pt x="41" y="0"/>
                    </a:moveTo>
                    <a:lnTo>
                      <a:pt x="99" y="16"/>
                    </a:lnTo>
                    <a:lnTo>
                      <a:pt x="62" y="43"/>
                    </a:lnTo>
                    <a:lnTo>
                      <a:pt x="0" y="26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6e6e6e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341360" y="5582880"/>
                <a:ext cx="28800" cy="3456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35" y="0"/>
                    </a:moveTo>
                    <a:lnTo>
                      <a:pt x="36" y="11"/>
                    </a:lnTo>
                    <a:lnTo>
                      <a:pt x="1" y="44"/>
                    </a:lnTo>
                    <a:lnTo>
                      <a:pt x="0" y="33"/>
                    </a:lnTo>
                    <a:lnTo>
                      <a:pt x="36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201680" y="5570280"/>
                <a:ext cx="139680" cy="47160"/>
              </a:xfrm>
              <a:custGeom>
                <a:avLst/>
                <a:gdLst/>
                <a:ahLst/>
                <a:rect l="l" t="t" r="r" b="b"/>
                <a:pathLst>
                  <a:path w="176" h="61">
                    <a:moveTo>
                      <a:pt x="175" y="50"/>
                    </a:moveTo>
                    <a:lnTo>
                      <a:pt x="0" y="0"/>
                    </a:lnTo>
                    <a:lnTo>
                      <a:pt x="1" y="10"/>
                    </a:lnTo>
                    <a:lnTo>
                      <a:pt x="176" y="61"/>
                    </a:lnTo>
                    <a:lnTo>
                      <a:pt x="176" y="49"/>
                    </a:lnTo>
                    <a:lnTo>
                      <a:pt x="175" y="5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279440" y="5565600"/>
                <a:ext cx="87480" cy="41040"/>
              </a:xfrm>
              <a:custGeom>
                <a:avLst/>
                <a:gdLst/>
                <a:ahLst/>
                <a:rect l="l" t="t" r="r" b="b"/>
                <a:pathLst>
                  <a:path w="110" h="52">
                    <a:moveTo>
                      <a:pt x="109" y="22"/>
                    </a:moveTo>
                    <a:lnTo>
                      <a:pt x="110" y="22"/>
                    </a:lnTo>
                    <a:lnTo>
                      <a:pt x="79" y="52"/>
                    </a:lnTo>
                    <a:lnTo>
                      <a:pt x="0" y="29"/>
                    </a:lnTo>
                    <a:lnTo>
                      <a:pt x="36" y="0"/>
                    </a:lnTo>
                    <a:lnTo>
                      <a:pt x="106" y="20"/>
                    </a:lnTo>
                    <a:lnTo>
                      <a:pt x="109" y="22"/>
                    </a:lnTo>
                    <a:close/>
                  </a:path>
                </a:pathLst>
              </a:custGeom>
              <a:solidFill>
                <a:srgbClr val="5a5a5a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209600" y="5546520"/>
                <a:ext cx="88920" cy="41040"/>
              </a:xfrm>
              <a:custGeom>
                <a:avLst/>
                <a:gdLst/>
                <a:ahLst/>
                <a:rect l="l" t="t" r="r" b="b"/>
                <a:pathLst>
                  <a:path w="113" h="51">
                    <a:moveTo>
                      <a:pt x="112" y="21"/>
                    </a:moveTo>
                    <a:lnTo>
                      <a:pt x="113" y="21"/>
                    </a:lnTo>
                    <a:lnTo>
                      <a:pt x="82" y="51"/>
                    </a:lnTo>
                    <a:lnTo>
                      <a:pt x="0" y="26"/>
                    </a:lnTo>
                    <a:lnTo>
                      <a:pt x="39" y="0"/>
                    </a:lnTo>
                    <a:lnTo>
                      <a:pt x="109" y="19"/>
                    </a:lnTo>
                    <a:lnTo>
                      <a:pt x="112" y="21"/>
                    </a:lnTo>
                    <a:close/>
                  </a:path>
                </a:pathLst>
              </a:custGeom>
              <a:solidFill>
                <a:srgbClr val="5a5a5a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81240" y="5562360"/>
                <a:ext cx="83880" cy="41040"/>
              </a:xfrm>
              <a:custGeom>
                <a:avLst/>
                <a:gdLst/>
                <a:ahLst/>
                <a:rect l="l" t="t" r="r" b="b"/>
                <a:pathLst>
                  <a:path w="107" h="52">
                    <a:moveTo>
                      <a:pt x="106" y="22"/>
                    </a:moveTo>
                    <a:lnTo>
                      <a:pt x="107" y="22"/>
                    </a:lnTo>
                    <a:lnTo>
                      <a:pt x="74" y="52"/>
                    </a:lnTo>
                    <a:lnTo>
                      <a:pt x="0" y="29"/>
                    </a:lnTo>
                    <a:lnTo>
                      <a:pt x="33" y="0"/>
                    </a:lnTo>
                    <a:lnTo>
                      <a:pt x="103" y="20"/>
                    </a:lnTo>
                    <a:lnTo>
                      <a:pt x="106" y="22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209600" y="5543280"/>
                <a:ext cx="88920" cy="41040"/>
              </a:xfrm>
              <a:custGeom>
                <a:avLst/>
                <a:gdLst/>
                <a:ahLst/>
                <a:rect l="l" t="t" r="r" b="b"/>
                <a:pathLst>
                  <a:path w="111" h="51">
                    <a:moveTo>
                      <a:pt x="111" y="20"/>
                    </a:moveTo>
                    <a:lnTo>
                      <a:pt x="79" y="51"/>
                    </a:lnTo>
                    <a:lnTo>
                      <a:pt x="0" y="27"/>
                    </a:lnTo>
                    <a:lnTo>
                      <a:pt x="37" y="0"/>
                    </a:lnTo>
                    <a:lnTo>
                      <a:pt x="107" y="20"/>
                    </a:lnTo>
                    <a:lnTo>
                      <a:pt x="111" y="2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52600" y="5649840"/>
                <a:ext cx="87120" cy="43920"/>
              </a:xfrm>
              <a:custGeom>
                <a:avLst/>
                <a:gdLst/>
                <a:ahLst/>
                <a:rect l="l" t="t" r="r" b="b"/>
                <a:pathLst>
                  <a:path w="109" h="56">
                    <a:moveTo>
                      <a:pt x="39" y="0"/>
                    </a:moveTo>
                    <a:lnTo>
                      <a:pt x="109" y="22"/>
                    </a:lnTo>
                    <a:lnTo>
                      <a:pt x="73" y="56"/>
                    </a:lnTo>
                    <a:lnTo>
                      <a:pt x="0" y="3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e6e6e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468440" y="5611680"/>
                <a:ext cx="50760" cy="28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14"/>
                    </a:moveTo>
                    <a:lnTo>
                      <a:pt x="0" y="22"/>
                    </a:lnTo>
                    <a:lnTo>
                      <a:pt x="43" y="35"/>
                    </a:lnTo>
                    <a:lnTo>
                      <a:pt x="64" y="21"/>
                    </a:lnTo>
                    <a:lnTo>
                      <a:pt x="62" y="12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468440" y="5614920"/>
                <a:ext cx="47520" cy="1692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0" y="13"/>
                    </a:moveTo>
                    <a:lnTo>
                      <a:pt x="40" y="24"/>
                    </a:lnTo>
                    <a:lnTo>
                      <a:pt x="60" y="1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04800" y="5622840"/>
                <a:ext cx="49320" cy="28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15"/>
                    </a:moveTo>
                    <a:lnTo>
                      <a:pt x="0" y="22"/>
                    </a:lnTo>
                    <a:lnTo>
                      <a:pt x="44" y="35"/>
                    </a:lnTo>
                    <a:lnTo>
                      <a:pt x="64" y="21"/>
                    </a:lnTo>
                    <a:lnTo>
                      <a:pt x="63" y="12"/>
                    </a:lnTo>
                    <a:lnTo>
                      <a:pt x="21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04800" y="562428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0" y="14"/>
                    </a:moveTo>
                    <a:lnTo>
                      <a:pt x="41" y="24"/>
                    </a:lnTo>
                    <a:lnTo>
                      <a:pt x="60" y="11"/>
                    </a:lnTo>
                    <a:lnTo>
                      <a:pt x="22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2960" y="5634000"/>
                <a:ext cx="50760" cy="2808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0" y="13"/>
                    </a:moveTo>
                    <a:lnTo>
                      <a:pt x="0" y="21"/>
                    </a:lnTo>
                    <a:lnTo>
                      <a:pt x="43" y="35"/>
                    </a:lnTo>
                    <a:lnTo>
                      <a:pt x="63" y="19"/>
                    </a:lnTo>
                    <a:lnTo>
                      <a:pt x="61" y="11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42960" y="5634000"/>
                <a:ext cx="47880" cy="2016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0" y="14"/>
                    </a:moveTo>
                    <a:lnTo>
                      <a:pt x="39" y="24"/>
                    </a:lnTo>
                    <a:lnTo>
                      <a:pt x="58" y="11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71440" y="5313240"/>
                <a:ext cx="546120" cy="134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01680" y="5325840"/>
                <a:ext cx="271440" cy="82080"/>
              </a:xfrm>
              <a:custGeom>
                <a:avLst/>
                <a:gdLst/>
                <a:ahLst/>
                <a:rect l="l" t="t" r="r" b="b"/>
                <a:pathLst>
                  <a:path w="342" h="103">
                    <a:moveTo>
                      <a:pt x="0" y="19"/>
                    </a:moveTo>
                    <a:lnTo>
                      <a:pt x="321" y="103"/>
                    </a:lnTo>
                    <a:lnTo>
                      <a:pt x="342" y="82"/>
                    </a:lnTo>
                    <a:lnTo>
                      <a:pt x="17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01680" y="5324400"/>
                <a:ext cx="270000" cy="80640"/>
              </a:xfrm>
              <a:custGeom>
                <a:avLst/>
                <a:gdLst/>
                <a:ahLst/>
                <a:rect l="l" t="t" r="r" b="b"/>
                <a:pathLst>
                  <a:path w="342" h="102">
                    <a:moveTo>
                      <a:pt x="0" y="19"/>
                    </a:moveTo>
                    <a:lnTo>
                      <a:pt x="319" y="102"/>
                    </a:lnTo>
                    <a:lnTo>
                      <a:pt x="342" y="82"/>
                    </a:lnTo>
                    <a:lnTo>
                      <a:pt x="17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92120" y="5373360"/>
                <a:ext cx="73080" cy="28440"/>
              </a:xfrm>
              <a:custGeom>
                <a:avLst/>
                <a:gdLst/>
                <a:ahLst/>
                <a:rect l="l" t="t" r="r" b="b"/>
                <a:pathLst>
                  <a:path w="92" h="35">
                    <a:moveTo>
                      <a:pt x="12" y="0"/>
                    </a:moveTo>
                    <a:lnTo>
                      <a:pt x="0" y="15"/>
                    </a:lnTo>
                    <a:lnTo>
                      <a:pt x="75" y="35"/>
                    </a:lnTo>
                    <a:lnTo>
                      <a:pt x="92" y="1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274760" y="5344920"/>
                <a:ext cx="112680" cy="36000"/>
              </a:xfrm>
              <a:custGeom>
                <a:avLst/>
                <a:gdLst/>
                <a:ahLst/>
                <a:rect l="l" t="t" r="r" b="b"/>
                <a:pathLst>
                  <a:path w="143" h="46">
                    <a:moveTo>
                      <a:pt x="143" y="33"/>
                    </a:moveTo>
                    <a:lnTo>
                      <a:pt x="136" y="46"/>
                    </a:lnTo>
                    <a:lnTo>
                      <a:pt x="0" y="10"/>
                    </a:lnTo>
                    <a:lnTo>
                      <a:pt x="8" y="0"/>
                    </a:lnTo>
                    <a:lnTo>
                      <a:pt x="143" y="33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214280" y="5330520"/>
                <a:ext cx="59040" cy="21960"/>
              </a:xfrm>
              <a:custGeom>
                <a:avLst/>
                <a:gdLst/>
                <a:ahLst/>
                <a:rect l="l" t="t" r="r" b="b"/>
                <a:pathLst>
                  <a:path w="74" h="28">
                    <a:moveTo>
                      <a:pt x="74" y="16"/>
                    </a:moveTo>
                    <a:lnTo>
                      <a:pt x="7" y="0"/>
                    </a:lnTo>
                    <a:lnTo>
                      <a:pt x="0" y="11"/>
                    </a:lnTo>
                    <a:lnTo>
                      <a:pt x="66" y="28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7009920" y="4881600"/>
              <a:ext cx="1033560" cy="909720"/>
              <a:chOff x="7009920" y="4881600"/>
              <a:chExt cx="1033560" cy="909720"/>
            </a:xfrm>
          </p:grpSpPr>
          <p:sp>
            <p:nvSpPr>
              <p:cNvPr id="339" name=""/>
              <p:cNvSpPr/>
              <p:nvPr/>
            </p:nvSpPr>
            <p:spPr>
              <a:xfrm flipH="1">
                <a:off x="7009920" y="4881600"/>
                <a:ext cx="719280" cy="579600"/>
              </a:xfrm>
              <a:custGeom>
                <a:avLst/>
                <a:gdLst/>
                <a:ahLst/>
                <a:rect l="l" t="t" r="r" b="b"/>
                <a:pathLst>
                  <a:path w="907" h="730">
                    <a:moveTo>
                      <a:pt x="92" y="4"/>
                    </a:moveTo>
                    <a:lnTo>
                      <a:pt x="0" y="537"/>
                    </a:lnTo>
                    <a:lnTo>
                      <a:pt x="4" y="549"/>
                    </a:lnTo>
                    <a:lnTo>
                      <a:pt x="768" y="730"/>
                    </a:lnTo>
                    <a:lnTo>
                      <a:pt x="804" y="725"/>
                    </a:lnTo>
                    <a:lnTo>
                      <a:pt x="811" y="720"/>
                    </a:lnTo>
                    <a:lnTo>
                      <a:pt x="813" y="710"/>
                    </a:lnTo>
                    <a:lnTo>
                      <a:pt x="907" y="159"/>
                    </a:lnTo>
                    <a:lnTo>
                      <a:pt x="907" y="143"/>
                    </a:lnTo>
                    <a:lnTo>
                      <a:pt x="899" y="135"/>
                    </a:lnTo>
                    <a:lnTo>
                      <a:pt x="886" y="128"/>
                    </a:lnTo>
                    <a:lnTo>
                      <a:pt x="104" y="0"/>
                    </a:lnTo>
                    <a:lnTo>
                      <a:pt x="92" y="4"/>
                    </a:lnTo>
                    <a:close/>
                  </a:path>
                </a:pathLst>
              </a:custGeom>
              <a:solidFill>
                <a:srgbClr val="5a5a5a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7046280" y="4884840"/>
                <a:ext cx="679320" cy="568440"/>
              </a:xfrm>
              <a:custGeom>
                <a:avLst/>
                <a:gdLst/>
                <a:ahLst/>
                <a:rect l="l" t="t" r="r" b="b"/>
                <a:pathLst>
                  <a:path w="855" h="717">
                    <a:moveTo>
                      <a:pt x="855" y="135"/>
                    </a:moveTo>
                    <a:lnTo>
                      <a:pt x="846" y="122"/>
                    </a:lnTo>
                    <a:lnTo>
                      <a:pt x="104" y="0"/>
                    </a:lnTo>
                    <a:lnTo>
                      <a:pt x="93" y="7"/>
                    </a:lnTo>
                    <a:lnTo>
                      <a:pt x="0" y="532"/>
                    </a:lnTo>
                    <a:lnTo>
                      <a:pt x="5" y="541"/>
                    </a:lnTo>
                    <a:lnTo>
                      <a:pt x="757" y="717"/>
                    </a:lnTo>
                    <a:lnTo>
                      <a:pt x="853" y="135"/>
                    </a:lnTo>
                    <a:lnTo>
                      <a:pt x="855" y="135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dcdc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7132320" y="4918320"/>
                <a:ext cx="520560" cy="487440"/>
              </a:xfrm>
              <a:custGeom>
                <a:avLst/>
                <a:gdLst/>
                <a:ahLst/>
                <a:rect l="l" t="t" r="r" b="b"/>
                <a:pathLst>
                  <a:path w="656" h="614">
                    <a:moveTo>
                      <a:pt x="94" y="0"/>
                    </a:moveTo>
                    <a:lnTo>
                      <a:pt x="656" y="102"/>
                    </a:lnTo>
                    <a:lnTo>
                      <a:pt x="568" y="614"/>
                    </a:lnTo>
                    <a:lnTo>
                      <a:pt x="0" y="484"/>
                    </a:lnTo>
                    <a:lnTo>
                      <a:pt x="85" y="8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7111800" y="5234040"/>
                <a:ext cx="46080" cy="158760"/>
              </a:xfrm>
              <a:custGeom>
                <a:avLst/>
                <a:gdLst/>
                <a:ahLst/>
                <a:rect l="l" t="t" r="r" b="b"/>
                <a:pathLst>
                  <a:path w="59" h="201">
                    <a:moveTo>
                      <a:pt x="30" y="0"/>
                    </a:moveTo>
                    <a:lnTo>
                      <a:pt x="59" y="5"/>
                    </a:lnTo>
                    <a:lnTo>
                      <a:pt x="30" y="201"/>
                    </a:lnTo>
                    <a:lnTo>
                      <a:pt x="0" y="193"/>
                    </a:lnTo>
                    <a:lnTo>
                      <a:pt x="32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124400" y="5268960"/>
                <a:ext cx="6480" cy="6480"/>
              </a:xfrm>
              <a:prstGeom prst="ellipse">
                <a:avLst/>
              </a:prstGeom>
              <a:solidFill>
                <a:srgbClr val="e6e6e6"/>
              </a:solidFill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129080" y="5327640"/>
                <a:ext cx="17640" cy="324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7127640" y="5321520"/>
                <a:ext cx="17280" cy="324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7125840" y="5313600"/>
                <a:ext cx="17640" cy="324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7124400" y="5308920"/>
                <a:ext cx="19080" cy="144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7122600" y="5301000"/>
                <a:ext cx="19080" cy="288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7133760" y="5361120"/>
                <a:ext cx="17640" cy="468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7132320" y="5354640"/>
                <a:ext cx="19080" cy="324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7132320" y="5348520"/>
                <a:ext cx="17280" cy="324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7130880" y="5342040"/>
                <a:ext cx="17280" cy="324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7129080" y="5334120"/>
                <a:ext cx="17640" cy="324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7113240" y="50292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0" y="0"/>
                    </a:moveTo>
                    <a:lnTo>
                      <a:pt x="12" y="0"/>
                    </a:lnTo>
                    <a:lnTo>
                      <a:pt x="12" y="4"/>
                    </a:lnTo>
                    <a:lnTo>
                      <a:pt x="7" y="4"/>
                    </a:lnTo>
                    <a:lnTo>
                      <a:pt x="7" y="17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3" y="17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4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7095960" y="5029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15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5" y="22"/>
                    </a:lnTo>
                    <a:lnTo>
                      <a:pt x="19" y="17"/>
                    </a:lnTo>
                    <a:lnTo>
                      <a:pt x="19" y="11"/>
                    </a:lnTo>
                    <a:lnTo>
                      <a:pt x="14" y="9"/>
                    </a:lnTo>
                    <a:lnTo>
                      <a:pt x="19" y="8"/>
                    </a:lnTo>
                    <a:lnTo>
                      <a:pt x="19" y="2"/>
                    </a:lnTo>
                    <a:lnTo>
                      <a:pt x="16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474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7071480" y="5029200"/>
                <a:ext cx="24120" cy="176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2" y="19"/>
                    </a:moveTo>
                    <a:lnTo>
                      <a:pt x="2" y="16"/>
                    </a:lnTo>
                    <a:lnTo>
                      <a:pt x="5" y="16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0"/>
                    </a:lnTo>
                    <a:lnTo>
                      <a:pt x="15" y="9"/>
                    </a:lnTo>
                    <a:lnTo>
                      <a:pt x="22" y="0"/>
                    </a:lnTo>
                    <a:lnTo>
                      <a:pt x="30" y="0"/>
                    </a:lnTo>
                    <a:lnTo>
                      <a:pt x="30" y="3"/>
                    </a:lnTo>
                    <a:lnTo>
                      <a:pt x="26" y="4"/>
                    </a:lnTo>
                    <a:lnTo>
                      <a:pt x="26" y="16"/>
                    </a:lnTo>
                    <a:lnTo>
                      <a:pt x="30" y="16"/>
                    </a:lnTo>
                    <a:lnTo>
                      <a:pt x="30" y="19"/>
                    </a:lnTo>
                    <a:lnTo>
                      <a:pt x="22" y="19"/>
                    </a:lnTo>
                    <a:lnTo>
                      <a:pt x="22" y="6"/>
                    </a:lnTo>
                    <a:lnTo>
                      <a:pt x="16" y="17"/>
                    </a:lnTo>
                    <a:lnTo>
                      <a:pt x="10" y="7"/>
                    </a:lnTo>
                    <a:lnTo>
                      <a:pt x="9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6474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7098840" y="50324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7098840" y="50389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7140240" y="5316840"/>
                <a:ext cx="627120" cy="161640"/>
              </a:xfrm>
              <a:custGeom>
                <a:avLst/>
                <a:gdLst/>
                <a:ahLst/>
                <a:rect l="l" t="t" r="r" b="b"/>
                <a:pathLst>
                  <a:path w="790" h="203">
                    <a:moveTo>
                      <a:pt x="790" y="176"/>
                    </a:moveTo>
                    <a:lnTo>
                      <a:pt x="756" y="203"/>
                    </a:lnTo>
                    <a:lnTo>
                      <a:pt x="0" y="11"/>
                    </a:lnTo>
                    <a:lnTo>
                      <a:pt x="41" y="0"/>
                    </a:lnTo>
                    <a:lnTo>
                      <a:pt x="787" y="179"/>
                    </a:lnTo>
                    <a:lnTo>
                      <a:pt x="790" y="17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7119720" y="5313600"/>
                <a:ext cx="923760" cy="415800"/>
              </a:xfrm>
              <a:custGeom>
                <a:avLst/>
                <a:gdLst/>
                <a:ahLst/>
                <a:rect l="l" t="t" r="r" b="b"/>
                <a:pathLst>
                  <a:path w="1165" h="522">
                    <a:moveTo>
                      <a:pt x="147" y="188"/>
                    </a:moveTo>
                    <a:lnTo>
                      <a:pt x="0" y="286"/>
                    </a:lnTo>
                    <a:lnTo>
                      <a:pt x="787" y="522"/>
                    </a:lnTo>
                    <a:lnTo>
                      <a:pt x="1165" y="198"/>
                    </a:lnTo>
                    <a:lnTo>
                      <a:pt x="1139" y="191"/>
                    </a:lnTo>
                    <a:lnTo>
                      <a:pt x="865" y="422"/>
                    </a:lnTo>
                    <a:lnTo>
                      <a:pt x="1037" y="182"/>
                    </a:lnTo>
                    <a:lnTo>
                      <a:pt x="310" y="0"/>
                    </a:lnTo>
                    <a:lnTo>
                      <a:pt x="161" y="180"/>
                    </a:lnTo>
                    <a:lnTo>
                      <a:pt x="147" y="188"/>
                    </a:lnTo>
                    <a:close/>
                  </a:path>
                </a:pathLst>
              </a:custGeom>
              <a:solidFill>
                <a:srgbClr val="d2d2d2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7155720" y="5472360"/>
                <a:ext cx="165240" cy="149040"/>
              </a:xfrm>
              <a:custGeom>
                <a:avLst/>
                <a:gdLst/>
                <a:ahLst/>
                <a:rect l="l" t="t" r="r" b="b"/>
                <a:pathLst>
                  <a:path w="208" h="189">
                    <a:moveTo>
                      <a:pt x="138" y="0"/>
                    </a:moveTo>
                    <a:lnTo>
                      <a:pt x="0" y="189"/>
                    </a:lnTo>
                    <a:lnTo>
                      <a:pt x="208" y="19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7797600" y="535788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68" h="50">
                    <a:moveTo>
                      <a:pt x="52" y="47"/>
                    </a:moveTo>
                    <a:lnTo>
                      <a:pt x="68" y="18"/>
                    </a:lnTo>
                    <a:lnTo>
                      <a:pt x="62" y="7"/>
                    </a:lnTo>
                    <a:lnTo>
                      <a:pt x="28" y="0"/>
                    </a:lnTo>
                    <a:lnTo>
                      <a:pt x="17" y="3"/>
                    </a:lnTo>
                    <a:lnTo>
                      <a:pt x="2" y="20"/>
                    </a:lnTo>
                    <a:lnTo>
                      <a:pt x="0" y="35"/>
                    </a:lnTo>
                    <a:lnTo>
                      <a:pt x="51" y="50"/>
                    </a:lnTo>
                    <a:lnTo>
                      <a:pt x="52" y="47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7805520" y="535788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43" y="33"/>
                    </a:moveTo>
                    <a:lnTo>
                      <a:pt x="59" y="9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38" y="35"/>
                    </a:lnTo>
                    <a:lnTo>
                      <a:pt x="43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7760880" y="536760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68" h="48">
                    <a:moveTo>
                      <a:pt x="52" y="45"/>
                    </a:moveTo>
                    <a:lnTo>
                      <a:pt x="68" y="17"/>
                    </a:lnTo>
                    <a:lnTo>
                      <a:pt x="60" y="6"/>
                    </a:lnTo>
                    <a:lnTo>
                      <a:pt x="28" y="0"/>
                    </a:lnTo>
                    <a:lnTo>
                      <a:pt x="16" y="2"/>
                    </a:lnTo>
                    <a:lnTo>
                      <a:pt x="2" y="18"/>
                    </a:lnTo>
                    <a:lnTo>
                      <a:pt x="0" y="33"/>
                    </a:lnTo>
                    <a:lnTo>
                      <a:pt x="50" y="48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7767360" y="536760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58" h="33">
                    <a:moveTo>
                      <a:pt x="41" y="32"/>
                    </a:moveTo>
                    <a:lnTo>
                      <a:pt x="58" y="7"/>
                    </a:lnTo>
                    <a:lnTo>
                      <a:pt x="22" y="0"/>
                    </a:lnTo>
                    <a:lnTo>
                      <a:pt x="0" y="21"/>
                    </a:lnTo>
                    <a:lnTo>
                      <a:pt x="38" y="33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7799040" y="538020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87" h="55">
                    <a:moveTo>
                      <a:pt x="69" y="55"/>
                    </a:moveTo>
                    <a:lnTo>
                      <a:pt x="87" y="28"/>
                    </a:lnTo>
                    <a:lnTo>
                      <a:pt x="78" y="16"/>
                    </a:lnTo>
                    <a:lnTo>
                      <a:pt x="26" y="0"/>
                    </a:lnTo>
                    <a:lnTo>
                      <a:pt x="14" y="2"/>
                    </a:lnTo>
                    <a:lnTo>
                      <a:pt x="1" y="19"/>
                    </a:lnTo>
                    <a:lnTo>
                      <a:pt x="0" y="34"/>
                    </a:lnTo>
                    <a:lnTo>
                      <a:pt x="69" y="5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7811280" y="5380200"/>
                <a:ext cx="58680" cy="31680"/>
              </a:xfrm>
              <a:custGeom>
                <a:avLst/>
                <a:gdLst/>
                <a:ahLst/>
                <a:rect l="l" t="t" r="r" b="b"/>
                <a:pathLst>
                  <a:path w="74" h="39">
                    <a:moveTo>
                      <a:pt x="74" y="14"/>
                    </a:moveTo>
                    <a:lnTo>
                      <a:pt x="20" y="0"/>
                    </a:lnTo>
                    <a:lnTo>
                      <a:pt x="0" y="24"/>
                    </a:lnTo>
                    <a:lnTo>
                      <a:pt x="54" y="39"/>
                    </a:lnTo>
                    <a:lnTo>
                      <a:pt x="74" y="14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7722720" y="5376960"/>
                <a:ext cx="52560" cy="3960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3" y="46"/>
                    </a:moveTo>
                    <a:lnTo>
                      <a:pt x="67" y="19"/>
                    </a:lnTo>
                    <a:lnTo>
                      <a:pt x="60" y="7"/>
                    </a:lnTo>
                    <a:lnTo>
                      <a:pt x="28" y="0"/>
                    </a:lnTo>
                    <a:lnTo>
                      <a:pt x="15" y="3"/>
                    </a:lnTo>
                    <a:lnTo>
                      <a:pt x="1" y="20"/>
                    </a:lnTo>
                    <a:lnTo>
                      <a:pt x="0" y="35"/>
                    </a:lnTo>
                    <a:lnTo>
                      <a:pt x="49" y="49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7729200" y="5376960"/>
                <a:ext cx="46080" cy="2880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41" y="33"/>
                    </a:moveTo>
                    <a:lnTo>
                      <a:pt x="59" y="8"/>
                    </a:lnTo>
                    <a:lnTo>
                      <a:pt x="22" y="0"/>
                    </a:lnTo>
                    <a:lnTo>
                      <a:pt x="0" y="24"/>
                    </a:lnTo>
                    <a:lnTo>
                      <a:pt x="38" y="35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7684560" y="538668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51" y="46"/>
                    </a:moveTo>
                    <a:lnTo>
                      <a:pt x="66" y="19"/>
                    </a:lnTo>
                    <a:lnTo>
                      <a:pt x="59" y="7"/>
                    </a:lnTo>
                    <a:lnTo>
                      <a:pt x="27" y="0"/>
                    </a:lnTo>
                    <a:lnTo>
                      <a:pt x="15" y="4"/>
                    </a:lnTo>
                    <a:lnTo>
                      <a:pt x="0" y="20"/>
                    </a:lnTo>
                    <a:lnTo>
                      <a:pt x="0" y="35"/>
                    </a:lnTo>
                    <a:lnTo>
                      <a:pt x="50" y="50"/>
                    </a:lnTo>
                    <a:lnTo>
                      <a:pt x="51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7691040" y="5386680"/>
                <a:ext cx="46080" cy="284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1" y="33"/>
                    </a:moveTo>
                    <a:lnTo>
                      <a:pt x="58" y="10"/>
                    </a:lnTo>
                    <a:lnTo>
                      <a:pt x="21" y="0"/>
                    </a:lnTo>
                    <a:lnTo>
                      <a:pt x="0" y="23"/>
                    </a:lnTo>
                    <a:lnTo>
                      <a:pt x="37" y="35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7649640" y="539604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67" h="48">
                    <a:moveTo>
                      <a:pt x="51" y="45"/>
                    </a:moveTo>
                    <a:lnTo>
                      <a:pt x="67" y="17"/>
                    </a:lnTo>
                    <a:lnTo>
                      <a:pt x="59" y="6"/>
                    </a:lnTo>
                    <a:lnTo>
                      <a:pt x="27" y="0"/>
                    </a:lnTo>
                    <a:lnTo>
                      <a:pt x="14" y="3"/>
                    </a:lnTo>
                    <a:lnTo>
                      <a:pt x="1" y="18"/>
                    </a:lnTo>
                    <a:lnTo>
                      <a:pt x="0" y="34"/>
                    </a:lnTo>
                    <a:lnTo>
                      <a:pt x="49" y="48"/>
                    </a:lnTo>
                    <a:lnTo>
                      <a:pt x="51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7656120" y="539604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1" y="33"/>
                    </a:moveTo>
                    <a:lnTo>
                      <a:pt x="58" y="8"/>
                    </a:lnTo>
                    <a:lnTo>
                      <a:pt x="21" y="0"/>
                    </a:lnTo>
                    <a:lnTo>
                      <a:pt x="0" y="22"/>
                    </a:lnTo>
                    <a:lnTo>
                      <a:pt x="38" y="34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7611480" y="540720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2" y="45"/>
                    </a:moveTo>
                    <a:lnTo>
                      <a:pt x="68" y="18"/>
                    </a:lnTo>
                    <a:lnTo>
                      <a:pt x="61" y="6"/>
                    </a:lnTo>
                    <a:lnTo>
                      <a:pt x="28" y="0"/>
                    </a:lnTo>
                    <a:lnTo>
                      <a:pt x="17" y="3"/>
                    </a:lnTo>
                    <a:lnTo>
                      <a:pt x="2" y="20"/>
                    </a:lnTo>
                    <a:lnTo>
                      <a:pt x="0" y="34"/>
                    </a:lnTo>
                    <a:lnTo>
                      <a:pt x="50" y="49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617960" y="540720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0" y="32"/>
                    </a:moveTo>
                    <a:lnTo>
                      <a:pt x="58" y="7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0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7573680" y="541656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3" y="46"/>
                    </a:moveTo>
                    <a:lnTo>
                      <a:pt x="68" y="18"/>
                    </a:lnTo>
                    <a:lnTo>
                      <a:pt x="62" y="8"/>
                    </a:lnTo>
                    <a:lnTo>
                      <a:pt x="28" y="0"/>
                    </a:lnTo>
                    <a:lnTo>
                      <a:pt x="17" y="4"/>
                    </a:lnTo>
                    <a:lnTo>
                      <a:pt x="2" y="20"/>
                    </a:lnTo>
                    <a:lnTo>
                      <a:pt x="0" y="34"/>
                    </a:lnTo>
                    <a:lnTo>
                      <a:pt x="52" y="49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7579800" y="541656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2" y="33"/>
                    </a:moveTo>
                    <a:lnTo>
                      <a:pt x="58" y="9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7535520" y="542628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2" y="45"/>
                    </a:moveTo>
                    <a:lnTo>
                      <a:pt x="68" y="17"/>
                    </a:lnTo>
                    <a:lnTo>
                      <a:pt x="60" y="7"/>
                    </a:lnTo>
                    <a:lnTo>
                      <a:pt x="29" y="0"/>
                    </a:lnTo>
                    <a:lnTo>
                      <a:pt x="15" y="3"/>
                    </a:lnTo>
                    <a:lnTo>
                      <a:pt x="2" y="19"/>
                    </a:lnTo>
                    <a:lnTo>
                      <a:pt x="0" y="35"/>
                    </a:lnTo>
                    <a:lnTo>
                      <a:pt x="50" y="49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7543440" y="542628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7" h="35">
                    <a:moveTo>
                      <a:pt x="41" y="32"/>
                    </a:moveTo>
                    <a:lnTo>
                      <a:pt x="57" y="8"/>
                    </a:lnTo>
                    <a:lnTo>
                      <a:pt x="21" y="0"/>
                    </a:lnTo>
                    <a:lnTo>
                      <a:pt x="0" y="22"/>
                    </a:lnTo>
                    <a:lnTo>
                      <a:pt x="38" y="35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7502040" y="5437440"/>
                <a:ext cx="52560" cy="38160"/>
              </a:xfrm>
              <a:custGeom>
                <a:avLst/>
                <a:gdLst/>
                <a:ahLst/>
                <a:rect l="l" t="t" r="r" b="b"/>
                <a:pathLst>
                  <a:path w="67" h="50">
                    <a:moveTo>
                      <a:pt x="50" y="45"/>
                    </a:moveTo>
                    <a:lnTo>
                      <a:pt x="67" y="19"/>
                    </a:lnTo>
                    <a:lnTo>
                      <a:pt x="60" y="7"/>
                    </a:lnTo>
                    <a:lnTo>
                      <a:pt x="27" y="0"/>
                    </a:lnTo>
                    <a:lnTo>
                      <a:pt x="14" y="3"/>
                    </a:lnTo>
                    <a:lnTo>
                      <a:pt x="1" y="19"/>
                    </a:lnTo>
                    <a:lnTo>
                      <a:pt x="0" y="34"/>
                    </a:lnTo>
                    <a:lnTo>
                      <a:pt x="49" y="50"/>
                    </a:lnTo>
                    <a:lnTo>
                      <a:pt x="50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7508520" y="543744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0" y="33"/>
                    </a:moveTo>
                    <a:lnTo>
                      <a:pt x="58" y="8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7463880" y="544536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67" h="51">
                    <a:moveTo>
                      <a:pt x="52" y="48"/>
                    </a:moveTo>
                    <a:lnTo>
                      <a:pt x="67" y="19"/>
                    </a:lnTo>
                    <a:lnTo>
                      <a:pt x="60" y="8"/>
                    </a:lnTo>
                    <a:lnTo>
                      <a:pt x="28" y="0"/>
                    </a:lnTo>
                    <a:lnTo>
                      <a:pt x="16" y="5"/>
                    </a:lnTo>
                    <a:lnTo>
                      <a:pt x="1" y="21"/>
                    </a:lnTo>
                    <a:lnTo>
                      <a:pt x="0" y="36"/>
                    </a:lnTo>
                    <a:lnTo>
                      <a:pt x="51" y="51"/>
                    </a:lnTo>
                    <a:lnTo>
                      <a:pt x="52" y="48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7470360" y="5445360"/>
                <a:ext cx="46080" cy="28440"/>
              </a:xfrm>
              <a:custGeom>
                <a:avLst/>
                <a:gdLst/>
                <a:ahLst/>
                <a:rect l="l" t="t" r="r" b="b"/>
                <a:pathLst>
                  <a:path w="59" h="36">
                    <a:moveTo>
                      <a:pt x="42" y="33"/>
                    </a:moveTo>
                    <a:lnTo>
                      <a:pt x="59" y="10"/>
                    </a:lnTo>
                    <a:lnTo>
                      <a:pt x="23" y="0"/>
                    </a:lnTo>
                    <a:lnTo>
                      <a:pt x="0" y="24"/>
                    </a:lnTo>
                    <a:lnTo>
                      <a:pt x="38" y="36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7425720" y="545652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50" y="45"/>
                    </a:moveTo>
                    <a:lnTo>
                      <a:pt x="66" y="17"/>
                    </a:lnTo>
                    <a:lnTo>
                      <a:pt x="59" y="6"/>
                    </a:lnTo>
                    <a:lnTo>
                      <a:pt x="26" y="0"/>
                    </a:lnTo>
                    <a:lnTo>
                      <a:pt x="14" y="3"/>
                    </a:lnTo>
                    <a:lnTo>
                      <a:pt x="1" y="19"/>
                    </a:lnTo>
                    <a:lnTo>
                      <a:pt x="0" y="34"/>
                    </a:lnTo>
                    <a:lnTo>
                      <a:pt x="49" y="48"/>
                    </a:lnTo>
                    <a:lnTo>
                      <a:pt x="50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7432200" y="545652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7" h="34">
                    <a:moveTo>
                      <a:pt x="41" y="32"/>
                    </a:moveTo>
                    <a:lnTo>
                      <a:pt x="57" y="8"/>
                    </a:lnTo>
                    <a:lnTo>
                      <a:pt x="21" y="0"/>
                    </a:lnTo>
                    <a:lnTo>
                      <a:pt x="0" y="22"/>
                    </a:lnTo>
                    <a:lnTo>
                      <a:pt x="37" y="34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7765560" y="539460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2" y="46"/>
                    </a:moveTo>
                    <a:lnTo>
                      <a:pt x="68" y="18"/>
                    </a:lnTo>
                    <a:lnTo>
                      <a:pt x="61" y="7"/>
                    </a:lnTo>
                    <a:lnTo>
                      <a:pt x="28" y="0"/>
                    </a:lnTo>
                    <a:lnTo>
                      <a:pt x="16" y="4"/>
                    </a:lnTo>
                    <a:lnTo>
                      <a:pt x="3" y="19"/>
                    </a:lnTo>
                    <a:lnTo>
                      <a:pt x="0" y="35"/>
                    </a:lnTo>
                    <a:lnTo>
                      <a:pt x="51" y="49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7772040" y="539460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7" h="35">
                    <a:moveTo>
                      <a:pt x="40" y="33"/>
                    </a:moveTo>
                    <a:lnTo>
                      <a:pt x="57" y="9"/>
                    </a:lnTo>
                    <a:lnTo>
                      <a:pt x="21" y="0"/>
                    </a:lnTo>
                    <a:lnTo>
                      <a:pt x="0" y="22"/>
                    </a:lnTo>
                    <a:lnTo>
                      <a:pt x="37" y="35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7729200" y="5403960"/>
                <a:ext cx="52560" cy="3960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1" y="45"/>
                    </a:moveTo>
                    <a:lnTo>
                      <a:pt x="67" y="19"/>
                    </a:lnTo>
                    <a:lnTo>
                      <a:pt x="61" y="7"/>
                    </a:lnTo>
                    <a:lnTo>
                      <a:pt x="28" y="0"/>
                    </a:lnTo>
                    <a:lnTo>
                      <a:pt x="15" y="3"/>
                    </a:lnTo>
                    <a:lnTo>
                      <a:pt x="2" y="21"/>
                    </a:lnTo>
                    <a:lnTo>
                      <a:pt x="0" y="35"/>
                    </a:lnTo>
                    <a:lnTo>
                      <a:pt x="50" y="49"/>
                    </a:lnTo>
                    <a:lnTo>
                      <a:pt x="51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7735680" y="540396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41" y="33"/>
                    </a:moveTo>
                    <a:lnTo>
                      <a:pt x="59" y="9"/>
                    </a:lnTo>
                    <a:lnTo>
                      <a:pt x="21" y="0"/>
                    </a:lnTo>
                    <a:lnTo>
                      <a:pt x="0" y="24"/>
                    </a:lnTo>
                    <a:lnTo>
                      <a:pt x="38" y="35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691040" y="5415120"/>
                <a:ext cx="52560" cy="38160"/>
              </a:xfrm>
              <a:custGeom>
                <a:avLst/>
                <a:gdLst/>
                <a:ahLst/>
                <a:rect l="l" t="t" r="r" b="b"/>
                <a:pathLst>
                  <a:path w="67" h="50">
                    <a:moveTo>
                      <a:pt x="53" y="47"/>
                    </a:moveTo>
                    <a:lnTo>
                      <a:pt x="67" y="18"/>
                    </a:lnTo>
                    <a:lnTo>
                      <a:pt x="61" y="8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2" y="20"/>
                    </a:lnTo>
                    <a:lnTo>
                      <a:pt x="0" y="34"/>
                    </a:lnTo>
                    <a:lnTo>
                      <a:pt x="51" y="50"/>
                    </a:lnTo>
                    <a:lnTo>
                      <a:pt x="53" y="47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697520" y="541512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1" y="32"/>
                    </a:moveTo>
                    <a:lnTo>
                      <a:pt x="58" y="8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651440" y="5424480"/>
                <a:ext cx="55440" cy="3816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52" y="45"/>
                    </a:moveTo>
                    <a:lnTo>
                      <a:pt x="69" y="17"/>
                    </a:lnTo>
                    <a:lnTo>
                      <a:pt x="61" y="6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3" y="19"/>
                    </a:lnTo>
                    <a:lnTo>
                      <a:pt x="0" y="34"/>
                    </a:lnTo>
                    <a:lnTo>
                      <a:pt x="51" y="48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659360" y="542448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7" h="34">
                    <a:moveTo>
                      <a:pt x="41" y="32"/>
                    </a:moveTo>
                    <a:lnTo>
                      <a:pt x="57" y="7"/>
                    </a:lnTo>
                    <a:lnTo>
                      <a:pt x="22" y="0"/>
                    </a:lnTo>
                    <a:lnTo>
                      <a:pt x="0" y="22"/>
                    </a:lnTo>
                    <a:lnTo>
                      <a:pt x="38" y="34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7616520" y="543420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1" y="45"/>
                    </a:moveTo>
                    <a:lnTo>
                      <a:pt x="67" y="19"/>
                    </a:lnTo>
                    <a:lnTo>
                      <a:pt x="61" y="7"/>
                    </a:lnTo>
                    <a:lnTo>
                      <a:pt x="28" y="0"/>
                    </a:lnTo>
                    <a:lnTo>
                      <a:pt x="15" y="4"/>
                    </a:lnTo>
                    <a:lnTo>
                      <a:pt x="2" y="20"/>
                    </a:lnTo>
                    <a:lnTo>
                      <a:pt x="0" y="34"/>
                    </a:lnTo>
                    <a:lnTo>
                      <a:pt x="50" y="49"/>
                    </a:lnTo>
                    <a:lnTo>
                      <a:pt x="51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624440" y="543420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1" y="33"/>
                    </a:moveTo>
                    <a:lnTo>
                      <a:pt x="58" y="8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7578360" y="5443560"/>
                <a:ext cx="54000" cy="39960"/>
              </a:xfrm>
              <a:custGeom>
                <a:avLst/>
                <a:gdLst/>
                <a:ahLst/>
                <a:rect l="l" t="t" r="r" b="b"/>
                <a:pathLst>
                  <a:path w="67" h="50">
                    <a:moveTo>
                      <a:pt x="52" y="46"/>
                    </a:moveTo>
                    <a:lnTo>
                      <a:pt x="67" y="19"/>
                    </a:lnTo>
                    <a:lnTo>
                      <a:pt x="60" y="7"/>
                    </a:lnTo>
                    <a:lnTo>
                      <a:pt x="27" y="0"/>
                    </a:lnTo>
                    <a:lnTo>
                      <a:pt x="15" y="2"/>
                    </a:lnTo>
                    <a:lnTo>
                      <a:pt x="1" y="20"/>
                    </a:lnTo>
                    <a:lnTo>
                      <a:pt x="0" y="35"/>
                    </a:lnTo>
                    <a:lnTo>
                      <a:pt x="50" y="50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7586280" y="5443560"/>
                <a:ext cx="46080" cy="2880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41" y="33"/>
                    </a:moveTo>
                    <a:lnTo>
                      <a:pt x="59" y="10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8" y="35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7541640" y="545472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50" y="46"/>
                    </a:moveTo>
                    <a:lnTo>
                      <a:pt x="65" y="17"/>
                    </a:lnTo>
                    <a:lnTo>
                      <a:pt x="58" y="7"/>
                    </a:lnTo>
                    <a:lnTo>
                      <a:pt x="26" y="0"/>
                    </a:lnTo>
                    <a:lnTo>
                      <a:pt x="14" y="3"/>
                    </a:lnTo>
                    <a:lnTo>
                      <a:pt x="0" y="19"/>
                    </a:lnTo>
                    <a:lnTo>
                      <a:pt x="0" y="34"/>
                    </a:lnTo>
                    <a:lnTo>
                      <a:pt x="49" y="49"/>
                    </a:lnTo>
                    <a:lnTo>
                      <a:pt x="50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7548120" y="545472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7" h="34">
                    <a:moveTo>
                      <a:pt x="40" y="33"/>
                    </a:moveTo>
                    <a:lnTo>
                      <a:pt x="57" y="8"/>
                    </a:lnTo>
                    <a:lnTo>
                      <a:pt x="20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7503480" y="546588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50" y="45"/>
                    </a:moveTo>
                    <a:lnTo>
                      <a:pt x="66" y="18"/>
                    </a:lnTo>
                    <a:lnTo>
                      <a:pt x="60" y="7"/>
                    </a:lnTo>
                    <a:lnTo>
                      <a:pt x="27" y="0"/>
                    </a:lnTo>
                    <a:lnTo>
                      <a:pt x="14" y="3"/>
                    </a:lnTo>
                    <a:lnTo>
                      <a:pt x="1" y="20"/>
                    </a:lnTo>
                    <a:lnTo>
                      <a:pt x="0" y="34"/>
                    </a:lnTo>
                    <a:lnTo>
                      <a:pt x="49" y="50"/>
                    </a:lnTo>
                    <a:lnTo>
                      <a:pt x="50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7509960" y="546588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1" y="33"/>
                    </a:moveTo>
                    <a:lnTo>
                      <a:pt x="58" y="8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7468920" y="547380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3" y="46"/>
                    </a:moveTo>
                    <a:lnTo>
                      <a:pt x="67" y="19"/>
                    </a:lnTo>
                    <a:lnTo>
                      <a:pt x="61" y="7"/>
                    </a:lnTo>
                    <a:lnTo>
                      <a:pt x="28" y="0"/>
                    </a:lnTo>
                    <a:lnTo>
                      <a:pt x="16" y="4"/>
                    </a:lnTo>
                    <a:lnTo>
                      <a:pt x="2" y="20"/>
                    </a:lnTo>
                    <a:lnTo>
                      <a:pt x="0" y="34"/>
                    </a:lnTo>
                    <a:lnTo>
                      <a:pt x="51" y="49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7476840" y="547380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42" y="33"/>
                    </a:moveTo>
                    <a:lnTo>
                      <a:pt x="59" y="9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38" y="34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7387560" y="546588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52" y="45"/>
                    </a:moveTo>
                    <a:lnTo>
                      <a:pt x="66" y="18"/>
                    </a:lnTo>
                    <a:lnTo>
                      <a:pt x="60" y="7"/>
                    </a:lnTo>
                    <a:lnTo>
                      <a:pt x="27" y="0"/>
                    </a:lnTo>
                    <a:lnTo>
                      <a:pt x="16" y="3"/>
                    </a:lnTo>
                    <a:lnTo>
                      <a:pt x="2" y="20"/>
                    </a:lnTo>
                    <a:lnTo>
                      <a:pt x="0" y="34"/>
                    </a:lnTo>
                    <a:lnTo>
                      <a:pt x="50" y="50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7394040" y="5465880"/>
                <a:ext cx="45720" cy="2700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41" y="33"/>
                    </a:moveTo>
                    <a:lnTo>
                      <a:pt x="59" y="8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7349760" y="547560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3" y="46"/>
                    </a:moveTo>
                    <a:lnTo>
                      <a:pt x="68" y="18"/>
                    </a:lnTo>
                    <a:lnTo>
                      <a:pt x="62" y="6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2" y="19"/>
                    </a:lnTo>
                    <a:lnTo>
                      <a:pt x="0" y="34"/>
                    </a:lnTo>
                    <a:lnTo>
                      <a:pt x="52" y="49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7356240" y="547560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2" y="32"/>
                    </a:moveTo>
                    <a:lnTo>
                      <a:pt x="58" y="8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39" y="34"/>
                    </a:ln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7792200" y="5405760"/>
                <a:ext cx="96840" cy="50760"/>
              </a:xfrm>
              <a:custGeom>
                <a:avLst/>
                <a:gdLst/>
                <a:ahLst/>
                <a:rect l="l" t="t" r="r" b="b"/>
                <a:pathLst>
                  <a:path w="122" h="64">
                    <a:moveTo>
                      <a:pt x="104" y="64"/>
                    </a:moveTo>
                    <a:lnTo>
                      <a:pt x="122" y="38"/>
                    </a:lnTo>
                    <a:lnTo>
                      <a:pt x="113" y="25"/>
                    </a:lnTo>
                    <a:lnTo>
                      <a:pt x="27" y="0"/>
                    </a:lnTo>
                    <a:lnTo>
                      <a:pt x="15" y="4"/>
                    </a:lnTo>
                    <a:lnTo>
                      <a:pt x="1" y="20"/>
                    </a:lnTo>
                    <a:lnTo>
                      <a:pt x="0" y="34"/>
                    </a:lnTo>
                    <a:lnTo>
                      <a:pt x="104" y="64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7801920" y="540720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111" h="53">
                    <a:moveTo>
                      <a:pt x="111" y="26"/>
                    </a:moveTo>
                    <a:lnTo>
                      <a:pt x="23" y="0"/>
                    </a:lnTo>
                    <a:lnTo>
                      <a:pt x="0" y="23"/>
                    </a:lnTo>
                    <a:lnTo>
                      <a:pt x="89" y="53"/>
                    </a:lnTo>
                    <a:lnTo>
                      <a:pt x="111" y="26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7430760" y="548496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67" h="48">
                    <a:moveTo>
                      <a:pt x="52" y="45"/>
                    </a:moveTo>
                    <a:lnTo>
                      <a:pt x="67" y="17"/>
                    </a:lnTo>
                    <a:lnTo>
                      <a:pt x="60" y="6"/>
                    </a:lnTo>
                    <a:lnTo>
                      <a:pt x="28" y="0"/>
                    </a:lnTo>
                    <a:lnTo>
                      <a:pt x="15" y="3"/>
                    </a:lnTo>
                    <a:lnTo>
                      <a:pt x="1" y="19"/>
                    </a:lnTo>
                    <a:lnTo>
                      <a:pt x="0" y="34"/>
                    </a:lnTo>
                    <a:lnTo>
                      <a:pt x="49" y="48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7437240" y="548496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2" y="32"/>
                    </a:moveTo>
                    <a:lnTo>
                      <a:pt x="58" y="8"/>
                    </a:lnTo>
                    <a:lnTo>
                      <a:pt x="22" y="0"/>
                    </a:lnTo>
                    <a:lnTo>
                      <a:pt x="0" y="22"/>
                    </a:lnTo>
                    <a:lnTo>
                      <a:pt x="38" y="34"/>
                    </a:ln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7392600" y="549468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68" h="50">
                    <a:moveTo>
                      <a:pt x="51" y="46"/>
                    </a:moveTo>
                    <a:lnTo>
                      <a:pt x="68" y="18"/>
                    </a:lnTo>
                    <a:lnTo>
                      <a:pt x="61" y="7"/>
                    </a:lnTo>
                    <a:lnTo>
                      <a:pt x="28" y="0"/>
                    </a:lnTo>
                    <a:lnTo>
                      <a:pt x="15" y="3"/>
                    </a:lnTo>
                    <a:lnTo>
                      <a:pt x="1" y="20"/>
                    </a:lnTo>
                    <a:lnTo>
                      <a:pt x="0" y="35"/>
                    </a:lnTo>
                    <a:lnTo>
                      <a:pt x="49" y="50"/>
                    </a:lnTo>
                    <a:lnTo>
                      <a:pt x="51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7400520" y="5494680"/>
                <a:ext cx="46080" cy="284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0" y="33"/>
                    </a:moveTo>
                    <a:lnTo>
                      <a:pt x="58" y="8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6" y="35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7757640" y="542952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68" h="48">
                    <a:moveTo>
                      <a:pt x="51" y="45"/>
                    </a:moveTo>
                    <a:lnTo>
                      <a:pt x="68" y="17"/>
                    </a:lnTo>
                    <a:lnTo>
                      <a:pt x="61" y="6"/>
                    </a:lnTo>
                    <a:lnTo>
                      <a:pt x="28" y="0"/>
                    </a:lnTo>
                    <a:lnTo>
                      <a:pt x="15" y="3"/>
                    </a:lnTo>
                    <a:lnTo>
                      <a:pt x="1" y="19"/>
                    </a:lnTo>
                    <a:lnTo>
                      <a:pt x="0" y="34"/>
                    </a:lnTo>
                    <a:lnTo>
                      <a:pt x="50" y="48"/>
                    </a:lnTo>
                    <a:lnTo>
                      <a:pt x="51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7764120" y="542952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1" y="33"/>
                    </a:moveTo>
                    <a:lnTo>
                      <a:pt x="58" y="8"/>
                    </a:lnTo>
                    <a:lnTo>
                      <a:pt x="22" y="0"/>
                    </a:lnTo>
                    <a:lnTo>
                      <a:pt x="0" y="24"/>
                    </a:lnTo>
                    <a:lnTo>
                      <a:pt x="37" y="34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7719480" y="544068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2" y="46"/>
                    </a:moveTo>
                    <a:lnTo>
                      <a:pt x="67" y="18"/>
                    </a:lnTo>
                    <a:lnTo>
                      <a:pt x="61" y="7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2" y="19"/>
                    </a:lnTo>
                    <a:lnTo>
                      <a:pt x="0" y="34"/>
                    </a:lnTo>
                    <a:lnTo>
                      <a:pt x="50" y="49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7727400" y="5440680"/>
                <a:ext cx="45720" cy="2700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41" y="33"/>
                    </a:moveTo>
                    <a:lnTo>
                      <a:pt x="59" y="7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7683120" y="5450040"/>
                <a:ext cx="52560" cy="396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51" y="45"/>
                    </a:moveTo>
                    <a:lnTo>
                      <a:pt x="65" y="17"/>
                    </a:lnTo>
                    <a:lnTo>
                      <a:pt x="59" y="6"/>
                    </a:lnTo>
                    <a:lnTo>
                      <a:pt x="26" y="0"/>
                    </a:lnTo>
                    <a:lnTo>
                      <a:pt x="14" y="3"/>
                    </a:lnTo>
                    <a:lnTo>
                      <a:pt x="1" y="19"/>
                    </a:lnTo>
                    <a:lnTo>
                      <a:pt x="0" y="34"/>
                    </a:lnTo>
                    <a:lnTo>
                      <a:pt x="49" y="49"/>
                    </a:lnTo>
                    <a:lnTo>
                      <a:pt x="51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7689600" y="545004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7" h="34">
                    <a:moveTo>
                      <a:pt x="41" y="33"/>
                    </a:moveTo>
                    <a:lnTo>
                      <a:pt x="57" y="8"/>
                    </a:lnTo>
                    <a:lnTo>
                      <a:pt x="21" y="0"/>
                    </a:lnTo>
                    <a:lnTo>
                      <a:pt x="0" y="22"/>
                    </a:lnTo>
                    <a:lnTo>
                      <a:pt x="37" y="34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7644960" y="5459400"/>
                <a:ext cx="54000" cy="3996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2" y="45"/>
                    </a:moveTo>
                    <a:lnTo>
                      <a:pt x="68" y="18"/>
                    </a:lnTo>
                    <a:lnTo>
                      <a:pt x="62" y="7"/>
                    </a:lnTo>
                    <a:lnTo>
                      <a:pt x="29" y="0"/>
                    </a:lnTo>
                    <a:lnTo>
                      <a:pt x="16" y="3"/>
                    </a:lnTo>
                    <a:lnTo>
                      <a:pt x="2" y="18"/>
                    </a:lnTo>
                    <a:lnTo>
                      <a:pt x="0" y="35"/>
                    </a:lnTo>
                    <a:lnTo>
                      <a:pt x="50" y="49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7651440" y="545940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42" y="33"/>
                    </a:moveTo>
                    <a:lnTo>
                      <a:pt x="59" y="8"/>
                    </a:lnTo>
                    <a:lnTo>
                      <a:pt x="24" y="0"/>
                    </a:lnTo>
                    <a:lnTo>
                      <a:pt x="0" y="23"/>
                    </a:lnTo>
                    <a:lnTo>
                      <a:pt x="38" y="35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7608600" y="547236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3" y="46"/>
                    </a:moveTo>
                    <a:lnTo>
                      <a:pt x="68" y="18"/>
                    </a:lnTo>
                    <a:lnTo>
                      <a:pt x="62" y="7"/>
                    </a:lnTo>
                    <a:lnTo>
                      <a:pt x="28" y="0"/>
                    </a:lnTo>
                    <a:lnTo>
                      <a:pt x="17" y="3"/>
                    </a:lnTo>
                    <a:lnTo>
                      <a:pt x="3" y="20"/>
                    </a:lnTo>
                    <a:lnTo>
                      <a:pt x="0" y="34"/>
                    </a:lnTo>
                    <a:lnTo>
                      <a:pt x="52" y="49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7616160" y="547236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1" y="32"/>
                    </a:moveTo>
                    <a:lnTo>
                      <a:pt x="58" y="8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7570440" y="548028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3" y="46"/>
                    </a:moveTo>
                    <a:lnTo>
                      <a:pt x="68" y="17"/>
                    </a:lnTo>
                    <a:lnTo>
                      <a:pt x="61" y="7"/>
                    </a:lnTo>
                    <a:lnTo>
                      <a:pt x="29" y="0"/>
                    </a:lnTo>
                    <a:lnTo>
                      <a:pt x="16" y="3"/>
                    </a:lnTo>
                    <a:lnTo>
                      <a:pt x="3" y="19"/>
                    </a:lnTo>
                    <a:lnTo>
                      <a:pt x="0" y="35"/>
                    </a:lnTo>
                    <a:lnTo>
                      <a:pt x="51" y="49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7578360" y="5480280"/>
                <a:ext cx="46080" cy="2844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43" y="33"/>
                    </a:moveTo>
                    <a:lnTo>
                      <a:pt x="59" y="8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40" y="35"/>
                    </a:lnTo>
                    <a:lnTo>
                      <a:pt x="43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7533720" y="549144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67" h="48">
                    <a:moveTo>
                      <a:pt x="51" y="45"/>
                    </a:moveTo>
                    <a:lnTo>
                      <a:pt x="67" y="18"/>
                    </a:lnTo>
                    <a:lnTo>
                      <a:pt x="60" y="6"/>
                    </a:lnTo>
                    <a:lnTo>
                      <a:pt x="28" y="0"/>
                    </a:lnTo>
                    <a:lnTo>
                      <a:pt x="15" y="3"/>
                    </a:lnTo>
                    <a:lnTo>
                      <a:pt x="1" y="19"/>
                    </a:lnTo>
                    <a:lnTo>
                      <a:pt x="0" y="33"/>
                    </a:lnTo>
                    <a:lnTo>
                      <a:pt x="49" y="48"/>
                    </a:lnTo>
                    <a:lnTo>
                      <a:pt x="51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7540200" y="549144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8" h="33">
                    <a:moveTo>
                      <a:pt x="40" y="32"/>
                    </a:moveTo>
                    <a:lnTo>
                      <a:pt x="58" y="7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37" y="33"/>
                    </a:lnTo>
                    <a:lnTo>
                      <a:pt x="40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7494120" y="550080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68" h="50">
                    <a:moveTo>
                      <a:pt x="52" y="47"/>
                    </a:moveTo>
                    <a:lnTo>
                      <a:pt x="68" y="19"/>
                    </a:lnTo>
                    <a:lnTo>
                      <a:pt x="61" y="8"/>
                    </a:lnTo>
                    <a:lnTo>
                      <a:pt x="28" y="0"/>
                    </a:lnTo>
                    <a:lnTo>
                      <a:pt x="17" y="3"/>
                    </a:lnTo>
                    <a:lnTo>
                      <a:pt x="2" y="21"/>
                    </a:lnTo>
                    <a:lnTo>
                      <a:pt x="0" y="36"/>
                    </a:lnTo>
                    <a:lnTo>
                      <a:pt x="51" y="50"/>
                    </a:lnTo>
                    <a:lnTo>
                      <a:pt x="52" y="47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7502040" y="5500800"/>
                <a:ext cx="46080" cy="28800"/>
              </a:xfrm>
              <a:custGeom>
                <a:avLst/>
                <a:gdLst/>
                <a:ahLst/>
                <a:rect l="l" t="t" r="r" b="b"/>
                <a:pathLst>
                  <a:path w="58" h="36">
                    <a:moveTo>
                      <a:pt x="40" y="33"/>
                    </a:moveTo>
                    <a:lnTo>
                      <a:pt x="58" y="10"/>
                    </a:lnTo>
                    <a:lnTo>
                      <a:pt x="22" y="0"/>
                    </a:lnTo>
                    <a:lnTo>
                      <a:pt x="0" y="24"/>
                    </a:lnTo>
                    <a:lnTo>
                      <a:pt x="37" y="36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7461000" y="551196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67" h="48">
                    <a:moveTo>
                      <a:pt x="52" y="45"/>
                    </a:moveTo>
                    <a:lnTo>
                      <a:pt x="67" y="17"/>
                    </a:lnTo>
                    <a:lnTo>
                      <a:pt x="61" y="6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2" y="18"/>
                    </a:lnTo>
                    <a:lnTo>
                      <a:pt x="0" y="34"/>
                    </a:lnTo>
                    <a:lnTo>
                      <a:pt x="51" y="48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7466760" y="5511960"/>
                <a:ext cx="47880" cy="2700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43" y="32"/>
                    </a:moveTo>
                    <a:lnTo>
                      <a:pt x="59" y="7"/>
                    </a:lnTo>
                    <a:lnTo>
                      <a:pt x="23" y="0"/>
                    </a:lnTo>
                    <a:lnTo>
                      <a:pt x="0" y="21"/>
                    </a:lnTo>
                    <a:lnTo>
                      <a:pt x="39" y="34"/>
                    </a:lnTo>
                    <a:lnTo>
                      <a:pt x="43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7422840" y="552132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2" y="46"/>
                    </a:moveTo>
                    <a:lnTo>
                      <a:pt x="67" y="19"/>
                    </a:lnTo>
                    <a:lnTo>
                      <a:pt x="60" y="7"/>
                    </a:lnTo>
                    <a:lnTo>
                      <a:pt x="28" y="0"/>
                    </a:lnTo>
                    <a:lnTo>
                      <a:pt x="15" y="3"/>
                    </a:lnTo>
                    <a:lnTo>
                      <a:pt x="1" y="21"/>
                    </a:lnTo>
                    <a:lnTo>
                      <a:pt x="0" y="35"/>
                    </a:lnTo>
                    <a:lnTo>
                      <a:pt x="49" y="49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7429320" y="552132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1" y="33"/>
                    </a:moveTo>
                    <a:lnTo>
                      <a:pt x="58" y="9"/>
                    </a:lnTo>
                    <a:lnTo>
                      <a:pt x="21" y="0"/>
                    </a:lnTo>
                    <a:lnTo>
                      <a:pt x="0" y="24"/>
                    </a:lnTo>
                    <a:lnTo>
                      <a:pt x="38" y="35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7798680" y="5430960"/>
                <a:ext cx="112680" cy="57240"/>
              </a:xfrm>
              <a:custGeom>
                <a:avLst/>
                <a:gdLst/>
                <a:ahLst/>
                <a:rect l="l" t="t" r="r" b="b"/>
                <a:pathLst>
                  <a:path w="141" h="71">
                    <a:moveTo>
                      <a:pt x="124" y="71"/>
                    </a:moveTo>
                    <a:lnTo>
                      <a:pt x="141" y="44"/>
                    </a:lnTo>
                    <a:lnTo>
                      <a:pt x="133" y="31"/>
                    </a:lnTo>
                    <a:lnTo>
                      <a:pt x="28" y="0"/>
                    </a:lnTo>
                    <a:lnTo>
                      <a:pt x="15" y="3"/>
                    </a:lnTo>
                    <a:lnTo>
                      <a:pt x="1" y="20"/>
                    </a:lnTo>
                    <a:lnTo>
                      <a:pt x="0" y="34"/>
                    </a:lnTo>
                    <a:lnTo>
                      <a:pt x="124" y="7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7806600" y="543420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133" h="55">
                    <a:moveTo>
                      <a:pt x="133" y="31"/>
                    </a:moveTo>
                    <a:lnTo>
                      <a:pt x="22" y="0"/>
                    </a:lnTo>
                    <a:lnTo>
                      <a:pt x="0" y="23"/>
                    </a:lnTo>
                    <a:lnTo>
                      <a:pt x="113" y="55"/>
                    </a:lnTo>
                    <a:lnTo>
                      <a:pt x="133" y="31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7384680" y="553104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1" y="46"/>
                    </a:moveTo>
                    <a:lnTo>
                      <a:pt x="67" y="18"/>
                    </a:lnTo>
                    <a:lnTo>
                      <a:pt x="60" y="7"/>
                    </a:lnTo>
                    <a:lnTo>
                      <a:pt x="27" y="0"/>
                    </a:lnTo>
                    <a:lnTo>
                      <a:pt x="15" y="4"/>
                    </a:lnTo>
                    <a:lnTo>
                      <a:pt x="1" y="19"/>
                    </a:lnTo>
                    <a:lnTo>
                      <a:pt x="0" y="34"/>
                    </a:lnTo>
                    <a:lnTo>
                      <a:pt x="50" y="49"/>
                    </a:lnTo>
                    <a:lnTo>
                      <a:pt x="51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7392600" y="553104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0" y="33"/>
                    </a:moveTo>
                    <a:lnTo>
                      <a:pt x="58" y="8"/>
                    </a:lnTo>
                    <a:lnTo>
                      <a:pt x="22" y="0"/>
                    </a:lnTo>
                    <a:lnTo>
                      <a:pt x="0" y="22"/>
                    </a:lnTo>
                    <a:lnTo>
                      <a:pt x="37" y="34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762680" y="546120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1" y="46"/>
                    </a:moveTo>
                    <a:lnTo>
                      <a:pt x="68" y="17"/>
                    </a:lnTo>
                    <a:lnTo>
                      <a:pt x="60" y="7"/>
                    </a:lnTo>
                    <a:lnTo>
                      <a:pt x="27" y="0"/>
                    </a:lnTo>
                    <a:lnTo>
                      <a:pt x="16" y="3"/>
                    </a:lnTo>
                    <a:lnTo>
                      <a:pt x="1" y="20"/>
                    </a:lnTo>
                    <a:lnTo>
                      <a:pt x="0" y="35"/>
                    </a:lnTo>
                    <a:lnTo>
                      <a:pt x="50" y="49"/>
                    </a:lnTo>
                    <a:lnTo>
                      <a:pt x="51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7768800" y="546120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7" h="35">
                    <a:moveTo>
                      <a:pt x="40" y="33"/>
                    </a:moveTo>
                    <a:lnTo>
                      <a:pt x="57" y="8"/>
                    </a:lnTo>
                    <a:lnTo>
                      <a:pt x="21" y="0"/>
                    </a:lnTo>
                    <a:lnTo>
                      <a:pt x="0" y="23"/>
                    </a:lnTo>
                    <a:lnTo>
                      <a:pt x="37" y="35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7724520" y="547056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1" y="46"/>
                    </a:moveTo>
                    <a:lnTo>
                      <a:pt x="68" y="19"/>
                    </a:lnTo>
                    <a:lnTo>
                      <a:pt x="62" y="8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3" y="20"/>
                    </a:lnTo>
                    <a:lnTo>
                      <a:pt x="0" y="34"/>
                    </a:lnTo>
                    <a:lnTo>
                      <a:pt x="51" y="49"/>
                    </a:lnTo>
                    <a:lnTo>
                      <a:pt x="51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7732440" y="547056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42" y="33"/>
                    </a:moveTo>
                    <a:lnTo>
                      <a:pt x="59" y="9"/>
                    </a:lnTo>
                    <a:lnTo>
                      <a:pt x="23" y="0"/>
                    </a:lnTo>
                    <a:lnTo>
                      <a:pt x="0" y="24"/>
                    </a:lnTo>
                    <a:lnTo>
                      <a:pt x="38" y="34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7686360" y="548028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3" y="46"/>
                    </a:moveTo>
                    <a:lnTo>
                      <a:pt x="67" y="18"/>
                    </a:lnTo>
                    <a:lnTo>
                      <a:pt x="61" y="7"/>
                    </a:lnTo>
                    <a:lnTo>
                      <a:pt x="28" y="0"/>
                    </a:lnTo>
                    <a:lnTo>
                      <a:pt x="16" y="4"/>
                    </a:lnTo>
                    <a:lnTo>
                      <a:pt x="2" y="19"/>
                    </a:lnTo>
                    <a:lnTo>
                      <a:pt x="0" y="35"/>
                    </a:lnTo>
                    <a:lnTo>
                      <a:pt x="51" y="49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7692840" y="548028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43" y="33"/>
                    </a:moveTo>
                    <a:lnTo>
                      <a:pt x="59" y="9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38" y="35"/>
                    </a:lnTo>
                    <a:lnTo>
                      <a:pt x="43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7649640" y="548964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1" y="45"/>
                    </a:moveTo>
                    <a:lnTo>
                      <a:pt x="67" y="19"/>
                    </a:lnTo>
                    <a:lnTo>
                      <a:pt x="59" y="6"/>
                    </a:lnTo>
                    <a:lnTo>
                      <a:pt x="27" y="0"/>
                    </a:lnTo>
                    <a:lnTo>
                      <a:pt x="14" y="3"/>
                    </a:lnTo>
                    <a:lnTo>
                      <a:pt x="1" y="20"/>
                    </a:lnTo>
                    <a:lnTo>
                      <a:pt x="0" y="35"/>
                    </a:lnTo>
                    <a:lnTo>
                      <a:pt x="49" y="49"/>
                    </a:lnTo>
                    <a:lnTo>
                      <a:pt x="51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7656120" y="5489640"/>
                <a:ext cx="46080" cy="2880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1" y="32"/>
                    </a:moveTo>
                    <a:lnTo>
                      <a:pt x="58" y="8"/>
                    </a:lnTo>
                    <a:lnTo>
                      <a:pt x="21" y="0"/>
                    </a:lnTo>
                    <a:lnTo>
                      <a:pt x="0" y="23"/>
                    </a:lnTo>
                    <a:lnTo>
                      <a:pt x="38" y="35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7613280" y="550260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67" h="49">
                    <a:moveTo>
                      <a:pt x="51" y="46"/>
                    </a:moveTo>
                    <a:lnTo>
                      <a:pt x="67" y="18"/>
                    </a:lnTo>
                    <a:lnTo>
                      <a:pt x="60" y="7"/>
                    </a:lnTo>
                    <a:lnTo>
                      <a:pt x="28" y="0"/>
                    </a:lnTo>
                    <a:lnTo>
                      <a:pt x="14" y="4"/>
                    </a:lnTo>
                    <a:lnTo>
                      <a:pt x="1" y="20"/>
                    </a:lnTo>
                    <a:lnTo>
                      <a:pt x="0" y="34"/>
                    </a:lnTo>
                    <a:lnTo>
                      <a:pt x="49" y="49"/>
                    </a:lnTo>
                    <a:lnTo>
                      <a:pt x="51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7621200" y="550260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1" y="33"/>
                    </a:moveTo>
                    <a:lnTo>
                      <a:pt x="58" y="9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8" y="34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7575120" y="551196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67" h="48">
                    <a:moveTo>
                      <a:pt x="52" y="45"/>
                    </a:moveTo>
                    <a:lnTo>
                      <a:pt x="67" y="17"/>
                    </a:lnTo>
                    <a:lnTo>
                      <a:pt x="60" y="6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2" y="18"/>
                    </a:lnTo>
                    <a:lnTo>
                      <a:pt x="0" y="34"/>
                    </a:lnTo>
                    <a:lnTo>
                      <a:pt x="50" y="48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7581600" y="551196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42" y="32"/>
                    </a:moveTo>
                    <a:lnTo>
                      <a:pt x="59" y="7"/>
                    </a:lnTo>
                    <a:lnTo>
                      <a:pt x="23" y="0"/>
                    </a:lnTo>
                    <a:lnTo>
                      <a:pt x="0" y="21"/>
                    </a:lnTo>
                    <a:lnTo>
                      <a:pt x="38" y="34"/>
                    </a:ln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7536960" y="552132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67" h="48">
                    <a:moveTo>
                      <a:pt x="50" y="45"/>
                    </a:moveTo>
                    <a:lnTo>
                      <a:pt x="67" y="19"/>
                    </a:lnTo>
                    <a:lnTo>
                      <a:pt x="59" y="6"/>
                    </a:lnTo>
                    <a:lnTo>
                      <a:pt x="26" y="0"/>
                    </a:lnTo>
                    <a:lnTo>
                      <a:pt x="15" y="3"/>
                    </a:lnTo>
                    <a:lnTo>
                      <a:pt x="1" y="20"/>
                    </a:lnTo>
                    <a:lnTo>
                      <a:pt x="0" y="34"/>
                    </a:lnTo>
                    <a:lnTo>
                      <a:pt x="49" y="48"/>
                    </a:lnTo>
                    <a:lnTo>
                      <a:pt x="50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7544880" y="552132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7" h="34">
                    <a:moveTo>
                      <a:pt x="40" y="33"/>
                    </a:moveTo>
                    <a:lnTo>
                      <a:pt x="57" y="9"/>
                    </a:lnTo>
                    <a:lnTo>
                      <a:pt x="21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7500600" y="5532480"/>
                <a:ext cx="52560" cy="38160"/>
              </a:xfrm>
              <a:custGeom>
                <a:avLst/>
                <a:gdLst/>
                <a:ahLst/>
                <a:rect l="l" t="t" r="r" b="b"/>
                <a:pathLst>
                  <a:path w="67" h="48">
                    <a:moveTo>
                      <a:pt x="53" y="45"/>
                    </a:moveTo>
                    <a:lnTo>
                      <a:pt x="67" y="17"/>
                    </a:lnTo>
                    <a:lnTo>
                      <a:pt x="61" y="7"/>
                    </a:lnTo>
                    <a:lnTo>
                      <a:pt x="28" y="0"/>
                    </a:lnTo>
                    <a:lnTo>
                      <a:pt x="15" y="3"/>
                    </a:lnTo>
                    <a:lnTo>
                      <a:pt x="2" y="19"/>
                    </a:lnTo>
                    <a:lnTo>
                      <a:pt x="0" y="33"/>
                    </a:lnTo>
                    <a:lnTo>
                      <a:pt x="50" y="48"/>
                    </a:lnTo>
                    <a:lnTo>
                      <a:pt x="53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7507080" y="553248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8" h="33">
                    <a:moveTo>
                      <a:pt x="41" y="32"/>
                    </a:moveTo>
                    <a:lnTo>
                      <a:pt x="58" y="8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7" y="33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7465680" y="554364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53" y="45"/>
                    </a:moveTo>
                    <a:lnTo>
                      <a:pt x="68" y="17"/>
                    </a:lnTo>
                    <a:lnTo>
                      <a:pt x="62" y="6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2" y="19"/>
                    </a:lnTo>
                    <a:lnTo>
                      <a:pt x="0" y="34"/>
                    </a:lnTo>
                    <a:lnTo>
                      <a:pt x="52" y="49"/>
                    </a:lnTo>
                    <a:lnTo>
                      <a:pt x="53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7473600" y="5543640"/>
                <a:ext cx="4464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1" y="32"/>
                    </a:moveTo>
                    <a:lnTo>
                      <a:pt x="58" y="8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37" y="34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7427520" y="555336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68" h="50">
                    <a:moveTo>
                      <a:pt x="51" y="47"/>
                    </a:moveTo>
                    <a:lnTo>
                      <a:pt x="68" y="18"/>
                    </a:lnTo>
                    <a:lnTo>
                      <a:pt x="60" y="7"/>
                    </a:lnTo>
                    <a:lnTo>
                      <a:pt x="27" y="0"/>
                    </a:lnTo>
                    <a:lnTo>
                      <a:pt x="15" y="3"/>
                    </a:lnTo>
                    <a:lnTo>
                      <a:pt x="1" y="20"/>
                    </a:lnTo>
                    <a:lnTo>
                      <a:pt x="0" y="34"/>
                    </a:lnTo>
                    <a:lnTo>
                      <a:pt x="50" y="50"/>
                    </a:lnTo>
                    <a:lnTo>
                      <a:pt x="51" y="47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7434000" y="555336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1" y="33"/>
                    </a:moveTo>
                    <a:lnTo>
                      <a:pt x="58" y="8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38" y="34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7880040" y="5456520"/>
                <a:ext cx="55440" cy="38160"/>
              </a:xfrm>
              <a:custGeom>
                <a:avLst/>
                <a:gdLst/>
                <a:ahLst/>
                <a:rect l="l" t="t" r="r" b="b"/>
                <a:pathLst>
                  <a:path w="70" h="48">
                    <a:moveTo>
                      <a:pt x="55" y="45"/>
                    </a:moveTo>
                    <a:lnTo>
                      <a:pt x="70" y="17"/>
                    </a:lnTo>
                    <a:lnTo>
                      <a:pt x="62" y="9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0" y="16"/>
                    </a:lnTo>
                    <a:lnTo>
                      <a:pt x="0" y="32"/>
                    </a:lnTo>
                    <a:lnTo>
                      <a:pt x="54" y="48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7886160" y="5456520"/>
                <a:ext cx="45720" cy="25200"/>
              </a:xfrm>
              <a:custGeom>
                <a:avLst/>
                <a:gdLst/>
                <a:ahLst/>
                <a:rect l="l" t="t" r="r" b="b"/>
                <a:pathLst>
                  <a:path w="58" h="32">
                    <a:moveTo>
                      <a:pt x="42" y="32"/>
                    </a:moveTo>
                    <a:lnTo>
                      <a:pt x="58" y="11"/>
                    </a:lnTo>
                    <a:lnTo>
                      <a:pt x="22" y="0"/>
                    </a:lnTo>
                    <a:lnTo>
                      <a:pt x="0" y="17"/>
                    </a:ln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7826040" y="5465880"/>
                <a:ext cx="69840" cy="44640"/>
              </a:xfrm>
              <a:custGeom>
                <a:avLst/>
                <a:gdLst/>
                <a:ahLst/>
                <a:rect l="l" t="t" r="r" b="b"/>
                <a:pathLst>
                  <a:path w="87" h="56">
                    <a:moveTo>
                      <a:pt x="70" y="56"/>
                    </a:moveTo>
                    <a:lnTo>
                      <a:pt x="87" y="29"/>
                    </a:lnTo>
                    <a:lnTo>
                      <a:pt x="78" y="16"/>
                    </a:lnTo>
                    <a:lnTo>
                      <a:pt x="28" y="0"/>
                    </a:lnTo>
                    <a:lnTo>
                      <a:pt x="15" y="3"/>
                    </a:lnTo>
                    <a:lnTo>
                      <a:pt x="1" y="20"/>
                    </a:lnTo>
                    <a:lnTo>
                      <a:pt x="0" y="35"/>
                    </a:lnTo>
                    <a:lnTo>
                      <a:pt x="70" y="5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7836840" y="5467680"/>
                <a:ext cx="60120" cy="31680"/>
              </a:xfrm>
              <a:custGeom>
                <a:avLst/>
                <a:gdLst/>
                <a:ahLst/>
                <a:rect l="l" t="t" r="r" b="b"/>
                <a:pathLst>
                  <a:path w="75" h="39">
                    <a:moveTo>
                      <a:pt x="75" y="14"/>
                    </a:moveTo>
                    <a:lnTo>
                      <a:pt x="21" y="0"/>
                    </a:lnTo>
                    <a:lnTo>
                      <a:pt x="0" y="23"/>
                    </a:lnTo>
                    <a:lnTo>
                      <a:pt x="54" y="39"/>
                    </a:lnTo>
                    <a:lnTo>
                      <a:pt x="75" y="14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7773480" y="5483520"/>
                <a:ext cx="68400" cy="41040"/>
              </a:xfrm>
              <a:custGeom>
                <a:avLst/>
                <a:gdLst/>
                <a:ahLst/>
                <a:rect l="l" t="t" r="r" b="b"/>
                <a:pathLst>
                  <a:path w="84" h="51">
                    <a:moveTo>
                      <a:pt x="68" y="51"/>
                    </a:moveTo>
                    <a:lnTo>
                      <a:pt x="84" y="28"/>
                    </a:lnTo>
                    <a:lnTo>
                      <a:pt x="75" y="14"/>
                    </a:lnTo>
                    <a:lnTo>
                      <a:pt x="26" y="0"/>
                    </a:lnTo>
                    <a:lnTo>
                      <a:pt x="15" y="3"/>
                    </a:lnTo>
                    <a:lnTo>
                      <a:pt x="3" y="17"/>
                    </a:lnTo>
                    <a:lnTo>
                      <a:pt x="0" y="32"/>
                    </a:lnTo>
                    <a:lnTo>
                      <a:pt x="68" y="5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7784280" y="548496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73" y="12"/>
                    </a:moveTo>
                    <a:lnTo>
                      <a:pt x="21" y="0"/>
                    </a:lnTo>
                    <a:lnTo>
                      <a:pt x="0" y="21"/>
                    </a:lnTo>
                    <a:lnTo>
                      <a:pt x="52" y="37"/>
                    </a:lnTo>
                    <a:lnTo>
                      <a:pt x="73" y="1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7551360" y="549612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282" y="114"/>
                    </a:moveTo>
                    <a:lnTo>
                      <a:pt x="300" y="89"/>
                    </a:lnTo>
                    <a:lnTo>
                      <a:pt x="297" y="76"/>
                    </a:lnTo>
                    <a:lnTo>
                      <a:pt x="27" y="0"/>
                    </a:lnTo>
                    <a:lnTo>
                      <a:pt x="15" y="3"/>
                    </a:lnTo>
                    <a:lnTo>
                      <a:pt x="1" y="20"/>
                    </a:lnTo>
                    <a:lnTo>
                      <a:pt x="0" y="34"/>
                    </a:lnTo>
                    <a:lnTo>
                      <a:pt x="282" y="114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7556040" y="5496120"/>
                <a:ext cx="231840" cy="81000"/>
              </a:xfrm>
              <a:custGeom>
                <a:avLst/>
                <a:gdLst/>
                <a:ahLst/>
                <a:rect l="l" t="t" r="r" b="b"/>
                <a:pathLst>
                  <a:path w="292" h="102">
                    <a:moveTo>
                      <a:pt x="292" y="77"/>
                    </a:moveTo>
                    <a:lnTo>
                      <a:pt x="20" y="0"/>
                    </a:lnTo>
                    <a:lnTo>
                      <a:pt x="0" y="22"/>
                    </a:lnTo>
                    <a:lnTo>
                      <a:pt x="274" y="102"/>
                    </a:lnTo>
                    <a:lnTo>
                      <a:pt x="292" y="77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7494120" y="5559480"/>
                <a:ext cx="69840" cy="44640"/>
              </a:xfrm>
              <a:custGeom>
                <a:avLst/>
                <a:gdLst/>
                <a:ahLst/>
                <a:rect l="l" t="t" r="r" b="b"/>
                <a:pathLst>
                  <a:path w="87" h="56">
                    <a:moveTo>
                      <a:pt x="69" y="56"/>
                    </a:moveTo>
                    <a:lnTo>
                      <a:pt x="87" y="29"/>
                    </a:lnTo>
                    <a:lnTo>
                      <a:pt x="79" y="16"/>
                    </a:lnTo>
                    <a:lnTo>
                      <a:pt x="26" y="0"/>
                    </a:lnTo>
                    <a:lnTo>
                      <a:pt x="15" y="4"/>
                    </a:lnTo>
                    <a:lnTo>
                      <a:pt x="1" y="20"/>
                    </a:lnTo>
                    <a:lnTo>
                      <a:pt x="0" y="34"/>
                    </a:lnTo>
                    <a:lnTo>
                      <a:pt x="69" y="5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7504920" y="5559480"/>
                <a:ext cx="58680" cy="31680"/>
              </a:xfrm>
              <a:custGeom>
                <a:avLst/>
                <a:gdLst/>
                <a:ahLst/>
                <a:rect l="l" t="t" r="r" b="b"/>
                <a:pathLst>
                  <a:path w="75" h="41">
                    <a:moveTo>
                      <a:pt x="75" y="14"/>
                    </a:moveTo>
                    <a:lnTo>
                      <a:pt x="21" y="0"/>
                    </a:lnTo>
                    <a:lnTo>
                      <a:pt x="0" y="23"/>
                    </a:lnTo>
                    <a:lnTo>
                      <a:pt x="54" y="41"/>
                    </a:lnTo>
                    <a:lnTo>
                      <a:pt x="75" y="14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7438680" y="557532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87" h="56">
                    <a:moveTo>
                      <a:pt x="70" y="56"/>
                    </a:moveTo>
                    <a:lnTo>
                      <a:pt x="87" y="29"/>
                    </a:lnTo>
                    <a:lnTo>
                      <a:pt x="78" y="16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2" y="20"/>
                    </a:lnTo>
                    <a:lnTo>
                      <a:pt x="0" y="35"/>
                    </a:lnTo>
                    <a:lnTo>
                      <a:pt x="70" y="5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7449480" y="5577120"/>
                <a:ext cx="58680" cy="31680"/>
              </a:xfrm>
              <a:custGeom>
                <a:avLst/>
                <a:gdLst/>
                <a:ahLst/>
                <a:rect l="l" t="t" r="r" b="b"/>
                <a:pathLst>
                  <a:path w="75" h="40">
                    <a:moveTo>
                      <a:pt x="75" y="13"/>
                    </a:moveTo>
                    <a:lnTo>
                      <a:pt x="22" y="0"/>
                    </a:lnTo>
                    <a:lnTo>
                      <a:pt x="0" y="23"/>
                    </a:lnTo>
                    <a:lnTo>
                      <a:pt x="54" y="40"/>
                    </a:lnTo>
                    <a:lnTo>
                      <a:pt x="75" y="1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7263720" y="5484960"/>
                <a:ext cx="98280" cy="52560"/>
              </a:xfrm>
              <a:custGeom>
                <a:avLst/>
                <a:gdLst/>
                <a:ahLst/>
                <a:rect l="l" t="t" r="r" b="b"/>
                <a:pathLst>
                  <a:path w="123" h="65">
                    <a:moveTo>
                      <a:pt x="104" y="65"/>
                    </a:moveTo>
                    <a:lnTo>
                      <a:pt x="123" y="39"/>
                    </a:lnTo>
                    <a:lnTo>
                      <a:pt x="114" y="21"/>
                    </a:lnTo>
                    <a:lnTo>
                      <a:pt x="29" y="0"/>
                    </a:lnTo>
                    <a:lnTo>
                      <a:pt x="15" y="4"/>
                    </a:lnTo>
                    <a:lnTo>
                      <a:pt x="2" y="19"/>
                    </a:lnTo>
                    <a:lnTo>
                      <a:pt x="0" y="37"/>
                    </a:lnTo>
                    <a:lnTo>
                      <a:pt x="104" y="6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7268760" y="5486400"/>
                <a:ext cx="92160" cy="38160"/>
              </a:xfrm>
              <a:custGeom>
                <a:avLst/>
                <a:gdLst/>
                <a:ahLst/>
                <a:rect l="l" t="t" r="r" b="b"/>
                <a:pathLst>
                  <a:path w="114" h="46">
                    <a:moveTo>
                      <a:pt x="114" y="24"/>
                    </a:moveTo>
                    <a:lnTo>
                      <a:pt x="21" y="0"/>
                    </a:lnTo>
                    <a:lnTo>
                      <a:pt x="0" y="22"/>
                    </a:lnTo>
                    <a:lnTo>
                      <a:pt x="97" y="46"/>
                    </a:lnTo>
                    <a:lnTo>
                      <a:pt x="114" y="24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7354440" y="550404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68" h="48">
                    <a:moveTo>
                      <a:pt x="52" y="45"/>
                    </a:moveTo>
                    <a:lnTo>
                      <a:pt x="68" y="17"/>
                    </a:lnTo>
                    <a:lnTo>
                      <a:pt x="61" y="6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1" y="19"/>
                    </a:lnTo>
                    <a:lnTo>
                      <a:pt x="0" y="34"/>
                    </a:lnTo>
                    <a:lnTo>
                      <a:pt x="51" y="48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7362360" y="5504040"/>
                <a:ext cx="4464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0" y="31"/>
                    </a:moveTo>
                    <a:lnTo>
                      <a:pt x="58" y="8"/>
                    </a:lnTo>
                    <a:lnTo>
                      <a:pt x="22" y="0"/>
                    </a:lnTo>
                    <a:lnTo>
                      <a:pt x="0" y="22"/>
                    </a:lnTo>
                    <a:lnTo>
                      <a:pt x="37" y="34"/>
                    </a:lnTo>
                    <a:lnTo>
                      <a:pt x="40" y="31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7282800" y="5513400"/>
                <a:ext cx="88920" cy="47880"/>
              </a:xfrm>
              <a:custGeom>
                <a:avLst/>
                <a:gdLst/>
                <a:ahLst/>
                <a:rect l="l" t="t" r="r" b="b"/>
                <a:pathLst>
                  <a:path w="112" h="61">
                    <a:moveTo>
                      <a:pt x="92" y="61"/>
                    </a:moveTo>
                    <a:lnTo>
                      <a:pt x="112" y="34"/>
                    </a:lnTo>
                    <a:lnTo>
                      <a:pt x="104" y="18"/>
                    </a:lnTo>
                    <a:lnTo>
                      <a:pt x="28" y="0"/>
                    </a:lnTo>
                    <a:lnTo>
                      <a:pt x="17" y="3"/>
                    </a:lnTo>
                    <a:lnTo>
                      <a:pt x="3" y="19"/>
                    </a:lnTo>
                    <a:lnTo>
                      <a:pt x="0" y="36"/>
                    </a:lnTo>
                    <a:lnTo>
                      <a:pt x="92" y="6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7291080" y="5515200"/>
                <a:ext cx="77760" cy="331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98" y="17"/>
                    </a:moveTo>
                    <a:lnTo>
                      <a:pt x="19" y="0"/>
                    </a:lnTo>
                    <a:lnTo>
                      <a:pt x="0" y="20"/>
                    </a:lnTo>
                    <a:lnTo>
                      <a:pt x="82" y="41"/>
                    </a:lnTo>
                    <a:lnTo>
                      <a:pt x="98" y="17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7301880" y="5538960"/>
                <a:ext cx="98280" cy="50760"/>
              </a:xfrm>
              <a:custGeom>
                <a:avLst/>
                <a:gdLst/>
                <a:ahLst/>
                <a:rect l="l" t="t" r="r" b="b"/>
                <a:pathLst>
                  <a:path w="123" h="65">
                    <a:moveTo>
                      <a:pt x="103" y="65"/>
                    </a:moveTo>
                    <a:lnTo>
                      <a:pt x="123" y="38"/>
                    </a:lnTo>
                    <a:lnTo>
                      <a:pt x="114" y="22"/>
                    </a:lnTo>
                    <a:lnTo>
                      <a:pt x="28" y="0"/>
                    </a:lnTo>
                    <a:lnTo>
                      <a:pt x="16" y="3"/>
                    </a:lnTo>
                    <a:lnTo>
                      <a:pt x="2" y="19"/>
                    </a:lnTo>
                    <a:lnTo>
                      <a:pt x="0" y="36"/>
                    </a:lnTo>
                    <a:lnTo>
                      <a:pt x="103" y="65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7309800" y="5540400"/>
                <a:ext cx="88920" cy="36720"/>
              </a:xfrm>
              <a:custGeom>
                <a:avLst/>
                <a:gdLst/>
                <a:ahLst/>
                <a:rect l="l" t="t" r="r" b="b"/>
                <a:pathLst>
                  <a:path w="112" h="46">
                    <a:moveTo>
                      <a:pt x="112" y="23"/>
                    </a:moveTo>
                    <a:lnTo>
                      <a:pt x="19" y="0"/>
                    </a:lnTo>
                    <a:lnTo>
                      <a:pt x="0" y="21"/>
                    </a:lnTo>
                    <a:lnTo>
                      <a:pt x="95" y="46"/>
                    </a:lnTo>
                    <a:lnTo>
                      <a:pt x="112" y="2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7325640" y="5562720"/>
                <a:ext cx="112680" cy="58680"/>
              </a:xfrm>
              <a:custGeom>
                <a:avLst/>
                <a:gdLst/>
                <a:ahLst/>
                <a:rect l="l" t="t" r="r" b="b"/>
                <a:pathLst>
                  <a:path w="143" h="74">
                    <a:moveTo>
                      <a:pt x="123" y="74"/>
                    </a:moveTo>
                    <a:lnTo>
                      <a:pt x="143" y="44"/>
                    </a:lnTo>
                    <a:lnTo>
                      <a:pt x="134" y="27"/>
                    </a:lnTo>
                    <a:lnTo>
                      <a:pt x="31" y="0"/>
                    </a:lnTo>
                    <a:lnTo>
                      <a:pt x="17" y="3"/>
                    </a:lnTo>
                    <a:lnTo>
                      <a:pt x="2" y="20"/>
                    </a:lnTo>
                    <a:lnTo>
                      <a:pt x="0" y="38"/>
                    </a:lnTo>
                    <a:lnTo>
                      <a:pt x="123" y="74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7333560" y="5564520"/>
                <a:ext cx="103320" cy="41040"/>
              </a:xfrm>
              <a:custGeom>
                <a:avLst/>
                <a:gdLst/>
                <a:ahLst/>
                <a:rect l="l" t="t" r="r" b="b"/>
                <a:pathLst>
                  <a:path w="131" h="52">
                    <a:moveTo>
                      <a:pt x="131" y="27"/>
                    </a:moveTo>
                    <a:lnTo>
                      <a:pt x="23" y="0"/>
                    </a:lnTo>
                    <a:lnTo>
                      <a:pt x="0" y="23"/>
                    </a:lnTo>
                    <a:lnTo>
                      <a:pt x="111" y="52"/>
                    </a:lnTo>
                    <a:lnTo>
                      <a:pt x="131" y="27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7430760" y="5408640"/>
                <a:ext cx="39600" cy="25560"/>
              </a:xfrm>
              <a:custGeom>
                <a:avLst/>
                <a:gdLst/>
                <a:ahLst/>
                <a:rect l="l" t="t" r="r" b="b"/>
                <a:pathLst>
                  <a:path w="50" h="31">
                    <a:moveTo>
                      <a:pt x="41" y="31"/>
                    </a:moveTo>
                    <a:lnTo>
                      <a:pt x="50" y="18"/>
                    </a:lnTo>
                    <a:lnTo>
                      <a:pt x="46" y="8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41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7433640" y="540864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46" y="10"/>
                    </a:moveTo>
                    <a:lnTo>
                      <a:pt x="10" y="0"/>
                    </a:lnTo>
                    <a:lnTo>
                      <a:pt x="0" y="10"/>
                    </a:lnTo>
                    <a:lnTo>
                      <a:pt x="38" y="22"/>
                    </a:lnTo>
                    <a:lnTo>
                      <a:pt x="46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7394400" y="541656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51" h="33">
                    <a:moveTo>
                      <a:pt x="41" y="33"/>
                    </a:moveTo>
                    <a:lnTo>
                      <a:pt x="51" y="19"/>
                    </a:lnTo>
                    <a:lnTo>
                      <a:pt x="48" y="11"/>
                    </a:lnTo>
                    <a:lnTo>
                      <a:pt x="13" y="0"/>
                    </a:lnTo>
                    <a:lnTo>
                      <a:pt x="8" y="4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7398720" y="541836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46" h="21">
                    <a:moveTo>
                      <a:pt x="46" y="9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38" y="21"/>
                    </a:lnTo>
                    <a:lnTo>
                      <a:pt x="46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7354440" y="5426280"/>
                <a:ext cx="46080" cy="2520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48" y="31"/>
                    </a:moveTo>
                    <a:lnTo>
                      <a:pt x="58" y="17"/>
                    </a:lnTo>
                    <a:lnTo>
                      <a:pt x="55" y="9"/>
                    </a:lnTo>
                    <a:lnTo>
                      <a:pt x="15" y="0"/>
                    </a:lnTo>
                    <a:lnTo>
                      <a:pt x="9" y="1"/>
                    </a:lnTo>
                    <a:lnTo>
                      <a:pt x="2" y="9"/>
                    </a:lnTo>
                    <a:lnTo>
                      <a:pt x="0" y="19"/>
                    </a:lnTo>
                    <a:lnTo>
                      <a:pt x="48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7357320" y="5427720"/>
                <a:ext cx="41400" cy="17640"/>
              </a:xfrm>
              <a:custGeom>
                <a:avLst/>
                <a:gdLst/>
                <a:ahLst/>
                <a:rect l="l" t="t" r="r" b="b"/>
                <a:pathLst>
                  <a:path w="51" h="21">
                    <a:moveTo>
                      <a:pt x="51" y="9"/>
                    </a:moveTo>
                    <a:lnTo>
                      <a:pt x="10" y="0"/>
                    </a:lnTo>
                    <a:lnTo>
                      <a:pt x="0" y="10"/>
                    </a:lnTo>
                    <a:lnTo>
                      <a:pt x="43" y="21"/>
                    </a:lnTo>
                    <a:lnTo>
                      <a:pt x="51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7478280" y="5415120"/>
                <a:ext cx="46080" cy="237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47" y="31"/>
                    </a:moveTo>
                    <a:lnTo>
                      <a:pt x="58" y="17"/>
                    </a:lnTo>
                    <a:lnTo>
                      <a:pt x="55" y="1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1" y="11"/>
                    </a:lnTo>
                    <a:lnTo>
                      <a:pt x="0" y="19"/>
                    </a:lnTo>
                    <a:lnTo>
                      <a:pt x="47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7481160" y="5415120"/>
                <a:ext cx="41400" cy="15840"/>
              </a:xfrm>
              <a:custGeom>
                <a:avLst/>
                <a:gdLst/>
                <a:ahLst/>
                <a:rect l="l" t="t" r="r" b="b"/>
                <a:pathLst>
                  <a:path w="53" h="22">
                    <a:moveTo>
                      <a:pt x="53" y="11"/>
                    </a:moveTo>
                    <a:lnTo>
                      <a:pt x="10" y="0"/>
                    </a:lnTo>
                    <a:lnTo>
                      <a:pt x="0" y="12"/>
                    </a:lnTo>
                    <a:lnTo>
                      <a:pt x="43" y="22"/>
                    </a:lnTo>
                    <a:lnTo>
                      <a:pt x="53" y="11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7437240" y="5424480"/>
                <a:ext cx="47520" cy="2412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48" y="31"/>
                    </a:moveTo>
                    <a:lnTo>
                      <a:pt x="58" y="17"/>
                    </a:lnTo>
                    <a:lnTo>
                      <a:pt x="55" y="9"/>
                    </a:lnTo>
                    <a:lnTo>
                      <a:pt x="15" y="0"/>
                    </a:lnTo>
                    <a:lnTo>
                      <a:pt x="9" y="1"/>
                    </a:lnTo>
                    <a:lnTo>
                      <a:pt x="2" y="9"/>
                    </a:lnTo>
                    <a:lnTo>
                      <a:pt x="0" y="19"/>
                    </a:lnTo>
                    <a:lnTo>
                      <a:pt x="48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7440120" y="5424480"/>
                <a:ext cx="43200" cy="17640"/>
              </a:xfrm>
              <a:custGeom>
                <a:avLst/>
                <a:gdLst/>
                <a:ahLst/>
                <a:rect l="l" t="t" r="r" b="b"/>
                <a:pathLst>
                  <a:path w="52" h="21">
                    <a:moveTo>
                      <a:pt x="52" y="9"/>
                    </a:moveTo>
                    <a:lnTo>
                      <a:pt x="10" y="0"/>
                    </a:lnTo>
                    <a:lnTo>
                      <a:pt x="0" y="10"/>
                    </a:lnTo>
                    <a:lnTo>
                      <a:pt x="43" y="21"/>
                    </a:lnTo>
                    <a:lnTo>
                      <a:pt x="52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7399080" y="543420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9" h="33">
                    <a:moveTo>
                      <a:pt x="48" y="33"/>
                    </a:moveTo>
                    <a:lnTo>
                      <a:pt x="59" y="19"/>
                    </a:lnTo>
                    <a:lnTo>
                      <a:pt x="54" y="10"/>
                    </a:lnTo>
                    <a:lnTo>
                      <a:pt x="15" y="0"/>
                    </a:lnTo>
                    <a:lnTo>
                      <a:pt x="9" y="2"/>
                    </a:lnTo>
                    <a:lnTo>
                      <a:pt x="2" y="11"/>
                    </a:lnTo>
                    <a:lnTo>
                      <a:pt x="0" y="20"/>
                    </a:lnTo>
                    <a:lnTo>
                      <a:pt x="48" y="33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7402320" y="54356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51" y="10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42" y="22"/>
                    </a:lnTo>
                    <a:lnTo>
                      <a:pt x="51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7360920" y="5443560"/>
                <a:ext cx="46080" cy="25560"/>
              </a:xfrm>
              <a:custGeom>
                <a:avLst/>
                <a:gdLst/>
                <a:ahLst/>
                <a:rect l="l" t="t" r="r" b="b"/>
                <a:pathLst>
                  <a:path w="59" h="32">
                    <a:moveTo>
                      <a:pt x="49" y="32"/>
                    </a:moveTo>
                    <a:lnTo>
                      <a:pt x="59" y="18"/>
                    </a:lnTo>
                    <a:lnTo>
                      <a:pt x="56" y="11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3" y="11"/>
                    </a:lnTo>
                    <a:lnTo>
                      <a:pt x="0" y="20"/>
                    </a:lnTo>
                    <a:lnTo>
                      <a:pt x="49" y="3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7364160" y="544356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51" y="10"/>
                    </a:moveTo>
                    <a:lnTo>
                      <a:pt x="11" y="0"/>
                    </a:lnTo>
                    <a:lnTo>
                      <a:pt x="0" y="12"/>
                    </a:lnTo>
                    <a:lnTo>
                      <a:pt x="43" y="22"/>
                    </a:lnTo>
                    <a:lnTo>
                      <a:pt x="51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7773120" y="531972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42" y="32"/>
                    </a:moveTo>
                    <a:lnTo>
                      <a:pt x="52" y="18"/>
                    </a:lnTo>
                    <a:lnTo>
                      <a:pt x="49" y="9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1" y="10"/>
                    </a:lnTo>
                    <a:lnTo>
                      <a:pt x="0" y="19"/>
                    </a:ln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7778160" y="532152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46" h="21">
                    <a:moveTo>
                      <a:pt x="46" y="9"/>
                    </a:moveTo>
                    <a:lnTo>
                      <a:pt x="10" y="0"/>
                    </a:lnTo>
                    <a:lnTo>
                      <a:pt x="0" y="10"/>
                    </a:lnTo>
                    <a:lnTo>
                      <a:pt x="38" y="21"/>
                    </a:lnTo>
                    <a:lnTo>
                      <a:pt x="46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7787880" y="5334120"/>
                <a:ext cx="39600" cy="25560"/>
              </a:xfrm>
              <a:custGeom>
                <a:avLst/>
                <a:gdLst/>
                <a:ahLst/>
                <a:rect l="l" t="t" r="r" b="b"/>
                <a:pathLst>
                  <a:path w="51" h="31">
                    <a:moveTo>
                      <a:pt x="42" y="31"/>
                    </a:moveTo>
                    <a:lnTo>
                      <a:pt x="51" y="18"/>
                    </a:lnTo>
                    <a:lnTo>
                      <a:pt x="48" y="10"/>
                    </a:lnTo>
                    <a:lnTo>
                      <a:pt x="13" y="0"/>
                    </a:lnTo>
                    <a:lnTo>
                      <a:pt x="7" y="3"/>
                    </a:lnTo>
                    <a:lnTo>
                      <a:pt x="1" y="10"/>
                    </a:lnTo>
                    <a:lnTo>
                      <a:pt x="0" y="19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7789320" y="53359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7" y="9"/>
                    </a:moveTo>
                    <a:lnTo>
                      <a:pt x="9" y="0"/>
                    </a:lnTo>
                    <a:lnTo>
                      <a:pt x="0" y="12"/>
                    </a:lnTo>
                    <a:lnTo>
                      <a:pt x="38" y="21"/>
                    </a:lnTo>
                    <a:lnTo>
                      <a:pt x="47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7751520" y="534528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51" h="31">
                    <a:moveTo>
                      <a:pt x="44" y="31"/>
                    </a:moveTo>
                    <a:lnTo>
                      <a:pt x="51" y="16"/>
                    </a:lnTo>
                    <a:lnTo>
                      <a:pt x="48" y="8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2" y="9"/>
                    </a:lnTo>
                    <a:lnTo>
                      <a:pt x="0" y="18"/>
                    </a:lnTo>
                    <a:lnTo>
                      <a:pt x="44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7754400" y="534528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45" y="9"/>
                    </a:moveTo>
                    <a:lnTo>
                      <a:pt x="7" y="0"/>
                    </a:lnTo>
                    <a:lnTo>
                      <a:pt x="0" y="11"/>
                    </a:lnTo>
                    <a:lnTo>
                      <a:pt x="37" y="22"/>
                    </a:lnTo>
                    <a:lnTo>
                      <a:pt x="45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7710120" y="5353200"/>
                <a:ext cx="46080" cy="25560"/>
              </a:xfrm>
              <a:custGeom>
                <a:avLst/>
                <a:gdLst/>
                <a:ahLst/>
                <a:rect l="l" t="t" r="r" b="b"/>
                <a:pathLst>
                  <a:path w="57" h="32">
                    <a:moveTo>
                      <a:pt x="47" y="32"/>
                    </a:moveTo>
                    <a:lnTo>
                      <a:pt x="57" y="19"/>
                    </a:lnTo>
                    <a:lnTo>
                      <a:pt x="53" y="8"/>
                    </a:lnTo>
                    <a:lnTo>
                      <a:pt x="14" y="0"/>
                    </a:lnTo>
                    <a:lnTo>
                      <a:pt x="7" y="2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47" y="3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7714440" y="5354640"/>
                <a:ext cx="41400" cy="16200"/>
              </a:xfrm>
              <a:custGeom>
                <a:avLst/>
                <a:gdLst/>
                <a:ahLst/>
                <a:rect l="l" t="t" r="r" b="b"/>
                <a:pathLst>
                  <a:path w="52" h="22">
                    <a:moveTo>
                      <a:pt x="52" y="10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43" y="22"/>
                    </a:lnTo>
                    <a:lnTo>
                      <a:pt x="52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7671960" y="5362560"/>
                <a:ext cx="46080" cy="24120"/>
              </a:xfrm>
              <a:custGeom>
                <a:avLst/>
                <a:gdLst/>
                <a:ahLst/>
                <a:rect l="l" t="t" r="r" b="b"/>
                <a:pathLst>
                  <a:path w="58" h="30">
                    <a:moveTo>
                      <a:pt x="49" y="30"/>
                    </a:moveTo>
                    <a:lnTo>
                      <a:pt x="58" y="16"/>
                    </a:lnTo>
                    <a:lnTo>
                      <a:pt x="54" y="8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49" y="30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7674840" y="5362560"/>
                <a:ext cx="42840" cy="17640"/>
              </a:xfrm>
              <a:custGeom>
                <a:avLst/>
                <a:gdLst/>
                <a:ahLst/>
                <a:rect l="l" t="t" r="r" b="b"/>
                <a:pathLst>
                  <a:path w="54" h="21">
                    <a:moveTo>
                      <a:pt x="54" y="10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44" y="21"/>
                    </a:lnTo>
                    <a:lnTo>
                      <a:pt x="54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629120" y="5373720"/>
                <a:ext cx="39600" cy="25560"/>
              </a:xfrm>
              <a:custGeom>
                <a:avLst/>
                <a:gdLst/>
                <a:ahLst/>
                <a:rect l="l" t="t" r="r" b="b"/>
                <a:pathLst>
                  <a:path w="49" h="33">
                    <a:moveTo>
                      <a:pt x="41" y="33"/>
                    </a:moveTo>
                    <a:lnTo>
                      <a:pt x="49" y="18"/>
                    </a:lnTo>
                    <a:lnTo>
                      <a:pt x="46" y="10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0" y="11"/>
                    </a:lnTo>
                    <a:lnTo>
                      <a:pt x="0" y="20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7632000" y="537552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45" y="9"/>
                    </a:moveTo>
                    <a:lnTo>
                      <a:pt x="10" y="0"/>
                    </a:lnTo>
                    <a:lnTo>
                      <a:pt x="0" y="10"/>
                    </a:lnTo>
                    <a:lnTo>
                      <a:pt x="38" y="21"/>
                    </a:lnTo>
                    <a:lnTo>
                      <a:pt x="45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7594200" y="5383440"/>
                <a:ext cx="39600" cy="25200"/>
              </a:xfrm>
              <a:custGeom>
                <a:avLst/>
                <a:gdLst/>
                <a:ahLst/>
                <a:rect l="l" t="t" r="r" b="b"/>
                <a:pathLst>
                  <a:path w="51" h="32">
                    <a:moveTo>
                      <a:pt x="42" y="32"/>
                    </a:moveTo>
                    <a:lnTo>
                      <a:pt x="51" y="18"/>
                    </a:lnTo>
                    <a:lnTo>
                      <a:pt x="46" y="10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1" y="11"/>
                    </a:lnTo>
                    <a:lnTo>
                      <a:pt x="0" y="20"/>
                    </a:ln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7597080" y="538344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44" y="11"/>
                    </a:moveTo>
                    <a:lnTo>
                      <a:pt x="7" y="0"/>
                    </a:lnTo>
                    <a:lnTo>
                      <a:pt x="0" y="12"/>
                    </a:lnTo>
                    <a:lnTo>
                      <a:pt x="37" y="23"/>
                    </a:ln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7552800" y="5391360"/>
                <a:ext cx="45720" cy="2520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48" y="31"/>
                    </a:moveTo>
                    <a:lnTo>
                      <a:pt x="58" y="18"/>
                    </a:lnTo>
                    <a:lnTo>
                      <a:pt x="54" y="10"/>
                    </a:lnTo>
                    <a:lnTo>
                      <a:pt x="15" y="0"/>
                    </a:lnTo>
                    <a:lnTo>
                      <a:pt x="8" y="2"/>
                    </a:lnTo>
                    <a:lnTo>
                      <a:pt x="1" y="10"/>
                    </a:lnTo>
                    <a:lnTo>
                      <a:pt x="0" y="19"/>
                    </a:lnTo>
                    <a:lnTo>
                      <a:pt x="48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7557840" y="5392800"/>
                <a:ext cx="41040" cy="17640"/>
              </a:xfrm>
              <a:custGeom>
                <a:avLst/>
                <a:gdLst/>
                <a:ahLst/>
                <a:rect l="l" t="t" r="r" b="b"/>
                <a:pathLst>
                  <a:path w="52" h="21">
                    <a:moveTo>
                      <a:pt x="52" y="1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44" y="21"/>
                    </a:lnTo>
                    <a:lnTo>
                      <a:pt x="52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7524000" y="540072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51" h="31">
                    <a:moveTo>
                      <a:pt x="42" y="31"/>
                    </a:moveTo>
                    <a:lnTo>
                      <a:pt x="51" y="16"/>
                    </a:lnTo>
                    <a:lnTo>
                      <a:pt x="47" y="9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1" y="9"/>
                    </a:lnTo>
                    <a:lnTo>
                      <a:pt x="0" y="19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7527240" y="54007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45" y="10"/>
                    </a:moveTo>
                    <a:lnTo>
                      <a:pt x="9" y="0"/>
                    </a:lnTo>
                    <a:lnTo>
                      <a:pt x="0" y="11"/>
                    </a:lnTo>
                    <a:lnTo>
                      <a:pt x="38" y="2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7368840" y="5600880"/>
                <a:ext cx="52560" cy="39600"/>
              </a:xfrm>
              <a:custGeom>
                <a:avLst/>
                <a:gdLst/>
                <a:ahLst/>
                <a:rect l="l" t="t" r="r" b="b"/>
                <a:pathLst>
                  <a:path w="67" h="50">
                    <a:moveTo>
                      <a:pt x="51" y="46"/>
                    </a:moveTo>
                    <a:lnTo>
                      <a:pt x="67" y="18"/>
                    </a:lnTo>
                    <a:lnTo>
                      <a:pt x="61" y="7"/>
                    </a:lnTo>
                    <a:lnTo>
                      <a:pt x="28" y="0"/>
                    </a:lnTo>
                    <a:lnTo>
                      <a:pt x="15" y="3"/>
                    </a:lnTo>
                    <a:lnTo>
                      <a:pt x="2" y="20"/>
                    </a:lnTo>
                    <a:lnTo>
                      <a:pt x="0" y="36"/>
                    </a:lnTo>
                    <a:lnTo>
                      <a:pt x="50" y="50"/>
                    </a:lnTo>
                    <a:lnTo>
                      <a:pt x="51" y="4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5320" y="5600880"/>
                <a:ext cx="46080" cy="28440"/>
              </a:xfrm>
              <a:custGeom>
                <a:avLst/>
                <a:gdLst/>
                <a:ahLst/>
                <a:rect l="l" t="t" r="r" b="b"/>
                <a:pathLst>
                  <a:path w="57" h="36">
                    <a:moveTo>
                      <a:pt x="41" y="33"/>
                    </a:moveTo>
                    <a:lnTo>
                      <a:pt x="57" y="9"/>
                    </a:lnTo>
                    <a:lnTo>
                      <a:pt x="21" y="0"/>
                    </a:lnTo>
                    <a:lnTo>
                      <a:pt x="0" y="24"/>
                    </a:lnTo>
                    <a:lnTo>
                      <a:pt x="37" y="36"/>
                    </a:lnTo>
                    <a:lnTo>
                      <a:pt x="41" y="3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7414920" y="5543640"/>
                <a:ext cx="628560" cy="247680"/>
              </a:xfrm>
              <a:custGeom>
                <a:avLst/>
                <a:gdLst/>
                <a:ahLst/>
                <a:rect l="l" t="t" r="r" b="b"/>
                <a:pathLst>
                  <a:path w="792" h="313">
                    <a:moveTo>
                      <a:pt x="0" y="5"/>
                    </a:moveTo>
                    <a:lnTo>
                      <a:pt x="5" y="66"/>
                    </a:lnTo>
                    <a:lnTo>
                      <a:pt x="9" y="73"/>
                    </a:lnTo>
                    <a:lnTo>
                      <a:pt x="792" y="313"/>
                    </a:lnTo>
                    <a:lnTo>
                      <a:pt x="792" y="233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7829280" y="5569200"/>
                <a:ext cx="203040" cy="73080"/>
              </a:xfrm>
              <a:custGeom>
                <a:avLst/>
                <a:gdLst/>
                <a:ahLst/>
                <a:rect l="l" t="t" r="r" b="b"/>
                <a:pathLst>
                  <a:path w="255" h="92">
                    <a:moveTo>
                      <a:pt x="254" y="76"/>
                    </a:moveTo>
                    <a:lnTo>
                      <a:pt x="155" y="46"/>
                    </a:lnTo>
                    <a:lnTo>
                      <a:pt x="155" y="36"/>
                    </a:lnTo>
                    <a:lnTo>
                      <a:pt x="66" y="5"/>
                    </a:lnTo>
                    <a:lnTo>
                      <a:pt x="66" y="19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62" y="33"/>
                    </a:lnTo>
                    <a:lnTo>
                      <a:pt x="62" y="43"/>
                    </a:lnTo>
                    <a:lnTo>
                      <a:pt x="159" y="73"/>
                    </a:lnTo>
                    <a:lnTo>
                      <a:pt x="159" y="64"/>
                    </a:lnTo>
                    <a:lnTo>
                      <a:pt x="255" y="92"/>
                    </a:lnTo>
                    <a:lnTo>
                      <a:pt x="255" y="76"/>
                    </a:lnTo>
                    <a:lnTo>
                      <a:pt x="254" y="7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7117560" y="5470560"/>
                <a:ext cx="298440" cy="320760"/>
              </a:xfrm>
              <a:custGeom>
                <a:avLst/>
                <a:gdLst/>
                <a:ahLst/>
                <a:rect l="l" t="t" r="r" b="b"/>
                <a:pathLst>
                  <a:path w="377" h="404">
                    <a:moveTo>
                      <a:pt x="377" y="84"/>
                    </a:moveTo>
                    <a:lnTo>
                      <a:pt x="0" y="404"/>
                    </a:lnTo>
                    <a:lnTo>
                      <a:pt x="1" y="324"/>
                    </a:lnTo>
                    <a:lnTo>
                      <a:pt x="377" y="0"/>
                    </a:lnTo>
                    <a:lnTo>
                      <a:pt x="377" y="84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7368480" y="5705640"/>
                <a:ext cx="28440" cy="41400"/>
              </a:xfrm>
              <a:custGeom>
                <a:avLst/>
                <a:gdLst/>
                <a:ahLst/>
                <a:rect l="l" t="t" r="r" b="b"/>
                <a:pathLst>
                  <a:path w="37" h="51">
                    <a:moveTo>
                      <a:pt x="34" y="0"/>
                    </a:moveTo>
                    <a:lnTo>
                      <a:pt x="37" y="3"/>
                    </a:lnTo>
                    <a:lnTo>
                      <a:pt x="37" y="29"/>
                    </a:lnTo>
                    <a:lnTo>
                      <a:pt x="33" y="33"/>
                    </a:lnTo>
                    <a:lnTo>
                      <a:pt x="33" y="38"/>
                    </a:lnTo>
                    <a:lnTo>
                      <a:pt x="22" y="45"/>
                    </a:lnTo>
                    <a:lnTo>
                      <a:pt x="15" y="45"/>
                    </a:lnTo>
                    <a:lnTo>
                      <a:pt x="2" y="51"/>
                    </a:lnTo>
                    <a:lnTo>
                      <a:pt x="0" y="2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7327080" y="5669280"/>
                <a:ext cx="11160" cy="31680"/>
              </a:xfrm>
              <a:custGeom>
                <a:avLst/>
                <a:gdLst/>
                <a:ahLst/>
                <a:rect l="l" t="t" r="r" b="b"/>
                <a:pathLst>
                  <a:path w="12" h="40">
                    <a:moveTo>
                      <a:pt x="10" y="0"/>
                    </a:moveTo>
                    <a:lnTo>
                      <a:pt x="0" y="10"/>
                    </a:lnTo>
                    <a:lnTo>
                      <a:pt x="2" y="40"/>
                    </a:lnTo>
                    <a:lnTo>
                      <a:pt x="12" y="3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7252560" y="5600880"/>
                <a:ext cx="12600" cy="36360"/>
              </a:xfrm>
              <a:custGeom>
                <a:avLst/>
                <a:gdLst/>
                <a:ahLst/>
                <a:rect l="l" t="t" r="r" b="b"/>
                <a:pathLst>
                  <a:path w="17" h="46">
                    <a:moveTo>
                      <a:pt x="17" y="0"/>
                    </a:moveTo>
                    <a:lnTo>
                      <a:pt x="17" y="32"/>
                    </a:lnTo>
                    <a:lnTo>
                      <a:pt x="0" y="46"/>
                    </a:lnTo>
                    <a:lnTo>
                      <a:pt x="0" y="13"/>
                    </a:lnTo>
                    <a:lnTo>
                      <a:pt x="17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7149240" y="5507280"/>
                <a:ext cx="93960" cy="101520"/>
              </a:xfrm>
              <a:custGeom>
                <a:avLst/>
                <a:gdLst/>
                <a:ahLst/>
                <a:rect l="l" t="t" r="r" b="b"/>
                <a:pathLst>
                  <a:path w="120" h="126">
                    <a:moveTo>
                      <a:pt x="120" y="0"/>
                    </a:moveTo>
                    <a:lnTo>
                      <a:pt x="0" y="104"/>
                    </a:lnTo>
                    <a:lnTo>
                      <a:pt x="0" y="126"/>
                    </a:lnTo>
                    <a:lnTo>
                      <a:pt x="119" y="29"/>
                    </a:lnTo>
                    <a:lnTo>
                      <a:pt x="118" y="2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464646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7149240" y="5529600"/>
                <a:ext cx="93960" cy="99720"/>
              </a:xfrm>
              <a:custGeom>
                <a:avLst/>
                <a:gdLst/>
                <a:ahLst/>
                <a:rect l="l" t="t" r="r" b="b"/>
                <a:pathLst>
                  <a:path w="120" h="127">
                    <a:moveTo>
                      <a:pt x="120" y="0"/>
                    </a:moveTo>
                    <a:lnTo>
                      <a:pt x="0" y="104"/>
                    </a:lnTo>
                    <a:lnTo>
                      <a:pt x="0" y="127"/>
                    </a:lnTo>
                    <a:lnTo>
                      <a:pt x="119" y="30"/>
                    </a:lnTo>
                    <a:lnTo>
                      <a:pt x="118" y="3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464646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7130880" y="5507280"/>
                <a:ext cx="7920" cy="19080"/>
              </a:xfrm>
              <a:prstGeom prst="ellipse">
                <a:avLst/>
              </a:prstGeom>
              <a:solidFill>
                <a:srgbClr val="464646"/>
              </a:solidFill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7354440" y="5480280"/>
                <a:ext cx="584280" cy="168120"/>
              </a:xfrm>
              <a:prstGeom prst="line">
                <a:avLst/>
              </a:prstGeom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7221240" y="54486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11" y="28"/>
                    </a:moveTo>
                    <a:lnTo>
                      <a:pt x="0" y="24"/>
                    </a:lnTo>
                    <a:lnTo>
                      <a:pt x="1" y="10"/>
                    </a:lnTo>
                    <a:lnTo>
                      <a:pt x="14" y="0"/>
                    </a:lnTo>
                    <a:lnTo>
                      <a:pt x="30" y="0"/>
                    </a:lnTo>
                    <a:lnTo>
                      <a:pt x="21" y="3"/>
                    </a:lnTo>
                    <a:lnTo>
                      <a:pt x="11" y="14"/>
                    </a:lnTo>
                    <a:lnTo>
                      <a:pt x="14" y="28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7205400" y="5448600"/>
                <a:ext cx="149040" cy="199800"/>
              </a:xfrm>
              <a:custGeom>
                <a:avLst/>
                <a:gdLst/>
                <a:ahLst/>
                <a:rect l="l" t="t" r="r" b="b"/>
                <a:pathLst>
                  <a:path w="188" h="252">
                    <a:moveTo>
                      <a:pt x="188" y="21"/>
                    </a:moveTo>
                    <a:lnTo>
                      <a:pt x="47" y="214"/>
                    </a:lnTo>
                    <a:lnTo>
                      <a:pt x="0" y="252"/>
                    </a:lnTo>
                    <a:lnTo>
                      <a:pt x="153" y="38"/>
                    </a:lnTo>
                    <a:lnTo>
                      <a:pt x="153" y="12"/>
                    </a:lnTo>
                    <a:lnTo>
                      <a:pt x="163" y="0"/>
                    </a:lnTo>
                    <a:lnTo>
                      <a:pt x="177" y="3"/>
                    </a:lnTo>
                    <a:lnTo>
                      <a:pt x="188" y="17"/>
                    </a:lnTo>
                    <a:lnTo>
                      <a:pt x="188" y="21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7310160" y="5438880"/>
                <a:ext cx="41040" cy="25560"/>
              </a:xfrm>
              <a:custGeom>
                <a:avLst/>
                <a:gdLst/>
                <a:ahLst/>
                <a:rect l="l" t="t" r="r" b="b"/>
                <a:pathLst>
                  <a:path w="52" h="31">
                    <a:moveTo>
                      <a:pt x="43" y="31"/>
                    </a:moveTo>
                    <a:lnTo>
                      <a:pt x="52" y="18"/>
                    </a:lnTo>
                    <a:lnTo>
                      <a:pt x="48" y="8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1" y="11"/>
                    </a:lnTo>
                    <a:lnTo>
                      <a:pt x="0" y="19"/>
                    </a:lnTo>
                    <a:lnTo>
                      <a:pt x="43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7313040" y="544068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46" h="21">
                    <a:moveTo>
                      <a:pt x="46" y="10"/>
                    </a:moveTo>
                    <a:lnTo>
                      <a:pt x="10" y="0"/>
                    </a:lnTo>
                    <a:lnTo>
                      <a:pt x="0" y="12"/>
                    </a:lnTo>
                    <a:lnTo>
                      <a:pt x="38" y="21"/>
                    </a:lnTo>
                    <a:lnTo>
                      <a:pt x="46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7273080" y="5448600"/>
                <a:ext cx="41400" cy="25200"/>
              </a:xfrm>
              <a:custGeom>
                <a:avLst/>
                <a:gdLst/>
                <a:ahLst/>
                <a:rect l="l" t="t" r="r" b="b"/>
                <a:pathLst>
                  <a:path w="50" h="31">
                    <a:moveTo>
                      <a:pt x="42" y="31"/>
                    </a:moveTo>
                    <a:lnTo>
                      <a:pt x="50" y="17"/>
                    </a:lnTo>
                    <a:lnTo>
                      <a:pt x="46" y="9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1" y="9"/>
                    </a:lnTo>
                    <a:lnTo>
                      <a:pt x="0" y="18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7278120" y="544860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45" y="10"/>
                    </a:moveTo>
                    <a:lnTo>
                      <a:pt x="9" y="0"/>
                    </a:lnTo>
                    <a:lnTo>
                      <a:pt x="0" y="11"/>
                    </a:lnTo>
                    <a:lnTo>
                      <a:pt x="38" y="21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7233840" y="5456520"/>
                <a:ext cx="46080" cy="25200"/>
              </a:xfrm>
              <a:custGeom>
                <a:avLst/>
                <a:gdLst/>
                <a:ahLst/>
                <a:rect l="l" t="t" r="r" b="b"/>
                <a:pathLst>
                  <a:path w="59" h="31">
                    <a:moveTo>
                      <a:pt x="47" y="31"/>
                    </a:moveTo>
                    <a:lnTo>
                      <a:pt x="59" y="18"/>
                    </a:lnTo>
                    <a:lnTo>
                      <a:pt x="53" y="9"/>
                    </a:lnTo>
                    <a:lnTo>
                      <a:pt x="14" y="0"/>
                    </a:lnTo>
                    <a:lnTo>
                      <a:pt x="7" y="2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47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7238160" y="5457960"/>
                <a:ext cx="41400" cy="15840"/>
              </a:xfrm>
              <a:custGeom>
                <a:avLst/>
                <a:gdLst/>
                <a:ahLst/>
                <a:rect l="l" t="t" r="r" b="b"/>
                <a:pathLst>
                  <a:path w="51" h="20">
                    <a:moveTo>
                      <a:pt x="51" y="10"/>
                    </a:moveTo>
                    <a:lnTo>
                      <a:pt x="10" y="0"/>
                    </a:lnTo>
                    <a:lnTo>
                      <a:pt x="0" y="10"/>
                    </a:lnTo>
                    <a:lnTo>
                      <a:pt x="43" y="20"/>
                    </a:lnTo>
                    <a:lnTo>
                      <a:pt x="51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7321320" y="5456520"/>
                <a:ext cx="41040" cy="23760"/>
              </a:xfrm>
              <a:custGeom>
                <a:avLst/>
                <a:gdLst/>
                <a:ahLst/>
                <a:rect l="l" t="t" r="r" b="b"/>
                <a:pathLst>
                  <a:path w="51" h="31">
                    <a:moveTo>
                      <a:pt x="42" y="31"/>
                    </a:moveTo>
                    <a:lnTo>
                      <a:pt x="51" y="17"/>
                    </a:lnTo>
                    <a:lnTo>
                      <a:pt x="48" y="9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1" y="9"/>
                    </a:lnTo>
                    <a:lnTo>
                      <a:pt x="0" y="19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324200" y="54565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45" y="9"/>
                    </a:moveTo>
                    <a:lnTo>
                      <a:pt x="8" y="0"/>
                    </a:lnTo>
                    <a:lnTo>
                      <a:pt x="0" y="11"/>
                    </a:lnTo>
                    <a:lnTo>
                      <a:pt x="37" y="22"/>
                    </a:lnTo>
                    <a:lnTo>
                      <a:pt x="45" y="9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7286400" y="5465880"/>
                <a:ext cx="39600" cy="25560"/>
              </a:xfrm>
              <a:custGeom>
                <a:avLst/>
                <a:gdLst/>
                <a:ahLst/>
                <a:rect l="l" t="t" r="r" b="b"/>
                <a:pathLst>
                  <a:path w="51" h="31">
                    <a:moveTo>
                      <a:pt x="41" y="31"/>
                    </a:moveTo>
                    <a:lnTo>
                      <a:pt x="51" y="17"/>
                    </a:lnTo>
                    <a:lnTo>
                      <a:pt x="48" y="9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41" y="31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7289280" y="54658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47" y="1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38" y="2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7246440" y="547380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57" h="32">
                    <a:moveTo>
                      <a:pt x="48" y="32"/>
                    </a:moveTo>
                    <a:lnTo>
                      <a:pt x="57" y="19"/>
                    </a:lnTo>
                    <a:lnTo>
                      <a:pt x="54" y="10"/>
                    </a:lnTo>
                    <a:lnTo>
                      <a:pt x="15" y="0"/>
                    </a:lnTo>
                    <a:lnTo>
                      <a:pt x="8" y="3"/>
                    </a:lnTo>
                    <a:lnTo>
                      <a:pt x="1" y="10"/>
                    </a:lnTo>
                    <a:lnTo>
                      <a:pt x="0" y="20"/>
                    </a:lnTo>
                    <a:lnTo>
                      <a:pt x="48" y="32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7249320" y="5473800"/>
                <a:ext cx="41400" cy="1908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52" y="12"/>
                    </a:moveTo>
                    <a:lnTo>
                      <a:pt x="10" y="0"/>
                    </a:lnTo>
                    <a:lnTo>
                      <a:pt x="0" y="12"/>
                    </a:lnTo>
                    <a:lnTo>
                      <a:pt x="44" y="23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7138440" y="54579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4" y="0"/>
                    </a:moveTo>
                    <a:lnTo>
                      <a:pt x="35" y="9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30" y="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7157880" y="5469120"/>
                <a:ext cx="56880" cy="2376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62" y="13"/>
                    </a:moveTo>
                    <a:lnTo>
                      <a:pt x="11" y="0"/>
                    </a:lnTo>
                    <a:lnTo>
                      <a:pt x="0" y="15"/>
                    </a:lnTo>
                    <a:lnTo>
                      <a:pt x="63" y="30"/>
                    </a:lnTo>
                    <a:lnTo>
                      <a:pt x="72" y="23"/>
                    </a:lnTo>
                    <a:lnTo>
                      <a:pt x="65" y="21"/>
                    </a:lnTo>
                    <a:lnTo>
                      <a:pt x="61" y="13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350120" y="5648400"/>
                <a:ext cx="71640" cy="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7421760" y="5537160"/>
                <a:ext cx="59508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939080" y="5483520"/>
                <a:ext cx="81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7903800" y="5519880"/>
                <a:ext cx="77760" cy="34920"/>
              </a:xfrm>
              <a:custGeom>
                <a:avLst/>
                <a:gdLst/>
                <a:ahLst/>
                <a:rect l="l" t="t" r="r" b="b"/>
                <a:pathLst>
                  <a:path w="98" h="43">
                    <a:moveTo>
                      <a:pt x="41" y="0"/>
                    </a:moveTo>
                    <a:lnTo>
                      <a:pt x="98" y="16"/>
                    </a:lnTo>
                    <a:lnTo>
                      <a:pt x="61" y="43"/>
                    </a:lnTo>
                    <a:lnTo>
                      <a:pt x="0" y="26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6e6e6e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7587720" y="5588280"/>
                <a:ext cx="28440" cy="3492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35" y="0"/>
                    </a:moveTo>
                    <a:lnTo>
                      <a:pt x="36" y="12"/>
                    </a:lnTo>
                    <a:lnTo>
                      <a:pt x="1" y="44"/>
                    </a:lnTo>
                    <a:lnTo>
                      <a:pt x="0" y="33"/>
                    </a:lnTo>
                    <a:lnTo>
                      <a:pt x="36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7616520" y="5575320"/>
                <a:ext cx="139680" cy="47880"/>
              </a:xfrm>
              <a:custGeom>
                <a:avLst/>
                <a:gdLst/>
                <a:ahLst/>
                <a:rect l="l" t="t" r="r" b="b"/>
                <a:pathLst>
                  <a:path w="176" h="61">
                    <a:moveTo>
                      <a:pt x="175" y="50"/>
                    </a:moveTo>
                    <a:lnTo>
                      <a:pt x="0" y="0"/>
                    </a:lnTo>
                    <a:lnTo>
                      <a:pt x="1" y="9"/>
                    </a:lnTo>
                    <a:lnTo>
                      <a:pt x="176" y="61"/>
                    </a:lnTo>
                    <a:lnTo>
                      <a:pt x="176" y="48"/>
                    </a:lnTo>
                    <a:lnTo>
                      <a:pt x="175" y="5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592760" y="5570640"/>
                <a:ext cx="87120" cy="4140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109" y="21"/>
                    </a:moveTo>
                    <a:lnTo>
                      <a:pt x="110" y="21"/>
                    </a:lnTo>
                    <a:lnTo>
                      <a:pt x="79" y="51"/>
                    </a:lnTo>
                    <a:lnTo>
                      <a:pt x="0" y="30"/>
                    </a:lnTo>
                    <a:lnTo>
                      <a:pt x="36" y="0"/>
                    </a:lnTo>
                    <a:lnTo>
                      <a:pt x="106" y="19"/>
                    </a:lnTo>
                    <a:lnTo>
                      <a:pt x="109" y="21"/>
                    </a:lnTo>
                    <a:close/>
                  </a:path>
                </a:pathLst>
              </a:custGeom>
              <a:solidFill>
                <a:srgbClr val="5a5a5a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7659000" y="555156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113" h="52">
                    <a:moveTo>
                      <a:pt x="112" y="22"/>
                    </a:moveTo>
                    <a:lnTo>
                      <a:pt x="113" y="22"/>
                    </a:lnTo>
                    <a:lnTo>
                      <a:pt x="82" y="52"/>
                    </a:lnTo>
                    <a:lnTo>
                      <a:pt x="0" y="28"/>
                    </a:lnTo>
                    <a:lnTo>
                      <a:pt x="39" y="0"/>
                    </a:lnTo>
                    <a:lnTo>
                      <a:pt x="109" y="21"/>
                    </a:lnTo>
                    <a:lnTo>
                      <a:pt x="112" y="22"/>
                    </a:lnTo>
                    <a:close/>
                  </a:path>
                </a:pathLst>
              </a:custGeom>
              <a:solidFill>
                <a:srgbClr val="5a5a5a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7592760" y="5567400"/>
                <a:ext cx="85680" cy="41400"/>
              </a:xfrm>
              <a:custGeom>
                <a:avLst/>
                <a:gdLst/>
                <a:ahLst/>
                <a:rect l="l" t="t" r="r" b="b"/>
                <a:pathLst>
                  <a:path w="107" h="52">
                    <a:moveTo>
                      <a:pt x="106" y="21"/>
                    </a:moveTo>
                    <a:lnTo>
                      <a:pt x="107" y="21"/>
                    </a:lnTo>
                    <a:lnTo>
                      <a:pt x="74" y="52"/>
                    </a:lnTo>
                    <a:lnTo>
                      <a:pt x="0" y="30"/>
                    </a:lnTo>
                    <a:lnTo>
                      <a:pt x="33" y="0"/>
                    </a:lnTo>
                    <a:lnTo>
                      <a:pt x="103" y="19"/>
                    </a:lnTo>
                    <a:lnTo>
                      <a:pt x="106" y="2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7659000" y="554832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111" h="52">
                    <a:moveTo>
                      <a:pt x="111" y="22"/>
                    </a:moveTo>
                    <a:lnTo>
                      <a:pt x="79" y="52"/>
                    </a:lnTo>
                    <a:lnTo>
                      <a:pt x="0" y="29"/>
                    </a:lnTo>
                    <a:lnTo>
                      <a:pt x="37" y="0"/>
                    </a:lnTo>
                    <a:lnTo>
                      <a:pt x="107" y="21"/>
                    </a:lnTo>
                    <a:lnTo>
                      <a:pt x="111" y="22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7419600" y="5654880"/>
                <a:ext cx="85680" cy="44280"/>
              </a:xfrm>
              <a:custGeom>
                <a:avLst/>
                <a:gdLst/>
                <a:ahLst/>
                <a:rect l="l" t="t" r="r" b="b"/>
                <a:pathLst>
                  <a:path w="109" h="56">
                    <a:moveTo>
                      <a:pt x="39" y="0"/>
                    </a:moveTo>
                    <a:lnTo>
                      <a:pt x="109" y="21"/>
                    </a:lnTo>
                    <a:lnTo>
                      <a:pt x="73" y="56"/>
                    </a:lnTo>
                    <a:lnTo>
                      <a:pt x="0" y="3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e6e6e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7438320" y="561672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0" y="16"/>
                    </a:moveTo>
                    <a:lnTo>
                      <a:pt x="0" y="23"/>
                    </a:lnTo>
                    <a:lnTo>
                      <a:pt x="44" y="36"/>
                    </a:lnTo>
                    <a:lnTo>
                      <a:pt x="64" y="22"/>
                    </a:lnTo>
                    <a:lnTo>
                      <a:pt x="62" y="13"/>
                    </a:lnTo>
                    <a:lnTo>
                      <a:pt x="2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7441920" y="5618160"/>
                <a:ext cx="47520" cy="1908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0" y="13"/>
                    </a:moveTo>
                    <a:lnTo>
                      <a:pt x="40" y="23"/>
                    </a:lnTo>
                    <a:lnTo>
                      <a:pt x="59" y="1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7403400" y="562788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0" y="14"/>
                    </a:moveTo>
                    <a:lnTo>
                      <a:pt x="0" y="21"/>
                    </a:lnTo>
                    <a:lnTo>
                      <a:pt x="44" y="35"/>
                    </a:lnTo>
                    <a:lnTo>
                      <a:pt x="63" y="20"/>
                    </a:lnTo>
                    <a:lnTo>
                      <a:pt x="62" y="12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7407000" y="5629320"/>
                <a:ext cx="47520" cy="1908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0" y="13"/>
                    </a:moveTo>
                    <a:lnTo>
                      <a:pt x="41" y="24"/>
                    </a:lnTo>
                    <a:lnTo>
                      <a:pt x="59" y="1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7365240" y="563904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14"/>
                    </a:moveTo>
                    <a:lnTo>
                      <a:pt x="0" y="22"/>
                    </a:lnTo>
                    <a:lnTo>
                      <a:pt x="43" y="35"/>
                    </a:lnTo>
                    <a:lnTo>
                      <a:pt x="64" y="20"/>
                    </a:lnTo>
                    <a:lnTo>
                      <a:pt x="62" y="13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7368840" y="564048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0" y="14"/>
                    </a:moveTo>
                    <a:lnTo>
                      <a:pt x="39" y="25"/>
                    </a:lnTo>
                    <a:lnTo>
                      <a:pt x="59" y="12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7240320" y="5319720"/>
                <a:ext cx="547560" cy="133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7484760" y="5330880"/>
                <a:ext cx="271440" cy="82800"/>
              </a:xfrm>
              <a:custGeom>
                <a:avLst/>
                <a:gdLst/>
                <a:ahLst/>
                <a:rect l="l" t="t" r="r" b="b"/>
                <a:pathLst>
                  <a:path w="341" h="103">
                    <a:moveTo>
                      <a:pt x="0" y="20"/>
                    </a:moveTo>
                    <a:lnTo>
                      <a:pt x="321" y="103"/>
                    </a:lnTo>
                    <a:lnTo>
                      <a:pt x="341" y="84"/>
                    </a:lnTo>
                    <a:lnTo>
                      <a:pt x="16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7486200" y="5329440"/>
                <a:ext cx="271440" cy="81000"/>
              </a:xfrm>
              <a:custGeom>
                <a:avLst/>
                <a:gdLst/>
                <a:ahLst/>
                <a:rect l="l" t="t" r="r" b="b"/>
                <a:pathLst>
                  <a:path w="341" h="103">
                    <a:moveTo>
                      <a:pt x="0" y="21"/>
                    </a:moveTo>
                    <a:lnTo>
                      <a:pt x="319" y="103"/>
                    </a:lnTo>
                    <a:lnTo>
                      <a:pt x="341" y="83"/>
                    </a:lnTo>
                    <a:lnTo>
                      <a:pt x="16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7492320" y="5378760"/>
                <a:ext cx="74520" cy="28440"/>
              </a:xfrm>
              <a:custGeom>
                <a:avLst/>
                <a:gdLst/>
                <a:ahLst/>
                <a:rect l="l" t="t" r="r" b="b"/>
                <a:pathLst>
                  <a:path w="92" h="35">
                    <a:moveTo>
                      <a:pt x="13" y="0"/>
                    </a:moveTo>
                    <a:lnTo>
                      <a:pt x="0" y="17"/>
                    </a:lnTo>
                    <a:lnTo>
                      <a:pt x="76" y="35"/>
                    </a:lnTo>
                    <a:lnTo>
                      <a:pt x="92" y="2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7570080" y="5349960"/>
                <a:ext cx="112680" cy="36720"/>
              </a:xfrm>
              <a:custGeom>
                <a:avLst/>
                <a:gdLst/>
                <a:ahLst/>
                <a:rect l="l" t="t" r="r" b="b"/>
                <a:pathLst>
                  <a:path w="143" h="46">
                    <a:moveTo>
                      <a:pt x="143" y="34"/>
                    </a:moveTo>
                    <a:lnTo>
                      <a:pt x="136" y="46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143" y="34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7684560" y="533592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74" h="27">
                    <a:moveTo>
                      <a:pt x="74" y="16"/>
                    </a:moveTo>
                    <a:lnTo>
                      <a:pt x="7" y="0"/>
                    </a:lnTo>
                    <a:lnTo>
                      <a:pt x="0" y="12"/>
                    </a:lnTo>
                    <a:lnTo>
                      <a:pt x="66" y="27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2780640" y="3962520"/>
              <a:ext cx="3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Gill Sans"/>
                </a:rPr>
                <a:t>配置口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685800" y="2743200"/>
              <a:ext cx="7620120" cy="1676520"/>
              <a:chOff x="685800" y="2743200"/>
              <a:chExt cx="7620120" cy="167652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3124080" y="3200400"/>
                <a:ext cx="3124080" cy="1218960"/>
                <a:chOff x="3124080" y="3200400"/>
                <a:chExt cx="3124080" cy="12189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3124080" y="3390840"/>
                  <a:ext cx="3124080" cy="10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9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575680" y="3471840"/>
                  <a:ext cx="43200" cy="71280"/>
                </a:xfrm>
                <a:custGeom>
                  <a:avLst/>
                  <a:gdLst/>
                  <a:ahLst/>
                  <a:rect l="l" t="t" r="r" b="b"/>
                  <a:pathLst>
                    <a:path w="284" h="969">
                      <a:moveTo>
                        <a:pt x="284" y="0"/>
                      </a:moveTo>
                      <a:lnTo>
                        <a:pt x="70" y="780"/>
                      </a:lnTo>
                      <a:lnTo>
                        <a:pt x="55" y="828"/>
                      </a:lnTo>
                      <a:lnTo>
                        <a:pt x="39" y="875"/>
                      </a:lnTo>
                      <a:lnTo>
                        <a:pt x="21" y="922"/>
                      </a:lnTo>
                      <a:lnTo>
                        <a:pt x="0" y="969"/>
                      </a:lnTo>
                      <a:lnTo>
                        <a:pt x="212" y="194"/>
                      </a:lnTo>
                      <a:lnTo>
                        <a:pt x="234" y="147"/>
                      </a:lnTo>
                      <a:lnTo>
                        <a:pt x="252" y="99"/>
                      </a:lnTo>
                      <a:lnTo>
                        <a:pt x="270" y="50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560200" y="3485520"/>
                  <a:ext cx="47520" cy="71280"/>
                </a:xfrm>
                <a:custGeom>
                  <a:avLst/>
                  <a:gdLst/>
                  <a:ahLst/>
                  <a:rect l="l" t="t" r="r" b="b"/>
                  <a:pathLst>
                    <a:path w="311" h="952">
                      <a:moveTo>
                        <a:pt x="311" y="0"/>
                      </a:moveTo>
                      <a:lnTo>
                        <a:pt x="99" y="775"/>
                      </a:lnTo>
                      <a:lnTo>
                        <a:pt x="78" y="819"/>
                      </a:lnTo>
                      <a:lnTo>
                        <a:pt x="53" y="864"/>
                      </a:lnTo>
                      <a:lnTo>
                        <a:pt x="27" y="908"/>
                      </a:lnTo>
                      <a:lnTo>
                        <a:pt x="0" y="952"/>
                      </a:lnTo>
                      <a:lnTo>
                        <a:pt x="210" y="181"/>
                      </a:lnTo>
                      <a:lnTo>
                        <a:pt x="238" y="137"/>
                      </a:lnTo>
                      <a:lnTo>
                        <a:pt x="264" y="92"/>
                      </a:lnTo>
                      <a:lnTo>
                        <a:pt x="289" y="47"/>
                      </a:lnTo>
                      <a:lnTo>
                        <a:pt x="311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5540760" y="3499560"/>
                  <a:ext cx="51840" cy="68040"/>
                </a:xfrm>
                <a:custGeom>
                  <a:avLst/>
                  <a:gdLst/>
                  <a:ahLst/>
                  <a:rect l="l" t="t" r="r" b="b"/>
                  <a:pathLst>
                    <a:path w="338" h="935">
                      <a:moveTo>
                        <a:pt x="338" y="0"/>
                      </a:moveTo>
                      <a:lnTo>
                        <a:pt x="128" y="771"/>
                      </a:lnTo>
                      <a:lnTo>
                        <a:pt x="99" y="813"/>
                      </a:lnTo>
                      <a:lnTo>
                        <a:pt x="68" y="855"/>
                      </a:lnTo>
                      <a:lnTo>
                        <a:pt x="35" y="896"/>
                      </a:lnTo>
                      <a:lnTo>
                        <a:pt x="0" y="935"/>
                      </a:lnTo>
                      <a:lnTo>
                        <a:pt x="207" y="170"/>
                      </a:lnTo>
                      <a:lnTo>
                        <a:pt x="242" y="128"/>
                      </a:lnTo>
                      <a:lnTo>
                        <a:pt x="275" y="86"/>
                      </a:lnTo>
                      <a:lnTo>
                        <a:pt x="307" y="44"/>
                      </a:lnTo>
                      <a:lnTo>
                        <a:pt x="338" y="0"/>
                      </a:lnTo>
                      <a:close/>
                    </a:path>
                  </a:pathLst>
                </a:custGeom>
                <a:solidFill>
                  <a:srgbClr val="cbe7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5523480" y="3511800"/>
                  <a:ext cx="47520" cy="65160"/>
                </a:xfrm>
                <a:custGeom>
                  <a:avLst/>
                  <a:gdLst/>
                  <a:ahLst/>
                  <a:rect l="l" t="t" r="r" b="b"/>
                  <a:pathLst>
                    <a:path w="318" h="881">
                      <a:moveTo>
                        <a:pt x="318" y="0"/>
                      </a:moveTo>
                      <a:lnTo>
                        <a:pt x="111" y="765"/>
                      </a:lnTo>
                      <a:lnTo>
                        <a:pt x="76" y="805"/>
                      </a:lnTo>
                      <a:lnTo>
                        <a:pt x="39" y="843"/>
                      </a:lnTo>
                      <a:lnTo>
                        <a:pt x="0" y="881"/>
                      </a:lnTo>
                      <a:lnTo>
                        <a:pt x="202" y="117"/>
                      </a:lnTo>
                      <a:lnTo>
                        <a:pt x="243" y="79"/>
                      </a:lnTo>
                      <a:lnTo>
                        <a:pt x="281" y="39"/>
                      </a:lnTo>
                      <a:lnTo>
                        <a:pt x="318" y="0"/>
                      </a:lnTo>
                      <a:close/>
                    </a:path>
                  </a:pathLst>
                </a:custGeom>
                <a:solidFill>
                  <a:srgbClr val="c0e2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503680" y="3519720"/>
                  <a:ext cx="50040" cy="65160"/>
                </a:xfrm>
                <a:custGeom>
                  <a:avLst/>
                  <a:gdLst/>
                  <a:ahLst/>
                  <a:rect l="l" t="t" r="r" b="b"/>
                  <a:pathLst>
                    <a:path w="330" h="871">
                      <a:moveTo>
                        <a:pt x="330" y="0"/>
                      </a:moveTo>
                      <a:lnTo>
                        <a:pt x="128" y="764"/>
                      </a:lnTo>
                      <a:lnTo>
                        <a:pt x="87" y="800"/>
                      </a:lnTo>
                      <a:lnTo>
                        <a:pt x="45" y="836"/>
                      </a:lnTo>
                      <a:lnTo>
                        <a:pt x="0" y="871"/>
                      </a:lnTo>
                      <a:lnTo>
                        <a:pt x="200" y="111"/>
                      </a:lnTo>
                      <a:lnTo>
                        <a:pt x="245" y="74"/>
                      </a:lnTo>
                      <a:lnTo>
                        <a:pt x="289" y="38"/>
                      </a:lnTo>
                      <a:lnTo>
                        <a:pt x="330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688360" y="3695040"/>
                  <a:ext cx="49680" cy="64800"/>
                </a:xfrm>
                <a:custGeom>
                  <a:avLst/>
                  <a:gdLst/>
                  <a:ahLst/>
                  <a:rect l="l" t="t" r="r" b="b"/>
                  <a:pathLst>
                    <a:path w="317" h="895">
                      <a:moveTo>
                        <a:pt x="317" y="0"/>
                      </a:moveTo>
                      <a:lnTo>
                        <a:pt x="79" y="703"/>
                      </a:lnTo>
                      <a:lnTo>
                        <a:pt x="42" y="800"/>
                      </a:lnTo>
                      <a:lnTo>
                        <a:pt x="0" y="895"/>
                      </a:lnTo>
                      <a:lnTo>
                        <a:pt x="236" y="197"/>
                      </a:lnTo>
                      <a:lnTo>
                        <a:pt x="279" y="100"/>
                      </a:lnTo>
                      <a:lnTo>
                        <a:pt x="317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672880" y="3709080"/>
                  <a:ext cx="51840" cy="65160"/>
                </a:xfrm>
                <a:custGeom>
                  <a:avLst/>
                  <a:gdLst/>
                  <a:ahLst/>
                  <a:rect l="l" t="t" r="r" b="b"/>
                  <a:pathLst>
                    <a:path w="334" h="882">
                      <a:moveTo>
                        <a:pt x="334" y="0"/>
                      </a:moveTo>
                      <a:lnTo>
                        <a:pt x="98" y="698"/>
                      </a:lnTo>
                      <a:lnTo>
                        <a:pt x="51" y="791"/>
                      </a:lnTo>
                      <a:lnTo>
                        <a:pt x="0" y="882"/>
                      </a:lnTo>
                      <a:lnTo>
                        <a:pt x="234" y="188"/>
                      </a:lnTo>
                      <a:lnTo>
                        <a:pt x="286" y="96"/>
                      </a:lnTo>
                      <a:lnTo>
                        <a:pt x="334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655960" y="3723120"/>
                  <a:ext cx="54000" cy="63360"/>
                </a:xfrm>
                <a:custGeom>
                  <a:avLst/>
                  <a:gdLst/>
                  <a:ahLst/>
                  <a:rect l="l" t="t" r="r" b="b"/>
                  <a:pathLst>
                    <a:path w="348" h="869">
                      <a:moveTo>
                        <a:pt x="348" y="0"/>
                      </a:moveTo>
                      <a:lnTo>
                        <a:pt x="114" y="694"/>
                      </a:lnTo>
                      <a:lnTo>
                        <a:pt x="60" y="783"/>
                      </a:lnTo>
                      <a:lnTo>
                        <a:pt x="0" y="869"/>
                      </a:lnTo>
                      <a:lnTo>
                        <a:pt x="230" y="181"/>
                      </a:lnTo>
                      <a:lnTo>
                        <a:pt x="291" y="92"/>
                      </a:lnTo>
                      <a:lnTo>
                        <a:pt x="348" y="0"/>
                      </a:lnTo>
                      <a:close/>
                    </a:path>
                  </a:pathLst>
                </a:custGeom>
                <a:solidFill>
                  <a:srgbClr val="cee9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636160" y="3737160"/>
                  <a:ext cx="56520" cy="61560"/>
                </a:xfrm>
                <a:custGeom>
                  <a:avLst/>
                  <a:gdLst/>
                  <a:ahLst/>
                  <a:rect l="l" t="t" r="r" b="b"/>
                  <a:pathLst>
                    <a:path w="361" h="854">
                      <a:moveTo>
                        <a:pt x="361" y="0"/>
                      </a:moveTo>
                      <a:lnTo>
                        <a:pt x="131" y="688"/>
                      </a:lnTo>
                      <a:lnTo>
                        <a:pt x="67" y="771"/>
                      </a:lnTo>
                      <a:lnTo>
                        <a:pt x="0" y="854"/>
                      </a:lnTo>
                      <a:lnTo>
                        <a:pt x="226" y="169"/>
                      </a:lnTo>
                      <a:lnTo>
                        <a:pt x="296" y="85"/>
                      </a:lnTo>
                      <a:lnTo>
                        <a:pt x="361" y="0"/>
                      </a:lnTo>
                      <a:close/>
                    </a:path>
                  </a:pathLst>
                </a:custGeom>
                <a:solidFill>
                  <a:srgbClr val="c6e5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614560" y="3749400"/>
                  <a:ext cx="56520" cy="61560"/>
                </a:xfrm>
                <a:custGeom>
                  <a:avLst/>
                  <a:gdLst/>
                  <a:ahLst/>
                  <a:rect l="l" t="t" r="r" b="b"/>
                  <a:pathLst>
                    <a:path w="371" h="841">
                      <a:moveTo>
                        <a:pt x="371" y="0"/>
                      </a:moveTo>
                      <a:lnTo>
                        <a:pt x="145" y="685"/>
                      </a:lnTo>
                      <a:lnTo>
                        <a:pt x="75" y="764"/>
                      </a:lnTo>
                      <a:lnTo>
                        <a:pt x="0" y="841"/>
                      </a:lnTo>
                      <a:lnTo>
                        <a:pt x="224" y="161"/>
                      </a:lnTo>
                      <a:lnTo>
                        <a:pt x="300" y="82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c0e2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588280" y="3760200"/>
                  <a:ext cx="58320" cy="61560"/>
                </a:xfrm>
                <a:custGeom>
                  <a:avLst/>
                  <a:gdLst/>
                  <a:ahLst/>
                  <a:rect l="l" t="t" r="r" b="b"/>
                  <a:pathLst>
                    <a:path w="381" h="826">
                      <a:moveTo>
                        <a:pt x="381" y="0"/>
                      </a:moveTo>
                      <a:lnTo>
                        <a:pt x="157" y="680"/>
                      </a:lnTo>
                      <a:lnTo>
                        <a:pt x="80" y="754"/>
                      </a:lnTo>
                      <a:lnTo>
                        <a:pt x="0" y="826"/>
                      </a:lnTo>
                      <a:lnTo>
                        <a:pt x="219" y="150"/>
                      </a:lnTo>
                      <a:lnTo>
                        <a:pt x="301" y="76"/>
                      </a:lnTo>
                      <a:lnTo>
                        <a:pt x="381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575680" y="3771360"/>
                  <a:ext cx="47520" cy="55800"/>
                </a:xfrm>
                <a:custGeom>
                  <a:avLst/>
                  <a:gdLst/>
                  <a:ahLst/>
                  <a:rect l="l" t="t" r="r" b="b"/>
                  <a:pathLst>
                    <a:path w="301" h="744">
                      <a:moveTo>
                        <a:pt x="301" y="0"/>
                      </a:moveTo>
                      <a:lnTo>
                        <a:pt x="82" y="676"/>
                      </a:lnTo>
                      <a:lnTo>
                        <a:pt x="0" y="744"/>
                      </a:lnTo>
                      <a:lnTo>
                        <a:pt x="216" y="71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562360" y="3777120"/>
                  <a:ext cx="47520" cy="54360"/>
                </a:xfrm>
                <a:custGeom>
                  <a:avLst/>
                  <a:gdLst/>
                  <a:ahLst/>
                  <a:rect l="l" t="t" r="r" b="b"/>
                  <a:pathLst>
                    <a:path w="301" h="740">
                      <a:moveTo>
                        <a:pt x="301" y="0"/>
                      </a:moveTo>
                      <a:lnTo>
                        <a:pt x="85" y="673"/>
                      </a:lnTo>
                      <a:lnTo>
                        <a:pt x="0" y="740"/>
                      </a:lnTo>
                      <a:lnTo>
                        <a:pt x="213" y="68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b7d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549400" y="3782160"/>
                  <a:ext cx="47520" cy="54000"/>
                </a:xfrm>
                <a:custGeom>
                  <a:avLst/>
                  <a:gdLst/>
                  <a:ahLst/>
                  <a:rect l="l" t="t" r="r" b="b"/>
                  <a:pathLst>
                    <a:path w="301" h="737">
                      <a:moveTo>
                        <a:pt x="301" y="0"/>
                      </a:moveTo>
                      <a:lnTo>
                        <a:pt x="88" y="672"/>
                      </a:lnTo>
                      <a:lnTo>
                        <a:pt x="0" y="737"/>
                      </a:lnTo>
                      <a:lnTo>
                        <a:pt x="211" y="66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b3dd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536080" y="3786840"/>
                  <a:ext cx="45720" cy="54000"/>
                </a:xfrm>
                <a:custGeom>
                  <a:avLst/>
                  <a:gdLst/>
                  <a:ahLst/>
                  <a:rect l="l" t="t" r="r" b="b"/>
                  <a:pathLst>
                    <a:path w="300" h="731">
                      <a:moveTo>
                        <a:pt x="300" y="0"/>
                      </a:moveTo>
                      <a:lnTo>
                        <a:pt x="89" y="671"/>
                      </a:lnTo>
                      <a:lnTo>
                        <a:pt x="0" y="731"/>
                      </a:lnTo>
                      <a:lnTo>
                        <a:pt x="208" y="62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afdb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520960" y="3791160"/>
                  <a:ext cx="47520" cy="54000"/>
                </a:xfrm>
                <a:custGeom>
                  <a:avLst/>
                  <a:gdLst/>
                  <a:ahLst/>
                  <a:rect l="l" t="t" r="r" b="b"/>
                  <a:pathLst>
                    <a:path w="300" h="728">
                      <a:moveTo>
                        <a:pt x="300" y="0"/>
                      </a:moveTo>
                      <a:lnTo>
                        <a:pt x="92" y="669"/>
                      </a:lnTo>
                      <a:lnTo>
                        <a:pt x="0" y="728"/>
                      </a:lnTo>
                      <a:lnTo>
                        <a:pt x="206" y="60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adda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508360" y="3795840"/>
                  <a:ext cx="45720" cy="52560"/>
                </a:xfrm>
                <a:custGeom>
                  <a:avLst/>
                  <a:gdLst/>
                  <a:ahLst/>
                  <a:rect l="l" t="t" r="r" b="b"/>
                  <a:pathLst>
                    <a:path w="299" h="723">
                      <a:moveTo>
                        <a:pt x="299" y="0"/>
                      </a:moveTo>
                      <a:lnTo>
                        <a:pt x="93" y="668"/>
                      </a:lnTo>
                      <a:lnTo>
                        <a:pt x="0" y="723"/>
                      </a:lnTo>
                      <a:lnTo>
                        <a:pt x="203" y="57"/>
                      </a:lnTo>
                      <a:lnTo>
                        <a:pt x="299" y="0"/>
                      </a:lnTo>
                      <a:close/>
                    </a:path>
                  </a:pathLst>
                </a:custGeom>
                <a:solidFill>
                  <a:srgbClr val="a6d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5492880" y="3800880"/>
                  <a:ext cx="45720" cy="52200"/>
                </a:xfrm>
                <a:custGeom>
                  <a:avLst/>
                  <a:gdLst/>
                  <a:ahLst/>
                  <a:rect l="l" t="t" r="r" b="b"/>
                  <a:pathLst>
                    <a:path w="298" h="720">
                      <a:moveTo>
                        <a:pt x="298" y="0"/>
                      </a:moveTo>
                      <a:lnTo>
                        <a:pt x="95" y="666"/>
                      </a:lnTo>
                      <a:lnTo>
                        <a:pt x="0" y="720"/>
                      </a:lnTo>
                      <a:lnTo>
                        <a:pt x="200" y="54"/>
                      </a:lnTo>
                      <a:lnTo>
                        <a:pt x="298" y="0"/>
                      </a:lnTo>
                      <a:close/>
                    </a:path>
                  </a:pathLst>
                </a:custGeom>
                <a:solidFill>
                  <a:srgbClr val="a6d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477760" y="3803400"/>
                  <a:ext cx="45720" cy="52560"/>
                </a:xfrm>
                <a:custGeom>
                  <a:avLst/>
                  <a:gdLst/>
                  <a:ahLst/>
                  <a:rect l="l" t="t" r="r" b="b"/>
                  <a:pathLst>
                    <a:path w="297" h="715">
                      <a:moveTo>
                        <a:pt x="297" y="0"/>
                      </a:moveTo>
                      <a:lnTo>
                        <a:pt x="97" y="666"/>
                      </a:lnTo>
                      <a:lnTo>
                        <a:pt x="0" y="715"/>
                      </a:lnTo>
                      <a:lnTo>
                        <a:pt x="198" y="51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a0d4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462280" y="3808440"/>
                  <a:ext cx="45720" cy="52560"/>
                </a:xfrm>
                <a:custGeom>
                  <a:avLst/>
                  <a:gdLst/>
                  <a:ahLst/>
                  <a:rect l="l" t="t" r="r" b="b"/>
                  <a:pathLst>
                    <a:path w="295" h="711">
                      <a:moveTo>
                        <a:pt x="295" y="0"/>
                      </a:moveTo>
                      <a:lnTo>
                        <a:pt x="97" y="664"/>
                      </a:lnTo>
                      <a:lnTo>
                        <a:pt x="0" y="711"/>
                      </a:lnTo>
                      <a:lnTo>
                        <a:pt x="195" y="49"/>
                      </a:lnTo>
                      <a:lnTo>
                        <a:pt x="295" y="0"/>
                      </a:lnTo>
                      <a:close/>
                    </a:path>
                  </a:pathLst>
                </a:custGeom>
                <a:solidFill>
                  <a:srgbClr val="9ac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447160" y="3811320"/>
                  <a:ext cx="45720" cy="52560"/>
                </a:xfrm>
                <a:custGeom>
                  <a:avLst/>
                  <a:gdLst/>
                  <a:ahLst/>
                  <a:rect l="l" t="t" r="r" b="b"/>
                  <a:pathLst>
                    <a:path w="292" h="706">
                      <a:moveTo>
                        <a:pt x="292" y="0"/>
                      </a:moveTo>
                      <a:lnTo>
                        <a:pt x="97" y="662"/>
                      </a:lnTo>
                      <a:lnTo>
                        <a:pt x="0" y="706"/>
                      </a:lnTo>
                      <a:lnTo>
                        <a:pt x="191" y="45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solidFill>
                  <a:srgbClr val="98c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432400" y="3814560"/>
                  <a:ext cx="45000" cy="52560"/>
                </a:xfrm>
                <a:custGeom>
                  <a:avLst/>
                  <a:gdLst/>
                  <a:ahLst/>
                  <a:rect l="l" t="t" r="r" b="b"/>
                  <a:pathLst>
                    <a:path w="291" h="702">
                      <a:moveTo>
                        <a:pt x="291" y="0"/>
                      </a:moveTo>
                      <a:lnTo>
                        <a:pt x="100" y="661"/>
                      </a:lnTo>
                      <a:lnTo>
                        <a:pt x="0" y="702"/>
                      </a:lnTo>
                      <a:lnTo>
                        <a:pt x="189" y="42"/>
                      </a:lnTo>
                      <a:lnTo>
                        <a:pt x="291" y="0"/>
                      </a:lnTo>
                      <a:close/>
                    </a:path>
                  </a:pathLst>
                </a:custGeom>
                <a:solidFill>
                  <a:srgbClr val="9ac9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401800" y="3817800"/>
                  <a:ext cx="58320" cy="54000"/>
                </a:xfrm>
                <a:custGeom>
                  <a:avLst/>
                  <a:gdLst/>
                  <a:ahLst/>
                  <a:rect l="l" t="t" r="r" b="b"/>
                  <a:pathLst>
                    <a:path w="388" h="732">
                      <a:moveTo>
                        <a:pt x="388" y="0"/>
                      </a:moveTo>
                      <a:lnTo>
                        <a:pt x="199" y="660"/>
                      </a:lnTo>
                      <a:lnTo>
                        <a:pt x="100" y="697"/>
                      </a:lnTo>
                      <a:lnTo>
                        <a:pt x="0" y="732"/>
                      </a:lnTo>
                      <a:lnTo>
                        <a:pt x="183" y="73"/>
                      </a:lnTo>
                      <a:lnTo>
                        <a:pt x="286" y="38"/>
                      </a:lnTo>
                      <a:lnTo>
                        <a:pt x="388" y="0"/>
                      </a:lnTo>
                      <a:close/>
                    </a:path>
                  </a:pathLst>
                </a:custGeom>
                <a:solidFill>
                  <a:srgbClr val="8eb7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369400" y="3823920"/>
                  <a:ext cx="60480" cy="52560"/>
                </a:xfrm>
                <a:custGeom>
                  <a:avLst/>
                  <a:gdLst/>
                  <a:ahLst/>
                  <a:rect l="l" t="t" r="r" b="b"/>
                  <a:pathLst>
                    <a:path w="385" h="716">
                      <a:moveTo>
                        <a:pt x="385" y="0"/>
                      </a:moveTo>
                      <a:lnTo>
                        <a:pt x="202" y="659"/>
                      </a:lnTo>
                      <a:lnTo>
                        <a:pt x="168" y="669"/>
                      </a:lnTo>
                      <a:lnTo>
                        <a:pt x="134" y="679"/>
                      </a:lnTo>
                      <a:lnTo>
                        <a:pt x="102" y="689"/>
                      </a:lnTo>
                      <a:lnTo>
                        <a:pt x="68" y="698"/>
                      </a:lnTo>
                      <a:lnTo>
                        <a:pt x="34" y="708"/>
                      </a:lnTo>
                      <a:lnTo>
                        <a:pt x="0" y="716"/>
                      </a:lnTo>
                      <a:lnTo>
                        <a:pt x="177" y="60"/>
                      </a:lnTo>
                      <a:lnTo>
                        <a:pt x="212" y="50"/>
                      </a:lnTo>
                      <a:lnTo>
                        <a:pt x="247" y="41"/>
                      </a:lnTo>
                      <a:lnTo>
                        <a:pt x="281" y="32"/>
                      </a:lnTo>
                      <a:lnTo>
                        <a:pt x="316" y="21"/>
                      </a:lnTo>
                      <a:lnTo>
                        <a:pt x="351" y="1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84a8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338800" y="3828600"/>
                  <a:ext cx="58320" cy="50760"/>
                </a:xfrm>
                <a:custGeom>
                  <a:avLst/>
                  <a:gdLst/>
                  <a:ahLst/>
                  <a:rect l="l" t="t" r="r" b="b"/>
                  <a:pathLst>
                    <a:path w="379" h="702">
                      <a:moveTo>
                        <a:pt x="379" y="0"/>
                      </a:moveTo>
                      <a:lnTo>
                        <a:pt x="202" y="656"/>
                      </a:lnTo>
                      <a:lnTo>
                        <a:pt x="169" y="664"/>
                      </a:lnTo>
                      <a:lnTo>
                        <a:pt x="135" y="673"/>
                      </a:lnTo>
                      <a:lnTo>
                        <a:pt x="102" y="680"/>
                      </a:lnTo>
                      <a:lnTo>
                        <a:pt x="68" y="688"/>
                      </a:lnTo>
                      <a:lnTo>
                        <a:pt x="34" y="694"/>
                      </a:lnTo>
                      <a:lnTo>
                        <a:pt x="0" y="702"/>
                      </a:lnTo>
                      <a:lnTo>
                        <a:pt x="172" y="46"/>
                      </a:lnTo>
                      <a:lnTo>
                        <a:pt x="207" y="39"/>
                      </a:lnTo>
                      <a:lnTo>
                        <a:pt x="241" y="32"/>
                      </a:lnTo>
                      <a:lnTo>
                        <a:pt x="276" y="24"/>
                      </a:lnTo>
                      <a:lnTo>
                        <a:pt x="311" y="17"/>
                      </a:lnTo>
                      <a:lnTo>
                        <a:pt x="346" y="8"/>
                      </a:lnTo>
                      <a:lnTo>
                        <a:pt x="379" y="0"/>
                      </a:lnTo>
                      <a:close/>
                    </a:path>
                  </a:pathLst>
                </a:custGeom>
                <a:solidFill>
                  <a:srgbClr val="7f9e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306400" y="3831840"/>
                  <a:ext cx="58320" cy="50760"/>
                </a:xfrm>
                <a:custGeom>
                  <a:avLst/>
                  <a:gdLst/>
                  <a:ahLst/>
                  <a:rect l="l" t="t" r="r" b="b"/>
                  <a:pathLst>
                    <a:path w="375" h="689">
                      <a:moveTo>
                        <a:pt x="375" y="0"/>
                      </a:moveTo>
                      <a:lnTo>
                        <a:pt x="203" y="656"/>
                      </a:lnTo>
                      <a:lnTo>
                        <a:pt x="169" y="662"/>
                      </a:lnTo>
                      <a:lnTo>
                        <a:pt x="135" y="668"/>
                      </a:lnTo>
                      <a:lnTo>
                        <a:pt x="102" y="673"/>
                      </a:lnTo>
                      <a:lnTo>
                        <a:pt x="68" y="680"/>
                      </a:lnTo>
                      <a:lnTo>
                        <a:pt x="34" y="685"/>
                      </a:lnTo>
                      <a:lnTo>
                        <a:pt x="0" y="689"/>
                      </a:lnTo>
                      <a:lnTo>
                        <a:pt x="165" y="34"/>
                      </a:lnTo>
                      <a:lnTo>
                        <a:pt x="200" y="30"/>
                      </a:lnTo>
                      <a:lnTo>
                        <a:pt x="236" y="25"/>
                      </a:lnTo>
                      <a:lnTo>
                        <a:pt x="271" y="18"/>
                      </a:lnTo>
                      <a:lnTo>
                        <a:pt x="306" y="13"/>
                      </a:lnTo>
                      <a:lnTo>
                        <a:pt x="340" y="7"/>
                      </a:lnTo>
                      <a:lnTo>
                        <a:pt x="375" y="0"/>
                      </a:lnTo>
                      <a:close/>
                    </a:path>
                  </a:pathLst>
                </a:custGeom>
                <a:solidFill>
                  <a:srgbClr val="778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274000" y="3833280"/>
                  <a:ext cx="58320" cy="51120"/>
                </a:xfrm>
                <a:custGeom>
                  <a:avLst/>
                  <a:gdLst/>
                  <a:ahLst/>
                  <a:rect l="l" t="t" r="r" b="b"/>
                  <a:pathLst>
                    <a:path w="371" h="677">
                      <a:moveTo>
                        <a:pt x="371" y="0"/>
                      </a:moveTo>
                      <a:lnTo>
                        <a:pt x="206" y="655"/>
                      </a:lnTo>
                      <a:lnTo>
                        <a:pt x="171" y="659"/>
                      </a:lnTo>
                      <a:lnTo>
                        <a:pt x="137" y="663"/>
                      </a:lnTo>
                      <a:lnTo>
                        <a:pt x="103" y="668"/>
                      </a:lnTo>
                      <a:lnTo>
                        <a:pt x="69" y="671"/>
                      </a:lnTo>
                      <a:lnTo>
                        <a:pt x="34" y="674"/>
                      </a:lnTo>
                      <a:lnTo>
                        <a:pt x="0" y="677"/>
                      </a:lnTo>
                      <a:lnTo>
                        <a:pt x="159" y="23"/>
                      </a:lnTo>
                      <a:lnTo>
                        <a:pt x="195" y="20"/>
                      </a:lnTo>
                      <a:lnTo>
                        <a:pt x="231" y="17"/>
                      </a:lnTo>
                      <a:lnTo>
                        <a:pt x="265" y="14"/>
                      </a:lnTo>
                      <a:lnTo>
                        <a:pt x="301" y="9"/>
                      </a:lnTo>
                      <a:lnTo>
                        <a:pt x="336" y="5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7386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243400" y="3834720"/>
                  <a:ext cx="56520" cy="49320"/>
                </a:xfrm>
                <a:custGeom>
                  <a:avLst/>
                  <a:gdLst/>
                  <a:ahLst/>
                  <a:rect l="l" t="t" r="r" b="b"/>
                  <a:pathLst>
                    <a:path w="368" h="663">
                      <a:moveTo>
                        <a:pt x="368" y="0"/>
                      </a:moveTo>
                      <a:lnTo>
                        <a:pt x="209" y="654"/>
                      </a:lnTo>
                      <a:lnTo>
                        <a:pt x="174" y="656"/>
                      </a:lnTo>
                      <a:lnTo>
                        <a:pt x="139" y="658"/>
                      </a:lnTo>
                      <a:lnTo>
                        <a:pt x="104" y="660"/>
                      </a:lnTo>
                      <a:lnTo>
                        <a:pt x="69" y="661"/>
                      </a:lnTo>
                      <a:lnTo>
                        <a:pt x="35" y="662"/>
                      </a:lnTo>
                      <a:lnTo>
                        <a:pt x="0" y="663"/>
                      </a:lnTo>
                      <a:lnTo>
                        <a:pt x="152" y="9"/>
                      </a:lnTo>
                      <a:lnTo>
                        <a:pt x="189" y="8"/>
                      </a:lnTo>
                      <a:lnTo>
                        <a:pt x="225" y="7"/>
                      </a:lnTo>
                      <a:lnTo>
                        <a:pt x="261" y="6"/>
                      </a:lnTo>
                      <a:lnTo>
                        <a:pt x="297" y="4"/>
                      </a:lnTo>
                      <a:lnTo>
                        <a:pt x="333" y="2"/>
                      </a:lnTo>
                      <a:lnTo>
                        <a:pt x="368" y="0"/>
                      </a:lnTo>
                      <a:close/>
                    </a:path>
                  </a:pathLst>
                </a:custGeom>
                <a:solidFill>
                  <a:srgbClr val="6d7a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230800" y="3836160"/>
                  <a:ext cx="34200" cy="47880"/>
                </a:xfrm>
                <a:custGeom>
                  <a:avLst/>
                  <a:gdLst/>
                  <a:ahLst/>
                  <a:rect l="l" t="t" r="r" b="b"/>
                  <a:pathLst>
                    <a:path w="223" h="654">
                      <a:moveTo>
                        <a:pt x="223" y="0"/>
                      </a:moveTo>
                      <a:lnTo>
                        <a:pt x="71" y="654"/>
                      </a:lnTo>
                      <a:lnTo>
                        <a:pt x="35" y="654"/>
                      </a:lnTo>
                      <a:lnTo>
                        <a:pt x="0" y="654"/>
                      </a:lnTo>
                      <a:lnTo>
                        <a:pt x="152" y="0"/>
                      </a:lnTo>
                      <a:lnTo>
                        <a:pt x="188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6872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219280" y="3842640"/>
                  <a:ext cx="32760" cy="61560"/>
                </a:xfrm>
                <a:custGeom>
                  <a:avLst/>
                  <a:gdLst/>
                  <a:ahLst/>
                  <a:rect l="l" t="t" r="r" b="b"/>
                  <a:pathLst>
                    <a:path w="201" h="832">
                      <a:moveTo>
                        <a:pt x="201" y="0"/>
                      </a:moveTo>
                      <a:lnTo>
                        <a:pt x="50" y="652"/>
                      </a:lnTo>
                      <a:lnTo>
                        <a:pt x="27" y="743"/>
                      </a:lnTo>
                      <a:lnTo>
                        <a:pt x="0" y="832"/>
                      </a:lnTo>
                      <a:lnTo>
                        <a:pt x="150" y="185"/>
                      </a:lnTo>
                      <a:lnTo>
                        <a:pt x="177" y="9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211000" y="3856320"/>
                  <a:ext cx="32400" cy="60480"/>
                </a:xfrm>
                <a:custGeom>
                  <a:avLst/>
                  <a:gdLst/>
                  <a:ahLst/>
                  <a:rect l="l" t="t" r="r" b="b"/>
                  <a:pathLst>
                    <a:path w="210" h="821">
                      <a:moveTo>
                        <a:pt x="210" y="0"/>
                      </a:moveTo>
                      <a:lnTo>
                        <a:pt x="60" y="647"/>
                      </a:lnTo>
                      <a:lnTo>
                        <a:pt x="31" y="735"/>
                      </a:lnTo>
                      <a:lnTo>
                        <a:pt x="0" y="821"/>
                      </a:lnTo>
                      <a:lnTo>
                        <a:pt x="147" y="179"/>
                      </a:lnTo>
                      <a:lnTo>
                        <a:pt x="180" y="90"/>
                      </a:lnTo>
                      <a:lnTo>
                        <a:pt x="210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200200" y="3870360"/>
                  <a:ext cx="34200" cy="59040"/>
                </a:xfrm>
                <a:custGeom>
                  <a:avLst/>
                  <a:gdLst/>
                  <a:ahLst/>
                  <a:rect l="l" t="t" r="r" b="b"/>
                  <a:pathLst>
                    <a:path w="219" h="810">
                      <a:moveTo>
                        <a:pt x="219" y="0"/>
                      </a:moveTo>
                      <a:lnTo>
                        <a:pt x="72" y="642"/>
                      </a:lnTo>
                      <a:lnTo>
                        <a:pt x="37" y="726"/>
                      </a:lnTo>
                      <a:lnTo>
                        <a:pt x="0" y="810"/>
                      </a:lnTo>
                      <a:lnTo>
                        <a:pt x="146" y="172"/>
                      </a:lnTo>
                      <a:lnTo>
                        <a:pt x="183" y="87"/>
                      </a:lnTo>
                      <a:lnTo>
                        <a:pt x="219" y="0"/>
                      </a:lnTo>
                      <a:close/>
                    </a:path>
                  </a:pathLst>
                </a:custGeom>
                <a:solidFill>
                  <a:srgbClr val="d6e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186880" y="3882600"/>
                  <a:ext cx="34920" cy="59040"/>
                </a:xfrm>
                <a:custGeom>
                  <a:avLst/>
                  <a:gdLst/>
                  <a:ahLst/>
                  <a:rect l="l" t="t" r="r" b="b"/>
                  <a:pathLst>
                    <a:path w="226" h="800">
                      <a:moveTo>
                        <a:pt x="226" y="0"/>
                      </a:moveTo>
                      <a:lnTo>
                        <a:pt x="80" y="638"/>
                      </a:lnTo>
                      <a:lnTo>
                        <a:pt x="41" y="720"/>
                      </a:lnTo>
                      <a:lnTo>
                        <a:pt x="0" y="800"/>
                      </a:lnTo>
                      <a:lnTo>
                        <a:pt x="143" y="167"/>
                      </a:lnTo>
                      <a:lnTo>
                        <a:pt x="185" y="84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d3e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174280" y="3895200"/>
                  <a:ext cx="34200" cy="57240"/>
                </a:xfrm>
                <a:custGeom>
                  <a:avLst/>
                  <a:gdLst/>
                  <a:ahLst/>
                  <a:rect l="l" t="t" r="r" b="b"/>
                  <a:pathLst>
                    <a:path w="233" h="788">
                      <a:moveTo>
                        <a:pt x="233" y="0"/>
                      </a:moveTo>
                      <a:lnTo>
                        <a:pt x="90" y="633"/>
                      </a:lnTo>
                      <a:lnTo>
                        <a:pt x="46" y="711"/>
                      </a:lnTo>
                      <a:lnTo>
                        <a:pt x="0" y="788"/>
                      </a:lnTo>
                      <a:lnTo>
                        <a:pt x="140" y="159"/>
                      </a:lnTo>
                      <a:lnTo>
                        <a:pt x="187" y="80"/>
                      </a:lnTo>
                      <a:lnTo>
                        <a:pt x="233" y="0"/>
                      </a:lnTo>
                      <a:close/>
                    </a:path>
                  </a:pathLst>
                </a:custGeom>
                <a:solidFill>
                  <a:srgbClr val="cee9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158800" y="3906000"/>
                  <a:ext cx="36720" cy="59040"/>
                </a:xfrm>
                <a:custGeom>
                  <a:avLst/>
                  <a:gdLst/>
                  <a:ahLst/>
                  <a:rect l="l" t="t" r="r" b="b"/>
                  <a:pathLst>
                    <a:path w="240" h="780">
                      <a:moveTo>
                        <a:pt x="240" y="0"/>
                      </a:moveTo>
                      <a:lnTo>
                        <a:pt x="100" y="629"/>
                      </a:lnTo>
                      <a:lnTo>
                        <a:pt x="51" y="705"/>
                      </a:lnTo>
                      <a:lnTo>
                        <a:pt x="0" y="780"/>
                      </a:lnTo>
                      <a:lnTo>
                        <a:pt x="139" y="154"/>
                      </a:lnTo>
                      <a:lnTo>
                        <a:pt x="191" y="78"/>
                      </a:lnTo>
                      <a:lnTo>
                        <a:pt x="240" y="0"/>
                      </a:lnTo>
                      <a:close/>
                    </a:path>
                  </a:pathLst>
                </a:custGeom>
                <a:solidFill>
                  <a:srgbClr val="cee9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141520" y="3918600"/>
                  <a:ext cx="38520" cy="55440"/>
                </a:xfrm>
                <a:custGeom>
                  <a:avLst/>
                  <a:gdLst/>
                  <a:ahLst/>
                  <a:rect l="l" t="t" r="r" b="b"/>
                  <a:pathLst>
                    <a:path w="247" h="770">
                      <a:moveTo>
                        <a:pt x="247" y="0"/>
                      </a:moveTo>
                      <a:lnTo>
                        <a:pt x="108" y="626"/>
                      </a:lnTo>
                      <a:lnTo>
                        <a:pt x="56" y="698"/>
                      </a:lnTo>
                      <a:lnTo>
                        <a:pt x="0" y="770"/>
                      </a:lnTo>
                      <a:lnTo>
                        <a:pt x="136" y="148"/>
                      </a:lnTo>
                      <a:lnTo>
                        <a:pt x="192" y="75"/>
                      </a:lnTo>
                      <a:lnTo>
                        <a:pt x="247" y="0"/>
                      </a:lnTo>
                      <a:close/>
                    </a:path>
                  </a:pathLst>
                </a:custGeom>
                <a:solidFill>
                  <a:srgbClr val="c6e5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123880" y="3929400"/>
                  <a:ext cx="39240" cy="55440"/>
                </a:xfrm>
                <a:custGeom>
                  <a:avLst/>
                  <a:gdLst/>
                  <a:ahLst/>
                  <a:rect l="l" t="t" r="r" b="b"/>
                  <a:pathLst>
                    <a:path w="250" h="761">
                      <a:moveTo>
                        <a:pt x="250" y="0"/>
                      </a:moveTo>
                      <a:lnTo>
                        <a:pt x="114" y="622"/>
                      </a:lnTo>
                      <a:lnTo>
                        <a:pt x="58" y="692"/>
                      </a:lnTo>
                      <a:lnTo>
                        <a:pt x="0" y="761"/>
                      </a:lnTo>
                      <a:lnTo>
                        <a:pt x="131" y="143"/>
                      </a:lnTo>
                      <a:lnTo>
                        <a:pt x="191" y="72"/>
                      </a:lnTo>
                      <a:lnTo>
                        <a:pt x="250" y="0"/>
                      </a:lnTo>
                      <a:close/>
                    </a:path>
                  </a:pathLst>
                </a:custGeom>
                <a:solidFill>
                  <a:srgbClr val="c6e5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104800" y="3940200"/>
                  <a:ext cx="38520" cy="54360"/>
                </a:xfrm>
                <a:custGeom>
                  <a:avLst/>
                  <a:gdLst/>
                  <a:ahLst/>
                  <a:rect l="l" t="t" r="r" b="b"/>
                  <a:pathLst>
                    <a:path w="254" h="750">
                      <a:moveTo>
                        <a:pt x="254" y="0"/>
                      </a:moveTo>
                      <a:lnTo>
                        <a:pt x="123" y="618"/>
                      </a:lnTo>
                      <a:lnTo>
                        <a:pt x="62" y="684"/>
                      </a:lnTo>
                      <a:lnTo>
                        <a:pt x="0" y="750"/>
                      </a:lnTo>
                      <a:lnTo>
                        <a:pt x="128" y="136"/>
                      </a:lnTo>
                      <a:lnTo>
                        <a:pt x="191" y="69"/>
                      </a:lnTo>
                      <a:lnTo>
                        <a:pt x="254" y="0"/>
                      </a:lnTo>
                      <a:close/>
                    </a:path>
                  </a:pathLst>
                </a:custGeom>
                <a:solidFill>
                  <a:srgbClr val="c0e2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085000" y="3949560"/>
                  <a:ext cx="38520" cy="54000"/>
                </a:xfrm>
                <a:custGeom>
                  <a:avLst/>
                  <a:gdLst/>
                  <a:ahLst/>
                  <a:rect l="l" t="t" r="r" b="b"/>
                  <a:pathLst>
                    <a:path w="259" h="741">
                      <a:moveTo>
                        <a:pt x="259" y="0"/>
                      </a:moveTo>
                      <a:lnTo>
                        <a:pt x="131" y="614"/>
                      </a:lnTo>
                      <a:lnTo>
                        <a:pt x="66" y="678"/>
                      </a:lnTo>
                      <a:lnTo>
                        <a:pt x="0" y="741"/>
                      </a:lnTo>
                      <a:lnTo>
                        <a:pt x="124" y="131"/>
                      </a:lnTo>
                      <a:lnTo>
                        <a:pt x="192" y="66"/>
                      </a:lnTo>
                      <a:lnTo>
                        <a:pt x="259" y="0"/>
                      </a:lnTo>
                      <a:close/>
                    </a:path>
                  </a:pathLst>
                </a:custGeom>
                <a:solidFill>
                  <a:srgbClr val="bde1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063400" y="3958560"/>
                  <a:ext cx="41040" cy="54360"/>
                </a:xfrm>
                <a:custGeom>
                  <a:avLst/>
                  <a:gdLst/>
                  <a:ahLst/>
                  <a:rect l="l" t="t" r="r" b="b"/>
                  <a:pathLst>
                    <a:path w="261" h="731">
                      <a:moveTo>
                        <a:pt x="261" y="0"/>
                      </a:moveTo>
                      <a:lnTo>
                        <a:pt x="137" y="610"/>
                      </a:lnTo>
                      <a:lnTo>
                        <a:pt x="70" y="671"/>
                      </a:lnTo>
                      <a:lnTo>
                        <a:pt x="0" y="731"/>
                      </a:lnTo>
                      <a:lnTo>
                        <a:pt x="120" y="124"/>
                      </a:lnTo>
                      <a:lnTo>
                        <a:pt x="192" y="62"/>
                      </a:lnTo>
                      <a:lnTo>
                        <a:pt x="261" y="0"/>
                      </a:lnTo>
                      <a:close/>
                    </a:path>
                  </a:pathLst>
                </a:custGeom>
                <a:solidFill>
                  <a:srgbClr val="b9e0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041800" y="3968280"/>
                  <a:ext cx="38520" cy="54000"/>
                </a:xfrm>
                <a:custGeom>
                  <a:avLst/>
                  <a:gdLst/>
                  <a:ahLst/>
                  <a:rect l="l" t="t" r="r" b="b"/>
                  <a:pathLst>
                    <a:path w="264" h="722">
                      <a:moveTo>
                        <a:pt x="264" y="0"/>
                      </a:moveTo>
                      <a:lnTo>
                        <a:pt x="144" y="607"/>
                      </a:lnTo>
                      <a:lnTo>
                        <a:pt x="73" y="665"/>
                      </a:lnTo>
                      <a:lnTo>
                        <a:pt x="0" y="722"/>
                      </a:lnTo>
                      <a:lnTo>
                        <a:pt x="116" y="118"/>
                      </a:lnTo>
                      <a:lnTo>
                        <a:pt x="191" y="60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b7de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17680" y="3977280"/>
                  <a:ext cx="41040" cy="52560"/>
                </a:xfrm>
                <a:custGeom>
                  <a:avLst/>
                  <a:gdLst/>
                  <a:ahLst/>
                  <a:rect l="l" t="t" r="r" b="b"/>
                  <a:pathLst>
                    <a:path w="265" h="715">
                      <a:moveTo>
                        <a:pt x="265" y="0"/>
                      </a:moveTo>
                      <a:lnTo>
                        <a:pt x="149" y="604"/>
                      </a:lnTo>
                      <a:lnTo>
                        <a:pt x="75" y="661"/>
                      </a:lnTo>
                      <a:lnTo>
                        <a:pt x="0" y="715"/>
                      </a:lnTo>
                      <a:lnTo>
                        <a:pt x="111" y="113"/>
                      </a:lnTo>
                      <a:lnTo>
                        <a:pt x="189" y="58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solidFill>
                  <a:srgbClr val="b3dd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993920" y="3985200"/>
                  <a:ext cx="41040" cy="52560"/>
                </a:xfrm>
                <a:custGeom>
                  <a:avLst/>
                  <a:gdLst/>
                  <a:ahLst/>
                  <a:rect l="l" t="t" r="r" b="b"/>
                  <a:pathLst>
                    <a:path w="266" h="706">
                      <a:moveTo>
                        <a:pt x="266" y="0"/>
                      </a:moveTo>
                      <a:lnTo>
                        <a:pt x="155" y="602"/>
                      </a:lnTo>
                      <a:lnTo>
                        <a:pt x="78" y="654"/>
                      </a:lnTo>
                      <a:lnTo>
                        <a:pt x="0" y="706"/>
                      </a:lnTo>
                      <a:lnTo>
                        <a:pt x="107" y="107"/>
                      </a:lnTo>
                      <a:lnTo>
                        <a:pt x="187" y="54"/>
                      </a:lnTo>
                      <a:lnTo>
                        <a:pt x="266" y="0"/>
                      </a:lnTo>
                      <a:close/>
                    </a:path>
                  </a:pathLst>
                </a:custGeom>
                <a:solidFill>
                  <a:srgbClr val="adda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68000" y="3992760"/>
                  <a:ext cx="43200" cy="52560"/>
                </a:xfrm>
                <a:custGeom>
                  <a:avLst/>
                  <a:gdLst/>
                  <a:ahLst/>
                  <a:rect l="l" t="t" r="r" b="b"/>
                  <a:pathLst>
                    <a:path w="267" h="698">
                      <a:moveTo>
                        <a:pt x="267" y="0"/>
                      </a:moveTo>
                      <a:lnTo>
                        <a:pt x="160" y="599"/>
                      </a:lnTo>
                      <a:lnTo>
                        <a:pt x="81" y="649"/>
                      </a:lnTo>
                      <a:lnTo>
                        <a:pt x="0" y="698"/>
                      </a:lnTo>
                      <a:lnTo>
                        <a:pt x="102" y="102"/>
                      </a:lnTo>
                      <a:lnTo>
                        <a:pt x="185" y="52"/>
                      </a:lnTo>
                      <a:lnTo>
                        <a:pt x="267" y="0"/>
                      </a:lnTo>
                      <a:close/>
                    </a:path>
                  </a:pathLst>
                </a:custGeom>
                <a:solidFill>
                  <a:srgbClr val="a9d8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957200" y="4000680"/>
                  <a:ext cx="27720" cy="47880"/>
                </a:xfrm>
                <a:custGeom>
                  <a:avLst/>
                  <a:gdLst/>
                  <a:ahLst/>
                  <a:rect l="l" t="t" r="r" b="b"/>
                  <a:pathLst>
                    <a:path w="184" h="643">
                      <a:moveTo>
                        <a:pt x="184" y="0"/>
                      </a:moveTo>
                      <a:lnTo>
                        <a:pt x="82" y="596"/>
                      </a:lnTo>
                      <a:lnTo>
                        <a:pt x="0" y="643"/>
                      </a:lnTo>
                      <a:lnTo>
                        <a:pt x="100" y="48"/>
                      </a:lnTo>
                      <a:lnTo>
                        <a:pt x="184" y="0"/>
                      </a:lnTo>
                      <a:close/>
                    </a:path>
                  </a:pathLst>
                </a:custGeom>
                <a:solidFill>
                  <a:srgbClr val="a6d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929120" y="4005360"/>
                  <a:ext cx="43200" cy="49320"/>
                </a:xfrm>
                <a:custGeom>
                  <a:avLst/>
                  <a:gdLst/>
                  <a:ahLst/>
                  <a:rect l="l" t="t" r="r" b="b"/>
                  <a:pathLst>
                    <a:path w="272" h="683">
                      <a:moveTo>
                        <a:pt x="272" y="0"/>
                      </a:moveTo>
                      <a:lnTo>
                        <a:pt x="172" y="595"/>
                      </a:lnTo>
                      <a:lnTo>
                        <a:pt x="144" y="610"/>
                      </a:lnTo>
                      <a:lnTo>
                        <a:pt x="115" y="625"/>
                      </a:lnTo>
                      <a:lnTo>
                        <a:pt x="87" y="639"/>
                      </a:lnTo>
                      <a:lnTo>
                        <a:pt x="58" y="654"/>
                      </a:lnTo>
                      <a:lnTo>
                        <a:pt x="29" y="669"/>
                      </a:lnTo>
                      <a:lnTo>
                        <a:pt x="0" y="683"/>
                      </a:lnTo>
                      <a:lnTo>
                        <a:pt x="96" y="91"/>
                      </a:lnTo>
                      <a:lnTo>
                        <a:pt x="125" y="76"/>
                      </a:lnTo>
                      <a:lnTo>
                        <a:pt x="154" y="61"/>
                      </a:lnTo>
                      <a:lnTo>
                        <a:pt x="184" y="47"/>
                      </a:lnTo>
                      <a:lnTo>
                        <a:pt x="214" y="31"/>
                      </a:lnTo>
                      <a:lnTo>
                        <a:pt x="242" y="16"/>
                      </a:lnTo>
                      <a:lnTo>
                        <a:pt x="272" y="0"/>
                      </a:lnTo>
                      <a:close/>
                    </a:path>
                  </a:pathLst>
                </a:custGeom>
                <a:solidFill>
                  <a:srgbClr val="a0d4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903200" y="4011480"/>
                  <a:ext cx="40680" cy="49320"/>
                </a:xfrm>
                <a:custGeom>
                  <a:avLst/>
                  <a:gdLst/>
                  <a:ahLst/>
                  <a:rect l="l" t="t" r="r" b="b"/>
                  <a:pathLst>
                    <a:path w="270" h="674">
                      <a:moveTo>
                        <a:pt x="270" y="0"/>
                      </a:moveTo>
                      <a:lnTo>
                        <a:pt x="174" y="592"/>
                      </a:lnTo>
                      <a:lnTo>
                        <a:pt x="146" y="606"/>
                      </a:lnTo>
                      <a:lnTo>
                        <a:pt x="116" y="620"/>
                      </a:lnTo>
                      <a:lnTo>
                        <a:pt x="87" y="634"/>
                      </a:lnTo>
                      <a:lnTo>
                        <a:pt x="59" y="647"/>
                      </a:lnTo>
                      <a:lnTo>
                        <a:pt x="29" y="661"/>
                      </a:lnTo>
                      <a:lnTo>
                        <a:pt x="0" y="674"/>
                      </a:lnTo>
                      <a:lnTo>
                        <a:pt x="90" y="85"/>
                      </a:lnTo>
                      <a:lnTo>
                        <a:pt x="120" y="70"/>
                      </a:lnTo>
                      <a:lnTo>
                        <a:pt x="150" y="57"/>
                      </a:lnTo>
                      <a:lnTo>
                        <a:pt x="180" y="43"/>
                      </a:lnTo>
                      <a:lnTo>
                        <a:pt x="210" y="29"/>
                      </a:lnTo>
                      <a:lnTo>
                        <a:pt x="240" y="14"/>
                      </a:lnTo>
                      <a:lnTo>
                        <a:pt x="270" y="0"/>
                      </a:lnTo>
                      <a:close/>
                    </a:path>
                  </a:pathLst>
                </a:custGeom>
                <a:solidFill>
                  <a:srgbClr val="9ac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83400" y="4017960"/>
                  <a:ext cx="32400" cy="47880"/>
                </a:xfrm>
                <a:custGeom>
                  <a:avLst/>
                  <a:gdLst/>
                  <a:ahLst/>
                  <a:rect l="l" t="t" r="r" b="b"/>
                  <a:pathLst>
                    <a:path w="208" h="643">
                      <a:moveTo>
                        <a:pt x="208" y="0"/>
                      </a:moveTo>
                      <a:lnTo>
                        <a:pt x="118" y="589"/>
                      </a:lnTo>
                      <a:lnTo>
                        <a:pt x="88" y="603"/>
                      </a:lnTo>
                      <a:lnTo>
                        <a:pt x="60" y="617"/>
                      </a:lnTo>
                      <a:lnTo>
                        <a:pt x="30" y="630"/>
                      </a:lnTo>
                      <a:lnTo>
                        <a:pt x="0" y="643"/>
                      </a:lnTo>
                      <a:lnTo>
                        <a:pt x="86" y="54"/>
                      </a:lnTo>
                      <a:lnTo>
                        <a:pt x="117" y="41"/>
                      </a:lnTo>
                      <a:lnTo>
                        <a:pt x="148" y="27"/>
                      </a:lnTo>
                      <a:lnTo>
                        <a:pt x="178" y="14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98c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52800" y="40208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284" h="662">
                      <a:moveTo>
                        <a:pt x="284" y="0"/>
                      </a:moveTo>
                      <a:lnTo>
                        <a:pt x="198" y="589"/>
                      </a:lnTo>
                      <a:lnTo>
                        <a:pt x="132" y="615"/>
                      </a:lnTo>
                      <a:lnTo>
                        <a:pt x="66" y="639"/>
                      </a:lnTo>
                      <a:lnTo>
                        <a:pt x="0" y="662"/>
                      </a:lnTo>
                      <a:lnTo>
                        <a:pt x="80" y="76"/>
                      </a:lnTo>
                      <a:lnTo>
                        <a:pt x="149" y="52"/>
                      </a:lnTo>
                      <a:lnTo>
                        <a:pt x="217" y="26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91bb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22200" y="4026960"/>
                  <a:ext cx="43560" cy="47880"/>
                </a:xfrm>
                <a:custGeom>
                  <a:avLst/>
                  <a:gdLst/>
                  <a:ahLst/>
                  <a:rect l="l" t="t" r="r" b="b"/>
                  <a:pathLst>
                    <a:path w="277" h="653">
                      <a:moveTo>
                        <a:pt x="277" y="0"/>
                      </a:moveTo>
                      <a:lnTo>
                        <a:pt x="197" y="586"/>
                      </a:lnTo>
                      <a:lnTo>
                        <a:pt x="132" y="609"/>
                      </a:lnTo>
                      <a:lnTo>
                        <a:pt x="66" y="631"/>
                      </a:lnTo>
                      <a:lnTo>
                        <a:pt x="0" y="653"/>
                      </a:lnTo>
                      <a:lnTo>
                        <a:pt x="75" y="68"/>
                      </a:lnTo>
                      <a:lnTo>
                        <a:pt x="142" y="46"/>
                      </a:lnTo>
                      <a:lnTo>
                        <a:pt x="210" y="24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8bb2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792320" y="4032000"/>
                  <a:ext cx="43200" cy="47520"/>
                </a:xfrm>
                <a:custGeom>
                  <a:avLst/>
                  <a:gdLst/>
                  <a:ahLst/>
                  <a:rect l="l" t="t" r="r" b="b"/>
                  <a:pathLst>
                    <a:path w="272" h="642">
                      <a:moveTo>
                        <a:pt x="272" y="0"/>
                      </a:moveTo>
                      <a:lnTo>
                        <a:pt x="197" y="585"/>
                      </a:lnTo>
                      <a:lnTo>
                        <a:pt x="132" y="605"/>
                      </a:lnTo>
                      <a:lnTo>
                        <a:pt x="66" y="624"/>
                      </a:lnTo>
                      <a:lnTo>
                        <a:pt x="0" y="642"/>
                      </a:lnTo>
                      <a:lnTo>
                        <a:pt x="69" y="59"/>
                      </a:lnTo>
                      <a:lnTo>
                        <a:pt x="137" y="40"/>
                      </a:lnTo>
                      <a:lnTo>
                        <a:pt x="205" y="21"/>
                      </a:lnTo>
                      <a:lnTo>
                        <a:pt x="272" y="0"/>
                      </a:lnTo>
                      <a:close/>
                    </a:path>
                  </a:pathLst>
                </a:custGeom>
                <a:solidFill>
                  <a:srgbClr val="84a8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761720" y="4036320"/>
                  <a:ext cx="41040" cy="46080"/>
                </a:xfrm>
                <a:custGeom>
                  <a:avLst/>
                  <a:gdLst/>
                  <a:ahLst/>
                  <a:rect l="l" t="t" r="r" b="b"/>
                  <a:pathLst>
                    <a:path w="265" h="633">
                      <a:moveTo>
                        <a:pt x="265" y="0"/>
                      </a:moveTo>
                      <a:lnTo>
                        <a:pt x="196" y="583"/>
                      </a:lnTo>
                      <a:lnTo>
                        <a:pt x="131" y="601"/>
                      </a:lnTo>
                      <a:lnTo>
                        <a:pt x="65" y="618"/>
                      </a:lnTo>
                      <a:lnTo>
                        <a:pt x="0" y="633"/>
                      </a:lnTo>
                      <a:lnTo>
                        <a:pt x="63" y="51"/>
                      </a:lnTo>
                      <a:lnTo>
                        <a:pt x="131" y="36"/>
                      </a:lnTo>
                      <a:lnTo>
                        <a:pt x="199" y="18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solidFill>
                  <a:srgbClr val="83a3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731480" y="4041000"/>
                  <a:ext cx="41040" cy="45000"/>
                </a:xfrm>
                <a:custGeom>
                  <a:avLst/>
                  <a:gdLst/>
                  <a:ahLst/>
                  <a:rect l="l" t="t" r="r" b="b"/>
                  <a:pathLst>
                    <a:path w="260" h="625">
                      <a:moveTo>
                        <a:pt x="260" y="0"/>
                      </a:moveTo>
                      <a:lnTo>
                        <a:pt x="197" y="582"/>
                      </a:lnTo>
                      <a:lnTo>
                        <a:pt x="131" y="597"/>
                      </a:lnTo>
                      <a:lnTo>
                        <a:pt x="65" y="612"/>
                      </a:lnTo>
                      <a:lnTo>
                        <a:pt x="0" y="625"/>
                      </a:lnTo>
                      <a:lnTo>
                        <a:pt x="57" y="44"/>
                      </a:lnTo>
                      <a:lnTo>
                        <a:pt x="125" y="30"/>
                      </a:lnTo>
                      <a:lnTo>
                        <a:pt x="192" y="16"/>
                      </a:lnTo>
                      <a:lnTo>
                        <a:pt x="260" y="0"/>
                      </a:lnTo>
                      <a:close/>
                    </a:path>
                  </a:pathLst>
                </a:custGeom>
                <a:solidFill>
                  <a:srgbClr val="7d9a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4701240" y="4044240"/>
                  <a:ext cx="38520" cy="45000"/>
                </a:xfrm>
                <a:custGeom>
                  <a:avLst/>
                  <a:gdLst/>
                  <a:ahLst/>
                  <a:rect l="l" t="t" r="r" b="b"/>
                  <a:pathLst>
                    <a:path w="256" h="615">
                      <a:moveTo>
                        <a:pt x="256" y="0"/>
                      </a:moveTo>
                      <a:lnTo>
                        <a:pt x="199" y="581"/>
                      </a:lnTo>
                      <a:lnTo>
                        <a:pt x="132" y="593"/>
                      </a:lnTo>
                      <a:lnTo>
                        <a:pt x="66" y="604"/>
                      </a:lnTo>
                      <a:lnTo>
                        <a:pt x="0" y="615"/>
                      </a:lnTo>
                      <a:lnTo>
                        <a:pt x="51" y="35"/>
                      </a:lnTo>
                      <a:lnTo>
                        <a:pt x="120" y="24"/>
                      </a:lnTo>
                      <a:lnTo>
                        <a:pt x="187" y="12"/>
                      </a:lnTo>
                      <a:lnTo>
                        <a:pt x="256" y="0"/>
                      </a:lnTo>
                      <a:close/>
                    </a:path>
                  </a:pathLst>
                </a:custGeom>
                <a:solidFill>
                  <a:srgbClr val="799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670640" y="4045680"/>
                  <a:ext cx="38520" cy="45000"/>
                </a:xfrm>
                <a:custGeom>
                  <a:avLst/>
                  <a:gdLst/>
                  <a:ahLst/>
                  <a:rect l="l" t="t" r="r" b="b"/>
                  <a:pathLst>
                    <a:path w="251" h="607">
                      <a:moveTo>
                        <a:pt x="251" y="0"/>
                      </a:moveTo>
                      <a:lnTo>
                        <a:pt x="200" y="580"/>
                      </a:lnTo>
                      <a:lnTo>
                        <a:pt x="133" y="590"/>
                      </a:lnTo>
                      <a:lnTo>
                        <a:pt x="66" y="599"/>
                      </a:lnTo>
                      <a:lnTo>
                        <a:pt x="0" y="607"/>
                      </a:lnTo>
                      <a:lnTo>
                        <a:pt x="45" y="27"/>
                      </a:lnTo>
                      <a:lnTo>
                        <a:pt x="114" y="19"/>
                      </a:lnTo>
                      <a:lnTo>
                        <a:pt x="182" y="10"/>
                      </a:lnTo>
                      <a:lnTo>
                        <a:pt x="251" y="0"/>
                      </a:lnTo>
                      <a:close/>
                    </a:path>
                  </a:pathLst>
                </a:custGeom>
                <a:solidFill>
                  <a:srgbClr val="758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638240" y="4048920"/>
                  <a:ext cx="38520" cy="43560"/>
                </a:xfrm>
                <a:custGeom>
                  <a:avLst/>
                  <a:gdLst/>
                  <a:ahLst/>
                  <a:rect l="l" t="t" r="r" b="b"/>
                  <a:pathLst>
                    <a:path w="248" h="599">
                      <a:moveTo>
                        <a:pt x="248" y="0"/>
                      </a:moveTo>
                      <a:lnTo>
                        <a:pt x="203" y="580"/>
                      </a:lnTo>
                      <a:lnTo>
                        <a:pt x="135" y="588"/>
                      </a:lnTo>
                      <a:lnTo>
                        <a:pt x="67" y="594"/>
                      </a:lnTo>
                      <a:lnTo>
                        <a:pt x="0" y="599"/>
                      </a:lnTo>
                      <a:lnTo>
                        <a:pt x="39" y="20"/>
                      </a:lnTo>
                      <a:lnTo>
                        <a:pt x="108" y="15"/>
                      </a:lnTo>
                      <a:lnTo>
                        <a:pt x="178" y="8"/>
                      </a:lnTo>
                      <a:lnTo>
                        <a:pt x="248" y="0"/>
                      </a:lnTo>
                      <a:close/>
                    </a:path>
                  </a:pathLst>
                </a:custGeom>
                <a:solidFill>
                  <a:srgbClr val="7386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605840" y="4050360"/>
                  <a:ext cx="38520" cy="43200"/>
                </a:xfrm>
                <a:custGeom>
                  <a:avLst/>
                  <a:gdLst/>
                  <a:ahLst/>
                  <a:rect l="l" t="t" r="r" b="b"/>
                  <a:pathLst>
                    <a:path w="245" h="592">
                      <a:moveTo>
                        <a:pt x="245" y="0"/>
                      </a:moveTo>
                      <a:lnTo>
                        <a:pt x="206" y="579"/>
                      </a:lnTo>
                      <a:lnTo>
                        <a:pt x="137" y="585"/>
                      </a:lnTo>
                      <a:lnTo>
                        <a:pt x="68" y="589"/>
                      </a:lnTo>
                      <a:lnTo>
                        <a:pt x="0" y="592"/>
                      </a:lnTo>
                      <a:lnTo>
                        <a:pt x="32" y="13"/>
                      </a:lnTo>
                      <a:lnTo>
                        <a:pt x="104" y="10"/>
                      </a:lnTo>
                      <a:lnTo>
                        <a:pt x="174" y="5"/>
                      </a:lnTo>
                      <a:lnTo>
                        <a:pt x="245" y="0"/>
                      </a:lnTo>
                      <a:close/>
                    </a:path>
                  </a:pathLst>
                </a:custGeom>
                <a:solidFill>
                  <a:srgbClr val="6f7f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572720" y="4050360"/>
                  <a:ext cx="39240" cy="43200"/>
                </a:xfrm>
                <a:custGeom>
                  <a:avLst/>
                  <a:gdLst/>
                  <a:ahLst/>
                  <a:rect l="l" t="t" r="r" b="b"/>
                  <a:pathLst>
                    <a:path w="243" h="584">
                      <a:moveTo>
                        <a:pt x="243" y="0"/>
                      </a:moveTo>
                      <a:lnTo>
                        <a:pt x="211" y="579"/>
                      </a:lnTo>
                      <a:lnTo>
                        <a:pt x="141" y="581"/>
                      </a:lnTo>
                      <a:lnTo>
                        <a:pt x="71" y="583"/>
                      </a:lnTo>
                      <a:lnTo>
                        <a:pt x="0" y="584"/>
                      </a:lnTo>
                      <a:lnTo>
                        <a:pt x="28" y="5"/>
                      </a:lnTo>
                      <a:lnTo>
                        <a:pt x="100" y="5"/>
                      </a:lnTo>
                      <a:lnTo>
                        <a:pt x="172" y="3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6b78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551120" y="4050360"/>
                  <a:ext cx="25920" cy="43200"/>
                </a:xfrm>
                <a:custGeom>
                  <a:avLst/>
                  <a:gdLst/>
                  <a:ahLst/>
                  <a:rect l="l" t="t" r="r" b="b"/>
                  <a:pathLst>
                    <a:path w="169" h="579">
                      <a:moveTo>
                        <a:pt x="169" y="0"/>
                      </a:moveTo>
                      <a:lnTo>
                        <a:pt x="141" y="579"/>
                      </a:lnTo>
                      <a:lnTo>
                        <a:pt x="71" y="579"/>
                      </a:lnTo>
                      <a:lnTo>
                        <a:pt x="0" y="578"/>
                      </a:lnTo>
                      <a:lnTo>
                        <a:pt x="22" y="0"/>
                      </a:lnTo>
                      <a:lnTo>
                        <a:pt x="96" y="1"/>
                      </a:lnTo>
                      <a:lnTo>
                        <a:pt x="169" y="0"/>
                      </a:lnTo>
                      <a:close/>
                    </a:path>
                  </a:pathLst>
                </a:custGeom>
                <a:solidFill>
                  <a:srgbClr val="6671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490640" y="4048920"/>
                  <a:ext cx="64800" cy="45000"/>
                </a:xfrm>
                <a:custGeom>
                  <a:avLst/>
                  <a:gdLst/>
                  <a:ahLst/>
                  <a:rect l="l" t="t" r="r" b="b"/>
                  <a:pathLst>
                    <a:path w="412" h="607">
                      <a:moveTo>
                        <a:pt x="412" y="29"/>
                      </a:moveTo>
                      <a:lnTo>
                        <a:pt x="390" y="607"/>
                      </a:lnTo>
                      <a:lnTo>
                        <a:pt x="0" y="579"/>
                      </a:lnTo>
                      <a:lnTo>
                        <a:pt x="11" y="0"/>
                      </a:lnTo>
                      <a:lnTo>
                        <a:pt x="412" y="29"/>
                      </a:lnTo>
                      <a:close/>
                    </a:path>
                  </a:pathLst>
                </a:custGeom>
                <a:solidFill>
                  <a:srgbClr val="5c63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460040" y="4047480"/>
                  <a:ext cx="32400" cy="45000"/>
                </a:xfrm>
                <a:custGeom>
                  <a:avLst/>
                  <a:gdLst/>
                  <a:ahLst/>
                  <a:rect l="l" t="t" r="r" b="b"/>
                  <a:pathLst>
                    <a:path w="208" h="609">
                      <a:moveTo>
                        <a:pt x="208" y="30"/>
                      </a:moveTo>
                      <a:lnTo>
                        <a:pt x="197" y="609"/>
                      </a:lnTo>
                      <a:lnTo>
                        <a:pt x="99" y="595"/>
                      </a:lnTo>
                      <a:lnTo>
                        <a:pt x="0" y="581"/>
                      </a:lnTo>
                      <a:lnTo>
                        <a:pt x="6" y="0"/>
                      </a:lnTo>
                      <a:lnTo>
                        <a:pt x="107" y="16"/>
                      </a:lnTo>
                      <a:lnTo>
                        <a:pt x="208" y="30"/>
                      </a:lnTo>
                      <a:close/>
                    </a:path>
                  </a:pathLst>
                </a:custGeom>
                <a:solidFill>
                  <a:srgbClr val="5052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429800" y="4044240"/>
                  <a:ext cx="32400" cy="45000"/>
                </a:xfrm>
                <a:custGeom>
                  <a:avLst/>
                  <a:gdLst/>
                  <a:ahLst/>
                  <a:rect l="l" t="t" r="r" b="b"/>
                  <a:pathLst>
                    <a:path w="202" h="618">
                      <a:moveTo>
                        <a:pt x="202" y="37"/>
                      </a:moveTo>
                      <a:lnTo>
                        <a:pt x="196" y="618"/>
                      </a:lnTo>
                      <a:lnTo>
                        <a:pt x="99" y="600"/>
                      </a:lnTo>
                      <a:lnTo>
                        <a:pt x="0" y="581"/>
                      </a:lnTo>
                      <a:lnTo>
                        <a:pt x="0" y="0"/>
                      </a:lnTo>
                      <a:lnTo>
                        <a:pt x="101" y="19"/>
                      </a:lnTo>
                      <a:lnTo>
                        <a:pt x="202" y="37"/>
                      </a:lnTo>
                      <a:close/>
                    </a:path>
                  </a:pathLst>
                </a:custGeom>
                <a:solidFill>
                  <a:srgbClr val="4949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399560" y="4041000"/>
                  <a:ext cx="29880" cy="46080"/>
                </a:xfrm>
                <a:custGeom>
                  <a:avLst/>
                  <a:gdLst/>
                  <a:ahLst/>
                  <a:rect l="l" t="t" r="r" b="b"/>
                  <a:pathLst>
                    <a:path w="201" h="626">
                      <a:moveTo>
                        <a:pt x="201" y="45"/>
                      </a:moveTo>
                      <a:lnTo>
                        <a:pt x="201" y="626"/>
                      </a:lnTo>
                      <a:lnTo>
                        <a:pt x="104" y="605"/>
                      </a:lnTo>
                      <a:lnTo>
                        <a:pt x="8" y="584"/>
                      </a:lnTo>
                      <a:lnTo>
                        <a:pt x="0" y="0"/>
                      </a:lnTo>
                      <a:lnTo>
                        <a:pt x="101" y="24"/>
                      </a:lnTo>
                      <a:lnTo>
                        <a:pt x="201" y="45"/>
                      </a:lnTo>
                      <a:close/>
                    </a:path>
                  </a:pathLst>
                </a:custGeom>
                <a:solidFill>
                  <a:srgbClr val="414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369320" y="4036320"/>
                  <a:ext cx="30240" cy="47880"/>
                </a:xfrm>
                <a:custGeom>
                  <a:avLst/>
                  <a:gdLst/>
                  <a:ahLst/>
                  <a:rect l="l" t="t" r="r" b="b"/>
                  <a:pathLst>
                    <a:path w="206" h="635">
                      <a:moveTo>
                        <a:pt x="198" y="51"/>
                      </a:moveTo>
                      <a:lnTo>
                        <a:pt x="206" y="635"/>
                      </a:lnTo>
                      <a:lnTo>
                        <a:pt x="108" y="610"/>
                      </a:lnTo>
                      <a:lnTo>
                        <a:pt x="13" y="584"/>
                      </a:lnTo>
                      <a:lnTo>
                        <a:pt x="0" y="0"/>
                      </a:lnTo>
                      <a:lnTo>
                        <a:pt x="99" y="26"/>
                      </a:lnTo>
                      <a:lnTo>
                        <a:pt x="198" y="51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338720" y="4032000"/>
                  <a:ext cx="32400" cy="47520"/>
                </a:xfrm>
                <a:custGeom>
                  <a:avLst/>
                  <a:gdLst/>
                  <a:ahLst/>
                  <a:rect l="l" t="t" r="r" b="b"/>
                  <a:pathLst>
                    <a:path w="207" h="644">
                      <a:moveTo>
                        <a:pt x="194" y="60"/>
                      </a:moveTo>
                      <a:lnTo>
                        <a:pt x="207" y="644"/>
                      </a:lnTo>
                      <a:lnTo>
                        <a:pt x="111" y="615"/>
                      </a:lnTo>
                      <a:lnTo>
                        <a:pt x="17" y="586"/>
                      </a:lnTo>
                      <a:lnTo>
                        <a:pt x="0" y="0"/>
                      </a:lnTo>
                      <a:lnTo>
                        <a:pt x="97" y="31"/>
                      </a:lnTo>
                      <a:lnTo>
                        <a:pt x="194" y="60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308120" y="4026960"/>
                  <a:ext cx="32760" cy="47880"/>
                </a:xfrm>
                <a:custGeom>
                  <a:avLst/>
                  <a:gdLst/>
                  <a:ahLst/>
                  <a:rect l="l" t="t" r="r" b="b"/>
                  <a:pathLst>
                    <a:path w="210" h="654">
                      <a:moveTo>
                        <a:pt x="193" y="68"/>
                      </a:moveTo>
                      <a:lnTo>
                        <a:pt x="210" y="654"/>
                      </a:lnTo>
                      <a:lnTo>
                        <a:pt x="117" y="622"/>
                      </a:lnTo>
                      <a:lnTo>
                        <a:pt x="23" y="588"/>
                      </a:lnTo>
                      <a:lnTo>
                        <a:pt x="0" y="0"/>
                      </a:lnTo>
                      <a:lnTo>
                        <a:pt x="96" y="36"/>
                      </a:lnTo>
                      <a:lnTo>
                        <a:pt x="193" y="68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280040" y="4022280"/>
                  <a:ext cx="32400" cy="47880"/>
                </a:xfrm>
                <a:custGeom>
                  <a:avLst/>
                  <a:gdLst/>
                  <a:ahLst/>
                  <a:rect l="l" t="t" r="r" b="b"/>
                  <a:pathLst>
                    <a:path w="211" h="664">
                      <a:moveTo>
                        <a:pt x="188" y="76"/>
                      </a:moveTo>
                      <a:lnTo>
                        <a:pt x="211" y="664"/>
                      </a:lnTo>
                      <a:lnTo>
                        <a:pt x="120" y="628"/>
                      </a:lnTo>
                      <a:lnTo>
                        <a:pt x="29" y="590"/>
                      </a:lnTo>
                      <a:lnTo>
                        <a:pt x="0" y="0"/>
                      </a:lnTo>
                      <a:lnTo>
                        <a:pt x="94" y="40"/>
                      </a:lnTo>
                      <a:lnTo>
                        <a:pt x="188" y="76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251960" y="4016520"/>
                  <a:ext cx="32400" cy="49320"/>
                </a:xfrm>
                <a:custGeom>
                  <a:avLst/>
                  <a:gdLst/>
                  <a:ahLst/>
                  <a:rect l="l" t="t" r="r" b="b"/>
                  <a:pathLst>
                    <a:path w="212" h="674">
                      <a:moveTo>
                        <a:pt x="183" y="84"/>
                      </a:moveTo>
                      <a:lnTo>
                        <a:pt x="212" y="674"/>
                      </a:lnTo>
                      <a:lnTo>
                        <a:pt x="123" y="634"/>
                      </a:lnTo>
                      <a:lnTo>
                        <a:pt x="33" y="591"/>
                      </a:lnTo>
                      <a:lnTo>
                        <a:pt x="0" y="0"/>
                      </a:lnTo>
                      <a:lnTo>
                        <a:pt x="91" y="43"/>
                      </a:lnTo>
                      <a:lnTo>
                        <a:pt x="183" y="84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223520" y="4008240"/>
                  <a:ext cx="32760" cy="51120"/>
                </a:xfrm>
                <a:custGeom>
                  <a:avLst/>
                  <a:gdLst/>
                  <a:ahLst/>
                  <a:rect l="l" t="t" r="r" b="b"/>
                  <a:pathLst>
                    <a:path w="212" h="686">
                      <a:moveTo>
                        <a:pt x="179" y="95"/>
                      </a:moveTo>
                      <a:lnTo>
                        <a:pt x="212" y="686"/>
                      </a:lnTo>
                      <a:lnTo>
                        <a:pt x="125" y="642"/>
                      </a:lnTo>
                      <a:lnTo>
                        <a:pt x="39" y="595"/>
                      </a:lnTo>
                      <a:lnTo>
                        <a:pt x="0" y="0"/>
                      </a:lnTo>
                      <a:lnTo>
                        <a:pt x="89" y="48"/>
                      </a:lnTo>
                      <a:lnTo>
                        <a:pt x="179" y="95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197600" y="4000680"/>
                  <a:ext cx="32760" cy="51120"/>
                </a:xfrm>
                <a:custGeom>
                  <a:avLst/>
                  <a:gdLst/>
                  <a:ahLst/>
                  <a:rect l="l" t="t" r="r" b="b"/>
                  <a:pathLst>
                    <a:path w="211" h="698">
                      <a:moveTo>
                        <a:pt x="172" y="103"/>
                      </a:moveTo>
                      <a:lnTo>
                        <a:pt x="211" y="698"/>
                      </a:lnTo>
                      <a:lnTo>
                        <a:pt x="127" y="649"/>
                      </a:lnTo>
                      <a:lnTo>
                        <a:pt x="44" y="598"/>
                      </a:lnTo>
                      <a:lnTo>
                        <a:pt x="0" y="0"/>
                      </a:lnTo>
                      <a:lnTo>
                        <a:pt x="86" y="53"/>
                      </a:lnTo>
                      <a:lnTo>
                        <a:pt x="172" y="10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172040" y="3992760"/>
                  <a:ext cx="32400" cy="52560"/>
                </a:xfrm>
                <a:custGeom>
                  <a:avLst/>
                  <a:gdLst/>
                  <a:ahLst/>
                  <a:rect l="l" t="t" r="r" b="b"/>
                  <a:pathLst>
                    <a:path w="210" h="710">
                      <a:moveTo>
                        <a:pt x="166" y="112"/>
                      </a:moveTo>
                      <a:lnTo>
                        <a:pt x="210" y="710"/>
                      </a:lnTo>
                      <a:lnTo>
                        <a:pt x="129" y="656"/>
                      </a:lnTo>
                      <a:lnTo>
                        <a:pt x="49" y="599"/>
                      </a:lnTo>
                      <a:lnTo>
                        <a:pt x="0" y="0"/>
                      </a:lnTo>
                      <a:lnTo>
                        <a:pt x="82" y="57"/>
                      </a:lnTo>
                      <a:lnTo>
                        <a:pt x="166" y="112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145760" y="3983760"/>
                  <a:ext cx="32400" cy="52560"/>
                </a:xfrm>
                <a:custGeom>
                  <a:avLst/>
                  <a:gdLst/>
                  <a:ahLst/>
                  <a:rect l="l" t="t" r="r" b="b"/>
                  <a:pathLst>
                    <a:path w="208" h="722">
                      <a:moveTo>
                        <a:pt x="159" y="123"/>
                      </a:moveTo>
                      <a:lnTo>
                        <a:pt x="208" y="722"/>
                      </a:lnTo>
                      <a:lnTo>
                        <a:pt x="130" y="664"/>
                      </a:lnTo>
                      <a:lnTo>
                        <a:pt x="53" y="604"/>
                      </a:lnTo>
                      <a:lnTo>
                        <a:pt x="0" y="0"/>
                      </a:lnTo>
                      <a:lnTo>
                        <a:pt x="79" y="62"/>
                      </a:lnTo>
                      <a:lnTo>
                        <a:pt x="159" y="12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124160" y="3974040"/>
                  <a:ext cx="29880" cy="54360"/>
                </a:xfrm>
                <a:custGeom>
                  <a:avLst/>
                  <a:gdLst/>
                  <a:ahLst/>
                  <a:rect l="l" t="t" r="r" b="b"/>
                  <a:pathLst>
                    <a:path w="205" h="737">
                      <a:moveTo>
                        <a:pt x="152" y="133"/>
                      </a:moveTo>
                      <a:lnTo>
                        <a:pt x="205" y="737"/>
                      </a:lnTo>
                      <a:lnTo>
                        <a:pt x="130" y="673"/>
                      </a:lnTo>
                      <a:lnTo>
                        <a:pt x="57" y="608"/>
                      </a:lnTo>
                      <a:lnTo>
                        <a:pt x="0" y="0"/>
                      </a:lnTo>
                      <a:lnTo>
                        <a:pt x="75" y="68"/>
                      </a:lnTo>
                      <a:lnTo>
                        <a:pt x="152" y="13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100040" y="3963600"/>
                  <a:ext cx="32400" cy="55440"/>
                </a:xfrm>
                <a:custGeom>
                  <a:avLst/>
                  <a:gdLst/>
                  <a:ahLst/>
                  <a:rect l="l" t="t" r="r" b="b"/>
                  <a:pathLst>
                    <a:path w="201" h="751">
                      <a:moveTo>
                        <a:pt x="144" y="143"/>
                      </a:moveTo>
                      <a:lnTo>
                        <a:pt x="201" y="751"/>
                      </a:lnTo>
                      <a:lnTo>
                        <a:pt x="132" y="682"/>
                      </a:lnTo>
                      <a:lnTo>
                        <a:pt x="63" y="611"/>
                      </a:lnTo>
                      <a:lnTo>
                        <a:pt x="0" y="0"/>
                      </a:lnTo>
                      <a:lnTo>
                        <a:pt x="71" y="73"/>
                      </a:lnTo>
                      <a:lnTo>
                        <a:pt x="144" y="143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080240" y="3952800"/>
                  <a:ext cx="30240" cy="55440"/>
                </a:xfrm>
                <a:custGeom>
                  <a:avLst/>
                  <a:gdLst/>
                  <a:ahLst/>
                  <a:rect l="l" t="t" r="r" b="b"/>
                  <a:pathLst>
                    <a:path w="197" h="764">
                      <a:moveTo>
                        <a:pt x="134" y="153"/>
                      </a:moveTo>
                      <a:lnTo>
                        <a:pt x="197" y="764"/>
                      </a:lnTo>
                      <a:lnTo>
                        <a:pt x="130" y="691"/>
                      </a:lnTo>
                      <a:lnTo>
                        <a:pt x="66" y="615"/>
                      </a:lnTo>
                      <a:lnTo>
                        <a:pt x="0" y="0"/>
                      </a:lnTo>
                      <a:lnTo>
                        <a:pt x="67" y="78"/>
                      </a:lnTo>
                      <a:lnTo>
                        <a:pt x="134" y="153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061160" y="3940200"/>
                  <a:ext cx="27720" cy="57600"/>
                </a:xfrm>
                <a:custGeom>
                  <a:avLst/>
                  <a:gdLst/>
                  <a:ahLst/>
                  <a:rect l="l" t="t" r="r" b="b"/>
                  <a:pathLst>
                    <a:path w="191" h="780">
                      <a:moveTo>
                        <a:pt x="125" y="165"/>
                      </a:moveTo>
                      <a:lnTo>
                        <a:pt x="191" y="780"/>
                      </a:lnTo>
                      <a:lnTo>
                        <a:pt x="129" y="701"/>
                      </a:lnTo>
                      <a:lnTo>
                        <a:pt x="70" y="620"/>
                      </a:lnTo>
                      <a:lnTo>
                        <a:pt x="0" y="0"/>
                      </a:lnTo>
                      <a:lnTo>
                        <a:pt x="62" y="83"/>
                      </a:lnTo>
                      <a:lnTo>
                        <a:pt x="125" y="165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032720" y="3938760"/>
                  <a:ext cx="39240" cy="46080"/>
                </a:xfrm>
                <a:custGeom>
                  <a:avLst/>
                  <a:gdLst/>
                  <a:ahLst/>
                  <a:rect l="l" t="t" r="r" b="b"/>
                  <a:pathLst>
                    <a:path w="250" h="643">
                      <a:moveTo>
                        <a:pt x="180" y="23"/>
                      </a:moveTo>
                      <a:lnTo>
                        <a:pt x="250" y="643"/>
                      </a:lnTo>
                      <a:lnTo>
                        <a:pt x="162" y="632"/>
                      </a:lnTo>
                      <a:lnTo>
                        <a:pt x="73" y="621"/>
                      </a:lnTo>
                      <a:lnTo>
                        <a:pt x="0" y="0"/>
                      </a:lnTo>
                      <a:lnTo>
                        <a:pt x="90" y="13"/>
                      </a:lnTo>
                      <a:lnTo>
                        <a:pt x="180" y="23"/>
                      </a:lnTo>
                      <a:close/>
                    </a:path>
                  </a:pathLst>
                </a:custGeom>
                <a:solidFill>
                  <a:srgbClr val="5356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004640" y="3935520"/>
                  <a:ext cx="38520" cy="47880"/>
                </a:xfrm>
                <a:custGeom>
                  <a:avLst/>
                  <a:gdLst/>
                  <a:ahLst/>
                  <a:rect l="l" t="t" r="r" b="b"/>
                  <a:pathLst>
                    <a:path w="254" h="650">
                      <a:moveTo>
                        <a:pt x="181" y="29"/>
                      </a:moveTo>
                      <a:lnTo>
                        <a:pt x="254" y="650"/>
                      </a:lnTo>
                      <a:lnTo>
                        <a:pt x="167" y="636"/>
                      </a:lnTo>
                      <a:lnTo>
                        <a:pt x="80" y="621"/>
                      </a:lnTo>
                      <a:lnTo>
                        <a:pt x="0" y="0"/>
                      </a:lnTo>
                      <a:lnTo>
                        <a:pt x="90" y="16"/>
                      </a:lnTo>
                      <a:lnTo>
                        <a:pt x="181" y="29"/>
                      </a:lnTo>
                      <a:close/>
                    </a:path>
                  </a:pathLst>
                </a:custGeom>
                <a:solidFill>
                  <a:srgbClr val="4c4d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976560" y="3934080"/>
                  <a:ext cx="40680" cy="47880"/>
                </a:xfrm>
                <a:custGeom>
                  <a:avLst/>
                  <a:gdLst/>
                  <a:ahLst/>
                  <a:rect l="l" t="t" r="r" b="b"/>
                  <a:pathLst>
                    <a:path w="258" h="656">
                      <a:moveTo>
                        <a:pt x="178" y="35"/>
                      </a:moveTo>
                      <a:lnTo>
                        <a:pt x="258" y="656"/>
                      </a:lnTo>
                      <a:lnTo>
                        <a:pt x="171" y="639"/>
                      </a:lnTo>
                      <a:lnTo>
                        <a:pt x="85" y="621"/>
                      </a:lnTo>
                      <a:lnTo>
                        <a:pt x="0" y="0"/>
                      </a:lnTo>
                      <a:lnTo>
                        <a:pt x="89" y="18"/>
                      </a:lnTo>
                      <a:lnTo>
                        <a:pt x="178" y="35"/>
                      </a:lnTo>
                      <a:close/>
                    </a:path>
                  </a:pathLst>
                </a:custGeom>
                <a:solidFill>
                  <a:srgbClr val="4544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950640" y="3929400"/>
                  <a:ext cx="38520" cy="49320"/>
                </a:xfrm>
                <a:custGeom>
                  <a:avLst/>
                  <a:gdLst/>
                  <a:ahLst/>
                  <a:rect l="l" t="t" r="r" b="b"/>
                  <a:pathLst>
                    <a:path w="262" h="665">
                      <a:moveTo>
                        <a:pt x="177" y="44"/>
                      </a:moveTo>
                      <a:lnTo>
                        <a:pt x="262" y="665"/>
                      </a:lnTo>
                      <a:lnTo>
                        <a:pt x="176" y="646"/>
                      </a:lnTo>
                      <a:lnTo>
                        <a:pt x="89" y="624"/>
                      </a:lnTo>
                      <a:lnTo>
                        <a:pt x="0" y="0"/>
                      </a:lnTo>
                      <a:lnTo>
                        <a:pt x="88" y="23"/>
                      </a:lnTo>
                      <a:lnTo>
                        <a:pt x="177" y="44"/>
                      </a:lnTo>
                      <a:close/>
                    </a:path>
                  </a:pathLst>
                </a:custGeom>
                <a:solidFill>
                  <a:srgbClr val="3c39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3921840" y="3926160"/>
                  <a:ext cx="41040" cy="49320"/>
                </a:xfrm>
                <a:custGeom>
                  <a:avLst/>
                  <a:gdLst/>
                  <a:ahLst/>
                  <a:rect l="l" t="t" r="r" b="b"/>
                  <a:pathLst>
                    <a:path w="264" h="673">
                      <a:moveTo>
                        <a:pt x="175" y="49"/>
                      </a:moveTo>
                      <a:lnTo>
                        <a:pt x="264" y="673"/>
                      </a:lnTo>
                      <a:lnTo>
                        <a:pt x="179" y="649"/>
                      </a:lnTo>
                      <a:lnTo>
                        <a:pt x="95" y="624"/>
                      </a:lnTo>
                      <a:lnTo>
                        <a:pt x="0" y="0"/>
                      </a:lnTo>
                      <a:lnTo>
                        <a:pt x="87" y="25"/>
                      </a:lnTo>
                      <a:lnTo>
                        <a:pt x="175" y="4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896280" y="3921840"/>
                  <a:ext cx="40680" cy="50760"/>
                </a:xfrm>
                <a:custGeom>
                  <a:avLst/>
                  <a:gdLst/>
                  <a:ahLst/>
                  <a:rect l="l" t="t" r="r" b="b"/>
                  <a:pathLst>
                    <a:path w="266" h="681">
                      <a:moveTo>
                        <a:pt x="171" y="57"/>
                      </a:moveTo>
                      <a:lnTo>
                        <a:pt x="266" y="681"/>
                      </a:lnTo>
                      <a:lnTo>
                        <a:pt x="182" y="654"/>
                      </a:lnTo>
                      <a:lnTo>
                        <a:pt x="99" y="625"/>
                      </a:lnTo>
                      <a:lnTo>
                        <a:pt x="0" y="0"/>
                      </a:lnTo>
                      <a:lnTo>
                        <a:pt x="85" y="29"/>
                      </a:lnTo>
                      <a:lnTo>
                        <a:pt x="171" y="57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870360" y="3916800"/>
                  <a:ext cx="40680" cy="51120"/>
                </a:xfrm>
                <a:custGeom>
                  <a:avLst/>
                  <a:gdLst/>
                  <a:ahLst/>
                  <a:rect l="l" t="t" r="r" b="b"/>
                  <a:pathLst>
                    <a:path w="269" h="690">
                      <a:moveTo>
                        <a:pt x="170" y="65"/>
                      </a:moveTo>
                      <a:lnTo>
                        <a:pt x="269" y="690"/>
                      </a:lnTo>
                      <a:lnTo>
                        <a:pt x="187" y="660"/>
                      </a:lnTo>
                      <a:lnTo>
                        <a:pt x="105" y="628"/>
                      </a:lnTo>
                      <a:lnTo>
                        <a:pt x="0" y="0"/>
                      </a:lnTo>
                      <a:lnTo>
                        <a:pt x="84" y="33"/>
                      </a:lnTo>
                      <a:lnTo>
                        <a:pt x="170" y="65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844080" y="3912120"/>
                  <a:ext cx="40680" cy="51120"/>
                </a:xfrm>
                <a:custGeom>
                  <a:avLst/>
                  <a:gdLst/>
                  <a:ahLst/>
                  <a:rect l="l" t="t" r="r" b="b"/>
                  <a:pathLst>
                    <a:path w="270" h="700">
                      <a:moveTo>
                        <a:pt x="165" y="72"/>
                      </a:moveTo>
                      <a:lnTo>
                        <a:pt x="270" y="700"/>
                      </a:lnTo>
                      <a:lnTo>
                        <a:pt x="190" y="666"/>
                      </a:lnTo>
                      <a:lnTo>
                        <a:pt x="110" y="629"/>
                      </a:lnTo>
                      <a:lnTo>
                        <a:pt x="0" y="0"/>
                      </a:lnTo>
                      <a:lnTo>
                        <a:pt x="82" y="37"/>
                      </a:lnTo>
                      <a:lnTo>
                        <a:pt x="165" y="72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819960" y="3906000"/>
                  <a:ext cx="41040" cy="52560"/>
                </a:xfrm>
                <a:custGeom>
                  <a:avLst/>
                  <a:gdLst/>
                  <a:ahLst/>
                  <a:rect l="l" t="t" r="r" b="b"/>
                  <a:pathLst>
                    <a:path w="270" h="709">
                      <a:moveTo>
                        <a:pt x="160" y="80"/>
                      </a:moveTo>
                      <a:lnTo>
                        <a:pt x="270" y="709"/>
                      </a:lnTo>
                      <a:lnTo>
                        <a:pt x="191" y="672"/>
                      </a:lnTo>
                      <a:lnTo>
                        <a:pt x="114" y="632"/>
                      </a:lnTo>
                      <a:lnTo>
                        <a:pt x="0" y="0"/>
                      </a:lnTo>
                      <a:lnTo>
                        <a:pt x="80" y="41"/>
                      </a:lnTo>
                      <a:lnTo>
                        <a:pt x="160" y="80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3794040" y="3899880"/>
                  <a:ext cx="43200" cy="52560"/>
                </a:xfrm>
                <a:custGeom>
                  <a:avLst/>
                  <a:gdLst/>
                  <a:ahLst/>
                  <a:rect l="l" t="t" r="r" b="b"/>
                  <a:pathLst>
                    <a:path w="270" h="719">
                      <a:moveTo>
                        <a:pt x="156" y="87"/>
                      </a:moveTo>
                      <a:lnTo>
                        <a:pt x="270" y="719"/>
                      </a:lnTo>
                      <a:lnTo>
                        <a:pt x="193" y="677"/>
                      </a:lnTo>
                      <a:lnTo>
                        <a:pt x="118" y="634"/>
                      </a:lnTo>
                      <a:lnTo>
                        <a:pt x="0" y="0"/>
                      </a:lnTo>
                      <a:lnTo>
                        <a:pt x="77" y="44"/>
                      </a:lnTo>
                      <a:lnTo>
                        <a:pt x="156" y="87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772440" y="3892320"/>
                  <a:ext cx="41040" cy="54000"/>
                </a:xfrm>
                <a:custGeom>
                  <a:avLst/>
                  <a:gdLst/>
                  <a:ahLst/>
                  <a:rect l="l" t="t" r="r" b="b"/>
                  <a:pathLst>
                    <a:path w="268" h="730">
                      <a:moveTo>
                        <a:pt x="150" y="96"/>
                      </a:moveTo>
                      <a:lnTo>
                        <a:pt x="268" y="730"/>
                      </a:lnTo>
                      <a:lnTo>
                        <a:pt x="195" y="684"/>
                      </a:lnTo>
                      <a:lnTo>
                        <a:pt x="122" y="636"/>
                      </a:lnTo>
                      <a:lnTo>
                        <a:pt x="0" y="0"/>
                      </a:lnTo>
                      <a:lnTo>
                        <a:pt x="75" y="49"/>
                      </a:lnTo>
                      <a:lnTo>
                        <a:pt x="150" y="96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748680" y="3884400"/>
                  <a:ext cx="40680" cy="55440"/>
                </a:xfrm>
                <a:custGeom>
                  <a:avLst/>
                  <a:gdLst/>
                  <a:ahLst/>
                  <a:rect l="l" t="t" r="r" b="b"/>
                  <a:pathLst>
                    <a:path w="268" h="740">
                      <a:moveTo>
                        <a:pt x="146" y="104"/>
                      </a:moveTo>
                      <a:lnTo>
                        <a:pt x="268" y="740"/>
                      </a:lnTo>
                      <a:lnTo>
                        <a:pt x="197" y="691"/>
                      </a:lnTo>
                      <a:lnTo>
                        <a:pt x="127" y="639"/>
                      </a:lnTo>
                      <a:lnTo>
                        <a:pt x="0" y="0"/>
                      </a:lnTo>
                      <a:lnTo>
                        <a:pt x="72" y="53"/>
                      </a:lnTo>
                      <a:lnTo>
                        <a:pt x="146" y="104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727080" y="3876840"/>
                  <a:ext cx="40680" cy="55440"/>
                </a:xfrm>
                <a:custGeom>
                  <a:avLst/>
                  <a:gdLst/>
                  <a:ahLst/>
                  <a:rect l="l" t="t" r="r" b="b"/>
                  <a:pathLst>
                    <a:path w="265" h="752">
                      <a:moveTo>
                        <a:pt x="138" y="113"/>
                      </a:moveTo>
                      <a:lnTo>
                        <a:pt x="265" y="752"/>
                      </a:lnTo>
                      <a:lnTo>
                        <a:pt x="198" y="699"/>
                      </a:lnTo>
                      <a:lnTo>
                        <a:pt x="131" y="643"/>
                      </a:lnTo>
                      <a:lnTo>
                        <a:pt x="0" y="0"/>
                      </a:lnTo>
                      <a:lnTo>
                        <a:pt x="68" y="57"/>
                      </a:lnTo>
                      <a:lnTo>
                        <a:pt x="138" y="113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707280" y="3867120"/>
                  <a:ext cx="41040" cy="57240"/>
                </a:xfrm>
                <a:custGeom>
                  <a:avLst/>
                  <a:gdLst/>
                  <a:ahLst/>
                  <a:rect l="l" t="t" r="r" b="b"/>
                  <a:pathLst>
                    <a:path w="263" h="764">
                      <a:moveTo>
                        <a:pt x="132" y="121"/>
                      </a:moveTo>
                      <a:lnTo>
                        <a:pt x="263" y="764"/>
                      </a:lnTo>
                      <a:lnTo>
                        <a:pt x="197" y="706"/>
                      </a:lnTo>
                      <a:lnTo>
                        <a:pt x="135" y="646"/>
                      </a:lnTo>
                      <a:lnTo>
                        <a:pt x="0" y="0"/>
                      </a:lnTo>
                      <a:lnTo>
                        <a:pt x="65" y="62"/>
                      </a:lnTo>
                      <a:lnTo>
                        <a:pt x="132" y="121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687840" y="3858120"/>
                  <a:ext cx="41040" cy="57240"/>
                </a:xfrm>
                <a:custGeom>
                  <a:avLst/>
                  <a:gdLst/>
                  <a:ahLst/>
                  <a:rect l="l" t="t" r="r" b="b"/>
                  <a:pathLst>
                    <a:path w="260" h="776">
                      <a:moveTo>
                        <a:pt x="125" y="130"/>
                      </a:moveTo>
                      <a:lnTo>
                        <a:pt x="260" y="776"/>
                      </a:lnTo>
                      <a:lnTo>
                        <a:pt x="198" y="713"/>
                      </a:lnTo>
                      <a:lnTo>
                        <a:pt x="139" y="650"/>
                      </a:lnTo>
                      <a:lnTo>
                        <a:pt x="0" y="0"/>
                      </a:lnTo>
                      <a:lnTo>
                        <a:pt x="62" y="67"/>
                      </a:lnTo>
                      <a:lnTo>
                        <a:pt x="125" y="130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670560" y="3847320"/>
                  <a:ext cx="38520" cy="58680"/>
                </a:xfrm>
                <a:custGeom>
                  <a:avLst/>
                  <a:gdLst/>
                  <a:ahLst/>
                  <a:rect l="l" t="t" r="r" b="b"/>
                  <a:pathLst>
                    <a:path w="256" h="788">
                      <a:moveTo>
                        <a:pt x="117" y="138"/>
                      </a:moveTo>
                      <a:lnTo>
                        <a:pt x="256" y="788"/>
                      </a:lnTo>
                      <a:lnTo>
                        <a:pt x="197" y="721"/>
                      </a:lnTo>
                      <a:lnTo>
                        <a:pt x="142" y="653"/>
                      </a:lnTo>
                      <a:lnTo>
                        <a:pt x="0" y="0"/>
                      </a:lnTo>
                      <a:lnTo>
                        <a:pt x="58" y="70"/>
                      </a:lnTo>
                      <a:lnTo>
                        <a:pt x="117" y="138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587760" y="3761640"/>
                  <a:ext cx="50040" cy="51120"/>
                </a:xfrm>
                <a:custGeom>
                  <a:avLst/>
                  <a:gdLst/>
                  <a:ahLst/>
                  <a:rect l="l" t="t" r="r" b="b"/>
                  <a:pathLst>
                    <a:path w="332" h="686">
                      <a:moveTo>
                        <a:pt x="182" y="0"/>
                      </a:moveTo>
                      <a:lnTo>
                        <a:pt x="332" y="684"/>
                      </a:lnTo>
                      <a:lnTo>
                        <a:pt x="244" y="686"/>
                      </a:lnTo>
                      <a:lnTo>
                        <a:pt x="156" y="685"/>
                      </a:lnTo>
                      <a:lnTo>
                        <a:pt x="0" y="0"/>
                      </a:lnTo>
                      <a:lnTo>
                        <a:pt x="91" y="1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6671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559680" y="3761640"/>
                  <a:ext cx="51840" cy="51120"/>
                </a:xfrm>
                <a:custGeom>
                  <a:avLst/>
                  <a:gdLst/>
                  <a:ahLst/>
                  <a:rect l="l" t="t" r="r" b="b"/>
                  <a:pathLst>
                    <a:path w="336" h="694">
                      <a:moveTo>
                        <a:pt x="180" y="9"/>
                      </a:moveTo>
                      <a:lnTo>
                        <a:pt x="336" y="694"/>
                      </a:lnTo>
                      <a:lnTo>
                        <a:pt x="249" y="689"/>
                      </a:lnTo>
                      <a:lnTo>
                        <a:pt x="161" y="684"/>
                      </a:lnTo>
                      <a:lnTo>
                        <a:pt x="0" y="0"/>
                      </a:lnTo>
                      <a:lnTo>
                        <a:pt x="90" y="6"/>
                      </a:lnTo>
                      <a:lnTo>
                        <a:pt x="180" y="9"/>
                      </a:lnTo>
                      <a:close/>
                    </a:path>
                  </a:pathLst>
                </a:custGeom>
                <a:solidFill>
                  <a:srgbClr val="5f66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531960" y="3760200"/>
                  <a:ext cx="51840" cy="50760"/>
                </a:xfrm>
                <a:custGeom>
                  <a:avLst/>
                  <a:gdLst/>
                  <a:ahLst/>
                  <a:rect l="l" t="t" r="r" b="b"/>
                  <a:pathLst>
                    <a:path w="341" h="704">
                      <a:moveTo>
                        <a:pt x="180" y="20"/>
                      </a:moveTo>
                      <a:lnTo>
                        <a:pt x="341" y="704"/>
                      </a:lnTo>
                      <a:lnTo>
                        <a:pt x="253" y="696"/>
                      </a:lnTo>
                      <a:lnTo>
                        <a:pt x="166" y="685"/>
                      </a:lnTo>
                      <a:lnTo>
                        <a:pt x="0" y="0"/>
                      </a:lnTo>
                      <a:lnTo>
                        <a:pt x="89" y="12"/>
                      </a:lnTo>
                      <a:lnTo>
                        <a:pt x="180" y="20"/>
                      </a:lnTo>
                      <a:close/>
                    </a:path>
                  </a:pathLst>
                </a:custGeom>
                <a:solidFill>
                  <a:srgbClr val="5559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503160" y="3756960"/>
                  <a:ext cx="54360" cy="52560"/>
                </a:xfrm>
                <a:custGeom>
                  <a:avLst/>
                  <a:gdLst/>
                  <a:ahLst/>
                  <a:rect l="l" t="t" r="r" b="b"/>
                  <a:pathLst>
                    <a:path w="343" h="713">
                      <a:moveTo>
                        <a:pt x="177" y="28"/>
                      </a:moveTo>
                      <a:lnTo>
                        <a:pt x="343" y="713"/>
                      </a:lnTo>
                      <a:lnTo>
                        <a:pt x="257" y="700"/>
                      </a:lnTo>
                      <a:lnTo>
                        <a:pt x="171" y="685"/>
                      </a:lnTo>
                      <a:lnTo>
                        <a:pt x="0" y="0"/>
                      </a:lnTo>
                      <a:lnTo>
                        <a:pt x="88" y="16"/>
                      </a:lnTo>
                      <a:lnTo>
                        <a:pt x="177" y="28"/>
                      </a:lnTo>
                      <a:close/>
                    </a:path>
                  </a:pathLst>
                </a:custGeom>
                <a:solidFill>
                  <a:srgbClr val="4c4d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477240" y="3755880"/>
                  <a:ext cx="51840" cy="52560"/>
                </a:xfrm>
                <a:custGeom>
                  <a:avLst/>
                  <a:gdLst/>
                  <a:ahLst/>
                  <a:rect l="l" t="t" r="r" b="b"/>
                  <a:pathLst>
                    <a:path w="345" h="724">
                      <a:moveTo>
                        <a:pt x="174" y="39"/>
                      </a:moveTo>
                      <a:lnTo>
                        <a:pt x="345" y="724"/>
                      </a:lnTo>
                      <a:lnTo>
                        <a:pt x="261" y="707"/>
                      </a:lnTo>
                      <a:lnTo>
                        <a:pt x="177" y="686"/>
                      </a:lnTo>
                      <a:lnTo>
                        <a:pt x="0" y="0"/>
                      </a:lnTo>
                      <a:lnTo>
                        <a:pt x="87" y="20"/>
                      </a:lnTo>
                      <a:lnTo>
                        <a:pt x="174" y="39"/>
                      </a:lnTo>
                      <a:close/>
                    </a:path>
                  </a:pathLst>
                </a:custGeom>
                <a:solidFill>
                  <a:srgbClr val="3f3e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3451680" y="3750840"/>
                  <a:ext cx="51480" cy="54360"/>
                </a:xfrm>
                <a:custGeom>
                  <a:avLst/>
                  <a:gdLst/>
                  <a:ahLst/>
                  <a:rect l="l" t="t" r="r" b="b"/>
                  <a:pathLst>
                    <a:path w="348" h="735">
                      <a:moveTo>
                        <a:pt x="171" y="49"/>
                      </a:moveTo>
                      <a:lnTo>
                        <a:pt x="348" y="735"/>
                      </a:lnTo>
                      <a:lnTo>
                        <a:pt x="264" y="712"/>
                      </a:lnTo>
                      <a:lnTo>
                        <a:pt x="182" y="687"/>
                      </a:lnTo>
                      <a:lnTo>
                        <a:pt x="0" y="0"/>
                      </a:lnTo>
                      <a:lnTo>
                        <a:pt x="85" y="26"/>
                      </a:lnTo>
                      <a:lnTo>
                        <a:pt x="171" y="4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3425400" y="3746160"/>
                  <a:ext cx="51480" cy="55800"/>
                </a:xfrm>
                <a:custGeom>
                  <a:avLst/>
                  <a:gdLst/>
                  <a:ahLst/>
                  <a:rect l="l" t="t" r="r" b="b"/>
                  <a:pathLst>
                    <a:path w="347" h="747">
                      <a:moveTo>
                        <a:pt x="165" y="60"/>
                      </a:moveTo>
                      <a:lnTo>
                        <a:pt x="347" y="747"/>
                      </a:lnTo>
                      <a:lnTo>
                        <a:pt x="266" y="720"/>
                      </a:lnTo>
                      <a:lnTo>
                        <a:pt x="186" y="690"/>
                      </a:lnTo>
                      <a:lnTo>
                        <a:pt x="0" y="0"/>
                      </a:lnTo>
                      <a:lnTo>
                        <a:pt x="82" y="31"/>
                      </a:lnTo>
                      <a:lnTo>
                        <a:pt x="165" y="60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399480" y="3741480"/>
                  <a:ext cx="54000" cy="55800"/>
                </a:xfrm>
                <a:custGeom>
                  <a:avLst/>
                  <a:gdLst/>
                  <a:ahLst/>
                  <a:rect l="l" t="t" r="r" b="b"/>
                  <a:pathLst>
                    <a:path w="347" h="759">
                      <a:moveTo>
                        <a:pt x="161" y="69"/>
                      </a:moveTo>
                      <a:lnTo>
                        <a:pt x="347" y="759"/>
                      </a:lnTo>
                      <a:lnTo>
                        <a:pt x="268" y="726"/>
                      </a:lnTo>
                      <a:lnTo>
                        <a:pt x="190" y="692"/>
                      </a:lnTo>
                      <a:lnTo>
                        <a:pt x="0" y="0"/>
                      </a:lnTo>
                      <a:lnTo>
                        <a:pt x="80" y="36"/>
                      </a:lnTo>
                      <a:lnTo>
                        <a:pt x="161" y="6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375360" y="3735360"/>
                  <a:ext cx="54000" cy="57600"/>
                </a:xfrm>
                <a:custGeom>
                  <a:avLst/>
                  <a:gdLst/>
                  <a:ahLst/>
                  <a:rect l="l" t="t" r="r" b="b"/>
                  <a:pathLst>
                    <a:path w="345" h="771">
                      <a:moveTo>
                        <a:pt x="155" y="79"/>
                      </a:moveTo>
                      <a:lnTo>
                        <a:pt x="345" y="771"/>
                      </a:lnTo>
                      <a:lnTo>
                        <a:pt x="269" y="734"/>
                      </a:lnTo>
                      <a:lnTo>
                        <a:pt x="195" y="693"/>
                      </a:lnTo>
                      <a:lnTo>
                        <a:pt x="0" y="0"/>
                      </a:lnTo>
                      <a:lnTo>
                        <a:pt x="76" y="41"/>
                      </a:lnTo>
                      <a:lnTo>
                        <a:pt x="155" y="79"/>
                      </a:lnTo>
                      <a:close/>
                    </a:path>
                  </a:pathLst>
                </a:custGeom>
                <a:solidFill>
                  <a:srgbClr val="383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353760" y="3729240"/>
                  <a:ext cx="51840" cy="57240"/>
                </a:xfrm>
                <a:custGeom>
                  <a:avLst/>
                  <a:gdLst/>
                  <a:ahLst/>
                  <a:rect l="l" t="t" r="r" b="b"/>
                  <a:pathLst>
                    <a:path w="344" h="782">
                      <a:moveTo>
                        <a:pt x="149" y="89"/>
                      </a:moveTo>
                      <a:lnTo>
                        <a:pt x="344" y="782"/>
                      </a:lnTo>
                      <a:lnTo>
                        <a:pt x="270" y="740"/>
                      </a:lnTo>
                      <a:lnTo>
                        <a:pt x="199" y="695"/>
                      </a:lnTo>
                      <a:lnTo>
                        <a:pt x="0" y="0"/>
                      </a:lnTo>
                      <a:lnTo>
                        <a:pt x="73" y="46"/>
                      </a:lnTo>
                      <a:lnTo>
                        <a:pt x="149" y="89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330000" y="3721680"/>
                  <a:ext cx="54000" cy="58680"/>
                </a:xfrm>
                <a:custGeom>
                  <a:avLst/>
                  <a:gdLst/>
                  <a:ahLst/>
                  <a:rect l="l" t="t" r="r" b="b"/>
                  <a:pathLst>
                    <a:path w="340" h="795">
                      <a:moveTo>
                        <a:pt x="141" y="100"/>
                      </a:moveTo>
                      <a:lnTo>
                        <a:pt x="340" y="795"/>
                      </a:lnTo>
                      <a:lnTo>
                        <a:pt x="271" y="748"/>
                      </a:lnTo>
                      <a:lnTo>
                        <a:pt x="203" y="698"/>
                      </a:lnTo>
                      <a:lnTo>
                        <a:pt x="0" y="0"/>
                      </a:lnTo>
                      <a:lnTo>
                        <a:pt x="70" y="51"/>
                      </a:lnTo>
                      <a:lnTo>
                        <a:pt x="141" y="100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310200" y="3713760"/>
                  <a:ext cx="51840" cy="60480"/>
                </a:xfrm>
                <a:custGeom>
                  <a:avLst/>
                  <a:gdLst/>
                  <a:ahLst/>
                  <a:rect l="l" t="t" r="r" b="b"/>
                  <a:pathLst>
                    <a:path w="336" h="809">
                      <a:moveTo>
                        <a:pt x="133" y="111"/>
                      </a:moveTo>
                      <a:lnTo>
                        <a:pt x="336" y="809"/>
                      </a:lnTo>
                      <a:lnTo>
                        <a:pt x="270" y="756"/>
                      </a:lnTo>
                      <a:lnTo>
                        <a:pt x="207" y="701"/>
                      </a:lnTo>
                      <a:lnTo>
                        <a:pt x="0" y="0"/>
                      </a:lnTo>
                      <a:lnTo>
                        <a:pt x="65" y="57"/>
                      </a:lnTo>
                      <a:lnTo>
                        <a:pt x="133" y="111"/>
                      </a:lnTo>
                      <a:close/>
                    </a:path>
                  </a:pathLst>
                </a:custGeom>
                <a:solidFill>
                  <a:srgbClr val="363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290760" y="3704400"/>
                  <a:ext cx="51840" cy="60480"/>
                </a:xfrm>
                <a:custGeom>
                  <a:avLst/>
                  <a:gdLst/>
                  <a:ahLst/>
                  <a:rect l="l" t="t" r="r" b="b"/>
                  <a:pathLst>
                    <a:path w="331" h="822">
                      <a:moveTo>
                        <a:pt x="124" y="121"/>
                      </a:moveTo>
                      <a:lnTo>
                        <a:pt x="331" y="822"/>
                      </a:lnTo>
                      <a:lnTo>
                        <a:pt x="269" y="764"/>
                      </a:lnTo>
                      <a:lnTo>
                        <a:pt x="210" y="705"/>
                      </a:lnTo>
                      <a:lnTo>
                        <a:pt x="0" y="0"/>
                      </a:lnTo>
                      <a:lnTo>
                        <a:pt x="60" y="62"/>
                      </a:lnTo>
                      <a:lnTo>
                        <a:pt x="124" y="121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273480" y="3695040"/>
                  <a:ext cx="49680" cy="61560"/>
                </a:xfrm>
                <a:custGeom>
                  <a:avLst/>
                  <a:gdLst/>
                  <a:ahLst/>
                  <a:rect l="l" t="t" r="r" b="b"/>
                  <a:pathLst>
                    <a:path w="325" h="837">
                      <a:moveTo>
                        <a:pt x="115" y="132"/>
                      </a:moveTo>
                      <a:lnTo>
                        <a:pt x="325" y="837"/>
                      </a:lnTo>
                      <a:lnTo>
                        <a:pt x="267" y="773"/>
                      </a:lnTo>
                      <a:lnTo>
                        <a:pt x="213" y="709"/>
                      </a:lnTo>
                      <a:lnTo>
                        <a:pt x="0" y="0"/>
                      </a:lnTo>
                      <a:lnTo>
                        <a:pt x="56" y="68"/>
                      </a:lnTo>
                      <a:lnTo>
                        <a:pt x="115" y="132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256200" y="3684240"/>
                  <a:ext cx="49680" cy="63360"/>
                </a:xfrm>
                <a:custGeom>
                  <a:avLst/>
                  <a:gdLst/>
                  <a:ahLst/>
                  <a:rect l="l" t="t" r="r" b="b"/>
                  <a:pathLst>
                    <a:path w="319" h="850">
                      <a:moveTo>
                        <a:pt x="106" y="141"/>
                      </a:moveTo>
                      <a:lnTo>
                        <a:pt x="319" y="850"/>
                      </a:lnTo>
                      <a:lnTo>
                        <a:pt x="267" y="781"/>
                      </a:lnTo>
                      <a:lnTo>
                        <a:pt x="216" y="711"/>
                      </a:lnTo>
                      <a:lnTo>
                        <a:pt x="0" y="0"/>
                      </a:lnTo>
                      <a:lnTo>
                        <a:pt x="51" y="72"/>
                      </a:lnTo>
                      <a:lnTo>
                        <a:pt x="106" y="141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242880" y="3673440"/>
                  <a:ext cx="47520" cy="63360"/>
                </a:xfrm>
                <a:custGeom>
                  <a:avLst/>
                  <a:gdLst/>
                  <a:ahLst/>
                  <a:rect l="l" t="t" r="r" b="b"/>
                  <a:pathLst>
                    <a:path w="310" h="864">
                      <a:moveTo>
                        <a:pt x="94" y="153"/>
                      </a:moveTo>
                      <a:lnTo>
                        <a:pt x="310" y="864"/>
                      </a:lnTo>
                      <a:lnTo>
                        <a:pt x="263" y="791"/>
                      </a:lnTo>
                      <a:lnTo>
                        <a:pt x="219" y="715"/>
                      </a:lnTo>
                      <a:lnTo>
                        <a:pt x="0" y="0"/>
                      </a:lnTo>
                      <a:lnTo>
                        <a:pt x="46" y="78"/>
                      </a:lnTo>
                      <a:lnTo>
                        <a:pt x="94" y="153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614040" y="3761640"/>
                  <a:ext cx="30240" cy="52560"/>
                </a:xfrm>
                <a:custGeom>
                  <a:avLst/>
                  <a:gdLst/>
                  <a:ahLst/>
                  <a:rect l="l" t="t" r="r" b="b"/>
                  <a:pathLst>
                    <a:path w="187" h="722">
                      <a:moveTo>
                        <a:pt x="38" y="40"/>
                      </a:moveTo>
                      <a:lnTo>
                        <a:pt x="187" y="722"/>
                      </a:lnTo>
                      <a:lnTo>
                        <a:pt x="182" y="718"/>
                      </a:lnTo>
                      <a:lnTo>
                        <a:pt x="178" y="713"/>
                      </a:lnTo>
                      <a:lnTo>
                        <a:pt x="173" y="708"/>
                      </a:lnTo>
                      <a:lnTo>
                        <a:pt x="169" y="703"/>
                      </a:lnTo>
                      <a:lnTo>
                        <a:pt x="165" y="698"/>
                      </a:lnTo>
                      <a:lnTo>
                        <a:pt x="160" y="694"/>
                      </a:lnTo>
                      <a:lnTo>
                        <a:pt x="155" y="689"/>
                      </a:lnTo>
                      <a:lnTo>
                        <a:pt x="150" y="684"/>
                      </a:lnTo>
                      <a:lnTo>
                        <a:pt x="0" y="0"/>
                      </a:lnTo>
                      <a:lnTo>
                        <a:pt x="5" y="6"/>
                      </a:lnTo>
                      <a:lnTo>
                        <a:pt x="9" y="11"/>
                      </a:lnTo>
                      <a:lnTo>
                        <a:pt x="14" y="15"/>
                      </a:lnTo>
                      <a:lnTo>
                        <a:pt x="18" y="20"/>
                      </a:lnTo>
                      <a:lnTo>
                        <a:pt x="23" y="25"/>
                      </a:lnTo>
                      <a:lnTo>
                        <a:pt x="28" y="31"/>
                      </a:lnTo>
                      <a:lnTo>
                        <a:pt x="32" y="35"/>
                      </a:lnTo>
                      <a:lnTo>
                        <a:pt x="38" y="40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3653280" y="3836160"/>
                  <a:ext cx="38520" cy="60480"/>
                </a:xfrm>
                <a:custGeom>
                  <a:avLst/>
                  <a:gdLst/>
                  <a:ahLst/>
                  <a:rect l="l" t="t" r="r" b="b"/>
                  <a:pathLst>
                    <a:path w="246" h="814">
                      <a:moveTo>
                        <a:pt x="104" y="161"/>
                      </a:moveTo>
                      <a:lnTo>
                        <a:pt x="246" y="814"/>
                      </a:lnTo>
                      <a:lnTo>
                        <a:pt x="224" y="783"/>
                      </a:lnTo>
                      <a:lnTo>
                        <a:pt x="203" y="752"/>
                      </a:lnTo>
                      <a:lnTo>
                        <a:pt x="182" y="721"/>
                      </a:lnTo>
                      <a:lnTo>
                        <a:pt x="163" y="690"/>
                      </a:lnTo>
                      <a:lnTo>
                        <a:pt x="143" y="657"/>
                      </a:lnTo>
                      <a:lnTo>
                        <a:pt x="0" y="0"/>
                      </a:lnTo>
                      <a:lnTo>
                        <a:pt x="19" y="33"/>
                      </a:lnTo>
                      <a:lnTo>
                        <a:pt x="40" y="65"/>
                      </a:lnTo>
                      <a:lnTo>
                        <a:pt x="60" y="97"/>
                      </a:lnTo>
                      <a:lnTo>
                        <a:pt x="82" y="129"/>
                      </a:lnTo>
                      <a:lnTo>
                        <a:pt x="104" y="161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639960" y="3823920"/>
                  <a:ext cx="34920" cy="60480"/>
                </a:xfrm>
                <a:custGeom>
                  <a:avLst/>
                  <a:gdLst/>
                  <a:ahLst/>
                  <a:rect l="l" t="t" r="r" b="b"/>
                  <a:pathLst>
                    <a:path w="232" h="822">
                      <a:moveTo>
                        <a:pt x="89" y="165"/>
                      </a:moveTo>
                      <a:lnTo>
                        <a:pt x="232" y="822"/>
                      </a:lnTo>
                      <a:lnTo>
                        <a:pt x="214" y="791"/>
                      </a:lnTo>
                      <a:lnTo>
                        <a:pt x="196" y="759"/>
                      </a:lnTo>
                      <a:lnTo>
                        <a:pt x="179" y="727"/>
                      </a:lnTo>
                      <a:lnTo>
                        <a:pt x="163" y="694"/>
                      </a:lnTo>
                      <a:lnTo>
                        <a:pt x="146" y="661"/>
                      </a:lnTo>
                      <a:lnTo>
                        <a:pt x="0" y="0"/>
                      </a:lnTo>
                      <a:lnTo>
                        <a:pt x="16" y="33"/>
                      </a:lnTo>
                      <a:lnTo>
                        <a:pt x="33" y="66"/>
                      </a:lnTo>
                      <a:lnTo>
                        <a:pt x="51" y="100"/>
                      </a:lnTo>
                      <a:lnTo>
                        <a:pt x="69" y="133"/>
                      </a:lnTo>
                      <a:lnTo>
                        <a:pt x="89" y="165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627360" y="3808440"/>
                  <a:ext cx="34200" cy="63000"/>
                </a:xfrm>
                <a:custGeom>
                  <a:avLst/>
                  <a:gdLst/>
                  <a:ahLst/>
                  <a:rect l="l" t="t" r="r" b="b"/>
                  <a:pathLst>
                    <a:path w="226" h="869">
                      <a:moveTo>
                        <a:pt x="80" y="208"/>
                      </a:moveTo>
                      <a:lnTo>
                        <a:pt x="226" y="869"/>
                      </a:lnTo>
                      <a:lnTo>
                        <a:pt x="212" y="836"/>
                      </a:lnTo>
                      <a:lnTo>
                        <a:pt x="197" y="802"/>
                      </a:lnTo>
                      <a:lnTo>
                        <a:pt x="184" y="769"/>
                      </a:lnTo>
                      <a:lnTo>
                        <a:pt x="171" y="736"/>
                      </a:lnTo>
                      <a:lnTo>
                        <a:pt x="160" y="702"/>
                      </a:lnTo>
                      <a:lnTo>
                        <a:pt x="148" y="668"/>
                      </a:lnTo>
                      <a:lnTo>
                        <a:pt x="0" y="0"/>
                      </a:lnTo>
                      <a:lnTo>
                        <a:pt x="11" y="36"/>
                      </a:lnTo>
                      <a:lnTo>
                        <a:pt x="23" y="70"/>
                      </a:lnTo>
                      <a:lnTo>
                        <a:pt x="35" y="105"/>
                      </a:lnTo>
                      <a:lnTo>
                        <a:pt x="50" y="139"/>
                      </a:lnTo>
                      <a:lnTo>
                        <a:pt x="64" y="173"/>
                      </a:lnTo>
                      <a:lnTo>
                        <a:pt x="80" y="208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622680" y="3800880"/>
                  <a:ext cx="27720" cy="57240"/>
                </a:xfrm>
                <a:custGeom>
                  <a:avLst/>
                  <a:gdLst/>
                  <a:ahLst/>
                  <a:rect l="l" t="t" r="r" b="b"/>
                  <a:pathLst>
                    <a:path w="177" h="774">
                      <a:moveTo>
                        <a:pt x="29" y="106"/>
                      </a:moveTo>
                      <a:lnTo>
                        <a:pt x="177" y="774"/>
                      </a:lnTo>
                      <a:lnTo>
                        <a:pt x="167" y="740"/>
                      </a:lnTo>
                      <a:lnTo>
                        <a:pt x="158" y="705"/>
                      </a:lnTo>
                      <a:lnTo>
                        <a:pt x="150" y="670"/>
                      </a:lnTo>
                      <a:lnTo>
                        <a:pt x="0" y="0"/>
                      </a:lnTo>
                      <a:lnTo>
                        <a:pt x="8" y="36"/>
                      </a:lnTo>
                      <a:lnTo>
                        <a:pt x="18" y="71"/>
                      </a:lnTo>
                      <a:lnTo>
                        <a:pt x="29" y="106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232080" y="3661200"/>
                  <a:ext cx="43200" cy="64800"/>
                </a:xfrm>
                <a:custGeom>
                  <a:avLst/>
                  <a:gdLst/>
                  <a:ahLst/>
                  <a:rect l="l" t="t" r="r" b="b"/>
                  <a:pathLst>
                    <a:path w="289" h="872">
                      <a:moveTo>
                        <a:pt x="70" y="157"/>
                      </a:moveTo>
                      <a:lnTo>
                        <a:pt x="289" y="872"/>
                      </a:lnTo>
                      <a:lnTo>
                        <a:pt x="265" y="821"/>
                      </a:lnTo>
                      <a:lnTo>
                        <a:pt x="242" y="771"/>
                      </a:lnTo>
                      <a:lnTo>
                        <a:pt x="221" y="720"/>
                      </a:lnTo>
                      <a:lnTo>
                        <a:pt x="0" y="0"/>
                      </a:lnTo>
                      <a:lnTo>
                        <a:pt x="22" y="53"/>
                      </a:lnTo>
                      <a:lnTo>
                        <a:pt x="45" y="105"/>
                      </a:lnTo>
                      <a:lnTo>
                        <a:pt x="70" y="157"/>
                      </a:lnTo>
                      <a:close/>
                    </a:path>
                  </a:pathLst>
                </a:custGeom>
                <a:solidFill>
                  <a:srgbClr val="2d2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223800" y="3650040"/>
                  <a:ext cx="40680" cy="64800"/>
                </a:xfrm>
                <a:custGeom>
                  <a:avLst/>
                  <a:gdLst/>
                  <a:ahLst/>
                  <a:rect l="l" t="t" r="r" b="b"/>
                  <a:pathLst>
                    <a:path w="274" h="875">
                      <a:moveTo>
                        <a:pt x="53" y="155"/>
                      </a:moveTo>
                      <a:lnTo>
                        <a:pt x="274" y="875"/>
                      </a:lnTo>
                      <a:lnTo>
                        <a:pt x="255" y="824"/>
                      </a:lnTo>
                      <a:lnTo>
                        <a:pt x="238" y="774"/>
                      </a:lnTo>
                      <a:lnTo>
                        <a:pt x="221" y="724"/>
                      </a:lnTo>
                      <a:lnTo>
                        <a:pt x="0" y="0"/>
                      </a:lnTo>
                      <a:lnTo>
                        <a:pt x="16" y="52"/>
                      </a:lnTo>
                      <a:lnTo>
                        <a:pt x="33" y="103"/>
                      </a:lnTo>
                      <a:lnTo>
                        <a:pt x="53" y="155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513960" y="3466800"/>
                  <a:ext cx="45720" cy="68400"/>
                </a:xfrm>
                <a:custGeom>
                  <a:avLst/>
                  <a:gdLst/>
                  <a:ahLst/>
                  <a:rect l="l" t="t" r="r" b="b"/>
                  <a:pathLst>
                    <a:path w="289" h="914">
                      <a:moveTo>
                        <a:pt x="125" y="132"/>
                      </a:moveTo>
                      <a:lnTo>
                        <a:pt x="289" y="914"/>
                      </a:lnTo>
                      <a:lnTo>
                        <a:pt x="256" y="883"/>
                      </a:lnTo>
                      <a:lnTo>
                        <a:pt x="225" y="851"/>
                      </a:lnTo>
                      <a:lnTo>
                        <a:pt x="195" y="818"/>
                      </a:lnTo>
                      <a:lnTo>
                        <a:pt x="168" y="785"/>
                      </a:lnTo>
                      <a:lnTo>
                        <a:pt x="0" y="0"/>
                      </a:lnTo>
                      <a:lnTo>
                        <a:pt x="29" y="33"/>
                      </a:lnTo>
                      <a:lnTo>
                        <a:pt x="60" y="67"/>
                      </a:lnTo>
                      <a:lnTo>
                        <a:pt x="92" y="100"/>
                      </a:lnTo>
                      <a:lnTo>
                        <a:pt x="125" y="132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494880" y="3454560"/>
                  <a:ext cx="45000" cy="71280"/>
                </a:xfrm>
                <a:custGeom>
                  <a:avLst/>
                  <a:gdLst/>
                  <a:ahLst/>
                  <a:rect l="l" t="t" r="r" b="b"/>
                  <a:pathLst>
                    <a:path w="288" h="961">
                      <a:moveTo>
                        <a:pt x="120" y="176"/>
                      </a:moveTo>
                      <a:lnTo>
                        <a:pt x="288" y="961"/>
                      </a:lnTo>
                      <a:lnTo>
                        <a:pt x="261" y="928"/>
                      </a:lnTo>
                      <a:lnTo>
                        <a:pt x="236" y="894"/>
                      </a:lnTo>
                      <a:lnTo>
                        <a:pt x="213" y="860"/>
                      </a:lnTo>
                      <a:lnTo>
                        <a:pt x="191" y="826"/>
                      </a:lnTo>
                      <a:lnTo>
                        <a:pt x="171" y="790"/>
                      </a:lnTo>
                      <a:lnTo>
                        <a:pt x="0" y="0"/>
                      </a:lnTo>
                      <a:lnTo>
                        <a:pt x="21" y="36"/>
                      </a:lnTo>
                      <a:lnTo>
                        <a:pt x="43" y="72"/>
                      </a:lnTo>
                      <a:lnTo>
                        <a:pt x="68" y="107"/>
                      </a:lnTo>
                      <a:lnTo>
                        <a:pt x="94" y="141"/>
                      </a:lnTo>
                      <a:lnTo>
                        <a:pt x="120" y="176"/>
                      </a:lnTo>
                      <a:close/>
                    </a:path>
                  </a:pathLst>
                </a:custGeom>
                <a:solidFill>
                  <a:srgbClr val="312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484080" y="3440880"/>
                  <a:ext cx="38520" cy="72720"/>
                </a:xfrm>
                <a:custGeom>
                  <a:avLst/>
                  <a:gdLst/>
                  <a:ahLst/>
                  <a:rect l="l" t="t" r="r" b="b"/>
                  <a:pathLst>
                    <a:path w="252" h="978">
                      <a:moveTo>
                        <a:pt x="81" y="188"/>
                      </a:moveTo>
                      <a:lnTo>
                        <a:pt x="252" y="978"/>
                      </a:lnTo>
                      <a:lnTo>
                        <a:pt x="232" y="942"/>
                      </a:lnTo>
                      <a:lnTo>
                        <a:pt x="216" y="906"/>
                      </a:lnTo>
                      <a:lnTo>
                        <a:pt x="199" y="870"/>
                      </a:lnTo>
                      <a:lnTo>
                        <a:pt x="186" y="833"/>
                      </a:lnTo>
                      <a:lnTo>
                        <a:pt x="173" y="795"/>
                      </a:lnTo>
                      <a:lnTo>
                        <a:pt x="0" y="0"/>
                      </a:lnTo>
                      <a:lnTo>
                        <a:pt x="14" y="39"/>
                      </a:lnTo>
                      <a:lnTo>
                        <a:pt x="28" y="76"/>
                      </a:lnTo>
                      <a:lnTo>
                        <a:pt x="43" y="114"/>
                      </a:lnTo>
                      <a:lnTo>
                        <a:pt x="62" y="151"/>
                      </a:lnTo>
                      <a:lnTo>
                        <a:pt x="81" y="188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479760" y="3434400"/>
                  <a:ext cx="30240" cy="64800"/>
                </a:xfrm>
                <a:custGeom>
                  <a:avLst/>
                  <a:gdLst/>
                  <a:ahLst/>
                  <a:rect l="l" t="t" r="r" b="b"/>
                  <a:pathLst>
                    <a:path w="193" h="873">
                      <a:moveTo>
                        <a:pt x="20" y="78"/>
                      </a:moveTo>
                      <a:lnTo>
                        <a:pt x="193" y="873"/>
                      </a:lnTo>
                      <a:lnTo>
                        <a:pt x="182" y="836"/>
                      </a:lnTo>
                      <a:lnTo>
                        <a:pt x="173" y="798"/>
                      </a:lnTo>
                      <a:lnTo>
                        <a:pt x="0" y="0"/>
                      </a:lnTo>
                      <a:lnTo>
                        <a:pt x="9" y="40"/>
                      </a:lnTo>
                      <a:lnTo>
                        <a:pt x="20" y="78"/>
                      </a:lnTo>
                      <a:close/>
                    </a:path>
                  </a:pathLst>
                </a:custGeom>
                <a:solidFill>
                  <a:srgbClr val="2622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212640" y="3200400"/>
                  <a:ext cx="2543040" cy="849960"/>
                </a:xfrm>
                <a:custGeom>
                  <a:avLst/>
                  <a:gdLst/>
                  <a:ahLst/>
                  <a:rect l="l" t="t" r="r" b="b"/>
                  <a:pathLst>
                    <a:path w="16408" h="11518">
                      <a:moveTo>
                        <a:pt x="12894" y="1455"/>
                      </a:moveTo>
                      <a:lnTo>
                        <a:pt x="12992" y="1452"/>
                      </a:lnTo>
                      <a:lnTo>
                        <a:pt x="13091" y="1453"/>
                      </a:lnTo>
                      <a:lnTo>
                        <a:pt x="13190" y="1456"/>
                      </a:lnTo>
                      <a:lnTo>
                        <a:pt x="13290" y="1463"/>
                      </a:lnTo>
                      <a:lnTo>
                        <a:pt x="13391" y="1473"/>
                      </a:lnTo>
                      <a:lnTo>
                        <a:pt x="13490" y="1485"/>
                      </a:lnTo>
                      <a:lnTo>
                        <a:pt x="13591" y="1501"/>
                      </a:lnTo>
                      <a:lnTo>
                        <a:pt x="13690" y="1519"/>
                      </a:lnTo>
                      <a:lnTo>
                        <a:pt x="13790" y="1541"/>
                      </a:lnTo>
                      <a:lnTo>
                        <a:pt x="13888" y="1566"/>
                      </a:lnTo>
                      <a:lnTo>
                        <a:pt x="13987" y="1594"/>
                      </a:lnTo>
                      <a:lnTo>
                        <a:pt x="14083" y="1626"/>
                      </a:lnTo>
                      <a:lnTo>
                        <a:pt x="14179" y="1659"/>
                      </a:lnTo>
                      <a:lnTo>
                        <a:pt x="14273" y="1696"/>
                      </a:lnTo>
                      <a:lnTo>
                        <a:pt x="14365" y="1737"/>
                      </a:lnTo>
                      <a:lnTo>
                        <a:pt x="14455" y="1781"/>
                      </a:lnTo>
                      <a:lnTo>
                        <a:pt x="14545" y="1828"/>
                      </a:lnTo>
                      <a:lnTo>
                        <a:pt x="14631" y="1878"/>
                      </a:lnTo>
                      <a:lnTo>
                        <a:pt x="14715" y="1931"/>
                      </a:lnTo>
                      <a:lnTo>
                        <a:pt x="14797" y="1987"/>
                      </a:lnTo>
                      <a:lnTo>
                        <a:pt x="14876" y="2046"/>
                      </a:lnTo>
                      <a:lnTo>
                        <a:pt x="14952" y="2109"/>
                      </a:lnTo>
                      <a:lnTo>
                        <a:pt x="15026" y="2174"/>
                      </a:lnTo>
                      <a:lnTo>
                        <a:pt x="15095" y="2244"/>
                      </a:lnTo>
                      <a:lnTo>
                        <a:pt x="15162" y="2316"/>
                      </a:lnTo>
                      <a:lnTo>
                        <a:pt x="15225" y="2392"/>
                      </a:lnTo>
                      <a:lnTo>
                        <a:pt x="15283" y="2471"/>
                      </a:lnTo>
                      <a:lnTo>
                        <a:pt x="15338" y="2554"/>
                      </a:lnTo>
                      <a:lnTo>
                        <a:pt x="15389" y="2639"/>
                      </a:lnTo>
                      <a:lnTo>
                        <a:pt x="15436" y="2727"/>
                      </a:lnTo>
                      <a:lnTo>
                        <a:pt x="15478" y="2820"/>
                      </a:lnTo>
                      <a:lnTo>
                        <a:pt x="15515" y="2915"/>
                      </a:lnTo>
                      <a:lnTo>
                        <a:pt x="15530" y="2973"/>
                      </a:lnTo>
                      <a:lnTo>
                        <a:pt x="15544" y="3031"/>
                      </a:lnTo>
                      <a:lnTo>
                        <a:pt x="15555" y="3088"/>
                      </a:lnTo>
                      <a:lnTo>
                        <a:pt x="15563" y="3144"/>
                      </a:lnTo>
                      <a:lnTo>
                        <a:pt x="15569" y="3199"/>
                      </a:lnTo>
                      <a:lnTo>
                        <a:pt x="15573" y="3255"/>
                      </a:lnTo>
                      <a:lnTo>
                        <a:pt x="15575" y="3310"/>
                      </a:lnTo>
                      <a:lnTo>
                        <a:pt x="15575" y="3364"/>
                      </a:lnTo>
                      <a:lnTo>
                        <a:pt x="15572" y="3417"/>
                      </a:lnTo>
                      <a:lnTo>
                        <a:pt x="15568" y="3470"/>
                      </a:lnTo>
                      <a:lnTo>
                        <a:pt x="15561" y="3522"/>
                      </a:lnTo>
                      <a:lnTo>
                        <a:pt x="15553" y="3573"/>
                      </a:lnTo>
                      <a:lnTo>
                        <a:pt x="15541" y="3624"/>
                      </a:lnTo>
                      <a:lnTo>
                        <a:pt x="15528" y="3674"/>
                      </a:lnTo>
                      <a:lnTo>
                        <a:pt x="15514" y="3724"/>
                      </a:lnTo>
                      <a:lnTo>
                        <a:pt x="15496" y="3773"/>
                      </a:lnTo>
                      <a:lnTo>
                        <a:pt x="15478" y="3821"/>
                      </a:lnTo>
                      <a:lnTo>
                        <a:pt x="15456" y="3868"/>
                      </a:lnTo>
                      <a:lnTo>
                        <a:pt x="15434" y="3915"/>
                      </a:lnTo>
                      <a:lnTo>
                        <a:pt x="15409" y="3960"/>
                      </a:lnTo>
                      <a:lnTo>
                        <a:pt x="15383" y="4005"/>
                      </a:lnTo>
                      <a:lnTo>
                        <a:pt x="15355" y="4049"/>
                      </a:lnTo>
                      <a:lnTo>
                        <a:pt x="15324" y="4093"/>
                      </a:lnTo>
                      <a:lnTo>
                        <a:pt x="15292" y="4135"/>
                      </a:lnTo>
                      <a:lnTo>
                        <a:pt x="15259" y="4177"/>
                      </a:lnTo>
                      <a:lnTo>
                        <a:pt x="15224" y="4219"/>
                      </a:lnTo>
                      <a:lnTo>
                        <a:pt x="15187" y="4258"/>
                      </a:lnTo>
                      <a:lnTo>
                        <a:pt x="15149" y="4298"/>
                      </a:lnTo>
                      <a:lnTo>
                        <a:pt x="15108" y="4336"/>
                      </a:lnTo>
                      <a:lnTo>
                        <a:pt x="15067" y="4374"/>
                      </a:lnTo>
                      <a:lnTo>
                        <a:pt x="15023" y="4410"/>
                      </a:lnTo>
                      <a:lnTo>
                        <a:pt x="14978" y="4447"/>
                      </a:lnTo>
                      <a:lnTo>
                        <a:pt x="15048" y="4466"/>
                      </a:lnTo>
                      <a:lnTo>
                        <a:pt x="15117" y="4487"/>
                      </a:lnTo>
                      <a:lnTo>
                        <a:pt x="15186" y="4510"/>
                      </a:lnTo>
                      <a:lnTo>
                        <a:pt x="15252" y="4534"/>
                      </a:lnTo>
                      <a:lnTo>
                        <a:pt x="15318" y="4561"/>
                      </a:lnTo>
                      <a:lnTo>
                        <a:pt x="15381" y="4588"/>
                      </a:lnTo>
                      <a:lnTo>
                        <a:pt x="15444" y="4619"/>
                      </a:lnTo>
                      <a:lnTo>
                        <a:pt x="15506" y="4650"/>
                      </a:lnTo>
                      <a:lnTo>
                        <a:pt x="15566" y="4683"/>
                      </a:lnTo>
                      <a:lnTo>
                        <a:pt x="15625" y="4718"/>
                      </a:lnTo>
                      <a:lnTo>
                        <a:pt x="15681" y="4755"/>
                      </a:lnTo>
                      <a:lnTo>
                        <a:pt x="15736" y="4793"/>
                      </a:lnTo>
                      <a:lnTo>
                        <a:pt x="15790" y="4833"/>
                      </a:lnTo>
                      <a:lnTo>
                        <a:pt x="15841" y="4875"/>
                      </a:lnTo>
                      <a:lnTo>
                        <a:pt x="15891" y="4919"/>
                      </a:lnTo>
                      <a:lnTo>
                        <a:pt x="15939" y="4964"/>
                      </a:lnTo>
                      <a:lnTo>
                        <a:pt x="15985" y="5011"/>
                      </a:lnTo>
                      <a:lnTo>
                        <a:pt x="16030" y="5060"/>
                      </a:lnTo>
                      <a:lnTo>
                        <a:pt x="16072" y="5111"/>
                      </a:lnTo>
                      <a:lnTo>
                        <a:pt x="16112" y="5164"/>
                      </a:lnTo>
                      <a:lnTo>
                        <a:pt x="16150" y="5219"/>
                      </a:lnTo>
                      <a:lnTo>
                        <a:pt x="16184" y="5275"/>
                      </a:lnTo>
                      <a:lnTo>
                        <a:pt x="16218" y="5333"/>
                      </a:lnTo>
                      <a:lnTo>
                        <a:pt x="16249" y="5392"/>
                      </a:lnTo>
                      <a:lnTo>
                        <a:pt x="16278" y="5455"/>
                      </a:lnTo>
                      <a:lnTo>
                        <a:pt x="16303" y="5518"/>
                      </a:lnTo>
                      <a:lnTo>
                        <a:pt x="16327" y="5584"/>
                      </a:lnTo>
                      <a:lnTo>
                        <a:pt x="16349" y="5651"/>
                      </a:lnTo>
                      <a:lnTo>
                        <a:pt x="16367" y="5720"/>
                      </a:lnTo>
                      <a:lnTo>
                        <a:pt x="16382" y="5791"/>
                      </a:lnTo>
                      <a:lnTo>
                        <a:pt x="16396" y="5864"/>
                      </a:lnTo>
                      <a:lnTo>
                        <a:pt x="16406" y="5939"/>
                      </a:lnTo>
                      <a:lnTo>
                        <a:pt x="16408" y="6053"/>
                      </a:lnTo>
                      <a:lnTo>
                        <a:pt x="16404" y="6164"/>
                      </a:lnTo>
                      <a:lnTo>
                        <a:pt x="16395" y="6273"/>
                      </a:lnTo>
                      <a:lnTo>
                        <a:pt x="16378" y="6381"/>
                      </a:lnTo>
                      <a:lnTo>
                        <a:pt x="16357" y="6487"/>
                      </a:lnTo>
                      <a:lnTo>
                        <a:pt x="16329" y="6591"/>
                      </a:lnTo>
                      <a:lnTo>
                        <a:pt x="16296" y="6692"/>
                      </a:lnTo>
                      <a:lnTo>
                        <a:pt x="16258" y="6792"/>
                      </a:lnTo>
                      <a:lnTo>
                        <a:pt x="16215" y="6889"/>
                      </a:lnTo>
                      <a:lnTo>
                        <a:pt x="16167" y="6985"/>
                      </a:lnTo>
                      <a:lnTo>
                        <a:pt x="16115" y="7077"/>
                      </a:lnTo>
                      <a:lnTo>
                        <a:pt x="16058" y="7169"/>
                      </a:lnTo>
                      <a:lnTo>
                        <a:pt x="15997" y="7258"/>
                      </a:lnTo>
                      <a:lnTo>
                        <a:pt x="15932" y="7343"/>
                      </a:lnTo>
                      <a:lnTo>
                        <a:pt x="15862" y="7427"/>
                      </a:lnTo>
                      <a:lnTo>
                        <a:pt x="15791" y="7509"/>
                      </a:lnTo>
                      <a:lnTo>
                        <a:pt x="15715" y="7588"/>
                      </a:lnTo>
                      <a:lnTo>
                        <a:pt x="15635" y="7664"/>
                      </a:lnTo>
                      <a:lnTo>
                        <a:pt x="15553" y="7738"/>
                      </a:lnTo>
                      <a:lnTo>
                        <a:pt x="15468" y="7809"/>
                      </a:lnTo>
                      <a:lnTo>
                        <a:pt x="15380" y="7877"/>
                      </a:lnTo>
                      <a:lnTo>
                        <a:pt x="15290" y="7943"/>
                      </a:lnTo>
                      <a:lnTo>
                        <a:pt x="15198" y="8005"/>
                      </a:lnTo>
                      <a:lnTo>
                        <a:pt x="15104" y="8065"/>
                      </a:lnTo>
                      <a:lnTo>
                        <a:pt x="15008" y="8122"/>
                      </a:lnTo>
                      <a:lnTo>
                        <a:pt x="14910" y="8176"/>
                      </a:lnTo>
                      <a:lnTo>
                        <a:pt x="14811" y="8227"/>
                      </a:lnTo>
                      <a:lnTo>
                        <a:pt x="14711" y="8276"/>
                      </a:lnTo>
                      <a:lnTo>
                        <a:pt x="14610" y="8321"/>
                      </a:lnTo>
                      <a:lnTo>
                        <a:pt x="14508" y="8363"/>
                      </a:lnTo>
                      <a:lnTo>
                        <a:pt x="14406" y="8401"/>
                      </a:lnTo>
                      <a:lnTo>
                        <a:pt x="14303" y="8436"/>
                      </a:lnTo>
                      <a:lnTo>
                        <a:pt x="14269" y="8448"/>
                      </a:lnTo>
                      <a:lnTo>
                        <a:pt x="14234" y="8457"/>
                      </a:lnTo>
                      <a:lnTo>
                        <a:pt x="14199" y="8468"/>
                      </a:lnTo>
                      <a:lnTo>
                        <a:pt x="14165" y="8477"/>
                      </a:lnTo>
                      <a:lnTo>
                        <a:pt x="14130" y="8486"/>
                      </a:lnTo>
                      <a:lnTo>
                        <a:pt x="14095" y="8496"/>
                      </a:lnTo>
                      <a:lnTo>
                        <a:pt x="14062" y="8504"/>
                      </a:lnTo>
                      <a:lnTo>
                        <a:pt x="14027" y="8513"/>
                      </a:lnTo>
                      <a:lnTo>
                        <a:pt x="13992" y="8520"/>
                      </a:lnTo>
                      <a:lnTo>
                        <a:pt x="13957" y="8528"/>
                      </a:lnTo>
                      <a:lnTo>
                        <a:pt x="13923" y="8535"/>
                      </a:lnTo>
                      <a:lnTo>
                        <a:pt x="13888" y="8542"/>
                      </a:lnTo>
                      <a:lnTo>
                        <a:pt x="13853" y="8549"/>
                      </a:lnTo>
                      <a:lnTo>
                        <a:pt x="13819" y="8555"/>
                      </a:lnTo>
                      <a:lnTo>
                        <a:pt x="13784" y="8560"/>
                      </a:lnTo>
                      <a:lnTo>
                        <a:pt x="13749" y="8567"/>
                      </a:lnTo>
                      <a:lnTo>
                        <a:pt x="13713" y="8572"/>
                      </a:lnTo>
                      <a:lnTo>
                        <a:pt x="13678" y="8576"/>
                      </a:lnTo>
                      <a:lnTo>
                        <a:pt x="13643" y="8581"/>
                      </a:lnTo>
                      <a:lnTo>
                        <a:pt x="13608" y="8585"/>
                      </a:lnTo>
                      <a:lnTo>
                        <a:pt x="13572" y="8590"/>
                      </a:lnTo>
                      <a:lnTo>
                        <a:pt x="13538" y="8593"/>
                      </a:lnTo>
                      <a:lnTo>
                        <a:pt x="13502" y="8596"/>
                      </a:lnTo>
                      <a:lnTo>
                        <a:pt x="13466" y="8599"/>
                      </a:lnTo>
                      <a:lnTo>
                        <a:pt x="13431" y="8601"/>
                      </a:lnTo>
                      <a:lnTo>
                        <a:pt x="13395" y="8603"/>
                      </a:lnTo>
                      <a:lnTo>
                        <a:pt x="13359" y="8605"/>
                      </a:lnTo>
                      <a:lnTo>
                        <a:pt x="13323" y="8606"/>
                      </a:lnTo>
                      <a:lnTo>
                        <a:pt x="13287" y="8607"/>
                      </a:lnTo>
                      <a:lnTo>
                        <a:pt x="13250" y="8608"/>
                      </a:lnTo>
                      <a:lnTo>
                        <a:pt x="13215" y="8608"/>
                      </a:lnTo>
                      <a:lnTo>
                        <a:pt x="13179" y="8608"/>
                      </a:lnTo>
                      <a:lnTo>
                        <a:pt x="13156" y="8703"/>
                      </a:lnTo>
                      <a:lnTo>
                        <a:pt x="13132" y="8797"/>
                      </a:lnTo>
                      <a:lnTo>
                        <a:pt x="13105" y="8888"/>
                      </a:lnTo>
                      <a:lnTo>
                        <a:pt x="13075" y="8978"/>
                      </a:lnTo>
                      <a:lnTo>
                        <a:pt x="13042" y="9067"/>
                      </a:lnTo>
                      <a:lnTo>
                        <a:pt x="13006" y="9154"/>
                      </a:lnTo>
                      <a:lnTo>
                        <a:pt x="12969" y="9239"/>
                      </a:lnTo>
                      <a:lnTo>
                        <a:pt x="12928" y="9323"/>
                      </a:lnTo>
                      <a:lnTo>
                        <a:pt x="12886" y="9406"/>
                      </a:lnTo>
                      <a:lnTo>
                        <a:pt x="12840" y="9486"/>
                      </a:lnTo>
                      <a:lnTo>
                        <a:pt x="12793" y="9565"/>
                      </a:lnTo>
                      <a:lnTo>
                        <a:pt x="12744" y="9643"/>
                      </a:lnTo>
                      <a:lnTo>
                        <a:pt x="12692" y="9719"/>
                      </a:lnTo>
                      <a:lnTo>
                        <a:pt x="12637" y="9794"/>
                      </a:lnTo>
                      <a:lnTo>
                        <a:pt x="12581" y="9867"/>
                      </a:lnTo>
                      <a:lnTo>
                        <a:pt x="12522" y="9939"/>
                      </a:lnTo>
                      <a:lnTo>
                        <a:pt x="12462" y="10010"/>
                      </a:lnTo>
                      <a:lnTo>
                        <a:pt x="12399" y="10079"/>
                      </a:lnTo>
                      <a:lnTo>
                        <a:pt x="12336" y="10146"/>
                      </a:lnTo>
                      <a:lnTo>
                        <a:pt x="12269" y="10212"/>
                      </a:lnTo>
                      <a:lnTo>
                        <a:pt x="12201" y="10277"/>
                      </a:lnTo>
                      <a:lnTo>
                        <a:pt x="12132" y="10339"/>
                      </a:lnTo>
                      <a:lnTo>
                        <a:pt x="12060" y="10401"/>
                      </a:lnTo>
                      <a:lnTo>
                        <a:pt x="11987" y="10461"/>
                      </a:lnTo>
                      <a:lnTo>
                        <a:pt x="11912" y="10519"/>
                      </a:lnTo>
                      <a:lnTo>
                        <a:pt x="11836" y="10577"/>
                      </a:lnTo>
                      <a:lnTo>
                        <a:pt x="11758" y="10632"/>
                      </a:lnTo>
                      <a:lnTo>
                        <a:pt x="11679" y="10686"/>
                      </a:lnTo>
                      <a:lnTo>
                        <a:pt x="11599" y="10739"/>
                      </a:lnTo>
                      <a:lnTo>
                        <a:pt x="11517" y="10791"/>
                      </a:lnTo>
                      <a:lnTo>
                        <a:pt x="11434" y="10841"/>
                      </a:lnTo>
                      <a:lnTo>
                        <a:pt x="11350" y="10889"/>
                      </a:lnTo>
                      <a:lnTo>
                        <a:pt x="11320" y="10905"/>
                      </a:lnTo>
                      <a:lnTo>
                        <a:pt x="11292" y="10920"/>
                      </a:lnTo>
                      <a:lnTo>
                        <a:pt x="11262" y="10936"/>
                      </a:lnTo>
                      <a:lnTo>
                        <a:pt x="11232" y="10950"/>
                      </a:lnTo>
                      <a:lnTo>
                        <a:pt x="11203" y="10965"/>
                      </a:lnTo>
                      <a:lnTo>
                        <a:pt x="11174" y="10980"/>
                      </a:lnTo>
                      <a:lnTo>
                        <a:pt x="11144" y="10994"/>
                      </a:lnTo>
                      <a:lnTo>
                        <a:pt x="11114" y="11009"/>
                      </a:lnTo>
                      <a:lnTo>
                        <a:pt x="11084" y="11023"/>
                      </a:lnTo>
                      <a:lnTo>
                        <a:pt x="11054" y="11037"/>
                      </a:lnTo>
                      <a:lnTo>
                        <a:pt x="11024" y="11050"/>
                      </a:lnTo>
                      <a:lnTo>
                        <a:pt x="10994" y="11065"/>
                      </a:lnTo>
                      <a:lnTo>
                        <a:pt x="10964" y="11079"/>
                      </a:lnTo>
                      <a:lnTo>
                        <a:pt x="10934" y="11092"/>
                      </a:lnTo>
                      <a:lnTo>
                        <a:pt x="10903" y="11106"/>
                      </a:lnTo>
                      <a:lnTo>
                        <a:pt x="10872" y="11119"/>
                      </a:lnTo>
                      <a:lnTo>
                        <a:pt x="10805" y="11145"/>
                      </a:lnTo>
                      <a:lnTo>
                        <a:pt x="10737" y="11171"/>
                      </a:lnTo>
                      <a:lnTo>
                        <a:pt x="10668" y="11195"/>
                      </a:lnTo>
                      <a:lnTo>
                        <a:pt x="10601" y="11219"/>
                      </a:lnTo>
                      <a:lnTo>
                        <a:pt x="10533" y="11241"/>
                      </a:lnTo>
                      <a:lnTo>
                        <a:pt x="10466" y="11263"/>
                      </a:lnTo>
                      <a:lnTo>
                        <a:pt x="10399" y="11284"/>
                      </a:lnTo>
                      <a:lnTo>
                        <a:pt x="10331" y="11303"/>
                      </a:lnTo>
                      <a:lnTo>
                        <a:pt x="10263" y="11322"/>
                      </a:lnTo>
                      <a:lnTo>
                        <a:pt x="10197" y="11340"/>
                      </a:lnTo>
                      <a:lnTo>
                        <a:pt x="10129" y="11358"/>
                      </a:lnTo>
                      <a:lnTo>
                        <a:pt x="10061" y="11373"/>
                      </a:lnTo>
                      <a:lnTo>
                        <a:pt x="9993" y="11389"/>
                      </a:lnTo>
                      <a:lnTo>
                        <a:pt x="9926" y="11403"/>
                      </a:lnTo>
                      <a:lnTo>
                        <a:pt x="9858" y="11417"/>
                      </a:lnTo>
                      <a:lnTo>
                        <a:pt x="9789" y="11429"/>
                      </a:lnTo>
                      <a:lnTo>
                        <a:pt x="9722" y="11441"/>
                      </a:lnTo>
                      <a:lnTo>
                        <a:pt x="9653" y="11452"/>
                      </a:lnTo>
                      <a:lnTo>
                        <a:pt x="9584" y="11462"/>
                      </a:lnTo>
                      <a:lnTo>
                        <a:pt x="9516" y="11471"/>
                      </a:lnTo>
                      <a:lnTo>
                        <a:pt x="9447" y="11479"/>
                      </a:lnTo>
                      <a:lnTo>
                        <a:pt x="9377" y="11487"/>
                      </a:lnTo>
                      <a:lnTo>
                        <a:pt x="9307" y="11494"/>
                      </a:lnTo>
                      <a:lnTo>
                        <a:pt x="9238" y="11499"/>
                      </a:lnTo>
                      <a:lnTo>
                        <a:pt x="9167" y="11504"/>
                      </a:lnTo>
                      <a:lnTo>
                        <a:pt x="9097" y="11509"/>
                      </a:lnTo>
                      <a:lnTo>
                        <a:pt x="9025" y="11512"/>
                      </a:lnTo>
                      <a:lnTo>
                        <a:pt x="8954" y="11515"/>
                      </a:lnTo>
                      <a:lnTo>
                        <a:pt x="8882" y="11517"/>
                      </a:lnTo>
                      <a:lnTo>
                        <a:pt x="8810" y="11517"/>
                      </a:lnTo>
                      <a:lnTo>
                        <a:pt x="8737" y="11518"/>
                      </a:lnTo>
                      <a:lnTo>
                        <a:pt x="8663" y="11517"/>
                      </a:lnTo>
                      <a:lnTo>
                        <a:pt x="8262" y="11488"/>
                      </a:lnTo>
                      <a:lnTo>
                        <a:pt x="8161" y="11474"/>
                      </a:lnTo>
                      <a:lnTo>
                        <a:pt x="8060" y="11458"/>
                      </a:lnTo>
                      <a:lnTo>
                        <a:pt x="7959" y="11440"/>
                      </a:lnTo>
                      <a:lnTo>
                        <a:pt x="7858" y="11421"/>
                      </a:lnTo>
                      <a:lnTo>
                        <a:pt x="7758" y="11400"/>
                      </a:lnTo>
                      <a:lnTo>
                        <a:pt x="7657" y="11376"/>
                      </a:lnTo>
                      <a:lnTo>
                        <a:pt x="7558" y="11351"/>
                      </a:lnTo>
                      <a:lnTo>
                        <a:pt x="7459" y="11325"/>
                      </a:lnTo>
                      <a:lnTo>
                        <a:pt x="7362" y="11296"/>
                      </a:lnTo>
                      <a:lnTo>
                        <a:pt x="7265" y="11265"/>
                      </a:lnTo>
                      <a:lnTo>
                        <a:pt x="7168" y="11233"/>
                      </a:lnTo>
                      <a:lnTo>
                        <a:pt x="7072" y="11197"/>
                      </a:lnTo>
                      <a:lnTo>
                        <a:pt x="6978" y="11161"/>
                      </a:lnTo>
                      <a:lnTo>
                        <a:pt x="6884" y="11121"/>
                      </a:lnTo>
                      <a:lnTo>
                        <a:pt x="6792" y="11080"/>
                      </a:lnTo>
                      <a:lnTo>
                        <a:pt x="6701" y="11037"/>
                      </a:lnTo>
                      <a:lnTo>
                        <a:pt x="6611" y="10990"/>
                      </a:lnTo>
                      <a:lnTo>
                        <a:pt x="6522" y="10942"/>
                      </a:lnTo>
                      <a:lnTo>
                        <a:pt x="6436" y="10892"/>
                      </a:lnTo>
                      <a:lnTo>
                        <a:pt x="6350" y="10839"/>
                      </a:lnTo>
                      <a:lnTo>
                        <a:pt x="6266" y="10784"/>
                      </a:lnTo>
                      <a:lnTo>
                        <a:pt x="6184" y="10727"/>
                      </a:lnTo>
                      <a:lnTo>
                        <a:pt x="6104" y="10666"/>
                      </a:lnTo>
                      <a:lnTo>
                        <a:pt x="6025" y="10604"/>
                      </a:lnTo>
                      <a:lnTo>
                        <a:pt x="5948" y="10539"/>
                      </a:lnTo>
                      <a:lnTo>
                        <a:pt x="5873" y="10471"/>
                      </a:lnTo>
                      <a:lnTo>
                        <a:pt x="5800" y="10401"/>
                      </a:lnTo>
                      <a:lnTo>
                        <a:pt x="5729" y="10328"/>
                      </a:lnTo>
                      <a:lnTo>
                        <a:pt x="5662" y="10253"/>
                      </a:lnTo>
                      <a:lnTo>
                        <a:pt x="5595" y="10175"/>
                      </a:lnTo>
                      <a:lnTo>
                        <a:pt x="5532" y="10093"/>
                      </a:lnTo>
                      <a:lnTo>
                        <a:pt x="5470" y="10010"/>
                      </a:lnTo>
                      <a:lnTo>
                        <a:pt x="5380" y="10000"/>
                      </a:lnTo>
                      <a:lnTo>
                        <a:pt x="5290" y="9987"/>
                      </a:lnTo>
                      <a:lnTo>
                        <a:pt x="5199" y="9974"/>
                      </a:lnTo>
                      <a:lnTo>
                        <a:pt x="5109" y="9958"/>
                      </a:lnTo>
                      <a:lnTo>
                        <a:pt x="5020" y="9941"/>
                      </a:lnTo>
                      <a:lnTo>
                        <a:pt x="4931" y="9923"/>
                      </a:lnTo>
                      <a:lnTo>
                        <a:pt x="4842" y="9902"/>
                      </a:lnTo>
                      <a:lnTo>
                        <a:pt x="4754" y="9879"/>
                      </a:lnTo>
                      <a:lnTo>
                        <a:pt x="4666" y="9855"/>
                      </a:lnTo>
                      <a:lnTo>
                        <a:pt x="4579" y="9830"/>
                      </a:lnTo>
                      <a:lnTo>
                        <a:pt x="4493" y="9802"/>
                      </a:lnTo>
                      <a:lnTo>
                        <a:pt x="4408" y="9773"/>
                      </a:lnTo>
                      <a:lnTo>
                        <a:pt x="4322" y="9741"/>
                      </a:lnTo>
                      <a:lnTo>
                        <a:pt x="4238" y="9708"/>
                      </a:lnTo>
                      <a:lnTo>
                        <a:pt x="4155" y="9673"/>
                      </a:lnTo>
                      <a:lnTo>
                        <a:pt x="4073" y="9636"/>
                      </a:lnTo>
                      <a:lnTo>
                        <a:pt x="3993" y="9597"/>
                      </a:lnTo>
                      <a:lnTo>
                        <a:pt x="3913" y="9556"/>
                      </a:lnTo>
                      <a:lnTo>
                        <a:pt x="3834" y="9513"/>
                      </a:lnTo>
                      <a:lnTo>
                        <a:pt x="3757" y="9469"/>
                      </a:lnTo>
                      <a:lnTo>
                        <a:pt x="3682" y="9422"/>
                      </a:lnTo>
                      <a:lnTo>
                        <a:pt x="3607" y="9373"/>
                      </a:lnTo>
                      <a:lnTo>
                        <a:pt x="3533" y="9322"/>
                      </a:lnTo>
                      <a:lnTo>
                        <a:pt x="3461" y="9269"/>
                      </a:lnTo>
                      <a:lnTo>
                        <a:pt x="3391" y="9213"/>
                      </a:lnTo>
                      <a:lnTo>
                        <a:pt x="3323" y="9156"/>
                      </a:lnTo>
                      <a:lnTo>
                        <a:pt x="3256" y="9097"/>
                      </a:lnTo>
                      <a:lnTo>
                        <a:pt x="3191" y="9035"/>
                      </a:lnTo>
                      <a:lnTo>
                        <a:pt x="3128" y="8972"/>
                      </a:lnTo>
                      <a:lnTo>
                        <a:pt x="3066" y="8905"/>
                      </a:lnTo>
                      <a:lnTo>
                        <a:pt x="3007" y="8837"/>
                      </a:lnTo>
                      <a:lnTo>
                        <a:pt x="2949" y="8767"/>
                      </a:lnTo>
                      <a:lnTo>
                        <a:pt x="2927" y="8735"/>
                      </a:lnTo>
                      <a:lnTo>
                        <a:pt x="2905" y="8703"/>
                      </a:lnTo>
                      <a:lnTo>
                        <a:pt x="2885" y="8671"/>
                      </a:lnTo>
                      <a:lnTo>
                        <a:pt x="2864" y="8639"/>
                      </a:lnTo>
                      <a:lnTo>
                        <a:pt x="2845" y="8606"/>
                      </a:lnTo>
                      <a:lnTo>
                        <a:pt x="2825" y="8574"/>
                      </a:lnTo>
                      <a:lnTo>
                        <a:pt x="2807" y="8541"/>
                      </a:lnTo>
                      <a:lnTo>
                        <a:pt x="2789" y="8507"/>
                      </a:lnTo>
                      <a:lnTo>
                        <a:pt x="2772" y="8474"/>
                      </a:lnTo>
                      <a:lnTo>
                        <a:pt x="2756" y="8441"/>
                      </a:lnTo>
                      <a:lnTo>
                        <a:pt x="2740" y="8406"/>
                      </a:lnTo>
                      <a:lnTo>
                        <a:pt x="2726" y="8372"/>
                      </a:lnTo>
                      <a:lnTo>
                        <a:pt x="2711" y="8338"/>
                      </a:lnTo>
                      <a:lnTo>
                        <a:pt x="2699" y="8303"/>
                      </a:lnTo>
                      <a:lnTo>
                        <a:pt x="2687" y="8269"/>
                      </a:lnTo>
                      <a:lnTo>
                        <a:pt x="2676" y="8233"/>
                      </a:lnTo>
                      <a:lnTo>
                        <a:pt x="2665" y="8198"/>
                      </a:lnTo>
                      <a:lnTo>
                        <a:pt x="2655" y="8163"/>
                      </a:lnTo>
                      <a:lnTo>
                        <a:pt x="2647" y="8127"/>
                      </a:lnTo>
                      <a:lnTo>
                        <a:pt x="2640" y="8092"/>
                      </a:lnTo>
                      <a:lnTo>
                        <a:pt x="2633" y="8055"/>
                      </a:lnTo>
                      <a:lnTo>
                        <a:pt x="2627" y="8019"/>
                      </a:lnTo>
                      <a:lnTo>
                        <a:pt x="2623" y="7982"/>
                      </a:lnTo>
                      <a:lnTo>
                        <a:pt x="2620" y="7946"/>
                      </a:lnTo>
                      <a:lnTo>
                        <a:pt x="2617" y="7908"/>
                      </a:lnTo>
                      <a:lnTo>
                        <a:pt x="2616" y="7872"/>
                      </a:lnTo>
                      <a:lnTo>
                        <a:pt x="2616" y="7835"/>
                      </a:lnTo>
                      <a:lnTo>
                        <a:pt x="2617" y="7797"/>
                      </a:lnTo>
                      <a:lnTo>
                        <a:pt x="2620" y="7759"/>
                      </a:lnTo>
                      <a:lnTo>
                        <a:pt x="2623" y="7721"/>
                      </a:lnTo>
                      <a:lnTo>
                        <a:pt x="2628" y="7682"/>
                      </a:lnTo>
                      <a:lnTo>
                        <a:pt x="2635" y="7644"/>
                      </a:lnTo>
                      <a:lnTo>
                        <a:pt x="2629" y="7639"/>
                      </a:lnTo>
                      <a:lnTo>
                        <a:pt x="2625" y="7635"/>
                      </a:lnTo>
                      <a:lnTo>
                        <a:pt x="2620" y="7629"/>
                      </a:lnTo>
                      <a:lnTo>
                        <a:pt x="2615" y="7624"/>
                      </a:lnTo>
                      <a:lnTo>
                        <a:pt x="2611" y="7619"/>
                      </a:lnTo>
                      <a:lnTo>
                        <a:pt x="2606" y="7615"/>
                      </a:lnTo>
                      <a:lnTo>
                        <a:pt x="2602" y="7610"/>
                      </a:lnTo>
                      <a:lnTo>
                        <a:pt x="2597" y="7604"/>
                      </a:lnTo>
                      <a:lnTo>
                        <a:pt x="2506" y="7605"/>
                      </a:lnTo>
                      <a:lnTo>
                        <a:pt x="2415" y="7604"/>
                      </a:lnTo>
                      <a:lnTo>
                        <a:pt x="2325" y="7601"/>
                      </a:lnTo>
                      <a:lnTo>
                        <a:pt x="2235" y="7595"/>
                      </a:lnTo>
                      <a:lnTo>
                        <a:pt x="2144" y="7587"/>
                      </a:lnTo>
                      <a:lnTo>
                        <a:pt x="2055" y="7575"/>
                      </a:lnTo>
                      <a:lnTo>
                        <a:pt x="1966" y="7563"/>
                      </a:lnTo>
                      <a:lnTo>
                        <a:pt x="1878" y="7547"/>
                      </a:lnTo>
                      <a:lnTo>
                        <a:pt x="1791" y="7528"/>
                      </a:lnTo>
                      <a:lnTo>
                        <a:pt x="1704" y="7508"/>
                      </a:lnTo>
                      <a:lnTo>
                        <a:pt x="1618" y="7485"/>
                      </a:lnTo>
                      <a:lnTo>
                        <a:pt x="1533" y="7459"/>
                      </a:lnTo>
                      <a:lnTo>
                        <a:pt x="1450" y="7430"/>
                      </a:lnTo>
                      <a:lnTo>
                        <a:pt x="1368" y="7399"/>
                      </a:lnTo>
                      <a:lnTo>
                        <a:pt x="1287" y="7366"/>
                      </a:lnTo>
                      <a:lnTo>
                        <a:pt x="1207" y="7330"/>
                      </a:lnTo>
                      <a:lnTo>
                        <a:pt x="1128" y="7292"/>
                      </a:lnTo>
                      <a:lnTo>
                        <a:pt x="1052" y="7251"/>
                      </a:lnTo>
                      <a:lnTo>
                        <a:pt x="976" y="7208"/>
                      </a:lnTo>
                      <a:lnTo>
                        <a:pt x="903" y="7162"/>
                      </a:lnTo>
                      <a:lnTo>
                        <a:pt x="832" y="7113"/>
                      </a:lnTo>
                      <a:lnTo>
                        <a:pt x="762" y="7062"/>
                      </a:lnTo>
                      <a:lnTo>
                        <a:pt x="694" y="7008"/>
                      </a:lnTo>
                      <a:lnTo>
                        <a:pt x="629" y="6951"/>
                      </a:lnTo>
                      <a:lnTo>
                        <a:pt x="565" y="6892"/>
                      </a:lnTo>
                      <a:lnTo>
                        <a:pt x="505" y="6830"/>
                      </a:lnTo>
                      <a:lnTo>
                        <a:pt x="446" y="6766"/>
                      </a:lnTo>
                      <a:lnTo>
                        <a:pt x="390" y="6698"/>
                      </a:lnTo>
                      <a:lnTo>
                        <a:pt x="335" y="6629"/>
                      </a:lnTo>
                      <a:lnTo>
                        <a:pt x="284" y="6557"/>
                      </a:lnTo>
                      <a:lnTo>
                        <a:pt x="236" y="6482"/>
                      </a:lnTo>
                      <a:lnTo>
                        <a:pt x="190" y="6404"/>
                      </a:lnTo>
                      <a:lnTo>
                        <a:pt x="165" y="6352"/>
                      </a:lnTo>
                      <a:lnTo>
                        <a:pt x="142" y="6300"/>
                      </a:lnTo>
                      <a:lnTo>
                        <a:pt x="120" y="6247"/>
                      </a:lnTo>
                      <a:lnTo>
                        <a:pt x="100" y="6195"/>
                      </a:lnTo>
                      <a:lnTo>
                        <a:pt x="83" y="6144"/>
                      </a:lnTo>
                      <a:lnTo>
                        <a:pt x="67" y="6092"/>
                      </a:lnTo>
                      <a:lnTo>
                        <a:pt x="52" y="6040"/>
                      </a:lnTo>
                      <a:lnTo>
                        <a:pt x="39" y="5989"/>
                      </a:lnTo>
                      <a:lnTo>
                        <a:pt x="29" y="5937"/>
                      </a:lnTo>
                      <a:lnTo>
                        <a:pt x="19" y="5886"/>
                      </a:lnTo>
                      <a:lnTo>
                        <a:pt x="11" y="5834"/>
                      </a:lnTo>
                      <a:lnTo>
                        <a:pt x="6" y="5783"/>
                      </a:lnTo>
                      <a:lnTo>
                        <a:pt x="2" y="5732"/>
                      </a:lnTo>
                      <a:lnTo>
                        <a:pt x="0" y="5680"/>
                      </a:lnTo>
                      <a:lnTo>
                        <a:pt x="0" y="5629"/>
                      </a:lnTo>
                      <a:lnTo>
                        <a:pt x="1" y="5578"/>
                      </a:lnTo>
                      <a:lnTo>
                        <a:pt x="5" y="5527"/>
                      </a:lnTo>
                      <a:lnTo>
                        <a:pt x="10" y="5476"/>
                      </a:lnTo>
                      <a:lnTo>
                        <a:pt x="16" y="5425"/>
                      </a:lnTo>
                      <a:lnTo>
                        <a:pt x="26" y="5374"/>
                      </a:lnTo>
                      <a:lnTo>
                        <a:pt x="36" y="5323"/>
                      </a:lnTo>
                      <a:lnTo>
                        <a:pt x="48" y="5272"/>
                      </a:lnTo>
                      <a:lnTo>
                        <a:pt x="62" y="5221"/>
                      </a:lnTo>
                      <a:lnTo>
                        <a:pt x="78" y="5171"/>
                      </a:lnTo>
                      <a:lnTo>
                        <a:pt x="95" y="5120"/>
                      </a:lnTo>
                      <a:lnTo>
                        <a:pt x="115" y="5069"/>
                      </a:lnTo>
                      <a:lnTo>
                        <a:pt x="135" y="5018"/>
                      </a:lnTo>
                      <a:lnTo>
                        <a:pt x="158" y="4968"/>
                      </a:lnTo>
                      <a:lnTo>
                        <a:pt x="183" y="4917"/>
                      </a:lnTo>
                      <a:lnTo>
                        <a:pt x="209" y="4867"/>
                      </a:lnTo>
                      <a:lnTo>
                        <a:pt x="238" y="4815"/>
                      </a:lnTo>
                      <a:lnTo>
                        <a:pt x="268" y="4764"/>
                      </a:lnTo>
                      <a:lnTo>
                        <a:pt x="308" y="4708"/>
                      </a:lnTo>
                      <a:lnTo>
                        <a:pt x="349" y="4654"/>
                      </a:lnTo>
                      <a:lnTo>
                        <a:pt x="392" y="4601"/>
                      </a:lnTo>
                      <a:lnTo>
                        <a:pt x="436" y="4550"/>
                      </a:lnTo>
                      <a:lnTo>
                        <a:pt x="481" y="4500"/>
                      </a:lnTo>
                      <a:lnTo>
                        <a:pt x="527" y="4452"/>
                      </a:lnTo>
                      <a:lnTo>
                        <a:pt x="575" y="4406"/>
                      </a:lnTo>
                      <a:lnTo>
                        <a:pt x="625" y="4361"/>
                      </a:lnTo>
                      <a:lnTo>
                        <a:pt x="675" y="4318"/>
                      </a:lnTo>
                      <a:lnTo>
                        <a:pt x="726" y="4276"/>
                      </a:lnTo>
                      <a:lnTo>
                        <a:pt x="778" y="4236"/>
                      </a:lnTo>
                      <a:lnTo>
                        <a:pt x="832" y="4198"/>
                      </a:lnTo>
                      <a:lnTo>
                        <a:pt x="886" y="4161"/>
                      </a:lnTo>
                      <a:lnTo>
                        <a:pt x="941" y="4126"/>
                      </a:lnTo>
                      <a:lnTo>
                        <a:pt x="999" y="4092"/>
                      </a:lnTo>
                      <a:lnTo>
                        <a:pt x="1055" y="4060"/>
                      </a:lnTo>
                      <a:lnTo>
                        <a:pt x="1114" y="4029"/>
                      </a:lnTo>
                      <a:lnTo>
                        <a:pt x="1173" y="4000"/>
                      </a:lnTo>
                      <a:lnTo>
                        <a:pt x="1233" y="3973"/>
                      </a:lnTo>
                      <a:lnTo>
                        <a:pt x="1293" y="3947"/>
                      </a:lnTo>
                      <a:lnTo>
                        <a:pt x="1355" y="3922"/>
                      </a:lnTo>
                      <a:lnTo>
                        <a:pt x="1417" y="3899"/>
                      </a:lnTo>
                      <a:lnTo>
                        <a:pt x="1480" y="3877"/>
                      </a:lnTo>
                      <a:lnTo>
                        <a:pt x="1543" y="3857"/>
                      </a:lnTo>
                      <a:lnTo>
                        <a:pt x="1608" y="3839"/>
                      </a:lnTo>
                      <a:lnTo>
                        <a:pt x="1673" y="3822"/>
                      </a:lnTo>
                      <a:lnTo>
                        <a:pt x="1737" y="3806"/>
                      </a:lnTo>
                      <a:lnTo>
                        <a:pt x="1803" y="3792"/>
                      </a:lnTo>
                      <a:lnTo>
                        <a:pt x="1869" y="3779"/>
                      </a:lnTo>
                      <a:lnTo>
                        <a:pt x="1936" y="3768"/>
                      </a:lnTo>
                      <a:lnTo>
                        <a:pt x="2003" y="3758"/>
                      </a:lnTo>
                      <a:lnTo>
                        <a:pt x="2070" y="3750"/>
                      </a:lnTo>
                      <a:lnTo>
                        <a:pt x="2037" y="3718"/>
                      </a:lnTo>
                      <a:lnTo>
                        <a:pt x="2005" y="3685"/>
                      </a:lnTo>
                      <a:lnTo>
                        <a:pt x="1974" y="3651"/>
                      </a:lnTo>
                      <a:lnTo>
                        <a:pt x="1945" y="3618"/>
                      </a:lnTo>
                      <a:lnTo>
                        <a:pt x="1919" y="3583"/>
                      </a:lnTo>
                      <a:lnTo>
                        <a:pt x="1893" y="3549"/>
                      </a:lnTo>
                      <a:lnTo>
                        <a:pt x="1868" y="3514"/>
                      </a:lnTo>
                      <a:lnTo>
                        <a:pt x="1846" y="3478"/>
                      </a:lnTo>
                      <a:lnTo>
                        <a:pt x="1825" y="3442"/>
                      </a:lnTo>
                      <a:lnTo>
                        <a:pt x="1806" y="3405"/>
                      </a:lnTo>
                      <a:lnTo>
                        <a:pt x="1787" y="3368"/>
                      </a:lnTo>
                      <a:lnTo>
                        <a:pt x="1772" y="3330"/>
                      </a:lnTo>
                      <a:lnTo>
                        <a:pt x="1758" y="3293"/>
                      </a:lnTo>
                      <a:lnTo>
                        <a:pt x="1744" y="3254"/>
                      </a:lnTo>
                      <a:lnTo>
                        <a:pt x="1733" y="3216"/>
                      </a:lnTo>
                      <a:lnTo>
                        <a:pt x="1724" y="3176"/>
                      </a:lnTo>
                      <a:lnTo>
                        <a:pt x="1717" y="3137"/>
                      </a:lnTo>
                      <a:lnTo>
                        <a:pt x="1711" y="3097"/>
                      </a:lnTo>
                      <a:lnTo>
                        <a:pt x="1706" y="3058"/>
                      </a:lnTo>
                      <a:lnTo>
                        <a:pt x="1703" y="3017"/>
                      </a:lnTo>
                      <a:lnTo>
                        <a:pt x="1702" y="2975"/>
                      </a:lnTo>
                      <a:lnTo>
                        <a:pt x="1703" y="2935"/>
                      </a:lnTo>
                      <a:lnTo>
                        <a:pt x="1706" y="2893"/>
                      </a:lnTo>
                      <a:lnTo>
                        <a:pt x="1712" y="2851"/>
                      </a:lnTo>
                      <a:lnTo>
                        <a:pt x="1718" y="2809"/>
                      </a:lnTo>
                      <a:lnTo>
                        <a:pt x="1726" y="2767"/>
                      </a:lnTo>
                      <a:lnTo>
                        <a:pt x="1736" y="2724"/>
                      </a:lnTo>
                      <a:lnTo>
                        <a:pt x="1747" y="2681"/>
                      </a:lnTo>
                      <a:lnTo>
                        <a:pt x="1761" y="2638"/>
                      </a:lnTo>
                      <a:lnTo>
                        <a:pt x="1777" y="2594"/>
                      </a:lnTo>
                      <a:lnTo>
                        <a:pt x="1795" y="2550"/>
                      </a:lnTo>
                      <a:lnTo>
                        <a:pt x="1813" y="2507"/>
                      </a:lnTo>
                      <a:lnTo>
                        <a:pt x="1843" y="2454"/>
                      </a:lnTo>
                      <a:lnTo>
                        <a:pt x="1874" y="2404"/>
                      </a:lnTo>
                      <a:lnTo>
                        <a:pt x="1906" y="2354"/>
                      </a:lnTo>
                      <a:lnTo>
                        <a:pt x="1940" y="2306"/>
                      </a:lnTo>
                      <a:lnTo>
                        <a:pt x="1976" y="2260"/>
                      </a:lnTo>
                      <a:lnTo>
                        <a:pt x="2013" y="2215"/>
                      </a:lnTo>
                      <a:lnTo>
                        <a:pt x="2052" y="2171"/>
                      </a:lnTo>
                      <a:lnTo>
                        <a:pt x="2092" y="2129"/>
                      </a:lnTo>
                      <a:lnTo>
                        <a:pt x="2133" y="2088"/>
                      </a:lnTo>
                      <a:lnTo>
                        <a:pt x="2175" y="2048"/>
                      </a:lnTo>
                      <a:lnTo>
                        <a:pt x="2219" y="2011"/>
                      </a:lnTo>
                      <a:lnTo>
                        <a:pt x="2264" y="1973"/>
                      </a:lnTo>
                      <a:lnTo>
                        <a:pt x="2310" y="1938"/>
                      </a:lnTo>
                      <a:lnTo>
                        <a:pt x="2358" y="1904"/>
                      </a:lnTo>
                      <a:lnTo>
                        <a:pt x="2405" y="1871"/>
                      </a:lnTo>
                      <a:lnTo>
                        <a:pt x="2454" y="1839"/>
                      </a:lnTo>
                      <a:lnTo>
                        <a:pt x="2504" y="1809"/>
                      </a:lnTo>
                      <a:lnTo>
                        <a:pt x="2555" y="1780"/>
                      </a:lnTo>
                      <a:lnTo>
                        <a:pt x="2607" y="1752"/>
                      </a:lnTo>
                      <a:lnTo>
                        <a:pt x="2659" y="1725"/>
                      </a:lnTo>
                      <a:lnTo>
                        <a:pt x="2712" y="1699"/>
                      </a:lnTo>
                      <a:lnTo>
                        <a:pt x="2766" y="1675"/>
                      </a:lnTo>
                      <a:lnTo>
                        <a:pt x="2820" y="1651"/>
                      </a:lnTo>
                      <a:lnTo>
                        <a:pt x="2876" y="1629"/>
                      </a:lnTo>
                      <a:lnTo>
                        <a:pt x="2931" y="1607"/>
                      </a:lnTo>
                      <a:lnTo>
                        <a:pt x="2986" y="1587"/>
                      </a:lnTo>
                      <a:lnTo>
                        <a:pt x="3043" y="1568"/>
                      </a:lnTo>
                      <a:lnTo>
                        <a:pt x="3099" y="1550"/>
                      </a:lnTo>
                      <a:lnTo>
                        <a:pt x="3155" y="1533"/>
                      </a:lnTo>
                      <a:lnTo>
                        <a:pt x="3213" y="1516"/>
                      </a:lnTo>
                      <a:lnTo>
                        <a:pt x="3270" y="1502"/>
                      </a:lnTo>
                      <a:lnTo>
                        <a:pt x="3328" y="1487"/>
                      </a:lnTo>
                      <a:lnTo>
                        <a:pt x="3378" y="1477"/>
                      </a:lnTo>
                      <a:lnTo>
                        <a:pt x="3427" y="1467"/>
                      </a:lnTo>
                      <a:lnTo>
                        <a:pt x="3477" y="1458"/>
                      </a:lnTo>
                      <a:lnTo>
                        <a:pt x="3528" y="1451"/>
                      </a:lnTo>
                      <a:lnTo>
                        <a:pt x="3577" y="1442"/>
                      </a:lnTo>
                      <a:lnTo>
                        <a:pt x="3627" y="1436"/>
                      </a:lnTo>
                      <a:lnTo>
                        <a:pt x="3677" y="1430"/>
                      </a:lnTo>
                      <a:lnTo>
                        <a:pt x="3727" y="1425"/>
                      </a:lnTo>
                      <a:lnTo>
                        <a:pt x="3777" y="1420"/>
                      </a:lnTo>
                      <a:lnTo>
                        <a:pt x="3827" y="1416"/>
                      </a:lnTo>
                      <a:lnTo>
                        <a:pt x="3876" y="1413"/>
                      </a:lnTo>
                      <a:lnTo>
                        <a:pt x="3927" y="1411"/>
                      </a:lnTo>
                      <a:lnTo>
                        <a:pt x="3977" y="1410"/>
                      </a:lnTo>
                      <a:lnTo>
                        <a:pt x="4026" y="1409"/>
                      </a:lnTo>
                      <a:lnTo>
                        <a:pt x="4076" y="1409"/>
                      </a:lnTo>
                      <a:lnTo>
                        <a:pt x="4126" y="1410"/>
                      </a:lnTo>
                      <a:lnTo>
                        <a:pt x="4176" y="1412"/>
                      </a:lnTo>
                      <a:lnTo>
                        <a:pt x="4225" y="1414"/>
                      </a:lnTo>
                      <a:lnTo>
                        <a:pt x="4275" y="1417"/>
                      </a:lnTo>
                      <a:lnTo>
                        <a:pt x="4325" y="1422"/>
                      </a:lnTo>
                      <a:lnTo>
                        <a:pt x="4374" y="1427"/>
                      </a:lnTo>
                      <a:lnTo>
                        <a:pt x="4423" y="1433"/>
                      </a:lnTo>
                      <a:lnTo>
                        <a:pt x="4472" y="1439"/>
                      </a:lnTo>
                      <a:lnTo>
                        <a:pt x="4521" y="1447"/>
                      </a:lnTo>
                      <a:lnTo>
                        <a:pt x="4571" y="1455"/>
                      </a:lnTo>
                      <a:lnTo>
                        <a:pt x="4620" y="1464"/>
                      </a:lnTo>
                      <a:lnTo>
                        <a:pt x="4669" y="1475"/>
                      </a:lnTo>
                      <a:lnTo>
                        <a:pt x="4718" y="1485"/>
                      </a:lnTo>
                      <a:lnTo>
                        <a:pt x="4767" y="1498"/>
                      </a:lnTo>
                      <a:lnTo>
                        <a:pt x="4816" y="1510"/>
                      </a:lnTo>
                      <a:lnTo>
                        <a:pt x="4864" y="1524"/>
                      </a:lnTo>
                      <a:lnTo>
                        <a:pt x="4912" y="1537"/>
                      </a:lnTo>
                      <a:lnTo>
                        <a:pt x="4927" y="1532"/>
                      </a:lnTo>
                      <a:lnTo>
                        <a:pt x="4940" y="1526"/>
                      </a:lnTo>
                      <a:lnTo>
                        <a:pt x="4953" y="1519"/>
                      </a:lnTo>
                      <a:lnTo>
                        <a:pt x="4968" y="1513"/>
                      </a:lnTo>
                      <a:lnTo>
                        <a:pt x="4981" y="1508"/>
                      </a:lnTo>
                      <a:lnTo>
                        <a:pt x="4995" y="1502"/>
                      </a:lnTo>
                      <a:lnTo>
                        <a:pt x="5009" y="1495"/>
                      </a:lnTo>
                      <a:lnTo>
                        <a:pt x="5023" y="1490"/>
                      </a:lnTo>
                      <a:lnTo>
                        <a:pt x="5070" y="1401"/>
                      </a:lnTo>
                      <a:lnTo>
                        <a:pt x="5121" y="1315"/>
                      </a:lnTo>
                      <a:lnTo>
                        <a:pt x="5177" y="1232"/>
                      </a:lnTo>
                      <a:lnTo>
                        <a:pt x="5237" y="1153"/>
                      </a:lnTo>
                      <a:lnTo>
                        <a:pt x="5301" y="1077"/>
                      </a:lnTo>
                      <a:lnTo>
                        <a:pt x="5367" y="1003"/>
                      </a:lnTo>
                      <a:lnTo>
                        <a:pt x="5438" y="932"/>
                      </a:lnTo>
                      <a:lnTo>
                        <a:pt x="5513" y="865"/>
                      </a:lnTo>
                      <a:lnTo>
                        <a:pt x="5590" y="801"/>
                      </a:lnTo>
                      <a:lnTo>
                        <a:pt x="5670" y="738"/>
                      </a:lnTo>
                      <a:lnTo>
                        <a:pt x="5752" y="680"/>
                      </a:lnTo>
                      <a:lnTo>
                        <a:pt x="5838" y="624"/>
                      </a:lnTo>
                      <a:lnTo>
                        <a:pt x="5925" y="571"/>
                      </a:lnTo>
                      <a:lnTo>
                        <a:pt x="6015" y="520"/>
                      </a:lnTo>
                      <a:lnTo>
                        <a:pt x="6107" y="472"/>
                      </a:lnTo>
                      <a:lnTo>
                        <a:pt x="6200" y="426"/>
                      </a:lnTo>
                      <a:lnTo>
                        <a:pt x="6295" y="383"/>
                      </a:lnTo>
                      <a:lnTo>
                        <a:pt x="6391" y="343"/>
                      </a:lnTo>
                      <a:lnTo>
                        <a:pt x="6488" y="305"/>
                      </a:lnTo>
                      <a:lnTo>
                        <a:pt x="6587" y="269"/>
                      </a:lnTo>
                      <a:lnTo>
                        <a:pt x="6686" y="235"/>
                      </a:lnTo>
                      <a:lnTo>
                        <a:pt x="6787" y="205"/>
                      </a:lnTo>
                      <a:lnTo>
                        <a:pt x="6886" y="176"/>
                      </a:lnTo>
                      <a:lnTo>
                        <a:pt x="6988" y="150"/>
                      </a:lnTo>
                      <a:lnTo>
                        <a:pt x="7088" y="126"/>
                      </a:lnTo>
                      <a:lnTo>
                        <a:pt x="7189" y="103"/>
                      </a:lnTo>
                      <a:lnTo>
                        <a:pt x="7289" y="83"/>
                      </a:lnTo>
                      <a:lnTo>
                        <a:pt x="7389" y="66"/>
                      </a:lnTo>
                      <a:lnTo>
                        <a:pt x="7488" y="50"/>
                      </a:lnTo>
                      <a:lnTo>
                        <a:pt x="7587" y="36"/>
                      </a:lnTo>
                      <a:lnTo>
                        <a:pt x="7683" y="24"/>
                      </a:lnTo>
                      <a:lnTo>
                        <a:pt x="7779" y="14"/>
                      </a:lnTo>
                      <a:lnTo>
                        <a:pt x="7866" y="8"/>
                      </a:lnTo>
                      <a:lnTo>
                        <a:pt x="7952" y="4"/>
                      </a:lnTo>
                      <a:lnTo>
                        <a:pt x="8038" y="2"/>
                      </a:lnTo>
                      <a:lnTo>
                        <a:pt x="8125" y="0"/>
                      </a:lnTo>
                      <a:lnTo>
                        <a:pt x="8212" y="0"/>
                      </a:lnTo>
                      <a:lnTo>
                        <a:pt x="8299" y="1"/>
                      </a:lnTo>
                      <a:lnTo>
                        <a:pt x="8387" y="4"/>
                      </a:lnTo>
                      <a:lnTo>
                        <a:pt x="8475" y="8"/>
                      </a:lnTo>
                      <a:lnTo>
                        <a:pt x="8562" y="15"/>
                      </a:lnTo>
                      <a:lnTo>
                        <a:pt x="8650" y="22"/>
                      </a:lnTo>
                      <a:lnTo>
                        <a:pt x="8737" y="31"/>
                      </a:lnTo>
                      <a:lnTo>
                        <a:pt x="8824" y="42"/>
                      </a:lnTo>
                      <a:lnTo>
                        <a:pt x="8912" y="55"/>
                      </a:lnTo>
                      <a:lnTo>
                        <a:pt x="8998" y="69"/>
                      </a:lnTo>
                      <a:lnTo>
                        <a:pt x="9084" y="85"/>
                      </a:lnTo>
                      <a:lnTo>
                        <a:pt x="9170" y="104"/>
                      </a:lnTo>
                      <a:lnTo>
                        <a:pt x="9255" y="124"/>
                      </a:lnTo>
                      <a:lnTo>
                        <a:pt x="9339" y="146"/>
                      </a:lnTo>
                      <a:lnTo>
                        <a:pt x="9422" y="171"/>
                      </a:lnTo>
                      <a:lnTo>
                        <a:pt x="9505" y="197"/>
                      </a:lnTo>
                      <a:lnTo>
                        <a:pt x="9587" y="225"/>
                      </a:lnTo>
                      <a:lnTo>
                        <a:pt x="9668" y="256"/>
                      </a:lnTo>
                      <a:lnTo>
                        <a:pt x="9748" y="290"/>
                      </a:lnTo>
                      <a:lnTo>
                        <a:pt x="9827" y="324"/>
                      </a:lnTo>
                      <a:lnTo>
                        <a:pt x="9904" y="361"/>
                      </a:lnTo>
                      <a:lnTo>
                        <a:pt x="9981" y="402"/>
                      </a:lnTo>
                      <a:lnTo>
                        <a:pt x="10056" y="445"/>
                      </a:lnTo>
                      <a:lnTo>
                        <a:pt x="10130" y="489"/>
                      </a:lnTo>
                      <a:lnTo>
                        <a:pt x="10202" y="536"/>
                      </a:lnTo>
                      <a:lnTo>
                        <a:pt x="10272" y="586"/>
                      </a:lnTo>
                      <a:lnTo>
                        <a:pt x="10341" y="639"/>
                      </a:lnTo>
                      <a:lnTo>
                        <a:pt x="10409" y="695"/>
                      </a:lnTo>
                      <a:lnTo>
                        <a:pt x="10490" y="661"/>
                      </a:lnTo>
                      <a:lnTo>
                        <a:pt x="10572" y="633"/>
                      </a:lnTo>
                      <a:lnTo>
                        <a:pt x="10655" y="609"/>
                      </a:lnTo>
                      <a:lnTo>
                        <a:pt x="10739" y="589"/>
                      </a:lnTo>
                      <a:lnTo>
                        <a:pt x="10824" y="575"/>
                      </a:lnTo>
                      <a:lnTo>
                        <a:pt x="10910" y="563"/>
                      </a:lnTo>
                      <a:lnTo>
                        <a:pt x="10996" y="557"/>
                      </a:lnTo>
                      <a:lnTo>
                        <a:pt x="11083" y="554"/>
                      </a:lnTo>
                      <a:lnTo>
                        <a:pt x="11170" y="555"/>
                      </a:lnTo>
                      <a:lnTo>
                        <a:pt x="11256" y="559"/>
                      </a:lnTo>
                      <a:lnTo>
                        <a:pt x="11343" y="569"/>
                      </a:lnTo>
                      <a:lnTo>
                        <a:pt x="11429" y="581"/>
                      </a:lnTo>
                      <a:lnTo>
                        <a:pt x="11515" y="597"/>
                      </a:lnTo>
                      <a:lnTo>
                        <a:pt x="11600" y="615"/>
                      </a:lnTo>
                      <a:lnTo>
                        <a:pt x="11686" y="638"/>
                      </a:lnTo>
                      <a:lnTo>
                        <a:pt x="11770" y="664"/>
                      </a:lnTo>
                      <a:lnTo>
                        <a:pt x="11853" y="694"/>
                      </a:lnTo>
                      <a:lnTo>
                        <a:pt x="11936" y="726"/>
                      </a:lnTo>
                      <a:lnTo>
                        <a:pt x="12016" y="761"/>
                      </a:lnTo>
                      <a:lnTo>
                        <a:pt x="12096" y="800"/>
                      </a:lnTo>
                      <a:lnTo>
                        <a:pt x="12174" y="840"/>
                      </a:lnTo>
                      <a:lnTo>
                        <a:pt x="12251" y="884"/>
                      </a:lnTo>
                      <a:lnTo>
                        <a:pt x="12325" y="931"/>
                      </a:lnTo>
                      <a:lnTo>
                        <a:pt x="12398" y="980"/>
                      </a:lnTo>
                      <a:lnTo>
                        <a:pt x="12469" y="1031"/>
                      </a:lnTo>
                      <a:lnTo>
                        <a:pt x="12537" y="1085"/>
                      </a:lnTo>
                      <a:lnTo>
                        <a:pt x="12603" y="1141"/>
                      </a:lnTo>
                      <a:lnTo>
                        <a:pt x="12667" y="1200"/>
                      </a:lnTo>
                      <a:lnTo>
                        <a:pt x="12727" y="1261"/>
                      </a:lnTo>
                      <a:lnTo>
                        <a:pt x="12786" y="1324"/>
                      </a:lnTo>
                      <a:lnTo>
                        <a:pt x="12841" y="1388"/>
                      </a:lnTo>
                      <a:lnTo>
                        <a:pt x="12894" y="1455"/>
                      </a:lnTo>
                      <a:close/>
                    </a:path>
                  </a:pathLst>
                </a:custGeom>
                <a:solidFill>
                  <a:srgbClr val="9ac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>
                <a:off x="685800" y="2743200"/>
                <a:ext cx="1371600" cy="160020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057400" y="365760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971800" y="365760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715000" y="365760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705720" y="365760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152360" y="3429000"/>
                <a:ext cx="4809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100" spc="-1" strike="noStrike">
                    <a:solidFill>
                      <a:srgbClr val="000000"/>
                    </a:solidFill>
                    <a:latin typeface="Gill Sans"/>
                  </a:rPr>
                  <a:t>局域网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200480" y="3429000"/>
                <a:ext cx="4809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100" spc="-1" strike="noStrike">
                    <a:solidFill>
                      <a:srgbClr val="000000"/>
                    </a:solidFill>
                    <a:latin typeface="Gill Sans"/>
                  </a:rPr>
                  <a:t>广域网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2362320" y="3429000"/>
                <a:ext cx="685800" cy="380880"/>
                <a:chOff x="2362320" y="3429000"/>
                <a:chExt cx="685800" cy="38088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2362320" y="3535560"/>
                  <a:ext cx="685800" cy="274320"/>
                </a:xfrm>
                <a:custGeom>
                  <a:avLst/>
                  <a:gdLst/>
                  <a:ahLst/>
                  <a:rect l="l" t="t" r="r" b="b"/>
                  <a:pathLst>
                    <a:path w="303" h="137">
                      <a:moveTo>
                        <a:pt x="302" y="80"/>
                      </a:moveTo>
                      <a:cubicBezTo>
                        <a:pt x="302" y="81"/>
                        <a:pt x="302" y="81"/>
                        <a:pt x="301" y="82"/>
                      </a:cubicBezTo>
                      <a:cubicBezTo>
                        <a:pt x="302" y="83"/>
                        <a:pt x="302" y="85"/>
                        <a:pt x="302" y="86"/>
                      </a:cubicBezTo>
                      <a:cubicBezTo>
                        <a:pt x="302" y="114"/>
                        <a:pt x="234" y="137"/>
                        <a:pt x="152" y="137"/>
                      </a:cubicBezTo>
                      <a:cubicBezTo>
                        <a:pt x="68" y="137"/>
                        <a:pt x="0" y="114"/>
                        <a:pt x="0" y="86"/>
                      </a:cubicBezTo>
                      <a:cubicBezTo>
                        <a:pt x="0" y="85"/>
                        <a:pt x="0" y="83"/>
                        <a:pt x="1" y="82"/>
                      </a:cubicBezTo>
                      <a:cubicBezTo>
                        <a:pt x="0" y="81"/>
                        <a:pt x="0" y="81"/>
                        <a:pt x="0" y="80"/>
                      </a:cubicBezTo>
                      <a:lnTo>
                        <a:pt x="0" y="0"/>
                      </a:lnTo>
                      <a:lnTo>
                        <a:pt x="302" y="0"/>
                      </a:lnTo>
                      <a:lnTo>
                        <a:pt x="302" y="77"/>
                      </a:lnTo>
                      <a:cubicBezTo>
                        <a:pt x="303" y="78"/>
                        <a:pt x="302" y="79"/>
                        <a:pt x="302" y="80"/>
                      </a:cubicBezTo>
                    </a:path>
                  </a:pathLst>
                </a:custGeom>
                <a:solidFill>
                  <a:srgbClr val="9182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2362320" y="3429000"/>
                  <a:ext cx="684000" cy="209520"/>
                </a:xfrm>
                <a:custGeom>
                  <a:avLst/>
                  <a:gdLst/>
                  <a:ahLst/>
                  <a:rect l="l" t="t" r="r" b="b"/>
                  <a:pathLst>
                    <a:path w="302" h="104">
                      <a:moveTo>
                        <a:pt x="302" y="53"/>
                      </a:moveTo>
                      <a:cubicBezTo>
                        <a:pt x="302" y="81"/>
                        <a:pt x="234" y="104"/>
                        <a:pt x="152" y="104"/>
                      </a:cubicBezTo>
                      <a:cubicBezTo>
                        <a:pt x="68" y="104"/>
                        <a:pt x="0" y="81"/>
                        <a:pt x="0" y="53"/>
                      </a:cubicBezTo>
                      <a:cubicBezTo>
                        <a:pt x="0" y="24"/>
                        <a:pt x="68" y="0"/>
                        <a:pt x="152" y="0"/>
                      </a:cubicBezTo>
                      <a:cubicBezTo>
                        <a:pt x="234" y="0"/>
                        <a:pt x="302" y="24"/>
                        <a:pt x="302" y="53"/>
                      </a:cubicBezTo>
                    </a:path>
                  </a:pathLst>
                </a:custGeom>
                <a:solidFill>
                  <a:srgbClr val="bcb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713680" y="3461400"/>
                  <a:ext cx="22356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713680" y="3461400"/>
                  <a:ext cx="22356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469240" y="3537360"/>
                  <a:ext cx="223560" cy="7056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469240" y="3537360"/>
                  <a:ext cx="223560" cy="7056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480400" y="3457440"/>
                  <a:ext cx="22356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2480400" y="3457440"/>
                  <a:ext cx="22356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2704320" y="3544920"/>
                  <a:ext cx="22356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704320" y="3544920"/>
                  <a:ext cx="22356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717640" y="3465000"/>
                  <a:ext cx="221400" cy="6660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717640" y="3465000"/>
                  <a:ext cx="221400" cy="6660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473200" y="3541320"/>
                  <a:ext cx="223200" cy="7056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473200" y="3541320"/>
                  <a:ext cx="223200" cy="7056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2484360" y="3461400"/>
                  <a:ext cx="22320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2484360" y="3461400"/>
                  <a:ext cx="22320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707920" y="3548880"/>
                  <a:ext cx="22356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707920" y="3548880"/>
                  <a:ext cx="22356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6019920" y="3429000"/>
                <a:ext cx="685800" cy="380880"/>
                <a:chOff x="6019920" y="3429000"/>
                <a:chExt cx="685800" cy="38088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6019920" y="3535560"/>
                  <a:ext cx="685800" cy="274320"/>
                </a:xfrm>
                <a:custGeom>
                  <a:avLst/>
                  <a:gdLst/>
                  <a:ahLst/>
                  <a:rect l="l" t="t" r="r" b="b"/>
                  <a:pathLst>
                    <a:path w="303" h="137">
                      <a:moveTo>
                        <a:pt x="302" y="80"/>
                      </a:moveTo>
                      <a:cubicBezTo>
                        <a:pt x="302" y="81"/>
                        <a:pt x="302" y="81"/>
                        <a:pt x="301" y="82"/>
                      </a:cubicBezTo>
                      <a:cubicBezTo>
                        <a:pt x="302" y="83"/>
                        <a:pt x="302" y="85"/>
                        <a:pt x="302" y="86"/>
                      </a:cubicBezTo>
                      <a:cubicBezTo>
                        <a:pt x="302" y="114"/>
                        <a:pt x="234" y="137"/>
                        <a:pt x="152" y="137"/>
                      </a:cubicBezTo>
                      <a:cubicBezTo>
                        <a:pt x="68" y="137"/>
                        <a:pt x="0" y="114"/>
                        <a:pt x="0" y="86"/>
                      </a:cubicBezTo>
                      <a:cubicBezTo>
                        <a:pt x="0" y="85"/>
                        <a:pt x="0" y="83"/>
                        <a:pt x="1" y="82"/>
                      </a:cubicBezTo>
                      <a:cubicBezTo>
                        <a:pt x="0" y="81"/>
                        <a:pt x="0" y="81"/>
                        <a:pt x="0" y="80"/>
                      </a:cubicBezTo>
                      <a:lnTo>
                        <a:pt x="0" y="0"/>
                      </a:lnTo>
                      <a:lnTo>
                        <a:pt x="302" y="0"/>
                      </a:lnTo>
                      <a:lnTo>
                        <a:pt x="302" y="77"/>
                      </a:lnTo>
                      <a:cubicBezTo>
                        <a:pt x="303" y="78"/>
                        <a:pt x="302" y="79"/>
                        <a:pt x="302" y="80"/>
                      </a:cubicBezTo>
                    </a:path>
                  </a:pathLst>
                </a:custGeom>
                <a:solidFill>
                  <a:srgbClr val="9182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019920" y="3429000"/>
                  <a:ext cx="684000" cy="209520"/>
                </a:xfrm>
                <a:custGeom>
                  <a:avLst/>
                  <a:gdLst/>
                  <a:ahLst/>
                  <a:rect l="l" t="t" r="r" b="b"/>
                  <a:pathLst>
                    <a:path w="302" h="104">
                      <a:moveTo>
                        <a:pt x="302" y="53"/>
                      </a:moveTo>
                      <a:cubicBezTo>
                        <a:pt x="302" y="81"/>
                        <a:pt x="234" y="104"/>
                        <a:pt x="152" y="104"/>
                      </a:cubicBezTo>
                      <a:cubicBezTo>
                        <a:pt x="68" y="104"/>
                        <a:pt x="0" y="81"/>
                        <a:pt x="0" y="53"/>
                      </a:cubicBezTo>
                      <a:cubicBezTo>
                        <a:pt x="0" y="24"/>
                        <a:pt x="68" y="0"/>
                        <a:pt x="152" y="0"/>
                      </a:cubicBezTo>
                      <a:cubicBezTo>
                        <a:pt x="234" y="0"/>
                        <a:pt x="302" y="24"/>
                        <a:pt x="302" y="53"/>
                      </a:cubicBezTo>
                    </a:path>
                  </a:pathLst>
                </a:custGeom>
                <a:solidFill>
                  <a:srgbClr val="bcb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371280" y="3461400"/>
                  <a:ext cx="22356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371280" y="3461400"/>
                  <a:ext cx="22356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126840" y="3537360"/>
                  <a:ext cx="223560" cy="7056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3537360"/>
                  <a:ext cx="223560" cy="7056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138000" y="3457440"/>
                  <a:ext cx="22356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138000" y="3457440"/>
                  <a:ext cx="22356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361920" y="3544920"/>
                  <a:ext cx="22356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361920" y="3544920"/>
                  <a:ext cx="22356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375240" y="3465000"/>
                  <a:ext cx="221400" cy="6660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375240" y="3465000"/>
                  <a:ext cx="221400" cy="6660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130800" y="3541320"/>
                  <a:ext cx="223200" cy="7056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130800" y="3541320"/>
                  <a:ext cx="223200" cy="7056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41960" y="3461400"/>
                  <a:ext cx="22320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141960" y="3461400"/>
                  <a:ext cx="22320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365520" y="3548880"/>
                  <a:ext cx="22356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365520" y="3548880"/>
                  <a:ext cx="223560" cy="6660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2" name=""/>
              <p:cNvSpPr/>
              <p:nvPr/>
            </p:nvSpPr>
            <p:spPr>
              <a:xfrm>
                <a:off x="6934320" y="2819520"/>
                <a:ext cx="1371600" cy="1600200"/>
              </a:xfrm>
              <a:custGeom>
                <a:avLst/>
                <a:gdLst/>
                <a:ahLst/>
                <a:rect l="l" t="t" r="r" b="b"/>
                <a:pathLst>
                  <a:path w="2305" h="1492">
                    <a:moveTo>
                      <a:pt x="366" y="354"/>
                    </a:moveTo>
                    <a:lnTo>
                      <a:pt x="384" y="313"/>
                    </a:lnTo>
                    <a:lnTo>
                      <a:pt x="414" y="271"/>
                    </a:lnTo>
                    <a:lnTo>
                      <a:pt x="457" y="237"/>
                    </a:lnTo>
                    <a:lnTo>
                      <a:pt x="517" y="209"/>
                    </a:lnTo>
                    <a:lnTo>
                      <a:pt x="563" y="194"/>
                    </a:lnTo>
                    <a:lnTo>
                      <a:pt x="622" y="180"/>
                    </a:lnTo>
                    <a:lnTo>
                      <a:pt x="711" y="173"/>
                    </a:lnTo>
                    <a:lnTo>
                      <a:pt x="797" y="180"/>
                    </a:lnTo>
                    <a:lnTo>
                      <a:pt x="878" y="197"/>
                    </a:lnTo>
                    <a:lnTo>
                      <a:pt x="937" y="218"/>
                    </a:lnTo>
                    <a:lnTo>
                      <a:pt x="972" y="149"/>
                    </a:lnTo>
                    <a:lnTo>
                      <a:pt x="1018" y="97"/>
                    </a:lnTo>
                    <a:lnTo>
                      <a:pt x="1077" y="54"/>
                    </a:lnTo>
                    <a:lnTo>
                      <a:pt x="1158" y="26"/>
                    </a:lnTo>
                    <a:lnTo>
                      <a:pt x="1256" y="2"/>
                    </a:lnTo>
                    <a:lnTo>
                      <a:pt x="1352" y="0"/>
                    </a:lnTo>
                    <a:lnTo>
                      <a:pt x="1439" y="11"/>
                    </a:lnTo>
                    <a:lnTo>
                      <a:pt x="1536" y="38"/>
                    </a:lnTo>
                    <a:lnTo>
                      <a:pt x="1608" y="85"/>
                    </a:lnTo>
                    <a:lnTo>
                      <a:pt x="1662" y="130"/>
                    </a:lnTo>
                    <a:lnTo>
                      <a:pt x="1694" y="175"/>
                    </a:lnTo>
                    <a:lnTo>
                      <a:pt x="1703" y="233"/>
                    </a:lnTo>
                    <a:lnTo>
                      <a:pt x="1770" y="214"/>
                    </a:lnTo>
                    <a:lnTo>
                      <a:pt x="1851" y="221"/>
                    </a:lnTo>
                    <a:lnTo>
                      <a:pt x="1915" y="237"/>
                    </a:lnTo>
                    <a:lnTo>
                      <a:pt x="1973" y="278"/>
                    </a:lnTo>
                    <a:lnTo>
                      <a:pt x="2015" y="330"/>
                    </a:lnTo>
                    <a:lnTo>
                      <a:pt x="2032" y="388"/>
                    </a:lnTo>
                    <a:lnTo>
                      <a:pt x="2029" y="429"/>
                    </a:lnTo>
                    <a:lnTo>
                      <a:pt x="2067" y="426"/>
                    </a:lnTo>
                    <a:lnTo>
                      <a:pt x="2115" y="436"/>
                    </a:lnTo>
                    <a:lnTo>
                      <a:pt x="2163" y="455"/>
                    </a:lnTo>
                    <a:lnTo>
                      <a:pt x="2201" y="479"/>
                    </a:lnTo>
                    <a:lnTo>
                      <a:pt x="2225" y="498"/>
                    </a:lnTo>
                    <a:lnTo>
                      <a:pt x="2250" y="524"/>
                    </a:lnTo>
                    <a:lnTo>
                      <a:pt x="2274" y="557"/>
                    </a:lnTo>
                    <a:lnTo>
                      <a:pt x="2288" y="598"/>
                    </a:lnTo>
                    <a:lnTo>
                      <a:pt x="2290" y="626"/>
                    </a:lnTo>
                    <a:lnTo>
                      <a:pt x="2282" y="659"/>
                    </a:lnTo>
                    <a:lnTo>
                      <a:pt x="2265" y="700"/>
                    </a:lnTo>
                    <a:lnTo>
                      <a:pt x="2288" y="740"/>
                    </a:lnTo>
                    <a:lnTo>
                      <a:pt x="2295" y="778"/>
                    </a:lnTo>
                    <a:lnTo>
                      <a:pt x="2300" y="819"/>
                    </a:lnTo>
                    <a:lnTo>
                      <a:pt x="2290" y="871"/>
                    </a:lnTo>
                    <a:lnTo>
                      <a:pt x="2282" y="900"/>
                    </a:lnTo>
                    <a:lnTo>
                      <a:pt x="2255" y="935"/>
                    </a:lnTo>
                    <a:lnTo>
                      <a:pt x="2290" y="988"/>
                    </a:lnTo>
                    <a:lnTo>
                      <a:pt x="2300" y="1018"/>
                    </a:lnTo>
                    <a:lnTo>
                      <a:pt x="2304" y="1066"/>
                    </a:lnTo>
                    <a:lnTo>
                      <a:pt x="2295" y="1111"/>
                    </a:lnTo>
                    <a:lnTo>
                      <a:pt x="2277" y="1162"/>
                    </a:lnTo>
                    <a:lnTo>
                      <a:pt x="2250" y="1198"/>
                    </a:lnTo>
                    <a:lnTo>
                      <a:pt x="2209" y="1234"/>
                    </a:lnTo>
                    <a:lnTo>
                      <a:pt x="2140" y="1267"/>
                    </a:lnTo>
                    <a:lnTo>
                      <a:pt x="2067" y="1279"/>
                    </a:lnTo>
                    <a:lnTo>
                      <a:pt x="2002" y="1269"/>
                    </a:lnTo>
                    <a:lnTo>
                      <a:pt x="1959" y="1250"/>
                    </a:lnTo>
                    <a:lnTo>
                      <a:pt x="1929" y="1286"/>
                    </a:lnTo>
                    <a:lnTo>
                      <a:pt x="1896" y="1315"/>
                    </a:lnTo>
                    <a:lnTo>
                      <a:pt x="1870" y="1334"/>
                    </a:lnTo>
                    <a:lnTo>
                      <a:pt x="1816" y="1357"/>
                    </a:lnTo>
                    <a:lnTo>
                      <a:pt x="1770" y="1374"/>
                    </a:lnTo>
                    <a:lnTo>
                      <a:pt x="1703" y="1386"/>
                    </a:lnTo>
                    <a:lnTo>
                      <a:pt x="1635" y="1383"/>
                    </a:lnTo>
                    <a:lnTo>
                      <a:pt x="1571" y="1367"/>
                    </a:lnTo>
                    <a:lnTo>
                      <a:pt x="1512" y="1338"/>
                    </a:lnTo>
                    <a:lnTo>
                      <a:pt x="1477" y="1388"/>
                    </a:lnTo>
                    <a:lnTo>
                      <a:pt x="1444" y="1417"/>
                    </a:lnTo>
                    <a:lnTo>
                      <a:pt x="1404" y="1441"/>
                    </a:lnTo>
                    <a:lnTo>
                      <a:pt x="1355" y="1460"/>
                    </a:lnTo>
                    <a:lnTo>
                      <a:pt x="1301" y="1469"/>
                    </a:lnTo>
                    <a:lnTo>
                      <a:pt x="1252" y="1469"/>
                    </a:lnTo>
                    <a:lnTo>
                      <a:pt x="1204" y="1460"/>
                    </a:lnTo>
                    <a:lnTo>
                      <a:pt x="1145" y="1433"/>
                    </a:lnTo>
                    <a:lnTo>
                      <a:pt x="1110" y="1410"/>
                    </a:lnTo>
                    <a:lnTo>
                      <a:pt x="1077" y="1441"/>
                    </a:lnTo>
                    <a:lnTo>
                      <a:pt x="1045" y="1460"/>
                    </a:lnTo>
                    <a:lnTo>
                      <a:pt x="1002" y="1476"/>
                    </a:lnTo>
                    <a:lnTo>
                      <a:pt x="943" y="1491"/>
                    </a:lnTo>
                    <a:lnTo>
                      <a:pt x="883" y="1486"/>
                    </a:lnTo>
                    <a:lnTo>
                      <a:pt x="819" y="1471"/>
                    </a:lnTo>
                    <a:lnTo>
                      <a:pt x="770" y="1448"/>
                    </a:lnTo>
                    <a:lnTo>
                      <a:pt x="725" y="1407"/>
                    </a:lnTo>
                    <a:lnTo>
                      <a:pt x="697" y="1367"/>
                    </a:lnTo>
                    <a:lnTo>
                      <a:pt x="649" y="1381"/>
                    </a:lnTo>
                    <a:lnTo>
                      <a:pt x="595" y="1391"/>
                    </a:lnTo>
                    <a:lnTo>
                      <a:pt x="530" y="1388"/>
                    </a:lnTo>
                    <a:lnTo>
                      <a:pt x="474" y="1369"/>
                    </a:lnTo>
                    <a:lnTo>
                      <a:pt x="428" y="1343"/>
                    </a:lnTo>
                    <a:lnTo>
                      <a:pt x="393" y="1315"/>
                    </a:lnTo>
                    <a:lnTo>
                      <a:pt x="363" y="1274"/>
                    </a:lnTo>
                    <a:lnTo>
                      <a:pt x="355" y="1234"/>
                    </a:lnTo>
                    <a:lnTo>
                      <a:pt x="325" y="1243"/>
                    </a:lnTo>
                    <a:lnTo>
                      <a:pt x="271" y="1246"/>
                    </a:lnTo>
                    <a:lnTo>
                      <a:pt x="212" y="1234"/>
                    </a:lnTo>
                    <a:lnTo>
                      <a:pt x="153" y="1205"/>
                    </a:lnTo>
                    <a:lnTo>
                      <a:pt x="113" y="1167"/>
                    </a:lnTo>
                    <a:lnTo>
                      <a:pt x="78" y="1118"/>
                    </a:lnTo>
                    <a:lnTo>
                      <a:pt x="59" y="1066"/>
                    </a:lnTo>
                    <a:lnTo>
                      <a:pt x="50" y="995"/>
                    </a:lnTo>
                    <a:lnTo>
                      <a:pt x="53" y="947"/>
                    </a:lnTo>
                    <a:lnTo>
                      <a:pt x="72" y="876"/>
                    </a:lnTo>
                    <a:lnTo>
                      <a:pt x="32" y="835"/>
                    </a:lnTo>
                    <a:lnTo>
                      <a:pt x="10" y="783"/>
                    </a:lnTo>
                    <a:lnTo>
                      <a:pt x="0" y="728"/>
                    </a:lnTo>
                    <a:lnTo>
                      <a:pt x="0" y="669"/>
                    </a:lnTo>
                    <a:lnTo>
                      <a:pt x="13" y="607"/>
                    </a:lnTo>
                    <a:lnTo>
                      <a:pt x="40" y="560"/>
                    </a:lnTo>
                    <a:lnTo>
                      <a:pt x="86" y="510"/>
                    </a:lnTo>
                    <a:lnTo>
                      <a:pt x="134" y="472"/>
                    </a:lnTo>
                    <a:lnTo>
                      <a:pt x="191" y="436"/>
                    </a:lnTo>
                    <a:lnTo>
                      <a:pt x="264" y="412"/>
                    </a:lnTo>
                    <a:lnTo>
                      <a:pt x="330" y="398"/>
                    </a:lnTo>
                    <a:lnTo>
                      <a:pt x="363" y="391"/>
                    </a:lnTo>
                    <a:lnTo>
                      <a:pt x="366" y="354"/>
                    </a:lnTo>
                  </a:path>
                </a:pathLst>
              </a:custGeom>
              <a:solidFill>
                <a:srgbClr val="ccffcc"/>
              </a:solidFill>
              <a:ln cap="rnd" w="25560">
                <a:solidFill>
                  <a:srgbClr val="ff66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400880" y="3505320"/>
                <a:ext cx="4809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100" spc="-1" strike="noStrike">
                    <a:solidFill>
                      <a:srgbClr val="000000"/>
                    </a:solidFill>
                    <a:latin typeface="Gill Sans"/>
                  </a:rPr>
                  <a:t>局域网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1905120" y="3809880"/>
              <a:ext cx="685800" cy="1600200"/>
            </a:xfrm>
            <a:custGeom>
              <a:avLst/>
              <a:gdLst/>
              <a:ahLst/>
              <a:rect l="l" t="t" r="r" b="b"/>
              <a:pathLst>
                <a:path w="624" h="1296">
                  <a:moveTo>
                    <a:pt x="0" y="1248"/>
                  </a:moveTo>
                  <a:cubicBezTo>
                    <a:pt x="56" y="1212"/>
                    <a:pt x="112" y="1176"/>
                    <a:pt x="192" y="1152"/>
                  </a:cubicBezTo>
                  <a:cubicBezTo>
                    <a:pt x="272" y="1128"/>
                    <a:pt x="408" y="1296"/>
                    <a:pt x="480" y="1104"/>
                  </a:cubicBezTo>
                  <a:cubicBezTo>
                    <a:pt x="552" y="912"/>
                    <a:pt x="588" y="456"/>
                    <a:pt x="6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476400" y="3809880"/>
              <a:ext cx="609480" cy="1676520"/>
            </a:xfrm>
            <a:custGeom>
              <a:avLst/>
              <a:gdLst/>
              <a:ahLst/>
              <a:rect l="l" t="t" r="r" b="b"/>
              <a:pathLst>
                <a:path w="624" h="1296">
                  <a:moveTo>
                    <a:pt x="0" y="1248"/>
                  </a:moveTo>
                  <a:cubicBezTo>
                    <a:pt x="56" y="1212"/>
                    <a:pt x="112" y="1176"/>
                    <a:pt x="192" y="1152"/>
                  </a:cubicBezTo>
                  <a:cubicBezTo>
                    <a:pt x="272" y="1128"/>
                    <a:pt x="408" y="1296"/>
                    <a:pt x="480" y="1104"/>
                  </a:cubicBezTo>
                  <a:cubicBezTo>
                    <a:pt x="552" y="912"/>
                    <a:pt x="588" y="456"/>
                    <a:pt x="6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553080" y="274320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2742840" y="2743200"/>
              <a:ext cx="152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5638680" y="3733920"/>
              <a:ext cx="3812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V.35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电缆机械特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1981080" y="2133720"/>
          <a:ext cx="5345280" cy="25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133720"/>
                    <a:ext cx="5345280" cy="25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2054520" y="4603680"/>
            <a:ext cx="11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接网络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TE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CE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598000" y="4876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B50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路由器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V.3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控制信号遵从标准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S-23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电平标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数据与时钟遵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.3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电平标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.5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最大传输速率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Mbps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V.35/V.24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主要控制信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DTR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ata Terminal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DSR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ata Set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用于传输数据协商信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DCD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ata Carrier Det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于传输链路状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RTS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TS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于数据的流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3" name=""/>
          <p:cNvGraphicFramePr/>
          <p:nvPr/>
        </p:nvGraphicFramePr>
        <p:xfrm>
          <a:off x="1295280" y="725400"/>
          <a:ext cx="7239240" cy="55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725400"/>
                    <a:ext cx="7239240" cy="55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广域设备连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1295280" y="2362320"/>
            <a:ext cx="6628680" cy="3504600"/>
            <a:chOff x="1295280" y="2362320"/>
            <a:chExt cx="6628680" cy="3504600"/>
          </a:xfrm>
        </p:grpSpPr>
        <p:sp>
          <p:nvSpPr>
            <p:cNvPr id="977" name=""/>
            <p:cNvSpPr/>
            <p:nvPr/>
          </p:nvSpPr>
          <p:spPr>
            <a:xfrm>
              <a:off x="1295280" y="2362320"/>
              <a:ext cx="2215080" cy="87120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95280" y="2362320"/>
              <a:ext cx="2215080" cy="87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295280" y="2362320"/>
              <a:ext cx="144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510360" y="2362320"/>
              <a:ext cx="2167560" cy="87120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63640" y="2451240"/>
              <a:ext cx="320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普通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92840" y="2835000"/>
              <a:ext cx="1023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10360" y="2362320"/>
              <a:ext cx="2167560" cy="87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510360" y="2362320"/>
              <a:ext cx="216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677920" y="2362320"/>
              <a:ext cx="2246040" cy="87120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309720" y="2451240"/>
              <a:ext cx="1006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DTU/</a:t>
              </a: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基带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303960" y="2835000"/>
              <a:ext cx="1023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677920" y="2362320"/>
              <a:ext cx="2246040" cy="87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677920" y="2362320"/>
              <a:ext cx="144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295280" y="3233520"/>
              <a:ext cx="2215080" cy="88092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77280" y="3332880"/>
              <a:ext cx="48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路由器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00160" y="3715920"/>
              <a:ext cx="80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同异步串口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295280" y="3233520"/>
              <a:ext cx="2215080" cy="88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295280" y="3233520"/>
              <a:ext cx="1440" cy="8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10360" y="3233520"/>
              <a:ext cx="2167560" cy="88092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137480" y="3527280"/>
              <a:ext cx="933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普通</a:t>
              </a: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V.2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10360" y="3233520"/>
              <a:ext cx="2167560" cy="88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10360" y="3233520"/>
              <a:ext cx="2160" cy="8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677920" y="3233520"/>
              <a:ext cx="2246040" cy="88092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99480" y="3332880"/>
              <a:ext cx="139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普通</a:t>
              </a: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V.24 </a:t>
              </a: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普通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560280" y="3715920"/>
              <a:ext cx="54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V.3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677920" y="3233520"/>
              <a:ext cx="2246040" cy="88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677920" y="3233520"/>
              <a:ext cx="1440" cy="8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295280" y="4114440"/>
              <a:ext cx="2215080" cy="88092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177280" y="4216320"/>
              <a:ext cx="48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路由器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00160" y="4597560"/>
              <a:ext cx="80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八异步串口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295280" y="4114440"/>
              <a:ext cx="2215080" cy="88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295280" y="4114440"/>
              <a:ext cx="1440" cy="8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510360" y="4114440"/>
              <a:ext cx="2167560" cy="88092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839400" y="4216320"/>
              <a:ext cx="1477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八异步口</a:t>
              </a: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V.24</a:t>
              </a: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线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551120" y="4597560"/>
              <a:ext cx="16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缆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510360" y="4114440"/>
              <a:ext cx="2167560" cy="88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510360" y="4114440"/>
              <a:ext cx="2160" cy="8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677920" y="4114440"/>
              <a:ext cx="2246040" cy="88092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09240" y="440316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677920" y="4114440"/>
              <a:ext cx="2246040" cy="88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677920" y="4114440"/>
              <a:ext cx="1440" cy="8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95280" y="4995720"/>
              <a:ext cx="2215080" cy="87120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77280" y="5098320"/>
              <a:ext cx="48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路由器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177280" y="5478840"/>
              <a:ext cx="48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备份口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95280" y="4995720"/>
              <a:ext cx="2215080" cy="87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95280" y="4995720"/>
              <a:ext cx="144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510360" y="4995720"/>
              <a:ext cx="2167560" cy="87120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289400" y="5284800"/>
              <a:ext cx="640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备份线缆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510360" y="4995720"/>
              <a:ext cx="2167560" cy="87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510360" y="4995720"/>
              <a:ext cx="216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677920" y="4995720"/>
              <a:ext cx="2246040" cy="87120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609240" y="528480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77920" y="4995720"/>
              <a:ext cx="2246040" cy="87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77920" y="4995720"/>
              <a:ext cx="144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用户线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5753160" y="4548240"/>
            <a:ext cx="3004560" cy="1090080"/>
            <a:chOff x="5753160" y="4548240"/>
            <a:chExt cx="3004560" cy="1090080"/>
          </a:xfrm>
        </p:grpSpPr>
        <p:sp>
          <p:nvSpPr>
            <p:cNvPr id="1033" name=""/>
            <p:cNvSpPr/>
            <p:nvPr/>
          </p:nvSpPr>
          <p:spPr>
            <a:xfrm>
              <a:off x="5753160" y="4718520"/>
              <a:ext cx="3004560" cy="9198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10800" y="4790880"/>
              <a:ext cx="41400" cy="63720"/>
            </a:xfrm>
            <a:custGeom>
              <a:avLst/>
              <a:gdLst/>
              <a:ahLst/>
              <a:rect l="l" t="t" r="r" b="b"/>
              <a:pathLst>
                <a:path w="284" h="969">
                  <a:moveTo>
                    <a:pt x="284" y="0"/>
                  </a:moveTo>
                  <a:lnTo>
                    <a:pt x="70" y="780"/>
                  </a:lnTo>
                  <a:lnTo>
                    <a:pt x="55" y="828"/>
                  </a:lnTo>
                  <a:lnTo>
                    <a:pt x="39" y="875"/>
                  </a:lnTo>
                  <a:lnTo>
                    <a:pt x="21" y="922"/>
                  </a:lnTo>
                  <a:lnTo>
                    <a:pt x="0" y="969"/>
                  </a:lnTo>
                  <a:lnTo>
                    <a:pt x="212" y="194"/>
                  </a:lnTo>
                  <a:lnTo>
                    <a:pt x="234" y="147"/>
                  </a:lnTo>
                  <a:lnTo>
                    <a:pt x="252" y="99"/>
                  </a:lnTo>
                  <a:lnTo>
                    <a:pt x="270" y="5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096400" y="4803120"/>
              <a:ext cx="45720" cy="63720"/>
            </a:xfrm>
            <a:custGeom>
              <a:avLst/>
              <a:gdLst/>
              <a:ahLst/>
              <a:rect l="l" t="t" r="r" b="b"/>
              <a:pathLst>
                <a:path w="311" h="952">
                  <a:moveTo>
                    <a:pt x="311" y="0"/>
                  </a:moveTo>
                  <a:lnTo>
                    <a:pt x="99" y="775"/>
                  </a:lnTo>
                  <a:lnTo>
                    <a:pt x="78" y="819"/>
                  </a:lnTo>
                  <a:lnTo>
                    <a:pt x="53" y="864"/>
                  </a:lnTo>
                  <a:lnTo>
                    <a:pt x="27" y="908"/>
                  </a:lnTo>
                  <a:lnTo>
                    <a:pt x="0" y="952"/>
                  </a:lnTo>
                  <a:lnTo>
                    <a:pt x="210" y="181"/>
                  </a:lnTo>
                  <a:lnTo>
                    <a:pt x="238" y="137"/>
                  </a:lnTo>
                  <a:lnTo>
                    <a:pt x="264" y="92"/>
                  </a:lnTo>
                  <a:lnTo>
                    <a:pt x="289" y="47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077320" y="4815720"/>
              <a:ext cx="50040" cy="60840"/>
            </a:xfrm>
            <a:custGeom>
              <a:avLst/>
              <a:gdLst/>
              <a:ahLst/>
              <a:rect l="l" t="t" r="r" b="b"/>
              <a:pathLst>
                <a:path w="338" h="935">
                  <a:moveTo>
                    <a:pt x="338" y="0"/>
                  </a:moveTo>
                  <a:lnTo>
                    <a:pt x="128" y="771"/>
                  </a:lnTo>
                  <a:lnTo>
                    <a:pt x="99" y="813"/>
                  </a:lnTo>
                  <a:lnTo>
                    <a:pt x="68" y="855"/>
                  </a:lnTo>
                  <a:lnTo>
                    <a:pt x="35" y="896"/>
                  </a:lnTo>
                  <a:lnTo>
                    <a:pt x="0" y="935"/>
                  </a:lnTo>
                  <a:lnTo>
                    <a:pt x="207" y="170"/>
                  </a:lnTo>
                  <a:lnTo>
                    <a:pt x="242" y="128"/>
                  </a:lnTo>
                  <a:lnTo>
                    <a:pt x="275" y="86"/>
                  </a:lnTo>
                  <a:lnTo>
                    <a:pt x="307" y="44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cbe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060760" y="4826880"/>
              <a:ext cx="45720" cy="58320"/>
            </a:xfrm>
            <a:custGeom>
              <a:avLst/>
              <a:gdLst/>
              <a:ahLst/>
              <a:rect l="l" t="t" r="r" b="b"/>
              <a:pathLst>
                <a:path w="318" h="881">
                  <a:moveTo>
                    <a:pt x="318" y="0"/>
                  </a:moveTo>
                  <a:lnTo>
                    <a:pt x="111" y="765"/>
                  </a:lnTo>
                  <a:lnTo>
                    <a:pt x="76" y="805"/>
                  </a:lnTo>
                  <a:lnTo>
                    <a:pt x="39" y="843"/>
                  </a:lnTo>
                  <a:lnTo>
                    <a:pt x="0" y="881"/>
                  </a:lnTo>
                  <a:lnTo>
                    <a:pt x="202" y="117"/>
                  </a:lnTo>
                  <a:lnTo>
                    <a:pt x="243" y="79"/>
                  </a:lnTo>
                  <a:lnTo>
                    <a:pt x="281" y="39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041680" y="4833720"/>
              <a:ext cx="48240" cy="58320"/>
            </a:xfrm>
            <a:custGeom>
              <a:avLst/>
              <a:gdLst/>
              <a:ahLst/>
              <a:rect l="l" t="t" r="r" b="b"/>
              <a:pathLst>
                <a:path w="330" h="871">
                  <a:moveTo>
                    <a:pt x="330" y="0"/>
                  </a:moveTo>
                  <a:lnTo>
                    <a:pt x="128" y="764"/>
                  </a:lnTo>
                  <a:lnTo>
                    <a:pt x="87" y="800"/>
                  </a:lnTo>
                  <a:lnTo>
                    <a:pt x="45" y="836"/>
                  </a:lnTo>
                  <a:lnTo>
                    <a:pt x="0" y="871"/>
                  </a:lnTo>
                  <a:lnTo>
                    <a:pt x="200" y="111"/>
                  </a:lnTo>
                  <a:lnTo>
                    <a:pt x="245" y="74"/>
                  </a:lnTo>
                  <a:lnTo>
                    <a:pt x="289" y="38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219160" y="4990680"/>
              <a:ext cx="47520" cy="57960"/>
            </a:xfrm>
            <a:custGeom>
              <a:avLst/>
              <a:gdLst/>
              <a:ahLst/>
              <a:rect l="l" t="t" r="r" b="b"/>
              <a:pathLst>
                <a:path w="317" h="895">
                  <a:moveTo>
                    <a:pt x="317" y="0"/>
                  </a:moveTo>
                  <a:lnTo>
                    <a:pt x="79" y="703"/>
                  </a:lnTo>
                  <a:lnTo>
                    <a:pt x="42" y="800"/>
                  </a:lnTo>
                  <a:lnTo>
                    <a:pt x="0" y="895"/>
                  </a:lnTo>
                  <a:lnTo>
                    <a:pt x="236" y="197"/>
                  </a:lnTo>
                  <a:lnTo>
                    <a:pt x="279" y="10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204760" y="5002920"/>
              <a:ext cx="50040" cy="58320"/>
            </a:xfrm>
            <a:custGeom>
              <a:avLst/>
              <a:gdLst/>
              <a:ahLst/>
              <a:rect l="l" t="t" r="r" b="b"/>
              <a:pathLst>
                <a:path w="334" h="882">
                  <a:moveTo>
                    <a:pt x="334" y="0"/>
                  </a:moveTo>
                  <a:lnTo>
                    <a:pt x="98" y="698"/>
                  </a:lnTo>
                  <a:lnTo>
                    <a:pt x="51" y="791"/>
                  </a:lnTo>
                  <a:lnTo>
                    <a:pt x="0" y="882"/>
                  </a:lnTo>
                  <a:lnTo>
                    <a:pt x="234" y="188"/>
                  </a:lnTo>
                  <a:lnTo>
                    <a:pt x="286" y="96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188200" y="5015520"/>
              <a:ext cx="51840" cy="56880"/>
            </a:xfrm>
            <a:custGeom>
              <a:avLst/>
              <a:gdLst/>
              <a:ahLst/>
              <a:rect l="l" t="t" r="r" b="b"/>
              <a:pathLst>
                <a:path w="348" h="869">
                  <a:moveTo>
                    <a:pt x="348" y="0"/>
                  </a:moveTo>
                  <a:lnTo>
                    <a:pt x="114" y="694"/>
                  </a:lnTo>
                  <a:lnTo>
                    <a:pt x="60" y="783"/>
                  </a:lnTo>
                  <a:lnTo>
                    <a:pt x="0" y="869"/>
                  </a:lnTo>
                  <a:lnTo>
                    <a:pt x="230" y="181"/>
                  </a:lnTo>
                  <a:lnTo>
                    <a:pt x="291" y="92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169120" y="5028120"/>
              <a:ext cx="54360" cy="55080"/>
            </a:xfrm>
            <a:custGeom>
              <a:avLst/>
              <a:gdLst/>
              <a:ahLst/>
              <a:rect l="l" t="t" r="r" b="b"/>
              <a:pathLst>
                <a:path w="361" h="854">
                  <a:moveTo>
                    <a:pt x="361" y="0"/>
                  </a:moveTo>
                  <a:lnTo>
                    <a:pt x="131" y="688"/>
                  </a:lnTo>
                  <a:lnTo>
                    <a:pt x="67" y="771"/>
                  </a:lnTo>
                  <a:lnTo>
                    <a:pt x="0" y="854"/>
                  </a:lnTo>
                  <a:lnTo>
                    <a:pt x="226" y="169"/>
                  </a:lnTo>
                  <a:lnTo>
                    <a:pt x="296" y="85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148240" y="5039280"/>
              <a:ext cx="54360" cy="55080"/>
            </a:xfrm>
            <a:custGeom>
              <a:avLst/>
              <a:gdLst/>
              <a:ahLst/>
              <a:rect l="l" t="t" r="r" b="b"/>
              <a:pathLst>
                <a:path w="371" h="841">
                  <a:moveTo>
                    <a:pt x="371" y="0"/>
                  </a:moveTo>
                  <a:lnTo>
                    <a:pt x="145" y="685"/>
                  </a:lnTo>
                  <a:lnTo>
                    <a:pt x="75" y="764"/>
                  </a:lnTo>
                  <a:lnTo>
                    <a:pt x="0" y="841"/>
                  </a:lnTo>
                  <a:lnTo>
                    <a:pt x="224" y="161"/>
                  </a:lnTo>
                  <a:lnTo>
                    <a:pt x="300" y="82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123400" y="5049000"/>
              <a:ext cx="56160" cy="55080"/>
            </a:xfrm>
            <a:custGeom>
              <a:avLst/>
              <a:gdLst/>
              <a:ahLst/>
              <a:rect l="l" t="t" r="r" b="b"/>
              <a:pathLst>
                <a:path w="381" h="826">
                  <a:moveTo>
                    <a:pt x="381" y="0"/>
                  </a:moveTo>
                  <a:lnTo>
                    <a:pt x="157" y="680"/>
                  </a:lnTo>
                  <a:lnTo>
                    <a:pt x="80" y="754"/>
                  </a:lnTo>
                  <a:lnTo>
                    <a:pt x="0" y="826"/>
                  </a:lnTo>
                  <a:lnTo>
                    <a:pt x="219" y="150"/>
                  </a:lnTo>
                  <a:lnTo>
                    <a:pt x="301" y="76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110800" y="5058720"/>
              <a:ext cx="45720" cy="49680"/>
            </a:xfrm>
            <a:custGeom>
              <a:avLst/>
              <a:gdLst/>
              <a:ahLst/>
              <a:rect l="l" t="t" r="r" b="b"/>
              <a:pathLst>
                <a:path w="301" h="744">
                  <a:moveTo>
                    <a:pt x="301" y="0"/>
                  </a:moveTo>
                  <a:lnTo>
                    <a:pt x="82" y="676"/>
                  </a:lnTo>
                  <a:lnTo>
                    <a:pt x="0" y="744"/>
                  </a:lnTo>
                  <a:lnTo>
                    <a:pt x="216" y="7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098200" y="5064120"/>
              <a:ext cx="45720" cy="48600"/>
            </a:xfrm>
            <a:custGeom>
              <a:avLst/>
              <a:gdLst/>
              <a:ahLst/>
              <a:rect l="l" t="t" r="r" b="b"/>
              <a:pathLst>
                <a:path w="301" h="740">
                  <a:moveTo>
                    <a:pt x="301" y="0"/>
                  </a:moveTo>
                  <a:lnTo>
                    <a:pt x="85" y="673"/>
                  </a:lnTo>
                  <a:lnTo>
                    <a:pt x="0" y="740"/>
                  </a:lnTo>
                  <a:lnTo>
                    <a:pt x="213" y="68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085960" y="5068440"/>
              <a:ext cx="45720" cy="48240"/>
            </a:xfrm>
            <a:custGeom>
              <a:avLst/>
              <a:gdLst/>
              <a:ahLst/>
              <a:rect l="l" t="t" r="r" b="b"/>
              <a:pathLst>
                <a:path w="301" h="737">
                  <a:moveTo>
                    <a:pt x="301" y="0"/>
                  </a:moveTo>
                  <a:lnTo>
                    <a:pt x="88" y="672"/>
                  </a:lnTo>
                  <a:lnTo>
                    <a:pt x="0" y="737"/>
                  </a:lnTo>
                  <a:lnTo>
                    <a:pt x="211" y="66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73000" y="5072400"/>
              <a:ext cx="43920" cy="48240"/>
            </a:xfrm>
            <a:custGeom>
              <a:avLst/>
              <a:gdLst/>
              <a:ahLst/>
              <a:rect l="l" t="t" r="r" b="b"/>
              <a:pathLst>
                <a:path w="300" h="731">
                  <a:moveTo>
                    <a:pt x="300" y="0"/>
                  </a:moveTo>
                  <a:lnTo>
                    <a:pt x="89" y="671"/>
                  </a:lnTo>
                  <a:lnTo>
                    <a:pt x="0" y="731"/>
                  </a:lnTo>
                  <a:lnTo>
                    <a:pt x="208" y="62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f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058240" y="5076720"/>
              <a:ext cx="45720" cy="48240"/>
            </a:xfrm>
            <a:custGeom>
              <a:avLst/>
              <a:gdLst/>
              <a:ahLst/>
              <a:rect l="l" t="t" r="r" b="b"/>
              <a:pathLst>
                <a:path w="300" h="728">
                  <a:moveTo>
                    <a:pt x="300" y="0"/>
                  </a:moveTo>
                  <a:lnTo>
                    <a:pt x="92" y="669"/>
                  </a:lnTo>
                  <a:lnTo>
                    <a:pt x="0" y="728"/>
                  </a:lnTo>
                  <a:lnTo>
                    <a:pt x="206" y="6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046000" y="5080680"/>
              <a:ext cx="43920" cy="47160"/>
            </a:xfrm>
            <a:custGeom>
              <a:avLst/>
              <a:gdLst/>
              <a:ahLst/>
              <a:rect l="l" t="t" r="r" b="b"/>
              <a:pathLst>
                <a:path w="299" h="723">
                  <a:moveTo>
                    <a:pt x="299" y="0"/>
                  </a:moveTo>
                  <a:lnTo>
                    <a:pt x="93" y="668"/>
                  </a:lnTo>
                  <a:lnTo>
                    <a:pt x="0" y="723"/>
                  </a:lnTo>
                  <a:lnTo>
                    <a:pt x="203" y="57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031600" y="5085000"/>
              <a:ext cx="43920" cy="46800"/>
            </a:xfrm>
            <a:custGeom>
              <a:avLst/>
              <a:gdLst/>
              <a:ahLst/>
              <a:rect l="l" t="t" r="r" b="b"/>
              <a:pathLst>
                <a:path w="298" h="720">
                  <a:moveTo>
                    <a:pt x="298" y="0"/>
                  </a:moveTo>
                  <a:lnTo>
                    <a:pt x="95" y="666"/>
                  </a:lnTo>
                  <a:lnTo>
                    <a:pt x="0" y="720"/>
                  </a:lnTo>
                  <a:lnTo>
                    <a:pt x="200" y="54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016840" y="5087520"/>
              <a:ext cx="43920" cy="47160"/>
            </a:xfrm>
            <a:custGeom>
              <a:avLst/>
              <a:gdLst/>
              <a:ahLst/>
              <a:rect l="l" t="t" r="r" b="b"/>
              <a:pathLst>
                <a:path w="297" h="715">
                  <a:moveTo>
                    <a:pt x="297" y="0"/>
                  </a:moveTo>
                  <a:lnTo>
                    <a:pt x="97" y="666"/>
                  </a:lnTo>
                  <a:lnTo>
                    <a:pt x="0" y="715"/>
                  </a:lnTo>
                  <a:lnTo>
                    <a:pt x="198" y="51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002080" y="5092200"/>
              <a:ext cx="43920" cy="47160"/>
            </a:xfrm>
            <a:custGeom>
              <a:avLst/>
              <a:gdLst/>
              <a:ahLst/>
              <a:rect l="l" t="t" r="r" b="b"/>
              <a:pathLst>
                <a:path w="295" h="711">
                  <a:moveTo>
                    <a:pt x="295" y="0"/>
                  </a:moveTo>
                  <a:lnTo>
                    <a:pt x="97" y="664"/>
                  </a:lnTo>
                  <a:lnTo>
                    <a:pt x="0" y="711"/>
                  </a:lnTo>
                  <a:lnTo>
                    <a:pt x="195" y="4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987320" y="5094720"/>
              <a:ext cx="43920" cy="47160"/>
            </a:xfrm>
            <a:custGeom>
              <a:avLst/>
              <a:gdLst/>
              <a:ahLst/>
              <a:rect l="l" t="t" r="r" b="b"/>
              <a:pathLst>
                <a:path w="292" h="706">
                  <a:moveTo>
                    <a:pt x="292" y="0"/>
                  </a:moveTo>
                  <a:lnTo>
                    <a:pt x="97" y="662"/>
                  </a:lnTo>
                  <a:lnTo>
                    <a:pt x="0" y="706"/>
                  </a:lnTo>
                  <a:lnTo>
                    <a:pt x="191" y="45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973280" y="5097240"/>
              <a:ext cx="43200" cy="47160"/>
            </a:xfrm>
            <a:custGeom>
              <a:avLst/>
              <a:gdLst/>
              <a:ahLst/>
              <a:rect l="l" t="t" r="r" b="b"/>
              <a:pathLst>
                <a:path w="291" h="702">
                  <a:moveTo>
                    <a:pt x="291" y="0"/>
                  </a:moveTo>
                  <a:lnTo>
                    <a:pt x="100" y="661"/>
                  </a:lnTo>
                  <a:lnTo>
                    <a:pt x="0" y="702"/>
                  </a:lnTo>
                  <a:lnTo>
                    <a:pt x="189" y="4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9a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943760" y="5100120"/>
              <a:ext cx="56160" cy="48240"/>
            </a:xfrm>
            <a:custGeom>
              <a:avLst/>
              <a:gdLst/>
              <a:ahLst/>
              <a:rect l="l" t="t" r="r" b="b"/>
              <a:pathLst>
                <a:path w="388" h="732">
                  <a:moveTo>
                    <a:pt x="388" y="0"/>
                  </a:moveTo>
                  <a:lnTo>
                    <a:pt x="199" y="660"/>
                  </a:lnTo>
                  <a:lnTo>
                    <a:pt x="100" y="697"/>
                  </a:lnTo>
                  <a:lnTo>
                    <a:pt x="0" y="732"/>
                  </a:lnTo>
                  <a:lnTo>
                    <a:pt x="183" y="73"/>
                  </a:lnTo>
                  <a:lnTo>
                    <a:pt x="286" y="38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8e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912800" y="5105880"/>
              <a:ext cx="57960" cy="47160"/>
            </a:xfrm>
            <a:custGeom>
              <a:avLst/>
              <a:gdLst/>
              <a:ahLst/>
              <a:rect l="l" t="t" r="r" b="b"/>
              <a:pathLst>
                <a:path w="385" h="716">
                  <a:moveTo>
                    <a:pt x="385" y="0"/>
                  </a:moveTo>
                  <a:lnTo>
                    <a:pt x="202" y="659"/>
                  </a:lnTo>
                  <a:lnTo>
                    <a:pt x="168" y="669"/>
                  </a:lnTo>
                  <a:lnTo>
                    <a:pt x="134" y="679"/>
                  </a:lnTo>
                  <a:lnTo>
                    <a:pt x="102" y="689"/>
                  </a:lnTo>
                  <a:lnTo>
                    <a:pt x="68" y="698"/>
                  </a:lnTo>
                  <a:lnTo>
                    <a:pt x="34" y="708"/>
                  </a:lnTo>
                  <a:lnTo>
                    <a:pt x="0" y="716"/>
                  </a:lnTo>
                  <a:lnTo>
                    <a:pt x="177" y="60"/>
                  </a:lnTo>
                  <a:lnTo>
                    <a:pt x="212" y="50"/>
                  </a:lnTo>
                  <a:lnTo>
                    <a:pt x="247" y="41"/>
                  </a:lnTo>
                  <a:lnTo>
                    <a:pt x="281" y="32"/>
                  </a:lnTo>
                  <a:lnTo>
                    <a:pt x="316" y="21"/>
                  </a:lnTo>
                  <a:lnTo>
                    <a:pt x="351" y="12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883280" y="5109840"/>
              <a:ext cx="56160" cy="45360"/>
            </a:xfrm>
            <a:custGeom>
              <a:avLst/>
              <a:gdLst/>
              <a:ahLst/>
              <a:rect l="l" t="t" r="r" b="b"/>
              <a:pathLst>
                <a:path w="379" h="702">
                  <a:moveTo>
                    <a:pt x="379" y="0"/>
                  </a:moveTo>
                  <a:lnTo>
                    <a:pt x="202" y="656"/>
                  </a:lnTo>
                  <a:lnTo>
                    <a:pt x="169" y="664"/>
                  </a:lnTo>
                  <a:lnTo>
                    <a:pt x="135" y="673"/>
                  </a:lnTo>
                  <a:lnTo>
                    <a:pt x="102" y="680"/>
                  </a:lnTo>
                  <a:lnTo>
                    <a:pt x="68" y="688"/>
                  </a:lnTo>
                  <a:lnTo>
                    <a:pt x="34" y="694"/>
                  </a:lnTo>
                  <a:lnTo>
                    <a:pt x="0" y="702"/>
                  </a:lnTo>
                  <a:lnTo>
                    <a:pt x="172" y="46"/>
                  </a:lnTo>
                  <a:lnTo>
                    <a:pt x="207" y="39"/>
                  </a:lnTo>
                  <a:lnTo>
                    <a:pt x="241" y="32"/>
                  </a:lnTo>
                  <a:lnTo>
                    <a:pt x="276" y="24"/>
                  </a:lnTo>
                  <a:lnTo>
                    <a:pt x="311" y="17"/>
                  </a:lnTo>
                  <a:lnTo>
                    <a:pt x="346" y="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7f9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851960" y="5112720"/>
              <a:ext cx="56160" cy="45360"/>
            </a:xfrm>
            <a:custGeom>
              <a:avLst/>
              <a:gdLst/>
              <a:ahLst/>
              <a:rect l="l" t="t" r="r" b="b"/>
              <a:pathLst>
                <a:path w="375" h="689">
                  <a:moveTo>
                    <a:pt x="375" y="0"/>
                  </a:moveTo>
                  <a:lnTo>
                    <a:pt x="203" y="656"/>
                  </a:lnTo>
                  <a:lnTo>
                    <a:pt x="169" y="662"/>
                  </a:lnTo>
                  <a:lnTo>
                    <a:pt x="135" y="668"/>
                  </a:lnTo>
                  <a:lnTo>
                    <a:pt x="102" y="673"/>
                  </a:lnTo>
                  <a:lnTo>
                    <a:pt x="68" y="680"/>
                  </a:lnTo>
                  <a:lnTo>
                    <a:pt x="34" y="685"/>
                  </a:lnTo>
                  <a:lnTo>
                    <a:pt x="0" y="689"/>
                  </a:lnTo>
                  <a:lnTo>
                    <a:pt x="165" y="34"/>
                  </a:lnTo>
                  <a:lnTo>
                    <a:pt x="200" y="30"/>
                  </a:lnTo>
                  <a:lnTo>
                    <a:pt x="236" y="25"/>
                  </a:lnTo>
                  <a:lnTo>
                    <a:pt x="271" y="18"/>
                  </a:lnTo>
                  <a:lnTo>
                    <a:pt x="306" y="13"/>
                  </a:lnTo>
                  <a:lnTo>
                    <a:pt x="340" y="7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778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821000" y="5114160"/>
              <a:ext cx="56160" cy="45720"/>
            </a:xfrm>
            <a:custGeom>
              <a:avLst/>
              <a:gdLst/>
              <a:ahLst/>
              <a:rect l="l" t="t" r="r" b="b"/>
              <a:pathLst>
                <a:path w="371" h="677">
                  <a:moveTo>
                    <a:pt x="371" y="0"/>
                  </a:moveTo>
                  <a:lnTo>
                    <a:pt x="206" y="655"/>
                  </a:lnTo>
                  <a:lnTo>
                    <a:pt x="171" y="659"/>
                  </a:lnTo>
                  <a:lnTo>
                    <a:pt x="137" y="663"/>
                  </a:lnTo>
                  <a:lnTo>
                    <a:pt x="103" y="668"/>
                  </a:lnTo>
                  <a:lnTo>
                    <a:pt x="69" y="671"/>
                  </a:lnTo>
                  <a:lnTo>
                    <a:pt x="34" y="674"/>
                  </a:lnTo>
                  <a:lnTo>
                    <a:pt x="0" y="677"/>
                  </a:lnTo>
                  <a:lnTo>
                    <a:pt x="159" y="23"/>
                  </a:lnTo>
                  <a:lnTo>
                    <a:pt x="195" y="20"/>
                  </a:lnTo>
                  <a:lnTo>
                    <a:pt x="231" y="17"/>
                  </a:lnTo>
                  <a:lnTo>
                    <a:pt x="265" y="14"/>
                  </a:lnTo>
                  <a:lnTo>
                    <a:pt x="301" y="9"/>
                  </a:lnTo>
                  <a:lnTo>
                    <a:pt x="336" y="5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791480" y="5115600"/>
              <a:ext cx="54360" cy="44280"/>
            </a:xfrm>
            <a:custGeom>
              <a:avLst/>
              <a:gdLst/>
              <a:ahLst/>
              <a:rect l="l" t="t" r="r" b="b"/>
              <a:pathLst>
                <a:path w="368" h="663">
                  <a:moveTo>
                    <a:pt x="368" y="0"/>
                  </a:moveTo>
                  <a:lnTo>
                    <a:pt x="209" y="654"/>
                  </a:lnTo>
                  <a:lnTo>
                    <a:pt x="174" y="656"/>
                  </a:lnTo>
                  <a:lnTo>
                    <a:pt x="139" y="658"/>
                  </a:lnTo>
                  <a:lnTo>
                    <a:pt x="104" y="660"/>
                  </a:lnTo>
                  <a:lnTo>
                    <a:pt x="69" y="661"/>
                  </a:lnTo>
                  <a:lnTo>
                    <a:pt x="35" y="662"/>
                  </a:lnTo>
                  <a:lnTo>
                    <a:pt x="0" y="663"/>
                  </a:lnTo>
                  <a:lnTo>
                    <a:pt x="152" y="9"/>
                  </a:lnTo>
                  <a:lnTo>
                    <a:pt x="189" y="8"/>
                  </a:lnTo>
                  <a:lnTo>
                    <a:pt x="225" y="7"/>
                  </a:lnTo>
                  <a:lnTo>
                    <a:pt x="261" y="6"/>
                  </a:lnTo>
                  <a:lnTo>
                    <a:pt x="297" y="4"/>
                  </a:lnTo>
                  <a:lnTo>
                    <a:pt x="333" y="2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6d7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779240" y="5117040"/>
              <a:ext cx="33120" cy="42840"/>
            </a:xfrm>
            <a:custGeom>
              <a:avLst/>
              <a:gdLst/>
              <a:ahLst/>
              <a:rect l="l" t="t" r="r" b="b"/>
              <a:pathLst>
                <a:path w="223" h="654">
                  <a:moveTo>
                    <a:pt x="223" y="0"/>
                  </a:moveTo>
                  <a:lnTo>
                    <a:pt x="71" y="654"/>
                  </a:lnTo>
                  <a:lnTo>
                    <a:pt x="35" y="654"/>
                  </a:lnTo>
                  <a:lnTo>
                    <a:pt x="0" y="654"/>
                  </a:lnTo>
                  <a:lnTo>
                    <a:pt x="152" y="0"/>
                  </a:lnTo>
                  <a:lnTo>
                    <a:pt x="188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68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768440" y="5122440"/>
              <a:ext cx="31680" cy="55080"/>
            </a:xfrm>
            <a:custGeom>
              <a:avLst/>
              <a:gdLst/>
              <a:ahLst/>
              <a:rect l="l" t="t" r="r" b="b"/>
              <a:pathLst>
                <a:path w="201" h="832">
                  <a:moveTo>
                    <a:pt x="201" y="0"/>
                  </a:moveTo>
                  <a:lnTo>
                    <a:pt x="50" y="652"/>
                  </a:lnTo>
                  <a:lnTo>
                    <a:pt x="27" y="743"/>
                  </a:lnTo>
                  <a:lnTo>
                    <a:pt x="0" y="832"/>
                  </a:lnTo>
                  <a:lnTo>
                    <a:pt x="150" y="185"/>
                  </a:lnTo>
                  <a:lnTo>
                    <a:pt x="177" y="9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760160" y="5134680"/>
              <a:ext cx="30960" cy="54000"/>
            </a:xfrm>
            <a:custGeom>
              <a:avLst/>
              <a:gdLst/>
              <a:ahLst/>
              <a:rect l="l" t="t" r="r" b="b"/>
              <a:pathLst>
                <a:path w="210" h="821">
                  <a:moveTo>
                    <a:pt x="210" y="0"/>
                  </a:moveTo>
                  <a:lnTo>
                    <a:pt x="60" y="647"/>
                  </a:lnTo>
                  <a:lnTo>
                    <a:pt x="31" y="735"/>
                  </a:lnTo>
                  <a:lnTo>
                    <a:pt x="0" y="821"/>
                  </a:lnTo>
                  <a:lnTo>
                    <a:pt x="147" y="179"/>
                  </a:lnTo>
                  <a:lnTo>
                    <a:pt x="180" y="9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749720" y="5147280"/>
              <a:ext cx="33120" cy="52560"/>
            </a:xfrm>
            <a:custGeom>
              <a:avLst/>
              <a:gdLst/>
              <a:ahLst/>
              <a:rect l="l" t="t" r="r" b="b"/>
              <a:pathLst>
                <a:path w="219" h="810">
                  <a:moveTo>
                    <a:pt x="219" y="0"/>
                  </a:moveTo>
                  <a:lnTo>
                    <a:pt x="72" y="642"/>
                  </a:lnTo>
                  <a:lnTo>
                    <a:pt x="37" y="726"/>
                  </a:lnTo>
                  <a:lnTo>
                    <a:pt x="0" y="810"/>
                  </a:lnTo>
                  <a:lnTo>
                    <a:pt x="146" y="172"/>
                  </a:lnTo>
                  <a:lnTo>
                    <a:pt x="183" y="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737120" y="5158440"/>
              <a:ext cx="33480" cy="52560"/>
            </a:xfrm>
            <a:custGeom>
              <a:avLst/>
              <a:gdLst/>
              <a:ahLst/>
              <a:rect l="l" t="t" r="r" b="b"/>
              <a:pathLst>
                <a:path w="226" h="800">
                  <a:moveTo>
                    <a:pt x="226" y="0"/>
                  </a:moveTo>
                  <a:lnTo>
                    <a:pt x="80" y="638"/>
                  </a:lnTo>
                  <a:lnTo>
                    <a:pt x="41" y="720"/>
                  </a:lnTo>
                  <a:lnTo>
                    <a:pt x="0" y="800"/>
                  </a:lnTo>
                  <a:lnTo>
                    <a:pt x="143" y="167"/>
                  </a:lnTo>
                  <a:lnTo>
                    <a:pt x="185" y="84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724880" y="5169600"/>
              <a:ext cx="33120" cy="51120"/>
            </a:xfrm>
            <a:custGeom>
              <a:avLst/>
              <a:gdLst/>
              <a:ahLst/>
              <a:rect l="l" t="t" r="r" b="b"/>
              <a:pathLst>
                <a:path w="233" h="788">
                  <a:moveTo>
                    <a:pt x="233" y="0"/>
                  </a:moveTo>
                  <a:lnTo>
                    <a:pt x="90" y="633"/>
                  </a:lnTo>
                  <a:lnTo>
                    <a:pt x="46" y="711"/>
                  </a:lnTo>
                  <a:lnTo>
                    <a:pt x="0" y="788"/>
                  </a:lnTo>
                  <a:lnTo>
                    <a:pt x="140" y="159"/>
                  </a:lnTo>
                  <a:lnTo>
                    <a:pt x="187" y="8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710120" y="5179320"/>
              <a:ext cx="35280" cy="52560"/>
            </a:xfrm>
            <a:custGeom>
              <a:avLst/>
              <a:gdLst/>
              <a:ahLst/>
              <a:rect l="l" t="t" r="r" b="b"/>
              <a:pathLst>
                <a:path w="240" h="780">
                  <a:moveTo>
                    <a:pt x="240" y="0"/>
                  </a:moveTo>
                  <a:lnTo>
                    <a:pt x="100" y="629"/>
                  </a:lnTo>
                  <a:lnTo>
                    <a:pt x="51" y="705"/>
                  </a:lnTo>
                  <a:lnTo>
                    <a:pt x="0" y="780"/>
                  </a:lnTo>
                  <a:lnTo>
                    <a:pt x="139" y="154"/>
                  </a:lnTo>
                  <a:lnTo>
                    <a:pt x="191" y="78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693560" y="5190480"/>
              <a:ext cx="37080" cy="49680"/>
            </a:xfrm>
            <a:custGeom>
              <a:avLst/>
              <a:gdLst/>
              <a:ahLst/>
              <a:rect l="l" t="t" r="r" b="b"/>
              <a:pathLst>
                <a:path w="247" h="770">
                  <a:moveTo>
                    <a:pt x="247" y="0"/>
                  </a:moveTo>
                  <a:lnTo>
                    <a:pt x="108" y="626"/>
                  </a:lnTo>
                  <a:lnTo>
                    <a:pt x="56" y="698"/>
                  </a:lnTo>
                  <a:lnTo>
                    <a:pt x="0" y="770"/>
                  </a:lnTo>
                  <a:lnTo>
                    <a:pt x="136" y="148"/>
                  </a:lnTo>
                  <a:lnTo>
                    <a:pt x="192" y="7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676640" y="5200200"/>
              <a:ext cx="37800" cy="49680"/>
            </a:xfrm>
            <a:custGeom>
              <a:avLst/>
              <a:gdLst/>
              <a:ahLst/>
              <a:rect l="l" t="t" r="r" b="b"/>
              <a:pathLst>
                <a:path w="250" h="761">
                  <a:moveTo>
                    <a:pt x="250" y="0"/>
                  </a:moveTo>
                  <a:lnTo>
                    <a:pt x="114" y="622"/>
                  </a:lnTo>
                  <a:lnTo>
                    <a:pt x="58" y="692"/>
                  </a:lnTo>
                  <a:lnTo>
                    <a:pt x="0" y="761"/>
                  </a:lnTo>
                  <a:lnTo>
                    <a:pt x="131" y="143"/>
                  </a:lnTo>
                  <a:lnTo>
                    <a:pt x="191" y="7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657920" y="5209560"/>
              <a:ext cx="37080" cy="48600"/>
            </a:xfrm>
            <a:custGeom>
              <a:avLst/>
              <a:gdLst/>
              <a:ahLst/>
              <a:rect l="l" t="t" r="r" b="b"/>
              <a:pathLst>
                <a:path w="254" h="750">
                  <a:moveTo>
                    <a:pt x="254" y="0"/>
                  </a:moveTo>
                  <a:lnTo>
                    <a:pt x="123" y="618"/>
                  </a:lnTo>
                  <a:lnTo>
                    <a:pt x="62" y="684"/>
                  </a:lnTo>
                  <a:lnTo>
                    <a:pt x="0" y="750"/>
                  </a:lnTo>
                  <a:lnTo>
                    <a:pt x="128" y="136"/>
                  </a:lnTo>
                  <a:lnTo>
                    <a:pt x="191" y="6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639200" y="5218200"/>
              <a:ext cx="37080" cy="48240"/>
            </a:xfrm>
            <a:custGeom>
              <a:avLst/>
              <a:gdLst/>
              <a:ahLst/>
              <a:rect l="l" t="t" r="r" b="b"/>
              <a:pathLst>
                <a:path w="259" h="741">
                  <a:moveTo>
                    <a:pt x="259" y="0"/>
                  </a:moveTo>
                  <a:lnTo>
                    <a:pt x="131" y="614"/>
                  </a:lnTo>
                  <a:lnTo>
                    <a:pt x="66" y="678"/>
                  </a:lnTo>
                  <a:lnTo>
                    <a:pt x="0" y="741"/>
                  </a:lnTo>
                  <a:lnTo>
                    <a:pt x="124" y="131"/>
                  </a:lnTo>
                  <a:lnTo>
                    <a:pt x="192" y="66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bde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618320" y="5226480"/>
              <a:ext cx="39600" cy="48600"/>
            </a:xfrm>
            <a:custGeom>
              <a:avLst/>
              <a:gdLst/>
              <a:ahLst/>
              <a:rect l="l" t="t" r="r" b="b"/>
              <a:pathLst>
                <a:path w="261" h="731">
                  <a:moveTo>
                    <a:pt x="261" y="0"/>
                  </a:moveTo>
                  <a:lnTo>
                    <a:pt x="137" y="610"/>
                  </a:lnTo>
                  <a:lnTo>
                    <a:pt x="70" y="671"/>
                  </a:lnTo>
                  <a:lnTo>
                    <a:pt x="0" y="731"/>
                  </a:lnTo>
                  <a:lnTo>
                    <a:pt x="120" y="124"/>
                  </a:lnTo>
                  <a:lnTo>
                    <a:pt x="192" y="6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597440" y="5234760"/>
              <a:ext cx="37080" cy="48240"/>
            </a:xfrm>
            <a:custGeom>
              <a:avLst/>
              <a:gdLst/>
              <a:ahLst/>
              <a:rect l="l" t="t" r="r" b="b"/>
              <a:pathLst>
                <a:path w="264" h="722">
                  <a:moveTo>
                    <a:pt x="264" y="0"/>
                  </a:moveTo>
                  <a:lnTo>
                    <a:pt x="144" y="607"/>
                  </a:lnTo>
                  <a:lnTo>
                    <a:pt x="73" y="665"/>
                  </a:lnTo>
                  <a:lnTo>
                    <a:pt x="0" y="722"/>
                  </a:lnTo>
                  <a:lnTo>
                    <a:pt x="116" y="118"/>
                  </a:lnTo>
                  <a:lnTo>
                    <a:pt x="191" y="6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74400" y="5243040"/>
              <a:ext cx="39600" cy="47160"/>
            </a:xfrm>
            <a:custGeom>
              <a:avLst/>
              <a:gdLst/>
              <a:ahLst/>
              <a:rect l="l" t="t" r="r" b="b"/>
              <a:pathLst>
                <a:path w="265" h="715">
                  <a:moveTo>
                    <a:pt x="265" y="0"/>
                  </a:moveTo>
                  <a:lnTo>
                    <a:pt x="149" y="604"/>
                  </a:lnTo>
                  <a:lnTo>
                    <a:pt x="75" y="661"/>
                  </a:lnTo>
                  <a:lnTo>
                    <a:pt x="0" y="715"/>
                  </a:lnTo>
                  <a:lnTo>
                    <a:pt x="111" y="113"/>
                  </a:lnTo>
                  <a:lnTo>
                    <a:pt x="189" y="5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51720" y="5249880"/>
              <a:ext cx="39600" cy="47160"/>
            </a:xfrm>
            <a:custGeom>
              <a:avLst/>
              <a:gdLst/>
              <a:ahLst/>
              <a:rect l="l" t="t" r="r" b="b"/>
              <a:pathLst>
                <a:path w="266" h="706">
                  <a:moveTo>
                    <a:pt x="266" y="0"/>
                  </a:moveTo>
                  <a:lnTo>
                    <a:pt x="155" y="602"/>
                  </a:lnTo>
                  <a:lnTo>
                    <a:pt x="78" y="654"/>
                  </a:lnTo>
                  <a:lnTo>
                    <a:pt x="0" y="706"/>
                  </a:lnTo>
                  <a:lnTo>
                    <a:pt x="107" y="107"/>
                  </a:lnTo>
                  <a:lnTo>
                    <a:pt x="187" y="54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526520" y="5257080"/>
              <a:ext cx="41400" cy="47160"/>
            </a:xfrm>
            <a:custGeom>
              <a:avLst/>
              <a:gdLst/>
              <a:ahLst/>
              <a:rect l="l" t="t" r="r" b="b"/>
              <a:pathLst>
                <a:path w="267" h="698">
                  <a:moveTo>
                    <a:pt x="267" y="0"/>
                  </a:moveTo>
                  <a:lnTo>
                    <a:pt x="160" y="599"/>
                  </a:lnTo>
                  <a:lnTo>
                    <a:pt x="81" y="649"/>
                  </a:lnTo>
                  <a:lnTo>
                    <a:pt x="0" y="698"/>
                  </a:lnTo>
                  <a:lnTo>
                    <a:pt x="102" y="102"/>
                  </a:lnTo>
                  <a:lnTo>
                    <a:pt x="185" y="52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a9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516080" y="5263920"/>
              <a:ext cx="26640" cy="42840"/>
            </a:xfrm>
            <a:custGeom>
              <a:avLst/>
              <a:gdLst/>
              <a:ahLst/>
              <a:rect l="l" t="t" r="r" b="b"/>
              <a:pathLst>
                <a:path w="184" h="643">
                  <a:moveTo>
                    <a:pt x="184" y="0"/>
                  </a:moveTo>
                  <a:lnTo>
                    <a:pt x="82" y="596"/>
                  </a:lnTo>
                  <a:lnTo>
                    <a:pt x="0" y="643"/>
                  </a:lnTo>
                  <a:lnTo>
                    <a:pt x="100" y="4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489080" y="5268240"/>
              <a:ext cx="41400" cy="44280"/>
            </a:xfrm>
            <a:custGeom>
              <a:avLst/>
              <a:gdLst/>
              <a:ahLst/>
              <a:rect l="l" t="t" r="r" b="b"/>
              <a:pathLst>
                <a:path w="272" h="683">
                  <a:moveTo>
                    <a:pt x="272" y="0"/>
                  </a:moveTo>
                  <a:lnTo>
                    <a:pt x="172" y="595"/>
                  </a:lnTo>
                  <a:lnTo>
                    <a:pt x="144" y="610"/>
                  </a:lnTo>
                  <a:lnTo>
                    <a:pt x="115" y="625"/>
                  </a:lnTo>
                  <a:lnTo>
                    <a:pt x="87" y="639"/>
                  </a:lnTo>
                  <a:lnTo>
                    <a:pt x="58" y="654"/>
                  </a:lnTo>
                  <a:lnTo>
                    <a:pt x="29" y="669"/>
                  </a:lnTo>
                  <a:lnTo>
                    <a:pt x="0" y="683"/>
                  </a:lnTo>
                  <a:lnTo>
                    <a:pt x="96" y="91"/>
                  </a:lnTo>
                  <a:lnTo>
                    <a:pt x="125" y="76"/>
                  </a:lnTo>
                  <a:lnTo>
                    <a:pt x="154" y="61"/>
                  </a:lnTo>
                  <a:lnTo>
                    <a:pt x="184" y="47"/>
                  </a:lnTo>
                  <a:lnTo>
                    <a:pt x="214" y="31"/>
                  </a:lnTo>
                  <a:lnTo>
                    <a:pt x="242" y="16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464240" y="5273640"/>
              <a:ext cx="39240" cy="44280"/>
            </a:xfrm>
            <a:custGeom>
              <a:avLst/>
              <a:gdLst/>
              <a:ahLst/>
              <a:rect l="l" t="t" r="r" b="b"/>
              <a:pathLst>
                <a:path w="270" h="674">
                  <a:moveTo>
                    <a:pt x="270" y="0"/>
                  </a:moveTo>
                  <a:lnTo>
                    <a:pt x="174" y="592"/>
                  </a:lnTo>
                  <a:lnTo>
                    <a:pt x="146" y="606"/>
                  </a:lnTo>
                  <a:lnTo>
                    <a:pt x="116" y="620"/>
                  </a:lnTo>
                  <a:lnTo>
                    <a:pt x="87" y="634"/>
                  </a:lnTo>
                  <a:lnTo>
                    <a:pt x="59" y="647"/>
                  </a:lnTo>
                  <a:lnTo>
                    <a:pt x="29" y="661"/>
                  </a:lnTo>
                  <a:lnTo>
                    <a:pt x="0" y="674"/>
                  </a:lnTo>
                  <a:lnTo>
                    <a:pt x="90" y="85"/>
                  </a:lnTo>
                  <a:lnTo>
                    <a:pt x="120" y="70"/>
                  </a:lnTo>
                  <a:lnTo>
                    <a:pt x="150" y="57"/>
                  </a:lnTo>
                  <a:lnTo>
                    <a:pt x="180" y="43"/>
                  </a:lnTo>
                  <a:lnTo>
                    <a:pt x="210" y="29"/>
                  </a:lnTo>
                  <a:lnTo>
                    <a:pt x="240" y="1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445160" y="5279400"/>
              <a:ext cx="30960" cy="42840"/>
            </a:xfrm>
            <a:custGeom>
              <a:avLst/>
              <a:gdLst/>
              <a:ahLst/>
              <a:rect l="l" t="t" r="r" b="b"/>
              <a:pathLst>
                <a:path w="208" h="643">
                  <a:moveTo>
                    <a:pt x="208" y="0"/>
                  </a:moveTo>
                  <a:lnTo>
                    <a:pt x="118" y="589"/>
                  </a:lnTo>
                  <a:lnTo>
                    <a:pt x="88" y="603"/>
                  </a:lnTo>
                  <a:lnTo>
                    <a:pt x="60" y="617"/>
                  </a:lnTo>
                  <a:lnTo>
                    <a:pt x="30" y="630"/>
                  </a:lnTo>
                  <a:lnTo>
                    <a:pt x="0" y="643"/>
                  </a:lnTo>
                  <a:lnTo>
                    <a:pt x="86" y="54"/>
                  </a:lnTo>
                  <a:lnTo>
                    <a:pt x="117" y="41"/>
                  </a:lnTo>
                  <a:lnTo>
                    <a:pt x="148" y="27"/>
                  </a:lnTo>
                  <a:lnTo>
                    <a:pt x="178" y="1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415640" y="5281920"/>
              <a:ext cx="43920" cy="44280"/>
            </a:xfrm>
            <a:custGeom>
              <a:avLst/>
              <a:gdLst/>
              <a:ahLst/>
              <a:rect l="l" t="t" r="r" b="b"/>
              <a:pathLst>
                <a:path w="284" h="662">
                  <a:moveTo>
                    <a:pt x="284" y="0"/>
                  </a:moveTo>
                  <a:lnTo>
                    <a:pt x="198" y="589"/>
                  </a:lnTo>
                  <a:lnTo>
                    <a:pt x="132" y="615"/>
                  </a:lnTo>
                  <a:lnTo>
                    <a:pt x="66" y="639"/>
                  </a:lnTo>
                  <a:lnTo>
                    <a:pt x="0" y="662"/>
                  </a:lnTo>
                  <a:lnTo>
                    <a:pt x="80" y="76"/>
                  </a:lnTo>
                  <a:lnTo>
                    <a:pt x="149" y="52"/>
                  </a:lnTo>
                  <a:lnTo>
                    <a:pt x="217" y="2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91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386480" y="5287320"/>
              <a:ext cx="41760" cy="42840"/>
            </a:xfrm>
            <a:custGeom>
              <a:avLst/>
              <a:gdLst/>
              <a:ahLst/>
              <a:rect l="l" t="t" r="r" b="b"/>
              <a:pathLst>
                <a:path w="277" h="653">
                  <a:moveTo>
                    <a:pt x="277" y="0"/>
                  </a:moveTo>
                  <a:lnTo>
                    <a:pt x="197" y="586"/>
                  </a:lnTo>
                  <a:lnTo>
                    <a:pt x="132" y="609"/>
                  </a:lnTo>
                  <a:lnTo>
                    <a:pt x="66" y="631"/>
                  </a:lnTo>
                  <a:lnTo>
                    <a:pt x="0" y="653"/>
                  </a:lnTo>
                  <a:lnTo>
                    <a:pt x="75" y="68"/>
                  </a:lnTo>
                  <a:lnTo>
                    <a:pt x="142" y="46"/>
                  </a:lnTo>
                  <a:lnTo>
                    <a:pt x="210" y="24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8b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357680" y="5292000"/>
              <a:ext cx="41400" cy="42480"/>
            </a:xfrm>
            <a:custGeom>
              <a:avLst/>
              <a:gdLst/>
              <a:ahLst/>
              <a:rect l="l" t="t" r="r" b="b"/>
              <a:pathLst>
                <a:path w="272" h="642">
                  <a:moveTo>
                    <a:pt x="272" y="0"/>
                  </a:moveTo>
                  <a:lnTo>
                    <a:pt x="197" y="585"/>
                  </a:lnTo>
                  <a:lnTo>
                    <a:pt x="132" y="605"/>
                  </a:lnTo>
                  <a:lnTo>
                    <a:pt x="66" y="624"/>
                  </a:lnTo>
                  <a:lnTo>
                    <a:pt x="0" y="642"/>
                  </a:lnTo>
                  <a:lnTo>
                    <a:pt x="69" y="59"/>
                  </a:lnTo>
                  <a:lnTo>
                    <a:pt x="137" y="40"/>
                  </a:lnTo>
                  <a:lnTo>
                    <a:pt x="205" y="21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28160" y="5295960"/>
              <a:ext cx="39600" cy="41400"/>
            </a:xfrm>
            <a:custGeom>
              <a:avLst/>
              <a:gdLst/>
              <a:ahLst/>
              <a:rect l="l" t="t" r="r" b="b"/>
              <a:pathLst>
                <a:path w="265" h="633">
                  <a:moveTo>
                    <a:pt x="265" y="0"/>
                  </a:moveTo>
                  <a:lnTo>
                    <a:pt x="196" y="583"/>
                  </a:lnTo>
                  <a:lnTo>
                    <a:pt x="131" y="601"/>
                  </a:lnTo>
                  <a:lnTo>
                    <a:pt x="65" y="618"/>
                  </a:lnTo>
                  <a:lnTo>
                    <a:pt x="0" y="633"/>
                  </a:lnTo>
                  <a:lnTo>
                    <a:pt x="63" y="51"/>
                  </a:lnTo>
                  <a:lnTo>
                    <a:pt x="131" y="36"/>
                  </a:lnTo>
                  <a:lnTo>
                    <a:pt x="199" y="1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83a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299000" y="5299920"/>
              <a:ext cx="39600" cy="39960"/>
            </a:xfrm>
            <a:custGeom>
              <a:avLst/>
              <a:gdLst/>
              <a:ahLst/>
              <a:rect l="l" t="t" r="r" b="b"/>
              <a:pathLst>
                <a:path w="260" h="625">
                  <a:moveTo>
                    <a:pt x="260" y="0"/>
                  </a:moveTo>
                  <a:lnTo>
                    <a:pt x="197" y="582"/>
                  </a:lnTo>
                  <a:lnTo>
                    <a:pt x="131" y="597"/>
                  </a:lnTo>
                  <a:lnTo>
                    <a:pt x="65" y="612"/>
                  </a:lnTo>
                  <a:lnTo>
                    <a:pt x="0" y="625"/>
                  </a:lnTo>
                  <a:lnTo>
                    <a:pt x="57" y="44"/>
                  </a:lnTo>
                  <a:lnTo>
                    <a:pt x="125" y="30"/>
                  </a:lnTo>
                  <a:lnTo>
                    <a:pt x="192" y="16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7d9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270200" y="5302800"/>
              <a:ext cx="37080" cy="39960"/>
            </a:xfrm>
            <a:custGeom>
              <a:avLst/>
              <a:gdLst/>
              <a:ahLst/>
              <a:rect l="l" t="t" r="r" b="b"/>
              <a:pathLst>
                <a:path w="256" h="615">
                  <a:moveTo>
                    <a:pt x="256" y="0"/>
                  </a:moveTo>
                  <a:lnTo>
                    <a:pt x="199" y="581"/>
                  </a:lnTo>
                  <a:lnTo>
                    <a:pt x="132" y="593"/>
                  </a:lnTo>
                  <a:lnTo>
                    <a:pt x="66" y="604"/>
                  </a:lnTo>
                  <a:lnTo>
                    <a:pt x="0" y="615"/>
                  </a:lnTo>
                  <a:lnTo>
                    <a:pt x="51" y="35"/>
                  </a:lnTo>
                  <a:lnTo>
                    <a:pt x="120" y="24"/>
                  </a:lnTo>
                  <a:lnTo>
                    <a:pt x="187" y="12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79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240680" y="5304240"/>
              <a:ext cx="37080" cy="39960"/>
            </a:xfrm>
            <a:custGeom>
              <a:avLst/>
              <a:gdLst/>
              <a:ahLst/>
              <a:rect l="l" t="t" r="r" b="b"/>
              <a:pathLst>
                <a:path w="251" h="607">
                  <a:moveTo>
                    <a:pt x="251" y="0"/>
                  </a:moveTo>
                  <a:lnTo>
                    <a:pt x="200" y="580"/>
                  </a:lnTo>
                  <a:lnTo>
                    <a:pt x="133" y="590"/>
                  </a:lnTo>
                  <a:lnTo>
                    <a:pt x="66" y="599"/>
                  </a:lnTo>
                  <a:lnTo>
                    <a:pt x="0" y="607"/>
                  </a:lnTo>
                  <a:lnTo>
                    <a:pt x="45" y="27"/>
                  </a:lnTo>
                  <a:lnTo>
                    <a:pt x="114" y="19"/>
                  </a:lnTo>
                  <a:lnTo>
                    <a:pt x="182" y="1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758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209360" y="5306760"/>
              <a:ext cx="37080" cy="38880"/>
            </a:xfrm>
            <a:custGeom>
              <a:avLst/>
              <a:gdLst/>
              <a:ahLst/>
              <a:rect l="l" t="t" r="r" b="b"/>
              <a:pathLst>
                <a:path w="248" h="599">
                  <a:moveTo>
                    <a:pt x="248" y="0"/>
                  </a:moveTo>
                  <a:lnTo>
                    <a:pt x="203" y="580"/>
                  </a:lnTo>
                  <a:lnTo>
                    <a:pt x="135" y="588"/>
                  </a:lnTo>
                  <a:lnTo>
                    <a:pt x="67" y="594"/>
                  </a:lnTo>
                  <a:lnTo>
                    <a:pt x="0" y="599"/>
                  </a:lnTo>
                  <a:lnTo>
                    <a:pt x="39" y="20"/>
                  </a:lnTo>
                  <a:lnTo>
                    <a:pt x="108" y="15"/>
                  </a:lnTo>
                  <a:lnTo>
                    <a:pt x="178" y="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78400" y="5308560"/>
              <a:ext cx="37080" cy="38520"/>
            </a:xfrm>
            <a:custGeom>
              <a:avLst/>
              <a:gdLst/>
              <a:ahLst/>
              <a:rect l="l" t="t" r="r" b="b"/>
              <a:pathLst>
                <a:path w="245" h="592">
                  <a:moveTo>
                    <a:pt x="245" y="0"/>
                  </a:moveTo>
                  <a:lnTo>
                    <a:pt x="206" y="579"/>
                  </a:lnTo>
                  <a:lnTo>
                    <a:pt x="137" y="585"/>
                  </a:lnTo>
                  <a:lnTo>
                    <a:pt x="68" y="589"/>
                  </a:lnTo>
                  <a:lnTo>
                    <a:pt x="0" y="592"/>
                  </a:lnTo>
                  <a:lnTo>
                    <a:pt x="32" y="13"/>
                  </a:lnTo>
                  <a:lnTo>
                    <a:pt x="104" y="10"/>
                  </a:lnTo>
                  <a:lnTo>
                    <a:pt x="174" y="5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6f7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146720" y="5308560"/>
              <a:ext cx="37800" cy="38520"/>
            </a:xfrm>
            <a:custGeom>
              <a:avLst/>
              <a:gdLst/>
              <a:ahLst/>
              <a:rect l="l" t="t" r="r" b="b"/>
              <a:pathLst>
                <a:path w="243" h="584">
                  <a:moveTo>
                    <a:pt x="243" y="0"/>
                  </a:moveTo>
                  <a:lnTo>
                    <a:pt x="211" y="579"/>
                  </a:lnTo>
                  <a:lnTo>
                    <a:pt x="141" y="581"/>
                  </a:lnTo>
                  <a:lnTo>
                    <a:pt x="71" y="583"/>
                  </a:lnTo>
                  <a:lnTo>
                    <a:pt x="0" y="584"/>
                  </a:lnTo>
                  <a:lnTo>
                    <a:pt x="28" y="5"/>
                  </a:lnTo>
                  <a:lnTo>
                    <a:pt x="100" y="5"/>
                  </a:lnTo>
                  <a:lnTo>
                    <a:pt x="172" y="3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b7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125840" y="5308560"/>
              <a:ext cx="24840" cy="3852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169" y="0"/>
                  </a:moveTo>
                  <a:lnTo>
                    <a:pt x="141" y="579"/>
                  </a:lnTo>
                  <a:lnTo>
                    <a:pt x="71" y="579"/>
                  </a:lnTo>
                  <a:lnTo>
                    <a:pt x="0" y="578"/>
                  </a:lnTo>
                  <a:lnTo>
                    <a:pt x="22" y="0"/>
                  </a:lnTo>
                  <a:lnTo>
                    <a:pt x="96" y="1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067520" y="5306760"/>
              <a:ext cx="62280" cy="39960"/>
            </a:xfrm>
            <a:custGeom>
              <a:avLst/>
              <a:gdLst/>
              <a:ahLst/>
              <a:rect l="l" t="t" r="r" b="b"/>
              <a:pathLst>
                <a:path w="412" h="607">
                  <a:moveTo>
                    <a:pt x="412" y="29"/>
                  </a:moveTo>
                  <a:lnTo>
                    <a:pt x="390" y="607"/>
                  </a:lnTo>
                  <a:lnTo>
                    <a:pt x="0" y="579"/>
                  </a:lnTo>
                  <a:lnTo>
                    <a:pt x="11" y="0"/>
                  </a:lnTo>
                  <a:lnTo>
                    <a:pt x="412" y="29"/>
                  </a:lnTo>
                  <a:close/>
                </a:path>
              </a:pathLst>
            </a:custGeom>
            <a:solidFill>
              <a:srgbClr val="5c6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038360" y="5305680"/>
              <a:ext cx="30960" cy="39960"/>
            </a:xfrm>
            <a:custGeom>
              <a:avLst/>
              <a:gdLst/>
              <a:ahLst/>
              <a:rect l="l" t="t" r="r" b="b"/>
              <a:pathLst>
                <a:path w="208" h="609">
                  <a:moveTo>
                    <a:pt x="208" y="30"/>
                  </a:moveTo>
                  <a:lnTo>
                    <a:pt x="197" y="609"/>
                  </a:lnTo>
                  <a:lnTo>
                    <a:pt x="99" y="595"/>
                  </a:lnTo>
                  <a:lnTo>
                    <a:pt x="0" y="581"/>
                  </a:lnTo>
                  <a:lnTo>
                    <a:pt x="6" y="0"/>
                  </a:lnTo>
                  <a:lnTo>
                    <a:pt x="107" y="16"/>
                  </a:lnTo>
                  <a:lnTo>
                    <a:pt x="208" y="30"/>
                  </a:lnTo>
                  <a:close/>
                </a:path>
              </a:pathLst>
            </a:custGeom>
            <a:solidFill>
              <a:srgbClr val="505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08840" y="5302800"/>
              <a:ext cx="30960" cy="39960"/>
            </a:xfrm>
            <a:custGeom>
              <a:avLst/>
              <a:gdLst/>
              <a:ahLst/>
              <a:rect l="l" t="t" r="r" b="b"/>
              <a:pathLst>
                <a:path w="202" h="618">
                  <a:moveTo>
                    <a:pt x="202" y="37"/>
                  </a:moveTo>
                  <a:lnTo>
                    <a:pt x="196" y="618"/>
                  </a:lnTo>
                  <a:lnTo>
                    <a:pt x="99" y="600"/>
                  </a:lnTo>
                  <a:lnTo>
                    <a:pt x="0" y="581"/>
                  </a:lnTo>
                  <a:lnTo>
                    <a:pt x="0" y="0"/>
                  </a:lnTo>
                  <a:lnTo>
                    <a:pt x="101" y="19"/>
                  </a:lnTo>
                  <a:lnTo>
                    <a:pt x="202" y="37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980040" y="5299920"/>
              <a:ext cx="28800" cy="41400"/>
            </a:xfrm>
            <a:custGeom>
              <a:avLst/>
              <a:gdLst/>
              <a:ahLst/>
              <a:rect l="l" t="t" r="r" b="b"/>
              <a:pathLst>
                <a:path w="201" h="626">
                  <a:moveTo>
                    <a:pt x="201" y="45"/>
                  </a:moveTo>
                  <a:lnTo>
                    <a:pt x="201" y="626"/>
                  </a:lnTo>
                  <a:lnTo>
                    <a:pt x="104" y="605"/>
                  </a:lnTo>
                  <a:lnTo>
                    <a:pt x="8" y="584"/>
                  </a:lnTo>
                  <a:lnTo>
                    <a:pt x="0" y="0"/>
                  </a:lnTo>
                  <a:lnTo>
                    <a:pt x="101" y="24"/>
                  </a:lnTo>
                  <a:lnTo>
                    <a:pt x="201" y="45"/>
                  </a:lnTo>
                  <a:close/>
                </a:path>
              </a:pathLst>
            </a:custGeom>
            <a:solidFill>
              <a:srgbClr val="414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950520" y="5295960"/>
              <a:ext cx="29160" cy="42840"/>
            </a:xfrm>
            <a:custGeom>
              <a:avLst/>
              <a:gdLst/>
              <a:ahLst/>
              <a:rect l="l" t="t" r="r" b="b"/>
              <a:pathLst>
                <a:path w="206" h="635">
                  <a:moveTo>
                    <a:pt x="198" y="51"/>
                  </a:moveTo>
                  <a:lnTo>
                    <a:pt x="206" y="635"/>
                  </a:lnTo>
                  <a:lnTo>
                    <a:pt x="108" y="610"/>
                  </a:lnTo>
                  <a:lnTo>
                    <a:pt x="13" y="584"/>
                  </a:lnTo>
                  <a:lnTo>
                    <a:pt x="0" y="0"/>
                  </a:lnTo>
                  <a:lnTo>
                    <a:pt x="99" y="26"/>
                  </a:lnTo>
                  <a:lnTo>
                    <a:pt x="198" y="51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921360" y="5292000"/>
              <a:ext cx="30960" cy="42480"/>
            </a:xfrm>
            <a:custGeom>
              <a:avLst/>
              <a:gdLst/>
              <a:ahLst/>
              <a:rect l="l" t="t" r="r" b="b"/>
              <a:pathLst>
                <a:path w="207" h="644">
                  <a:moveTo>
                    <a:pt x="194" y="60"/>
                  </a:moveTo>
                  <a:lnTo>
                    <a:pt x="207" y="644"/>
                  </a:lnTo>
                  <a:lnTo>
                    <a:pt x="111" y="615"/>
                  </a:lnTo>
                  <a:lnTo>
                    <a:pt x="17" y="586"/>
                  </a:lnTo>
                  <a:lnTo>
                    <a:pt x="0" y="0"/>
                  </a:lnTo>
                  <a:lnTo>
                    <a:pt x="97" y="31"/>
                  </a:lnTo>
                  <a:lnTo>
                    <a:pt x="194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91840" y="5287320"/>
              <a:ext cx="31680" cy="42840"/>
            </a:xfrm>
            <a:custGeom>
              <a:avLst/>
              <a:gdLst/>
              <a:ahLst/>
              <a:rect l="l" t="t" r="r" b="b"/>
              <a:pathLst>
                <a:path w="210" h="654">
                  <a:moveTo>
                    <a:pt x="193" y="68"/>
                  </a:moveTo>
                  <a:lnTo>
                    <a:pt x="210" y="654"/>
                  </a:lnTo>
                  <a:lnTo>
                    <a:pt x="117" y="622"/>
                  </a:lnTo>
                  <a:lnTo>
                    <a:pt x="23" y="588"/>
                  </a:lnTo>
                  <a:lnTo>
                    <a:pt x="0" y="0"/>
                  </a:lnTo>
                  <a:lnTo>
                    <a:pt x="96" y="36"/>
                  </a:lnTo>
                  <a:lnTo>
                    <a:pt x="193" y="68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64840" y="5283360"/>
              <a:ext cx="30960" cy="42840"/>
            </a:xfrm>
            <a:custGeom>
              <a:avLst/>
              <a:gdLst/>
              <a:ahLst/>
              <a:rect l="l" t="t" r="r" b="b"/>
              <a:pathLst>
                <a:path w="211" h="664">
                  <a:moveTo>
                    <a:pt x="188" y="76"/>
                  </a:moveTo>
                  <a:lnTo>
                    <a:pt x="211" y="664"/>
                  </a:lnTo>
                  <a:lnTo>
                    <a:pt x="120" y="628"/>
                  </a:lnTo>
                  <a:lnTo>
                    <a:pt x="29" y="590"/>
                  </a:lnTo>
                  <a:lnTo>
                    <a:pt x="0" y="0"/>
                  </a:lnTo>
                  <a:lnTo>
                    <a:pt x="94" y="40"/>
                  </a:lnTo>
                  <a:lnTo>
                    <a:pt x="188" y="76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838200" y="5277960"/>
              <a:ext cx="30960" cy="44280"/>
            </a:xfrm>
            <a:custGeom>
              <a:avLst/>
              <a:gdLst/>
              <a:ahLst/>
              <a:rect l="l" t="t" r="r" b="b"/>
              <a:pathLst>
                <a:path w="212" h="674">
                  <a:moveTo>
                    <a:pt x="183" y="84"/>
                  </a:moveTo>
                  <a:lnTo>
                    <a:pt x="212" y="674"/>
                  </a:lnTo>
                  <a:lnTo>
                    <a:pt x="123" y="634"/>
                  </a:lnTo>
                  <a:lnTo>
                    <a:pt x="33" y="591"/>
                  </a:lnTo>
                  <a:lnTo>
                    <a:pt x="0" y="0"/>
                  </a:lnTo>
                  <a:lnTo>
                    <a:pt x="91" y="43"/>
                  </a:lnTo>
                  <a:lnTo>
                    <a:pt x="183" y="84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810480" y="5270760"/>
              <a:ext cx="31680" cy="45720"/>
            </a:xfrm>
            <a:custGeom>
              <a:avLst/>
              <a:gdLst/>
              <a:ahLst/>
              <a:rect l="l" t="t" r="r" b="b"/>
              <a:pathLst>
                <a:path w="212" h="686">
                  <a:moveTo>
                    <a:pt x="179" y="95"/>
                  </a:moveTo>
                  <a:lnTo>
                    <a:pt x="212" y="686"/>
                  </a:lnTo>
                  <a:lnTo>
                    <a:pt x="125" y="642"/>
                  </a:lnTo>
                  <a:lnTo>
                    <a:pt x="39" y="595"/>
                  </a:lnTo>
                  <a:lnTo>
                    <a:pt x="0" y="0"/>
                  </a:lnTo>
                  <a:lnTo>
                    <a:pt x="89" y="48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785640" y="5263920"/>
              <a:ext cx="31680" cy="45720"/>
            </a:xfrm>
            <a:custGeom>
              <a:avLst/>
              <a:gdLst/>
              <a:ahLst/>
              <a:rect l="l" t="t" r="r" b="b"/>
              <a:pathLst>
                <a:path w="211" h="698">
                  <a:moveTo>
                    <a:pt x="172" y="103"/>
                  </a:moveTo>
                  <a:lnTo>
                    <a:pt x="211" y="698"/>
                  </a:lnTo>
                  <a:lnTo>
                    <a:pt x="127" y="649"/>
                  </a:lnTo>
                  <a:lnTo>
                    <a:pt x="44" y="598"/>
                  </a:lnTo>
                  <a:lnTo>
                    <a:pt x="0" y="0"/>
                  </a:lnTo>
                  <a:lnTo>
                    <a:pt x="86" y="53"/>
                  </a:lnTo>
                  <a:lnTo>
                    <a:pt x="172" y="10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760800" y="5257080"/>
              <a:ext cx="30960" cy="47160"/>
            </a:xfrm>
            <a:custGeom>
              <a:avLst/>
              <a:gdLst/>
              <a:ahLst/>
              <a:rect l="l" t="t" r="r" b="b"/>
              <a:pathLst>
                <a:path w="210" h="710">
                  <a:moveTo>
                    <a:pt x="166" y="112"/>
                  </a:moveTo>
                  <a:lnTo>
                    <a:pt x="210" y="710"/>
                  </a:lnTo>
                  <a:lnTo>
                    <a:pt x="129" y="656"/>
                  </a:lnTo>
                  <a:lnTo>
                    <a:pt x="49" y="599"/>
                  </a:lnTo>
                  <a:lnTo>
                    <a:pt x="0" y="0"/>
                  </a:lnTo>
                  <a:lnTo>
                    <a:pt x="82" y="57"/>
                  </a:lnTo>
                  <a:lnTo>
                    <a:pt x="166" y="112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35960" y="5248800"/>
              <a:ext cx="30960" cy="47160"/>
            </a:xfrm>
            <a:custGeom>
              <a:avLst/>
              <a:gdLst/>
              <a:ahLst/>
              <a:rect l="l" t="t" r="r" b="b"/>
              <a:pathLst>
                <a:path w="208" h="722">
                  <a:moveTo>
                    <a:pt x="159" y="123"/>
                  </a:moveTo>
                  <a:lnTo>
                    <a:pt x="208" y="722"/>
                  </a:lnTo>
                  <a:lnTo>
                    <a:pt x="130" y="664"/>
                  </a:lnTo>
                  <a:lnTo>
                    <a:pt x="53" y="604"/>
                  </a:lnTo>
                  <a:lnTo>
                    <a:pt x="0" y="0"/>
                  </a:lnTo>
                  <a:lnTo>
                    <a:pt x="79" y="62"/>
                  </a:lnTo>
                  <a:lnTo>
                    <a:pt x="159" y="12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715080" y="5240160"/>
              <a:ext cx="28800" cy="48600"/>
            </a:xfrm>
            <a:custGeom>
              <a:avLst/>
              <a:gdLst/>
              <a:ahLst/>
              <a:rect l="l" t="t" r="r" b="b"/>
              <a:pathLst>
                <a:path w="205" h="737">
                  <a:moveTo>
                    <a:pt x="152" y="133"/>
                  </a:moveTo>
                  <a:lnTo>
                    <a:pt x="205" y="737"/>
                  </a:lnTo>
                  <a:lnTo>
                    <a:pt x="130" y="673"/>
                  </a:lnTo>
                  <a:lnTo>
                    <a:pt x="57" y="608"/>
                  </a:lnTo>
                  <a:lnTo>
                    <a:pt x="0" y="0"/>
                  </a:lnTo>
                  <a:lnTo>
                    <a:pt x="75" y="68"/>
                  </a:lnTo>
                  <a:lnTo>
                    <a:pt x="152" y="13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691680" y="5230800"/>
              <a:ext cx="30960" cy="49680"/>
            </a:xfrm>
            <a:custGeom>
              <a:avLst/>
              <a:gdLst/>
              <a:ahLst/>
              <a:rect l="l" t="t" r="r" b="b"/>
              <a:pathLst>
                <a:path w="201" h="751">
                  <a:moveTo>
                    <a:pt x="144" y="143"/>
                  </a:moveTo>
                  <a:lnTo>
                    <a:pt x="201" y="751"/>
                  </a:lnTo>
                  <a:lnTo>
                    <a:pt x="132" y="682"/>
                  </a:lnTo>
                  <a:lnTo>
                    <a:pt x="63" y="611"/>
                  </a:lnTo>
                  <a:lnTo>
                    <a:pt x="0" y="0"/>
                  </a:lnTo>
                  <a:lnTo>
                    <a:pt x="71" y="73"/>
                  </a:lnTo>
                  <a:lnTo>
                    <a:pt x="144" y="14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672960" y="5221080"/>
              <a:ext cx="29160" cy="49680"/>
            </a:xfrm>
            <a:custGeom>
              <a:avLst/>
              <a:gdLst/>
              <a:ahLst/>
              <a:rect l="l" t="t" r="r" b="b"/>
              <a:pathLst>
                <a:path w="197" h="764">
                  <a:moveTo>
                    <a:pt x="134" y="153"/>
                  </a:moveTo>
                  <a:lnTo>
                    <a:pt x="197" y="764"/>
                  </a:lnTo>
                  <a:lnTo>
                    <a:pt x="130" y="691"/>
                  </a:lnTo>
                  <a:lnTo>
                    <a:pt x="66" y="615"/>
                  </a:lnTo>
                  <a:lnTo>
                    <a:pt x="0" y="0"/>
                  </a:lnTo>
                  <a:lnTo>
                    <a:pt x="67" y="78"/>
                  </a:lnTo>
                  <a:lnTo>
                    <a:pt x="134" y="15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654600" y="5209560"/>
              <a:ext cx="26640" cy="51480"/>
            </a:xfrm>
            <a:custGeom>
              <a:avLst/>
              <a:gdLst/>
              <a:ahLst/>
              <a:rect l="l" t="t" r="r" b="b"/>
              <a:pathLst>
                <a:path w="191" h="780">
                  <a:moveTo>
                    <a:pt x="125" y="165"/>
                  </a:moveTo>
                  <a:lnTo>
                    <a:pt x="191" y="780"/>
                  </a:lnTo>
                  <a:lnTo>
                    <a:pt x="129" y="701"/>
                  </a:lnTo>
                  <a:lnTo>
                    <a:pt x="70" y="620"/>
                  </a:lnTo>
                  <a:lnTo>
                    <a:pt x="0" y="0"/>
                  </a:lnTo>
                  <a:lnTo>
                    <a:pt x="62" y="83"/>
                  </a:lnTo>
                  <a:lnTo>
                    <a:pt x="125" y="165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626880" y="5208480"/>
              <a:ext cx="37800" cy="41400"/>
            </a:xfrm>
            <a:custGeom>
              <a:avLst/>
              <a:gdLst/>
              <a:ahLst/>
              <a:rect l="l" t="t" r="r" b="b"/>
              <a:pathLst>
                <a:path w="250" h="643">
                  <a:moveTo>
                    <a:pt x="180" y="23"/>
                  </a:moveTo>
                  <a:lnTo>
                    <a:pt x="250" y="643"/>
                  </a:lnTo>
                  <a:lnTo>
                    <a:pt x="162" y="632"/>
                  </a:lnTo>
                  <a:lnTo>
                    <a:pt x="73" y="621"/>
                  </a:lnTo>
                  <a:lnTo>
                    <a:pt x="0" y="0"/>
                  </a:lnTo>
                  <a:lnTo>
                    <a:pt x="90" y="13"/>
                  </a:lnTo>
                  <a:lnTo>
                    <a:pt x="180" y="23"/>
                  </a:lnTo>
                  <a:close/>
                </a:path>
              </a:pathLst>
            </a:custGeom>
            <a:solidFill>
              <a:srgbClr val="535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599880" y="5205600"/>
              <a:ext cx="37080" cy="42840"/>
            </a:xfrm>
            <a:custGeom>
              <a:avLst/>
              <a:gdLst/>
              <a:ahLst/>
              <a:rect l="l" t="t" r="r" b="b"/>
              <a:pathLst>
                <a:path w="254" h="650">
                  <a:moveTo>
                    <a:pt x="181" y="29"/>
                  </a:moveTo>
                  <a:lnTo>
                    <a:pt x="254" y="650"/>
                  </a:lnTo>
                  <a:lnTo>
                    <a:pt x="167" y="636"/>
                  </a:lnTo>
                  <a:lnTo>
                    <a:pt x="80" y="621"/>
                  </a:lnTo>
                  <a:lnTo>
                    <a:pt x="0" y="0"/>
                  </a:lnTo>
                  <a:lnTo>
                    <a:pt x="90" y="16"/>
                  </a:lnTo>
                  <a:lnTo>
                    <a:pt x="181" y="29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572880" y="5204520"/>
              <a:ext cx="39240" cy="42840"/>
            </a:xfrm>
            <a:custGeom>
              <a:avLst/>
              <a:gdLst/>
              <a:ahLst/>
              <a:rect l="l" t="t" r="r" b="b"/>
              <a:pathLst>
                <a:path w="258" h="656">
                  <a:moveTo>
                    <a:pt x="178" y="35"/>
                  </a:moveTo>
                  <a:lnTo>
                    <a:pt x="258" y="656"/>
                  </a:lnTo>
                  <a:lnTo>
                    <a:pt x="171" y="639"/>
                  </a:lnTo>
                  <a:lnTo>
                    <a:pt x="85" y="621"/>
                  </a:lnTo>
                  <a:lnTo>
                    <a:pt x="0" y="0"/>
                  </a:lnTo>
                  <a:lnTo>
                    <a:pt x="89" y="18"/>
                  </a:lnTo>
                  <a:lnTo>
                    <a:pt x="178" y="35"/>
                  </a:lnTo>
                  <a:close/>
                </a:path>
              </a:pathLst>
            </a:custGeom>
            <a:solidFill>
              <a:srgbClr val="45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48040" y="5200200"/>
              <a:ext cx="37080" cy="44280"/>
            </a:xfrm>
            <a:custGeom>
              <a:avLst/>
              <a:gdLst/>
              <a:ahLst/>
              <a:rect l="l" t="t" r="r" b="b"/>
              <a:pathLst>
                <a:path w="262" h="665">
                  <a:moveTo>
                    <a:pt x="177" y="44"/>
                  </a:moveTo>
                  <a:lnTo>
                    <a:pt x="262" y="665"/>
                  </a:lnTo>
                  <a:lnTo>
                    <a:pt x="176" y="646"/>
                  </a:lnTo>
                  <a:lnTo>
                    <a:pt x="89" y="624"/>
                  </a:lnTo>
                  <a:lnTo>
                    <a:pt x="0" y="0"/>
                  </a:lnTo>
                  <a:lnTo>
                    <a:pt x="88" y="23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3c3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520680" y="5197320"/>
              <a:ext cx="39600" cy="44280"/>
            </a:xfrm>
            <a:custGeom>
              <a:avLst/>
              <a:gdLst/>
              <a:ahLst/>
              <a:rect l="l" t="t" r="r" b="b"/>
              <a:pathLst>
                <a:path w="264" h="673">
                  <a:moveTo>
                    <a:pt x="175" y="49"/>
                  </a:moveTo>
                  <a:lnTo>
                    <a:pt x="264" y="673"/>
                  </a:lnTo>
                  <a:lnTo>
                    <a:pt x="179" y="649"/>
                  </a:lnTo>
                  <a:lnTo>
                    <a:pt x="95" y="624"/>
                  </a:lnTo>
                  <a:lnTo>
                    <a:pt x="0" y="0"/>
                  </a:lnTo>
                  <a:lnTo>
                    <a:pt x="87" y="25"/>
                  </a:lnTo>
                  <a:lnTo>
                    <a:pt x="175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495840" y="5193360"/>
              <a:ext cx="39240" cy="45360"/>
            </a:xfrm>
            <a:custGeom>
              <a:avLst/>
              <a:gdLst/>
              <a:ahLst/>
              <a:rect l="l" t="t" r="r" b="b"/>
              <a:pathLst>
                <a:path w="266" h="681">
                  <a:moveTo>
                    <a:pt x="171" y="57"/>
                  </a:moveTo>
                  <a:lnTo>
                    <a:pt x="266" y="681"/>
                  </a:lnTo>
                  <a:lnTo>
                    <a:pt x="182" y="654"/>
                  </a:lnTo>
                  <a:lnTo>
                    <a:pt x="99" y="625"/>
                  </a:lnTo>
                  <a:lnTo>
                    <a:pt x="0" y="0"/>
                  </a:lnTo>
                  <a:lnTo>
                    <a:pt x="85" y="29"/>
                  </a:lnTo>
                  <a:lnTo>
                    <a:pt x="171" y="57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471000" y="5189040"/>
              <a:ext cx="39240" cy="45720"/>
            </a:xfrm>
            <a:custGeom>
              <a:avLst/>
              <a:gdLst/>
              <a:ahLst/>
              <a:rect l="l" t="t" r="r" b="b"/>
              <a:pathLst>
                <a:path w="269" h="690">
                  <a:moveTo>
                    <a:pt x="170" y="65"/>
                  </a:moveTo>
                  <a:lnTo>
                    <a:pt x="269" y="690"/>
                  </a:lnTo>
                  <a:lnTo>
                    <a:pt x="187" y="660"/>
                  </a:lnTo>
                  <a:lnTo>
                    <a:pt x="105" y="628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170" y="6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45800" y="5184720"/>
              <a:ext cx="39240" cy="45720"/>
            </a:xfrm>
            <a:custGeom>
              <a:avLst/>
              <a:gdLst/>
              <a:ahLst/>
              <a:rect l="l" t="t" r="r" b="b"/>
              <a:pathLst>
                <a:path w="270" h="700">
                  <a:moveTo>
                    <a:pt x="165" y="72"/>
                  </a:moveTo>
                  <a:lnTo>
                    <a:pt x="270" y="700"/>
                  </a:lnTo>
                  <a:lnTo>
                    <a:pt x="190" y="666"/>
                  </a:lnTo>
                  <a:lnTo>
                    <a:pt x="110" y="629"/>
                  </a:lnTo>
                  <a:lnTo>
                    <a:pt x="0" y="0"/>
                  </a:lnTo>
                  <a:lnTo>
                    <a:pt x="82" y="37"/>
                  </a:lnTo>
                  <a:lnTo>
                    <a:pt x="165" y="72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422400" y="5179320"/>
              <a:ext cx="39600" cy="47160"/>
            </a:xfrm>
            <a:custGeom>
              <a:avLst/>
              <a:gdLst/>
              <a:ahLst/>
              <a:rect l="l" t="t" r="r" b="b"/>
              <a:pathLst>
                <a:path w="270" h="709">
                  <a:moveTo>
                    <a:pt x="160" y="80"/>
                  </a:moveTo>
                  <a:lnTo>
                    <a:pt x="270" y="709"/>
                  </a:lnTo>
                  <a:lnTo>
                    <a:pt x="191" y="672"/>
                  </a:lnTo>
                  <a:lnTo>
                    <a:pt x="114" y="632"/>
                  </a:lnTo>
                  <a:lnTo>
                    <a:pt x="0" y="0"/>
                  </a:lnTo>
                  <a:lnTo>
                    <a:pt x="80" y="41"/>
                  </a:lnTo>
                  <a:lnTo>
                    <a:pt x="160" y="8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397560" y="5173920"/>
              <a:ext cx="41400" cy="47160"/>
            </a:xfrm>
            <a:custGeom>
              <a:avLst/>
              <a:gdLst/>
              <a:ahLst/>
              <a:rect l="l" t="t" r="r" b="b"/>
              <a:pathLst>
                <a:path w="270" h="719">
                  <a:moveTo>
                    <a:pt x="156" y="87"/>
                  </a:moveTo>
                  <a:lnTo>
                    <a:pt x="270" y="719"/>
                  </a:lnTo>
                  <a:lnTo>
                    <a:pt x="193" y="677"/>
                  </a:lnTo>
                  <a:lnTo>
                    <a:pt x="118" y="634"/>
                  </a:lnTo>
                  <a:lnTo>
                    <a:pt x="0" y="0"/>
                  </a:lnTo>
                  <a:lnTo>
                    <a:pt x="77" y="44"/>
                  </a:lnTo>
                  <a:lnTo>
                    <a:pt x="156" y="87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376680" y="5167080"/>
              <a:ext cx="39600" cy="48240"/>
            </a:xfrm>
            <a:custGeom>
              <a:avLst/>
              <a:gdLst/>
              <a:ahLst/>
              <a:rect l="l" t="t" r="r" b="b"/>
              <a:pathLst>
                <a:path w="268" h="730">
                  <a:moveTo>
                    <a:pt x="150" y="96"/>
                  </a:moveTo>
                  <a:lnTo>
                    <a:pt x="268" y="730"/>
                  </a:lnTo>
                  <a:lnTo>
                    <a:pt x="195" y="684"/>
                  </a:lnTo>
                  <a:lnTo>
                    <a:pt x="122" y="636"/>
                  </a:lnTo>
                  <a:lnTo>
                    <a:pt x="0" y="0"/>
                  </a:lnTo>
                  <a:lnTo>
                    <a:pt x="75" y="49"/>
                  </a:lnTo>
                  <a:lnTo>
                    <a:pt x="150" y="96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354000" y="5159880"/>
              <a:ext cx="39240" cy="49680"/>
            </a:xfrm>
            <a:custGeom>
              <a:avLst/>
              <a:gdLst/>
              <a:ahLst/>
              <a:rect l="l" t="t" r="r" b="b"/>
              <a:pathLst>
                <a:path w="268" h="740">
                  <a:moveTo>
                    <a:pt x="146" y="104"/>
                  </a:moveTo>
                  <a:lnTo>
                    <a:pt x="268" y="740"/>
                  </a:lnTo>
                  <a:lnTo>
                    <a:pt x="197" y="691"/>
                  </a:lnTo>
                  <a:lnTo>
                    <a:pt x="127" y="639"/>
                  </a:lnTo>
                  <a:lnTo>
                    <a:pt x="0" y="0"/>
                  </a:lnTo>
                  <a:lnTo>
                    <a:pt x="72" y="53"/>
                  </a:lnTo>
                  <a:lnTo>
                    <a:pt x="146" y="104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33120" y="5153040"/>
              <a:ext cx="39240" cy="49680"/>
            </a:xfrm>
            <a:custGeom>
              <a:avLst/>
              <a:gdLst/>
              <a:ahLst/>
              <a:rect l="l" t="t" r="r" b="b"/>
              <a:pathLst>
                <a:path w="265" h="752">
                  <a:moveTo>
                    <a:pt x="138" y="113"/>
                  </a:moveTo>
                  <a:lnTo>
                    <a:pt x="265" y="752"/>
                  </a:lnTo>
                  <a:lnTo>
                    <a:pt x="198" y="699"/>
                  </a:lnTo>
                  <a:lnTo>
                    <a:pt x="131" y="643"/>
                  </a:lnTo>
                  <a:lnTo>
                    <a:pt x="0" y="0"/>
                  </a:lnTo>
                  <a:lnTo>
                    <a:pt x="68" y="57"/>
                  </a:lnTo>
                  <a:lnTo>
                    <a:pt x="138" y="11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314040" y="5144760"/>
              <a:ext cx="39600" cy="51120"/>
            </a:xfrm>
            <a:custGeom>
              <a:avLst/>
              <a:gdLst/>
              <a:ahLst/>
              <a:rect l="l" t="t" r="r" b="b"/>
              <a:pathLst>
                <a:path w="263" h="764">
                  <a:moveTo>
                    <a:pt x="132" y="121"/>
                  </a:moveTo>
                  <a:lnTo>
                    <a:pt x="263" y="764"/>
                  </a:lnTo>
                  <a:lnTo>
                    <a:pt x="197" y="706"/>
                  </a:lnTo>
                  <a:lnTo>
                    <a:pt x="135" y="646"/>
                  </a:lnTo>
                  <a:lnTo>
                    <a:pt x="0" y="0"/>
                  </a:lnTo>
                  <a:lnTo>
                    <a:pt x="65" y="62"/>
                  </a:lnTo>
                  <a:lnTo>
                    <a:pt x="132" y="12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295320" y="5136480"/>
              <a:ext cx="39600" cy="51120"/>
            </a:xfrm>
            <a:custGeom>
              <a:avLst/>
              <a:gdLst/>
              <a:ahLst/>
              <a:rect l="l" t="t" r="r" b="b"/>
              <a:pathLst>
                <a:path w="260" h="776">
                  <a:moveTo>
                    <a:pt x="125" y="130"/>
                  </a:moveTo>
                  <a:lnTo>
                    <a:pt x="260" y="776"/>
                  </a:lnTo>
                  <a:lnTo>
                    <a:pt x="198" y="713"/>
                  </a:lnTo>
                  <a:lnTo>
                    <a:pt x="139" y="650"/>
                  </a:lnTo>
                  <a:lnTo>
                    <a:pt x="0" y="0"/>
                  </a:lnTo>
                  <a:lnTo>
                    <a:pt x="62" y="67"/>
                  </a:lnTo>
                  <a:lnTo>
                    <a:pt x="125" y="13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278760" y="5126760"/>
              <a:ext cx="37080" cy="52200"/>
            </a:xfrm>
            <a:custGeom>
              <a:avLst/>
              <a:gdLst/>
              <a:ahLst/>
              <a:rect l="l" t="t" r="r" b="b"/>
              <a:pathLst>
                <a:path w="256" h="788">
                  <a:moveTo>
                    <a:pt x="117" y="138"/>
                  </a:moveTo>
                  <a:lnTo>
                    <a:pt x="256" y="788"/>
                  </a:lnTo>
                  <a:lnTo>
                    <a:pt x="197" y="721"/>
                  </a:lnTo>
                  <a:lnTo>
                    <a:pt x="142" y="653"/>
                  </a:lnTo>
                  <a:lnTo>
                    <a:pt x="0" y="0"/>
                  </a:lnTo>
                  <a:lnTo>
                    <a:pt x="58" y="70"/>
                  </a:lnTo>
                  <a:lnTo>
                    <a:pt x="117" y="138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199200" y="5050080"/>
              <a:ext cx="48240" cy="45720"/>
            </a:xfrm>
            <a:custGeom>
              <a:avLst/>
              <a:gdLst/>
              <a:ahLst/>
              <a:rect l="l" t="t" r="r" b="b"/>
              <a:pathLst>
                <a:path w="332" h="686">
                  <a:moveTo>
                    <a:pt x="182" y="0"/>
                  </a:moveTo>
                  <a:lnTo>
                    <a:pt x="332" y="684"/>
                  </a:lnTo>
                  <a:lnTo>
                    <a:pt x="244" y="686"/>
                  </a:lnTo>
                  <a:lnTo>
                    <a:pt x="156" y="685"/>
                  </a:lnTo>
                  <a:lnTo>
                    <a:pt x="0" y="0"/>
                  </a:lnTo>
                  <a:lnTo>
                    <a:pt x="91" y="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172200" y="5050080"/>
              <a:ext cx="50040" cy="45720"/>
            </a:xfrm>
            <a:custGeom>
              <a:avLst/>
              <a:gdLst/>
              <a:ahLst/>
              <a:rect l="l" t="t" r="r" b="b"/>
              <a:pathLst>
                <a:path w="336" h="694">
                  <a:moveTo>
                    <a:pt x="180" y="9"/>
                  </a:moveTo>
                  <a:lnTo>
                    <a:pt x="336" y="694"/>
                  </a:lnTo>
                  <a:lnTo>
                    <a:pt x="249" y="689"/>
                  </a:lnTo>
                  <a:lnTo>
                    <a:pt x="161" y="684"/>
                  </a:lnTo>
                  <a:lnTo>
                    <a:pt x="0" y="0"/>
                  </a:lnTo>
                  <a:lnTo>
                    <a:pt x="90" y="6"/>
                  </a:lnTo>
                  <a:lnTo>
                    <a:pt x="180" y="9"/>
                  </a:lnTo>
                  <a:close/>
                </a:path>
              </a:pathLst>
            </a:custGeom>
            <a:solidFill>
              <a:srgbClr val="5f6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145200" y="5049000"/>
              <a:ext cx="50040" cy="45360"/>
            </a:xfrm>
            <a:custGeom>
              <a:avLst/>
              <a:gdLst/>
              <a:ahLst/>
              <a:rect l="l" t="t" r="r" b="b"/>
              <a:pathLst>
                <a:path w="341" h="704">
                  <a:moveTo>
                    <a:pt x="180" y="20"/>
                  </a:moveTo>
                  <a:lnTo>
                    <a:pt x="341" y="704"/>
                  </a:lnTo>
                  <a:lnTo>
                    <a:pt x="253" y="696"/>
                  </a:lnTo>
                  <a:lnTo>
                    <a:pt x="166" y="685"/>
                  </a:lnTo>
                  <a:lnTo>
                    <a:pt x="0" y="0"/>
                  </a:lnTo>
                  <a:lnTo>
                    <a:pt x="89" y="12"/>
                  </a:lnTo>
                  <a:lnTo>
                    <a:pt x="180" y="20"/>
                  </a:lnTo>
                  <a:close/>
                </a:path>
              </a:pathLst>
            </a:custGeom>
            <a:solidFill>
              <a:srgbClr val="55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117840" y="5046120"/>
              <a:ext cx="52200" cy="47160"/>
            </a:xfrm>
            <a:custGeom>
              <a:avLst/>
              <a:gdLst/>
              <a:ahLst/>
              <a:rect l="l" t="t" r="r" b="b"/>
              <a:pathLst>
                <a:path w="343" h="713">
                  <a:moveTo>
                    <a:pt x="177" y="28"/>
                  </a:moveTo>
                  <a:lnTo>
                    <a:pt x="343" y="713"/>
                  </a:lnTo>
                  <a:lnTo>
                    <a:pt x="257" y="700"/>
                  </a:lnTo>
                  <a:lnTo>
                    <a:pt x="171" y="685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77" y="28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092640" y="5044680"/>
              <a:ext cx="50040" cy="47160"/>
            </a:xfrm>
            <a:custGeom>
              <a:avLst/>
              <a:gdLst/>
              <a:ahLst/>
              <a:rect l="l" t="t" r="r" b="b"/>
              <a:pathLst>
                <a:path w="345" h="724">
                  <a:moveTo>
                    <a:pt x="174" y="39"/>
                  </a:moveTo>
                  <a:lnTo>
                    <a:pt x="345" y="724"/>
                  </a:lnTo>
                  <a:lnTo>
                    <a:pt x="261" y="707"/>
                  </a:lnTo>
                  <a:lnTo>
                    <a:pt x="177" y="686"/>
                  </a:lnTo>
                  <a:lnTo>
                    <a:pt x="0" y="0"/>
                  </a:lnTo>
                  <a:lnTo>
                    <a:pt x="87" y="20"/>
                  </a:lnTo>
                  <a:lnTo>
                    <a:pt x="174" y="39"/>
                  </a:lnTo>
                  <a:close/>
                </a:path>
              </a:pathLst>
            </a:custGeom>
            <a:solidFill>
              <a:srgbClr val="3f3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068160" y="5040360"/>
              <a:ext cx="49680" cy="48600"/>
            </a:xfrm>
            <a:custGeom>
              <a:avLst/>
              <a:gdLst/>
              <a:ahLst/>
              <a:rect l="l" t="t" r="r" b="b"/>
              <a:pathLst>
                <a:path w="348" h="735">
                  <a:moveTo>
                    <a:pt x="171" y="49"/>
                  </a:moveTo>
                  <a:lnTo>
                    <a:pt x="348" y="735"/>
                  </a:lnTo>
                  <a:lnTo>
                    <a:pt x="264" y="712"/>
                  </a:lnTo>
                  <a:lnTo>
                    <a:pt x="182" y="687"/>
                  </a:lnTo>
                  <a:lnTo>
                    <a:pt x="0" y="0"/>
                  </a:lnTo>
                  <a:lnTo>
                    <a:pt x="85" y="26"/>
                  </a:lnTo>
                  <a:lnTo>
                    <a:pt x="171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42960" y="5036400"/>
              <a:ext cx="49680" cy="49680"/>
            </a:xfrm>
            <a:custGeom>
              <a:avLst/>
              <a:gdLst/>
              <a:ahLst/>
              <a:rect l="l" t="t" r="r" b="b"/>
              <a:pathLst>
                <a:path w="347" h="747">
                  <a:moveTo>
                    <a:pt x="165" y="60"/>
                  </a:moveTo>
                  <a:lnTo>
                    <a:pt x="347" y="747"/>
                  </a:lnTo>
                  <a:lnTo>
                    <a:pt x="266" y="720"/>
                  </a:lnTo>
                  <a:lnTo>
                    <a:pt x="186" y="690"/>
                  </a:lnTo>
                  <a:lnTo>
                    <a:pt x="0" y="0"/>
                  </a:lnTo>
                  <a:lnTo>
                    <a:pt x="82" y="31"/>
                  </a:lnTo>
                  <a:lnTo>
                    <a:pt x="165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18120" y="5032440"/>
              <a:ext cx="51840" cy="49680"/>
            </a:xfrm>
            <a:custGeom>
              <a:avLst/>
              <a:gdLst/>
              <a:ahLst/>
              <a:rect l="l" t="t" r="r" b="b"/>
              <a:pathLst>
                <a:path w="347" h="759">
                  <a:moveTo>
                    <a:pt x="161" y="69"/>
                  </a:moveTo>
                  <a:lnTo>
                    <a:pt x="347" y="759"/>
                  </a:lnTo>
                  <a:lnTo>
                    <a:pt x="268" y="726"/>
                  </a:lnTo>
                  <a:lnTo>
                    <a:pt x="190" y="692"/>
                  </a:lnTo>
                  <a:lnTo>
                    <a:pt x="0" y="0"/>
                  </a:lnTo>
                  <a:lnTo>
                    <a:pt x="80" y="36"/>
                  </a:lnTo>
                  <a:lnTo>
                    <a:pt x="161" y="6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994720" y="5026680"/>
              <a:ext cx="51840" cy="51480"/>
            </a:xfrm>
            <a:custGeom>
              <a:avLst/>
              <a:gdLst/>
              <a:ahLst/>
              <a:rect l="l" t="t" r="r" b="b"/>
              <a:pathLst>
                <a:path w="345" h="771">
                  <a:moveTo>
                    <a:pt x="155" y="79"/>
                  </a:moveTo>
                  <a:lnTo>
                    <a:pt x="345" y="771"/>
                  </a:lnTo>
                  <a:lnTo>
                    <a:pt x="269" y="734"/>
                  </a:lnTo>
                  <a:lnTo>
                    <a:pt x="195" y="693"/>
                  </a:lnTo>
                  <a:lnTo>
                    <a:pt x="0" y="0"/>
                  </a:lnTo>
                  <a:lnTo>
                    <a:pt x="76" y="41"/>
                  </a:lnTo>
                  <a:lnTo>
                    <a:pt x="155" y="7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973840" y="5021280"/>
              <a:ext cx="50040" cy="51120"/>
            </a:xfrm>
            <a:custGeom>
              <a:avLst/>
              <a:gdLst/>
              <a:ahLst/>
              <a:rect l="l" t="t" r="r" b="b"/>
              <a:pathLst>
                <a:path w="344" h="782">
                  <a:moveTo>
                    <a:pt x="149" y="89"/>
                  </a:moveTo>
                  <a:lnTo>
                    <a:pt x="344" y="782"/>
                  </a:lnTo>
                  <a:lnTo>
                    <a:pt x="270" y="740"/>
                  </a:lnTo>
                  <a:lnTo>
                    <a:pt x="199" y="695"/>
                  </a:lnTo>
                  <a:lnTo>
                    <a:pt x="0" y="0"/>
                  </a:lnTo>
                  <a:lnTo>
                    <a:pt x="73" y="46"/>
                  </a:lnTo>
                  <a:lnTo>
                    <a:pt x="149" y="89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51160" y="5014440"/>
              <a:ext cx="51840" cy="52200"/>
            </a:xfrm>
            <a:custGeom>
              <a:avLst/>
              <a:gdLst/>
              <a:ahLst/>
              <a:rect l="l" t="t" r="r" b="b"/>
              <a:pathLst>
                <a:path w="340" h="795">
                  <a:moveTo>
                    <a:pt x="141" y="100"/>
                  </a:moveTo>
                  <a:lnTo>
                    <a:pt x="340" y="795"/>
                  </a:lnTo>
                  <a:lnTo>
                    <a:pt x="271" y="748"/>
                  </a:lnTo>
                  <a:lnTo>
                    <a:pt x="203" y="698"/>
                  </a:lnTo>
                  <a:lnTo>
                    <a:pt x="0" y="0"/>
                  </a:lnTo>
                  <a:lnTo>
                    <a:pt x="70" y="51"/>
                  </a:lnTo>
                  <a:lnTo>
                    <a:pt x="141" y="100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32440" y="5007240"/>
              <a:ext cx="50040" cy="54000"/>
            </a:xfrm>
            <a:custGeom>
              <a:avLst/>
              <a:gdLst/>
              <a:ahLst/>
              <a:rect l="l" t="t" r="r" b="b"/>
              <a:pathLst>
                <a:path w="336" h="809">
                  <a:moveTo>
                    <a:pt x="133" y="111"/>
                  </a:moveTo>
                  <a:lnTo>
                    <a:pt x="336" y="809"/>
                  </a:lnTo>
                  <a:lnTo>
                    <a:pt x="270" y="756"/>
                  </a:lnTo>
                  <a:lnTo>
                    <a:pt x="207" y="701"/>
                  </a:lnTo>
                  <a:lnTo>
                    <a:pt x="0" y="0"/>
                  </a:lnTo>
                  <a:lnTo>
                    <a:pt x="65" y="57"/>
                  </a:lnTo>
                  <a:lnTo>
                    <a:pt x="133" y="11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13360" y="4998960"/>
              <a:ext cx="50040" cy="54000"/>
            </a:xfrm>
            <a:custGeom>
              <a:avLst/>
              <a:gdLst/>
              <a:ahLst/>
              <a:rect l="l" t="t" r="r" b="b"/>
              <a:pathLst>
                <a:path w="331" h="822">
                  <a:moveTo>
                    <a:pt x="124" y="121"/>
                  </a:moveTo>
                  <a:lnTo>
                    <a:pt x="331" y="822"/>
                  </a:lnTo>
                  <a:lnTo>
                    <a:pt x="269" y="764"/>
                  </a:lnTo>
                  <a:lnTo>
                    <a:pt x="210" y="705"/>
                  </a:lnTo>
                  <a:lnTo>
                    <a:pt x="0" y="0"/>
                  </a:lnTo>
                  <a:lnTo>
                    <a:pt x="60" y="62"/>
                  </a:lnTo>
                  <a:lnTo>
                    <a:pt x="124" y="12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896800" y="4990680"/>
              <a:ext cx="47520" cy="55080"/>
            </a:xfrm>
            <a:custGeom>
              <a:avLst/>
              <a:gdLst/>
              <a:ahLst/>
              <a:rect l="l" t="t" r="r" b="b"/>
              <a:pathLst>
                <a:path w="325" h="837">
                  <a:moveTo>
                    <a:pt x="115" y="132"/>
                  </a:moveTo>
                  <a:lnTo>
                    <a:pt x="325" y="837"/>
                  </a:lnTo>
                  <a:lnTo>
                    <a:pt x="267" y="773"/>
                  </a:lnTo>
                  <a:lnTo>
                    <a:pt x="213" y="709"/>
                  </a:lnTo>
                  <a:lnTo>
                    <a:pt x="0" y="0"/>
                  </a:lnTo>
                  <a:lnTo>
                    <a:pt x="56" y="68"/>
                  </a:lnTo>
                  <a:lnTo>
                    <a:pt x="11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880240" y="4980960"/>
              <a:ext cx="47520" cy="56880"/>
            </a:xfrm>
            <a:custGeom>
              <a:avLst/>
              <a:gdLst/>
              <a:ahLst/>
              <a:rect l="l" t="t" r="r" b="b"/>
              <a:pathLst>
                <a:path w="319" h="850">
                  <a:moveTo>
                    <a:pt x="106" y="141"/>
                  </a:moveTo>
                  <a:lnTo>
                    <a:pt x="319" y="850"/>
                  </a:lnTo>
                  <a:lnTo>
                    <a:pt x="267" y="781"/>
                  </a:lnTo>
                  <a:lnTo>
                    <a:pt x="216" y="711"/>
                  </a:lnTo>
                  <a:lnTo>
                    <a:pt x="0" y="0"/>
                  </a:lnTo>
                  <a:lnTo>
                    <a:pt x="51" y="72"/>
                  </a:lnTo>
                  <a:lnTo>
                    <a:pt x="106" y="14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867640" y="4971240"/>
              <a:ext cx="45720" cy="56880"/>
            </a:xfrm>
            <a:custGeom>
              <a:avLst/>
              <a:gdLst/>
              <a:ahLst/>
              <a:rect l="l" t="t" r="r" b="b"/>
              <a:pathLst>
                <a:path w="310" h="864">
                  <a:moveTo>
                    <a:pt x="94" y="153"/>
                  </a:moveTo>
                  <a:lnTo>
                    <a:pt x="310" y="864"/>
                  </a:lnTo>
                  <a:lnTo>
                    <a:pt x="263" y="791"/>
                  </a:lnTo>
                  <a:lnTo>
                    <a:pt x="219" y="715"/>
                  </a:lnTo>
                  <a:lnTo>
                    <a:pt x="0" y="0"/>
                  </a:lnTo>
                  <a:lnTo>
                    <a:pt x="46" y="78"/>
                  </a:lnTo>
                  <a:lnTo>
                    <a:pt x="94" y="153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224400" y="5050080"/>
              <a:ext cx="29160" cy="47160"/>
            </a:xfrm>
            <a:custGeom>
              <a:avLst/>
              <a:gdLst/>
              <a:ahLst/>
              <a:rect l="l" t="t" r="r" b="b"/>
              <a:pathLst>
                <a:path w="187" h="722">
                  <a:moveTo>
                    <a:pt x="38" y="40"/>
                  </a:moveTo>
                  <a:lnTo>
                    <a:pt x="187" y="722"/>
                  </a:lnTo>
                  <a:lnTo>
                    <a:pt x="182" y="718"/>
                  </a:lnTo>
                  <a:lnTo>
                    <a:pt x="178" y="713"/>
                  </a:lnTo>
                  <a:lnTo>
                    <a:pt x="173" y="708"/>
                  </a:lnTo>
                  <a:lnTo>
                    <a:pt x="169" y="703"/>
                  </a:lnTo>
                  <a:lnTo>
                    <a:pt x="165" y="698"/>
                  </a:lnTo>
                  <a:lnTo>
                    <a:pt x="160" y="694"/>
                  </a:lnTo>
                  <a:lnTo>
                    <a:pt x="155" y="689"/>
                  </a:lnTo>
                  <a:lnTo>
                    <a:pt x="150" y="684"/>
                  </a:lnTo>
                  <a:lnTo>
                    <a:pt x="0" y="0"/>
                  </a:lnTo>
                  <a:lnTo>
                    <a:pt x="5" y="6"/>
                  </a:lnTo>
                  <a:lnTo>
                    <a:pt x="9" y="11"/>
                  </a:lnTo>
                  <a:lnTo>
                    <a:pt x="14" y="15"/>
                  </a:lnTo>
                  <a:lnTo>
                    <a:pt x="18" y="20"/>
                  </a:lnTo>
                  <a:lnTo>
                    <a:pt x="23" y="25"/>
                  </a:lnTo>
                  <a:lnTo>
                    <a:pt x="28" y="31"/>
                  </a:lnTo>
                  <a:lnTo>
                    <a:pt x="32" y="35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262200" y="5117040"/>
              <a:ext cx="37080" cy="54000"/>
            </a:xfrm>
            <a:custGeom>
              <a:avLst/>
              <a:gdLst/>
              <a:ahLst/>
              <a:rect l="l" t="t" r="r" b="b"/>
              <a:pathLst>
                <a:path w="246" h="814">
                  <a:moveTo>
                    <a:pt x="104" y="161"/>
                  </a:moveTo>
                  <a:lnTo>
                    <a:pt x="246" y="814"/>
                  </a:lnTo>
                  <a:lnTo>
                    <a:pt x="224" y="783"/>
                  </a:lnTo>
                  <a:lnTo>
                    <a:pt x="203" y="752"/>
                  </a:lnTo>
                  <a:lnTo>
                    <a:pt x="182" y="721"/>
                  </a:lnTo>
                  <a:lnTo>
                    <a:pt x="163" y="690"/>
                  </a:lnTo>
                  <a:lnTo>
                    <a:pt x="143" y="657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40" y="65"/>
                  </a:lnTo>
                  <a:lnTo>
                    <a:pt x="60" y="97"/>
                  </a:lnTo>
                  <a:lnTo>
                    <a:pt x="82" y="129"/>
                  </a:lnTo>
                  <a:lnTo>
                    <a:pt x="104" y="161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49240" y="5105880"/>
              <a:ext cx="33480" cy="54000"/>
            </a:xfrm>
            <a:custGeom>
              <a:avLst/>
              <a:gdLst/>
              <a:ahLst/>
              <a:rect l="l" t="t" r="r" b="b"/>
              <a:pathLst>
                <a:path w="232" h="822">
                  <a:moveTo>
                    <a:pt x="89" y="165"/>
                  </a:moveTo>
                  <a:lnTo>
                    <a:pt x="232" y="822"/>
                  </a:lnTo>
                  <a:lnTo>
                    <a:pt x="214" y="791"/>
                  </a:lnTo>
                  <a:lnTo>
                    <a:pt x="196" y="759"/>
                  </a:lnTo>
                  <a:lnTo>
                    <a:pt x="179" y="727"/>
                  </a:lnTo>
                  <a:lnTo>
                    <a:pt x="163" y="694"/>
                  </a:lnTo>
                  <a:lnTo>
                    <a:pt x="146" y="661"/>
                  </a:lnTo>
                  <a:lnTo>
                    <a:pt x="0" y="0"/>
                  </a:lnTo>
                  <a:lnTo>
                    <a:pt x="16" y="33"/>
                  </a:lnTo>
                  <a:lnTo>
                    <a:pt x="33" y="66"/>
                  </a:lnTo>
                  <a:lnTo>
                    <a:pt x="51" y="100"/>
                  </a:lnTo>
                  <a:lnTo>
                    <a:pt x="69" y="133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237000" y="5092200"/>
              <a:ext cx="33120" cy="56520"/>
            </a:xfrm>
            <a:custGeom>
              <a:avLst/>
              <a:gdLst/>
              <a:ahLst/>
              <a:rect l="l" t="t" r="r" b="b"/>
              <a:pathLst>
                <a:path w="226" h="869">
                  <a:moveTo>
                    <a:pt x="80" y="208"/>
                  </a:moveTo>
                  <a:lnTo>
                    <a:pt x="226" y="869"/>
                  </a:lnTo>
                  <a:lnTo>
                    <a:pt x="212" y="836"/>
                  </a:lnTo>
                  <a:lnTo>
                    <a:pt x="197" y="802"/>
                  </a:lnTo>
                  <a:lnTo>
                    <a:pt x="184" y="769"/>
                  </a:lnTo>
                  <a:lnTo>
                    <a:pt x="171" y="736"/>
                  </a:lnTo>
                  <a:lnTo>
                    <a:pt x="160" y="702"/>
                  </a:lnTo>
                  <a:lnTo>
                    <a:pt x="148" y="668"/>
                  </a:lnTo>
                  <a:lnTo>
                    <a:pt x="0" y="0"/>
                  </a:lnTo>
                  <a:lnTo>
                    <a:pt x="11" y="36"/>
                  </a:lnTo>
                  <a:lnTo>
                    <a:pt x="23" y="70"/>
                  </a:lnTo>
                  <a:lnTo>
                    <a:pt x="35" y="105"/>
                  </a:lnTo>
                  <a:lnTo>
                    <a:pt x="50" y="139"/>
                  </a:lnTo>
                  <a:lnTo>
                    <a:pt x="64" y="173"/>
                  </a:lnTo>
                  <a:lnTo>
                    <a:pt x="80" y="20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232680" y="5085000"/>
              <a:ext cx="26640" cy="51120"/>
            </a:xfrm>
            <a:custGeom>
              <a:avLst/>
              <a:gdLst/>
              <a:ahLst/>
              <a:rect l="l" t="t" r="r" b="b"/>
              <a:pathLst>
                <a:path w="177" h="774">
                  <a:moveTo>
                    <a:pt x="29" y="106"/>
                  </a:moveTo>
                  <a:lnTo>
                    <a:pt x="177" y="774"/>
                  </a:lnTo>
                  <a:lnTo>
                    <a:pt x="167" y="740"/>
                  </a:lnTo>
                  <a:lnTo>
                    <a:pt x="158" y="705"/>
                  </a:lnTo>
                  <a:lnTo>
                    <a:pt x="150" y="670"/>
                  </a:lnTo>
                  <a:lnTo>
                    <a:pt x="0" y="0"/>
                  </a:lnTo>
                  <a:lnTo>
                    <a:pt x="8" y="36"/>
                  </a:lnTo>
                  <a:lnTo>
                    <a:pt x="18" y="71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857200" y="4960080"/>
              <a:ext cx="41400" cy="57960"/>
            </a:xfrm>
            <a:custGeom>
              <a:avLst/>
              <a:gdLst/>
              <a:ahLst/>
              <a:rect l="l" t="t" r="r" b="b"/>
              <a:pathLst>
                <a:path w="289" h="872">
                  <a:moveTo>
                    <a:pt x="70" y="157"/>
                  </a:moveTo>
                  <a:lnTo>
                    <a:pt x="289" y="872"/>
                  </a:lnTo>
                  <a:lnTo>
                    <a:pt x="265" y="821"/>
                  </a:lnTo>
                  <a:lnTo>
                    <a:pt x="242" y="771"/>
                  </a:lnTo>
                  <a:lnTo>
                    <a:pt x="221" y="720"/>
                  </a:lnTo>
                  <a:lnTo>
                    <a:pt x="0" y="0"/>
                  </a:lnTo>
                  <a:lnTo>
                    <a:pt x="22" y="53"/>
                  </a:lnTo>
                  <a:lnTo>
                    <a:pt x="45" y="105"/>
                  </a:lnTo>
                  <a:lnTo>
                    <a:pt x="70" y="157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848920" y="4950360"/>
              <a:ext cx="39240" cy="57960"/>
            </a:xfrm>
            <a:custGeom>
              <a:avLst/>
              <a:gdLst/>
              <a:ahLst/>
              <a:rect l="l" t="t" r="r" b="b"/>
              <a:pathLst>
                <a:path w="274" h="875">
                  <a:moveTo>
                    <a:pt x="53" y="155"/>
                  </a:moveTo>
                  <a:lnTo>
                    <a:pt x="274" y="875"/>
                  </a:lnTo>
                  <a:lnTo>
                    <a:pt x="255" y="824"/>
                  </a:lnTo>
                  <a:lnTo>
                    <a:pt x="238" y="774"/>
                  </a:lnTo>
                  <a:lnTo>
                    <a:pt x="221" y="724"/>
                  </a:lnTo>
                  <a:lnTo>
                    <a:pt x="0" y="0"/>
                  </a:lnTo>
                  <a:lnTo>
                    <a:pt x="16" y="52"/>
                  </a:lnTo>
                  <a:lnTo>
                    <a:pt x="33" y="103"/>
                  </a:lnTo>
                  <a:lnTo>
                    <a:pt x="53" y="155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128280" y="4786560"/>
              <a:ext cx="43920" cy="61200"/>
            </a:xfrm>
            <a:custGeom>
              <a:avLst/>
              <a:gdLst/>
              <a:ahLst/>
              <a:rect l="l" t="t" r="r" b="b"/>
              <a:pathLst>
                <a:path w="289" h="914">
                  <a:moveTo>
                    <a:pt x="125" y="132"/>
                  </a:moveTo>
                  <a:lnTo>
                    <a:pt x="289" y="914"/>
                  </a:lnTo>
                  <a:lnTo>
                    <a:pt x="256" y="883"/>
                  </a:lnTo>
                  <a:lnTo>
                    <a:pt x="225" y="851"/>
                  </a:lnTo>
                  <a:lnTo>
                    <a:pt x="195" y="818"/>
                  </a:lnTo>
                  <a:lnTo>
                    <a:pt x="168" y="785"/>
                  </a:lnTo>
                  <a:lnTo>
                    <a:pt x="0" y="0"/>
                  </a:lnTo>
                  <a:lnTo>
                    <a:pt x="29" y="33"/>
                  </a:lnTo>
                  <a:lnTo>
                    <a:pt x="60" y="67"/>
                  </a:lnTo>
                  <a:lnTo>
                    <a:pt x="92" y="100"/>
                  </a:lnTo>
                  <a:lnTo>
                    <a:pt x="12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109920" y="4775400"/>
              <a:ext cx="43200" cy="63720"/>
            </a:xfrm>
            <a:custGeom>
              <a:avLst/>
              <a:gdLst/>
              <a:ahLst/>
              <a:rect l="l" t="t" r="r" b="b"/>
              <a:pathLst>
                <a:path w="288" h="961">
                  <a:moveTo>
                    <a:pt x="120" y="176"/>
                  </a:moveTo>
                  <a:lnTo>
                    <a:pt x="288" y="961"/>
                  </a:lnTo>
                  <a:lnTo>
                    <a:pt x="261" y="928"/>
                  </a:lnTo>
                  <a:lnTo>
                    <a:pt x="236" y="894"/>
                  </a:lnTo>
                  <a:lnTo>
                    <a:pt x="213" y="860"/>
                  </a:lnTo>
                  <a:lnTo>
                    <a:pt x="191" y="826"/>
                  </a:lnTo>
                  <a:lnTo>
                    <a:pt x="171" y="790"/>
                  </a:lnTo>
                  <a:lnTo>
                    <a:pt x="0" y="0"/>
                  </a:lnTo>
                  <a:lnTo>
                    <a:pt x="21" y="36"/>
                  </a:lnTo>
                  <a:lnTo>
                    <a:pt x="43" y="72"/>
                  </a:lnTo>
                  <a:lnTo>
                    <a:pt x="68" y="107"/>
                  </a:lnTo>
                  <a:lnTo>
                    <a:pt x="94" y="141"/>
                  </a:lnTo>
                  <a:lnTo>
                    <a:pt x="120" y="176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99480" y="4763160"/>
              <a:ext cx="37080" cy="64800"/>
            </a:xfrm>
            <a:custGeom>
              <a:avLst/>
              <a:gdLst/>
              <a:ahLst/>
              <a:rect l="l" t="t" r="r" b="b"/>
              <a:pathLst>
                <a:path w="252" h="978">
                  <a:moveTo>
                    <a:pt x="81" y="188"/>
                  </a:moveTo>
                  <a:lnTo>
                    <a:pt x="252" y="978"/>
                  </a:lnTo>
                  <a:lnTo>
                    <a:pt x="232" y="942"/>
                  </a:lnTo>
                  <a:lnTo>
                    <a:pt x="216" y="906"/>
                  </a:lnTo>
                  <a:lnTo>
                    <a:pt x="199" y="870"/>
                  </a:lnTo>
                  <a:lnTo>
                    <a:pt x="186" y="833"/>
                  </a:lnTo>
                  <a:lnTo>
                    <a:pt x="173" y="795"/>
                  </a:lnTo>
                  <a:lnTo>
                    <a:pt x="0" y="0"/>
                  </a:lnTo>
                  <a:lnTo>
                    <a:pt x="14" y="39"/>
                  </a:lnTo>
                  <a:lnTo>
                    <a:pt x="28" y="76"/>
                  </a:lnTo>
                  <a:lnTo>
                    <a:pt x="43" y="114"/>
                  </a:lnTo>
                  <a:lnTo>
                    <a:pt x="62" y="151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095160" y="4757760"/>
              <a:ext cx="29160" cy="57960"/>
            </a:xfrm>
            <a:custGeom>
              <a:avLst/>
              <a:gdLst/>
              <a:ahLst/>
              <a:rect l="l" t="t" r="r" b="b"/>
              <a:pathLst>
                <a:path w="193" h="873">
                  <a:moveTo>
                    <a:pt x="20" y="78"/>
                  </a:moveTo>
                  <a:lnTo>
                    <a:pt x="193" y="873"/>
                  </a:lnTo>
                  <a:lnTo>
                    <a:pt x="182" y="836"/>
                  </a:lnTo>
                  <a:lnTo>
                    <a:pt x="173" y="798"/>
                  </a:lnTo>
                  <a:lnTo>
                    <a:pt x="0" y="0"/>
                  </a:lnTo>
                  <a:lnTo>
                    <a:pt x="9" y="40"/>
                  </a:lnTo>
                  <a:lnTo>
                    <a:pt x="20" y="78"/>
                  </a:lnTo>
                  <a:close/>
                </a:path>
              </a:pathLst>
            </a:custGeom>
            <a:solidFill>
              <a:srgbClr val="262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838120" y="4548240"/>
              <a:ext cx="2445840" cy="760320"/>
            </a:xfrm>
            <a:custGeom>
              <a:avLst/>
              <a:gdLst/>
              <a:ahLst/>
              <a:rect l="l" t="t" r="r" b="b"/>
              <a:pathLst>
                <a:path w="16408" h="11518">
                  <a:moveTo>
                    <a:pt x="12894" y="1455"/>
                  </a:moveTo>
                  <a:lnTo>
                    <a:pt x="12992" y="1452"/>
                  </a:lnTo>
                  <a:lnTo>
                    <a:pt x="13091" y="1453"/>
                  </a:lnTo>
                  <a:lnTo>
                    <a:pt x="13190" y="1456"/>
                  </a:lnTo>
                  <a:lnTo>
                    <a:pt x="13290" y="1463"/>
                  </a:lnTo>
                  <a:lnTo>
                    <a:pt x="13391" y="1473"/>
                  </a:lnTo>
                  <a:lnTo>
                    <a:pt x="13490" y="1485"/>
                  </a:lnTo>
                  <a:lnTo>
                    <a:pt x="13591" y="1501"/>
                  </a:lnTo>
                  <a:lnTo>
                    <a:pt x="13690" y="1519"/>
                  </a:lnTo>
                  <a:lnTo>
                    <a:pt x="13790" y="1541"/>
                  </a:lnTo>
                  <a:lnTo>
                    <a:pt x="13888" y="1566"/>
                  </a:lnTo>
                  <a:lnTo>
                    <a:pt x="13987" y="1594"/>
                  </a:lnTo>
                  <a:lnTo>
                    <a:pt x="14083" y="1626"/>
                  </a:lnTo>
                  <a:lnTo>
                    <a:pt x="14179" y="1659"/>
                  </a:lnTo>
                  <a:lnTo>
                    <a:pt x="14273" y="1696"/>
                  </a:lnTo>
                  <a:lnTo>
                    <a:pt x="14365" y="1737"/>
                  </a:lnTo>
                  <a:lnTo>
                    <a:pt x="14455" y="1781"/>
                  </a:lnTo>
                  <a:lnTo>
                    <a:pt x="14545" y="1828"/>
                  </a:lnTo>
                  <a:lnTo>
                    <a:pt x="14631" y="1878"/>
                  </a:lnTo>
                  <a:lnTo>
                    <a:pt x="14715" y="1931"/>
                  </a:lnTo>
                  <a:lnTo>
                    <a:pt x="14797" y="1987"/>
                  </a:lnTo>
                  <a:lnTo>
                    <a:pt x="14876" y="2046"/>
                  </a:lnTo>
                  <a:lnTo>
                    <a:pt x="14952" y="2109"/>
                  </a:lnTo>
                  <a:lnTo>
                    <a:pt x="15026" y="2174"/>
                  </a:lnTo>
                  <a:lnTo>
                    <a:pt x="15095" y="2244"/>
                  </a:lnTo>
                  <a:lnTo>
                    <a:pt x="15162" y="2316"/>
                  </a:lnTo>
                  <a:lnTo>
                    <a:pt x="15225" y="2392"/>
                  </a:lnTo>
                  <a:lnTo>
                    <a:pt x="15283" y="2471"/>
                  </a:lnTo>
                  <a:lnTo>
                    <a:pt x="15338" y="2554"/>
                  </a:lnTo>
                  <a:lnTo>
                    <a:pt x="15389" y="2639"/>
                  </a:lnTo>
                  <a:lnTo>
                    <a:pt x="15436" y="2727"/>
                  </a:lnTo>
                  <a:lnTo>
                    <a:pt x="15478" y="2820"/>
                  </a:lnTo>
                  <a:lnTo>
                    <a:pt x="15515" y="2915"/>
                  </a:lnTo>
                  <a:lnTo>
                    <a:pt x="15530" y="2973"/>
                  </a:lnTo>
                  <a:lnTo>
                    <a:pt x="15544" y="3031"/>
                  </a:lnTo>
                  <a:lnTo>
                    <a:pt x="15555" y="3088"/>
                  </a:lnTo>
                  <a:lnTo>
                    <a:pt x="15563" y="3144"/>
                  </a:lnTo>
                  <a:lnTo>
                    <a:pt x="15569" y="3199"/>
                  </a:lnTo>
                  <a:lnTo>
                    <a:pt x="15573" y="3255"/>
                  </a:lnTo>
                  <a:lnTo>
                    <a:pt x="15575" y="3310"/>
                  </a:lnTo>
                  <a:lnTo>
                    <a:pt x="15575" y="3364"/>
                  </a:lnTo>
                  <a:lnTo>
                    <a:pt x="15572" y="3417"/>
                  </a:lnTo>
                  <a:lnTo>
                    <a:pt x="15568" y="3470"/>
                  </a:lnTo>
                  <a:lnTo>
                    <a:pt x="15561" y="3522"/>
                  </a:lnTo>
                  <a:lnTo>
                    <a:pt x="15553" y="3573"/>
                  </a:lnTo>
                  <a:lnTo>
                    <a:pt x="15541" y="3624"/>
                  </a:lnTo>
                  <a:lnTo>
                    <a:pt x="15528" y="3674"/>
                  </a:lnTo>
                  <a:lnTo>
                    <a:pt x="15514" y="3724"/>
                  </a:lnTo>
                  <a:lnTo>
                    <a:pt x="15496" y="3773"/>
                  </a:lnTo>
                  <a:lnTo>
                    <a:pt x="15478" y="3821"/>
                  </a:lnTo>
                  <a:lnTo>
                    <a:pt x="15456" y="3868"/>
                  </a:lnTo>
                  <a:lnTo>
                    <a:pt x="15434" y="3915"/>
                  </a:lnTo>
                  <a:lnTo>
                    <a:pt x="15409" y="3960"/>
                  </a:lnTo>
                  <a:lnTo>
                    <a:pt x="15383" y="4005"/>
                  </a:lnTo>
                  <a:lnTo>
                    <a:pt x="15355" y="4049"/>
                  </a:lnTo>
                  <a:lnTo>
                    <a:pt x="15324" y="4093"/>
                  </a:lnTo>
                  <a:lnTo>
                    <a:pt x="15292" y="4135"/>
                  </a:lnTo>
                  <a:lnTo>
                    <a:pt x="15259" y="4177"/>
                  </a:lnTo>
                  <a:lnTo>
                    <a:pt x="15224" y="4219"/>
                  </a:lnTo>
                  <a:lnTo>
                    <a:pt x="15187" y="4258"/>
                  </a:lnTo>
                  <a:lnTo>
                    <a:pt x="15149" y="4298"/>
                  </a:lnTo>
                  <a:lnTo>
                    <a:pt x="15108" y="4336"/>
                  </a:lnTo>
                  <a:lnTo>
                    <a:pt x="15067" y="4374"/>
                  </a:lnTo>
                  <a:lnTo>
                    <a:pt x="15023" y="4410"/>
                  </a:lnTo>
                  <a:lnTo>
                    <a:pt x="14978" y="4447"/>
                  </a:lnTo>
                  <a:lnTo>
                    <a:pt x="15048" y="4466"/>
                  </a:lnTo>
                  <a:lnTo>
                    <a:pt x="15117" y="4487"/>
                  </a:lnTo>
                  <a:lnTo>
                    <a:pt x="15186" y="4510"/>
                  </a:lnTo>
                  <a:lnTo>
                    <a:pt x="15252" y="4534"/>
                  </a:lnTo>
                  <a:lnTo>
                    <a:pt x="15318" y="4561"/>
                  </a:lnTo>
                  <a:lnTo>
                    <a:pt x="15381" y="4588"/>
                  </a:lnTo>
                  <a:lnTo>
                    <a:pt x="15444" y="4619"/>
                  </a:lnTo>
                  <a:lnTo>
                    <a:pt x="15506" y="4650"/>
                  </a:lnTo>
                  <a:lnTo>
                    <a:pt x="15566" y="4683"/>
                  </a:lnTo>
                  <a:lnTo>
                    <a:pt x="15625" y="4718"/>
                  </a:lnTo>
                  <a:lnTo>
                    <a:pt x="15681" y="4755"/>
                  </a:lnTo>
                  <a:lnTo>
                    <a:pt x="15736" y="4793"/>
                  </a:lnTo>
                  <a:lnTo>
                    <a:pt x="15790" y="4833"/>
                  </a:lnTo>
                  <a:lnTo>
                    <a:pt x="15841" y="4875"/>
                  </a:lnTo>
                  <a:lnTo>
                    <a:pt x="15891" y="4919"/>
                  </a:lnTo>
                  <a:lnTo>
                    <a:pt x="15939" y="4964"/>
                  </a:lnTo>
                  <a:lnTo>
                    <a:pt x="15985" y="5011"/>
                  </a:lnTo>
                  <a:lnTo>
                    <a:pt x="16030" y="5060"/>
                  </a:lnTo>
                  <a:lnTo>
                    <a:pt x="16072" y="5111"/>
                  </a:lnTo>
                  <a:lnTo>
                    <a:pt x="16112" y="5164"/>
                  </a:lnTo>
                  <a:lnTo>
                    <a:pt x="16150" y="5219"/>
                  </a:lnTo>
                  <a:lnTo>
                    <a:pt x="16184" y="5275"/>
                  </a:lnTo>
                  <a:lnTo>
                    <a:pt x="16218" y="5333"/>
                  </a:lnTo>
                  <a:lnTo>
                    <a:pt x="16249" y="5392"/>
                  </a:lnTo>
                  <a:lnTo>
                    <a:pt x="16278" y="5455"/>
                  </a:lnTo>
                  <a:lnTo>
                    <a:pt x="16303" y="5518"/>
                  </a:lnTo>
                  <a:lnTo>
                    <a:pt x="16327" y="5584"/>
                  </a:lnTo>
                  <a:lnTo>
                    <a:pt x="16349" y="5651"/>
                  </a:lnTo>
                  <a:lnTo>
                    <a:pt x="16367" y="5720"/>
                  </a:lnTo>
                  <a:lnTo>
                    <a:pt x="16382" y="5791"/>
                  </a:lnTo>
                  <a:lnTo>
                    <a:pt x="16396" y="5864"/>
                  </a:lnTo>
                  <a:lnTo>
                    <a:pt x="16406" y="5939"/>
                  </a:lnTo>
                  <a:lnTo>
                    <a:pt x="16408" y="6053"/>
                  </a:lnTo>
                  <a:lnTo>
                    <a:pt x="16404" y="6164"/>
                  </a:lnTo>
                  <a:lnTo>
                    <a:pt x="16395" y="6273"/>
                  </a:lnTo>
                  <a:lnTo>
                    <a:pt x="16378" y="6381"/>
                  </a:lnTo>
                  <a:lnTo>
                    <a:pt x="16357" y="6487"/>
                  </a:lnTo>
                  <a:lnTo>
                    <a:pt x="16329" y="6591"/>
                  </a:lnTo>
                  <a:lnTo>
                    <a:pt x="16296" y="6692"/>
                  </a:lnTo>
                  <a:lnTo>
                    <a:pt x="16258" y="6792"/>
                  </a:lnTo>
                  <a:lnTo>
                    <a:pt x="16215" y="6889"/>
                  </a:lnTo>
                  <a:lnTo>
                    <a:pt x="16167" y="6985"/>
                  </a:lnTo>
                  <a:lnTo>
                    <a:pt x="16115" y="7077"/>
                  </a:lnTo>
                  <a:lnTo>
                    <a:pt x="16058" y="7169"/>
                  </a:lnTo>
                  <a:lnTo>
                    <a:pt x="15997" y="7258"/>
                  </a:lnTo>
                  <a:lnTo>
                    <a:pt x="15932" y="7343"/>
                  </a:lnTo>
                  <a:lnTo>
                    <a:pt x="15862" y="7427"/>
                  </a:lnTo>
                  <a:lnTo>
                    <a:pt x="15791" y="7509"/>
                  </a:lnTo>
                  <a:lnTo>
                    <a:pt x="15715" y="7588"/>
                  </a:lnTo>
                  <a:lnTo>
                    <a:pt x="15635" y="7664"/>
                  </a:lnTo>
                  <a:lnTo>
                    <a:pt x="15553" y="7738"/>
                  </a:lnTo>
                  <a:lnTo>
                    <a:pt x="15468" y="7809"/>
                  </a:lnTo>
                  <a:lnTo>
                    <a:pt x="15380" y="7877"/>
                  </a:lnTo>
                  <a:lnTo>
                    <a:pt x="15290" y="7943"/>
                  </a:lnTo>
                  <a:lnTo>
                    <a:pt x="15198" y="8005"/>
                  </a:lnTo>
                  <a:lnTo>
                    <a:pt x="15104" y="8065"/>
                  </a:lnTo>
                  <a:lnTo>
                    <a:pt x="15008" y="8122"/>
                  </a:lnTo>
                  <a:lnTo>
                    <a:pt x="14910" y="8176"/>
                  </a:lnTo>
                  <a:lnTo>
                    <a:pt x="14811" y="8227"/>
                  </a:lnTo>
                  <a:lnTo>
                    <a:pt x="14711" y="8276"/>
                  </a:lnTo>
                  <a:lnTo>
                    <a:pt x="14610" y="8321"/>
                  </a:lnTo>
                  <a:lnTo>
                    <a:pt x="14508" y="8363"/>
                  </a:lnTo>
                  <a:lnTo>
                    <a:pt x="14406" y="8401"/>
                  </a:lnTo>
                  <a:lnTo>
                    <a:pt x="14303" y="8436"/>
                  </a:lnTo>
                  <a:lnTo>
                    <a:pt x="14269" y="8448"/>
                  </a:lnTo>
                  <a:lnTo>
                    <a:pt x="14234" y="8457"/>
                  </a:lnTo>
                  <a:lnTo>
                    <a:pt x="14199" y="8468"/>
                  </a:lnTo>
                  <a:lnTo>
                    <a:pt x="14165" y="8477"/>
                  </a:lnTo>
                  <a:lnTo>
                    <a:pt x="14130" y="8486"/>
                  </a:lnTo>
                  <a:lnTo>
                    <a:pt x="14095" y="8496"/>
                  </a:lnTo>
                  <a:lnTo>
                    <a:pt x="14062" y="8504"/>
                  </a:lnTo>
                  <a:lnTo>
                    <a:pt x="14027" y="8513"/>
                  </a:lnTo>
                  <a:lnTo>
                    <a:pt x="13992" y="8520"/>
                  </a:lnTo>
                  <a:lnTo>
                    <a:pt x="13957" y="8528"/>
                  </a:lnTo>
                  <a:lnTo>
                    <a:pt x="13923" y="8535"/>
                  </a:lnTo>
                  <a:lnTo>
                    <a:pt x="13888" y="8542"/>
                  </a:lnTo>
                  <a:lnTo>
                    <a:pt x="13853" y="8549"/>
                  </a:lnTo>
                  <a:lnTo>
                    <a:pt x="13819" y="8555"/>
                  </a:lnTo>
                  <a:lnTo>
                    <a:pt x="13784" y="8560"/>
                  </a:lnTo>
                  <a:lnTo>
                    <a:pt x="13749" y="8567"/>
                  </a:lnTo>
                  <a:lnTo>
                    <a:pt x="13713" y="8572"/>
                  </a:lnTo>
                  <a:lnTo>
                    <a:pt x="13678" y="8576"/>
                  </a:lnTo>
                  <a:lnTo>
                    <a:pt x="13643" y="8581"/>
                  </a:lnTo>
                  <a:lnTo>
                    <a:pt x="13608" y="8585"/>
                  </a:lnTo>
                  <a:lnTo>
                    <a:pt x="13572" y="8590"/>
                  </a:lnTo>
                  <a:lnTo>
                    <a:pt x="13538" y="8593"/>
                  </a:lnTo>
                  <a:lnTo>
                    <a:pt x="13502" y="8596"/>
                  </a:lnTo>
                  <a:lnTo>
                    <a:pt x="13466" y="8599"/>
                  </a:lnTo>
                  <a:lnTo>
                    <a:pt x="13431" y="8601"/>
                  </a:lnTo>
                  <a:lnTo>
                    <a:pt x="13395" y="8603"/>
                  </a:lnTo>
                  <a:lnTo>
                    <a:pt x="13359" y="8605"/>
                  </a:lnTo>
                  <a:lnTo>
                    <a:pt x="13323" y="8606"/>
                  </a:lnTo>
                  <a:lnTo>
                    <a:pt x="13287" y="8607"/>
                  </a:lnTo>
                  <a:lnTo>
                    <a:pt x="13250" y="8608"/>
                  </a:lnTo>
                  <a:lnTo>
                    <a:pt x="13215" y="8608"/>
                  </a:lnTo>
                  <a:lnTo>
                    <a:pt x="13179" y="8608"/>
                  </a:lnTo>
                  <a:lnTo>
                    <a:pt x="13156" y="8703"/>
                  </a:lnTo>
                  <a:lnTo>
                    <a:pt x="13132" y="8797"/>
                  </a:lnTo>
                  <a:lnTo>
                    <a:pt x="13105" y="8888"/>
                  </a:lnTo>
                  <a:lnTo>
                    <a:pt x="13075" y="8978"/>
                  </a:lnTo>
                  <a:lnTo>
                    <a:pt x="13042" y="9067"/>
                  </a:lnTo>
                  <a:lnTo>
                    <a:pt x="13006" y="9154"/>
                  </a:lnTo>
                  <a:lnTo>
                    <a:pt x="12969" y="9239"/>
                  </a:lnTo>
                  <a:lnTo>
                    <a:pt x="12928" y="9323"/>
                  </a:lnTo>
                  <a:lnTo>
                    <a:pt x="12886" y="9406"/>
                  </a:lnTo>
                  <a:lnTo>
                    <a:pt x="12840" y="9486"/>
                  </a:lnTo>
                  <a:lnTo>
                    <a:pt x="12793" y="9565"/>
                  </a:lnTo>
                  <a:lnTo>
                    <a:pt x="12744" y="9643"/>
                  </a:lnTo>
                  <a:lnTo>
                    <a:pt x="12692" y="9719"/>
                  </a:lnTo>
                  <a:lnTo>
                    <a:pt x="12637" y="9794"/>
                  </a:lnTo>
                  <a:lnTo>
                    <a:pt x="12581" y="9867"/>
                  </a:lnTo>
                  <a:lnTo>
                    <a:pt x="12522" y="9939"/>
                  </a:lnTo>
                  <a:lnTo>
                    <a:pt x="12462" y="10010"/>
                  </a:lnTo>
                  <a:lnTo>
                    <a:pt x="12399" y="10079"/>
                  </a:lnTo>
                  <a:lnTo>
                    <a:pt x="12336" y="10146"/>
                  </a:lnTo>
                  <a:lnTo>
                    <a:pt x="12269" y="10212"/>
                  </a:lnTo>
                  <a:lnTo>
                    <a:pt x="12201" y="10277"/>
                  </a:lnTo>
                  <a:lnTo>
                    <a:pt x="12132" y="10339"/>
                  </a:lnTo>
                  <a:lnTo>
                    <a:pt x="12060" y="10401"/>
                  </a:lnTo>
                  <a:lnTo>
                    <a:pt x="11987" y="10461"/>
                  </a:lnTo>
                  <a:lnTo>
                    <a:pt x="11912" y="10519"/>
                  </a:lnTo>
                  <a:lnTo>
                    <a:pt x="11836" y="10577"/>
                  </a:lnTo>
                  <a:lnTo>
                    <a:pt x="11758" y="10632"/>
                  </a:lnTo>
                  <a:lnTo>
                    <a:pt x="11679" y="10686"/>
                  </a:lnTo>
                  <a:lnTo>
                    <a:pt x="11599" y="10739"/>
                  </a:lnTo>
                  <a:lnTo>
                    <a:pt x="11517" y="10791"/>
                  </a:lnTo>
                  <a:lnTo>
                    <a:pt x="11434" y="10841"/>
                  </a:lnTo>
                  <a:lnTo>
                    <a:pt x="11350" y="10889"/>
                  </a:lnTo>
                  <a:lnTo>
                    <a:pt x="11320" y="10905"/>
                  </a:lnTo>
                  <a:lnTo>
                    <a:pt x="11292" y="10920"/>
                  </a:lnTo>
                  <a:lnTo>
                    <a:pt x="11262" y="10936"/>
                  </a:lnTo>
                  <a:lnTo>
                    <a:pt x="11232" y="10950"/>
                  </a:lnTo>
                  <a:lnTo>
                    <a:pt x="11203" y="10965"/>
                  </a:lnTo>
                  <a:lnTo>
                    <a:pt x="11174" y="10980"/>
                  </a:lnTo>
                  <a:lnTo>
                    <a:pt x="11144" y="10994"/>
                  </a:lnTo>
                  <a:lnTo>
                    <a:pt x="11114" y="11009"/>
                  </a:lnTo>
                  <a:lnTo>
                    <a:pt x="11084" y="11023"/>
                  </a:lnTo>
                  <a:lnTo>
                    <a:pt x="11054" y="11037"/>
                  </a:lnTo>
                  <a:lnTo>
                    <a:pt x="11024" y="11050"/>
                  </a:lnTo>
                  <a:lnTo>
                    <a:pt x="10994" y="11065"/>
                  </a:lnTo>
                  <a:lnTo>
                    <a:pt x="10964" y="11079"/>
                  </a:lnTo>
                  <a:lnTo>
                    <a:pt x="10934" y="11092"/>
                  </a:lnTo>
                  <a:lnTo>
                    <a:pt x="10903" y="11106"/>
                  </a:lnTo>
                  <a:lnTo>
                    <a:pt x="10872" y="11119"/>
                  </a:lnTo>
                  <a:lnTo>
                    <a:pt x="10805" y="11145"/>
                  </a:lnTo>
                  <a:lnTo>
                    <a:pt x="10737" y="11171"/>
                  </a:lnTo>
                  <a:lnTo>
                    <a:pt x="10668" y="11195"/>
                  </a:lnTo>
                  <a:lnTo>
                    <a:pt x="10601" y="11219"/>
                  </a:lnTo>
                  <a:lnTo>
                    <a:pt x="10533" y="11241"/>
                  </a:lnTo>
                  <a:lnTo>
                    <a:pt x="10466" y="11263"/>
                  </a:lnTo>
                  <a:lnTo>
                    <a:pt x="10399" y="11284"/>
                  </a:lnTo>
                  <a:lnTo>
                    <a:pt x="10331" y="11303"/>
                  </a:lnTo>
                  <a:lnTo>
                    <a:pt x="10263" y="11322"/>
                  </a:lnTo>
                  <a:lnTo>
                    <a:pt x="10197" y="11340"/>
                  </a:lnTo>
                  <a:lnTo>
                    <a:pt x="10129" y="11358"/>
                  </a:lnTo>
                  <a:lnTo>
                    <a:pt x="10061" y="11373"/>
                  </a:lnTo>
                  <a:lnTo>
                    <a:pt x="9993" y="11389"/>
                  </a:lnTo>
                  <a:lnTo>
                    <a:pt x="9926" y="11403"/>
                  </a:lnTo>
                  <a:lnTo>
                    <a:pt x="9858" y="11417"/>
                  </a:lnTo>
                  <a:lnTo>
                    <a:pt x="9789" y="11429"/>
                  </a:lnTo>
                  <a:lnTo>
                    <a:pt x="9722" y="11441"/>
                  </a:lnTo>
                  <a:lnTo>
                    <a:pt x="9653" y="11452"/>
                  </a:lnTo>
                  <a:lnTo>
                    <a:pt x="9584" y="11462"/>
                  </a:lnTo>
                  <a:lnTo>
                    <a:pt x="9516" y="11471"/>
                  </a:lnTo>
                  <a:lnTo>
                    <a:pt x="9447" y="11479"/>
                  </a:lnTo>
                  <a:lnTo>
                    <a:pt x="9377" y="11487"/>
                  </a:lnTo>
                  <a:lnTo>
                    <a:pt x="9307" y="11494"/>
                  </a:lnTo>
                  <a:lnTo>
                    <a:pt x="9238" y="11499"/>
                  </a:lnTo>
                  <a:lnTo>
                    <a:pt x="9167" y="11504"/>
                  </a:lnTo>
                  <a:lnTo>
                    <a:pt x="9097" y="11509"/>
                  </a:lnTo>
                  <a:lnTo>
                    <a:pt x="9025" y="11512"/>
                  </a:lnTo>
                  <a:lnTo>
                    <a:pt x="8954" y="11515"/>
                  </a:lnTo>
                  <a:lnTo>
                    <a:pt x="8882" y="11517"/>
                  </a:lnTo>
                  <a:lnTo>
                    <a:pt x="8810" y="11517"/>
                  </a:lnTo>
                  <a:lnTo>
                    <a:pt x="8737" y="11518"/>
                  </a:lnTo>
                  <a:lnTo>
                    <a:pt x="8663" y="11517"/>
                  </a:lnTo>
                  <a:lnTo>
                    <a:pt x="8262" y="11488"/>
                  </a:lnTo>
                  <a:lnTo>
                    <a:pt x="8161" y="11474"/>
                  </a:lnTo>
                  <a:lnTo>
                    <a:pt x="8060" y="11458"/>
                  </a:lnTo>
                  <a:lnTo>
                    <a:pt x="7959" y="11440"/>
                  </a:lnTo>
                  <a:lnTo>
                    <a:pt x="7858" y="11421"/>
                  </a:lnTo>
                  <a:lnTo>
                    <a:pt x="7758" y="11400"/>
                  </a:lnTo>
                  <a:lnTo>
                    <a:pt x="7657" y="11376"/>
                  </a:lnTo>
                  <a:lnTo>
                    <a:pt x="7558" y="11351"/>
                  </a:lnTo>
                  <a:lnTo>
                    <a:pt x="7459" y="11325"/>
                  </a:lnTo>
                  <a:lnTo>
                    <a:pt x="7362" y="11296"/>
                  </a:lnTo>
                  <a:lnTo>
                    <a:pt x="7265" y="11265"/>
                  </a:lnTo>
                  <a:lnTo>
                    <a:pt x="7168" y="11233"/>
                  </a:lnTo>
                  <a:lnTo>
                    <a:pt x="7072" y="11197"/>
                  </a:lnTo>
                  <a:lnTo>
                    <a:pt x="6978" y="11161"/>
                  </a:lnTo>
                  <a:lnTo>
                    <a:pt x="6884" y="11121"/>
                  </a:lnTo>
                  <a:lnTo>
                    <a:pt x="6792" y="11080"/>
                  </a:lnTo>
                  <a:lnTo>
                    <a:pt x="6701" y="11037"/>
                  </a:lnTo>
                  <a:lnTo>
                    <a:pt x="6611" y="10990"/>
                  </a:lnTo>
                  <a:lnTo>
                    <a:pt x="6522" y="10942"/>
                  </a:lnTo>
                  <a:lnTo>
                    <a:pt x="6436" y="10892"/>
                  </a:lnTo>
                  <a:lnTo>
                    <a:pt x="6350" y="10839"/>
                  </a:lnTo>
                  <a:lnTo>
                    <a:pt x="6266" y="10784"/>
                  </a:lnTo>
                  <a:lnTo>
                    <a:pt x="6184" y="10727"/>
                  </a:lnTo>
                  <a:lnTo>
                    <a:pt x="6104" y="10666"/>
                  </a:lnTo>
                  <a:lnTo>
                    <a:pt x="6025" y="10604"/>
                  </a:lnTo>
                  <a:lnTo>
                    <a:pt x="5948" y="10539"/>
                  </a:lnTo>
                  <a:lnTo>
                    <a:pt x="5873" y="10471"/>
                  </a:lnTo>
                  <a:lnTo>
                    <a:pt x="5800" y="10401"/>
                  </a:lnTo>
                  <a:lnTo>
                    <a:pt x="5729" y="10328"/>
                  </a:lnTo>
                  <a:lnTo>
                    <a:pt x="5662" y="10253"/>
                  </a:lnTo>
                  <a:lnTo>
                    <a:pt x="5595" y="10175"/>
                  </a:lnTo>
                  <a:lnTo>
                    <a:pt x="5532" y="10093"/>
                  </a:lnTo>
                  <a:lnTo>
                    <a:pt x="5470" y="10010"/>
                  </a:lnTo>
                  <a:lnTo>
                    <a:pt x="5380" y="10000"/>
                  </a:lnTo>
                  <a:lnTo>
                    <a:pt x="5290" y="9987"/>
                  </a:lnTo>
                  <a:lnTo>
                    <a:pt x="5199" y="9974"/>
                  </a:lnTo>
                  <a:lnTo>
                    <a:pt x="5109" y="9958"/>
                  </a:lnTo>
                  <a:lnTo>
                    <a:pt x="5020" y="9941"/>
                  </a:lnTo>
                  <a:lnTo>
                    <a:pt x="4931" y="9923"/>
                  </a:lnTo>
                  <a:lnTo>
                    <a:pt x="4842" y="9902"/>
                  </a:lnTo>
                  <a:lnTo>
                    <a:pt x="4754" y="9879"/>
                  </a:lnTo>
                  <a:lnTo>
                    <a:pt x="4666" y="9855"/>
                  </a:lnTo>
                  <a:lnTo>
                    <a:pt x="4579" y="9830"/>
                  </a:lnTo>
                  <a:lnTo>
                    <a:pt x="4493" y="9802"/>
                  </a:lnTo>
                  <a:lnTo>
                    <a:pt x="4408" y="9773"/>
                  </a:lnTo>
                  <a:lnTo>
                    <a:pt x="4322" y="9741"/>
                  </a:lnTo>
                  <a:lnTo>
                    <a:pt x="4238" y="9708"/>
                  </a:lnTo>
                  <a:lnTo>
                    <a:pt x="4155" y="9673"/>
                  </a:lnTo>
                  <a:lnTo>
                    <a:pt x="4073" y="9636"/>
                  </a:lnTo>
                  <a:lnTo>
                    <a:pt x="3993" y="9597"/>
                  </a:lnTo>
                  <a:lnTo>
                    <a:pt x="3913" y="9556"/>
                  </a:lnTo>
                  <a:lnTo>
                    <a:pt x="3834" y="9513"/>
                  </a:lnTo>
                  <a:lnTo>
                    <a:pt x="3757" y="9469"/>
                  </a:lnTo>
                  <a:lnTo>
                    <a:pt x="3682" y="9422"/>
                  </a:lnTo>
                  <a:lnTo>
                    <a:pt x="3607" y="9373"/>
                  </a:lnTo>
                  <a:lnTo>
                    <a:pt x="3533" y="9322"/>
                  </a:lnTo>
                  <a:lnTo>
                    <a:pt x="3461" y="9269"/>
                  </a:lnTo>
                  <a:lnTo>
                    <a:pt x="3391" y="9213"/>
                  </a:lnTo>
                  <a:lnTo>
                    <a:pt x="3323" y="9156"/>
                  </a:lnTo>
                  <a:lnTo>
                    <a:pt x="3256" y="9097"/>
                  </a:lnTo>
                  <a:lnTo>
                    <a:pt x="3191" y="9035"/>
                  </a:lnTo>
                  <a:lnTo>
                    <a:pt x="3128" y="8972"/>
                  </a:lnTo>
                  <a:lnTo>
                    <a:pt x="3066" y="8905"/>
                  </a:lnTo>
                  <a:lnTo>
                    <a:pt x="3007" y="8837"/>
                  </a:lnTo>
                  <a:lnTo>
                    <a:pt x="2949" y="8767"/>
                  </a:lnTo>
                  <a:lnTo>
                    <a:pt x="2927" y="8735"/>
                  </a:lnTo>
                  <a:lnTo>
                    <a:pt x="2905" y="8703"/>
                  </a:lnTo>
                  <a:lnTo>
                    <a:pt x="2885" y="8671"/>
                  </a:lnTo>
                  <a:lnTo>
                    <a:pt x="2864" y="8639"/>
                  </a:lnTo>
                  <a:lnTo>
                    <a:pt x="2845" y="8606"/>
                  </a:lnTo>
                  <a:lnTo>
                    <a:pt x="2825" y="8574"/>
                  </a:lnTo>
                  <a:lnTo>
                    <a:pt x="2807" y="8541"/>
                  </a:lnTo>
                  <a:lnTo>
                    <a:pt x="2789" y="8507"/>
                  </a:lnTo>
                  <a:lnTo>
                    <a:pt x="2772" y="8474"/>
                  </a:lnTo>
                  <a:lnTo>
                    <a:pt x="2756" y="8441"/>
                  </a:lnTo>
                  <a:lnTo>
                    <a:pt x="2740" y="8406"/>
                  </a:lnTo>
                  <a:lnTo>
                    <a:pt x="2726" y="8372"/>
                  </a:lnTo>
                  <a:lnTo>
                    <a:pt x="2711" y="8338"/>
                  </a:lnTo>
                  <a:lnTo>
                    <a:pt x="2699" y="8303"/>
                  </a:lnTo>
                  <a:lnTo>
                    <a:pt x="2687" y="8269"/>
                  </a:lnTo>
                  <a:lnTo>
                    <a:pt x="2676" y="8233"/>
                  </a:lnTo>
                  <a:lnTo>
                    <a:pt x="2665" y="8198"/>
                  </a:lnTo>
                  <a:lnTo>
                    <a:pt x="2655" y="8163"/>
                  </a:lnTo>
                  <a:lnTo>
                    <a:pt x="2647" y="8127"/>
                  </a:lnTo>
                  <a:lnTo>
                    <a:pt x="2640" y="8092"/>
                  </a:lnTo>
                  <a:lnTo>
                    <a:pt x="2633" y="8055"/>
                  </a:lnTo>
                  <a:lnTo>
                    <a:pt x="2627" y="8019"/>
                  </a:lnTo>
                  <a:lnTo>
                    <a:pt x="2623" y="7982"/>
                  </a:lnTo>
                  <a:lnTo>
                    <a:pt x="2620" y="7946"/>
                  </a:lnTo>
                  <a:lnTo>
                    <a:pt x="2617" y="7908"/>
                  </a:lnTo>
                  <a:lnTo>
                    <a:pt x="2616" y="7872"/>
                  </a:lnTo>
                  <a:lnTo>
                    <a:pt x="2616" y="7835"/>
                  </a:lnTo>
                  <a:lnTo>
                    <a:pt x="2617" y="7797"/>
                  </a:lnTo>
                  <a:lnTo>
                    <a:pt x="2620" y="7759"/>
                  </a:lnTo>
                  <a:lnTo>
                    <a:pt x="2623" y="7721"/>
                  </a:lnTo>
                  <a:lnTo>
                    <a:pt x="2628" y="7682"/>
                  </a:lnTo>
                  <a:lnTo>
                    <a:pt x="2635" y="7644"/>
                  </a:lnTo>
                  <a:lnTo>
                    <a:pt x="2629" y="7639"/>
                  </a:lnTo>
                  <a:lnTo>
                    <a:pt x="2625" y="7635"/>
                  </a:lnTo>
                  <a:lnTo>
                    <a:pt x="2620" y="7629"/>
                  </a:lnTo>
                  <a:lnTo>
                    <a:pt x="2615" y="7624"/>
                  </a:lnTo>
                  <a:lnTo>
                    <a:pt x="2611" y="7619"/>
                  </a:lnTo>
                  <a:lnTo>
                    <a:pt x="2606" y="7615"/>
                  </a:lnTo>
                  <a:lnTo>
                    <a:pt x="2602" y="7610"/>
                  </a:lnTo>
                  <a:lnTo>
                    <a:pt x="2597" y="7604"/>
                  </a:lnTo>
                  <a:lnTo>
                    <a:pt x="2506" y="7605"/>
                  </a:lnTo>
                  <a:lnTo>
                    <a:pt x="2415" y="7604"/>
                  </a:lnTo>
                  <a:lnTo>
                    <a:pt x="2325" y="7601"/>
                  </a:lnTo>
                  <a:lnTo>
                    <a:pt x="2235" y="7595"/>
                  </a:lnTo>
                  <a:lnTo>
                    <a:pt x="2144" y="7587"/>
                  </a:lnTo>
                  <a:lnTo>
                    <a:pt x="2055" y="7575"/>
                  </a:lnTo>
                  <a:lnTo>
                    <a:pt x="1966" y="7563"/>
                  </a:lnTo>
                  <a:lnTo>
                    <a:pt x="1878" y="7547"/>
                  </a:lnTo>
                  <a:lnTo>
                    <a:pt x="1791" y="7528"/>
                  </a:lnTo>
                  <a:lnTo>
                    <a:pt x="1704" y="7508"/>
                  </a:lnTo>
                  <a:lnTo>
                    <a:pt x="1618" y="7485"/>
                  </a:lnTo>
                  <a:lnTo>
                    <a:pt x="1533" y="7459"/>
                  </a:lnTo>
                  <a:lnTo>
                    <a:pt x="1450" y="7430"/>
                  </a:lnTo>
                  <a:lnTo>
                    <a:pt x="1368" y="7399"/>
                  </a:lnTo>
                  <a:lnTo>
                    <a:pt x="1287" y="7366"/>
                  </a:lnTo>
                  <a:lnTo>
                    <a:pt x="1207" y="7330"/>
                  </a:lnTo>
                  <a:lnTo>
                    <a:pt x="1128" y="7292"/>
                  </a:lnTo>
                  <a:lnTo>
                    <a:pt x="1052" y="7251"/>
                  </a:lnTo>
                  <a:lnTo>
                    <a:pt x="976" y="7208"/>
                  </a:lnTo>
                  <a:lnTo>
                    <a:pt x="903" y="7162"/>
                  </a:lnTo>
                  <a:lnTo>
                    <a:pt x="832" y="7113"/>
                  </a:lnTo>
                  <a:lnTo>
                    <a:pt x="762" y="7062"/>
                  </a:lnTo>
                  <a:lnTo>
                    <a:pt x="694" y="7008"/>
                  </a:lnTo>
                  <a:lnTo>
                    <a:pt x="629" y="6951"/>
                  </a:lnTo>
                  <a:lnTo>
                    <a:pt x="565" y="6892"/>
                  </a:lnTo>
                  <a:lnTo>
                    <a:pt x="505" y="6830"/>
                  </a:lnTo>
                  <a:lnTo>
                    <a:pt x="446" y="6766"/>
                  </a:lnTo>
                  <a:lnTo>
                    <a:pt x="390" y="6698"/>
                  </a:lnTo>
                  <a:lnTo>
                    <a:pt x="335" y="6629"/>
                  </a:lnTo>
                  <a:lnTo>
                    <a:pt x="284" y="6557"/>
                  </a:lnTo>
                  <a:lnTo>
                    <a:pt x="236" y="6482"/>
                  </a:lnTo>
                  <a:lnTo>
                    <a:pt x="190" y="6404"/>
                  </a:lnTo>
                  <a:lnTo>
                    <a:pt x="165" y="6352"/>
                  </a:lnTo>
                  <a:lnTo>
                    <a:pt x="142" y="6300"/>
                  </a:lnTo>
                  <a:lnTo>
                    <a:pt x="120" y="6247"/>
                  </a:lnTo>
                  <a:lnTo>
                    <a:pt x="100" y="6195"/>
                  </a:lnTo>
                  <a:lnTo>
                    <a:pt x="83" y="6144"/>
                  </a:lnTo>
                  <a:lnTo>
                    <a:pt x="67" y="6092"/>
                  </a:lnTo>
                  <a:lnTo>
                    <a:pt x="52" y="6040"/>
                  </a:lnTo>
                  <a:lnTo>
                    <a:pt x="39" y="5989"/>
                  </a:lnTo>
                  <a:lnTo>
                    <a:pt x="29" y="5937"/>
                  </a:lnTo>
                  <a:lnTo>
                    <a:pt x="19" y="5886"/>
                  </a:lnTo>
                  <a:lnTo>
                    <a:pt x="11" y="5834"/>
                  </a:lnTo>
                  <a:lnTo>
                    <a:pt x="6" y="5783"/>
                  </a:lnTo>
                  <a:lnTo>
                    <a:pt x="2" y="5732"/>
                  </a:lnTo>
                  <a:lnTo>
                    <a:pt x="0" y="5680"/>
                  </a:lnTo>
                  <a:lnTo>
                    <a:pt x="0" y="5629"/>
                  </a:lnTo>
                  <a:lnTo>
                    <a:pt x="1" y="5578"/>
                  </a:lnTo>
                  <a:lnTo>
                    <a:pt x="5" y="5527"/>
                  </a:lnTo>
                  <a:lnTo>
                    <a:pt x="10" y="5476"/>
                  </a:lnTo>
                  <a:lnTo>
                    <a:pt x="16" y="5425"/>
                  </a:lnTo>
                  <a:lnTo>
                    <a:pt x="26" y="5374"/>
                  </a:lnTo>
                  <a:lnTo>
                    <a:pt x="36" y="5323"/>
                  </a:lnTo>
                  <a:lnTo>
                    <a:pt x="48" y="5272"/>
                  </a:lnTo>
                  <a:lnTo>
                    <a:pt x="62" y="5221"/>
                  </a:lnTo>
                  <a:lnTo>
                    <a:pt x="78" y="5171"/>
                  </a:lnTo>
                  <a:lnTo>
                    <a:pt x="95" y="5120"/>
                  </a:lnTo>
                  <a:lnTo>
                    <a:pt x="115" y="5069"/>
                  </a:lnTo>
                  <a:lnTo>
                    <a:pt x="135" y="5018"/>
                  </a:lnTo>
                  <a:lnTo>
                    <a:pt x="158" y="4968"/>
                  </a:lnTo>
                  <a:lnTo>
                    <a:pt x="183" y="4917"/>
                  </a:lnTo>
                  <a:lnTo>
                    <a:pt x="209" y="4867"/>
                  </a:lnTo>
                  <a:lnTo>
                    <a:pt x="238" y="4815"/>
                  </a:lnTo>
                  <a:lnTo>
                    <a:pt x="268" y="4764"/>
                  </a:lnTo>
                  <a:lnTo>
                    <a:pt x="308" y="4708"/>
                  </a:lnTo>
                  <a:lnTo>
                    <a:pt x="349" y="4654"/>
                  </a:lnTo>
                  <a:lnTo>
                    <a:pt x="392" y="4601"/>
                  </a:lnTo>
                  <a:lnTo>
                    <a:pt x="436" y="4550"/>
                  </a:lnTo>
                  <a:lnTo>
                    <a:pt x="481" y="4500"/>
                  </a:lnTo>
                  <a:lnTo>
                    <a:pt x="527" y="4452"/>
                  </a:lnTo>
                  <a:lnTo>
                    <a:pt x="575" y="4406"/>
                  </a:lnTo>
                  <a:lnTo>
                    <a:pt x="625" y="4361"/>
                  </a:lnTo>
                  <a:lnTo>
                    <a:pt x="675" y="4318"/>
                  </a:lnTo>
                  <a:lnTo>
                    <a:pt x="726" y="4276"/>
                  </a:lnTo>
                  <a:lnTo>
                    <a:pt x="778" y="4236"/>
                  </a:lnTo>
                  <a:lnTo>
                    <a:pt x="832" y="4198"/>
                  </a:lnTo>
                  <a:lnTo>
                    <a:pt x="886" y="4161"/>
                  </a:lnTo>
                  <a:lnTo>
                    <a:pt x="941" y="4126"/>
                  </a:lnTo>
                  <a:lnTo>
                    <a:pt x="999" y="4092"/>
                  </a:lnTo>
                  <a:lnTo>
                    <a:pt x="1055" y="4060"/>
                  </a:lnTo>
                  <a:lnTo>
                    <a:pt x="1114" y="4029"/>
                  </a:lnTo>
                  <a:lnTo>
                    <a:pt x="1173" y="4000"/>
                  </a:lnTo>
                  <a:lnTo>
                    <a:pt x="1233" y="3973"/>
                  </a:lnTo>
                  <a:lnTo>
                    <a:pt x="1293" y="3947"/>
                  </a:lnTo>
                  <a:lnTo>
                    <a:pt x="1355" y="3922"/>
                  </a:lnTo>
                  <a:lnTo>
                    <a:pt x="1417" y="3899"/>
                  </a:lnTo>
                  <a:lnTo>
                    <a:pt x="1480" y="3877"/>
                  </a:lnTo>
                  <a:lnTo>
                    <a:pt x="1543" y="3857"/>
                  </a:lnTo>
                  <a:lnTo>
                    <a:pt x="1608" y="3839"/>
                  </a:lnTo>
                  <a:lnTo>
                    <a:pt x="1673" y="3822"/>
                  </a:lnTo>
                  <a:lnTo>
                    <a:pt x="1737" y="3806"/>
                  </a:lnTo>
                  <a:lnTo>
                    <a:pt x="1803" y="3792"/>
                  </a:lnTo>
                  <a:lnTo>
                    <a:pt x="1869" y="3779"/>
                  </a:lnTo>
                  <a:lnTo>
                    <a:pt x="1936" y="3768"/>
                  </a:lnTo>
                  <a:lnTo>
                    <a:pt x="2003" y="3758"/>
                  </a:lnTo>
                  <a:lnTo>
                    <a:pt x="2070" y="3750"/>
                  </a:lnTo>
                  <a:lnTo>
                    <a:pt x="2037" y="3718"/>
                  </a:lnTo>
                  <a:lnTo>
                    <a:pt x="2005" y="3685"/>
                  </a:lnTo>
                  <a:lnTo>
                    <a:pt x="1974" y="3651"/>
                  </a:lnTo>
                  <a:lnTo>
                    <a:pt x="1945" y="3618"/>
                  </a:lnTo>
                  <a:lnTo>
                    <a:pt x="1919" y="3583"/>
                  </a:lnTo>
                  <a:lnTo>
                    <a:pt x="1893" y="3549"/>
                  </a:lnTo>
                  <a:lnTo>
                    <a:pt x="1868" y="3514"/>
                  </a:lnTo>
                  <a:lnTo>
                    <a:pt x="1846" y="3478"/>
                  </a:lnTo>
                  <a:lnTo>
                    <a:pt x="1825" y="3442"/>
                  </a:lnTo>
                  <a:lnTo>
                    <a:pt x="1806" y="3405"/>
                  </a:lnTo>
                  <a:lnTo>
                    <a:pt x="1787" y="3368"/>
                  </a:lnTo>
                  <a:lnTo>
                    <a:pt x="1772" y="3330"/>
                  </a:lnTo>
                  <a:lnTo>
                    <a:pt x="1758" y="3293"/>
                  </a:lnTo>
                  <a:lnTo>
                    <a:pt x="1744" y="3254"/>
                  </a:lnTo>
                  <a:lnTo>
                    <a:pt x="1733" y="3216"/>
                  </a:lnTo>
                  <a:lnTo>
                    <a:pt x="1724" y="3176"/>
                  </a:lnTo>
                  <a:lnTo>
                    <a:pt x="1717" y="3137"/>
                  </a:lnTo>
                  <a:lnTo>
                    <a:pt x="1711" y="3097"/>
                  </a:lnTo>
                  <a:lnTo>
                    <a:pt x="1706" y="3058"/>
                  </a:lnTo>
                  <a:lnTo>
                    <a:pt x="1703" y="3017"/>
                  </a:lnTo>
                  <a:lnTo>
                    <a:pt x="1702" y="2975"/>
                  </a:lnTo>
                  <a:lnTo>
                    <a:pt x="1703" y="2935"/>
                  </a:lnTo>
                  <a:lnTo>
                    <a:pt x="1706" y="2893"/>
                  </a:lnTo>
                  <a:lnTo>
                    <a:pt x="1712" y="2851"/>
                  </a:lnTo>
                  <a:lnTo>
                    <a:pt x="1718" y="2809"/>
                  </a:lnTo>
                  <a:lnTo>
                    <a:pt x="1726" y="2767"/>
                  </a:lnTo>
                  <a:lnTo>
                    <a:pt x="1736" y="2724"/>
                  </a:lnTo>
                  <a:lnTo>
                    <a:pt x="1747" y="2681"/>
                  </a:lnTo>
                  <a:lnTo>
                    <a:pt x="1761" y="2638"/>
                  </a:lnTo>
                  <a:lnTo>
                    <a:pt x="1777" y="2594"/>
                  </a:lnTo>
                  <a:lnTo>
                    <a:pt x="1795" y="2550"/>
                  </a:lnTo>
                  <a:lnTo>
                    <a:pt x="1813" y="2507"/>
                  </a:lnTo>
                  <a:lnTo>
                    <a:pt x="1843" y="2454"/>
                  </a:lnTo>
                  <a:lnTo>
                    <a:pt x="1874" y="2404"/>
                  </a:lnTo>
                  <a:lnTo>
                    <a:pt x="1906" y="2354"/>
                  </a:lnTo>
                  <a:lnTo>
                    <a:pt x="1940" y="2306"/>
                  </a:lnTo>
                  <a:lnTo>
                    <a:pt x="1976" y="2260"/>
                  </a:lnTo>
                  <a:lnTo>
                    <a:pt x="2013" y="2215"/>
                  </a:lnTo>
                  <a:lnTo>
                    <a:pt x="2052" y="2171"/>
                  </a:lnTo>
                  <a:lnTo>
                    <a:pt x="2092" y="2129"/>
                  </a:lnTo>
                  <a:lnTo>
                    <a:pt x="2133" y="2088"/>
                  </a:lnTo>
                  <a:lnTo>
                    <a:pt x="2175" y="2048"/>
                  </a:lnTo>
                  <a:lnTo>
                    <a:pt x="2219" y="2011"/>
                  </a:lnTo>
                  <a:lnTo>
                    <a:pt x="2264" y="1973"/>
                  </a:lnTo>
                  <a:lnTo>
                    <a:pt x="2310" y="1938"/>
                  </a:lnTo>
                  <a:lnTo>
                    <a:pt x="2358" y="1904"/>
                  </a:lnTo>
                  <a:lnTo>
                    <a:pt x="2405" y="1871"/>
                  </a:lnTo>
                  <a:lnTo>
                    <a:pt x="2454" y="1839"/>
                  </a:lnTo>
                  <a:lnTo>
                    <a:pt x="2504" y="1809"/>
                  </a:lnTo>
                  <a:lnTo>
                    <a:pt x="2555" y="1780"/>
                  </a:lnTo>
                  <a:lnTo>
                    <a:pt x="2607" y="1752"/>
                  </a:lnTo>
                  <a:lnTo>
                    <a:pt x="2659" y="1725"/>
                  </a:lnTo>
                  <a:lnTo>
                    <a:pt x="2712" y="1699"/>
                  </a:lnTo>
                  <a:lnTo>
                    <a:pt x="2766" y="1675"/>
                  </a:lnTo>
                  <a:lnTo>
                    <a:pt x="2820" y="1651"/>
                  </a:lnTo>
                  <a:lnTo>
                    <a:pt x="2876" y="1629"/>
                  </a:lnTo>
                  <a:lnTo>
                    <a:pt x="2931" y="1607"/>
                  </a:lnTo>
                  <a:lnTo>
                    <a:pt x="2986" y="1587"/>
                  </a:lnTo>
                  <a:lnTo>
                    <a:pt x="3043" y="1568"/>
                  </a:lnTo>
                  <a:lnTo>
                    <a:pt x="3099" y="1550"/>
                  </a:lnTo>
                  <a:lnTo>
                    <a:pt x="3155" y="1533"/>
                  </a:lnTo>
                  <a:lnTo>
                    <a:pt x="3213" y="1516"/>
                  </a:lnTo>
                  <a:lnTo>
                    <a:pt x="3270" y="1502"/>
                  </a:lnTo>
                  <a:lnTo>
                    <a:pt x="3328" y="1487"/>
                  </a:lnTo>
                  <a:lnTo>
                    <a:pt x="3378" y="1477"/>
                  </a:lnTo>
                  <a:lnTo>
                    <a:pt x="3427" y="1467"/>
                  </a:lnTo>
                  <a:lnTo>
                    <a:pt x="3477" y="1458"/>
                  </a:lnTo>
                  <a:lnTo>
                    <a:pt x="3528" y="1451"/>
                  </a:lnTo>
                  <a:lnTo>
                    <a:pt x="3577" y="1442"/>
                  </a:lnTo>
                  <a:lnTo>
                    <a:pt x="3627" y="1436"/>
                  </a:lnTo>
                  <a:lnTo>
                    <a:pt x="3677" y="1430"/>
                  </a:lnTo>
                  <a:lnTo>
                    <a:pt x="3727" y="1425"/>
                  </a:lnTo>
                  <a:lnTo>
                    <a:pt x="3777" y="1420"/>
                  </a:lnTo>
                  <a:lnTo>
                    <a:pt x="3827" y="1416"/>
                  </a:lnTo>
                  <a:lnTo>
                    <a:pt x="3876" y="1413"/>
                  </a:lnTo>
                  <a:lnTo>
                    <a:pt x="3927" y="1411"/>
                  </a:lnTo>
                  <a:lnTo>
                    <a:pt x="3977" y="1410"/>
                  </a:lnTo>
                  <a:lnTo>
                    <a:pt x="4026" y="1409"/>
                  </a:lnTo>
                  <a:lnTo>
                    <a:pt x="4076" y="1409"/>
                  </a:lnTo>
                  <a:lnTo>
                    <a:pt x="4126" y="1410"/>
                  </a:lnTo>
                  <a:lnTo>
                    <a:pt x="4176" y="1412"/>
                  </a:lnTo>
                  <a:lnTo>
                    <a:pt x="4225" y="1414"/>
                  </a:lnTo>
                  <a:lnTo>
                    <a:pt x="4275" y="1417"/>
                  </a:lnTo>
                  <a:lnTo>
                    <a:pt x="4325" y="1422"/>
                  </a:lnTo>
                  <a:lnTo>
                    <a:pt x="4374" y="1427"/>
                  </a:lnTo>
                  <a:lnTo>
                    <a:pt x="4423" y="1433"/>
                  </a:lnTo>
                  <a:lnTo>
                    <a:pt x="4472" y="1439"/>
                  </a:lnTo>
                  <a:lnTo>
                    <a:pt x="4521" y="1447"/>
                  </a:lnTo>
                  <a:lnTo>
                    <a:pt x="4571" y="1455"/>
                  </a:lnTo>
                  <a:lnTo>
                    <a:pt x="4620" y="1464"/>
                  </a:lnTo>
                  <a:lnTo>
                    <a:pt x="4669" y="1475"/>
                  </a:lnTo>
                  <a:lnTo>
                    <a:pt x="4718" y="1485"/>
                  </a:lnTo>
                  <a:lnTo>
                    <a:pt x="4767" y="1498"/>
                  </a:lnTo>
                  <a:lnTo>
                    <a:pt x="4816" y="1510"/>
                  </a:lnTo>
                  <a:lnTo>
                    <a:pt x="4864" y="1524"/>
                  </a:lnTo>
                  <a:lnTo>
                    <a:pt x="4912" y="1537"/>
                  </a:lnTo>
                  <a:lnTo>
                    <a:pt x="4927" y="1532"/>
                  </a:lnTo>
                  <a:lnTo>
                    <a:pt x="4940" y="1526"/>
                  </a:lnTo>
                  <a:lnTo>
                    <a:pt x="4953" y="1519"/>
                  </a:lnTo>
                  <a:lnTo>
                    <a:pt x="4968" y="1513"/>
                  </a:lnTo>
                  <a:lnTo>
                    <a:pt x="4981" y="1508"/>
                  </a:lnTo>
                  <a:lnTo>
                    <a:pt x="4995" y="1502"/>
                  </a:lnTo>
                  <a:lnTo>
                    <a:pt x="5009" y="1495"/>
                  </a:lnTo>
                  <a:lnTo>
                    <a:pt x="5023" y="1490"/>
                  </a:lnTo>
                  <a:lnTo>
                    <a:pt x="5070" y="1401"/>
                  </a:lnTo>
                  <a:lnTo>
                    <a:pt x="5121" y="1315"/>
                  </a:lnTo>
                  <a:lnTo>
                    <a:pt x="5177" y="1232"/>
                  </a:lnTo>
                  <a:lnTo>
                    <a:pt x="5237" y="1153"/>
                  </a:lnTo>
                  <a:lnTo>
                    <a:pt x="5301" y="1077"/>
                  </a:lnTo>
                  <a:lnTo>
                    <a:pt x="5367" y="1003"/>
                  </a:lnTo>
                  <a:lnTo>
                    <a:pt x="5438" y="932"/>
                  </a:lnTo>
                  <a:lnTo>
                    <a:pt x="5513" y="865"/>
                  </a:lnTo>
                  <a:lnTo>
                    <a:pt x="5590" y="801"/>
                  </a:lnTo>
                  <a:lnTo>
                    <a:pt x="5670" y="738"/>
                  </a:lnTo>
                  <a:lnTo>
                    <a:pt x="5752" y="680"/>
                  </a:lnTo>
                  <a:lnTo>
                    <a:pt x="5838" y="624"/>
                  </a:lnTo>
                  <a:lnTo>
                    <a:pt x="5925" y="571"/>
                  </a:lnTo>
                  <a:lnTo>
                    <a:pt x="6015" y="520"/>
                  </a:lnTo>
                  <a:lnTo>
                    <a:pt x="6107" y="472"/>
                  </a:lnTo>
                  <a:lnTo>
                    <a:pt x="6200" y="426"/>
                  </a:lnTo>
                  <a:lnTo>
                    <a:pt x="6295" y="383"/>
                  </a:lnTo>
                  <a:lnTo>
                    <a:pt x="6391" y="343"/>
                  </a:lnTo>
                  <a:lnTo>
                    <a:pt x="6488" y="305"/>
                  </a:lnTo>
                  <a:lnTo>
                    <a:pt x="6587" y="269"/>
                  </a:lnTo>
                  <a:lnTo>
                    <a:pt x="6686" y="235"/>
                  </a:lnTo>
                  <a:lnTo>
                    <a:pt x="6787" y="205"/>
                  </a:lnTo>
                  <a:lnTo>
                    <a:pt x="6886" y="176"/>
                  </a:lnTo>
                  <a:lnTo>
                    <a:pt x="6988" y="150"/>
                  </a:lnTo>
                  <a:lnTo>
                    <a:pt x="7088" y="126"/>
                  </a:lnTo>
                  <a:lnTo>
                    <a:pt x="7189" y="103"/>
                  </a:lnTo>
                  <a:lnTo>
                    <a:pt x="7289" y="83"/>
                  </a:lnTo>
                  <a:lnTo>
                    <a:pt x="7389" y="66"/>
                  </a:lnTo>
                  <a:lnTo>
                    <a:pt x="7488" y="50"/>
                  </a:lnTo>
                  <a:lnTo>
                    <a:pt x="7587" y="36"/>
                  </a:lnTo>
                  <a:lnTo>
                    <a:pt x="7683" y="24"/>
                  </a:lnTo>
                  <a:lnTo>
                    <a:pt x="7779" y="14"/>
                  </a:lnTo>
                  <a:lnTo>
                    <a:pt x="7866" y="8"/>
                  </a:lnTo>
                  <a:lnTo>
                    <a:pt x="7952" y="4"/>
                  </a:lnTo>
                  <a:lnTo>
                    <a:pt x="8038" y="2"/>
                  </a:lnTo>
                  <a:lnTo>
                    <a:pt x="8125" y="0"/>
                  </a:lnTo>
                  <a:lnTo>
                    <a:pt x="8212" y="0"/>
                  </a:lnTo>
                  <a:lnTo>
                    <a:pt x="8299" y="1"/>
                  </a:lnTo>
                  <a:lnTo>
                    <a:pt x="8387" y="4"/>
                  </a:lnTo>
                  <a:lnTo>
                    <a:pt x="8475" y="8"/>
                  </a:lnTo>
                  <a:lnTo>
                    <a:pt x="8562" y="15"/>
                  </a:lnTo>
                  <a:lnTo>
                    <a:pt x="8650" y="22"/>
                  </a:lnTo>
                  <a:lnTo>
                    <a:pt x="8737" y="31"/>
                  </a:lnTo>
                  <a:lnTo>
                    <a:pt x="8824" y="42"/>
                  </a:lnTo>
                  <a:lnTo>
                    <a:pt x="8912" y="55"/>
                  </a:lnTo>
                  <a:lnTo>
                    <a:pt x="8998" y="69"/>
                  </a:lnTo>
                  <a:lnTo>
                    <a:pt x="9084" y="85"/>
                  </a:lnTo>
                  <a:lnTo>
                    <a:pt x="9170" y="104"/>
                  </a:lnTo>
                  <a:lnTo>
                    <a:pt x="9255" y="124"/>
                  </a:lnTo>
                  <a:lnTo>
                    <a:pt x="9339" y="146"/>
                  </a:lnTo>
                  <a:lnTo>
                    <a:pt x="9422" y="171"/>
                  </a:lnTo>
                  <a:lnTo>
                    <a:pt x="9505" y="197"/>
                  </a:lnTo>
                  <a:lnTo>
                    <a:pt x="9587" y="225"/>
                  </a:lnTo>
                  <a:lnTo>
                    <a:pt x="9668" y="256"/>
                  </a:lnTo>
                  <a:lnTo>
                    <a:pt x="9748" y="290"/>
                  </a:lnTo>
                  <a:lnTo>
                    <a:pt x="9827" y="324"/>
                  </a:lnTo>
                  <a:lnTo>
                    <a:pt x="9904" y="361"/>
                  </a:lnTo>
                  <a:lnTo>
                    <a:pt x="9981" y="402"/>
                  </a:lnTo>
                  <a:lnTo>
                    <a:pt x="10056" y="445"/>
                  </a:lnTo>
                  <a:lnTo>
                    <a:pt x="10130" y="489"/>
                  </a:lnTo>
                  <a:lnTo>
                    <a:pt x="10202" y="536"/>
                  </a:lnTo>
                  <a:lnTo>
                    <a:pt x="10272" y="586"/>
                  </a:lnTo>
                  <a:lnTo>
                    <a:pt x="10341" y="639"/>
                  </a:lnTo>
                  <a:lnTo>
                    <a:pt x="10409" y="695"/>
                  </a:lnTo>
                  <a:lnTo>
                    <a:pt x="10490" y="661"/>
                  </a:lnTo>
                  <a:lnTo>
                    <a:pt x="10572" y="633"/>
                  </a:lnTo>
                  <a:lnTo>
                    <a:pt x="10655" y="609"/>
                  </a:lnTo>
                  <a:lnTo>
                    <a:pt x="10739" y="589"/>
                  </a:lnTo>
                  <a:lnTo>
                    <a:pt x="10824" y="575"/>
                  </a:lnTo>
                  <a:lnTo>
                    <a:pt x="10910" y="563"/>
                  </a:lnTo>
                  <a:lnTo>
                    <a:pt x="10996" y="557"/>
                  </a:lnTo>
                  <a:lnTo>
                    <a:pt x="11083" y="554"/>
                  </a:lnTo>
                  <a:lnTo>
                    <a:pt x="11170" y="555"/>
                  </a:lnTo>
                  <a:lnTo>
                    <a:pt x="11256" y="559"/>
                  </a:lnTo>
                  <a:lnTo>
                    <a:pt x="11343" y="569"/>
                  </a:lnTo>
                  <a:lnTo>
                    <a:pt x="11429" y="581"/>
                  </a:lnTo>
                  <a:lnTo>
                    <a:pt x="11515" y="597"/>
                  </a:lnTo>
                  <a:lnTo>
                    <a:pt x="11600" y="615"/>
                  </a:lnTo>
                  <a:lnTo>
                    <a:pt x="11686" y="638"/>
                  </a:lnTo>
                  <a:lnTo>
                    <a:pt x="11770" y="664"/>
                  </a:lnTo>
                  <a:lnTo>
                    <a:pt x="11853" y="694"/>
                  </a:lnTo>
                  <a:lnTo>
                    <a:pt x="11936" y="726"/>
                  </a:lnTo>
                  <a:lnTo>
                    <a:pt x="12016" y="761"/>
                  </a:lnTo>
                  <a:lnTo>
                    <a:pt x="12096" y="800"/>
                  </a:lnTo>
                  <a:lnTo>
                    <a:pt x="12174" y="840"/>
                  </a:lnTo>
                  <a:lnTo>
                    <a:pt x="12251" y="884"/>
                  </a:lnTo>
                  <a:lnTo>
                    <a:pt x="12325" y="931"/>
                  </a:lnTo>
                  <a:lnTo>
                    <a:pt x="12398" y="980"/>
                  </a:lnTo>
                  <a:lnTo>
                    <a:pt x="12469" y="1031"/>
                  </a:lnTo>
                  <a:lnTo>
                    <a:pt x="12537" y="1085"/>
                  </a:lnTo>
                  <a:lnTo>
                    <a:pt x="12603" y="1141"/>
                  </a:lnTo>
                  <a:lnTo>
                    <a:pt x="12667" y="1200"/>
                  </a:lnTo>
                  <a:lnTo>
                    <a:pt x="12727" y="1261"/>
                  </a:lnTo>
                  <a:lnTo>
                    <a:pt x="12786" y="1324"/>
                  </a:lnTo>
                  <a:lnTo>
                    <a:pt x="12841" y="1388"/>
                  </a:lnTo>
                  <a:lnTo>
                    <a:pt x="12894" y="145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3112920" y="4867200"/>
            <a:ext cx="81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2381400" y="4648320"/>
            <a:ext cx="806400" cy="396720"/>
            <a:chOff x="2381400" y="4648320"/>
            <a:chExt cx="806400" cy="396720"/>
          </a:xfrm>
        </p:grpSpPr>
        <p:sp>
          <p:nvSpPr>
            <p:cNvPr id="1156" name=""/>
            <p:cNvSpPr/>
            <p:nvPr/>
          </p:nvSpPr>
          <p:spPr>
            <a:xfrm>
              <a:off x="2381400" y="4759200"/>
              <a:ext cx="806400" cy="28584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381400" y="4648320"/>
              <a:ext cx="804240" cy="21816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794680" y="4681800"/>
              <a:ext cx="262800" cy="691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794680" y="4681800"/>
              <a:ext cx="262800" cy="691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507040" y="4761360"/>
              <a:ext cx="262800" cy="734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507040" y="4761360"/>
              <a:ext cx="262800" cy="734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520360" y="4677840"/>
              <a:ext cx="262800" cy="691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520360" y="4677840"/>
              <a:ext cx="262800" cy="691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83520" y="4769280"/>
              <a:ext cx="262800" cy="694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783520" y="4769280"/>
              <a:ext cx="262800" cy="694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99000" y="4685760"/>
              <a:ext cx="260280" cy="691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799000" y="4685760"/>
              <a:ext cx="260280" cy="691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511720" y="4765320"/>
              <a:ext cx="262800" cy="734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511720" y="4765320"/>
              <a:ext cx="262800" cy="7344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25040" y="4681800"/>
              <a:ext cx="262800" cy="691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525040" y="4681800"/>
              <a:ext cx="262800" cy="691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787840" y="4773240"/>
              <a:ext cx="262800" cy="694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787840" y="4773240"/>
              <a:ext cx="262800" cy="694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5566320" y="396252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户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457880" y="5452920"/>
            <a:ext cx="109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号调制设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396252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备间接口线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270160" y="5454720"/>
            <a:ext cx="109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边缘设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844320" y="468648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ill Sans"/>
              </a:rPr>
              <a:t>服务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506840" y="4867200"/>
            <a:ext cx="1363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2703600" y="5027400"/>
            <a:ext cx="145800" cy="42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 flipV="1">
            <a:off x="4527360" y="4973400"/>
            <a:ext cx="145800" cy="47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352680" y="4343400"/>
            <a:ext cx="15408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5621040" y="4281480"/>
            <a:ext cx="73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3846960" y="4724280"/>
            <a:ext cx="952200" cy="304920"/>
            <a:chOff x="3846960" y="4724280"/>
            <a:chExt cx="952200" cy="304920"/>
          </a:xfrm>
        </p:grpSpPr>
        <p:sp>
          <p:nvSpPr>
            <p:cNvPr id="1185" name=""/>
            <p:cNvSpPr/>
            <p:nvPr/>
          </p:nvSpPr>
          <p:spPr>
            <a:xfrm flipH="1">
              <a:off x="3846600" y="4745880"/>
              <a:ext cx="214200" cy="263160"/>
            </a:xfrm>
            <a:custGeom>
              <a:avLst/>
              <a:gdLst/>
              <a:ahLst/>
              <a:rect l="l" t="t" r="r" b="b"/>
              <a:pathLst>
                <a:path w="131" h="168">
                  <a:moveTo>
                    <a:pt x="0" y="168"/>
                  </a:moveTo>
                  <a:cubicBezTo>
                    <a:pt x="42" y="129"/>
                    <a:pt x="85" y="91"/>
                    <a:pt x="127" y="52"/>
                  </a:cubicBezTo>
                  <a:cubicBezTo>
                    <a:pt x="128" y="52"/>
                    <a:pt x="129" y="48"/>
                    <a:pt x="130" y="46"/>
                  </a:cubicBezTo>
                  <a:cubicBezTo>
                    <a:pt x="130" y="45"/>
                    <a:pt x="131" y="43"/>
                    <a:pt x="130" y="40"/>
                  </a:cubicBezTo>
                  <a:lnTo>
                    <a:pt x="130" y="0"/>
                  </a:lnTo>
                  <a:lnTo>
                    <a:pt x="3" y="97"/>
                  </a:lnTo>
                  <a:lnTo>
                    <a:pt x="0" y="168"/>
                  </a:lnTo>
                </a:path>
              </a:pathLst>
            </a:custGeom>
            <a:solidFill>
              <a:srgbClr val="8f9475"/>
            </a:solidFill>
            <a:ln w="0">
              <a:solidFill>
                <a:srgbClr val="5157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3846960" y="4724280"/>
              <a:ext cx="264960" cy="168840"/>
            </a:xfrm>
            <a:custGeom>
              <a:avLst/>
              <a:gdLst/>
              <a:ahLst/>
              <a:rect l="l" t="t" r="r" b="b"/>
              <a:pathLst>
                <a:path w="162" h="108">
                  <a:moveTo>
                    <a:pt x="0" y="82"/>
                  </a:moveTo>
                  <a:lnTo>
                    <a:pt x="40" y="108"/>
                  </a:lnTo>
                  <a:lnTo>
                    <a:pt x="161" y="14"/>
                  </a:lnTo>
                  <a:cubicBezTo>
                    <a:pt x="161" y="14"/>
                    <a:pt x="162" y="8"/>
                    <a:pt x="158" y="4"/>
                  </a:cubicBezTo>
                  <a:cubicBezTo>
                    <a:pt x="153" y="0"/>
                    <a:pt x="147" y="1"/>
                    <a:pt x="147" y="1"/>
                  </a:cubicBezTo>
                  <a:lnTo>
                    <a:pt x="0" y="82"/>
                  </a:lnTo>
                </a:path>
              </a:pathLst>
            </a:custGeom>
            <a:solidFill>
              <a:srgbClr val="d3d7ae"/>
            </a:solidFill>
            <a:ln w="0">
              <a:solidFill>
                <a:srgbClr val="5157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870720" y="4725000"/>
              <a:ext cx="899280" cy="137880"/>
            </a:xfrm>
            <a:custGeom>
              <a:avLst/>
              <a:gdLst/>
              <a:ahLst/>
              <a:rect l="l" t="t" r="r" b="b"/>
              <a:pathLst>
                <a:path w="548" h="88">
                  <a:moveTo>
                    <a:pt x="0" y="88"/>
                  </a:moveTo>
                  <a:lnTo>
                    <a:pt x="243" y="0"/>
                  </a:lnTo>
                  <a:lnTo>
                    <a:pt x="548" y="0"/>
                  </a:lnTo>
                  <a:lnTo>
                    <a:pt x="407" y="83"/>
                  </a:lnTo>
                  <a:lnTo>
                    <a:pt x="0" y="88"/>
                  </a:lnTo>
                </a:path>
              </a:pathLst>
            </a:custGeom>
            <a:solidFill>
              <a:srgbClr val="b4b99d"/>
            </a:solidFill>
            <a:ln w="0">
              <a:solidFill>
                <a:srgbClr val="5157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4051080" y="4860360"/>
              <a:ext cx="739800" cy="160560"/>
            </a:xfrm>
            <a:custGeom>
              <a:avLst/>
              <a:gdLst/>
              <a:ahLst/>
              <a:rect l="l" t="t" r="r" b="b"/>
              <a:pathLst>
                <a:path w="451" h="103">
                  <a:moveTo>
                    <a:pt x="39" y="0"/>
                  </a:moveTo>
                  <a:lnTo>
                    <a:pt x="412" y="0"/>
                  </a:lnTo>
                  <a:cubicBezTo>
                    <a:pt x="433" y="0"/>
                    <a:pt x="451" y="13"/>
                    <a:pt x="451" y="29"/>
                  </a:cubicBezTo>
                  <a:lnTo>
                    <a:pt x="451" y="74"/>
                  </a:lnTo>
                  <a:cubicBezTo>
                    <a:pt x="451" y="90"/>
                    <a:pt x="433" y="103"/>
                    <a:pt x="412" y="103"/>
                  </a:cubicBezTo>
                  <a:lnTo>
                    <a:pt x="39" y="103"/>
                  </a:lnTo>
                  <a:cubicBezTo>
                    <a:pt x="18" y="103"/>
                    <a:pt x="0" y="90"/>
                    <a:pt x="0" y="74"/>
                  </a:cubicBezTo>
                  <a:lnTo>
                    <a:pt x="0" y="29"/>
                  </a:lnTo>
                  <a:cubicBezTo>
                    <a:pt x="0" y="13"/>
                    <a:pt x="18" y="0"/>
                    <a:pt x="39" y="0"/>
                  </a:cubicBezTo>
                </a:path>
              </a:pathLst>
            </a:custGeom>
            <a:solidFill>
              <a:srgbClr val="7d8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4114800" y="4852080"/>
              <a:ext cx="612000" cy="15120"/>
            </a:xfrm>
            <a:custGeom>
              <a:avLst/>
              <a:gdLst/>
              <a:ahLst/>
              <a:rect l="l" t="t" r="r" b="b"/>
              <a:pathLst>
                <a:path w="962" h="26">
                  <a:moveTo>
                    <a:pt x="962" y="26"/>
                  </a:moveTo>
                  <a:lnTo>
                    <a:pt x="962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962" y="26"/>
                  </a:lnTo>
                  <a:lnTo>
                    <a:pt x="962" y="26"/>
                  </a:lnTo>
                  <a:close/>
                </a:path>
              </a:pathLst>
            </a:cu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4043520" y="4852080"/>
              <a:ext cx="71280" cy="53280"/>
            </a:xfrm>
            <a:custGeom>
              <a:avLst/>
              <a:gdLst/>
              <a:ahLst/>
              <a:rect l="l" t="t" r="r" b="b"/>
              <a:pathLst>
                <a:path w="113" h="89">
                  <a:moveTo>
                    <a:pt x="113" y="89"/>
                  </a:moveTo>
                  <a:lnTo>
                    <a:pt x="113" y="89"/>
                  </a:lnTo>
                  <a:lnTo>
                    <a:pt x="110" y="71"/>
                  </a:lnTo>
                  <a:lnTo>
                    <a:pt x="103" y="55"/>
                  </a:lnTo>
                  <a:lnTo>
                    <a:pt x="92" y="39"/>
                  </a:lnTo>
                  <a:lnTo>
                    <a:pt x="79" y="26"/>
                  </a:lnTo>
                  <a:lnTo>
                    <a:pt x="61" y="16"/>
                  </a:lnTo>
                  <a:lnTo>
                    <a:pt x="43" y="8"/>
                  </a:lnTo>
                  <a:lnTo>
                    <a:pt x="23" y="3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8" y="29"/>
                  </a:lnTo>
                  <a:lnTo>
                    <a:pt x="36" y="34"/>
                  </a:lnTo>
                  <a:lnTo>
                    <a:pt x="51" y="39"/>
                  </a:lnTo>
                  <a:lnTo>
                    <a:pt x="64" y="47"/>
                  </a:lnTo>
                  <a:lnTo>
                    <a:pt x="74" y="58"/>
                  </a:lnTo>
                  <a:lnTo>
                    <a:pt x="82" y="68"/>
                  </a:lnTo>
                  <a:lnTo>
                    <a:pt x="85" y="79"/>
                  </a:lnTo>
                  <a:lnTo>
                    <a:pt x="87" y="89"/>
                  </a:lnTo>
                  <a:lnTo>
                    <a:pt x="87" y="89"/>
                  </a:lnTo>
                  <a:lnTo>
                    <a:pt x="113" y="89"/>
                  </a:lnTo>
                  <a:close/>
                </a:path>
              </a:pathLst>
            </a:cu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4043520" y="4905720"/>
              <a:ext cx="16560" cy="69840"/>
            </a:xfrm>
            <a:custGeom>
              <a:avLst/>
              <a:gdLst/>
              <a:ahLst/>
              <a:rect l="l" t="t" r="r" b="b"/>
              <a:pathLst>
                <a:path w="26" h="118">
                  <a:moveTo>
                    <a:pt x="0" y="118"/>
                  </a:moveTo>
                  <a:lnTo>
                    <a:pt x="26" y="118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4043520" y="4975560"/>
              <a:ext cx="71280" cy="53280"/>
            </a:xfrm>
            <a:custGeom>
              <a:avLst/>
              <a:gdLst/>
              <a:ahLst/>
              <a:rect l="l" t="t" r="r" b="b"/>
              <a:pathLst>
                <a:path w="113" h="90">
                  <a:moveTo>
                    <a:pt x="0" y="90"/>
                  </a:moveTo>
                  <a:lnTo>
                    <a:pt x="0" y="90"/>
                  </a:lnTo>
                  <a:lnTo>
                    <a:pt x="23" y="87"/>
                  </a:lnTo>
                  <a:lnTo>
                    <a:pt x="43" y="82"/>
                  </a:lnTo>
                  <a:lnTo>
                    <a:pt x="61" y="74"/>
                  </a:lnTo>
                  <a:lnTo>
                    <a:pt x="79" y="63"/>
                  </a:lnTo>
                  <a:lnTo>
                    <a:pt x="92" y="50"/>
                  </a:lnTo>
                  <a:lnTo>
                    <a:pt x="103" y="35"/>
                  </a:lnTo>
                  <a:lnTo>
                    <a:pt x="110" y="19"/>
                  </a:lnTo>
                  <a:lnTo>
                    <a:pt x="113" y="0"/>
                  </a:lnTo>
                  <a:lnTo>
                    <a:pt x="87" y="0"/>
                  </a:lnTo>
                  <a:lnTo>
                    <a:pt x="85" y="11"/>
                  </a:lnTo>
                  <a:lnTo>
                    <a:pt x="82" y="21"/>
                  </a:lnTo>
                  <a:lnTo>
                    <a:pt x="74" y="32"/>
                  </a:lnTo>
                  <a:lnTo>
                    <a:pt x="64" y="42"/>
                  </a:lnTo>
                  <a:lnTo>
                    <a:pt x="51" y="50"/>
                  </a:lnTo>
                  <a:lnTo>
                    <a:pt x="36" y="56"/>
                  </a:lnTo>
                  <a:lnTo>
                    <a:pt x="18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4114800" y="5011920"/>
              <a:ext cx="612000" cy="17280"/>
            </a:xfrm>
            <a:custGeom>
              <a:avLst/>
              <a:gdLst/>
              <a:ahLst/>
              <a:rect l="l" t="t" r="r" b="b"/>
              <a:pathLst>
                <a:path w="962" h="29">
                  <a:moveTo>
                    <a:pt x="0" y="0"/>
                  </a:moveTo>
                  <a:lnTo>
                    <a:pt x="0" y="29"/>
                  </a:lnTo>
                  <a:lnTo>
                    <a:pt x="962" y="29"/>
                  </a:lnTo>
                  <a:lnTo>
                    <a:pt x="96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4726440" y="4975560"/>
              <a:ext cx="72360" cy="53280"/>
            </a:xfrm>
            <a:custGeom>
              <a:avLst/>
              <a:gdLst/>
              <a:ahLst/>
              <a:rect l="l" t="t" r="r" b="b"/>
              <a:pathLst>
                <a:path w="113" h="90">
                  <a:moveTo>
                    <a:pt x="0" y="0"/>
                  </a:moveTo>
                  <a:lnTo>
                    <a:pt x="0" y="0"/>
                  </a:lnTo>
                  <a:lnTo>
                    <a:pt x="2" y="19"/>
                  </a:lnTo>
                  <a:lnTo>
                    <a:pt x="10" y="35"/>
                  </a:lnTo>
                  <a:lnTo>
                    <a:pt x="20" y="50"/>
                  </a:lnTo>
                  <a:lnTo>
                    <a:pt x="36" y="63"/>
                  </a:lnTo>
                  <a:lnTo>
                    <a:pt x="51" y="74"/>
                  </a:lnTo>
                  <a:lnTo>
                    <a:pt x="72" y="82"/>
                  </a:lnTo>
                  <a:lnTo>
                    <a:pt x="92" y="87"/>
                  </a:lnTo>
                  <a:lnTo>
                    <a:pt x="113" y="90"/>
                  </a:lnTo>
                  <a:lnTo>
                    <a:pt x="113" y="61"/>
                  </a:lnTo>
                  <a:lnTo>
                    <a:pt x="95" y="61"/>
                  </a:lnTo>
                  <a:lnTo>
                    <a:pt x="80" y="56"/>
                  </a:lnTo>
                  <a:lnTo>
                    <a:pt x="64" y="50"/>
                  </a:lnTo>
                  <a:lnTo>
                    <a:pt x="51" y="42"/>
                  </a:lnTo>
                  <a:lnTo>
                    <a:pt x="41" y="32"/>
                  </a:lnTo>
                  <a:lnTo>
                    <a:pt x="33" y="21"/>
                  </a:lnTo>
                  <a:lnTo>
                    <a:pt x="28" y="1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4781880" y="4905720"/>
              <a:ext cx="17280" cy="6984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0"/>
                  </a:moveTo>
                  <a:lnTo>
                    <a:pt x="0" y="0"/>
                  </a:lnTo>
                  <a:lnTo>
                    <a:pt x="0" y="118"/>
                  </a:lnTo>
                  <a:lnTo>
                    <a:pt x="28" y="118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4726440" y="4852080"/>
              <a:ext cx="72360" cy="53280"/>
            </a:xfrm>
            <a:custGeom>
              <a:avLst/>
              <a:gdLst/>
              <a:ahLst/>
              <a:rect l="l" t="t" r="r" b="b"/>
              <a:pathLst>
                <a:path w="113" h="89">
                  <a:moveTo>
                    <a:pt x="113" y="0"/>
                  </a:moveTo>
                  <a:lnTo>
                    <a:pt x="113" y="0"/>
                  </a:lnTo>
                  <a:lnTo>
                    <a:pt x="92" y="3"/>
                  </a:lnTo>
                  <a:lnTo>
                    <a:pt x="72" y="8"/>
                  </a:lnTo>
                  <a:lnTo>
                    <a:pt x="51" y="16"/>
                  </a:lnTo>
                  <a:lnTo>
                    <a:pt x="36" y="26"/>
                  </a:lnTo>
                  <a:lnTo>
                    <a:pt x="20" y="39"/>
                  </a:lnTo>
                  <a:lnTo>
                    <a:pt x="10" y="55"/>
                  </a:lnTo>
                  <a:lnTo>
                    <a:pt x="2" y="71"/>
                  </a:lnTo>
                  <a:lnTo>
                    <a:pt x="0" y="89"/>
                  </a:lnTo>
                  <a:lnTo>
                    <a:pt x="28" y="89"/>
                  </a:lnTo>
                  <a:lnTo>
                    <a:pt x="28" y="79"/>
                  </a:lnTo>
                  <a:lnTo>
                    <a:pt x="33" y="68"/>
                  </a:lnTo>
                  <a:lnTo>
                    <a:pt x="41" y="58"/>
                  </a:lnTo>
                  <a:lnTo>
                    <a:pt x="51" y="47"/>
                  </a:lnTo>
                  <a:lnTo>
                    <a:pt x="64" y="39"/>
                  </a:lnTo>
                  <a:lnTo>
                    <a:pt x="80" y="34"/>
                  </a:lnTo>
                  <a:lnTo>
                    <a:pt x="95" y="29"/>
                  </a:lnTo>
                  <a:lnTo>
                    <a:pt x="113" y="26"/>
                  </a:lnTo>
                  <a:lnTo>
                    <a:pt x="113" y="26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4637520" y="4886640"/>
              <a:ext cx="95040" cy="7920"/>
            </a:xfrm>
            <a:prstGeom prst="rect">
              <a:avLst/>
            </a:pr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4637520" y="4894920"/>
              <a:ext cx="95040" cy="7200"/>
            </a:xfrm>
            <a:prstGeom prst="rect">
              <a:avLst/>
            </a:prstGeom>
            <a:solidFill>
              <a:srgbClr val="b4b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4635360" y="4912200"/>
              <a:ext cx="96840" cy="5400"/>
            </a:xfrm>
            <a:prstGeom prst="rect">
              <a:avLst/>
            </a:pr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4635360" y="4919400"/>
              <a:ext cx="96840" cy="7920"/>
            </a:xfrm>
            <a:prstGeom prst="rect">
              <a:avLst/>
            </a:prstGeom>
            <a:solidFill>
              <a:srgbClr val="b4b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4107600" y="4886640"/>
              <a:ext cx="394200" cy="7920"/>
            </a:xfrm>
            <a:prstGeom prst="rect">
              <a:avLst/>
            </a:pr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4107600" y="4895640"/>
              <a:ext cx="394200" cy="7920"/>
            </a:xfrm>
            <a:prstGeom prst="rect">
              <a:avLst/>
            </a:prstGeom>
            <a:solidFill>
              <a:srgbClr val="b4b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4107600" y="4912200"/>
              <a:ext cx="394200" cy="7200"/>
            </a:xfrm>
            <a:prstGeom prst="rect">
              <a:avLst/>
            </a:prstGeom>
            <a:solidFill>
              <a:srgbClr val="515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4107600" y="4921200"/>
              <a:ext cx="394200" cy="7920"/>
            </a:xfrm>
            <a:prstGeom prst="rect">
              <a:avLst/>
            </a:prstGeom>
            <a:solidFill>
              <a:srgbClr val="b4b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用户线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低速线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ISDN B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使用两芯的双绞线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RJ-1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接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速线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1 / CE1 / ISDN P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使用一对同轴电缆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N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接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使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芯双绞线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RJ4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接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高速线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光纤链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以太网常见缆线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22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同轴电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双绞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非屏蔽双绞线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U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屏蔽双绞线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光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无线连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5621400" y="3078000"/>
            <a:ext cx="1904760" cy="8272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5584680" y="4211640"/>
            <a:ext cx="1943280" cy="84312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3"/>
          <a:stretch/>
        </p:blipFill>
        <p:spPr>
          <a:xfrm>
            <a:off x="5562720" y="5334120"/>
            <a:ext cx="2286000" cy="99360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4"/>
          <a:stretch/>
        </p:blipFill>
        <p:spPr>
          <a:xfrm>
            <a:off x="5638680" y="1905120"/>
            <a:ext cx="20638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同轴电缆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Coaxial C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串绕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衰减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终结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BN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接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粗缆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00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细缆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85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5684760" y="2362320"/>
            <a:ext cx="208764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双绞线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Twisted-Pai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根铜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U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5562720" y="2205000"/>
            <a:ext cx="1904760" cy="82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1" name=""/>
          <p:cNvGraphicFramePr/>
          <p:nvPr/>
        </p:nvGraphicFramePr>
        <p:xfrm>
          <a:off x="5029200" y="3681360"/>
          <a:ext cx="2743200" cy="23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3681360"/>
                    <a:ext cx="274320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双绞线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双绞的原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RJ-4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接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0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线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工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EIA/TIA 568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直连线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Through Lin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523880" y="2133720"/>
          <a:ext cx="6019920" cy="37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6019920" cy="37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级连线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更改线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线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橙白，橙，绿白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蓝，蓝白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棕白，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绿白，绿，橙白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蓝，蓝白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橙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棕白，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2438280" y="411480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352680" y="4114800"/>
            <a:ext cx="3353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2514600" y="4114800"/>
            <a:ext cx="1752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3352320" y="4114800"/>
            <a:ext cx="3505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双绞线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异种接口间互连用直连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同种接口间互连用级连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6T02:21:05Z</dcterms:created>
  <dc:creator>ccn</dc:creator>
  <dc:description/>
  <dc:language>en-US</dc:language>
  <cp:lastModifiedBy>软件仓库</cp:lastModifiedBy>
  <dcterms:modified xsi:type="dcterms:W3CDTF">2005-05-17T02:44:07Z</dcterms:modified>
  <cp:revision>6</cp:revision>
  <dc:subject/>
  <dc:title>第二章 常见网络电缆</dc:title>
</cp:coreProperties>
</file>