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png" ContentType="image/png"/>
  <Override PartName="/ppt/media/image6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B940-93EA-4092-A59D-8B2BE981D1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LI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串行线路接口协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忘记了，为什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pcp,ipxcp,nc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介于链路层和网络层之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频率范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6CA-7220-4A37-BE52-3852BE34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75B-BCF4-45D3-8EEC-A0F1F3D8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DA7-6E23-4CD0-943E-DEA2E229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1AE-2BF5-4AB7-9296-8791BC52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948B-D25F-47AE-9921-2C4B19FD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F48F-5007-463A-89BA-69CBEE38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9E2D-C557-4284-A453-740A7A85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6366-2476-4A76-BCC1-32D8C10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0E51-E5E8-4A57-A861-49320EB1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981F-DB64-4924-91F8-F075FB8C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F115-734E-4BF4-8F6F-5174D34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FDD-5F36-4638-88D4-2C59162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602A-8CD5-4869-84E1-80F78A9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CC79-7C18-4041-A364-E15CF649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E0D1-0B3F-4F35-82BE-BE3744E5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7D8-13A3-4715-9CBB-BCF01C12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04C0-83AD-4910-8D22-C1B45FDD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CDE-A468-4F68-A0A4-3329D094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E98-FCA4-4860-B5DC-68A53607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2C6-E040-468C-8777-283AEA6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EFF-76BA-498F-AD53-AA8A0E16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216-29DD-425A-98F4-DB70C2B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4C3-0D43-4AAF-B4C1-174099D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894-DB50-4B31-8D5F-8B4E049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245-A60D-40E6-B0DC-932F20AECE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CF5D-084F-41D9-873A-322717C3426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3.png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3.png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3.png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.png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2.wmf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2.wmf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广域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证实验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SDN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业务实现方便，提供的业务种类丰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户使用非常灵活便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适宜的性价比，适合个人家庭用户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OHO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户接入因特网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igital Dat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字数据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Digital Data Network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利用数字信道传输数据信号的数据传输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组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字电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D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节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控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用户环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7" name=""/>
          <p:cNvGrpSpPr/>
          <p:nvPr/>
        </p:nvGrpSpPr>
        <p:grpSpPr>
          <a:xfrm>
            <a:off x="534960" y="2163600"/>
            <a:ext cx="7749000" cy="4264200"/>
            <a:chOff x="534960" y="2163600"/>
            <a:chExt cx="7749000" cy="4264200"/>
          </a:xfrm>
        </p:grpSpPr>
        <p:sp>
          <p:nvSpPr>
            <p:cNvPr id="1828" name=""/>
            <p:cNvSpPr/>
            <p:nvPr/>
          </p:nvSpPr>
          <p:spPr>
            <a:xfrm>
              <a:off x="775080" y="21636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特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920880" y="2693880"/>
              <a:ext cx="109440" cy="158760"/>
            </a:xfrm>
            <a:custGeom>
              <a:avLst/>
              <a:gdLst/>
              <a:ahLst/>
              <a:rect l="l" t="t" r="r" b="b"/>
              <a:pathLst>
                <a:path w="207" h="301">
                  <a:moveTo>
                    <a:pt x="118" y="301"/>
                  </a:moveTo>
                  <a:lnTo>
                    <a:pt x="103" y="301"/>
                  </a:lnTo>
                  <a:lnTo>
                    <a:pt x="74" y="294"/>
                  </a:lnTo>
                  <a:lnTo>
                    <a:pt x="34" y="276"/>
                  </a:lnTo>
                  <a:lnTo>
                    <a:pt x="15" y="257"/>
                  </a:lnTo>
                  <a:lnTo>
                    <a:pt x="4" y="235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0" y="205"/>
                  </a:lnTo>
                  <a:lnTo>
                    <a:pt x="12" y="183"/>
                  </a:lnTo>
                  <a:lnTo>
                    <a:pt x="27" y="153"/>
                  </a:lnTo>
                  <a:lnTo>
                    <a:pt x="52" y="118"/>
                  </a:lnTo>
                  <a:lnTo>
                    <a:pt x="100" y="0"/>
                  </a:lnTo>
                  <a:lnTo>
                    <a:pt x="125" y="74"/>
                  </a:lnTo>
                  <a:lnTo>
                    <a:pt x="148" y="111"/>
                  </a:lnTo>
                  <a:lnTo>
                    <a:pt x="192" y="168"/>
                  </a:lnTo>
                  <a:lnTo>
                    <a:pt x="202" y="205"/>
                  </a:lnTo>
                  <a:lnTo>
                    <a:pt x="207" y="224"/>
                  </a:lnTo>
                  <a:lnTo>
                    <a:pt x="207" y="227"/>
                  </a:lnTo>
                  <a:lnTo>
                    <a:pt x="202" y="235"/>
                  </a:lnTo>
                  <a:lnTo>
                    <a:pt x="195" y="261"/>
                  </a:lnTo>
                  <a:lnTo>
                    <a:pt x="177" y="276"/>
                  </a:lnTo>
                  <a:lnTo>
                    <a:pt x="140" y="294"/>
                  </a:lnTo>
                  <a:lnTo>
                    <a:pt x="121" y="301"/>
                  </a:lnTo>
                  <a:lnTo>
                    <a:pt x="100" y="294"/>
                  </a:lnTo>
                  <a:lnTo>
                    <a:pt x="86" y="286"/>
                  </a:lnTo>
                  <a:lnTo>
                    <a:pt x="103" y="291"/>
                  </a:lnTo>
                  <a:lnTo>
                    <a:pt x="114" y="291"/>
                  </a:lnTo>
                  <a:lnTo>
                    <a:pt x="125" y="286"/>
                  </a:lnTo>
                  <a:lnTo>
                    <a:pt x="158" y="271"/>
                  </a:lnTo>
                  <a:lnTo>
                    <a:pt x="180" y="249"/>
                  </a:lnTo>
                  <a:lnTo>
                    <a:pt x="187" y="224"/>
                  </a:lnTo>
                  <a:lnTo>
                    <a:pt x="187" y="217"/>
                  </a:lnTo>
                  <a:lnTo>
                    <a:pt x="187" y="205"/>
                  </a:lnTo>
                  <a:lnTo>
                    <a:pt x="180" y="183"/>
                  </a:lnTo>
                  <a:lnTo>
                    <a:pt x="170" y="161"/>
                  </a:lnTo>
                  <a:lnTo>
                    <a:pt x="177" y="190"/>
                  </a:lnTo>
                  <a:lnTo>
                    <a:pt x="180" y="209"/>
                  </a:lnTo>
                  <a:lnTo>
                    <a:pt x="177" y="217"/>
                  </a:lnTo>
                  <a:lnTo>
                    <a:pt x="177" y="224"/>
                  </a:lnTo>
                  <a:lnTo>
                    <a:pt x="170" y="239"/>
                  </a:lnTo>
                  <a:lnTo>
                    <a:pt x="155" y="254"/>
                  </a:lnTo>
                  <a:lnTo>
                    <a:pt x="140" y="257"/>
                  </a:lnTo>
                  <a:lnTo>
                    <a:pt x="125" y="261"/>
                  </a:lnTo>
                  <a:lnTo>
                    <a:pt x="106" y="257"/>
                  </a:lnTo>
                  <a:lnTo>
                    <a:pt x="96" y="254"/>
                  </a:lnTo>
                  <a:lnTo>
                    <a:pt x="81" y="254"/>
                  </a:lnTo>
                  <a:lnTo>
                    <a:pt x="74" y="257"/>
                  </a:lnTo>
                  <a:lnTo>
                    <a:pt x="66" y="268"/>
                  </a:lnTo>
                  <a:lnTo>
                    <a:pt x="66" y="276"/>
                  </a:lnTo>
                  <a:lnTo>
                    <a:pt x="71" y="279"/>
                  </a:lnTo>
                  <a:lnTo>
                    <a:pt x="74" y="283"/>
                  </a:lnTo>
                  <a:lnTo>
                    <a:pt x="118" y="301"/>
                  </a:lnTo>
                  <a:close/>
                </a:path>
              </a:pathLst>
            </a:custGeom>
            <a:solidFill>
              <a:srgbClr val="4854e2"/>
            </a:solidFill>
            <a:ln w="0">
              <a:solidFill>
                <a:srgbClr val="4854e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315440" y="26128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点到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920880" y="3024360"/>
              <a:ext cx="109440" cy="158400"/>
            </a:xfrm>
            <a:custGeom>
              <a:avLst/>
              <a:gdLst/>
              <a:ahLst/>
              <a:rect l="l" t="t" r="r" b="b"/>
              <a:pathLst>
                <a:path w="207" h="301">
                  <a:moveTo>
                    <a:pt x="118" y="301"/>
                  </a:moveTo>
                  <a:lnTo>
                    <a:pt x="103" y="301"/>
                  </a:lnTo>
                  <a:lnTo>
                    <a:pt x="74" y="294"/>
                  </a:lnTo>
                  <a:lnTo>
                    <a:pt x="34" y="276"/>
                  </a:lnTo>
                  <a:lnTo>
                    <a:pt x="15" y="257"/>
                  </a:lnTo>
                  <a:lnTo>
                    <a:pt x="4" y="235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12" y="183"/>
                  </a:lnTo>
                  <a:lnTo>
                    <a:pt x="27" y="154"/>
                  </a:lnTo>
                  <a:lnTo>
                    <a:pt x="52" y="118"/>
                  </a:lnTo>
                  <a:lnTo>
                    <a:pt x="100" y="0"/>
                  </a:lnTo>
                  <a:lnTo>
                    <a:pt x="125" y="74"/>
                  </a:lnTo>
                  <a:lnTo>
                    <a:pt x="148" y="111"/>
                  </a:lnTo>
                  <a:lnTo>
                    <a:pt x="192" y="168"/>
                  </a:lnTo>
                  <a:lnTo>
                    <a:pt x="202" y="205"/>
                  </a:lnTo>
                  <a:lnTo>
                    <a:pt x="207" y="224"/>
                  </a:lnTo>
                  <a:lnTo>
                    <a:pt x="207" y="227"/>
                  </a:lnTo>
                  <a:lnTo>
                    <a:pt x="202" y="235"/>
                  </a:lnTo>
                  <a:lnTo>
                    <a:pt x="195" y="261"/>
                  </a:lnTo>
                  <a:lnTo>
                    <a:pt x="177" y="276"/>
                  </a:lnTo>
                  <a:lnTo>
                    <a:pt x="140" y="294"/>
                  </a:lnTo>
                  <a:lnTo>
                    <a:pt x="121" y="301"/>
                  </a:lnTo>
                  <a:lnTo>
                    <a:pt x="100" y="294"/>
                  </a:lnTo>
                  <a:lnTo>
                    <a:pt x="86" y="286"/>
                  </a:lnTo>
                  <a:lnTo>
                    <a:pt x="103" y="291"/>
                  </a:lnTo>
                  <a:lnTo>
                    <a:pt x="114" y="291"/>
                  </a:lnTo>
                  <a:lnTo>
                    <a:pt x="125" y="286"/>
                  </a:lnTo>
                  <a:lnTo>
                    <a:pt x="158" y="272"/>
                  </a:lnTo>
                  <a:lnTo>
                    <a:pt x="180" y="249"/>
                  </a:lnTo>
                  <a:lnTo>
                    <a:pt x="187" y="224"/>
                  </a:lnTo>
                  <a:lnTo>
                    <a:pt x="187" y="217"/>
                  </a:lnTo>
                  <a:lnTo>
                    <a:pt x="187" y="205"/>
                  </a:lnTo>
                  <a:lnTo>
                    <a:pt x="180" y="183"/>
                  </a:lnTo>
                  <a:lnTo>
                    <a:pt x="170" y="161"/>
                  </a:lnTo>
                  <a:lnTo>
                    <a:pt x="177" y="191"/>
                  </a:lnTo>
                  <a:lnTo>
                    <a:pt x="180" y="210"/>
                  </a:lnTo>
                  <a:lnTo>
                    <a:pt x="177" y="217"/>
                  </a:lnTo>
                  <a:lnTo>
                    <a:pt x="177" y="224"/>
                  </a:lnTo>
                  <a:lnTo>
                    <a:pt x="170" y="239"/>
                  </a:lnTo>
                  <a:lnTo>
                    <a:pt x="155" y="254"/>
                  </a:lnTo>
                  <a:lnTo>
                    <a:pt x="140" y="257"/>
                  </a:lnTo>
                  <a:lnTo>
                    <a:pt x="125" y="261"/>
                  </a:lnTo>
                  <a:lnTo>
                    <a:pt x="106" y="257"/>
                  </a:lnTo>
                  <a:lnTo>
                    <a:pt x="96" y="254"/>
                  </a:lnTo>
                  <a:lnTo>
                    <a:pt x="81" y="254"/>
                  </a:lnTo>
                  <a:lnTo>
                    <a:pt x="74" y="257"/>
                  </a:lnTo>
                  <a:lnTo>
                    <a:pt x="66" y="269"/>
                  </a:lnTo>
                  <a:lnTo>
                    <a:pt x="66" y="276"/>
                  </a:lnTo>
                  <a:lnTo>
                    <a:pt x="71" y="279"/>
                  </a:lnTo>
                  <a:lnTo>
                    <a:pt x="74" y="283"/>
                  </a:lnTo>
                  <a:lnTo>
                    <a:pt x="118" y="301"/>
                  </a:lnTo>
                  <a:close/>
                </a:path>
              </a:pathLst>
            </a:custGeom>
            <a:solidFill>
              <a:srgbClr val="4854e2"/>
            </a:solidFill>
            <a:ln w="0">
              <a:solidFill>
                <a:srgbClr val="4854e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66560" y="294336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保证带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920880" y="3359160"/>
              <a:ext cx="109440" cy="160200"/>
            </a:xfrm>
            <a:custGeom>
              <a:avLst/>
              <a:gdLst/>
              <a:ahLst/>
              <a:rect l="l" t="t" r="r" b="b"/>
              <a:pathLst>
                <a:path w="207" h="301">
                  <a:moveTo>
                    <a:pt x="118" y="301"/>
                  </a:moveTo>
                  <a:lnTo>
                    <a:pt x="103" y="301"/>
                  </a:lnTo>
                  <a:lnTo>
                    <a:pt x="74" y="294"/>
                  </a:lnTo>
                  <a:lnTo>
                    <a:pt x="34" y="276"/>
                  </a:lnTo>
                  <a:lnTo>
                    <a:pt x="15" y="257"/>
                  </a:lnTo>
                  <a:lnTo>
                    <a:pt x="4" y="235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12" y="183"/>
                  </a:lnTo>
                  <a:lnTo>
                    <a:pt x="27" y="154"/>
                  </a:lnTo>
                  <a:lnTo>
                    <a:pt x="52" y="118"/>
                  </a:lnTo>
                  <a:lnTo>
                    <a:pt x="100" y="0"/>
                  </a:lnTo>
                  <a:lnTo>
                    <a:pt x="125" y="74"/>
                  </a:lnTo>
                  <a:lnTo>
                    <a:pt x="148" y="111"/>
                  </a:lnTo>
                  <a:lnTo>
                    <a:pt x="192" y="168"/>
                  </a:lnTo>
                  <a:lnTo>
                    <a:pt x="202" y="205"/>
                  </a:lnTo>
                  <a:lnTo>
                    <a:pt x="207" y="224"/>
                  </a:lnTo>
                  <a:lnTo>
                    <a:pt x="207" y="227"/>
                  </a:lnTo>
                  <a:lnTo>
                    <a:pt x="202" y="235"/>
                  </a:lnTo>
                  <a:lnTo>
                    <a:pt x="195" y="261"/>
                  </a:lnTo>
                  <a:lnTo>
                    <a:pt x="177" y="276"/>
                  </a:lnTo>
                  <a:lnTo>
                    <a:pt x="140" y="294"/>
                  </a:lnTo>
                  <a:lnTo>
                    <a:pt x="121" y="301"/>
                  </a:lnTo>
                  <a:lnTo>
                    <a:pt x="100" y="294"/>
                  </a:lnTo>
                  <a:lnTo>
                    <a:pt x="86" y="286"/>
                  </a:lnTo>
                  <a:lnTo>
                    <a:pt x="103" y="291"/>
                  </a:lnTo>
                  <a:lnTo>
                    <a:pt x="114" y="291"/>
                  </a:lnTo>
                  <a:lnTo>
                    <a:pt x="125" y="286"/>
                  </a:lnTo>
                  <a:lnTo>
                    <a:pt x="158" y="272"/>
                  </a:lnTo>
                  <a:lnTo>
                    <a:pt x="180" y="250"/>
                  </a:lnTo>
                  <a:lnTo>
                    <a:pt x="187" y="224"/>
                  </a:lnTo>
                  <a:lnTo>
                    <a:pt x="187" y="217"/>
                  </a:lnTo>
                  <a:lnTo>
                    <a:pt x="187" y="205"/>
                  </a:lnTo>
                  <a:lnTo>
                    <a:pt x="180" y="183"/>
                  </a:lnTo>
                  <a:lnTo>
                    <a:pt x="170" y="161"/>
                  </a:lnTo>
                  <a:lnTo>
                    <a:pt x="177" y="191"/>
                  </a:lnTo>
                  <a:lnTo>
                    <a:pt x="180" y="210"/>
                  </a:lnTo>
                  <a:lnTo>
                    <a:pt x="177" y="217"/>
                  </a:lnTo>
                  <a:lnTo>
                    <a:pt x="177" y="224"/>
                  </a:lnTo>
                  <a:lnTo>
                    <a:pt x="170" y="239"/>
                  </a:lnTo>
                  <a:lnTo>
                    <a:pt x="155" y="254"/>
                  </a:lnTo>
                  <a:lnTo>
                    <a:pt x="140" y="257"/>
                  </a:lnTo>
                  <a:lnTo>
                    <a:pt x="125" y="261"/>
                  </a:lnTo>
                  <a:lnTo>
                    <a:pt x="106" y="257"/>
                  </a:lnTo>
                  <a:lnTo>
                    <a:pt x="96" y="254"/>
                  </a:lnTo>
                  <a:lnTo>
                    <a:pt x="81" y="254"/>
                  </a:lnTo>
                  <a:lnTo>
                    <a:pt x="74" y="257"/>
                  </a:lnTo>
                  <a:lnTo>
                    <a:pt x="66" y="269"/>
                  </a:lnTo>
                  <a:lnTo>
                    <a:pt x="66" y="276"/>
                  </a:lnTo>
                  <a:lnTo>
                    <a:pt x="71" y="279"/>
                  </a:lnTo>
                  <a:lnTo>
                    <a:pt x="74" y="283"/>
                  </a:lnTo>
                  <a:lnTo>
                    <a:pt x="118" y="301"/>
                  </a:lnTo>
                  <a:close/>
                </a:path>
              </a:pathLst>
            </a:custGeom>
            <a:solidFill>
              <a:srgbClr val="4854e2"/>
            </a:solidFill>
            <a:ln w="0">
              <a:solidFill>
                <a:srgbClr val="4854e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63160" y="327960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100%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专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59680" y="216684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问题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15200" y="2674800"/>
              <a:ext cx="108000" cy="160560"/>
            </a:xfrm>
            <a:custGeom>
              <a:avLst/>
              <a:gdLst/>
              <a:ahLst/>
              <a:rect l="l" t="t" r="r" b="b"/>
              <a:pathLst>
                <a:path w="206" h="301">
                  <a:moveTo>
                    <a:pt x="118" y="301"/>
                  </a:moveTo>
                  <a:lnTo>
                    <a:pt x="103" y="301"/>
                  </a:lnTo>
                  <a:lnTo>
                    <a:pt x="74" y="294"/>
                  </a:lnTo>
                  <a:lnTo>
                    <a:pt x="34" y="276"/>
                  </a:lnTo>
                  <a:lnTo>
                    <a:pt x="15" y="257"/>
                  </a:lnTo>
                  <a:lnTo>
                    <a:pt x="4" y="235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0" y="205"/>
                  </a:lnTo>
                  <a:lnTo>
                    <a:pt x="12" y="183"/>
                  </a:lnTo>
                  <a:lnTo>
                    <a:pt x="26" y="154"/>
                  </a:lnTo>
                  <a:lnTo>
                    <a:pt x="51" y="118"/>
                  </a:lnTo>
                  <a:lnTo>
                    <a:pt x="100" y="0"/>
                  </a:lnTo>
                  <a:lnTo>
                    <a:pt x="125" y="74"/>
                  </a:lnTo>
                  <a:lnTo>
                    <a:pt x="147" y="111"/>
                  </a:lnTo>
                  <a:lnTo>
                    <a:pt x="192" y="168"/>
                  </a:lnTo>
                  <a:lnTo>
                    <a:pt x="202" y="205"/>
                  </a:lnTo>
                  <a:lnTo>
                    <a:pt x="206" y="224"/>
                  </a:lnTo>
                  <a:lnTo>
                    <a:pt x="206" y="227"/>
                  </a:lnTo>
                  <a:lnTo>
                    <a:pt x="202" y="235"/>
                  </a:lnTo>
                  <a:lnTo>
                    <a:pt x="195" y="261"/>
                  </a:lnTo>
                  <a:lnTo>
                    <a:pt x="177" y="276"/>
                  </a:lnTo>
                  <a:lnTo>
                    <a:pt x="140" y="294"/>
                  </a:lnTo>
                  <a:lnTo>
                    <a:pt x="121" y="301"/>
                  </a:lnTo>
                  <a:lnTo>
                    <a:pt x="100" y="294"/>
                  </a:lnTo>
                  <a:lnTo>
                    <a:pt x="85" y="286"/>
                  </a:lnTo>
                  <a:lnTo>
                    <a:pt x="103" y="291"/>
                  </a:lnTo>
                  <a:lnTo>
                    <a:pt x="113" y="291"/>
                  </a:lnTo>
                  <a:lnTo>
                    <a:pt x="125" y="286"/>
                  </a:lnTo>
                  <a:lnTo>
                    <a:pt x="158" y="271"/>
                  </a:lnTo>
                  <a:lnTo>
                    <a:pt x="180" y="249"/>
                  </a:lnTo>
                  <a:lnTo>
                    <a:pt x="187" y="224"/>
                  </a:lnTo>
                  <a:lnTo>
                    <a:pt x="187" y="217"/>
                  </a:lnTo>
                  <a:lnTo>
                    <a:pt x="187" y="205"/>
                  </a:lnTo>
                  <a:lnTo>
                    <a:pt x="180" y="183"/>
                  </a:lnTo>
                  <a:lnTo>
                    <a:pt x="169" y="161"/>
                  </a:lnTo>
                  <a:lnTo>
                    <a:pt x="177" y="190"/>
                  </a:lnTo>
                  <a:lnTo>
                    <a:pt x="180" y="210"/>
                  </a:lnTo>
                  <a:lnTo>
                    <a:pt x="177" y="217"/>
                  </a:lnTo>
                  <a:lnTo>
                    <a:pt x="177" y="224"/>
                  </a:lnTo>
                  <a:lnTo>
                    <a:pt x="169" y="239"/>
                  </a:lnTo>
                  <a:lnTo>
                    <a:pt x="155" y="254"/>
                  </a:lnTo>
                  <a:lnTo>
                    <a:pt x="140" y="257"/>
                  </a:lnTo>
                  <a:lnTo>
                    <a:pt x="125" y="261"/>
                  </a:lnTo>
                  <a:lnTo>
                    <a:pt x="106" y="257"/>
                  </a:lnTo>
                  <a:lnTo>
                    <a:pt x="96" y="254"/>
                  </a:lnTo>
                  <a:lnTo>
                    <a:pt x="81" y="254"/>
                  </a:lnTo>
                  <a:lnTo>
                    <a:pt x="74" y="257"/>
                  </a:lnTo>
                  <a:lnTo>
                    <a:pt x="66" y="269"/>
                  </a:lnTo>
                  <a:lnTo>
                    <a:pt x="66" y="276"/>
                  </a:lnTo>
                  <a:lnTo>
                    <a:pt x="71" y="279"/>
                  </a:lnTo>
                  <a:lnTo>
                    <a:pt x="74" y="283"/>
                  </a:lnTo>
                  <a:lnTo>
                    <a:pt x="118" y="301"/>
                  </a:lnTo>
                  <a:close/>
                </a:path>
              </a:pathLst>
            </a:custGeom>
            <a:solidFill>
              <a:srgbClr val="4854e2"/>
            </a:solidFill>
            <a:ln w="0">
              <a:solidFill>
                <a:srgbClr val="4854e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860880" y="259560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价格昂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15200" y="3006720"/>
              <a:ext cx="108000" cy="158760"/>
            </a:xfrm>
            <a:custGeom>
              <a:avLst/>
              <a:gdLst/>
              <a:ahLst/>
              <a:rect l="l" t="t" r="r" b="b"/>
              <a:pathLst>
                <a:path w="206" h="301">
                  <a:moveTo>
                    <a:pt x="118" y="301"/>
                  </a:moveTo>
                  <a:lnTo>
                    <a:pt x="103" y="301"/>
                  </a:lnTo>
                  <a:lnTo>
                    <a:pt x="74" y="294"/>
                  </a:lnTo>
                  <a:lnTo>
                    <a:pt x="34" y="276"/>
                  </a:lnTo>
                  <a:lnTo>
                    <a:pt x="15" y="257"/>
                  </a:lnTo>
                  <a:lnTo>
                    <a:pt x="4" y="235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12" y="183"/>
                  </a:lnTo>
                  <a:lnTo>
                    <a:pt x="26" y="154"/>
                  </a:lnTo>
                  <a:lnTo>
                    <a:pt x="51" y="118"/>
                  </a:lnTo>
                  <a:lnTo>
                    <a:pt x="100" y="0"/>
                  </a:lnTo>
                  <a:lnTo>
                    <a:pt x="125" y="74"/>
                  </a:lnTo>
                  <a:lnTo>
                    <a:pt x="147" y="111"/>
                  </a:lnTo>
                  <a:lnTo>
                    <a:pt x="192" y="168"/>
                  </a:lnTo>
                  <a:lnTo>
                    <a:pt x="202" y="205"/>
                  </a:lnTo>
                  <a:lnTo>
                    <a:pt x="206" y="225"/>
                  </a:lnTo>
                  <a:lnTo>
                    <a:pt x="206" y="227"/>
                  </a:lnTo>
                  <a:lnTo>
                    <a:pt x="202" y="235"/>
                  </a:lnTo>
                  <a:lnTo>
                    <a:pt x="195" y="261"/>
                  </a:lnTo>
                  <a:lnTo>
                    <a:pt x="177" y="276"/>
                  </a:lnTo>
                  <a:lnTo>
                    <a:pt x="140" y="294"/>
                  </a:lnTo>
                  <a:lnTo>
                    <a:pt x="121" y="301"/>
                  </a:lnTo>
                  <a:lnTo>
                    <a:pt x="100" y="294"/>
                  </a:lnTo>
                  <a:lnTo>
                    <a:pt x="85" y="286"/>
                  </a:lnTo>
                  <a:lnTo>
                    <a:pt x="103" y="291"/>
                  </a:lnTo>
                  <a:lnTo>
                    <a:pt x="113" y="291"/>
                  </a:lnTo>
                  <a:lnTo>
                    <a:pt x="125" y="286"/>
                  </a:lnTo>
                  <a:lnTo>
                    <a:pt x="158" y="272"/>
                  </a:lnTo>
                  <a:lnTo>
                    <a:pt x="180" y="250"/>
                  </a:lnTo>
                  <a:lnTo>
                    <a:pt x="187" y="225"/>
                  </a:lnTo>
                  <a:lnTo>
                    <a:pt x="187" y="217"/>
                  </a:lnTo>
                  <a:lnTo>
                    <a:pt x="187" y="205"/>
                  </a:lnTo>
                  <a:lnTo>
                    <a:pt x="180" y="183"/>
                  </a:lnTo>
                  <a:lnTo>
                    <a:pt x="169" y="161"/>
                  </a:lnTo>
                  <a:lnTo>
                    <a:pt x="177" y="191"/>
                  </a:lnTo>
                  <a:lnTo>
                    <a:pt x="180" y="210"/>
                  </a:lnTo>
                  <a:lnTo>
                    <a:pt x="177" y="217"/>
                  </a:lnTo>
                  <a:lnTo>
                    <a:pt x="177" y="225"/>
                  </a:lnTo>
                  <a:lnTo>
                    <a:pt x="169" y="239"/>
                  </a:lnTo>
                  <a:lnTo>
                    <a:pt x="155" y="254"/>
                  </a:lnTo>
                  <a:lnTo>
                    <a:pt x="140" y="257"/>
                  </a:lnTo>
                  <a:lnTo>
                    <a:pt x="125" y="261"/>
                  </a:lnTo>
                  <a:lnTo>
                    <a:pt x="106" y="257"/>
                  </a:lnTo>
                  <a:lnTo>
                    <a:pt x="96" y="254"/>
                  </a:lnTo>
                  <a:lnTo>
                    <a:pt x="81" y="254"/>
                  </a:lnTo>
                  <a:lnTo>
                    <a:pt x="74" y="257"/>
                  </a:lnTo>
                  <a:lnTo>
                    <a:pt x="66" y="269"/>
                  </a:lnTo>
                  <a:lnTo>
                    <a:pt x="66" y="276"/>
                  </a:lnTo>
                  <a:lnTo>
                    <a:pt x="71" y="279"/>
                  </a:lnTo>
                  <a:lnTo>
                    <a:pt x="74" y="283"/>
                  </a:lnTo>
                  <a:lnTo>
                    <a:pt x="118" y="301"/>
                  </a:lnTo>
                  <a:close/>
                </a:path>
              </a:pathLst>
            </a:custGeom>
            <a:solidFill>
              <a:srgbClr val="4854e2"/>
            </a:solidFill>
            <a:ln w="0">
              <a:solidFill>
                <a:srgbClr val="4854e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063920" y="29257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中心端口密度过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15200" y="3341520"/>
              <a:ext cx="108000" cy="158760"/>
            </a:xfrm>
            <a:custGeom>
              <a:avLst/>
              <a:gdLst/>
              <a:ahLst/>
              <a:rect l="l" t="t" r="r" b="b"/>
              <a:pathLst>
                <a:path w="206" h="301">
                  <a:moveTo>
                    <a:pt x="118" y="301"/>
                  </a:moveTo>
                  <a:lnTo>
                    <a:pt x="103" y="301"/>
                  </a:lnTo>
                  <a:lnTo>
                    <a:pt x="74" y="294"/>
                  </a:lnTo>
                  <a:lnTo>
                    <a:pt x="34" y="276"/>
                  </a:lnTo>
                  <a:lnTo>
                    <a:pt x="15" y="257"/>
                  </a:lnTo>
                  <a:lnTo>
                    <a:pt x="4" y="235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12" y="183"/>
                  </a:lnTo>
                  <a:lnTo>
                    <a:pt x="26" y="154"/>
                  </a:lnTo>
                  <a:lnTo>
                    <a:pt x="51" y="118"/>
                  </a:lnTo>
                  <a:lnTo>
                    <a:pt x="100" y="0"/>
                  </a:lnTo>
                  <a:lnTo>
                    <a:pt x="125" y="74"/>
                  </a:lnTo>
                  <a:lnTo>
                    <a:pt x="147" y="111"/>
                  </a:lnTo>
                  <a:lnTo>
                    <a:pt x="192" y="169"/>
                  </a:lnTo>
                  <a:lnTo>
                    <a:pt x="202" y="205"/>
                  </a:lnTo>
                  <a:lnTo>
                    <a:pt x="206" y="225"/>
                  </a:lnTo>
                  <a:lnTo>
                    <a:pt x="206" y="228"/>
                  </a:lnTo>
                  <a:lnTo>
                    <a:pt x="202" y="235"/>
                  </a:lnTo>
                  <a:lnTo>
                    <a:pt x="195" y="261"/>
                  </a:lnTo>
                  <a:lnTo>
                    <a:pt x="177" y="276"/>
                  </a:lnTo>
                  <a:lnTo>
                    <a:pt x="140" y="294"/>
                  </a:lnTo>
                  <a:lnTo>
                    <a:pt x="121" y="301"/>
                  </a:lnTo>
                  <a:lnTo>
                    <a:pt x="100" y="294"/>
                  </a:lnTo>
                  <a:lnTo>
                    <a:pt x="85" y="286"/>
                  </a:lnTo>
                  <a:lnTo>
                    <a:pt x="103" y="291"/>
                  </a:lnTo>
                  <a:lnTo>
                    <a:pt x="113" y="291"/>
                  </a:lnTo>
                  <a:lnTo>
                    <a:pt x="125" y="286"/>
                  </a:lnTo>
                  <a:lnTo>
                    <a:pt x="158" y="272"/>
                  </a:lnTo>
                  <a:lnTo>
                    <a:pt x="180" y="250"/>
                  </a:lnTo>
                  <a:lnTo>
                    <a:pt x="187" y="225"/>
                  </a:lnTo>
                  <a:lnTo>
                    <a:pt x="187" y="217"/>
                  </a:lnTo>
                  <a:lnTo>
                    <a:pt x="187" y="205"/>
                  </a:lnTo>
                  <a:lnTo>
                    <a:pt x="180" y="183"/>
                  </a:lnTo>
                  <a:lnTo>
                    <a:pt x="169" y="161"/>
                  </a:lnTo>
                  <a:lnTo>
                    <a:pt x="177" y="191"/>
                  </a:lnTo>
                  <a:lnTo>
                    <a:pt x="180" y="210"/>
                  </a:lnTo>
                  <a:lnTo>
                    <a:pt x="177" y="217"/>
                  </a:lnTo>
                  <a:lnTo>
                    <a:pt x="177" y="225"/>
                  </a:lnTo>
                  <a:lnTo>
                    <a:pt x="169" y="239"/>
                  </a:lnTo>
                  <a:lnTo>
                    <a:pt x="155" y="254"/>
                  </a:lnTo>
                  <a:lnTo>
                    <a:pt x="140" y="257"/>
                  </a:lnTo>
                  <a:lnTo>
                    <a:pt x="125" y="261"/>
                  </a:lnTo>
                  <a:lnTo>
                    <a:pt x="106" y="257"/>
                  </a:lnTo>
                  <a:lnTo>
                    <a:pt x="96" y="254"/>
                  </a:lnTo>
                  <a:lnTo>
                    <a:pt x="81" y="254"/>
                  </a:lnTo>
                  <a:lnTo>
                    <a:pt x="74" y="257"/>
                  </a:lnTo>
                  <a:lnTo>
                    <a:pt x="66" y="269"/>
                  </a:lnTo>
                  <a:lnTo>
                    <a:pt x="66" y="276"/>
                  </a:lnTo>
                  <a:lnTo>
                    <a:pt x="71" y="279"/>
                  </a:lnTo>
                  <a:lnTo>
                    <a:pt x="74" y="284"/>
                  </a:lnTo>
                  <a:lnTo>
                    <a:pt x="118" y="301"/>
                  </a:lnTo>
                  <a:close/>
                </a:path>
              </a:pathLst>
            </a:custGeom>
            <a:solidFill>
              <a:srgbClr val="4854e2"/>
            </a:solidFill>
            <a:ln w="0">
              <a:solidFill>
                <a:srgbClr val="4854e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60880" y="32623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带宽浪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184640" y="4365720"/>
              <a:ext cx="927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64K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92600" y="2676600"/>
              <a:ext cx="344520" cy="4284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699080" y="3105000"/>
              <a:ext cx="33336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708440" y="2676600"/>
              <a:ext cx="1800" cy="428400"/>
            </a:xfrm>
            <a:prstGeom prst="line">
              <a:avLst/>
            </a:prstGeom>
            <a:ln w="0">
              <a:solidFill>
                <a:srgbClr val="323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711680" y="2681280"/>
              <a:ext cx="304920" cy="422280"/>
            </a:xfrm>
            <a:custGeom>
              <a:avLst/>
              <a:gdLst/>
              <a:ahLst/>
              <a:rect l="l" t="t" r="r" b="b"/>
              <a:pathLst>
                <a:path w="577" h="796">
                  <a:moveTo>
                    <a:pt x="0" y="796"/>
                  </a:moveTo>
                  <a:lnTo>
                    <a:pt x="0" y="0"/>
                  </a:lnTo>
                  <a:lnTo>
                    <a:pt x="57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92600" y="2679840"/>
              <a:ext cx="12600" cy="422280"/>
            </a:xfrm>
            <a:custGeom>
              <a:avLst/>
              <a:gdLst/>
              <a:ahLst/>
              <a:rect l="l" t="t" r="r" b="b"/>
              <a:pathLst>
                <a:path w="22" h="797">
                  <a:moveTo>
                    <a:pt x="0" y="79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019840" y="2679840"/>
              <a:ext cx="15840" cy="422280"/>
            </a:xfrm>
            <a:custGeom>
              <a:avLst/>
              <a:gdLst/>
              <a:ahLst/>
              <a:rect l="l" t="t" r="r" b="b"/>
              <a:pathLst>
                <a:path w="30" h="797">
                  <a:moveTo>
                    <a:pt x="0" y="0"/>
                  </a:moveTo>
                  <a:lnTo>
                    <a:pt x="30" y="0"/>
                  </a:lnTo>
                  <a:lnTo>
                    <a:pt x="30" y="79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019840" y="2676600"/>
              <a:ext cx="1440" cy="431640"/>
            </a:xfrm>
            <a:prstGeom prst="line">
              <a:avLst/>
            </a:prstGeom>
            <a:ln w="0">
              <a:solidFill>
                <a:srgbClr val="323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19600" y="2708280"/>
              <a:ext cx="60480" cy="9360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726080" y="2712960"/>
              <a:ext cx="47520" cy="84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29320" y="2770200"/>
              <a:ext cx="42840" cy="255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5a5a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729320" y="2714760"/>
              <a:ext cx="20520" cy="55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757760" y="2717640"/>
              <a:ext cx="12600" cy="46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732200" y="2730600"/>
              <a:ext cx="11160" cy="349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732200" y="2730600"/>
              <a:ext cx="11160" cy="3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749840" y="2714760"/>
              <a:ext cx="1440" cy="554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753080" y="2717640"/>
              <a:ext cx="6120" cy="460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740120" y="2773440"/>
              <a:ext cx="5040" cy="2052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732200" y="2776680"/>
              <a:ext cx="3240" cy="1440"/>
            </a:xfrm>
            <a:prstGeom prst="ellipse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732200" y="2784600"/>
              <a:ext cx="3240" cy="2880"/>
            </a:xfrm>
            <a:prstGeom prst="ellipse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719600" y="2708280"/>
              <a:ext cx="61920" cy="93600"/>
            </a:xfrm>
            <a:custGeom>
              <a:avLst/>
              <a:gdLst/>
              <a:ahLst/>
              <a:rect l="l" t="t" r="r" b="b"/>
              <a:pathLst>
                <a:path w="116" h="177">
                  <a:moveTo>
                    <a:pt x="116" y="0"/>
                  </a:moveTo>
                  <a:lnTo>
                    <a:pt x="116" y="177"/>
                  </a:lnTo>
                  <a:lnTo>
                    <a:pt x="0" y="177"/>
                  </a:lnTo>
                </a:path>
              </a:pathLst>
            </a:custGeom>
            <a:noFill/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759200" y="2774880"/>
              <a:ext cx="5040" cy="64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797360" y="2711520"/>
              <a:ext cx="208080" cy="8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799160" y="2727360"/>
              <a:ext cx="20628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799160" y="2746440"/>
              <a:ext cx="20628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99160" y="2763720"/>
              <a:ext cx="20628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799160" y="2781360"/>
              <a:ext cx="20628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80852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81968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82760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83876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848120" y="271152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85784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6900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87692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88808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898880" y="271152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906800" y="271152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17960" y="271152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92768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937040" y="271152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48200" y="271152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5792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96728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7844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98636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97520" y="271152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797360" y="2862360"/>
              <a:ext cx="208080" cy="8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797360" y="2876400"/>
              <a:ext cx="208080" cy="50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797360" y="2895480"/>
              <a:ext cx="20808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797360" y="2914560"/>
              <a:ext cx="20808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797360" y="2932200"/>
              <a:ext cx="20808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80852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81968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82760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83876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848120" y="286236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5784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6900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7692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88808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898880" y="286236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906800" y="286236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917960" y="286236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92768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937040" y="286236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948200" y="286236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95792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96728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97844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8636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997520" y="286236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797360" y="3005280"/>
              <a:ext cx="208080" cy="8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97360" y="3022560"/>
              <a:ext cx="20808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97360" y="3040200"/>
              <a:ext cx="20808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97360" y="3059280"/>
              <a:ext cx="208080" cy="28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797360" y="3076560"/>
              <a:ext cx="20808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80852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1968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82760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3876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48120" y="300528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85784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6900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87692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88808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898880" y="300528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906800" y="300528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7960" y="300528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2768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937040" y="300528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948200" y="3005280"/>
              <a:ext cx="180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5792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6728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97844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98636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997520" y="3005280"/>
              <a:ext cx="1440" cy="8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19600" y="2817720"/>
              <a:ext cx="54000" cy="1116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719600" y="2817720"/>
              <a:ext cx="55440" cy="11160"/>
            </a:xfrm>
            <a:custGeom>
              <a:avLst/>
              <a:gdLst/>
              <a:ahLst/>
              <a:rect l="l" t="t" r="r" b="b"/>
              <a:pathLst>
                <a:path w="106" h="20">
                  <a:moveTo>
                    <a:pt x="0" y="20"/>
                  </a:moveTo>
                  <a:lnTo>
                    <a:pt x="106" y="20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719600" y="2836800"/>
              <a:ext cx="77760" cy="126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19600" y="2836800"/>
              <a:ext cx="77760" cy="14400"/>
            </a:xfrm>
            <a:custGeom>
              <a:avLst/>
              <a:gdLst/>
              <a:ahLst/>
              <a:rect l="l" t="t" r="r" b="b"/>
              <a:pathLst>
                <a:path w="147" h="27">
                  <a:moveTo>
                    <a:pt x="0" y="27"/>
                  </a:moveTo>
                  <a:lnTo>
                    <a:pt x="147" y="27"/>
                  </a:lnTo>
                  <a:lnTo>
                    <a:pt x="14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846520" y="2171880"/>
              <a:ext cx="3371760" cy="17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572000" y="2722680"/>
              <a:ext cx="144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575240" y="2895480"/>
              <a:ext cx="174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879440" y="313704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宋体"/>
                </a:rPr>
                <a:t>Ser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679200" y="2344680"/>
              <a:ext cx="1992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宋体"/>
                </a:rPr>
                <a:t>Corp. Network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8" name=""/>
            <p:cNvGrpSpPr/>
            <p:nvPr/>
          </p:nvGrpSpPr>
          <p:grpSpPr>
            <a:xfrm>
              <a:off x="3537000" y="3090960"/>
              <a:ext cx="888840" cy="546120"/>
              <a:chOff x="3537000" y="3090960"/>
              <a:chExt cx="888840" cy="546120"/>
            </a:xfrm>
          </p:grpSpPr>
          <p:pic>
            <p:nvPicPr>
              <p:cNvPr id="19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7000" y="3090960"/>
                <a:ext cx="888840" cy="54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37000" y="3090960"/>
                <a:ext cx="88884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51" name=""/>
            <p:cNvSpPr/>
            <p:nvPr/>
          </p:nvSpPr>
          <p:spPr>
            <a:xfrm>
              <a:off x="4402080" y="3448080"/>
              <a:ext cx="20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92280" y="5124600"/>
              <a:ext cx="1866600" cy="98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647720" y="5189400"/>
              <a:ext cx="1800" cy="7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86000" y="5727600"/>
              <a:ext cx="26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046520" y="5327640"/>
              <a:ext cx="15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88240" y="4822920"/>
              <a:ext cx="63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Branch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4960" y="5008680"/>
              <a:ext cx="66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8" name=""/>
            <p:cNvGrpSpPr/>
            <p:nvPr/>
          </p:nvGrpSpPr>
          <p:grpSpPr>
            <a:xfrm>
              <a:off x="1795320" y="5249880"/>
              <a:ext cx="492120" cy="304920"/>
              <a:chOff x="1795320" y="5249880"/>
              <a:chExt cx="492120" cy="304920"/>
            </a:xfrm>
          </p:grpSpPr>
          <p:pic>
            <p:nvPicPr>
              <p:cNvPr id="19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5320" y="5249880"/>
                <a:ext cx="4921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95320" y="5249880"/>
                <a:ext cx="49212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1" name=""/>
            <p:cNvSpPr/>
            <p:nvPr/>
          </p:nvSpPr>
          <p:spPr>
            <a:xfrm>
              <a:off x="1641600" y="5432400"/>
              <a:ext cx="18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120680" y="5735520"/>
              <a:ext cx="255600" cy="414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20680" y="5695920"/>
              <a:ext cx="255600" cy="41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32" y="0"/>
                  </a:moveTo>
                  <a:lnTo>
                    <a:pt x="447" y="3"/>
                  </a:lnTo>
                  <a:lnTo>
                    <a:pt x="482" y="78"/>
                  </a:lnTo>
                  <a:lnTo>
                    <a:pt x="0" y="7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97080" y="5765760"/>
              <a:ext cx="65160" cy="3240"/>
            </a:xfrm>
            <a:custGeom>
              <a:avLst/>
              <a:gdLst/>
              <a:ahLst/>
              <a:rect l="l" t="t" r="r" b="b"/>
              <a:pathLst>
                <a:path w="123" h="8">
                  <a:moveTo>
                    <a:pt x="123" y="2"/>
                  </a:moveTo>
                  <a:lnTo>
                    <a:pt x="34" y="2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123" y="5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90440" y="5819760"/>
              <a:ext cx="325440" cy="11160"/>
            </a:xfrm>
            <a:custGeom>
              <a:avLst/>
              <a:gdLst/>
              <a:ahLst/>
              <a:rect l="l" t="t" r="r" b="b"/>
              <a:pathLst>
                <a:path w="615" h="20">
                  <a:moveTo>
                    <a:pt x="3" y="0"/>
                  </a:moveTo>
                  <a:lnTo>
                    <a:pt x="615" y="7"/>
                  </a:lnTo>
                  <a:lnTo>
                    <a:pt x="615" y="20"/>
                  </a:lnTo>
                  <a:lnTo>
                    <a:pt x="0" y="20"/>
                  </a:lnTo>
                  <a:lnTo>
                    <a:pt x="0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090440" y="5786280"/>
              <a:ext cx="325440" cy="38160"/>
            </a:xfrm>
            <a:custGeom>
              <a:avLst/>
              <a:gdLst/>
              <a:ahLst/>
              <a:rect l="l" t="t" r="r" b="b"/>
              <a:pathLst>
                <a:path w="615" h="72">
                  <a:moveTo>
                    <a:pt x="21" y="0"/>
                  </a:moveTo>
                  <a:lnTo>
                    <a:pt x="0" y="72"/>
                  </a:lnTo>
                  <a:lnTo>
                    <a:pt x="615" y="72"/>
                  </a:lnTo>
                  <a:lnTo>
                    <a:pt x="589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46040" y="5791320"/>
              <a:ext cx="55800" cy="27000"/>
            </a:xfrm>
            <a:custGeom>
              <a:avLst/>
              <a:gdLst/>
              <a:ahLst/>
              <a:rect l="l" t="t" r="r" b="b"/>
              <a:pathLst>
                <a:path w="106" h="53">
                  <a:moveTo>
                    <a:pt x="0" y="0"/>
                  </a:moveTo>
                  <a:lnTo>
                    <a:pt x="8" y="53"/>
                  </a:lnTo>
                  <a:lnTo>
                    <a:pt x="106" y="53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300320" y="5789520"/>
              <a:ext cx="41040" cy="2880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" y="34"/>
                  </a:lnTo>
                  <a:lnTo>
                    <a:pt x="16" y="34"/>
                  </a:lnTo>
                  <a:lnTo>
                    <a:pt x="16" y="38"/>
                  </a:lnTo>
                  <a:lnTo>
                    <a:pt x="1" y="41"/>
                  </a:lnTo>
                  <a:lnTo>
                    <a:pt x="1" y="55"/>
                  </a:lnTo>
                  <a:lnTo>
                    <a:pt x="78" y="55"/>
                  </a:lnTo>
                  <a:lnTo>
                    <a:pt x="75" y="38"/>
                  </a:lnTo>
                  <a:lnTo>
                    <a:pt x="59" y="38"/>
                  </a:lnTo>
                  <a:lnTo>
                    <a:pt x="58" y="34"/>
                  </a:lnTo>
                  <a:lnTo>
                    <a:pt x="75" y="34"/>
                  </a:lnTo>
                  <a:lnTo>
                    <a:pt x="6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101600" y="5791320"/>
              <a:ext cx="187560" cy="28440"/>
            </a:xfrm>
            <a:custGeom>
              <a:avLst/>
              <a:gdLst/>
              <a:ahLst/>
              <a:rect l="l" t="t" r="r" b="b"/>
              <a:pathLst>
                <a:path w="353" h="54">
                  <a:moveTo>
                    <a:pt x="12" y="0"/>
                  </a:moveTo>
                  <a:lnTo>
                    <a:pt x="12" y="10"/>
                  </a:lnTo>
                  <a:lnTo>
                    <a:pt x="25" y="10"/>
                  </a:lnTo>
                  <a:lnTo>
                    <a:pt x="24" y="23"/>
                  </a:lnTo>
                  <a:lnTo>
                    <a:pt x="5" y="23"/>
                  </a:lnTo>
                  <a:lnTo>
                    <a:pt x="0" y="45"/>
                  </a:lnTo>
                  <a:lnTo>
                    <a:pt x="19" y="47"/>
                  </a:lnTo>
                  <a:lnTo>
                    <a:pt x="19" y="53"/>
                  </a:lnTo>
                  <a:lnTo>
                    <a:pt x="278" y="54"/>
                  </a:lnTo>
                  <a:lnTo>
                    <a:pt x="278" y="47"/>
                  </a:lnTo>
                  <a:lnTo>
                    <a:pt x="328" y="47"/>
                  </a:lnTo>
                  <a:lnTo>
                    <a:pt x="328" y="42"/>
                  </a:lnTo>
                  <a:lnTo>
                    <a:pt x="343" y="42"/>
                  </a:lnTo>
                  <a:lnTo>
                    <a:pt x="343" y="23"/>
                  </a:lnTo>
                  <a:lnTo>
                    <a:pt x="353" y="23"/>
                  </a:lnTo>
                  <a:lnTo>
                    <a:pt x="35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177920" y="5691240"/>
              <a:ext cx="144360" cy="39600"/>
            </a:xfrm>
            <a:custGeom>
              <a:avLst/>
              <a:gdLst/>
              <a:ahLst/>
              <a:rect l="l" t="t" r="r" b="b"/>
              <a:pathLst>
                <a:path w="273" h="75">
                  <a:moveTo>
                    <a:pt x="52" y="0"/>
                  </a:moveTo>
                  <a:lnTo>
                    <a:pt x="219" y="3"/>
                  </a:lnTo>
                  <a:lnTo>
                    <a:pt x="257" y="10"/>
                  </a:lnTo>
                  <a:lnTo>
                    <a:pt x="273" y="72"/>
                  </a:lnTo>
                  <a:lnTo>
                    <a:pt x="266" y="75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11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00240" y="5662440"/>
              <a:ext cx="93600" cy="60480"/>
            </a:xfrm>
            <a:custGeom>
              <a:avLst/>
              <a:gdLst/>
              <a:ahLst/>
              <a:rect l="l" t="t" r="r" b="b"/>
              <a:pathLst>
                <a:path w="178" h="114">
                  <a:moveTo>
                    <a:pt x="175" y="55"/>
                  </a:moveTo>
                  <a:lnTo>
                    <a:pt x="137" y="15"/>
                  </a:lnTo>
                  <a:lnTo>
                    <a:pt x="90" y="0"/>
                  </a:lnTo>
                  <a:lnTo>
                    <a:pt x="68" y="2"/>
                  </a:lnTo>
                  <a:lnTo>
                    <a:pt x="45" y="14"/>
                  </a:lnTo>
                  <a:lnTo>
                    <a:pt x="4" y="58"/>
                  </a:lnTo>
                  <a:lnTo>
                    <a:pt x="0" y="81"/>
                  </a:lnTo>
                  <a:lnTo>
                    <a:pt x="17" y="99"/>
                  </a:lnTo>
                  <a:lnTo>
                    <a:pt x="90" y="114"/>
                  </a:lnTo>
                  <a:lnTo>
                    <a:pt x="160" y="99"/>
                  </a:lnTo>
                  <a:lnTo>
                    <a:pt x="178" y="81"/>
                  </a:lnTo>
                  <a:lnTo>
                    <a:pt x="175" y="55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193760" y="5648400"/>
              <a:ext cx="104760" cy="41040"/>
            </a:xfrm>
            <a:custGeom>
              <a:avLst/>
              <a:gdLst/>
              <a:ahLst/>
              <a:rect l="l" t="t" r="r" b="b"/>
              <a:pathLst>
                <a:path w="199" h="79">
                  <a:moveTo>
                    <a:pt x="196" y="40"/>
                  </a:moveTo>
                  <a:lnTo>
                    <a:pt x="153" y="68"/>
                  </a:lnTo>
                  <a:lnTo>
                    <a:pt x="102" y="79"/>
                  </a:lnTo>
                  <a:lnTo>
                    <a:pt x="50" y="7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21" y="12"/>
                  </a:lnTo>
                  <a:lnTo>
                    <a:pt x="100" y="0"/>
                  </a:lnTo>
                  <a:lnTo>
                    <a:pt x="121" y="0"/>
                  </a:lnTo>
                  <a:lnTo>
                    <a:pt x="143" y="1"/>
                  </a:lnTo>
                  <a:lnTo>
                    <a:pt x="178" y="9"/>
                  </a:lnTo>
                  <a:lnTo>
                    <a:pt x="199" y="20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181160" y="5697360"/>
              <a:ext cx="133200" cy="30240"/>
            </a:xfrm>
            <a:custGeom>
              <a:avLst/>
              <a:gdLst/>
              <a:ahLst/>
              <a:rect l="l" t="t" r="r" b="b"/>
              <a:pathLst>
                <a:path w="253" h="57">
                  <a:moveTo>
                    <a:pt x="8" y="0"/>
                  </a:moveTo>
                  <a:lnTo>
                    <a:pt x="0" y="57"/>
                  </a:lnTo>
                  <a:lnTo>
                    <a:pt x="253" y="57"/>
                  </a:lnTo>
                  <a:lnTo>
                    <a:pt x="251" y="54"/>
                  </a:lnTo>
                  <a:lnTo>
                    <a:pt x="6" y="54"/>
                  </a:lnTo>
                  <a:lnTo>
                    <a:pt x="8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144440" y="5537160"/>
              <a:ext cx="204840" cy="144360"/>
            </a:xfrm>
            <a:custGeom>
              <a:avLst/>
              <a:gdLst/>
              <a:ahLst/>
              <a:rect l="l" t="t" r="r" b="b"/>
              <a:pathLst>
                <a:path w="388" h="275">
                  <a:moveTo>
                    <a:pt x="0" y="255"/>
                  </a:moveTo>
                  <a:lnTo>
                    <a:pt x="15" y="275"/>
                  </a:lnTo>
                  <a:lnTo>
                    <a:pt x="367" y="275"/>
                  </a:lnTo>
                  <a:lnTo>
                    <a:pt x="388" y="260"/>
                  </a:lnTo>
                  <a:lnTo>
                    <a:pt x="388" y="14"/>
                  </a:lnTo>
                  <a:lnTo>
                    <a:pt x="372" y="0"/>
                  </a:lnTo>
                  <a:lnTo>
                    <a:pt x="22" y="0"/>
                  </a:lnTo>
                  <a:lnTo>
                    <a:pt x="3" y="11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325520" y="5549760"/>
              <a:ext cx="11160" cy="112680"/>
            </a:xfrm>
            <a:custGeom>
              <a:avLst/>
              <a:gdLst/>
              <a:ahLst/>
              <a:rect l="l" t="t" r="r" b="b"/>
              <a:pathLst>
                <a:path w="23" h="214">
                  <a:moveTo>
                    <a:pt x="22" y="11"/>
                  </a:moveTo>
                  <a:lnTo>
                    <a:pt x="12" y="0"/>
                  </a:lnTo>
                  <a:lnTo>
                    <a:pt x="0" y="14"/>
                  </a:lnTo>
                  <a:lnTo>
                    <a:pt x="10" y="20"/>
                  </a:lnTo>
                  <a:lnTo>
                    <a:pt x="10" y="204"/>
                  </a:lnTo>
                  <a:lnTo>
                    <a:pt x="23" y="214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160640" y="5549760"/>
              <a:ext cx="12600" cy="117720"/>
            </a:xfrm>
            <a:custGeom>
              <a:avLst/>
              <a:gdLst/>
              <a:ahLst/>
              <a:rect l="l" t="t" r="r" b="b"/>
              <a:pathLst>
                <a:path w="24" h="222">
                  <a:moveTo>
                    <a:pt x="0" y="214"/>
                  </a:moveTo>
                  <a:lnTo>
                    <a:pt x="12" y="222"/>
                  </a:lnTo>
                  <a:lnTo>
                    <a:pt x="24" y="211"/>
                  </a:lnTo>
                  <a:lnTo>
                    <a:pt x="15" y="202"/>
                  </a:lnTo>
                  <a:lnTo>
                    <a:pt x="15" y="111"/>
                  </a:lnTo>
                  <a:lnTo>
                    <a:pt x="13" y="20"/>
                  </a:lnTo>
                  <a:lnTo>
                    <a:pt x="22" y="14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166760" y="5549760"/>
              <a:ext cx="166680" cy="7920"/>
            </a:xfrm>
            <a:custGeom>
              <a:avLst/>
              <a:gdLst/>
              <a:ahLst/>
              <a:rect l="l" t="t" r="r" b="b"/>
              <a:pathLst>
                <a:path w="314" h="14">
                  <a:moveTo>
                    <a:pt x="0" y="0"/>
                  </a:moveTo>
                  <a:lnTo>
                    <a:pt x="10" y="14"/>
                  </a:lnTo>
                  <a:lnTo>
                    <a:pt x="301" y="14"/>
                  </a:lnTo>
                  <a:lnTo>
                    <a:pt x="3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66760" y="5657760"/>
              <a:ext cx="171360" cy="9720"/>
            </a:xfrm>
            <a:custGeom>
              <a:avLst/>
              <a:gdLst/>
              <a:ahLst/>
              <a:rect l="l" t="t" r="r" b="b"/>
              <a:pathLst>
                <a:path w="326" h="18">
                  <a:moveTo>
                    <a:pt x="313" y="18"/>
                  </a:moveTo>
                  <a:lnTo>
                    <a:pt x="326" y="10"/>
                  </a:lnTo>
                  <a:lnTo>
                    <a:pt x="310" y="0"/>
                  </a:lnTo>
                  <a:lnTo>
                    <a:pt x="303" y="7"/>
                  </a:lnTo>
                  <a:lnTo>
                    <a:pt x="12" y="7"/>
                  </a:lnTo>
                  <a:lnTo>
                    <a:pt x="0" y="18"/>
                  </a:lnTo>
                  <a:lnTo>
                    <a:pt x="313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68560" y="5557680"/>
              <a:ext cx="161640" cy="103320"/>
            </a:xfrm>
            <a:custGeom>
              <a:avLst/>
              <a:gdLst/>
              <a:ahLst/>
              <a:rect l="l" t="t" r="r" b="b"/>
              <a:pathLst>
                <a:path w="306" h="195">
                  <a:moveTo>
                    <a:pt x="0" y="183"/>
                  </a:moveTo>
                  <a:lnTo>
                    <a:pt x="13" y="195"/>
                  </a:lnTo>
                  <a:lnTo>
                    <a:pt x="291" y="195"/>
                  </a:lnTo>
                  <a:lnTo>
                    <a:pt x="306" y="186"/>
                  </a:lnTo>
                  <a:lnTo>
                    <a:pt x="306" y="9"/>
                  </a:lnTo>
                  <a:lnTo>
                    <a:pt x="292" y="0"/>
                  </a:lnTo>
                  <a:lnTo>
                    <a:pt x="16" y="0"/>
                  </a:lnTo>
                  <a:lnTo>
                    <a:pt x="2" y="8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2206800" y="3517560"/>
              <a:ext cx="1630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62400" y="5365800"/>
              <a:ext cx="1866960" cy="982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317840" y="5430960"/>
              <a:ext cx="180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056120" y="5970600"/>
              <a:ext cx="27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718440" y="5570640"/>
              <a:ext cx="15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253680" y="5064120"/>
              <a:ext cx="63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Branch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200400" y="5249880"/>
              <a:ext cx="66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465800" y="5492880"/>
              <a:ext cx="492120" cy="303120"/>
              <a:chOff x="4465800" y="5492880"/>
              <a:chExt cx="492120" cy="303120"/>
            </a:xfrm>
          </p:grpSpPr>
          <p:pic>
            <p:nvPicPr>
              <p:cNvPr id="19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5800" y="5492880"/>
                <a:ext cx="492120" cy="30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5800" y="5492880"/>
                <a:ext cx="492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0" name=""/>
            <p:cNvSpPr/>
            <p:nvPr/>
          </p:nvSpPr>
          <p:spPr>
            <a:xfrm>
              <a:off x="4311720" y="5673600"/>
              <a:ext cx="185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790800" y="5977080"/>
              <a:ext cx="255600" cy="428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790800" y="5938920"/>
              <a:ext cx="255600" cy="39600"/>
            </a:xfrm>
            <a:custGeom>
              <a:avLst/>
              <a:gdLst/>
              <a:ahLst/>
              <a:rect l="l" t="t" r="r" b="b"/>
              <a:pathLst>
                <a:path w="483" h="76">
                  <a:moveTo>
                    <a:pt x="31" y="0"/>
                  </a:moveTo>
                  <a:lnTo>
                    <a:pt x="449" y="3"/>
                  </a:lnTo>
                  <a:lnTo>
                    <a:pt x="483" y="76"/>
                  </a:lnTo>
                  <a:lnTo>
                    <a:pt x="0" y="7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967200" y="6006960"/>
              <a:ext cx="65160" cy="5040"/>
            </a:xfrm>
            <a:custGeom>
              <a:avLst/>
              <a:gdLst/>
              <a:ahLst/>
              <a:rect l="l" t="t" r="r" b="b"/>
              <a:pathLst>
                <a:path w="124" h="8">
                  <a:moveTo>
                    <a:pt x="124" y="2"/>
                  </a:moveTo>
                  <a:lnTo>
                    <a:pt x="36" y="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6" y="8"/>
                  </a:lnTo>
                  <a:lnTo>
                    <a:pt x="36" y="5"/>
                  </a:lnTo>
                  <a:lnTo>
                    <a:pt x="124" y="5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760920" y="6062760"/>
              <a:ext cx="325440" cy="9360"/>
            </a:xfrm>
            <a:custGeom>
              <a:avLst/>
              <a:gdLst/>
              <a:ahLst/>
              <a:rect l="l" t="t" r="r" b="b"/>
              <a:pathLst>
                <a:path w="614" h="19">
                  <a:moveTo>
                    <a:pt x="4" y="0"/>
                  </a:moveTo>
                  <a:lnTo>
                    <a:pt x="614" y="6"/>
                  </a:lnTo>
                  <a:lnTo>
                    <a:pt x="614" y="19"/>
                  </a:lnTo>
                  <a:lnTo>
                    <a:pt x="0" y="1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760920" y="6027840"/>
              <a:ext cx="325440" cy="38160"/>
            </a:xfrm>
            <a:custGeom>
              <a:avLst/>
              <a:gdLst/>
              <a:ahLst/>
              <a:rect l="l" t="t" r="r" b="b"/>
              <a:pathLst>
                <a:path w="614" h="72">
                  <a:moveTo>
                    <a:pt x="21" y="0"/>
                  </a:moveTo>
                  <a:lnTo>
                    <a:pt x="0" y="72"/>
                  </a:lnTo>
                  <a:lnTo>
                    <a:pt x="614" y="72"/>
                  </a:lnTo>
                  <a:lnTo>
                    <a:pt x="58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016520" y="6032520"/>
              <a:ext cx="55440" cy="2844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0"/>
                  </a:moveTo>
                  <a:lnTo>
                    <a:pt x="9" y="54"/>
                  </a:lnTo>
                  <a:lnTo>
                    <a:pt x="105" y="54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970440" y="6031080"/>
              <a:ext cx="41040" cy="29880"/>
            </a:xfrm>
            <a:custGeom>
              <a:avLst/>
              <a:gdLst/>
              <a:ahLst/>
              <a:rect l="l" t="t" r="r" b="b"/>
              <a:pathLst>
                <a:path w="80" h="56">
                  <a:moveTo>
                    <a:pt x="0" y="0"/>
                  </a:moveTo>
                  <a:lnTo>
                    <a:pt x="3" y="36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3" y="43"/>
                  </a:lnTo>
                  <a:lnTo>
                    <a:pt x="3" y="56"/>
                  </a:lnTo>
                  <a:lnTo>
                    <a:pt x="80" y="56"/>
                  </a:lnTo>
                  <a:lnTo>
                    <a:pt x="76" y="40"/>
                  </a:lnTo>
                  <a:lnTo>
                    <a:pt x="61" y="40"/>
                  </a:lnTo>
                  <a:lnTo>
                    <a:pt x="59" y="36"/>
                  </a:lnTo>
                  <a:lnTo>
                    <a:pt x="76" y="36"/>
                  </a:ln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772080" y="6032520"/>
              <a:ext cx="185400" cy="30240"/>
            </a:xfrm>
            <a:custGeom>
              <a:avLst/>
              <a:gdLst/>
              <a:ahLst/>
              <a:rect l="l" t="t" r="r" b="b"/>
              <a:pathLst>
                <a:path w="351" h="56">
                  <a:moveTo>
                    <a:pt x="12" y="0"/>
                  </a:moveTo>
                  <a:lnTo>
                    <a:pt x="12" y="10"/>
                  </a:lnTo>
                  <a:lnTo>
                    <a:pt x="24" y="10"/>
                  </a:lnTo>
                  <a:lnTo>
                    <a:pt x="21" y="25"/>
                  </a:lnTo>
                  <a:lnTo>
                    <a:pt x="6" y="25"/>
                  </a:lnTo>
                  <a:lnTo>
                    <a:pt x="0" y="47"/>
                  </a:lnTo>
                  <a:lnTo>
                    <a:pt x="19" y="48"/>
                  </a:lnTo>
                  <a:lnTo>
                    <a:pt x="19" y="54"/>
                  </a:lnTo>
                  <a:lnTo>
                    <a:pt x="279" y="56"/>
                  </a:lnTo>
                  <a:lnTo>
                    <a:pt x="279" y="48"/>
                  </a:lnTo>
                  <a:lnTo>
                    <a:pt x="328" y="48"/>
                  </a:lnTo>
                  <a:lnTo>
                    <a:pt x="328" y="44"/>
                  </a:lnTo>
                  <a:lnTo>
                    <a:pt x="342" y="44"/>
                  </a:lnTo>
                  <a:lnTo>
                    <a:pt x="342" y="23"/>
                  </a:lnTo>
                  <a:lnTo>
                    <a:pt x="351" y="23"/>
                  </a:lnTo>
                  <a:lnTo>
                    <a:pt x="351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46600" y="5932440"/>
              <a:ext cx="145800" cy="41400"/>
            </a:xfrm>
            <a:custGeom>
              <a:avLst/>
              <a:gdLst/>
              <a:ahLst/>
              <a:rect l="l" t="t" r="r" b="b"/>
              <a:pathLst>
                <a:path w="275" h="76">
                  <a:moveTo>
                    <a:pt x="55" y="0"/>
                  </a:moveTo>
                  <a:lnTo>
                    <a:pt x="223" y="3"/>
                  </a:lnTo>
                  <a:lnTo>
                    <a:pt x="260" y="11"/>
                  </a:lnTo>
                  <a:lnTo>
                    <a:pt x="275" y="73"/>
                  </a:lnTo>
                  <a:lnTo>
                    <a:pt x="267" y="76"/>
                  </a:lnTo>
                  <a:lnTo>
                    <a:pt x="3" y="76"/>
                  </a:lnTo>
                  <a:lnTo>
                    <a:pt x="0" y="73"/>
                  </a:lnTo>
                  <a:lnTo>
                    <a:pt x="14" y="1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70360" y="5905440"/>
              <a:ext cx="93600" cy="60480"/>
            </a:xfrm>
            <a:custGeom>
              <a:avLst/>
              <a:gdLst/>
              <a:ahLst/>
              <a:rect l="l" t="t" r="r" b="b"/>
              <a:pathLst>
                <a:path w="179" h="114">
                  <a:moveTo>
                    <a:pt x="176" y="56"/>
                  </a:moveTo>
                  <a:lnTo>
                    <a:pt x="138" y="17"/>
                  </a:lnTo>
                  <a:lnTo>
                    <a:pt x="90" y="0"/>
                  </a:lnTo>
                  <a:lnTo>
                    <a:pt x="68" y="2"/>
                  </a:lnTo>
                  <a:lnTo>
                    <a:pt x="46" y="14"/>
                  </a:lnTo>
                  <a:lnTo>
                    <a:pt x="5" y="59"/>
                  </a:lnTo>
                  <a:lnTo>
                    <a:pt x="0" y="81"/>
                  </a:lnTo>
                  <a:lnTo>
                    <a:pt x="18" y="99"/>
                  </a:lnTo>
                  <a:lnTo>
                    <a:pt x="90" y="114"/>
                  </a:lnTo>
                  <a:lnTo>
                    <a:pt x="161" y="101"/>
                  </a:lnTo>
                  <a:lnTo>
                    <a:pt x="179" y="83"/>
                  </a:lnTo>
                  <a:lnTo>
                    <a:pt x="176" y="5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63880" y="5889600"/>
              <a:ext cx="104760" cy="42840"/>
            </a:xfrm>
            <a:custGeom>
              <a:avLst/>
              <a:gdLst/>
              <a:ahLst/>
              <a:rect l="l" t="t" r="r" b="b"/>
              <a:pathLst>
                <a:path w="199" h="82">
                  <a:moveTo>
                    <a:pt x="194" y="43"/>
                  </a:moveTo>
                  <a:lnTo>
                    <a:pt x="153" y="71"/>
                  </a:lnTo>
                  <a:lnTo>
                    <a:pt x="101" y="82"/>
                  </a:lnTo>
                  <a:lnTo>
                    <a:pt x="50" y="74"/>
                  </a:lnTo>
                  <a:lnTo>
                    <a:pt x="4" y="41"/>
                  </a:lnTo>
                  <a:lnTo>
                    <a:pt x="0" y="25"/>
                  </a:lnTo>
                  <a:lnTo>
                    <a:pt x="20" y="12"/>
                  </a:lnTo>
                  <a:lnTo>
                    <a:pt x="100" y="0"/>
                  </a:lnTo>
                  <a:lnTo>
                    <a:pt x="121" y="0"/>
                  </a:lnTo>
                  <a:lnTo>
                    <a:pt x="143" y="1"/>
                  </a:lnTo>
                  <a:lnTo>
                    <a:pt x="178" y="10"/>
                  </a:lnTo>
                  <a:lnTo>
                    <a:pt x="199" y="22"/>
                  </a:lnTo>
                  <a:lnTo>
                    <a:pt x="194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51280" y="5938920"/>
              <a:ext cx="133200" cy="30240"/>
            </a:xfrm>
            <a:custGeom>
              <a:avLst/>
              <a:gdLst/>
              <a:ahLst/>
              <a:rect l="l" t="t" r="r" b="b"/>
              <a:pathLst>
                <a:path w="252" h="56">
                  <a:moveTo>
                    <a:pt x="9" y="0"/>
                  </a:moveTo>
                  <a:lnTo>
                    <a:pt x="0" y="56"/>
                  </a:lnTo>
                  <a:lnTo>
                    <a:pt x="252" y="56"/>
                  </a:lnTo>
                  <a:lnTo>
                    <a:pt x="251" y="53"/>
                  </a:lnTo>
                  <a:lnTo>
                    <a:pt x="6" y="53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814920" y="5778360"/>
              <a:ext cx="204480" cy="146160"/>
            </a:xfrm>
            <a:custGeom>
              <a:avLst/>
              <a:gdLst/>
              <a:ahLst/>
              <a:rect l="l" t="t" r="r" b="b"/>
              <a:pathLst>
                <a:path w="387" h="276">
                  <a:moveTo>
                    <a:pt x="0" y="258"/>
                  </a:moveTo>
                  <a:lnTo>
                    <a:pt x="15" y="276"/>
                  </a:lnTo>
                  <a:lnTo>
                    <a:pt x="365" y="276"/>
                  </a:lnTo>
                  <a:lnTo>
                    <a:pt x="387" y="261"/>
                  </a:lnTo>
                  <a:lnTo>
                    <a:pt x="387" y="15"/>
                  </a:lnTo>
                  <a:lnTo>
                    <a:pt x="369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995640" y="5792760"/>
              <a:ext cx="11160" cy="112680"/>
            </a:xfrm>
            <a:custGeom>
              <a:avLst/>
              <a:gdLst/>
              <a:ahLst/>
              <a:rect l="l" t="t" r="r" b="b"/>
              <a:pathLst>
                <a:path w="23" h="215">
                  <a:moveTo>
                    <a:pt x="20" y="10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10" y="20"/>
                  </a:lnTo>
                  <a:lnTo>
                    <a:pt x="10" y="203"/>
                  </a:lnTo>
                  <a:lnTo>
                    <a:pt x="23" y="215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30760" y="5792760"/>
              <a:ext cx="12600" cy="117360"/>
            </a:xfrm>
            <a:custGeom>
              <a:avLst/>
              <a:gdLst/>
              <a:ahLst/>
              <a:rect l="l" t="t" r="r" b="b"/>
              <a:pathLst>
                <a:path w="23" h="222">
                  <a:moveTo>
                    <a:pt x="0" y="213"/>
                  </a:moveTo>
                  <a:lnTo>
                    <a:pt x="12" y="222"/>
                  </a:lnTo>
                  <a:lnTo>
                    <a:pt x="23" y="210"/>
                  </a:lnTo>
                  <a:lnTo>
                    <a:pt x="14" y="202"/>
                  </a:lnTo>
                  <a:lnTo>
                    <a:pt x="14" y="110"/>
                  </a:lnTo>
                  <a:lnTo>
                    <a:pt x="13" y="20"/>
                  </a:lnTo>
                  <a:lnTo>
                    <a:pt x="23" y="13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215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836880" y="5792760"/>
              <a:ext cx="166680" cy="6480"/>
            </a:xfrm>
            <a:custGeom>
              <a:avLst/>
              <a:gdLst/>
              <a:ahLst/>
              <a:rect l="l" t="t" r="r" b="b"/>
              <a:pathLst>
                <a:path w="314" h="13">
                  <a:moveTo>
                    <a:pt x="0" y="0"/>
                  </a:moveTo>
                  <a:lnTo>
                    <a:pt x="11" y="13"/>
                  </a:lnTo>
                  <a:lnTo>
                    <a:pt x="301" y="13"/>
                  </a:lnTo>
                  <a:lnTo>
                    <a:pt x="3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836880" y="5899320"/>
              <a:ext cx="171720" cy="10800"/>
            </a:xfrm>
            <a:custGeom>
              <a:avLst/>
              <a:gdLst/>
              <a:ahLst/>
              <a:rect l="l" t="t" r="r" b="b"/>
              <a:pathLst>
                <a:path w="325" h="19">
                  <a:moveTo>
                    <a:pt x="313" y="19"/>
                  </a:moveTo>
                  <a:lnTo>
                    <a:pt x="325" y="12"/>
                  </a:lnTo>
                  <a:lnTo>
                    <a:pt x="310" y="0"/>
                  </a:lnTo>
                  <a:lnTo>
                    <a:pt x="303" y="7"/>
                  </a:lnTo>
                  <a:lnTo>
                    <a:pt x="13" y="7"/>
                  </a:lnTo>
                  <a:lnTo>
                    <a:pt x="0" y="19"/>
                  </a:lnTo>
                  <a:lnTo>
                    <a:pt x="313" y="1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38680" y="5799240"/>
              <a:ext cx="162000" cy="102960"/>
            </a:xfrm>
            <a:custGeom>
              <a:avLst/>
              <a:gdLst/>
              <a:ahLst/>
              <a:rect l="l" t="t" r="r" b="b"/>
              <a:pathLst>
                <a:path w="307" h="195">
                  <a:moveTo>
                    <a:pt x="0" y="183"/>
                  </a:moveTo>
                  <a:lnTo>
                    <a:pt x="12" y="195"/>
                  </a:lnTo>
                  <a:lnTo>
                    <a:pt x="288" y="195"/>
                  </a:lnTo>
                  <a:lnTo>
                    <a:pt x="307" y="186"/>
                  </a:lnTo>
                  <a:lnTo>
                    <a:pt x="307" y="9"/>
                  </a:lnTo>
                  <a:lnTo>
                    <a:pt x="294" y="0"/>
                  </a:lnTo>
                  <a:lnTo>
                    <a:pt x="15" y="0"/>
                  </a:lnTo>
                  <a:lnTo>
                    <a:pt x="1" y="8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3884400" y="3490920"/>
              <a:ext cx="787320" cy="20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869080" y="5445000"/>
              <a:ext cx="1866960" cy="98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824520" y="5510160"/>
              <a:ext cx="180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562800" y="6049800"/>
              <a:ext cx="2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223320" y="5648400"/>
              <a:ext cx="15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763600" y="5146560"/>
              <a:ext cx="63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Branch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710320" y="5329080"/>
              <a:ext cx="66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6972480" y="5572080"/>
              <a:ext cx="493560" cy="303120"/>
              <a:chOff x="6972480" y="5572080"/>
              <a:chExt cx="493560" cy="303120"/>
            </a:xfrm>
          </p:grpSpPr>
          <p:pic>
            <p:nvPicPr>
              <p:cNvPr id="201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72480" y="5572080"/>
                <a:ext cx="493560" cy="30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72480" y="5572080"/>
                <a:ext cx="49356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9" name=""/>
            <p:cNvSpPr/>
            <p:nvPr/>
          </p:nvSpPr>
          <p:spPr>
            <a:xfrm>
              <a:off x="6818400" y="5754600"/>
              <a:ext cx="18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297480" y="6058080"/>
              <a:ext cx="257400" cy="41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97480" y="6018120"/>
              <a:ext cx="257400" cy="41400"/>
            </a:xfrm>
            <a:custGeom>
              <a:avLst/>
              <a:gdLst/>
              <a:ahLst/>
              <a:rect l="l" t="t" r="r" b="b"/>
              <a:pathLst>
                <a:path w="484" h="78">
                  <a:moveTo>
                    <a:pt x="34" y="0"/>
                  </a:moveTo>
                  <a:lnTo>
                    <a:pt x="450" y="3"/>
                  </a:lnTo>
                  <a:lnTo>
                    <a:pt x="484" y="78"/>
                  </a:lnTo>
                  <a:lnTo>
                    <a:pt x="0" y="7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473880" y="6086520"/>
              <a:ext cx="66600" cy="4680"/>
            </a:xfrm>
            <a:custGeom>
              <a:avLst/>
              <a:gdLst/>
              <a:ahLst/>
              <a:rect l="l" t="t" r="r" b="b"/>
              <a:pathLst>
                <a:path w="124" h="9">
                  <a:moveTo>
                    <a:pt x="124" y="3"/>
                  </a:moveTo>
                  <a:lnTo>
                    <a:pt x="37" y="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124" y="6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269040" y="6141960"/>
              <a:ext cx="325440" cy="11160"/>
            </a:xfrm>
            <a:custGeom>
              <a:avLst/>
              <a:gdLst/>
              <a:ahLst/>
              <a:rect l="l" t="t" r="r" b="b"/>
              <a:pathLst>
                <a:path w="615" h="21">
                  <a:moveTo>
                    <a:pt x="4" y="0"/>
                  </a:moveTo>
                  <a:lnTo>
                    <a:pt x="615" y="8"/>
                  </a:lnTo>
                  <a:lnTo>
                    <a:pt x="615" y="21"/>
                  </a:lnTo>
                  <a:lnTo>
                    <a:pt x="0" y="21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269040" y="6107040"/>
              <a:ext cx="325440" cy="38160"/>
            </a:xfrm>
            <a:custGeom>
              <a:avLst/>
              <a:gdLst/>
              <a:ahLst/>
              <a:rect l="l" t="t" r="r" b="b"/>
              <a:pathLst>
                <a:path w="615" h="73">
                  <a:moveTo>
                    <a:pt x="19" y="0"/>
                  </a:moveTo>
                  <a:lnTo>
                    <a:pt x="0" y="73"/>
                  </a:lnTo>
                  <a:lnTo>
                    <a:pt x="615" y="73"/>
                  </a:lnTo>
                  <a:lnTo>
                    <a:pt x="58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23200" y="6111720"/>
              <a:ext cx="55440" cy="2880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0" y="0"/>
                  </a:moveTo>
                  <a:lnTo>
                    <a:pt x="12" y="53"/>
                  </a:lnTo>
                  <a:lnTo>
                    <a:pt x="105" y="53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77120" y="6111720"/>
              <a:ext cx="42840" cy="2880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0" y="0"/>
                  </a:moveTo>
                  <a:lnTo>
                    <a:pt x="3" y="35"/>
                  </a:lnTo>
                  <a:lnTo>
                    <a:pt x="16" y="35"/>
                  </a:lnTo>
                  <a:lnTo>
                    <a:pt x="16" y="41"/>
                  </a:lnTo>
                  <a:lnTo>
                    <a:pt x="3" y="42"/>
                  </a:lnTo>
                  <a:lnTo>
                    <a:pt x="3" y="54"/>
                  </a:lnTo>
                  <a:lnTo>
                    <a:pt x="80" y="54"/>
                  </a:lnTo>
                  <a:lnTo>
                    <a:pt x="76" y="41"/>
                  </a:lnTo>
                  <a:lnTo>
                    <a:pt x="61" y="41"/>
                  </a:lnTo>
                  <a:lnTo>
                    <a:pt x="61" y="35"/>
                  </a:lnTo>
                  <a:lnTo>
                    <a:pt x="76" y="35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280200" y="6111720"/>
              <a:ext cx="185760" cy="28800"/>
            </a:xfrm>
            <a:custGeom>
              <a:avLst/>
              <a:gdLst/>
              <a:ahLst/>
              <a:rect l="l" t="t" r="r" b="b"/>
              <a:pathLst>
                <a:path w="352" h="55">
                  <a:moveTo>
                    <a:pt x="14" y="0"/>
                  </a:moveTo>
                  <a:lnTo>
                    <a:pt x="13" y="10"/>
                  </a:lnTo>
                  <a:lnTo>
                    <a:pt x="25" y="10"/>
                  </a:lnTo>
                  <a:lnTo>
                    <a:pt x="23" y="25"/>
                  </a:lnTo>
                  <a:lnTo>
                    <a:pt x="7" y="25"/>
                  </a:lnTo>
                  <a:lnTo>
                    <a:pt x="0" y="47"/>
                  </a:lnTo>
                  <a:lnTo>
                    <a:pt x="22" y="49"/>
                  </a:lnTo>
                  <a:lnTo>
                    <a:pt x="22" y="53"/>
                  </a:lnTo>
                  <a:lnTo>
                    <a:pt x="280" y="55"/>
                  </a:lnTo>
                  <a:lnTo>
                    <a:pt x="280" y="50"/>
                  </a:lnTo>
                  <a:lnTo>
                    <a:pt x="329" y="50"/>
                  </a:lnTo>
                  <a:lnTo>
                    <a:pt x="329" y="44"/>
                  </a:lnTo>
                  <a:lnTo>
                    <a:pt x="343" y="44"/>
                  </a:lnTo>
                  <a:lnTo>
                    <a:pt x="343" y="24"/>
                  </a:lnTo>
                  <a:lnTo>
                    <a:pt x="352" y="24"/>
                  </a:lnTo>
                  <a:lnTo>
                    <a:pt x="352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354720" y="6013440"/>
              <a:ext cx="144360" cy="39600"/>
            </a:xfrm>
            <a:custGeom>
              <a:avLst/>
              <a:gdLst/>
              <a:ahLst/>
              <a:rect l="l" t="t" r="r" b="b"/>
              <a:pathLst>
                <a:path w="273" h="75">
                  <a:moveTo>
                    <a:pt x="56" y="0"/>
                  </a:moveTo>
                  <a:lnTo>
                    <a:pt x="223" y="3"/>
                  </a:lnTo>
                  <a:lnTo>
                    <a:pt x="260" y="10"/>
                  </a:lnTo>
                  <a:lnTo>
                    <a:pt x="273" y="72"/>
                  </a:lnTo>
                  <a:lnTo>
                    <a:pt x="269" y="75"/>
                  </a:lnTo>
                  <a:lnTo>
                    <a:pt x="3" y="75"/>
                  </a:lnTo>
                  <a:lnTo>
                    <a:pt x="0" y="72"/>
                  </a:lnTo>
                  <a:lnTo>
                    <a:pt x="13" y="1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77040" y="5985000"/>
              <a:ext cx="93600" cy="60120"/>
            </a:xfrm>
            <a:custGeom>
              <a:avLst/>
              <a:gdLst/>
              <a:ahLst/>
              <a:rect l="l" t="t" r="r" b="b"/>
              <a:pathLst>
                <a:path w="177" h="114">
                  <a:moveTo>
                    <a:pt x="175" y="55"/>
                  </a:moveTo>
                  <a:lnTo>
                    <a:pt x="138" y="15"/>
                  </a:lnTo>
                  <a:lnTo>
                    <a:pt x="90" y="0"/>
                  </a:lnTo>
                  <a:lnTo>
                    <a:pt x="68" y="2"/>
                  </a:lnTo>
                  <a:lnTo>
                    <a:pt x="46" y="14"/>
                  </a:lnTo>
                  <a:lnTo>
                    <a:pt x="5" y="58"/>
                  </a:lnTo>
                  <a:lnTo>
                    <a:pt x="0" y="81"/>
                  </a:lnTo>
                  <a:lnTo>
                    <a:pt x="18" y="99"/>
                  </a:lnTo>
                  <a:lnTo>
                    <a:pt x="89" y="114"/>
                  </a:lnTo>
                  <a:lnTo>
                    <a:pt x="160" y="99"/>
                  </a:lnTo>
                  <a:lnTo>
                    <a:pt x="177" y="81"/>
                  </a:lnTo>
                  <a:lnTo>
                    <a:pt x="175" y="55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372360" y="5969160"/>
              <a:ext cx="102960" cy="42840"/>
            </a:xfrm>
            <a:custGeom>
              <a:avLst/>
              <a:gdLst/>
              <a:ahLst/>
              <a:rect l="l" t="t" r="r" b="b"/>
              <a:pathLst>
                <a:path w="197" h="81">
                  <a:moveTo>
                    <a:pt x="194" y="42"/>
                  </a:moveTo>
                  <a:lnTo>
                    <a:pt x="152" y="70"/>
                  </a:lnTo>
                  <a:lnTo>
                    <a:pt x="100" y="81"/>
                  </a:lnTo>
                  <a:lnTo>
                    <a:pt x="48" y="73"/>
                  </a:lnTo>
                  <a:lnTo>
                    <a:pt x="3" y="40"/>
                  </a:lnTo>
                  <a:lnTo>
                    <a:pt x="0" y="24"/>
                  </a:lnTo>
                  <a:lnTo>
                    <a:pt x="20" y="12"/>
                  </a:lnTo>
                  <a:lnTo>
                    <a:pt x="98" y="0"/>
                  </a:lnTo>
                  <a:lnTo>
                    <a:pt x="119" y="0"/>
                  </a:lnTo>
                  <a:lnTo>
                    <a:pt x="141" y="2"/>
                  </a:lnTo>
                  <a:lnTo>
                    <a:pt x="177" y="11"/>
                  </a:lnTo>
                  <a:lnTo>
                    <a:pt x="197" y="22"/>
                  </a:lnTo>
                  <a:lnTo>
                    <a:pt x="194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357960" y="6019920"/>
              <a:ext cx="135000" cy="28440"/>
            </a:xfrm>
            <a:custGeom>
              <a:avLst/>
              <a:gdLst/>
              <a:ahLst/>
              <a:rect l="l" t="t" r="r" b="b"/>
              <a:pathLst>
                <a:path w="257" h="56">
                  <a:moveTo>
                    <a:pt x="12" y="0"/>
                  </a:moveTo>
                  <a:lnTo>
                    <a:pt x="0" y="56"/>
                  </a:lnTo>
                  <a:lnTo>
                    <a:pt x="257" y="56"/>
                  </a:lnTo>
                  <a:lnTo>
                    <a:pt x="254" y="53"/>
                  </a:lnTo>
                  <a:lnTo>
                    <a:pt x="7" y="53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323040" y="5857920"/>
              <a:ext cx="204840" cy="146160"/>
            </a:xfrm>
            <a:custGeom>
              <a:avLst/>
              <a:gdLst/>
              <a:ahLst/>
              <a:rect l="l" t="t" r="r" b="b"/>
              <a:pathLst>
                <a:path w="387" h="274">
                  <a:moveTo>
                    <a:pt x="0" y="255"/>
                  </a:moveTo>
                  <a:lnTo>
                    <a:pt x="15" y="274"/>
                  </a:lnTo>
                  <a:lnTo>
                    <a:pt x="365" y="274"/>
                  </a:lnTo>
                  <a:lnTo>
                    <a:pt x="387" y="259"/>
                  </a:lnTo>
                  <a:lnTo>
                    <a:pt x="387" y="15"/>
                  </a:lnTo>
                  <a:lnTo>
                    <a:pt x="368" y="0"/>
                  </a:lnTo>
                  <a:lnTo>
                    <a:pt x="19" y="0"/>
                  </a:lnTo>
                  <a:lnTo>
                    <a:pt x="2" y="12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00880" y="5872320"/>
              <a:ext cx="14400" cy="112680"/>
            </a:xfrm>
            <a:custGeom>
              <a:avLst/>
              <a:gdLst/>
              <a:ahLst/>
              <a:rect l="l" t="t" r="r" b="b"/>
              <a:pathLst>
                <a:path w="25" h="215">
                  <a:moveTo>
                    <a:pt x="23" y="10"/>
                  </a:moveTo>
                  <a:lnTo>
                    <a:pt x="16" y="0"/>
                  </a:lnTo>
                  <a:lnTo>
                    <a:pt x="0" y="12"/>
                  </a:lnTo>
                  <a:lnTo>
                    <a:pt x="14" y="19"/>
                  </a:lnTo>
                  <a:lnTo>
                    <a:pt x="14" y="203"/>
                  </a:lnTo>
                  <a:lnTo>
                    <a:pt x="25" y="215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338880" y="5872320"/>
              <a:ext cx="12600" cy="11736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214"/>
                  </a:moveTo>
                  <a:lnTo>
                    <a:pt x="13" y="223"/>
                  </a:lnTo>
                  <a:lnTo>
                    <a:pt x="25" y="211"/>
                  </a:lnTo>
                  <a:lnTo>
                    <a:pt x="14" y="202"/>
                  </a:lnTo>
                  <a:lnTo>
                    <a:pt x="14" y="111"/>
                  </a:lnTo>
                  <a:lnTo>
                    <a:pt x="13" y="19"/>
                  </a:lnTo>
                  <a:lnTo>
                    <a:pt x="23" y="12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215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345360" y="5872320"/>
              <a:ext cx="166680" cy="6120"/>
            </a:xfrm>
            <a:custGeom>
              <a:avLst/>
              <a:gdLst/>
              <a:ahLst/>
              <a:rect l="l" t="t" r="r" b="b"/>
              <a:pathLst>
                <a:path w="313" h="12">
                  <a:moveTo>
                    <a:pt x="0" y="0"/>
                  </a:moveTo>
                  <a:lnTo>
                    <a:pt x="10" y="12"/>
                  </a:lnTo>
                  <a:lnTo>
                    <a:pt x="298" y="12"/>
                  </a:lnTo>
                  <a:lnTo>
                    <a:pt x="3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345360" y="5978520"/>
              <a:ext cx="171360" cy="11160"/>
            </a:xfrm>
            <a:custGeom>
              <a:avLst/>
              <a:gdLst/>
              <a:ahLst/>
              <a:rect l="l" t="t" r="r" b="b"/>
              <a:pathLst>
                <a:path w="324" h="20">
                  <a:moveTo>
                    <a:pt x="312" y="20"/>
                  </a:moveTo>
                  <a:lnTo>
                    <a:pt x="324" y="12"/>
                  </a:lnTo>
                  <a:lnTo>
                    <a:pt x="310" y="0"/>
                  </a:lnTo>
                  <a:lnTo>
                    <a:pt x="300" y="8"/>
                  </a:lnTo>
                  <a:lnTo>
                    <a:pt x="12" y="8"/>
                  </a:lnTo>
                  <a:lnTo>
                    <a:pt x="0" y="20"/>
                  </a:lnTo>
                  <a:lnTo>
                    <a:pt x="312" y="2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345360" y="5878440"/>
              <a:ext cx="163440" cy="103320"/>
            </a:xfrm>
            <a:custGeom>
              <a:avLst/>
              <a:gdLst/>
              <a:ahLst/>
              <a:rect l="l" t="t" r="r" b="b"/>
              <a:pathLst>
                <a:path w="307" h="196">
                  <a:moveTo>
                    <a:pt x="0" y="185"/>
                  </a:moveTo>
                  <a:lnTo>
                    <a:pt x="13" y="196"/>
                  </a:lnTo>
                  <a:lnTo>
                    <a:pt x="288" y="196"/>
                  </a:lnTo>
                  <a:lnTo>
                    <a:pt x="307" y="187"/>
                  </a:lnTo>
                  <a:lnTo>
                    <a:pt x="307" y="11"/>
                  </a:lnTo>
                  <a:lnTo>
                    <a:pt x="291" y="0"/>
                  </a:lnTo>
                  <a:lnTo>
                    <a:pt x="15" y="0"/>
                  </a:lnTo>
                  <a:lnTo>
                    <a:pt x="1" y="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 flipV="1">
              <a:off x="3963600" y="3504960"/>
              <a:ext cx="3321000" cy="21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X.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组交换技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不可靠线路上实现可靠的传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差错处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流量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错误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X.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780840" y="2139840"/>
            <a:ext cx="6572880" cy="3951360"/>
            <a:chOff x="780840" y="2139840"/>
            <a:chExt cx="6572880" cy="3951360"/>
          </a:xfrm>
        </p:grpSpPr>
        <p:sp>
          <p:nvSpPr>
            <p:cNvPr id="2043" name=""/>
            <p:cNvSpPr/>
            <p:nvPr/>
          </p:nvSpPr>
          <p:spPr>
            <a:xfrm>
              <a:off x="1301400" y="213984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宋体"/>
                </a:rPr>
                <a:t>特性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34960" y="2616120"/>
              <a:ext cx="96840" cy="139680"/>
            </a:xfrm>
            <a:custGeom>
              <a:avLst/>
              <a:gdLst/>
              <a:ahLst/>
              <a:rect l="l" t="t" r="r" b="b"/>
              <a:pathLst>
                <a:path w="181" h="266">
                  <a:moveTo>
                    <a:pt x="103" y="266"/>
                  </a:moveTo>
                  <a:lnTo>
                    <a:pt x="91" y="266"/>
                  </a:lnTo>
                  <a:lnTo>
                    <a:pt x="65" y="259"/>
                  </a:lnTo>
                  <a:lnTo>
                    <a:pt x="29" y="243"/>
                  </a:lnTo>
                  <a:lnTo>
                    <a:pt x="13" y="227"/>
                  </a:lnTo>
                  <a:lnTo>
                    <a:pt x="3" y="207"/>
                  </a:lnTo>
                  <a:lnTo>
                    <a:pt x="0" y="194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9" y="162"/>
                  </a:lnTo>
                  <a:lnTo>
                    <a:pt x="23" y="135"/>
                  </a:lnTo>
                  <a:lnTo>
                    <a:pt x="45" y="103"/>
                  </a:lnTo>
                  <a:lnTo>
                    <a:pt x="88" y="0"/>
                  </a:lnTo>
                  <a:lnTo>
                    <a:pt x="109" y="65"/>
                  </a:lnTo>
                  <a:lnTo>
                    <a:pt x="129" y="97"/>
                  </a:lnTo>
                  <a:lnTo>
                    <a:pt x="168" y="149"/>
                  </a:lnTo>
                  <a:lnTo>
                    <a:pt x="179" y="181"/>
                  </a:lnTo>
                  <a:lnTo>
                    <a:pt x="181" y="198"/>
                  </a:lnTo>
                  <a:lnTo>
                    <a:pt x="181" y="201"/>
                  </a:lnTo>
                  <a:lnTo>
                    <a:pt x="179" y="207"/>
                  </a:lnTo>
                  <a:lnTo>
                    <a:pt x="172" y="230"/>
                  </a:lnTo>
                  <a:lnTo>
                    <a:pt x="156" y="243"/>
                  </a:lnTo>
                  <a:lnTo>
                    <a:pt x="123" y="259"/>
                  </a:lnTo>
                  <a:lnTo>
                    <a:pt x="107" y="266"/>
                  </a:lnTo>
                  <a:lnTo>
                    <a:pt x="88" y="259"/>
                  </a:lnTo>
                  <a:lnTo>
                    <a:pt x="75" y="254"/>
                  </a:lnTo>
                  <a:lnTo>
                    <a:pt x="91" y="257"/>
                  </a:lnTo>
                  <a:lnTo>
                    <a:pt x="100" y="257"/>
                  </a:lnTo>
                  <a:lnTo>
                    <a:pt x="109" y="254"/>
                  </a:lnTo>
                  <a:lnTo>
                    <a:pt x="139" y="241"/>
                  </a:lnTo>
                  <a:lnTo>
                    <a:pt x="159" y="221"/>
                  </a:lnTo>
                  <a:lnTo>
                    <a:pt x="165" y="198"/>
                  </a:lnTo>
                  <a:lnTo>
                    <a:pt x="165" y="191"/>
                  </a:lnTo>
                  <a:lnTo>
                    <a:pt x="165" y="181"/>
                  </a:lnTo>
                  <a:lnTo>
                    <a:pt x="159" y="162"/>
                  </a:lnTo>
                  <a:lnTo>
                    <a:pt x="149" y="142"/>
                  </a:lnTo>
                  <a:lnTo>
                    <a:pt x="156" y="169"/>
                  </a:lnTo>
                  <a:lnTo>
                    <a:pt x="159" y="185"/>
                  </a:lnTo>
                  <a:lnTo>
                    <a:pt x="156" y="191"/>
                  </a:lnTo>
                  <a:lnTo>
                    <a:pt x="156" y="198"/>
                  </a:lnTo>
                  <a:lnTo>
                    <a:pt x="149" y="211"/>
                  </a:lnTo>
                  <a:lnTo>
                    <a:pt x="136" y="223"/>
                  </a:lnTo>
                  <a:lnTo>
                    <a:pt x="123" y="227"/>
                  </a:lnTo>
                  <a:lnTo>
                    <a:pt x="109" y="230"/>
                  </a:lnTo>
                  <a:lnTo>
                    <a:pt x="93" y="227"/>
                  </a:lnTo>
                  <a:lnTo>
                    <a:pt x="85" y="223"/>
                  </a:lnTo>
                  <a:lnTo>
                    <a:pt x="72" y="223"/>
                  </a:lnTo>
                  <a:lnTo>
                    <a:pt x="65" y="227"/>
                  </a:lnTo>
                  <a:lnTo>
                    <a:pt x="59" y="237"/>
                  </a:lnTo>
                  <a:lnTo>
                    <a:pt x="59" y="243"/>
                  </a:lnTo>
                  <a:lnTo>
                    <a:pt x="61" y="247"/>
                  </a:lnTo>
                  <a:lnTo>
                    <a:pt x="65" y="250"/>
                  </a:lnTo>
                  <a:lnTo>
                    <a:pt x="103" y="266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786320" y="254484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可靠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434960" y="2911320"/>
              <a:ext cx="96840" cy="141480"/>
            </a:xfrm>
            <a:custGeom>
              <a:avLst/>
              <a:gdLst/>
              <a:ahLst/>
              <a:rect l="l" t="t" r="r" b="b"/>
              <a:pathLst>
                <a:path w="181" h="267">
                  <a:moveTo>
                    <a:pt x="103" y="267"/>
                  </a:moveTo>
                  <a:lnTo>
                    <a:pt x="91" y="267"/>
                  </a:lnTo>
                  <a:lnTo>
                    <a:pt x="65" y="260"/>
                  </a:lnTo>
                  <a:lnTo>
                    <a:pt x="29" y="244"/>
                  </a:lnTo>
                  <a:lnTo>
                    <a:pt x="13" y="228"/>
                  </a:lnTo>
                  <a:lnTo>
                    <a:pt x="3" y="208"/>
                  </a:lnTo>
                  <a:lnTo>
                    <a:pt x="0" y="195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9" y="163"/>
                  </a:lnTo>
                  <a:lnTo>
                    <a:pt x="23" y="136"/>
                  </a:lnTo>
                  <a:lnTo>
                    <a:pt x="45" y="104"/>
                  </a:lnTo>
                  <a:lnTo>
                    <a:pt x="88" y="0"/>
                  </a:lnTo>
                  <a:lnTo>
                    <a:pt x="109" y="65"/>
                  </a:lnTo>
                  <a:lnTo>
                    <a:pt x="129" y="97"/>
                  </a:lnTo>
                  <a:lnTo>
                    <a:pt x="168" y="149"/>
                  </a:lnTo>
                  <a:lnTo>
                    <a:pt x="179" y="181"/>
                  </a:lnTo>
                  <a:lnTo>
                    <a:pt x="181" y="199"/>
                  </a:lnTo>
                  <a:lnTo>
                    <a:pt x="181" y="201"/>
                  </a:lnTo>
                  <a:lnTo>
                    <a:pt x="179" y="208"/>
                  </a:lnTo>
                  <a:lnTo>
                    <a:pt x="172" y="231"/>
                  </a:lnTo>
                  <a:lnTo>
                    <a:pt x="156" y="244"/>
                  </a:lnTo>
                  <a:lnTo>
                    <a:pt x="123" y="260"/>
                  </a:lnTo>
                  <a:lnTo>
                    <a:pt x="107" y="267"/>
                  </a:lnTo>
                  <a:lnTo>
                    <a:pt x="88" y="260"/>
                  </a:lnTo>
                  <a:lnTo>
                    <a:pt x="75" y="255"/>
                  </a:lnTo>
                  <a:lnTo>
                    <a:pt x="91" y="257"/>
                  </a:lnTo>
                  <a:lnTo>
                    <a:pt x="100" y="257"/>
                  </a:lnTo>
                  <a:lnTo>
                    <a:pt x="109" y="255"/>
                  </a:lnTo>
                  <a:lnTo>
                    <a:pt x="139" y="241"/>
                  </a:lnTo>
                  <a:lnTo>
                    <a:pt x="159" y="221"/>
                  </a:lnTo>
                  <a:lnTo>
                    <a:pt x="165" y="199"/>
                  </a:lnTo>
                  <a:lnTo>
                    <a:pt x="165" y="192"/>
                  </a:lnTo>
                  <a:lnTo>
                    <a:pt x="165" y="181"/>
                  </a:lnTo>
                  <a:lnTo>
                    <a:pt x="159" y="163"/>
                  </a:lnTo>
                  <a:lnTo>
                    <a:pt x="149" y="143"/>
                  </a:lnTo>
                  <a:lnTo>
                    <a:pt x="156" y="169"/>
                  </a:lnTo>
                  <a:lnTo>
                    <a:pt x="159" y="185"/>
                  </a:lnTo>
                  <a:lnTo>
                    <a:pt x="156" y="192"/>
                  </a:lnTo>
                  <a:lnTo>
                    <a:pt x="156" y="199"/>
                  </a:lnTo>
                  <a:lnTo>
                    <a:pt x="149" y="212"/>
                  </a:lnTo>
                  <a:lnTo>
                    <a:pt x="136" y="224"/>
                  </a:lnTo>
                  <a:lnTo>
                    <a:pt x="123" y="228"/>
                  </a:lnTo>
                  <a:lnTo>
                    <a:pt x="109" y="231"/>
                  </a:lnTo>
                  <a:lnTo>
                    <a:pt x="93" y="228"/>
                  </a:lnTo>
                  <a:lnTo>
                    <a:pt x="85" y="224"/>
                  </a:lnTo>
                  <a:lnTo>
                    <a:pt x="72" y="224"/>
                  </a:lnTo>
                  <a:lnTo>
                    <a:pt x="65" y="228"/>
                  </a:lnTo>
                  <a:lnTo>
                    <a:pt x="59" y="237"/>
                  </a:lnTo>
                  <a:lnTo>
                    <a:pt x="59" y="244"/>
                  </a:lnTo>
                  <a:lnTo>
                    <a:pt x="61" y="248"/>
                  </a:lnTo>
                  <a:lnTo>
                    <a:pt x="65" y="251"/>
                  </a:lnTo>
                  <a:lnTo>
                    <a:pt x="103" y="267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832040" y="28414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投资保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434960" y="3203640"/>
              <a:ext cx="96840" cy="141120"/>
            </a:xfrm>
            <a:custGeom>
              <a:avLst/>
              <a:gdLst/>
              <a:ahLst/>
              <a:rect l="l" t="t" r="r" b="b"/>
              <a:pathLst>
                <a:path w="181" h="266">
                  <a:moveTo>
                    <a:pt x="103" y="266"/>
                  </a:moveTo>
                  <a:lnTo>
                    <a:pt x="91" y="266"/>
                  </a:lnTo>
                  <a:lnTo>
                    <a:pt x="65" y="260"/>
                  </a:lnTo>
                  <a:lnTo>
                    <a:pt x="29" y="244"/>
                  </a:lnTo>
                  <a:lnTo>
                    <a:pt x="13" y="228"/>
                  </a:lnTo>
                  <a:lnTo>
                    <a:pt x="3" y="208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9" y="162"/>
                  </a:lnTo>
                  <a:lnTo>
                    <a:pt x="23" y="136"/>
                  </a:lnTo>
                  <a:lnTo>
                    <a:pt x="45" y="104"/>
                  </a:lnTo>
                  <a:lnTo>
                    <a:pt x="88" y="0"/>
                  </a:lnTo>
                  <a:lnTo>
                    <a:pt x="109" y="65"/>
                  </a:lnTo>
                  <a:lnTo>
                    <a:pt x="129" y="97"/>
                  </a:lnTo>
                  <a:lnTo>
                    <a:pt x="168" y="149"/>
                  </a:lnTo>
                  <a:lnTo>
                    <a:pt x="179" y="181"/>
                  </a:lnTo>
                  <a:lnTo>
                    <a:pt x="181" y="198"/>
                  </a:lnTo>
                  <a:lnTo>
                    <a:pt x="181" y="201"/>
                  </a:lnTo>
                  <a:lnTo>
                    <a:pt x="179" y="208"/>
                  </a:lnTo>
                  <a:lnTo>
                    <a:pt x="172" y="230"/>
                  </a:lnTo>
                  <a:lnTo>
                    <a:pt x="156" y="244"/>
                  </a:lnTo>
                  <a:lnTo>
                    <a:pt x="123" y="260"/>
                  </a:lnTo>
                  <a:lnTo>
                    <a:pt x="107" y="266"/>
                  </a:lnTo>
                  <a:lnTo>
                    <a:pt x="88" y="260"/>
                  </a:lnTo>
                  <a:lnTo>
                    <a:pt x="75" y="254"/>
                  </a:lnTo>
                  <a:lnTo>
                    <a:pt x="91" y="257"/>
                  </a:lnTo>
                  <a:lnTo>
                    <a:pt x="100" y="257"/>
                  </a:lnTo>
                  <a:lnTo>
                    <a:pt x="109" y="254"/>
                  </a:lnTo>
                  <a:lnTo>
                    <a:pt x="139" y="241"/>
                  </a:lnTo>
                  <a:lnTo>
                    <a:pt x="159" y="221"/>
                  </a:lnTo>
                  <a:lnTo>
                    <a:pt x="165" y="198"/>
                  </a:lnTo>
                  <a:lnTo>
                    <a:pt x="165" y="192"/>
                  </a:lnTo>
                  <a:lnTo>
                    <a:pt x="165" y="181"/>
                  </a:lnTo>
                  <a:lnTo>
                    <a:pt x="159" y="162"/>
                  </a:lnTo>
                  <a:lnTo>
                    <a:pt x="149" y="143"/>
                  </a:lnTo>
                  <a:lnTo>
                    <a:pt x="156" y="169"/>
                  </a:lnTo>
                  <a:lnTo>
                    <a:pt x="159" y="185"/>
                  </a:lnTo>
                  <a:lnTo>
                    <a:pt x="156" y="192"/>
                  </a:lnTo>
                  <a:lnTo>
                    <a:pt x="156" y="198"/>
                  </a:lnTo>
                  <a:lnTo>
                    <a:pt x="149" y="212"/>
                  </a:lnTo>
                  <a:lnTo>
                    <a:pt x="136" y="224"/>
                  </a:lnTo>
                  <a:lnTo>
                    <a:pt x="123" y="228"/>
                  </a:lnTo>
                  <a:lnTo>
                    <a:pt x="109" y="230"/>
                  </a:lnTo>
                  <a:lnTo>
                    <a:pt x="93" y="228"/>
                  </a:lnTo>
                  <a:lnTo>
                    <a:pt x="85" y="224"/>
                  </a:lnTo>
                  <a:lnTo>
                    <a:pt x="72" y="224"/>
                  </a:lnTo>
                  <a:lnTo>
                    <a:pt x="65" y="228"/>
                  </a:lnTo>
                  <a:lnTo>
                    <a:pt x="59" y="237"/>
                  </a:lnTo>
                  <a:lnTo>
                    <a:pt x="59" y="244"/>
                  </a:lnTo>
                  <a:lnTo>
                    <a:pt x="61" y="248"/>
                  </a:lnTo>
                  <a:lnTo>
                    <a:pt x="65" y="250"/>
                  </a:lnTo>
                  <a:lnTo>
                    <a:pt x="103" y="266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991880" y="3133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地址唯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079320" y="2212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问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224760" y="2660760"/>
              <a:ext cx="95040" cy="141120"/>
            </a:xfrm>
            <a:custGeom>
              <a:avLst/>
              <a:gdLst/>
              <a:ahLst/>
              <a:rect l="l" t="t" r="r" b="b"/>
              <a:pathLst>
                <a:path w="181" h="266">
                  <a:moveTo>
                    <a:pt x="102" y="266"/>
                  </a:moveTo>
                  <a:lnTo>
                    <a:pt x="90" y="266"/>
                  </a:lnTo>
                  <a:lnTo>
                    <a:pt x="65" y="260"/>
                  </a:lnTo>
                  <a:lnTo>
                    <a:pt x="29" y="244"/>
                  </a:lnTo>
                  <a:lnTo>
                    <a:pt x="13" y="228"/>
                  </a:lnTo>
                  <a:lnTo>
                    <a:pt x="2" y="208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9" y="162"/>
                  </a:lnTo>
                  <a:lnTo>
                    <a:pt x="22" y="136"/>
                  </a:lnTo>
                  <a:lnTo>
                    <a:pt x="45" y="104"/>
                  </a:lnTo>
                  <a:lnTo>
                    <a:pt x="88" y="0"/>
                  </a:lnTo>
                  <a:lnTo>
                    <a:pt x="109" y="65"/>
                  </a:lnTo>
                  <a:lnTo>
                    <a:pt x="129" y="97"/>
                  </a:lnTo>
                  <a:lnTo>
                    <a:pt x="167" y="149"/>
                  </a:lnTo>
                  <a:lnTo>
                    <a:pt x="178" y="181"/>
                  </a:lnTo>
                  <a:lnTo>
                    <a:pt x="181" y="198"/>
                  </a:lnTo>
                  <a:lnTo>
                    <a:pt x="181" y="201"/>
                  </a:lnTo>
                  <a:lnTo>
                    <a:pt x="178" y="208"/>
                  </a:lnTo>
                  <a:lnTo>
                    <a:pt x="171" y="230"/>
                  </a:lnTo>
                  <a:lnTo>
                    <a:pt x="155" y="244"/>
                  </a:lnTo>
                  <a:lnTo>
                    <a:pt x="122" y="260"/>
                  </a:lnTo>
                  <a:lnTo>
                    <a:pt x="106" y="266"/>
                  </a:lnTo>
                  <a:lnTo>
                    <a:pt x="88" y="260"/>
                  </a:lnTo>
                  <a:lnTo>
                    <a:pt x="74" y="254"/>
                  </a:lnTo>
                  <a:lnTo>
                    <a:pt x="90" y="257"/>
                  </a:lnTo>
                  <a:lnTo>
                    <a:pt x="100" y="257"/>
                  </a:lnTo>
                  <a:lnTo>
                    <a:pt x="109" y="254"/>
                  </a:lnTo>
                  <a:lnTo>
                    <a:pt x="138" y="241"/>
                  </a:lnTo>
                  <a:lnTo>
                    <a:pt x="158" y="221"/>
                  </a:lnTo>
                  <a:lnTo>
                    <a:pt x="165" y="198"/>
                  </a:lnTo>
                  <a:lnTo>
                    <a:pt x="165" y="192"/>
                  </a:lnTo>
                  <a:lnTo>
                    <a:pt x="165" y="181"/>
                  </a:lnTo>
                  <a:lnTo>
                    <a:pt x="158" y="162"/>
                  </a:lnTo>
                  <a:lnTo>
                    <a:pt x="149" y="142"/>
                  </a:lnTo>
                  <a:lnTo>
                    <a:pt x="155" y="169"/>
                  </a:lnTo>
                  <a:lnTo>
                    <a:pt x="158" y="185"/>
                  </a:lnTo>
                  <a:lnTo>
                    <a:pt x="155" y="192"/>
                  </a:lnTo>
                  <a:lnTo>
                    <a:pt x="155" y="198"/>
                  </a:lnTo>
                  <a:lnTo>
                    <a:pt x="149" y="212"/>
                  </a:lnTo>
                  <a:lnTo>
                    <a:pt x="135" y="224"/>
                  </a:lnTo>
                  <a:lnTo>
                    <a:pt x="122" y="228"/>
                  </a:lnTo>
                  <a:lnTo>
                    <a:pt x="109" y="230"/>
                  </a:lnTo>
                  <a:lnTo>
                    <a:pt x="93" y="228"/>
                  </a:lnTo>
                  <a:lnTo>
                    <a:pt x="85" y="224"/>
                  </a:lnTo>
                  <a:lnTo>
                    <a:pt x="72" y="224"/>
                  </a:lnTo>
                  <a:lnTo>
                    <a:pt x="65" y="228"/>
                  </a:lnTo>
                  <a:lnTo>
                    <a:pt x="58" y="237"/>
                  </a:lnTo>
                  <a:lnTo>
                    <a:pt x="58" y="244"/>
                  </a:lnTo>
                  <a:lnTo>
                    <a:pt x="61" y="248"/>
                  </a:lnTo>
                  <a:lnTo>
                    <a:pt x="65" y="250"/>
                  </a:lnTo>
                  <a:lnTo>
                    <a:pt x="102" y="266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667200" y="25909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网络开销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224760" y="2955960"/>
              <a:ext cx="95040" cy="141120"/>
            </a:xfrm>
            <a:custGeom>
              <a:avLst/>
              <a:gdLst/>
              <a:ahLst/>
              <a:rect l="l" t="t" r="r" b="b"/>
              <a:pathLst>
                <a:path w="181" h="267">
                  <a:moveTo>
                    <a:pt x="102" y="267"/>
                  </a:moveTo>
                  <a:lnTo>
                    <a:pt x="90" y="267"/>
                  </a:lnTo>
                  <a:lnTo>
                    <a:pt x="65" y="260"/>
                  </a:lnTo>
                  <a:lnTo>
                    <a:pt x="29" y="244"/>
                  </a:lnTo>
                  <a:lnTo>
                    <a:pt x="13" y="228"/>
                  </a:lnTo>
                  <a:lnTo>
                    <a:pt x="2" y="208"/>
                  </a:lnTo>
                  <a:lnTo>
                    <a:pt x="0" y="195"/>
                  </a:lnTo>
                  <a:lnTo>
                    <a:pt x="0" y="188"/>
                  </a:lnTo>
                  <a:lnTo>
                    <a:pt x="0" y="182"/>
                  </a:lnTo>
                  <a:lnTo>
                    <a:pt x="9" y="163"/>
                  </a:lnTo>
                  <a:lnTo>
                    <a:pt x="22" y="136"/>
                  </a:lnTo>
                  <a:lnTo>
                    <a:pt x="45" y="104"/>
                  </a:lnTo>
                  <a:lnTo>
                    <a:pt x="88" y="0"/>
                  </a:lnTo>
                  <a:lnTo>
                    <a:pt x="109" y="66"/>
                  </a:lnTo>
                  <a:lnTo>
                    <a:pt x="129" y="98"/>
                  </a:lnTo>
                  <a:lnTo>
                    <a:pt x="167" y="150"/>
                  </a:lnTo>
                  <a:lnTo>
                    <a:pt x="178" y="182"/>
                  </a:lnTo>
                  <a:lnTo>
                    <a:pt x="181" y="199"/>
                  </a:lnTo>
                  <a:lnTo>
                    <a:pt x="181" y="202"/>
                  </a:lnTo>
                  <a:lnTo>
                    <a:pt x="178" y="208"/>
                  </a:lnTo>
                  <a:lnTo>
                    <a:pt x="171" y="231"/>
                  </a:lnTo>
                  <a:lnTo>
                    <a:pt x="155" y="244"/>
                  </a:lnTo>
                  <a:lnTo>
                    <a:pt x="122" y="260"/>
                  </a:lnTo>
                  <a:lnTo>
                    <a:pt x="106" y="267"/>
                  </a:lnTo>
                  <a:lnTo>
                    <a:pt x="88" y="260"/>
                  </a:lnTo>
                  <a:lnTo>
                    <a:pt x="74" y="255"/>
                  </a:lnTo>
                  <a:lnTo>
                    <a:pt x="90" y="257"/>
                  </a:lnTo>
                  <a:lnTo>
                    <a:pt x="100" y="257"/>
                  </a:lnTo>
                  <a:lnTo>
                    <a:pt x="109" y="255"/>
                  </a:lnTo>
                  <a:lnTo>
                    <a:pt x="138" y="241"/>
                  </a:lnTo>
                  <a:lnTo>
                    <a:pt x="158" y="221"/>
                  </a:lnTo>
                  <a:lnTo>
                    <a:pt x="165" y="199"/>
                  </a:lnTo>
                  <a:lnTo>
                    <a:pt x="165" y="192"/>
                  </a:lnTo>
                  <a:lnTo>
                    <a:pt x="165" y="182"/>
                  </a:lnTo>
                  <a:lnTo>
                    <a:pt x="158" y="163"/>
                  </a:lnTo>
                  <a:lnTo>
                    <a:pt x="149" y="143"/>
                  </a:lnTo>
                  <a:lnTo>
                    <a:pt x="155" y="170"/>
                  </a:lnTo>
                  <a:lnTo>
                    <a:pt x="158" y="186"/>
                  </a:lnTo>
                  <a:lnTo>
                    <a:pt x="155" y="192"/>
                  </a:lnTo>
                  <a:lnTo>
                    <a:pt x="155" y="199"/>
                  </a:lnTo>
                  <a:lnTo>
                    <a:pt x="149" y="212"/>
                  </a:lnTo>
                  <a:lnTo>
                    <a:pt x="135" y="224"/>
                  </a:lnTo>
                  <a:lnTo>
                    <a:pt x="122" y="228"/>
                  </a:lnTo>
                  <a:lnTo>
                    <a:pt x="109" y="231"/>
                  </a:lnTo>
                  <a:lnTo>
                    <a:pt x="93" y="228"/>
                  </a:lnTo>
                  <a:lnTo>
                    <a:pt x="85" y="224"/>
                  </a:lnTo>
                  <a:lnTo>
                    <a:pt x="72" y="224"/>
                  </a:lnTo>
                  <a:lnTo>
                    <a:pt x="65" y="228"/>
                  </a:lnTo>
                  <a:lnTo>
                    <a:pt x="58" y="237"/>
                  </a:lnTo>
                  <a:lnTo>
                    <a:pt x="58" y="244"/>
                  </a:lnTo>
                  <a:lnTo>
                    <a:pt x="61" y="248"/>
                  </a:lnTo>
                  <a:lnTo>
                    <a:pt x="65" y="251"/>
                  </a:lnTo>
                  <a:lnTo>
                    <a:pt x="102" y="267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667200" y="28861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网络延迟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732040" y="3924360"/>
              <a:ext cx="3913200" cy="896760"/>
            </a:xfrm>
            <a:custGeom>
              <a:avLst/>
              <a:gdLst/>
              <a:ahLst/>
              <a:rect l="l" t="t" r="r" b="b"/>
              <a:pathLst>
                <a:path w="7396" h="1695">
                  <a:moveTo>
                    <a:pt x="727" y="442"/>
                  </a:moveTo>
                  <a:lnTo>
                    <a:pt x="478" y="474"/>
                  </a:lnTo>
                  <a:lnTo>
                    <a:pt x="276" y="530"/>
                  </a:lnTo>
                  <a:lnTo>
                    <a:pt x="128" y="602"/>
                  </a:lnTo>
                  <a:lnTo>
                    <a:pt x="33" y="687"/>
                  </a:lnTo>
                  <a:lnTo>
                    <a:pt x="0" y="778"/>
                  </a:lnTo>
                  <a:lnTo>
                    <a:pt x="0" y="798"/>
                  </a:lnTo>
                  <a:lnTo>
                    <a:pt x="4" y="822"/>
                  </a:lnTo>
                  <a:lnTo>
                    <a:pt x="27" y="869"/>
                  </a:lnTo>
                  <a:lnTo>
                    <a:pt x="65" y="913"/>
                  </a:lnTo>
                  <a:lnTo>
                    <a:pt x="121" y="957"/>
                  </a:lnTo>
                  <a:lnTo>
                    <a:pt x="286" y="1039"/>
                  </a:lnTo>
                  <a:lnTo>
                    <a:pt x="230" y="1097"/>
                  </a:lnTo>
                  <a:lnTo>
                    <a:pt x="204" y="1157"/>
                  </a:lnTo>
                  <a:lnTo>
                    <a:pt x="201" y="1185"/>
                  </a:lnTo>
                  <a:lnTo>
                    <a:pt x="205" y="1215"/>
                  </a:lnTo>
                  <a:lnTo>
                    <a:pt x="236" y="1270"/>
                  </a:lnTo>
                  <a:lnTo>
                    <a:pt x="288" y="1320"/>
                  </a:lnTo>
                  <a:lnTo>
                    <a:pt x="365" y="1368"/>
                  </a:lnTo>
                  <a:lnTo>
                    <a:pt x="571" y="1446"/>
                  </a:lnTo>
                  <a:lnTo>
                    <a:pt x="828" y="1496"/>
                  </a:lnTo>
                  <a:lnTo>
                    <a:pt x="1117" y="1514"/>
                  </a:lnTo>
                  <a:lnTo>
                    <a:pt x="1414" y="1493"/>
                  </a:lnTo>
                  <a:lnTo>
                    <a:pt x="1699" y="1424"/>
                  </a:lnTo>
                  <a:lnTo>
                    <a:pt x="2114" y="1530"/>
                  </a:lnTo>
                  <a:lnTo>
                    <a:pt x="2589" y="1586"/>
                  </a:lnTo>
                  <a:lnTo>
                    <a:pt x="2835" y="1593"/>
                  </a:lnTo>
                  <a:lnTo>
                    <a:pt x="2959" y="1593"/>
                  </a:lnTo>
                  <a:lnTo>
                    <a:pt x="3084" y="1589"/>
                  </a:lnTo>
                  <a:lnTo>
                    <a:pt x="3569" y="1532"/>
                  </a:lnTo>
                  <a:lnTo>
                    <a:pt x="3876" y="1608"/>
                  </a:lnTo>
                  <a:lnTo>
                    <a:pt x="4213" y="1662"/>
                  </a:lnTo>
                  <a:lnTo>
                    <a:pt x="4563" y="1690"/>
                  </a:lnTo>
                  <a:lnTo>
                    <a:pt x="4743" y="1695"/>
                  </a:lnTo>
                  <a:lnTo>
                    <a:pt x="4832" y="1695"/>
                  </a:lnTo>
                  <a:lnTo>
                    <a:pt x="4924" y="1695"/>
                  </a:lnTo>
                  <a:lnTo>
                    <a:pt x="5280" y="1675"/>
                  </a:lnTo>
                  <a:lnTo>
                    <a:pt x="5623" y="1632"/>
                  </a:lnTo>
                  <a:lnTo>
                    <a:pt x="5943" y="1565"/>
                  </a:lnTo>
                  <a:lnTo>
                    <a:pt x="6232" y="1473"/>
                  </a:lnTo>
                  <a:lnTo>
                    <a:pt x="6418" y="1480"/>
                  </a:lnTo>
                  <a:lnTo>
                    <a:pt x="6507" y="1480"/>
                  </a:lnTo>
                  <a:lnTo>
                    <a:pt x="6594" y="1477"/>
                  </a:lnTo>
                  <a:lnTo>
                    <a:pt x="6904" y="1436"/>
                  </a:lnTo>
                  <a:lnTo>
                    <a:pt x="7147" y="1361"/>
                  </a:lnTo>
                  <a:lnTo>
                    <a:pt x="7313" y="1261"/>
                  </a:lnTo>
                  <a:lnTo>
                    <a:pt x="7364" y="1207"/>
                  </a:lnTo>
                  <a:lnTo>
                    <a:pt x="7392" y="1149"/>
                  </a:lnTo>
                  <a:lnTo>
                    <a:pt x="7396" y="1121"/>
                  </a:lnTo>
                  <a:lnTo>
                    <a:pt x="7396" y="1091"/>
                  </a:lnTo>
                  <a:lnTo>
                    <a:pt x="7370" y="1031"/>
                  </a:lnTo>
                  <a:lnTo>
                    <a:pt x="7320" y="975"/>
                  </a:lnTo>
                  <a:lnTo>
                    <a:pt x="7237" y="919"/>
                  </a:lnTo>
                  <a:lnTo>
                    <a:pt x="6981" y="820"/>
                  </a:lnTo>
                  <a:lnTo>
                    <a:pt x="7131" y="755"/>
                  </a:lnTo>
                  <a:lnTo>
                    <a:pt x="7173" y="719"/>
                  </a:lnTo>
                  <a:lnTo>
                    <a:pt x="7197" y="680"/>
                  </a:lnTo>
                  <a:lnTo>
                    <a:pt x="7203" y="644"/>
                  </a:lnTo>
                  <a:lnTo>
                    <a:pt x="7191" y="606"/>
                  </a:lnTo>
                  <a:lnTo>
                    <a:pt x="7119" y="536"/>
                  </a:lnTo>
                  <a:lnTo>
                    <a:pt x="6993" y="480"/>
                  </a:lnTo>
                  <a:lnTo>
                    <a:pt x="6822" y="442"/>
                  </a:lnTo>
                  <a:lnTo>
                    <a:pt x="6618" y="427"/>
                  </a:lnTo>
                  <a:lnTo>
                    <a:pt x="6563" y="427"/>
                  </a:lnTo>
                  <a:lnTo>
                    <a:pt x="6506" y="431"/>
                  </a:lnTo>
                  <a:lnTo>
                    <a:pt x="6388" y="444"/>
                  </a:lnTo>
                  <a:lnTo>
                    <a:pt x="6224" y="379"/>
                  </a:lnTo>
                  <a:lnTo>
                    <a:pt x="6033" y="323"/>
                  </a:lnTo>
                  <a:lnTo>
                    <a:pt x="5601" y="250"/>
                  </a:lnTo>
                  <a:lnTo>
                    <a:pt x="5369" y="234"/>
                  </a:lnTo>
                  <a:lnTo>
                    <a:pt x="5249" y="231"/>
                  </a:lnTo>
                  <a:lnTo>
                    <a:pt x="5189" y="231"/>
                  </a:lnTo>
                  <a:lnTo>
                    <a:pt x="5129" y="230"/>
                  </a:lnTo>
                  <a:lnTo>
                    <a:pt x="4655" y="269"/>
                  </a:lnTo>
                  <a:lnTo>
                    <a:pt x="4558" y="209"/>
                  </a:lnTo>
                  <a:lnTo>
                    <a:pt x="4441" y="153"/>
                  </a:lnTo>
                  <a:lnTo>
                    <a:pt x="4160" y="67"/>
                  </a:lnTo>
                  <a:lnTo>
                    <a:pt x="3835" y="18"/>
                  </a:lnTo>
                  <a:lnTo>
                    <a:pt x="3486" y="0"/>
                  </a:lnTo>
                  <a:lnTo>
                    <a:pt x="3402" y="0"/>
                  </a:lnTo>
                  <a:lnTo>
                    <a:pt x="3314" y="4"/>
                  </a:lnTo>
                  <a:lnTo>
                    <a:pt x="3141" y="15"/>
                  </a:lnTo>
                  <a:lnTo>
                    <a:pt x="2815" y="65"/>
                  </a:lnTo>
                  <a:lnTo>
                    <a:pt x="2534" y="149"/>
                  </a:lnTo>
                  <a:lnTo>
                    <a:pt x="2317" y="269"/>
                  </a:lnTo>
                  <a:lnTo>
                    <a:pt x="2117" y="197"/>
                  </a:lnTo>
                  <a:lnTo>
                    <a:pt x="1880" y="154"/>
                  </a:lnTo>
                  <a:lnTo>
                    <a:pt x="1628" y="141"/>
                  </a:lnTo>
                  <a:lnTo>
                    <a:pt x="1566" y="141"/>
                  </a:lnTo>
                  <a:lnTo>
                    <a:pt x="1502" y="142"/>
                  </a:lnTo>
                  <a:lnTo>
                    <a:pt x="1375" y="154"/>
                  </a:lnTo>
                  <a:lnTo>
                    <a:pt x="1145" y="191"/>
                  </a:lnTo>
                  <a:lnTo>
                    <a:pt x="949" y="254"/>
                  </a:lnTo>
                  <a:lnTo>
                    <a:pt x="808" y="338"/>
                  </a:lnTo>
                  <a:lnTo>
                    <a:pt x="764" y="387"/>
                  </a:lnTo>
                  <a:lnTo>
                    <a:pt x="738" y="442"/>
                  </a:lnTo>
                  <a:lnTo>
                    <a:pt x="727" y="442"/>
                  </a:lnTo>
                  <a:close/>
                </a:path>
              </a:pathLst>
            </a:custGeom>
            <a:solidFill>
              <a:srgbClr val="d8ffff"/>
            </a:solidFill>
            <a:ln w="7920">
              <a:solidFill>
                <a:srgbClr val="00cd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463280" y="4232160"/>
              <a:ext cx="48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宋体"/>
                </a:rPr>
                <a:t>X.2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457880" y="2701800"/>
              <a:ext cx="304560" cy="385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464000" y="3087720"/>
              <a:ext cx="29520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471920" y="2701800"/>
              <a:ext cx="1800" cy="385920"/>
            </a:xfrm>
            <a:prstGeom prst="line">
              <a:avLst/>
            </a:prstGeom>
            <a:ln w="0">
              <a:solidFill>
                <a:srgbClr val="323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475160" y="2706840"/>
              <a:ext cx="270000" cy="380880"/>
            </a:xfrm>
            <a:custGeom>
              <a:avLst/>
              <a:gdLst/>
              <a:ahLst/>
              <a:rect l="l" t="t" r="r" b="b"/>
              <a:pathLst>
                <a:path w="512" h="720">
                  <a:moveTo>
                    <a:pt x="0" y="720"/>
                  </a:moveTo>
                  <a:lnTo>
                    <a:pt x="0" y="0"/>
                  </a:lnTo>
                  <a:lnTo>
                    <a:pt x="5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59320" y="2703600"/>
              <a:ext cx="9360" cy="382680"/>
            </a:xfrm>
            <a:custGeom>
              <a:avLst/>
              <a:gdLst/>
              <a:ahLst/>
              <a:rect l="l" t="t" r="r" b="b"/>
              <a:pathLst>
                <a:path w="20" h="721">
                  <a:moveTo>
                    <a:pt x="0" y="7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748040" y="2703600"/>
              <a:ext cx="12960" cy="382680"/>
            </a:xfrm>
            <a:custGeom>
              <a:avLst/>
              <a:gdLst/>
              <a:ahLst/>
              <a:rect l="l" t="t" r="r" b="b"/>
              <a:pathLst>
                <a:path w="26" h="721">
                  <a:moveTo>
                    <a:pt x="0" y="0"/>
                  </a:moveTo>
                  <a:lnTo>
                    <a:pt x="26" y="0"/>
                  </a:lnTo>
                  <a:lnTo>
                    <a:pt x="26" y="72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748040" y="2701800"/>
              <a:ext cx="1800" cy="389160"/>
            </a:xfrm>
            <a:prstGeom prst="line">
              <a:avLst/>
            </a:prstGeom>
            <a:ln w="0">
              <a:solidFill>
                <a:srgbClr val="323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83080" y="2730600"/>
              <a:ext cx="54000" cy="838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489560" y="2735280"/>
              <a:ext cx="41040" cy="745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491000" y="2786040"/>
              <a:ext cx="38160" cy="223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5a5a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491000" y="2736720"/>
              <a:ext cx="17640" cy="47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516560" y="2738520"/>
              <a:ext cx="11160" cy="410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494240" y="2749680"/>
              <a:ext cx="9360" cy="316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494240" y="2749680"/>
              <a:ext cx="9360" cy="28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508640" y="2736720"/>
              <a:ext cx="1440" cy="478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511520" y="2738520"/>
              <a:ext cx="6480" cy="410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500720" y="2789280"/>
              <a:ext cx="4680" cy="172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494240" y="2790720"/>
              <a:ext cx="3240" cy="3240"/>
            </a:xfrm>
            <a:prstGeom prst="ellipse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494240" y="2798640"/>
              <a:ext cx="3240" cy="3240"/>
            </a:xfrm>
            <a:prstGeom prst="ellipse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483080" y="2730600"/>
              <a:ext cx="54000" cy="83880"/>
            </a:xfrm>
            <a:custGeom>
              <a:avLst/>
              <a:gdLst/>
              <a:ahLst/>
              <a:rect l="l" t="t" r="r" b="b"/>
              <a:pathLst>
                <a:path w="103" h="160">
                  <a:moveTo>
                    <a:pt x="103" y="0"/>
                  </a:moveTo>
                  <a:lnTo>
                    <a:pt x="103" y="160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519440" y="2789280"/>
              <a:ext cx="3240" cy="64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551480" y="2733840"/>
              <a:ext cx="183960" cy="79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551480" y="2747880"/>
              <a:ext cx="18396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551480" y="2763720"/>
              <a:ext cx="18396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51480" y="2779560"/>
              <a:ext cx="18396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551480" y="2797200"/>
              <a:ext cx="18396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56264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57200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57848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587840" y="273384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59756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60548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61484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622760" y="273384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63248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64184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64976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657680" y="273384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665600" y="273384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67532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684680" y="273384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692600" y="273384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70232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71168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719600" y="273384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729320" y="273384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551480" y="2868480"/>
              <a:ext cx="183960" cy="81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551480" y="2882880"/>
              <a:ext cx="18396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551480" y="2898720"/>
              <a:ext cx="18396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551480" y="2916360"/>
              <a:ext cx="18396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551480" y="2932200"/>
              <a:ext cx="18396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56264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57200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57848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587840" y="287028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59756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60548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61484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622760" y="287028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3248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64184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64976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657680" y="287028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665600" y="287028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67532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84680" y="287028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692600" y="287028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70232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71168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719600" y="2870280"/>
              <a:ext cx="180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729320" y="2870280"/>
              <a:ext cx="1440" cy="792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551480" y="2998800"/>
              <a:ext cx="183960" cy="81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551480" y="3013200"/>
              <a:ext cx="183960" cy="28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551480" y="3030480"/>
              <a:ext cx="18396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551480" y="3048120"/>
              <a:ext cx="183960" cy="28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551480" y="3062160"/>
              <a:ext cx="18396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56264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200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57848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587840" y="2998800"/>
              <a:ext cx="180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9756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0548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61484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622760" y="2998800"/>
              <a:ext cx="180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63248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64184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64976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657680" y="2998800"/>
              <a:ext cx="180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665600" y="2998800"/>
              <a:ext cx="180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67532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684680" y="2998800"/>
              <a:ext cx="180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692600" y="2998800"/>
              <a:ext cx="180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70232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71168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719600" y="2998800"/>
              <a:ext cx="180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729320" y="2998800"/>
              <a:ext cx="1440" cy="81000"/>
            </a:xfrm>
            <a:prstGeom prst="line">
              <a:avLst/>
            </a:prstGeom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483080" y="2830680"/>
              <a:ext cx="47520" cy="792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483080" y="2828880"/>
              <a:ext cx="49320" cy="972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0" y="19"/>
                  </a:moveTo>
                  <a:lnTo>
                    <a:pt x="92" y="19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483080" y="2846520"/>
              <a:ext cx="66600" cy="1116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83080" y="2846520"/>
              <a:ext cx="68400" cy="1260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0" y="24"/>
                  </a:moveTo>
                  <a:lnTo>
                    <a:pt x="128" y="24"/>
                  </a:lnTo>
                  <a:lnTo>
                    <a:pt x="12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847960" y="2316240"/>
              <a:ext cx="2989440" cy="160956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352760" y="2743200"/>
              <a:ext cx="1800" cy="817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354560" y="2898720"/>
              <a:ext cx="154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620240" y="3114720"/>
              <a:ext cx="653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宋体"/>
                </a:rPr>
                <a:t>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558240" y="2400480"/>
              <a:ext cx="173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Corp.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2" name=""/>
            <p:cNvGrpSpPr/>
            <p:nvPr/>
          </p:nvGrpSpPr>
          <p:grpSpPr>
            <a:xfrm>
              <a:off x="3435480" y="3076560"/>
              <a:ext cx="785520" cy="493560"/>
              <a:chOff x="3435480" y="3076560"/>
              <a:chExt cx="785520" cy="493560"/>
            </a:xfrm>
          </p:grpSpPr>
          <p:pic>
            <p:nvPicPr>
              <p:cNvPr id="2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35480" y="3076560"/>
                <a:ext cx="78552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35480" y="3076560"/>
                <a:ext cx="785520" cy="49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65" name=""/>
            <p:cNvSpPr/>
            <p:nvPr/>
          </p:nvSpPr>
          <p:spPr>
            <a:xfrm>
              <a:off x="4202280" y="3398760"/>
              <a:ext cx="179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763800" y="3527280"/>
              <a:ext cx="1800" cy="460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912960" y="4911840"/>
              <a:ext cx="1655640" cy="88884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760400" y="4971960"/>
              <a:ext cx="1800" cy="66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28920" y="5457960"/>
              <a:ext cx="239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231200" y="5097600"/>
              <a:ext cx="12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80840" y="464040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宋体"/>
                </a:rPr>
                <a:t>Branch. 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1890720" y="5025960"/>
              <a:ext cx="436680" cy="274680"/>
              <a:chOff x="1890720" y="5025960"/>
              <a:chExt cx="436680" cy="274680"/>
            </a:xfrm>
          </p:grpSpPr>
          <p:pic>
            <p:nvPicPr>
              <p:cNvPr id="2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90720" y="5025960"/>
                <a:ext cx="436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90720" y="5025960"/>
                <a:ext cx="43668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75" name=""/>
            <p:cNvSpPr/>
            <p:nvPr/>
          </p:nvSpPr>
          <p:spPr>
            <a:xfrm>
              <a:off x="1755720" y="5191200"/>
              <a:ext cx="163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292400" y="5464080"/>
              <a:ext cx="228600" cy="381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293840" y="5429160"/>
              <a:ext cx="227160" cy="38160"/>
            </a:xfrm>
            <a:custGeom>
              <a:avLst/>
              <a:gdLst/>
              <a:ahLst/>
              <a:rect l="l" t="t" r="r" b="b"/>
              <a:pathLst>
                <a:path w="429" h="70">
                  <a:moveTo>
                    <a:pt x="28" y="0"/>
                  </a:moveTo>
                  <a:lnTo>
                    <a:pt x="398" y="3"/>
                  </a:lnTo>
                  <a:lnTo>
                    <a:pt x="429" y="70"/>
                  </a:lnTo>
                  <a:lnTo>
                    <a:pt x="0" y="7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449360" y="5491080"/>
              <a:ext cx="58680" cy="468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3"/>
                  </a:moveTo>
                  <a:lnTo>
                    <a:pt x="30" y="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109" y="5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266840" y="5541840"/>
              <a:ext cx="287280" cy="9720"/>
            </a:xfrm>
            <a:custGeom>
              <a:avLst/>
              <a:gdLst/>
              <a:ahLst/>
              <a:rect l="l" t="t" r="r" b="b"/>
              <a:pathLst>
                <a:path w="544" h="17">
                  <a:moveTo>
                    <a:pt x="4" y="0"/>
                  </a:moveTo>
                  <a:lnTo>
                    <a:pt x="544" y="6"/>
                  </a:lnTo>
                  <a:lnTo>
                    <a:pt x="544" y="17"/>
                  </a:lnTo>
                  <a:lnTo>
                    <a:pt x="0" y="17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266840" y="5510160"/>
              <a:ext cx="287280" cy="34920"/>
            </a:xfrm>
            <a:custGeom>
              <a:avLst/>
              <a:gdLst/>
              <a:ahLst/>
              <a:rect l="l" t="t" r="r" b="b"/>
              <a:pathLst>
                <a:path w="544" h="65">
                  <a:moveTo>
                    <a:pt x="17" y="0"/>
                  </a:moveTo>
                  <a:lnTo>
                    <a:pt x="0" y="65"/>
                  </a:lnTo>
                  <a:lnTo>
                    <a:pt x="544" y="65"/>
                  </a:lnTo>
                  <a:lnTo>
                    <a:pt x="5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92200" y="5514840"/>
              <a:ext cx="49320" cy="25560"/>
            </a:xfrm>
            <a:custGeom>
              <a:avLst/>
              <a:gdLst/>
              <a:ahLst/>
              <a:rect l="l" t="t" r="r" b="b"/>
              <a:pathLst>
                <a:path w="93" h="48">
                  <a:moveTo>
                    <a:pt x="0" y="0"/>
                  </a:moveTo>
                  <a:lnTo>
                    <a:pt x="8" y="48"/>
                  </a:lnTo>
                  <a:lnTo>
                    <a:pt x="93" y="48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52600" y="5514840"/>
              <a:ext cx="38160" cy="2556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0" y="0"/>
                  </a:moveTo>
                  <a:lnTo>
                    <a:pt x="3" y="29"/>
                  </a:lnTo>
                  <a:lnTo>
                    <a:pt x="15" y="30"/>
                  </a:lnTo>
                  <a:lnTo>
                    <a:pt x="15" y="34"/>
                  </a:lnTo>
                  <a:lnTo>
                    <a:pt x="3" y="37"/>
                  </a:lnTo>
                  <a:lnTo>
                    <a:pt x="3" y="49"/>
                  </a:lnTo>
                  <a:lnTo>
                    <a:pt x="71" y="49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52" y="29"/>
                  </a:lnTo>
                  <a:lnTo>
                    <a:pt x="67" y="2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278000" y="5514840"/>
              <a:ext cx="163440" cy="25560"/>
            </a:xfrm>
            <a:custGeom>
              <a:avLst/>
              <a:gdLst/>
              <a:ahLst/>
              <a:rect l="l" t="t" r="r" b="b"/>
              <a:pathLst>
                <a:path w="311" h="49">
                  <a:moveTo>
                    <a:pt x="11" y="0"/>
                  </a:moveTo>
                  <a:lnTo>
                    <a:pt x="10" y="8"/>
                  </a:lnTo>
                  <a:lnTo>
                    <a:pt x="21" y="8"/>
                  </a:lnTo>
                  <a:lnTo>
                    <a:pt x="18" y="21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17" y="43"/>
                  </a:lnTo>
                  <a:lnTo>
                    <a:pt x="17" y="48"/>
                  </a:lnTo>
                  <a:lnTo>
                    <a:pt x="247" y="49"/>
                  </a:lnTo>
                  <a:lnTo>
                    <a:pt x="247" y="43"/>
                  </a:lnTo>
                  <a:lnTo>
                    <a:pt x="290" y="43"/>
                  </a:lnTo>
                  <a:lnTo>
                    <a:pt x="290" y="37"/>
                  </a:lnTo>
                  <a:lnTo>
                    <a:pt x="302" y="37"/>
                  </a:lnTo>
                  <a:lnTo>
                    <a:pt x="302" y="19"/>
                  </a:lnTo>
                  <a:lnTo>
                    <a:pt x="311" y="19"/>
                  </a:lnTo>
                  <a:lnTo>
                    <a:pt x="3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343160" y="5424480"/>
              <a:ext cx="128520" cy="36360"/>
            </a:xfrm>
            <a:custGeom>
              <a:avLst/>
              <a:gdLst/>
              <a:ahLst/>
              <a:rect l="l" t="t" r="r" b="b"/>
              <a:pathLst>
                <a:path w="244" h="67">
                  <a:moveTo>
                    <a:pt x="50" y="0"/>
                  </a:moveTo>
                  <a:lnTo>
                    <a:pt x="199" y="2"/>
                  </a:lnTo>
                  <a:lnTo>
                    <a:pt x="231" y="9"/>
                  </a:lnTo>
                  <a:lnTo>
                    <a:pt x="244" y="65"/>
                  </a:lnTo>
                  <a:lnTo>
                    <a:pt x="237" y="67"/>
                  </a:lnTo>
                  <a:lnTo>
                    <a:pt x="2" y="67"/>
                  </a:lnTo>
                  <a:lnTo>
                    <a:pt x="0" y="65"/>
                  </a:lnTo>
                  <a:lnTo>
                    <a:pt x="11" y="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363680" y="5400720"/>
              <a:ext cx="84240" cy="54000"/>
            </a:xfrm>
            <a:custGeom>
              <a:avLst/>
              <a:gdLst/>
              <a:ahLst/>
              <a:rect l="l" t="t" r="r" b="b"/>
              <a:pathLst>
                <a:path w="160" h="102">
                  <a:moveTo>
                    <a:pt x="157" y="49"/>
                  </a:moveTo>
                  <a:lnTo>
                    <a:pt x="122" y="13"/>
                  </a:lnTo>
                  <a:lnTo>
                    <a:pt x="81" y="0"/>
                  </a:lnTo>
                  <a:lnTo>
                    <a:pt x="61" y="1"/>
                  </a:lnTo>
                  <a:lnTo>
                    <a:pt x="41" y="12"/>
                  </a:lnTo>
                  <a:lnTo>
                    <a:pt x="4" y="52"/>
                  </a:lnTo>
                  <a:lnTo>
                    <a:pt x="0" y="73"/>
                  </a:lnTo>
                  <a:lnTo>
                    <a:pt x="16" y="89"/>
                  </a:lnTo>
                  <a:lnTo>
                    <a:pt x="80" y="102"/>
                  </a:lnTo>
                  <a:lnTo>
                    <a:pt x="144" y="89"/>
                  </a:lnTo>
                  <a:lnTo>
                    <a:pt x="160" y="73"/>
                  </a:lnTo>
                  <a:lnTo>
                    <a:pt x="157" y="49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359000" y="5386320"/>
              <a:ext cx="93600" cy="38160"/>
            </a:xfrm>
            <a:custGeom>
              <a:avLst/>
              <a:gdLst/>
              <a:ahLst/>
              <a:rect l="l" t="t" r="r" b="b"/>
              <a:pathLst>
                <a:path w="177" h="72">
                  <a:moveTo>
                    <a:pt x="173" y="36"/>
                  </a:moveTo>
                  <a:lnTo>
                    <a:pt x="135" y="62"/>
                  </a:lnTo>
                  <a:lnTo>
                    <a:pt x="89" y="72"/>
                  </a:lnTo>
                  <a:lnTo>
                    <a:pt x="44" y="66"/>
                  </a:lnTo>
                  <a:lnTo>
                    <a:pt x="4" y="36"/>
                  </a:lnTo>
                  <a:lnTo>
                    <a:pt x="0" y="22"/>
                  </a:lnTo>
                  <a:lnTo>
                    <a:pt x="18" y="11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7" y="2"/>
                  </a:lnTo>
                  <a:lnTo>
                    <a:pt x="159" y="8"/>
                  </a:lnTo>
                  <a:lnTo>
                    <a:pt x="177" y="19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346040" y="5430960"/>
              <a:ext cx="119160" cy="27000"/>
            </a:xfrm>
            <a:custGeom>
              <a:avLst/>
              <a:gdLst/>
              <a:ahLst/>
              <a:rect l="l" t="t" r="r" b="b"/>
              <a:pathLst>
                <a:path w="225" h="51">
                  <a:moveTo>
                    <a:pt x="9" y="0"/>
                  </a:moveTo>
                  <a:lnTo>
                    <a:pt x="0" y="51"/>
                  </a:lnTo>
                  <a:lnTo>
                    <a:pt x="225" y="51"/>
                  </a:lnTo>
                  <a:lnTo>
                    <a:pt x="224" y="48"/>
                  </a:lnTo>
                  <a:lnTo>
                    <a:pt x="7" y="48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314360" y="5284800"/>
              <a:ext cx="182520" cy="131760"/>
            </a:xfrm>
            <a:custGeom>
              <a:avLst/>
              <a:gdLst/>
              <a:ahLst/>
              <a:rect l="l" t="t" r="r" b="b"/>
              <a:pathLst>
                <a:path w="343" h="248">
                  <a:moveTo>
                    <a:pt x="0" y="232"/>
                  </a:moveTo>
                  <a:lnTo>
                    <a:pt x="14" y="248"/>
                  </a:lnTo>
                  <a:lnTo>
                    <a:pt x="325" y="248"/>
                  </a:lnTo>
                  <a:lnTo>
                    <a:pt x="343" y="236"/>
                  </a:lnTo>
                  <a:lnTo>
                    <a:pt x="343" y="13"/>
                  </a:lnTo>
                  <a:lnTo>
                    <a:pt x="328" y="0"/>
                  </a:lnTo>
                  <a:lnTo>
                    <a:pt x="18" y="0"/>
                  </a:lnTo>
                  <a:lnTo>
                    <a:pt x="0" y="1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473120" y="5297400"/>
              <a:ext cx="11160" cy="103320"/>
            </a:xfrm>
            <a:custGeom>
              <a:avLst/>
              <a:gdLst/>
              <a:ahLst/>
              <a:rect l="l" t="t" r="r" b="b"/>
              <a:pathLst>
                <a:path w="21" h="193">
                  <a:moveTo>
                    <a:pt x="20" y="6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1" y="182"/>
                  </a:lnTo>
                  <a:lnTo>
                    <a:pt x="21" y="193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328760" y="5297400"/>
              <a:ext cx="11160" cy="106560"/>
            </a:xfrm>
            <a:custGeom>
              <a:avLst/>
              <a:gdLst/>
              <a:ahLst/>
              <a:rect l="l" t="t" r="r" b="b"/>
              <a:pathLst>
                <a:path w="21" h="200">
                  <a:moveTo>
                    <a:pt x="0" y="192"/>
                  </a:moveTo>
                  <a:lnTo>
                    <a:pt x="11" y="200"/>
                  </a:lnTo>
                  <a:lnTo>
                    <a:pt x="21" y="189"/>
                  </a:lnTo>
                  <a:lnTo>
                    <a:pt x="13" y="181"/>
                  </a:lnTo>
                  <a:lnTo>
                    <a:pt x="13" y="97"/>
                  </a:lnTo>
                  <a:lnTo>
                    <a:pt x="12" y="17"/>
                  </a:lnTo>
                  <a:lnTo>
                    <a:pt x="21" y="1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193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335240" y="5297400"/>
              <a:ext cx="147600" cy="6480"/>
            </a:xfrm>
            <a:custGeom>
              <a:avLst/>
              <a:gdLst/>
              <a:ahLst/>
              <a:rect l="l" t="t" r="r" b="b"/>
              <a:pathLst>
                <a:path w="278" h="10">
                  <a:moveTo>
                    <a:pt x="0" y="0"/>
                  </a:moveTo>
                  <a:lnTo>
                    <a:pt x="10" y="10"/>
                  </a:lnTo>
                  <a:lnTo>
                    <a:pt x="265" y="10"/>
                  </a:lnTo>
                  <a:lnTo>
                    <a:pt x="2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333440" y="5394240"/>
              <a:ext cx="154080" cy="972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277" y="18"/>
                  </a:moveTo>
                  <a:lnTo>
                    <a:pt x="289" y="11"/>
                  </a:lnTo>
                  <a:lnTo>
                    <a:pt x="275" y="0"/>
                  </a:lnTo>
                  <a:lnTo>
                    <a:pt x="267" y="7"/>
                  </a:lnTo>
                  <a:lnTo>
                    <a:pt x="12" y="7"/>
                  </a:lnTo>
                  <a:lnTo>
                    <a:pt x="0" y="18"/>
                  </a:lnTo>
                  <a:lnTo>
                    <a:pt x="277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335240" y="5303880"/>
              <a:ext cx="144360" cy="93600"/>
            </a:xfrm>
            <a:custGeom>
              <a:avLst/>
              <a:gdLst/>
              <a:ahLst/>
              <a:rect l="l" t="t" r="r" b="b"/>
              <a:pathLst>
                <a:path w="272" h="176">
                  <a:moveTo>
                    <a:pt x="0" y="165"/>
                  </a:moveTo>
                  <a:lnTo>
                    <a:pt x="11" y="176"/>
                  </a:lnTo>
                  <a:lnTo>
                    <a:pt x="254" y="176"/>
                  </a:lnTo>
                  <a:lnTo>
                    <a:pt x="272" y="168"/>
                  </a:lnTo>
                  <a:lnTo>
                    <a:pt x="272" y="9"/>
                  </a:lnTo>
                  <a:lnTo>
                    <a:pt x="258" y="0"/>
                  </a:lnTo>
                  <a:lnTo>
                    <a:pt x="12" y="0"/>
                  </a:lnTo>
                  <a:lnTo>
                    <a:pt x="1" y="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2254320" y="4761000"/>
              <a:ext cx="1052280" cy="379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279600" y="5129280"/>
              <a:ext cx="1654200" cy="89064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125960" y="5189400"/>
              <a:ext cx="1440" cy="663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94120" y="5676840"/>
              <a:ext cx="2397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598200" y="5316480"/>
              <a:ext cx="12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144600" y="485928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宋体"/>
                </a:rPr>
                <a:t>Branch. 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0" name=""/>
            <p:cNvGrpSpPr/>
            <p:nvPr/>
          </p:nvGrpSpPr>
          <p:grpSpPr>
            <a:xfrm>
              <a:off x="4257720" y="5245200"/>
              <a:ext cx="434880" cy="274680"/>
              <a:chOff x="4257720" y="5245200"/>
              <a:chExt cx="434880" cy="274680"/>
            </a:xfrm>
          </p:grpSpPr>
          <p:pic>
            <p:nvPicPr>
              <p:cNvPr id="22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57720" y="52452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57720" y="52452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3" name=""/>
            <p:cNvSpPr/>
            <p:nvPr/>
          </p:nvSpPr>
          <p:spPr>
            <a:xfrm>
              <a:off x="4121280" y="5410080"/>
              <a:ext cx="164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659040" y="5683320"/>
              <a:ext cx="227160" cy="381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659040" y="5648400"/>
              <a:ext cx="227160" cy="36360"/>
            </a:xfrm>
            <a:custGeom>
              <a:avLst/>
              <a:gdLst/>
              <a:ahLst/>
              <a:rect l="l" t="t" r="r" b="b"/>
              <a:pathLst>
                <a:path w="428" h="69">
                  <a:moveTo>
                    <a:pt x="28" y="0"/>
                  </a:moveTo>
                  <a:lnTo>
                    <a:pt x="398" y="3"/>
                  </a:lnTo>
                  <a:lnTo>
                    <a:pt x="428" y="69"/>
                  </a:lnTo>
                  <a:lnTo>
                    <a:pt x="0" y="6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816360" y="5710320"/>
              <a:ext cx="57240" cy="468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3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109" y="6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632040" y="5761080"/>
              <a:ext cx="289080" cy="7920"/>
            </a:xfrm>
            <a:custGeom>
              <a:avLst/>
              <a:gdLst/>
              <a:ahLst/>
              <a:rect l="l" t="t" r="r" b="b"/>
              <a:pathLst>
                <a:path w="545" h="17">
                  <a:moveTo>
                    <a:pt x="4" y="0"/>
                  </a:moveTo>
                  <a:lnTo>
                    <a:pt x="545" y="6"/>
                  </a:lnTo>
                  <a:lnTo>
                    <a:pt x="545" y="17"/>
                  </a:lnTo>
                  <a:lnTo>
                    <a:pt x="0" y="17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632040" y="5729400"/>
              <a:ext cx="289080" cy="34920"/>
            </a:xfrm>
            <a:custGeom>
              <a:avLst/>
              <a:gdLst/>
              <a:ahLst/>
              <a:rect l="l" t="t" r="r" b="b"/>
              <a:pathLst>
                <a:path w="545" h="65">
                  <a:moveTo>
                    <a:pt x="19" y="0"/>
                  </a:moveTo>
                  <a:lnTo>
                    <a:pt x="0" y="65"/>
                  </a:lnTo>
                  <a:lnTo>
                    <a:pt x="545" y="65"/>
                  </a:lnTo>
                  <a:lnTo>
                    <a:pt x="5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857760" y="5734080"/>
              <a:ext cx="48960" cy="25200"/>
            </a:xfrm>
            <a:custGeom>
              <a:avLst/>
              <a:gdLst/>
              <a:ahLst/>
              <a:rect l="l" t="t" r="r" b="b"/>
              <a:pathLst>
                <a:path w="93" h="48">
                  <a:moveTo>
                    <a:pt x="0" y="0"/>
                  </a:moveTo>
                  <a:lnTo>
                    <a:pt x="8" y="48"/>
                  </a:lnTo>
                  <a:lnTo>
                    <a:pt x="93" y="48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819600" y="5732640"/>
              <a:ext cx="36360" cy="2664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0"/>
                  </a:moveTo>
                  <a:lnTo>
                    <a:pt x="1" y="30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" y="38"/>
                  </a:lnTo>
                  <a:lnTo>
                    <a:pt x="1" y="49"/>
                  </a:lnTo>
                  <a:lnTo>
                    <a:pt x="70" y="49"/>
                  </a:lnTo>
                  <a:lnTo>
                    <a:pt x="66" y="36"/>
                  </a:lnTo>
                  <a:lnTo>
                    <a:pt x="52" y="36"/>
                  </a:lnTo>
                  <a:lnTo>
                    <a:pt x="50" y="30"/>
                  </a:lnTo>
                  <a:lnTo>
                    <a:pt x="66" y="3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43200" y="5734080"/>
              <a:ext cx="163800" cy="25200"/>
            </a:xfrm>
            <a:custGeom>
              <a:avLst/>
              <a:gdLst/>
              <a:ahLst/>
              <a:rect l="l" t="t" r="r" b="b"/>
              <a:pathLst>
                <a:path w="311" h="49">
                  <a:moveTo>
                    <a:pt x="13" y="0"/>
                  </a:moveTo>
                  <a:lnTo>
                    <a:pt x="12" y="9"/>
                  </a:lnTo>
                  <a:lnTo>
                    <a:pt x="21" y="9"/>
                  </a:lnTo>
                  <a:lnTo>
                    <a:pt x="20" y="23"/>
                  </a:lnTo>
                  <a:lnTo>
                    <a:pt x="5" y="23"/>
                  </a:lnTo>
                  <a:lnTo>
                    <a:pt x="0" y="41"/>
                  </a:lnTo>
                  <a:lnTo>
                    <a:pt x="20" y="43"/>
                  </a:lnTo>
                  <a:lnTo>
                    <a:pt x="20" y="48"/>
                  </a:lnTo>
                  <a:lnTo>
                    <a:pt x="247" y="49"/>
                  </a:lnTo>
                  <a:lnTo>
                    <a:pt x="247" y="43"/>
                  </a:lnTo>
                  <a:lnTo>
                    <a:pt x="291" y="43"/>
                  </a:lnTo>
                  <a:lnTo>
                    <a:pt x="291" y="37"/>
                  </a:lnTo>
                  <a:lnTo>
                    <a:pt x="303" y="37"/>
                  </a:lnTo>
                  <a:lnTo>
                    <a:pt x="303" y="20"/>
                  </a:lnTo>
                  <a:lnTo>
                    <a:pt x="311" y="20"/>
                  </a:lnTo>
                  <a:lnTo>
                    <a:pt x="3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708360" y="5643720"/>
              <a:ext cx="128520" cy="34920"/>
            </a:xfrm>
            <a:custGeom>
              <a:avLst/>
              <a:gdLst/>
              <a:ahLst/>
              <a:rect l="l" t="t" r="r" b="b"/>
              <a:pathLst>
                <a:path w="242" h="66">
                  <a:moveTo>
                    <a:pt x="49" y="0"/>
                  </a:moveTo>
                  <a:lnTo>
                    <a:pt x="198" y="3"/>
                  </a:lnTo>
                  <a:lnTo>
                    <a:pt x="230" y="9"/>
                  </a:lnTo>
                  <a:lnTo>
                    <a:pt x="242" y="64"/>
                  </a:lnTo>
                  <a:lnTo>
                    <a:pt x="238" y="66"/>
                  </a:lnTo>
                  <a:lnTo>
                    <a:pt x="1" y="66"/>
                  </a:lnTo>
                  <a:lnTo>
                    <a:pt x="0" y="64"/>
                  </a:lnTo>
                  <a:lnTo>
                    <a:pt x="1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728880" y="5618160"/>
              <a:ext cx="84240" cy="54000"/>
            </a:xfrm>
            <a:custGeom>
              <a:avLst/>
              <a:gdLst/>
              <a:ahLst/>
              <a:rect l="l" t="t" r="r" b="b"/>
              <a:pathLst>
                <a:path w="160" h="102">
                  <a:moveTo>
                    <a:pt x="158" y="51"/>
                  </a:moveTo>
                  <a:lnTo>
                    <a:pt x="123" y="15"/>
                  </a:lnTo>
                  <a:lnTo>
                    <a:pt x="82" y="0"/>
                  </a:lnTo>
                  <a:lnTo>
                    <a:pt x="62" y="1"/>
                  </a:lnTo>
                  <a:lnTo>
                    <a:pt x="42" y="12"/>
                  </a:lnTo>
                  <a:lnTo>
                    <a:pt x="4" y="53"/>
                  </a:lnTo>
                  <a:lnTo>
                    <a:pt x="0" y="73"/>
                  </a:lnTo>
                  <a:lnTo>
                    <a:pt x="16" y="89"/>
                  </a:lnTo>
                  <a:lnTo>
                    <a:pt x="80" y="102"/>
                  </a:lnTo>
                  <a:lnTo>
                    <a:pt x="144" y="90"/>
                  </a:lnTo>
                  <a:lnTo>
                    <a:pt x="160" y="75"/>
                  </a:lnTo>
                  <a:lnTo>
                    <a:pt x="158" y="5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24200" y="5603760"/>
              <a:ext cx="93600" cy="39960"/>
            </a:xfrm>
            <a:custGeom>
              <a:avLst/>
              <a:gdLst/>
              <a:ahLst/>
              <a:rect l="l" t="t" r="r" b="b"/>
              <a:pathLst>
                <a:path w="177" h="74">
                  <a:moveTo>
                    <a:pt x="173" y="36"/>
                  </a:moveTo>
                  <a:lnTo>
                    <a:pt x="135" y="63"/>
                  </a:lnTo>
                  <a:lnTo>
                    <a:pt x="88" y="74"/>
                  </a:lnTo>
                  <a:lnTo>
                    <a:pt x="44" y="66"/>
                  </a:lnTo>
                  <a:lnTo>
                    <a:pt x="4" y="36"/>
                  </a:lnTo>
                  <a:lnTo>
                    <a:pt x="0" y="22"/>
                  </a:lnTo>
                  <a:lnTo>
                    <a:pt x="19" y="11"/>
                  </a:lnTo>
                  <a:lnTo>
                    <a:pt x="89" y="0"/>
                  </a:lnTo>
                  <a:lnTo>
                    <a:pt x="108" y="0"/>
                  </a:lnTo>
                  <a:lnTo>
                    <a:pt x="128" y="2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713040" y="5649840"/>
              <a:ext cx="119160" cy="25560"/>
            </a:xfrm>
            <a:custGeom>
              <a:avLst/>
              <a:gdLst/>
              <a:ahLst/>
              <a:rect l="l" t="t" r="r" b="b"/>
              <a:pathLst>
                <a:path w="225" h="49">
                  <a:moveTo>
                    <a:pt x="7" y="0"/>
                  </a:moveTo>
                  <a:lnTo>
                    <a:pt x="0" y="49"/>
                  </a:lnTo>
                  <a:lnTo>
                    <a:pt x="225" y="49"/>
                  </a:lnTo>
                  <a:lnTo>
                    <a:pt x="223" y="46"/>
                  </a:lnTo>
                  <a:lnTo>
                    <a:pt x="5" y="46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681360" y="5504040"/>
              <a:ext cx="181080" cy="131760"/>
            </a:xfrm>
            <a:custGeom>
              <a:avLst/>
              <a:gdLst/>
              <a:ahLst/>
              <a:rect l="l" t="t" r="r" b="b"/>
              <a:pathLst>
                <a:path w="342" h="249">
                  <a:moveTo>
                    <a:pt x="0" y="232"/>
                  </a:moveTo>
                  <a:lnTo>
                    <a:pt x="14" y="249"/>
                  </a:lnTo>
                  <a:lnTo>
                    <a:pt x="326" y="249"/>
                  </a:lnTo>
                  <a:lnTo>
                    <a:pt x="342" y="236"/>
                  </a:lnTo>
                  <a:lnTo>
                    <a:pt x="342" y="13"/>
                  </a:lnTo>
                  <a:lnTo>
                    <a:pt x="328" y="0"/>
                  </a:lnTo>
                  <a:lnTo>
                    <a:pt x="18" y="0"/>
                  </a:lnTo>
                  <a:lnTo>
                    <a:pt x="1" y="1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40120" y="5516640"/>
              <a:ext cx="11160" cy="101520"/>
            </a:xfrm>
            <a:custGeom>
              <a:avLst/>
              <a:gdLst/>
              <a:ahLst/>
              <a:rect l="l" t="t" r="r" b="b"/>
              <a:pathLst>
                <a:path w="21" h="193">
                  <a:moveTo>
                    <a:pt x="19" y="6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10" y="184"/>
                  </a:lnTo>
                  <a:lnTo>
                    <a:pt x="21" y="193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695760" y="5516640"/>
              <a:ext cx="11160" cy="106200"/>
            </a:xfrm>
            <a:custGeom>
              <a:avLst/>
              <a:gdLst/>
              <a:ahLst/>
              <a:rect l="l" t="t" r="r" b="b"/>
              <a:pathLst>
                <a:path w="20" h="200">
                  <a:moveTo>
                    <a:pt x="0" y="192"/>
                  </a:moveTo>
                  <a:lnTo>
                    <a:pt x="9" y="200"/>
                  </a:lnTo>
                  <a:lnTo>
                    <a:pt x="20" y="190"/>
                  </a:lnTo>
                  <a:lnTo>
                    <a:pt x="13" y="182"/>
                  </a:lnTo>
                  <a:lnTo>
                    <a:pt x="13" y="100"/>
                  </a:lnTo>
                  <a:lnTo>
                    <a:pt x="10" y="17"/>
                  </a:lnTo>
                  <a:lnTo>
                    <a:pt x="20" y="10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193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700440" y="5516640"/>
              <a:ext cx="147600" cy="4680"/>
            </a:xfrm>
            <a:custGeom>
              <a:avLst/>
              <a:gdLst/>
              <a:ahLst/>
              <a:rect l="l" t="t" r="r" b="b"/>
              <a:pathLst>
                <a:path w="280" h="10">
                  <a:moveTo>
                    <a:pt x="0" y="0"/>
                  </a:moveTo>
                  <a:lnTo>
                    <a:pt x="11" y="10"/>
                  </a:lnTo>
                  <a:lnTo>
                    <a:pt x="266" y="10"/>
                  </a:lnTo>
                  <a:lnTo>
                    <a:pt x="2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00440" y="5613480"/>
              <a:ext cx="152280" cy="9360"/>
            </a:xfrm>
            <a:custGeom>
              <a:avLst/>
              <a:gdLst/>
              <a:ahLst/>
              <a:rect l="l" t="t" r="r" b="b"/>
              <a:pathLst>
                <a:path w="290" h="16">
                  <a:moveTo>
                    <a:pt x="277" y="16"/>
                  </a:moveTo>
                  <a:lnTo>
                    <a:pt x="290" y="9"/>
                  </a:lnTo>
                  <a:lnTo>
                    <a:pt x="275" y="0"/>
                  </a:lnTo>
                  <a:lnTo>
                    <a:pt x="267" y="6"/>
                  </a:lnTo>
                  <a:lnTo>
                    <a:pt x="12" y="6"/>
                  </a:lnTo>
                  <a:lnTo>
                    <a:pt x="0" y="16"/>
                  </a:lnTo>
                  <a:lnTo>
                    <a:pt x="277" y="1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700440" y="5522760"/>
              <a:ext cx="144360" cy="93960"/>
            </a:xfrm>
            <a:custGeom>
              <a:avLst/>
              <a:gdLst/>
              <a:ahLst/>
              <a:rect l="l" t="t" r="r" b="b"/>
              <a:pathLst>
                <a:path w="272" h="177">
                  <a:moveTo>
                    <a:pt x="0" y="166"/>
                  </a:moveTo>
                  <a:lnTo>
                    <a:pt x="11" y="177"/>
                  </a:lnTo>
                  <a:lnTo>
                    <a:pt x="256" y="177"/>
                  </a:lnTo>
                  <a:lnTo>
                    <a:pt x="272" y="169"/>
                  </a:lnTo>
                  <a:lnTo>
                    <a:pt x="272" y="9"/>
                  </a:lnTo>
                  <a:lnTo>
                    <a:pt x="260" y="0"/>
                  </a:lnTo>
                  <a:lnTo>
                    <a:pt x="14" y="0"/>
                  </a:lnTo>
                  <a:lnTo>
                    <a:pt x="3" y="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 flipV="1">
              <a:off x="4563720" y="4709880"/>
              <a:ext cx="58680" cy="639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500800" y="5202360"/>
              <a:ext cx="1655640" cy="88884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348240" y="5262480"/>
              <a:ext cx="1800" cy="66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116760" y="5748480"/>
              <a:ext cx="237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822280" y="5388120"/>
              <a:ext cx="12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366880" y="492912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宋体"/>
                </a:rPr>
                <a:t>Branch. 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6480000" y="5316480"/>
              <a:ext cx="435240" cy="274680"/>
              <a:chOff x="6480000" y="5316480"/>
              <a:chExt cx="435240" cy="274680"/>
            </a:xfrm>
          </p:grpSpPr>
          <p:pic>
            <p:nvPicPr>
              <p:cNvPr id="222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80000" y="5316480"/>
                <a:ext cx="43524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80000" y="5316480"/>
                <a:ext cx="43524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31" name=""/>
            <p:cNvSpPr/>
            <p:nvPr/>
          </p:nvSpPr>
          <p:spPr>
            <a:xfrm>
              <a:off x="6342120" y="5483160"/>
              <a:ext cx="166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880240" y="5754600"/>
              <a:ext cx="228600" cy="381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881680" y="5719680"/>
              <a:ext cx="227160" cy="38160"/>
            </a:xfrm>
            <a:custGeom>
              <a:avLst/>
              <a:gdLst/>
              <a:ahLst/>
              <a:rect l="l" t="t" r="r" b="b"/>
              <a:pathLst>
                <a:path w="429" h="70">
                  <a:moveTo>
                    <a:pt x="31" y="0"/>
                  </a:moveTo>
                  <a:lnTo>
                    <a:pt x="400" y="2"/>
                  </a:lnTo>
                  <a:lnTo>
                    <a:pt x="429" y="70"/>
                  </a:lnTo>
                  <a:lnTo>
                    <a:pt x="0" y="7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037200" y="5783400"/>
              <a:ext cx="58680" cy="2880"/>
            </a:xfrm>
            <a:custGeom>
              <a:avLst/>
              <a:gdLst/>
              <a:ahLst/>
              <a:rect l="l" t="t" r="r" b="b"/>
              <a:pathLst>
                <a:path w="110" h="8">
                  <a:moveTo>
                    <a:pt x="110" y="3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3" y="8"/>
                  </a:lnTo>
                  <a:lnTo>
                    <a:pt x="33" y="6"/>
                  </a:lnTo>
                  <a:lnTo>
                    <a:pt x="110" y="6"/>
                  </a:lnTo>
                  <a:lnTo>
                    <a:pt x="1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856120" y="5832360"/>
              <a:ext cx="287640" cy="9720"/>
            </a:xfrm>
            <a:custGeom>
              <a:avLst/>
              <a:gdLst/>
              <a:ahLst/>
              <a:rect l="l" t="t" r="r" b="b"/>
              <a:pathLst>
                <a:path w="544" h="18">
                  <a:moveTo>
                    <a:pt x="3" y="0"/>
                  </a:moveTo>
                  <a:lnTo>
                    <a:pt x="544" y="6"/>
                  </a:lnTo>
                  <a:lnTo>
                    <a:pt x="544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856120" y="5800680"/>
              <a:ext cx="287640" cy="34920"/>
            </a:xfrm>
            <a:custGeom>
              <a:avLst/>
              <a:gdLst/>
              <a:ahLst/>
              <a:rect l="l" t="t" r="r" b="b"/>
              <a:pathLst>
                <a:path w="544" h="65">
                  <a:moveTo>
                    <a:pt x="16" y="0"/>
                  </a:moveTo>
                  <a:lnTo>
                    <a:pt x="0" y="65"/>
                  </a:lnTo>
                  <a:lnTo>
                    <a:pt x="544" y="65"/>
                  </a:lnTo>
                  <a:lnTo>
                    <a:pt x="5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080040" y="5805360"/>
              <a:ext cx="49320" cy="25560"/>
            </a:xfrm>
            <a:custGeom>
              <a:avLst/>
              <a:gdLst/>
              <a:ahLst/>
              <a:rect l="l" t="t" r="r" b="b"/>
              <a:pathLst>
                <a:path w="93" h="48">
                  <a:moveTo>
                    <a:pt x="0" y="0"/>
                  </a:moveTo>
                  <a:lnTo>
                    <a:pt x="9" y="48"/>
                  </a:lnTo>
                  <a:lnTo>
                    <a:pt x="93" y="48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040440" y="5805360"/>
              <a:ext cx="36360" cy="255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0"/>
                  </a:moveTo>
                  <a:lnTo>
                    <a:pt x="2" y="30"/>
                  </a:lnTo>
                  <a:lnTo>
                    <a:pt x="12" y="30"/>
                  </a:lnTo>
                  <a:lnTo>
                    <a:pt x="12" y="34"/>
                  </a:lnTo>
                  <a:lnTo>
                    <a:pt x="2" y="37"/>
                  </a:lnTo>
                  <a:lnTo>
                    <a:pt x="2" y="49"/>
                  </a:lnTo>
                  <a:lnTo>
                    <a:pt x="68" y="49"/>
                  </a:lnTo>
                  <a:lnTo>
                    <a:pt x="66" y="34"/>
                  </a:lnTo>
                  <a:lnTo>
                    <a:pt x="52" y="34"/>
                  </a:lnTo>
                  <a:lnTo>
                    <a:pt x="52" y="30"/>
                  </a:lnTo>
                  <a:lnTo>
                    <a:pt x="66" y="3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865840" y="5805360"/>
              <a:ext cx="165240" cy="25560"/>
            </a:xfrm>
            <a:custGeom>
              <a:avLst/>
              <a:gdLst/>
              <a:ahLst/>
              <a:rect l="l" t="t" r="r" b="b"/>
              <a:pathLst>
                <a:path w="312" h="49">
                  <a:moveTo>
                    <a:pt x="12" y="0"/>
                  </a:moveTo>
                  <a:lnTo>
                    <a:pt x="10" y="9"/>
                  </a:lnTo>
                  <a:lnTo>
                    <a:pt x="22" y="9"/>
                  </a:lnTo>
                  <a:lnTo>
                    <a:pt x="21" y="23"/>
                  </a:lnTo>
                  <a:lnTo>
                    <a:pt x="5" y="23"/>
                  </a:lnTo>
                  <a:lnTo>
                    <a:pt x="0" y="41"/>
                  </a:lnTo>
                  <a:lnTo>
                    <a:pt x="20" y="43"/>
                  </a:lnTo>
                  <a:lnTo>
                    <a:pt x="20" y="48"/>
                  </a:lnTo>
                  <a:lnTo>
                    <a:pt x="246" y="49"/>
                  </a:lnTo>
                  <a:lnTo>
                    <a:pt x="246" y="43"/>
                  </a:lnTo>
                  <a:lnTo>
                    <a:pt x="291" y="43"/>
                  </a:lnTo>
                  <a:lnTo>
                    <a:pt x="291" y="39"/>
                  </a:lnTo>
                  <a:lnTo>
                    <a:pt x="304" y="39"/>
                  </a:lnTo>
                  <a:lnTo>
                    <a:pt x="304" y="21"/>
                  </a:lnTo>
                  <a:lnTo>
                    <a:pt x="312" y="21"/>
                  </a:lnTo>
                  <a:lnTo>
                    <a:pt x="3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931000" y="5716440"/>
              <a:ext cx="128520" cy="34920"/>
            </a:xfrm>
            <a:custGeom>
              <a:avLst/>
              <a:gdLst/>
              <a:ahLst/>
              <a:rect l="l" t="t" r="r" b="b"/>
              <a:pathLst>
                <a:path w="242" h="68">
                  <a:moveTo>
                    <a:pt x="48" y="0"/>
                  </a:moveTo>
                  <a:lnTo>
                    <a:pt x="194" y="2"/>
                  </a:lnTo>
                  <a:lnTo>
                    <a:pt x="229" y="8"/>
                  </a:lnTo>
                  <a:lnTo>
                    <a:pt x="242" y="65"/>
                  </a:lnTo>
                  <a:lnTo>
                    <a:pt x="238" y="68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12" y="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52960" y="5691240"/>
              <a:ext cx="82800" cy="5400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151" y="50"/>
                  </a:moveTo>
                  <a:lnTo>
                    <a:pt x="119" y="14"/>
                  </a:lnTo>
                  <a:lnTo>
                    <a:pt x="80" y="0"/>
                  </a:lnTo>
                  <a:lnTo>
                    <a:pt x="60" y="1"/>
                  </a:lnTo>
                  <a:lnTo>
                    <a:pt x="40" y="12"/>
                  </a:lnTo>
                  <a:lnTo>
                    <a:pt x="4" y="53"/>
                  </a:lnTo>
                  <a:lnTo>
                    <a:pt x="0" y="73"/>
                  </a:lnTo>
                  <a:lnTo>
                    <a:pt x="14" y="89"/>
                  </a:lnTo>
                  <a:lnTo>
                    <a:pt x="78" y="102"/>
                  </a:lnTo>
                  <a:lnTo>
                    <a:pt x="141" y="90"/>
                  </a:lnTo>
                  <a:lnTo>
                    <a:pt x="157" y="74"/>
                  </a:lnTo>
                  <a:lnTo>
                    <a:pt x="151" y="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46840" y="5676840"/>
              <a:ext cx="93600" cy="38160"/>
            </a:xfrm>
            <a:custGeom>
              <a:avLst/>
              <a:gdLst/>
              <a:ahLst/>
              <a:rect l="l" t="t" r="r" b="b"/>
              <a:pathLst>
                <a:path w="177" h="72">
                  <a:moveTo>
                    <a:pt x="173" y="36"/>
                  </a:moveTo>
                  <a:lnTo>
                    <a:pt x="135" y="61"/>
                  </a:lnTo>
                  <a:lnTo>
                    <a:pt x="89" y="72"/>
                  </a:lnTo>
                  <a:lnTo>
                    <a:pt x="45" y="65"/>
                  </a:lnTo>
                  <a:lnTo>
                    <a:pt x="5" y="36"/>
                  </a:lnTo>
                  <a:lnTo>
                    <a:pt x="0" y="21"/>
                  </a:lnTo>
                  <a:lnTo>
                    <a:pt x="18" y="11"/>
                  </a:lnTo>
                  <a:lnTo>
                    <a:pt x="89" y="0"/>
                  </a:lnTo>
                  <a:lnTo>
                    <a:pt x="108" y="0"/>
                  </a:lnTo>
                  <a:lnTo>
                    <a:pt x="128" y="1"/>
                  </a:lnTo>
                  <a:lnTo>
                    <a:pt x="159" y="8"/>
                  </a:lnTo>
                  <a:lnTo>
                    <a:pt x="177" y="19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34240" y="5721480"/>
              <a:ext cx="118800" cy="27000"/>
            </a:xfrm>
            <a:custGeom>
              <a:avLst/>
              <a:gdLst/>
              <a:ahLst/>
              <a:rect l="l" t="t" r="r" b="b"/>
              <a:pathLst>
                <a:path w="226" h="52">
                  <a:moveTo>
                    <a:pt x="9" y="0"/>
                  </a:moveTo>
                  <a:lnTo>
                    <a:pt x="0" y="52"/>
                  </a:lnTo>
                  <a:lnTo>
                    <a:pt x="226" y="52"/>
                  </a:lnTo>
                  <a:lnTo>
                    <a:pt x="224" y="49"/>
                  </a:lnTo>
                  <a:lnTo>
                    <a:pt x="7" y="49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02200" y="5576760"/>
              <a:ext cx="182520" cy="130320"/>
            </a:xfrm>
            <a:custGeom>
              <a:avLst/>
              <a:gdLst/>
              <a:ahLst/>
              <a:rect l="l" t="t" r="r" b="b"/>
              <a:pathLst>
                <a:path w="343" h="248">
                  <a:moveTo>
                    <a:pt x="0" y="230"/>
                  </a:moveTo>
                  <a:lnTo>
                    <a:pt x="15" y="248"/>
                  </a:lnTo>
                  <a:lnTo>
                    <a:pt x="324" y="248"/>
                  </a:lnTo>
                  <a:lnTo>
                    <a:pt x="343" y="234"/>
                  </a:lnTo>
                  <a:lnTo>
                    <a:pt x="343" y="12"/>
                  </a:lnTo>
                  <a:lnTo>
                    <a:pt x="328" y="0"/>
                  </a:lnTo>
                  <a:lnTo>
                    <a:pt x="20" y="0"/>
                  </a:lnTo>
                  <a:lnTo>
                    <a:pt x="2" y="9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62760" y="5587920"/>
              <a:ext cx="9360" cy="103320"/>
            </a:xfrm>
            <a:custGeom>
              <a:avLst/>
              <a:gdLst/>
              <a:ahLst/>
              <a:rect l="l" t="t" r="r" b="b"/>
              <a:pathLst>
                <a:path w="20" h="195">
                  <a:moveTo>
                    <a:pt x="20" y="10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11" y="19"/>
                  </a:lnTo>
                  <a:lnTo>
                    <a:pt x="11" y="185"/>
                  </a:lnTo>
                  <a:lnTo>
                    <a:pt x="20" y="195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16600" y="5587920"/>
              <a:ext cx="12600" cy="106560"/>
            </a:xfrm>
            <a:custGeom>
              <a:avLst/>
              <a:gdLst/>
              <a:ahLst/>
              <a:rect l="l" t="t" r="r" b="b"/>
              <a:pathLst>
                <a:path w="23" h="201">
                  <a:moveTo>
                    <a:pt x="0" y="193"/>
                  </a:moveTo>
                  <a:lnTo>
                    <a:pt x="11" y="201"/>
                  </a:lnTo>
                  <a:lnTo>
                    <a:pt x="23" y="191"/>
                  </a:lnTo>
                  <a:lnTo>
                    <a:pt x="12" y="184"/>
                  </a:lnTo>
                  <a:lnTo>
                    <a:pt x="12" y="102"/>
                  </a:lnTo>
                  <a:lnTo>
                    <a:pt x="12" y="19"/>
                  </a:lnTo>
                  <a:lnTo>
                    <a:pt x="21" y="12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0" y="195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23080" y="5587920"/>
              <a:ext cx="145800" cy="6480"/>
            </a:xfrm>
            <a:custGeom>
              <a:avLst/>
              <a:gdLst/>
              <a:ahLst/>
              <a:rect l="l" t="t" r="r" b="b"/>
              <a:pathLst>
                <a:path w="277" h="12">
                  <a:moveTo>
                    <a:pt x="0" y="0"/>
                  </a:moveTo>
                  <a:lnTo>
                    <a:pt x="10" y="12"/>
                  </a:lnTo>
                  <a:lnTo>
                    <a:pt x="265" y="12"/>
                  </a:lnTo>
                  <a:lnTo>
                    <a:pt x="2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21280" y="5684760"/>
              <a:ext cx="152640" cy="9720"/>
            </a:xfrm>
            <a:custGeom>
              <a:avLst/>
              <a:gdLst/>
              <a:ahLst/>
              <a:rect l="l" t="t" r="r" b="b"/>
              <a:pathLst>
                <a:path w="289" h="16">
                  <a:moveTo>
                    <a:pt x="278" y="16"/>
                  </a:moveTo>
                  <a:lnTo>
                    <a:pt x="289" y="10"/>
                  </a:lnTo>
                  <a:lnTo>
                    <a:pt x="277" y="0"/>
                  </a:lnTo>
                  <a:lnTo>
                    <a:pt x="268" y="6"/>
                  </a:lnTo>
                  <a:lnTo>
                    <a:pt x="13" y="6"/>
                  </a:lnTo>
                  <a:lnTo>
                    <a:pt x="0" y="16"/>
                  </a:lnTo>
                  <a:lnTo>
                    <a:pt x="278" y="1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23080" y="5594400"/>
              <a:ext cx="144360" cy="93600"/>
            </a:xfrm>
            <a:custGeom>
              <a:avLst/>
              <a:gdLst/>
              <a:ahLst/>
              <a:rect l="l" t="t" r="r" b="b"/>
              <a:pathLst>
                <a:path w="272" h="175">
                  <a:moveTo>
                    <a:pt x="0" y="166"/>
                  </a:moveTo>
                  <a:lnTo>
                    <a:pt x="12" y="175"/>
                  </a:lnTo>
                  <a:lnTo>
                    <a:pt x="256" y="175"/>
                  </a:lnTo>
                  <a:lnTo>
                    <a:pt x="272" y="169"/>
                  </a:lnTo>
                  <a:lnTo>
                    <a:pt x="272" y="9"/>
                  </a:lnTo>
                  <a:lnTo>
                    <a:pt x="258" y="0"/>
                  </a:lnTo>
                  <a:lnTo>
                    <a:pt x="13" y="0"/>
                  </a:lnTo>
                  <a:lnTo>
                    <a:pt x="0" y="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6286680" y="4676400"/>
              <a:ext cx="560160" cy="739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ame-Re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快速分组交换技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ame Re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54" name=""/>
          <p:cNvGrpSpPr/>
          <p:nvPr/>
        </p:nvGrpSpPr>
        <p:grpSpPr>
          <a:xfrm>
            <a:off x="505080" y="2048040"/>
            <a:ext cx="7625520" cy="4343400"/>
            <a:chOff x="505080" y="2048040"/>
            <a:chExt cx="7625520" cy="4343400"/>
          </a:xfrm>
        </p:grpSpPr>
        <p:sp>
          <p:nvSpPr>
            <p:cNvPr id="2255" name=""/>
            <p:cNvSpPr/>
            <p:nvPr/>
          </p:nvSpPr>
          <p:spPr>
            <a:xfrm>
              <a:off x="6005520" y="204804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宋体"/>
                </a:rPr>
                <a:t>问题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156360" y="2533680"/>
              <a:ext cx="106200" cy="15408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114" y="292"/>
                  </a:moveTo>
                  <a:lnTo>
                    <a:pt x="100" y="292"/>
                  </a:lnTo>
                  <a:lnTo>
                    <a:pt x="71" y="285"/>
                  </a:lnTo>
                  <a:lnTo>
                    <a:pt x="33" y="267"/>
                  </a:lnTo>
                  <a:lnTo>
                    <a:pt x="14" y="249"/>
                  </a:lnTo>
                  <a:lnTo>
                    <a:pt x="4" y="227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1" y="177"/>
                  </a:lnTo>
                  <a:lnTo>
                    <a:pt x="25" y="148"/>
                  </a:lnTo>
                  <a:lnTo>
                    <a:pt x="50" y="114"/>
                  </a:lnTo>
                  <a:lnTo>
                    <a:pt x="97" y="0"/>
                  </a:lnTo>
                  <a:lnTo>
                    <a:pt x="121" y="71"/>
                  </a:lnTo>
                  <a:lnTo>
                    <a:pt x="143" y="107"/>
                  </a:lnTo>
                  <a:lnTo>
                    <a:pt x="186" y="163"/>
                  </a:lnTo>
                  <a:lnTo>
                    <a:pt x="196" y="199"/>
                  </a:lnTo>
                  <a:lnTo>
                    <a:pt x="200" y="217"/>
                  </a:lnTo>
                  <a:lnTo>
                    <a:pt x="200" y="220"/>
                  </a:lnTo>
                  <a:lnTo>
                    <a:pt x="196" y="227"/>
                  </a:lnTo>
                  <a:lnTo>
                    <a:pt x="189" y="253"/>
                  </a:lnTo>
                  <a:lnTo>
                    <a:pt x="172" y="267"/>
                  </a:lnTo>
                  <a:lnTo>
                    <a:pt x="136" y="285"/>
                  </a:lnTo>
                  <a:lnTo>
                    <a:pt x="117" y="292"/>
                  </a:lnTo>
                  <a:lnTo>
                    <a:pt x="97" y="285"/>
                  </a:lnTo>
                  <a:lnTo>
                    <a:pt x="83" y="277"/>
                  </a:lnTo>
                  <a:lnTo>
                    <a:pt x="100" y="282"/>
                  </a:lnTo>
                  <a:lnTo>
                    <a:pt x="110" y="282"/>
                  </a:lnTo>
                  <a:lnTo>
                    <a:pt x="121" y="277"/>
                  </a:lnTo>
                  <a:lnTo>
                    <a:pt x="153" y="263"/>
                  </a:lnTo>
                  <a:lnTo>
                    <a:pt x="174" y="242"/>
                  </a:lnTo>
                  <a:lnTo>
                    <a:pt x="182" y="217"/>
                  </a:lnTo>
                  <a:lnTo>
                    <a:pt x="182" y="210"/>
                  </a:lnTo>
                  <a:lnTo>
                    <a:pt x="182" y="199"/>
                  </a:lnTo>
                  <a:lnTo>
                    <a:pt x="174" y="177"/>
                  </a:lnTo>
                  <a:lnTo>
                    <a:pt x="164" y="156"/>
                  </a:lnTo>
                  <a:lnTo>
                    <a:pt x="172" y="184"/>
                  </a:lnTo>
                  <a:lnTo>
                    <a:pt x="174" y="203"/>
                  </a:lnTo>
                  <a:lnTo>
                    <a:pt x="172" y="210"/>
                  </a:lnTo>
                  <a:lnTo>
                    <a:pt x="172" y="217"/>
                  </a:lnTo>
                  <a:lnTo>
                    <a:pt x="164" y="232"/>
                  </a:lnTo>
                  <a:lnTo>
                    <a:pt x="150" y="246"/>
                  </a:lnTo>
                  <a:lnTo>
                    <a:pt x="136" y="249"/>
                  </a:lnTo>
                  <a:lnTo>
                    <a:pt x="121" y="253"/>
                  </a:lnTo>
                  <a:lnTo>
                    <a:pt x="103" y="249"/>
                  </a:lnTo>
                  <a:lnTo>
                    <a:pt x="93" y="246"/>
                  </a:lnTo>
                  <a:lnTo>
                    <a:pt x="78" y="246"/>
                  </a:lnTo>
                  <a:lnTo>
                    <a:pt x="71" y="249"/>
                  </a:lnTo>
                  <a:lnTo>
                    <a:pt x="64" y="260"/>
                  </a:lnTo>
                  <a:lnTo>
                    <a:pt x="64" y="267"/>
                  </a:lnTo>
                  <a:lnTo>
                    <a:pt x="68" y="270"/>
                  </a:lnTo>
                  <a:lnTo>
                    <a:pt x="71" y="274"/>
                  </a:lnTo>
                  <a:lnTo>
                    <a:pt x="114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730200" y="245592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广播包不能复制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156360" y="2854440"/>
              <a:ext cx="106200" cy="15552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114" y="292"/>
                  </a:moveTo>
                  <a:lnTo>
                    <a:pt x="100" y="292"/>
                  </a:lnTo>
                  <a:lnTo>
                    <a:pt x="71" y="285"/>
                  </a:lnTo>
                  <a:lnTo>
                    <a:pt x="33" y="268"/>
                  </a:lnTo>
                  <a:lnTo>
                    <a:pt x="14" y="249"/>
                  </a:lnTo>
                  <a:lnTo>
                    <a:pt x="4" y="228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1" y="178"/>
                  </a:lnTo>
                  <a:lnTo>
                    <a:pt x="25" y="149"/>
                  </a:lnTo>
                  <a:lnTo>
                    <a:pt x="50" y="115"/>
                  </a:lnTo>
                  <a:lnTo>
                    <a:pt x="97" y="0"/>
                  </a:lnTo>
                  <a:lnTo>
                    <a:pt x="121" y="72"/>
                  </a:lnTo>
                  <a:lnTo>
                    <a:pt x="143" y="107"/>
                  </a:lnTo>
                  <a:lnTo>
                    <a:pt x="186" y="163"/>
                  </a:lnTo>
                  <a:lnTo>
                    <a:pt x="196" y="199"/>
                  </a:lnTo>
                  <a:lnTo>
                    <a:pt x="200" y="218"/>
                  </a:lnTo>
                  <a:lnTo>
                    <a:pt x="200" y="221"/>
                  </a:lnTo>
                  <a:lnTo>
                    <a:pt x="196" y="228"/>
                  </a:lnTo>
                  <a:lnTo>
                    <a:pt x="189" y="254"/>
                  </a:lnTo>
                  <a:lnTo>
                    <a:pt x="172" y="268"/>
                  </a:lnTo>
                  <a:lnTo>
                    <a:pt x="136" y="285"/>
                  </a:lnTo>
                  <a:lnTo>
                    <a:pt x="117" y="292"/>
                  </a:lnTo>
                  <a:lnTo>
                    <a:pt x="97" y="285"/>
                  </a:lnTo>
                  <a:lnTo>
                    <a:pt x="83" y="278"/>
                  </a:lnTo>
                  <a:lnTo>
                    <a:pt x="100" y="282"/>
                  </a:lnTo>
                  <a:lnTo>
                    <a:pt x="110" y="282"/>
                  </a:lnTo>
                  <a:lnTo>
                    <a:pt x="121" y="278"/>
                  </a:lnTo>
                  <a:lnTo>
                    <a:pt x="153" y="264"/>
                  </a:lnTo>
                  <a:lnTo>
                    <a:pt x="174" y="242"/>
                  </a:lnTo>
                  <a:lnTo>
                    <a:pt x="182" y="218"/>
                  </a:lnTo>
                  <a:lnTo>
                    <a:pt x="182" y="211"/>
                  </a:lnTo>
                  <a:lnTo>
                    <a:pt x="182" y="199"/>
                  </a:lnTo>
                  <a:lnTo>
                    <a:pt x="174" y="178"/>
                  </a:lnTo>
                  <a:lnTo>
                    <a:pt x="164" y="156"/>
                  </a:lnTo>
                  <a:lnTo>
                    <a:pt x="172" y="185"/>
                  </a:lnTo>
                  <a:lnTo>
                    <a:pt x="174" y="203"/>
                  </a:lnTo>
                  <a:lnTo>
                    <a:pt x="172" y="211"/>
                  </a:lnTo>
                  <a:lnTo>
                    <a:pt x="172" y="218"/>
                  </a:lnTo>
                  <a:lnTo>
                    <a:pt x="164" y="232"/>
                  </a:lnTo>
                  <a:lnTo>
                    <a:pt x="150" y="246"/>
                  </a:lnTo>
                  <a:lnTo>
                    <a:pt x="136" y="249"/>
                  </a:lnTo>
                  <a:lnTo>
                    <a:pt x="121" y="254"/>
                  </a:lnTo>
                  <a:lnTo>
                    <a:pt x="103" y="249"/>
                  </a:lnTo>
                  <a:lnTo>
                    <a:pt x="93" y="246"/>
                  </a:lnTo>
                  <a:lnTo>
                    <a:pt x="78" y="246"/>
                  </a:lnTo>
                  <a:lnTo>
                    <a:pt x="71" y="249"/>
                  </a:lnTo>
                  <a:lnTo>
                    <a:pt x="64" y="261"/>
                  </a:lnTo>
                  <a:lnTo>
                    <a:pt x="64" y="268"/>
                  </a:lnTo>
                  <a:lnTo>
                    <a:pt x="68" y="271"/>
                  </a:lnTo>
                  <a:lnTo>
                    <a:pt x="71" y="275"/>
                  </a:lnTo>
                  <a:lnTo>
                    <a:pt x="114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633720" y="277812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拥塞管理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156360" y="3176640"/>
              <a:ext cx="106200" cy="15552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114" y="292"/>
                  </a:moveTo>
                  <a:lnTo>
                    <a:pt x="100" y="292"/>
                  </a:lnTo>
                  <a:lnTo>
                    <a:pt x="71" y="285"/>
                  </a:lnTo>
                  <a:lnTo>
                    <a:pt x="33" y="267"/>
                  </a:lnTo>
                  <a:lnTo>
                    <a:pt x="14" y="249"/>
                  </a:lnTo>
                  <a:lnTo>
                    <a:pt x="4" y="227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1" y="177"/>
                  </a:lnTo>
                  <a:lnTo>
                    <a:pt x="25" y="149"/>
                  </a:lnTo>
                  <a:lnTo>
                    <a:pt x="50" y="114"/>
                  </a:lnTo>
                  <a:lnTo>
                    <a:pt x="97" y="0"/>
                  </a:lnTo>
                  <a:lnTo>
                    <a:pt x="121" y="71"/>
                  </a:lnTo>
                  <a:lnTo>
                    <a:pt x="143" y="107"/>
                  </a:lnTo>
                  <a:lnTo>
                    <a:pt x="186" y="163"/>
                  </a:lnTo>
                  <a:lnTo>
                    <a:pt x="196" y="199"/>
                  </a:lnTo>
                  <a:lnTo>
                    <a:pt x="200" y="217"/>
                  </a:lnTo>
                  <a:lnTo>
                    <a:pt x="200" y="220"/>
                  </a:lnTo>
                  <a:lnTo>
                    <a:pt x="196" y="227"/>
                  </a:lnTo>
                  <a:lnTo>
                    <a:pt x="189" y="253"/>
                  </a:lnTo>
                  <a:lnTo>
                    <a:pt x="172" y="267"/>
                  </a:lnTo>
                  <a:lnTo>
                    <a:pt x="136" y="285"/>
                  </a:lnTo>
                  <a:lnTo>
                    <a:pt x="117" y="292"/>
                  </a:lnTo>
                  <a:lnTo>
                    <a:pt x="97" y="285"/>
                  </a:lnTo>
                  <a:lnTo>
                    <a:pt x="83" y="277"/>
                  </a:lnTo>
                  <a:lnTo>
                    <a:pt x="100" y="282"/>
                  </a:lnTo>
                  <a:lnTo>
                    <a:pt x="110" y="282"/>
                  </a:lnTo>
                  <a:lnTo>
                    <a:pt x="121" y="277"/>
                  </a:lnTo>
                  <a:lnTo>
                    <a:pt x="153" y="263"/>
                  </a:lnTo>
                  <a:lnTo>
                    <a:pt x="174" y="242"/>
                  </a:lnTo>
                  <a:lnTo>
                    <a:pt x="182" y="217"/>
                  </a:lnTo>
                  <a:lnTo>
                    <a:pt x="182" y="210"/>
                  </a:lnTo>
                  <a:lnTo>
                    <a:pt x="182" y="199"/>
                  </a:lnTo>
                  <a:lnTo>
                    <a:pt x="174" y="177"/>
                  </a:lnTo>
                  <a:lnTo>
                    <a:pt x="164" y="156"/>
                  </a:lnTo>
                  <a:lnTo>
                    <a:pt x="172" y="184"/>
                  </a:lnTo>
                  <a:lnTo>
                    <a:pt x="174" y="203"/>
                  </a:lnTo>
                  <a:lnTo>
                    <a:pt x="172" y="210"/>
                  </a:lnTo>
                  <a:lnTo>
                    <a:pt x="172" y="217"/>
                  </a:lnTo>
                  <a:lnTo>
                    <a:pt x="164" y="232"/>
                  </a:lnTo>
                  <a:lnTo>
                    <a:pt x="150" y="246"/>
                  </a:lnTo>
                  <a:lnTo>
                    <a:pt x="136" y="249"/>
                  </a:lnTo>
                  <a:lnTo>
                    <a:pt x="121" y="253"/>
                  </a:lnTo>
                  <a:lnTo>
                    <a:pt x="103" y="249"/>
                  </a:lnTo>
                  <a:lnTo>
                    <a:pt x="93" y="246"/>
                  </a:lnTo>
                  <a:lnTo>
                    <a:pt x="78" y="246"/>
                  </a:lnTo>
                  <a:lnTo>
                    <a:pt x="71" y="249"/>
                  </a:lnTo>
                  <a:lnTo>
                    <a:pt x="64" y="260"/>
                  </a:lnTo>
                  <a:lnTo>
                    <a:pt x="64" y="267"/>
                  </a:lnTo>
                  <a:lnTo>
                    <a:pt x="68" y="270"/>
                  </a:lnTo>
                  <a:lnTo>
                    <a:pt x="71" y="275"/>
                  </a:lnTo>
                  <a:lnTo>
                    <a:pt x="114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826680" y="3100320"/>
              <a:ext cx="130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厂商间节点不能互通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156360" y="3495600"/>
              <a:ext cx="106200" cy="15408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114" y="292"/>
                  </a:moveTo>
                  <a:lnTo>
                    <a:pt x="100" y="292"/>
                  </a:lnTo>
                  <a:lnTo>
                    <a:pt x="71" y="285"/>
                  </a:lnTo>
                  <a:lnTo>
                    <a:pt x="33" y="268"/>
                  </a:lnTo>
                  <a:lnTo>
                    <a:pt x="14" y="249"/>
                  </a:lnTo>
                  <a:lnTo>
                    <a:pt x="4" y="228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1" y="178"/>
                  </a:lnTo>
                  <a:lnTo>
                    <a:pt x="25" y="149"/>
                  </a:lnTo>
                  <a:lnTo>
                    <a:pt x="50" y="115"/>
                  </a:lnTo>
                  <a:lnTo>
                    <a:pt x="97" y="0"/>
                  </a:lnTo>
                  <a:lnTo>
                    <a:pt x="121" y="72"/>
                  </a:lnTo>
                  <a:lnTo>
                    <a:pt x="143" y="107"/>
                  </a:lnTo>
                  <a:lnTo>
                    <a:pt x="186" y="163"/>
                  </a:lnTo>
                  <a:lnTo>
                    <a:pt x="196" y="199"/>
                  </a:lnTo>
                  <a:lnTo>
                    <a:pt x="200" y="218"/>
                  </a:lnTo>
                  <a:lnTo>
                    <a:pt x="200" y="220"/>
                  </a:lnTo>
                  <a:lnTo>
                    <a:pt x="196" y="228"/>
                  </a:lnTo>
                  <a:lnTo>
                    <a:pt x="189" y="253"/>
                  </a:lnTo>
                  <a:lnTo>
                    <a:pt x="172" y="268"/>
                  </a:lnTo>
                  <a:lnTo>
                    <a:pt x="136" y="285"/>
                  </a:lnTo>
                  <a:lnTo>
                    <a:pt x="117" y="292"/>
                  </a:lnTo>
                  <a:lnTo>
                    <a:pt x="97" y="285"/>
                  </a:lnTo>
                  <a:lnTo>
                    <a:pt x="83" y="278"/>
                  </a:lnTo>
                  <a:lnTo>
                    <a:pt x="100" y="282"/>
                  </a:lnTo>
                  <a:lnTo>
                    <a:pt x="110" y="282"/>
                  </a:lnTo>
                  <a:lnTo>
                    <a:pt x="121" y="278"/>
                  </a:lnTo>
                  <a:lnTo>
                    <a:pt x="153" y="263"/>
                  </a:lnTo>
                  <a:lnTo>
                    <a:pt x="174" y="242"/>
                  </a:lnTo>
                  <a:lnTo>
                    <a:pt x="182" y="218"/>
                  </a:lnTo>
                  <a:lnTo>
                    <a:pt x="182" y="210"/>
                  </a:lnTo>
                  <a:lnTo>
                    <a:pt x="182" y="199"/>
                  </a:lnTo>
                  <a:lnTo>
                    <a:pt x="174" y="178"/>
                  </a:lnTo>
                  <a:lnTo>
                    <a:pt x="164" y="156"/>
                  </a:lnTo>
                  <a:lnTo>
                    <a:pt x="172" y="185"/>
                  </a:lnTo>
                  <a:lnTo>
                    <a:pt x="174" y="203"/>
                  </a:lnTo>
                  <a:lnTo>
                    <a:pt x="172" y="210"/>
                  </a:lnTo>
                  <a:lnTo>
                    <a:pt x="172" y="218"/>
                  </a:lnTo>
                  <a:lnTo>
                    <a:pt x="164" y="232"/>
                  </a:lnTo>
                  <a:lnTo>
                    <a:pt x="150" y="246"/>
                  </a:lnTo>
                  <a:lnTo>
                    <a:pt x="136" y="249"/>
                  </a:lnTo>
                  <a:lnTo>
                    <a:pt x="121" y="253"/>
                  </a:lnTo>
                  <a:lnTo>
                    <a:pt x="103" y="249"/>
                  </a:lnTo>
                  <a:lnTo>
                    <a:pt x="93" y="246"/>
                  </a:lnTo>
                  <a:lnTo>
                    <a:pt x="78" y="246"/>
                  </a:lnTo>
                  <a:lnTo>
                    <a:pt x="71" y="249"/>
                  </a:lnTo>
                  <a:lnTo>
                    <a:pt x="64" y="261"/>
                  </a:lnTo>
                  <a:lnTo>
                    <a:pt x="64" y="268"/>
                  </a:lnTo>
                  <a:lnTo>
                    <a:pt x="68" y="271"/>
                  </a:lnTo>
                  <a:lnTo>
                    <a:pt x="71" y="275"/>
                  </a:lnTo>
                  <a:lnTo>
                    <a:pt x="114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730200" y="341784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网络延时不确定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01640" y="210672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宋体"/>
                </a:rPr>
                <a:t>特性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9880" y="2610000"/>
              <a:ext cx="106200" cy="153720"/>
            </a:xfrm>
            <a:custGeom>
              <a:avLst/>
              <a:gdLst/>
              <a:ahLst/>
              <a:rect l="l" t="t" r="r" b="b"/>
              <a:pathLst>
                <a:path w="201" h="292">
                  <a:moveTo>
                    <a:pt x="115" y="292"/>
                  </a:moveTo>
                  <a:lnTo>
                    <a:pt x="101" y="292"/>
                  </a:lnTo>
                  <a:lnTo>
                    <a:pt x="72" y="285"/>
                  </a:lnTo>
                  <a:lnTo>
                    <a:pt x="33" y="268"/>
                  </a:lnTo>
                  <a:lnTo>
                    <a:pt x="15" y="249"/>
                  </a:lnTo>
                  <a:lnTo>
                    <a:pt x="5" y="228"/>
                  </a:lnTo>
                  <a:lnTo>
                    <a:pt x="0" y="214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2" y="178"/>
                  </a:lnTo>
                  <a:lnTo>
                    <a:pt x="26" y="149"/>
                  </a:lnTo>
                  <a:lnTo>
                    <a:pt x="51" y="115"/>
                  </a:lnTo>
                  <a:lnTo>
                    <a:pt x="98" y="0"/>
                  </a:lnTo>
                  <a:lnTo>
                    <a:pt x="122" y="72"/>
                  </a:lnTo>
                  <a:lnTo>
                    <a:pt x="144" y="108"/>
                  </a:lnTo>
                  <a:lnTo>
                    <a:pt x="187" y="163"/>
                  </a:lnTo>
                  <a:lnTo>
                    <a:pt x="197" y="199"/>
                  </a:lnTo>
                  <a:lnTo>
                    <a:pt x="201" y="218"/>
                  </a:lnTo>
                  <a:lnTo>
                    <a:pt x="201" y="221"/>
                  </a:lnTo>
                  <a:lnTo>
                    <a:pt x="197" y="228"/>
                  </a:lnTo>
                  <a:lnTo>
                    <a:pt x="190" y="254"/>
                  </a:lnTo>
                  <a:lnTo>
                    <a:pt x="172" y="268"/>
                  </a:lnTo>
                  <a:lnTo>
                    <a:pt x="137" y="285"/>
                  </a:lnTo>
                  <a:lnTo>
                    <a:pt x="118" y="292"/>
                  </a:lnTo>
                  <a:lnTo>
                    <a:pt x="98" y="285"/>
                  </a:lnTo>
                  <a:lnTo>
                    <a:pt x="84" y="278"/>
                  </a:lnTo>
                  <a:lnTo>
                    <a:pt x="101" y="282"/>
                  </a:lnTo>
                  <a:lnTo>
                    <a:pt x="111" y="282"/>
                  </a:lnTo>
                  <a:lnTo>
                    <a:pt x="122" y="278"/>
                  </a:lnTo>
                  <a:lnTo>
                    <a:pt x="154" y="264"/>
                  </a:lnTo>
                  <a:lnTo>
                    <a:pt x="175" y="242"/>
                  </a:lnTo>
                  <a:lnTo>
                    <a:pt x="182" y="218"/>
                  </a:lnTo>
                  <a:lnTo>
                    <a:pt x="182" y="211"/>
                  </a:lnTo>
                  <a:lnTo>
                    <a:pt x="182" y="199"/>
                  </a:lnTo>
                  <a:lnTo>
                    <a:pt x="175" y="178"/>
                  </a:lnTo>
                  <a:lnTo>
                    <a:pt x="165" y="156"/>
                  </a:lnTo>
                  <a:lnTo>
                    <a:pt x="172" y="185"/>
                  </a:lnTo>
                  <a:lnTo>
                    <a:pt x="175" y="204"/>
                  </a:lnTo>
                  <a:lnTo>
                    <a:pt x="172" y="211"/>
                  </a:lnTo>
                  <a:lnTo>
                    <a:pt x="172" y="218"/>
                  </a:lnTo>
                  <a:lnTo>
                    <a:pt x="165" y="232"/>
                  </a:lnTo>
                  <a:lnTo>
                    <a:pt x="151" y="246"/>
                  </a:lnTo>
                  <a:lnTo>
                    <a:pt x="137" y="249"/>
                  </a:lnTo>
                  <a:lnTo>
                    <a:pt x="122" y="254"/>
                  </a:lnTo>
                  <a:lnTo>
                    <a:pt x="104" y="249"/>
                  </a:lnTo>
                  <a:lnTo>
                    <a:pt x="94" y="246"/>
                  </a:lnTo>
                  <a:lnTo>
                    <a:pt x="79" y="246"/>
                  </a:lnTo>
                  <a:lnTo>
                    <a:pt x="72" y="249"/>
                  </a:lnTo>
                  <a:lnTo>
                    <a:pt x="65" y="261"/>
                  </a:lnTo>
                  <a:lnTo>
                    <a:pt x="65" y="268"/>
                  </a:lnTo>
                  <a:lnTo>
                    <a:pt x="69" y="271"/>
                  </a:lnTo>
                  <a:lnTo>
                    <a:pt x="72" y="275"/>
                  </a:lnTo>
                  <a:lnTo>
                    <a:pt x="115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368720" y="253368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可伸缩的速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39880" y="2932200"/>
              <a:ext cx="106200" cy="154080"/>
            </a:xfrm>
            <a:custGeom>
              <a:avLst/>
              <a:gdLst/>
              <a:ahLst/>
              <a:rect l="l" t="t" r="r" b="b"/>
              <a:pathLst>
                <a:path w="201" h="292">
                  <a:moveTo>
                    <a:pt x="115" y="292"/>
                  </a:moveTo>
                  <a:lnTo>
                    <a:pt x="101" y="292"/>
                  </a:lnTo>
                  <a:lnTo>
                    <a:pt x="72" y="285"/>
                  </a:lnTo>
                  <a:lnTo>
                    <a:pt x="33" y="267"/>
                  </a:lnTo>
                  <a:lnTo>
                    <a:pt x="15" y="249"/>
                  </a:lnTo>
                  <a:lnTo>
                    <a:pt x="5" y="227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2" y="177"/>
                  </a:lnTo>
                  <a:lnTo>
                    <a:pt x="26" y="149"/>
                  </a:lnTo>
                  <a:lnTo>
                    <a:pt x="51" y="114"/>
                  </a:lnTo>
                  <a:lnTo>
                    <a:pt x="98" y="0"/>
                  </a:lnTo>
                  <a:lnTo>
                    <a:pt x="122" y="71"/>
                  </a:lnTo>
                  <a:lnTo>
                    <a:pt x="144" y="107"/>
                  </a:lnTo>
                  <a:lnTo>
                    <a:pt x="187" y="163"/>
                  </a:lnTo>
                  <a:lnTo>
                    <a:pt x="197" y="199"/>
                  </a:lnTo>
                  <a:lnTo>
                    <a:pt x="201" y="217"/>
                  </a:lnTo>
                  <a:lnTo>
                    <a:pt x="201" y="220"/>
                  </a:lnTo>
                  <a:lnTo>
                    <a:pt x="197" y="227"/>
                  </a:lnTo>
                  <a:lnTo>
                    <a:pt x="190" y="253"/>
                  </a:lnTo>
                  <a:lnTo>
                    <a:pt x="172" y="267"/>
                  </a:lnTo>
                  <a:lnTo>
                    <a:pt x="137" y="285"/>
                  </a:lnTo>
                  <a:lnTo>
                    <a:pt x="118" y="292"/>
                  </a:lnTo>
                  <a:lnTo>
                    <a:pt x="98" y="285"/>
                  </a:lnTo>
                  <a:lnTo>
                    <a:pt x="84" y="277"/>
                  </a:lnTo>
                  <a:lnTo>
                    <a:pt x="101" y="282"/>
                  </a:lnTo>
                  <a:lnTo>
                    <a:pt x="111" y="282"/>
                  </a:lnTo>
                  <a:lnTo>
                    <a:pt x="122" y="277"/>
                  </a:lnTo>
                  <a:lnTo>
                    <a:pt x="154" y="263"/>
                  </a:lnTo>
                  <a:lnTo>
                    <a:pt x="175" y="242"/>
                  </a:lnTo>
                  <a:lnTo>
                    <a:pt x="182" y="217"/>
                  </a:lnTo>
                  <a:lnTo>
                    <a:pt x="182" y="210"/>
                  </a:lnTo>
                  <a:lnTo>
                    <a:pt x="182" y="199"/>
                  </a:lnTo>
                  <a:lnTo>
                    <a:pt x="175" y="177"/>
                  </a:lnTo>
                  <a:lnTo>
                    <a:pt x="165" y="156"/>
                  </a:lnTo>
                  <a:lnTo>
                    <a:pt x="172" y="184"/>
                  </a:lnTo>
                  <a:lnTo>
                    <a:pt x="175" y="203"/>
                  </a:lnTo>
                  <a:lnTo>
                    <a:pt x="172" y="210"/>
                  </a:lnTo>
                  <a:lnTo>
                    <a:pt x="172" y="217"/>
                  </a:lnTo>
                  <a:lnTo>
                    <a:pt x="165" y="232"/>
                  </a:lnTo>
                  <a:lnTo>
                    <a:pt x="151" y="246"/>
                  </a:lnTo>
                  <a:lnTo>
                    <a:pt x="137" y="249"/>
                  </a:lnTo>
                  <a:lnTo>
                    <a:pt x="122" y="253"/>
                  </a:lnTo>
                  <a:lnTo>
                    <a:pt x="104" y="249"/>
                  </a:lnTo>
                  <a:lnTo>
                    <a:pt x="94" y="246"/>
                  </a:lnTo>
                  <a:lnTo>
                    <a:pt x="79" y="246"/>
                  </a:lnTo>
                  <a:lnTo>
                    <a:pt x="72" y="249"/>
                  </a:lnTo>
                  <a:lnTo>
                    <a:pt x="65" y="260"/>
                  </a:lnTo>
                  <a:lnTo>
                    <a:pt x="65" y="267"/>
                  </a:lnTo>
                  <a:lnTo>
                    <a:pt x="69" y="270"/>
                  </a:lnTo>
                  <a:lnTo>
                    <a:pt x="72" y="275"/>
                  </a:lnTo>
                  <a:lnTo>
                    <a:pt x="115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272240" y="285444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国际标准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9880" y="3249720"/>
              <a:ext cx="106200" cy="153720"/>
            </a:xfrm>
            <a:custGeom>
              <a:avLst/>
              <a:gdLst/>
              <a:ahLst/>
              <a:rect l="l" t="t" r="r" b="b"/>
              <a:pathLst>
                <a:path w="201" h="292">
                  <a:moveTo>
                    <a:pt x="115" y="292"/>
                  </a:moveTo>
                  <a:lnTo>
                    <a:pt x="101" y="292"/>
                  </a:lnTo>
                  <a:lnTo>
                    <a:pt x="72" y="285"/>
                  </a:lnTo>
                  <a:lnTo>
                    <a:pt x="33" y="268"/>
                  </a:lnTo>
                  <a:lnTo>
                    <a:pt x="15" y="249"/>
                  </a:lnTo>
                  <a:lnTo>
                    <a:pt x="5" y="228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2" y="178"/>
                  </a:lnTo>
                  <a:lnTo>
                    <a:pt x="26" y="149"/>
                  </a:lnTo>
                  <a:lnTo>
                    <a:pt x="51" y="115"/>
                  </a:lnTo>
                  <a:lnTo>
                    <a:pt x="98" y="0"/>
                  </a:lnTo>
                  <a:lnTo>
                    <a:pt x="122" y="72"/>
                  </a:lnTo>
                  <a:lnTo>
                    <a:pt x="144" y="107"/>
                  </a:lnTo>
                  <a:lnTo>
                    <a:pt x="187" y="163"/>
                  </a:lnTo>
                  <a:lnTo>
                    <a:pt x="197" y="199"/>
                  </a:lnTo>
                  <a:lnTo>
                    <a:pt x="201" y="218"/>
                  </a:lnTo>
                  <a:lnTo>
                    <a:pt x="201" y="221"/>
                  </a:lnTo>
                  <a:lnTo>
                    <a:pt x="197" y="228"/>
                  </a:lnTo>
                  <a:lnTo>
                    <a:pt x="190" y="254"/>
                  </a:lnTo>
                  <a:lnTo>
                    <a:pt x="172" y="268"/>
                  </a:lnTo>
                  <a:lnTo>
                    <a:pt x="137" y="285"/>
                  </a:lnTo>
                  <a:lnTo>
                    <a:pt x="118" y="292"/>
                  </a:lnTo>
                  <a:lnTo>
                    <a:pt x="98" y="285"/>
                  </a:lnTo>
                  <a:lnTo>
                    <a:pt x="84" y="278"/>
                  </a:lnTo>
                  <a:lnTo>
                    <a:pt x="101" y="282"/>
                  </a:lnTo>
                  <a:lnTo>
                    <a:pt x="111" y="282"/>
                  </a:lnTo>
                  <a:lnTo>
                    <a:pt x="122" y="278"/>
                  </a:lnTo>
                  <a:lnTo>
                    <a:pt x="154" y="264"/>
                  </a:lnTo>
                  <a:lnTo>
                    <a:pt x="175" y="242"/>
                  </a:lnTo>
                  <a:lnTo>
                    <a:pt x="182" y="218"/>
                  </a:lnTo>
                  <a:lnTo>
                    <a:pt x="182" y="211"/>
                  </a:lnTo>
                  <a:lnTo>
                    <a:pt x="182" y="199"/>
                  </a:lnTo>
                  <a:lnTo>
                    <a:pt x="175" y="178"/>
                  </a:lnTo>
                  <a:lnTo>
                    <a:pt x="165" y="156"/>
                  </a:lnTo>
                  <a:lnTo>
                    <a:pt x="172" y="185"/>
                  </a:lnTo>
                  <a:lnTo>
                    <a:pt x="175" y="203"/>
                  </a:lnTo>
                  <a:lnTo>
                    <a:pt x="172" y="211"/>
                  </a:lnTo>
                  <a:lnTo>
                    <a:pt x="172" y="218"/>
                  </a:lnTo>
                  <a:lnTo>
                    <a:pt x="165" y="232"/>
                  </a:lnTo>
                  <a:lnTo>
                    <a:pt x="151" y="246"/>
                  </a:lnTo>
                  <a:lnTo>
                    <a:pt x="137" y="249"/>
                  </a:lnTo>
                  <a:lnTo>
                    <a:pt x="122" y="254"/>
                  </a:lnTo>
                  <a:lnTo>
                    <a:pt x="104" y="249"/>
                  </a:lnTo>
                  <a:lnTo>
                    <a:pt x="94" y="246"/>
                  </a:lnTo>
                  <a:lnTo>
                    <a:pt x="79" y="246"/>
                  </a:lnTo>
                  <a:lnTo>
                    <a:pt x="72" y="249"/>
                  </a:lnTo>
                  <a:lnTo>
                    <a:pt x="65" y="261"/>
                  </a:lnTo>
                  <a:lnTo>
                    <a:pt x="65" y="268"/>
                  </a:lnTo>
                  <a:lnTo>
                    <a:pt x="69" y="271"/>
                  </a:lnTo>
                  <a:lnTo>
                    <a:pt x="72" y="275"/>
                  </a:lnTo>
                  <a:lnTo>
                    <a:pt x="115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368720" y="31734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适应突发流量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9880" y="3570120"/>
              <a:ext cx="106200" cy="155880"/>
            </a:xfrm>
            <a:custGeom>
              <a:avLst/>
              <a:gdLst/>
              <a:ahLst/>
              <a:rect l="l" t="t" r="r" b="b"/>
              <a:pathLst>
                <a:path w="201" h="292">
                  <a:moveTo>
                    <a:pt x="115" y="292"/>
                  </a:moveTo>
                  <a:lnTo>
                    <a:pt x="101" y="292"/>
                  </a:lnTo>
                  <a:lnTo>
                    <a:pt x="72" y="285"/>
                  </a:lnTo>
                  <a:lnTo>
                    <a:pt x="33" y="268"/>
                  </a:lnTo>
                  <a:lnTo>
                    <a:pt x="15" y="249"/>
                  </a:lnTo>
                  <a:lnTo>
                    <a:pt x="5" y="228"/>
                  </a:lnTo>
                  <a:lnTo>
                    <a:pt x="0" y="214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2" y="178"/>
                  </a:lnTo>
                  <a:lnTo>
                    <a:pt x="26" y="149"/>
                  </a:lnTo>
                  <a:lnTo>
                    <a:pt x="51" y="115"/>
                  </a:lnTo>
                  <a:lnTo>
                    <a:pt x="98" y="0"/>
                  </a:lnTo>
                  <a:lnTo>
                    <a:pt x="122" y="72"/>
                  </a:lnTo>
                  <a:lnTo>
                    <a:pt x="144" y="108"/>
                  </a:lnTo>
                  <a:lnTo>
                    <a:pt x="187" y="163"/>
                  </a:lnTo>
                  <a:lnTo>
                    <a:pt x="197" y="199"/>
                  </a:lnTo>
                  <a:lnTo>
                    <a:pt x="201" y="218"/>
                  </a:lnTo>
                  <a:lnTo>
                    <a:pt x="201" y="221"/>
                  </a:lnTo>
                  <a:lnTo>
                    <a:pt x="197" y="228"/>
                  </a:lnTo>
                  <a:lnTo>
                    <a:pt x="190" y="254"/>
                  </a:lnTo>
                  <a:lnTo>
                    <a:pt x="172" y="268"/>
                  </a:lnTo>
                  <a:lnTo>
                    <a:pt x="137" y="285"/>
                  </a:lnTo>
                  <a:lnTo>
                    <a:pt x="118" y="292"/>
                  </a:lnTo>
                  <a:lnTo>
                    <a:pt x="98" y="285"/>
                  </a:lnTo>
                  <a:lnTo>
                    <a:pt x="84" y="278"/>
                  </a:lnTo>
                  <a:lnTo>
                    <a:pt x="101" y="282"/>
                  </a:lnTo>
                  <a:lnTo>
                    <a:pt x="111" y="282"/>
                  </a:lnTo>
                  <a:lnTo>
                    <a:pt x="122" y="278"/>
                  </a:lnTo>
                  <a:lnTo>
                    <a:pt x="154" y="264"/>
                  </a:lnTo>
                  <a:lnTo>
                    <a:pt x="175" y="242"/>
                  </a:lnTo>
                  <a:lnTo>
                    <a:pt x="182" y="218"/>
                  </a:lnTo>
                  <a:lnTo>
                    <a:pt x="182" y="211"/>
                  </a:lnTo>
                  <a:lnTo>
                    <a:pt x="182" y="199"/>
                  </a:lnTo>
                  <a:lnTo>
                    <a:pt x="175" y="178"/>
                  </a:lnTo>
                  <a:lnTo>
                    <a:pt x="165" y="156"/>
                  </a:lnTo>
                  <a:lnTo>
                    <a:pt x="172" y="185"/>
                  </a:lnTo>
                  <a:lnTo>
                    <a:pt x="175" y="203"/>
                  </a:lnTo>
                  <a:lnTo>
                    <a:pt x="172" y="211"/>
                  </a:lnTo>
                  <a:lnTo>
                    <a:pt x="172" y="218"/>
                  </a:lnTo>
                  <a:lnTo>
                    <a:pt x="165" y="232"/>
                  </a:lnTo>
                  <a:lnTo>
                    <a:pt x="151" y="246"/>
                  </a:lnTo>
                  <a:lnTo>
                    <a:pt x="137" y="249"/>
                  </a:lnTo>
                  <a:lnTo>
                    <a:pt x="122" y="254"/>
                  </a:lnTo>
                  <a:lnTo>
                    <a:pt x="104" y="249"/>
                  </a:lnTo>
                  <a:lnTo>
                    <a:pt x="94" y="246"/>
                  </a:lnTo>
                  <a:lnTo>
                    <a:pt x="79" y="246"/>
                  </a:lnTo>
                  <a:lnTo>
                    <a:pt x="72" y="249"/>
                  </a:lnTo>
                  <a:lnTo>
                    <a:pt x="65" y="261"/>
                  </a:lnTo>
                  <a:lnTo>
                    <a:pt x="65" y="268"/>
                  </a:lnTo>
                  <a:lnTo>
                    <a:pt x="69" y="271"/>
                  </a:lnTo>
                  <a:lnTo>
                    <a:pt x="72" y="275"/>
                  </a:lnTo>
                  <a:lnTo>
                    <a:pt x="115" y="292"/>
                  </a:lnTo>
                  <a:close/>
                </a:path>
              </a:pathLst>
            </a:custGeom>
            <a:solidFill>
              <a:srgbClr val="6474e7"/>
            </a:solidFill>
            <a:ln w="0">
              <a:solidFill>
                <a:srgbClr val="6474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223640" y="349416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宋体"/>
                </a:rPr>
                <a:t>低费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604960" y="4064040"/>
              <a:ext cx="4216680" cy="965160"/>
            </a:xfrm>
            <a:custGeom>
              <a:avLst/>
              <a:gdLst/>
              <a:ahLst/>
              <a:rect l="l" t="t" r="r" b="b"/>
              <a:pathLst>
                <a:path w="7968" h="1823">
                  <a:moveTo>
                    <a:pt x="782" y="476"/>
                  </a:moveTo>
                  <a:lnTo>
                    <a:pt x="514" y="510"/>
                  </a:lnTo>
                  <a:lnTo>
                    <a:pt x="297" y="570"/>
                  </a:lnTo>
                  <a:lnTo>
                    <a:pt x="138" y="647"/>
                  </a:lnTo>
                  <a:lnTo>
                    <a:pt x="36" y="741"/>
                  </a:lnTo>
                  <a:lnTo>
                    <a:pt x="0" y="838"/>
                  </a:lnTo>
                  <a:lnTo>
                    <a:pt x="0" y="859"/>
                  </a:lnTo>
                  <a:lnTo>
                    <a:pt x="4" y="885"/>
                  </a:lnTo>
                  <a:lnTo>
                    <a:pt x="29" y="937"/>
                  </a:lnTo>
                  <a:lnTo>
                    <a:pt x="70" y="984"/>
                  </a:lnTo>
                  <a:lnTo>
                    <a:pt x="130" y="1031"/>
                  </a:lnTo>
                  <a:lnTo>
                    <a:pt x="309" y="1119"/>
                  </a:lnTo>
                  <a:lnTo>
                    <a:pt x="248" y="1182"/>
                  </a:lnTo>
                  <a:lnTo>
                    <a:pt x="219" y="1246"/>
                  </a:lnTo>
                  <a:lnTo>
                    <a:pt x="216" y="1276"/>
                  </a:lnTo>
                  <a:lnTo>
                    <a:pt x="221" y="1308"/>
                  </a:lnTo>
                  <a:lnTo>
                    <a:pt x="254" y="1368"/>
                  </a:lnTo>
                  <a:lnTo>
                    <a:pt x="309" y="1421"/>
                  </a:lnTo>
                  <a:lnTo>
                    <a:pt x="393" y="1472"/>
                  </a:lnTo>
                  <a:lnTo>
                    <a:pt x="615" y="1555"/>
                  </a:lnTo>
                  <a:lnTo>
                    <a:pt x="891" y="1608"/>
                  </a:lnTo>
                  <a:lnTo>
                    <a:pt x="1203" y="1628"/>
                  </a:lnTo>
                  <a:lnTo>
                    <a:pt x="1523" y="1605"/>
                  </a:lnTo>
                  <a:lnTo>
                    <a:pt x="1831" y="1531"/>
                  </a:lnTo>
                  <a:lnTo>
                    <a:pt x="2279" y="1645"/>
                  </a:lnTo>
                  <a:lnTo>
                    <a:pt x="2791" y="1706"/>
                  </a:lnTo>
                  <a:lnTo>
                    <a:pt x="3056" y="1713"/>
                  </a:lnTo>
                  <a:lnTo>
                    <a:pt x="3189" y="1713"/>
                  </a:lnTo>
                  <a:lnTo>
                    <a:pt x="3324" y="1707"/>
                  </a:lnTo>
                  <a:lnTo>
                    <a:pt x="3847" y="1645"/>
                  </a:lnTo>
                  <a:lnTo>
                    <a:pt x="4177" y="1728"/>
                  </a:lnTo>
                  <a:lnTo>
                    <a:pt x="4540" y="1787"/>
                  </a:lnTo>
                  <a:lnTo>
                    <a:pt x="4920" y="1817"/>
                  </a:lnTo>
                  <a:lnTo>
                    <a:pt x="5113" y="1823"/>
                  </a:lnTo>
                  <a:lnTo>
                    <a:pt x="5209" y="1823"/>
                  </a:lnTo>
                  <a:lnTo>
                    <a:pt x="5308" y="1823"/>
                  </a:lnTo>
                  <a:lnTo>
                    <a:pt x="5690" y="1802"/>
                  </a:lnTo>
                  <a:lnTo>
                    <a:pt x="6061" y="1754"/>
                  </a:lnTo>
                  <a:lnTo>
                    <a:pt x="6404" y="1683"/>
                  </a:lnTo>
                  <a:lnTo>
                    <a:pt x="6715" y="1584"/>
                  </a:lnTo>
                  <a:lnTo>
                    <a:pt x="6915" y="1591"/>
                  </a:lnTo>
                  <a:lnTo>
                    <a:pt x="7011" y="1591"/>
                  </a:lnTo>
                  <a:lnTo>
                    <a:pt x="7104" y="1588"/>
                  </a:lnTo>
                  <a:lnTo>
                    <a:pt x="7438" y="1544"/>
                  </a:lnTo>
                  <a:lnTo>
                    <a:pt x="7700" y="1464"/>
                  </a:lnTo>
                  <a:lnTo>
                    <a:pt x="7881" y="1356"/>
                  </a:lnTo>
                  <a:lnTo>
                    <a:pt x="7934" y="1298"/>
                  </a:lnTo>
                  <a:lnTo>
                    <a:pt x="7964" y="1236"/>
                  </a:lnTo>
                  <a:lnTo>
                    <a:pt x="7968" y="1206"/>
                  </a:lnTo>
                  <a:lnTo>
                    <a:pt x="7968" y="1172"/>
                  </a:lnTo>
                  <a:lnTo>
                    <a:pt x="7941" y="1107"/>
                  </a:lnTo>
                  <a:lnTo>
                    <a:pt x="7886" y="1047"/>
                  </a:lnTo>
                  <a:lnTo>
                    <a:pt x="7798" y="987"/>
                  </a:lnTo>
                  <a:lnTo>
                    <a:pt x="7677" y="932"/>
                  </a:lnTo>
                  <a:lnTo>
                    <a:pt x="7521" y="881"/>
                  </a:lnTo>
                  <a:lnTo>
                    <a:pt x="7682" y="812"/>
                  </a:lnTo>
                  <a:lnTo>
                    <a:pt x="7727" y="773"/>
                  </a:lnTo>
                  <a:lnTo>
                    <a:pt x="7755" y="732"/>
                  </a:lnTo>
                  <a:lnTo>
                    <a:pt x="7762" y="693"/>
                  </a:lnTo>
                  <a:lnTo>
                    <a:pt x="7749" y="652"/>
                  </a:lnTo>
                  <a:lnTo>
                    <a:pt x="7670" y="577"/>
                  </a:lnTo>
                  <a:lnTo>
                    <a:pt x="7535" y="517"/>
                  </a:lnTo>
                  <a:lnTo>
                    <a:pt x="7351" y="474"/>
                  </a:lnTo>
                  <a:lnTo>
                    <a:pt x="7131" y="458"/>
                  </a:lnTo>
                  <a:lnTo>
                    <a:pt x="7073" y="458"/>
                  </a:lnTo>
                  <a:lnTo>
                    <a:pt x="7011" y="463"/>
                  </a:lnTo>
                  <a:lnTo>
                    <a:pt x="6884" y="477"/>
                  </a:lnTo>
                  <a:lnTo>
                    <a:pt x="6706" y="407"/>
                  </a:lnTo>
                  <a:lnTo>
                    <a:pt x="6501" y="348"/>
                  </a:lnTo>
                  <a:lnTo>
                    <a:pt x="6034" y="269"/>
                  </a:lnTo>
                  <a:lnTo>
                    <a:pt x="5785" y="252"/>
                  </a:lnTo>
                  <a:lnTo>
                    <a:pt x="5656" y="249"/>
                  </a:lnTo>
                  <a:lnTo>
                    <a:pt x="5591" y="249"/>
                  </a:lnTo>
                  <a:lnTo>
                    <a:pt x="5527" y="248"/>
                  </a:lnTo>
                  <a:lnTo>
                    <a:pt x="5017" y="290"/>
                  </a:lnTo>
                  <a:lnTo>
                    <a:pt x="4912" y="225"/>
                  </a:lnTo>
                  <a:lnTo>
                    <a:pt x="4785" y="165"/>
                  </a:lnTo>
                  <a:lnTo>
                    <a:pt x="4483" y="73"/>
                  </a:lnTo>
                  <a:lnTo>
                    <a:pt x="4133" y="20"/>
                  </a:lnTo>
                  <a:lnTo>
                    <a:pt x="3758" y="0"/>
                  </a:lnTo>
                  <a:lnTo>
                    <a:pt x="3665" y="0"/>
                  </a:lnTo>
                  <a:lnTo>
                    <a:pt x="3570" y="5"/>
                  </a:lnTo>
                  <a:lnTo>
                    <a:pt x="3384" y="17"/>
                  </a:lnTo>
                  <a:lnTo>
                    <a:pt x="3033" y="70"/>
                  </a:lnTo>
                  <a:lnTo>
                    <a:pt x="2731" y="161"/>
                  </a:lnTo>
                  <a:lnTo>
                    <a:pt x="2496" y="290"/>
                  </a:lnTo>
                  <a:lnTo>
                    <a:pt x="2281" y="212"/>
                  </a:lnTo>
                  <a:lnTo>
                    <a:pt x="2026" y="166"/>
                  </a:lnTo>
                  <a:lnTo>
                    <a:pt x="1755" y="152"/>
                  </a:lnTo>
                  <a:lnTo>
                    <a:pt x="1688" y="152"/>
                  </a:lnTo>
                  <a:lnTo>
                    <a:pt x="1619" y="153"/>
                  </a:lnTo>
                  <a:lnTo>
                    <a:pt x="1483" y="166"/>
                  </a:lnTo>
                  <a:lnTo>
                    <a:pt x="1233" y="206"/>
                  </a:lnTo>
                  <a:lnTo>
                    <a:pt x="1023" y="274"/>
                  </a:lnTo>
                  <a:lnTo>
                    <a:pt x="871" y="364"/>
                  </a:lnTo>
                  <a:lnTo>
                    <a:pt x="824" y="417"/>
                  </a:lnTo>
                  <a:lnTo>
                    <a:pt x="795" y="476"/>
                  </a:lnTo>
                  <a:lnTo>
                    <a:pt x="782" y="476"/>
                  </a:lnTo>
                  <a:close/>
                </a:path>
              </a:pathLst>
            </a:custGeom>
            <a:solidFill>
              <a:srgbClr val="d8ffff"/>
            </a:solidFill>
            <a:ln w="9360">
              <a:solidFill>
                <a:srgbClr val="00cd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006080" y="4390920"/>
              <a:ext cx="146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Frame Re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465800" y="2751120"/>
              <a:ext cx="328320" cy="414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471920" y="3165480"/>
              <a:ext cx="31752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479840" y="2751120"/>
              <a:ext cx="1800" cy="414360"/>
            </a:xfrm>
            <a:prstGeom prst="line">
              <a:avLst/>
            </a:prstGeom>
            <a:ln w="0">
              <a:solidFill>
                <a:srgbClr val="323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484520" y="2754360"/>
              <a:ext cx="290520" cy="409680"/>
            </a:xfrm>
            <a:custGeom>
              <a:avLst/>
              <a:gdLst/>
              <a:ahLst/>
              <a:rect l="l" t="t" r="r" b="b"/>
              <a:pathLst>
                <a:path w="549" h="773">
                  <a:moveTo>
                    <a:pt x="0" y="773"/>
                  </a:moveTo>
                  <a:lnTo>
                    <a:pt x="0" y="0"/>
                  </a:lnTo>
                  <a:lnTo>
                    <a:pt x="54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465800" y="2752560"/>
              <a:ext cx="12600" cy="409680"/>
            </a:xfrm>
            <a:custGeom>
              <a:avLst/>
              <a:gdLst/>
              <a:ahLst/>
              <a:rect l="l" t="t" r="r" b="b"/>
              <a:pathLst>
                <a:path w="22" h="774">
                  <a:moveTo>
                    <a:pt x="0" y="774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778280" y="2752560"/>
              <a:ext cx="14400" cy="409680"/>
            </a:xfrm>
            <a:custGeom>
              <a:avLst/>
              <a:gdLst/>
              <a:ahLst/>
              <a:rect l="l" t="t" r="r" b="b"/>
              <a:pathLst>
                <a:path w="27" h="774">
                  <a:moveTo>
                    <a:pt x="0" y="0"/>
                  </a:moveTo>
                  <a:lnTo>
                    <a:pt x="27" y="0"/>
                  </a:lnTo>
                  <a:lnTo>
                    <a:pt x="27" y="77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778280" y="2751120"/>
              <a:ext cx="1800" cy="415800"/>
            </a:xfrm>
            <a:prstGeom prst="line">
              <a:avLst/>
            </a:prstGeom>
            <a:ln w="0">
              <a:solidFill>
                <a:srgbClr val="323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492800" y="2781360"/>
              <a:ext cx="56880" cy="903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98920" y="2786040"/>
              <a:ext cx="46080" cy="810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500720" y="2840040"/>
              <a:ext cx="41040" cy="255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5a5a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500720" y="2787480"/>
              <a:ext cx="18720" cy="51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527720" y="2789280"/>
              <a:ext cx="12600" cy="442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503600" y="2801880"/>
              <a:ext cx="9720" cy="33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03600" y="2801880"/>
              <a:ext cx="9720" cy="18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19440" y="2787480"/>
              <a:ext cx="1800" cy="511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524480" y="2789280"/>
              <a:ext cx="6120" cy="442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511520" y="2843280"/>
              <a:ext cx="3240" cy="2052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503600" y="2846520"/>
              <a:ext cx="3240" cy="2880"/>
            </a:xfrm>
            <a:prstGeom prst="ellipse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503600" y="2854440"/>
              <a:ext cx="3240" cy="3240"/>
            </a:xfrm>
            <a:prstGeom prst="ellipse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92800" y="2781360"/>
              <a:ext cx="56880" cy="90360"/>
            </a:xfrm>
            <a:custGeom>
              <a:avLst/>
              <a:gdLst/>
              <a:ahLst/>
              <a:rect l="l" t="t" r="r" b="b"/>
              <a:pathLst>
                <a:path w="110" h="172">
                  <a:moveTo>
                    <a:pt x="110" y="0"/>
                  </a:moveTo>
                  <a:lnTo>
                    <a:pt x="110" y="172"/>
                  </a:lnTo>
                  <a:lnTo>
                    <a:pt x="0" y="172"/>
                  </a:lnTo>
                </a:path>
              </a:pathLst>
            </a:custGeom>
            <a:noFill/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530600" y="2844720"/>
              <a:ext cx="3240" cy="64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565520" y="2784600"/>
              <a:ext cx="20016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67320" y="2800440"/>
              <a:ext cx="19692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567320" y="2816280"/>
              <a:ext cx="19692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567320" y="2833560"/>
              <a:ext cx="19692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567320" y="2851200"/>
              <a:ext cx="19692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576680" y="27846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87840" y="27846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595760" y="27846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60548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61484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62456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3392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64184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65300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662360" y="27846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67208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681440" y="27846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689360" y="27846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69908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71024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719600" y="27846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72932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73868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74660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756320" y="27846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565520" y="2928960"/>
              <a:ext cx="200160" cy="87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565520" y="2944800"/>
              <a:ext cx="19872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65520" y="2962440"/>
              <a:ext cx="19872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65520" y="2981160"/>
              <a:ext cx="198720" cy="18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65520" y="2998800"/>
              <a:ext cx="198720" cy="14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76680" y="29304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87840" y="29304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95760" y="29304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0548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1484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2456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3392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4184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5300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662360" y="29304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67208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681440" y="29304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89360" y="29304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69908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71024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719600" y="2930400"/>
              <a:ext cx="180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72932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3868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4660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56320" y="2930400"/>
              <a:ext cx="1440" cy="85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565520" y="3068640"/>
              <a:ext cx="200160" cy="87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565520" y="3084480"/>
              <a:ext cx="198720" cy="324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565520" y="3102120"/>
              <a:ext cx="198720" cy="28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565520" y="3121200"/>
              <a:ext cx="198720" cy="28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565520" y="3137040"/>
              <a:ext cx="198720" cy="288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dcdcd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576680" y="3068640"/>
              <a:ext cx="180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587840" y="3068640"/>
              <a:ext cx="180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595760" y="3068640"/>
              <a:ext cx="180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60548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61484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62456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63392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64184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65300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662360" y="3068640"/>
              <a:ext cx="180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67208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681440" y="3068640"/>
              <a:ext cx="180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689360" y="3068640"/>
              <a:ext cx="180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69908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71024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719600" y="3068640"/>
              <a:ext cx="180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72932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73868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74660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756320" y="3068640"/>
              <a:ext cx="14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492800" y="2887560"/>
              <a:ext cx="52200" cy="972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92800" y="2886120"/>
              <a:ext cx="52200" cy="11160"/>
            </a:xfrm>
            <a:custGeom>
              <a:avLst/>
              <a:gdLst/>
              <a:ahLst/>
              <a:rect l="l" t="t" r="r" b="b"/>
              <a:pathLst>
                <a:path w="101" h="20">
                  <a:moveTo>
                    <a:pt x="0" y="20"/>
                  </a:moveTo>
                  <a:lnTo>
                    <a:pt x="101" y="20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492800" y="2905200"/>
              <a:ext cx="72720" cy="12600"/>
            </a:xfrm>
            <a:prstGeom prst="rect">
              <a:avLst/>
            </a:prstGeom>
            <a:solidFill>
              <a:srgbClr val="dcdcd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492800" y="2905200"/>
              <a:ext cx="72720" cy="12600"/>
            </a:xfrm>
            <a:custGeom>
              <a:avLst/>
              <a:gdLst/>
              <a:ahLst/>
              <a:rect l="l" t="t" r="r" b="b"/>
              <a:pathLst>
                <a:path w="140" h="23">
                  <a:moveTo>
                    <a:pt x="0" y="23"/>
                  </a:moveTo>
                  <a:lnTo>
                    <a:pt x="140" y="23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703600" y="2259000"/>
              <a:ext cx="3219480" cy="172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351320" y="2793960"/>
              <a:ext cx="144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354560" y="2962440"/>
              <a:ext cx="164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43280" y="3192480"/>
              <a:ext cx="68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493800" y="2425680"/>
              <a:ext cx="1905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宋体"/>
                </a:rPr>
                <a:t>Corp. Networ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3362400" y="3152880"/>
              <a:ext cx="849240" cy="530280"/>
              <a:chOff x="3362400" y="3152880"/>
              <a:chExt cx="849240" cy="530280"/>
            </a:xfrm>
          </p:grpSpPr>
          <p:pic>
            <p:nvPicPr>
              <p:cNvPr id="23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2400" y="3152880"/>
                <a:ext cx="84924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0" y="3152880"/>
                <a:ext cx="849240" cy="53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3" name=""/>
            <p:cNvSpPr/>
            <p:nvPr/>
          </p:nvSpPr>
          <p:spPr>
            <a:xfrm>
              <a:off x="4187880" y="3498840"/>
              <a:ext cx="193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718080" y="3637080"/>
              <a:ext cx="1440" cy="4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46200" y="5126040"/>
              <a:ext cx="1780920" cy="9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558800" y="518940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308240" y="5711760"/>
              <a:ext cx="258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990720" y="532440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5080" y="4834080"/>
              <a:ext cx="120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Branch.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1700280" y="5248440"/>
              <a:ext cx="468360" cy="295200"/>
              <a:chOff x="1700280" y="5248440"/>
              <a:chExt cx="468360" cy="295200"/>
            </a:xfrm>
          </p:grpSpPr>
          <p:pic>
            <p:nvPicPr>
              <p:cNvPr id="23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5248440"/>
                <a:ext cx="468360" cy="2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00280" y="5248440"/>
                <a:ext cx="468360" cy="295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93" name=""/>
            <p:cNvSpPr/>
            <p:nvPr/>
          </p:nvSpPr>
          <p:spPr>
            <a:xfrm>
              <a:off x="1552680" y="5424480"/>
              <a:ext cx="17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054080" y="5719680"/>
              <a:ext cx="244440" cy="396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055520" y="5681520"/>
              <a:ext cx="243000" cy="39960"/>
            </a:xfrm>
            <a:custGeom>
              <a:avLst/>
              <a:gdLst/>
              <a:ahLst/>
              <a:rect l="l" t="t" r="r" b="b"/>
              <a:pathLst>
                <a:path w="460" h="75">
                  <a:moveTo>
                    <a:pt x="31" y="0"/>
                  </a:moveTo>
                  <a:lnTo>
                    <a:pt x="427" y="3"/>
                  </a:lnTo>
                  <a:lnTo>
                    <a:pt x="460" y="75"/>
                  </a:lnTo>
                  <a:lnTo>
                    <a:pt x="0" y="7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222200" y="5748480"/>
              <a:ext cx="63720" cy="468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118" y="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35" y="9"/>
                  </a:lnTo>
                  <a:lnTo>
                    <a:pt x="35" y="6"/>
                  </a:lnTo>
                  <a:lnTo>
                    <a:pt x="118" y="6"/>
                  </a:lnTo>
                  <a:lnTo>
                    <a:pt x="1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027080" y="5802480"/>
              <a:ext cx="311040" cy="10800"/>
            </a:xfrm>
            <a:custGeom>
              <a:avLst/>
              <a:gdLst/>
              <a:ahLst/>
              <a:rect l="l" t="t" r="r" b="b"/>
              <a:pathLst>
                <a:path w="588" h="20">
                  <a:moveTo>
                    <a:pt x="2" y="0"/>
                  </a:moveTo>
                  <a:lnTo>
                    <a:pt x="588" y="7"/>
                  </a:lnTo>
                  <a:lnTo>
                    <a:pt x="588" y="20"/>
                  </a:lnTo>
                  <a:lnTo>
                    <a:pt x="0" y="20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027080" y="5769000"/>
              <a:ext cx="311040" cy="36360"/>
            </a:xfrm>
            <a:custGeom>
              <a:avLst/>
              <a:gdLst/>
              <a:ahLst/>
              <a:rect l="l" t="t" r="r" b="b"/>
              <a:pathLst>
                <a:path w="588" h="70">
                  <a:moveTo>
                    <a:pt x="19" y="0"/>
                  </a:moveTo>
                  <a:lnTo>
                    <a:pt x="0" y="70"/>
                  </a:lnTo>
                  <a:lnTo>
                    <a:pt x="588" y="70"/>
                  </a:lnTo>
                  <a:lnTo>
                    <a:pt x="56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70080" y="5773680"/>
              <a:ext cx="52200" cy="270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0"/>
                  </a:moveTo>
                  <a:lnTo>
                    <a:pt x="9" y="52"/>
                  </a:lnTo>
                  <a:lnTo>
                    <a:pt x="100" y="52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225440" y="5772240"/>
              <a:ext cx="41400" cy="28440"/>
            </a:xfrm>
            <a:custGeom>
              <a:avLst/>
              <a:gdLst/>
              <a:ahLst/>
              <a:rect l="l" t="t" r="r" b="b"/>
              <a:pathLst>
                <a:path w="76" h="53">
                  <a:moveTo>
                    <a:pt x="0" y="0"/>
                  </a:moveTo>
                  <a:lnTo>
                    <a:pt x="3" y="33"/>
                  </a:lnTo>
                  <a:lnTo>
                    <a:pt x="17" y="33"/>
                  </a:lnTo>
                  <a:lnTo>
                    <a:pt x="17" y="37"/>
                  </a:lnTo>
                  <a:lnTo>
                    <a:pt x="3" y="40"/>
                  </a:lnTo>
                  <a:lnTo>
                    <a:pt x="3" y="53"/>
                  </a:lnTo>
                  <a:lnTo>
                    <a:pt x="76" y="53"/>
                  </a:lnTo>
                  <a:lnTo>
                    <a:pt x="72" y="37"/>
                  </a:lnTo>
                  <a:lnTo>
                    <a:pt x="57" y="37"/>
                  </a:lnTo>
                  <a:lnTo>
                    <a:pt x="56" y="33"/>
                  </a:lnTo>
                  <a:lnTo>
                    <a:pt x="72" y="33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036800" y="5773680"/>
              <a:ext cx="179280" cy="27000"/>
            </a:xfrm>
            <a:custGeom>
              <a:avLst/>
              <a:gdLst/>
              <a:ahLst/>
              <a:rect l="l" t="t" r="r" b="b"/>
              <a:pathLst>
                <a:path w="337" h="53">
                  <a:moveTo>
                    <a:pt x="12" y="0"/>
                  </a:moveTo>
                  <a:lnTo>
                    <a:pt x="12" y="9"/>
                  </a:lnTo>
                  <a:lnTo>
                    <a:pt x="23" y="9"/>
                  </a:lnTo>
                  <a:lnTo>
                    <a:pt x="22" y="23"/>
                  </a:lnTo>
                  <a:lnTo>
                    <a:pt x="5" y="23"/>
                  </a:lnTo>
                  <a:lnTo>
                    <a:pt x="0" y="45"/>
                  </a:lnTo>
                  <a:lnTo>
                    <a:pt x="20" y="46"/>
                  </a:lnTo>
                  <a:lnTo>
                    <a:pt x="20" y="52"/>
                  </a:lnTo>
                  <a:lnTo>
                    <a:pt x="265" y="53"/>
                  </a:lnTo>
                  <a:lnTo>
                    <a:pt x="265" y="46"/>
                  </a:lnTo>
                  <a:lnTo>
                    <a:pt x="314" y="46"/>
                  </a:lnTo>
                  <a:lnTo>
                    <a:pt x="314" y="42"/>
                  </a:lnTo>
                  <a:lnTo>
                    <a:pt x="327" y="42"/>
                  </a:lnTo>
                  <a:lnTo>
                    <a:pt x="327" y="22"/>
                  </a:lnTo>
                  <a:lnTo>
                    <a:pt x="337" y="22"/>
                  </a:lnTo>
                  <a:lnTo>
                    <a:pt x="33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109520" y="5676840"/>
              <a:ext cx="138240" cy="38160"/>
            </a:xfrm>
            <a:custGeom>
              <a:avLst/>
              <a:gdLst/>
              <a:ahLst/>
              <a:rect l="l" t="t" r="r" b="b"/>
              <a:pathLst>
                <a:path w="262" h="73">
                  <a:moveTo>
                    <a:pt x="50" y="0"/>
                  </a:moveTo>
                  <a:lnTo>
                    <a:pt x="209" y="3"/>
                  </a:lnTo>
                  <a:lnTo>
                    <a:pt x="246" y="10"/>
                  </a:lnTo>
                  <a:lnTo>
                    <a:pt x="262" y="70"/>
                  </a:lnTo>
                  <a:lnTo>
                    <a:pt x="253" y="73"/>
                  </a:lnTo>
                  <a:lnTo>
                    <a:pt x="2" y="73"/>
                  </a:lnTo>
                  <a:lnTo>
                    <a:pt x="0" y="70"/>
                  </a:lnTo>
                  <a:lnTo>
                    <a:pt x="11" y="1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130400" y="5649840"/>
              <a:ext cx="91800" cy="5868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7" y="54"/>
                  </a:moveTo>
                  <a:lnTo>
                    <a:pt x="131" y="15"/>
                  </a:lnTo>
                  <a:lnTo>
                    <a:pt x="87" y="0"/>
                  </a:lnTo>
                  <a:lnTo>
                    <a:pt x="66" y="1"/>
                  </a:lnTo>
                  <a:lnTo>
                    <a:pt x="44" y="13"/>
                  </a:lnTo>
                  <a:lnTo>
                    <a:pt x="4" y="57"/>
                  </a:lnTo>
                  <a:lnTo>
                    <a:pt x="0" y="80"/>
                  </a:lnTo>
                  <a:lnTo>
                    <a:pt x="18" y="97"/>
                  </a:lnTo>
                  <a:lnTo>
                    <a:pt x="87" y="111"/>
                  </a:lnTo>
                  <a:lnTo>
                    <a:pt x="154" y="97"/>
                  </a:lnTo>
                  <a:lnTo>
                    <a:pt x="172" y="80"/>
                  </a:lnTo>
                  <a:lnTo>
                    <a:pt x="167" y="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123920" y="5634000"/>
              <a:ext cx="101520" cy="4140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86" y="39"/>
                  </a:moveTo>
                  <a:lnTo>
                    <a:pt x="146" y="66"/>
                  </a:lnTo>
                  <a:lnTo>
                    <a:pt x="96" y="78"/>
                  </a:lnTo>
                  <a:lnTo>
                    <a:pt x="49" y="71"/>
                  </a:lnTo>
                  <a:lnTo>
                    <a:pt x="4" y="39"/>
                  </a:lnTo>
                  <a:lnTo>
                    <a:pt x="0" y="23"/>
                  </a:lnTo>
                  <a:lnTo>
                    <a:pt x="20" y="12"/>
                  </a:lnTo>
                  <a:lnTo>
                    <a:pt x="96" y="0"/>
                  </a:lnTo>
                  <a:lnTo>
                    <a:pt x="116" y="0"/>
                  </a:lnTo>
                  <a:lnTo>
                    <a:pt x="138" y="2"/>
                  </a:lnTo>
                  <a:lnTo>
                    <a:pt x="172" y="9"/>
                  </a:lnTo>
                  <a:lnTo>
                    <a:pt x="191" y="20"/>
                  </a:lnTo>
                  <a:lnTo>
                    <a:pt x="186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112760" y="5683320"/>
              <a:ext cx="127080" cy="28440"/>
            </a:xfrm>
            <a:custGeom>
              <a:avLst/>
              <a:gdLst/>
              <a:ahLst/>
              <a:rect l="l" t="t" r="r" b="b"/>
              <a:pathLst>
                <a:path w="240" h="54">
                  <a:moveTo>
                    <a:pt x="7" y="0"/>
                  </a:moveTo>
                  <a:lnTo>
                    <a:pt x="0" y="54"/>
                  </a:lnTo>
                  <a:lnTo>
                    <a:pt x="240" y="54"/>
                  </a:lnTo>
                  <a:lnTo>
                    <a:pt x="239" y="51"/>
                  </a:lnTo>
                  <a:lnTo>
                    <a:pt x="5" y="51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77840" y="5526000"/>
              <a:ext cx="195480" cy="141480"/>
            </a:xfrm>
            <a:custGeom>
              <a:avLst/>
              <a:gdLst/>
              <a:ahLst/>
              <a:rect l="l" t="t" r="r" b="b"/>
              <a:pathLst>
                <a:path w="371" h="269">
                  <a:moveTo>
                    <a:pt x="0" y="251"/>
                  </a:moveTo>
                  <a:lnTo>
                    <a:pt x="15" y="269"/>
                  </a:lnTo>
                  <a:lnTo>
                    <a:pt x="350" y="269"/>
                  </a:lnTo>
                  <a:lnTo>
                    <a:pt x="371" y="255"/>
                  </a:lnTo>
                  <a:lnTo>
                    <a:pt x="371" y="15"/>
                  </a:lnTo>
                  <a:lnTo>
                    <a:pt x="354" y="0"/>
                  </a:lnTo>
                  <a:lnTo>
                    <a:pt x="20" y="0"/>
                  </a:lnTo>
                  <a:lnTo>
                    <a:pt x="3" y="12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251000" y="5538960"/>
              <a:ext cx="11160" cy="110880"/>
            </a:xfrm>
            <a:custGeom>
              <a:avLst/>
              <a:gdLst/>
              <a:ahLst/>
              <a:rect l="l" t="t" r="r" b="b"/>
              <a:pathLst>
                <a:path w="21" h="209">
                  <a:moveTo>
                    <a:pt x="20" y="10"/>
                  </a:moveTo>
                  <a:lnTo>
                    <a:pt x="10" y="0"/>
                  </a:lnTo>
                  <a:lnTo>
                    <a:pt x="0" y="13"/>
                  </a:lnTo>
                  <a:lnTo>
                    <a:pt x="9" y="20"/>
                  </a:lnTo>
                  <a:lnTo>
                    <a:pt x="9" y="198"/>
                  </a:lnTo>
                  <a:lnTo>
                    <a:pt x="21" y="20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093680" y="5538960"/>
              <a:ext cx="11160" cy="114120"/>
            </a:xfrm>
            <a:custGeom>
              <a:avLst/>
              <a:gdLst/>
              <a:ahLst/>
              <a:rect l="l" t="t" r="r" b="b"/>
              <a:pathLst>
                <a:path w="21" h="216">
                  <a:moveTo>
                    <a:pt x="0" y="208"/>
                  </a:moveTo>
                  <a:lnTo>
                    <a:pt x="10" y="216"/>
                  </a:lnTo>
                  <a:lnTo>
                    <a:pt x="21" y="205"/>
                  </a:lnTo>
                  <a:lnTo>
                    <a:pt x="13" y="196"/>
                  </a:lnTo>
                  <a:lnTo>
                    <a:pt x="13" y="107"/>
                  </a:lnTo>
                  <a:lnTo>
                    <a:pt x="11" y="20"/>
                  </a:lnTo>
                  <a:lnTo>
                    <a:pt x="20" y="13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209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100160" y="5538960"/>
              <a:ext cx="157320" cy="7920"/>
            </a:xfrm>
            <a:custGeom>
              <a:avLst/>
              <a:gdLst/>
              <a:ahLst/>
              <a:rect l="l" t="t" r="r" b="b"/>
              <a:pathLst>
                <a:path w="299" h="13">
                  <a:moveTo>
                    <a:pt x="0" y="0"/>
                  </a:moveTo>
                  <a:lnTo>
                    <a:pt x="10" y="13"/>
                  </a:lnTo>
                  <a:lnTo>
                    <a:pt x="288" y="13"/>
                  </a:lnTo>
                  <a:lnTo>
                    <a:pt x="2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098720" y="5643720"/>
              <a:ext cx="163440" cy="9360"/>
            </a:xfrm>
            <a:custGeom>
              <a:avLst/>
              <a:gdLst/>
              <a:ahLst/>
              <a:rect l="l" t="t" r="r" b="b"/>
              <a:pathLst>
                <a:path w="310" h="18">
                  <a:moveTo>
                    <a:pt x="298" y="18"/>
                  </a:moveTo>
                  <a:lnTo>
                    <a:pt x="310" y="11"/>
                  </a:lnTo>
                  <a:lnTo>
                    <a:pt x="296" y="0"/>
                  </a:lnTo>
                  <a:lnTo>
                    <a:pt x="290" y="7"/>
                  </a:lnTo>
                  <a:lnTo>
                    <a:pt x="12" y="7"/>
                  </a:lnTo>
                  <a:lnTo>
                    <a:pt x="0" y="18"/>
                  </a:lnTo>
                  <a:lnTo>
                    <a:pt x="298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100160" y="5546880"/>
              <a:ext cx="154080" cy="99720"/>
            </a:xfrm>
            <a:custGeom>
              <a:avLst/>
              <a:gdLst/>
              <a:ahLst/>
              <a:rect l="l" t="t" r="r" b="b"/>
              <a:pathLst>
                <a:path w="291" h="189">
                  <a:moveTo>
                    <a:pt x="0" y="178"/>
                  </a:moveTo>
                  <a:lnTo>
                    <a:pt x="12" y="189"/>
                  </a:lnTo>
                  <a:lnTo>
                    <a:pt x="278" y="189"/>
                  </a:lnTo>
                  <a:lnTo>
                    <a:pt x="291" y="181"/>
                  </a:lnTo>
                  <a:lnTo>
                    <a:pt x="291" y="10"/>
                  </a:lnTo>
                  <a:lnTo>
                    <a:pt x="280" y="0"/>
                  </a:lnTo>
                  <a:lnTo>
                    <a:pt x="15" y="0"/>
                  </a:lnTo>
                  <a:lnTo>
                    <a:pt x="2" y="9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2090880" y="4963680"/>
              <a:ext cx="11332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195720" y="5361120"/>
              <a:ext cx="1782720" cy="95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106880" y="5423040"/>
              <a:ext cx="144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857760" y="5946840"/>
              <a:ext cx="25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540240" y="555948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054600" y="5067360"/>
              <a:ext cx="120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Branch.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8" name=""/>
            <p:cNvGrpSpPr/>
            <p:nvPr/>
          </p:nvGrpSpPr>
          <p:grpSpPr>
            <a:xfrm>
              <a:off x="4248000" y="5483160"/>
              <a:ext cx="471600" cy="293760"/>
              <a:chOff x="4248000" y="5483160"/>
              <a:chExt cx="471600" cy="293760"/>
            </a:xfrm>
          </p:grpSpPr>
          <p:pic>
            <p:nvPicPr>
              <p:cNvPr id="24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48000" y="5483160"/>
                <a:ext cx="47160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48000" y="5483160"/>
                <a:ext cx="471600" cy="29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1" name=""/>
            <p:cNvSpPr/>
            <p:nvPr/>
          </p:nvSpPr>
          <p:spPr>
            <a:xfrm>
              <a:off x="4102200" y="5661000"/>
              <a:ext cx="17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603600" y="5954760"/>
              <a:ext cx="246240" cy="396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603600" y="5918040"/>
              <a:ext cx="246240" cy="38160"/>
            </a:xfrm>
            <a:custGeom>
              <a:avLst/>
              <a:gdLst/>
              <a:ahLst/>
              <a:rect l="l" t="t" r="r" b="b"/>
              <a:pathLst>
                <a:path w="463" h="74">
                  <a:moveTo>
                    <a:pt x="32" y="0"/>
                  </a:moveTo>
                  <a:lnTo>
                    <a:pt x="430" y="2"/>
                  </a:lnTo>
                  <a:lnTo>
                    <a:pt x="463" y="74"/>
                  </a:lnTo>
                  <a:lnTo>
                    <a:pt x="0" y="7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773520" y="5985000"/>
              <a:ext cx="61920" cy="2880"/>
            </a:xfrm>
            <a:custGeom>
              <a:avLst/>
              <a:gdLst/>
              <a:ahLst/>
              <a:rect l="l" t="t" r="r" b="b"/>
              <a:pathLst>
                <a:path w="117" h="8">
                  <a:moveTo>
                    <a:pt x="117" y="2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117" y="5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576600" y="6035760"/>
              <a:ext cx="311040" cy="11160"/>
            </a:xfrm>
            <a:custGeom>
              <a:avLst/>
              <a:gdLst/>
              <a:ahLst/>
              <a:rect l="l" t="t" r="r" b="b"/>
              <a:pathLst>
                <a:path w="588" h="20">
                  <a:moveTo>
                    <a:pt x="4" y="0"/>
                  </a:moveTo>
                  <a:lnTo>
                    <a:pt x="588" y="7"/>
                  </a:lnTo>
                  <a:lnTo>
                    <a:pt x="588" y="20"/>
                  </a:lnTo>
                  <a:lnTo>
                    <a:pt x="0" y="2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576600" y="6004080"/>
              <a:ext cx="311040" cy="36360"/>
            </a:xfrm>
            <a:custGeom>
              <a:avLst/>
              <a:gdLst/>
              <a:ahLst/>
              <a:rect l="l" t="t" r="r" b="b"/>
              <a:pathLst>
                <a:path w="588" h="68">
                  <a:moveTo>
                    <a:pt x="19" y="0"/>
                  </a:moveTo>
                  <a:lnTo>
                    <a:pt x="0" y="68"/>
                  </a:lnTo>
                  <a:lnTo>
                    <a:pt x="588" y="68"/>
                  </a:lnTo>
                  <a:lnTo>
                    <a:pt x="56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819600" y="6008760"/>
              <a:ext cx="52200" cy="252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0" y="0"/>
                  </a:moveTo>
                  <a:lnTo>
                    <a:pt x="10" y="50"/>
                  </a:lnTo>
                  <a:lnTo>
                    <a:pt x="100" y="50"/>
                  </a:lnTo>
                  <a:lnTo>
                    <a:pt x="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776760" y="6006960"/>
              <a:ext cx="39600" cy="27000"/>
            </a:xfrm>
            <a:custGeom>
              <a:avLst/>
              <a:gdLst/>
              <a:ahLst/>
              <a:rect l="l" t="t" r="r" b="b"/>
              <a:pathLst>
                <a:path w="76" h="51">
                  <a:moveTo>
                    <a:pt x="0" y="0"/>
                  </a:moveTo>
                  <a:lnTo>
                    <a:pt x="3" y="33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3" y="40"/>
                  </a:lnTo>
                  <a:lnTo>
                    <a:pt x="3" y="51"/>
                  </a:lnTo>
                  <a:lnTo>
                    <a:pt x="76" y="51"/>
                  </a:lnTo>
                  <a:lnTo>
                    <a:pt x="72" y="37"/>
                  </a:lnTo>
                  <a:lnTo>
                    <a:pt x="58" y="37"/>
                  </a:lnTo>
                  <a:lnTo>
                    <a:pt x="56" y="33"/>
                  </a:lnTo>
                  <a:lnTo>
                    <a:pt x="72" y="33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587760" y="6008760"/>
              <a:ext cx="177840" cy="27000"/>
            </a:xfrm>
            <a:custGeom>
              <a:avLst/>
              <a:gdLst/>
              <a:ahLst/>
              <a:rect l="l" t="t" r="r" b="b"/>
              <a:pathLst>
                <a:path w="335" h="52">
                  <a:moveTo>
                    <a:pt x="11" y="0"/>
                  </a:moveTo>
                  <a:lnTo>
                    <a:pt x="11" y="10"/>
                  </a:lnTo>
                  <a:lnTo>
                    <a:pt x="23" y="10"/>
                  </a:lnTo>
                  <a:lnTo>
                    <a:pt x="21" y="25"/>
                  </a:lnTo>
                  <a:lnTo>
                    <a:pt x="5" y="25"/>
                  </a:lnTo>
                  <a:lnTo>
                    <a:pt x="0" y="43"/>
                  </a:lnTo>
                  <a:lnTo>
                    <a:pt x="18" y="45"/>
                  </a:lnTo>
                  <a:lnTo>
                    <a:pt x="18" y="50"/>
                  </a:lnTo>
                  <a:lnTo>
                    <a:pt x="266" y="52"/>
                  </a:lnTo>
                  <a:lnTo>
                    <a:pt x="266" y="45"/>
                  </a:lnTo>
                  <a:lnTo>
                    <a:pt x="312" y="45"/>
                  </a:lnTo>
                  <a:lnTo>
                    <a:pt x="312" y="42"/>
                  </a:lnTo>
                  <a:lnTo>
                    <a:pt x="325" y="42"/>
                  </a:lnTo>
                  <a:lnTo>
                    <a:pt x="325" y="23"/>
                  </a:lnTo>
                  <a:lnTo>
                    <a:pt x="335" y="23"/>
                  </a:lnTo>
                  <a:lnTo>
                    <a:pt x="33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657600" y="5911920"/>
              <a:ext cx="139680" cy="38160"/>
            </a:xfrm>
            <a:custGeom>
              <a:avLst/>
              <a:gdLst/>
              <a:ahLst/>
              <a:rect l="l" t="t" r="r" b="b"/>
              <a:pathLst>
                <a:path w="262" h="72">
                  <a:moveTo>
                    <a:pt x="53" y="0"/>
                  </a:moveTo>
                  <a:lnTo>
                    <a:pt x="213" y="3"/>
                  </a:lnTo>
                  <a:lnTo>
                    <a:pt x="248" y="11"/>
                  </a:lnTo>
                  <a:lnTo>
                    <a:pt x="262" y="69"/>
                  </a:lnTo>
                  <a:lnTo>
                    <a:pt x="255" y="72"/>
                  </a:lnTo>
                  <a:lnTo>
                    <a:pt x="3" y="72"/>
                  </a:lnTo>
                  <a:lnTo>
                    <a:pt x="0" y="69"/>
                  </a:lnTo>
                  <a:lnTo>
                    <a:pt x="11" y="1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679920" y="5884920"/>
              <a:ext cx="90360" cy="58680"/>
            </a:xfrm>
            <a:custGeom>
              <a:avLst/>
              <a:gdLst/>
              <a:ahLst/>
              <a:rect l="l" t="t" r="r" b="b"/>
              <a:pathLst>
                <a:path w="172" h="110">
                  <a:moveTo>
                    <a:pt x="169" y="54"/>
                  </a:moveTo>
                  <a:lnTo>
                    <a:pt x="132" y="16"/>
                  </a:lnTo>
                  <a:lnTo>
                    <a:pt x="88" y="0"/>
                  </a:lnTo>
                  <a:lnTo>
                    <a:pt x="66" y="1"/>
                  </a:lnTo>
                  <a:lnTo>
                    <a:pt x="45" y="13"/>
                  </a:lnTo>
                  <a:lnTo>
                    <a:pt x="5" y="57"/>
                  </a:lnTo>
                  <a:lnTo>
                    <a:pt x="0" y="79"/>
                  </a:lnTo>
                  <a:lnTo>
                    <a:pt x="18" y="96"/>
                  </a:lnTo>
                  <a:lnTo>
                    <a:pt x="86" y="110"/>
                  </a:lnTo>
                  <a:lnTo>
                    <a:pt x="155" y="97"/>
                  </a:lnTo>
                  <a:lnTo>
                    <a:pt x="172" y="80"/>
                  </a:lnTo>
                  <a:lnTo>
                    <a:pt x="169" y="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673440" y="5869080"/>
              <a:ext cx="101520" cy="42840"/>
            </a:xfrm>
            <a:custGeom>
              <a:avLst/>
              <a:gdLst/>
              <a:ahLst/>
              <a:rect l="l" t="t" r="r" b="b"/>
              <a:pathLst>
                <a:path w="190" h="79">
                  <a:moveTo>
                    <a:pt x="188" y="40"/>
                  </a:moveTo>
                  <a:lnTo>
                    <a:pt x="148" y="68"/>
                  </a:lnTo>
                  <a:lnTo>
                    <a:pt x="97" y="79"/>
                  </a:lnTo>
                  <a:lnTo>
                    <a:pt x="49" y="70"/>
                  </a:lnTo>
                  <a:lnTo>
                    <a:pt x="6" y="39"/>
                  </a:lnTo>
                  <a:lnTo>
                    <a:pt x="0" y="23"/>
                  </a:lnTo>
                  <a:lnTo>
                    <a:pt x="20" y="12"/>
                  </a:lnTo>
                  <a:lnTo>
                    <a:pt x="96" y="0"/>
                  </a:lnTo>
                  <a:lnTo>
                    <a:pt x="116" y="0"/>
                  </a:lnTo>
                  <a:lnTo>
                    <a:pt x="137" y="2"/>
                  </a:lnTo>
                  <a:lnTo>
                    <a:pt x="172" y="9"/>
                  </a:lnTo>
                  <a:lnTo>
                    <a:pt x="190" y="20"/>
                  </a:lnTo>
                  <a:lnTo>
                    <a:pt x="188" y="4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662280" y="5918040"/>
              <a:ext cx="127080" cy="28800"/>
            </a:xfrm>
            <a:custGeom>
              <a:avLst/>
              <a:gdLst/>
              <a:ahLst/>
              <a:rect l="l" t="t" r="r" b="b"/>
              <a:pathLst>
                <a:path w="242" h="53">
                  <a:moveTo>
                    <a:pt x="10" y="0"/>
                  </a:moveTo>
                  <a:lnTo>
                    <a:pt x="0" y="53"/>
                  </a:lnTo>
                  <a:lnTo>
                    <a:pt x="242" y="53"/>
                  </a:lnTo>
                  <a:lnTo>
                    <a:pt x="241" y="50"/>
                  </a:lnTo>
                  <a:lnTo>
                    <a:pt x="7" y="50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629160" y="5761080"/>
              <a:ext cx="195120" cy="141120"/>
            </a:xfrm>
            <a:custGeom>
              <a:avLst/>
              <a:gdLst/>
              <a:ahLst/>
              <a:rect l="l" t="t" r="r" b="b"/>
              <a:pathLst>
                <a:path w="370" h="267">
                  <a:moveTo>
                    <a:pt x="0" y="249"/>
                  </a:moveTo>
                  <a:lnTo>
                    <a:pt x="14" y="267"/>
                  </a:lnTo>
                  <a:lnTo>
                    <a:pt x="348" y="267"/>
                  </a:lnTo>
                  <a:lnTo>
                    <a:pt x="370" y="253"/>
                  </a:lnTo>
                  <a:lnTo>
                    <a:pt x="370" y="14"/>
                  </a:lnTo>
                  <a:lnTo>
                    <a:pt x="352" y="0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798720" y="5775480"/>
              <a:ext cx="12960" cy="109440"/>
            </a:xfrm>
            <a:custGeom>
              <a:avLst/>
              <a:gdLst/>
              <a:ahLst/>
              <a:rect l="l" t="t" r="r" b="b"/>
              <a:pathLst>
                <a:path w="25" h="209">
                  <a:moveTo>
                    <a:pt x="22" y="9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2" y="19"/>
                  </a:lnTo>
                  <a:lnTo>
                    <a:pt x="12" y="198"/>
                  </a:lnTo>
                  <a:lnTo>
                    <a:pt x="25" y="20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643200" y="5775480"/>
              <a:ext cx="11160" cy="112680"/>
            </a:xfrm>
            <a:custGeom>
              <a:avLst/>
              <a:gdLst/>
              <a:ahLst/>
              <a:rect l="l" t="t" r="r" b="b"/>
              <a:pathLst>
                <a:path w="23" h="215">
                  <a:moveTo>
                    <a:pt x="0" y="208"/>
                  </a:moveTo>
                  <a:lnTo>
                    <a:pt x="12" y="215"/>
                  </a:lnTo>
                  <a:lnTo>
                    <a:pt x="23" y="205"/>
                  </a:lnTo>
                  <a:lnTo>
                    <a:pt x="15" y="196"/>
                  </a:lnTo>
                  <a:lnTo>
                    <a:pt x="15" y="106"/>
                  </a:lnTo>
                  <a:lnTo>
                    <a:pt x="13" y="19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0" y="9"/>
                  </a:lnTo>
                  <a:lnTo>
                    <a:pt x="0" y="209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649680" y="5775480"/>
              <a:ext cx="158760" cy="6120"/>
            </a:xfrm>
            <a:custGeom>
              <a:avLst/>
              <a:gdLst/>
              <a:ahLst/>
              <a:rect l="l" t="t" r="r" b="b"/>
              <a:pathLst>
                <a:path w="301" h="12">
                  <a:moveTo>
                    <a:pt x="0" y="0"/>
                  </a:moveTo>
                  <a:lnTo>
                    <a:pt x="11" y="12"/>
                  </a:lnTo>
                  <a:lnTo>
                    <a:pt x="286" y="12"/>
                  </a:lnTo>
                  <a:lnTo>
                    <a:pt x="3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648240" y="5880240"/>
              <a:ext cx="164880" cy="7920"/>
            </a:xfrm>
            <a:custGeom>
              <a:avLst/>
              <a:gdLst/>
              <a:ahLst/>
              <a:rect l="l" t="t" r="r" b="b"/>
              <a:pathLst>
                <a:path w="311" h="17">
                  <a:moveTo>
                    <a:pt x="300" y="17"/>
                  </a:moveTo>
                  <a:lnTo>
                    <a:pt x="311" y="11"/>
                  </a:lnTo>
                  <a:lnTo>
                    <a:pt x="297" y="0"/>
                  </a:lnTo>
                  <a:lnTo>
                    <a:pt x="288" y="7"/>
                  </a:lnTo>
                  <a:lnTo>
                    <a:pt x="13" y="7"/>
                  </a:lnTo>
                  <a:lnTo>
                    <a:pt x="0" y="17"/>
                  </a:lnTo>
                  <a:lnTo>
                    <a:pt x="300" y="17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49680" y="5781600"/>
              <a:ext cx="155520" cy="101520"/>
            </a:xfrm>
            <a:custGeom>
              <a:avLst/>
              <a:gdLst/>
              <a:ahLst/>
              <a:rect l="l" t="t" r="r" b="b"/>
              <a:pathLst>
                <a:path w="294" h="191">
                  <a:moveTo>
                    <a:pt x="0" y="179"/>
                  </a:moveTo>
                  <a:lnTo>
                    <a:pt x="12" y="191"/>
                  </a:lnTo>
                  <a:lnTo>
                    <a:pt x="277" y="191"/>
                  </a:lnTo>
                  <a:lnTo>
                    <a:pt x="294" y="182"/>
                  </a:lnTo>
                  <a:lnTo>
                    <a:pt x="294" y="10"/>
                  </a:lnTo>
                  <a:lnTo>
                    <a:pt x="279" y="0"/>
                  </a:lnTo>
                  <a:lnTo>
                    <a:pt x="14" y="0"/>
                  </a:lnTo>
                  <a:lnTo>
                    <a:pt x="2" y="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 flipV="1">
              <a:off x="4579920" y="4908240"/>
              <a:ext cx="6192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591160" y="5438880"/>
              <a:ext cx="1781280" cy="95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502320" y="5500800"/>
              <a:ext cx="180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251400" y="6024600"/>
              <a:ext cx="2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934240" y="563580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48600" y="5148360"/>
              <a:ext cx="120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Branch.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6643800" y="5560920"/>
              <a:ext cx="469800" cy="293760"/>
              <a:chOff x="6643800" y="5560920"/>
              <a:chExt cx="469800" cy="293760"/>
            </a:xfrm>
          </p:grpSpPr>
          <p:pic>
            <p:nvPicPr>
              <p:cNvPr id="244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643800" y="5560920"/>
                <a:ext cx="46980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43800" y="5560920"/>
                <a:ext cx="469800" cy="29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9" name=""/>
            <p:cNvSpPr/>
            <p:nvPr/>
          </p:nvSpPr>
          <p:spPr>
            <a:xfrm>
              <a:off x="6496200" y="5737320"/>
              <a:ext cx="17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997600" y="6031080"/>
              <a:ext cx="245880" cy="41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99040" y="5994360"/>
              <a:ext cx="244440" cy="39600"/>
            </a:xfrm>
            <a:custGeom>
              <a:avLst/>
              <a:gdLst/>
              <a:ahLst/>
              <a:rect l="l" t="t" r="r" b="b"/>
              <a:pathLst>
                <a:path w="462" h="73">
                  <a:moveTo>
                    <a:pt x="33" y="0"/>
                  </a:moveTo>
                  <a:lnTo>
                    <a:pt x="429" y="1"/>
                  </a:lnTo>
                  <a:lnTo>
                    <a:pt x="462" y="73"/>
                  </a:lnTo>
                  <a:lnTo>
                    <a:pt x="0" y="7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167520" y="6060960"/>
              <a:ext cx="63360" cy="5040"/>
            </a:xfrm>
            <a:custGeom>
              <a:avLst/>
              <a:gdLst/>
              <a:ahLst/>
              <a:rect l="l" t="t" r="r" b="b"/>
              <a:pathLst>
                <a:path w="118" h="8">
                  <a:moveTo>
                    <a:pt x="118" y="2"/>
                  </a:moveTo>
                  <a:lnTo>
                    <a:pt x="35" y="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5" y="8"/>
                  </a:lnTo>
                  <a:lnTo>
                    <a:pt x="35" y="5"/>
                  </a:lnTo>
                  <a:lnTo>
                    <a:pt x="118" y="5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970600" y="6114960"/>
              <a:ext cx="311040" cy="972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4" y="0"/>
                  </a:moveTo>
                  <a:lnTo>
                    <a:pt x="587" y="7"/>
                  </a:lnTo>
                  <a:lnTo>
                    <a:pt x="587" y="18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970600" y="6081840"/>
              <a:ext cx="311040" cy="36360"/>
            </a:xfrm>
            <a:custGeom>
              <a:avLst/>
              <a:gdLst/>
              <a:ahLst/>
              <a:rect l="l" t="t" r="r" b="b"/>
              <a:pathLst>
                <a:path w="587" h="70">
                  <a:moveTo>
                    <a:pt x="18" y="0"/>
                  </a:moveTo>
                  <a:lnTo>
                    <a:pt x="0" y="70"/>
                  </a:lnTo>
                  <a:lnTo>
                    <a:pt x="587" y="70"/>
                  </a:lnTo>
                  <a:lnTo>
                    <a:pt x="55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15040" y="6084720"/>
              <a:ext cx="50760" cy="28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0"/>
                  </a:moveTo>
                  <a:lnTo>
                    <a:pt x="8" y="52"/>
                  </a:lnTo>
                  <a:lnTo>
                    <a:pt x="98" y="52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170760" y="6084720"/>
              <a:ext cx="41040" cy="28800"/>
            </a:xfrm>
            <a:custGeom>
              <a:avLst/>
              <a:gdLst/>
              <a:ahLst/>
              <a:rect l="l" t="t" r="r" b="b"/>
              <a:pathLst>
                <a:path w="76" h="53">
                  <a:moveTo>
                    <a:pt x="0" y="0"/>
                  </a:moveTo>
                  <a:lnTo>
                    <a:pt x="3" y="34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3" y="40"/>
                  </a:lnTo>
                  <a:lnTo>
                    <a:pt x="3" y="53"/>
                  </a:lnTo>
                  <a:lnTo>
                    <a:pt x="76" y="53"/>
                  </a:lnTo>
                  <a:lnTo>
                    <a:pt x="72" y="39"/>
                  </a:lnTo>
                  <a:lnTo>
                    <a:pt x="57" y="39"/>
                  </a:lnTo>
                  <a:lnTo>
                    <a:pt x="57" y="34"/>
                  </a:lnTo>
                  <a:lnTo>
                    <a:pt x="72" y="34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81760" y="6084720"/>
              <a:ext cx="177840" cy="28800"/>
            </a:xfrm>
            <a:custGeom>
              <a:avLst/>
              <a:gdLst/>
              <a:ahLst/>
              <a:rect l="l" t="t" r="r" b="b"/>
              <a:pathLst>
                <a:path w="334" h="53">
                  <a:moveTo>
                    <a:pt x="13" y="0"/>
                  </a:moveTo>
                  <a:lnTo>
                    <a:pt x="12" y="10"/>
                  </a:lnTo>
                  <a:lnTo>
                    <a:pt x="22" y="10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0" y="45"/>
                  </a:lnTo>
                  <a:lnTo>
                    <a:pt x="19" y="46"/>
                  </a:lnTo>
                  <a:lnTo>
                    <a:pt x="19" y="52"/>
                  </a:lnTo>
                  <a:lnTo>
                    <a:pt x="267" y="53"/>
                  </a:lnTo>
                  <a:lnTo>
                    <a:pt x="267" y="48"/>
                  </a:lnTo>
                  <a:lnTo>
                    <a:pt x="313" y="48"/>
                  </a:lnTo>
                  <a:lnTo>
                    <a:pt x="313" y="42"/>
                  </a:lnTo>
                  <a:lnTo>
                    <a:pt x="327" y="42"/>
                  </a:lnTo>
                  <a:lnTo>
                    <a:pt x="327" y="23"/>
                  </a:lnTo>
                  <a:lnTo>
                    <a:pt x="334" y="23"/>
                  </a:lnTo>
                  <a:lnTo>
                    <a:pt x="334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053040" y="5989680"/>
              <a:ext cx="138240" cy="38160"/>
            </a:xfrm>
            <a:custGeom>
              <a:avLst/>
              <a:gdLst/>
              <a:ahLst/>
              <a:rect l="l" t="t" r="r" b="b"/>
              <a:pathLst>
                <a:path w="261" h="71">
                  <a:moveTo>
                    <a:pt x="53" y="0"/>
                  </a:moveTo>
                  <a:lnTo>
                    <a:pt x="214" y="2"/>
                  </a:lnTo>
                  <a:lnTo>
                    <a:pt x="248" y="10"/>
                  </a:lnTo>
                  <a:lnTo>
                    <a:pt x="261" y="68"/>
                  </a:lnTo>
                  <a:lnTo>
                    <a:pt x="257" y="71"/>
                  </a:lnTo>
                  <a:lnTo>
                    <a:pt x="3" y="71"/>
                  </a:lnTo>
                  <a:lnTo>
                    <a:pt x="0" y="68"/>
                  </a:lnTo>
                  <a:lnTo>
                    <a:pt x="13" y="1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075360" y="5962680"/>
              <a:ext cx="88920" cy="5724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67" y="53"/>
                  </a:moveTo>
                  <a:lnTo>
                    <a:pt x="129" y="15"/>
                  </a:lnTo>
                  <a:lnTo>
                    <a:pt x="85" y="0"/>
                  </a:lnTo>
                  <a:lnTo>
                    <a:pt x="65" y="2"/>
                  </a:lnTo>
                  <a:lnTo>
                    <a:pt x="43" y="13"/>
                  </a:lnTo>
                  <a:lnTo>
                    <a:pt x="5" y="56"/>
                  </a:lnTo>
                  <a:lnTo>
                    <a:pt x="0" y="78"/>
                  </a:lnTo>
                  <a:lnTo>
                    <a:pt x="16" y="95"/>
                  </a:lnTo>
                  <a:lnTo>
                    <a:pt x="85" y="109"/>
                  </a:lnTo>
                  <a:lnTo>
                    <a:pt x="152" y="96"/>
                  </a:lnTo>
                  <a:lnTo>
                    <a:pt x="169" y="79"/>
                  </a:lnTo>
                  <a:lnTo>
                    <a:pt x="167" y="5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068880" y="5946840"/>
              <a:ext cx="101880" cy="41040"/>
            </a:xfrm>
            <a:custGeom>
              <a:avLst/>
              <a:gdLst/>
              <a:ahLst/>
              <a:rect l="l" t="t" r="r" b="b"/>
              <a:pathLst>
                <a:path w="190" h="79">
                  <a:moveTo>
                    <a:pt x="186" y="40"/>
                  </a:moveTo>
                  <a:lnTo>
                    <a:pt x="145" y="68"/>
                  </a:lnTo>
                  <a:lnTo>
                    <a:pt x="95" y="79"/>
                  </a:lnTo>
                  <a:lnTo>
                    <a:pt x="47" y="71"/>
                  </a:lnTo>
                  <a:lnTo>
                    <a:pt x="3" y="39"/>
                  </a:lnTo>
                  <a:lnTo>
                    <a:pt x="0" y="23"/>
                  </a:lnTo>
                  <a:lnTo>
                    <a:pt x="20" y="12"/>
                  </a:lnTo>
                  <a:lnTo>
                    <a:pt x="96" y="0"/>
                  </a:lnTo>
                  <a:lnTo>
                    <a:pt x="116" y="0"/>
                  </a:lnTo>
                  <a:lnTo>
                    <a:pt x="137" y="2"/>
                  </a:lnTo>
                  <a:lnTo>
                    <a:pt x="172" y="9"/>
                  </a:lnTo>
                  <a:lnTo>
                    <a:pt x="190" y="20"/>
                  </a:lnTo>
                  <a:lnTo>
                    <a:pt x="186" y="4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056280" y="5994360"/>
              <a:ext cx="128520" cy="28440"/>
            </a:xfrm>
            <a:custGeom>
              <a:avLst/>
              <a:gdLst/>
              <a:ahLst/>
              <a:rect l="l" t="t" r="r" b="b"/>
              <a:pathLst>
                <a:path w="245" h="54">
                  <a:moveTo>
                    <a:pt x="10" y="0"/>
                  </a:moveTo>
                  <a:lnTo>
                    <a:pt x="0" y="54"/>
                  </a:lnTo>
                  <a:lnTo>
                    <a:pt x="245" y="54"/>
                  </a:lnTo>
                  <a:lnTo>
                    <a:pt x="242" y="51"/>
                  </a:lnTo>
                  <a:lnTo>
                    <a:pt x="7" y="51"/>
                  </a:lnTo>
                  <a:lnTo>
                    <a:pt x="10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022800" y="5838840"/>
              <a:ext cx="195480" cy="141120"/>
            </a:xfrm>
            <a:custGeom>
              <a:avLst/>
              <a:gdLst/>
              <a:ahLst/>
              <a:rect l="l" t="t" r="r" b="b"/>
              <a:pathLst>
                <a:path w="370" h="267">
                  <a:moveTo>
                    <a:pt x="0" y="249"/>
                  </a:moveTo>
                  <a:lnTo>
                    <a:pt x="16" y="267"/>
                  </a:lnTo>
                  <a:lnTo>
                    <a:pt x="350" y="267"/>
                  </a:lnTo>
                  <a:lnTo>
                    <a:pt x="370" y="253"/>
                  </a:lnTo>
                  <a:lnTo>
                    <a:pt x="370" y="14"/>
                  </a:lnTo>
                  <a:lnTo>
                    <a:pt x="353" y="0"/>
                  </a:lnTo>
                  <a:lnTo>
                    <a:pt x="20" y="0"/>
                  </a:lnTo>
                  <a:lnTo>
                    <a:pt x="2" y="11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192720" y="5851440"/>
              <a:ext cx="12960" cy="111240"/>
            </a:xfrm>
            <a:custGeom>
              <a:avLst/>
              <a:gdLst/>
              <a:ahLst/>
              <a:rect l="l" t="t" r="r" b="b"/>
              <a:pathLst>
                <a:path w="25" h="209">
                  <a:moveTo>
                    <a:pt x="23" y="10"/>
                  </a:moveTo>
                  <a:lnTo>
                    <a:pt x="16" y="0"/>
                  </a:lnTo>
                  <a:lnTo>
                    <a:pt x="0" y="13"/>
                  </a:lnTo>
                  <a:lnTo>
                    <a:pt x="15" y="20"/>
                  </a:lnTo>
                  <a:lnTo>
                    <a:pt x="15" y="199"/>
                  </a:lnTo>
                  <a:lnTo>
                    <a:pt x="25" y="209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037200" y="5851440"/>
              <a:ext cx="12600" cy="114480"/>
            </a:xfrm>
            <a:custGeom>
              <a:avLst/>
              <a:gdLst/>
              <a:ahLst/>
              <a:rect l="l" t="t" r="r" b="b"/>
              <a:pathLst>
                <a:path w="24" h="216">
                  <a:moveTo>
                    <a:pt x="0" y="208"/>
                  </a:moveTo>
                  <a:lnTo>
                    <a:pt x="13" y="216"/>
                  </a:lnTo>
                  <a:lnTo>
                    <a:pt x="24" y="205"/>
                  </a:lnTo>
                  <a:lnTo>
                    <a:pt x="14" y="198"/>
                  </a:lnTo>
                  <a:lnTo>
                    <a:pt x="14" y="109"/>
                  </a:lnTo>
                  <a:lnTo>
                    <a:pt x="13" y="20"/>
                  </a:lnTo>
                  <a:lnTo>
                    <a:pt x="23" y="13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209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045120" y="5851440"/>
              <a:ext cx="157320" cy="6480"/>
            </a:xfrm>
            <a:custGeom>
              <a:avLst/>
              <a:gdLst/>
              <a:ahLst/>
              <a:rect l="l" t="t" r="r" b="b"/>
              <a:pathLst>
                <a:path w="299" h="13">
                  <a:moveTo>
                    <a:pt x="0" y="0"/>
                  </a:moveTo>
                  <a:lnTo>
                    <a:pt x="10" y="13"/>
                  </a:lnTo>
                  <a:lnTo>
                    <a:pt x="285" y="13"/>
                  </a:lnTo>
                  <a:lnTo>
                    <a:pt x="2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043680" y="5956200"/>
              <a:ext cx="163440" cy="9720"/>
            </a:xfrm>
            <a:custGeom>
              <a:avLst/>
              <a:gdLst/>
              <a:ahLst/>
              <a:rect l="l" t="t" r="r" b="b"/>
              <a:pathLst>
                <a:path w="311" h="17">
                  <a:moveTo>
                    <a:pt x="299" y="17"/>
                  </a:moveTo>
                  <a:lnTo>
                    <a:pt x="311" y="10"/>
                  </a:lnTo>
                  <a:lnTo>
                    <a:pt x="298" y="0"/>
                  </a:lnTo>
                  <a:lnTo>
                    <a:pt x="288" y="6"/>
                  </a:lnTo>
                  <a:lnTo>
                    <a:pt x="13" y="6"/>
                  </a:lnTo>
                  <a:lnTo>
                    <a:pt x="0" y="17"/>
                  </a:lnTo>
                  <a:lnTo>
                    <a:pt x="299" y="17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045120" y="5859360"/>
              <a:ext cx="154080" cy="100080"/>
            </a:xfrm>
            <a:custGeom>
              <a:avLst/>
              <a:gdLst/>
              <a:ahLst/>
              <a:rect l="l" t="t" r="r" b="b"/>
              <a:pathLst>
                <a:path w="292" h="189">
                  <a:moveTo>
                    <a:pt x="0" y="179"/>
                  </a:moveTo>
                  <a:lnTo>
                    <a:pt x="13" y="189"/>
                  </a:lnTo>
                  <a:lnTo>
                    <a:pt x="275" y="189"/>
                  </a:lnTo>
                  <a:lnTo>
                    <a:pt x="292" y="182"/>
                  </a:lnTo>
                  <a:lnTo>
                    <a:pt x="292" y="10"/>
                  </a:lnTo>
                  <a:lnTo>
                    <a:pt x="278" y="0"/>
                  </a:lnTo>
                  <a:lnTo>
                    <a:pt x="14" y="0"/>
                  </a:lnTo>
                  <a:lnTo>
                    <a:pt x="1" y="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 flipV="1">
              <a:off x="6435720" y="4873320"/>
              <a:ext cx="60480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D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DSL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非对称数字用户线路技术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利用现有的一对铜双绞线（即普通电话线），为用户提供上、下行非对称的传输速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行速率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40Kbp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Mbp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行速率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Mbp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效传输距离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公里范围以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D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728640" y="1980720"/>
            <a:ext cx="8415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DS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现远程连接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DS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远程连接客实现单位各部门之间的有效远程通信和数据传输，取代原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D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X2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线或拨号连接方式，解决信息点分散问题，其优点在于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专线的效果，和远低于专线的费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比拨号接入快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倍以上的联网速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组网迅速，工程量小，降低成本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广域网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4" name=""/>
          <p:cNvGraphicFramePr/>
          <p:nvPr/>
        </p:nvGraphicFramePr>
        <p:xfrm>
          <a:off x="990720" y="2362320"/>
          <a:ext cx="6400800" cy="3322440"/>
        </p:xfrm>
        <a:graphic>
          <a:graphicData uri="http://schemas.openxmlformats.org/drawingml/2006/table">
            <a:tbl>
              <a:tblPr/>
              <a:tblGrid>
                <a:gridCol w="2590560"/>
                <a:gridCol w="381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网络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数据链路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ame Re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P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DL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96080" y="44197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933960" y="5181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6095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3760" y="6095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6095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6095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715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23920" y="5791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4952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33520"/>
            <a:ext cx="5638680" cy="289548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800600" y="2819520"/>
            <a:ext cx="380880" cy="228600"/>
            <a:chOff x="4800600" y="2819520"/>
            <a:chExt cx="380880" cy="228600"/>
          </a:xfrm>
        </p:grpSpPr>
        <p:sp>
          <p:nvSpPr>
            <p:cNvPr id="121" name=""/>
            <p:cNvSpPr/>
            <p:nvPr/>
          </p:nvSpPr>
          <p:spPr>
            <a:xfrm>
              <a:off x="4800600" y="28832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28195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859640" y="2834280"/>
              <a:ext cx="261720" cy="94680"/>
              <a:chOff x="4859640" y="2834280"/>
              <a:chExt cx="261720" cy="94680"/>
            </a:xfrm>
          </p:grpSpPr>
          <p:sp>
            <p:nvSpPr>
              <p:cNvPr id="124" name=""/>
              <p:cNvSpPr/>
              <p:nvPr/>
            </p:nvSpPr>
            <p:spPr>
              <a:xfrm>
                <a:off x="499536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9536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59640" y="2882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59640" y="2882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65760" y="2834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5760" y="2834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90320" y="2887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90320" y="2887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97880" y="2839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97880" y="2839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62160" y="2884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62160" y="2884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6828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6828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93200" y="2889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93200" y="2889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4419720" y="3200400"/>
            <a:ext cx="1218960" cy="990720"/>
          </a:xfrm>
          <a:prstGeom prst="rect">
            <a:avLst/>
          </a:prstGeom>
          <a:noFill/>
          <a:ln w="316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886200"/>
            <a:ext cx="9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大型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4960" y="350532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2819520"/>
            <a:ext cx="8384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733920"/>
            <a:ext cx="1219320" cy="1066680"/>
          </a:xfrm>
          <a:prstGeom prst="rect">
            <a:avLst/>
          </a:prstGeom>
          <a:noFill/>
          <a:ln w="316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41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中小型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09680" y="41144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952880"/>
            <a:ext cx="1122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用户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50532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377120" y="6019920"/>
            <a:ext cx="1309680" cy="516960"/>
            <a:chOff x="7377120" y="6019920"/>
            <a:chExt cx="1309680" cy="516960"/>
          </a:xfrm>
        </p:grpSpPr>
        <p:sp>
          <p:nvSpPr>
            <p:cNvPr id="151" name=""/>
            <p:cNvSpPr/>
            <p:nvPr/>
          </p:nvSpPr>
          <p:spPr>
            <a:xfrm>
              <a:off x="7377120" y="6100560"/>
              <a:ext cx="1309680" cy="43632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404920" y="6135120"/>
              <a:ext cx="18000" cy="3024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98440" y="6140880"/>
              <a:ext cx="19800" cy="3024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0160" y="6146640"/>
              <a:ext cx="21600" cy="2880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2960" y="6152040"/>
              <a:ext cx="19800" cy="277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74680" y="6155280"/>
              <a:ext cx="20880" cy="277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52080" y="6229800"/>
              <a:ext cx="20520" cy="273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45600" y="6235560"/>
              <a:ext cx="21600" cy="277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38400" y="6241680"/>
              <a:ext cx="22680" cy="2700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30120" y="6247440"/>
              <a:ext cx="23400" cy="2592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21120" y="6252840"/>
              <a:ext cx="23400" cy="2592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10320" y="6257520"/>
              <a:ext cx="24480" cy="2592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04920" y="6262200"/>
              <a:ext cx="19800" cy="2340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99160" y="6264720"/>
              <a:ext cx="19800" cy="2304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93760" y="6266880"/>
              <a:ext cx="19800" cy="2268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8360" y="6268680"/>
              <a:ext cx="19080" cy="2268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6270480"/>
              <a:ext cx="19800" cy="2268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76480" y="6272640"/>
              <a:ext cx="19080" cy="2232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70000" y="6274800"/>
              <a:ext cx="19080" cy="2196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63880" y="6275880"/>
              <a:ext cx="19080" cy="2232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57400" y="6278040"/>
              <a:ext cx="19080" cy="2232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50920" y="6279120"/>
              <a:ext cx="19080" cy="2232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4800" y="6280560"/>
              <a:ext cx="18720" cy="2232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31840" y="6281640"/>
              <a:ext cx="24480" cy="2268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18520" y="6284520"/>
              <a:ext cx="25200" cy="2232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05560" y="6286320"/>
              <a:ext cx="24480" cy="2160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91880" y="6287760"/>
              <a:ext cx="24480" cy="2160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78200" y="6288480"/>
              <a:ext cx="24480" cy="2160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65600" y="6289200"/>
              <a:ext cx="23400" cy="208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60200" y="6289560"/>
              <a:ext cx="14400" cy="2016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55520" y="6292440"/>
              <a:ext cx="13680" cy="2592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51920" y="6298200"/>
              <a:ext cx="13320" cy="2556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47240" y="6304320"/>
              <a:ext cx="14400" cy="2484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1840" y="6309360"/>
              <a:ext cx="14400" cy="2484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36440" y="6314760"/>
              <a:ext cx="14400" cy="24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9960" y="6319440"/>
              <a:ext cx="15120" cy="2484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2760" y="6324480"/>
              <a:ext cx="16200" cy="2340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15560" y="6329160"/>
              <a:ext cx="16200" cy="2340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07280" y="6333840"/>
              <a:ext cx="16200" cy="2304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9000" y="6337800"/>
              <a:ext cx="16200" cy="2268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0000" y="6341760"/>
              <a:ext cx="17280" cy="2304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81000" y="6345720"/>
              <a:ext cx="16200" cy="2268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0920" y="6349680"/>
              <a:ext cx="17280" cy="2232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60840" y="6352920"/>
              <a:ext cx="17280" cy="2232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0040" y="6356160"/>
              <a:ext cx="18000" cy="2232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45360" y="6359400"/>
              <a:ext cx="11520" cy="2016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33840" y="6361560"/>
              <a:ext cx="18000" cy="208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22680" y="6364080"/>
              <a:ext cx="16920" cy="208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14400" y="6366600"/>
              <a:ext cx="13320" cy="2016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101800" y="6368040"/>
              <a:ext cx="19080" cy="208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88840" y="6370560"/>
              <a:ext cx="18000" cy="2016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76240" y="6372720"/>
              <a:ext cx="18000" cy="2016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63640" y="6374520"/>
              <a:ext cx="17280" cy="1944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50680" y="6376680"/>
              <a:ext cx="17280" cy="1908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38080" y="6378120"/>
              <a:ext cx="16200" cy="1908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25480" y="6378480"/>
              <a:ext cx="16200" cy="1908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11800" y="6379920"/>
              <a:ext cx="16200" cy="183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98120" y="6380640"/>
              <a:ext cx="16200" cy="1836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84440" y="6380640"/>
              <a:ext cx="16200" cy="1836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75440" y="6380640"/>
              <a:ext cx="10800" cy="1836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49880" y="6379920"/>
              <a:ext cx="27000" cy="1908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37280" y="6379200"/>
              <a:ext cx="13320" cy="1908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24320" y="6378120"/>
              <a:ext cx="13320" cy="1908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11720" y="6376680"/>
              <a:ext cx="12240" cy="1944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99120" y="6374520"/>
              <a:ext cx="12600" cy="2016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86160" y="6372720"/>
              <a:ext cx="13320" cy="2016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73560" y="6370560"/>
              <a:ext cx="13680" cy="2016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61680" y="6368760"/>
              <a:ext cx="13320" cy="2016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9800" y="6366240"/>
              <a:ext cx="13320" cy="208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37920" y="6362640"/>
              <a:ext cx="13680" cy="2160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27120" y="6359400"/>
              <a:ext cx="13680" cy="2160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16320" y="6356160"/>
              <a:ext cx="13320" cy="2232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05520" y="6352200"/>
              <a:ext cx="13320" cy="2232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96160" y="6348240"/>
              <a:ext cx="12240" cy="2304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6080" y="6343920"/>
              <a:ext cx="13320" cy="2340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7800" y="6339240"/>
              <a:ext cx="12600" cy="2340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69880" y="6333840"/>
              <a:ext cx="11520" cy="24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58000" y="6333120"/>
              <a:ext cx="16200" cy="1944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46120" y="6331680"/>
              <a:ext cx="16200" cy="2016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34240" y="6331320"/>
              <a:ext cx="16920" cy="2016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23440" y="6329160"/>
              <a:ext cx="16200" cy="208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11560" y="6328080"/>
              <a:ext cx="17280" cy="208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00760" y="6325920"/>
              <a:ext cx="16920" cy="2160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89960" y="6323760"/>
              <a:ext cx="16920" cy="2160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78800" y="6321960"/>
              <a:ext cx="16920" cy="2160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8720" y="6319440"/>
              <a:ext cx="17280" cy="2232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57920" y="6316560"/>
              <a:ext cx="18000" cy="2232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48920" y="6313320"/>
              <a:ext cx="17280" cy="2268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8840" y="6310080"/>
              <a:ext cx="16920" cy="2340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9840" y="6306840"/>
              <a:ext cx="16920" cy="2340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560" y="6302880"/>
              <a:ext cx="17280" cy="24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13280" y="6298920"/>
              <a:ext cx="17280" cy="24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06080" y="6294240"/>
              <a:ext cx="16200" cy="2484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71520" y="6257880"/>
              <a:ext cx="20880" cy="2160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59640" y="6257880"/>
              <a:ext cx="21600" cy="2160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120" y="6257520"/>
              <a:ext cx="21600" cy="216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35880" y="6256080"/>
              <a:ext cx="22680" cy="2232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25080" y="6255360"/>
              <a:ext cx="21600" cy="2232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14280" y="6253560"/>
              <a:ext cx="21600" cy="2304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03480" y="6251400"/>
              <a:ext cx="21600" cy="2340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92320" y="6249600"/>
              <a:ext cx="22680" cy="2340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82240" y="6246720"/>
              <a:ext cx="22680" cy="24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3240" y="6244200"/>
              <a:ext cx="21600" cy="24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3520" y="6240960"/>
              <a:ext cx="22680" cy="2484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55240" y="6237720"/>
              <a:ext cx="21600" cy="2556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46960" y="6233760"/>
              <a:ext cx="21600" cy="2556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39760" y="6229800"/>
              <a:ext cx="20520" cy="2592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2560" y="6225120"/>
              <a:ext cx="20520" cy="2700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26800" y="6220440"/>
              <a:ext cx="19800" cy="2700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2320" y="6257880"/>
              <a:ext cx="12600" cy="2232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8880" y="6289560"/>
              <a:ext cx="16200" cy="2556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93480" y="6284520"/>
              <a:ext cx="14400" cy="2556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88080" y="6278040"/>
              <a:ext cx="14400" cy="2664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86280" y="6274800"/>
              <a:ext cx="11520" cy="24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22480" y="6215400"/>
              <a:ext cx="18000" cy="273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8880" y="6210720"/>
              <a:ext cx="16920" cy="273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0560" y="6132960"/>
              <a:ext cx="19080" cy="288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2640" y="6127560"/>
              <a:ext cx="18720" cy="3024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27960" y="6121800"/>
              <a:ext cx="16200" cy="306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26160" y="6119280"/>
              <a:ext cx="12600" cy="273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14200" y="6019920"/>
              <a:ext cx="1065960" cy="36072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486400" y="5105520"/>
            <a:ext cx="9349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小型企业网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09680" y="3290760"/>
            <a:ext cx="843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9040" y="3381480"/>
            <a:ext cx="772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057040" y="24382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5812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企业园区网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4191120"/>
            <a:ext cx="2362320" cy="152388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800600" y="3276720"/>
          <a:ext cx="38268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276720"/>
                    <a:ext cx="382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7010280" y="47242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51055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934320" y="5029200"/>
            <a:ext cx="380880" cy="228600"/>
            <a:chOff x="6934320" y="5029200"/>
            <a:chExt cx="380880" cy="228600"/>
          </a:xfrm>
        </p:grpSpPr>
        <p:sp>
          <p:nvSpPr>
            <p:cNvPr id="283" name=""/>
            <p:cNvSpPr/>
            <p:nvPr/>
          </p:nvSpPr>
          <p:spPr>
            <a:xfrm>
              <a:off x="6934320" y="509292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4320" y="502920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6993360" y="5043960"/>
              <a:ext cx="261720" cy="94680"/>
              <a:chOff x="6993360" y="5043960"/>
              <a:chExt cx="261720" cy="94680"/>
            </a:xfrm>
          </p:grpSpPr>
          <p:sp>
            <p:nvSpPr>
              <p:cNvPr id="286" name=""/>
              <p:cNvSpPr/>
              <p:nvPr/>
            </p:nvSpPr>
            <p:spPr>
              <a:xfrm>
                <a:off x="7129080" y="5046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29080" y="5046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93360" y="5091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93360" y="5091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99480" y="504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99480" y="504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24040" y="5096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24040" y="5096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31600" y="5049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31600" y="5049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95880" y="5094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95880" y="5094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02000" y="5046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02000" y="5046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26920" y="5099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26920" y="5099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8001000" y="4572000"/>
            <a:ext cx="380880" cy="228600"/>
            <a:chOff x="8001000" y="4572000"/>
            <a:chExt cx="380880" cy="228600"/>
          </a:xfrm>
        </p:grpSpPr>
        <p:sp>
          <p:nvSpPr>
            <p:cNvPr id="303" name=""/>
            <p:cNvSpPr/>
            <p:nvPr/>
          </p:nvSpPr>
          <p:spPr>
            <a:xfrm>
              <a:off x="8001000" y="463572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01000" y="457200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8060040" y="4586760"/>
              <a:ext cx="261720" cy="94680"/>
              <a:chOff x="8060040" y="4586760"/>
              <a:chExt cx="261720" cy="94680"/>
            </a:xfrm>
          </p:grpSpPr>
          <p:sp>
            <p:nvSpPr>
              <p:cNvPr id="306" name=""/>
              <p:cNvSpPr/>
              <p:nvPr/>
            </p:nvSpPr>
            <p:spPr>
              <a:xfrm>
                <a:off x="819576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19576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060040" y="4634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060040" y="4634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66160" y="4586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066160" y="4586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90720" y="4639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190720" y="4639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198280" y="4591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98280" y="4591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062560" y="4637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062560" y="4637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06868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06868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193600" y="4642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193600" y="4642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7620120" y="43434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543800" y="5105520"/>
            <a:ext cx="380880" cy="228600"/>
            <a:chOff x="7543800" y="5105520"/>
            <a:chExt cx="380880" cy="228600"/>
          </a:xfrm>
        </p:grpSpPr>
        <p:sp>
          <p:nvSpPr>
            <p:cNvPr id="324" name=""/>
            <p:cNvSpPr/>
            <p:nvPr/>
          </p:nvSpPr>
          <p:spPr>
            <a:xfrm>
              <a:off x="7543800" y="51692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3800" y="51055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7602840" y="5120280"/>
              <a:ext cx="261720" cy="94680"/>
              <a:chOff x="7602840" y="5120280"/>
              <a:chExt cx="261720" cy="94680"/>
            </a:xfrm>
          </p:grpSpPr>
          <p:sp>
            <p:nvSpPr>
              <p:cNvPr id="327" name=""/>
              <p:cNvSpPr/>
              <p:nvPr/>
            </p:nvSpPr>
            <p:spPr>
              <a:xfrm>
                <a:off x="7738560" y="5122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38560" y="5122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02840" y="5168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602840" y="5168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08960" y="5120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08960" y="5120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733520" y="5173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33520" y="5173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741080" y="5125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41080" y="5125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05360" y="5170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605360" y="5170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11480" y="5122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11480" y="5122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736400" y="5175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36400" y="5175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7620120" y="6095880"/>
            <a:ext cx="1066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086600" y="4419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467480" y="4267080"/>
            <a:ext cx="381240" cy="228600"/>
            <a:chOff x="7467480" y="4267080"/>
            <a:chExt cx="381240" cy="228600"/>
          </a:xfrm>
        </p:grpSpPr>
        <p:sp>
          <p:nvSpPr>
            <p:cNvPr id="346" name=""/>
            <p:cNvSpPr/>
            <p:nvPr/>
          </p:nvSpPr>
          <p:spPr>
            <a:xfrm>
              <a:off x="7467480" y="43308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67480" y="42670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526520" y="4281840"/>
              <a:ext cx="261720" cy="94680"/>
              <a:chOff x="7526520" y="4281840"/>
              <a:chExt cx="261720" cy="946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2240" y="428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62240" y="428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26520" y="43297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26520" y="43297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532640" y="42818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32640" y="42818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57200" y="4334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57200" y="4334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664760" y="42868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64760" y="42868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29040" y="43322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29040" y="43322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35160" y="428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35160" y="428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60080" y="4337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60080" y="4337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6858000" y="4572000"/>
            <a:ext cx="380880" cy="228600"/>
            <a:chOff x="6858000" y="4572000"/>
            <a:chExt cx="380880" cy="228600"/>
          </a:xfrm>
        </p:grpSpPr>
        <p:sp>
          <p:nvSpPr>
            <p:cNvPr id="366" name=""/>
            <p:cNvSpPr/>
            <p:nvPr/>
          </p:nvSpPr>
          <p:spPr>
            <a:xfrm>
              <a:off x="6858000" y="463572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8000" y="457200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6917040" y="4586760"/>
              <a:ext cx="261720" cy="94680"/>
              <a:chOff x="6917040" y="4586760"/>
              <a:chExt cx="261720" cy="946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5276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5276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17040" y="4634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17040" y="4634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23160" y="4586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23160" y="4586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47720" y="4639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47720" y="4639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55280" y="4591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55280" y="4591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19560" y="4637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19560" y="4637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2568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925680" y="4589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050600" y="4642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50600" y="4642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4343400" y="5943600"/>
            <a:ext cx="609480" cy="18900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4191120" y="6248520"/>
            <a:ext cx="304560" cy="304200"/>
            <a:chOff x="4191120" y="6248520"/>
            <a:chExt cx="304560" cy="304200"/>
          </a:xfrm>
        </p:grpSpPr>
        <p:sp>
          <p:nvSpPr>
            <p:cNvPr id="387" name=""/>
            <p:cNvSpPr/>
            <p:nvPr/>
          </p:nvSpPr>
          <p:spPr>
            <a:xfrm>
              <a:off x="4305240" y="6397560"/>
              <a:ext cx="7452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1600" y="6248520"/>
              <a:ext cx="17496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54480" y="6248880"/>
              <a:ext cx="16920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94880" y="6268320"/>
              <a:ext cx="864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75000" y="6268320"/>
              <a:ext cx="864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78600" y="6268320"/>
              <a:ext cx="12132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8600" y="6365520"/>
              <a:ext cx="12528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00280" y="6384600"/>
              <a:ext cx="396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7880" y="6271200"/>
              <a:ext cx="12276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44400" y="6415200"/>
              <a:ext cx="2012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91120" y="6489360"/>
              <a:ext cx="30456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4720" y="6540840"/>
              <a:ext cx="29736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09120" y="6508080"/>
              <a:ext cx="504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24240" y="6508080"/>
              <a:ext cx="144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61840" y="6508800"/>
              <a:ext cx="144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35840" y="6520320"/>
              <a:ext cx="4824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66800" y="6508080"/>
              <a:ext cx="1512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9680" y="6515280"/>
              <a:ext cx="1296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24040" y="6508080"/>
              <a:ext cx="3924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87320" y="6508080"/>
              <a:ext cx="3456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85520" y="6497280"/>
              <a:ext cx="3384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87680" y="6525360"/>
              <a:ext cx="3672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22600" y="6497280"/>
              <a:ext cx="4608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37200" y="6497280"/>
              <a:ext cx="489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7960" y="6497280"/>
              <a:ext cx="4464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34400" y="6497280"/>
              <a:ext cx="4752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04440" y="6497280"/>
              <a:ext cx="27792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16320" y="6497280"/>
              <a:ext cx="144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95080" y="6545880"/>
              <a:ext cx="29592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94720" y="6540840"/>
              <a:ext cx="297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91480" y="6545160"/>
              <a:ext cx="30312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5520" y="6489360"/>
              <a:ext cx="27576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48000" y="6418080"/>
              <a:ext cx="19296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1180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9732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9732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5456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1180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00200" y="6425280"/>
              <a:ext cx="5040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16760" y="6436800"/>
              <a:ext cx="1656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0020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3512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15320" y="6425280"/>
              <a:ext cx="1944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15320" y="6425280"/>
              <a:ext cx="1944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13960" y="6426000"/>
              <a:ext cx="252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13960" y="6438240"/>
              <a:ext cx="252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00200" y="6428160"/>
              <a:ext cx="432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48720" y="6431040"/>
              <a:ext cx="19260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21160" y="6424560"/>
              <a:ext cx="1080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21160" y="6424560"/>
              <a:ext cx="1080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21160" y="6436080"/>
              <a:ext cx="1080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24040" y="6433200"/>
              <a:ext cx="504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24040" y="6433200"/>
              <a:ext cx="504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24040" y="6432480"/>
              <a:ext cx="504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24040" y="6429600"/>
              <a:ext cx="504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0520" y="6440400"/>
              <a:ext cx="576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0520" y="6440400"/>
              <a:ext cx="504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552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584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20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45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678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7068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7320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764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800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8292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8580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8868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9156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4872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52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552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584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620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64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67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706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73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764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800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82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85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886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915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94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973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00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03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074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095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31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160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8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21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257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28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311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344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36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01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7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66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9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3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552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58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61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646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675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71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74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76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804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82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86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89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92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94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98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017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04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07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11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139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16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197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226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262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29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319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348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37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40600" y="6459480"/>
              <a:ext cx="36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52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552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584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620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64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67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706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73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764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800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82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85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886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915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94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973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00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03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074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095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131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160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18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21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257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28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311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344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401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437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66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49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53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552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58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61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646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675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71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74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76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804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82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86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89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92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94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98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017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04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07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11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39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16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226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262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29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319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348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37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55200" y="6424560"/>
              <a:ext cx="1800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48000" y="6418080"/>
              <a:ext cx="19296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48000" y="6424560"/>
              <a:ext cx="19296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33400" y="6438240"/>
              <a:ext cx="360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35560" y="6429600"/>
              <a:ext cx="36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16760" y="6402240"/>
              <a:ext cx="5472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87960" y="6405840"/>
              <a:ext cx="11160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" descr=""/>
          <p:cNvPicPr/>
          <p:nvPr/>
        </p:nvPicPr>
        <p:blipFill>
          <a:blip r:embed="rId7"/>
          <a:stretch/>
        </p:blipFill>
        <p:spPr>
          <a:xfrm>
            <a:off x="2133720" y="4191120"/>
            <a:ext cx="214200" cy="38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2" name=""/>
          <p:cNvGraphicFramePr/>
          <p:nvPr/>
        </p:nvGraphicFramePr>
        <p:xfrm>
          <a:off x="3200400" y="3962520"/>
          <a:ext cx="304920" cy="29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00400" y="3962520"/>
                    <a:ext cx="30492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631800" y="4267080"/>
            <a:ext cx="1177920" cy="609480"/>
            <a:chOff x="631800" y="4267080"/>
            <a:chExt cx="1177920" cy="609480"/>
          </a:xfrm>
        </p:grpSpPr>
        <p:pic>
          <p:nvPicPr>
            <p:cNvPr id="595" name="" descr=""/>
            <p:cNvPicPr/>
            <p:nvPr/>
          </p:nvPicPr>
          <p:blipFill>
            <a:blip r:embed="rId10"/>
            <a:stretch/>
          </p:blipFill>
          <p:spPr>
            <a:xfrm>
              <a:off x="631800" y="4267080"/>
              <a:ext cx="1177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665640" y="4417920"/>
              <a:ext cx="1085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880" bIns="38880" anchor="t">
              <a:spAutoFit/>
            </a:bodyPr>
            <a:p>
              <a:pPr algn="ctr">
                <a:tabLst>
                  <a:tab algn="l" pos="0"/>
                  <a:tab algn="l" pos="646200"/>
                  <a:tab algn="l" pos="1292400"/>
                  <a:tab algn="l" pos="1938240"/>
                  <a:tab algn="l" pos="2584440"/>
                  <a:tab algn="l" pos="3230640"/>
                  <a:tab algn="l" pos="3876840"/>
                  <a:tab algn="l" pos="4522680"/>
                  <a:tab algn="l" pos="5168880"/>
                  <a:tab algn="l" pos="5815080"/>
                  <a:tab algn="l" pos="6461280"/>
                  <a:tab algn="l" pos="7107120"/>
                  <a:tab algn="l" pos="7753320"/>
                  <a:tab algn="l" pos="8399520"/>
                  <a:tab algn="l" pos="9045720"/>
                  <a:tab algn="l" pos="96915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TN/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809880" y="2743200"/>
            <a:ext cx="381240" cy="228600"/>
            <a:chOff x="3809880" y="2743200"/>
            <a:chExt cx="381240" cy="228600"/>
          </a:xfrm>
        </p:grpSpPr>
        <p:sp>
          <p:nvSpPr>
            <p:cNvPr id="598" name=""/>
            <p:cNvSpPr/>
            <p:nvPr/>
          </p:nvSpPr>
          <p:spPr>
            <a:xfrm>
              <a:off x="3809880" y="28069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9880" y="27432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868920" y="2757960"/>
              <a:ext cx="261720" cy="94680"/>
              <a:chOff x="3868920" y="2757960"/>
              <a:chExt cx="261720" cy="94680"/>
            </a:xfrm>
          </p:grpSpPr>
          <p:sp>
            <p:nvSpPr>
              <p:cNvPr id="601" name=""/>
              <p:cNvSpPr/>
              <p:nvPr/>
            </p:nvSpPr>
            <p:spPr>
              <a:xfrm>
                <a:off x="400464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0464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68920" y="2805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68920" y="2805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875040" y="2757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75040" y="2757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999600" y="2810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999600" y="2810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07160" y="2763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007160" y="2763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71440" y="2808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71440" y="2808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87756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77560" y="2760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02480" y="2813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002480" y="2813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4419720" y="1219320"/>
            <a:ext cx="380880" cy="228600"/>
            <a:chOff x="4419720" y="1219320"/>
            <a:chExt cx="380880" cy="228600"/>
          </a:xfrm>
        </p:grpSpPr>
        <p:sp>
          <p:nvSpPr>
            <p:cNvPr id="618" name=""/>
            <p:cNvSpPr/>
            <p:nvPr/>
          </p:nvSpPr>
          <p:spPr>
            <a:xfrm>
              <a:off x="4419720" y="12830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720" y="12193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4478760" y="1234080"/>
              <a:ext cx="261720" cy="94680"/>
              <a:chOff x="4478760" y="1234080"/>
              <a:chExt cx="261720" cy="94680"/>
            </a:xfrm>
          </p:grpSpPr>
          <p:sp>
            <p:nvSpPr>
              <p:cNvPr id="621" name=""/>
              <p:cNvSpPr/>
              <p:nvPr/>
            </p:nvSpPr>
            <p:spPr>
              <a:xfrm>
                <a:off x="461448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1448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7876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47876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48488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8488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0944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0944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61700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61700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8128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48128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8740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48740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1232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1232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5638680" y="1523880"/>
            <a:ext cx="381240" cy="228600"/>
            <a:chOff x="5638680" y="1523880"/>
            <a:chExt cx="381240" cy="228600"/>
          </a:xfrm>
        </p:grpSpPr>
        <p:sp>
          <p:nvSpPr>
            <p:cNvPr id="638" name=""/>
            <p:cNvSpPr/>
            <p:nvPr/>
          </p:nvSpPr>
          <p:spPr>
            <a:xfrm>
              <a:off x="5638680" y="15876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38680" y="15238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5697720" y="1538640"/>
              <a:ext cx="261720" cy="94680"/>
              <a:chOff x="5697720" y="1538640"/>
              <a:chExt cx="261720" cy="94680"/>
            </a:xfrm>
          </p:grpSpPr>
          <p:sp>
            <p:nvSpPr>
              <p:cNvPr id="641" name=""/>
              <p:cNvSpPr/>
              <p:nvPr/>
            </p:nvSpPr>
            <p:spPr>
              <a:xfrm>
                <a:off x="583344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3344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97720" y="15865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97720" y="15865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03840" y="15386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03840" y="15386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28400" y="1591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28400" y="15915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35960" y="15436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35960" y="15436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00240" y="1589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700240" y="1589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0636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06360" y="1541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31280" y="159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31280" y="159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7" name=""/>
          <p:cNvGrpSpPr/>
          <p:nvPr/>
        </p:nvGrpSpPr>
        <p:grpSpPr>
          <a:xfrm>
            <a:off x="5105520" y="2286000"/>
            <a:ext cx="380880" cy="228600"/>
            <a:chOff x="5105520" y="2286000"/>
            <a:chExt cx="380880" cy="228600"/>
          </a:xfrm>
        </p:grpSpPr>
        <p:sp>
          <p:nvSpPr>
            <p:cNvPr id="658" name=""/>
            <p:cNvSpPr/>
            <p:nvPr/>
          </p:nvSpPr>
          <p:spPr>
            <a:xfrm>
              <a:off x="5105520" y="234972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228600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164560" y="2300760"/>
              <a:ext cx="261720" cy="94680"/>
              <a:chOff x="5164560" y="2300760"/>
              <a:chExt cx="261720" cy="94680"/>
            </a:xfrm>
          </p:grpSpPr>
          <p:sp>
            <p:nvSpPr>
              <p:cNvPr id="661" name=""/>
              <p:cNvSpPr/>
              <p:nvPr/>
            </p:nvSpPr>
            <p:spPr>
              <a:xfrm>
                <a:off x="530028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0028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16456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16456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17068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17068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9524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9524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280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0280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16708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6708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17320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17320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29812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9812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"/>
          <p:cNvGrpSpPr/>
          <p:nvPr/>
        </p:nvGrpSpPr>
        <p:grpSpPr>
          <a:xfrm>
            <a:off x="4191120" y="2133720"/>
            <a:ext cx="380880" cy="228600"/>
            <a:chOff x="4191120" y="2133720"/>
            <a:chExt cx="380880" cy="228600"/>
          </a:xfrm>
        </p:grpSpPr>
        <p:sp>
          <p:nvSpPr>
            <p:cNvPr id="678" name=""/>
            <p:cNvSpPr/>
            <p:nvPr/>
          </p:nvSpPr>
          <p:spPr>
            <a:xfrm>
              <a:off x="4191120" y="21974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91120" y="21337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250160" y="2148480"/>
              <a:ext cx="261720" cy="94680"/>
              <a:chOff x="4250160" y="2148480"/>
              <a:chExt cx="261720" cy="94680"/>
            </a:xfrm>
          </p:grpSpPr>
          <p:sp>
            <p:nvSpPr>
              <p:cNvPr id="681" name=""/>
              <p:cNvSpPr/>
              <p:nvPr/>
            </p:nvSpPr>
            <p:spPr>
              <a:xfrm>
                <a:off x="438588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38588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50160" y="2196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250160" y="2196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56280" y="2148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256280" y="2148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80840" y="2201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380840" y="2201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388400" y="2153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88400" y="2153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252680" y="2198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252680" y="2198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25880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258800" y="2151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383720" y="2203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83720" y="2203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" name=""/>
          <p:cNvGrpSpPr/>
          <p:nvPr/>
        </p:nvGrpSpPr>
        <p:grpSpPr>
          <a:xfrm>
            <a:off x="3505320" y="1676520"/>
            <a:ext cx="380880" cy="228600"/>
            <a:chOff x="3505320" y="1676520"/>
            <a:chExt cx="380880" cy="228600"/>
          </a:xfrm>
        </p:grpSpPr>
        <p:sp>
          <p:nvSpPr>
            <p:cNvPr id="698" name=""/>
            <p:cNvSpPr/>
            <p:nvPr/>
          </p:nvSpPr>
          <p:spPr>
            <a:xfrm>
              <a:off x="3505320" y="17402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05320" y="16765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564360" y="1691280"/>
              <a:ext cx="261720" cy="94680"/>
              <a:chOff x="3564360" y="1691280"/>
              <a:chExt cx="261720" cy="94680"/>
            </a:xfrm>
          </p:grpSpPr>
          <p:sp>
            <p:nvSpPr>
              <p:cNvPr id="701" name=""/>
              <p:cNvSpPr/>
              <p:nvPr/>
            </p:nvSpPr>
            <p:spPr>
              <a:xfrm>
                <a:off x="370008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70008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64360" y="1739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64360" y="1739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70480" y="1691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570480" y="1691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695040" y="1744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695040" y="1744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02600" y="1696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702600" y="1696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566880" y="1741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566880" y="1741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7300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573000" y="1693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97920" y="1746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697920" y="1746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6324480" y="2057400"/>
            <a:ext cx="381240" cy="228600"/>
            <a:chOff x="6324480" y="2057400"/>
            <a:chExt cx="381240" cy="228600"/>
          </a:xfrm>
        </p:grpSpPr>
        <p:sp>
          <p:nvSpPr>
            <p:cNvPr id="718" name=""/>
            <p:cNvSpPr/>
            <p:nvPr/>
          </p:nvSpPr>
          <p:spPr>
            <a:xfrm>
              <a:off x="6324480" y="21211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24480" y="20574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6383520" y="2072160"/>
              <a:ext cx="261720" cy="94680"/>
              <a:chOff x="6383520" y="2072160"/>
              <a:chExt cx="261720" cy="94680"/>
            </a:xfrm>
          </p:grpSpPr>
          <p:sp>
            <p:nvSpPr>
              <p:cNvPr id="721" name=""/>
              <p:cNvSpPr/>
              <p:nvPr/>
            </p:nvSpPr>
            <p:spPr>
              <a:xfrm>
                <a:off x="651924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1924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383520" y="2120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383520" y="21200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389640" y="2072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389640" y="2072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14200" y="2125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14200" y="2125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521760" y="20772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521760" y="20772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386040" y="21225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386040" y="21225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39216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392160" y="2074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517080" y="2127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517080" y="2127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37" name=""/>
          <p:cNvGraphicFramePr/>
          <p:nvPr/>
        </p:nvGraphicFramePr>
        <p:xfrm>
          <a:off x="6553080" y="2514600"/>
          <a:ext cx="38268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3080" y="2514600"/>
                    <a:ext cx="382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"/>
          <p:cNvGrpSpPr/>
          <p:nvPr/>
        </p:nvGrpSpPr>
        <p:grpSpPr>
          <a:xfrm>
            <a:off x="5410080" y="838080"/>
            <a:ext cx="381240" cy="228600"/>
            <a:chOff x="5410080" y="838080"/>
            <a:chExt cx="381240" cy="228600"/>
          </a:xfrm>
        </p:grpSpPr>
        <p:sp>
          <p:nvSpPr>
            <p:cNvPr id="740" name=""/>
            <p:cNvSpPr/>
            <p:nvPr/>
          </p:nvSpPr>
          <p:spPr>
            <a:xfrm>
              <a:off x="5410080" y="9018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10080" y="8380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5469120" y="852840"/>
              <a:ext cx="261720" cy="94680"/>
              <a:chOff x="5469120" y="852840"/>
              <a:chExt cx="261720" cy="94680"/>
            </a:xfrm>
          </p:grpSpPr>
          <p:sp>
            <p:nvSpPr>
              <p:cNvPr id="743" name=""/>
              <p:cNvSpPr/>
              <p:nvPr/>
            </p:nvSpPr>
            <p:spPr>
              <a:xfrm>
                <a:off x="560484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0484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69120" y="9007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69120" y="9007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75240" y="8528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75240" y="8528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99800" y="905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599800" y="905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07360" y="8578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607360" y="8578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471640" y="9032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471640" y="9032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7776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477760" y="855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02680" y="908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02680" y="908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3352680" y="1066680"/>
            <a:ext cx="381240" cy="228600"/>
            <a:chOff x="3352680" y="1066680"/>
            <a:chExt cx="381240" cy="228600"/>
          </a:xfrm>
        </p:grpSpPr>
        <p:sp>
          <p:nvSpPr>
            <p:cNvPr id="760" name=""/>
            <p:cNvSpPr/>
            <p:nvPr/>
          </p:nvSpPr>
          <p:spPr>
            <a:xfrm>
              <a:off x="3352680" y="113040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352680" y="106668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3411720" y="1081440"/>
              <a:ext cx="261720" cy="94680"/>
              <a:chOff x="3411720" y="1081440"/>
              <a:chExt cx="261720" cy="94680"/>
            </a:xfrm>
          </p:grpSpPr>
          <p:sp>
            <p:nvSpPr>
              <p:cNvPr id="763" name=""/>
              <p:cNvSpPr/>
              <p:nvPr/>
            </p:nvSpPr>
            <p:spPr>
              <a:xfrm>
                <a:off x="354744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54744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11720" y="11293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11720" y="11293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17840" y="10814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417840" y="10814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542400" y="113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42400" y="11343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549960" y="10864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49960" y="10864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14240" y="1131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414240" y="1131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42036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420360" y="1083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45280" y="1136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45280" y="1136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3124080" y="2286000"/>
            <a:ext cx="381240" cy="228600"/>
            <a:chOff x="3124080" y="2286000"/>
            <a:chExt cx="381240" cy="228600"/>
          </a:xfrm>
        </p:grpSpPr>
        <p:sp>
          <p:nvSpPr>
            <p:cNvPr id="780" name=""/>
            <p:cNvSpPr/>
            <p:nvPr/>
          </p:nvSpPr>
          <p:spPr>
            <a:xfrm>
              <a:off x="3124080" y="234972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4080" y="228600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3183120" y="2300760"/>
              <a:ext cx="261720" cy="94680"/>
              <a:chOff x="3183120" y="2300760"/>
              <a:chExt cx="261720" cy="94680"/>
            </a:xfrm>
          </p:grpSpPr>
          <p:sp>
            <p:nvSpPr>
              <p:cNvPr id="783" name=""/>
              <p:cNvSpPr/>
              <p:nvPr/>
            </p:nvSpPr>
            <p:spPr>
              <a:xfrm>
                <a:off x="331884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31884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8312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83120" y="2348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8924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189240" y="2300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31380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13800" y="2353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32136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321360" y="23058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8564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185640" y="2351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19176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191760" y="2303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31668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316680" y="2356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2590920" y="1600200"/>
            <a:ext cx="380880" cy="228600"/>
            <a:chOff x="2590920" y="1600200"/>
            <a:chExt cx="380880" cy="228600"/>
          </a:xfrm>
        </p:grpSpPr>
        <p:sp>
          <p:nvSpPr>
            <p:cNvPr id="800" name=""/>
            <p:cNvSpPr/>
            <p:nvPr/>
          </p:nvSpPr>
          <p:spPr>
            <a:xfrm>
              <a:off x="2590920" y="166392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90920" y="160020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2649960" y="1614960"/>
              <a:ext cx="261720" cy="94680"/>
              <a:chOff x="2649960" y="1614960"/>
              <a:chExt cx="261720" cy="94680"/>
            </a:xfrm>
          </p:grpSpPr>
          <p:sp>
            <p:nvSpPr>
              <p:cNvPr id="803" name=""/>
              <p:cNvSpPr/>
              <p:nvPr/>
            </p:nvSpPr>
            <p:spPr>
              <a:xfrm>
                <a:off x="278568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8568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49960" y="1662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649960" y="16628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56080" y="1614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56080" y="16149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780640" y="1667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780640" y="16678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88200" y="1620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88200" y="162000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652480" y="166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652480" y="166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65860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658600" y="161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783520" y="167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83520" y="167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6553080" y="1219320"/>
            <a:ext cx="381240" cy="228600"/>
            <a:chOff x="6553080" y="1219320"/>
            <a:chExt cx="381240" cy="228600"/>
          </a:xfrm>
        </p:grpSpPr>
        <p:sp>
          <p:nvSpPr>
            <p:cNvPr id="820" name=""/>
            <p:cNvSpPr/>
            <p:nvPr/>
          </p:nvSpPr>
          <p:spPr>
            <a:xfrm>
              <a:off x="6553080" y="128304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121932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6612120" y="1234080"/>
              <a:ext cx="261720" cy="94680"/>
              <a:chOff x="6612120" y="1234080"/>
              <a:chExt cx="261720" cy="94680"/>
            </a:xfrm>
          </p:grpSpPr>
          <p:sp>
            <p:nvSpPr>
              <p:cNvPr id="823" name=""/>
              <p:cNvSpPr/>
              <p:nvPr/>
            </p:nvSpPr>
            <p:spPr>
              <a:xfrm>
                <a:off x="674784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74784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1212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2120" y="12819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1824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18240" y="12340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4280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42800" y="1287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75036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750360" y="12391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1464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614640" y="12844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62076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620760" y="12366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4568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5680" y="12895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39" name=""/>
          <p:cNvGraphicFramePr/>
          <p:nvPr/>
        </p:nvGraphicFramePr>
        <p:xfrm>
          <a:off x="2133720" y="2133720"/>
          <a:ext cx="38232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2133720"/>
                    <a:ext cx="382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1" name=""/>
          <p:cNvGrpSpPr/>
          <p:nvPr/>
        </p:nvGrpSpPr>
        <p:grpSpPr>
          <a:xfrm>
            <a:off x="228600" y="2971800"/>
            <a:ext cx="2124000" cy="541440"/>
            <a:chOff x="228600" y="2971800"/>
            <a:chExt cx="2124000" cy="541440"/>
          </a:xfrm>
        </p:grpSpPr>
        <p:sp>
          <p:nvSpPr>
            <p:cNvPr id="842" name=""/>
            <p:cNvSpPr/>
            <p:nvPr/>
          </p:nvSpPr>
          <p:spPr>
            <a:xfrm flipV="1">
              <a:off x="1527120" y="3216240"/>
              <a:ext cx="29052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297000" y="3102120"/>
              <a:ext cx="563400" cy="389880"/>
              <a:chOff x="297000" y="3102120"/>
              <a:chExt cx="563400" cy="389880"/>
            </a:xfrm>
          </p:grpSpPr>
          <p:sp>
            <p:nvSpPr>
              <p:cNvPr id="844" name=""/>
              <p:cNvSpPr/>
              <p:nvPr/>
            </p:nvSpPr>
            <p:spPr>
              <a:xfrm>
                <a:off x="302040" y="3102120"/>
                <a:ext cx="545040" cy="3344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7000" y="3204000"/>
                <a:ext cx="5634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857160" y="3255840"/>
              <a:ext cx="217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8600" y="2971800"/>
              <a:ext cx="2124000" cy="54144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8" name="" descr=""/>
            <p:cNvPicPr/>
            <p:nvPr/>
          </p:nvPicPr>
          <p:blipFill>
            <a:blip r:embed="rId15"/>
            <a:stretch/>
          </p:blipFill>
          <p:spPr>
            <a:xfrm>
              <a:off x="1069920" y="3200400"/>
              <a:ext cx="438120" cy="20808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0238c0"/>
              </a:outerShdw>
            </a:effectLst>
          </p:spPr>
        </p:pic>
        <p:sp>
          <p:nvSpPr>
            <p:cNvPr id="849" name=""/>
            <p:cNvSpPr/>
            <p:nvPr/>
          </p:nvSpPr>
          <p:spPr>
            <a:xfrm>
              <a:off x="303120" y="3200400"/>
              <a:ext cx="155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880" bIns="38880" anchor="t">
              <a:spAutoFit/>
            </a:bodyPr>
            <a:p>
              <a:pPr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0" name="" descr=""/>
            <p:cNvPicPr/>
            <p:nvPr/>
          </p:nvPicPr>
          <p:blipFill>
            <a:blip r:embed="rId16"/>
            <a:stretch/>
          </p:blipFill>
          <p:spPr>
            <a:xfrm>
              <a:off x="1744560" y="3111480"/>
              <a:ext cx="528840" cy="1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1" name="" descr=""/>
          <p:cNvPicPr/>
          <p:nvPr/>
        </p:nvPicPr>
        <p:blipFill>
          <a:blip r:embed="rId17"/>
          <a:stretch/>
        </p:blipFill>
        <p:spPr>
          <a:xfrm>
            <a:off x="4800600" y="4800600"/>
            <a:ext cx="914400" cy="380880"/>
          </a:xfrm>
          <a:prstGeom prst="rect">
            <a:avLst/>
          </a:prstGeom>
          <a:ln w="0">
            <a:noFill/>
          </a:ln>
        </p:spPr>
      </p:pic>
      <p:grpSp>
        <p:nvGrpSpPr>
          <p:cNvPr id="852" name=""/>
          <p:cNvGrpSpPr/>
          <p:nvPr/>
        </p:nvGrpSpPr>
        <p:grpSpPr>
          <a:xfrm>
            <a:off x="6248520" y="5562720"/>
            <a:ext cx="1309680" cy="516960"/>
            <a:chOff x="6248520" y="5562720"/>
            <a:chExt cx="1309680" cy="516960"/>
          </a:xfrm>
        </p:grpSpPr>
        <p:sp>
          <p:nvSpPr>
            <p:cNvPr id="853" name=""/>
            <p:cNvSpPr/>
            <p:nvPr/>
          </p:nvSpPr>
          <p:spPr>
            <a:xfrm>
              <a:off x="6248520" y="5643360"/>
              <a:ext cx="1309680" cy="43632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76320" y="5677920"/>
              <a:ext cx="18000" cy="3024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69840" y="5683680"/>
              <a:ext cx="19800" cy="3024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261560" y="5689440"/>
              <a:ext cx="21600" cy="2880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54360" y="5694840"/>
              <a:ext cx="19800" cy="277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246080" y="5698080"/>
              <a:ext cx="20880" cy="277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23480" y="5772600"/>
              <a:ext cx="20520" cy="273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17000" y="5778360"/>
              <a:ext cx="21600" cy="277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09800" y="5784480"/>
              <a:ext cx="22680" cy="2700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01520" y="5790240"/>
              <a:ext cx="23400" cy="2592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92520" y="5795640"/>
              <a:ext cx="23400" cy="2592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81720" y="5800320"/>
              <a:ext cx="24480" cy="2592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76320" y="5805000"/>
              <a:ext cx="19800" cy="2340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70560" y="5807520"/>
              <a:ext cx="19800" cy="2304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65160" y="5809680"/>
              <a:ext cx="19800" cy="2268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59760" y="5811480"/>
              <a:ext cx="19080" cy="2268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53280" y="5813280"/>
              <a:ext cx="19800" cy="2268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47880" y="5815440"/>
              <a:ext cx="19080" cy="2232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41400" y="5817600"/>
              <a:ext cx="19080" cy="2196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35280" y="5818680"/>
              <a:ext cx="19080" cy="2232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28800" y="5820840"/>
              <a:ext cx="19080" cy="2232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222320" y="5821920"/>
              <a:ext cx="19080" cy="2232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16200" y="5823360"/>
              <a:ext cx="18720" cy="2232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03240" y="5824440"/>
              <a:ext cx="24480" cy="2268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89920" y="5827320"/>
              <a:ext cx="25200" cy="2232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76960" y="5829120"/>
              <a:ext cx="24480" cy="2160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63280" y="5830560"/>
              <a:ext cx="24480" cy="2160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49600" y="5831280"/>
              <a:ext cx="24480" cy="2160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37000" y="5832000"/>
              <a:ext cx="23400" cy="208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31600" y="5832360"/>
              <a:ext cx="14400" cy="2016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26920" y="5835240"/>
              <a:ext cx="13680" cy="2592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23320" y="5841000"/>
              <a:ext cx="13320" cy="2556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18640" y="5847120"/>
              <a:ext cx="14400" cy="2484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13240" y="5852160"/>
              <a:ext cx="14400" cy="2484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07840" y="5857560"/>
              <a:ext cx="14400" cy="24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01360" y="5862240"/>
              <a:ext cx="15120" cy="2484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94160" y="5867280"/>
              <a:ext cx="16200" cy="2340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086960" y="5871960"/>
              <a:ext cx="16200" cy="2340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78680" y="5876640"/>
              <a:ext cx="16200" cy="2304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70400" y="5880600"/>
              <a:ext cx="16200" cy="2268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61400" y="5884560"/>
              <a:ext cx="17280" cy="2304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52400" y="5888520"/>
              <a:ext cx="16200" cy="2268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42320" y="5892480"/>
              <a:ext cx="17280" cy="2232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32240" y="5895720"/>
              <a:ext cx="17280" cy="2232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21440" y="5898960"/>
              <a:ext cx="18000" cy="2232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16760" y="5902200"/>
              <a:ext cx="11520" cy="2016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005240" y="5904360"/>
              <a:ext cx="18000" cy="208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4080" y="5906880"/>
              <a:ext cx="16920" cy="208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85800" y="5909400"/>
              <a:ext cx="13320" cy="2016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73200" y="5910840"/>
              <a:ext cx="19080" cy="208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60240" y="5913360"/>
              <a:ext cx="18000" cy="2016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947640" y="5915520"/>
              <a:ext cx="18000" cy="2016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35040" y="5917320"/>
              <a:ext cx="17280" cy="1944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22080" y="5919480"/>
              <a:ext cx="17280" cy="1908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09480" y="5920920"/>
              <a:ext cx="16200" cy="1908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96880" y="5921280"/>
              <a:ext cx="16200" cy="1908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83200" y="5922720"/>
              <a:ext cx="16200" cy="183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69520" y="5923440"/>
              <a:ext cx="16200" cy="1836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55840" y="5923440"/>
              <a:ext cx="16200" cy="1836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46840" y="5923440"/>
              <a:ext cx="10800" cy="1836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21280" y="5922720"/>
              <a:ext cx="27000" cy="1908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8680" y="5922000"/>
              <a:ext cx="13320" cy="1908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95720" y="5920920"/>
              <a:ext cx="13320" cy="1908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783120" y="5919480"/>
              <a:ext cx="12240" cy="1944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70520" y="5917320"/>
              <a:ext cx="12600" cy="2016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57560" y="5915520"/>
              <a:ext cx="13320" cy="2016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744960" y="5913360"/>
              <a:ext cx="13680" cy="2016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33080" y="5911560"/>
              <a:ext cx="13320" cy="2016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721200" y="5909040"/>
              <a:ext cx="13320" cy="208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709320" y="5905440"/>
              <a:ext cx="13680" cy="2160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98520" y="5902200"/>
              <a:ext cx="13680" cy="2160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87720" y="5898960"/>
              <a:ext cx="13320" cy="2232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676920" y="5895000"/>
              <a:ext cx="13320" cy="2232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667560" y="5891040"/>
              <a:ext cx="12240" cy="2304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57480" y="5886720"/>
              <a:ext cx="13320" cy="2340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49200" y="5882040"/>
              <a:ext cx="12600" cy="2340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41280" y="5876640"/>
              <a:ext cx="11520" cy="24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29400" y="5875920"/>
              <a:ext cx="16200" cy="1944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7520" y="5874480"/>
              <a:ext cx="16200" cy="2016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05640" y="5874120"/>
              <a:ext cx="16920" cy="2016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94840" y="5871960"/>
              <a:ext cx="16200" cy="208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82960" y="5870880"/>
              <a:ext cx="17280" cy="208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72160" y="5868720"/>
              <a:ext cx="16920" cy="2160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61360" y="5866560"/>
              <a:ext cx="16920" cy="2160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550200" y="5864760"/>
              <a:ext cx="16920" cy="2160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40120" y="5862240"/>
              <a:ext cx="17280" cy="2232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29320" y="5859360"/>
              <a:ext cx="18000" cy="2232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20320" y="5856120"/>
              <a:ext cx="17280" cy="2268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10240" y="5852880"/>
              <a:ext cx="16920" cy="2340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01240" y="5849640"/>
              <a:ext cx="16920" cy="2340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492960" y="5845680"/>
              <a:ext cx="17280" cy="24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84680" y="5841720"/>
              <a:ext cx="17280" cy="24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77480" y="5837040"/>
              <a:ext cx="16200" cy="2484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42920" y="5800680"/>
              <a:ext cx="20880" cy="2160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1040" y="5800680"/>
              <a:ext cx="21600" cy="2160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19520" y="5800320"/>
              <a:ext cx="21600" cy="216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07280" y="5798880"/>
              <a:ext cx="22680" cy="2232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396480" y="5798160"/>
              <a:ext cx="21600" cy="2232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85680" y="5796360"/>
              <a:ext cx="21600" cy="2304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74880" y="5794200"/>
              <a:ext cx="21600" cy="2340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3720" y="5792400"/>
              <a:ext cx="22680" cy="2340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53640" y="5789520"/>
              <a:ext cx="22680" cy="24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44640" y="5787000"/>
              <a:ext cx="21600" cy="24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34920" y="5783760"/>
              <a:ext cx="22680" cy="2484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26640" y="5780520"/>
              <a:ext cx="21600" cy="2556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18360" y="5776560"/>
              <a:ext cx="21600" cy="2556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11160" y="5772600"/>
              <a:ext cx="20520" cy="2592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03960" y="5767920"/>
              <a:ext cx="20520" cy="2700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98200" y="5763240"/>
              <a:ext cx="19800" cy="2700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53720" y="5800680"/>
              <a:ext cx="12600" cy="2232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70280" y="5832360"/>
              <a:ext cx="16200" cy="2556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464880" y="5827320"/>
              <a:ext cx="14400" cy="2556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59480" y="5820840"/>
              <a:ext cx="14400" cy="2664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457680" y="5817600"/>
              <a:ext cx="11520" cy="24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93880" y="5758200"/>
              <a:ext cx="18000" cy="273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90280" y="5753520"/>
              <a:ext cx="16920" cy="273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11960" y="5675760"/>
              <a:ext cx="19080" cy="288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04040" y="5670360"/>
              <a:ext cx="18720" cy="3024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399360" y="5664600"/>
              <a:ext cx="16200" cy="306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397560" y="5662080"/>
              <a:ext cx="12600" cy="273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85600" y="5562720"/>
              <a:ext cx="1065960" cy="36072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6400800" y="5638680"/>
            <a:ext cx="838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05920" y="47242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8153280" y="5410080"/>
            <a:ext cx="1309680" cy="517320"/>
            <a:chOff x="8153280" y="5410080"/>
            <a:chExt cx="1309680" cy="517320"/>
          </a:xfrm>
        </p:grpSpPr>
        <p:sp>
          <p:nvSpPr>
            <p:cNvPr id="977" name=""/>
            <p:cNvSpPr/>
            <p:nvPr/>
          </p:nvSpPr>
          <p:spPr>
            <a:xfrm>
              <a:off x="8153280" y="5490720"/>
              <a:ext cx="1309680" cy="43668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81080" y="5525280"/>
              <a:ext cx="18000" cy="3024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174600" y="5531040"/>
              <a:ext cx="19800" cy="3024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66320" y="5537160"/>
              <a:ext cx="21600" cy="2880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159120" y="5542200"/>
              <a:ext cx="19800" cy="277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150840" y="5545440"/>
              <a:ext cx="20880" cy="277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228240" y="5619960"/>
              <a:ext cx="20520" cy="273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21760" y="5626080"/>
              <a:ext cx="21600" cy="277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214560" y="5631840"/>
              <a:ext cx="22680" cy="2700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206280" y="5637960"/>
              <a:ext cx="23400" cy="2628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197280" y="5643000"/>
              <a:ext cx="23400" cy="2628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186480" y="5647680"/>
              <a:ext cx="24480" cy="2628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181080" y="5652360"/>
              <a:ext cx="19800" cy="2340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175320" y="5654880"/>
              <a:ext cx="19800" cy="2304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169920" y="5657040"/>
              <a:ext cx="19800" cy="2268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164520" y="5658840"/>
              <a:ext cx="19080" cy="2268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158040" y="5661000"/>
              <a:ext cx="19800" cy="2268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152640" y="5662800"/>
              <a:ext cx="19080" cy="2232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146160" y="5664960"/>
              <a:ext cx="19080" cy="2196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140040" y="5666040"/>
              <a:ext cx="19080" cy="2232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33560" y="5668200"/>
              <a:ext cx="19080" cy="2232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127080" y="5669280"/>
              <a:ext cx="19080" cy="2232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120960" y="5670720"/>
              <a:ext cx="18720" cy="2232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108000" y="5672160"/>
              <a:ext cx="24480" cy="2268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94680" y="5674680"/>
              <a:ext cx="25200" cy="2232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081720" y="5676840"/>
              <a:ext cx="24480" cy="2160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068040" y="5678280"/>
              <a:ext cx="24480" cy="2160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054360" y="5678640"/>
              <a:ext cx="24480" cy="2160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041760" y="5679360"/>
              <a:ext cx="23400" cy="208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36360" y="5680080"/>
              <a:ext cx="14400" cy="2016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031680" y="5682600"/>
              <a:ext cx="13680" cy="2628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028080" y="5688720"/>
              <a:ext cx="13320" cy="2556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023400" y="5694480"/>
              <a:ext cx="14400" cy="2484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018000" y="5699880"/>
              <a:ext cx="14400" cy="2484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012600" y="5705280"/>
              <a:ext cx="14400" cy="24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006120" y="5709600"/>
              <a:ext cx="15120" cy="2484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998920" y="5715000"/>
              <a:ext cx="16200" cy="2340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991720" y="5719680"/>
              <a:ext cx="16200" cy="2340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983440" y="5724000"/>
              <a:ext cx="16200" cy="2304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975160" y="5728320"/>
              <a:ext cx="16200" cy="2268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966160" y="5731920"/>
              <a:ext cx="17280" cy="2304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957160" y="5736240"/>
              <a:ext cx="16200" cy="2268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947080" y="5739840"/>
              <a:ext cx="17280" cy="2232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937000" y="5743080"/>
              <a:ext cx="17280" cy="2232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926200" y="5746680"/>
              <a:ext cx="18000" cy="2232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921520" y="5749920"/>
              <a:ext cx="11520" cy="2016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910000" y="5752080"/>
              <a:ext cx="18000" cy="208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898840" y="5754600"/>
              <a:ext cx="16920" cy="208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890560" y="5757120"/>
              <a:ext cx="13320" cy="2016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877960" y="5758560"/>
              <a:ext cx="19080" cy="208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865000" y="5761080"/>
              <a:ext cx="18000" cy="2016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852400" y="5763240"/>
              <a:ext cx="18000" cy="2016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839800" y="5765040"/>
              <a:ext cx="17280" cy="1944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826840" y="5766840"/>
              <a:ext cx="17280" cy="1908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814240" y="5768280"/>
              <a:ext cx="16200" cy="1908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801640" y="5769000"/>
              <a:ext cx="16200" cy="1908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787960" y="5770440"/>
              <a:ext cx="16200" cy="183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774280" y="5771160"/>
              <a:ext cx="16200" cy="1836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760600" y="5771160"/>
              <a:ext cx="16200" cy="1836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751600" y="5771160"/>
              <a:ext cx="10800" cy="1836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726040" y="5770440"/>
              <a:ext cx="27000" cy="1908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13440" y="5769720"/>
              <a:ext cx="13320" cy="1908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700480" y="5768280"/>
              <a:ext cx="13320" cy="1908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687880" y="5766840"/>
              <a:ext cx="12240" cy="1944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675280" y="5765040"/>
              <a:ext cx="12600" cy="2016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662320" y="5763240"/>
              <a:ext cx="13320" cy="2016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649720" y="5761080"/>
              <a:ext cx="13680" cy="2016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637840" y="5758920"/>
              <a:ext cx="13320" cy="2016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625960" y="5756400"/>
              <a:ext cx="13320" cy="208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614080" y="5753160"/>
              <a:ext cx="13680" cy="2160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603280" y="5749920"/>
              <a:ext cx="13680" cy="2160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592480" y="5746680"/>
              <a:ext cx="13320" cy="2232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581680" y="5742720"/>
              <a:ext cx="13320" cy="2232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572320" y="5738760"/>
              <a:ext cx="12240" cy="2304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62240" y="5734080"/>
              <a:ext cx="13320" cy="2340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53960" y="5729400"/>
              <a:ext cx="12600" cy="2340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46040" y="5724000"/>
              <a:ext cx="11520" cy="24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34160" y="5723640"/>
              <a:ext cx="16200" cy="1944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22280" y="5722200"/>
              <a:ext cx="16200" cy="2016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10400" y="5721480"/>
              <a:ext cx="16920" cy="2016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499600" y="5719680"/>
              <a:ext cx="16200" cy="208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487720" y="5718240"/>
              <a:ext cx="17280" cy="208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476920" y="5716440"/>
              <a:ext cx="16920" cy="2160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466120" y="5714280"/>
              <a:ext cx="16920" cy="2160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454960" y="5712480"/>
              <a:ext cx="16920" cy="2160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444880" y="5709600"/>
              <a:ext cx="17280" cy="2232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434080" y="5707080"/>
              <a:ext cx="18000" cy="2232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25080" y="5703840"/>
              <a:ext cx="17280" cy="2268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15000" y="5700600"/>
              <a:ext cx="16920" cy="2340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406000" y="5697360"/>
              <a:ext cx="16920" cy="2340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97720" y="5693040"/>
              <a:ext cx="17280" cy="24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389440" y="5689440"/>
              <a:ext cx="17280" cy="24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382240" y="5684760"/>
              <a:ext cx="16200" cy="2484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347680" y="5648400"/>
              <a:ext cx="20880" cy="2160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335800" y="5648400"/>
              <a:ext cx="21600" cy="2160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324280" y="5647680"/>
              <a:ext cx="21600" cy="216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312040" y="5646600"/>
              <a:ext cx="22680" cy="2232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301240" y="5645880"/>
              <a:ext cx="21600" cy="2232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290440" y="5643720"/>
              <a:ext cx="21600" cy="2304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79640" y="5641920"/>
              <a:ext cx="21600" cy="2340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268480" y="5639760"/>
              <a:ext cx="22680" cy="2340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258400" y="5637240"/>
              <a:ext cx="22680" cy="24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249400" y="5634720"/>
              <a:ext cx="21600" cy="24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239680" y="5631480"/>
              <a:ext cx="22680" cy="2484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31400" y="5627880"/>
              <a:ext cx="21600" cy="2556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223120" y="5623920"/>
              <a:ext cx="21600" cy="2556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215920" y="5619960"/>
              <a:ext cx="20520" cy="2628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08720" y="5615640"/>
              <a:ext cx="20520" cy="2700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202960" y="5610960"/>
              <a:ext cx="19800" cy="2700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358480" y="5648400"/>
              <a:ext cx="12600" cy="2232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375040" y="5680080"/>
              <a:ext cx="16200" cy="2556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369640" y="5674680"/>
              <a:ext cx="14400" cy="2556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64240" y="5668200"/>
              <a:ext cx="14400" cy="2664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62440" y="5664960"/>
              <a:ext cx="11520" cy="24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198640" y="5605560"/>
              <a:ext cx="18000" cy="273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95040" y="5600880"/>
              <a:ext cx="16920" cy="273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316720" y="5523120"/>
              <a:ext cx="19080" cy="288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308800" y="5518080"/>
              <a:ext cx="18720" cy="3024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04120" y="5511960"/>
              <a:ext cx="16200" cy="306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302320" y="5509440"/>
              <a:ext cx="12600" cy="273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190360" y="5410080"/>
              <a:ext cx="1065960" cy="36108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8305920" y="5486400"/>
            <a:ext cx="838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8"/>
          <a:stretch/>
        </p:blipFill>
        <p:spPr>
          <a:xfrm>
            <a:off x="5029200" y="4572000"/>
            <a:ext cx="457200" cy="20628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19"/>
          <a:stretch/>
        </p:blipFill>
        <p:spPr>
          <a:xfrm>
            <a:off x="7238880" y="3886200"/>
            <a:ext cx="457200" cy="20628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20"/>
          <a:stretch/>
        </p:blipFill>
        <p:spPr>
          <a:xfrm>
            <a:off x="4800600" y="5562720"/>
            <a:ext cx="762120" cy="236520"/>
          </a:xfrm>
          <a:prstGeom prst="rect">
            <a:avLst/>
          </a:prstGeom>
          <a:ln w="0">
            <a:noFill/>
          </a:ln>
        </p:spPr>
      </p:pic>
      <p:grpSp>
        <p:nvGrpSpPr>
          <p:cNvPr id="1102" name=""/>
          <p:cNvGrpSpPr/>
          <p:nvPr/>
        </p:nvGrpSpPr>
        <p:grpSpPr>
          <a:xfrm>
            <a:off x="4724280" y="6248520"/>
            <a:ext cx="304920" cy="304200"/>
            <a:chOff x="4724280" y="6248520"/>
            <a:chExt cx="304920" cy="304200"/>
          </a:xfrm>
        </p:grpSpPr>
        <p:sp>
          <p:nvSpPr>
            <p:cNvPr id="1103" name=""/>
            <p:cNvSpPr/>
            <p:nvPr/>
          </p:nvSpPr>
          <p:spPr>
            <a:xfrm>
              <a:off x="4838400" y="6397560"/>
              <a:ext cx="7452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84760" y="6248520"/>
              <a:ext cx="17532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88000" y="6248880"/>
              <a:ext cx="16920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928400" y="6268320"/>
              <a:ext cx="864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808160" y="6268320"/>
              <a:ext cx="864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11760" y="6268320"/>
              <a:ext cx="12168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811760" y="6365520"/>
              <a:ext cx="12528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33440" y="6384600"/>
              <a:ext cx="396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11040" y="6271200"/>
              <a:ext cx="12312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777560" y="6415200"/>
              <a:ext cx="2012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6489360"/>
              <a:ext cx="30492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27880" y="6540840"/>
              <a:ext cx="29772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42280" y="6508080"/>
              <a:ext cx="504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757400" y="6508080"/>
              <a:ext cx="144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995360" y="6508800"/>
              <a:ext cx="144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869000" y="6520320"/>
              <a:ext cx="4824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00320" y="6508080"/>
              <a:ext cx="1512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903200" y="6515280"/>
              <a:ext cx="1296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57200" y="6508080"/>
              <a:ext cx="3924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920480" y="6508080"/>
              <a:ext cx="3456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19040" y="6497280"/>
              <a:ext cx="3384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921200" y="6525360"/>
              <a:ext cx="3672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56120" y="6497280"/>
              <a:ext cx="4608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70360" y="6497280"/>
              <a:ext cx="489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21120" y="6497280"/>
              <a:ext cx="4500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67560" y="6497280"/>
              <a:ext cx="4752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37600" y="6497280"/>
              <a:ext cx="27828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49480" y="6497280"/>
              <a:ext cx="144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28240" y="6545880"/>
              <a:ext cx="29628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27880" y="6540840"/>
              <a:ext cx="2977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724640" y="6545160"/>
              <a:ext cx="30348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738680" y="6489360"/>
              <a:ext cx="27612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781160" y="6418080"/>
              <a:ext cx="19332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94532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83048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8772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3048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88772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94532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833360" y="6425280"/>
              <a:ext cx="5076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50280" y="6436800"/>
              <a:ext cx="1656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3336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86828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48840" y="6425280"/>
              <a:ext cx="1944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848840" y="6425280"/>
              <a:ext cx="1944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47480" y="6426000"/>
              <a:ext cx="252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947480" y="6438240"/>
              <a:ext cx="252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833360" y="6428160"/>
              <a:ext cx="432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81880" y="6431040"/>
              <a:ext cx="19260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54680" y="6424560"/>
              <a:ext cx="1080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54680" y="6424560"/>
              <a:ext cx="1080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954680" y="6436080"/>
              <a:ext cx="1080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57200" y="6433200"/>
              <a:ext cx="504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57200" y="6433200"/>
              <a:ext cx="504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957200" y="6432480"/>
              <a:ext cx="504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57200" y="6429600"/>
              <a:ext cx="504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74040" y="6440400"/>
              <a:ext cx="576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4040" y="6440400"/>
              <a:ext cx="504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8872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916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952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7980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0096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038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0672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096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132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81608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189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218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82472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8188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85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887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916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952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98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009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038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06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096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132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160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18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18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8247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827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8304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8340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836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40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8430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8466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49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524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553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58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61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646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675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70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733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76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79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882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86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88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8924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94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981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010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046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07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104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140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16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919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26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255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28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32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34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37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41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944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9474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950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532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956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597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962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9654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9683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712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974120" y="6459480"/>
              <a:ext cx="36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85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887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7916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952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798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8009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8038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806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8096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8132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160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18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218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8247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827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8304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8340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836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40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8430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8466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849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8524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8553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58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61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8646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675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0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733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76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79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882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6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8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924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94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981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010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046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07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104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140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16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19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226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255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28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32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34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37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41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44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474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50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532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56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597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62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654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683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712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788720" y="6424560"/>
              <a:ext cx="1800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781160" y="6418080"/>
              <a:ext cx="19332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781160" y="6424560"/>
              <a:ext cx="19332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66920" y="6438240"/>
              <a:ext cx="360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69080" y="6429600"/>
              <a:ext cx="36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50280" y="6402240"/>
              <a:ext cx="5472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21120" y="6405840"/>
              <a:ext cx="11160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5638680" y="6248520"/>
            <a:ext cx="304920" cy="304200"/>
            <a:chOff x="5638680" y="6248520"/>
            <a:chExt cx="304920" cy="304200"/>
          </a:xfrm>
        </p:grpSpPr>
        <p:sp>
          <p:nvSpPr>
            <p:cNvPr id="1308" name=""/>
            <p:cNvSpPr/>
            <p:nvPr/>
          </p:nvSpPr>
          <p:spPr>
            <a:xfrm>
              <a:off x="5752800" y="6397560"/>
              <a:ext cx="7452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99160" y="6248520"/>
              <a:ext cx="17532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02400" y="6248880"/>
              <a:ext cx="16920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842800" y="6268320"/>
              <a:ext cx="864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22560" y="6268320"/>
              <a:ext cx="864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26160" y="6268320"/>
              <a:ext cx="12168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26160" y="6365520"/>
              <a:ext cx="12528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47840" y="6384600"/>
              <a:ext cx="396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25440" y="6271200"/>
              <a:ext cx="12312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691960" y="6415200"/>
              <a:ext cx="2012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638680" y="6489360"/>
              <a:ext cx="30492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642280" y="6540840"/>
              <a:ext cx="29772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656680" y="6508080"/>
              <a:ext cx="504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71800" y="6508080"/>
              <a:ext cx="144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909760" y="6508800"/>
              <a:ext cx="144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83400" y="6520320"/>
              <a:ext cx="4824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14720" y="6508080"/>
              <a:ext cx="1512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17600" y="6515280"/>
              <a:ext cx="1296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871600" y="6508080"/>
              <a:ext cx="3924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34880" y="6508080"/>
              <a:ext cx="3456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833440" y="6497280"/>
              <a:ext cx="3384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35600" y="6525360"/>
              <a:ext cx="3672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70520" y="6497280"/>
              <a:ext cx="4608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84760" y="6497280"/>
              <a:ext cx="489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35520" y="6497280"/>
              <a:ext cx="4500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81960" y="6497280"/>
              <a:ext cx="4752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652000" y="6497280"/>
              <a:ext cx="27828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663880" y="6497280"/>
              <a:ext cx="144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642640" y="6545880"/>
              <a:ext cx="29628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2280" y="6540840"/>
              <a:ext cx="2977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639040" y="6545160"/>
              <a:ext cx="30348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653080" y="6489360"/>
              <a:ext cx="27612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695560" y="6418080"/>
              <a:ext cx="19332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85972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74488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80212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4488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0212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5972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747760" y="6425280"/>
              <a:ext cx="5076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64680" y="6436800"/>
              <a:ext cx="1656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776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78268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63240" y="6425280"/>
              <a:ext cx="1944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63240" y="6425280"/>
              <a:ext cx="1944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61880" y="6426000"/>
              <a:ext cx="252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861880" y="6438240"/>
              <a:ext cx="252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47760" y="6428160"/>
              <a:ext cx="432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696280" y="6431040"/>
              <a:ext cx="19260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69080" y="6424560"/>
              <a:ext cx="1080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69080" y="6424560"/>
              <a:ext cx="1080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69080" y="6436080"/>
              <a:ext cx="1080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871600" y="6433200"/>
              <a:ext cx="504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871600" y="6433200"/>
              <a:ext cx="504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871600" y="6432480"/>
              <a:ext cx="504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871600" y="6429600"/>
              <a:ext cx="504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88440" y="6440400"/>
              <a:ext cx="576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88440" y="6440400"/>
              <a:ext cx="504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0312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060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096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7124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71536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7182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72112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7240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7276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3048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7333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7362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73912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9628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699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03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060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096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712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7153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7182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721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7240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276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304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33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362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39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42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44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484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51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7553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574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610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63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668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697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733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76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7790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819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848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7877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7913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942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7970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00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032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06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093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125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154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190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21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24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284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30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34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370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39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42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46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492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52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557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58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61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64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676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705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74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877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79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827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885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88520" y="6459480"/>
              <a:ext cx="36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99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03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7060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7096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12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153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182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721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240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276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7304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33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362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39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42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44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484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751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7553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574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7610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763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7668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7697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7733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76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790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819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848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877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7913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942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970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00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032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06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093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125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8154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8190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821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824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284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30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34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370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39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42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46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492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52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557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58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61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864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8676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705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74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877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879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8827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885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703120" y="6424560"/>
              <a:ext cx="1800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95560" y="6418080"/>
              <a:ext cx="19332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5560" y="6424560"/>
              <a:ext cx="19332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81320" y="6438240"/>
              <a:ext cx="360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883480" y="6429600"/>
              <a:ext cx="36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64680" y="6402240"/>
              <a:ext cx="5472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35520" y="6405840"/>
              <a:ext cx="11160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5181480" y="6248520"/>
            <a:ext cx="304920" cy="304200"/>
            <a:chOff x="5181480" y="6248520"/>
            <a:chExt cx="304920" cy="304200"/>
          </a:xfrm>
        </p:grpSpPr>
        <p:sp>
          <p:nvSpPr>
            <p:cNvPr id="1513" name=""/>
            <p:cNvSpPr/>
            <p:nvPr/>
          </p:nvSpPr>
          <p:spPr>
            <a:xfrm>
              <a:off x="5295600" y="6397560"/>
              <a:ext cx="74520" cy="5760"/>
            </a:xfrm>
            <a:custGeom>
              <a:avLst/>
              <a:gdLst/>
              <a:ahLst/>
              <a:rect l="l" t="t" r="r" b="b"/>
              <a:pathLst>
                <a:path w="205" h="16">
                  <a:moveTo>
                    <a:pt x="25" y="16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179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241960" y="6248520"/>
              <a:ext cx="175320" cy="145440"/>
            </a:xfrm>
            <a:custGeom>
              <a:avLst/>
              <a:gdLst/>
              <a:ahLst/>
              <a:rect l="l" t="t" r="r" b="b"/>
              <a:pathLst>
                <a:path w="484" h="409">
                  <a:moveTo>
                    <a:pt x="0" y="385"/>
                  </a:moveTo>
                  <a:lnTo>
                    <a:pt x="3" y="402"/>
                  </a:lnTo>
                  <a:lnTo>
                    <a:pt x="19" y="409"/>
                  </a:lnTo>
                  <a:lnTo>
                    <a:pt x="458" y="409"/>
                  </a:lnTo>
                  <a:lnTo>
                    <a:pt x="477" y="406"/>
                  </a:lnTo>
                  <a:lnTo>
                    <a:pt x="484" y="390"/>
                  </a:lnTo>
                  <a:lnTo>
                    <a:pt x="484" y="22"/>
                  </a:lnTo>
                  <a:lnTo>
                    <a:pt x="480" y="6"/>
                  </a:lnTo>
                  <a:lnTo>
                    <a:pt x="463" y="0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45200" y="6248880"/>
              <a:ext cx="169200" cy="142560"/>
            </a:xfrm>
            <a:custGeom>
              <a:avLst/>
              <a:gdLst/>
              <a:ahLst/>
              <a:rect l="l" t="t" r="r" b="b"/>
              <a:pathLst>
                <a:path w="467" h="399">
                  <a:moveTo>
                    <a:pt x="0" y="375"/>
                  </a:moveTo>
                  <a:lnTo>
                    <a:pt x="3" y="392"/>
                  </a:lnTo>
                  <a:lnTo>
                    <a:pt x="18" y="399"/>
                  </a:lnTo>
                  <a:lnTo>
                    <a:pt x="442" y="399"/>
                  </a:lnTo>
                  <a:lnTo>
                    <a:pt x="459" y="396"/>
                  </a:lnTo>
                  <a:lnTo>
                    <a:pt x="467" y="381"/>
                  </a:lnTo>
                  <a:lnTo>
                    <a:pt x="467" y="21"/>
                  </a:lnTo>
                  <a:lnTo>
                    <a:pt x="462" y="6"/>
                  </a:lnTo>
                  <a:lnTo>
                    <a:pt x="445" y="0"/>
                  </a:lnTo>
                  <a:lnTo>
                    <a:pt x="22" y="0"/>
                  </a:lnTo>
                  <a:lnTo>
                    <a:pt x="6" y="4"/>
                  </a:lnTo>
                  <a:lnTo>
                    <a:pt x="0" y="21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85600" y="6268320"/>
              <a:ext cx="8640" cy="101880"/>
            </a:xfrm>
            <a:custGeom>
              <a:avLst/>
              <a:gdLst/>
              <a:ahLst/>
              <a:rect l="l" t="t" r="r" b="b"/>
              <a:pathLst>
                <a:path w="24" h="285">
                  <a:moveTo>
                    <a:pt x="24" y="11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11" y="26"/>
                  </a:lnTo>
                  <a:lnTo>
                    <a:pt x="11" y="271"/>
                  </a:lnTo>
                  <a:lnTo>
                    <a:pt x="24" y="285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265360" y="6268320"/>
              <a:ext cx="8640" cy="105480"/>
            </a:xfrm>
            <a:custGeom>
              <a:avLst/>
              <a:gdLst/>
              <a:ahLst/>
              <a:rect l="l" t="t" r="r" b="b"/>
              <a:pathLst>
                <a:path w="25" h="296">
                  <a:moveTo>
                    <a:pt x="0" y="285"/>
                  </a:moveTo>
                  <a:lnTo>
                    <a:pt x="11" y="296"/>
                  </a:lnTo>
                  <a:lnTo>
                    <a:pt x="25" y="280"/>
                  </a:lnTo>
                  <a:lnTo>
                    <a:pt x="14" y="270"/>
                  </a:lnTo>
                  <a:lnTo>
                    <a:pt x="14" y="146"/>
                  </a:lnTo>
                  <a:lnTo>
                    <a:pt x="14" y="26"/>
                  </a:lnTo>
                  <a:lnTo>
                    <a:pt x="25" y="16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268960" y="6268320"/>
              <a:ext cx="121680" cy="5400"/>
            </a:xfrm>
            <a:custGeom>
              <a:avLst/>
              <a:gdLst/>
              <a:ahLst/>
              <a:rect l="l" t="t" r="r" b="b"/>
              <a:pathLst>
                <a:path w="336" h="16">
                  <a:moveTo>
                    <a:pt x="0" y="0"/>
                  </a:moveTo>
                  <a:lnTo>
                    <a:pt x="13" y="16"/>
                  </a:lnTo>
                  <a:lnTo>
                    <a:pt x="321" y="1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268960" y="6365520"/>
              <a:ext cx="125280" cy="8280"/>
            </a:xfrm>
            <a:custGeom>
              <a:avLst/>
              <a:gdLst/>
              <a:ahLst/>
              <a:rect l="l" t="t" r="r" b="b"/>
              <a:pathLst>
                <a:path w="345" h="25">
                  <a:moveTo>
                    <a:pt x="334" y="25"/>
                  </a:moveTo>
                  <a:lnTo>
                    <a:pt x="345" y="14"/>
                  </a:lnTo>
                  <a:lnTo>
                    <a:pt x="332" y="0"/>
                  </a:lnTo>
                  <a:lnTo>
                    <a:pt x="321" y="10"/>
                  </a:lnTo>
                  <a:lnTo>
                    <a:pt x="14" y="9"/>
                  </a:lnTo>
                  <a:lnTo>
                    <a:pt x="0" y="25"/>
                  </a:lnTo>
                  <a:lnTo>
                    <a:pt x="334" y="25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390640" y="6384600"/>
              <a:ext cx="396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268240" y="6271200"/>
              <a:ext cx="123120" cy="100440"/>
            </a:xfrm>
            <a:custGeom>
              <a:avLst/>
              <a:gdLst/>
              <a:ahLst/>
              <a:rect l="l" t="t" r="r" b="b"/>
              <a:pathLst>
                <a:path w="341" h="284">
                  <a:moveTo>
                    <a:pt x="0" y="266"/>
                  </a:moveTo>
                  <a:lnTo>
                    <a:pt x="2" y="278"/>
                  </a:lnTo>
                  <a:lnTo>
                    <a:pt x="13" y="284"/>
                  </a:lnTo>
                  <a:lnTo>
                    <a:pt x="322" y="284"/>
                  </a:lnTo>
                  <a:lnTo>
                    <a:pt x="335" y="281"/>
                  </a:lnTo>
                  <a:lnTo>
                    <a:pt x="341" y="270"/>
                  </a:lnTo>
                  <a:lnTo>
                    <a:pt x="341" y="16"/>
                  </a:lnTo>
                  <a:lnTo>
                    <a:pt x="337" y="6"/>
                  </a:lnTo>
                  <a:lnTo>
                    <a:pt x="326" y="0"/>
                  </a:lnTo>
                  <a:lnTo>
                    <a:pt x="16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234760" y="6415200"/>
              <a:ext cx="201240" cy="71280"/>
            </a:xfrm>
            <a:custGeom>
              <a:avLst/>
              <a:gdLst/>
              <a:ahLst/>
              <a:rect l="l" t="t" r="r" b="b"/>
              <a:pathLst>
                <a:path w="555" h="202">
                  <a:moveTo>
                    <a:pt x="0" y="186"/>
                  </a:moveTo>
                  <a:lnTo>
                    <a:pt x="5" y="195"/>
                  </a:lnTo>
                  <a:lnTo>
                    <a:pt x="22" y="202"/>
                  </a:lnTo>
                  <a:lnTo>
                    <a:pt x="534" y="202"/>
                  </a:lnTo>
                  <a:lnTo>
                    <a:pt x="551" y="198"/>
                  </a:lnTo>
                  <a:lnTo>
                    <a:pt x="555" y="187"/>
                  </a:lnTo>
                  <a:lnTo>
                    <a:pt x="554" y="17"/>
                  </a:lnTo>
                  <a:lnTo>
                    <a:pt x="552" y="7"/>
                  </a:lnTo>
                  <a:lnTo>
                    <a:pt x="537" y="0"/>
                  </a:lnTo>
                  <a:lnTo>
                    <a:pt x="22" y="0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181480" y="6489360"/>
              <a:ext cx="304920" cy="63360"/>
            </a:xfrm>
            <a:custGeom>
              <a:avLst/>
              <a:gdLst/>
              <a:ahLst/>
              <a:rect l="l" t="t" r="r" b="b"/>
              <a:pathLst>
                <a:path w="841" h="179">
                  <a:moveTo>
                    <a:pt x="802" y="0"/>
                  </a:moveTo>
                  <a:lnTo>
                    <a:pt x="841" y="136"/>
                  </a:lnTo>
                  <a:lnTo>
                    <a:pt x="840" y="157"/>
                  </a:lnTo>
                  <a:lnTo>
                    <a:pt x="835" y="179"/>
                  </a:lnTo>
                  <a:lnTo>
                    <a:pt x="18" y="179"/>
                  </a:lnTo>
                  <a:lnTo>
                    <a:pt x="3" y="168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9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e6e6e6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185080" y="6540840"/>
              <a:ext cx="297720" cy="3960"/>
            </a:xfrm>
            <a:custGeom>
              <a:avLst/>
              <a:gdLst/>
              <a:ahLst/>
              <a:rect l="l" t="t" r="r" b="b"/>
              <a:pathLst>
                <a:path w="823" h="11">
                  <a:moveTo>
                    <a:pt x="823" y="0"/>
                  </a:moveTo>
                  <a:lnTo>
                    <a:pt x="821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23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199480" y="6508080"/>
              <a:ext cx="50400" cy="24120"/>
            </a:xfrm>
            <a:custGeom>
              <a:avLst/>
              <a:gdLst/>
              <a:ahLst/>
              <a:rect l="l" t="t" r="r" b="b"/>
              <a:pathLst>
                <a:path w="140" h="68">
                  <a:moveTo>
                    <a:pt x="0" y="68"/>
                  </a:moveTo>
                  <a:lnTo>
                    <a:pt x="18" y="0"/>
                  </a:lnTo>
                  <a:lnTo>
                    <a:pt x="40" y="0"/>
                  </a:lnTo>
                  <a:lnTo>
                    <a:pt x="37" y="17"/>
                  </a:lnTo>
                  <a:lnTo>
                    <a:pt x="60" y="17"/>
                  </a:lnTo>
                  <a:lnTo>
                    <a:pt x="57" y="32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140" y="46"/>
                  </a:lnTo>
                  <a:lnTo>
                    <a:pt x="135" y="68"/>
                  </a:lnTo>
                  <a:lnTo>
                    <a:pt x="78" y="68"/>
                  </a:lnTo>
                  <a:lnTo>
                    <a:pt x="80" y="58"/>
                  </a:lnTo>
                  <a:lnTo>
                    <a:pt x="59" y="58"/>
                  </a:lnTo>
                  <a:lnTo>
                    <a:pt x="56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214600" y="6508080"/>
              <a:ext cx="144000" cy="2412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" y="0"/>
                  </a:moveTo>
                  <a:lnTo>
                    <a:pt x="0" y="15"/>
                  </a:lnTo>
                  <a:lnTo>
                    <a:pt x="23" y="15"/>
                  </a:lnTo>
                  <a:lnTo>
                    <a:pt x="18" y="30"/>
                  </a:lnTo>
                  <a:lnTo>
                    <a:pt x="51" y="30"/>
                  </a:lnTo>
                  <a:lnTo>
                    <a:pt x="49" y="44"/>
                  </a:lnTo>
                  <a:lnTo>
                    <a:pt x="101" y="44"/>
                  </a:lnTo>
                  <a:lnTo>
                    <a:pt x="98" y="68"/>
                  </a:lnTo>
                  <a:lnTo>
                    <a:pt x="303" y="68"/>
                  </a:lnTo>
                  <a:lnTo>
                    <a:pt x="312" y="43"/>
                  </a:lnTo>
                  <a:lnTo>
                    <a:pt x="354" y="43"/>
                  </a:lnTo>
                  <a:lnTo>
                    <a:pt x="359" y="29"/>
                  </a:lnTo>
                  <a:lnTo>
                    <a:pt x="396" y="29"/>
                  </a:lnTo>
                  <a:lnTo>
                    <a:pt x="399" y="18"/>
                  </a:lnTo>
                  <a:lnTo>
                    <a:pt x="387" y="18"/>
                  </a:lnTo>
                  <a:lnTo>
                    <a:pt x="3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452560" y="6508800"/>
              <a:ext cx="14400" cy="23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0"/>
                  </a:moveTo>
                  <a:lnTo>
                    <a:pt x="22" y="0"/>
                  </a:lnTo>
                  <a:lnTo>
                    <a:pt x="40" y="67"/>
                  </a:lnTo>
                  <a:lnTo>
                    <a:pt x="1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326200" y="6520320"/>
              <a:ext cx="48240" cy="1188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5" y="36"/>
                  </a:moveTo>
                  <a:lnTo>
                    <a:pt x="131" y="0"/>
                  </a:lnTo>
                  <a:lnTo>
                    <a:pt x="55" y="0"/>
                  </a:lnTo>
                  <a:lnTo>
                    <a:pt x="49" y="14"/>
                  </a:lnTo>
                  <a:lnTo>
                    <a:pt x="9" y="14"/>
                  </a:lnTo>
                  <a:lnTo>
                    <a:pt x="0" y="36"/>
                  </a:lnTo>
                  <a:lnTo>
                    <a:pt x="52" y="36"/>
                  </a:lnTo>
                  <a:lnTo>
                    <a:pt x="55" y="26"/>
                  </a:lnTo>
                  <a:lnTo>
                    <a:pt x="76" y="26"/>
                  </a:lnTo>
                  <a:lnTo>
                    <a:pt x="74" y="36"/>
                  </a:lnTo>
                  <a:lnTo>
                    <a:pt x="135" y="3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57520" y="6508080"/>
              <a:ext cx="15120" cy="468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44" y="14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360400" y="6515280"/>
              <a:ext cx="12960" cy="32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11"/>
                  </a:moveTo>
                  <a:lnTo>
                    <a:pt x="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414400" y="6508080"/>
              <a:ext cx="39240" cy="2412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90" y="0"/>
                  </a:moveTo>
                  <a:lnTo>
                    <a:pt x="0" y="0"/>
                  </a:lnTo>
                  <a:lnTo>
                    <a:pt x="19" y="68"/>
                  </a:lnTo>
                  <a:lnTo>
                    <a:pt x="108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77680" y="6508080"/>
              <a:ext cx="34560" cy="13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91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38"/>
                  </a:lnTo>
                  <a:lnTo>
                    <a:pt x="96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376240" y="6497280"/>
              <a:ext cx="33840" cy="75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91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94" y="2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78400" y="6525360"/>
              <a:ext cx="36720" cy="684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94" y="0"/>
                  </a:moveTo>
                  <a:lnTo>
                    <a:pt x="0" y="0"/>
                  </a:lnTo>
                  <a:lnTo>
                    <a:pt x="3" y="22"/>
                  </a:lnTo>
                  <a:lnTo>
                    <a:pt x="101" y="2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413320" y="6497280"/>
              <a:ext cx="46080" cy="7560"/>
            </a:xfrm>
            <a:custGeom>
              <a:avLst/>
              <a:gdLst/>
              <a:ahLst/>
              <a:rect l="l" t="t" r="r" b="b"/>
              <a:pathLst>
                <a:path w="130" h="22">
                  <a:moveTo>
                    <a:pt x="127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130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227560" y="6497280"/>
              <a:ext cx="48960" cy="756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5" y="0"/>
                  </a:moveTo>
                  <a:lnTo>
                    <a:pt x="135" y="0"/>
                  </a:lnTo>
                  <a:lnTo>
                    <a:pt x="130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78320" y="6497280"/>
              <a:ext cx="45000" cy="7560"/>
            </a:xfrm>
            <a:custGeom>
              <a:avLst/>
              <a:gdLst/>
              <a:ahLst/>
              <a:rect l="l" t="t" r="r" b="b"/>
              <a:pathLst>
                <a:path w="124" h="22">
                  <a:moveTo>
                    <a:pt x="5" y="0"/>
                  </a:moveTo>
                  <a:lnTo>
                    <a:pt x="124" y="0"/>
                  </a:lnTo>
                  <a:lnTo>
                    <a:pt x="118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24760" y="6497280"/>
              <a:ext cx="47520" cy="7560"/>
            </a:xfrm>
            <a:custGeom>
              <a:avLst/>
              <a:gdLst/>
              <a:ahLst/>
              <a:rect l="l" t="t" r="r" b="b"/>
              <a:pathLst>
                <a:path w="131" h="22">
                  <a:moveTo>
                    <a:pt x="5" y="0"/>
                  </a:moveTo>
                  <a:lnTo>
                    <a:pt x="131" y="0"/>
                  </a:lnTo>
                  <a:lnTo>
                    <a:pt x="131" y="22"/>
                  </a:lnTo>
                  <a:lnTo>
                    <a:pt x="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194800" y="6497280"/>
              <a:ext cx="278280" cy="36720"/>
            </a:xfrm>
            <a:custGeom>
              <a:avLst/>
              <a:gdLst/>
              <a:ahLst/>
              <a:rect l="l" t="t" r="r" b="b"/>
              <a:pathLst>
                <a:path w="768" h="103">
                  <a:moveTo>
                    <a:pt x="22" y="0"/>
                  </a:moveTo>
                  <a:lnTo>
                    <a:pt x="0" y="103"/>
                  </a:lnTo>
                  <a:lnTo>
                    <a:pt x="768" y="103"/>
                  </a:lnTo>
                  <a:lnTo>
                    <a:pt x="744" y="0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206680" y="6497280"/>
              <a:ext cx="14400" cy="75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4" y="0"/>
                  </a:moveTo>
                  <a:lnTo>
                    <a:pt x="39" y="0"/>
                  </a:lnTo>
                  <a:lnTo>
                    <a:pt x="35" y="22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185440" y="6545880"/>
              <a:ext cx="296280" cy="3240"/>
            </a:xfrm>
            <a:custGeom>
              <a:avLst/>
              <a:gdLst/>
              <a:ahLst/>
              <a:rect l="l" t="t" r="r" b="b"/>
              <a:pathLst>
                <a:path w="818" h="10">
                  <a:moveTo>
                    <a:pt x="818" y="0"/>
                  </a:moveTo>
                  <a:lnTo>
                    <a:pt x="814" y="10"/>
                  </a:lnTo>
                  <a:lnTo>
                    <a:pt x="3" y="9"/>
                  </a:lnTo>
                  <a:lnTo>
                    <a:pt x="0" y="0"/>
                  </a:lnTo>
                  <a:lnTo>
                    <a:pt x="818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185080" y="6540840"/>
              <a:ext cx="2977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181840" y="6545160"/>
              <a:ext cx="303480" cy="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195880" y="6489360"/>
              <a:ext cx="27612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238360" y="6418080"/>
              <a:ext cx="193320" cy="3492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0252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287680" y="6442920"/>
              <a:ext cx="36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344920" y="6442920"/>
              <a:ext cx="720" cy="9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28768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344920" y="6418800"/>
              <a:ext cx="72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02520" y="6418800"/>
              <a:ext cx="360" cy="23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290560" y="6425280"/>
              <a:ext cx="50760" cy="147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0" y="24"/>
                  </a:moveTo>
                  <a:lnTo>
                    <a:pt x="42" y="24"/>
                  </a:lnTo>
                  <a:lnTo>
                    <a:pt x="42" y="0"/>
                  </a:lnTo>
                  <a:lnTo>
                    <a:pt x="96" y="0"/>
                  </a:lnTo>
                  <a:lnTo>
                    <a:pt x="96" y="24"/>
                  </a:lnTo>
                  <a:lnTo>
                    <a:pt x="140" y="24"/>
                  </a:lnTo>
                  <a:lnTo>
                    <a:pt x="140" y="34"/>
                  </a:lnTo>
                  <a:lnTo>
                    <a:pt x="96" y="34"/>
                  </a:lnTo>
                  <a:lnTo>
                    <a:pt x="96" y="42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0" y="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307480" y="6436800"/>
              <a:ext cx="16560" cy="36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29056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325480" y="6436800"/>
              <a:ext cx="15120" cy="360"/>
            </a:xfrm>
            <a:prstGeom prst="rect">
              <a:avLst/>
            </a:prstGeom>
            <a:solidFill>
              <a:srgbClr val="dcdcdc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306040" y="6425280"/>
              <a:ext cx="19440" cy="82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24"/>
                  </a:lnTo>
                  <a:lnTo>
                    <a:pt x="47" y="21"/>
                  </a:lnTo>
                  <a:lnTo>
                    <a:pt x="9" y="2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306040" y="6425280"/>
              <a:ext cx="19440" cy="7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0"/>
                  </a:moveTo>
                  <a:lnTo>
                    <a:pt x="9" y="21"/>
                  </a:lnTo>
                  <a:lnTo>
                    <a:pt x="47" y="2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404680" y="6426000"/>
              <a:ext cx="2520" cy="1800"/>
            </a:xfrm>
            <a:prstGeom prst="rect">
              <a:avLst/>
            </a:prstGeom>
            <a:solidFill>
              <a:srgbClr val="00ce00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404680" y="6438240"/>
              <a:ext cx="2520" cy="180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90560" y="6428160"/>
              <a:ext cx="4320" cy="1800"/>
            </a:xfrm>
            <a:prstGeom prst="rect">
              <a:avLst/>
            </a:prstGeom>
            <a:solidFill>
              <a:srgbClr val="8effe7"/>
            </a:solidFill>
            <a:ln w="1440">
              <a:solidFill>
                <a:srgbClr val="c7c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39080" y="6431040"/>
              <a:ext cx="192600" cy="14760"/>
            </a:xfrm>
            <a:custGeom>
              <a:avLst/>
              <a:gdLst/>
              <a:ahLst/>
              <a:rect l="l" t="t" r="r" b="b"/>
              <a:pathLst>
                <a:path w="534" h="42">
                  <a:moveTo>
                    <a:pt x="0" y="42"/>
                  </a:moveTo>
                  <a:lnTo>
                    <a:pt x="0" y="32"/>
                  </a:lnTo>
                  <a:lnTo>
                    <a:pt x="242" y="33"/>
                  </a:lnTo>
                  <a:lnTo>
                    <a:pt x="242" y="21"/>
                  </a:lnTo>
                  <a:lnTo>
                    <a:pt x="283" y="21"/>
                  </a:lnTo>
                  <a:lnTo>
                    <a:pt x="283" y="32"/>
                  </a:lnTo>
                  <a:lnTo>
                    <a:pt x="478" y="3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32"/>
                  </a:lnTo>
                  <a:lnTo>
                    <a:pt x="534" y="32"/>
                  </a:lnTo>
                  <a:lnTo>
                    <a:pt x="53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411880" y="6424560"/>
              <a:ext cx="10800" cy="133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9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25" y="33"/>
                  </a:lnTo>
                  <a:lnTo>
                    <a:pt x="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11880" y="6424560"/>
              <a:ext cx="10800" cy="111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4" y="33"/>
                  </a:lnTo>
                  <a:lnTo>
                    <a:pt x="25" y="33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11880" y="6436080"/>
              <a:ext cx="10800" cy="4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4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26" y="1"/>
                  </a:lnTo>
                  <a:lnTo>
                    <a:pt x="31" y="5"/>
                  </a:lnTo>
                  <a:lnTo>
                    <a:pt x="31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414400" y="6433200"/>
              <a:ext cx="5040" cy="3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414400" y="6433200"/>
              <a:ext cx="5040" cy="36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414400" y="6432480"/>
              <a:ext cx="5040" cy="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414400" y="6429600"/>
              <a:ext cx="504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331240" y="6440400"/>
              <a:ext cx="576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31240" y="6440400"/>
              <a:ext cx="5040" cy="3240"/>
            </a:xfrm>
            <a:prstGeom prst="rect">
              <a:avLst/>
            </a:prstGeom>
            <a:noFill/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24592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2488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2524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25528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25816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610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6392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2668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7040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7328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76160" y="6442920"/>
              <a:ext cx="72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7904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81920" y="6442920"/>
              <a:ext cx="360" cy="82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239080" y="6459480"/>
              <a:ext cx="72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2426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245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248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2524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2552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2581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2610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2639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2668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2704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2732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276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2790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281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284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2876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912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2941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298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3002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03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3064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3096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125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16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3190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218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247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3276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305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3341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370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398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34348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460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496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3521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553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3582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3618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364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3676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37120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733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376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798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38272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3856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389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3920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3949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9856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401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4046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4072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1044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133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1692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1980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2268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5560" y="6459480"/>
              <a:ext cx="36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8440" y="6459480"/>
              <a:ext cx="720" cy="972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31320" y="6459480"/>
              <a:ext cx="360" cy="2124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2426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245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248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524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552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2581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2610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2639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2668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2704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2732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76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2790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281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284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2876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2912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2941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298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3002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303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3064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3096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3125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316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3190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3218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247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276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305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3341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370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98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34348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460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96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521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553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3582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3618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364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676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37120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3733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76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3798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8272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3856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89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3920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949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9856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401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046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072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1044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133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1692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1980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2268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25560" y="6471720"/>
              <a:ext cx="36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28440" y="6471720"/>
              <a:ext cx="720" cy="9000"/>
            </a:xfrm>
            <a:prstGeom prst="rect">
              <a:avLst/>
            </a:prstGeom>
            <a:solidFill>
              <a:srgbClr val="a0a0a0"/>
            </a:solidFill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245920" y="6424560"/>
              <a:ext cx="18000" cy="13320"/>
            </a:xfrm>
            <a:prstGeom prst="roundRect">
              <a:avLst>
                <a:gd name="adj" fmla="val 588236"/>
              </a:avLst>
            </a:prstGeom>
            <a:solidFill>
              <a:srgbClr val="808080"/>
            </a:solidFill>
            <a:ln w="14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238360" y="6418080"/>
              <a:ext cx="19332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238360" y="6424560"/>
              <a:ext cx="193320" cy="18360"/>
            </a:xfrm>
            <a:custGeom>
              <a:avLst/>
              <a:gdLst/>
              <a:ahLst/>
              <a:rect l="l" t="t" r="r" b="b"/>
              <a:pathLst>
                <a:path w="535" h="52">
                  <a:moveTo>
                    <a:pt x="0" y="52"/>
                  </a:moveTo>
                  <a:lnTo>
                    <a:pt x="243" y="52"/>
                  </a:lnTo>
                  <a:lnTo>
                    <a:pt x="243" y="40"/>
                  </a:lnTo>
                  <a:lnTo>
                    <a:pt x="284" y="40"/>
                  </a:lnTo>
                  <a:lnTo>
                    <a:pt x="284" y="52"/>
                  </a:lnTo>
                  <a:lnTo>
                    <a:pt x="478" y="52"/>
                  </a:lnTo>
                  <a:lnTo>
                    <a:pt x="478" y="0"/>
                  </a:lnTo>
                  <a:lnTo>
                    <a:pt x="509" y="0"/>
                  </a:lnTo>
                  <a:lnTo>
                    <a:pt x="509" y="52"/>
                  </a:lnTo>
                  <a:lnTo>
                    <a:pt x="535" y="5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424120" y="6438240"/>
              <a:ext cx="3600" cy="3240"/>
            </a:xfrm>
            <a:prstGeom prst="ellipse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426280" y="6429600"/>
              <a:ext cx="360" cy="46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07480" y="6402240"/>
              <a:ext cx="54720" cy="324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278320" y="6405840"/>
              <a:ext cx="111600" cy="8280"/>
            </a:xfrm>
            <a:prstGeom prst="rect">
              <a:avLst/>
            </a:prstGeom>
            <a:solidFill>
              <a:srgbClr val="808080"/>
            </a:solidFill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7" name="" descr=""/>
          <p:cNvPicPr/>
          <p:nvPr/>
        </p:nvPicPr>
        <p:blipFill>
          <a:blip r:embed="rId30"/>
          <a:stretch/>
        </p:blipFill>
        <p:spPr>
          <a:xfrm>
            <a:off x="5257800" y="5943600"/>
            <a:ext cx="609480" cy="18900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31"/>
          <a:stretch/>
        </p:blipFill>
        <p:spPr>
          <a:xfrm>
            <a:off x="1981080" y="2778120"/>
            <a:ext cx="38124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P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to Point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P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于在点到点线路上封装数据的链路层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P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的层次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0" name=""/>
          <p:cNvSpPr/>
          <p:nvPr/>
        </p:nvSpPr>
        <p:spPr>
          <a:xfrm>
            <a:off x="2195640" y="1947960"/>
            <a:ext cx="1466640" cy="88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662280" y="1947960"/>
            <a:ext cx="1470240" cy="88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132520" y="1947960"/>
            <a:ext cx="2055600" cy="88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195640" y="2830680"/>
            <a:ext cx="4992480" cy="1172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27480" y="3389400"/>
            <a:ext cx="254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控制协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195640" y="4003560"/>
            <a:ext cx="4992480" cy="11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195640" y="5180040"/>
            <a:ext cx="4992480" cy="87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7" name=""/>
          <p:cNvGrpSpPr/>
          <p:nvPr/>
        </p:nvGrpSpPr>
        <p:grpSpPr>
          <a:xfrm>
            <a:off x="843120" y="1771560"/>
            <a:ext cx="7342200" cy="4111560"/>
            <a:chOff x="843120" y="1771560"/>
            <a:chExt cx="7342200" cy="4111560"/>
          </a:xfrm>
        </p:grpSpPr>
        <p:sp>
          <p:nvSpPr>
            <p:cNvPr id="2488" name=""/>
            <p:cNvSpPr/>
            <p:nvPr/>
          </p:nvSpPr>
          <p:spPr>
            <a:xfrm>
              <a:off x="2019240" y="1771560"/>
              <a:ext cx="1467000" cy="8827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635200" y="2063880"/>
              <a:ext cx="24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486240" y="1771560"/>
              <a:ext cx="1469880" cy="8827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021200" y="2063880"/>
              <a:ext cx="40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P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56120" y="1771560"/>
              <a:ext cx="2055960" cy="8827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638320" y="2063880"/>
              <a:ext cx="91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其他网络协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019240" y="2654280"/>
              <a:ext cx="4992840" cy="11732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39840" y="2792520"/>
              <a:ext cx="435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IPCP            IPXCP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其他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N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019240" y="3827520"/>
              <a:ext cx="4992840" cy="11761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113000" y="396720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验证，其他选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271760" y="4562640"/>
              <a:ext cx="49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019240" y="5003640"/>
              <a:ext cx="4992840" cy="8794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777840" y="5294160"/>
              <a:ext cx="185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物理介质（同步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/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异步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43120" y="2654280"/>
              <a:ext cx="1176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43120" y="5003640"/>
              <a:ext cx="1176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164960" y="3076560"/>
              <a:ext cx="531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宋体"/>
                </a:rPr>
                <a:t>PP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010280" y="2666880"/>
              <a:ext cx="11732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157880" y="5003640"/>
              <a:ext cx="1027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554600" y="36003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链路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543440" y="205740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网络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554600" y="536112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物理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P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工作流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0" name=""/>
          <p:cNvSpPr/>
          <p:nvPr/>
        </p:nvSpPr>
        <p:spPr>
          <a:xfrm>
            <a:off x="5316120" y="5237280"/>
            <a:ext cx="30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77720" y="2590920"/>
            <a:ext cx="1614600" cy="74124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22960" y="2806560"/>
            <a:ext cx="111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ad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阶 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218040" y="2590920"/>
            <a:ext cx="1734840" cy="74124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346560" y="2806560"/>
            <a:ext cx="146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434680" y="2630520"/>
            <a:ext cx="68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底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956200" y="2590920"/>
            <a:ext cx="1611360" cy="74124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134040" y="2649600"/>
            <a:ext cx="141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6632640" y="2963880"/>
            <a:ext cx="37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阶 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063760" y="2630520"/>
            <a:ext cx="829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CP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956200" y="4826160"/>
            <a:ext cx="1663920" cy="74124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152040" y="5040360"/>
            <a:ext cx="137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2133720" y="2971800"/>
            <a:ext cx="1143000" cy="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092400" y="2889360"/>
            <a:ext cx="125640" cy="14436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0"/>
                </a:moveTo>
                <a:lnTo>
                  <a:pt x="72" y="36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4952880" y="2963880"/>
            <a:ext cx="895320" cy="79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830920" y="2889360"/>
            <a:ext cx="125280" cy="14436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0"/>
                </a:moveTo>
                <a:lnTo>
                  <a:pt x="72" y="36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8152920" y="361800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验证通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341920" y="39322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8218080" y="4248000"/>
            <a:ext cx="45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验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7567560" y="2962440"/>
            <a:ext cx="311040" cy="2233440"/>
          </a:xfrm>
          <a:custGeom>
            <a:avLst/>
            <a:gdLst/>
            <a:ahLst/>
            <a:rect l="l" t="t" r="r" b="b"/>
            <a:pathLst>
              <a:path w="178" h="1108">
                <a:moveTo>
                  <a:pt x="0" y="0"/>
                </a:moveTo>
                <a:lnTo>
                  <a:pt x="178" y="0"/>
                </a:lnTo>
                <a:lnTo>
                  <a:pt x="178" y="1108"/>
                </a:lnTo>
                <a:lnTo>
                  <a:pt x="75" y="110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626240" y="5111640"/>
            <a:ext cx="146160" cy="169920"/>
          </a:xfrm>
          <a:custGeom>
            <a:avLst/>
            <a:gdLst/>
            <a:ahLst/>
            <a:rect l="l" t="t" r="r" b="b"/>
            <a:pathLst>
              <a:path w="84" h="84">
                <a:moveTo>
                  <a:pt x="84" y="84"/>
                </a:moveTo>
                <a:lnTo>
                  <a:pt x="0" y="42"/>
                </a:lnTo>
                <a:lnTo>
                  <a:pt x="84" y="0"/>
                </a:lnTo>
                <a:lnTo>
                  <a:pt x="84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5089320" y="5195880"/>
            <a:ext cx="866520" cy="334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79880" y="5156280"/>
            <a:ext cx="127080" cy="142920"/>
          </a:xfrm>
          <a:custGeom>
            <a:avLst/>
            <a:gdLst/>
            <a:ahLst/>
            <a:rect l="l" t="t" r="r" b="b"/>
            <a:pathLst>
              <a:path w="72" h="71">
                <a:moveTo>
                  <a:pt x="72" y="71"/>
                </a:moveTo>
                <a:lnTo>
                  <a:pt x="0" y="39"/>
                </a:lnTo>
                <a:lnTo>
                  <a:pt x="70" y="0"/>
                </a:lnTo>
                <a:lnTo>
                  <a:pt x="72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218040" y="4826160"/>
            <a:ext cx="1609560" cy="74124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507480" y="488304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95920" y="5199120"/>
            <a:ext cx="37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阶 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495760" y="3332160"/>
            <a:ext cx="1266840" cy="1752480"/>
          </a:xfrm>
          <a:custGeom>
            <a:avLst/>
            <a:gdLst/>
            <a:ahLst/>
            <a:rect l="l" t="t" r="r" b="b"/>
            <a:pathLst>
              <a:path w="725" h="869">
                <a:moveTo>
                  <a:pt x="725" y="0"/>
                </a:moveTo>
                <a:lnTo>
                  <a:pt x="725" y="140"/>
                </a:lnTo>
                <a:lnTo>
                  <a:pt x="0" y="140"/>
                </a:lnTo>
                <a:lnTo>
                  <a:pt x="0" y="86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423040" y="5062680"/>
            <a:ext cx="145800" cy="171360"/>
          </a:xfrm>
          <a:custGeom>
            <a:avLst/>
            <a:gdLst/>
            <a:ahLst/>
            <a:rect l="l" t="t" r="r" b="b"/>
            <a:pathLst>
              <a:path w="84" h="85">
                <a:moveTo>
                  <a:pt x="84" y="0"/>
                </a:moveTo>
                <a:lnTo>
                  <a:pt x="42" y="85"/>
                </a:lnTo>
                <a:lnTo>
                  <a:pt x="0" y="0"/>
                </a:lnTo>
                <a:lnTo>
                  <a:pt x="8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018480" y="37846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验证失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219320" y="3429000"/>
            <a:ext cx="1998720" cy="1766880"/>
          </a:xfrm>
          <a:custGeom>
            <a:avLst/>
            <a:gdLst/>
            <a:ahLst/>
            <a:rect l="l" t="t" r="r" b="b"/>
            <a:pathLst>
              <a:path w="1133" h="756">
                <a:moveTo>
                  <a:pt x="1133" y="756"/>
                </a:move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143000" y="3352680"/>
            <a:ext cx="147600" cy="168480"/>
          </a:xfrm>
          <a:custGeom>
            <a:avLst/>
            <a:gdLst/>
            <a:ahLst/>
            <a:rect l="l" t="t" r="r" b="b"/>
            <a:pathLst>
              <a:path w="84" h="84">
                <a:moveTo>
                  <a:pt x="0" y="84"/>
                </a:moveTo>
                <a:lnTo>
                  <a:pt x="42" y="0"/>
                </a:lnTo>
                <a:lnTo>
                  <a:pt x="84" y="84"/>
                </a:lnTo>
                <a:lnTo>
                  <a:pt x="0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00080" y="4865760"/>
            <a:ext cx="81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370160" y="3332160"/>
            <a:ext cx="2652480" cy="692280"/>
          </a:xfrm>
          <a:custGeom>
            <a:avLst/>
            <a:gdLst/>
            <a:ahLst/>
            <a:rect l="l" t="t" r="r" b="b"/>
            <a:pathLst>
              <a:path w="1519" h="343">
                <a:moveTo>
                  <a:pt x="1519" y="0"/>
                </a:moveTo>
                <a:lnTo>
                  <a:pt x="1519" y="343"/>
                </a:lnTo>
                <a:lnTo>
                  <a:pt x="0" y="34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239840" y="3938760"/>
            <a:ext cx="146160" cy="171360"/>
          </a:xfrm>
          <a:custGeom>
            <a:avLst/>
            <a:gdLst/>
            <a:ahLst/>
            <a:rect l="l" t="t" r="r" b="b"/>
            <a:pathLst>
              <a:path w="84" h="85">
                <a:moveTo>
                  <a:pt x="84" y="85"/>
                </a:moveTo>
                <a:lnTo>
                  <a:pt x="0" y="43"/>
                </a:lnTo>
                <a:lnTo>
                  <a:pt x="84" y="0"/>
                </a:lnTo>
                <a:lnTo>
                  <a:pt x="84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404800" y="4156200"/>
            <a:ext cx="30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失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P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身份验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两种验证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H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A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验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word Authenticatio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A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验证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0" name=""/>
          <p:cNvSpPr/>
          <p:nvPr/>
        </p:nvSpPr>
        <p:spPr>
          <a:xfrm>
            <a:off x="4043520" y="4098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用户名，密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拒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8120" y="444024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3047760" y="504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6553080" y="4038480"/>
            <a:ext cx="1143000" cy="1330200"/>
            <a:chOff x="6553080" y="4038480"/>
            <a:chExt cx="1143000" cy="1330200"/>
          </a:xfrm>
        </p:grpSpPr>
        <p:grpSp>
          <p:nvGrpSpPr>
            <p:cNvPr id="2554" name=""/>
            <p:cNvGrpSpPr/>
            <p:nvPr/>
          </p:nvGrpSpPr>
          <p:grpSpPr>
            <a:xfrm>
              <a:off x="6553080" y="4038480"/>
              <a:ext cx="1143000" cy="1330200"/>
              <a:chOff x="6553080" y="4038480"/>
              <a:chExt cx="1143000" cy="1330200"/>
            </a:xfrm>
          </p:grpSpPr>
          <p:sp>
            <p:nvSpPr>
              <p:cNvPr id="2555" name=""/>
              <p:cNvSpPr/>
              <p:nvPr/>
            </p:nvSpPr>
            <p:spPr>
              <a:xfrm>
                <a:off x="6553080" y="4190760"/>
                <a:ext cx="114300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553080" y="4038480"/>
                <a:ext cx="114300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6553080" y="419076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696080" y="419076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553080" y="5181480"/>
                <a:ext cx="1143000" cy="187200"/>
              </a:xfrm>
              <a:custGeom>
                <a:avLst/>
                <a:gdLst/>
                <a:ahLst/>
                <a:rect l="l" t="t" r="r" b="b"/>
                <a:pathLst>
                  <a:path w="1824" h="280">
                    <a:moveTo>
                      <a:pt x="0" y="0"/>
                    </a:moveTo>
                    <a:cubicBezTo>
                      <a:pt x="180" y="100"/>
                      <a:pt x="360" y="200"/>
                      <a:pt x="576" y="240"/>
                    </a:cubicBezTo>
                    <a:cubicBezTo>
                      <a:pt x="792" y="280"/>
                      <a:pt x="1088" y="280"/>
                      <a:pt x="1296" y="240"/>
                    </a:cubicBezTo>
                    <a:cubicBezTo>
                      <a:pt x="1504" y="200"/>
                      <a:pt x="1664" y="100"/>
                      <a:pt x="18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0" name=""/>
            <p:cNvSpPr/>
            <p:nvPr/>
          </p:nvSpPr>
          <p:spPr>
            <a:xfrm>
              <a:off x="6782040" y="43434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数据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380880" y="2514600"/>
            <a:ext cx="8263080" cy="1447920"/>
            <a:chOff x="380880" y="2514600"/>
            <a:chExt cx="8263080" cy="1447920"/>
          </a:xfrm>
        </p:grpSpPr>
        <p:sp>
          <p:nvSpPr>
            <p:cNvPr id="2562" name=""/>
            <p:cNvSpPr/>
            <p:nvPr/>
          </p:nvSpPr>
          <p:spPr>
            <a:xfrm>
              <a:off x="6934320" y="312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1295280" y="3124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4" name=""/>
            <p:cNvGrpSpPr/>
            <p:nvPr/>
          </p:nvGrpSpPr>
          <p:grpSpPr>
            <a:xfrm>
              <a:off x="380880" y="2666880"/>
              <a:ext cx="1100160" cy="728640"/>
              <a:chOff x="380880" y="2666880"/>
              <a:chExt cx="1100160" cy="728640"/>
            </a:xfrm>
          </p:grpSpPr>
          <p:sp>
            <p:nvSpPr>
              <p:cNvPr id="2565" name=""/>
              <p:cNvSpPr/>
              <p:nvPr/>
            </p:nvSpPr>
            <p:spPr>
              <a:xfrm>
                <a:off x="380880" y="266688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09480" y="289548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7543800" y="2666880"/>
              <a:ext cx="1100160" cy="728640"/>
              <a:chOff x="7543800" y="2666880"/>
              <a:chExt cx="1100160" cy="728640"/>
            </a:xfrm>
          </p:grpSpPr>
          <p:sp>
            <p:nvSpPr>
              <p:cNvPr id="2568" name=""/>
              <p:cNvSpPr/>
              <p:nvPr/>
            </p:nvSpPr>
            <p:spPr>
              <a:xfrm>
                <a:off x="7543800" y="266688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772400" y="289548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0" name=""/>
            <p:cNvSpPr/>
            <p:nvPr/>
          </p:nvSpPr>
          <p:spPr>
            <a:xfrm>
              <a:off x="2819520" y="3124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05740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324480" y="251460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3" name=""/>
            <p:cNvGrpSpPr/>
            <p:nvPr/>
          </p:nvGrpSpPr>
          <p:grpSpPr>
            <a:xfrm>
              <a:off x="3429000" y="2590920"/>
              <a:ext cx="2590920" cy="1371600"/>
              <a:chOff x="3429000" y="2590920"/>
              <a:chExt cx="2590920" cy="1371600"/>
            </a:xfrm>
          </p:grpSpPr>
          <p:sp>
            <p:nvSpPr>
              <p:cNvPr id="2574" name=""/>
              <p:cNvSpPr/>
              <p:nvPr/>
            </p:nvSpPr>
            <p:spPr>
              <a:xfrm>
                <a:off x="3429000" y="2676600"/>
                <a:ext cx="2590920" cy="128592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462640" y="2778120"/>
                <a:ext cx="34920" cy="88920"/>
              </a:xfrm>
              <a:custGeom>
                <a:avLst/>
                <a:gdLst/>
                <a:ahLst/>
                <a:rect l="l" t="t" r="r" b="b"/>
                <a:pathLst>
                  <a:path w="284" h="969">
                    <a:moveTo>
                      <a:pt x="284" y="0"/>
                    </a:moveTo>
                    <a:lnTo>
                      <a:pt x="70" y="780"/>
                    </a:lnTo>
                    <a:lnTo>
                      <a:pt x="55" y="828"/>
                    </a:lnTo>
                    <a:lnTo>
                      <a:pt x="39" y="875"/>
                    </a:lnTo>
                    <a:lnTo>
                      <a:pt x="21" y="922"/>
                    </a:lnTo>
                    <a:lnTo>
                      <a:pt x="0" y="969"/>
                    </a:lnTo>
                    <a:lnTo>
                      <a:pt x="212" y="194"/>
                    </a:lnTo>
                    <a:lnTo>
                      <a:pt x="234" y="147"/>
                    </a:lnTo>
                    <a:lnTo>
                      <a:pt x="252" y="99"/>
                    </a:lnTo>
                    <a:lnTo>
                      <a:pt x="270" y="50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450040" y="2795760"/>
                <a:ext cx="39600" cy="88560"/>
              </a:xfrm>
              <a:custGeom>
                <a:avLst/>
                <a:gdLst/>
                <a:ahLst/>
                <a:rect l="l" t="t" r="r" b="b"/>
                <a:pathLst>
                  <a:path w="311" h="952">
                    <a:moveTo>
                      <a:pt x="311" y="0"/>
                    </a:moveTo>
                    <a:lnTo>
                      <a:pt x="99" y="775"/>
                    </a:lnTo>
                    <a:lnTo>
                      <a:pt x="78" y="819"/>
                    </a:lnTo>
                    <a:lnTo>
                      <a:pt x="53" y="864"/>
                    </a:lnTo>
                    <a:lnTo>
                      <a:pt x="27" y="908"/>
                    </a:lnTo>
                    <a:lnTo>
                      <a:pt x="0" y="952"/>
                    </a:lnTo>
                    <a:lnTo>
                      <a:pt x="210" y="181"/>
                    </a:lnTo>
                    <a:lnTo>
                      <a:pt x="238" y="137"/>
                    </a:lnTo>
                    <a:lnTo>
                      <a:pt x="264" y="92"/>
                    </a:lnTo>
                    <a:lnTo>
                      <a:pt x="289" y="47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433840" y="2813040"/>
                <a:ext cx="43200" cy="84240"/>
              </a:xfrm>
              <a:custGeom>
                <a:avLst/>
                <a:gdLst/>
                <a:ahLst/>
                <a:rect l="l" t="t" r="r" b="b"/>
                <a:pathLst>
                  <a:path w="338" h="935">
                    <a:moveTo>
                      <a:pt x="338" y="0"/>
                    </a:moveTo>
                    <a:lnTo>
                      <a:pt x="128" y="771"/>
                    </a:lnTo>
                    <a:lnTo>
                      <a:pt x="99" y="813"/>
                    </a:lnTo>
                    <a:lnTo>
                      <a:pt x="68" y="855"/>
                    </a:lnTo>
                    <a:lnTo>
                      <a:pt x="35" y="896"/>
                    </a:lnTo>
                    <a:lnTo>
                      <a:pt x="0" y="935"/>
                    </a:lnTo>
                    <a:lnTo>
                      <a:pt x="207" y="170"/>
                    </a:lnTo>
                    <a:lnTo>
                      <a:pt x="242" y="128"/>
                    </a:lnTo>
                    <a:lnTo>
                      <a:pt x="275" y="86"/>
                    </a:lnTo>
                    <a:lnTo>
                      <a:pt x="307" y="44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cbe7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5418000" y="2827440"/>
                <a:ext cx="39960" cy="82440"/>
              </a:xfrm>
              <a:custGeom>
                <a:avLst/>
                <a:gdLst/>
                <a:ahLst/>
                <a:rect l="l" t="t" r="r" b="b"/>
                <a:pathLst>
                  <a:path w="318" h="881">
                    <a:moveTo>
                      <a:pt x="318" y="0"/>
                    </a:moveTo>
                    <a:lnTo>
                      <a:pt x="111" y="765"/>
                    </a:lnTo>
                    <a:lnTo>
                      <a:pt x="76" y="805"/>
                    </a:lnTo>
                    <a:lnTo>
                      <a:pt x="39" y="843"/>
                    </a:lnTo>
                    <a:lnTo>
                      <a:pt x="0" y="881"/>
                    </a:lnTo>
                    <a:lnTo>
                      <a:pt x="202" y="117"/>
                    </a:lnTo>
                    <a:lnTo>
                      <a:pt x="243" y="79"/>
                    </a:lnTo>
                    <a:lnTo>
                      <a:pt x="281" y="39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c0e2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5402160" y="2838600"/>
                <a:ext cx="41400" cy="80640"/>
              </a:xfrm>
              <a:custGeom>
                <a:avLst/>
                <a:gdLst/>
                <a:ahLst/>
                <a:rect l="l" t="t" r="r" b="b"/>
                <a:pathLst>
                  <a:path w="330" h="871">
                    <a:moveTo>
                      <a:pt x="330" y="0"/>
                    </a:moveTo>
                    <a:lnTo>
                      <a:pt x="128" y="764"/>
                    </a:lnTo>
                    <a:lnTo>
                      <a:pt x="87" y="800"/>
                    </a:lnTo>
                    <a:lnTo>
                      <a:pt x="45" y="836"/>
                    </a:lnTo>
                    <a:lnTo>
                      <a:pt x="0" y="871"/>
                    </a:lnTo>
                    <a:lnTo>
                      <a:pt x="200" y="111"/>
                    </a:lnTo>
                    <a:lnTo>
                      <a:pt x="245" y="74"/>
                    </a:lnTo>
                    <a:lnTo>
                      <a:pt x="289" y="38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556240" y="3057480"/>
                <a:ext cx="41400" cy="81000"/>
              </a:xfrm>
              <a:custGeom>
                <a:avLst/>
                <a:gdLst/>
                <a:ahLst/>
                <a:rect l="l" t="t" r="r" b="b"/>
                <a:pathLst>
                  <a:path w="317" h="895">
                    <a:moveTo>
                      <a:pt x="317" y="0"/>
                    </a:moveTo>
                    <a:lnTo>
                      <a:pt x="79" y="703"/>
                    </a:lnTo>
                    <a:lnTo>
                      <a:pt x="42" y="800"/>
                    </a:lnTo>
                    <a:lnTo>
                      <a:pt x="0" y="895"/>
                    </a:lnTo>
                    <a:lnTo>
                      <a:pt x="236" y="197"/>
                    </a:lnTo>
                    <a:lnTo>
                      <a:pt x="279" y="10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543640" y="3075120"/>
                <a:ext cx="42840" cy="81000"/>
              </a:xfrm>
              <a:custGeom>
                <a:avLst/>
                <a:gdLst/>
                <a:ahLst/>
                <a:rect l="l" t="t" r="r" b="b"/>
                <a:pathLst>
                  <a:path w="334" h="882">
                    <a:moveTo>
                      <a:pt x="334" y="0"/>
                    </a:moveTo>
                    <a:lnTo>
                      <a:pt x="98" y="698"/>
                    </a:lnTo>
                    <a:lnTo>
                      <a:pt x="51" y="791"/>
                    </a:lnTo>
                    <a:lnTo>
                      <a:pt x="0" y="882"/>
                    </a:lnTo>
                    <a:lnTo>
                      <a:pt x="234" y="188"/>
                    </a:lnTo>
                    <a:lnTo>
                      <a:pt x="286" y="96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529240" y="3092400"/>
                <a:ext cx="44640" cy="79560"/>
              </a:xfrm>
              <a:custGeom>
                <a:avLst/>
                <a:gdLst/>
                <a:ahLst/>
                <a:rect l="l" t="t" r="r" b="b"/>
                <a:pathLst>
                  <a:path w="348" h="869">
                    <a:moveTo>
                      <a:pt x="348" y="0"/>
                    </a:moveTo>
                    <a:lnTo>
                      <a:pt x="114" y="694"/>
                    </a:lnTo>
                    <a:lnTo>
                      <a:pt x="60" y="783"/>
                    </a:lnTo>
                    <a:lnTo>
                      <a:pt x="0" y="869"/>
                    </a:lnTo>
                    <a:lnTo>
                      <a:pt x="230" y="181"/>
                    </a:lnTo>
                    <a:lnTo>
                      <a:pt x="291" y="92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cee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511960" y="3110040"/>
                <a:ext cx="47520" cy="75960"/>
              </a:xfrm>
              <a:custGeom>
                <a:avLst/>
                <a:gdLst/>
                <a:ahLst/>
                <a:rect l="l" t="t" r="r" b="b"/>
                <a:pathLst>
                  <a:path w="361" h="854">
                    <a:moveTo>
                      <a:pt x="361" y="0"/>
                    </a:moveTo>
                    <a:lnTo>
                      <a:pt x="131" y="688"/>
                    </a:lnTo>
                    <a:lnTo>
                      <a:pt x="67" y="771"/>
                    </a:lnTo>
                    <a:lnTo>
                      <a:pt x="0" y="854"/>
                    </a:lnTo>
                    <a:lnTo>
                      <a:pt x="226" y="169"/>
                    </a:lnTo>
                    <a:lnTo>
                      <a:pt x="296" y="85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c6e5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494320" y="3124080"/>
                <a:ext cx="47520" cy="77760"/>
              </a:xfrm>
              <a:custGeom>
                <a:avLst/>
                <a:gdLst/>
                <a:ahLst/>
                <a:rect l="l" t="t" r="r" b="b"/>
                <a:pathLst>
                  <a:path w="371" h="841">
                    <a:moveTo>
                      <a:pt x="371" y="0"/>
                    </a:moveTo>
                    <a:lnTo>
                      <a:pt x="145" y="685"/>
                    </a:lnTo>
                    <a:lnTo>
                      <a:pt x="75" y="764"/>
                    </a:lnTo>
                    <a:lnTo>
                      <a:pt x="0" y="841"/>
                    </a:lnTo>
                    <a:lnTo>
                      <a:pt x="224" y="161"/>
                    </a:lnTo>
                    <a:lnTo>
                      <a:pt x="300" y="8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c0e2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472000" y="313848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381" h="826">
                    <a:moveTo>
                      <a:pt x="381" y="0"/>
                    </a:moveTo>
                    <a:lnTo>
                      <a:pt x="157" y="680"/>
                    </a:lnTo>
                    <a:lnTo>
                      <a:pt x="80" y="754"/>
                    </a:lnTo>
                    <a:lnTo>
                      <a:pt x="0" y="826"/>
                    </a:lnTo>
                    <a:lnTo>
                      <a:pt x="219" y="150"/>
                    </a:lnTo>
                    <a:lnTo>
                      <a:pt x="301" y="76"/>
                    </a:lnTo>
                    <a:lnTo>
                      <a:pt x="381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5462640" y="31510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301" h="744">
                    <a:moveTo>
                      <a:pt x="301" y="0"/>
                    </a:moveTo>
                    <a:lnTo>
                      <a:pt x="82" y="676"/>
                    </a:lnTo>
                    <a:lnTo>
                      <a:pt x="0" y="744"/>
                    </a:lnTo>
                    <a:lnTo>
                      <a:pt x="216" y="71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451480" y="31590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301" h="740">
                    <a:moveTo>
                      <a:pt x="301" y="0"/>
                    </a:moveTo>
                    <a:lnTo>
                      <a:pt x="85" y="673"/>
                    </a:lnTo>
                    <a:lnTo>
                      <a:pt x="0" y="740"/>
                    </a:lnTo>
                    <a:lnTo>
                      <a:pt x="213" y="68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b7d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440320" y="316548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301" h="737">
                    <a:moveTo>
                      <a:pt x="301" y="0"/>
                    </a:moveTo>
                    <a:lnTo>
                      <a:pt x="88" y="672"/>
                    </a:lnTo>
                    <a:lnTo>
                      <a:pt x="0" y="737"/>
                    </a:lnTo>
                    <a:lnTo>
                      <a:pt x="211" y="66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429160" y="317196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300" h="731">
                    <a:moveTo>
                      <a:pt x="300" y="0"/>
                    </a:moveTo>
                    <a:lnTo>
                      <a:pt x="89" y="671"/>
                    </a:lnTo>
                    <a:lnTo>
                      <a:pt x="0" y="731"/>
                    </a:lnTo>
                    <a:lnTo>
                      <a:pt x="208" y="62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afd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416560" y="317664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300" h="728">
                    <a:moveTo>
                      <a:pt x="300" y="0"/>
                    </a:moveTo>
                    <a:lnTo>
                      <a:pt x="92" y="669"/>
                    </a:lnTo>
                    <a:lnTo>
                      <a:pt x="0" y="728"/>
                    </a:lnTo>
                    <a:lnTo>
                      <a:pt x="206" y="60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add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407200" y="3182760"/>
                <a:ext cx="36360" cy="66960"/>
              </a:xfrm>
              <a:custGeom>
                <a:avLst/>
                <a:gdLst/>
                <a:ahLst/>
                <a:rect l="l" t="t" r="r" b="b"/>
                <a:pathLst>
                  <a:path w="299" h="723">
                    <a:moveTo>
                      <a:pt x="299" y="0"/>
                    </a:moveTo>
                    <a:lnTo>
                      <a:pt x="93" y="668"/>
                    </a:lnTo>
                    <a:lnTo>
                      <a:pt x="0" y="723"/>
                    </a:lnTo>
                    <a:lnTo>
                      <a:pt x="203" y="57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a6d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394240" y="318924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298" h="720">
                    <a:moveTo>
                      <a:pt x="298" y="0"/>
                    </a:moveTo>
                    <a:lnTo>
                      <a:pt x="95" y="666"/>
                    </a:lnTo>
                    <a:lnTo>
                      <a:pt x="0" y="720"/>
                    </a:lnTo>
                    <a:lnTo>
                      <a:pt x="200" y="54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a6d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381640" y="319248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297" h="715">
                    <a:moveTo>
                      <a:pt x="297" y="0"/>
                    </a:moveTo>
                    <a:lnTo>
                      <a:pt x="97" y="666"/>
                    </a:lnTo>
                    <a:lnTo>
                      <a:pt x="0" y="715"/>
                    </a:lnTo>
                    <a:lnTo>
                      <a:pt x="198" y="51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a0d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369040" y="3198960"/>
                <a:ext cx="38160" cy="64800"/>
              </a:xfrm>
              <a:custGeom>
                <a:avLst/>
                <a:gdLst/>
                <a:ahLst/>
                <a:rect l="l" t="t" r="r" b="b"/>
                <a:pathLst>
                  <a:path w="295" h="711">
                    <a:moveTo>
                      <a:pt x="295" y="0"/>
                    </a:moveTo>
                    <a:lnTo>
                      <a:pt x="97" y="664"/>
                    </a:lnTo>
                    <a:lnTo>
                      <a:pt x="0" y="711"/>
                    </a:lnTo>
                    <a:lnTo>
                      <a:pt x="195" y="49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9ac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356080" y="320184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92" h="706">
                    <a:moveTo>
                      <a:pt x="292" y="0"/>
                    </a:moveTo>
                    <a:lnTo>
                      <a:pt x="97" y="662"/>
                    </a:lnTo>
                    <a:lnTo>
                      <a:pt x="0" y="706"/>
                    </a:lnTo>
                    <a:lnTo>
                      <a:pt x="191" y="45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98c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343480" y="3206880"/>
                <a:ext cx="38160" cy="64800"/>
              </a:xfrm>
              <a:custGeom>
                <a:avLst/>
                <a:gdLst/>
                <a:ahLst/>
                <a:rect l="l" t="t" r="r" b="b"/>
                <a:pathLst>
                  <a:path w="291" h="702">
                    <a:moveTo>
                      <a:pt x="291" y="0"/>
                    </a:moveTo>
                    <a:lnTo>
                      <a:pt x="100" y="661"/>
                    </a:lnTo>
                    <a:lnTo>
                      <a:pt x="0" y="702"/>
                    </a:lnTo>
                    <a:lnTo>
                      <a:pt x="189" y="4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9ac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318280" y="3209760"/>
                <a:ext cx="48960" cy="68400"/>
              </a:xfrm>
              <a:custGeom>
                <a:avLst/>
                <a:gdLst/>
                <a:ahLst/>
                <a:rect l="l" t="t" r="r" b="b"/>
                <a:pathLst>
                  <a:path w="388" h="732">
                    <a:moveTo>
                      <a:pt x="388" y="0"/>
                    </a:moveTo>
                    <a:lnTo>
                      <a:pt x="199" y="660"/>
                    </a:lnTo>
                    <a:lnTo>
                      <a:pt x="100" y="697"/>
                    </a:lnTo>
                    <a:lnTo>
                      <a:pt x="0" y="732"/>
                    </a:lnTo>
                    <a:lnTo>
                      <a:pt x="183" y="73"/>
                    </a:lnTo>
                    <a:lnTo>
                      <a:pt x="286" y="38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8eb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291280" y="3218040"/>
                <a:ext cx="50760" cy="66600"/>
              </a:xfrm>
              <a:custGeom>
                <a:avLst/>
                <a:gdLst/>
                <a:ahLst/>
                <a:rect l="l" t="t" r="r" b="b"/>
                <a:pathLst>
                  <a:path w="385" h="716">
                    <a:moveTo>
                      <a:pt x="385" y="0"/>
                    </a:moveTo>
                    <a:lnTo>
                      <a:pt x="202" y="659"/>
                    </a:lnTo>
                    <a:lnTo>
                      <a:pt x="168" y="669"/>
                    </a:lnTo>
                    <a:lnTo>
                      <a:pt x="134" y="679"/>
                    </a:lnTo>
                    <a:lnTo>
                      <a:pt x="102" y="689"/>
                    </a:lnTo>
                    <a:lnTo>
                      <a:pt x="68" y="698"/>
                    </a:lnTo>
                    <a:lnTo>
                      <a:pt x="34" y="708"/>
                    </a:lnTo>
                    <a:lnTo>
                      <a:pt x="0" y="716"/>
                    </a:lnTo>
                    <a:lnTo>
                      <a:pt x="177" y="60"/>
                    </a:lnTo>
                    <a:lnTo>
                      <a:pt x="212" y="50"/>
                    </a:lnTo>
                    <a:lnTo>
                      <a:pt x="247" y="41"/>
                    </a:lnTo>
                    <a:lnTo>
                      <a:pt x="281" y="32"/>
                    </a:lnTo>
                    <a:lnTo>
                      <a:pt x="316" y="21"/>
                    </a:lnTo>
                    <a:lnTo>
                      <a:pt x="351" y="12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84a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265720" y="3224160"/>
                <a:ext cx="49320" cy="63720"/>
              </a:xfrm>
              <a:custGeom>
                <a:avLst/>
                <a:gdLst/>
                <a:ahLst/>
                <a:rect l="l" t="t" r="r" b="b"/>
                <a:pathLst>
                  <a:path w="379" h="702">
                    <a:moveTo>
                      <a:pt x="379" y="0"/>
                    </a:moveTo>
                    <a:lnTo>
                      <a:pt x="202" y="656"/>
                    </a:lnTo>
                    <a:lnTo>
                      <a:pt x="169" y="664"/>
                    </a:lnTo>
                    <a:lnTo>
                      <a:pt x="135" y="673"/>
                    </a:lnTo>
                    <a:lnTo>
                      <a:pt x="102" y="680"/>
                    </a:lnTo>
                    <a:lnTo>
                      <a:pt x="68" y="688"/>
                    </a:lnTo>
                    <a:lnTo>
                      <a:pt x="34" y="694"/>
                    </a:lnTo>
                    <a:lnTo>
                      <a:pt x="0" y="702"/>
                    </a:lnTo>
                    <a:lnTo>
                      <a:pt x="172" y="46"/>
                    </a:lnTo>
                    <a:lnTo>
                      <a:pt x="207" y="39"/>
                    </a:lnTo>
                    <a:lnTo>
                      <a:pt x="241" y="32"/>
                    </a:lnTo>
                    <a:lnTo>
                      <a:pt x="276" y="24"/>
                    </a:lnTo>
                    <a:lnTo>
                      <a:pt x="311" y="17"/>
                    </a:lnTo>
                    <a:lnTo>
                      <a:pt x="346" y="8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7f9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238720" y="3227400"/>
                <a:ext cx="49320" cy="63360"/>
              </a:xfrm>
              <a:custGeom>
                <a:avLst/>
                <a:gdLst/>
                <a:ahLst/>
                <a:rect l="l" t="t" r="r" b="b"/>
                <a:pathLst>
                  <a:path w="375" h="689">
                    <a:moveTo>
                      <a:pt x="375" y="0"/>
                    </a:moveTo>
                    <a:lnTo>
                      <a:pt x="203" y="656"/>
                    </a:lnTo>
                    <a:lnTo>
                      <a:pt x="169" y="662"/>
                    </a:lnTo>
                    <a:lnTo>
                      <a:pt x="135" y="668"/>
                    </a:lnTo>
                    <a:lnTo>
                      <a:pt x="102" y="673"/>
                    </a:lnTo>
                    <a:lnTo>
                      <a:pt x="68" y="680"/>
                    </a:lnTo>
                    <a:lnTo>
                      <a:pt x="34" y="685"/>
                    </a:lnTo>
                    <a:lnTo>
                      <a:pt x="0" y="689"/>
                    </a:lnTo>
                    <a:lnTo>
                      <a:pt x="165" y="34"/>
                    </a:lnTo>
                    <a:lnTo>
                      <a:pt x="200" y="30"/>
                    </a:lnTo>
                    <a:lnTo>
                      <a:pt x="236" y="25"/>
                    </a:lnTo>
                    <a:lnTo>
                      <a:pt x="271" y="18"/>
                    </a:lnTo>
                    <a:lnTo>
                      <a:pt x="306" y="13"/>
                    </a:lnTo>
                    <a:lnTo>
                      <a:pt x="340" y="7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778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211720" y="322884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71" h="677">
                    <a:moveTo>
                      <a:pt x="371" y="0"/>
                    </a:moveTo>
                    <a:lnTo>
                      <a:pt x="206" y="655"/>
                    </a:lnTo>
                    <a:lnTo>
                      <a:pt x="171" y="659"/>
                    </a:lnTo>
                    <a:lnTo>
                      <a:pt x="137" y="663"/>
                    </a:lnTo>
                    <a:lnTo>
                      <a:pt x="103" y="668"/>
                    </a:lnTo>
                    <a:lnTo>
                      <a:pt x="69" y="671"/>
                    </a:lnTo>
                    <a:lnTo>
                      <a:pt x="34" y="674"/>
                    </a:lnTo>
                    <a:lnTo>
                      <a:pt x="0" y="677"/>
                    </a:lnTo>
                    <a:lnTo>
                      <a:pt x="159" y="23"/>
                    </a:lnTo>
                    <a:lnTo>
                      <a:pt x="195" y="20"/>
                    </a:lnTo>
                    <a:lnTo>
                      <a:pt x="231" y="17"/>
                    </a:lnTo>
                    <a:lnTo>
                      <a:pt x="265" y="14"/>
                    </a:lnTo>
                    <a:lnTo>
                      <a:pt x="301" y="9"/>
                    </a:lnTo>
                    <a:lnTo>
                      <a:pt x="336" y="5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738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186520" y="3232080"/>
                <a:ext cx="47520" cy="61920"/>
              </a:xfrm>
              <a:custGeom>
                <a:avLst/>
                <a:gdLst/>
                <a:ahLst/>
                <a:rect l="l" t="t" r="r" b="b"/>
                <a:pathLst>
                  <a:path w="368" h="663">
                    <a:moveTo>
                      <a:pt x="368" y="0"/>
                    </a:moveTo>
                    <a:lnTo>
                      <a:pt x="209" y="654"/>
                    </a:lnTo>
                    <a:lnTo>
                      <a:pt x="174" y="656"/>
                    </a:lnTo>
                    <a:lnTo>
                      <a:pt x="139" y="658"/>
                    </a:lnTo>
                    <a:lnTo>
                      <a:pt x="104" y="660"/>
                    </a:lnTo>
                    <a:lnTo>
                      <a:pt x="69" y="661"/>
                    </a:lnTo>
                    <a:lnTo>
                      <a:pt x="35" y="662"/>
                    </a:lnTo>
                    <a:lnTo>
                      <a:pt x="0" y="663"/>
                    </a:lnTo>
                    <a:lnTo>
                      <a:pt x="152" y="9"/>
                    </a:lnTo>
                    <a:lnTo>
                      <a:pt x="189" y="8"/>
                    </a:lnTo>
                    <a:lnTo>
                      <a:pt x="225" y="7"/>
                    </a:lnTo>
                    <a:lnTo>
                      <a:pt x="261" y="6"/>
                    </a:lnTo>
                    <a:lnTo>
                      <a:pt x="297" y="4"/>
                    </a:lnTo>
                    <a:lnTo>
                      <a:pt x="333" y="2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6d7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175360" y="3233880"/>
                <a:ext cx="29880" cy="60120"/>
              </a:xfrm>
              <a:custGeom>
                <a:avLst/>
                <a:gdLst/>
                <a:ahLst/>
                <a:rect l="l" t="t" r="r" b="b"/>
                <a:pathLst>
                  <a:path w="223" h="654">
                    <a:moveTo>
                      <a:pt x="223" y="0"/>
                    </a:moveTo>
                    <a:lnTo>
                      <a:pt x="71" y="654"/>
                    </a:lnTo>
                    <a:lnTo>
                      <a:pt x="35" y="654"/>
                    </a:lnTo>
                    <a:lnTo>
                      <a:pt x="0" y="654"/>
                    </a:lnTo>
                    <a:lnTo>
                      <a:pt x="152" y="0"/>
                    </a:lnTo>
                    <a:lnTo>
                      <a:pt x="188" y="0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687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167440" y="324180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201" h="832">
                    <a:moveTo>
                      <a:pt x="201" y="0"/>
                    </a:moveTo>
                    <a:lnTo>
                      <a:pt x="50" y="652"/>
                    </a:lnTo>
                    <a:lnTo>
                      <a:pt x="27" y="743"/>
                    </a:lnTo>
                    <a:lnTo>
                      <a:pt x="0" y="832"/>
                    </a:lnTo>
                    <a:lnTo>
                      <a:pt x="150" y="185"/>
                    </a:lnTo>
                    <a:lnTo>
                      <a:pt x="177" y="94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159520" y="3259080"/>
                <a:ext cx="27000" cy="74520"/>
              </a:xfrm>
              <a:custGeom>
                <a:avLst/>
                <a:gdLst/>
                <a:ahLst/>
                <a:rect l="l" t="t" r="r" b="b"/>
                <a:pathLst>
                  <a:path w="210" h="821">
                    <a:moveTo>
                      <a:pt x="210" y="0"/>
                    </a:moveTo>
                    <a:lnTo>
                      <a:pt x="60" y="647"/>
                    </a:lnTo>
                    <a:lnTo>
                      <a:pt x="31" y="735"/>
                    </a:lnTo>
                    <a:lnTo>
                      <a:pt x="0" y="821"/>
                    </a:lnTo>
                    <a:lnTo>
                      <a:pt x="147" y="179"/>
                    </a:lnTo>
                    <a:lnTo>
                      <a:pt x="180" y="9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151600" y="327672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219" h="810">
                    <a:moveTo>
                      <a:pt x="219" y="0"/>
                    </a:moveTo>
                    <a:lnTo>
                      <a:pt x="72" y="642"/>
                    </a:lnTo>
                    <a:lnTo>
                      <a:pt x="37" y="726"/>
                    </a:lnTo>
                    <a:lnTo>
                      <a:pt x="0" y="810"/>
                    </a:lnTo>
                    <a:lnTo>
                      <a:pt x="146" y="172"/>
                    </a:lnTo>
                    <a:lnTo>
                      <a:pt x="183" y="8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140440" y="3290760"/>
                <a:ext cx="28440" cy="74880"/>
              </a:xfrm>
              <a:custGeom>
                <a:avLst/>
                <a:gdLst/>
                <a:ahLst/>
                <a:rect l="l" t="t" r="r" b="b"/>
                <a:pathLst>
                  <a:path w="226" h="800">
                    <a:moveTo>
                      <a:pt x="226" y="0"/>
                    </a:moveTo>
                    <a:lnTo>
                      <a:pt x="80" y="638"/>
                    </a:lnTo>
                    <a:lnTo>
                      <a:pt x="41" y="720"/>
                    </a:lnTo>
                    <a:lnTo>
                      <a:pt x="0" y="800"/>
                    </a:lnTo>
                    <a:lnTo>
                      <a:pt x="143" y="167"/>
                    </a:lnTo>
                    <a:lnTo>
                      <a:pt x="185" y="84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129280" y="330660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233" h="788">
                    <a:moveTo>
                      <a:pt x="233" y="0"/>
                    </a:moveTo>
                    <a:lnTo>
                      <a:pt x="90" y="633"/>
                    </a:lnTo>
                    <a:lnTo>
                      <a:pt x="46" y="711"/>
                    </a:lnTo>
                    <a:lnTo>
                      <a:pt x="0" y="788"/>
                    </a:lnTo>
                    <a:lnTo>
                      <a:pt x="140" y="159"/>
                    </a:lnTo>
                    <a:lnTo>
                      <a:pt x="187" y="80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cee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116680" y="3321000"/>
                <a:ext cx="29880" cy="73080"/>
              </a:xfrm>
              <a:custGeom>
                <a:avLst/>
                <a:gdLst/>
                <a:ahLst/>
                <a:rect l="l" t="t" r="r" b="b"/>
                <a:pathLst>
                  <a:path w="240" h="780">
                    <a:moveTo>
                      <a:pt x="240" y="0"/>
                    </a:moveTo>
                    <a:lnTo>
                      <a:pt x="100" y="629"/>
                    </a:lnTo>
                    <a:lnTo>
                      <a:pt x="51" y="705"/>
                    </a:lnTo>
                    <a:lnTo>
                      <a:pt x="0" y="780"/>
                    </a:lnTo>
                    <a:lnTo>
                      <a:pt x="139" y="154"/>
                    </a:lnTo>
                    <a:lnTo>
                      <a:pt x="191" y="78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cee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102280" y="333540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247" h="770">
                    <a:moveTo>
                      <a:pt x="247" y="0"/>
                    </a:moveTo>
                    <a:lnTo>
                      <a:pt x="108" y="626"/>
                    </a:lnTo>
                    <a:lnTo>
                      <a:pt x="56" y="698"/>
                    </a:lnTo>
                    <a:lnTo>
                      <a:pt x="0" y="770"/>
                    </a:lnTo>
                    <a:lnTo>
                      <a:pt x="136" y="148"/>
                    </a:lnTo>
                    <a:lnTo>
                      <a:pt x="192" y="75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6e5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087880" y="334980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250" h="761">
                    <a:moveTo>
                      <a:pt x="250" y="0"/>
                    </a:moveTo>
                    <a:lnTo>
                      <a:pt x="114" y="622"/>
                    </a:lnTo>
                    <a:lnTo>
                      <a:pt x="58" y="692"/>
                    </a:lnTo>
                    <a:lnTo>
                      <a:pt x="0" y="761"/>
                    </a:lnTo>
                    <a:lnTo>
                      <a:pt x="131" y="143"/>
                    </a:lnTo>
                    <a:lnTo>
                      <a:pt x="191" y="72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c6e5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072040" y="3363840"/>
                <a:ext cx="31680" cy="66600"/>
              </a:xfrm>
              <a:custGeom>
                <a:avLst/>
                <a:gdLst/>
                <a:ahLst/>
                <a:rect l="l" t="t" r="r" b="b"/>
                <a:pathLst>
                  <a:path w="254" h="750">
                    <a:moveTo>
                      <a:pt x="254" y="0"/>
                    </a:moveTo>
                    <a:lnTo>
                      <a:pt x="123" y="618"/>
                    </a:lnTo>
                    <a:lnTo>
                      <a:pt x="62" y="684"/>
                    </a:lnTo>
                    <a:lnTo>
                      <a:pt x="0" y="750"/>
                    </a:lnTo>
                    <a:lnTo>
                      <a:pt x="128" y="136"/>
                    </a:lnTo>
                    <a:lnTo>
                      <a:pt x="191" y="69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c0e2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056200" y="3375000"/>
                <a:ext cx="31680" cy="68400"/>
              </a:xfrm>
              <a:custGeom>
                <a:avLst/>
                <a:gdLst/>
                <a:ahLst/>
                <a:rect l="l" t="t" r="r" b="b"/>
                <a:pathLst>
                  <a:path w="259" h="741">
                    <a:moveTo>
                      <a:pt x="259" y="0"/>
                    </a:moveTo>
                    <a:lnTo>
                      <a:pt x="131" y="614"/>
                    </a:lnTo>
                    <a:lnTo>
                      <a:pt x="66" y="678"/>
                    </a:lnTo>
                    <a:lnTo>
                      <a:pt x="0" y="741"/>
                    </a:lnTo>
                    <a:lnTo>
                      <a:pt x="124" y="131"/>
                    </a:lnTo>
                    <a:lnTo>
                      <a:pt x="192" y="66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bde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037120" y="3386160"/>
                <a:ext cx="34920" cy="68400"/>
              </a:xfrm>
              <a:custGeom>
                <a:avLst/>
                <a:gdLst/>
                <a:ahLst/>
                <a:rect l="l" t="t" r="r" b="b"/>
                <a:pathLst>
                  <a:path w="261" h="731">
                    <a:moveTo>
                      <a:pt x="261" y="0"/>
                    </a:moveTo>
                    <a:lnTo>
                      <a:pt x="137" y="610"/>
                    </a:lnTo>
                    <a:lnTo>
                      <a:pt x="70" y="671"/>
                    </a:lnTo>
                    <a:lnTo>
                      <a:pt x="0" y="731"/>
                    </a:lnTo>
                    <a:lnTo>
                      <a:pt x="120" y="124"/>
                    </a:lnTo>
                    <a:lnTo>
                      <a:pt x="192" y="62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5019840" y="3398760"/>
                <a:ext cx="31680" cy="66600"/>
              </a:xfrm>
              <a:custGeom>
                <a:avLst/>
                <a:gdLst/>
                <a:ahLst/>
                <a:rect l="l" t="t" r="r" b="b"/>
                <a:pathLst>
                  <a:path w="264" h="722">
                    <a:moveTo>
                      <a:pt x="264" y="0"/>
                    </a:moveTo>
                    <a:lnTo>
                      <a:pt x="144" y="607"/>
                    </a:lnTo>
                    <a:lnTo>
                      <a:pt x="73" y="665"/>
                    </a:lnTo>
                    <a:lnTo>
                      <a:pt x="0" y="722"/>
                    </a:lnTo>
                    <a:lnTo>
                      <a:pt x="116" y="118"/>
                    </a:lnTo>
                    <a:lnTo>
                      <a:pt x="191" y="6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b7d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998960" y="340992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265" h="715">
                    <a:moveTo>
                      <a:pt x="265" y="0"/>
                    </a:moveTo>
                    <a:lnTo>
                      <a:pt x="149" y="604"/>
                    </a:lnTo>
                    <a:lnTo>
                      <a:pt x="75" y="661"/>
                    </a:lnTo>
                    <a:lnTo>
                      <a:pt x="0" y="715"/>
                    </a:lnTo>
                    <a:lnTo>
                      <a:pt x="111" y="113"/>
                    </a:lnTo>
                    <a:lnTo>
                      <a:pt x="189" y="5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979880" y="3419640"/>
                <a:ext cx="33480" cy="66600"/>
              </a:xfrm>
              <a:custGeom>
                <a:avLst/>
                <a:gdLst/>
                <a:ahLst/>
                <a:rect l="l" t="t" r="r" b="b"/>
                <a:pathLst>
                  <a:path w="266" h="706">
                    <a:moveTo>
                      <a:pt x="266" y="0"/>
                    </a:moveTo>
                    <a:lnTo>
                      <a:pt x="155" y="602"/>
                    </a:lnTo>
                    <a:lnTo>
                      <a:pt x="78" y="654"/>
                    </a:lnTo>
                    <a:lnTo>
                      <a:pt x="0" y="706"/>
                    </a:lnTo>
                    <a:lnTo>
                      <a:pt x="107" y="107"/>
                    </a:lnTo>
                    <a:lnTo>
                      <a:pt x="187" y="54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add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957920" y="342900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267" h="698">
                    <a:moveTo>
                      <a:pt x="267" y="0"/>
                    </a:moveTo>
                    <a:lnTo>
                      <a:pt x="160" y="599"/>
                    </a:lnTo>
                    <a:lnTo>
                      <a:pt x="81" y="649"/>
                    </a:lnTo>
                    <a:lnTo>
                      <a:pt x="0" y="698"/>
                    </a:lnTo>
                    <a:lnTo>
                      <a:pt x="102" y="102"/>
                    </a:lnTo>
                    <a:lnTo>
                      <a:pt x="185" y="52"/>
                    </a:lnTo>
                    <a:lnTo>
                      <a:pt x="267" y="0"/>
                    </a:lnTo>
                    <a:close/>
                  </a:path>
                </a:pathLst>
              </a:custGeom>
              <a:solidFill>
                <a:srgbClr val="a9d8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950000" y="343836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84" h="643">
                    <a:moveTo>
                      <a:pt x="184" y="0"/>
                    </a:moveTo>
                    <a:lnTo>
                      <a:pt x="82" y="596"/>
                    </a:lnTo>
                    <a:lnTo>
                      <a:pt x="0" y="643"/>
                    </a:lnTo>
                    <a:lnTo>
                      <a:pt x="100" y="4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6d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4925880" y="344484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272" h="683">
                    <a:moveTo>
                      <a:pt x="272" y="0"/>
                    </a:moveTo>
                    <a:lnTo>
                      <a:pt x="172" y="595"/>
                    </a:lnTo>
                    <a:lnTo>
                      <a:pt x="144" y="610"/>
                    </a:lnTo>
                    <a:lnTo>
                      <a:pt x="115" y="625"/>
                    </a:lnTo>
                    <a:lnTo>
                      <a:pt x="87" y="639"/>
                    </a:lnTo>
                    <a:lnTo>
                      <a:pt x="58" y="654"/>
                    </a:lnTo>
                    <a:lnTo>
                      <a:pt x="29" y="669"/>
                    </a:lnTo>
                    <a:lnTo>
                      <a:pt x="0" y="683"/>
                    </a:lnTo>
                    <a:lnTo>
                      <a:pt x="96" y="91"/>
                    </a:lnTo>
                    <a:lnTo>
                      <a:pt x="125" y="76"/>
                    </a:lnTo>
                    <a:lnTo>
                      <a:pt x="154" y="61"/>
                    </a:lnTo>
                    <a:lnTo>
                      <a:pt x="184" y="47"/>
                    </a:lnTo>
                    <a:lnTo>
                      <a:pt x="214" y="31"/>
                    </a:lnTo>
                    <a:lnTo>
                      <a:pt x="242" y="16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a0d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903920" y="34527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270" h="674">
                    <a:moveTo>
                      <a:pt x="270" y="0"/>
                    </a:moveTo>
                    <a:lnTo>
                      <a:pt x="174" y="592"/>
                    </a:lnTo>
                    <a:lnTo>
                      <a:pt x="146" y="606"/>
                    </a:lnTo>
                    <a:lnTo>
                      <a:pt x="116" y="620"/>
                    </a:lnTo>
                    <a:lnTo>
                      <a:pt x="87" y="634"/>
                    </a:lnTo>
                    <a:lnTo>
                      <a:pt x="59" y="647"/>
                    </a:lnTo>
                    <a:lnTo>
                      <a:pt x="29" y="661"/>
                    </a:lnTo>
                    <a:lnTo>
                      <a:pt x="0" y="674"/>
                    </a:lnTo>
                    <a:lnTo>
                      <a:pt x="90" y="85"/>
                    </a:lnTo>
                    <a:lnTo>
                      <a:pt x="120" y="70"/>
                    </a:lnTo>
                    <a:lnTo>
                      <a:pt x="150" y="57"/>
                    </a:lnTo>
                    <a:lnTo>
                      <a:pt x="180" y="43"/>
                    </a:lnTo>
                    <a:lnTo>
                      <a:pt x="210" y="29"/>
                    </a:lnTo>
                    <a:lnTo>
                      <a:pt x="240" y="14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9ac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888080" y="346068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208" h="643">
                    <a:moveTo>
                      <a:pt x="208" y="0"/>
                    </a:moveTo>
                    <a:lnTo>
                      <a:pt x="118" y="589"/>
                    </a:lnTo>
                    <a:lnTo>
                      <a:pt x="88" y="603"/>
                    </a:lnTo>
                    <a:lnTo>
                      <a:pt x="60" y="617"/>
                    </a:lnTo>
                    <a:lnTo>
                      <a:pt x="30" y="630"/>
                    </a:lnTo>
                    <a:lnTo>
                      <a:pt x="0" y="643"/>
                    </a:lnTo>
                    <a:lnTo>
                      <a:pt x="86" y="54"/>
                    </a:lnTo>
                    <a:lnTo>
                      <a:pt x="117" y="41"/>
                    </a:lnTo>
                    <a:lnTo>
                      <a:pt x="148" y="27"/>
                    </a:lnTo>
                    <a:lnTo>
                      <a:pt x="178" y="1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98c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862520" y="34639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84" h="662">
                    <a:moveTo>
                      <a:pt x="284" y="0"/>
                    </a:moveTo>
                    <a:lnTo>
                      <a:pt x="198" y="589"/>
                    </a:lnTo>
                    <a:lnTo>
                      <a:pt x="132" y="615"/>
                    </a:lnTo>
                    <a:lnTo>
                      <a:pt x="66" y="639"/>
                    </a:lnTo>
                    <a:lnTo>
                      <a:pt x="0" y="662"/>
                    </a:lnTo>
                    <a:lnTo>
                      <a:pt x="80" y="76"/>
                    </a:lnTo>
                    <a:lnTo>
                      <a:pt x="149" y="52"/>
                    </a:lnTo>
                    <a:lnTo>
                      <a:pt x="217" y="26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91b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836960" y="347184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277" h="653">
                    <a:moveTo>
                      <a:pt x="277" y="0"/>
                    </a:moveTo>
                    <a:lnTo>
                      <a:pt x="197" y="586"/>
                    </a:lnTo>
                    <a:lnTo>
                      <a:pt x="132" y="609"/>
                    </a:lnTo>
                    <a:lnTo>
                      <a:pt x="66" y="631"/>
                    </a:lnTo>
                    <a:lnTo>
                      <a:pt x="0" y="653"/>
                    </a:lnTo>
                    <a:lnTo>
                      <a:pt x="75" y="68"/>
                    </a:lnTo>
                    <a:lnTo>
                      <a:pt x="142" y="46"/>
                    </a:lnTo>
                    <a:lnTo>
                      <a:pt x="210" y="24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8b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813200" y="347832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72" h="642">
                    <a:moveTo>
                      <a:pt x="272" y="0"/>
                    </a:moveTo>
                    <a:lnTo>
                      <a:pt x="197" y="585"/>
                    </a:lnTo>
                    <a:lnTo>
                      <a:pt x="132" y="605"/>
                    </a:lnTo>
                    <a:lnTo>
                      <a:pt x="66" y="624"/>
                    </a:lnTo>
                    <a:lnTo>
                      <a:pt x="0" y="642"/>
                    </a:lnTo>
                    <a:lnTo>
                      <a:pt x="69" y="59"/>
                    </a:lnTo>
                    <a:lnTo>
                      <a:pt x="137" y="40"/>
                    </a:lnTo>
                    <a:lnTo>
                      <a:pt x="205" y="21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84a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4788000" y="348300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265" h="633">
                    <a:moveTo>
                      <a:pt x="265" y="0"/>
                    </a:moveTo>
                    <a:lnTo>
                      <a:pt x="196" y="583"/>
                    </a:lnTo>
                    <a:lnTo>
                      <a:pt x="131" y="601"/>
                    </a:lnTo>
                    <a:lnTo>
                      <a:pt x="65" y="618"/>
                    </a:lnTo>
                    <a:lnTo>
                      <a:pt x="0" y="633"/>
                    </a:lnTo>
                    <a:lnTo>
                      <a:pt x="63" y="51"/>
                    </a:lnTo>
                    <a:lnTo>
                      <a:pt x="131" y="36"/>
                    </a:lnTo>
                    <a:lnTo>
                      <a:pt x="199" y="1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83a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4762440" y="3489480"/>
                <a:ext cx="33480" cy="55440"/>
              </a:xfrm>
              <a:custGeom>
                <a:avLst/>
                <a:gdLst/>
                <a:ahLst/>
                <a:rect l="l" t="t" r="r" b="b"/>
                <a:pathLst>
                  <a:path w="260" h="625">
                    <a:moveTo>
                      <a:pt x="260" y="0"/>
                    </a:moveTo>
                    <a:lnTo>
                      <a:pt x="197" y="582"/>
                    </a:lnTo>
                    <a:lnTo>
                      <a:pt x="131" y="597"/>
                    </a:lnTo>
                    <a:lnTo>
                      <a:pt x="65" y="612"/>
                    </a:lnTo>
                    <a:lnTo>
                      <a:pt x="0" y="625"/>
                    </a:lnTo>
                    <a:lnTo>
                      <a:pt x="57" y="44"/>
                    </a:lnTo>
                    <a:lnTo>
                      <a:pt x="125" y="30"/>
                    </a:lnTo>
                    <a:lnTo>
                      <a:pt x="192" y="16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7d9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4737240" y="3492360"/>
                <a:ext cx="31680" cy="57240"/>
              </a:xfrm>
              <a:custGeom>
                <a:avLst/>
                <a:gdLst/>
                <a:ahLst/>
                <a:rect l="l" t="t" r="r" b="b"/>
                <a:pathLst>
                  <a:path w="256" h="615">
                    <a:moveTo>
                      <a:pt x="256" y="0"/>
                    </a:moveTo>
                    <a:lnTo>
                      <a:pt x="199" y="581"/>
                    </a:lnTo>
                    <a:lnTo>
                      <a:pt x="132" y="593"/>
                    </a:lnTo>
                    <a:lnTo>
                      <a:pt x="66" y="604"/>
                    </a:lnTo>
                    <a:lnTo>
                      <a:pt x="0" y="615"/>
                    </a:lnTo>
                    <a:lnTo>
                      <a:pt x="51" y="35"/>
                    </a:lnTo>
                    <a:lnTo>
                      <a:pt x="120" y="24"/>
                    </a:lnTo>
                    <a:lnTo>
                      <a:pt x="187" y="12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79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4711680" y="349560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251" h="607">
                    <a:moveTo>
                      <a:pt x="251" y="0"/>
                    </a:moveTo>
                    <a:lnTo>
                      <a:pt x="200" y="580"/>
                    </a:lnTo>
                    <a:lnTo>
                      <a:pt x="133" y="590"/>
                    </a:lnTo>
                    <a:lnTo>
                      <a:pt x="66" y="599"/>
                    </a:lnTo>
                    <a:lnTo>
                      <a:pt x="0" y="607"/>
                    </a:lnTo>
                    <a:lnTo>
                      <a:pt x="45" y="27"/>
                    </a:lnTo>
                    <a:lnTo>
                      <a:pt x="114" y="19"/>
                    </a:lnTo>
                    <a:lnTo>
                      <a:pt x="182" y="1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758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684680" y="349884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248" h="599">
                    <a:moveTo>
                      <a:pt x="248" y="0"/>
                    </a:moveTo>
                    <a:lnTo>
                      <a:pt x="203" y="580"/>
                    </a:lnTo>
                    <a:lnTo>
                      <a:pt x="135" y="588"/>
                    </a:lnTo>
                    <a:lnTo>
                      <a:pt x="67" y="594"/>
                    </a:lnTo>
                    <a:lnTo>
                      <a:pt x="0" y="599"/>
                    </a:lnTo>
                    <a:lnTo>
                      <a:pt x="39" y="20"/>
                    </a:lnTo>
                    <a:lnTo>
                      <a:pt x="108" y="15"/>
                    </a:lnTo>
                    <a:lnTo>
                      <a:pt x="178" y="8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738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657680" y="35002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245" h="592">
                    <a:moveTo>
                      <a:pt x="245" y="0"/>
                    </a:moveTo>
                    <a:lnTo>
                      <a:pt x="206" y="579"/>
                    </a:lnTo>
                    <a:lnTo>
                      <a:pt x="137" y="585"/>
                    </a:lnTo>
                    <a:lnTo>
                      <a:pt x="68" y="589"/>
                    </a:lnTo>
                    <a:lnTo>
                      <a:pt x="0" y="592"/>
                    </a:lnTo>
                    <a:lnTo>
                      <a:pt x="32" y="13"/>
                    </a:lnTo>
                    <a:lnTo>
                      <a:pt x="104" y="10"/>
                    </a:lnTo>
                    <a:lnTo>
                      <a:pt x="174" y="5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6f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4630680" y="35002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243" h="584">
                    <a:moveTo>
                      <a:pt x="243" y="0"/>
                    </a:moveTo>
                    <a:lnTo>
                      <a:pt x="211" y="579"/>
                    </a:lnTo>
                    <a:lnTo>
                      <a:pt x="141" y="581"/>
                    </a:lnTo>
                    <a:lnTo>
                      <a:pt x="71" y="583"/>
                    </a:lnTo>
                    <a:lnTo>
                      <a:pt x="0" y="584"/>
                    </a:lnTo>
                    <a:lnTo>
                      <a:pt x="28" y="5"/>
                    </a:lnTo>
                    <a:lnTo>
                      <a:pt x="100" y="5"/>
                    </a:lnTo>
                    <a:lnTo>
                      <a:pt x="172" y="3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6b78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4613400" y="3500280"/>
                <a:ext cx="20520" cy="55800"/>
              </a:xfrm>
              <a:custGeom>
                <a:avLst/>
                <a:gdLst/>
                <a:ahLst/>
                <a:rect l="l" t="t" r="r" b="b"/>
                <a:pathLst>
                  <a:path w="169" h="579">
                    <a:moveTo>
                      <a:pt x="169" y="0"/>
                    </a:moveTo>
                    <a:lnTo>
                      <a:pt x="141" y="579"/>
                    </a:lnTo>
                    <a:lnTo>
                      <a:pt x="71" y="579"/>
                    </a:lnTo>
                    <a:lnTo>
                      <a:pt x="0" y="578"/>
                    </a:lnTo>
                    <a:lnTo>
                      <a:pt x="22" y="0"/>
                    </a:lnTo>
                    <a:lnTo>
                      <a:pt x="96" y="1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667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4562640" y="3498840"/>
                <a:ext cx="53640" cy="57240"/>
              </a:xfrm>
              <a:custGeom>
                <a:avLst/>
                <a:gdLst/>
                <a:ahLst/>
                <a:rect l="l" t="t" r="r" b="b"/>
                <a:pathLst>
                  <a:path w="412" h="607">
                    <a:moveTo>
                      <a:pt x="412" y="29"/>
                    </a:moveTo>
                    <a:lnTo>
                      <a:pt x="390" y="607"/>
                    </a:lnTo>
                    <a:lnTo>
                      <a:pt x="0" y="579"/>
                    </a:lnTo>
                    <a:lnTo>
                      <a:pt x="11" y="0"/>
                    </a:lnTo>
                    <a:lnTo>
                      <a:pt x="412" y="29"/>
                    </a:lnTo>
                    <a:close/>
                  </a:path>
                </a:pathLst>
              </a:custGeom>
              <a:solidFill>
                <a:srgbClr val="5c6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537080" y="3497400"/>
                <a:ext cx="27000" cy="55440"/>
              </a:xfrm>
              <a:custGeom>
                <a:avLst/>
                <a:gdLst/>
                <a:ahLst/>
                <a:rect l="l" t="t" r="r" b="b"/>
                <a:pathLst>
                  <a:path w="208" h="609">
                    <a:moveTo>
                      <a:pt x="208" y="30"/>
                    </a:moveTo>
                    <a:lnTo>
                      <a:pt x="197" y="609"/>
                    </a:lnTo>
                    <a:lnTo>
                      <a:pt x="99" y="595"/>
                    </a:lnTo>
                    <a:lnTo>
                      <a:pt x="0" y="581"/>
                    </a:lnTo>
                    <a:lnTo>
                      <a:pt x="6" y="0"/>
                    </a:lnTo>
                    <a:lnTo>
                      <a:pt x="107" y="16"/>
                    </a:lnTo>
                    <a:lnTo>
                      <a:pt x="208" y="30"/>
                    </a:lnTo>
                    <a:close/>
                  </a:path>
                </a:pathLst>
              </a:custGeom>
              <a:solidFill>
                <a:srgbClr val="50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4511520" y="349236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202" h="618">
                    <a:moveTo>
                      <a:pt x="202" y="37"/>
                    </a:moveTo>
                    <a:lnTo>
                      <a:pt x="196" y="618"/>
                    </a:lnTo>
                    <a:lnTo>
                      <a:pt x="99" y="600"/>
                    </a:lnTo>
                    <a:lnTo>
                      <a:pt x="0" y="581"/>
                    </a:lnTo>
                    <a:lnTo>
                      <a:pt x="0" y="0"/>
                    </a:lnTo>
                    <a:lnTo>
                      <a:pt x="101" y="19"/>
                    </a:lnTo>
                    <a:lnTo>
                      <a:pt x="202" y="3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4486320" y="3489480"/>
                <a:ext cx="25200" cy="58680"/>
              </a:xfrm>
              <a:custGeom>
                <a:avLst/>
                <a:gdLst/>
                <a:ahLst/>
                <a:rect l="l" t="t" r="r" b="b"/>
                <a:pathLst>
                  <a:path w="201" h="626">
                    <a:moveTo>
                      <a:pt x="201" y="45"/>
                    </a:moveTo>
                    <a:lnTo>
                      <a:pt x="201" y="626"/>
                    </a:lnTo>
                    <a:lnTo>
                      <a:pt x="104" y="605"/>
                    </a:lnTo>
                    <a:lnTo>
                      <a:pt x="8" y="584"/>
                    </a:lnTo>
                    <a:lnTo>
                      <a:pt x="0" y="0"/>
                    </a:lnTo>
                    <a:lnTo>
                      <a:pt x="101" y="24"/>
                    </a:lnTo>
                    <a:lnTo>
                      <a:pt x="201" y="45"/>
                    </a:lnTo>
                    <a:close/>
                  </a:path>
                </a:pathLst>
              </a:custGeom>
              <a:solidFill>
                <a:srgbClr val="414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4462560" y="3483000"/>
                <a:ext cx="23760" cy="60480"/>
              </a:xfrm>
              <a:custGeom>
                <a:avLst/>
                <a:gdLst/>
                <a:ahLst/>
                <a:rect l="l" t="t" r="r" b="b"/>
                <a:pathLst>
                  <a:path w="206" h="635">
                    <a:moveTo>
                      <a:pt x="198" y="51"/>
                    </a:moveTo>
                    <a:lnTo>
                      <a:pt x="206" y="635"/>
                    </a:lnTo>
                    <a:lnTo>
                      <a:pt x="108" y="610"/>
                    </a:lnTo>
                    <a:lnTo>
                      <a:pt x="13" y="584"/>
                    </a:lnTo>
                    <a:lnTo>
                      <a:pt x="0" y="0"/>
                    </a:lnTo>
                    <a:lnTo>
                      <a:pt x="99" y="26"/>
                    </a:lnTo>
                    <a:lnTo>
                      <a:pt x="198" y="51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4437000" y="347832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207" h="644">
                    <a:moveTo>
                      <a:pt x="194" y="60"/>
                    </a:moveTo>
                    <a:lnTo>
                      <a:pt x="207" y="644"/>
                    </a:lnTo>
                    <a:lnTo>
                      <a:pt x="111" y="615"/>
                    </a:lnTo>
                    <a:lnTo>
                      <a:pt x="17" y="586"/>
                    </a:lnTo>
                    <a:lnTo>
                      <a:pt x="0" y="0"/>
                    </a:lnTo>
                    <a:lnTo>
                      <a:pt x="97" y="31"/>
                    </a:lnTo>
                    <a:lnTo>
                      <a:pt x="194" y="60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411800" y="347184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210" h="654">
                    <a:moveTo>
                      <a:pt x="193" y="68"/>
                    </a:moveTo>
                    <a:lnTo>
                      <a:pt x="210" y="654"/>
                    </a:lnTo>
                    <a:lnTo>
                      <a:pt x="117" y="622"/>
                    </a:lnTo>
                    <a:lnTo>
                      <a:pt x="23" y="588"/>
                    </a:lnTo>
                    <a:lnTo>
                      <a:pt x="0" y="0"/>
                    </a:lnTo>
                    <a:lnTo>
                      <a:pt x="96" y="36"/>
                    </a:lnTo>
                    <a:lnTo>
                      <a:pt x="193" y="68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387680" y="346536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211" h="664">
                    <a:moveTo>
                      <a:pt x="188" y="76"/>
                    </a:moveTo>
                    <a:lnTo>
                      <a:pt x="211" y="664"/>
                    </a:lnTo>
                    <a:lnTo>
                      <a:pt x="120" y="628"/>
                    </a:lnTo>
                    <a:lnTo>
                      <a:pt x="29" y="590"/>
                    </a:lnTo>
                    <a:lnTo>
                      <a:pt x="0" y="0"/>
                    </a:lnTo>
                    <a:lnTo>
                      <a:pt x="94" y="40"/>
                    </a:lnTo>
                    <a:lnTo>
                      <a:pt x="188" y="76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363920" y="3457440"/>
                <a:ext cx="27000" cy="63720"/>
              </a:xfrm>
              <a:custGeom>
                <a:avLst/>
                <a:gdLst/>
                <a:ahLst/>
                <a:rect l="l" t="t" r="r" b="b"/>
                <a:pathLst>
                  <a:path w="212" h="674">
                    <a:moveTo>
                      <a:pt x="183" y="84"/>
                    </a:moveTo>
                    <a:lnTo>
                      <a:pt x="212" y="674"/>
                    </a:lnTo>
                    <a:lnTo>
                      <a:pt x="123" y="634"/>
                    </a:lnTo>
                    <a:lnTo>
                      <a:pt x="33" y="591"/>
                    </a:lnTo>
                    <a:lnTo>
                      <a:pt x="0" y="0"/>
                    </a:lnTo>
                    <a:lnTo>
                      <a:pt x="91" y="43"/>
                    </a:lnTo>
                    <a:lnTo>
                      <a:pt x="183" y="84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341960" y="344808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212" h="686">
                    <a:moveTo>
                      <a:pt x="179" y="95"/>
                    </a:moveTo>
                    <a:lnTo>
                      <a:pt x="212" y="686"/>
                    </a:lnTo>
                    <a:lnTo>
                      <a:pt x="125" y="642"/>
                    </a:lnTo>
                    <a:lnTo>
                      <a:pt x="39" y="595"/>
                    </a:lnTo>
                    <a:lnTo>
                      <a:pt x="0" y="0"/>
                    </a:lnTo>
                    <a:lnTo>
                      <a:pt x="89" y="48"/>
                    </a:lnTo>
                    <a:lnTo>
                      <a:pt x="179" y="95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319640" y="343836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211" h="698">
                    <a:moveTo>
                      <a:pt x="172" y="103"/>
                    </a:moveTo>
                    <a:lnTo>
                      <a:pt x="211" y="698"/>
                    </a:lnTo>
                    <a:lnTo>
                      <a:pt x="127" y="649"/>
                    </a:lnTo>
                    <a:lnTo>
                      <a:pt x="44" y="598"/>
                    </a:lnTo>
                    <a:lnTo>
                      <a:pt x="0" y="0"/>
                    </a:lnTo>
                    <a:lnTo>
                      <a:pt x="86" y="53"/>
                    </a:lnTo>
                    <a:lnTo>
                      <a:pt x="172" y="10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297320" y="3429000"/>
                <a:ext cx="27000" cy="66600"/>
              </a:xfrm>
              <a:custGeom>
                <a:avLst/>
                <a:gdLst/>
                <a:ahLst/>
                <a:rect l="l" t="t" r="r" b="b"/>
                <a:pathLst>
                  <a:path w="210" h="710">
                    <a:moveTo>
                      <a:pt x="166" y="112"/>
                    </a:moveTo>
                    <a:lnTo>
                      <a:pt x="210" y="710"/>
                    </a:lnTo>
                    <a:lnTo>
                      <a:pt x="129" y="656"/>
                    </a:lnTo>
                    <a:lnTo>
                      <a:pt x="49" y="599"/>
                    </a:lnTo>
                    <a:lnTo>
                      <a:pt x="0" y="0"/>
                    </a:lnTo>
                    <a:lnTo>
                      <a:pt x="82" y="57"/>
                    </a:lnTo>
                    <a:lnTo>
                      <a:pt x="166" y="112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4276800" y="341784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208" h="722">
                    <a:moveTo>
                      <a:pt x="159" y="123"/>
                    </a:moveTo>
                    <a:lnTo>
                      <a:pt x="208" y="722"/>
                    </a:lnTo>
                    <a:lnTo>
                      <a:pt x="130" y="664"/>
                    </a:lnTo>
                    <a:lnTo>
                      <a:pt x="53" y="604"/>
                    </a:lnTo>
                    <a:lnTo>
                      <a:pt x="0" y="0"/>
                    </a:lnTo>
                    <a:lnTo>
                      <a:pt x="79" y="62"/>
                    </a:lnTo>
                    <a:lnTo>
                      <a:pt x="159" y="12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4257720" y="3405240"/>
                <a:ext cx="25200" cy="68040"/>
              </a:xfrm>
              <a:custGeom>
                <a:avLst/>
                <a:gdLst/>
                <a:ahLst/>
                <a:rect l="l" t="t" r="r" b="b"/>
                <a:pathLst>
                  <a:path w="205" h="737">
                    <a:moveTo>
                      <a:pt x="152" y="133"/>
                    </a:moveTo>
                    <a:lnTo>
                      <a:pt x="205" y="737"/>
                    </a:lnTo>
                    <a:lnTo>
                      <a:pt x="130" y="673"/>
                    </a:lnTo>
                    <a:lnTo>
                      <a:pt x="57" y="608"/>
                    </a:lnTo>
                    <a:lnTo>
                      <a:pt x="0" y="0"/>
                    </a:lnTo>
                    <a:lnTo>
                      <a:pt x="75" y="68"/>
                    </a:lnTo>
                    <a:lnTo>
                      <a:pt x="152" y="13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4238640" y="339264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201" h="751">
                    <a:moveTo>
                      <a:pt x="144" y="143"/>
                    </a:moveTo>
                    <a:lnTo>
                      <a:pt x="201" y="751"/>
                    </a:lnTo>
                    <a:lnTo>
                      <a:pt x="132" y="682"/>
                    </a:lnTo>
                    <a:lnTo>
                      <a:pt x="63" y="611"/>
                    </a:lnTo>
                    <a:lnTo>
                      <a:pt x="0" y="0"/>
                    </a:lnTo>
                    <a:lnTo>
                      <a:pt x="71" y="73"/>
                    </a:lnTo>
                    <a:lnTo>
                      <a:pt x="144" y="143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222800" y="3378240"/>
                <a:ext cx="25200" cy="69840"/>
              </a:xfrm>
              <a:custGeom>
                <a:avLst/>
                <a:gdLst/>
                <a:ahLst/>
                <a:rect l="l" t="t" r="r" b="b"/>
                <a:pathLst>
                  <a:path w="197" h="764">
                    <a:moveTo>
                      <a:pt x="134" y="153"/>
                    </a:moveTo>
                    <a:lnTo>
                      <a:pt x="197" y="764"/>
                    </a:lnTo>
                    <a:lnTo>
                      <a:pt x="130" y="691"/>
                    </a:lnTo>
                    <a:lnTo>
                      <a:pt x="66" y="615"/>
                    </a:lnTo>
                    <a:lnTo>
                      <a:pt x="0" y="0"/>
                    </a:lnTo>
                    <a:lnTo>
                      <a:pt x="67" y="78"/>
                    </a:lnTo>
                    <a:lnTo>
                      <a:pt x="134" y="153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206960" y="3363840"/>
                <a:ext cx="22320" cy="71640"/>
              </a:xfrm>
              <a:custGeom>
                <a:avLst/>
                <a:gdLst/>
                <a:ahLst/>
                <a:rect l="l" t="t" r="r" b="b"/>
                <a:pathLst>
                  <a:path w="191" h="780">
                    <a:moveTo>
                      <a:pt x="125" y="165"/>
                    </a:moveTo>
                    <a:lnTo>
                      <a:pt x="191" y="780"/>
                    </a:lnTo>
                    <a:lnTo>
                      <a:pt x="129" y="701"/>
                    </a:lnTo>
                    <a:lnTo>
                      <a:pt x="70" y="620"/>
                    </a:lnTo>
                    <a:lnTo>
                      <a:pt x="0" y="0"/>
                    </a:lnTo>
                    <a:lnTo>
                      <a:pt x="62" y="83"/>
                    </a:lnTo>
                    <a:lnTo>
                      <a:pt x="125" y="165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4183200" y="3360600"/>
                <a:ext cx="31680" cy="59040"/>
              </a:xfrm>
              <a:custGeom>
                <a:avLst/>
                <a:gdLst/>
                <a:ahLst/>
                <a:rect l="l" t="t" r="r" b="b"/>
                <a:pathLst>
                  <a:path w="250" h="643">
                    <a:moveTo>
                      <a:pt x="180" y="23"/>
                    </a:moveTo>
                    <a:lnTo>
                      <a:pt x="250" y="643"/>
                    </a:lnTo>
                    <a:lnTo>
                      <a:pt x="162" y="632"/>
                    </a:lnTo>
                    <a:lnTo>
                      <a:pt x="73" y="621"/>
                    </a:lnTo>
                    <a:lnTo>
                      <a:pt x="0" y="0"/>
                    </a:lnTo>
                    <a:lnTo>
                      <a:pt x="90" y="13"/>
                    </a:lnTo>
                    <a:lnTo>
                      <a:pt x="180" y="23"/>
                    </a:lnTo>
                    <a:close/>
                  </a:path>
                </a:pathLst>
              </a:custGeom>
              <a:solidFill>
                <a:srgbClr val="535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59080" y="335772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54" h="650">
                    <a:moveTo>
                      <a:pt x="181" y="29"/>
                    </a:moveTo>
                    <a:lnTo>
                      <a:pt x="254" y="650"/>
                    </a:lnTo>
                    <a:lnTo>
                      <a:pt x="167" y="636"/>
                    </a:lnTo>
                    <a:lnTo>
                      <a:pt x="80" y="621"/>
                    </a:lnTo>
                    <a:lnTo>
                      <a:pt x="0" y="0"/>
                    </a:lnTo>
                    <a:lnTo>
                      <a:pt x="90" y="16"/>
                    </a:lnTo>
                    <a:lnTo>
                      <a:pt x="181" y="29"/>
                    </a:lnTo>
                    <a:close/>
                  </a:path>
                </a:pathLst>
              </a:custGeom>
              <a:solidFill>
                <a:srgbClr val="4c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135320" y="335592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258" h="656">
                    <a:moveTo>
                      <a:pt x="178" y="35"/>
                    </a:moveTo>
                    <a:lnTo>
                      <a:pt x="258" y="656"/>
                    </a:lnTo>
                    <a:lnTo>
                      <a:pt x="171" y="639"/>
                    </a:lnTo>
                    <a:lnTo>
                      <a:pt x="85" y="621"/>
                    </a:lnTo>
                    <a:lnTo>
                      <a:pt x="0" y="0"/>
                    </a:lnTo>
                    <a:lnTo>
                      <a:pt x="89" y="18"/>
                    </a:lnTo>
                    <a:lnTo>
                      <a:pt x="178" y="35"/>
                    </a:lnTo>
                    <a:close/>
                  </a:path>
                </a:pathLst>
              </a:custGeom>
              <a:solidFill>
                <a:srgbClr val="454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114800" y="3349800"/>
                <a:ext cx="31680" cy="61560"/>
              </a:xfrm>
              <a:custGeom>
                <a:avLst/>
                <a:gdLst/>
                <a:ahLst/>
                <a:rect l="l" t="t" r="r" b="b"/>
                <a:pathLst>
                  <a:path w="262" h="665">
                    <a:moveTo>
                      <a:pt x="177" y="44"/>
                    </a:moveTo>
                    <a:lnTo>
                      <a:pt x="262" y="665"/>
                    </a:lnTo>
                    <a:lnTo>
                      <a:pt x="176" y="646"/>
                    </a:lnTo>
                    <a:lnTo>
                      <a:pt x="89" y="624"/>
                    </a:lnTo>
                    <a:lnTo>
                      <a:pt x="0" y="0"/>
                    </a:lnTo>
                    <a:lnTo>
                      <a:pt x="88" y="23"/>
                    </a:lnTo>
                    <a:lnTo>
                      <a:pt x="177" y="44"/>
                    </a:lnTo>
                    <a:close/>
                  </a:path>
                </a:pathLst>
              </a:custGeom>
              <a:solidFill>
                <a:srgbClr val="3c39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4091040" y="33465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264" h="673">
                    <a:moveTo>
                      <a:pt x="175" y="49"/>
                    </a:moveTo>
                    <a:lnTo>
                      <a:pt x="264" y="673"/>
                    </a:lnTo>
                    <a:lnTo>
                      <a:pt x="179" y="649"/>
                    </a:lnTo>
                    <a:lnTo>
                      <a:pt x="95" y="624"/>
                    </a:lnTo>
                    <a:lnTo>
                      <a:pt x="0" y="0"/>
                    </a:lnTo>
                    <a:lnTo>
                      <a:pt x="87" y="25"/>
                    </a:lnTo>
                    <a:lnTo>
                      <a:pt x="175" y="4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4068720" y="334008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266" h="681">
                    <a:moveTo>
                      <a:pt x="171" y="57"/>
                    </a:moveTo>
                    <a:lnTo>
                      <a:pt x="266" y="681"/>
                    </a:lnTo>
                    <a:lnTo>
                      <a:pt x="182" y="654"/>
                    </a:lnTo>
                    <a:lnTo>
                      <a:pt x="99" y="625"/>
                    </a:lnTo>
                    <a:lnTo>
                      <a:pt x="0" y="0"/>
                    </a:lnTo>
                    <a:lnTo>
                      <a:pt x="85" y="29"/>
                    </a:lnTo>
                    <a:lnTo>
                      <a:pt x="171" y="57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4048200" y="3333600"/>
                <a:ext cx="33120" cy="65160"/>
              </a:xfrm>
              <a:custGeom>
                <a:avLst/>
                <a:gdLst/>
                <a:ahLst/>
                <a:rect l="l" t="t" r="r" b="b"/>
                <a:pathLst>
                  <a:path w="269" h="690">
                    <a:moveTo>
                      <a:pt x="170" y="65"/>
                    </a:moveTo>
                    <a:lnTo>
                      <a:pt x="269" y="690"/>
                    </a:lnTo>
                    <a:lnTo>
                      <a:pt x="187" y="660"/>
                    </a:lnTo>
                    <a:lnTo>
                      <a:pt x="105" y="628"/>
                    </a:lnTo>
                    <a:lnTo>
                      <a:pt x="0" y="0"/>
                    </a:lnTo>
                    <a:lnTo>
                      <a:pt x="84" y="33"/>
                    </a:lnTo>
                    <a:lnTo>
                      <a:pt x="170" y="65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4025880" y="3328920"/>
                <a:ext cx="34920" cy="63720"/>
              </a:xfrm>
              <a:custGeom>
                <a:avLst/>
                <a:gdLst/>
                <a:ahLst/>
                <a:rect l="l" t="t" r="r" b="b"/>
                <a:pathLst>
                  <a:path w="270" h="700">
                    <a:moveTo>
                      <a:pt x="165" y="72"/>
                    </a:moveTo>
                    <a:lnTo>
                      <a:pt x="270" y="700"/>
                    </a:lnTo>
                    <a:lnTo>
                      <a:pt x="190" y="666"/>
                    </a:lnTo>
                    <a:lnTo>
                      <a:pt x="110" y="629"/>
                    </a:lnTo>
                    <a:lnTo>
                      <a:pt x="0" y="0"/>
                    </a:lnTo>
                    <a:lnTo>
                      <a:pt x="82" y="37"/>
                    </a:lnTo>
                    <a:lnTo>
                      <a:pt x="165" y="72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4006800" y="3321000"/>
                <a:ext cx="33480" cy="65160"/>
              </a:xfrm>
              <a:custGeom>
                <a:avLst/>
                <a:gdLst/>
                <a:ahLst/>
                <a:rect l="l" t="t" r="r" b="b"/>
                <a:pathLst>
                  <a:path w="270" h="709">
                    <a:moveTo>
                      <a:pt x="160" y="80"/>
                    </a:moveTo>
                    <a:lnTo>
                      <a:pt x="270" y="709"/>
                    </a:lnTo>
                    <a:lnTo>
                      <a:pt x="191" y="672"/>
                    </a:lnTo>
                    <a:lnTo>
                      <a:pt x="114" y="632"/>
                    </a:lnTo>
                    <a:lnTo>
                      <a:pt x="0" y="0"/>
                    </a:lnTo>
                    <a:lnTo>
                      <a:pt x="80" y="41"/>
                    </a:lnTo>
                    <a:lnTo>
                      <a:pt x="160" y="80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984480" y="331308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270" h="719">
                    <a:moveTo>
                      <a:pt x="156" y="87"/>
                    </a:moveTo>
                    <a:lnTo>
                      <a:pt x="270" y="719"/>
                    </a:lnTo>
                    <a:lnTo>
                      <a:pt x="193" y="677"/>
                    </a:lnTo>
                    <a:lnTo>
                      <a:pt x="118" y="634"/>
                    </a:lnTo>
                    <a:lnTo>
                      <a:pt x="0" y="0"/>
                    </a:lnTo>
                    <a:lnTo>
                      <a:pt x="77" y="44"/>
                    </a:lnTo>
                    <a:lnTo>
                      <a:pt x="156" y="87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967200" y="3303720"/>
                <a:ext cx="33480" cy="66600"/>
              </a:xfrm>
              <a:custGeom>
                <a:avLst/>
                <a:gdLst/>
                <a:ahLst/>
                <a:rect l="l" t="t" r="r" b="b"/>
                <a:pathLst>
                  <a:path w="268" h="730">
                    <a:moveTo>
                      <a:pt x="150" y="96"/>
                    </a:moveTo>
                    <a:lnTo>
                      <a:pt x="268" y="730"/>
                    </a:lnTo>
                    <a:lnTo>
                      <a:pt x="195" y="684"/>
                    </a:lnTo>
                    <a:lnTo>
                      <a:pt x="122" y="636"/>
                    </a:lnTo>
                    <a:lnTo>
                      <a:pt x="0" y="0"/>
                    </a:lnTo>
                    <a:lnTo>
                      <a:pt x="75" y="49"/>
                    </a:lnTo>
                    <a:lnTo>
                      <a:pt x="150" y="96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946680" y="3294000"/>
                <a:ext cx="34920" cy="69840"/>
              </a:xfrm>
              <a:custGeom>
                <a:avLst/>
                <a:gdLst/>
                <a:ahLst/>
                <a:rect l="l" t="t" r="r" b="b"/>
                <a:pathLst>
                  <a:path w="268" h="740">
                    <a:moveTo>
                      <a:pt x="146" y="104"/>
                    </a:moveTo>
                    <a:lnTo>
                      <a:pt x="268" y="740"/>
                    </a:lnTo>
                    <a:lnTo>
                      <a:pt x="197" y="691"/>
                    </a:lnTo>
                    <a:lnTo>
                      <a:pt x="127" y="639"/>
                    </a:lnTo>
                    <a:lnTo>
                      <a:pt x="0" y="0"/>
                    </a:lnTo>
                    <a:lnTo>
                      <a:pt x="72" y="53"/>
                    </a:lnTo>
                    <a:lnTo>
                      <a:pt x="146" y="104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3929040" y="328464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265" h="752">
                    <a:moveTo>
                      <a:pt x="138" y="113"/>
                    </a:moveTo>
                    <a:lnTo>
                      <a:pt x="265" y="752"/>
                    </a:lnTo>
                    <a:lnTo>
                      <a:pt x="198" y="699"/>
                    </a:lnTo>
                    <a:lnTo>
                      <a:pt x="131" y="643"/>
                    </a:lnTo>
                    <a:lnTo>
                      <a:pt x="0" y="0"/>
                    </a:lnTo>
                    <a:lnTo>
                      <a:pt x="68" y="57"/>
                    </a:lnTo>
                    <a:lnTo>
                      <a:pt x="138" y="11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913200" y="3271680"/>
                <a:ext cx="33480" cy="71640"/>
              </a:xfrm>
              <a:custGeom>
                <a:avLst/>
                <a:gdLst/>
                <a:ahLst/>
                <a:rect l="l" t="t" r="r" b="b"/>
                <a:pathLst>
                  <a:path w="263" h="764">
                    <a:moveTo>
                      <a:pt x="132" y="121"/>
                    </a:moveTo>
                    <a:lnTo>
                      <a:pt x="263" y="764"/>
                    </a:lnTo>
                    <a:lnTo>
                      <a:pt x="197" y="706"/>
                    </a:lnTo>
                    <a:lnTo>
                      <a:pt x="135" y="646"/>
                    </a:lnTo>
                    <a:lnTo>
                      <a:pt x="0" y="0"/>
                    </a:lnTo>
                    <a:lnTo>
                      <a:pt x="65" y="62"/>
                    </a:lnTo>
                    <a:lnTo>
                      <a:pt x="132" y="121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897360" y="3260880"/>
                <a:ext cx="33120" cy="71280"/>
              </a:xfrm>
              <a:custGeom>
                <a:avLst/>
                <a:gdLst/>
                <a:ahLst/>
                <a:rect l="l" t="t" r="r" b="b"/>
                <a:pathLst>
                  <a:path w="260" h="776">
                    <a:moveTo>
                      <a:pt x="125" y="130"/>
                    </a:moveTo>
                    <a:lnTo>
                      <a:pt x="260" y="776"/>
                    </a:lnTo>
                    <a:lnTo>
                      <a:pt x="198" y="713"/>
                    </a:lnTo>
                    <a:lnTo>
                      <a:pt x="139" y="650"/>
                    </a:lnTo>
                    <a:lnTo>
                      <a:pt x="0" y="0"/>
                    </a:lnTo>
                    <a:lnTo>
                      <a:pt x="62" y="67"/>
                    </a:lnTo>
                    <a:lnTo>
                      <a:pt x="125" y="130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882960" y="3246480"/>
                <a:ext cx="31680" cy="74520"/>
              </a:xfrm>
              <a:custGeom>
                <a:avLst/>
                <a:gdLst/>
                <a:ahLst/>
                <a:rect l="l" t="t" r="r" b="b"/>
                <a:pathLst>
                  <a:path w="256" h="788">
                    <a:moveTo>
                      <a:pt x="117" y="138"/>
                    </a:moveTo>
                    <a:lnTo>
                      <a:pt x="256" y="788"/>
                    </a:lnTo>
                    <a:lnTo>
                      <a:pt x="197" y="721"/>
                    </a:lnTo>
                    <a:lnTo>
                      <a:pt x="142" y="653"/>
                    </a:lnTo>
                    <a:lnTo>
                      <a:pt x="0" y="0"/>
                    </a:lnTo>
                    <a:lnTo>
                      <a:pt x="58" y="70"/>
                    </a:lnTo>
                    <a:lnTo>
                      <a:pt x="117" y="138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814920" y="3139920"/>
                <a:ext cx="41040" cy="63720"/>
              </a:xfrm>
              <a:custGeom>
                <a:avLst/>
                <a:gdLst/>
                <a:ahLst/>
                <a:rect l="l" t="t" r="r" b="b"/>
                <a:pathLst>
                  <a:path w="332" h="686">
                    <a:moveTo>
                      <a:pt x="182" y="0"/>
                    </a:moveTo>
                    <a:lnTo>
                      <a:pt x="332" y="684"/>
                    </a:lnTo>
                    <a:lnTo>
                      <a:pt x="244" y="686"/>
                    </a:lnTo>
                    <a:lnTo>
                      <a:pt x="156" y="685"/>
                    </a:lnTo>
                    <a:lnTo>
                      <a:pt x="0" y="0"/>
                    </a:lnTo>
                    <a:lnTo>
                      <a:pt x="91" y="1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667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790800" y="313992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336" h="694">
                    <a:moveTo>
                      <a:pt x="180" y="9"/>
                    </a:moveTo>
                    <a:lnTo>
                      <a:pt x="336" y="694"/>
                    </a:lnTo>
                    <a:lnTo>
                      <a:pt x="249" y="689"/>
                    </a:lnTo>
                    <a:lnTo>
                      <a:pt x="161" y="684"/>
                    </a:lnTo>
                    <a:lnTo>
                      <a:pt x="0" y="0"/>
                    </a:lnTo>
                    <a:lnTo>
                      <a:pt x="90" y="6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5f6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767040" y="3138480"/>
                <a:ext cx="42840" cy="63360"/>
              </a:xfrm>
              <a:custGeom>
                <a:avLst/>
                <a:gdLst/>
                <a:ahLst/>
                <a:rect l="l" t="t" r="r" b="b"/>
                <a:pathLst>
                  <a:path w="341" h="704">
                    <a:moveTo>
                      <a:pt x="180" y="20"/>
                    </a:moveTo>
                    <a:lnTo>
                      <a:pt x="341" y="704"/>
                    </a:lnTo>
                    <a:lnTo>
                      <a:pt x="253" y="696"/>
                    </a:lnTo>
                    <a:lnTo>
                      <a:pt x="166" y="685"/>
                    </a:lnTo>
                    <a:lnTo>
                      <a:pt x="0" y="0"/>
                    </a:lnTo>
                    <a:lnTo>
                      <a:pt x="89" y="12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555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3743280" y="313380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343" h="713">
                    <a:moveTo>
                      <a:pt x="177" y="28"/>
                    </a:moveTo>
                    <a:lnTo>
                      <a:pt x="343" y="713"/>
                    </a:lnTo>
                    <a:lnTo>
                      <a:pt x="257" y="700"/>
                    </a:lnTo>
                    <a:lnTo>
                      <a:pt x="171" y="685"/>
                    </a:lnTo>
                    <a:lnTo>
                      <a:pt x="0" y="0"/>
                    </a:lnTo>
                    <a:lnTo>
                      <a:pt x="88" y="16"/>
                    </a:lnTo>
                    <a:lnTo>
                      <a:pt x="177" y="28"/>
                    </a:lnTo>
                    <a:close/>
                  </a:path>
                </a:pathLst>
              </a:custGeom>
              <a:solidFill>
                <a:srgbClr val="4c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3722760" y="3132000"/>
                <a:ext cx="42840" cy="66960"/>
              </a:xfrm>
              <a:custGeom>
                <a:avLst/>
                <a:gdLst/>
                <a:ahLst/>
                <a:rect l="l" t="t" r="r" b="b"/>
                <a:pathLst>
                  <a:path w="345" h="724">
                    <a:moveTo>
                      <a:pt x="174" y="39"/>
                    </a:moveTo>
                    <a:lnTo>
                      <a:pt x="345" y="724"/>
                    </a:lnTo>
                    <a:lnTo>
                      <a:pt x="261" y="707"/>
                    </a:lnTo>
                    <a:lnTo>
                      <a:pt x="177" y="686"/>
                    </a:lnTo>
                    <a:lnTo>
                      <a:pt x="0" y="0"/>
                    </a:lnTo>
                    <a:lnTo>
                      <a:pt x="87" y="20"/>
                    </a:lnTo>
                    <a:lnTo>
                      <a:pt x="174" y="39"/>
                    </a:lnTo>
                    <a:close/>
                  </a:path>
                </a:pathLst>
              </a:custGeom>
              <a:solidFill>
                <a:srgbClr val="3f3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700440" y="312732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348" h="735">
                    <a:moveTo>
                      <a:pt x="171" y="49"/>
                    </a:moveTo>
                    <a:lnTo>
                      <a:pt x="348" y="735"/>
                    </a:lnTo>
                    <a:lnTo>
                      <a:pt x="264" y="712"/>
                    </a:lnTo>
                    <a:lnTo>
                      <a:pt x="182" y="687"/>
                    </a:lnTo>
                    <a:lnTo>
                      <a:pt x="0" y="0"/>
                    </a:lnTo>
                    <a:lnTo>
                      <a:pt x="85" y="26"/>
                    </a:lnTo>
                    <a:lnTo>
                      <a:pt x="171" y="4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679920" y="3121200"/>
                <a:ext cx="42840" cy="69840"/>
              </a:xfrm>
              <a:custGeom>
                <a:avLst/>
                <a:gdLst/>
                <a:ahLst/>
                <a:rect l="l" t="t" r="r" b="b"/>
                <a:pathLst>
                  <a:path w="347" h="747">
                    <a:moveTo>
                      <a:pt x="165" y="60"/>
                    </a:moveTo>
                    <a:lnTo>
                      <a:pt x="347" y="747"/>
                    </a:lnTo>
                    <a:lnTo>
                      <a:pt x="266" y="720"/>
                    </a:lnTo>
                    <a:lnTo>
                      <a:pt x="186" y="690"/>
                    </a:lnTo>
                    <a:lnTo>
                      <a:pt x="0" y="0"/>
                    </a:lnTo>
                    <a:lnTo>
                      <a:pt x="82" y="31"/>
                    </a:lnTo>
                    <a:lnTo>
                      <a:pt x="165" y="60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3657600" y="311472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347" h="759">
                    <a:moveTo>
                      <a:pt x="161" y="69"/>
                    </a:moveTo>
                    <a:lnTo>
                      <a:pt x="347" y="759"/>
                    </a:lnTo>
                    <a:lnTo>
                      <a:pt x="268" y="726"/>
                    </a:lnTo>
                    <a:lnTo>
                      <a:pt x="190" y="692"/>
                    </a:lnTo>
                    <a:lnTo>
                      <a:pt x="0" y="0"/>
                    </a:lnTo>
                    <a:lnTo>
                      <a:pt x="80" y="36"/>
                    </a:lnTo>
                    <a:lnTo>
                      <a:pt x="161" y="6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637080" y="310680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345" h="771">
                    <a:moveTo>
                      <a:pt x="155" y="79"/>
                    </a:moveTo>
                    <a:lnTo>
                      <a:pt x="345" y="771"/>
                    </a:lnTo>
                    <a:lnTo>
                      <a:pt x="269" y="734"/>
                    </a:lnTo>
                    <a:lnTo>
                      <a:pt x="195" y="693"/>
                    </a:lnTo>
                    <a:lnTo>
                      <a:pt x="0" y="0"/>
                    </a:lnTo>
                    <a:lnTo>
                      <a:pt x="76" y="4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3619440" y="309888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344" h="782">
                    <a:moveTo>
                      <a:pt x="149" y="89"/>
                    </a:moveTo>
                    <a:lnTo>
                      <a:pt x="344" y="782"/>
                    </a:lnTo>
                    <a:lnTo>
                      <a:pt x="270" y="740"/>
                    </a:lnTo>
                    <a:lnTo>
                      <a:pt x="199" y="695"/>
                    </a:lnTo>
                    <a:lnTo>
                      <a:pt x="0" y="0"/>
                    </a:lnTo>
                    <a:lnTo>
                      <a:pt x="73" y="46"/>
                    </a:lnTo>
                    <a:lnTo>
                      <a:pt x="149" y="89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600360" y="3089160"/>
                <a:ext cx="44640" cy="74880"/>
              </a:xfrm>
              <a:custGeom>
                <a:avLst/>
                <a:gdLst/>
                <a:ahLst/>
                <a:rect l="l" t="t" r="r" b="b"/>
                <a:pathLst>
                  <a:path w="340" h="795">
                    <a:moveTo>
                      <a:pt x="141" y="100"/>
                    </a:moveTo>
                    <a:lnTo>
                      <a:pt x="340" y="795"/>
                    </a:lnTo>
                    <a:lnTo>
                      <a:pt x="271" y="748"/>
                    </a:lnTo>
                    <a:lnTo>
                      <a:pt x="203" y="698"/>
                    </a:lnTo>
                    <a:lnTo>
                      <a:pt x="0" y="0"/>
                    </a:lnTo>
                    <a:lnTo>
                      <a:pt x="70" y="51"/>
                    </a:lnTo>
                    <a:lnTo>
                      <a:pt x="141" y="100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583080" y="307980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336" h="809">
                    <a:moveTo>
                      <a:pt x="133" y="111"/>
                    </a:moveTo>
                    <a:lnTo>
                      <a:pt x="336" y="809"/>
                    </a:lnTo>
                    <a:lnTo>
                      <a:pt x="270" y="756"/>
                    </a:lnTo>
                    <a:lnTo>
                      <a:pt x="207" y="701"/>
                    </a:lnTo>
                    <a:lnTo>
                      <a:pt x="0" y="0"/>
                    </a:lnTo>
                    <a:lnTo>
                      <a:pt x="65" y="57"/>
                    </a:lnTo>
                    <a:lnTo>
                      <a:pt x="133" y="111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567240" y="3068640"/>
                <a:ext cx="42840" cy="76320"/>
              </a:xfrm>
              <a:custGeom>
                <a:avLst/>
                <a:gdLst/>
                <a:ahLst/>
                <a:rect l="l" t="t" r="r" b="b"/>
                <a:pathLst>
                  <a:path w="331" h="822">
                    <a:moveTo>
                      <a:pt x="124" y="121"/>
                    </a:moveTo>
                    <a:lnTo>
                      <a:pt x="331" y="822"/>
                    </a:lnTo>
                    <a:lnTo>
                      <a:pt x="269" y="764"/>
                    </a:lnTo>
                    <a:lnTo>
                      <a:pt x="210" y="705"/>
                    </a:lnTo>
                    <a:lnTo>
                      <a:pt x="0" y="0"/>
                    </a:lnTo>
                    <a:lnTo>
                      <a:pt x="60" y="62"/>
                    </a:lnTo>
                    <a:lnTo>
                      <a:pt x="124" y="121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552840" y="3057480"/>
                <a:ext cx="41400" cy="76320"/>
              </a:xfrm>
              <a:custGeom>
                <a:avLst/>
                <a:gdLst/>
                <a:ahLst/>
                <a:rect l="l" t="t" r="r" b="b"/>
                <a:pathLst>
                  <a:path w="325" h="837">
                    <a:moveTo>
                      <a:pt x="115" y="132"/>
                    </a:moveTo>
                    <a:lnTo>
                      <a:pt x="325" y="837"/>
                    </a:lnTo>
                    <a:lnTo>
                      <a:pt x="267" y="773"/>
                    </a:lnTo>
                    <a:lnTo>
                      <a:pt x="213" y="709"/>
                    </a:lnTo>
                    <a:lnTo>
                      <a:pt x="0" y="0"/>
                    </a:lnTo>
                    <a:lnTo>
                      <a:pt x="56" y="68"/>
                    </a:lnTo>
                    <a:lnTo>
                      <a:pt x="115" y="132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538440" y="3043080"/>
                <a:ext cx="41400" cy="79560"/>
              </a:xfrm>
              <a:custGeom>
                <a:avLst/>
                <a:gdLst/>
                <a:ahLst/>
                <a:rect l="l" t="t" r="r" b="b"/>
                <a:pathLst>
                  <a:path w="319" h="850">
                    <a:moveTo>
                      <a:pt x="106" y="141"/>
                    </a:moveTo>
                    <a:lnTo>
                      <a:pt x="319" y="850"/>
                    </a:lnTo>
                    <a:lnTo>
                      <a:pt x="267" y="781"/>
                    </a:lnTo>
                    <a:lnTo>
                      <a:pt x="216" y="711"/>
                    </a:lnTo>
                    <a:lnTo>
                      <a:pt x="0" y="0"/>
                    </a:lnTo>
                    <a:lnTo>
                      <a:pt x="51" y="72"/>
                    </a:lnTo>
                    <a:lnTo>
                      <a:pt x="106" y="141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3527280" y="3030480"/>
                <a:ext cx="39960" cy="79560"/>
              </a:xfrm>
              <a:custGeom>
                <a:avLst/>
                <a:gdLst/>
                <a:ahLst/>
                <a:rect l="l" t="t" r="r" b="b"/>
                <a:pathLst>
                  <a:path w="310" h="864">
                    <a:moveTo>
                      <a:pt x="94" y="153"/>
                    </a:moveTo>
                    <a:lnTo>
                      <a:pt x="310" y="864"/>
                    </a:lnTo>
                    <a:lnTo>
                      <a:pt x="263" y="791"/>
                    </a:lnTo>
                    <a:lnTo>
                      <a:pt x="219" y="715"/>
                    </a:lnTo>
                    <a:lnTo>
                      <a:pt x="0" y="0"/>
                    </a:lnTo>
                    <a:lnTo>
                      <a:pt x="46" y="78"/>
                    </a:lnTo>
                    <a:lnTo>
                      <a:pt x="94" y="153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835440" y="3139920"/>
                <a:ext cx="25200" cy="66960"/>
              </a:xfrm>
              <a:custGeom>
                <a:avLst/>
                <a:gdLst/>
                <a:ahLst/>
                <a:rect l="l" t="t" r="r" b="b"/>
                <a:pathLst>
                  <a:path w="187" h="722">
                    <a:moveTo>
                      <a:pt x="38" y="40"/>
                    </a:moveTo>
                    <a:lnTo>
                      <a:pt x="187" y="722"/>
                    </a:lnTo>
                    <a:lnTo>
                      <a:pt x="182" y="718"/>
                    </a:lnTo>
                    <a:lnTo>
                      <a:pt x="178" y="713"/>
                    </a:lnTo>
                    <a:lnTo>
                      <a:pt x="173" y="708"/>
                    </a:lnTo>
                    <a:lnTo>
                      <a:pt x="169" y="703"/>
                    </a:lnTo>
                    <a:lnTo>
                      <a:pt x="165" y="698"/>
                    </a:lnTo>
                    <a:lnTo>
                      <a:pt x="160" y="694"/>
                    </a:lnTo>
                    <a:lnTo>
                      <a:pt x="155" y="689"/>
                    </a:lnTo>
                    <a:lnTo>
                      <a:pt x="150" y="684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9" y="11"/>
                    </a:lnTo>
                    <a:lnTo>
                      <a:pt x="14" y="15"/>
                    </a:lnTo>
                    <a:lnTo>
                      <a:pt x="18" y="20"/>
                    </a:lnTo>
                    <a:lnTo>
                      <a:pt x="23" y="25"/>
                    </a:lnTo>
                    <a:lnTo>
                      <a:pt x="28" y="31"/>
                    </a:lnTo>
                    <a:lnTo>
                      <a:pt x="32" y="35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3868560" y="3233880"/>
                <a:ext cx="32040" cy="74520"/>
              </a:xfrm>
              <a:custGeom>
                <a:avLst/>
                <a:gdLst/>
                <a:ahLst/>
                <a:rect l="l" t="t" r="r" b="b"/>
                <a:pathLst>
                  <a:path w="246" h="814">
                    <a:moveTo>
                      <a:pt x="104" y="161"/>
                    </a:moveTo>
                    <a:lnTo>
                      <a:pt x="246" y="814"/>
                    </a:lnTo>
                    <a:lnTo>
                      <a:pt x="224" y="783"/>
                    </a:lnTo>
                    <a:lnTo>
                      <a:pt x="203" y="752"/>
                    </a:lnTo>
                    <a:lnTo>
                      <a:pt x="182" y="721"/>
                    </a:lnTo>
                    <a:lnTo>
                      <a:pt x="163" y="690"/>
                    </a:lnTo>
                    <a:lnTo>
                      <a:pt x="143" y="657"/>
                    </a:lnTo>
                    <a:lnTo>
                      <a:pt x="0" y="0"/>
                    </a:lnTo>
                    <a:lnTo>
                      <a:pt x="19" y="33"/>
                    </a:lnTo>
                    <a:lnTo>
                      <a:pt x="40" y="65"/>
                    </a:lnTo>
                    <a:lnTo>
                      <a:pt x="60" y="97"/>
                    </a:lnTo>
                    <a:lnTo>
                      <a:pt x="82" y="129"/>
                    </a:lnTo>
                    <a:lnTo>
                      <a:pt x="104" y="161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3857760" y="3218040"/>
                <a:ext cx="28440" cy="75960"/>
              </a:xfrm>
              <a:custGeom>
                <a:avLst/>
                <a:gdLst/>
                <a:ahLst/>
                <a:rect l="l" t="t" r="r" b="b"/>
                <a:pathLst>
                  <a:path w="232" h="822">
                    <a:moveTo>
                      <a:pt x="89" y="165"/>
                    </a:moveTo>
                    <a:lnTo>
                      <a:pt x="232" y="822"/>
                    </a:lnTo>
                    <a:lnTo>
                      <a:pt x="214" y="791"/>
                    </a:lnTo>
                    <a:lnTo>
                      <a:pt x="196" y="759"/>
                    </a:lnTo>
                    <a:lnTo>
                      <a:pt x="179" y="727"/>
                    </a:lnTo>
                    <a:lnTo>
                      <a:pt x="163" y="694"/>
                    </a:lnTo>
                    <a:lnTo>
                      <a:pt x="146" y="661"/>
                    </a:lnTo>
                    <a:lnTo>
                      <a:pt x="0" y="0"/>
                    </a:lnTo>
                    <a:lnTo>
                      <a:pt x="16" y="33"/>
                    </a:lnTo>
                    <a:lnTo>
                      <a:pt x="33" y="66"/>
                    </a:lnTo>
                    <a:lnTo>
                      <a:pt x="51" y="100"/>
                    </a:lnTo>
                    <a:lnTo>
                      <a:pt x="69" y="133"/>
                    </a:lnTo>
                    <a:lnTo>
                      <a:pt x="89" y="165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3846600" y="319896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226" h="869">
                    <a:moveTo>
                      <a:pt x="80" y="208"/>
                    </a:moveTo>
                    <a:lnTo>
                      <a:pt x="226" y="869"/>
                    </a:lnTo>
                    <a:lnTo>
                      <a:pt x="212" y="836"/>
                    </a:lnTo>
                    <a:lnTo>
                      <a:pt x="197" y="802"/>
                    </a:lnTo>
                    <a:lnTo>
                      <a:pt x="184" y="769"/>
                    </a:lnTo>
                    <a:lnTo>
                      <a:pt x="171" y="736"/>
                    </a:lnTo>
                    <a:lnTo>
                      <a:pt x="160" y="702"/>
                    </a:lnTo>
                    <a:lnTo>
                      <a:pt x="148" y="668"/>
                    </a:lnTo>
                    <a:lnTo>
                      <a:pt x="0" y="0"/>
                    </a:lnTo>
                    <a:lnTo>
                      <a:pt x="11" y="36"/>
                    </a:lnTo>
                    <a:lnTo>
                      <a:pt x="23" y="70"/>
                    </a:lnTo>
                    <a:lnTo>
                      <a:pt x="35" y="105"/>
                    </a:lnTo>
                    <a:lnTo>
                      <a:pt x="50" y="139"/>
                    </a:lnTo>
                    <a:lnTo>
                      <a:pt x="64" y="173"/>
                    </a:lnTo>
                    <a:lnTo>
                      <a:pt x="80" y="208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3843360" y="3189240"/>
                <a:ext cx="22320" cy="71640"/>
              </a:xfrm>
              <a:custGeom>
                <a:avLst/>
                <a:gdLst/>
                <a:ahLst/>
                <a:rect l="l" t="t" r="r" b="b"/>
                <a:pathLst>
                  <a:path w="177" h="774">
                    <a:moveTo>
                      <a:pt x="29" y="106"/>
                    </a:moveTo>
                    <a:lnTo>
                      <a:pt x="177" y="774"/>
                    </a:lnTo>
                    <a:lnTo>
                      <a:pt x="167" y="740"/>
                    </a:lnTo>
                    <a:lnTo>
                      <a:pt x="158" y="705"/>
                    </a:lnTo>
                    <a:lnTo>
                      <a:pt x="150" y="670"/>
                    </a:lnTo>
                    <a:lnTo>
                      <a:pt x="0" y="0"/>
                    </a:lnTo>
                    <a:lnTo>
                      <a:pt x="8" y="36"/>
                    </a:lnTo>
                    <a:lnTo>
                      <a:pt x="18" y="71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3519360" y="301464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289" h="872">
                    <a:moveTo>
                      <a:pt x="70" y="157"/>
                    </a:moveTo>
                    <a:lnTo>
                      <a:pt x="289" y="872"/>
                    </a:lnTo>
                    <a:lnTo>
                      <a:pt x="265" y="821"/>
                    </a:lnTo>
                    <a:lnTo>
                      <a:pt x="242" y="771"/>
                    </a:lnTo>
                    <a:lnTo>
                      <a:pt x="221" y="720"/>
                    </a:lnTo>
                    <a:lnTo>
                      <a:pt x="0" y="0"/>
                    </a:lnTo>
                    <a:lnTo>
                      <a:pt x="22" y="53"/>
                    </a:lnTo>
                    <a:lnTo>
                      <a:pt x="45" y="105"/>
                    </a:lnTo>
                    <a:lnTo>
                      <a:pt x="70" y="157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3511440" y="300024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274" h="875">
                    <a:moveTo>
                      <a:pt x="53" y="155"/>
                    </a:moveTo>
                    <a:lnTo>
                      <a:pt x="274" y="875"/>
                    </a:lnTo>
                    <a:lnTo>
                      <a:pt x="255" y="824"/>
                    </a:lnTo>
                    <a:lnTo>
                      <a:pt x="238" y="774"/>
                    </a:lnTo>
                    <a:lnTo>
                      <a:pt x="221" y="724"/>
                    </a:lnTo>
                    <a:lnTo>
                      <a:pt x="0" y="0"/>
                    </a:lnTo>
                    <a:lnTo>
                      <a:pt x="16" y="52"/>
                    </a:lnTo>
                    <a:lnTo>
                      <a:pt x="33" y="103"/>
                    </a:lnTo>
                    <a:lnTo>
                      <a:pt x="53" y="155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3753000" y="2771640"/>
                <a:ext cx="37800" cy="86040"/>
              </a:xfrm>
              <a:custGeom>
                <a:avLst/>
                <a:gdLst/>
                <a:ahLst/>
                <a:rect l="l" t="t" r="r" b="b"/>
                <a:pathLst>
                  <a:path w="289" h="914">
                    <a:moveTo>
                      <a:pt x="125" y="132"/>
                    </a:moveTo>
                    <a:lnTo>
                      <a:pt x="289" y="914"/>
                    </a:lnTo>
                    <a:lnTo>
                      <a:pt x="256" y="883"/>
                    </a:lnTo>
                    <a:lnTo>
                      <a:pt x="225" y="851"/>
                    </a:lnTo>
                    <a:lnTo>
                      <a:pt x="195" y="818"/>
                    </a:lnTo>
                    <a:lnTo>
                      <a:pt x="168" y="785"/>
                    </a:lnTo>
                    <a:lnTo>
                      <a:pt x="0" y="0"/>
                    </a:lnTo>
                    <a:lnTo>
                      <a:pt x="29" y="33"/>
                    </a:lnTo>
                    <a:lnTo>
                      <a:pt x="60" y="67"/>
                    </a:lnTo>
                    <a:lnTo>
                      <a:pt x="92" y="100"/>
                    </a:lnTo>
                    <a:lnTo>
                      <a:pt x="125" y="132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736800" y="2755800"/>
                <a:ext cx="38160" cy="88920"/>
              </a:xfrm>
              <a:custGeom>
                <a:avLst/>
                <a:gdLst/>
                <a:ahLst/>
                <a:rect l="l" t="t" r="r" b="b"/>
                <a:pathLst>
                  <a:path w="288" h="961">
                    <a:moveTo>
                      <a:pt x="120" y="176"/>
                    </a:moveTo>
                    <a:lnTo>
                      <a:pt x="288" y="961"/>
                    </a:lnTo>
                    <a:lnTo>
                      <a:pt x="261" y="928"/>
                    </a:lnTo>
                    <a:lnTo>
                      <a:pt x="236" y="894"/>
                    </a:lnTo>
                    <a:lnTo>
                      <a:pt x="213" y="860"/>
                    </a:lnTo>
                    <a:lnTo>
                      <a:pt x="191" y="826"/>
                    </a:lnTo>
                    <a:lnTo>
                      <a:pt x="171" y="790"/>
                    </a:lnTo>
                    <a:lnTo>
                      <a:pt x="0" y="0"/>
                    </a:lnTo>
                    <a:lnTo>
                      <a:pt x="21" y="36"/>
                    </a:lnTo>
                    <a:lnTo>
                      <a:pt x="43" y="72"/>
                    </a:lnTo>
                    <a:lnTo>
                      <a:pt x="68" y="107"/>
                    </a:lnTo>
                    <a:lnTo>
                      <a:pt x="94" y="141"/>
                    </a:lnTo>
                    <a:lnTo>
                      <a:pt x="120" y="176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727440" y="2738520"/>
                <a:ext cx="33480" cy="92160"/>
              </a:xfrm>
              <a:custGeom>
                <a:avLst/>
                <a:gdLst/>
                <a:ahLst/>
                <a:rect l="l" t="t" r="r" b="b"/>
                <a:pathLst>
                  <a:path w="252" h="978">
                    <a:moveTo>
                      <a:pt x="81" y="188"/>
                    </a:moveTo>
                    <a:lnTo>
                      <a:pt x="252" y="978"/>
                    </a:lnTo>
                    <a:lnTo>
                      <a:pt x="232" y="942"/>
                    </a:lnTo>
                    <a:lnTo>
                      <a:pt x="216" y="906"/>
                    </a:lnTo>
                    <a:lnTo>
                      <a:pt x="199" y="870"/>
                    </a:lnTo>
                    <a:lnTo>
                      <a:pt x="186" y="833"/>
                    </a:lnTo>
                    <a:lnTo>
                      <a:pt x="173" y="795"/>
                    </a:lnTo>
                    <a:lnTo>
                      <a:pt x="0" y="0"/>
                    </a:lnTo>
                    <a:lnTo>
                      <a:pt x="14" y="39"/>
                    </a:lnTo>
                    <a:lnTo>
                      <a:pt x="28" y="76"/>
                    </a:lnTo>
                    <a:lnTo>
                      <a:pt x="43" y="114"/>
                    </a:lnTo>
                    <a:lnTo>
                      <a:pt x="62" y="151"/>
                    </a:lnTo>
                    <a:lnTo>
                      <a:pt x="81" y="188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3724200" y="2730600"/>
                <a:ext cx="25560" cy="82440"/>
              </a:xfrm>
              <a:custGeom>
                <a:avLst/>
                <a:gdLst/>
                <a:ahLst/>
                <a:rect l="l" t="t" r="r" b="b"/>
                <a:pathLst>
                  <a:path w="193" h="873">
                    <a:moveTo>
                      <a:pt x="20" y="78"/>
                    </a:moveTo>
                    <a:lnTo>
                      <a:pt x="193" y="873"/>
                    </a:lnTo>
                    <a:lnTo>
                      <a:pt x="182" y="836"/>
                    </a:lnTo>
                    <a:lnTo>
                      <a:pt x="173" y="798"/>
                    </a:lnTo>
                    <a:lnTo>
                      <a:pt x="0" y="0"/>
                    </a:lnTo>
                    <a:lnTo>
                      <a:pt x="9" y="40"/>
                    </a:lnTo>
                    <a:lnTo>
                      <a:pt x="20" y="78"/>
                    </a:lnTo>
                    <a:close/>
                  </a:path>
                </a:pathLst>
              </a:custGeom>
              <a:solidFill>
                <a:srgbClr val="262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3505320" y="2590920"/>
                <a:ext cx="2109600" cy="1062000"/>
              </a:xfrm>
              <a:custGeom>
                <a:avLst/>
                <a:gdLst/>
                <a:ahLst/>
                <a:rect l="l" t="t" r="r" b="b"/>
                <a:pathLst>
                  <a:path w="16408" h="11518">
                    <a:moveTo>
                      <a:pt x="12894" y="1455"/>
                    </a:moveTo>
                    <a:lnTo>
                      <a:pt x="12992" y="1452"/>
                    </a:lnTo>
                    <a:lnTo>
                      <a:pt x="13091" y="1453"/>
                    </a:lnTo>
                    <a:lnTo>
                      <a:pt x="13190" y="1456"/>
                    </a:lnTo>
                    <a:lnTo>
                      <a:pt x="13290" y="1463"/>
                    </a:lnTo>
                    <a:lnTo>
                      <a:pt x="13391" y="1473"/>
                    </a:lnTo>
                    <a:lnTo>
                      <a:pt x="13490" y="1485"/>
                    </a:lnTo>
                    <a:lnTo>
                      <a:pt x="13591" y="1501"/>
                    </a:lnTo>
                    <a:lnTo>
                      <a:pt x="13690" y="1519"/>
                    </a:lnTo>
                    <a:lnTo>
                      <a:pt x="13790" y="1541"/>
                    </a:lnTo>
                    <a:lnTo>
                      <a:pt x="13888" y="1566"/>
                    </a:lnTo>
                    <a:lnTo>
                      <a:pt x="13987" y="1594"/>
                    </a:lnTo>
                    <a:lnTo>
                      <a:pt x="14083" y="1626"/>
                    </a:lnTo>
                    <a:lnTo>
                      <a:pt x="14179" y="1659"/>
                    </a:lnTo>
                    <a:lnTo>
                      <a:pt x="14273" y="1696"/>
                    </a:lnTo>
                    <a:lnTo>
                      <a:pt x="14365" y="1737"/>
                    </a:lnTo>
                    <a:lnTo>
                      <a:pt x="14455" y="1781"/>
                    </a:lnTo>
                    <a:lnTo>
                      <a:pt x="14545" y="1828"/>
                    </a:lnTo>
                    <a:lnTo>
                      <a:pt x="14631" y="1878"/>
                    </a:lnTo>
                    <a:lnTo>
                      <a:pt x="14715" y="1931"/>
                    </a:lnTo>
                    <a:lnTo>
                      <a:pt x="14797" y="1987"/>
                    </a:lnTo>
                    <a:lnTo>
                      <a:pt x="14876" y="2046"/>
                    </a:lnTo>
                    <a:lnTo>
                      <a:pt x="14952" y="2109"/>
                    </a:lnTo>
                    <a:lnTo>
                      <a:pt x="15026" y="2174"/>
                    </a:lnTo>
                    <a:lnTo>
                      <a:pt x="15095" y="2244"/>
                    </a:lnTo>
                    <a:lnTo>
                      <a:pt x="15162" y="2316"/>
                    </a:lnTo>
                    <a:lnTo>
                      <a:pt x="15225" y="2392"/>
                    </a:lnTo>
                    <a:lnTo>
                      <a:pt x="15283" y="2471"/>
                    </a:lnTo>
                    <a:lnTo>
                      <a:pt x="15338" y="2554"/>
                    </a:lnTo>
                    <a:lnTo>
                      <a:pt x="15389" y="2639"/>
                    </a:lnTo>
                    <a:lnTo>
                      <a:pt x="15436" y="2727"/>
                    </a:lnTo>
                    <a:lnTo>
                      <a:pt x="15478" y="2820"/>
                    </a:lnTo>
                    <a:lnTo>
                      <a:pt x="15515" y="2915"/>
                    </a:lnTo>
                    <a:lnTo>
                      <a:pt x="15530" y="2973"/>
                    </a:lnTo>
                    <a:lnTo>
                      <a:pt x="15544" y="3031"/>
                    </a:lnTo>
                    <a:lnTo>
                      <a:pt x="15555" y="3088"/>
                    </a:lnTo>
                    <a:lnTo>
                      <a:pt x="15563" y="3144"/>
                    </a:lnTo>
                    <a:lnTo>
                      <a:pt x="15569" y="3199"/>
                    </a:lnTo>
                    <a:lnTo>
                      <a:pt x="15573" y="3255"/>
                    </a:lnTo>
                    <a:lnTo>
                      <a:pt x="15575" y="3310"/>
                    </a:lnTo>
                    <a:lnTo>
                      <a:pt x="15575" y="3364"/>
                    </a:lnTo>
                    <a:lnTo>
                      <a:pt x="15572" y="3417"/>
                    </a:lnTo>
                    <a:lnTo>
                      <a:pt x="15568" y="3470"/>
                    </a:lnTo>
                    <a:lnTo>
                      <a:pt x="15561" y="3522"/>
                    </a:lnTo>
                    <a:lnTo>
                      <a:pt x="15553" y="3573"/>
                    </a:lnTo>
                    <a:lnTo>
                      <a:pt x="15541" y="3624"/>
                    </a:lnTo>
                    <a:lnTo>
                      <a:pt x="15528" y="3674"/>
                    </a:lnTo>
                    <a:lnTo>
                      <a:pt x="15514" y="3724"/>
                    </a:lnTo>
                    <a:lnTo>
                      <a:pt x="15496" y="3773"/>
                    </a:lnTo>
                    <a:lnTo>
                      <a:pt x="15478" y="3821"/>
                    </a:lnTo>
                    <a:lnTo>
                      <a:pt x="15456" y="3868"/>
                    </a:lnTo>
                    <a:lnTo>
                      <a:pt x="15434" y="3915"/>
                    </a:lnTo>
                    <a:lnTo>
                      <a:pt x="15409" y="3960"/>
                    </a:lnTo>
                    <a:lnTo>
                      <a:pt x="15383" y="4005"/>
                    </a:lnTo>
                    <a:lnTo>
                      <a:pt x="15355" y="4049"/>
                    </a:lnTo>
                    <a:lnTo>
                      <a:pt x="15324" y="4093"/>
                    </a:lnTo>
                    <a:lnTo>
                      <a:pt x="15292" y="4135"/>
                    </a:lnTo>
                    <a:lnTo>
                      <a:pt x="15259" y="4177"/>
                    </a:lnTo>
                    <a:lnTo>
                      <a:pt x="15224" y="4219"/>
                    </a:lnTo>
                    <a:lnTo>
                      <a:pt x="15187" y="4258"/>
                    </a:lnTo>
                    <a:lnTo>
                      <a:pt x="15149" y="4298"/>
                    </a:lnTo>
                    <a:lnTo>
                      <a:pt x="15108" y="4336"/>
                    </a:lnTo>
                    <a:lnTo>
                      <a:pt x="15067" y="4374"/>
                    </a:lnTo>
                    <a:lnTo>
                      <a:pt x="15023" y="4410"/>
                    </a:lnTo>
                    <a:lnTo>
                      <a:pt x="14978" y="4447"/>
                    </a:lnTo>
                    <a:lnTo>
                      <a:pt x="15048" y="4466"/>
                    </a:lnTo>
                    <a:lnTo>
                      <a:pt x="15117" y="4487"/>
                    </a:lnTo>
                    <a:lnTo>
                      <a:pt x="15186" y="4510"/>
                    </a:lnTo>
                    <a:lnTo>
                      <a:pt x="15252" y="4534"/>
                    </a:lnTo>
                    <a:lnTo>
                      <a:pt x="15318" y="4561"/>
                    </a:lnTo>
                    <a:lnTo>
                      <a:pt x="15381" y="4588"/>
                    </a:lnTo>
                    <a:lnTo>
                      <a:pt x="15444" y="4619"/>
                    </a:lnTo>
                    <a:lnTo>
                      <a:pt x="15506" y="4650"/>
                    </a:lnTo>
                    <a:lnTo>
                      <a:pt x="15566" y="4683"/>
                    </a:lnTo>
                    <a:lnTo>
                      <a:pt x="15625" y="4718"/>
                    </a:lnTo>
                    <a:lnTo>
                      <a:pt x="15681" y="4755"/>
                    </a:lnTo>
                    <a:lnTo>
                      <a:pt x="15736" y="4793"/>
                    </a:lnTo>
                    <a:lnTo>
                      <a:pt x="15790" y="4833"/>
                    </a:lnTo>
                    <a:lnTo>
                      <a:pt x="15841" y="4875"/>
                    </a:lnTo>
                    <a:lnTo>
                      <a:pt x="15891" y="4919"/>
                    </a:lnTo>
                    <a:lnTo>
                      <a:pt x="15939" y="4964"/>
                    </a:lnTo>
                    <a:lnTo>
                      <a:pt x="15985" y="5011"/>
                    </a:lnTo>
                    <a:lnTo>
                      <a:pt x="16030" y="5060"/>
                    </a:lnTo>
                    <a:lnTo>
                      <a:pt x="16072" y="5111"/>
                    </a:lnTo>
                    <a:lnTo>
                      <a:pt x="16112" y="5164"/>
                    </a:lnTo>
                    <a:lnTo>
                      <a:pt x="16150" y="5219"/>
                    </a:lnTo>
                    <a:lnTo>
                      <a:pt x="16184" y="5275"/>
                    </a:lnTo>
                    <a:lnTo>
                      <a:pt x="16218" y="5333"/>
                    </a:lnTo>
                    <a:lnTo>
                      <a:pt x="16249" y="5392"/>
                    </a:lnTo>
                    <a:lnTo>
                      <a:pt x="16278" y="5455"/>
                    </a:lnTo>
                    <a:lnTo>
                      <a:pt x="16303" y="5518"/>
                    </a:lnTo>
                    <a:lnTo>
                      <a:pt x="16327" y="5584"/>
                    </a:lnTo>
                    <a:lnTo>
                      <a:pt x="16349" y="5651"/>
                    </a:lnTo>
                    <a:lnTo>
                      <a:pt x="16367" y="5720"/>
                    </a:lnTo>
                    <a:lnTo>
                      <a:pt x="16382" y="5791"/>
                    </a:lnTo>
                    <a:lnTo>
                      <a:pt x="16396" y="5864"/>
                    </a:lnTo>
                    <a:lnTo>
                      <a:pt x="16406" y="5939"/>
                    </a:lnTo>
                    <a:lnTo>
                      <a:pt x="16408" y="6053"/>
                    </a:lnTo>
                    <a:lnTo>
                      <a:pt x="16404" y="6164"/>
                    </a:lnTo>
                    <a:lnTo>
                      <a:pt x="16395" y="6273"/>
                    </a:lnTo>
                    <a:lnTo>
                      <a:pt x="16378" y="6381"/>
                    </a:lnTo>
                    <a:lnTo>
                      <a:pt x="16357" y="6487"/>
                    </a:lnTo>
                    <a:lnTo>
                      <a:pt x="16329" y="6591"/>
                    </a:lnTo>
                    <a:lnTo>
                      <a:pt x="16296" y="6692"/>
                    </a:lnTo>
                    <a:lnTo>
                      <a:pt x="16258" y="6792"/>
                    </a:lnTo>
                    <a:lnTo>
                      <a:pt x="16215" y="6889"/>
                    </a:lnTo>
                    <a:lnTo>
                      <a:pt x="16167" y="6985"/>
                    </a:lnTo>
                    <a:lnTo>
                      <a:pt x="16115" y="7077"/>
                    </a:lnTo>
                    <a:lnTo>
                      <a:pt x="16058" y="7169"/>
                    </a:lnTo>
                    <a:lnTo>
                      <a:pt x="15997" y="7258"/>
                    </a:lnTo>
                    <a:lnTo>
                      <a:pt x="15932" y="7343"/>
                    </a:lnTo>
                    <a:lnTo>
                      <a:pt x="15862" y="7427"/>
                    </a:lnTo>
                    <a:lnTo>
                      <a:pt x="15791" y="7509"/>
                    </a:lnTo>
                    <a:lnTo>
                      <a:pt x="15715" y="7588"/>
                    </a:lnTo>
                    <a:lnTo>
                      <a:pt x="15635" y="7664"/>
                    </a:lnTo>
                    <a:lnTo>
                      <a:pt x="15553" y="7738"/>
                    </a:lnTo>
                    <a:lnTo>
                      <a:pt x="15468" y="7809"/>
                    </a:lnTo>
                    <a:lnTo>
                      <a:pt x="15380" y="7877"/>
                    </a:lnTo>
                    <a:lnTo>
                      <a:pt x="15290" y="7943"/>
                    </a:lnTo>
                    <a:lnTo>
                      <a:pt x="15198" y="8005"/>
                    </a:lnTo>
                    <a:lnTo>
                      <a:pt x="15104" y="8065"/>
                    </a:lnTo>
                    <a:lnTo>
                      <a:pt x="15008" y="8122"/>
                    </a:lnTo>
                    <a:lnTo>
                      <a:pt x="14910" y="8176"/>
                    </a:lnTo>
                    <a:lnTo>
                      <a:pt x="14811" y="8227"/>
                    </a:lnTo>
                    <a:lnTo>
                      <a:pt x="14711" y="8276"/>
                    </a:lnTo>
                    <a:lnTo>
                      <a:pt x="14610" y="8321"/>
                    </a:lnTo>
                    <a:lnTo>
                      <a:pt x="14508" y="8363"/>
                    </a:lnTo>
                    <a:lnTo>
                      <a:pt x="14406" y="8401"/>
                    </a:lnTo>
                    <a:lnTo>
                      <a:pt x="14303" y="8436"/>
                    </a:lnTo>
                    <a:lnTo>
                      <a:pt x="14269" y="8448"/>
                    </a:lnTo>
                    <a:lnTo>
                      <a:pt x="14234" y="8457"/>
                    </a:lnTo>
                    <a:lnTo>
                      <a:pt x="14199" y="8468"/>
                    </a:lnTo>
                    <a:lnTo>
                      <a:pt x="14165" y="8477"/>
                    </a:lnTo>
                    <a:lnTo>
                      <a:pt x="14130" y="8486"/>
                    </a:lnTo>
                    <a:lnTo>
                      <a:pt x="14095" y="8496"/>
                    </a:lnTo>
                    <a:lnTo>
                      <a:pt x="14062" y="8504"/>
                    </a:lnTo>
                    <a:lnTo>
                      <a:pt x="14027" y="8513"/>
                    </a:lnTo>
                    <a:lnTo>
                      <a:pt x="13992" y="8520"/>
                    </a:lnTo>
                    <a:lnTo>
                      <a:pt x="13957" y="8528"/>
                    </a:lnTo>
                    <a:lnTo>
                      <a:pt x="13923" y="8535"/>
                    </a:lnTo>
                    <a:lnTo>
                      <a:pt x="13888" y="8542"/>
                    </a:lnTo>
                    <a:lnTo>
                      <a:pt x="13853" y="8549"/>
                    </a:lnTo>
                    <a:lnTo>
                      <a:pt x="13819" y="8555"/>
                    </a:lnTo>
                    <a:lnTo>
                      <a:pt x="13784" y="8560"/>
                    </a:lnTo>
                    <a:lnTo>
                      <a:pt x="13749" y="8567"/>
                    </a:lnTo>
                    <a:lnTo>
                      <a:pt x="13713" y="8572"/>
                    </a:lnTo>
                    <a:lnTo>
                      <a:pt x="13678" y="8576"/>
                    </a:lnTo>
                    <a:lnTo>
                      <a:pt x="13643" y="8581"/>
                    </a:lnTo>
                    <a:lnTo>
                      <a:pt x="13608" y="8585"/>
                    </a:lnTo>
                    <a:lnTo>
                      <a:pt x="13572" y="8590"/>
                    </a:lnTo>
                    <a:lnTo>
                      <a:pt x="13538" y="8593"/>
                    </a:lnTo>
                    <a:lnTo>
                      <a:pt x="13502" y="8596"/>
                    </a:lnTo>
                    <a:lnTo>
                      <a:pt x="13466" y="8599"/>
                    </a:lnTo>
                    <a:lnTo>
                      <a:pt x="13431" y="8601"/>
                    </a:lnTo>
                    <a:lnTo>
                      <a:pt x="13395" y="8603"/>
                    </a:lnTo>
                    <a:lnTo>
                      <a:pt x="13359" y="8605"/>
                    </a:lnTo>
                    <a:lnTo>
                      <a:pt x="13323" y="8606"/>
                    </a:lnTo>
                    <a:lnTo>
                      <a:pt x="13287" y="8607"/>
                    </a:lnTo>
                    <a:lnTo>
                      <a:pt x="13250" y="8608"/>
                    </a:lnTo>
                    <a:lnTo>
                      <a:pt x="13215" y="8608"/>
                    </a:lnTo>
                    <a:lnTo>
                      <a:pt x="13179" y="8608"/>
                    </a:lnTo>
                    <a:lnTo>
                      <a:pt x="13156" y="8703"/>
                    </a:lnTo>
                    <a:lnTo>
                      <a:pt x="13132" y="8797"/>
                    </a:lnTo>
                    <a:lnTo>
                      <a:pt x="13105" y="8888"/>
                    </a:lnTo>
                    <a:lnTo>
                      <a:pt x="13075" y="8978"/>
                    </a:lnTo>
                    <a:lnTo>
                      <a:pt x="13042" y="9067"/>
                    </a:lnTo>
                    <a:lnTo>
                      <a:pt x="13006" y="9154"/>
                    </a:lnTo>
                    <a:lnTo>
                      <a:pt x="12969" y="9239"/>
                    </a:lnTo>
                    <a:lnTo>
                      <a:pt x="12928" y="9323"/>
                    </a:lnTo>
                    <a:lnTo>
                      <a:pt x="12886" y="9406"/>
                    </a:lnTo>
                    <a:lnTo>
                      <a:pt x="12840" y="9486"/>
                    </a:lnTo>
                    <a:lnTo>
                      <a:pt x="12793" y="9565"/>
                    </a:lnTo>
                    <a:lnTo>
                      <a:pt x="12744" y="9643"/>
                    </a:lnTo>
                    <a:lnTo>
                      <a:pt x="12692" y="9719"/>
                    </a:lnTo>
                    <a:lnTo>
                      <a:pt x="12637" y="9794"/>
                    </a:lnTo>
                    <a:lnTo>
                      <a:pt x="12581" y="9867"/>
                    </a:lnTo>
                    <a:lnTo>
                      <a:pt x="12522" y="9939"/>
                    </a:lnTo>
                    <a:lnTo>
                      <a:pt x="12462" y="10010"/>
                    </a:lnTo>
                    <a:lnTo>
                      <a:pt x="12399" y="10079"/>
                    </a:lnTo>
                    <a:lnTo>
                      <a:pt x="12336" y="10146"/>
                    </a:lnTo>
                    <a:lnTo>
                      <a:pt x="12269" y="10212"/>
                    </a:lnTo>
                    <a:lnTo>
                      <a:pt x="12201" y="10277"/>
                    </a:lnTo>
                    <a:lnTo>
                      <a:pt x="12132" y="10339"/>
                    </a:lnTo>
                    <a:lnTo>
                      <a:pt x="12060" y="10401"/>
                    </a:lnTo>
                    <a:lnTo>
                      <a:pt x="11987" y="10461"/>
                    </a:lnTo>
                    <a:lnTo>
                      <a:pt x="11912" y="10519"/>
                    </a:lnTo>
                    <a:lnTo>
                      <a:pt x="11836" y="10577"/>
                    </a:lnTo>
                    <a:lnTo>
                      <a:pt x="11758" y="10632"/>
                    </a:lnTo>
                    <a:lnTo>
                      <a:pt x="11679" y="10686"/>
                    </a:lnTo>
                    <a:lnTo>
                      <a:pt x="11599" y="10739"/>
                    </a:lnTo>
                    <a:lnTo>
                      <a:pt x="11517" y="10791"/>
                    </a:lnTo>
                    <a:lnTo>
                      <a:pt x="11434" y="10841"/>
                    </a:lnTo>
                    <a:lnTo>
                      <a:pt x="11350" y="10889"/>
                    </a:lnTo>
                    <a:lnTo>
                      <a:pt x="11320" y="10905"/>
                    </a:lnTo>
                    <a:lnTo>
                      <a:pt x="11292" y="10920"/>
                    </a:lnTo>
                    <a:lnTo>
                      <a:pt x="11262" y="10936"/>
                    </a:lnTo>
                    <a:lnTo>
                      <a:pt x="11232" y="10950"/>
                    </a:lnTo>
                    <a:lnTo>
                      <a:pt x="11203" y="10965"/>
                    </a:lnTo>
                    <a:lnTo>
                      <a:pt x="11174" y="10980"/>
                    </a:lnTo>
                    <a:lnTo>
                      <a:pt x="11144" y="10994"/>
                    </a:lnTo>
                    <a:lnTo>
                      <a:pt x="11114" y="11009"/>
                    </a:lnTo>
                    <a:lnTo>
                      <a:pt x="11084" y="11023"/>
                    </a:lnTo>
                    <a:lnTo>
                      <a:pt x="11054" y="11037"/>
                    </a:lnTo>
                    <a:lnTo>
                      <a:pt x="11024" y="11050"/>
                    </a:lnTo>
                    <a:lnTo>
                      <a:pt x="10994" y="11065"/>
                    </a:lnTo>
                    <a:lnTo>
                      <a:pt x="10964" y="11079"/>
                    </a:lnTo>
                    <a:lnTo>
                      <a:pt x="10934" y="11092"/>
                    </a:lnTo>
                    <a:lnTo>
                      <a:pt x="10903" y="11106"/>
                    </a:lnTo>
                    <a:lnTo>
                      <a:pt x="10872" y="11119"/>
                    </a:lnTo>
                    <a:lnTo>
                      <a:pt x="10805" y="11145"/>
                    </a:lnTo>
                    <a:lnTo>
                      <a:pt x="10737" y="11171"/>
                    </a:lnTo>
                    <a:lnTo>
                      <a:pt x="10668" y="11195"/>
                    </a:lnTo>
                    <a:lnTo>
                      <a:pt x="10601" y="11219"/>
                    </a:lnTo>
                    <a:lnTo>
                      <a:pt x="10533" y="11241"/>
                    </a:lnTo>
                    <a:lnTo>
                      <a:pt x="10466" y="11263"/>
                    </a:lnTo>
                    <a:lnTo>
                      <a:pt x="10399" y="11284"/>
                    </a:lnTo>
                    <a:lnTo>
                      <a:pt x="10331" y="11303"/>
                    </a:lnTo>
                    <a:lnTo>
                      <a:pt x="10263" y="11322"/>
                    </a:lnTo>
                    <a:lnTo>
                      <a:pt x="10197" y="11340"/>
                    </a:lnTo>
                    <a:lnTo>
                      <a:pt x="10129" y="11358"/>
                    </a:lnTo>
                    <a:lnTo>
                      <a:pt x="10061" y="11373"/>
                    </a:lnTo>
                    <a:lnTo>
                      <a:pt x="9993" y="11389"/>
                    </a:lnTo>
                    <a:lnTo>
                      <a:pt x="9926" y="11403"/>
                    </a:lnTo>
                    <a:lnTo>
                      <a:pt x="9858" y="11417"/>
                    </a:lnTo>
                    <a:lnTo>
                      <a:pt x="9789" y="11429"/>
                    </a:lnTo>
                    <a:lnTo>
                      <a:pt x="9722" y="11441"/>
                    </a:lnTo>
                    <a:lnTo>
                      <a:pt x="9653" y="11452"/>
                    </a:lnTo>
                    <a:lnTo>
                      <a:pt x="9584" y="11462"/>
                    </a:lnTo>
                    <a:lnTo>
                      <a:pt x="9516" y="11471"/>
                    </a:lnTo>
                    <a:lnTo>
                      <a:pt x="9447" y="11479"/>
                    </a:lnTo>
                    <a:lnTo>
                      <a:pt x="9377" y="11487"/>
                    </a:lnTo>
                    <a:lnTo>
                      <a:pt x="9307" y="11494"/>
                    </a:lnTo>
                    <a:lnTo>
                      <a:pt x="9238" y="11499"/>
                    </a:lnTo>
                    <a:lnTo>
                      <a:pt x="9167" y="11504"/>
                    </a:lnTo>
                    <a:lnTo>
                      <a:pt x="9097" y="11509"/>
                    </a:lnTo>
                    <a:lnTo>
                      <a:pt x="9025" y="11512"/>
                    </a:lnTo>
                    <a:lnTo>
                      <a:pt x="8954" y="11515"/>
                    </a:lnTo>
                    <a:lnTo>
                      <a:pt x="8882" y="11517"/>
                    </a:lnTo>
                    <a:lnTo>
                      <a:pt x="8810" y="11517"/>
                    </a:lnTo>
                    <a:lnTo>
                      <a:pt x="8737" y="11518"/>
                    </a:lnTo>
                    <a:lnTo>
                      <a:pt x="8663" y="11517"/>
                    </a:lnTo>
                    <a:lnTo>
                      <a:pt x="8262" y="11488"/>
                    </a:lnTo>
                    <a:lnTo>
                      <a:pt x="8161" y="11474"/>
                    </a:lnTo>
                    <a:lnTo>
                      <a:pt x="8060" y="11458"/>
                    </a:lnTo>
                    <a:lnTo>
                      <a:pt x="7959" y="11440"/>
                    </a:lnTo>
                    <a:lnTo>
                      <a:pt x="7858" y="11421"/>
                    </a:lnTo>
                    <a:lnTo>
                      <a:pt x="7758" y="11400"/>
                    </a:lnTo>
                    <a:lnTo>
                      <a:pt x="7657" y="11376"/>
                    </a:lnTo>
                    <a:lnTo>
                      <a:pt x="7558" y="11351"/>
                    </a:lnTo>
                    <a:lnTo>
                      <a:pt x="7459" y="11325"/>
                    </a:lnTo>
                    <a:lnTo>
                      <a:pt x="7362" y="11296"/>
                    </a:lnTo>
                    <a:lnTo>
                      <a:pt x="7265" y="11265"/>
                    </a:lnTo>
                    <a:lnTo>
                      <a:pt x="7168" y="11233"/>
                    </a:lnTo>
                    <a:lnTo>
                      <a:pt x="7072" y="11197"/>
                    </a:lnTo>
                    <a:lnTo>
                      <a:pt x="6978" y="11161"/>
                    </a:lnTo>
                    <a:lnTo>
                      <a:pt x="6884" y="11121"/>
                    </a:lnTo>
                    <a:lnTo>
                      <a:pt x="6792" y="11080"/>
                    </a:lnTo>
                    <a:lnTo>
                      <a:pt x="6701" y="11037"/>
                    </a:lnTo>
                    <a:lnTo>
                      <a:pt x="6611" y="10990"/>
                    </a:lnTo>
                    <a:lnTo>
                      <a:pt x="6522" y="10942"/>
                    </a:lnTo>
                    <a:lnTo>
                      <a:pt x="6436" y="10892"/>
                    </a:lnTo>
                    <a:lnTo>
                      <a:pt x="6350" y="10839"/>
                    </a:lnTo>
                    <a:lnTo>
                      <a:pt x="6266" y="10784"/>
                    </a:lnTo>
                    <a:lnTo>
                      <a:pt x="6184" y="10727"/>
                    </a:lnTo>
                    <a:lnTo>
                      <a:pt x="6104" y="10666"/>
                    </a:lnTo>
                    <a:lnTo>
                      <a:pt x="6025" y="10604"/>
                    </a:lnTo>
                    <a:lnTo>
                      <a:pt x="5948" y="10539"/>
                    </a:lnTo>
                    <a:lnTo>
                      <a:pt x="5873" y="10471"/>
                    </a:lnTo>
                    <a:lnTo>
                      <a:pt x="5800" y="10401"/>
                    </a:lnTo>
                    <a:lnTo>
                      <a:pt x="5729" y="10328"/>
                    </a:lnTo>
                    <a:lnTo>
                      <a:pt x="5662" y="10253"/>
                    </a:lnTo>
                    <a:lnTo>
                      <a:pt x="5595" y="10175"/>
                    </a:lnTo>
                    <a:lnTo>
                      <a:pt x="5532" y="10093"/>
                    </a:lnTo>
                    <a:lnTo>
                      <a:pt x="5470" y="10010"/>
                    </a:lnTo>
                    <a:lnTo>
                      <a:pt x="5380" y="10000"/>
                    </a:lnTo>
                    <a:lnTo>
                      <a:pt x="5290" y="9987"/>
                    </a:lnTo>
                    <a:lnTo>
                      <a:pt x="5199" y="9974"/>
                    </a:lnTo>
                    <a:lnTo>
                      <a:pt x="5109" y="9958"/>
                    </a:lnTo>
                    <a:lnTo>
                      <a:pt x="5020" y="9941"/>
                    </a:lnTo>
                    <a:lnTo>
                      <a:pt x="4931" y="9923"/>
                    </a:lnTo>
                    <a:lnTo>
                      <a:pt x="4842" y="9902"/>
                    </a:lnTo>
                    <a:lnTo>
                      <a:pt x="4754" y="9879"/>
                    </a:lnTo>
                    <a:lnTo>
                      <a:pt x="4666" y="9855"/>
                    </a:lnTo>
                    <a:lnTo>
                      <a:pt x="4579" y="9830"/>
                    </a:lnTo>
                    <a:lnTo>
                      <a:pt x="4493" y="9802"/>
                    </a:lnTo>
                    <a:lnTo>
                      <a:pt x="4408" y="9773"/>
                    </a:lnTo>
                    <a:lnTo>
                      <a:pt x="4322" y="9741"/>
                    </a:lnTo>
                    <a:lnTo>
                      <a:pt x="4238" y="9708"/>
                    </a:lnTo>
                    <a:lnTo>
                      <a:pt x="4155" y="9673"/>
                    </a:lnTo>
                    <a:lnTo>
                      <a:pt x="4073" y="9636"/>
                    </a:lnTo>
                    <a:lnTo>
                      <a:pt x="3993" y="9597"/>
                    </a:lnTo>
                    <a:lnTo>
                      <a:pt x="3913" y="9556"/>
                    </a:lnTo>
                    <a:lnTo>
                      <a:pt x="3834" y="9513"/>
                    </a:lnTo>
                    <a:lnTo>
                      <a:pt x="3757" y="9469"/>
                    </a:lnTo>
                    <a:lnTo>
                      <a:pt x="3682" y="9422"/>
                    </a:lnTo>
                    <a:lnTo>
                      <a:pt x="3607" y="9373"/>
                    </a:lnTo>
                    <a:lnTo>
                      <a:pt x="3533" y="9322"/>
                    </a:lnTo>
                    <a:lnTo>
                      <a:pt x="3461" y="9269"/>
                    </a:lnTo>
                    <a:lnTo>
                      <a:pt x="3391" y="9213"/>
                    </a:lnTo>
                    <a:lnTo>
                      <a:pt x="3323" y="9156"/>
                    </a:lnTo>
                    <a:lnTo>
                      <a:pt x="3256" y="9097"/>
                    </a:lnTo>
                    <a:lnTo>
                      <a:pt x="3191" y="9035"/>
                    </a:lnTo>
                    <a:lnTo>
                      <a:pt x="3128" y="8972"/>
                    </a:lnTo>
                    <a:lnTo>
                      <a:pt x="3066" y="8905"/>
                    </a:lnTo>
                    <a:lnTo>
                      <a:pt x="3007" y="8837"/>
                    </a:lnTo>
                    <a:lnTo>
                      <a:pt x="2949" y="8767"/>
                    </a:lnTo>
                    <a:lnTo>
                      <a:pt x="2927" y="8735"/>
                    </a:lnTo>
                    <a:lnTo>
                      <a:pt x="2905" y="8703"/>
                    </a:lnTo>
                    <a:lnTo>
                      <a:pt x="2885" y="8671"/>
                    </a:lnTo>
                    <a:lnTo>
                      <a:pt x="2864" y="8639"/>
                    </a:lnTo>
                    <a:lnTo>
                      <a:pt x="2845" y="8606"/>
                    </a:lnTo>
                    <a:lnTo>
                      <a:pt x="2825" y="8574"/>
                    </a:lnTo>
                    <a:lnTo>
                      <a:pt x="2807" y="8541"/>
                    </a:lnTo>
                    <a:lnTo>
                      <a:pt x="2789" y="8507"/>
                    </a:lnTo>
                    <a:lnTo>
                      <a:pt x="2772" y="8474"/>
                    </a:lnTo>
                    <a:lnTo>
                      <a:pt x="2756" y="8441"/>
                    </a:lnTo>
                    <a:lnTo>
                      <a:pt x="2740" y="8406"/>
                    </a:lnTo>
                    <a:lnTo>
                      <a:pt x="2726" y="8372"/>
                    </a:lnTo>
                    <a:lnTo>
                      <a:pt x="2711" y="8338"/>
                    </a:lnTo>
                    <a:lnTo>
                      <a:pt x="2699" y="8303"/>
                    </a:lnTo>
                    <a:lnTo>
                      <a:pt x="2687" y="8269"/>
                    </a:lnTo>
                    <a:lnTo>
                      <a:pt x="2676" y="8233"/>
                    </a:lnTo>
                    <a:lnTo>
                      <a:pt x="2665" y="8198"/>
                    </a:lnTo>
                    <a:lnTo>
                      <a:pt x="2655" y="8163"/>
                    </a:lnTo>
                    <a:lnTo>
                      <a:pt x="2647" y="8127"/>
                    </a:lnTo>
                    <a:lnTo>
                      <a:pt x="2640" y="8092"/>
                    </a:lnTo>
                    <a:lnTo>
                      <a:pt x="2633" y="8055"/>
                    </a:lnTo>
                    <a:lnTo>
                      <a:pt x="2627" y="8019"/>
                    </a:lnTo>
                    <a:lnTo>
                      <a:pt x="2623" y="7982"/>
                    </a:lnTo>
                    <a:lnTo>
                      <a:pt x="2620" y="7946"/>
                    </a:lnTo>
                    <a:lnTo>
                      <a:pt x="2617" y="7908"/>
                    </a:lnTo>
                    <a:lnTo>
                      <a:pt x="2616" y="7872"/>
                    </a:lnTo>
                    <a:lnTo>
                      <a:pt x="2616" y="7835"/>
                    </a:lnTo>
                    <a:lnTo>
                      <a:pt x="2617" y="7797"/>
                    </a:lnTo>
                    <a:lnTo>
                      <a:pt x="2620" y="7759"/>
                    </a:lnTo>
                    <a:lnTo>
                      <a:pt x="2623" y="7721"/>
                    </a:lnTo>
                    <a:lnTo>
                      <a:pt x="2628" y="7682"/>
                    </a:lnTo>
                    <a:lnTo>
                      <a:pt x="2635" y="7644"/>
                    </a:lnTo>
                    <a:lnTo>
                      <a:pt x="2629" y="7639"/>
                    </a:lnTo>
                    <a:lnTo>
                      <a:pt x="2625" y="7635"/>
                    </a:lnTo>
                    <a:lnTo>
                      <a:pt x="2620" y="7629"/>
                    </a:lnTo>
                    <a:lnTo>
                      <a:pt x="2615" y="7624"/>
                    </a:lnTo>
                    <a:lnTo>
                      <a:pt x="2611" y="7619"/>
                    </a:lnTo>
                    <a:lnTo>
                      <a:pt x="2606" y="7615"/>
                    </a:lnTo>
                    <a:lnTo>
                      <a:pt x="2602" y="7610"/>
                    </a:lnTo>
                    <a:lnTo>
                      <a:pt x="2597" y="7604"/>
                    </a:lnTo>
                    <a:lnTo>
                      <a:pt x="2506" y="7605"/>
                    </a:lnTo>
                    <a:lnTo>
                      <a:pt x="2415" y="7604"/>
                    </a:lnTo>
                    <a:lnTo>
                      <a:pt x="2325" y="7601"/>
                    </a:lnTo>
                    <a:lnTo>
                      <a:pt x="2235" y="7595"/>
                    </a:lnTo>
                    <a:lnTo>
                      <a:pt x="2144" y="7587"/>
                    </a:lnTo>
                    <a:lnTo>
                      <a:pt x="2055" y="7575"/>
                    </a:lnTo>
                    <a:lnTo>
                      <a:pt x="1966" y="7563"/>
                    </a:lnTo>
                    <a:lnTo>
                      <a:pt x="1878" y="7547"/>
                    </a:lnTo>
                    <a:lnTo>
                      <a:pt x="1791" y="7528"/>
                    </a:lnTo>
                    <a:lnTo>
                      <a:pt x="1704" y="7508"/>
                    </a:lnTo>
                    <a:lnTo>
                      <a:pt x="1618" y="7485"/>
                    </a:lnTo>
                    <a:lnTo>
                      <a:pt x="1533" y="7459"/>
                    </a:lnTo>
                    <a:lnTo>
                      <a:pt x="1450" y="7430"/>
                    </a:lnTo>
                    <a:lnTo>
                      <a:pt x="1368" y="7399"/>
                    </a:lnTo>
                    <a:lnTo>
                      <a:pt x="1287" y="7366"/>
                    </a:lnTo>
                    <a:lnTo>
                      <a:pt x="1207" y="7330"/>
                    </a:lnTo>
                    <a:lnTo>
                      <a:pt x="1128" y="7292"/>
                    </a:lnTo>
                    <a:lnTo>
                      <a:pt x="1052" y="7251"/>
                    </a:lnTo>
                    <a:lnTo>
                      <a:pt x="976" y="7208"/>
                    </a:lnTo>
                    <a:lnTo>
                      <a:pt x="903" y="7162"/>
                    </a:lnTo>
                    <a:lnTo>
                      <a:pt x="832" y="7113"/>
                    </a:lnTo>
                    <a:lnTo>
                      <a:pt x="762" y="7062"/>
                    </a:lnTo>
                    <a:lnTo>
                      <a:pt x="694" y="7008"/>
                    </a:lnTo>
                    <a:lnTo>
                      <a:pt x="629" y="6951"/>
                    </a:lnTo>
                    <a:lnTo>
                      <a:pt x="565" y="6892"/>
                    </a:lnTo>
                    <a:lnTo>
                      <a:pt x="505" y="6830"/>
                    </a:lnTo>
                    <a:lnTo>
                      <a:pt x="446" y="6766"/>
                    </a:lnTo>
                    <a:lnTo>
                      <a:pt x="390" y="6698"/>
                    </a:lnTo>
                    <a:lnTo>
                      <a:pt x="335" y="6629"/>
                    </a:lnTo>
                    <a:lnTo>
                      <a:pt x="284" y="6557"/>
                    </a:lnTo>
                    <a:lnTo>
                      <a:pt x="236" y="6482"/>
                    </a:lnTo>
                    <a:lnTo>
                      <a:pt x="190" y="6404"/>
                    </a:lnTo>
                    <a:lnTo>
                      <a:pt x="165" y="6352"/>
                    </a:lnTo>
                    <a:lnTo>
                      <a:pt x="142" y="6300"/>
                    </a:lnTo>
                    <a:lnTo>
                      <a:pt x="120" y="6247"/>
                    </a:lnTo>
                    <a:lnTo>
                      <a:pt x="100" y="6195"/>
                    </a:lnTo>
                    <a:lnTo>
                      <a:pt x="83" y="6144"/>
                    </a:lnTo>
                    <a:lnTo>
                      <a:pt x="67" y="6092"/>
                    </a:lnTo>
                    <a:lnTo>
                      <a:pt x="52" y="6040"/>
                    </a:lnTo>
                    <a:lnTo>
                      <a:pt x="39" y="5989"/>
                    </a:lnTo>
                    <a:lnTo>
                      <a:pt x="29" y="5937"/>
                    </a:lnTo>
                    <a:lnTo>
                      <a:pt x="19" y="5886"/>
                    </a:lnTo>
                    <a:lnTo>
                      <a:pt x="11" y="5834"/>
                    </a:lnTo>
                    <a:lnTo>
                      <a:pt x="6" y="5783"/>
                    </a:lnTo>
                    <a:lnTo>
                      <a:pt x="2" y="5732"/>
                    </a:lnTo>
                    <a:lnTo>
                      <a:pt x="0" y="5680"/>
                    </a:lnTo>
                    <a:lnTo>
                      <a:pt x="0" y="5629"/>
                    </a:lnTo>
                    <a:lnTo>
                      <a:pt x="1" y="5578"/>
                    </a:lnTo>
                    <a:lnTo>
                      <a:pt x="5" y="5527"/>
                    </a:lnTo>
                    <a:lnTo>
                      <a:pt x="10" y="5476"/>
                    </a:lnTo>
                    <a:lnTo>
                      <a:pt x="16" y="5425"/>
                    </a:lnTo>
                    <a:lnTo>
                      <a:pt x="26" y="5374"/>
                    </a:lnTo>
                    <a:lnTo>
                      <a:pt x="36" y="5323"/>
                    </a:lnTo>
                    <a:lnTo>
                      <a:pt x="48" y="5272"/>
                    </a:lnTo>
                    <a:lnTo>
                      <a:pt x="62" y="5221"/>
                    </a:lnTo>
                    <a:lnTo>
                      <a:pt x="78" y="5171"/>
                    </a:lnTo>
                    <a:lnTo>
                      <a:pt x="95" y="5120"/>
                    </a:lnTo>
                    <a:lnTo>
                      <a:pt x="115" y="5069"/>
                    </a:lnTo>
                    <a:lnTo>
                      <a:pt x="135" y="5018"/>
                    </a:lnTo>
                    <a:lnTo>
                      <a:pt x="158" y="4968"/>
                    </a:lnTo>
                    <a:lnTo>
                      <a:pt x="183" y="4917"/>
                    </a:lnTo>
                    <a:lnTo>
                      <a:pt x="209" y="4867"/>
                    </a:lnTo>
                    <a:lnTo>
                      <a:pt x="238" y="4815"/>
                    </a:lnTo>
                    <a:lnTo>
                      <a:pt x="268" y="4764"/>
                    </a:lnTo>
                    <a:lnTo>
                      <a:pt x="308" y="4708"/>
                    </a:lnTo>
                    <a:lnTo>
                      <a:pt x="349" y="4654"/>
                    </a:lnTo>
                    <a:lnTo>
                      <a:pt x="392" y="4601"/>
                    </a:lnTo>
                    <a:lnTo>
                      <a:pt x="436" y="4550"/>
                    </a:lnTo>
                    <a:lnTo>
                      <a:pt x="481" y="4500"/>
                    </a:lnTo>
                    <a:lnTo>
                      <a:pt x="527" y="4452"/>
                    </a:lnTo>
                    <a:lnTo>
                      <a:pt x="575" y="4406"/>
                    </a:lnTo>
                    <a:lnTo>
                      <a:pt x="625" y="4361"/>
                    </a:lnTo>
                    <a:lnTo>
                      <a:pt x="675" y="4318"/>
                    </a:lnTo>
                    <a:lnTo>
                      <a:pt x="726" y="4276"/>
                    </a:lnTo>
                    <a:lnTo>
                      <a:pt x="778" y="4236"/>
                    </a:lnTo>
                    <a:lnTo>
                      <a:pt x="832" y="4198"/>
                    </a:lnTo>
                    <a:lnTo>
                      <a:pt x="886" y="4161"/>
                    </a:lnTo>
                    <a:lnTo>
                      <a:pt x="941" y="4126"/>
                    </a:lnTo>
                    <a:lnTo>
                      <a:pt x="999" y="4092"/>
                    </a:lnTo>
                    <a:lnTo>
                      <a:pt x="1055" y="4060"/>
                    </a:lnTo>
                    <a:lnTo>
                      <a:pt x="1114" y="4029"/>
                    </a:lnTo>
                    <a:lnTo>
                      <a:pt x="1173" y="4000"/>
                    </a:lnTo>
                    <a:lnTo>
                      <a:pt x="1233" y="3973"/>
                    </a:lnTo>
                    <a:lnTo>
                      <a:pt x="1293" y="3947"/>
                    </a:lnTo>
                    <a:lnTo>
                      <a:pt x="1355" y="3922"/>
                    </a:lnTo>
                    <a:lnTo>
                      <a:pt x="1417" y="3899"/>
                    </a:lnTo>
                    <a:lnTo>
                      <a:pt x="1480" y="3877"/>
                    </a:lnTo>
                    <a:lnTo>
                      <a:pt x="1543" y="3857"/>
                    </a:lnTo>
                    <a:lnTo>
                      <a:pt x="1608" y="3839"/>
                    </a:lnTo>
                    <a:lnTo>
                      <a:pt x="1673" y="3822"/>
                    </a:lnTo>
                    <a:lnTo>
                      <a:pt x="1737" y="3806"/>
                    </a:lnTo>
                    <a:lnTo>
                      <a:pt x="1803" y="3792"/>
                    </a:lnTo>
                    <a:lnTo>
                      <a:pt x="1869" y="3779"/>
                    </a:lnTo>
                    <a:lnTo>
                      <a:pt x="1936" y="3768"/>
                    </a:lnTo>
                    <a:lnTo>
                      <a:pt x="2003" y="3758"/>
                    </a:lnTo>
                    <a:lnTo>
                      <a:pt x="2070" y="3750"/>
                    </a:lnTo>
                    <a:lnTo>
                      <a:pt x="2037" y="3718"/>
                    </a:lnTo>
                    <a:lnTo>
                      <a:pt x="2005" y="3685"/>
                    </a:lnTo>
                    <a:lnTo>
                      <a:pt x="1974" y="3651"/>
                    </a:lnTo>
                    <a:lnTo>
                      <a:pt x="1945" y="3618"/>
                    </a:lnTo>
                    <a:lnTo>
                      <a:pt x="1919" y="3583"/>
                    </a:lnTo>
                    <a:lnTo>
                      <a:pt x="1893" y="3549"/>
                    </a:lnTo>
                    <a:lnTo>
                      <a:pt x="1868" y="3514"/>
                    </a:lnTo>
                    <a:lnTo>
                      <a:pt x="1846" y="3478"/>
                    </a:lnTo>
                    <a:lnTo>
                      <a:pt x="1825" y="3442"/>
                    </a:lnTo>
                    <a:lnTo>
                      <a:pt x="1806" y="3405"/>
                    </a:lnTo>
                    <a:lnTo>
                      <a:pt x="1787" y="3368"/>
                    </a:lnTo>
                    <a:lnTo>
                      <a:pt x="1772" y="3330"/>
                    </a:lnTo>
                    <a:lnTo>
                      <a:pt x="1758" y="3293"/>
                    </a:lnTo>
                    <a:lnTo>
                      <a:pt x="1744" y="3254"/>
                    </a:lnTo>
                    <a:lnTo>
                      <a:pt x="1733" y="3216"/>
                    </a:lnTo>
                    <a:lnTo>
                      <a:pt x="1724" y="3176"/>
                    </a:lnTo>
                    <a:lnTo>
                      <a:pt x="1717" y="3137"/>
                    </a:lnTo>
                    <a:lnTo>
                      <a:pt x="1711" y="3097"/>
                    </a:lnTo>
                    <a:lnTo>
                      <a:pt x="1706" y="3058"/>
                    </a:lnTo>
                    <a:lnTo>
                      <a:pt x="1703" y="3017"/>
                    </a:lnTo>
                    <a:lnTo>
                      <a:pt x="1702" y="2975"/>
                    </a:lnTo>
                    <a:lnTo>
                      <a:pt x="1703" y="2935"/>
                    </a:lnTo>
                    <a:lnTo>
                      <a:pt x="1706" y="2893"/>
                    </a:lnTo>
                    <a:lnTo>
                      <a:pt x="1712" y="2851"/>
                    </a:lnTo>
                    <a:lnTo>
                      <a:pt x="1718" y="2809"/>
                    </a:lnTo>
                    <a:lnTo>
                      <a:pt x="1726" y="2767"/>
                    </a:lnTo>
                    <a:lnTo>
                      <a:pt x="1736" y="2724"/>
                    </a:lnTo>
                    <a:lnTo>
                      <a:pt x="1747" y="2681"/>
                    </a:lnTo>
                    <a:lnTo>
                      <a:pt x="1761" y="2638"/>
                    </a:lnTo>
                    <a:lnTo>
                      <a:pt x="1777" y="2594"/>
                    </a:lnTo>
                    <a:lnTo>
                      <a:pt x="1795" y="2550"/>
                    </a:lnTo>
                    <a:lnTo>
                      <a:pt x="1813" y="2507"/>
                    </a:lnTo>
                    <a:lnTo>
                      <a:pt x="1843" y="2454"/>
                    </a:lnTo>
                    <a:lnTo>
                      <a:pt x="1874" y="2404"/>
                    </a:lnTo>
                    <a:lnTo>
                      <a:pt x="1906" y="2354"/>
                    </a:lnTo>
                    <a:lnTo>
                      <a:pt x="1940" y="2306"/>
                    </a:lnTo>
                    <a:lnTo>
                      <a:pt x="1976" y="2260"/>
                    </a:lnTo>
                    <a:lnTo>
                      <a:pt x="2013" y="2215"/>
                    </a:lnTo>
                    <a:lnTo>
                      <a:pt x="2052" y="2171"/>
                    </a:lnTo>
                    <a:lnTo>
                      <a:pt x="2092" y="2129"/>
                    </a:lnTo>
                    <a:lnTo>
                      <a:pt x="2133" y="2088"/>
                    </a:lnTo>
                    <a:lnTo>
                      <a:pt x="2175" y="2048"/>
                    </a:lnTo>
                    <a:lnTo>
                      <a:pt x="2219" y="2011"/>
                    </a:lnTo>
                    <a:lnTo>
                      <a:pt x="2264" y="1973"/>
                    </a:lnTo>
                    <a:lnTo>
                      <a:pt x="2310" y="1938"/>
                    </a:lnTo>
                    <a:lnTo>
                      <a:pt x="2358" y="1904"/>
                    </a:lnTo>
                    <a:lnTo>
                      <a:pt x="2405" y="1871"/>
                    </a:lnTo>
                    <a:lnTo>
                      <a:pt x="2454" y="1839"/>
                    </a:lnTo>
                    <a:lnTo>
                      <a:pt x="2504" y="1809"/>
                    </a:lnTo>
                    <a:lnTo>
                      <a:pt x="2555" y="1780"/>
                    </a:lnTo>
                    <a:lnTo>
                      <a:pt x="2607" y="1752"/>
                    </a:lnTo>
                    <a:lnTo>
                      <a:pt x="2659" y="1725"/>
                    </a:lnTo>
                    <a:lnTo>
                      <a:pt x="2712" y="1699"/>
                    </a:lnTo>
                    <a:lnTo>
                      <a:pt x="2766" y="1675"/>
                    </a:lnTo>
                    <a:lnTo>
                      <a:pt x="2820" y="1651"/>
                    </a:lnTo>
                    <a:lnTo>
                      <a:pt x="2876" y="1629"/>
                    </a:lnTo>
                    <a:lnTo>
                      <a:pt x="2931" y="1607"/>
                    </a:lnTo>
                    <a:lnTo>
                      <a:pt x="2986" y="1587"/>
                    </a:lnTo>
                    <a:lnTo>
                      <a:pt x="3043" y="1568"/>
                    </a:lnTo>
                    <a:lnTo>
                      <a:pt x="3099" y="1550"/>
                    </a:lnTo>
                    <a:lnTo>
                      <a:pt x="3155" y="1533"/>
                    </a:lnTo>
                    <a:lnTo>
                      <a:pt x="3213" y="1516"/>
                    </a:lnTo>
                    <a:lnTo>
                      <a:pt x="3270" y="1502"/>
                    </a:lnTo>
                    <a:lnTo>
                      <a:pt x="3328" y="1487"/>
                    </a:lnTo>
                    <a:lnTo>
                      <a:pt x="3378" y="1477"/>
                    </a:lnTo>
                    <a:lnTo>
                      <a:pt x="3427" y="1467"/>
                    </a:lnTo>
                    <a:lnTo>
                      <a:pt x="3477" y="1458"/>
                    </a:lnTo>
                    <a:lnTo>
                      <a:pt x="3528" y="1451"/>
                    </a:lnTo>
                    <a:lnTo>
                      <a:pt x="3577" y="1442"/>
                    </a:lnTo>
                    <a:lnTo>
                      <a:pt x="3627" y="1436"/>
                    </a:lnTo>
                    <a:lnTo>
                      <a:pt x="3677" y="1430"/>
                    </a:lnTo>
                    <a:lnTo>
                      <a:pt x="3727" y="1425"/>
                    </a:lnTo>
                    <a:lnTo>
                      <a:pt x="3777" y="1420"/>
                    </a:lnTo>
                    <a:lnTo>
                      <a:pt x="3827" y="1416"/>
                    </a:lnTo>
                    <a:lnTo>
                      <a:pt x="3876" y="1413"/>
                    </a:lnTo>
                    <a:lnTo>
                      <a:pt x="3927" y="1411"/>
                    </a:lnTo>
                    <a:lnTo>
                      <a:pt x="3977" y="1410"/>
                    </a:lnTo>
                    <a:lnTo>
                      <a:pt x="4026" y="1409"/>
                    </a:lnTo>
                    <a:lnTo>
                      <a:pt x="4076" y="1409"/>
                    </a:lnTo>
                    <a:lnTo>
                      <a:pt x="4126" y="1410"/>
                    </a:lnTo>
                    <a:lnTo>
                      <a:pt x="4176" y="1412"/>
                    </a:lnTo>
                    <a:lnTo>
                      <a:pt x="4225" y="1414"/>
                    </a:lnTo>
                    <a:lnTo>
                      <a:pt x="4275" y="1417"/>
                    </a:lnTo>
                    <a:lnTo>
                      <a:pt x="4325" y="1422"/>
                    </a:lnTo>
                    <a:lnTo>
                      <a:pt x="4374" y="1427"/>
                    </a:lnTo>
                    <a:lnTo>
                      <a:pt x="4423" y="1433"/>
                    </a:lnTo>
                    <a:lnTo>
                      <a:pt x="4472" y="1439"/>
                    </a:lnTo>
                    <a:lnTo>
                      <a:pt x="4521" y="1447"/>
                    </a:lnTo>
                    <a:lnTo>
                      <a:pt x="4571" y="1455"/>
                    </a:lnTo>
                    <a:lnTo>
                      <a:pt x="4620" y="1464"/>
                    </a:lnTo>
                    <a:lnTo>
                      <a:pt x="4669" y="1475"/>
                    </a:lnTo>
                    <a:lnTo>
                      <a:pt x="4718" y="1485"/>
                    </a:lnTo>
                    <a:lnTo>
                      <a:pt x="4767" y="1498"/>
                    </a:lnTo>
                    <a:lnTo>
                      <a:pt x="4816" y="1510"/>
                    </a:lnTo>
                    <a:lnTo>
                      <a:pt x="4864" y="1524"/>
                    </a:lnTo>
                    <a:lnTo>
                      <a:pt x="4912" y="1537"/>
                    </a:lnTo>
                    <a:lnTo>
                      <a:pt x="4927" y="1532"/>
                    </a:lnTo>
                    <a:lnTo>
                      <a:pt x="4940" y="1526"/>
                    </a:lnTo>
                    <a:lnTo>
                      <a:pt x="4953" y="1519"/>
                    </a:lnTo>
                    <a:lnTo>
                      <a:pt x="4968" y="1513"/>
                    </a:lnTo>
                    <a:lnTo>
                      <a:pt x="4981" y="1508"/>
                    </a:lnTo>
                    <a:lnTo>
                      <a:pt x="4995" y="1502"/>
                    </a:lnTo>
                    <a:lnTo>
                      <a:pt x="5009" y="1495"/>
                    </a:lnTo>
                    <a:lnTo>
                      <a:pt x="5023" y="1490"/>
                    </a:lnTo>
                    <a:lnTo>
                      <a:pt x="5070" y="1401"/>
                    </a:lnTo>
                    <a:lnTo>
                      <a:pt x="5121" y="1315"/>
                    </a:lnTo>
                    <a:lnTo>
                      <a:pt x="5177" y="1232"/>
                    </a:lnTo>
                    <a:lnTo>
                      <a:pt x="5237" y="1153"/>
                    </a:lnTo>
                    <a:lnTo>
                      <a:pt x="5301" y="1077"/>
                    </a:lnTo>
                    <a:lnTo>
                      <a:pt x="5367" y="1003"/>
                    </a:lnTo>
                    <a:lnTo>
                      <a:pt x="5438" y="932"/>
                    </a:lnTo>
                    <a:lnTo>
                      <a:pt x="5513" y="865"/>
                    </a:lnTo>
                    <a:lnTo>
                      <a:pt x="5590" y="801"/>
                    </a:lnTo>
                    <a:lnTo>
                      <a:pt x="5670" y="738"/>
                    </a:lnTo>
                    <a:lnTo>
                      <a:pt x="5752" y="680"/>
                    </a:lnTo>
                    <a:lnTo>
                      <a:pt x="5838" y="624"/>
                    </a:lnTo>
                    <a:lnTo>
                      <a:pt x="5925" y="571"/>
                    </a:lnTo>
                    <a:lnTo>
                      <a:pt x="6015" y="520"/>
                    </a:lnTo>
                    <a:lnTo>
                      <a:pt x="6107" y="472"/>
                    </a:lnTo>
                    <a:lnTo>
                      <a:pt x="6200" y="426"/>
                    </a:lnTo>
                    <a:lnTo>
                      <a:pt x="6295" y="383"/>
                    </a:lnTo>
                    <a:lnTo>
                      <a:pt x="6391" y="343"/>
                    </a:lnTo>
                    <a:lnTo>
                      <a:pt x="6488" y="305"/>
                    </a:lnTo>
                    <a:lnTo>
                      <a:pt x="6587" y="269"/>
                    </a:lnTo>
                    <a:lnTo>
                      <a:pt x="6686" y="235"/>
                    </a:lnTo>
                    <a:lnTo>
                      <a:pt x="6787" y="205"/>
                    </a:lnTo>
                    <a:lnTo>
                      <a:pt x="6886" y="176"/>
                    </a:lnTo>
                    <a:lnTo>
                      <a:pt x="6988" y="150"/>
                    </a:lnTo>
                    <a:lnTo>
                      <a:pt x="7088" y="126"/>
                    </a:lnTo>
                    <a:lnTo>
                      <a:pt x="7189" y="103"/>
                    </a:lnTo>
                    <a:lnTo>
                      <a:pt x="7289" y="83"/>
                    </a:lnTo>
                    <a:lnTo>
                      <a:pt x="7389" y="66"/>
                    </a:lnTo>
                    <a:lnTo>
                      <a:pt x="7488" y="50"/>
                    </a:lnTo>
                    <a:lnTo>
                      <a:pt x="7587" y="36"/>
                    </a:lnTo>
                    <a:lnTo>
                      <a:pt x="7683" y="24"/>
                    </a:lnTo>
                    <a:lnTo>
                      <a:pt x="7779" y="14"/>
                    </a:lnTo>
                    <a:lnTo>
                      <a:pt x="7866" y="8"/>
                    </a:lnTo>
                    <a:lnTo>
                      <a:pt x="7952" y="4"/>
                    </a:lnTo>
                    <a:lnTo>
                      <a:pt x="8038" y="2"/>
                    </a:lnTo>
                    <a:lnTo>
                      <a:pt x="8125" y="0"/>
                    </a:lnTo>
                    <a:lnTo>
                      <a:pt x="8212" y="0"/>
                    </a:lnTo>
                    <a:lnTo>
                      <a:pt x="8299" y="1"/>
                    </a:lnTo>
                    <a:lnTo>
                      <a:pt x="8387" y="4"/>
                    </a:lnTo>
                    <a:lnTo>
                      <a:pt x="8475" y="8"/>
                    </a:lnTo>
                    <a:lnTo>
                      <a:pt x="8562" y="15"/>
                    </a:lnTo>
                    <a:lnTo>
                      <a:pt x="8650" y="22"/>
                    </a:lnTo>
                    <a:lnTo>
                      <a:pt x="8737" y="31"/>
                    </a:lnTo>
                    <a:lnTo>
                      <a:pt x="8824" y="42"/>
                    </a:lnTo>
                    <a:lnTo>
                      <a:pt x="8912" y="55"/>
                    </a:lnTo>
                    <a:lnTo>
                      <a:pt x="8998" y="69"/>
                    </a:lnTo>
                    <a:lnTo>
                      <a:pt x="9084" y="85"/>
                    </a:lnTo>
                    <a:lnTo>
                      <a:pt x="9170" y="104"/>
                    </a:lnTo>
                    <a:lnTo>
                      <a:pt x="9255" y="124"/>
                    </a:lnTo>
                    <a:lnTo>
                      <a:pt x="9339" y="146"/>
                    </a:lnTo>
                    <a:lnTo>
                      <a:pt x="9422" y="171"/>
                    </a:lnTo>
                    <a:lnTo>
                      <a:pt x="9505" y="197"/>
                    </a:lnTo>
                    <a:lnTo>
                      <a:pt x="9587" y="225"/>
                    </a:lnTo>
                    <a:lnTo>
                      <a:pt x="9668" y="256"/>
                    </a:lnTo>
                    <a:lnTo>
                      <a:pt x="9748" y="290"/>
                    </a:lnTo>
                    <a:lnTo>
                      <a:pt x="9827" y="324"/>
                    </a:lnTo>
                    <a:lnTo>
                      <a:pt x="9904" y="361"/>
                    </a:lnTo>
                    <a:lnTo>
                      <a:pt x="9981" y="402"/>
                    </a:lnTo>
                    <a:lnTo>
                      <a:pt x="10056" y="445"/>
                    </a:lnTo>
                    <a:lnTo>
                      <a:pt x="10130" y="489"/>
                    </a:lnTo>
                    <a:lnTo>
                      <a:pt x="10202" y="536"/>
                    </a:lnTo>
                    <a:lnTo>
                      <a:pt x="10272" y="586"/>
                    </a:lnTo>
                    <a:lnTo>
                      <a:pt x="10341" y="639"/>
                    </a:lnTo>
                    <a:lnTo>
                      <a:pt x="10409" y="695"/>
                    </a:lnTo>
                    <a:lnTo>
                      <a:pt x="10490" y="661"/>
                    </a:lnTo>
                    <a:lnTo>
                      <a:pt x="10572" y="633"/>
                    </a:lnTo>
                    <a:lnTo>
                      <a:pt x="10655" y="609"/>
                    </a:lnTo>
                    <a:lnTo>
                      <a:pt x="10739" y="589"/>
                    </a:lnTo>
                    <a:lnTo>
                      <a:pt x="10824" y="575"/>
                    </a:lnTo>
                    <a:lnTo>
                      <a:pt x="10910" y="563"/>
                    </a:lnTo>
                    <a:lnTo>
                      <a:pt x="10996" y="557"/>
                    </a:lnTo>
                    <a:lnTo>
                      <a:pt x="11083" y="554"/>
                    </a:lnTo>
                    <a:lnTo>
                      <a:pt x="11170" y="555"/>
                    </a:lnTo>
                    <a:lnTo>
                      <a:pt x="11256" y="559"/>
                    </a:lnTo>
                    <a:lnTo>
                      <a:pt x="11343" y="569"/>
                    </a:lnTo>
                    <a:lnTo>
                      <a:pt x="11429" y="581"/>
                    </a:lnTo>
                    <a:lnTo>
                      <a:pt x="11515" y="597"/>
                    </a:lnTo>
                    <a:lnTo>
                      <a:pt x="11600" y="615"/>
                    </a:lnTo>
                    <a:lnTo>
                      <a:pt x="11686" y="638"/>
                    </a:lnTo>
                    <a:lnTo>
                      <a:pt x="11770" y="664"/>
                    </a:lnTo>
                    <a:lnTo>
                      <a:pt x="11853" y="694"/>
                    </a:lnTo>
                    <a:lnTo>
                      <a:pt x="11936" y="726"/>
                    </a:lnTo>
                    <a:lnTo>
                      <a:pt x="12016" y="761"/>
                    </a:lnTo>
                    <a:lnTo>
                      <a:pt x="12096" y="800"/>
                    </a:lnTo>
                    <a:lnTo>
                      <a:pt x="12174" y="840"/>
                    </a:lnTo>
                    <a:lnTo>
                      <a:pt x="12251" y="884"/>
                    </a:lnTo>
                    <a:lnTo>
                      <a:pt x="12325" y="931"/>
                    </a:lnTo>
                    <a:lnTo>
                      <a:pt x="12398" y="980"/>
                    </a:lnTo>
                    <a:lnTo>
                      <a:pt x="12469" y="1031"/>
                    </a:lnTo>
                    <a:lnTo>
                      <a:pt x="12537" y="1085"/>
                    </a:lnTo>
                    <a:lnTo>
                      <a:pt x="12603" y="1141"/>
                    </a:lnTo>
                    <a:lnTo>
                      <a:pt x="12667" y="1200"/>
                    </a:lnTo>
                    <a:lnTo>
                      <a:pt x="12727" y="1261"/>
                    </a:lnTo>
                    <a:lnTo>
                      <a:pt x="12786" y="1324"/>
                    </a:lnTo>
                    <a:lnTo>
                      <a:pt x="12841" y="1388"/>
                    </a:lnTo>
                    <a:lnTo>
                      <a:pt x="12894" y="1455"/>
                    </a:lnTo>
                    <a:close/>
                  </a:path>
                </a:pathLst>
              </a:custGeom>
              <a:solidFill>
                <a:srgbClr val="9ac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5" name=""/>
            <p:cNvSpPr/>
            <p:nvPr/>
          </p:nvSpPr>
          <p:spPr>
            <a:xfrm>
              <a:off x="4269960" y="289548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982160" y="33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被验证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340680" y="3373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验证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562720" y="312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9" name=""/>
            <p:cNvGrpSpPr/>
            <p:nvPr/>
          </p:nvGrpSpPr>
          <p:grpSpPr>
            <a:xfrm>
              <a:off x="2057400" y="2895480"/>
              <a:ext cx="762120" cy="456840"/>
              <a:chOff x="2057400" y="2895480"/>
              <a:chExt cx="762120" cy="456840"/>
            </a:xfrm>
          </p:grpSpPr>
          <p:sp>
            <p:nvSpPr>
              <p:cNvPr id="2700" name=""/>
              <p:cNvSpPr/>
              <p:nvPr/>
            </p:nvSpPr>
            <p:spPr>
              <a:xfrm>
                <a:off x="2057400" y="302256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057400" y="289548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2" name=""/>
              <p:cNvGrpSpPr/>
              <p:nvPr/>
            </p:nvGrpSpPr>
            <p:grpSpPr>
              <a:xfrm>
                <a:off x="2175480" y="2925000"/>
                <a:ext cx="523440" cy="190080"/>
                <a:chOff x="2175480" y="2925000"/>
                <a:chExt cx="523440" cy="19008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9" name=""/>
            <p:cNvGrpSpPr/>
            <p:nvPr/>
          </p:nvGrpSpPr>
          <p:grpSpPr>
            <a:xfrm>
              <a:off x="6248520" y="2895480"/>
              <a:ext cx="761760" cy="456840"/>
              <a:chOff x="6248520" y="2895480"/>
              <a:chExt cx="761760" cy="456840"/>
            </a:xfrm>
          </p:grpSpPr>
          <p:sp>
            <p:nvSpPr>
              <p:cNvPr id="2720" name=""/>
              <p:cNvSpPr/>
              <p:nvPr/>
            </p:nvSpPr>
            <p:spPr>
              <a:xfrm>
                <a:off x="6248520" y="302256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248520" y="289548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2" name=""/>
              <p:cNvGrpSpPr/>
              <p:nvPr/>
            </p:nvGrpSpPr>
            <p:grpSpPr>
              <a:xfrm>
                <a:off x="6366600" y="2925000"/>
                <a:ext cx="523080" cy="190080"/>
                <a:chOff x="6366600" y="2925000"/>
                <a:chExt cx="523080" cy="190080"/>
              </a:xfrm>
            </p:grpSpPr>
            <p:sp>
              <p:nvSpPr>
                <p:cNvPr id="2723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A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验证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PP authentication P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password [0|7]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Pass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被验证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PP sent-username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password [0|7]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Pass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P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A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验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验证的发生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assword [0|7]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区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3" name=""/>
          <p:cNvSpPr/>
          <p:nvPr/>
        </p:nvSpPr>
        <p:spPr>
          <a:xfrm>
            <a:off x="1705680" y="3657600"/>
            <a:ext cx="25545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ow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ow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L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IP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IPX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广域网与局域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区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层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局域网：全部层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广域网：下三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维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局域网：用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广域网：运营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数据链路层的协议封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HA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验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-Handshake Authenticatio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HA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验证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7" name=""/>
          <p:cNvSpPr/>
          <p:nvPr/>
        </p:nvSpPr>
        <p:spPr>
          <a:xfrm>
            <a:off x="3162240" y="4175280"/>
            <a:ext cx="308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用户名，随机字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用户名，加密后的字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通过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拒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162240" y="52023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3161880" y="581184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0" name=""/>
          <p:cNvGrpSpPr/>
          <p:nvPr/>
        </p:nvGrpSpPr>
        <p:grpSpPr>
          <a:xfrm>
            <a:off x="6629400" y="4114800"/>
            <a:ext cx="1143000" cy="1330200"/>
            <a:chOff x="6629400" y="4114800"/>
            <a:chExt cx="1143000" cy="1330200"/>
          </a:xfrm>
        </p:grpSpPr>
        <p:grpSp>
          <p:nvGrpSpPr>
            <p:cNvPr id="2751" name=""/>
            <p:cNvGrpSpPr/>
            <p:nvPr/>
          </p:nvGrpSpPr>
          <p:grpSpPr>
            <a:xfrm>
              <a:off x="6629400" y="4114800"/>
              <a:ext cx="1143000" cy="1330200"/>
              <a:chOff x="6629400" y="4114800"/>
              <a:chExt cx="1143000" cy="1330200"/>
            </a:xfrm>
          </p:grpSpPr>
          <p:sp>
            <p:nvSpPr>
              <p:cNvPr id="2752" name=""/>
              <p:cNvSpPr/>
              <p:nvPr/>
            </p:nvSpPr>
            <p:spPr>
              <a:xfrm>
                <a:off x="6629400" y="4267080"/>
                <a:ext cx="114300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629400" y="4114800"/>
                <a:ext cx="114300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6629400" y="42670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772400" y="42670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629400" y="5257800"/>
                <a:ext cx="1143000" cy="187200"/>
              </a:xfrm>
              <a:custGeom>
                <a:avLst/>
                <a:gdLst/>
                <a:ahLst/>
                <a:rect l="l" t="t" r="r" b="b"/>
                <a:pathLst>
                  <a:path w="1824" h="280">
                    <a:moveTo>
                      <a:pt x="0" y="0"/>
                    </a:moveTo>
                    <a:cubicBezTo>
                      <a:pt x="180" y="100"/>
                      <a:pt x="360" y="200"/>
                      <a:pt x="576" y="240"/>
                    </a:cubicBezTo>
                    <a:cubicBezTo>
                      <a:pt x="792" y="280"/>
                      <a:pt x="1088" y="280"/>
                      <a:pt x="1296" y="240"/>
                    </a:cubicBezTo>
                    <a:cubicBezTo>
                      <a:pt x="1504" y="200"/>
                      <a:pt x="1664" y="100"/>
                      <a:pt x="18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7" name=""/>
            <p:cNvSpPr/>
            <p:nvPr/>
          </p:nvSpPr>
          <p:spPr>
            <a:xfrm>
              <a:off x="6858360" y="44193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数据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380880" y="2514600"/>
            <a:ext cx="8263080" cy="1447920"/>
            <a:chOff x="380880" y="2514600"/>
            <a:chExt cx="8263080" cy="1447920"/>
          </a:xfrm>
        </p:grpSpPr>
        <p:sp>
          <p:nvSpPr>
            <p:cNvPr id="2759" name=""/>
            <p:cNvSpPr/>
            <p:nvPr/>
          </p:nvSpPr>
          <p:spPr>
            <a:xfrm>
              <a:off x="6934320" y="312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H="1">
              <a:off x="1295280" y="3124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1" name=""/>
            <p:cNvGrpSpPr/>
            <p:nvPr/>
          </p:nvGrpSpPr>
          <p:grpSpPr>
            <a:xfrm>
              <a:off x="380880" y="2666880"/>
              <a:ext cx="1100160" cy="728640"/>
              <a:chOff x="380880" y="2666880"/>
              <a:chExt cx="1100160" cy="728640"/>
            </a:xfrm>
          </p:grpSpPr>
          <p:sp>
            <p:nvSpPr>
              <p:cNvPr id="2762" name=""/>
              <p:cNvSpPr/>
              <p:nvPr/>
            </p:nvSpPr>
            <p:spPr>
              <a:xfrm>
                <a:off x="380880" y="266688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09480" y="289548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4" name=""/>
            <p:cNvGrpSpPr/>
            <p:nvPr/>
          </p:nvGrpSpPr>
          <p:grpSpPr>
            <a:xfrm>
              <a:off x="7543800" y="2666880"/>
              <a:ext cx="1100160" cy="728640"/>
              <a:chOff x="7543800" y="2666880"/>
              <a:chExt cx="1100160" cy="728640"/>
            </a:xfrm>
          </p:grpSpPr>
          <p:sp>
            <p:nvSpPr>
              <p:cNvPr id="2765" name=""/>
              <p:cNvSpPr/>
              <p:nvPr/>
            </p:nvSpPr>
            <p:spPr>
              <a:xfrm>
                <a:off x="7543800" y="2666880"/>
                <a:ext cx="1100160" cy="72864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772400" y="2895480"/>
                <a:ext cx="7333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880" bIns="3888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646200"/>
                    <a:tab algn="l" pos="1292400"/>
                    <a:tab algn="l" pos="1938240"/>
                    <a:tab algn="l" pos="2584440"/>
                    <a:tab algn="l" pos="3230640"/>
                    <a:tab algn="l" pos="3876840"/>
                    <a:tab algn="l" pos="4522680"/>
                    <a:tab algn="l" pos="5168880"/>
                    <a:tab algn="l" pos="5815080"/>
                    <a:tab algn="l" pos="6461280"/>
                    <a:tab algn="l" pos="7107120"/>
                    <a:tab algn="l" pos="7753320"/>
                    <a:tab algn="l" pos="8399520"/>
                    <a:tab algn="l" pos="9045720"/>
                    <a:tab algn="l" pos="9691560"/>
                    <a:tab algn="l" pos="103377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7" name=""/>
            <p:cNvSpPr/>
            <p:nvPr/>
          </p:nvSpPr>
          <p:spPr>
            <a:xfrm>
              <a:off x="2819520" y="3124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057400" y="2514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324480" y="251460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0" name=""/>
            <p:cNvGrpSpPr/>
            <p:nvPr/>
          </p:nvGrpSpPr>
          <p:grpSpPr>
            <a:xfrm>
              <a:off x="3429000" y="2590920"/>
              <a:ext cx="2590920" cy="1371600"/>
              <a:chOff x="3429000" y="2590920"/>
              <a:chExt cx="2590920" cy="1371600"/>
            </a:xfrm>
          </p:grpSpPr>
          <p:sp>
            <p:nvSpPr>
              <p:cNvPr id="2771" name=""/>
              <p:cNvSpPr/>
              <p:nvPr/>
            </p:nvSpPr>
            <p:spPr>
              <a:xfrm>
                <a:off x="3429000" y="2676600"/>
                <a:ext cx="2590920" cy="128592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462640" y="2778120"/>
                <a:ext cx="34920" cy="88920"/>
              </a:xfrm>
              <a:custGeom>
                <a:avLst/>
                <a:gdLst/>
                <a:ahLst/>
                <a:rect l="l" t="t" r="r" b="b"/>
                <a:pathLst>
                  <a:path w="284" h="969">
                    <a:moveTo>
                      <a:pt x="284" y="0"/>
                    </a:moveTo>
                    <a:lnTo>
                      <a:pt x="70" y="780"/>
                    </a:lnTo>
                    <a:lnTo>
                      <a:pt x="55" y="828"/>
                    </a:lnTo>
                    <a:lnTo>
                      <a:pt x="39" y="875"/>
                    </a:lnTo>
                    <a:lnTo>
                      <a:pt x="21" y="922"/>
                    </a:lnTo>
                    <a:lnTo>
                      <a:pt x="0" y="969"/>
                    </a:lnTo>
                    <a:lnTo>
                      <a:pt x="212" y="194"/>
                    </a:lnTo>
                    <a:lnTo>
                      <a:pt x="234" y="147"/>
                    </a:lnTo>
                    <a:lnTo>
                      <a:pt x="252" y="99"/>
                    </a:lnTo>
                    <a:lnTo>
                      <a:pt x="270" y="50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450040" y="2795760"/>
                <a:ext cx="39600" cy="88560"/>
              </a:xfrm>
              <a:custGeom>
                <a:avLst/>
                <a:gdLst/>
                <a:ahLst/>
                <a:rect l="l" t="t" r="r" b="b"/>
                <a:pathLst>
                  <a:path w="311" h="952">
                    <a:moveTo>
                      <a:pt x="311" y="0"/>
                    </a:moveTo>
                    <a:lnTo>
                      <a:pt x="99" y="775"/>
                    </a:lnTo>
                    <a:lnTo>
                      <a:pt x="78" y="819"/>
                    </a:lnTo>
                    <a:lnTo>
                      <a:pt x="53" y="864"/>
                    </a:lnTo>
                    <a:lnTo>
                      <a:pt x="27" y="908"/>
                    </a:lnTo>
                    <a:lnTo>
                      <a:pt x="0" y="952"/>
                    </a:lnTo>
                    <a:lnTo>
                      <a:pt x="210" y="181"/>
                    </a:lnTo>
                    <a:lnTo>
                      <a:pt x="238" y="137"/>
                    </a:lnTo>
                    <a:lnTo>
                      <a:pt x="264" y="92"/>
                    </a:lnTo>
                    <a:lnTo>
                      <a:pt x="289" y="47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433840" y="2813040"/>
                <a:ext cx="43200" cy="84240"/>
              </a:xfrm>
              <a:custGeom>
                <a:avLst/>
                <a:gdLst/>
                <a:ahLst/>
                <a:rect l="l" t="t" r="r" b="b"/>
                <a:pathLst>
                  <a:path w="338" h="935">
                    <a:moveTo>
                      <a:pt x="338" y="0"/>
                    </a:moveTo>
                    <a:lnTo>
                      <a:pt x="128" y="771"/>
                    </a:lnTo>
                    <a:lnTo>
                      <a:pt x="99" y="813"/>
                    </a:lnTo>
                    <a:lnTo>
                      <a:pt x="68" y="855"/>
                    </a:lnTo>
                    <a:lnTo>
                      <a:pt x="35" y="896"/>
                    </a:lnTo>
                    <a:lnTo>
                      <a:pt x="0" y="935"/>
                    </a:lnTo>
                    <a:lnTo>
                      <a:pt x="207" y="170"/>
                    </a:lnTo>
                    <a:lnTo>
                      <a:pt x="242" y="128"/>
                    </a:lnTo>
                    <a:lnTo>
                      <a:pt x="275" y="86"/>
                    </a:lnTo>
                    <a:lnTo>
                      <a:pt x="307" y="44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cbe7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418000" y="2827440"/>
                <a:ext cx="39960" cy="82440"/>
              </a:xfrm>
              <a:custGeom>
                <a:avLst/>
                <a:gdLst/>
                <a:ahLst/>
                <a:rect l="l" t="t" r="r" b="b"/>
                <a:pathLst>
                  <a:path w="318" h="881">
                    <a:moveTo>
                      <a:pt x="318" y="0"/>
                    </a:moveTo>
                    <a:lnTo>
                      <a:pt x="111" y="765"/>
                    </a:lnTo>
                    <a:lnTo>
                      <a:pt x="76" y="805"/>
                    </a:lnTo>
                    <a:lnTo>
                      <a:pt x="39" y="843"/>
                    </a:lnTo>
                    <a:lnTo>
                      <a:pt x="0" y="881"/>
                    </a:lnTo>
                    <a:lnTo>
                      <a:pt x="202" y="117"/>
                    </a:lnTo>
                    <a:lnTo>
                      <a:pt x="243" y="79"/>
                    </a:lnTo>
                    <a:lnTo>
                      <a:pt x="281" y="39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c0e2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402160" y="2838600"/>
                <a:ext cx="41400" cy="80640"/>
              </a:xfrm>
              <a:custGeom>
                <a:avLst/>
                <a:gdLst/>
                <a:ahLst/>
                <a:rect l="l" t="t" r="r" b="b"/>
                <a:pathLst>
                  <a:path w="330" h="871">
                    <a:moveTo>
                      <a:pt x="330" y="0"/>
                    </a:moveTo>
                    <a:lnTo>
                      <a:pt x="128" y="764"/>
                    </a:lnTo>
                    <a:lnTo>
                      <a:pt x="87" y="800"/>
                    </a:lnTo>
                    <a:lnTo>
                      <a:pt x="45" y="836"/>
                    </a:lnTo>
                    <a:lnTo>
                      <a:pt x="0" y="871"/>
                    </a:lnTo>
                    <a:lnTo>
                      <a:pt x="200" y="111"/>
                    </a:lnTo>
                    <a:lnTo>
                      <a:pt x="245" y="74"/>
                    </a:lnTo>
                    <a:lnTo>
                      <a:pt x="289" y="38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556240" y="3057480"/>
                <a:ext cx="41400" cy="81000"/>
              </a:xfrm>
              <a:custGeom>
                <a:avLst/>
                <a:gdLst/>
                <a:ahLst/>
                <a:rect l="l" t="t" r="r" b="b"/>
                <a:pathLst>
                  <a:path w="317" h="895">
                    <a:moveTo>
                      <a:pt x="317" y="0"/>
                    </a:moveTo>
                    <a:lnTo>
                      <a:pt x="79" y="703"/>
                    </a:lnTo>
                    <a:lnTo>
                      <a:pt x="42" y="800"/>
                    </a:lnTo>
                    <a:lnTo>
                      <a:pt x="0" y="895"/>
                    </a:lnTo>
                    <a:lnTo>
                      <a:pt x="236" y="197"/>
                    </a:lnTo>
                    <a:lnTo>
                      <a:pt x="279" y="10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543640" y="3075120"/>
                <a:ext cx="42840" cy="81000"/>
              </a:xfrm>
              <a:custGeom>
                <a:avLst/>
                <a:gdLst/>
                <a:ahLst/>
                <a:rect l="l" t="t" r="r" b="b"/>
                <a:pathLst>
                  <a:path w="334" h="882">
                    <a:moveTo>
                      <a:pt x="334" y="0"/>
                    </a:moveTo>
                    <a:lnTo>
                      <a:pt x="98" y="698"/>
                    </a:lnTo>
                    <a:lnTo>
                      <a:pt x="51" y="791"/>
                    </a:lnTo>
                    <a:lnTo>
                      <a:pt x="0" y="882"/>
                    </a:lnTo>
                    <a:lnTo>
                      <a:pt x="234" y="188"/>
                    </a:lnTo>
                    <a:lnTo>
                      <a:pt x="286" y="96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529240" y="3092400"/>
                <a:ext cx="44640" cy="79560"/>
              </a:xfrm>
              <a:custGeom>
                <a:avLst/>
                <a:gdLst/>
                <a:ahLst/>
                <a:rect l="l" t="t" r="r" b="b"/>
                <a:pathLst>
                  <a:path w="348" h="869">
                    <a:moveTo>
                      <a:pt x="348" y="0"/>
                    </a:moveTo>
                    <a:lnTo>
                      <a:pt x="114" y="694"/>
                    </a:lnTo>
                    <a:lnTo>
                      <a:pt x="60" y="783"/>
                    </a:lnTo>
                    <a:lnTo>
                      <a:pt x="0" y="869"/>
                    </a:lnTo>
                    <a:lnTo>
                      <a:pt x="230" y="181"/>
                    </a:lnTo>
                    <a:lnTo>
                      <a:pt x="291" y="92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cee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511960" y="3110040"/>
                <a:ext cx="47520" cy="75960"/>
              </a:xfrm>
              <a:custGeom>
                <a:avLst/>
                <a:gdLst/>
                <a:ahLst/>
                <a:rect l="l" t="t" r="r" b="b"/>
                <a:pathLst>
                  <a:path w="361" h="854">
                    <a:moveTo>
                      <a:pt x="361" y="0"/>
                    </a:moveTo>
                    <a:lnTo>
                      <a:pt x="131" y="688"/>
                    </a:lnTo>
                    <a:lnTo>
                      <a:pt x="67" y="771"/>
                    </a:lnTo>
                    <a:lnTo>
                      <a:pt x="0" y="854"/>
                    </a:lnTo>
                    <a:lnTo>
                      <a:pt x="226" y="169"/>
                    </a:lnTo>
                    <a:lnTo>
                      <a:pt x="296" y="85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c6e5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494320" y="3124080"/>
                <a:ext cx="47520" cy="77760"/>
              </a:xfrm>
              <a:custGeom>
                <a:avLst/>
                <a:gdLst/>
                <a:ahLst/>
                <a:rect l="l" t="t" r="r" b="b"/>
                <a:pathLst>
                  <a:path w="371" h="841">
                    <a:moveTo>
                      <a:pt x="371" y="0"/>
                    </a:moveTo>
                    <a:lnTo>
                      <a:pt x="145" y="685"/>
                    </a:lnTo>
                    <a:lnTo>
                      <a:pt x="75" y="764"/>
                    </a:lnTo>
                    <a:lnTo>
                      <a:pt x="0" y="841"/>
                    </a:lnTo>
                    <a:lnTo>
                      <a:pt x="224" y="161"/>
                    </a:lnTo>
                    <a:lnTo>
                      <a:pt x="300" y="8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c0e2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472000" y="313848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381" h="826">
                    <a:moveTo>
                      <a:pt x="381" y="0"/>
                    </a:moveTo>
                    <a:lnTo>
                      <a:pt x="157" y="680"/>
                    </a:lnTo>
                    <a:lnTo>
                      <a:pt x="80" y="754"/>
                    </a:lnTo>
                    <a:lnTo>
                      <a:pt x="0" y="826"/>
                    </a:lnTo>
                    <a:lnTo>
                      <a:pt x="219" y="150"/>
                    </a:lnTo>
                    <a:lnTo>
                      <a:pt x="301" y="76"/>
                    </a:lnTo>
                    <a:lnTo>
                      <a:pt x="381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462640" y="31510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301" h="744">
                    <a:moveTo>
                      <a:pt x="301" y="0"/>
                    </a:moveTo>
                    <a:lnTo>
                      <a:pt x="82" y="676"/>
                    </a:lnTo>
                    <a:lnTo>
                      <a:pt x="0" y="744"/>
                    </a:lnTo>
                    <a:lnTo>
                      <a:pt x="216" y="71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451480" y="31590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301" h="740">
                    <a:moveTo>
                      <a:pt x="301" y="0"/>
                    </a:moveTo>
                    <a:lnTo>
                      <a:pt x="85" y="673"/>
                    </a:lnTo>
                    <a:lnTo>
                      <a:pt x="0" y="740"/>
                    </a:lnTo>
                    <a:lnTo>
                      <a:pt x="213" y="68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b7d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440320" y="316548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301" h="737">
                    <a:moveTo>
                      <a:pt x="301" y="0"/>
                    </a:moveTo>
                    <a:lnTo>
                      <a:pt x="88" y="672"/>
                    </a:lnTo>
                    <a:lnTo>
                      <a:pt x="0" y="737"/>
                    </a:lnTo>
                    <a:lnTo>
                      <a:pt x="211" y="66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429160" y="317196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300" h="731">
                    <a:moveTo>
                      <a:pt x="300" y="0"/>
                    </a:moveTo>
                    <a:lnTo>
                      <a:pt x="89" y="671"/>
                    </a:lnTo>
                    <a:lnTo>
                      <a:pt x="0" y="731"/>
                    </a:lnTo>
                    <a:lnTo>
                      <a:pt x="208" y="62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afd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416560" y="317664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300" h="728">
                    <a:moveTo>
                      <a:pt x="300" y="0"/>
                    </a:moveTo>
                    <a:lnTo>
                      <a:pt x="92" y="669"/>
                    </a:lnTo>
                    <a:lnTo>
                      <a:pt x="0" y="728"/>
                    </a:lnTo>
                    <a:lnTo>
                      <a:pt x="206" y="60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add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407200" y="3182760"/>
                <a:ext cx="36360" cy="66960"/>
              </a:xfrm>
              <a:custGeom>
                <a:avLst/>
                <a:gdLst/>
                <a:ahLst/>
                <a:rect l="l" t="t" r="r" b="b"/>
                <a:pathLst>
                  <a:path w="299" h="723">
                    <a:moveTo>
                      <a:pt x="299" y="0"/>
                    </a:moveTo>
                    <a:lnTo>
                      <a:pt x="93" y="668"/>
                    </a:lnTo>
                    <a:lnTo>
                      <a:pt x="0" y="723"/>
                    </a:lnTo>
                    <a:lnTo>
                      <a:pt x="203" y="57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a6d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94240" y="318924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298" h="720">
                    <a:moveTo>
                      <a:pt x="298" y="0"/>
                    </a:moveTo>
                    <a:lnTo>
                      <a:pt x="95" y="666"/>
                    </a:lnTo>
                    <a:lnTo>
                      <a:pt x="0" y="720"/>
                    </a:lnTo>
                    <a:lnTo>
                      <a:pt x="200" y="54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a6d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381640" y="319248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297" h="715">
                    <a:moveTo>
                      <a:pt x="297" y="0"/>
                    </a:moveTo>
                    <a:lnTo>
                      <a:pt x="97" y="666"/>
                    </a:lnTo>
                    <a:lnTo>
                      <a:pt x="0" y="715"/>
                    </a:lnTo>
                    <a:lnTo>
                      <a:pt x="198" y="51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a0d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369040" y="3198960"/>
                <a:ext cx="38160" cy="64800"/>
              </a:xfrm>
              <a:custGeom>
                <a:avLst/>
                <a:gdLst/>
                <a:ahLst/>
                <a:rect l="l" t="t" r="r" b="b"/>
                <a:pathLst>
                  <a:path w="295" h="711">
                    <a:moveTo>
                      <a:pt x="295" y="0"/>
                    </a:moveTo>
                    <a:lnTo>
                      <a:pt x="97" y="664"/>
                    </a:lnTo>
                    <a:lnTo>
                      <a:pt x="0" y="711"/>
                    </a:lnTo>
                    <a:lnTo>
                      <a:pt x="195" y="49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9ac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356080" y="320184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92" h="706">
                    <a:moveTo>
                      <a:pt x="292" y="0"/>
                    </a:moveTo>
                    <a:lnTo>
                      <a:pt x="97" y="662"/>
                    </a:lnTo>
                    <a:lnTo>
                      <a:pt x="0" y="706"/>
                    </a:lnTo>
                    <a:lnTo>
                      <a:pt x="191" y="45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98c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343480" y="3206880"/>
                <a:ext cx="38160" cy="64800"/>
              </a:xfrm>
              <a:custGeom>
                <a:avLst/>
                <a:gdLst/>
                <a:ahLst/>
                <a:rect l="l" t="t" r="r" b="b"/>
                <a:pathLst>
                  <a:path w="291" h="702">
                    <a:moveTo>
                      <a:pt x="291" y="0"/>
                    </a:moveTo>
                    <a:lnTo>
                      <a:pt x="100" y="661"/>
                    </a:lnTo>
                    <a:lnTo>
                      <a:pt x="0" y="702"/>
                    </a:lnTo>
                    <a:lnTo>
                      <a:pt x="189" y="4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9ac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318280" y="3209760"/>
                <a:ext cx="48960" cy="68400"/>
              </a:xfrm>
              <a:custGeom>
                <a:avLst/>
                <a:gdLst/>
                <a:ahLst/>
                <a:rect l="l" t="t" r="r" b="b"/>
                <a:pathLst>
                  <a:path w="388" h="732">
                    <a:moveTo>
                      <a:pt x="388" y="0"/>
                    </a:moveTo>
                    <a:lnTo>
                      <a:pt x="199" y="660"/>
                    </a:lnTo>
                    <a:lnTo>
                      <a:pt x="100" y="697"/>
                    </a:lnTo>
                    <a:lnTo>
                      <a:pt x="0" y="732"/>
                    </a:lnTo>
                    <a:lnTo>
                      <a:pt x="183" y="73"/>
                    </a:lnTo>
                    <a:lnTo>
                      <a:pt x="286" y="38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8eb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291280" y="3218040"/>
                <a:ext cx="50760" cy="66600"/>
              </a:xfrm>
              <a:custGeom>
                <a:avLst/>
                <a:gdLst/>
                <a:ahLst/>
                <a:rect l="l" t="t" r="r" b="b"/>
                <a:pathLst>
                  <a:path w="385" h="716">
                    <a:moveTo>
                      <a:pt x="385" y="0"/>
                    </a:moveTo>
                    <a:lnTo>
                      <a:pt x="202" y="659"/>
                    </a:lnTo>
                    <a:lnTo>
                      <a:pt x="168" y="669"/>
                    </a:lnTo>
                    <a:lnTo>
                      <a:pt x="134" y="679"/>
                    </a:lnTo>
                    <a:lnTo>
                      <a:pt x="102" y="689"/>
                    </a:lnTo>
                    <a:lnTo>
                      <a:pt x="68" y="698"/>
                    </a:lnTo>
                    <a:lnTo>
                      <a:pt x="34" y="708"/>
                    </a:lnTo>
                    <a:lnTo>
                      <a:pt x="0" y="716"/>
                    </a:lnTo>
                    <a:lnTo>
                      <a:pt x="177" y="60"/>
                    </a:lnTo>
                    <a:lnTo>
                      <a:pt x="212" y="50"/>
                    </a:lnTo>
                    <a:lnTo>
                      <a:pt x="247" y="41"/>
                    </a:lnTo>
                    <a:lnTo>
                      <a:pt x="281" y="32"/>
                    </a:lnTo>
                    <a:lnTo>
                      <a:pt x="316" y="21"/>
                    </a:lnTo>
                    <a:lnTo>
                      <a:pt x="351" y="12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84a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265720" y="3224160"/>
                <a:ext cx="49320" cy="63720"/>
              </a:xfrm>
              <a:custGeom>
                <a:avLst/>
                <a:gdLst/>
                <a:ahLst/>
                <a:rect l="l" t="t" r="r" b="b"/>
                <a:pathLst>
                  <a:path w="379" h="702">
                    <a:moveTo>
                      <a:pt x="379" y="0"/>
                    </a:moveTo>
                    <a:lnTo>
                      <a:pt x="202" y="656"/>
                    </a:lnTo>
                    <a:lnTo>
                      <a:pt x="169" y="664"/>
                    </a:lnTo>
                    <a:lnTo>
                      <a:pt x="135" y="673"/>
                    </a:lnTo>
                    <a:lnTo>
                      <a:pt x="102" y="680"/>
                    </a:lnTo>
                    <a:lnTo>
                      <a:pt x="68" y="688"/>
                    </a:lnTo>
                    <a:lnTo>
                      <a:pt x="34" y="694"/>
                    </a:lnTo>
                    <a:lnTo>
                      <a:pt x="0" y="702"/>
                    </a:lnTo>
                    <a:lnTo>
                      <a:pt x="172" y="46"/>
                    </a:lnTo>
                    <a:lnTo>
                      <a:pt x="207" y="39"/>
                    </a:lnTo>
                    <a:lnTo>
                      <a:pt x="241" y="32"/>
                    </a:lnTo>
                    <a:lnTo>
                      <a:pt x="276" y="24"/>
                    </a:lnTo>
                    <a:lnTo>
                      <a:pt x="311" y="17"/>
                    </a:lnTo>
                    <a:lnTo>
                      <a:pt x="346" y="8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7f9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238720" y="3227400"/>
                <a:ext cx="49320" cy="63360"/>
              </a:xfrm>
              <a:custGeom>
                <a:avLst/>
                <a:gdLst/>
                <a:ahLst/>
                <a:rect l="l" t="t" r="r" b="b"/>
                <a:pathLst>
                  <a:path w="375" h="689">
                    <a:moveTo>
                      <a:pt x="375" y="0"/>
                    </a:moveTo>
                    <a:lnTo>
                      <a:pt x="203" y="656"/>
                    </a:lnTo>
                    <a:lnTo>
                      <a:pt x="169" y="662"/>
                    </a:lnTo>
                    <a:lnTo>
                      <a:pt x="135" y="668"/>
                    </a:lnTo>
                    <a:lnTo>
                      <a:pt x="102" y="673"/>
                    </a:lnTo>
                    <a:lnTo>
                      <a:pt x="68" y="680"/>
                    </a:lnTo>
                    <a:lnTo>
                      <a:pt x="34" y="685"/>
                    </a:lnTo>
                    <a:lnTo>
                      <a:pt x="0" y="689"/>
                    </a:lnTo>
                    <a:lnTo>
                      <a:pt x="165" y="34"/>
                    </a:lnTo>
                    <a:lnTo>
                      <a:pt x="200" y="30"/>
                    </a:lnTo>
                    <a:lnTo>
                      <a:pt x="236" y="25"/>
                    </a:lnTo>
                    <a:lnTo>
                      <a:pt x="271" y="18"/>
                    </a:lnTo>
                    <a:lnTo>
                      <a:pt x="306" y="13"/>
                    </a:lnTo>
                    <a:lnTo>
                      <a:pt x="340" y="7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778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211720" y="322884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71" h="677">
                    <a:moveTo>
                      <a:pt x="371" y="0"/>
                    </a:moveTo>
                    <a:lnTo>
                      <a:pt x="206" y="655"/>
                    </a:lnTo>
                    <a:lnTo>
                      <a:pt x="171" y="659"/>
                    </a:lnTo>
                    <a:lnTo>
                      <a:pt x="137" y="663"/>
                    </a:lnTo>
                    <a:lnTo>
                      <a:pt x="103" y="668"/>
                    </a:lnTo>
                    <a:lnTo>
                      <a:pt x="69" y="671"/>
                    </a:lnTo>
                    <a:lnTo>
                      <a:pt x="34" y="674"/>
                    </a:lnTo>
                    <a:lnTo>
                      <a:pt x="0" y="677"/>
                    </a:lnTo>
                    <a:lnTo>
                      <a:pt x="159" y="23"/>
                    </a:lnTo>
                    <a:lnTo>
                      <a:pt x="195" y="20"/>
                    </a:lnTo>
                    <a:lnTo>
                      <a:pt x="231" y="17"/>
                    </a:lnTo>
                    <a:lnTo>
                      <a:pt x="265" y="14"/>
                    </a:lnTo>
                    <a:lnTo>
                      <a:pt x="301" y="9"/>
                    </a:lnTo>
                    <a:lnTo>
                      <a:pt x="336" y="5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738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186520" y="3232080"/>
                <a:ext cx="47520" cy="61920"/>
              </a:xfrm>
              <a:custGeom>
                <a:avLst/>
                <a:gdLst/>
                <a:ahLst/>
                <a:rect l="l" t="t" r="r" b="b"/>
                <a:pathLst>
                  <a:path w="368" h="663">
                    <a:moveTo>
                      <a:pt x="368" y="0"/>
                    </a:moveTo>
                    <a:lnTo>
                      <a:pt x="209" y="654"/>
                    </a:lnTo>
                    <a:lnTo>
                      <a:pt x="174" y="656"/>
                    </a:lnTo>
                    <a:lnTo>
                      <a:pt x="139" y="658"/>
                    </a:lnTo>
                    <a:lnTo>
                      <a:pt x="104" y="660"/>
                    </a:lnTo>
                    <a:lnTo>
                      <a:pt x="69" y="661"/>
                    </a:lnTo>
                    <a:lnTo>
                      <a:pt x="35" y="662"/>
                    </a:lnTo>
                    <a:lnTo>
                      <a:pt x="0" y="663"/>
                    </a:lnTo>
                    <a:lnTo>
                      <a:pt x="152" y="9"/>
                    </a:lnTo>
                    <a:lnTo>
                      <a:pt x="189" y="8"/>
                    </a:lnTo>
                    <a:lnTo>
                      <a:pt x="225" y="7"/>
                    </a:lnTo>
                    <a:lnTo>
                      <a:pt x="261" y="6"/>
                    </a:lnTo>
                    <a:lnTo>
                      <a:pt x="297" y="4"/>
                    </a:lnTo>
                    <a:lnTo>
                      <a:pt x="333" y="2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6d7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175360" y="3233880"/>
                <a:ext cx="29880" cy="60120"/>
              </a:xfrm>
              <a:custGeom>
                <a:avLst/>
                <a:gdLst/>
                <a:ahLst/>
                <a:rect l="l" t="t" r="r" b="b"/>
                <a:pathLst>
                  <a:path w="223" h="654">
                    <a:moveTo>
                      <a:pt x="223" y="0"/>
                    </a:moveTo>
                    <a:lnTo>
                      <a:pt x="71" y="654"/>
                    </a:lnTo>
                    <a:lnTo>
                      <a:pt x="35" y="654"/>
                    </a:lnTo>
                    <a:lnTo>
                      <a:pt x="0" y="654"/>
                    </a:lnTo>
                    <a:lnTo>
                      <a:pt x="152" y="0"/>
                    </a:lnTo>
                    <a:lnTo>
                      <a:pt x="188" y="0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687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167440" y="324180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201" h="832">
                    <a:moveTo>
                      <a:pt x="201" y="0"/>
                    </a:moveTo>
                    <a:lnTo>
                      <a:pt x="50" y="652"/>
                    </a:lnTo>
                    <a:lnTo>
                      <a:pt x="27" y="743"/>
                    </a:lnTo>
                    <a:lnTo>
                      <a:pt x="0" y="832"/>
                    </a:lnTo>
                    <a:lnTo>
                      <a:pt x="150" y="185"/>
                    </a:lnTo>
                    <a:lnTo>
                      <a:pt x="177" y="94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159520" y="3259080"/>
                <a:ext cx="27000" cy="74520"/>
              </a:xfrm>
              <a:custGeom>
                <a:avLst/>
                <a:gdLst/>
                <a:ahLst/>
                <a:rect l="l" t="t" r="r" b="b"/>
                <a:pathLst>
                  <a:path w="210" h="821">
                    <a:moveTo>
                      <a:pt x="210" y="0"/>
                    </a:moveTo>
                    <a:lnTo>
                      <a:pt x="60" y="647"/>
                    </a:lnTo>
                    <a:lnTo>
                      <a:pt x="31" y="735"/>
                    </a:lnTo>
                    <a:lnTo>
                      <a:pt x="0" y="821"/>
                    </a:lnTo>
                    <a:lnTo>
                      <a:pt x="147" y="179"/>
                    </a:lnTo>
                    <a:lnTo>
                      <a:pt x="180" y="9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151600" y="327672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219" h="810">
                    <a:moveTo>
                      <a:pt x="219" y="0"/>
                    </a:moveTo>
                    <a:lnTo>
                      <a:pt x="72" y="642"/>
                    </a:lnTo>
                    <a:lnTo>
                      <a:pt x="37" y="726"/>
                    </a:lnTo>
                    <a:lnTo>
                      <a:pt x="0" y="810"/>
                    </a:lnTo>
                    <a:lnTo>
                      <a:pt x="146" y="172"/>
                    </a:lnTo>
                    <a:lnTo>
                      <a:pt x="183" y="8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d6e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140440" y="3290760"/>
                <a:ext cx="28440" cy="74880"/>
              </a:xfrm>
              <a:custGeom>
                <a:avLst/>
                <a:gdLst/>
                <a:ahLst/>
                <a:rect l="l" t="t" r="r" b="b"/>
                <a:pathLst>
                  <a:path w="226" h="800">
                    <a:moveTo>
                      <a:pt x="226" y="0"/>
                    </a:moveTo>
                    <a:lnTo>
                      <a:pt x="80" y="638"/>
                    </a:lnTo>
                    <a:lnTo>
                      <a:pt x="41" y="720"/>
                    </a:lnTo>
                    <a:lnTo>
                      <a:pt x="0" y="800"/>
                    </a:lnTo>
                    <a:lnTo>
                      <a:pt x="143" y="167"/>
                    </a:lnTo>
                    <a:lnTo>
                      <a:pt x="185" y="84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d3e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129280" y="330660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233" h="788">
                    <a:moveTo>
                      <a:pt x="233" y="0"/>
                    </a:moveTo>
                    <a:lnTo>
                      <a:pt x="90" y="633"/>
                    </a:lnTo>
                    <a:lnTo>
                      <a:pt x="46" y="711"/>
                    </a:lnTo>
                    <a:lnTo>
                      <a:pt x="0" y="788"/>
                    </a:lnTo>
                    <a:lnTo>
                      <a:pt x="140" y="159"/>
                    </a:lnTo>
                    <a:lnTo>
                      <a:pt x="187" y="80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cee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116680" y="3321000"/>
                <a:ext cx="29880" cy="73080"/>
              </a:xfrm>
              <a:custGeom>
                <a:avLst/>
                <a:gdLst/>
                <a:ahLst/>
                <a:rect l="l" t="t" r="r" b="b"/>
                <a:pathLst>
                  <a:path w="240" h="780">
                    <a:moveTo>
                      <a:pt x="240" y="0"/>
                    </a:moveTo>
                    <a:lnTo>
                      <a:pt x="100" y="629"/>
                    </a:lnTo>
                    <a:lnTo>
                      <a:pt x="51" y="705"/>
                    </a:lnTo>
                    <a:lnTo>
                      <a:pt x="0" y="780"/>
                    </a:lnTo>
                    <a:lnTo>
                      <a:pt x="139" y="154"/>
                    </a:lnTo>
                    <a:lnTo>
                      <a:pt x="191" y="78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cee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102280" y="333540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247" h="770">
                    <a:moveTo>
                      <a:pt x="247" y="0"/>
                    </a:moveTo>
                    <a:lnTo>
                      <a:pt x="108" y="626"/>
                    </a:lnTo>
                    <a:lnTo>
                      <a:pt x="56" y="698"/>
                    </a:lnTo>
                    <a:lnTo>
                      <a:pt x="0" y="770"/>
                    </a:lnTo>
                    <a:lnTo>
                      <a:pt x="136" y="148"/>
                    </a:lnTo>
                    <a:lnTo>
                      <a:pt x="192" y="75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6e5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087880" y="334980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250" h="761">
                    <a:moveTo>
                      <a:pt x="250" y="0"/>
                    </a:moveTo>
                    <a:lnTo>
                      <a:pt x="114" y="622"/>
                    </a:lnTo>
                    <a:lnTo>
                      <a:pt x="58" y="692"/>
                    </a:lnTo>
                    <a:lnTo>
                      <a:pt x="0" y="761"/>
                    </a:lnTo>
                    <a:lnTo>
                      <a:pt x="131" y="143"/>
                    </a:lnTo>
                    <a:lnTo>
                      <a:pt x="191" y="72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c6e5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072040" y="3363840"/>
                <a:ext cx="31680" cy="66600"/>
              </a:xfrm>
              <a:custGeom>
                <a:avLst/>
                <a:gdLst/>
                <a:ahLst/>
                <a:rect l="l" t="t" r="r" b="b"/>
                <a:pathLst>
                  <a:path w="254" h="750">
                    <a:moveTo>
                      <a:pt x="254" y="0"/>
                    </a:moveTo>
                    <a:lnTo>
                      <a:pt x="123" y="618"/>
                    </a:lnTo>
                    <a:lnTo>
                      <a:pt x="62" y="684"/>
                    </a:lnTo>
                    <a:lnTo>
                      <a:pt x="0" y="750"/>
                    </a:lnTo>
                    <a:lnTo>
                      <a:pt x="128" y="136"/>
                    </a:lnTo>
                    <a:lnTo>
                      <a:pt x="191" y="69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c0e2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056200" y="3375000"/>
                <a:ext cx="31680" cy="68400"/>
              </a:xfrm>
              <a:custGeom>
                <a:avLst/>
                <a:gdLst/>
                <a:ahLst/>
                <a:rect l="l" t="t" r="r" b="b"/>
                <a:pathLst>
                  <a:path w="259" h="741">
                    <a:moveTo>
                      <a:pt x="259" y="0"/>
                    </a:moveTo>
                    <a:lnTo>
                      <a:pt x="131" y="614"/>
                    </a:lnTo>
                    <a:lnTo>
                      <a:pt x="66" y="678"/>
                    </a:lnTo>
                    <a:lnTo>
                      <a:pt x="0" y="741"/>
                    </a:lnTo>
                    <a:lnTo>
                      <a:pt x="124" y="131"/>
                    </a:lnTo>
                    <a:lnTo>
                      <a:pt x="192" y="66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bde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037120" y="3386160"/>
                <a:ext cx="34920" cy="68400"/>
              </a:xfrm>
              <a:custGeom>
                <a:avLst/>
                <a:gdLst/>
                <a:ahLst/>
                <a:rect l="l" t="t" r="r" b="b"/>
                <a:pathLst>
                  <a:path w="261" h="731">
                    <a:moveTo>
                      <a:pt x="261" y="0"/>
                    </a:moveTo>
                    <a:lnTo>
                      <a:pt x="137" y="610"/>
                    </a:lnTo>
                    <a:lnTo>
                      <a:pt x="70" y="671"/>
                    </a:lnTo>
                    <a:lnTo>
                      <a:pt x="0" y="731"/>
                    </a:lnTo>
                    <a:lnTo>
                      <a:pt x="120" y="124"/>
                    </a:lnTo>
                    <a:lnTo>
                      <a:pt x="192" y="62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b9e0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019840" y="3398760"/>
                <a:ext cx="31680" cy="66600"/>
              </a:xfrm>
              <a:custGeom>
                <a:avLst/>
                <a:gdLst/>
                <a:ahLst/>
                <a:rect l="l" t="t" r="r" b="b"/>
                <a:pathLst>
                  <a:path w="264" h="722">
                    <a:moveTo>
                      <a:pt x="264" y="0"/>
                    </a:moveTo>
                    <a:lnTo>
                      <a:pt x="144" y="607"/>
                    </a:lnTo>
                    <a:lnTo>
                      <a:pt x="73" y="665"/>
                    </a:lnTo>
                    <a:lnTo>
                      <a:pt x="0" y="722"/>
                    </a:lnTo>
                    <a:lnTo>
                      <a:pt x="116" y="118"/>
                    </a:lnTo>
                    <a:lnTo>
                      <a:pt x="191" y="6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b7d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998960" y="340992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265" h="715">
                    <a:moveTo>
                      <a:pt x="265" y="0"/>
                    </a:moveTo>
                    <a:lnTo>
                      <a:pt x="149" y="604"/>
                    </a:lnTo>
                    <a:lnTo>
                      <a:pt x="75" y="661"/>
                    </a:lnTo>
                    <a:lnTo>
                      <a:pt x="0" y="715"/>
                    </a:lnTo>
                    <a:lnTo>
                      <a:pt x="111" y="113"/>
                    </a:lnTo>
                    <a:lnTo>
                      <a:pt x="189" y="5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979880" y="3419640"/>
                <a:ext cx="33480" cy="66600"/>
              </a:xfrm>
              <a:custGeom>
                <a:avLst/>
                <a:gdLst/>
                <a:ahLst/>
                <a:rect l="l" t="t" r="r" b="b"/>
                <a:pathLst>
                  <a:path w="266" h="706">
                    <a:moveTo>
                      <a:pt x="266" y="0"/>
                    </a:moveTo>
                    <a:lnTo>
                      <a:pt x="155" y="602"/>
                    </a:lnTo>
                    <a:lnTo>
                      <a:pt x="78" y="654"/>
                    </a:lnTo>
                    <a:lnTo>
                      <a:pt x="0" y="706"/>
                    </a:lnTo>
                    <a:lnTo>
                      <a:pt x="107" y="107"/>
                    </a:lnTo>
                    <a:lnTo>
                      <a:pt x="187" y="54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add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957920" y="342900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267" h="698">
                    <a:moveTo>
                      <a:pt x="267" y="0"/>
                    </a:moveTo>
                    <a:lnTo>
                      <a:pt x="160" y="599"/>
                    </a:lnTo>
                    <a:lnTo>
                      <a:pt x="81" y="649"/>
                    </a:lnTo>
                    <a:lnTo>
                      <a:pt x="0" y="698"/>
                    </a:lnTo>
                    <a:lnTo>
                      <a:pt x="102" y="102"/>
                    </a:lnTo>
                    <a:lnTo>
                      <a:pt x="185" y="52"/>
                    </a:lnTo>
                    <a:lnTo>
                      <a:pt x="267" y="0"/>
                    </a:lnTo>
                    <a:close/>
                  </a:path>
                </a:pathLst>
              </a:custGeom>
              <a:solidFill>
                <a:srgbClr val="a9d8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950000" y="343836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84" h="643">
                    <a:moveTo>
                      <a:pt x="184" y="0"/>
                    </a:moveTo>
                    <a:lnTo>
                      <a:pt x="82" y="596"/>
                    </a:lnTo>
                    <a:lnTo>
                      <a:pt x="0" y="643"/>
                    </a:lnTo>
                    <a:lnTo>
                      <a:pt x="100" y="4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6d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925880" y="344484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272" h="683">
                    <a:moveTo>
                      <a:pt x="272" y="0"/>
                    </a:moveTo>
                    <a:lnTo>
                      <a:pt x="172" y="595"/>
                    </a:lnTo>
                    <a:lnTo>
                      <a:pt x="144" y="610"/>
                    </a:lnTo>
                    <a:lnTo>
                      <a:pt x="115" y="625"/>
                    </a:lnTo>
                    <a:lnTo>
                      <a:pt x="87" y="639"/>
                    </a:lnTo>
                    <a:lnTo>
                      <a:pt x="58" y="654"/>
                    </a:lnTo>
                    <a:lnTo>
                      <a:pt x="29" y="669"/>
                    </a:lnTo>
                    <a:lnTo>
                      <a:pt x="0" y="683"/>
                    </a:lnTo>
                    <a:lnTo>
                      <a:pt x="96" y="91"/>
                    </a:lnTo>
                    <a:lnTo>
                      <a:pt x="125" y="76"/>
                    </a:lnTo>
                    <a:lnTo>
                      <a:pt x="154" y="61"/>
                    </a:lnTo>
                    <a:lnTo>
                      <a:pt x="184" y="47"/>
                    </a:lnTo>
                    <a:lnTo>
                      <a:pt x="214" y="31"/>
                    </a:lnTo>
                    <a:lnTo>
                      <a:pt x="242" y="16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a0d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903920" y="34527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270" h="674">
                    <a:moveTo>
                      <a:pt x="270" y="0"/>
                    </a:moveTo>
                    <a:lnTo>
                      <a:pt x="174" y="592"/>
                    </a:lnTo>
                    <a:lnTo>
                      <a:pt x="146" y="606"/>
                    </a:lnTo>
                    <a:lnTo>
                      <a:pt x="116" y="620"/>
                    </a:lnTo>
                    <a:lnTo>
                      <a:pt x="87" y="634"/>
                    </a:lnTo>
                    <a:lnTo>
                      <a:pt x="59" y="647"/>
                    </a:lnTo>
                    <a:lnTo>
                      <a:pt x="29" y="661"/>
                    </a:lnTo>
                    <a:lnTo>
                      <a:pt x="0" y="674"/>
                    </a:lnTo>
                    <a:lnTo>
                      <a:pt x="90" y="85"/>
                    </a:lnTo>
                    <a:lnTo>
                      <a:pt x="120" y="70"/>
                    </a:lnTo>
                    <a:lnTo>
                      <a:pt x="150" y="57"/>
                    </a:lnTo>
                    <a:lnTo>
                      <a:pt x="180" y="43"/>
                    </a:lnTo>
                    <a:lnTo>
                      <a:pt x="210" y="29"/>
                    </a:lnTo>
                    <a:lnTo>
                      <a:pt x="240" y="14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9ac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888080" y="346068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208" h="643">
                    <a:moveTo>
                      <a:pt x="208" y="0"/>
                    </a:moveTo>
                    <a:lnTo>
                      <a:pt x="118" y="589"/>
                    </a:lnTo>
                    <a:lnTo>
                      <a:pt x="88" y="603"/>
                    </a:lnTo>
                    <a:lnTo>
                      <a:pt x="60" y="617"/>
                    </a:lnTo>
                    <a:lnTo>
                      <a:pt x="30" y="630"/>
                    </a:lnTo>
                    <a:lnTo>
                      <a:pt x="0" y="643"/>
                    </a:lnTo>
                    <a:lnTo>
                      <a:pt x="86" y="54"/>
                    </a:lnTo>
                    <a:lnTo>
                      <a:pt x="117" y="41"/>
                    </a:lnTo>
                    <a:lnTo>
                      <a:pt x="148" y="27"/>
                    </a:lnTo>
                    <a:lnTo>
                      <a:pt x="178" y="1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98c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862520" y="34639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84" h="662">
                    <a:moveTo>
                      <a:pt x="284" y="0"/>
                    </a:moveTo>
                    <a:lnTo>
                      <a:pt x="198" y="589"/>
                    </a:lnTo>
                    <a:lnTo>
                      <a:pt x="132" y="615"/>
                    </a:lnTo>
                    <a:lnTo>
                      <a:pt x="66" y="639"/>
                    </a:lnTo>
                    <a:lnTo>
                      <a:pt x="0" y="662"/>
                    </a:lnTo>
                    <a:lnTo>
                      <a:pt x="80" y="76"/>
                    </a:lnTo>
                    <a:lnTo>
                      <a:pt x="149" y="52"/>
                    </a:lnTo>
                    <a:lnTo>
                      <a:pt x="217" y="26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91b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836960" y="347184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277" h="653">
                    <a:moveTo>
                      <a:pt x="277" y="0"/>
                    </a:moveTo>
                    <a:lnTo>
                      <a:pt x="197" y="586"/>
                    </a:lnTo>
                    <a:lnTo>
                      <a:pt x="132" y="609"/>
                    </a:lnTo>
                    <a:lnTo>
                      <a:pt x="66" y="631"/>
                    </a:lnTo>
                    <a:lnTo>
                      <a:pt x="0" y="653"/>
                    </a:lnTo>
                    <a:lnTo>
                      <a:pt x="75" y="68"/>
                    </a:lnTo>
                    <a:lnTo>
                      <a:pt x="142" y="46"/>
                    </a:lnTo>
                    <a:lnTo>
                      <a:pt x="210" y="24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8b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13200" y="347832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72" h="642">
                    <a:moveTo>
                      <a:pt x="272" y="0"/>
                    </a:moveTo>
                    <a:lnTo>
                      <a:pt x="197" y="585"/>
                    </a:lnTo>
                    <a:lnTo>
                      <a:pt x="132" y="605"/>
                    </a:lnTo>
                    <a:lnTo>
                      <a:pt x="66" y="624"/>
                    </a:lnTo>
                    <a:lnTo>
                      <a:pt x="0" y="642"/>
                    </a:lnTo>
                    <a:lnTo>
                      <a:pt x="69" y="59"/>
                    </a:lnTo>
                    <a:lnTo>
                      <a:pt x="137" y="40"/>
                    </a:lnTo>
                    <a:lnTo>
                      <a:pt x="205" y="21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84a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788000" y="348300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265" h="633">
                    <a:moveTo>
                      <a:pt x="265" y="0"/>
                    </a:moveTo>
                    <a:lnTo>
                      <a:pt x="196" y="583"/>
                    </a:lnTo>
                    <a:lnTo>
                      <a:pt x="131" y="601"/>
                    </a:lnTo>
                    <a:lnTo>
                      <a:pt x="65" y="618"/>
                    </a:lnTo>
                    <a:lnTo>
                      <a:pt x="0" y="633"/>
                    </a:lnTo>
                    <a:lnTo>
                      <a:pt x="63" y="51"/>
                    </a:lnTo>
                    <a:lnTo>
                      <a:pt x="131" y="36"/>
                    </a:lnTo>
                    <a:lnTo>
                      <a:pt x="199" y="1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83a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762440" y="3489480"/>
                <a:ext cx="33480" cy="55440"/>
              </a:xfrm>
              <a:custGeom>
                <a:avLst/>
                <a:gdLst/>
                <a:ahLst/>
                <a:rect l="l" t="t" r="r" b="b"/>
                <a:pathLst>
                  <a:path w="260" h="625">
                    <a:moveTo>
                      <a:pt x="260" y="0"/>
                    </a:moveTo>
                    <a:lnTo>
                      <a:pt x="197" y="582"/>
                    </a:lnTo>
                    <a:lnTo>
                      <a:pt x="131" y="597"/>
                    </a:lnTo>
                    <a:lnTo>
                      <a:pt x="65" y="612"/>
                    </a:lnTo>
                    <a:lnTo>
                      <a:pt x="0" y="625"/>
                    </a:lnTo>
                    <a:lnTo>
                      <a:pt x="57" y="44"/>
                    </a:lnTo>
                    <a:lnTo>
                      <a:pt x="125" y="30"/>
                    </a:lnTo>
                    <a:lnTo>
                      <a:pt x="192" y="16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7d9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737240" y="3492360"/>
                <a:ext cx="31680" cy="57240"/>
              </a:xfrm>
              <a:custGeom>
                <a:avLst/>
                <a:gdLst/>
                <a:ahLst/>
                <a:rect l="l" t="t" r="r" b="b"/>
                <a:pathLst>
                  <a:path w="256" h="615">
                    <a:moveTo>
                      <a:pt x="256" y="0"/>
                    </a:moveTo>
                    <a:lnTo>
                      <a:pt x="199" y="581"/>
                    </a:lnTo>
                    <a:lnTo>
                      <a:pt x="132" y="593"/>
                    </a:lnTo>
                    <a:lnTo>
                      <a:pt x="66" y="604"/>
                    </a:lnTo>
                    <a:lnTo>
                      <a:pt x="0" y="615"/>
                    </a:lnTo>
                    <a:lnTo>
                      <a:pt x="51" y="35"/>
                    </a:lnTo>
                    <a:lnTo>
                      <a:pt x="120" y="24"/>
                    </a:lnTo>
                    <a:lnTo>
                      <a:pt x="187" y="12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79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711680" y="349560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251" h="607">
                    <a:moveTo>
                      <a:pt x="251" y="0"/>
                    </a:moveTo>
                    <a:lnTo>
                      <a:pt x="200" y="580"/>
                    </a:lnTo>
                    <a:lnTo>
                      <a:pt x="133" y="590"/>
                    </a:lnTo>
                    <a:lnTo>
                      <a:pt x="66" y="599"/>
                    </a:lnTo>
                    <a:lnTo>
                      <a:pt x="0" y="607"/>
                    </a:lnTo>
                    <a:lnTo>
                      <a:pt x="45" y="27"/>
                    </a:lnTo>
                    <a:lnTo>
                      <a:pt x="114" y="19"/>
                    </a:lnTo>
                    <a:lnTo>
                      <a:pt x="182" y="1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758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684680" y="349884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248" h="599">
                    <a:moveTo>
                      <a:pt x="248" y="0"/>
                    </a:moveTo>
                    <a:lnTo>
                      <a:pt x="203" y="580"/>
                    </a:lnTo>
                    <a:lnTo>
                      <a:pt x="135" y="588"/>
                    </a:lnTo>
                    <a:lnTo>
                      <a:pt x="67" y="594"/>
                    </a:lnTo>
                    <a:lnTo>
                      <a:pt x="0" y="599"/>
                    </a:lnTo>
                    <a:lnTo>
                      <a:pt x="39" y="20"/>
                    </a:lnTo>
                    <a:lnTo>
                      <a:pt x="108" y="15"/>
                    </a:lnTo>
                    <a:lnTo>
                      <a:pt x="178" y="8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738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657680" y="35002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245" h="592">
                    <a:moveTo>
                      <a:pt x="245" y="0"/>
                    </a:moveTo>
                    <a:lnTo>
                      <a:pt x="206" y="579"/>
                    </a:lnTo>
                    <a:lnTo>
                      <a:pt x="137" y="585"/>
                    </a:lnTo>
                    <a:lnTo>
                      <a:pt x="68" y="589"/>
                    </a:lnTo>
                    <a:lnTo>
                      <a:pt x="0" y="592"/>
                    </a:lnTo>
                    <a:lnTo>
                      <a:pt x="32" y="13"/>
                    </a:lnTo>
                    <a:lnTo>
                      <a:pt x="104" y="10"/>
                    </a:lnTo>
                    <a:lnTo>
                      <a:pt x="174" y="5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6f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630680" y="35002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243" h="584">
                    <a:moveTo>
                      <a:pt x="243" y="0"/>
                    </a:moveTo>
                    <a:lnTo>
                      <a:pt x="211" y="579"/>
                    </a:lnTo>
                    <a:lnTo>
                      <a:pt x="141" y="581"/>
                    </a:lnTo>
                    <a:lnTo>
                      <a:pt x="71" y="583"/>
                    </a:lnTo>
                    <a:lnTo>
                      <a:pt x="0" y="584"/>
                    </a:lnTo>
                    <a:lnTo>
                      <a:pt x="28" y="5"/>
                    </a:lnTo>
                    <a:lnTo>
                      <a:pt x="100" y="5"/>
                    </a:lnTo>
                    <a:lnTo>
                      <a:pt x="172" y="3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6b78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613400" y="3500280"/>
                <a:ext cx="20520" cy="55800"/>
              </a:xfrm>
              <a:custGeom>
                <a:avLst/>
                <a:gdLst/>
                <a:ahLst/>
                <a:rect l="l" t="t" r="r" b="b"/>
                <a:pathLst>
                  <a:path w="169" h="579">
                    <a:moveTo>
                      <a:pt x="169" y="0"/>
                    </a:moveTo>
                    <a:lnTo>
                      <a:pt x="141" y="579"/>
                    </a:lnTo>
                    <a:lnTo>
                      <a:pt x="71" y="579"/>
                    </a:lnTo>
                    <a:lnTo>
                      <a:pt x="0" y="578"/>
                    </a:lnTo>
                    <a:lnTo>
                      <a:pt x="22" y="0"/>
                    </a:lnTo>
                    <a:lnTo>
                      <a:pt x="96" y="1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667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562640" y="3498840"/>
                <a:ext cx="53640" cy="57240"/>
              </a:xfrm>
              <a:custGeom>
                <a:avLst/>
                <a:gdLst/>
                <a:ahLst/>
                <a:rect l="l" t="t" r="r" b="b"/>
                <a:pathLst>
                  <a:path w="412" h="607">
                    <a:moveTo>
                      <a:pt x="412" y="29"/>
                    </a:moveTo>
                    <a:lnTo>
                      <a:pt x="390" y="607"/>
                    </a:lnTo>
                    <a:lnTo>
                      <a:pt x="0" y="579"/>
                    </a:lnTo>
                    <a:lnTo>
                      <a:pt x="11" y="0"/>
                    </a:lnTo>
                    <a:lnTo>
                      <a:pt x="412" y="29"/>
                    </a:lnTo>
                    <a:close/>
                  </a:path>
                </a:pathLst>
              </a:custGeom>
              <a:solidFill>
                <a:srgbClr val="5c6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537080" y="3497400"/>
                <a:ext cx="27000" cy="55440"/>
              </a:xfrm>
              <a:custGeom>
                <a:avLst/>
                <a:gdLst/>
                <a:ahLst/>
                <a:rect l="l" t="t" r="r" b="b"/>
                <a:pathLst>
                  <a:path w="208" h="609">
                    <a:moveTo>
                      <a:pt x="208" y="30"/>
                    </a:moveTo>
                    <a:lnTo>
                      <a:pt x="197" y="609"/>
                    </a:lnTo>
                    <a:lnTo>
                      <a:pt x="99" y="595"/>
                    </a:lnTo>
                    <a:lnTo>
                      <a:pt x="0" y="581"/>
                    </a:lnTo>
                    <a:lnTo>
                      <a:pt x="6" y="0"/>
                    </a:lnTo>
                    <a:lnTo>
                      <a:pt x="107" y="16"/>
                    </a:lnTo>
                    <a:lnTo>
                      <a:pt x="208" y="30"/>
                    </a:lnTo>
                    <a:close/>
                  </a:path>
                </a:pathLst>
              </a:custGeom>
              <a:solidFill>
                <a:srgbClr val="50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511520" y="349236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202" h="618">
                    <a:moveTo>
                      <a:pt x="202" y="37"/>
                    </a:moveTo>
                    <a:lnTo>
                      <a:pt x="196" y="618"/>
                    </a:lnTo>
                    <a:lnTo>
                      <a:pt x="99" y="600"/>
                    </a:lnTo>
                    <a:lnTo>
                      <a:pt x="0" y="581"/>
                    </a:lnTo>
                    <a:lnTo>
                      <a:pt x="0" y="0"/>
                    </a:lnTo>
                    <a:lnTo>
                      <a:pt x="101" y="19"/>
                    </a:lnTo>
                    <a:lnTo>
                      <a:pt x="202" y="3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486320" y="3489480"/>
                <a:ext cx="25200" cy="58680"/>
              </a:xfrm>
              <a:custGeom>
                <a:avLst/>
                <a:gdLst/>
                <a:ahLst/>
                <a:rect l="l" t="t" r="r" b="b"/>
                <a:pathLst>
                  <a:path w="201" h="626">
                    <a:moveTo>
                      <a:pt x="201" y="45"/>
                    </a:moveTo>
                    <a:lnTo>
                      <a:pt x="201" y="626"/>
                    </a:lnTo>
                    <a:lnTo>
                      <a:pt x="104" y="605"/>
                    </a:lnTo>
                    <a:lnTo>
                      <a:pt x="8" y="584"/>
                    </a:lnTo>
                    <a:lnTo>
                      <a:pt x="0" y="0"/>
                    </a:lnTo>
                    <a:lnTo>
                      <a:pt x="101" y="24"/>
                    </a:lnTo>
                    <a:lnTo>
                      <a:pt x="201" y="45"/>
                    </a:lnTo>
                    <a:close/>
                  </a:path>
                </a:pathLst>
              </a:custGeom>
              <a:solidFill>
                <a:srgbClr val="414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462560" y="3483000"/>
                <a:ext cx="23760" cy="60480"/>
              </a:xfrm>
              <a:custGeom>
                <a:avLst/>
                <a:gdLst/>
                <a:ahLst/>
                <a:rect l="l" t="t" r="r" b="b"/>
                <a:pathLst>
                  <a:path w="206" h="635">
                    <a:moveTo>
                      <a:pt x="198" y="51"/>
                    </a:moveTo>
                    <a:lnTo>
                      <a:pt x="206" y="635"/>
                    </a:lnTo>
                    <a:lnTo>
                      <a:pt x="108" y="610"/>
                    </a:lnTo>
                    <a:lnTo>
                      <a:pt x="13" y="584"/>
                    </a:lnTo>
                    <a:lnTo>
                      <a:pt x="0" y="0"/>
                    </a:lnTo>
                    <a:lnTo>
                      <a:pt x="99" y="26"/>
                    </a:lnTo>
                    <a:lnTo>
                      <a:pt x="198" y="51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437000" y="347832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207" h="644">
                    <a:moveTo>
                      <a:pt x="194" y="60"/>
                    </a:moveTo>
                    <a:lnTo>
                      <a:pt x="207" y="644"/>
                    </a:lnTo>
                    <a:lnTo>
                      <a:pt x="111" y="615"/>
                    </a:lnTo>
                    <a:lnTo>
                      <a:pt x="17" y="586"/>
                    </a:lnTo>
                    <a:lnTo>
                      <a:pt x="0" y="0"/>
                    </a:lnTo>
                    <a:lnTo>
                      <a:pt x="97" y="31"/>
                    </a:lnTo>
                    <a:lnTo>
                      <a:pt x="194" y="60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411800" y="347184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210" h="654">
                    <a:moveTo>
                      <a:pt x="193" y="68"/>
                    </a:moveTo>
                    <a:lnTo>
                      <a:pt x="210" y="654"/>
                    </a:lnTo>
                    <a:lnTo>
                      <a:pt x="117" y="622"/>
                    </a:lnTo>
                    <a:lnTo>
                      <a:pt x="23" y="588"/>
                    </a:lnTo>
                    <a:lnTo>
                      <a:pt x="0" y="0"/>
                    </a:lnTo>
                    <a:lnTo>
                      <a:pt x="96" y="36"/>
                    </a:lnTo>
                    <a:lnTo>
                      <a:pt x="193" y="68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387680" y="346536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211" h="664">
                    <a:moveTo>
                      <a:pt x="188" y="76"/>
                    </a:moveTo>
                    <a:lnTo>
                      <a:pt x="211" y="664"/>
                    </a:lnTo>
                    <a:lnTo>
                      <a:pt x="120" y="628"/>
                    </a:lnTo>
                    <a:lnTo>
                      <a:pt x="29" y="590"/>
                    </a:lnTo>
                    <a:lnTo>
                      <a:pt x="0" y="0"/>
                    </a:lnTo>
                    <a:lnTo>
                      <a:pt x="94" y="40"/>
                    </a:lnTo>
                    <a:lnTo>
                      <a:pt x="188" y="76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363920" y="3457440"/>
                <a:ext cx="27000" cy="63720"/>
              </a:xfrm>
              <a:custGeom>
                <a:avLst/>
                <a:gdLst/>
                <a:ahLst/>
                <a:rect l="l" t="t" r="r" b="b"/>
                <a:pathLst>
                  <a:path w="212" h="674">
                    <a:moveTo>
                      <a:pt x="183" y="84"/>
                    </a:moveTo>
                    <a:lnTo>
                      <a:pt x="212" y="674"/>
                    </a:lnTo>
                    <a:lnTo>
                      <a:pt x="123" y="634"/>
                    </a:lnTo>
                    <a:lnTo>
                      <a:pt x="33" y="591"/>
                    </a:lnTo>
                    <a:lnTo>
                      <a:pt x="0" y="0"/>
                    </a:lnTo>
                    <a:lnTo>
                      <a:pt x="91" y="43"/>
                    </a:lnTo>
                    <a:lnTo>
                      <a:pt x="183" y="84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341960" y="344808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212" h="686">
                    <a:moveTo>
                      <a:pt x="179" y="95"/>
                    </a:moveTo>
                    <a:lnTo>
                      <a:pt x="212" y="686"/>
                    </a:lnTo>
                    <a:lnTo>
                      <a:pt x="125" y="642"/>
                    </a:lnTo>
                    <a:lnTo>
                      <a:pt x="39" y="595"/>
                    </a:lnTo>
                    <a:lnTo>
                      <a:pt x="0" y="0"/>
                    </a:lnTo>
                    <a:lnTo>
                      <a:pt x="89" y="48"/>
                    </a:lnTo>
                    <a:lnTo>
                      <a:pt x="179" y="95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319640" y="343836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211" h="698">
                    <a:moveTo>
                      <a:pt x="172" y="103"/>
                    </a:moveTo>
                    <a:lnTo>
                      <a:pt x="211" y="698"/>
                    </a:lnTo>
                    <a:lnTo>
                      <a:pt x="127" y="649"/>
                    </a:lnTo>
                    <a:lnTo>
                      <a:pt x="44" y="598"/>
                    </a:lnTo>
                    <a:lnTo>
                      <a:pt x="0" y="0"/>
                    </a:lnTo>
                    <a:lnTo>
                      <a:pt x="86" y="53"/>
                    </a:lnTo>
                    <a:lnTo>
                      <a:pt x="172" y="10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297320" y="3429000"/>
                <a:ext cx="27000" cy="66600"/>
              </a:xfrm>
              <a:custGeom>
                <a:avLst/>
                <a:gdLst/>
                <a:ahLst/>
                <a:rect l="l" t="t" r="r" b="b"/>
                <a:pathLst>
                  <a:path w="210" h="710">
                    <a:moveTo>
                      <a:pt x="166" y="112"/>
                    </a:moveTo>
                    <a:lnTo>
                      <a:pt x="210" y="710"/>
                    </a:lnTo>
                    <a:lnTo>
                      <a:pt x="129" y="656"/>
                    </a:lnTo>
                    <a:lnTo>
                      <a:pt x="49" y="599"/>
                    </a:lnTo>
                    <a:lnTo>
                      <a:pt x="0" y="0"/>
                    </a:lnTo>
                    <a:lnTo>
                      <a:pt x="82" y="57"/>
                    </a:lnTo>
                    <a:lnTo>
                      <a:pt x="166" y="112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276800" y="341784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208" h="722">
                    <a:moveTo>
                      <a:pt x="159" y="123"/>
                    </a:moveTo>
                    <a:lnTo>
                      <a:pt x="208" y="722"/>
                    </a:lnTo>
                    <a:lnTo>
                      <a:pt x="130" y="664"/>
                    </a:lnTo>
                    <a:lnTo>
                      <a:pt x="53" y="604"/>
                    </a:lnTo>
                    <a:lnTo>
                      <a:pt x="0" y="0"/>
                    </a:lnTo>
                    <a:lnTo>
                      <a:pt x="79" y="62"/>
                    </a:lnTo>
                    <a:lnTo>
                      <a:pt x="159" y="12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257720" y="3405240"/>
                <a:ext cx="25200" cy="68040"/>
              </a:xfrm>
              <a:custGeom>
                <a:avLst/>
                <a:gdLst/>
                <a:ahLst/>
                <a:rect l="l" t="t" r="r" b="b"/>
                <a:pathLst>
                  <a:path w="205" h="737">
                    <a:moveTo>
                      <a:pt x="152" y="133"/>
                    </a:moveTo>
                    <a:lnTo>
                      <a:pt x="205" y="737"/>
                    </a:lnTo>
                    <a:lnTo>
                      <a:pt x="130" y="673"/>
                    </a:lnTo>
                    <a:lnTo>
                      <a:pt x="57" y="608"/>
                    </a:lnTo>
                    <a:lnTo>
                      <a:pt x="0" y="0"/>
                    </a:lnTo>
                    <a:lnTo>
                      <a:pt x="75" y="68"/>
                    </a:lnTo>
                    <a:lnTo>
                      <a:pt x="152" y="13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238640" y="339264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201" h="751">
                    <a:moveTo>
                      <a:pt x="144" y="143"/>
                    </a:moveTo>
                    <a:lnTo>
                      <a:pt x="201" y="751"/>
                    </a:lnTo>
                    <a:lnTo>
                      <a:pt x="132" y="682"/>
                    </a:lnTo>
                    <a:lnTo>
                      <a:pt x="63" y="611"/>
                    </a:lnTo>
                    <a:lnTo>
                      <a:pt x="0" y="0"/>
                    </a:lnTo>
                    <a:lnTo>
                      <a:pt x="71" y="73"/>
                    </a:lnTo>
                    <a:lnTo>
                      <a:pt x="144" y="143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222800" y="3378240"/>
                <a:ext cx="25200" cy="69840"/>
              </a:xfrm>
              <a:custGeom>
                <a:avLst/>
                <a:gdLst/>
                <a:ahLst/>
                <a:rect l="l" t="t" r="r" b="b"/>
                <a:pathLst>
                  <a:path w="197" h="764">
                    <a:moveTo>
                      <a:pt x="134" y="153"/>
                    </a:moveTo>
                    <a:lnTo>
                      <a:pt x="197" y="764"/>
                    </a:lnTo>
                    <a:lnTo>
                      <a:pt x="130" y="691"/>
                    </a:lnTo>
                    <a:lnTo>
                      <a:pt x="66" y="615"/>
                    </a:lnTo>
                    <a:lnTo>
                      <a:pt x="0" y="0"/>
                    </a:lnTo>
                    <a:lnTo>
                      <a:pt x="67" y="78"/>
                    </a:lnTo>
                    <a:lnTo>
                      <a:pt x="134" y="153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206960" y="3363840"/>
                <a:ext cx="22320" cy="71640"/>
              </a:xfrm>
              <a:custGeom>
                <a:avLst/>
                <a:gdLst/>
                <a:ahLst/>
                <a:rect l="l" t="t" r="r" b="b"/>
                <a:pathLst>
                  <a:path w="191" h="780">
                    <a:moveTo>
                      <a:pt x="125" y="165"/>
                    </a:moveTo>
                    <a:lnTo>
                      <a:pt x="191" y="780"/>
                    </a:lnTo>
                    <a:lnTo>
                      <a:pt x="129" y="701"/>
                    </a:lnTo>
                    <a:lnTo>
                      <a:pt x="70" y="620"/>
                    </a:lnTo>
                    <a:lnTo>
                      <a:pt x="0" y="0"/>
                    </a:lnTo>
                    <a:lnTo>
                      <a:pt x="62" y="83"/>
                    </a:lnTo>
                    <a:lnTo>
                      <a:pt x="125" y="165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83200" y="3360600"/>
                <a:ext cx="31680" cy="59040"/>
              </a:xfrm>
              <a:custGeom>
                <a:avLst/>
                <a:gdLst/>
                <a:ahLst/>
                <a:rect l="l" t="t" r="r" b="b"/>
                <a:pathLst>
                  <a:path w="250" h="643">
                    <a:moveTo>
                      <a:pt x="180" y="23"/>
                    </a:moveTo>
                    <a:lnTo>
                      <a:pt x="250" y="643"/>
                    </a:lnTo>
                    <a:lnTo>
                      <a:pt x="162" y="632"/>
                    </a:lnTo>
                    <a:lnTo>
                      <a:pt x="73" y="621"/>
                    </a:lnTo>
                    <a:lnTo>
                      <a:pt x="0" y="0"/>
                    </a:lnTo>
                    <a:lnTo>
                      <a:pt x="90" y="13"/>
                    </a:lnTo>
                    <a:lnTo>
                      <a:pt x="180" y="23"/>
                    </a:lnTo>
                    <a:close/>
                  </a:path>
                </a:pathLst>
              </a:custGeom>
              <a:solidFill>
                <a:srgbClr val="535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159080" y="335772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54" h="650">
                    <a:moveTo>
                      <a:pt x="181" y="29"/>
                    </a:moveTo>
                    <a:lnTo>
                      <a:pt x="254" y="650"/>
                    </a:lnTo>
                    <a:lnTo>
                      <a:pt x="167" y="636"/>
                    </a:lnTo>
                    <a:lnTo>
                      <a:pt x="80" y="621"/>
                    </a:lnTo>
                    <a:lnTo>
                      <a:pt x="0" y="0"/>
                    </a:lnTo>
                    <a:lnTo>
                      <a:pt x="90" y="16"/>
                    </a:lnTo>
                    <a:lnTo>
                      <a:pt x="181" y="29"/>
                    </a:lnTo>
                    <a:close/>
                  </a:path>
                </a:pathLst>
              </a:custGeom>
              <a:solidFill>
                <a:srgbClr val="4c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135320" y="335592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258" h="656">
                    <a:moveTo>
                      <a:pt x="178" y="35"/>
                    </a:moveTo>
                    <a:lnTo>
                      <a:pt x="258" y="656"/>
                    </a:lnTo>
                    <a:lnTo>
                      <a:pt x="171" y="639"/>
                    </a:lnTo>
                    <a:lnTo>
                      <a:pt x="85" y="621"/>
                    </a:lnTo>
                    <a:lnTo>
                      <a:pt x="0" y="0"/>
                    </a:lnTo>
                    <a:lnTo>
                      <a:pt x="89" y="18"/>
                    </a:lnTo>
                    <a:lnTo>
                      <a:pt x="178" y="35"/>
                    </a:lnTo>
                    <a:close/>
                  </a:path>
                </a:pathLst>
              </a:custGeom>
              <a:solidFill>
                <a:srgbClr val="454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114800" y="3349800"/>
                <a:ext cx="31680" cy="61560"/>
              </a:xfrm>
              <a:custGeom>
                <a:avLst/>
                <a:gdLst/>
                <a:ahLst/>
                <a:rect l="l" t="t" r="r" b="b"/>
                <a:pathLst>
                  <a:path w="262" h="665">
                    <a:moveTo>
                      <a:pt x="177" y="44"/>
                    </a:moveTo>
                    <a:lnTo>
                      <a:pt x="262" y="665"/>
                    </a:lnTo>
                    <a:lnTo>
                      <a:pt x="176" y="646"/>
                    </a:lnTo>
                    <a:lnTo>
                      <a:pt x="89" y="624"/>
                    </a:lnTo>
                    <a:lnTo>
                      <a:pt x="0" y="0"/>
                    </a:lnTo>
                    <a:lnTo>
                      <a:pt x="88" y="23"/>
                    </a:lnTo>
                    <a:lnTo>
                      <a:pt x="177" y="44"/>
                    </a:lnTo>
                    <a:close/>
                  </a:path>
                </a:pathLst>
              </a:custGeom>
              <a:solidFill>
                <a:srgbClr val="3c39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91040" y="33465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264" h="673">
                    <a:moveTo>
                      <a:pt x="175" y="49"/>
                    </a:moveTo>
                    <a:lnTo>
                      <a:pt x="264" y="673"/>
                    </a:lnTo>
                    <a:lnTo>
                      <a:pt x="179" y="649"/>
                    </a:lnTo>
                    <a:lnTo>
                      <a:pt x="95" y="624"/>
                    </a:lnTo>
                    <a:lnTo>
                      <a:pt x="0" y="0"/>
                    </a:lnTo>
                    <a:lnTo>
                      <a:pt x="87" y="25"/>
                    </a:lnTo>
                    <a:lnTo>
                      <a:pt x="175" y="4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68720" y="334008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266" h="681">
                    <a:moveTo>
                      <a:pt x="171" y="57"/>
                    </a:moveTo>
                    <a:lnTo>
                      <a:pt x="266" y="681"/>
                    </a:lnTo>
                    <a:lnTo>
                      <a:pt x="182" y="654"/>
                    </a:lnTo>
                    <a:lnTo>
                      <a:pt x="99" y="625"/>
                    </a:lnTo>
                    <a:lnTo>
                      <a:pt x="0" y="0"/>
                    </a:lnTo>
                    <a:lnTo>
                      <a:pt x="85" y="29"/>
                    </a:lnTo>
                    <a:lnTo>
                      <a:pt x="171" y="57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048200" y="3333600"/>
                <a:ext cx="33120" cy="65160"/>
              </a:xfrm>
              <a:custGeom>
                <a:avLst/>
                <a:gdLst/>
                <a:ahLst/>
                <a:rect l="l" t="t" r="r" b="b"/>
                <a:pathLst>
                  <a:path w="269" h="690">
                    <a:moveTo>
                      <a:pt x="170" y="65"/>
                    </a:moveTo>
                    <a:lnTo>
                      <a:pt x="269" y="690"/>
                    </a:lnTo>
                    <a:lnTo>
                      <a:pt x="187" y="660"/>
                    </a:lnTo>
                    <a:lnTo>
                      <a:pt x="105" y="628"/>
                    </a:lnTo>
                    <a:lnTo>
                      <a:pt x="0" y="0"/>
                    </a:lnTo>
                    <a:lnTo>
                      <a:pt x="84" y="33"/>
                    </a:lnTo>
                    <a:lnTo>
                      <a:pt x="170" y="65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025880" y="3328920"/>
                <a:ext cx="34920" cy="63720"/>
              </a:xfrm>
              <a:custGeom>
                <a:avLst/>
                <a:gdLst/>
                <a:ahLst/>
                <a:rect l="l" t="t" r="r" b="b"/>
                <a:pathLst>
                  <a:path w="270" h="700">
                    <a:moveTo>
                      <a:pt x="165" y="72"/>
                    </a:moveTo>
                    <a:lnTo>
                      <a:pt x="270" y="700"/>
                    </a:lnTo>
                    <a:lnTo>
                      <a:pt x="190" y="666"/>
                    </a:lnTo>
                    <a:lnTo>
                      <a:pt x="110" y="629"/>
                    </a:lnTo>
                    <a:lnTo>
                      <a:pt x="0" y="0"/>
                    </a:lnTo>
                    <a:lnTo>
                      <a:pt x="82" y="37"/>
                    </a:lnTo>
                    <a:lnTo>
                      <a:pt x="165" y="72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006800" y="3321000"/>
                <a:ext cx="33480" cy="65160"/>
              </a:xfrm>
              <a:custGeom>
                <a:avLst/>
                <a:gdLst/>
                <a:ahLst/>
                <a:rect l="l" t="t" r="r" b="b"/>
                <a:pathLst>
                  <a:path w="270" h="709">
                    <a:moveTo>
                      <a:pt x="160" y="80"/>
                    </a:moveTo>
                    <a:lnTo>
                      <a:pt x="270" y="709"/>
                    </a:lnTo>
                    <a:lnTo>
                      <a:pt x="191" y="672"/>
                    </a:lnTo>
                    <a:lnTo>
                      <a:pt x="114" y="632"/>
                    </a:lnTo>
                    <a:lnTo>
                      <a:pt x="0" y="0"/>
                    </a:lnTo>
                    <a:lnTo>
                      <a:pt x="80" y="41"/>
                    </a:lnTo>
                    <a:lnTo>
                      <a:pt x="160" y="80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984480" y="331308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270" h="719">
                    <a:moveTo>
                      <a:pt x="156" y="87"/>
                    </a:moveTo>
                    <a:lnTo>
                      <a:pt x="270" y="719"/>
                    </a:lnTo>
                    <a:lnTo>
                      <a:pt x="193" y="677"/>
                    </a:lnTo>
                    <a:lnTo>
                      <a:pt x="118" y="634"/>
                    </a:lnTo>
                    <a:lnTo>
                      <a:pt x="0" y="0"/>
                    </a:lnTo>
                    <a:lnTo>
                      <a:pt x="77" y="44"/>
                    </a:lnTo>
                    <a:lnTo>
                      <a:pt x="156" y="87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967200" y="3303720"/>
                <a:ext cx="33480" cy="66600"/>
              </a:xfrm>
              <a:custGeom>
                <a:avLst/>
                <a:gdLst/>
                <a:ahLst/>
                <a:rect l="l" t="t" r="r" b="b"/>
                <a:pathLst>
                  <a:path w="268" h="730">
                    <a:moveTo>
                      <a:pt x="150" y="96"/>
                    </a:moveTo>
                    <a:lnTo>
                      <a:pt x="268" y="730"/>
                    </a:lnTo>
                    <a:lnTo>
                      <a:pt x="195" y="684"/>
                    </a:lnTo>
                    <a:lnTo>
                      <a:pt x="122" y="636"/>
                    </a:lnTo>
                    <a:lnTo>
                      <a:pt x="0" y="0"/>
                    </a:lnTo>
                    <a:lnTo>
                      <a:pt x="75" y="49"/>
                    </a:lnTo>
                    <a:lnTo>
                      <a:pt x="150" y="96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946680" y="3294000"/>
                <a:ext cx="34920" cy="69840"/>
              </a:xfrm>
              <a:custGeom>
                <a:avLst/>
                <a:gdLst/>
                <a:ahLst/>
                <a:rect l="l" t="t" r="r" b="b"/>
                <a:pathLst>
                  <a:path w="268" h="740">
                    <a:moveTo>
                      <a:pt x="146" y="104"/>
                    </a:moveTo>
                    <a:lnTo>
                      <a:pt x="268" y="740"/>
                    </a:lnTo>
                    <a:lnTo>
                      <a:pt x="197" y="691"/>
                    </a:lnTo>
                    <a:lnTo>
                      <a:pt x="127" y="639"/>
                    </a:lnTo>
                    <a:lnTo>
                      <a:pt x="0" y="0"/>
                    </a:lnTo>
                    <a:lnTo>
                      <a:pt x="72" y="53"/>
                    </a:lnTo>
                    <a:lnTo>
                      <a:pt x="146" y="104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929040" y="328464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265" h="752">
                    <a:moveTo>
                      <a:pt x="138" y="113"/>
                    </a:moveTo>
                    <a:lnTo>
                      <a:pt x="265" y="752"/>
                    </a:lnTo>
                    <a:lnTo>
                      <a:pt x="198" y="699"/>
                    </a:lnTo>
                    <a:lnTo>
                      <a:pt x="131" y="643"/>
                    </a:lnTo>
                    <a:lnTo>
                      <a:pt x="0" y="0"/>
                    </a:lnTo>
                    <a:lnTo>
                      <a:pt x="68" y="57"/>
                    </a:lnTo>
                    <a:lnTo>
                      <a:pt x="138" y="113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913200" y="3271680"/>
                <a:ext cx="33480" cy="71640"/>
              </a:xfrm>
              <a:custGeom>
                <a:avLst/>
                <a:gdLst/>
                <a:ahLst/>
                <a:rect l="l" t="t" r="r" b="b"/>
                <a:pathLst>
                  <a:path w="263" h="764">
                    <a:moveTo>
                      <a:pt x="132" y="121"/>
                    </a:moveTo>
                    <a:lnTo>
                      <a:pt x="263" y="764"/>
                    </a:lnTo>
                    <a:lnTo>
                      <a:pt x="197" y="706"/>
                    </a:lnTo>
                    <a:lnTo>
                      <a:pt x="135" y="646"/>
                    </a:lnTo>
                    <a:lnTo>
                      <a:pt x="0" y="0"/>
                    </a:lnTo>
                    <a:lnTo>
                      <a:pt x="65" y="62"/>
                    </a:lnTo>
                    <a:lnTo>
                      <a:pt x="132" y="121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897360" y="3260880"/>
                <a:ext cx="33120" cy="71280"/>
              </a:xfrm>
              <a:custGeom>
                <a:avLst/>
                <a:gdLst/>
                <a:ahLst/>
                <a:rect l="l" t="t" r="r" b="b"/>
                <a:pathLst>
                  <a:path w="260" h="776">
                    <a:moveTo>
                      <a:pt x="125" y="130"/>
                    </a:moveTo>
                    <a:lnTo>
                      <a:pt x="260" y="776"/>
                    </a:lnTo>
                    <a:lnTo>
                      <a:pt x="198" y="713"/>
                    </a:lnTo>
                    <a:lnTo>
                      <a:pt x="139" y="650"/>
                    </a:lnTo>
                    <a:lnTo>
                      <a:pt x="0" y="0"/>
                    </a:lnTo>
                    <a:lnTo>
                      <a:pt x="62" y="67"/>
                    </a:lnTo>
                    <a:lnTo>
                      <a:pt x="125" y="130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882960" y="3246480"/>
                <a:ext cx="31680" cy="74520"/>
              </a:xfrm>
              <a:custGeom>
                <a:avLst/>
                <a:gdLst/>
                <a:ahLst/>
                <a:rect l="l" t="t" r="r" b="b"/>
                <a:pathLst>
                  <a:path w="256" h="788">
                    <a:moveTo>
                      <a:pt x="117" y="138"/>
                    </a:moveTo>
                    <a:lnTo>
                      <a:pt x="256" y="788"/>
                    </a:lnTo>
                    <a:lnTo>
                      <a:pt x="197" y="721"/>
                    </a:lnTo>
                    <a:lnTo>
                      <a:pt x="142" y="653"/>
                    </a:lnTo>
                    <a:lnTo>
                      <a:pt x="0" y="0"/>
                    </a:lnTo>
                    <a:lnTo>
                      <a:pt x="58" y="70"/>
                    </a:lnTo>
                    <a:lnTo>
                      <a:pt x="117" y="138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814920" y="3139920"/>
                <a:ext cx="41040" cy="63720"/>
              </a:xfrm>
              <a:custGeom>
                <a:avLst/>
                <a:gdLst/>
                <a:ahLst/>
                <a:rect l="l" t="t" r="r" b="b"/>
                <a:pathLst>
                  <a:path w="332" h="686">
                    <a:moveTo>
                      <a:pt x="182" y="0"/>
                    </a:moveTo>
                    <a:lnTo>
                      <a:pt x="332" y="684"/>
                    </a:lnTo>
                    <a:lnTo>
                      <a:pt x="244" y="686"/>
                    </a:lnTo>
                    <a:lnTo>
                      <a:pt x="156" y="685"/>
                    </a:lnTo>
                    <a:lnTo>
                      <a:pt x="0" y="0"/>
                    </a:lnTo>
                    <a:lnTo>
                      <a:pt x="91" y="1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667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790800" y="313992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336" h="694">
                    <a:moveTo>
                      <a:pt x="180" y="9"/>
                    </a:moveTo>
                    <a:lnTo>
                      <a:pt x="336" y="694"/>
                    </a:lnTo>
                    <a:lnTo>
                      <a:pt x="249" y="689"/>
                    </a:lnTo>
                    <a:lnTo>
                      <a:pt x="161" y="684"/>
                    </a:lnTo>
                    <a:lnTo>
                      <a:pt x="0" y="0"/>
                    </a:lnTo>
                    <a:lnTo>
                      <a:pt x="90" y="6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5f6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767040" y="3138480"/>
                <a:ext cx="42840" cy="63360"/>
              </a:xfrm>
              <a:custGeom>
                <a:avLst/>
                <a:gdLst/>
                <a:ahLst/>
                <a:rect l="l" t="t" r="r" b="b"/>
                <a:pathLst>
                  <a:path w="341" h="704">
                    <a:moveTo>
                      <a:pt x="180" y="20"/>
                    </a:moveTo>
                    <a:lnTo>
                      <a:pt x="341" y="704"/>
                    </a:lnTo>
                    <a:lnTo>
                      <a:pt x="253" y="696"/>
                    </a:lnTo>
                    <a:lnTo>
                      <a:pt x="166" y="685"/>
                    </a:lnTo>
                    <a:lnTo>
                      <a:pt x="0" y="0"/>
                    </a:lnTo>
                    <a:lnTo>
                      <a:pt x="89" y="12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555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743280" y="313380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343" h="713">
                    <a:moveTo>
                      <a:pt x="177" y="28"/>
                    </a:moveTo>
                    <a:lnTo>
                      <a:pt x="343" y="713"/>
                    </a:lnTo>
                    <a:lnTo>
                      <a:pt x="257" y="700"/>
                    </a:lnTo>
                    <a:lnTo>
                      <a:pt x="171" y="685"/>
                    </a:lnTo>
                    <a:lnTo>
                      <a:pt x="0" y="0"/>
                    </a:lnTo>
                    <a:lnTo>
                      <a:pt x="88" y="16"/>
                    </a:lnTo>
                    <a:lnTo>
                      <a:pt x="177" y="28"/>
                    </a:lnTo>
                    <a:close/>
                  </a:path>
                </a:pathLst>
              </a:custGeom>
              <a:solidFill>
                <a:srgbClr val="4c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722760" y="3132000"/>
                <a:ext cx="42840" cy="66960"/>
              </a:xfrm>
              <a:custGeom>
                <a:avLst/>
                <a:gdLst/>
                <a:ahLst/>
                <a:rect l="l" t="t" r="r" b="b"/>
                <a:pathLst>
                  <a:path w="345" h="724">
                    <a:moveTo>
                      <a:pt x="174" y="39"/>
                    </a:moveTo>
                    <a:lnTo>
                      <a:pt x="345" y="724"/>
                    </a:lnTo>
                    <a:lnTo>
                      <a:pt x="261" y="707"/>
                    </a:lnTo>
                    <a:lnTo>
                      <a:pt x="177" y="686"/>
                    </a:lnTo>
                    <a:lnTo>
                      <a:pt x="0" y="0"/>
                    </a:lnTo>
                    <a:lnTo>
                      <a:pt x="87" y="20"/>
                    </a:lnTo>
                    <a:lnTo>
                      <a:pt x="174" y="39"/>
                    </a:lnTo>
                    <a:close/>
                  </a:path>
                </a:pathLst>
              </a:custGeom>
              <a:solidFill>
                <a:srgbClr val="3f3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700440" y="312732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348" h="735">
                    <a:moveTo>
                      <a:pt x="171" y="49"/>
                    </a:moveTo>
                    <a:lnTo>
                      <a:pt x="348" y="735"/>
                    </a:lnTo>
                    <a:lnTo>
                      <a:pt x="264" y="712"/>
                    </a:lnTo>
                    <a:lnTo>
                      <a:pt x="182" y="687"/>
                    </a:lnTo>
                    <a:lnTo>
                      <a:pt x="0" y="0"/>
                    </a:lnTo>
                    <a:lnTo>
                      <a:pt x="85" y="26"/>
                    </a:lnTo>
                    <a:lnTo>
                      <a:pt x="171" y="4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679920" y="3121200"/>
                <a:ext cx="42840" cy="69840"/>
              </a:xfrm>
              <a:custGeom>
                <a:avLst/>
                <a:gdLst/>
                <a:ahLst/>
                <a:rect l="l" t="t" r="r" b="b"/>
                <a:pathLst>
                  <a:path w="347" h="747">
                    <a:moveTo>
                      <a:pt x="165" y="60"/>
                    </a:moveTo>
                    <a:lnTo>
                      <a:pt x="347" y="747"/>
                    </a:lnTo>
                    <a:lnTo>
                      <a:pt x="266" y="720"/>
                    </a:lnTo>
                    <a:lnTo>
                      <a:pt x="186" y="690"/>
                    </a:lnTo>
                    <a:lnTo>
                      <a:pt x="0" y="0"/>
                    </a:lnTo>
                    <a:lnTo>
                      <a:pt x="82" y="31"/>
                    </a:lnTo>
                    <a:lnTo>
                      <a:pt x="165" y="60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657600" y="311472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347" h="759">
                    <a:moveTo>
                      <a:pt x="161" y="69"/>
                    </a:moveTo>
                    <a:lnTo>
                      <a:pt x="347" y="759"/>
                    </a:lnTo>
                    <a:lnTo>
                      <a:pt x="268" y="726"/>
                    </a:lnTo>
                    <a:lnTo>
                      <a:pt x="190" y="692"/>
                    </a:lnTo>
                    <a:lnTo>
                      <a:pt x="0" y="0"/>
                    </a:lnTo>
                    <a:lnTo>
                      <a:pt x="80" y="36"/>
                    </a:lnTo>
                    <a:lnTo>
                      <a:pt x="161" y="6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637080" y="310680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345" h="771">
                    <a:moveTo>
                      <a:pt x="155" y="79"/>
                    </a:moveTo>
                    <a:lnTo>
                      <a:pt x="345" y="771"/>
                    </a:lnTo>
                    <a:lnTo>
                      <a:pt x="269" y="734"/>
                    </a:lnTo>
                    <a:lnTo>
                      <a:pt x="195" y="693"/>
                    </a:lnTo>
                    <a:lnTo>
                      <a:pt x="0" y="0"/>
                    </a:lnTo>
                    <a:lnTo>
                      <a:pt x="76" y="4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383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619440" y="309888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344" h="782">
                    <a:moveTo>
                      <a:pt x="149" y="89"/>
                    </a:moveTo>
                    <a:lnTo>
                      <a:pt x="344" y="782"/>
                    </a:lnTo>
                    <a:lnTo>
                      <a:pt x="270" y="740"/>
                    </a:lnTo>
                    <a:lnTo>
                      <a:pt x="199" y="695"/>
                    </a:lnTo>
                    <a:lnTo>
                      <a:pt x="0" y="0"/>
                    </a:lnTo>
                    <a:lnTo>
                      <a:pt x="73" y="46"/>
                    </a:lnTo>
                    <a:lnTo>
                      <a:pt x="149" y="89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600360" y="3089160"/>
                <a:ext cx="44640" cy="74880"/>
              </a:xfrm>
              <a:custGeom>
                <a:avLst/>
                <a:gdLst/>
                <a:ahLst/>
                <a:rect l="l" t="t" r="r" b="b"/>
                <a:pathLst>
                  <a:path w="340" h="795">
                    <a:moveTo>
                      <a:pt x="141" y="100"/>
                    </a:moveTo>
                    <a:lnTo>
                      <a:pt x="340" y="795"/>
                    </a:lnTo>
                    <a:lnTo>
                      <a:pt x="271" y="748"/>
                    </a:lnTo>
                    <a:lnTo>
                      <a:pt x="203" y="698"/>
                    </a:lnTo>
                    <a:lnTo>
                      <a:pt x="0" y="0"/>
                    </a:lnTo>
                    <a:lnTo>
                      <a:pt x="70" y="51"/>
                    </a:lnTo>
                    <a:lnTo>
                      <a:pt x="141" y="100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583080" y="307980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336" h="809">
                    <a:moveTo>
                      <a:pt x="133" y="111"/>
                    </a:moveTo>
                    <a:lnTo>
                      <a:pt x="336" y="809"/>
                    </a:lnTo>
                    <a:lnTo>
                      <a:pt x="270" y="756"/>
                    </a:lnTo>
                    <a:lnTo>
                      <a:pt x="207" y="701"/>
                    </a:lnTo>
                    <a:lnTo>
                      <a:pt x="0" y="0"/>
                    </a:lnTo>
                    <a:lnTo>
                      <a:pt x="65" y="57"/>
                    </a:lnTo>
                    <a:lnTo>
                      <a:pt x="133" y="111"/>
                    </a:lnTo>
                    <a:close/>
                  </a:path>
                </a:pathLst>
              </a:custGeom>
              <a:solidFill>
                <a:srgbClr val="363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567240" y="3068640"/>
                <a:ext cx="42840" cy="76320"/>
              </a:xfrm>
              <a:custGeom>
                <a:avLst/>
                <a:gdLst/>
                <a:ahLst/>
                <a:rect l="l" t="t" r="r" b="b"/>
                <a:pathLst>
                  <a:path w="331" h="822">
                    <a:moveTo>
                      <a:pt x="124" y="121"/>
                    </a:moveTo>
                    <a:lnTo>
                      <a:pt x="331" y="822"/>
                    </a:lnTo>
                    <a:lnTo>
                      <a:pt x="269" y="764"/>
                    </a:lnTo>
                    <a:lnTo>
                      <a:pt x="210" y="705"/>
                    </a:lnTo>
                    <a:lnTo>
                      <a:pt x="0" y="0"/>
                    </a:lnTo>
                    <a:lnTo>
                      <a:pt x="60" y="62"/>
                    </a:lnTo>
                    <a:lnTo>
                      <a:pt x="124" y="121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552840" y="3057480"/>
                <a:ext cx="41400" cy="76320"/>
              </a:xfrm>
              <a:custGeom>
                <a:avLst/>
                <a:gdLst/>
                <a:ahLst/>
                <a:rect l="l" t="t" r="r" b="b"/>
                <a:pathLst>
                  <a:path w="325" h="837">
                    <a:moveTo>
                      <a:pt x="115" y="132"/>
                    </a:moveTo>
                    <a:lnTo>
                      <a:pt x="325" y="837"/>
                    </a:lnTo>
                    <a:lnTo>
                      <a:pt x="267" y="773"/>
                    </a:lnTo>
                    <a:lnTo>
                      <a:pt x="213" y="709"/>
                    </a:lnTo>
                    <a:lnTo>
                      <a:pt x="0" y="0"/>
                    </a:lnTo>
                    <a:lnTo>
                      <a:pt x="56" y="68"/>
                    </a:lnTo>
                    <a:lnTo>
                      <a:pt x="115" y="132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538440" y="3043080"/>
                <a:ext cx="41400" cy="79560"/>
              </a:xfrm>
              <a:custGeom>
                <a:avLst/>
                <a:gdLst/>
                <a:ahLst/>
                <a:rect l="l" t="t" r="r" b="b"/>
                <a:pathLst>
                  <a:path w="319" h="850">
                    <a:moveTo>
                      <a:pt x="106" y="141"/>
                    </a:moveTo>
                    <a:lnTo>
                      <a:pt x="319" y="850"/>
                    </a:lnTo>
                    <a:lnTo>
                      <a:pt x="267" y="781"/>
                    </a:lnTo>
                    <a:lnTo>
                      <a:pt x="216" y="711"/>
                    </a:lnTo>
                    <a:lnTo>
                      <a:pt x="0" y="0"/>
                    </a:lnTo>
                    <a:lnTo>
                      <a:pt x="51" y="72"/>
                    </a:lnTo>
                    <a:lnTo>
                      <a:pt x="106" y="141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527280" y="3030480"/>
                <a:ext cx="39960" cy="79560"/>
              </a:xfrm>
              <a:custGeom>
                <a:avLst/>
                <a:gdLst/>
                <a:ahLst/>
                <a:rect l="l" t="t" r="r" b="b"/>
                <a:pathLst>
                  <a:path w="310" h="864">
                    <a:moveTo>
                      <a:pt x="94" y="153"/>
                    </a:moveTo>
                    <a:lnTo>
                      <a:pt x="310" y="864"/>
                    </a:lnTo>
                    <a:lnTo>
                      <a:pt x="263" y="791"/>
                    </a:lnTo>
                    <a:lnTo>
                      <a:pt x="219" y="715"/>
                    </a:lnTo>
                    <a:lnTo>
                      <a:pt x="0" y="0"/>
                    </a:lnTo>
                    <a:lnTo>
                      <a:pt x="46" y="78"/>
                    </a:lnTo>
                    <a:lnTo>
                      <a:pt x="94" y="153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835440" y="3139920"/>
                <a:ext cx="25200" cy="66960"/>
              </a:xfrm>
              <a:custGeom>
                <a:avLst/>
                <a:gdLst/>
                <a:ahLst/>
                <a:rect l="l" t="t" r="r" b="b"/>
                <a:pathLst>
                  <a:path w="187" h="722">
                    <a:moveTo>
                      <a:pt x="38" y="40"/>
                    </a:moveTo>
                    <a:lnTo>
                      <a:pt x="187" y="722"/>
                    </a:lnTo>
                    <a:lnTo>
                      <a:pt x="182" y="718"/>
                    </a:lnTo>
                    <a:lnTo>
                      <a:pt x="178" y="713"/>
                    </a:lnTo>
                    <a:lnTo>
                      <a:pt x="173" y="708"/>
                    </a:lnTo>
                    <a:lnTo>
                      <a:pt x="169" y="703"/>
                    </a:lnTo>
                    <a:lnTo>
                      <a:pt x="165" y="698"/>
                    </a:lnTo>
                    <a:lnTo>
                      <a:pt x="160" y="694"/>
                    </a:lnTo>
                    <a:lnTo>
                      <a:pt x="155" y="689"/>
                    </a:lnTo>
                    <a:lnTo>
                      <a:pt x="150" y="684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9" y="11"/>
                    </a:lnTo>
                    <a:lnTo>
                      <a:pt x="14" y="15"/>
                    </a:lnTo>
                    <a:lnTo>
                      <a:pt x="18" y="20"/>
                    </a:lnTo>
                    <a:lnTo>
                      <a:pt x="23" y="25"/>
                    </a:lnTo>
                    <a:lnTo>
                      <a:pt x="28" y="31"/>
                    </a:lnTo>
                    <a:lnTo>
                      <a:pt x="32" y="35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868560" y="3233880"/>
                <a:ext cx="32040" cy="74520"/>
              </a:xfrm>
              <a:custGeom>
                <a:avLst/>
                <a:gdLst/>
                <a:ahLst/>
                <a:rect l="l" t="t" r="r" b="b"/>
                <a:pathLst>
                  <a:path w="246" h="814">
                    <a:moveTo>
                      <a:pt x="104" y="161"/>
                    </a:moveTo>
                    <a:lnTo>
                      <a:pt x="246" y="814"/>
                    </a:lnTo>
                    <a:lnTo>
                      <a:pt x="224" y="783"/>
                    </a:lnTo>
                    <a:lnTo>
                      <a:pt x="203" y="752"/>
                    </a:lnTo>
                    <a:lnTo>
                      <a:pt x="182" y="721"/>
                    </a:lnTo>
                    <a:lnTo>
                      <a:pt x="163" y="690"/>
                    </a:lnTo>
                    <a:lnTo>
                      <a:pt x="143" y="657"/>
                    </a:lnTo>
                    <a:lnTo>
                      <a:pt x="0" y="0"/>
                    </a:lnTo>
                    <a:lnTo>
                      <a:pt x="19" y="33"/>
                    </a:lnTo>
                    <a:lnTo>
                      <a:pt x="40" y="65"/>
                    </a:lnTo>
                    <a:lnTo>
                      <a:pt x="60" y="97"/>
                    </a:lnTo>
                    <a:lnTo>
                      <a:pt x="82" y="129"/>
                    </a:lnTo>
                    <a:lnTo>
                      <a:pt x="104" y="161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857760" y="3218040"/>
                <a:ext cx="28440" cy="75960"/>
              </a:xfrm>
              <a:custGeom>
                <a:avLst/>
                <a:gdLst/>
                <a:ahLst/>
                <a:rect l="l" t="t" r="r" b="b"/>
                <a:pathLst>
                  <a:path w="232" h="822">
                    <a:moveTo>
                      <a:pt x="89" y="165"/>
                    </a:moveTo>
                    <a:lnTo>
                      <a:pt x="232" y="822"/>
                    </a:lnTo>
                    <a:lnTo>
                      <a:pt x="214" y="791"/>
                    </a:lnTo>
                    <a:lnTo>
                      <a:pt x="196" y="759"/>
                    </a:lnTo>
                    <a:lnTo>
                      <a:pt x="179" y="727"/>
                    </a:lnTo>
                    <a:lnTo>
                      <a:pt x="163" y="694"/>
                    </a:lnTo>
                    <a:lnTo>
                      <a:pt x="146" y="661"/>
                    </a:lnTo>
                    <a:lnTo>
                      <a:pt x="0" y="0"/>
                    </a:lnTo>
                    <a:lnTo>
                      <a:pt x="16" y="33"/>
                    </a:lnTo>
                    <a:lnTo>
                      <a:pt x="33" y="66"/>
                    </a:lnTo>
                    <a:lnTo>
                      <a:pt x="51" y="100"/>
                    </a:lnTo>
                    <a:lnTo>
                      <a:pt x="69" y="133"/>
                    </a:lnTo>
                    <a:lnTo>
                      <a:pt x="89" y="165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846600" y="3198960"/>
                <a:ext cx="28440" cy="79200"/>
              </a:xfrm>
              <a:custGeom>
                <a:avLst/>
                <a:gdLst/>
                <a:ahLst/>
                <a:rect l="l" t="t" r="r" b="b"/>
                <a:pathLst>
                  <a:path w="226" h="869">
                    <a:moveTo>
                      <a:pt x="80" y="208"/>
                    </a:moveTo>
                    <a:lnTo>
                      <a:pt x="226" y="869"/>
                    </a:lnTo>
                    <a:lnTo>
                      <a:pt x="212" y="836"/>
                    </a:lnTo>
                    <a:lnTo>
                      <a:pt x="197" y="802"/>
                    </a:lnTo>
                    <a:lnTo>
                      <a:pt x="184" y="769"/>
                    </a:lnTo>
                    <a:lnTo>
                      <a:pt x="171" y="736"/>
                    </a:lnTo>
                    <a:lnTo>
                      <a:pt x="160" y="702"/>
                    </a:lnTo>
                    <a:lnTo>
                      <a:pt x="148" y="668"/>
                    </a:lnTo>
                    <a:lnTo>
                      <a:pt x="0" y="0"/>
                    </a:lnTo>
                    <a:lnTo>
                      <a:pt x="11" y="36"/>
                    </a:lnTo>
                    <a:lnTo>
                      <a:pt x="23" y="70"/>
                    </a:lnTo>
                    <a:lnTo>
                      <a:pt x="35" y="105"/>
                    </a:lnTo>
                    <a:lnTo>
                      <a:pt x="50" y="139"/>
                    </a:lnTo>
                    <a:lnTo>
                      <a:pt x="64" y="173"/>
                    </a:lnTo>
                    <a:lnTo>
                      <a:pt x="80" y="208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843360" y="3189240"/>
                <a:ext cx="22320" cy="71640"/>
              </a:xfrm>
              <a:custGeom>
                <a:avLst/>
                <a:gdLst/>
                <a:ahLst/>
                <a:rect l="l" t="t" r="r" b="b"/>
                <a:pathLst>
                  <a:path w="177" h="774">
                    <a:moveTo>
                      <a:pt x="29" y="106"/>
                    </a:moveTo>
                    <a:lnTo>
                      <a:pt x="177" y="774"/>
                    </a:lnTo>
                    <a:lnTo>
                      <a:pt x="167" y="740"/>
                    </a:lnTo>
                    <a:lnTo>
                      <a:pt x="158" y="705"/>
                    </a:lnTo>
                    <a:lnTo>
                      <a:pt x="150" y="670"/>
                    </a:lnTo>
                    <a:lnTo>
                      <a:pt x="0" y="0"/>
                    </a:lnTo>
                    <a:lnTo>
                      <a:pt x="8" y="36"/>
                    </a:lnTo>
                    <a:lnTo>
                      <a:pt x="18" y="71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519360" y="301464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289" h="872">
                    <a:moveTo>
                      <a:pt x="70" y="157"/>
                    </a:moveTo>
                    <a:lnTo>
                      <a:pt x="289" y="872"/>
                    </a:lnTo>
                    <a:lnTo>
                      <a:pt x="265" y="821"/>
                    </a:lnTo>
                    <a:lnTo>
                      <a:pt x="242" y="771"/>
                    </a:lnTo>
                    <a:lnTo>
                      <a:pt x="221" y="720"/>
                    </a:lnTo>
                    <a:lnTo>
                      <a:pt x="0" y="0"/>
                    </a:lnTo>
                    <a:lnTo>
                      <a:pt x="22" y="53"/>
                    </a:lnTo>
                    <a:lnTo>
                      <a:pt x="45" y="105"/>
                    </a:lnTo>
                    <a:lnTo>
                      <a:pt x="70" y="157"/>
                    </a:lnTo>
                    <a:close/>
                  </a:path>
                </a:pathLst>
              </a:custGeom>
              <a:solidFill>
                <a:srgbClr val="2d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511440" y="300024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274" h="875">
                    <a:moveTo>
                      <a:pt x="53" y="155"/>
                    </a:moveTo>
                    <a:lnTo>
                      <a:pt x="274" y="875"/>
                    </a:lnTo>
                    <a:lnTo>
                      <a:pt x="255" y="824"/>
                    </a:lnTo>
                    <a:lnTo>
                      <a:pt x="238" y="774"/>
                    </a:lnTo>
                    <a:lnTo>
                      <a:pt x="221" y="724"/>
                    </a:lnTo>
                    <a:lnTo>
                      <a:pt x="0" y="0"/>
                    </a:lnTo>
                    <a:lnTo>
                      <a:pt x="16" y="52"/>
                    </a:lnTo>
                    <a:lnTo>
                      <a:pt x="33" y="103"/>
                    </a:lnTo>
                    <a:lnTo>
                      <a:pt x="53" y="155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753000" y="2771640"/>
                <a:ext cx="37800" cy="86040"/>
              </a:xfrm>
              <a:custGeom>
                <a:avLst/>
                <a:gdLst/>
                <a:ahLst/>
                <a:rect l="l" t="t" r="r" b="b"/>
                <a:pathLst>
                  <a:path w="289" h="914">
                    <a:moveTo>
                      <a:pt x="125" y="132"/>
                    </a:moveTo>
                    <a:lnTo>
                      <a:pt x="289" y="914"/>
                    </a:lnTo>
                    <a:lnTo>
                      <a:pt x="256" y="883"/>
                    </a:lnTo>
                    <a:lnTo>
                      <a:pt x="225" y="851"/>
                    </a:lnTo>
                    <a:lnTo>
                      <a:pt x="195" y="818"/>
                    </a:lnTo>
                    <a:lnTo>
                      <a:pt x="168" y="785"/>
                    </a:lnTo>
                    <a:lnTo>
                      <a:pt x="0" y="0"/>
                    </a:lnTo>
                    <a:lnTo>
                      <a:pt x="29" y="33"/>
                    </a:lnTo>
                    <a:lnTo>
                      <a:pt x="60" y="67"/>
                    </a:lnTo>
                    <a:lnTo>
                      <a:pt x="92" y="100"/>
                    </a:lnTo>
                    <a:lnTo>
                      <a:pt x="125" y="132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736800" y="2755800"/>
                <a:ext cx="38160" cy="88920"/>
              </a:xfrm>
              <a:custGeom>
                <a:avLst/>
                <a:gdLst/>
                <a:ahLst/>
                <a:rect l="l" t="t" r="r" b="b"/>
                <a:pathLst>
                  <a:path w="288" h="961">
                    <a:moveTo>
                      <a:pt x="120" y="176"/>
                    </a:moveTo>
                    <a:lnTo>
                      <a:pt x="288" y="961"/>
                    </a:lnTo>
                    <a:lnTo>
                      <a:pt x="261" y="928"/>
                    </a:lnTo>
                    <a:lnTo>
                      <a:pt x="236" y="894"/>
                    </a:lnTo>
                    <a:lnTo>
                      <a:pt x="213" y="860"/>
                    </a:lnTo>
                    <a:lnTo>
                      <a:pt x="191" y="826"/>
                    </a:lnTo>
                    <a:lnTo>
                      <a:pt x="171" y="790"/>
                    </a:lnTo>
                    <a:lnTo>
                      <a:pt x="0" y="0"/>
                    </a:lnTo>
                    <a:lnTo>
                      <a:pt x="21" y="36"/>
                    </a:lnTo>
                    <a:lnTo>
                      <a:pt x="43" y="72"/>
                    </a:lnTo>
                    <a:lnTo>
                      <a:pt x="68" y="107"/>
                    </a:lnTo>
                    <a:lnTo>
                      <a:pt x="94" y="141"/>
                    </a:lnTo>
                    <a:lnTo>
                      <a:pt x="120" y="176"/>
                    </a:lnTo>
                    <a:close/>
                  </a:path>
                </a:pathLst>
              </a:custGeom>
              <a:solidFill>
                <a:srgbClr val="312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727440" y="2738520"/>
                <a:ext cx="33480" cy="92160"/>
              </a:xfrm>
              <a:custGeom>
                <a:avLst/>
                <a:gdLst/>
                <a:ahLst/>
                <a:rect l="l" t="t" r="r" b="b"/>
                <a:pathLst>
                  <a:path w="252" h="978">
                    <a:moveTo>
                      <a:pt x="81" y="188"/>
                    </a:moveTo>
                    <a:lnTo>
                      <a:pt x="252" y="978"/>
                    </a:lnTo>
                    <a:lnTo>
                      <a:pt x="232" y="942"/>
                    </a:lnTo>
                    <a:lnTo>
                      <a:pt x="216" y="906"/>
                    </a:lnTo>
                    <a:lnTo>
                      <a:pt x="199" y="870"/>
                    </a:lnTo>
                    <a:lnTo>
                      <a:pt x="186" y="833"/>
                    </a:lnTo>
                    <a:lnTo>
                      <a:pt x="173" y="795"/>
                    </a:lnTo>
                    <a:lnTo>
                      <a:pt x="0" y="0"/>
                    </a:lnTo>
                    <a:lnTo>
                      <a:pt x="14" y="39"/>
                    </a:lnTo>
                    <a:lnTo>
                      <a:pt x="28" y="76"/>
                    </a:lnTo>
                    <a:lnTo>
                      <a:pt x="43" y="114"/>
                    </a:lnTo>
                    <a:lnTo>
                      <a:pt x="62" y="151"/>
                    </a:lnTo>
                    <a:lnTo>
                      <a:pt x="81" y="188"/>
                    </a:lnTo>
                    <a:close/>
                  </a:path>
                </a:pathLst>
              </a:custGeom>
              <a:solidFill>
                <a:srgbClr val="2b27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724200" y="2730600"/>
                <a:ext cx="25560" cy="82440"/>
              </a:xfrm>
              <a:custGeom>
                <a:avLst/>
                <a:gdLst/>
                <a:ahLst/>
                <a:rect l="l" t="t" r="r" b="b"/>
                <a:pathLst>
                  <a:path w="193" h="873">
                    <a:moveTo>
                      <a:pt x="20" y="78"/>
                    </a:moveTo>
                    <a:lnTo>
                      <a:pt x="193" y="873"/>
                    </a:lnTo>
                    <a:lnTo>
                      <a:pt x="182" y="836"/>
                    </a:lnTo>
                    <a:lnTo>
                      <a:pt x="173" y="798"/>
                    </a:lnTo>
                    <a:lnTo>
                      <a:pt x="0" y="0"/>
                    </a:lnTo>
                    <a:lnTo>
                      <a:pt x="9" y="40"/>
                    </a:lnTo>
                    <a:lnTo>
                      <a:pt x="20" y="78"/>
                    </a:lnTo>
                    <a:close/>
                  </a:path>
                </a:pathLst>
              </a:custGeom>
              <a:solidFill>
                <a:srgbClr val="262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505320" y="2590920"/>
                <a:ext cx="2109600" cy="1062000"/>
              </a:xfrm>
              <a:custGeom>
                <a:avLst/>
                <a:gdLst/>
                <a:ahLst/>
                <a:rect l="l" t="t" r="r" b="b"/>
                <a:pathLst>
                  <a:path w="16408" h="11518">
                    <a:moveTo>
                      <a:pt x="12894" y="1455"/>
                    </a:moveTo>
                    <a:lnTo>
                      <a:pt x="12992" y="1452"/>
                    </a:lnTo>
                    <a:lnTo>
                      <a:pt x="13091" y="1453"/>
                    </a:lnTo>
                    <a:lnTo>
                      <a:pt x="13190" y="1456"/>
                    </a:lnTo>
                    <a:lnTo>
                      <a:pt x="13290" y="1463"/>
                    </a:lnTo>
                    <a:lnTo>
                      <a:pt x="13391" y="1473"/>
                    </a:lnTo>
                    <a:lnTo>
                      <a:pt x="13490" y="1485"/>
                    </a:lnTo>
                    <a:lnTo>
                      <a:pt x="13591" y="1501"/>
                    </a:lnTo>
                    <a:lnTo>
                      <a:pt x="13690" y="1519"/>
                    </a:lnTo>
                    <a:lnTo>
                      <a:pt x="13790" y="1541"/>
                    </a:lnTo>
                    <a:lnTo>
                      <a:pt x="13888" y="1566"/>
                    </a:lnTo>
                    <a:lnTo>
                      <a:pt x="13987" y="1594"/>
                    </a:lnTo>
                    <a:lnTo>
                      <a:pt x="14083" y="1626"/>
                    </a:lnTo>
                    <a:lnTo>
                      <a:pt x="14179" y="1659"/>
                    </a:lnTo>
                    <a:lnTo>
                      <a:pt x="14273" y="1696"/>
                    </a:lnTo>
                    <a:lnTo>
                      <a:pt x="14365" y="1737"/>
                    </a:lnTo>
                    <a:lnTo>
                      <a:pt x="14455" y="1781"/>
                    </a:lnTo>
                    <a:lnTo>
                      <a:pt x="14545" y="1828"/>
                    </a:lnTo>
                    <a:lnTo>
                      <a:pt x="14631" y="1878"/>
                    </a:lnTo>
                    <a:lnTo>
                      <a:pt x="14715" y="1931"/>
                    </a:lnTo>
                    <a:lnTo>
                      <a:pt x="14797" y="1987"/>
                    </a:lnTo>
                    <a:lnTo>
                      <a:pt x="14876" y="2046"/>
                    </a:lnTo>
                    <a:lnTo>
                      <a:pt x="14952" y="2109"/>
                    </a:lnTo>
                    <a:lnTo>
                      <a:pt x="15026" y="2174"/>
                    </a:lnTo>
                    <a:lnTo>
                      <a:pt x="15095" y="2244"/>
                    </a:lnTo>
                    <a:lnTo>
                      <a:pt x="15162" y="2316"/>
                    </a:lnTo>
                    <a:lnTo>
                      <a:pt x="15225" y="2392"/>
                    </a:lnTo>
                    <a:lnTo>
                      <a:pt x="15283" y="2471"/>
                    </a:lnTo>
                    <a:lnTo>
                      <a:pt x="15338" y="2554"/>
                    </a:lnTo>
                    <a:lnTo>
                      <a:pt x="15389" y="2639"/>
                    </a:lnTo>
                    <a:lnTo>
                      <a:pt x="15436" y="2727"/>
                    </a:lnTo>
                    <a:lnTo>
                      <a:pt x="15478" y="2820"/>
                    </a:lnTo>
                    <a:lnTo>
                      <a:pt x="15515" y="2915"/>
                    </a:lnTo>
                    <a:lnTo>
                      <a:pt x="15530" y="2973"/>
                    </a:lnTo>
                    <a:lnTo>
                      <a:pt x="15544" y="3031"/>
                    </a:lnTo>
                    <a:lnTo>
                      <a:pt x="15555" y="3088"/>
                    </a:lnTo>
                    <a:lnTo>
                      <a:pt x="15563" y="3144"/>
                    </a:lnTo>
                    <a:lnTo>
                      <a:pt x="15569" y="3199"/>
                    </a:lnTo>
                    <a:lnTo>
                      <a:pt x="15573" y="3255"/>
                    </a:lnTo>
                    <a:lnTo>
                      <a:pt x="15575" y="3310"/>
                    </a:lnTo>
                    <a:lnTo>
                      <a:pt x="15575" y="3364"/>
                    </a:lnTo>
                    <a:lnTo>
                      <a:pt x="15572" y="3417"/>
                    </a:lnTo>
                    <a:lnTo>
                      <a:pt x="15568" y="3470"/>
                    </a:lnTo>
                    <a:lnTo>
                      <a:pt x="15561" y="3522"/>
                    </a:lnTo>
                    <a:lnTo>
                      <a:pt x="15553" y="3573"/>
                    </a:lnTo>
                    <a:lnTo>
                      <a:pt x="15541" y="3624"/>
                    </a:lnTo>
                    <a:lnTo>
                      <a:pt x="15528" y="3674"/>
                    </a:lnTo>
                    <a:lnTo>
                      <a:pt x="15514" y="3724"/>
                    </a:lnTo>
                    <a:lnTo>
                      <a:pt x="15496" y="3773"/>
                    </a:lnTo>
                    <a:lnTo>
                      <a:pt x="15478" y="3821"/>
                    </a:lnTo>
                    <a:lnTo>
                      <a:pt x="15456" y="3868"/>
                    </a:lnTo>
                    <a:lnTo>
                      <a:pt x="15434" y="3915"/>
                    </a:lnTo>
                    <a:lnTo>
                      <a:pt x="15409" y="3960"/>
                    </a:lnTo>
                    <a:lnTo>
                      <a:pt x="15383" y="4005"/>
                    </a:lnTo>
                    <a:lnTo>
                      <a:pt x="15355" y="4049"/>
                    </a:lnTo>
                    <a:lnTo>
                      <a:pt x="15324" y="4093"/>
                    </a:lnTo>
                    <a:lnTo>
                      <a:pt x="15292" y="4135"/>
                    </a:lnTo>
                    <a:lnTo>
                      <a:pt x="15259" y="4177"/>
                    </a:lnTo>
                    <a:lnTo>
                      <a:pt x="15224" y="4219"/>
                    </a:lnTo>
                    <a:lnTo>
                      <a:pt x="15187" y="4258"/>
                    </a:lnTo>
                    <a:lnTo>
                      <a:pt x="15149" y="4298"/>
                    </a:lnTo>
                    <a:lnTo>
                      <a:pt x="15108" y="4336"/>
                    </a:lnTo>
                    <a:lnTo>
                      <a:pt x="15067" y="4374"/>
                    </a:lnTo>
                    <a:lnTo>
                      <a:pt x="15023" y="4410"/>
                    </a:lnTo>
                    <a:lnTo>
                      <a:pt x="14978" y="4447"/>
                    </a:lnTo>
                    <a:lnTo>
                      <a:pt x="15048" y="4466"/>
                    </a:lnTo>
                    <a:lnTo>
                      <a:pt x="15117" y="4487"/>
                    </a:lnTo>
                    <a:lnTo>
                      <a:pt x="15186" y="4510"/>
                    </a:lnTo>
                    <a:lnTo>
                      <a:pt x="15252" y="4534"/>
                    </a:lnTo>
                    <a:lnTo>
                      <a:pt x="15318" y="4561"/>
                    </a:lnTo>
                    <a:lnTo>
                      <a:pt x="15381" y="4588"/>
                    </a:lnTo>
                    <a:lnTo>
                      <a:pt x="15444" y="4619"/>
                    </a:lnTo>
                    <a:lnTo>
                      <a:pt x="15506" y="4650"/>
                    </a:lnTo>
                    <a:lnTo>
                      <a:pt x="15566" y="4683"/>
                    </a:lnTo>
                    <a:lnTo>
                      <a:pt x="15625" y="4718"/>
                    </a:lnTo>
                    <a:lnTo>
                      <a:pt x="15681" y="4755"/>
                    </a:lnTo>
                    <a:lnTo>
                      <a:pt x="15736" y="4793"/>
                    </a:lnTo>
                    <a:lnTo>
                      <a:pt x="15790" y="4833"/>
                    </a:lnTo>
                    <a:lnTo>
                      <a:pt x="15841" y="4875"/>
                    </a:lnTo>
                    <a:lnTo>
                      <a:pt x="15891" y="4919"/>
                    </a:lnTo>
                    <a:lnTo>
                      <a:pt x="15939" y="4964"/>
                    </a:lnTo>
                    <a:lnTo>
                      <a:pt x="15985" y="5011"/>
                    </a:lnTo>
                    <a:lnTo>
                      <a:pt x="16030" y="5060"/>
                    </a:lnTo>
                    <a:lnTo>
                      <a:pt x="16072" y="5111"/>
                    </a:lnTo>
                    <a:lnTo>
                      <a:pt x="16112" y="5164"/>
                    </a:lnTo>
                    <a:lnTo>
                      <a:pt x="16150" y="5219"/>
                    </a:lnTo>
                    <a:lnTo>
                      <a:pt x="16184" y="5275"/>
                    </a:lnTo>
                    <a:lnTo>
                      <a:pt x="16218" y="5333"/>
                    </a:lnTo>
                    <a:lnTo>
                      <a:pt x="16249" y="5392"/>
                    </a:lnTo>
                    <a:lnTo>
                      <a:pt x="16278" y="5455"/>
                    </a:lnTo>
                    <a:lnTo>
                      <a:pt x="16303" y="5518"/>
                    </a:lnTo>
                    <a:lnTo>
                      <a:pt x="16327" y="5584"/>
                    </a:lnTo>
                    <a:lnTo>
                      <a:pt x="16349" y="5651"/>
                    </a:lnTo>
                    <a:lnTo>
                      <a:pt x="16367" y="5720"/>
                    </a:lnTo>
                    <a:lnTo>
                      <a:pt x="16382" y="5791"/>
                    </a:lnTo>
                    <a:lnTo>
                      <a:pt x="16396" y="5864"/>
                    </a:lnTo>
                    <a:lnTo>
                      <a:pt x="16406" y="5939"/>
                    </a:lnTo>
                    <a:lnTo>
                      <a:pt x="16408" y="6053"/>
                    </a:lnTo>
                    <a:lnTo>
                      <a:pt x="16404" y="6164"/>
                    </a:lnTo>
                    <a:lnTo>
                      <a:pt x="16395" y="6273"/>
                    </a:lnTo>
                    <a:lnTo>
                      <a:pt x="16378" y="6381"/>
                    </a:lnTo>
                    <a:lnTo>
                      <a:pt x="16357" y="6487"/>
                    </a:lnTo>
                    <a:lnTo>
                      <a:pt x="16329" y="6591"/>
                    </a:lnTo>
                    <a:lnTo>
                      <a:pt x="16296" y="6692"/>
                    </a:lnTo>
                    <a:lnTo>
                      <a:pt x="16258" y="6792"/>
                    </a:lnTo>
                    <a:lnTo>
                      <a:pt x="16215" y="6889"/>
                    </a:lnTo>
                    <a:lnTo>
                      <a:pt x="16167" y="6985"/>
                    </a:lnTo>
                    <a:lnTo>
                      <a:pt x="16115" y="7077"/>
                    </a:lnTo>
                    <a:lnTo>
                      <a:pt x="16058" y="7169"/>
                    </a:lnTo>
                    <a:lnTo>
                      <a:pt x="15997" y="7258"/>
                    </a:lnTo>
                    <a:lnTo>
                      <a:pt x="15932" y="7343"/>
                    </a:lnTo>
                    <a:lnTo>
                      <a:pt x="15862" y="7427"/>
                    </a:lnTo>
                    <a:lnTo>
                      <a:pt x="15791" y="7509"/>
                    </a:lnTo>
                    <a:lnTo>
                      <a:pt x="15715" y="7588"/>
                    </a:lnTo>
                    <a:lnTo>
                      <a:pt x="15635" y="7664"/>
                    </a:lnTo>
                    <a:lnTo>
                      <a:pt x="15553" y="7738"/>
                    </a:lnTo>
                    <a:lnTo>
                      <a:pt x="15468" y="7809"/>
                    </a:lnTo>
                    <a:lnTo>
                      <a:pt x="15380" y="7877"/>
                    </a:lnTo>
                    <a:lnTo>
                      <a:pt x="15290" y="7943"/>
                    </a:lnTo>
                    <a:lnTo>
                      <a:pt x="15198" y="8005"/>
                    </a:lnTo>
                    <a:lnTo>
                      <a:pt x="15104" y="8065"/>
                    </a:lnTo>
                    <a:lnTo>
                      <a:pt x="15008" y="8122"/>
                    </a:lnTo>
                    <a:lnTo>
                      <a:pt x="14910" y="8176"/>
                    </a:lnTo>
                    <a:lnTo>
                      <a:pt x="14811" y="8227"/>
                    </a:lnTo>
                    <a:lnTo>
                      <a:pt x="14711" y="8276"/>
                    </a:lnTo>
                    <a:lnTo>
                      <a:pt x="14610" y="8321"/>
                    </a:lnTo>
                    <a:lnTo>
                      <a:pt x="14508" y="8363"/>
                    </a:lnTo>
                    <a:lnTo>
                      <a:pt x="14406" y="8401"/>
                    </a:lnTo>
                    <a:lnTo>
                      <a:pt x="14303" y="8436"/>
                    </a:lnTo>
                    <a:lnTo>
                      <a:pt x="14269" y="8448"/>
                    </a:lnTo>
                    <a:lnTo>
                      <a:pt x="14234" y="8457"/>
                    </a:lnTo>
                    <a:lnTo>
                      <a:pt x="14199" y="8468"/>
                    </a:lnTo>
                    <a:lnTo>
                      <a:pt x="14165" y="8477"/>
                    </a:lnTo>
                    <a:lnTo>
                      <a:pt x="14130" y="8486"/>
                    </a:lnTo>
                    <a:lnTo>
                      <a:pt x="14095" y="8496"/>
                    </a:lnTo>
                    <a:lnTo>
                      <a:pt x="14062" y="8504"/>
                    </a:lnTo>
                    <a:lnTo>
                      <a:pt x="14027" y="8513"/>
                    </a:lnTo>
                    <a:lnTo>
                      <a:pt x="13992" y="8520"/>
                    </a:lnTo>
                    <a:lnTo>
                      <a:pt x="13957" y="8528"/>
                    </a:lnTo>
                    <a:lnTo>
                      <a:pt x="13923" y="8535"/>
                    </a:lnTo>
                    <a:lnTo>
                      <a:pt x="13888" y="8542"/>
                    </a:lnTo>
                    <a:lnTo>
                      <a:pt x="13853" y="8549"/>
                    </a:lnTo>
                    <a:lnTo>
                      <a:pt x="13819" y="8555"/>
                    </a:lnTo>
                    <a:lnTo>
                      <a:pt x="13784" y="8560"/>
                    </a:lnTo>
                    <a:lnTo>
                      <a:pt x="13749" y="8567"/>
                    </a:lnTo>
                    <a:lnTo>
                      <a:pt x="13713" y="8572"/>
                    </a:lnTo>
                    <a:lnTo>
                      <a:pt x="13678" y="8576"/>
                    </a:lnTo>
                    <a:lnTo>
                      <a:pt x="13643" y="8581"/>
                    </a:lnTo>
                    <a:lnTo>
                      <a:pt x="13608" y="8585"/>
                    </a:lnTo>
                    <a:lnTo>
                      <a:pt x="13572" y="8590"/>
                    </a:lnTo>
                    <a:lnTo>
                      <a:pt x="13538" y="8593"/>
                    </a:lnTo>
                    <a:lnTo>
                      <a:pt x="13502" y="8596"/>
                    </a:lnTo>
                    <a:lnTo>
                      <a:pt x="13466" y="8599"/>
                    </a:lnTo>
                    <a:lnTo>
                      <a:pt x="13431" y="8601"/>
                    </a:lnTo>
                    <a:lnTo>
                      <a:pt x="13395" y="8603"/>
                    </a:lnTo>
                    <a:lnTo>
                      <a:pt x="13359" y="8605"/>
                    </a:lnTo>
                    <a:lnTo>
                      <a:pt x="13323" y="8606"/>
                    </a:lnTo>
                    <a:lnTo>
                      <a:pt x="13287" y="8607"/>
                    </a:lnTo>
                    <a:lnTo>
                      <a:pt x="13250" y="8608"/>
                    </a:lnTo>
                    <a:lnTo>
                      <a:pt x="13215" y="8608"/>
                    </a:lnTo>
                    <a:lnTo>
                      <a:pt x="13179" y="8608"/>
                    </a:lnTo>
                    <a:lnTo>
                      <a:pt x="13156" y="8703"/>
                    </a:lnTo>
                    <a:lnTo>
                      <a:pt x="13132" y="8797"/>
                    </a:lnTo>
                    <a:lnTo>
                      <a:pt x="13105" y="8888"/>
                    </a:lnTo>
                    <a:lnTo>
                      <a:pt x="13075" y="8978"/>
                    </a:lnTo>
                    <a:lnTo>
                      <a:pt x="13042" y="9067"/>
                    </a:lnTo>
                    <a:lnTo>
                      <a:pt x="13006" y="9154"/>
                    </a:lnTo>
                    <a:lnTo>
                      <a:pt x="12969" y="9239"/>
                    </a:lnTo>
                    <a:lnTo>
                      <a:pt x="12928" y="9323"/>
                    </a:lnTo>
                    <a:lnTo>
                      <a:pt x="12886" y="9406"/>
                    </a:lnTo>
                    <a:lnTo>
                      <a:pt x="12840" y="9486"/>
                    </a:lnTo>
                    <a:lnTo>
                      <a:pt x="12793" y="9565"/>
                    </a:lnTo>
                    <a:lnTo>
                      <a:pt x="12744" y="9643"/>
                    </a:lnTo>
                    <a:lnTo>
                      <a:pt x="12692" y="9719"/>
                    </a:lnTo>
                    <a:lnTo>
                      <a:pt x="12637" y="9794"/>
                    </a:lnTo>
                    <a:lnTo>
                      <a:pt x="12581" y="9867"/>
                    </a:lnTo>
                    <a:lnTo>
                      <a:pt x="12522" y="9939"/>
                    </a:lnTo>
                    <a:lnTo>
                      <a:pt x="12462" y="10010"/>
                    </a:lnTo>
                    <a:lnTo>
                      <a:pt x="12399" y="10079"/>
                    </a:lnTo>
                    <a:lnTo>
                      <a:pt x="12336" y="10146"/>
                    </a:lnTo>
                    <a:lnTo>
                      <a:pt x="12269" y="10212"/>
                    </a:lnTo>
                    <a:lnTo>
                      <a:pt x="12201" y="10277"/>
                    </a:lnTo>
                    <a:lnTo>
                      <a:pt x="12132" y="10339"/>
                    </a:lnTo>
                    <a:lnTo>
                      <a:pt x="12060" y="10401"/>
                    </a:lnTo>
                    <a:lnTo>
                      <a:pt x="11987" y="10461"/>
                    </a:lnTo>
                    <a:lnTo>
                      <a:pt x="11912" y="10519"/>
                    </a:lnTo>
                    <a:lnTo>
                      <a:pt x="11836" y="10577"/>
                    </a:lnTo>
                    <a:lnTo>
                      <a:pt x="11758" y="10632"/>
                    </a:lnTo>
                    <a:lnTo>
                      <a:pt x="11679" y="10686"/>
                    </a:lnTo>
                    <a:lnTo>
                      <a:pt x="11599" y="10739"/>
                    </a:lnTo>
                    <a:lnTo>
                      <a:pt x="11517" y="10791"/>
                    </a:lnTo>
                    <a:lnTo>
                      <a:pt x="11434" y="10841"/>
                    </a:lnTo>
                    <a:lnTo>
                      <a:pt x="11350" y="10889"/>
                    </a:lnTo>
                    <a:lnTo>
                      <a:pt x="11320" y="10905"/>
                    </a:lnTo>
                    <a:lnTo>
                      <a:pt x="11292" y="10920"/>
                    </a:lnTo>
                    <a:lnTo>
                      <a:pt x="11262" y="10936"/>
                    </a:lnTo>
                    <a:lnTo>
                      <a:pt x="11232" y="10950"/>
                    </a:lnTo>
                    <a:lnTo>
                      <a:pt x="11203" y="10965"/>
                    </a:lnTo>
                    <a:lnTo>
                      <a:pt x="11174" y="10980"/>
                    </a:lnTo>
                    <a:lnTo>
                      <a:pt x="11144" y="10994"/>
                    </a:lnTo>
                    <a:lnTo>
                      <a:pt x="11114" y="11009"/>
                    </a:lnTo>
                    <a:lnTo>
                      <a:pt x="11084" y="11023"/>
                    </a:lnTo>
                    <a:lnTo>
                      <a:pt x="11054" y="11037"/>
                    </a:lnTo>
                    <a:lnTo>
                      <a:pt x="11024" y="11050"/>
                    </a:lnTo>
                    <a:lnTo>
                      <a:pt x="10994" y="11065"/>
                    </a:lnTo>
                    <a:lnTo>
                      <a:pt x="10964" y="11079"/>
                    </a:lnTo>
                    <a:lnTo>
                      <a:pt x="10934" y="11092"/>
                    </a:lnTo>
                    <a:lnTo>
                      <a:pt x="10903" y="11106"/>
                    </a:lnTo>
                    <a:lnTo>
                      <a:pt x="10872" y="11119"/>
                    </a:lnTo>
                    <a:lnTo>
                      <a:pt x="10805" y="11145"/>
                    </a:lnTo>
                    <a:lnTo>
                      <a:pt x="10737" y="11171"/>
                    </a:lnTo>
                    <a:lnTo>
                      <a:pt x="10668" y="11195"/>
                    </a:lnTo>
                    <a:lnTo>
                      <a:pt x="10601" y="11219"/>
                    </a:lnTo>
                    <a:lnTo>
                      <a:pt x="10533" y="11241"/>
                    </a:lnTo>
                    <a:lnTo>
                      <a:pt x="10466" y="11263"/>
                    </a:lnTo>
                    <a:lnTo>
                      <a:pt x="10399" y="11284"/>
                    </a:lnTo>
                    <a:lnTo>
                      <a:pt x="10331" y="11303"/>
                    </a:lnTo>
                    <a:lnTo>
                      <a:pt x="10263" y="11322"/>
                    </a:lnTo>
                    <a:lnTo>
                      <a:pt x="10197" y="11340"/>
                    </a:lnTo>
                    <a:lnTo>
                      <a:pt x="10129" y="11358"/>
                    </a:lnTo>
                    <a:lnTo>
                      <a:pt x="10061" y="11373"/>
                    </a:lnTo>
                    <a:lnTo>
                      <a:pt x="9993" y="11389"/>
                    </a:lnTo>
                    <a:lnTo>
                      <a:pt x="9926" y="11403"/>
                    </a:lnTo>
                    <a:lnTo>
                      <a:pt x="9858" y="11417"/>
                    </a:lnTo>
                    <a:lnTo>
                      <a:pt x="9789" y="11429"/>
                    </a:lnTo>
                    <a:lnTo>
                      <a:pt x="9722" y="11441"/>
                    </a:lnTo>
                    <a:lnTo>
                      <a:pt x="9653" y="11452"/>
                    </a:lnTo>
                    <a:lnTo>
                      <a:pt x="9584" y="11462"/>
                    </a:lnTo>
                    <a:lnTo>
                      <a:pt x="9516" y="11471"/>
                    </a:lnTo>
                    <a:lnTo>
                      <a:pt x="9447" y="11479"/>
                    </a:lnTo>
                    <a:lnTo>
                      <a:pt x="9377" y="11487"/>
                    </a:lnTo>
                    <a:lnTo>
                      <a:pt x="9307" y="11494"/>
                    </a:lnTo>
                    <a:lnTo>
                      <a:pt x="9238" y="11499"/>
                    </a:lnTo>
                    <a:lnTo>
                      <a:pt x="9167" y="11504"/>
                    </a:lnTo>
                    <a:lnTo>
                      <a:pt x="9097" y="11509"/>
                    </a:lnTo>
                    <a:lnTo>
                      <a:pt x="9025" y="11512"/>
                    </a:lnTo>
                    <a:lnTo>
                      <a:pt x="8954" y="11515"/>
                    </a:lnTo>
                    <a:lnTo>
                      <a:pt x="8882" y="11517"/>
                    </a:lnTo>
                    <a:lnTo>
                      <a:pt x="8810" y="11517"/>
                    </a:lnTo>
                    <a:lnTo>
                      <a:pt x="8737" y="11518"/>
                    </a:lnTo>
                    <a:lnTo>
                      <a:pt x="8663" y="11517"/>
                    </a:lnTo>
                    <a:lnTo>
                      <a:pt x="8262" y="11488"/>
                    </a:lnTo>
                    <a:lnTo>
                      <a:pt x="8161" y="11474"/>
                    </a:lnTo>
                    <a:lnTo>
                      <a:pt x="8060" y="11458"/>
                    </a:lnTo>
                    <a:lnTo>
                      <a:pt x="7959" y="11440"/>
                    </a:lnTo>
                    <a:lnTo>
                      <a:pt x="7858" y="11421"/>
                    </a:lnTo>
                    <a:lnTo>
                      <a:pt x="7758" y="11400"/>
                    </a:lnTo>
                    <a:lnTo>
                      <a:pt x="7657" y="11376"/>
                    </a:lnTo>
                    <a:lnTo>
                      <a:pt x="7558" y="11351"/>
                    </a:lnTo>
                    <a:lnTo>
                      <a:pt x="7459" y="11325"/>
                    </a:lnTo>
                    <a:lnTo>
                      <a:pt x="7362" y="11296"/>
                    </a:lnTo>
                    <a:lnTo>
                      <a:pt x="7265" y="11265"/>
                    </a:lnTo>
                    <a:lnTo>
                      <a:pt x="7168" y="11233"/>
                    </a:lnTo>
                    <a:lnTo>
                      <a:pt x="7072" y="11197"/>
                    </a:lnTo>
                    <a:lnTo>
                      <a:pt x="6978" y="11161"/>
                    </a:lnTo>
                    <a:lnTo>
                      <a:pt x="6884" y="11121"/>
                    </a:lnTo>
                    <a:lnTo>
                      <a:pt x="6792" y="11080"/>
                    </a:lnTo>
                    <a:lnTo>
                      <a:pt x="6701" y="11037"/>
                    </a:lnTo>
                    <a:lnTo>
                      <a:pt x="6611" y="10990"/>
                    </a:lnTo>
                    <a:lnTo>
                      <a:pt x="6522" y="10942"/>
                    </a:lnTo>
                    <a:lnTo>
                      <a:pt x="6436" y="10892"/>
                    </a:lnTo>
                    <a:lnTo>
                      <a:pt x="6350" y="10839"/>
                    </a:lnTo>
                    <a:lnTo>
                      <a:pt x="6266" y="10784"/>
                    </a:lnTo>
                    <a:lnTo>
                      <a:pt x="6184" y="10727"/>
                    </a:lnTo>
                    <a:lnTo>
                      <a:pt x="6104" y="10666"/>
                    </a:lnTo>
                    <a:lnTo>
                      <a:pt x="6025" y="10604"/>
                    </a:lnTo>
                    <a:lnTo>
                      <a:pt x="5948" y="10539"/>
                    </a:lnTo>
                    <a:lnTo>
                      <a:pt x="5873" y="10471"/>
                    </a:lnTo>
                    <a:lnTo>
                      <a:pt x="5800" y="10401"/>
                    </a:lnTo>
                    <a:lnTo>
                      <a:pt x="5729" y="10328"/>
                    </a:lnTo>
                    <a:lnTo>
                      <a:pt x="5662" y="10253"/>
                    </a:lnTo>
                    <a:lnTo>
                      <a:pt x="5595" y="10175"/>
                    </a:lnTo>
                    <a:lnTo>
                      <a:pt x="5532" y="10093"/>
                    </a:lnTo>
                    <a:lnTo>
                      <a:pt x="5470" y="10010"/>
                    </a:lnTo>
                    <a:lnTo>
                      <a:pt x="5380" y="10000"/>
                    </a:lnTo>
                    <a:lnTo>
                      <a:pt x="5290" y="9987"/>
                    </a:lnTo>
                    <a:lnTo>
                      <a:pt x="5199" y="9974"/>
                    </a:lnTo>
                    <a:lnTo>
                      <a:pt x="5109" y="9958"/>
                    </a:lnTo>
                    <a:lnTo>
                      <a:pt x="5020" y="9941"/>
                    </a:lnTo>
                    <a:lnTo>
                      <a:pt x="4931" y="9923"/>
                    </a:lnTo>
                    <a:lnTo>
                      <a:pt x="4842" y="9902"/>
                    </a:lnTo>
                    <a:lnTo>
                      <a:pt x="4754" y="9879"/>
                    </a:lnTo>
                    <a:lnTo>
                      <a:pt x="4666" y="9855"/>
                    </a:lnTo>
                    <a:lnTo>
                      <a:pt x="4579" y="9830"/>
                    </a:lnTo>
                    <a:lnTo>
                      <a:pt x="4493" y="9802"/>
                    </a:lnTo>
                    <a:lnTo>
                      <a:pt x="4408" y="9773"/>
                    </a:lnTo>
                    <a:lnTo>
                      <a:pt x="4322" y="9741"/>
                    </a:lnTo>
                    <a:lnTo>
                      <a:pt x="4238" y="9708"/>
                    </a:lnTo>
                    <a:lnTo>
                      <a:pt x="4155" y="9673"/>
                    </a:lnTo>
                    <a:lnTo>
                      <a:pt x="4073" y="9636"/>
                    </a:lnTo>
                    <a:lnTo>
                      <a:pt x="3993" y="9597"/>
                    </a:lnTo>
                    <a:lnTo>
                      <a:pt x="3913" y="9556"/>
                    </a:lnTo>
                    <a:lnTo>
                      <a:pt x="3834" y="9513"/>
                    </a:lnTo>
                    <a:lnTo>
                      <a:pt x="3757" y="9469"/>
                    </a:lnTo>
                    <a:lnTo>
                      <a:pt x="3682" y="9422"/>
                    </a:lnTo>
                    <a:lnTo>
                      <a:pt x="3607" y="9373"/>
                    </a:lnTo>
                    <a:lnTo>
                      <a:pt x="3533" y="9322"/>
                    </a:lnTo>
                    <a:lnTo>
                      <a:pt x="3461" y="9269"/>
                    </a:lnTo>
                    <a:lnTo>
                      <a:pt x="3391" y="9213"/>
                    </a:lnTo>
                    <a:lnTo>
                      <a:pt x="3323" y="9156"/>
                    </a:lnTo>
                    <a:lnTo>
                      <a:pt x="3256" y="9097"/>
                    </a:lnTo>
                    <a:lnTo>
                      <a:pt x="3191" y="9035"/>
                    </a:lnTo>
                    <a:lnTo>
                      <a:pt x="3128" y="8972"/>
                    </a:lnTo>
                    <a:lnTo>
                      <a:pt x="3066" y="8905"/>
                    </a:lnTo>
                    <a:lnTo>
                      <a:pt x="3007" y="8837"/>
                    </a:lnTo>
                    <a:lnTo>
                      <a:pt x="2949" y="8767"/>
                    </a:lnTo>
                    <a:lnTo>
                      <a:pt x="2927" y="8735"/>
                    </a:lnTo>
                    <a:lnTo>
                      <a:pt x="2905" y="8703"/>
                    </a:lnTo>
                    <a:lnTo>
                      <a:pt x="2885" y="8671"/>
                    </a:lnTo>
                    <a:lnTo>
                      <a:pt x="2864" y="8639"/>
                    </a:lnTo>
                    <a:lnTo>
                      <a:pt x="2845" y="8606"/>
                    </a:lnTo>
                    <a:lnTo>
                      <a:pt x="2825" y="8574"/>
                    </a:lnTo>
                    <a:lnTo>
                      <a:pt x="2807" y="8541"/>
                    </a:lnTo>
                    <a:lnTo>
                      <a:pt x="2789" y="8507"/>
                    </a:lnTo>
                    <a:lnTo>
                      <a:pt x="2772" y="8474"/>
                    </a:lnTo>
                    <a:lnTo>
                      <a:pt x="2756" y="8441"/>
                    </a:lnTo>
                    <a:lnTo>
                      <a:pt x="2740" y="8406"/>
                    </a:lnTo>
                    <a:lnTo>
                      <a:pt x="2726" y="8372"/>
                    </a:lnTo>
                    <a:lnTo>
                      <a:pt x="2711" y="8338"/>
                    </a:lnTo>
                    <a:lnTo>
                      <a:pt x="2699" y="8303"/>
                    </a:lnTo>
                    <a:lnTo>
                      <a:pt x="2687" y="8269"/>
                    </a:lnTo>
                    <a:lnTo>
                      <a:pt x="2676" y="8233"/>
                    </a:lnTo>
                    <a:lnTo>
                      <a:pt x="2665" y="8198"/>
                    </a:lnTo>
                    <a:lnTo>
                      <a:pt x="2655" y="8163"/>
                    </a:lnTo>
                    <a:lnTo>
                      <a:pt x="2647" y="8127"/>
                    </a:lnTo>
                    <a:lnTo>
                      <a:pt x="2640" y="8092"/>
                    </a:lnTo>
                    <a:lnTo>
                      <a:pt x="2633" y="8055"/>
                    </a:lnTo>
                    <a:lnTo>
                      <a:pt x="2627" y="8019"/>
                    </a:lnTo>
                    <a:lnTo>
                      <a:pt x="2623" y="7982"/>
                    </a:lnTo>
                    <a:lnTo>
                      <a:pt x="2620" y="7946"/>
                    </a:lnTo>
                    <a:lnTo>
                      <a:pt x="2617" y="7908"/>
                    </a:lnTo>
                    <a:lnTo>
                      <a:pt x="2616" y="7872"/>
                    </a:lnTo>
                    <a:lnTo>
                      <a:pt x="2616" y="7835"/>
                    </a:lnTo>
                    <a:lnTo>
                      <a:pt x="2617" y="7797"/>
                    </a:lnTo>
                    <a:lnTo>
                      <a:pt x="2620" y="7759"/>
                    </a:lnTo>
                    <a:lnTo>
                      <a:pt x="2623" y="7721"/>
                    </a:lnTo>
                    <a:lnTo>
                      <a:pt x="2628" y="7682"/>
                    </a:lnTo>
                    <a:lnTo>
                      <a:pt x="2635" y="7644"/>
                    </a:lnTo>
                    <a:lnTo>
                      <a:pt x="2629" y="7639"/>
                    </a:lnTo>
                    <a:lnTo>
                      <a:pt x="2625" y="7635"/>
                    </a:lnTo>
                    <a:lnTo>
                      <a:pt x="2620" y="7629"/>
                    </a:lnTo>
                    <a:lnTo>
                      <a:pt x="2615" y="7624"/>
                    </a:lnTo>
                    <a:lnTo>
                      <a:pt x="2611" y="7619"/>
                    </a:lnTo>
                    <a:lnTo>
                      <a:pt x="2606" y="7615"/>
                    </a:lnTo>
                    <a:lnTo>
                      <a:pt x="2602" y="7610"/>
                    </a:lnTo>
                    <a:lnTo>
                      <a:pt x="2597" y="7604"/>
                    </a:lnTo>
                    <a:lnTo>
                      <a:pt x="2506" y="7605"/>
                    </a:lnTo>
                    <a:lnTo>
                      <a:pt x="2415" y="7604"/>
                    </a:lnTo>
                    <a:lnTo>
                      <a:pt x="2325" y="7601"/>
                    </a:lnTo>
                    <a:lnTo>
                      <a:pt x="2235" y="7595"/>
                    </a:lnTo>
                    <a:lnTo>
                      <a:pt x="2144" y="7587"/>
                    </a:lnTo>
                    <a:lnTo>
                      <a:pt x="2055" y="7575"/>
                    </a:lnTo>
                    <a:lnTo>
                      <a:pt x="1966" y="7563"/>
                    </a:lnTo>
                    <a:lnTo>
                      <a:pt x="1878" y="7547"/>
                    </a:lnTo>
                    <a:lnTo>
                      <a:pt x="1791" y="7528"/>
                    </a:lnTo>
                    <a:lnTo>
                      <a:pt x="1704" y="7508"/>
                    </a:lnTo>
                    <a:lnTo>
                      <a:pt x="1618" y="7485"/>
                    </a:lnTo>
                    <a:lnTo>
                      <a:pt x="1533" y="7459"/>
                    </a:lnTo>
                    <a:lnTo>
                      <a:pt x="1450" y="7430"/>
                    </a:lnTo>
                    <a:lnTo>
                      <a:pt x="1368" y="7399"/>
                    </a:lnTo>
                    <a:lnTo>
                      <a:pt x="1287" y="7366"/>
                    </a:lnTo>
                    <a:lnTo>
                      <a:pt x="1207" y="7330"/>
                    </a:lnTo>
                    <a:lnTo>
                      <a:pt x="1128" y="7292"/>
                    </a:lnTo>
                    <a:lnTo>
                      <a:pt x="1052" y="7251"/>
                    </a:lnTo>
                    <a:lnTo>
                      <a:pt x="976" y="7208"/>
                    </a:lnTo>
                    <a:lnTo>
                      <a:pt x="903" y="7162"/>
                    </a:lnTo>
                    <a:lnTo>
                      <a:pt x="832" y="7113"/>
                    </a:lnTo>
                    <a:lnTo>
                      <a:pt x="762" y="7062"/>
                    </a:lnTo>
                    <a:lnTo>
                      <a:pt x="694" y="7008"/>
                    </a:lnTo>
                    <a:lnTo>
                      <a:pt x="629" y="6951"/>
                    </a:lnTo>
                    <a:lnTo>
                      <a:pt x="565" y="6892"/>
                    </a:lnTo>
                    <a:lnTo>
                      <a:pt x="505" y="6830"/>
                    </a:lnTo>
                    <a:lnTo>
                      <a:pt x="446" y="6766"/>
                    </a:lnTo>
                    <a:lnTo>
                      <a:pt x="390" y="6698"/>
                    </a:lnTo>
                    <a:lnTo>
                      <a:pt x="335" y="6629"/>
                    </a:lnTo>
                    <a:lnTo>
                      <a:pt x="284" y="6557"/>
                    </a:lnTo>
                    <a:lnTo>
                      <a:pt x="236" y="6482"/>
                    </a:lnTo>
                    <a:lnTo>
                      <a:pt x="190" y="6404"/>
                    </a:lnTo>
                    <a:lnTo>
                      <a:pt x="165" y="6352"/>
                    </a:lnTo>
                    <a:lnTo>
                      <a:pt x="142" y="6300"/>
                    </a:lnTo>
                    <a:lnTo>
                      <a:pt x="120" y="6247"/>
                    </a:lnTo>
                    <a:lnTo>
                      <a:pt x="100" y="6195"/>
                    </a:lnTo>
                    <a:lnTo>
                      <a:pt x="83" y="6144"/>
                    </a:lnTo>
                    <a:lnTo>
                      <a:pt x="67" y="6092"/>
                    </a:lnTo>
                    <a:lnTo>
                      <a:pt x="52" y="6040"/>
                    </a:lnTo>
                    <a:lnTo>
                      <a:pt x="39" y="5989"/>
                    </a:lnTo>
                    <a:lnTo>
                      <a:pt x="29" y="5937"/>
                    </a:lnTo>
                    <a:lnTo>
                      <a:pt x="19" y="5886"/>
                    </a:lnTo>
                    <a:lnTo>
                      <a:pt x="11" y="5834"/>
                    </a:lnTo>
                    <a:lnTo>
                      <a:pt x="6" y="5783"/>
                    </a:lnTo>
                    <a:lnTo>
                      <a:pt x="2" y="5732"/>
                    </a:lnTo>
                    <a:lnTo>
                      <a:pt x="0" y="5680"/>
                    </a:lnTo>
                    <a:lnTo>
                      <a:pt x="0" y="5629"/>
                    </a:lnTo>
                    <a:lnTo>
                      <a:pt x="1" y="5578"/>
                    </a:lnTo>
                    <a:lnTo>
                      <a:pt x="5" y="5527"/>
                    </a:lnTo>
                    <a:lnTo>
                      <a:pt x="10" y="5476"/>
                    </a:lnTo>
                    <a:lnTo>
                      <a:pt x="16" y="5425"/>
                    </a:lnTo>
                    <a:lnTo>
                      <a:pt x="26" y="5374"/>
                    </a:lnTo>
                    <a:lnTo>
                      <a:pt x="36" y="5323"/>
                    </a:lnTo>
                    <a:lnTo>
                      <a:pt x="48" y="5272"/>
                    </a:lnTo>
                    <a:lnTo>
                      <a:pt x="62" y="5221"/>
                    </a:lnTo>
                    <a:lnTo>
                      <a:pt x="78" y="5171"/>
                    </a:lnTo>
                    <a:lnTo>
                      <a:pt x="95" y="5120"/>
                    </a:lnTo>
                    <a:lnTo>
                      <a:pt x="115" y="5069"/>
                    </a:lnTo>
                    <a:lnTo>
                      <a:pt x="135" y="5018"/>
                    </a:lnTo>
                    <a:lnTo>
                      <a:pt x="158" y="4968"/>
                    </a:lnTo>
                    <a:lnTo>
                      <a:pt x="183" y="4917"/>
                    </a:lnTo>
                    <a:lnTo>
                      <a:pt x="209" y="4867"/>
                    </a:lnTo>
                    <a:lnTo>
                      <a:pt x="238" y="4815"/>
                    </a:lnTo>
                    <a:lnTo>
                      <a:pt x="268" y="4764"/>
                    </a:lnTo>
                    <a:lnTo>
                      <a:pt x="308" y="4708"/>
                    </a:lnTo>
                    <a:lnTo>
                      <a:pt x="349" y="4654"/>
                    </a:lnTo>
                    <a:lnTo>
                      <a:pt x="392" y="4601"/>
                    </a:lnTo>
                    <a:lnTo>
                      <a:pt x="436" y="4550"/>
                    </a:lnTo>
                    <a:lnTo>
                      <a:pt x="481" y="4500"/>
                    </a:lnTo>
                    <a:lnTo>
                      <a:pt x="527" y="4452"/>
                    </a:lnTo>
                    <a:lnTo>
                      <a:pt x="575" y="4406"/>
                    </a:lnTo>
                    <a:lnTo>
                      <a:pt x="625" y="4361"/>
                    </a:lnTo>
                    <a:lnTo>
                      <a:pt x="675" y="4318"/>
                    </a:lnTo>
                    <a:lnTo>
                      <a:pt x="726" y="4276"/>
                    </a:lnTo>
                    <a:lnTo>
                      <a:pt x="778" y="4236"/>
                    </a:lnTo>
                    <a:lnTo>
                      <a:pt x="832" y="4198"/>
                    </a:lnTo>
                    <a:lnTo>
                      <a:pt x="886" y="4161"/>
                    </a:lnTo>
                    <a:lnTo>
                      <a:pt x="941" y="4126"/>
                    </a:lnTo>
                    <a:lnTo>
                      <a:pt x="999" y="4092"/>
                    </a:lnTo>
                    <a:lnTo>
                      <a:pt x="1055" y="4060"/>
                    </a:lnTo>
                    <a:lnTo>
                      <a:pt x="1114" y="4029"/>
                    </a:lnTo>
                    <a:lnTo>
                      <a:pt x="1173" y="4000"/>
                    </a:lnTo>
                    <a:lnTo>
                      <a:pt x="1233" y="3973"/>
                    </a:lnTo>
                    <a:lnTo>
                      <a:pt x="1293" y="3947"/>
                    </a:lnTo>
                    <a:lnTo>
                      <a:pt x="1355" y="3922"/>
                    </a:lnTo>
                    <a:lnTo>
                      <a:pt x="1417" y="3899"/>
                    </a:lnTo>
                    <a:lnTo>
                      <a:pt x="1480" y="3877"/>
                    </a:lnTo>
                    <a:lnTo>
                      <a:pt x="1543" y="3857"/>
                    </a:lnTo>
                    <a:lnTo>
                      <a:pt x="1608" y="3839"/>
                    </a:lnTo>
                    <a:lnTo>
                      <a:pt x="1673" y="3822"/>
                    </a:lnTo>
                    <a:lnTo>
                      <a:pt x="1737" y="3806"/>
                    </a:lnTo>
                    <a:lnTo>
                      <a:pt x="1803" y="3792"/>
                    </a:lnTo>
                    <a:lnTo>
                      <a:pt x="1869" y="3779"/>
                    </a:lnTo>
                    <a:lnTo>
                      <a:pt x="1936" y="3768"/>
                    </a:lnTo>
                    <a:lnTo>
                      <a:pt x="2003" y="3758"/>
                    </a:lnTo>
                    <a:lnTo>
                      <a:pt x="2070" y="3750"/>
                    </a:lnTo>
                    <a:lnTo>
                      <a:pt x="2037" y="3718"/>
                    </a:lnTo>
                    <a:lnTo>
                      <a:pt x="2005" y="3685"/>
                    </a:lnTo>
                    <a:lnTo>
                      <a:pt x="1974" y="3651"/>
                    </a:lnTo>
                    <a:lnTo>
                      <a:pt x="1945" y="3618"/>
                    </a:lnTo>
                    <a:lnTo>
                      <a:pt x="1919" y="3583"/>
                    </a:lnTo>
                    <a:lnTo>
                      <a:pt x="1893" y="3549"/>
                    </a:lnTo>
                    <a:lnTo>
                      <a:pt x="1868" y="3514"/>
                    </a:lnTo>
                    <a:lnTo>
                      <a:pt x="1846" y="3478"/>
                    </a:lnTo>
                    <a:lnTo>
                      <a:pt x="1825" y="3442"/>
                    </a:lnTo>
                    <a:lnTo>
                      <a:pt x="1806" y="3405"/>
                    </a:lnTo>
                    <a:lnTo>
                      <a:pt x="1787" y="3368"/>
                    </a:lnTo>
                    <a:lnTo>
                      <a:pt x="1772" y="3330"/>
                    </a:lnTo>
                    <a:lnTo>
                      <a:pt x="1758" y="3293"/>
                    </a:lnTo>
                    <a:lnTo>
                      <a:pt x="1744" y="3254"/>
                    </a:lnTo>
                    <a:lnTo>
                      <a:pt x="1733" y="3216"/>
                    </a:lnTo>
                    <a:lnTo>
                      <a:pt x="1724" y="3176"/>
                    </a:lnTo>
                    <a:lnTo>
                      <a:pt x="1717" y="3137"/>
                    </a:lnTo>
                    <a:lnTo>
                      <a:pt x="1711" y="3097"/>
                    </a:lnTo>
                    <a:lnTo>
                      <a:pt x="1706" y="3058"/>
                    </a:lnTo>
                    <a:lnTo>
                      <a:pt x="1703" y="3017"/>
                    </a:lnTo>
                    <a:lnTo>
                      <a:pt x="1702" y="2975"/>
                    </a:lnTo>
                    <a:lnTo>
                      <a:pt x="1703" y="2935"/>
                    </a:lnTo>
                    <a:lnTo>
                      <a:pt x="1706" y="2893"/>
                    </a:lnTo>
                    <a:lnTo>
                      <a:pt x="1712" y="2851"/>
                    </a:lnTo>
                    <a:lnTo>
                      <a:pt x="1718" y="2809"/>
                    </a:lnTo>
                    <a:lnTo>
                      <a:pt x="1726" y="2767"/>
                    </a:lnTo>
                    <a:lnTo>
                      <a:pt x="1736" y="2724"/>
                    </a:lnTo>
                    <a:lnTo>
                      <a:pt x="1747" y="2681"/>
                    </a:lnTo>
                    <a:lnTo>
                      <a:pt x="1761" y="2638"/>
                    </a:lnTo>
                    <a:lnTo>
                      <a:pt x="1777" y="2594"/>
                    </a:lnTo>
                    <a:lnTo>
                      <a:pt x="1795" y="2550"/>
                    </a:lnTo>
                    <a:lnTo>
                      <a:pt x="1813" y="2507"/>
                    </a:lnTo>
                    <a:lnTo>
                      <a:pt x="1843" y="2454"/>
                    </a:lnTo>
                    <a:lnTo>
                      <a:pt x="1874" y="2404"/>
                    </a:lnTo>
                    <a:lnTo>
                      <a:pt x="1906" y="2354"/>
                    </a:lnTo>
                    <a:lnTo>
                      <a:pt x="1940" y="2306"/>
                    </a:lnTo>
                    <a:lnTo>
                      <a:pt x="1976" y="2260"/>
                    </a:lnTo>
                    <a:lnTo>
                      <a:pt x="2013" y="2215"/>
                    </a:lnTo>
                    <a:lnTo>
                      <a:pt x="2052" y="2171"/>
                    </a:lnTo>
                    <a:lnTo>
                      <a:pt x="2092" y="2129"/>
                    </a:lnTo>
                    <a:lnTo>
                      <a:pt x="2133" y="2088"/>
                    </a:lnTo>
                    <a:lnTo>
                      <a:pt x="2175" y="2048"/>
                    </a:lnTo>
                    <a:lnTo>
                      <a:pt x="2219" y="2011"/>
                    </a:lnTo>
                    <a:lnTo>
                      <a:pt x="2264" y="1973"/>
                    </a:lnTo>
                    <a:lnTo>
                      <a:pt x="2310" y="1938"/>
                    </a:lnTo>
                    <a:lnTo>
                      <a:pt x="2358" y="1904"/>
                    </a:lnTo>
                    <a:lnTo>
                      <a:pt x="2405" y="1871"/>
                    </a:lnTo>
                    <a:lnTo>
                      <a:pt x="2454" y="1839"/>
                    </a:lnTo>
                    <a:lnTo>
                      <a:pt x="2504" y="1809"/>
                    </a:lnTo>
                    <a:lnTo>
                      <a:pt x="2555" y="1780"/>
                    </a:lnTo>
                    <a:lnTo>
                      <a:pt x="2607" y="1752"/>
                    </a:lnTo>
                    <a:lnTo>
                      <a:pt x="2659" y="1725"/>
                    </a:lnTo>
                    <a:lnTo>
                      <a:pt x="2712" y="1699"/>
                    </a:lnTo>
                    <a:lnTo>
                      <a:pt x="2766" y="1675"/>
                    </a:lnTo>
                    <a:lnTo>
                      <a:pt x="2820" y="1651"/>
                    </a:lnTo>
                    <a:lnTo>
                      <a:pt x="2876" y="1629"/>
                    </a:lnTo>
                    <a:lnTo>
                      <a:pt x="2931" y="1607"/>
                    </a:lnTo>
                    <a:lnTo>
                      <a:pt x="2986" y="1587"/>
                    </a:lnTo>
                    <a:lnTo>
                      <a:pt x="3043" y="1568"/>
                    </a:lnTo>
                    <a:lnTo>
                      <a:pt x="3099" y="1550"/>
                    </a:lnTo>
                    <a:lnTo>
                      <a:pt x="3155" y="1533"/>
                    </a:lnTo>
                    <a:lnTo>
                      <a:pt x="3213" y="1516"/>
                    </a:lnTo>
                    <a:lnTo>
                      <a:pt x="3270" y="1502"/>
                    </a:lnTo>
                    <a:lnTo>
                      <a:pt x="3328" y="1487"/>
                    </a:lnTo>
                    <a:lnTo>
                      <a:pt x="3378" y="1477"/>
                    </a:lnTo>
                    <a:lnTo>
                      <a:pt x="3427" y="1467"/>
                    </a:lnTo>
                    <a:lnTo>
                      <a:pt x="3477" y="1458"/>
                    </a:lnTo>
                    <a:lnTo>
                      <a:pt x="3528" y="1451"/>
                    </a:lnTo>
                    <a:lnTo>
                      <a:pt x="3577" y="1442"/>
                    </a:lnTo>
                    <a:lnTo>
                      <a:pt x="3627" y="1436"/>
                    </a:lnTo>
                    <a:lnTo>
                      <a:pt x="3677" y="1430"/>
                    </a:lnTo>
                    <a:lnTo>
                      <a:pt x="3727" y="1425"/>
                    </a:lnTo>
                    <a:lnTo>
                      <a:pt x="3777" y="1420"/>
                    </a:lnTo>
                    <a:lnTo>
                      <a:pt x="3827" y="1416"/>
                    </a:lnTo>
                    <a:lnTo>
                      <a:pt x="3876" y="1413"/>
                    </a:lnTo>
                    <a:lnTo>
                      <a:pt x="3927" y="1411"/>
                    </a:lnTo>
                    <a:lnTo>
                      <a:pt x="3977" y="1410"/>
                    </a:lnTo>
                    <a:lnTo>
                      <a:pt x="4026" y="1409"/>
                    </a:lnTo>
                    <a:lnTo>
                      <a:pt x="4076" y="1409"/>
                    </a:lnTo>
                    <a:lnTo>
                      <a:pt x="4126" y="1410"/>
                    </a:lnTo>
                    <a:lnTo>
                      <a:pt x="4176" y="1412"/>
                    </a:lnTo>
                    <a:lnTo>
                      <a:pt x="4225" y="1414"/>
                    </a:lnTo>
                    <a:lnTo>
                      <a:pt x="4275" y="1417"/>
                    </a:lnTo>
                    <a:lnTo>
                      <a:pt x="4325" y="1422"/>
                    </a:lnTo>
                    <a:lnTo>
                      <a:pt x="4374" y="1427"/>
                    </a:lnTo>
                    <a:lnTo>
                      <a:pt x="4423" y="1433"/>
                    </a:lnTo>
                    <a:lnTo>
                      <a:pt x="4472" y="1439"/>
                    </a:lnTo>
                    <a:lnTo>
                      <a:pt x="4521" y="1447"/>
                    </a:lnTo>
                    <a:lnTo>
                      <a:pt x="4571" y="1455"/>
                    </a:lnTo>
                    <a:lnTo>
                      <a:pt x="4620" y="1464"/>
                    </a:lnTo>
                    <a:lnTo>
                      <a:pt x="4669" y="1475"/>
                    </a:lnTo>
                    <a:lnTo>
                      <a:pt x="4718" y="1485"/>
                    </a:lnTo>
                    <a:lnTo>
                      <a:pt x="4767" y="1498"/>
                    </a:lnTo>
                    <a:lnTo>
                      <a:pt x="4816" y="1510"/>
                    </a:lnTo>
                    <a:lnTo>
                      <a:pt x="4864" y="1524"/>
                    </a:lnTo>
                    <a:lnTo>
                      <a:pt x="4912" y="1537"/>
                    </a:lnTo>
                    <a:lnTo>
                      <a:pt x="4927" y="1532"/>
                    </a:lnTo>
                    <a:lnTo>
                      <a:pt x="4940" y="1526"/>
                    </a:lnTo>
                    <a:lnTo>
                      <a:pt x="4953" y="1519"/>
                    </a:lnTo>
                    <a:lnTo>
                      <a:pt x="4968" y="1513"/>
                    </a:lnTo>
                    <a:lnTo>
                      <a:pt x="4981" y="1508"/>
                    </a:lnTo>
                    <a:lnTo>
                      <a:pt x="4995" y="1502"/>
                    </a:lnTo>
                    <a:lnTo>
                      <a:pt x="5009" y="1495"/>
                    </a:lnTo>
                    <a:lnTo>
                      <a:pt x="5023" y="1490"/>
                    </a:lnTo>
                    <a:lnTo>
                      <a:pt x="5070" y="1401"/>
                    </a:lnTo>
                    <a:lnTo>
                      <a:pt x="5121" y="1315"/>
                    </a:lnTo>
                    <a:lnTo>
                      <a:pt x="5177" y="1232"/>
                    </a:lnTo>
                    <a:lnTo>
                      <a:pt x="5237" y="1153"/>
                    </a:lnTo>
                    <a:lnTo>
                      <a:pt x="5301" y="1077"/>
                    </a:lnTo>
                    <a:lnTo>
                      <a:pt x="5367" y="1003"/>
                    </a:lnTo>
                    <a:lnTo>
                      <a:pt x="5438" y="932"/>
                    </a:lnTo>
                    <a:lnTo>
                      <a:pt x="5513" y="865"/>
                    </a:lnTo>
                    <a:lnTo>
                      <a:pt x="5590" y="801"/>
                    </a:lnTo>
                    <a:lnTo>
                      <a:pt x="5670" y="738"/>
                    </a:lnTo>
                    <a:lnTo>
                      <a:pt x="5752" y="680"/>
                    </a:lnTo>
                    <a:lnTo>
                      <a:pt x="5838" y="624"/>
                    </a:lnTo>
                    <a:lnTo>
                      <a:pt x="5925" y="571"/>
                    </a:lnTo>
                    <a:lnTo>
                      <a:pt x="6015" y="520"/>
                    </a:lnTo>
                    <a:lnTo>
                      <a:pt x="6107" y="472"/>
                    </a:lnTo>
                    <a:lnTo>
                      <a:pt x="6200" y="426"/>
                    </a:lnTo>
                    <a:lnTo>
                      <a:pt x="6295" y="383"/>
                    </a:lnTo>
                    <a:lnTo>
                      <a:pt x="6391" y="343"/>
                    </a:lnTo>
                    <a:lnTo>
                      <a:pt x="6488" y="305"/>
                    </a:lnTo>
                    <a:lnTo>
                      <a:pt x="6587" y="269"/>
                    </a:lnTo>
                    <a:lnTo>
                      <a:pt x="6686" y="235"/>
                    </a:lnTo>
                    <a:lnTo>
                      <a:pt x="6787" y="205"/>
                    </a:lnTo>
                    <a:lnTo>
                      <a:pt x="6886" y="176"/>
                    </a:lnTo>
                    <a:lnTo>
                      <a:pt x="6988" y="150"/>
                    </a:lnTo>
                    <a:lnTo>
                      <a:pt x="7088" y="126"/>
                    </a:lnTo>
                    <a:lnTo>
                      <a:pt x="7189" y="103"/>
                    </a:lnTo>
                    <a:lnTo>
                      <a:pt x="7289" y="83"/>
                    </a:lnTo>
                    <a:lnTo>
                      <a:pt x="7389" y="66"/>
                    </a:lnTo>
                    <a:lnTo>
                      <a:pt x="7488" y="50"/>
                    </a:lnTo>
                    <a:lnTo>
                      <a:pt x="7587" y="36"/>
                    </a:lnTo>
                    <a:lnTo>
                      <a:pt x="7683" y="24"/>
                    </a:lnTo>
                    <a:lnTo>
                      <a:pt x="7779" y="14"/>
                    </a:lnTo>
                    <a:lnTo>
                      <a:pt x="7866" y="8"/>
                    </a:lnTo>
                    <a:lnTo>
                      <a:pt x="7952" y="4"/>
                    </a:lnTo>
                    <a:lnTo>
                      <a:pt x="8038" y="2"/>
                    </a:lnTo>
                    <a:lnTo>
                      <a:pt x="8125" y="0"/>
                    </a:lnTo>
                    <a:lnTo>
                      <a:pt x="8212" y="0"/>
                    </a:lnTo>
                    <a:lnTo>
                      <a:pt x="8299" y="1"/>
                    </a:lnTo>
                    <a:lnTo>
                      <a:pt x="8387" y="4"/>
                    </a:lnTo>
                    <a:lnTo>
                      <a:pt x="8475" y="8"/>
                    </a:lnTo>
                    <a:lnTo>
                      <a:pt x="8562" y="15"/>
                    </a:lnTo>
                    <a:lnTo>
                      <a:pt x="8650" y="22"/>
                    </a:lnTo>
                    <a:lnTo>
                      <a:pt x="8737" y="31"/>
                    </a:lnTo>
                    <a:lnTo>
                      <a:pt x="8824" y="42"/>
                    </a:lnTo>
                    <a:lnTo>
                      <a:pt x="8912" y="55"/>
                    </a:lnTo>
                    <a:lnTo>
                      <a:pt x="8998" y="69"/>
                    </a:lnTo>
                    <a:lnTo>
                      <a:pt x="9084" y="85"/>
                    </a:lnTo>
                    <a:lnTo>
                      <a:pt x="9170" y="104"/>
                    </a:lnTo>
                    <a:lnTo>
                      <a:pt x="9255" y="124"/>
                    </a:lnTo>
                    <a:lnTo>
                      <a:pt x="9339" y="146"/>
                    </a:lnTo>
                    <a:lnTo>
                      <a:pt x="9422" y="171"/>
                    </a:lnTo>
                    <a:lnTo>
                      <a:pt x="9505" y="197"/>
                    </a:lnTo>
                    <a:lnTo>
                      <a:pt x="9587" y="225"/>
                    </a:lnTo>
                    <a:lnTo>
                      <a:pt x="9668" y="256"/>
                    </a:lnTo>
                    <a:lnTo>
                      <a:pt x="9748" y="290"/>
                    </a:lnTo>
                    <a:lnTo>
                      <a:pt x="9827" y="324"/>
                    </a:lnTo>
                    <a:lnTo>
                      <a:pt x="9904" y="361"/>
                    </a:lnTo>
                    <a:lnTo>
                      <a:pt x="9981" y="402"/>
                    </a:lnTo>
                    <a:lnTo>
                      <a:pt x="10056" y="445"/>
                    </a:lnTo>
                    <a:lnTo>
                      <a:pt x="10130" y="489"/>
                    </a:lnTo>
                    <a:lnTo>
                      <a:pt x="10202" y="536"/>
                    </a:lnTo>
                    <a:lnTo>
                      <a:pt x="10272" y="586"/>
                    </a:lnTo>
                    <a:lnTo>
                      <a:pt x="10341" y="639"/>
                    </a:lnTo>
                    <a:lnTo>
                      <a:pt x="10409" y="695"/>
                    </a:lnTo>
                    <a:lnTo>
                      <a:pt x="10490" y="661"/>
                    </a:lnTo>
                    <a:lnTo>
                      <a:pt x="10572" y="633"/>
                    </a:lnTo>
                    <a:lnTo>
                      <a:pt x="10655" y="609"/>
                    </a:lnTo>
                    <a:lnTo>
                      <a:pt x="10739" y="589"/>
                    </a:lnTo>
                    <a:lnTo>
                      <a:pt x="10824" y="575"/>
                    </a:lnTo>
                    <a:lnTo>
                      <a:pt x="10910" y="563"/>
                    </a:lnTo>
                    <a:lnTo>
                      <a:pt x="10996" y="557"/>
                    </a:lnTo>
                    <a:lnTo>
                      <a:pt x="11083" y="554"/>
                    </a:lnTo>
                    <a:lnTo>
                      <a:pt x="11170" y="555"/>
                    </a:lnTo>
                    <a:lnTo>
                      <a:pt x="11256" y="559"/>
                    </a:lnTo>
                    <a:lnTo>
                      <a:pt x="11343" y="569"/>
                    </a:lnTo>
                    <a:lnTo>
                      <a:pt x="11429" y="581"/>
                    </a:lnTo>
                    <a:lnTo>
                      <a:pt x="11515" y="597"/>
                    </a:lnTo>
                    <a:lnTo>
                      <a:pt x="11600" y="615"/>
                    </a:lnTo>
                    <a:lnTo>
                      <a:pt x="11686" y="638"/>
                    </a:lnTo>
                    <a:lnTo>
                      <a:pt x="11770" y="664"/>
                    </a:lnTo>
                    <a:lnTo>
                      <a:pt x="11853" y="694"/>
                    </a:lnTo>
                    <a:lnTo>
                      <a:pt x="11936" y="726"/>
                    </a:lnTo>
                    <a:lnTo>
                      <a:pt x="12016" y="761"/>
                    </a:lnTo>
                    <a:lnTo>
                      <a:pt x="12096" y="800"/>
                    </a:lnTo>
                    <a:lnTo>
                      <a:pt x="12174" y="840"/>
                    </a:lnTo>
                    <a:lnTo>
                      <a:pt x="12251" y="884"/>
                    </a:lnTo>
                    <a:lnTo>
                      <a:pt x="12325" y="931"/>
                    </a:lnTo>
                    <a:lnTo>
                      <a:pt x="12398" y="980"/>
                    </a:lnTo>
                    <a:lnTo>
                      <a:pt x="12469" y="1031"/>
                    </a:lnTo>
                    <a:lnTo>
                      <a:pt x="12537" y="1085"/>
                    </a:lnTo>
                    <a:lnTo>
                      <a:pt x="12603" y="1141"/>
                    </a:lnTo>
                    <a:lnTo>
                      <a:pt x="12667" y="1200"/>
                    </a:lnTo>
                    <a:lnTo>
                      <a:pt x="12727" y="1261"/>
                    </a:lnTo>
                    <a:lnTo>
                      <a:pt x="12786" y="1324"/>
                    </a:lnTo>
                    <a:lnTo>
                      <a:pt x="12841" y="1388"/>
                    </a:lnTo>
                    <a:lnTo>
                      <a:pt x="12894" y="1455"/>
                    </a:lnTo>
                    <a:close/>
                  </a:path>
                </a:pathLst>
              </a:custGeom>
              <a:solidFill>
                <a:srgbClr val="9ac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2" name=""/>
            <p:cNvSpPr/>
            <p:nvPr/>
          </p:nvSpPr>
          <p:spPr>
            <a:xfrm>
              <a:off x="4269960" y="289548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982160" y="33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被验证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340680" y="3373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验证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562720" y="312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6" name=""/>
            <p:cNvGrpSpPr/>
            <p:nvPr/>
          </p:nvGrpSpPr>
          <p:grpSpPr>
            <a:xfrm>
              <a:off x="2057400" y="2895480"/>
              <a:ext cx="762120" cy="456840"/>
              <a:chOff x="2057400" y="2895480"/>
              <a:chExt cx="762120" cy="456840"/>
            </a:xfrm>
          </p:grpSpPr>
          <p:sp>
            <p:nvSpPr>
              <p:cNvPr id="2897" name=""/>
              <p:cNvSpPr/>
              <p:nvPr/>
            </p:nvSpPr>
            <p:spPr>
              <a:xfrm>
                <a:off x="2057400" y="3022560"/>
                <a:ext cx="76212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2057400" y="2895480"/>
                <a:ext cx="75888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9" name=""/>
              <p:cNvGrpSpPr/>
              <p:nvPr/>
            </p:nvGrpSpPr>
            <p:grpSpPr>
              <a:xfrm>
                <a:off x="2175480" y="2925000"/>
                <a:ext cx="523440" cy="190080"/>
                <a:chOff x="2175480" y="2925000"/>
                <a:chExt cx="523440" cy="19008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244656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217548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218808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243720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245196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218052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2193120" y="2930040"/>
                  <a:ext cx="24912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244224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6" name=""/>
            <p:cNvGrpSpPr/>
            <p:nvPr/>
          </p:nvGrpSpPr>
          <p:grpSpPr>
            <a:xfrm>
              <a:off x="6248520" y="2895480"/>
              <a:ext cx="761760" cy="456840"/>
              <a:chOff x="6248520" y="2895480"/>
              <a:chExt cx="761760" cy="456840"/>
            </a:xfrm>
          </p:grpSpPr>
          <p:sp>
            <p:nvSpPr>
              <p:cNvPr id="2917" name=""/>
              <p:cNvSpPr/>
              <p:nvPr/>
            </p:nvSpPr>
            <p:spPr>
              <a:xfrm>
                <a:off x="6248520" y="3022560"/>
                <a:ext cx="761760" cy="32976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248520" y="2895480"/>
                <a:ext cx="758520" cy="2509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9" name=""/>
              <p:cNvGrpSpPr/>
              <p:nvPr/>
            </p:nvGrpSpPr>
            <p:grpSpPr>
              <a:xfrm>
                <a:off x="6366600" y="2925000"/>
                <a:ext cx="523080" cy="190080"/>
                <a:chOff x="6366600" y="2925000"/>
                <a:chExt cx="523080" cy="19008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663768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6366600" y="302112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6379200" y="29250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6627960" y="303120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6642720" y="2935080"/>
                  <a:ext cx="246960" cy="7884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6371640" y="3026160"/>
                  <a:ext cx="248760" cy="83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6384240" y="29300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6633360" y="3036240"/>
                  <a:ext cx="248760" cy="788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6" name=""/>
          <p:cNvSpPr/>
          <p:nvPr/>
        </p:nvSpPr>
        <p:spPr>
          <a:xfrm flipH="1">
            <a:off x="3085920" y="4572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7" name=""/>
          <p:cNvGrpSpPr/>
          <p:nvPr/>
        </p:nvGrpSpPr>
        <p:grpSpPr>
          <a:xfrm>
            <a:off x="1447920" y="4114800"/>
            <a:ext cx="1143000" cy="1330200"/>
            <a:chOff x="1447920" y="4114800"/>
            <a:chExt cx="1143000" cy="1330200"/>
          </a:xfrm>
        </p:grpSpPr>
        <p:grpSp>
          <p:nvGrpSpPr>
            <p:cNvPr id="2938" name=""/>
            <p:cNvGrpSpPr/>
            <p:nvPr/>
          </p:nvGrpSpPr>
          <p:grpSpPr>
            <a:xfrm>
              <a:off x="1447920" y="4114800"/>
              <a:ext cx="1143000" cy="1330200"/>
              <a:chOff x="1447920" y="4114800"/>
              <a:chExt cx="1143000" cy="1330200"/>
            </a:xfrm>
          </p:grpSpPr>
          <p:sp>
            <p:nvSpPr>
              <p:cNvPr id="2939" name=""/>
              <p:cNvSpPr/>
              <p:nvPr/>
            </p:nvSpPr>
            <p:spPr>
              <a:xfrm>
                <a:off x="1447920" y="4267080"/>
                <a:ext cx="114300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1447920" y="4114800"/>
                <a:ext cx="114300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47920" y="42670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590920" y="42670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447920" y="5257800"/>
                <a:ext cx="1143000" cy="187200"/>
              </a:xfrm>
              <a:custGeom>
                <a:avLst/>
                <a:gdLst/>
                <a:ahLst/>
                <a:rect l="l" t="t" r="r" b="b"/>
                <a:pathLst>
                  <a:path w="1824" h="280">
                    <a:moveTo>
                      <a:pt x="0" y="0"/>
                    </a:moveTo>
                    <a:cubicBezTo>
                      <a:pt x="180" y="100"/>
                      <a:pt x="360" y="200"/>
                      <a:pt x="576" y="240"/>
                    </a:cubicBezTo>
                    <a:cubicBezTo>
                      <a:pt x="792" y="280"/>
                      <a:pt x="1088" y="280"/>
                      <a:pt x="1296" y="240"/>
                    </a:cubicBezTo>
                    <a:cubicBezTo>
                      <a:pt x="1504" y="200"/>
                      <a:pt x="1664" y="100"/>
                      <a:pt x="182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4" name=""/>
            <p:cNvSpPr/>
            <p:nvPr/>
          </p:nvSpPr>
          <p:spPr>
            <a:xfrm>
              <a:off x="1676880" y="44193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数据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HA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验证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P authentication CH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P CHAP host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password [0|7]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被验证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P CHAP host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Password [0|7]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P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的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HA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验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查看配置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同时段的接口状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"/>
          <p:cNvSpPr/>
          <p:nvPr/>
        </p:nvSpPr>
        <p:spPr>
          <a:xfrm>
            <a:off x="1705680" y="3962520"/>
            <a:ext cx="25545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ow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ow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L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IP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宋体"/>
              </a:rPr>
              <a:t>IPX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客户端无法配置用户名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验证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P authentication CH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P CHAP host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password [0|7]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被验证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P CHAP host 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ahoma"/>
              </a:rPr>
              <a:t>PPP CHAP password [0|7]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ahoma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考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AP,CHA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比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谁发起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否明文发送密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向验证，可否双向传输数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双向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什么情况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HA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客户端不配用户名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D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igh-Level Data Link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链路层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面向比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ISCO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缺省封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HDLC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7" name=""/>
          <p:cNvGraphicFramePr/>
          <p:nvPr/>
        </p:nvGraphicFramePr>
        <p:xfrm>
          <a:off x="533520" y="3200400"/>
          <a:ext cx="6933960" cy="1041480"/>
        </p:xfrm>
        <a:graphic>
          <a:graphicData uri="http://schemas.openxmlformats.org/drawingml/2006/table">
            <a:tbl>
              <a:tblPr/>
              <a:tblGrid>
                <a:gridCol w="612720"/>
                <a:gridCol w="682560"/>
                <a:gridCol w="762120"/>
                <a:gridCol w="2819160"/>
                <a:gridCol w="1295640"/>
                <a:gridCol w="761760"/>
              </a:tblGrid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地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控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数据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HD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封装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ncapsulati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置存活时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Keepalive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HDLC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P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比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82680" y="2262240"/>
            <a:ext cx="8378640" cy="3802680"/>
            <a:chOff x="382680" y="2262240"/>
            <a:chExt cx="8378640" cy="3802680"/>
          </a:xfrm>
        </p:grpSpPr>
        <p:sp>
          <p:nvSpPr>
            <p:cNvPr id="2962" name=""/>
            <p:cNvSpPr/>
            <p:nvPr/>
          </p:nvSpPr>
          <p:spPr>
            <a:xfrm>
              <a:off x="639000" y="2320920"/>
              <a:ext cx="999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宋体"/>
                </a:rPr>
                <a:t>HDLC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068480" y="2851200"/>
              <a:ext cx="114120" cy="16488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81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3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8" y="105"/>
                  </a:lnTo>
                  <a:lnTo>
                    <a:pt x="35" y="81"/>
                  </a:lnTo>
                  <a:lnTo>
                    <a:pt x="69" y="0"/>
                  </a:lnTo>
                  <a:lnTo>
                    <a:pt x="86" y="50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39" y="141"/>
                  </a:lnTo>
                  <a:lnTo>
                    <a:pt x="142" y="154"/>
                  </a:lnTo>
                  <a:lnTo>
                    <a:pt x="142" y="156"/>
                  </a:lnTo>
                  <a:lnTo>
                    <a:pt x="139" y="161"/>
                  </a:lnTo>
                  <a:lnTo>
                    <a:pt x="134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3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8" y="200"/>
                  </a:lnTo>
                  <a:lnTo>
                    <a:pt x="86" y="197"/>
                  </a:lnTo>
                  <a:lnTo>
                    <a:pt x="109" y="187"/>
                  </a:lnTo>
                  <a:lnTo>
                    <a:pt x="124" y="171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0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4"/>
                  </a:lnTo>
                  <a:lnTo>
                    <a:pt x="97" y="177"/>
                  </a:lnTo>
                  <a:lnTo>
                    <a:pt x="86" y="180"/>
                  </a:lnTo>
                  <a:lnTo>
                    <a:pt x="73" y="177"/>
                  </a:lnTo>
                  <a:lnTo>
                    <a:pt x="66" y="174"/>
                  </a:lnTo>
                  <a:lnTo>
                    <a:pt x="56" y="174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1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533600" y="2766960"/>
              <a:ext cx="640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面向比特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068480" y="3197160"/>
              <a:ext cx="114120" cy="16524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81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3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8" y="105"/>
                  </a:lnTo>
                  <a:lnTo>
                    <a:pt x="35" y="81"/>
                  </a:lnTo>
                  <a:lnTo>
                    <a:pt x="69" y="0"/>
                  </a:lnTo>
                  <a:lnTo>
                    <a:pt x="86" y="51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39" y="141"/>
                  </a:lnTo>
                  <a:lnTo>
                    <a:pt x="142" y="154"/>
                  </a:lnTo>
                  <a:lnTo>
                    <a:pt x="142" y="156"/>
                  </a:lnTo>
                  <a:lnTo>
                    <a:pt x="139" y="161"/>
                  </a:lnTo>
                  <a:lnTo>
                    <a:pt x="134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3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8" y="200"/>
                  </a:lnTo>
                  <a:lnTo>
                    <a:pt x="86" y="197"/>
                  </a:lnTo>
                  <a:lnTo>
                    <a:pt x="109" y="187"/>
                  </a:lnTo>
                  <a:lnTo>
                    <a:pt x="124" y="171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0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5"/>
                  </a:lnTo>
                  <a:lnTo>
                    <a:pt x="97" y="177"/>
                  </a:lnTo>
                  <a:lnTo>
                    <a:pt x="86" y="180"/>
                  </a:lnTo>
                  <a:lnTo>
                    <a:pt x="73" y="177"/>
                  </a:lnTo>
                  <a:lnTo>
                    <a:pt x="66" y="175"/>
                  </a:lnTo>
                  <a:lnTo>
                    <a:pt x="56" y="175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1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693800" y="3114720"/>
              <a:ext cx="1121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数据链路层协议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068480" y="3540240"/>
              <a:ext cx="114120" cy="16488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81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3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8" y="105"/>
                  </a:lnTo>
                  <a:lnTo>
                    <a:pt x="35" y="81"/>
                  </a:lnTo>
                  <a:lnTo>
                    <a:pt x="69" y="0"/>
                  </a:lnTo>
                  <a:lnTo>
                    <a:pt x="86" y="50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39" y="141"/>
                  </a:lnTo>
                  <a:lnTo>
                    <a:pt x="142" y="154"/>
                  </a:lnTo>
                  <a:lnTo>
                    <a:pt x="142" y="156"/>
                  </a:lnTo>
                  <a:lnTo>
                    <a:pt x="139" y="161"/>
                  </a:lnTo>
                  <a:lnTo>
                    <a:pt x="134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3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8" y="200"/>
                  </a:lnTo>
                  <a:lnTo>
                    <a:pt x="86" y="197"/>
                  </a:lnTo>
                  <a:lnTo>
                    <a:pt x="109" y="187"/>
                  </a:lnTo>
                  <a:lnTo>
                    <a:pt x="124" y="171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0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4"/>
                  </a:lnTo>
                  <a:lnTo>
                    <a:pt x="97" y="177"/>
                  </a:lnTo>
                  <a:lnTo>
                    <a:pt x="86" y="180"/>
                  </a:lnTo>
                  <a:lnTo>
                    <a:pt x="73" y="177"/>
                  </a:lnTo>
                  <a:lnTo>
                    <a:pt x="66" y="174"/>
                  </a:lnTo>
                  <a:lnTo>
                    <a:pt x="56" y="174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1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800360" y="3456000"/>
              <a:ext cx="1441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运行于同步串行线路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1068480" y="3886200"/>
              <a:ext cx="114120" cy="16524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81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3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8" y="105"/>
                  </a:lnTo>
                  <a:lnTo>
                    <a:pt x="35" y="81"/>
                  </a:lnTo>
                  <a:lnTo>
                    <a:pt x="69" y="0"/>
                  </a:lnTo>
                  <a:lnTo>
                    <a:pt x="86" y="51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39" y="141"/>
                  </a:lnTo>
                  <a:lnTo>
                    <a:pt x="142" y="154"/>
                  </a:lnTo>
                  <a:lnTo>
                    <a:pt x="142" y="156"/>
                  </a:lnTo>
                  <a:lnTo>
                    <a:pt x="139" y="161"/>
                  </a:lnTo>
                  <a:lnTo>
                    <a:pt x="134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3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8" y="200"/>
                  </a:lnTo>
                  <a:lnTo>
                    <a:pt x="86" y="197"/>
                  </a:lnTo>
                  <a:lnTo>
                    <a:pt x="109" y="187"/>
                  </a:lnTo>
                  <a:lnTo>
                    <a:pt x="124" y="171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1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5"/>
                  </a:lnTo>
                  <a:lnTo>
                    <a:pt x="97" y="177"/>
                  </a:lnTo>
                  <a:lnTo>
                    <a:pt x="86" y="180"/>
                  </a:lnTo>
                  <a:lnTo>
                    <a:pt x="73" y="177"/>
                  </a:lnTo>
                  <a:lnTo>
                    <a:pt x="66" y="175"/>
                  </a:lnTo>
                  <a:lnTo>
                    <a:pt x="56" y="175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1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693800" y="3803760"/>
              <a:ext cx="1121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不是缺省的封装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1" name=""/>
            <p:cNvGrpSpPr/>
            <p:nvPr/>
          </p:nvGrpSpPr>
          <p:grpSpPr>
            <a:xfrm>
              <a:off x="382680" y="5030640"/>
              <a:ext cx="1417680" cy="570240"/>
              <a:chOff x="382680" y="5030640"/>
              <a:chExt cx="1417680" cy="570240"/>
            </a:xfrm>
          </p:grpSpPr>
          <p:pic>
            <p:nvPicPr>
              <p:cNvPr id="29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2680" y="5030640"/>
                <a:ext cx="1417680" cy="57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2680" y="5030640"/>
                <a:ext cx="1417680" cy="570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4" name="" descr=""/>
            <p:cNvPicPr/>
            <p:nvPr/>
          </p:nvPicPr>
          <p:blipFill>
            <a:blip r:embed="rId3"/>
            <a:stretch/>
          </p:blipFill>
          <p:spPr>
            <a:xfrm>
              <a:off x="2092320" y="5070600"/>
              <a:ext cx="8920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5" name="" descr=""/>
            <p:cNvPicPr/>
            <p:nvPr/>
          </p:nvPicPr>
          <p:blipFill>
            <a:blip r:embed="rId4"/>
            <a:stretch/>
          </p:blipFill>
          <p:spPr>
            <a:xfrm>
              <a:off x="6229440" y="5070600"/>
              <a:ext cx="89064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6" name=""/>
            <p:cNvGrpSpPr/>
            <p:nvPr/>
          </p:nvGrpSpPr>
          <p:grpSpPr>
            <a:xfrm>
              <a:off x="7343640" y="5030640"/>
              <a:ext cx="1417680" cy="570240"/>
              <a:chOff x="7343640" y="5030640"/>
              <a:chExt cx="1417680" cy="570240"/>
            </a:xfrm>
          </p:grpSpPr>
          <p:pic>
            <p:nvPicPr>
              <p:cNvPr id="29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43640" y="5030640"/>
                <a:ext cx="1417680" cy="57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343640" y="5030640"/>
                <a:ext cx="1417680" cy="57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79" name=""/>
            <p:cNvSpPr/>
            <p:nvPr/>
          </p:nvSpPr>
          <p:spPr>
            <a:xfrm>
              <a:off x="1725480" y="530532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988320" y="5315040"/>
              <a:ext cx="480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916360" y="5315040"/>
              <a:ext cx="65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761080" y="5311800"/>
              <a:ext cx="70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587960" y="4863960"/>
              <a:ext cx="174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odem/CSU/D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794560" y="4867200"/>
              <a:ext cx="174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odem/CSU/D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564000" y="4653000"/>
              <a:ext cx="2244600" cy="1182600"/>
            </a:xfrm>
            <a:custGeom>
              <a:avLst/>
              <a:gdLst/>
              <a:ahLst/>
              <a:rect l="l" t="t" r="r" b="b"/>
              <a:pathLst>
                <a:path w="2826" h="1490">
                  <a:moveTo>
                    <a:pt x="278" y="387"/>
                  </a:moveTo>
                  <a:lnTo>
                    <a:pt x="183" y="416"/>
                  </a:lnTo>
                  <a:lnTo>
                    <a:pt x="105" y="466"/>
                  </a:lnTo>
                  <a:lnTo>
                    <a:pt x="49" y="530"/>
                  </a:lnTo>
                  <a:lnTo>
                    <a:pt x="12" y="605"/>
                  </a:lnTo>
                  <a:lnTo>
                    <a:pt x="0" y="683"/>
                  </a:lnTo>
                  <a:lnTo>
                    <a:pt x="1" y="723"/>
                  </a:lnTo>
                  <a:lnTo>
                    <a:pt x="10" y="765"/>
                  </a:lnTo>
                  <a:lnTo>
                    <a:pt x="46" y="842"/>
                  </a:lnTo>
                  <a:lnTo>
                    <a:pt x="110" y="912"/>
                  </a:lnTo>
                  <a:lnTo>
                    <a:pt x="77" y="1016"/>
                  </a:lnTo>
                  <a:lnTo>
                    <a:pt x="77" y="1040"/>
                  </a:lnTo>
                  <a:lnTo>
                    <a:pt x="77" y="1066"/>
                  </a:lnTo>
                  <a:lnTo>
                    <a:pt x="89" y="1115"/>
                  </a:lnTo>
                  <a:lnTo>
                    <a:pt x="138" y="1200"/>
                  </a:lnTo>
                  <a:lnTo>
                    <a:pt x="217" y="1269"/>
                  </a:lnTo>
                  <a:lnTo>
                    <a:pt x="315" y="1311"/>
                  </a:lnTo>
                  <a:lnTo>
                    <a:pt x="426" y="1328"/>
                  </a:lnTo>
                  <a:lnTo>
                    <a:pt x="539" y="1309"/>
                  </a:lnTo>
                  <a:lnTo>
                    <a:pt x="649" y="1249"/>
                  </a:lnTo>
                  <a:lnTo>
                    <a:pt x="724" y="1301"/>
                  </a:lnTo>
                  <a:lnTo>
                    <a:pt x="807" y="1342"/>
                  </a:lnTo>
                  <a:lnTo>
                    <a:pt x="989" y="1391"/>
                  </a:lnTo>
                  <a:lnTo>
                    <a:pt x="1083" y="1397"/>
                  </a:lnTo>
                  <a:lnTo>
                    <a:pt x="1130" y="1397"/>
                  </a:lnTo>
                  <a:lnTo>
                    <a:pt x="1179" y="1392"/>
                  </a:lnTo>
                  <a:lnTo>
                    <a:pt x="1365" y="1342"/>
                  </a:lnTo>
                  <a:lnTo>
                    <a:pt x="1482" y="1411"/>
                  </a:lnTo>
                  <a:lnTo>
                    <a:pt x="1610" y="1459"/>
                  </a:lnTo>
                  <a:lnTo>
                    <a:pt x="1744" y="1485"/>
                  </a:lnTo>
                  <a:lnTo>
                    <a:pt x="1812" y="1490"/>
                  </a:lnTo>
                  <a:lnTo>
                    <a:pt x="1845" y="1490"/>
                  </a:lnTo>
                  <a:lnTo>
                    <a:pt x="1882" y="1489"/>
                  </a:lnTo>
                  <a:lnTo>
                    <a:pt x="2017" y="1472"/>
                  </a:lnTo>
                  <a:lnTo>
                    <a:pt x="2149" y="1432"/>
                  </a:lnTo>
                  <a:lnTo>
                    <a:pt x="2271" y="1372"/>
                  </a:lnTo>
                  <a:lnTo>
                    <a:pt x="2382" y="1290"/>
                  </a:lnTo>
                  <a:lnTo>
                    <a:pt x="2453" y="1297"/>
                  </a:lnTo>
                  <a:lnTo>
                    <a:pt x="2486" y="1297"/>
                  </a:lnTo>
                  <a:lnTo>
                    <a:pt x="2520" y="1294"/>
                  </a:lnTo>
                  <a:lnTo>
                    <a:pt x="2638" y="1259"/>
                  </a:lnTo>
                  <a:lnTo>
                    <a:pt x="2731" y="1194"/>
                  </a:lnTo>
                  <a:lnTo>
                    <a:pt x="2795" y="1106"/>
                  </a:lnTo>
                  <a:lnTo>
                    <a:pt x="2824" y="1008"/>
                  </a:lnTo>
                  <a:lnTo>
                    <a:pt x="2826" y="956"/>
                  </a:lnTo>
                  <a:lnTo>
                    <a:pt x="2817" y="904"/>
                  </a:lnTo>
                  <a:lnTo>
                    <a:pt x="2767" y="805"/>
                  </a:lnTo>
                  <a:lnTo>
                    <a:pt x="2724" y="761"/>
                  </a:lnTo>
                  <a:lnTo>
                    <a:pt x="2667" y="719"/>
                  </a:lnTo>
                  <a:lnTo>
                    <a:pt x="2723" y="662"/>
                  </a:lnTo>
                  <a:lnTo>
                    <a:pt x="2750" y="599"/>
                  </a:lnTo>
                  <a:lnTo>
                    <a:pt x="2753" y="567"/>
                  </a:lnTo>
                  <a:lnTo>
                    <a:pt x="2752" y="552"/>
                  </a:lnTo>
                  <a:lnTo>
                    <a:pt x="2748" y="534"/>
                  </a:lnTo>
                  <a:lnTo>
                    <a:pt x="2720" y="473"/>
                  </a:lnTo>
                  <a:lnTo>
                    <a:pt x="2673" y="423"/>
                  </a:lnTo>
                  <a:lnTo>
                    <a:pt x="2606" y="389"/>
                  </a:lnTo>
                  <a:lnTo>
                    <a:pt x="2528" y="376"/>
                  </a:lnTo>
                  <a:lnTo>
                    <a:pt x="2507" y="376"/>
                  </a:lnTo>
                  <a:lnTo>
                    <a:pt x="2485" y="378"/>
                  </a:lnTo>
                  <a:lnTo>
                    <a:pt x="2440" y="390"/>
                  </a:lnTo>
                  <a:lnTo>
                    <a:pt x="2377" y="332"/>
                  </a:lnTo>
                  <a:lnTo>
                    <a:pt x="2305" y="283"/>
                  </a:lnTo>
                  <a:lnTo>
                    <a:pt x="2140" y="220"/>
                  </a:lnTo>
                  <a:lnTo>
                    <a:pt x="2052" y="206"/>
                  </a:lnTo>
                  <a:lnTo>
                    <a:pt x="2006" y="204"/>
                  </a:lnTo>
                  <a:lnTo>
                    <a:pt x="1985" y="204"/>
                  </a:lnTo>
                  <a:lnTo>
                    <a:pt x="1960" y="203"/>
                  </a:lnTo>
                  <a:lnTo>
                    <a:pt x="1779" y="237"/>
                  </a:lnTo>
                  <a:lnTo>
                    <a:pt x="1698" y="134"/>
                  </a:lnTo>
                  <a:lnTo>
                    <a:pt x="1590" y="60"/>
                  </a:lnTo>
                  <a:lnTo>
                    <a:pt x="1466" y="16"/>
                  </a:lnTo>
                  <a:lnTo>
                    <a:pt x="1333" y="0"/>
                  </a:lnTo>
                  <a:lnTo>
                    <a:pt x="1300" y="0"/>
                  </a:lnTo>
                  <a:lnTo>
                    <a:pt x="1266" y="3"/>
                  </a:lnTo>
                  <a:lnTo>
                    <a:pt x="1200" y="14"/>
                  </a:lnTo>
                  <a:lnTo>
                    <a:pt x="1075" y="58"/>
                  </a:lnTo>
                  <a:lnTo>
                    <a:pt x="968" y="131"/>
                  </a:lnTo>
                  <a:lnTo>
                    <a:pt x="885" y="237"/>
                  </a:lnTo>
                  <a:lnTo>
                    <a:pt x="810" y="174"/>
                  </a:lnTo>
                  <a:lnTo>
                    <a:pt x="719" y="137"/>
                  </a:lnTo>
                  <a:lnTo>
                    <a:pt x="623" y="124"/>
                  </a:lnTo>
                  <a:lnTo>
                    <a:pt x="600" y="124"/>
                  </a:lnTo>
                  <a:lnTo>
                    <a:pt x="576" y="127"/>
                  </a:lnTo>
                  <a:lnTo>
                    <a:pt x="527" y="137"/>
                  </a:lnTo>
                  <a:lnTo>
                    <a:pt x="439" y="169"/>
                  </a:lnTo>
                  <a:lnTo>
                    <a:pt x="363" y="224"/>
                  </a:lnTo>
                  <a:lnTo>
                    <a:pt x="309" y="296"/>
                  </a:lnTo>
                  <a:lnTo>
                    <a:pt x="282" y="387"/>
                  </a:lnTo>
                  <a:lnTo>
                    <a:pt x="278" y="387"/>
                  </a:lnTo>
                  <a:close/>
                </a:path>
              </a:pathLst>
            </a:custGeom>
            <a:solidFill>
              <a:srgbClr val="d8ffff"/>
            </a:solidFill>
            <a:ln w="9360">
              <a:solidFill>
                <a:srgbClr val="00cd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980520" y="5099040"/>
              <a:ext cx="9165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宋体"/>
                </a:rPr>
                <a:t>WA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833920" y="5438880"/>
              <a:ext cx="54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D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756400" y="5494320"/>
              <a:ext cx="54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D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927880" y="57513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820480" y="582120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231440" y="2262240"/>
              <a:ext cx="695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宋体"/>
                </a:rPr>
                <a:t>PPP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605480" y="2801880"/>
              <a:ext cx="112680" cy="165240"/>
            </a:xfrm>
            <a:custGeom>
              <a:avLst/>
              <a:gdLst/>
              <a:ahLst/>
              <a:rect l="l" t="t" r="r" b="b"/>
              <a:pathLst>
                <a:path w="143" h="207">
                  <a:moveTo>
                    <a:pt x="82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4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9" y="105"/>
                  </a:lnTo>
                  <a:lnTo>
                    <a:pt x="36" y="81"/>
                  </a:lnTo>
                  <a:lnTo>
                    <a:pt x="69" y="0"/>
                  </a:lnTo>
                  <a:lnTo>
                    <a:pt x="87" y="50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40" y="141"/>
                  </a:lnTo>
                  <a:lnTo>
                    <a:pt x="143" y="154"/>
                  </a:lnTo>
                  <a:lnTo>
                    <a:pt x="143" y="156"/>
                  </a:lnTo>
                  <a:lnTo>
                    <a:pt x="140" y="161"/>
                  </a:lnTo>
                  <a:lnTo>
                    <a:pt x="135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4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9" y="200"/>
                  </a:lnTo>
                  <a:lnTo>
                    <a:pt x="87" y="197"/>
                  </a:lnTo>
                  <a:lnTo>
                    <a:pt x="109" y="187"/>
                  </a:lnTo>
                  <a:lnTo>
                    <a:pt x="124" y="171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0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4"/>
                  </a:lnTo>
                  <a:lnTo>
                    <a:pt x="97" y="177"/>
                  </a:lnTo>
                  <a:lnTo>
                    <a:pt x="87" y="180"/>
                  </a:lnTo>
                  <a:lnTo>
                    <a:pt x="73" y="177"/>
                  </a:lnTo>
                  <a:lnTo>
                    <a:pt x="66" y="174"/>
                  </a:lnTo>
                  <a:lnTo>
                    <a:pt x="56" y="174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442480" y="2719440"/>
              <a:ext cx="1761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增强不同厂商的互操作性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605480" y="3147840"/>
              <a:ext cx="112680" cy="165240"/>
            </a:xfrm>
            <a:custGeom>
              <a:avLst/>
              <a:gdLst/>
              <a:ahLst/>
              <a:rect l="l" t="t" r="r" b="b"/>
              <a:pathLst>
                <a:path w="143" h="207">
                  <a:moveTo>
                    <a:pt x="82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4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9" y="105"/>
                  </a:lnTo>
                  <a:lnTo>
                    <a:pt x="36" y="81"/>
                  </a:lnTo>
                  <a:lnTo>
                    <a:pt x="69" y="0"/>
                  </a:lnTo>
                  <a:lnTo>
                    <a:pt x="87" y="51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40" y="141"/>
                  </a:lnTo>
                  <a:lnTo>
                    <a:pt x="143" y="154"/>
                  </a:lnTo>
                  <a:lnTo>
                    <a:pt x="143" y="156"/>
                  </a:lnTo>
                  <a:lnTo>
                    <a:pt x="140" y="161"/>
                  </a:lnTo>
                  <a:lnTo>
                    <a:pt x="135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4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9" y="200"/>
                  </a:lnTo>
                  <a:lnTo>
                    <a:pt x="87" y="197"/>
                  </a:lnTo>
                  <a:lnTo>
                    <a:pt x="109" y="187"/>
                  </a:lnTo>
                  <a:lnTo>
                    <a:pt x="124" y="171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1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5"/>
                  </a:lnTo>
                  <a:lnTo>
                    <a:pt x="97" y="177"/>
                  </a:lnTo>
                  <a:lnTo>
                    <a:pt x="87" y="180"/>
                  </a:lnTo>
                  <a:lnTo>
                    <a:pt x="73" y="177"/>
                  </a:lnTo>
                  <a:lnTo>
                    <a:pt x="66" y="175"/>
                  </a:lnTo>
                  <a:lnTo>
                    <a:pt x="56" y="175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990680" y="3065400"/>
              <a:ext cx="253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提供</a:t>
              </a: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PAP</a:t>
              </a: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CHAP</a:t>
              </a: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用户验证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605480" y="3490920"/>
              <a:ext cx="112680" cy="165240"/>
            </a:xfrm>
            <a:custGeom>
              <a:avLst/>
              <a:gdLst/>
              <a:ahLst/>
              <a:rect l="l" t="t" r="r" b="b"/>
              <a:pathLst>
                <a:path w="143" h="207">
                  <a:moveTo>
                    <a:pt x="82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4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9" y="105"/>
                  </a:lnTo>
                  <a:lnTo>
                    <a:pt x="36" y="81"/>
                  </a:lnTo>
                  <a:lnTo>
                    <a:pt x="69" y="0"/>
                  </a:lnTo>
                  <a:lnTo>
                    <a:pt x="87" y="51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40" y="141"/>
                  </a:lnTo>
                  <a:lnTo>
                    <a:pt x="143" y="154"/>
                  </a:lnTo>
                  <a:lnTo>
                    <a:pt x="143" y="156"/>
                  </a:lnTo>
                  <a:lnTo>
                    <a:pt x="140" y="161"/>
                  </a:lnTo>
                  <a:lnTo>
                    <a:pt x="135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4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9" y="200"/>
                  </a:lnTo>
                  <a:lnTo>
                    <a:pt x="87" y="197"/>
                  </a:lnTo>
                  <a:lnTo>
                    <a:pt x="109" y="187"/>
                  </a:lnTo>
                  <a:lnTo>
                    <a:pt x="124" y="171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0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5"/>
                  </a:lnTo>
                  <a:lnTo>
                    <a:pt x="97" y="177"/>
                  </a:lnTo>
                  <a:lnTo>
                    <a:pt x="87" y="180"/>
                  </a:lnTo>
                  <a:lnTo>
                    <a:pt x="73" y="177"/>
                  </a:lnTo>
                  <a:lnTo>
                    <a:pt x="66" y="175"/>
                  </a:lnTo>
                  <a:lnTo>
                    <a:pt x="56" y="175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282280" y="3408480"/>
              <a:ext cx="1280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支持多种三层协议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605480" y="3838680"/>
              <a:ext cx="112680" cy="164880"/>
            </a:xfrm>
            <a:custGeom>
              <a:avLst/>
              <a:gdLst/>
              <a:ahLst/>
              <a:rect l="l" t="t" r="r" b="b"/>
              <a:pathLst>
                <a:path w="143" h="207">
                  <a:moveTo>
                    <a:pt x="82" y="207"/>
                  </a:moveTo>
                  <a:lnTo>
                    <a:pt x="71" y="207"/>
                  </a:lnTo>
                  <a:lnTo>
                    <a:pt x="51" y="202"/>
                  </a:lnTo>
                  <a:lnTo>
                    <a:pt x="24" y="190"/>
                  </a:lnTo>
                  <a:lnTo>
                    <a:pt x="10" y="177"/>
                  </a:lnTo>
                  <a:lnTo>
                    <a:pt x="3" y="16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8" y="126"/>
                  </a:lnTo>
                  <a:lnTo>
                    <a:pt x="19" y="105"/>
                  </a:lnTo>
                  <a:lnTo>
                    <a:pt x="36" y="81"/>
                  </a:lnTo>
                  <a:lnTo>
                    <a:pt x="69" y="0"/>
                  </a:lnTo>
                  <a:lnTo>
                    <a:pt x="87" y="51"/>
                  </a:lnTo>
                  <a:lnTo>
                    <a:pt x="102" y="76"/>
                  </a:lnTo>
                  <a:lnTo>
                    <a:pt x="132" y="116"/>
                  </a:lnTo>
                  <a:lnTo>
                    <a:pt x="140" y="141"/>
                  </a:lnTo>
                  <a:lnTo>
                    <a:pt x="143" y="154"/>
                  </a:lnTo>
                  <a:lnTo>
                    <a:pt x="143" y="156"/>
                  </a:lnTo>
                  <a:lnTo>
                    <a:pt x="140" y="161"/>
                  </a:lnTo>
                  <a:lnTo>
                    <a:pt x="135" y="180"/>
                  </a:lnTo>
                  <a:lnTo>
                    <a:pt x="122" y="190"/>
                  </a:lnTo>
                  <a:lnTo>
                    <a:pt x="97" y="202"/>
                  </a:lnTo>
                  <a:lnTo>
                    <a:pt x="84" y="207"/>
                  </a:lnTo>
                  <a:lnTo>
                    <a:pt x="69" y="202"/>
                  </a:lnTo>
                  <a:lnTo>
                    <a:pt x="59" y="197"/>
                  </a:lnTo>
                  <a:lnTo>
                    <a:pt x="71" y="200"/>
                  </a:lnTo>
                  <a:lnTo>
                    <a:pt x="79" y="200"/>
                  </a:lnTo>
                  <a:lnTo>
                    <a:pt x="87" y="197"/>
                  </a:lnTo>
                  <a:lnTo>
                    <a:pt x="109" y="187"/>
                  </a:lnTo>
                  <a:lnTo>
                    <a:pt x="124" y="172"/>
                  </a:lnTo>
                  <a:lnTo>
                    <a:pt x="129" y="154"/>
                  </a:lnTo>
                  <a:lnTo>
                    <a:pt x="129" y="149"/>
                  </a:lnTo>
                  <a:lnTo>
                    <a:pt x="129" y="141"/>
                  </a:lnTo>
                  <a:lnTo>
                    <a:pt x="124" y="126"/>
                  </a:lnTo>
                  <a:lnTo>
                    <a:pt x="117" y="111"/>
                  </a:lnTo>
                  <a:lnTo>
                    <a:pt x="122" y="131"/>
                  </a:lnTo>
                  <a:lnTo>
                    <a:pt x="124" y="144"/>
                  </a:lnTo>
                  <a:lnTo>
                    <a:pt x="122" y="149"/>
                  </a:lnTo>
                  <a:lnTo>
                    <a:pt x="122" y="154"/>
                  </a:lnTo>
                  <a:lnTo>
                    <a:pt x="117" y="164"/>
                  </a:lnTo>
                  <a:lnTo>
                    <a:pt x="107" y="175"/>
                  </a:lnTo>
                  <a:lnTo>
                    <a:pt x="97" y="177"/>
                  </a:lnTo>
                  <a:lnTo>
                    <a:pt x="87" y="180"/>
                  </a:lnTo>
                  <a:lnTo>
                    <a:pt x="73" y="177"/>
                  </a:lnTo>
                  <a:lnTo>
                    <a:pt x="66" y="175"/>
                  </a:lnTo>
                  <a:lnTo>
                    <a:pt x="56" y="175"/>
                  </a:lnTo>
                  <a:lnTo>
                    <a:pt x="51" y="177"/>
                  </a:lnTo>
                  <a:lnTo>
                    <a:pt x="46" y="185"/>
                  </a:lnTo>
                  <a:lnTo>
                    <a:pt x="46" y="190"/>
                  </a:lnTo>
                  <a:lnTo>
                    <a:pt x="49" y="192"/>
                  </a:lnTo>
                  <a:lnTo>
                    <a:pt x="51" y="195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6474e7"/>
            </a:solidFill>
            <a:ln w="1440">
              <a:solidFill>
                <a:srgbClr val="6474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122440" y="375588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宋体"/>
                </a:rPr>
                <a:t>缺省的封装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广域网技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M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ultiLink PP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M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增加带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"/>
          <p:cNvSpPr/>
          <p:nvPr/>
        </p:nvSpPr>
        <p:spPr>
          <a:xfrm>
            <a:off x="2590920" y="2971800"/>
            <a:ext cx="4038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使用场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6" name=""/>
          <p:cNvSpPr/>
          <p:nvPr/>
        </p:nvSpPr>
        <p:spPr>
          <a:xfrm>
            <a:off x="69343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 flipH="1">
            <a:off x="12952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057400" y="2514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3244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2057400" y="2895480"/>
            <a:ext cx="762120" cy="456840"/>
            <a:chOff x="2057400" y="2895480"/>
            <a:chExt cx="762120" cy="456840"/>
          </a:xfrm>
        </p:grpSpPr>
        <p:sp>
          <p:nvSpPr>
            <p:cNvPr id="3011" name=""/>
            <p:cNvSpPr/>
            <p:nvPr/>
          </p:nvSpPr>
          <p:spPr>
            <a:xfrm>
              <a:off x="2057400" y="30225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057400" y="28954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3" name=""/>
            <p:cNvGrpSpPr/>
            <p:nvPr/>
          </p:nvGrpSpPr>
          <p:grpSpPr>
            <a:xfrm>
              <a:off x="2175480" y="2925000"/>
              <a:ext cx="523440" cy="190080"/>
              <a:chOff x="2175480" y="2925000"/>
              <a:chExt cx="523440" cy="190080"/>
            </a:xfrm>
          </p:grpSpPr>
          <p:sp>
            <p:nvSpPr>
              <p:cNvPr id="3014" name=""/>
              <p:cNvSpPr/>
              <p:nvPr/>
            </p:nvSpPr>
            <p:spPr>
              <a:xfrm>
                <a:off x="244656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44656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217548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217548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218808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18808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243720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43720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45196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245196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18052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18052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219312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19312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44224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44224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0" name=""/>
          <p:cNvGrpSpPr/>
          <p:nvPr/>
        </p:nvGrpSpPr>
        <p:grpSpPr>
          <a:xfrm>
            <a:off x="6248520" y="2895480"/>
            <a:ext cx="761760" cy="456840"/>
            <a:chOff x="6248520" y="2895480"/>
            <a:chExt cx="761760" cy="456840"/>
          </a:xfrm>
        </p:grpSpPr>
        <p:sp>
          <p:nvSpPr>
            <p:cNvPr id="3031" name=""/>
            <p:cNvSpPr/>
            <p:nvPr/>
          </p:nvSpPr>
          <p:spPr>
            <a:xfrm>
              <a:off x="6248520" y="3022560"/>
              <a:ext cx="76176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48520" y="2895480"/>
              <a:ext cx="75852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3" name=""/>
            <p:cNvGrpSpPr/>
            <p:nvPr/>
          </p:nvGrpSpPr>
          <p:grpSpPr>
            <a:xfrm>
              <a:off x="6366600" y="2925000"/>
              <a:ext cx="523080" cy="190080"/>
              <a:chOff x="6366600" y="2925000"/>
              <a:chExt cx="523080" cy="190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0" name=""/>
          <p:cNvSpPr/>
          <p:nvPr/>
        </p:nvSpPr>
        <p:spPr>
          <a:xfrm>
            <a:off x="2895480" y="2514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28954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4864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4864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4191120" y="243828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4114800" y="3352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封装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P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接口工作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pp multi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建立虚拟接口模板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户的对应关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ultilink-user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user-nam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bind virtual-template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最大绑定链路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ultilink max-bind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bi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X.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x.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T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C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之间的接口规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模拟线路上的分组交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不可靠线路上实现可靠的传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位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模型中的层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.2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网络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62" name=""/>
          <p:cNvGrpSpPr/>
          <p:nvPr/>
        </p:nvGrpSpPr>
        <p:grpSpPr>
          <a:xfrm>
            <a:off x="1015920" y="2514600"/>
            <a:ext cx="6679800" cy="3596760"/>
            <a:chOff x="1015920" y="2514600"/>
            <a:chExt cx="6679800" cy="3596760"/>
          </a:xfrm>
        </p:grpSpPr>
        <p:sp>
          <p:nvSpPr>
            <p:cNvPr id="3063" name=""/>
            <p:cNvSpPr/>
            <p:nvPr/>
          </p:nvSpPr>
          <p:spPr>
            <a:xfrm>
              <a:off x="2029320" y="2514600"/>
              <a:ext cx="4791600" cy="3143520"/>
            </a:xfrm>
            <a:custGeom>
              <a:avLst/>
              <a:gdLst/>
              <a:ahLst/>
              <a:rect l="l" t="t" r="r" b="b"/>
              <a:pathLst>
                <a:path w="3002" h="1706">
                  <a:moveTo>
                    <a:pt x="442" y="1267"/>
                  </a:moveTo>
                  <a:lnTo>
                    <a:pt x="471" y="1324"/>
                  </a:lnTo>
                  <a:lnTo>
                    <a:pt x="503" y="1379"/>
                  </a:lnTo>
                  <a:lnTo>
                    <a:pt x="540" y="1430"/>
                  </a:lnTo>
                  <a:lnTo>
                    <a:pt x="580" y="1478"/>
                  </a:lnTo>
                  <a:lnTo>
                    <a:pt x="622" y="1523"/>
                  </a:lnTo>
                  <a:lnTo>
                    <a:pt x="667" y="1563"/>
                  </a:lnTo>
                  <a:lnTo>
                    <a:pt x="714" y="1598"/>
                  </a:lnTo>
                  <a:lnTo>
                    <a:pt x="764" y="1628"/>
                  </a:lnTo>
                  <a:lnTo>
                    <a:pt x="815" y="1654"/>
                  </a:lnTo>
                  <a:lnTo>
                    <a:pt x="868" y="1674"/>
                  </a:lnTo>
                  <a:lnTo>
                    <a:pt x="923" y="1691"/>
                  </a:lnTo>
                  <a:lnTo>
                    <a:pt x="979" y="1702"/>
                  </a:lnTo>
                  <a:lnTo>
                    <a:pt x="1033" y="1706"/>
                  </a:lnTo>
                  <a:lnTo>
                    <a:pt x="1091" y="1706"/>
                  </a:lnTo>
                  <a:lnTo>
                    <a:pt x="1145" y="1700"/>
                  </a:lnTo>
                  <a:lnTo>
                    <a:pt x="1201" y="1689"/>
                  </a:lnTo>
                  <a:lnTo>
                    <a:pt x="1255" y="1674"/>
                  </a:lnTo>
                  <a:lnTo>
                    <a:pt x="1309" y="1653"/>
                  </a:lnTo>
                  <a:lnTo>
                    <a:pt x="1359" y="1627"/>
                  </a:lnTo>
                  <a:lnTo>
                    <a:pt x="1409" y="1595"/>
                  </a:lnTo>
                  <a:lnTo>
                    <a:pt x="1457" y="1560"/>
                  </a:lnTo>
                  <a:lnTo>
                    <a:pt x="1502" y="1519"/>
                  </a:lnTo>
                  <a:lnTo>
                    <a:pt x="1547" y="1560"/>
                  </a:lnTo>
                  <a:lnTo>
                    <a:pt x="1593" y="1595"/>
                  </a:lnTo>
                  <a:lnTo>
                    <a:pt x="1644" y="1627"/>
                  </a:lnTo>
                  <a:lnTo>
                    <a:pt x="1696" y="1653"/>
                  </a:lnTo>
                  <a:lnTo>
                    <a:pt x="1749" y="1674"/>
                  </a:lnTo>
                  <a:lnTo>
                    <a:pt x="1802" y="1689"/>
                  </a:lnTo>
                  <a:lnTo>
                    <a:pt x="1858" y="1700"/>
                  </a:lnTo>
                  <a:lnTo>
                    <a:pt x="1914" y="1706"/>
                  </a:lnTo>
                  <a:lnTo>
                    <a:pt x="1970" y="1706"/>
                  </a:lnTo>
                  <a:lnTo>
                    <a:pt x="2025" y="1702"/>
                  </a:lnTo>
                  <a:lnTo>
                    <a:pt x="2080" y="1691"/>
                  </a:lnTo>
                  <a:lnTo>
                    <a:pt x="2134" y="1674"/>
                  </a:lnTo>
                  <a:lnTo>
                    <a:pt x="2188" y="1654"/>
                  </a:lnTo>
                  <a:lnTo>
                    <a:pt x="2239" y="1628"/>
                  </a:lnTo>
                  <a:lnTo>
                    <a:pt x="2288" y="1598"/>
                  </a:lnTo>
                  <a:lnTo>
                    <a:pt x="2336" y="1563"/>
                  </a:lnTo>
                  <a:lnTo>
                    <a:pt x="2382" y="1523"/>
                  </a:lnTo>
                  <a:lnTo>
                    <a:pt x="2425" y="1478"/>
                  </a:lnTo>
                  <a:lnTo>
                    <a:pt x="2464" y="1430"/>
                  </a:lnTo>
                  <a:lnTo>
                    <a:pt x="2500" y="1379"/>
                  </a:lnTo>
                  <a:lnTo>
                    <a:pt x="2532" y="1324"/>
                  </a:lnTo>
                  <a:lnTo>
                    <a:pt x="2561" y="1267"/>
                  </a:lnTo>
                  <a:lnTo>
                    <a:pt x="2599" y="1276"/>
                  </a:lnTo>
                  <a:lnTo>
                    <a:pt x="2636" y="1280"/>
                  </a:lnTo>
                  <a:lnTo>
                    <a:pt x="2674" y="1279"/>
                  </a:lnTo>
                  <a:lnTo>
                    <a:pt x="2712" y="1274"/>
                  </a:lnTo>
                  <a:lnTo>
                    <a:pt x="2749" y="1263"/>
                  </a:lnTo>
                  <a:lnTo>
                    <a:pt x="2784" y="1248"/>
                  </a:lnTo>
                  <a:lnTo>
                    <a:pt x="2819" y="1229"/>
                  </a:lnTo>
                  <a:lnTo>
                    <a:pt x="2851" y="1204"/>
                  </a:lnTo>
                  <a:lnTo>
                    <a:pt x="2881" y="1177"/>
                  </a:lnTo>
                  <a:lnTo>
                    <a:pt x="2908" y="1144"/>
                  </a:lnTo>
                  <a:lnTo>
                    <a:pt x="2932" y="1110"/>
                  </a:lnTo>
                  <a:lnTo>
                    <a:pt x="2953" y="1072"/>
                  </a:lnTo>
                  <a:lnTo>
                    <a:pt x="2971" y="1031"/>
                  </a:lnTo>
                  <a:lnTo>
                    <a:pt x="2985" y="989"/>
                  </a:lnTo>
                  <a:lnTo>
                    <a:pt x="2994" y="944"/>
                  </a:lnTo>
                  <a:lnTo>
                    <a:pt x="3001" y="899"/>
                  </a:lnTo>
                  <a:lnTo>
                    <a:pt x="3002" y="854"/>
                  </a:lnTo>
                  <a:lnTo>
                    <a:pt x="3001" y="807"/>
                  </a:lnTo>
                  <a:lnTo>
                    <a:pt x="2994" y="762"/>
                  </a:lnTo>
                  <a:lnTo>
                    <a:pt x="2985" y="719"/>
                  </a:lnTo>
                  <a:lnTo>
                    <a:pt x="2971" y="676"/>
                  </a:lnTo>
                  <a:lnTo>
                    <a:pt x="2953" y="635"/>
                  </a:lnTo>
                  <a:lnTo>
                    <a:pt x="2932" y="597"/>
                  </a:lnTo>
                  <a:lnTo>
                    <a:pt x="2908" y="562"/>
                  </a:lnTo>
                  <a:lnTo>
                    <a:pt x="2881" y="530"/>
                  </a:lnTo>
                  <a:lnTo>
                    <a:pt x="2851" y="502"/>
                  </a:lnTo>
                  <a:lnTo>
                    <a:pt x="2819" y="479"/>
                  </a:lnTo>
                  <a:lnTo>
                    <a:pt x="2784" y="458"/>
                  </a:lnTo>
                  <a:lnTo>
                    <a:pt x="2749" y="443"/>
                  </a:lnTo>
                  <a:lnTo>
                    <a:pt x="2712" y="434"/>
                  </a:lnTo>
                  <a:lnTo>
                    <a:pt x="2674" y="428"/>
                  </a:lnTo>
                  <a:lnTo>
                    <a:pt x="2636" y="427"/>
                  </a:lnTo>
                  <a:lnTo>
                    <a:pt x="2599" y="431"/>
                  </a:lnTo>
                  <a:lnTo>
                    <a:pt x="2561" y="440"/>
                  </a:lnTo>
                  <a:lnTo>
                    <a:pt x="2532" y="382"/>
                  </a:lnTo>
                  <a:lnTo>
                    <a:pt x="2500" y="327"/>
                  </a:lnTo>
                  <a:lnTo>
                    <a:pt x="2464" y="275"/>
                  </a:lnTo>
                  <a:lnTo>
                    <a:pt x="2425" y="228"/>
                  </a:lnTo>
                  <a:lnTo>
                    <a:pt x="2382" y="184"/>
                  </a:lnTo>
                  <a:lnTo>
                    <a:pt x="2336" y="145"/>
                  </a:lnTo>
                  <a:lnTo>
                    <a:pt x="2288" y="109"/>
                  </a:lnTo>
                  <a:lnTo>
                    <a:pt x="2239" y="78"/>
                  </a:lnTo>
                  <a:lnTo>
                    <a:pt x="2188" y="53"/>
                  </a:lnTo>
                  <a:lnTo>
                    <a:pt x="2134" y="31"/>
                  </a:lnTo>
                  <a:lnTo>
                    <a:pt x="2080" y="16"/>
                  </a:lnTo>
                  <a:lnTo>
                    <a:pt x="2025" y="5"/>
                  </a:lnTo>
                  <a:lnTo>
                    <a:pt x="1970" y="0"/>
                  </a:lnTo>
                  <a:lnTo>
                    <a:pt x="1914" y="0"/>
                  </a:lnTo>
                  <a:lnTo>
                    <a:pt x="1858" y="5"/>
                  </a:lnTo>
                  <a:lnTo>
                    <a:pt x="1802" y="16"/>
                  </a:lnTo>
                  <a:lnTo>
                    <a:pt x="1749" y="33"/>
                  </a:lnTo>
                  <a:lnTo>
                    <a:pt x="1696" y="55"/>
                  </a:lnTo>
                  <a:lnTo>
                    <a:pt x="1644" y="80"/>
                  </a:lnTo>
                  <a:lnTo>
                    <a:pt x="1593" y="112"/>
                  </a:lnTo>
                  <a:lnTo>
                    <a:pt x="1547" y="147"/>
                  </a:lnTo>
                  <a:lnTo>
                    <a:pt x="1502" y="187"/>
                  </a:lnTo>
                  <a:lnTo>
                    <a:pt x="1457" y="147"/>
                  </a:lnTo>
                  <a:lnTo>
                    <a:pt x="1409" y="112"/>
                  </a:lnTo>
                  <a:lnTo>
                    <a:pt x="1359" y="80"/>
                  </a:lnTo>
                  <a:lnTo>
                    <a:pt x="1309" y="55"/>
                  </a:lnTo>
                  <a:lnTo>
                    <a:pt x="1255" y="33"/>
                  </a:lnTo>
                  <a:lnTo>
                    <a:pt x="1201" y="16"/>
                  </a:lnTo>
                  <a:lnTo>
                    <a:pt x="1145" y="5"/>
                  </a:lnTo>
                  <a:lnTo>
                    <a:pt x="1091" y="0"/>
                  </a:lnTo>
                  <a:lnTo>
                    <a:pt x="1033" y="0"/>
                  </a:lnTo>
                  <a:lnTo>
                    <a:pt x="979" y="5"/>
                  </a:lnTo>
                  <a:lnTo>
                    <a:pt x="923" y="16"/>
                  </a:lnTo>
                  <a:lnTo>
                    <a:pt x="868" y="31"/>
                  </a:lnTo>
                  <a:lnTo>
                    <a:pt x="815" y="53"/>
                  </a:lnTo>
                  <a:lnTo>
                    <a:pt x="764" y="78"/>
                  </a:lnTo>
                  <a:lnTo>
                    <a:pt x="714" y="109"/>
                  </a:lnTo>
                  <a:lnTo>
                    <a:pt x="667" y="145"/>
                  </a:lnTo>
                  <a:lnTo>
                    <a:pt x="622" y="184"/>
                  </a:lnTo>
                  <a:lnTo>
                    <a:pt x="580" y="228"/>
                  </a:lnTo>
                  <a:lnTo>
                    <a:pt x="540" y="275"/>
                  </a:lnTo>
                  <a:lnTo>
                    <a:pt x="503" y="327"/>
                  </a:lnTo>
                  <a:lnTo>
                    <a:pt x="471" y="382"/>
                  </a:lnTo>
                  <a:lnTo>
                    <a:pt x="442" y="440"/>
                  </a:lnTo>
                  <a:lnTo>
                    <a:pt x="405" y="431"/>
                  </a:lnTo>
                  <a:lnTo>
                    <a:pt x="367" y="427"/>
                  </a:lnTo>
                  <a:lnTo>
                    <a:pt x="329" y="428"/>
                  </a:lnTo>
                  <a:lnTo>
                    <a:pt x="292" y="434"/>
                  </a:lnTo>
                  <a:lnTo>
                    <a:pt x="255" y="443"/>
                  </a:lnTo>
                  <a:lnTo>
                    <a:pt x="218" y="458"/>
                  </a:lnTo>
                  <a:lnTo>
                    <a:pt x="184" y="479"/>
                  </a:lnTo>
                  <a:lnTo>
                    <a:pt x="153" y="502"/>
                  </a:lnTo>
                  <a:lnTo>
                    <a:pt x="123" y="530"/>
                  </a:lnTo>
                  <a:lnTo>
                    <a:pt x="96" y="562"/>
                  </a:lnTo>
                  <a:lnTo>
                    <a:pt x="71" y="597"/>
                  </a:lnTo>
                  <a:lnTo>
                    <a:pt x="49" y="635"/>
                  </a:lnTo>
                  <a:lnTo>
                    <a:pt x="32" y="676"/>
                  </a:lnTo>
                  <a:lnTo>
                    <a:pt x="18" y="719"/>
                  </a:lnTo>
                  <a:lnTo>
                    <a:pt x="9" y="762"/>
                  </a:lnTo>
                  <a:lnTo>
                    <a:pt x="2" y="807"/>
                  </a:lnTo>
                  <a:lnTo>
                    <a:pt x="0" y="854"/>
                  </a:lnTo>
                  <a:lnTo>
                    <a:pt x="2" y="899"/>
                  </a:lnTo>
                  <a:lnTo>
                    <a:pt x="9" y="944"/>
                  </a:lnTo>
                  <a:lnTo>
                    <a:pt x="18" y="989"/>
                  </a:lnTo>
                  <a:lnTo>
                    <a:pt x="32" y="1031"/>
                  </a:lnTo>
                  <a:lnTo>
                    <a:pt x="49" y="1072"/>
                  </a:lnTo>
                  <a:lnTo>
                    <a:pt x="71" y="1110"/>
                  </a:lnTo>
                  <a:lnTo>
                    <a:pt x="96" y="1144"/>
                  </a:lnTo>
                  <a:lnTo>
                    <a:pt x="123" y="1177"/>
                  </a:lnTo>
                  <a:lnTo>
                    <a:pt x="153" y="1204"/>
                  </a:lnTo>
                  <a:lnTo>
                    <a:pt x="184" y="1229"/>
                  </a:lnTo>
                  <a:lnTo>
                    <a:pt x="218" y="1248"/>
                  </a:lnTo>
                  <a:lnTo>
                    <a:pt x="255" y="1263"/>
                  </a:lnTo>
                  <a:lnTo>
                    <a:pt x="292" y="1274"/>
                  </a:lnTo>
                  <a:lnTo>
                    <a:pt x="329" y="1279"/>
                  </a:lnTo>
                  <a:lnTo>
                    <a:pt x="367" y="1280"/>
                  </a:lnTo>
                  <a:lnTo>
                    <a:pt x="405" y="1276"/>
                  </a:lnTo>
                  <a:lnTo>
                    <a:pt x="442" y="12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453760" y="3909240"/>
              <a:ext cx="51552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492640" y="3916800"/>
              <a:ext cx="466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D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015920" y="3909240"/>
              <a:ext cx="61596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114920" y="3916800"/>
              <a:ext cx="45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D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282280" y="4651920"/>
              <a:ext cx="51228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5321880" y="4660920"/>
              <a:ext cx="466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D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82280" y="3166560"/>
              <a:ext cx="51228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321880" y="3175920"/>
              <a:ext cx="466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D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077960" y="4948560"/>
              <a:ext cx="61776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176960" y="4957560"/>
              <a:ext cx="45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D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077960" y="2871720"/>
              <a:ext cx="617760" cy="29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176960" y="2879280"/>
              <a:ext cx="45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D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214520" y="3916800"/>
              <a:ext cx="590400" cy="28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316040" y="3916800"/>
              <a:ext cx="41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PS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381120" y="4651920"/>
              <a:ext cx="61452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494520" y="4660920"/>
              <a:ext cx="41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PS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381120" y="3166560"/>
              <a:ext cx="61452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494520" y="3175920"/>
              <a:ext cx="41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宋体"/>
                </a:rPr>
                <a:t>PS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5794920" y="3048840"/>
              <a:ext cx="1283040" cy="23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794920" y="4829040"/>
              <a:ext cx="128304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684800" y="4056840"/>
              <a:ext cx="76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969640" y="4056840"/>
              <a:ext cx="123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2712600" y="3345120"/>
              <a:ext cx="668520" cy="53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996000" y="3345480"/>
              <a:ext cx="513720" cy="53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996000" y="3345480"/>
              <a:ext cx="1286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738960" y="3463560"/>
              <a:ext cx="1800" cy="11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712600" y="4235760"/>
              <a:ext cx="668520" cy="59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3996000" y="4235760"/>
              <a:ext cx="513720" cy="59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996000" y="4829040"/>
              <a:ext cx="1286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4613760" y="3463200"/>
              <a:ext cx="923760" cy="41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613760" y="4235760"/>
              <a:ext cx="92376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065480" y="5654160"/>
              <a:ext cx="759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PS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.2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分层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97" name=""/>
          <p:cNvGrpSpPr/>
          <p:nvPr/>
        </p:nvGrpSpPr>
        <p:grpSpPr>
          <a:xfrm>
            <a:off x="1398600" y="1981080"/>
            <a:ext cx="6284880" cy="4431600"/>
            <a:chOff x="1398600" y="1981080"/>
            <a:chExt cx="6284880" cy="4431600"/>
          </a:xfrm>
        </p:grpSpPr>
        <p:sp>
          <p:nvSpPr>
            <p:cNvPr id="3098" name=""/>
            <p:cNvSpPr/>
            <p:nvPr/>
          </p:nvSpPr>
          <p:spPr>
            <a:xfrm>
              <a:off x="1398600" y="2290680"/>
              <a:ext cx="1303200" cy="433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900080" y="240516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应用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398600" y="2724120"/>
              <a:ext cx="1303200" cy="434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900080" y="28386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表示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398600" y="3159000"/>
              <a:ext cx="1303200" cy="4352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900080" y="327168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会话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398600" y="3594240"/>
              <a:ext cx="1303200" cy="433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900080" y="370692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传输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30360" y="4157640"/>
              <a:ext cx="13017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398600" y="4027320"/>
              <a:ext cx="1303200" cy="433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1900080" y="414036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网络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1398600" y="4460760"/>
              <a:ext cx="1303200" cy="433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1798920" y="457524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数据链路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98600" y="4894200"/>
              <a:ext cx="1303200" cy="434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900080" y="500868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物理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560760" y="4027320"/>
              <a:ext cx="1303200" cy="433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060800" y="414036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分组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560760" y="4460760"/>
              <a:ext cx="1303200" cy="433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59640" y="457524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数据链路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560760" y="4894200"/>
              <a:ext cx="1303200" cy="434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060800" y="500868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物理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167520" y="4027320"/>
              <a:ext cx="1299960" cy="433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665760" y="414036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分组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167520" y="4460760"/>
              <a:ext cx="1299960" cy="433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564600" y="457524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数据链路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167520" y="4894200"/>
              <a:ext cx="1299960" cy="434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665760" y="500868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物理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45160" y="5372280"/>
              <a:ext cx="1474920" cy="650520"/>
            </a:xfrm>
            <a:custGeom>
              <a:avLst/>
              <a:gdLst/>
              <a:ahLst/>
              <a:rect l="l" t="t" r="r" b="b"/>
              <a:pathLst>
                <a:path w="929" h="410">
                  <a:moveTo>
                    <a:pt x="0" y="410"/>
                  </a:moveTo>
                  <a:lnTo>
                    <a:pt x="766" y="410"/>
                  </a:lnTo>
                  <a:lnTo>
                    <a:pt x="787" y="409"/>
                  </a:lnTo>
                  <a:lnTo>
                    <a:pt x="808" y="402"/>
                  </a:lnTo>
                  <a:lnTo>
                    <a:pt x="826" y="393"/>
                  </a:lnTo>
                  <a:lnTo>
                    <a:pt x="842" y="379"/>
                  </a:lnTo>
                  <a:lnTo>
                    <a:pt x="856" y="361"/>
                  </a:lnTo>
                  <a:lnTo>
                    <a:pt x="867" y="343"/>
                  </a:lnTo>
                  <a:lnTo>
                    <a:pt x="872" y="322"/>
                  </a:lnTo>
                  <a:lnTo>
                    <a:pt x="875" y="301"/>
                  </a:lnTo>
                  <a:lnTo>
                    <a:pt x="875" y="55"/>
                  </a:lnTo>
                  <a:lnTo>
                    <a:pt x="929" y="55"/>
                  </a:lnTo>
                  <a:lnTo>
                    <a:pt x="820" y="0"/>
                  </a:lnTo>
                  <a:lnTo>
                    <a:pt x="710" y="55"/>
                  </a:lnTo>
                  <a:lnTo>
                    <a:pt x="766" y="55"/>
                  </a:lnTo>
                  <a:lnTo>
                    <a:pt x="766" y="301"/>
                  </a:lnTo>
                  <a:lnTo>
                    <a:pt x="0" y="301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038480" y="5372280"/>
              <a:ext cx="1606680" cy="650520"/>
            </a:xfrm>
            <a:custGeom>
              <a:avLst/>
              <a:gdLst/>
              <a:ahLst/>
              <a:rect l="l" t="t" r="r" b="b"/>
              <a:pathLst>
                <a:path w="1012" h="410">
                  <a:moveTo>
                    <a:pt x="1012" y="410"/>
                  </a:moveTo>
                  <a:lnTo>
                    <a:pt x="165" y="410"/>
                  </a:lnTo>
                  <a:lnTo>
                    <a:pt x="143" y="409"/>
                  </a:lnTo>
                  <a:lnTo>
                    <a:pt x="123" y="402"/>
                  </a:lnTo>
                  <a:lnTo>
                    <a:pt x="103" y="393"/>
                  </a:lnTo>
                  <a:lnTo>
                    <a:pt x="87" y="379"/>
                  </a:lnTo>
                  <a:lnTo>
                    <a:pt x="73" y="361"/>
                  </a:lnTo>
                  <a:lnTo>
                    <a:pt x="63" y="343"/>
                  </a:lnTo>
                  <a:lnTo>
                    <a:pt x="57" y="322"/>
                  </a:lnTo>
                  <a:lnTo>
                    <a:pt x="55" y="301"/>
                  </a:lnTo>
                  <a:lnTo>
                    <a:pt x="55" y="55"/>
                  </a:lnTo>
                  <a:lnTo>
                    <a:pt x="0" y="55"/>
                  </a:lnTo>
                  <a:lnTo>
                    <a:pt x="109" y="0"/>
                  </a:lnTo>
                  <a:lnTo>
                    <a:pt x="219" y="55"/>
                  </a:lnTo>
                  <a:lnTo>
                    <a:pt x="165" y="55"/>
                  </a:lnTo>
                  <a:lnTo>
                    <a:pt x="165" y="301"/>
                  </a:lnTo>
                  <a:lnTo>
                    <a:pt x="1012" y="301"/>
                  </a:lnTo>
                  <a:lnTo>
                    <a:pt x="1012" y="4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560760" y="2941560"/>
              <a:ext cx="1303200" cy="652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10040" y="31640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高层协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804480" y="6134040"/>
              <a:ext cx="59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D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528240" y="6168960"/>
              <a:ext cx="4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D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917800" y="4027320"/>
              <a:ext cx="557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>
              <a:off x="2917800" y="5329080"/>
              <a:ext cx="557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3265560" y="410364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216240" y="4027320"/>
              <a:ext cx="9864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0" y="63"/>
                  </a:lnTo>
                  <a:lnTo>
                    <a:pt x="3" y="60"/>
                  </a:lnTo>
                  <a:lnTo>
                    <a:pt x="7" y="59"/>
                  </a:lnTo>
                  <a:lnTo>
                    <a:pt x="10" y="58"/>
                  </a:lnTo>
                  <a:lnTo>
                    <a:pt x="15" y="57"/>
                  </a:lnTo>
                  <a:lnTo>
                    <a:pt x="18" y="56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30" y="54"/>
                  </a:lnTo>
                  <a:lnTo>
                    <a:pt x="33" y="54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45" y="56"/>
                  </a:lnTo>
                  <a:lnTo>
                    <a:pt x="49" y="57"/>
                  </a:lnTo>
                  <a:lnTo>
                    <a:pt x="52" y="58"/>
                  </a:lnTo>
                  <a:lnTo>
                    <a:pt x="55" y="59"/>
                  </a:lnTo>
                  <a:lnTo>
                    <a:pt x="59" y="60"/>
                  </a:lnTo>
                  <a:lnTo>
                    <a:pt x="62" y="6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265560" y="4894200"/>
              <a:ext cx="1440" cy="36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216240" y="5229360"/>
              <a:ext cx="98640" cy="997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62" y="0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2" y="5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0" y="5"/>
                  </a:lnTo>
                  <a:lnTo>
                    <a:pt x="7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881080" y="45752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X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778200" y="359424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3778200" y="363852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778200" y="368136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3778200" y="372600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778200" y="377028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778200" y="381492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778200" y="3859200"/>
              <a:ext cx="180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778200" y="390204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778200" y="394668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3778200" y="399096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3728880" y="3594240"/>
              <a:ext cx="98640" cy="4896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1"/>
                  </a:moveTo>
                  <a:lnTo>
                    <a:pt x="31" y="0"/>
                  </a:lnTo>
                  <a:lnTo>
                    <a:pt x="0" y="3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728880" y="3978360"/>
              <a:ext cx="98640" cy="4896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0"/>
                  </a:moveTo>
                  <a:lnTo>
                    <a:pt x="31" y="31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211640" y="359424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211640" y="363852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211640" y="368136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211640" y="372600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211640" y="377028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211640" y="381492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211640" y="3859200"/>
              <a:ext cx="144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4211640" y="390204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4211640" y="394668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211640" y="399096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162320" y="3594240"/>
              <a:ext cx="98640" cy="4896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1"/>
                  </a:moveTo>
                  <a:lnTo>
                    <a:pt x="31" y="0"/>
                  </a:lnTo>
                  <a:lnTo>
                    <a:pt x="0" y="3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162320" y="3978360"/>
              <a:ext cx="98640" cy="4896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0"/>
                  </a:moveTo>
                  <a:lnTo>
                    <a:pt x="31" y="31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646520" y="359424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646520" y="363852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646520" y="368136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646520" y="372600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646520" y="377028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646520" y="381492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646520" y="3859200"/>
              <a:ext cx="180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646520" y="390204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646520" y="394668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646520" y="399096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597560" y="3594240"/>
              <a:ext cx="99720" cy="489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63" y="31"/>
                  </a:moveTo>
                  <a:lnTo>
                    <a:pt x="31" y="0"/>
                  </a:lnTo>
                  <a:lnTo>
                    <a:pt x="0" y="3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597560" y="3978360"/>
              <a:ext cx="99720" cy="4896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0"/>
                  </a:moveTo>
                  <a:lnTo>
                    <a:pt x="31" y="31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86396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90860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952880" y="5111640"/>
              <a:ext cx="20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99572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4036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08464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12928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17212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21640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26104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30532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349960" y="5111640"/>
              <a:ext cx="20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39280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43708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48172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52600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56884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61348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65776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02400" y="511164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746680" y="5111640"/>
              <a:ext cx="20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78952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834160" y="511164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87844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923080" y="5111640"/>
              <a:ext cx="20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965920" y="511164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1020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054840" y="511164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09912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141960" y="511164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863960" y="5062680"/>
              <a:ext cx="49320" cy="9828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0"/>
                  </a:moveTo>
                  <a:lnTo>
                    <a:pt x="0" y="31"/>
                  </a:lnTo>
                  <a:lnTo>
                    <a:pt x="31" y="6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116760" y="5062680"/>
              <a:ext cx="50760" cy="9828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0" y="62"/>
                  </a:moveTo>
                  <a:lnTo>
                    <a:pt x="32" y="3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86396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90860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952880" y="4678200"/>
              <a:ext cx="20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99572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04036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08464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2928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17212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21640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26104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30532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349960" y="4678200"/>
              <a:ext cx="20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39280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43708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548172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52600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56884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61348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65776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702400" y="467820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746680" y="4678200"/>
              <a:ext cx="20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78952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834160" y="467820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87844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923080" y="4678200"/>
              <a:ext cx="20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965920" y="467820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01020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054840" y="4678200"/>
              <a:ext cx="21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09912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141960" y="4678200"/>
              <a:ext cx="22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863960" y="4629240"/>
              <a:ext cx="49320" cy="9828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0"/>
                  </a:moveTo>
                  <a:lnTo>
                    <a:pt x="0" y="31"/>
                  </a:lnTo>
                  <a:lnTo>
                    <a:pt x="31" y="6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116760" y="4629240"/>
              <a:ext cx="50760" cy="9828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0" y="62"/>
                  </a:moveTo>
                  <a:lnTo>
                    <a:pt x="32" y="3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86396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90860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952880" y="4245120"/>
              <a:ext cx="20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99572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04036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08464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12928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17212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21640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26104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30532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349960" y="4245120"/>
              <a:ext cx="20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39280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43708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48172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2600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56884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61348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65776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702400" y="4245120"/>
              <a:ext cx="21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746680" y="4245120"/>
              <a:ext cx="20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78952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834160" y="4245120"/>
              <a:ext cx="21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87844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923080" y="4245120"/>
              <a:ext cx="20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965920" y="4245120"/>
              <a:ext cx="21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01020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54840" y="4245120"/>
              <a:ext cx="21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09912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141960" y="4245120"/>
              <a:ext cx="22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63960" y="4194000"/>
              <a:ext cx="49320" cy="100080"/>
            </a:xfrm>
            <a:custGeom>
              <a:avLst/>
              <a:gdLst/>
              <a:ahLst/>
              <a:rect l="l" t="t" r="r" b="b"/>
              <a:pathLst>
                <a:path w="31" h="63">
                  <a:moveTo>
                    <a:pt x="31" y="0"/>
                  </a:moveTo>
                  <a:lnTo>
                    <a:pt x="0" y="32"/>
                  </a:lnTo>
                  <a:lnTo>
                    <a:pt x="31" y="6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6116760" y="419400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63"/>
                  </a:moveTo>
                  <a:lnTo>
                    <a:pt x="32" y="3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16000" y="4856040"/>
              <a:ext cx="108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物理级协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966200" y="44211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帧级协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894560" y="3987720"/>
              <a:ext cx="97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分组级协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863960" y="3246480"/>
              <a:ext cx="176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140440" y="3246480"/>
              <a:ext cx="17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415120" y="3246480"/>
              <a:ext cx="17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91240" y="3246480"/>
              <a:ext cx="17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965920" y="3246480"/>
              <a:ext cx="17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6242040" y="3246480"/>
              <a:ext cx="176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6518160" y="3246480"/>
              <a:ext cx="176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792840" y="3246480"/>
              <a:ext cx="176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068960" y="3246480"/>
              <a:ext cx="176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343640" y="3246480"/>
              <a:ext cx="176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620120" y="3246480"/>
              <a:ext cx="63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863960" y="3197160"/>
              <a:ext cx="49320" cy="9864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0"/>
                  </a:moveTo>
                  <a:lnTo>
                    <a:pt x="0" y="31"/>
                  </a:lnTo>
                  <a:lnTo>
                    <a:pt x="31" y="6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634160" y="3197160"/>
              <a:ext cx="49320" cy="9864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0" y="62"/>
                  </a:moveTo>
                  <a:lnTo>
                    <a:pt x="31" y="3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522040" y="3002040"/>
              <a:ext cx="179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与远程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DTE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之间的高层协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1746720" y="198108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OSI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参考模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打包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89" name=""/>
          <p:cNvGrpSpPr/>
          <p:nvPr/>
        </p:nvGrpSpPr>
        <p:grpSpPr>
          <a:xfrm>
            <a:off x="2308320" y="2590920"/>
            <a:ext cx="4397400" cy="1854000"/>
            <a:chOff x="2308320" y="2590920"/>
            <a:chExt cx="4397400" cy="1854000"/>
          </a:xfrm>
        </p:grpSpPr>
        <p:sp>
          <p:nvSpPr>
            <p:cNvPr id="3290" name=""/>
            <p:cNvSpPr/>
            <p:nvPr/>
          </p:nvSpPr>
          <p:spPr>
            <a:xfrm>
              <a:off x="4896000" y="2590920"/>
              <a:ext cx="1031760" cy="425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133960" y="270180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用户数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119480" y="3292560"/>
              <a:ext cx="18082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4827600" y="340524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IP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084480" y="4019400"/>
              <a:ext cx="2843280" cy="42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127400" y="4130640"/>
              <a:ext cx="69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X.25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分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084480" y="3292560"/>
              <a:ext cx="103500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394800" y="340524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分组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308320" y="4019400"/>
              <a:ext cx="776160" cy="42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558880" y="413064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帧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927760" y="4019400"/>
              <a:ext cx="777960" cy="42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178680" y="413064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帧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4119480" y="2590920"/>
              <a:ext cx="776520" cy="425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4310280" y="270180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IP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084480" y="371952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084480" y="3763800"/>
              <a:ext cx="1800" cy="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3084480" y="380700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084480" y="384984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084480" y="3894120"/>
              <a:ext cx="180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084480" y="380988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084480" y="385272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084480" y="3897360"/>
              <a:ext cx="180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084480" y="394020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084480" y="398304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927760" y="371952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927760" y="3763800"/>
              <a:ext cx="1440" cy="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927760" y="380700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927760" y="384984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927760" y="3894120"/>
              <a:ext cx="144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927760" y="380988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927760" y="385272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927760" y="3897360"/>
              <a:ext cx="144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927760" y="394020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927760" y="398304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927760" y="301608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927760" y="305928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927760" y="2952720"/>
              <a:ext cx="144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927760" y="299556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927760" y="303840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927760" y="3083040"/>
              <a:ext cx="144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927760" y="3125880"/>
              <a:ext cx="144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927760" y="316872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5927760" y="3213000"/>
              <a:ext cx="1440" cy="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5927760" y="325584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119480" y="301608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119480" y="305928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119480" y="2952720"/>
              <a:ext cx="180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119480" y="299556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119480" y="303840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119480" y="3083040"/>
              <a:ext cx="180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119480" y="3125880"/>
              <a:ext cx="1800" cy="21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119480" y="316872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119480" y="3213000"/>
              <a:ext cx="1800" cy="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119480" y="3255840"/>
              <a:ext cx="180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1164960" y="3013200"/>
            <a:ext cx="6683400" cy="2724120"/>
            <a:chOff x="1164960" y="3013200"/>
            <a:chExt cx="6683400" cy="2724120"/>
          </a:xfrm>
        </p:grpSpPr>
        <p:sp>
          <p:nvSpPr>
            <p:cNvPr id="3345" name=""/>
            <p:cNvSpPr/>
            <p:nvPr/>
          </p:nvSpPr>
          <p:spPr>
            <a:xfrm>
              <a:off x="3431520" y="4800600"/>
              <a:ext cx="2111040" cy="936720"/>
            </a:xfrm>
            <a:custGeom>
              <a:avLst/>
              <a:gdLst/>
              <a:ahLst/>
              <a:rect l="l" t="t" r="r" b="b"/>
              <a:pathLst>
                <a:path w="1451" h="590">
                  <a:moveTo>
                    <a:pt x="214" y="438"/>
                  </a:moveTo>
                  <a:lnTo>
                    <a:pt x="233" y="465"/>
                  </a:lnTo>
                  <a:lnTo>
                    <a:pt x="256" y="490"/>
                  </a:lnTo>
                  <a:lnTo>
                    <a:pt x="282" y="514"/>
                  </a:lnTo>
                  <a:lnTo>
                    <a:pt x="310" y="533"/>
                  </a:lnTo>
                  <a:lnTo>
                    <a:pt x="342" y="552"/>
                  </a:lnTo>
                  <a:lnTo>
                    <a:pt x="375" y="566"/>
                  </a:lnTo>
                  <a:lnTo>
                    <a:pt x="409" y="577"/>
                  </a:lnTo>
                  <a:lnTo>
                    <a:pt x="446" y="585"/>
                  </a:lnTo>
                  <a:lnTo>
                    <a:pt x="482" y="589"/>
                  </a:lnTo>
                  <a:lnTo>
                    <a:pt x="520" y="590"/>
                  </a:lnTo>
                  <a:lnTo>
                    <a:pt x="557" y="588"/>
                  </a:lnTo>
                  <a:lnTo>
                    <a:pt x="594" y="582"/>
                  </a:lnTo>
                  <a:lnTo>
                    <a:pt x="629" y="573"/>
                  </a:lnTo>
                  <a:lnTo>
                    <a:pt x="663" y="561"/>
                  </a:lnTo>
                  <a:lnTo>
                    <a:pt x="695" y="545"/>
                  </a:lnTo>
                  <a:lnTo>
                    <a:pt x="726" y="525"/>
                  </a:lnTo>
                  <a:lnTo>
                    <a:pt x="755" y="545"/>
                  </a:lnTo>
                  <a:lnTo>
                    <a:pt x="788" y="561"/>
                  </a:lnTo>
                  <a:lnTo>
                    <a:pt x="822" y="573"/>
                  </a:lnTo>
                  <a:lnTo>
                    <a:pt x="857" y="582"/>
                  </a:lnTo>
                  <a:lnTo>
                    <a:pt x="894" y="588"/>
                  </a:lnTo>
                  <a:lnTo>
                    <a:pt x="931" y="590"/>
                  </a:lnTo>
                  <a:lnTo>
                    <a:pt x="968" y="589"/>
                  </a:lnTo>
                  <a:lnTo>
                    <a:pt x="1005" y="585"/>
                  </a:lnTo>
                  <a:lnTo>
                    <a:pt x="1041" y="577"/>
                  </a:lnTo>
                  <a:lnTo>
                    <a:pt x="1076" y="566"/>
                  </a:lnTo>
                  <a:lnTo>
                    <a:pt x="1109" y="552"/>
                  </a:lnTo>
                  <a:lnTo>
                    <a:pt x="1140" y="533"/>
                  </a:lnTo>
                  <a:lnTo>
                    <a:pt x="1169" y="514"/>
                  </a:lnTo>
                  <a:lnTo>
                    <a:pt x="1195" y="490"/>
                  </a:lnTo>
                  <a:lnTo>
                    <a:pt x="1218" y="465"/>
                  </a:lnTo>
                  <a:lnTo>
                    <a:pt x="1237" y="438"/>
                  </a:lnTo>
                  <a:lnTo>
                    <a:pt x="1264" y="442"/>
                  </a:lnTo>
                  <a:lnTo>
                    <a:pt x="1289" y="442"/>
                  </a:lnTo>
                  <a:lnTo>
                    <a:pt x="1315" y="440"/>
                  </a:lnTo>
                  <a:lnTo>
                    <a:pt x="1340" y="433"/>
                  </a:lnTo>
                  <a:lnTo>
                    <a:pt x="1362" y="424"/>
                  </a:lnTo>
                  <a:lnTo>
                    <a:pt x="1384" y="412"/>
                  </a:lnTo>
                  <a:lnTo>
                    <a:pt x="1403" y="397"/>
                  </a:lnTo>
                  <a:lnTo>
                    <a:pt x="1420" y="380"/>
                  </a:lnTo>
                  <a:lnTo>
                    <a:pt x="1433" y="361"/>
                  </a:lnTo>
                  <a:lnTo>
                    <a:pt x="1443" y="339"/>
                  </a:lnTo>
                  <a:lnTo>
                    <a:pt x="1449" y="317"/>
                  </a:lnTo>
                  <a:lnTo>
                    <a:pt x="1451" y="296"/>
                  </a:lnTo>
                  <a:lnTo>
                    <a:pt x="1449" y="273"/>
                  </a:lnTo>
                  <a:lnTo>
                    <a:pt x="1443" y="251"/>
                  </a:lnTo>
                  <a:lnTo>
                    <a:pt x="1433" y="230"/>
                  </a:lnTo>
                  <a:lnTo>
                    <a:pt x="1420" y="210"/>
                  </a:lnTo>
                  <a:lnTo>
                    <a:pt x="1403" y="193"/>
                  </a:lnTo>
                  <a:lnTo>
                    <a:pt x="1384" y="178"/>
                  </a:lnTo>
                  <a:lnTo>
                    <a:pt x="1362" y="166"/>
                  </a:lnTo>
                  <a:lnTo>
                    <a:pt x="1340" y="157"/>
                  </a:lnTo>
                  <a:lnTo>
                    <a:pt x="1315" y="150"/>
                  </a:lnTo>
                  <a:lnTo>
                    <a:pt x="1289" y="148"/>
                  </a:lnTo>
                  <a:lnTo>
                    <a:pt x="1264" y="148"/>
                  </a:lnTo>
                  <a:lnTo>
                    <a:pt x="1237" y="152"/>
                  </a:lnTo>
                  <a:lnTo>
                    <a:pt x="1218" y="125"/>
                  </a:lnTo>
                  <a:lnTo>
                    <a:pt x="1195" y="100"/>
                  </a:lnTo>
                  <a:lnTo>
                    <a:pt x="1169" y="76"/>
                  </a:lnTo>
                  <a:lnTo>
                    <a:pt x="1140" y="57"/>
                  </a:lnTo>
                  <a:lnTo>
                    <a:pt x="1109" y="38"/>
                  </a:lnTo>
                  <a:lnTo>
                    <a:pt x="1076" y="25"/>
                  </a:lnTo>
                  <a:lnTo>
                    <a:pt x="1041" y="13"/>
                  </a:lnTo>
                  <a:lnTo>
                    <a:pt x="1005" y="5"/>
                  </a:lnTo>
                  <a:lnTo>
                    <a:pt x="968" y="1"/>
                  </a:lnTo>
                  <a:lnTo>
                    <a:pt x="931" y="0"/>
                  </a:lnTo>
                  <a:lnTo>
                    <a:pt x="894" y="2"/>
                  </a:lnTo>
                  <a:lnTo>
                    <a:pt x="857" y="8"/>
                  </a:lnTo>
                  <a:lnTo>
                    <a:pt x="822" y="17"/>
                  </a:lnTo>
                  <a:lnTo>
                    <a:pt x="788" y="29"/>
                  </a:lnTo>
                  <a:lnTo>
                    <a:pt x="755" y="45"/>
                  </a:lnTo>
                  <a:lnTo>
                    <a:pt x="726" y="65"/>
                  </a:lnTo>
                  <a:lnTo>
                    <a:pt x="695" y="45"/>
                  </a:lnTo>
                  <a:lnTo>
                    <a:pt x="663" y="29"/>
                  </a:lnTo>
                  <a:lnTo>
                    <a:pt x="629" y="17"/>
                  </a:lnTo>
                  <a:lnTo>
                    <a:pt x="594" y="8"/>
                  </a:lnTo>
                  <a:lnTo>
                    <a:pt x="557" y="2"/>
                  </a:lnTo>
                  <a:lnTo>
                    <a:pt x="520" y="0"/>
                  </a:lnTo>
                  <a:lnTo>
                    <a:pt x="482" y="1"/>
                  </a:lnTo>
                  <a:lnTo>
                    <a:pt x="446" y="5"/>
                  </a:lnTo>
                  <a:lnTo>
                    <a:pt x="409" y="13"/>
                  </a:lnTo>
                  <a:lnTo>
                    <a:pt x="375" y="25"/>
                  </a:lnTo>
                  <a:lnTo>
                    <a:pt x="342" y="38"/>
                  </a:lnTo>
                  <a:lnTo>
                    <a:pt x="310" y="57"/>
                  </a:lnTo>
                  <a:lnTo>
                    <a:pt x="282" y="76"/>
                  </a:lnTo>
                  <a:lnTo>
                    <a:pt x="256" y="100"/>
                  </a:lnTo>
                  <a:lnTo>
                    <a:pt x="233" y="125"/>
                  </a:lnTo>
                  <a:lnTo>
                    <a:pt x="214" y="152"/>
                  </a:lnTo>
                  <a:lnTo>
                    <a:pt x="188" y="148"/>
                  </a:lnTo>
                  <a:lnTo>
                    <a:pt x="161" y="148"/>
                  </a:lnTo>
                  <a:lnTo>
                    <a:pt x="136" y="150"/>
                  </a:lnTo>
                  <a:lnTo>
                    <a:pt x="111" y="157"/>
                  </a:lnTo>
                  <a:lnTo>
                    <a:pt x="87" y="166"/>
                  </a:lnTo>
                  <a:lnTo>
                    <a:pt x="66" y="178"/>
                  </a:lnTo>
                  <a:lnTo>
                    <a:pt x="47" y="193"/>
                  </a:lnTo>
                  <a:lnTo>
                    <a:pt x="31" y="210"/>
                  </a:lnTo>
                  <a:lnTo>
                    <a:pt x="17" y="230"/>
                  </a:lnTo>
                  <a:lnTo>
                    <a:pt x="8" y="251"/>
                  </a:lnTo>
                  <a:lnTo>
                    <a:pt x="2" y="273"/>
                  </a:lnTo>
                  <a:lnTo>
                    <a:pt x="0" y="296"/>
                  </a:lnTo>
                  <a:lnTo>
                    <a:pt x="2" y="317"/>
                  </a:lnTo>
                  <a:lnTo>
                    <a:pt x="8" y="339"/>
                  </a:lnTo>
                  <a:lnTo>
                    <a:pt x="17" y="361"/>
                  </a:lnTo>
                  <a:lnTo>
                    <a:pt x="31" y="380"/>
                  </a:lnTo>
                  <a:lnTo>
                    <a:pt x="47" y="397"/>
                  </a:lnTo>
                  <a:lnTo>
                    <a:pt x="66" y="412"/>
                  </a:lnTo>
                  <a:lnTo>
                    <a:pt x="87" y="424"/>
                  </a:lnTo>
                  <a:lnTo>
                    <a:pt x="111" y="433"/>
                  </a:lnTo>
                  <a:lnTo>
                    <a:pt x="136" y="440"/>
                  </a:lnTo>
                  <a:lnTo>
                    <a:pt x="161" y="442"/>
                  </a:lnTo>
                  <a:lnTo>
                    <a:pt x="188" y="442"/>
                  </a:lnTo>
                  <a:lnTo>
                    <a:pt x="214" y="43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323600" y="51688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X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 flipH="1">
              <a:off x="2650320" y="5270400"/>
              <a:ext cx="781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1829880" y="5054760"/>
              <a:ext cx="820440" cy="3855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477800" y="3349800"/>
              <a:ext cx="1440" cy="2174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H="1">
              <a:off x="1477440" y="5270400"/>
              <a:ext cx="351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H="1" flipV="1">
              <a:off x="1164960" y="3649680"/>
              <a:ext cx="328680" cy="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1165320" y="4202280"/>
              <a:ext cx="312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H="1">
              <a:off x="1165320" y="4842000"/>
              <a:ext cx="312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5542920" y="5270400"/>
              <a:ext cx="781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344640" y="5099040"/>
              <a:ext cx="820440" cy="3841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535880" y="3349800"/>
              <a:ext cx="1440" cy="2174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7144200" y="5270400"/>
              <a:ext cx="351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7535880" y="3562200"/>
              <a:ext cx="312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H="1">
              <a:off x="7535880" y="4414680"/>
              <a:ext cx="312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H="1">
              <a:off x="7535880" y="5054760"/>
              <a:ext cx="312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1347120" y="3013200"/>
              <a:ext cx="39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408800" y="3033720"/>
              <a:ext cx="39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1523880" y="5638680"/>
            <a:ext cx="1143000" cy="101880"/>
          </a:xfrm>
          <a:custGeom>
            <a:avLst/>
            <a:gdLst/>
            <a:ahLst/>
            <a:rect l="l" t="t" r="r" b="b"/>
            <a:pathLst>
              <a:path w="720" h="64">
                <a:moveTo>
                  <a:pt x="0" y="56"/>
                </a:moveTo>
                <a:cubicBezTo>
                  <a:pt x="244" y="60"/>
                  <a:pt x="488" y="64"/>
                  <a:pt x="528" y="56"/>
                </a:cubicBezTo>
                <a:cubicBezTo>
                  <a:pt x="568" y="48"/>
                  <a:pt x="208" y="16"/>
                  <a:pt x="240" y="8"/>
                </a:cubicBezTo>
                <a:cubicBezTo>
                  <a:pt x="272" y="0"/>
                  <a:pt x="640" y="8"/>
                  <a:pt x="720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019920" y="5638680"/>
            <a:ext cx="1143000" cy="101880"/>
          </a:xfrm>
          <a:custGeom>
            <a:avLst/>
            <a:gdLst/>
            <a:ahLst/>
            <a:rect l="l" t="t" r="r" b="b"/>
            <a:pathLst>
              <a:path w="720" h="64">
                <a:moveTo>
                  <a:pt x="0" y="56"/>
                </a:moveTo>
                <a:cubicBezTo>
                  <a:pt x="244" y="60"/>
                  <a:pt x="488" y="64"/>
                  <a:pt x="528" y="56"/>
                </a:cubicBezTo>
                <a:cubicBezTo>
                  <a:pt x="568" y="48"/>
                  <a:pt x="208" y="16"/>
                  <a:pt x="240" y="8"/>
                </a:cubicBezTo>
                <a:cubicBezTo>
                  <a:pt x="272" y="0"/>
                  <a:pt x="640" y="8"/>
                  <a:pt x="720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52480" y="2895480"/>
            <a:ext cx="5334120" cy="139680"/>
          </a:xfrm>
          <a:custGeom>
            <a:avLst/>
            <a:gdLst/>
            <a:ahLst/>
            <a:rect l="l" t="t" r="r" b="b"/>
            <a:pathLst>
              <a:path w="3072" h="328">
                <a:moveTo>
                  <a:pt x="0" y="288"/>
                </a:moveTo>
                <a:cubicBezTo>
                  <a:pt x="724" y="308"/>
                  <a:pt x="1448" y="328"/>
                  <a:pt x="1680" y="288"/>
                </a:cubicBezTo>
                <a:cubicBezTo>
                  <a:pt x="1912" y="248"/>
                  <a:pt x="1160" y="96"/>
                  <a:pt x="1392" y="48"/>
                </a:cubicBezTo>
                <a:cubicBezTo>
                  <a:pt x="1624" y="0"/>
                  <a:pt x="2792" y="0"/>
                  <a:pt x="307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590920" y="4724280"/>
            <a:ext cx="3581280" cy="1676520"/>
          </a:xfrm>
          <a:custGeom>
            <a:avLst/>
            <a:gdLst/>
            <a:ahLst/>
            <a:rect l="l" t="t" r="r" b="b"/>
            <a:pathLst>
              <a:path w="16408" h="11518">
                <a:moveTo>
                  <a:pt x="12894" y="1455"/>
                </a:moveTo>
                <a:lnTo>
                  <a:pt x="12992" y="1452"/>
                </a:lnTo>
                <a:lnTo>
                  <a:pt x="13091" y="1453"/>
                </a:lnTo>
                <a:lnTo>
                  <a:pt x="13190" y="1456"/>
                </a:lnTo>
                <a:lnTo>
                  <a:pt x="13290" y="1463"/>
                </a:lnTo>
                <a:lnTo>
                  <a:pt x="13391" y="1473"/>
                </a:lnTo>
                <a:lnTo>
                  <a:pt x="13490" y="1485"/>
                </a:lnTo>
                <a:lnTo>
                  <a:pt x="13591" y="1501"/>
                </a:lnTo>
                <a:lnTo>
                  <a:pt x="13690" y="1519"/>
                </a:lnTo>
                <a:lnTo>
                  <a:pt x="13790" y="1541"/>
                </a:lnTo>
                <a:lnTo>
                  <a:pt x="13888" y="1566"/>
                </a:lnTo>
                <a:lnTo>
                  <a:pt x="13987" y="1594"/>
                </a:lnTo>
                <a:lnTo>
                  <a:pt x="14083" y="1626"/>
                </a:lnTo>
                <a:lnTo>
                  <a:pt x="14179" y="1659"/>
                </a:lnTo>
                <a:lnTo>
                  <a:pt x="14273" y="1696"/>
                </a:lnTo>
                <a:lnTo>
                  <a:pt x="14365" y="1737"/>
                </a:lnTo>
                <a:lnTo>
                  <a:pt x="14455" y="1781"/>
                </a:lnTo>
                <a:lnTo>
                  <a:pt x="14545" y="1828"/>
                </a:lnTo>
                <a:lnTo>
                  <a:pt x="14631" y="1878"/>
                </a:lnTo>
                <a:lnTo>
                  <a:pt x="14715" y="1931"/>
                </a:lnTo>
                <a:lnTo>
                  <a:pt x="14797" y="1987"/>
                </a:lnTo>
                <a:lnTo>
                  <a:pt x="14876" y="2046"/>
                </a:lnTo>
                <a:lnTo>
                  <a:pt x="14952" y="2109"/>
                </a:lnTo>
                <a:lnTo>
                  <a:pt x="15026" y="2174"/>
                </a:lnTo>
                <a:lnTo>
                  <a:pt x="15095" y="2244"/>
                </a:lnTo>
                <a:lnTo>
                  <a:pt x="15162" y="2316"/>
                </a:lnTo>
                <a:lnTo>
                  <a:pt x="15225" y="2392"/>
                </a:lnTo>
                <a:lnTo>
                  <a:pt x="15283" y="2471"/>
                </a:lnTo>
                <a:lnTo>
                  <a:pt x="15338" y="2554"/>
                </a:lnTo>
                <a:lnTo>
                  <a:pt x="15389" y="2639"/>
                </a:lnTo>
                <a:lnTo>
                  <a:pt x="15436" y="2727"/>
                </a:lnTo>
                <a:lnTo>
                  <a:pt x="15478" y="2820"/>
                </a:lnTo>
                <a:lnTo>
                  <a:pt x="15515" y="2915"/>
                </a:lnTo>
                <a:lnTo>
                  <a:pt x="15530" y="2973"/>
                </a:lnTo>
                <a:lnTo>
                  <a:pt x="15544" y="3031"/>
                </a:lnTo>
                <a:lnTo>
                  <a:pt x="15555" y="3088"/>
                </a:lnTo>
                <a:lnTo>
                  <a:pt x="15563" y="3144"/>
                </a:lnTo>
                <a:lnTo>
                  <a:pt x="15569" y="3199"/>
                </a:lnTo>
                <a:lnTo>
                  <a:pt x="15573" y="3255"/>
                </a:lnTo>
                <a:lnTo>
                  <a:pt x="15575" y="3310"/>
                </a:lnTo>
                <a:lnTo>
                  <a:pt x="15575" y="3364"/>
                </a:lnTo>
                <a:lnTo>
                  <a:pt x="15572" y="3417"/>
                </a:lnTo>
                <a:lnTo>
                  <a:pt x="15568" y="3470"/>
                </a:lnTo>
                <a:lnTo>
                  <a:pt x="15561" y="3522"/>
                </a:lnTo>
                <a:lnTo>
                  <a:pt x="15553" y="3573"/>
                </a:lnTo>
                <a:lnTo>
                  <a:pt x="15541" y="3624"/>
                </a:lnTo>
                <a:lnTo>
                  <a:pt x="15528" y="3674"/>
                </a:lnTo>
                <a:lnTo>
                  <a:pt x="15514" y="3724"/>
                </a:lnTo>
                <a:lnTo>
                  <a:pt x="15496" y="3773"/>
                </a:lnTo>
                <a:lnTo>
                  <a:pt x="15478" y="3821"/>
                </a:lnTo>
                <a:lnTo>
                  <a:pt x="15456" y="3868"/>
                </a:lnTo>
                <a:lnTo>
                  <a:pt x="15434" y="3915"/>
                </a:lnTo>
                <a:lnTo>
                  <a:pt x="15409" y="3960"/>
                </a:lnTo>
                <a:lnTo>
                  <a:pt x="15383" y="4005"/>
                </a:lnTo>
                <a:lnTo>
                  <a:pt x="15355" y="4049"/>
                </a:lnTo>
                <a:lnTo>
                  <a:pt x="15324" y="4093"/>
                </a:lnTo>
                <a:lnTo>
                  <a:pt x="15292" y="4135"/>
                </a:lnTo>
                <a:lnTo>
                  <a:pt x="15259" y="4177"/>
                </a:lnTo>
                <a:lnTo>
                  <a:pt x="15224" y="4219"/>
                </a:lnTo>
                <a:lnTo>
                  <a:pt x="15187" y="4258"/>
                </a:lnTo>
                <a:lnTo>
                  <a:pt x="15149" y="4298"/>
                </a:lnTo>
                <a:lnTo>
                  <a:pt x="15108" y="4336"/>
                </a:lnTo>
                <a:lnTo>
                  <a:pt x="15067" y="4374"/>
                </a:lnTo>
                <a:lnTo>
                  <a:pt x="15023" y="4410"/>
                </a:lnTo>
                <a:lnTo>
                  <a:pt x="14978" y="4447"/>
                </a:lnTo>
                <a:lnTo>
                  <a:pt x="15048" y="4466"/>
                </a:lnTo>
                <a:lnTo>
                  <a:pt x="15117" y="4487"/>
                </a:lnTo>
                <a:lnTo>
                  <a:pt x="15186" y="4510"/>
                </a:lnTo>
                <a:lnTo>
                  <a:pt x="15252" y="4534"/>
                </a:lnTo>
                <a:lnTo>
                  <a:pt x="15318" y="4561"/>
                </a:lnTo>
                <a:lnTo>
                  <a:pt x="15381" y="4588"/>
                </a:lnTo>
                <a:lnTo>
                  <a:pt x="15444" y="4619"/>
                </a:lnTo>
                <a:lnTo>
                  <a:pt x="15506" y="4650"/>
                </a:lnTo>
                <a:lnTo>
                  <a:pt x="15566" y="4683"/>
                </a:lnTo>
                <a:lnTo>
                  <a:pt x="15625" y="4718"/>
                </a:lnTo>
                <a:lnTo>
                  <a:pt x="15681" y="4755"/>
                </a:lnTo>
                <a:lnTo>
                  <a:pt x="15736" y="4793"/>
                </a:lnTo>
                <a:lnTo>
                  <a:pt x="15790" y="4833"/>
                </a:lnTo>
                <a:lnTo>
                  <a:pt x="15841" y="4875"/>
                </a:lnTo>
                <a:lnTo>
                  <a:pt x="15891" y="4919"/>
                </a:lnTo>
                <a:lnTo>
                  <a:pt x="15939" y="4964"/>
                </a:lnTo>
                <a:lnTo>
                  <a:pt x="15985" y="5011"/>
                </a:lnTo>
                <a:lnTo>
                  <a:pt x="16030" y="5060"/>
                </a:lnTo>
                <a:lnTo>
                  <a:pt x="16072" y="5111"/>
                </a:lnTo>
                <a:lnTo>
                  <a:pt x="16112" y="5164"/>
                </a:lnTo>
                <a:lnTo>
                  <a:pt x="16150" y="5219"/>
                </a:lnTo>
                <a:lnTo>
                  <a:pt x="16184" y="5275"/>
                </a:lnTo>
                <a:lnTo>
                  <a:pt x="16218" y="5333"/>
                </a:lnTo>
                <a:lnTo>
                  <a:pt x="16249" y="5392"/>
                </a:lnTo>
                <a:lnTo>
                  <a:pt x="16278" y="5455"/>
                </a:lnTo>
                <a:lnTo>
                  <a:pt x="16303" y="5518"/>
                </a:lnTo>
                <a:lnTo>
                  <a:pt x="16327" y="5584"/>
                </a:lnTo>
                <a:lnTo>
                  <a:pt x="16349" y="5651"/>
                </a:lnTo>
                <a:lnTo>
                  <a:pt x="16367" y="5720"/>
                </a:lnTo>
                <a:lnTo>
                  <a:pt x="16382" y="5791"/>
                </a:lnTo>
                <a:lnTo>
                  <a:pt x="16396" y="5864"/>
                </a:lnTo>
                <a:lnTo>
                  <a:pt x="16406" y="5939"/>
                </a:lnTo>
                <a:lnTo>
                  <a:pt x="16408" y="6053"/>
                </a:lnTo>
                <a:lnTo>
                  <a:pt x="16404" y="6164"/>
                </a:lnTo>
                <a:lnTo>
                  <a:pt x="16395" y="6273"/>
                </a:lnTo>
                <a:lnTo>
                  <a:pt x="16378" y="6381"/>
                </a:lnTo>
                <a:lnTo>
                  <a:pt x="16357" y="6487"/>
                </a:lnTo>
                <a:lnTo>
                  <a:pt x="16329" y="6591"/>
                </a:lnTo>
                <a:lnTo>
                  <a:pt x="16296" y="6692"/>
                </a:lnTo>
                <a:lnTo>
                  <a:pt x="16258" y="6792"/>
                </a:lnTo>
                <a:lnTo>
                  <a:pt x="16215" y="6889"/>
                </a:lnTo>
                <a:lnTo>
                  <a:pt x="16167" y="6985"/>
                </a:lnTo>
                <a:lnTo>
                  <a:pt x="16115" y="7077"/>
                </a:lnTo>
                <a:lnTo>
                  <a:pt x="16058" y="7169"/>
                </a:lnTo>
                <a:lnTo>
                  <a:pt x="15997" y="7258"/>
                </a:lnTo>
                <a:lnTo>
                  <a:pt x="15932" y="7343"/>
                </a:lnTo>
                <a:lnTo>
                  <a:pt x="15862" y="7427"/>
                </a:lnTo>
                <a:lnTo>
                  <a:pt x="15791" y="7509"/>
                </a:lnTo>
                <a:lnTo>
                  <a:pt x="15715" y="7588"/>
                </a:lnTo>
                <a:lnTo>
                  <a:pt x="15635" y="7664"/>
                </a:lnTo>
                <a:lnTo>
                  <a:pt x="15553" y="7738"/>
                </a:lnTo>
                <a:lnTo>
                  <a:pt x="15468" y="7809"/>
                </a:lnTo>
                <a:lnTo>
                  <a:pt x="15380" y="7877"/>
                </a:lnTo>
                <a:lnTo>
                  <a:pt x="15290" y="7943"/>
                </a:lnTo>
                <a:lnTo>
                  <a:pt x="15198" y="8005"/>
                </a:lnTo>
                <a:lnTo>
                  <a:pt x="15104" y="8065"/>
                </a:lnTo>
                <a:lnTo>
                  <a:pt x="15008" y="8122"/>
                </a:lnTo>
                <a:lnTo>
                  <a:pt x="14910" y="8176"/>
                </a:lnTo>
                <a:lnTo>
                  <a:pt x="14811" y="8227"/>
                </a:lnTo>
                <a:lnTo>
                  <a:pt x="14711" y="8276"/>
                </a:lnTo>
                <a:lnTo>
                  <a:pt x="14610" y="8321"/>
                </a:lnTo>
                <a:lnTo>
                  <a:pt x="14508" y="8363"/>
                </a:lnTo>
                <a:lnTo>
                  <a:pt x="14406" y="8401"/>
                </a:lnTo>
                <a:lnTo>
                  <a:pt x="14303" y="8436"/>
                </a:lnTo>
                <a:lnTo>
                  <a:pt x="14269" y="8448"/>
                </a:lnTo>
                <a:lnTo>
                  <a:pt x="14234" y="8457"/>
                </a:lnTo>
                <a:lnTo>
                  <a:pt x="14199" y="8468"/>
                </a:lnTo>
                <a:lnTo>
                  <a:pt x="14165" y="8477"/>
                </a:lnTo>
                <a:lnTo>
                  <a:pt x="14130" y="8486"/>
                </a:lnTo>
                <a:lnTo>
                  <a:pt x="14095" y="8496"/>
                </a:lnTo>
                <a:lnTo>
                  <a:pt x="14062" y="8504"/>
                </a:lnTo>
                <a:lnTo>
                  <a:pt x="14027" y="8513"/>
                </a:lnTo>
                <a:lnTo>
                  <a:pt x="13992" y="8520"/>
                </a:lnTo>
                <a:lnTo>
                  <a:pt x="13957" y="8528"/>
                </a:lnTo>
                <a:lnTo>
                  <a:pt x="13923" y="8535"/>
                </a:lnTo>
                <a:lnTo>
                  <a:pt x="13888" y="8542"/>
                </a:lnTo>
                <a:lnTo>
                  <a:pt x="13853" y="8549"/>
                </a:lnTo>
                <a:lnTo>
                  <a:pt x="13819" y="8555"/>
                </a:lnTo>
                <a:lnTo>
                  <a:pt x="13784" y="8560"/>
                </a:lnTo>
                <a:lnTo>
                  <a:pt x="13749" y="8567"/>
                </a:lnTo>
                <a:lnTo>
                  <a:pt x="13713" y="8572"/>
                </a:lnTo>
                <a:lnTo>
                  <a:pt x="13678" y="8576"/>
                </a:lnTo>
                <a:lnTo>
                  <a:pt x="13643" y="8581"/>
                </a:lnTo>
                <a:lnTo>
                  <a:pt x="13608" y="8585"/>
                </a:lnTo>
                <a:lnTo>
                  <a:pt x="13572" y="8590"/>
                </a:lnTo>
                <a:lnTo>
                  <a:pt x="13538" y="8593"/>
                </a:lnTo>
                <a:lnTo>
                  <a:pt x="13502" y="8596"/>
                </a:lnTo>
                <a:lnTo>
                  <a:pt x="13466" y="8599"/>
                </a:lnTo>
                <a:lnTo>
                  <a:pt x="13431" y="8601"/>
                </a:lnTo>
                <a:lnTo>
                  <a:pt x="13395" y="8603"/>
                </a:lnTo>
                <a:lnTo>
                  <a:pt x="13359" y="8605"/>
                </a:lnTo>
                <a:lnTo>
                  <a:pt x="13323" y="8606"/>
                </a:lnTo>
                <a:lnTo>
                  <a:pt x="13287" y="8607"/>
                </a:lnTo>
                <a:lnTo>
                  <a:pt x="13250" y="8608"/>
                </a:lnTo>
                <a:lnTo>
                  <a:pt x="13215" y="8608"/>
                </a:lnTo>
                <a:lnTo>
                  <a:pt x="13179" y="8608"/>
                </a:lnTo>
                <a:lnTo>
                  <a:pt x="13156" y="8703"/>
                </a:lnTo>
                <a:lnTo>
                  <a:pt x="13132" y="8797"/>
                </a:lnTo>
                <a:lnTo>
                  <a:pt x="13105" y="8888"/>
                </a:lnTo>
                <a:lnTo>
                  <a:pt x="13075" y="8978"/>
                </a:lnTo>
                <a:lnTo>
                  <a:pt x="13042" y="9067"/>
                </a:lnTo>
                <a:lnTo>
                  <a:pt x="13006" y="9154"/>
                </a:lnTo>
                <a:lnTo>
                  <a:pt x="12969" y="9239"/>
                </a:lnTo>
                <a:lnTo>
                  <a:pt x="12928" y="9323"/>
                </a:lnTo>
                <a:lnTo>
                  <a:pt x="12886" y="9406"/>
                </a:lnTo>
                <a:lnTo>
                  <a:pt x="12840" y="9486"/>
                </a:lnTo>
                <a:lnTo>
                  <a:pt x="12793" y="9565"/>
                </a:lnTo>
                <a:lnTo>
                  <a:pt x="12744" y="9643"/>
                </a:lnTo>
                <a:lnTo>
                  <a:pt x="12692" y="9719"/>
                </a:lnTo>
                <a:lnTo>
                  <a:pt x="12637" y="9794"/>
                </a:lnTo>
                <a:lnTo>
                  <a:pt x="12581" y="9867"/>
                </a:lnTo>
                <a:lnTo>
                  <a:pt x="12522" y="9939"/>
                </a:lnTo>
                <a:lnTo>
                  <a:pt x="12462" y="10010"/>
                </a:lnTo>
                <a:lnTo>
                  <a:pt x="12399" y="10079"/>
                </a:lnTo>
                <a:lnTo>
                  <a:pt x="12336" y="10146"/>
                </a:lnTo>
                <a:lnTo>
                  <a:pt x="12269" y="10212"/>
                </a:lnTo>
                <a:lnTo>
                  <a:pt x="12201" y="10277"/>
                </a:lnTo>
                <a:lnTo>
                  <a:pt x="12132" y="10339"/>
                </a:lnTo>
                <a:lnTo>
                  <a:pt x="12060" y="10401"/>
                </a:lnTo>
                <a:lnTo>
                  <a:pt x="11987" y="10461"/>
                </a:lnTo>
                <a:lnTo>
                  <a:pt x="11912" y="10519"/>
                </a:lnTo>
                <a:lnTo>
                  <a:pt x="11836" y="10577"/>
                </a:lnTo>
                <a:lnTo>
                  <a:pt x="11758" y="10632"/>
                </a:lnTo>
                <a:lnTo>
                  <a:pt x="11679" y="10686"/>
                </a:lnTo>
                <a:lnTo>
                  <a:pt x="11599" y="10739"/>
                </a:lnTo>
                <a:lnTo>
                  <a:pt x="11517" y="10791"/>
                </a:lnTo>
                <a:lnTo>
                  <a:pt x="11434" y="10841"/>
                </a:lnTo>
                <a:lnTo>
                  <a:pt x="11350" y="10889"/>
                </a:lnTo>
                <a:lnTo>
                  <a:pt x="11320" y="10905"/>
                </a:lnTo>
                <a:lnTo>
                  <a:pt x="11292" y="10920"/>
                </a:lnTo>
                <a:lnTo>
                  <a:pt x="11262" y="10936"/>
                </a:lnTo>
                <a:lnTo>
                  <a:pt x="11232" y="10950"/>
                </a:lnTo>
                <a:lnTo>
                  <a:pt x="11203" y="10965"/>
                </a:lnTo>
                <a:lnTo>
                  <a:pt x="11174" y="10980"/>
                </a:lnTo>
                <a:lnTo>
                  <a:pt x="11144" y="10994"/>
                </a:lnTo>
                <a:lnTo>
                  <a:pt x="11114" y="11009"/>
                </a:lnTo>
                <a:lnTo>
                  <a:pt x="11084" y="11023"/>
                </a:lnTo>
                <a:lnTo>
                  <a:pt x="11054" y="11037"/>
                </a:lnTo>
                <a:lnTo>
                  <a:pt x="11024" y="11050"/>
                </a:lnTo>
                <a:lnTo>
                  <a:pt x="10994" y="11065"/>
                </a:lnTo>
                <a:lnTo>
                  <a:pt x="10964" y="11079"/>
                </a:lnTo>
                <a:lnTo>
                  <a:pt x="10934" y="11092"/>
                </a:lnTo>
                <a:lnTo>
                  <a:pt x="10903" y="11106"/>
                </a:lnTo>
                <a:lnTo>
                  <a:pt x="10872" y="11119"/>
                </a:lnTo>
                <a:lnTo>
                  <a:pt x="10805" y="11145"/>
                </a:lnTo>
                <a:lnTo>
                  <a:pt x="10737" y="11171"/>
                </a:lnTo>
                <a:lnTo>
                  <a:pt x="10668" y="11195"/>
                </a:lnTo>
                <a:lnTo>
                  <a:pt x="10601" y="11219"/>
                </a:lnTo>
                <a:lnTo>
                  <a:pt x="10533" y="11241"/>
                </a:lnTo>
                <a:lnTo>
                  <a:pt x="10466" y="11263"/>
                </a:lnTo>
                <a:lnTo>
                  <a:pt x="10399" y="11284"/>
                </a:lnTo>
                <a:lnTo>
                  <a:pt x="10331" y="11303"/>
                </a:lnTo>
                <a:lnTo>
                  <a:pt x="10263" y="11322"/>
                </a:lnTo>
                <a:lnTo>
                  <a:pt x="10197" y="11340"/>
                </a:lnTo>
                <a:lnTo>
                  <a:pt x="10129" y="11358"/>
                </a:lnTo>
                <a:lnTo>
                  <a:pt x="10061" y="11373"/>
                </a:lnTo>
                <a:lnTo>
                  <a:pt x="9993" y="11389"/>
                </a:lnTo>
                <a:lnTo>
                  <a:pt x="9926" y="11403"/>
                </a:lnTo>
                <a:lnTo>
                  <a:pt x="9858" y="11417"/>
                </a:lnTo>
                <a:lnTo>
                  <a:pt x="9789" y="11429"/>
                </a:lnTo>
                <a:lnTo>
                  <a:pt x="9722" y="11441"/>
                </a:lnTo>
                <a:lnTo>
                  <a:pt x="9653" y="11452"/>
                </a:lnTo>
                <a:lnTo>
                  <a:pt x="9584" y="11462"/>
                </a:lnTo>
                <a:lnTo>
                  <a:pt x="9516" y="11471"/>
                </a:lnTo>
                <a:lnTo>
                  <a:pt x="9447" y="11479"/>
                </a:lnTo>
                <a:lnTo>
                  <a:pt x="9377" y="11487"/>
                </a:lnTo>
                <a:lnTo>
                  <a:pt x="9307" y="11494"/>
                </a:lnTo>
                <a:lnTo>
                  <a:pt x="9238" y="11499"/>
                </a:lnTo>
                <a:lnTo>
                  <a:pt x="9167" y="11504"/>
                </a:lnTo>
                <a:lnTo>
                  <a:pt x="9097" y="11509"/>
                </a:lnTo>
                <a:lnTo>
                  <a:pt x="9025" y="11512"/>
                </a:lnTo>
                <a:lnTo>
                  <a:pt x="8954" y="11515"/>
                </a:lnTo>
                <a:lnTo>
                  <a:pt x="8882" y="11517"/>
                </a:lnTo>
                <a:lnTo>
                  <a:pt x="8810" y="11517"/>
                </a:lnTo>
                <a:lnTo>
                  <a:pt x="8737" y="11518"/>
                </a:lnTo>
                <a:lnTo>
                  <a:pt x="8663" y="11517"/>
                </a:lnTo>
                <a:lnTo>
                  <a:pt x="8262" y="11488"/>
                </a:lnTo>
                <a:lnTo>
                  <a:pt x="8161" y="11474"/>
                </a:lnTo>
                <a:lnTo>
                  <a:pt x="8060" y="11458"/>
                </a:lnTo>
                <a:lnTo>
                  <a:pt x="7959" y="11440"/>
                </a:lnTo>
                <a:lnTo>
                  <a:pt x="7858" y="11421"/>
                </a:lnTo>
                <a:lnTo>
                  <a:pt x="7758" y="11400"/>
                </a:lnTo>
                <a:lnTo>
                  <a:pt x="7657" y="11376"/>
                </a:lnTo>
                <a:lnTo>
                  <a:pt x="7558" y="11351"/>
                </a:lnTo>
                <a:lnTo>
                  <a:pt x="7459" y="11325"/>
                </a:lnTo>
                <a:lnTo>
                  <a:pt x="7362" y="11296"/>
                </a:lnTo>
                <a:lnTo>
                  <a:pt x="7265" y="11265"/>
                </a:lnTo>
                <a:lnTo>
                  <a:pt x="7168" y="11233"/>
                </a:lnTo>
                <a:lnTo>
                  <a:pt x="7072" y="11197"/>
                </a:lnTo>
                <a:lnTo>
                  <a:pt x="6978" y="11161"/>
                </a:lnTo>
                <a:lnTo>
                  <a:pt x="6884" y="11121"/>
                </a:lnTo>
                <a:lnTo>
                  <a:pt x="6792" y="11080"/>
                </a:lnTo>
                <a:lnTo>
                  <a:pt x="6701" y="11037"/>
                </a:lnTo>
                <a:lnTo>
                  <a:pt x="6611" y="10990"/>
                </a:lnTo>
                <a:lnTo>
                  <a:pt x="6522" y="10942"/>
                </a:lnTo>
                <a:lnTo>
                  <a:pt x="6436" y="10892"/>
                </a:lnTo>
                <a:lnTo>
                  <a:pt x="6350" y="10839"/>
                </a:lnTo>
                <a:lnTo>
                  <a:pt x="6266" y="10784"/>
                </a:lnTo>
                <a:lnTo>
                  <a:pt x="6184" y="10727"/>
                </a:lnTo>
                <a:lnTo>
                  <a:pt x="6104" y="10666"/>
                </a:lnTo>
                <a:lnTo>
                  <a:pt x="6025" y="10604"/>
                </a:lnTo>
                <a:lnTo>
                  <a:pt x="5948" y="10539"/>
                </a:lnTo>
                <a:lnTo>
                  <a:pt x="5873" y="10471"/>
                </a:lnTo>
                <a:lnTo>
                  <a:pt x="5800" y="10401"/>
                </a:lnTo>
                <a:lnTo>
                  <a:pt x="5729" y="10328"/>
                </a:lnTo>
                <a:lnTo>
                  <a:pt x="5662" y="10253"/>
                </a:lnTo>
                <a:lnTo>
                  <a:pt x="5595" y="10175"/>
                </a:lnTo>
                <a:lnTo>
                  <a:pt x="5532" y="10093"/>
                </a:lnTo>
                <a:lnTo>
                  <a:pt x="5470" y="10010"/>
                </a:lnTo>
                <a:lnTo>
                  <a:pt x="5380" y="10000"/>
                </a:lnTo>
                <a:lnTo>
                  <a:pt x="5290" y="9987"/>
                </a:lnTo>
                <a:lnTo>
                  <a:pt x="5199" y="9974"/>
                </a:lnTo>
                <a:lnTo>
                  <a:pt x="5109" y="9958"/>
                </a:lnTo>
                <a:lnTo>
                  <a:pt x="5020" y="9941"/>
                </a:lnTo>
                <a:lnTo>
                  <a:pt x="4931" y="9923"/>
                </a:lnTo>
                <a:lnTo>
                  <a:pt x="4842" y="9902"/>
                </a:lnTo>
                <a:lnTo>
                  <a:pt x="4754" y="9879"/>
                </a:lnTo>
                <a:lnTo>
                  <a:pt x="4666" y="9855"/>
                </a:lnTo>
                <a:lnTo>
                  <a:pt x="4579" y="9830"/>
                </a:lnTo>
                <a:lnTo>
                  <a:pt x="4493" y="9802"/>
                </a:lnTo>
                <a:lnTo>
                  <a:pt x="4408" y="9773"/>
                </a:lnTo>
                <a:lnTo>
                  <a:pt x="4322" y="9741"/>
                </a:lnTo>
                <a:lnTo>
                  <a:pt x="4238" y="9708"/>
                </a:lnTo>
                <a:lnTo>
                  <a:pt x="4155" y="9673"/>
                </a:lnTo>
                <a:lnTo>
                  <a:pt x="4073" y="9636"/>
                </a:lnTo>
                <a:lnTo>
                  <a:pt x="3993" y="9597"/>
                </a:lnTo>
                <a:lnTo>
                  <a:pt x="3913" y="9556"/>
                </a:lnTo>
                <a:lnTo>
                  <a:pt x="3834" y="9513"/>
                </a:lnTo>
                <a:lnTo>
                  <a:pt x="3757" y="9469"/>
                </a:lnTo>
                <a:lnTo>
                  <a:pt x="3682" y="9422"/>
                </a:lnTo>
                <a:lnTo>
                  <a:pt x="3607" y="9373"/>
                </a:lnTo>
                <a:lnTo>
                  <a:pt x="3533" y="9322"/>
                </a:lnTo>
                <a:lnTo>
                  <a:pt x="3461" y="9269"/>
                </a:lnTo>
                <a:lnTo>
                  <a:pt x="3391" y="9213"/>
                </a:lnTo>
                <a:lnTo>
                  <a:pt x="3323" y="9156"/>
                </a:lnTo>
                <a:lnTo>
                  <a:pt x="3256" y="9097"/>
                </a:lnTo>
                <a:lnTo>
                  <a:pt x="3191" y="9035"/>
                </a:lnTo>
                <a:lnTo>
                  <a:pt x="3128" y="8972"/>
                </a:lnTo>
                <a:lnTo>
                  <a:pt x="3066" y="8905"/>
                </a:lnTo>
                <a:lnTo>
                  <a:pt x="3007" y="8837"/>
                </a:lnTo>
                <a:lnTo>
                  <a:pt x="2949" y="8767"/>
                </a:lnTo>
                <a:lnTo>
                  <a:pt x="2927" y="8735"/>
                </a:lnTo>
                <a:lnTo>
                  <a:pt x="2905" y="8703"/>
                </a:lnTo>
                <a:lnTo>
                  <a:pt x="2885" y="8671"/>
                </a:lnTo>
                <a:lnTo>
                  <a:pt x="2864" y="8639"/>
                </a:lnTo>
                <a:lnTo>
                  <a:pt x="2845" y="8606"/>
                </a:lnTo>
                <a:lnTo>
                  <a:pt x="2825" y="8574"/>
                </a:lnTo>
                <a:lnTo>
                  <a:pt x="2807" y="8541"/>
                </a:lnTo>
                <a:lnTo>
                  <a:pt x="2789" y="8507"/>
                </a:lnTo>
                <a:lnTo>
                  <a:pt x="2772" y="8474"/>
                </a:lnTo>
                <a:lnTo>
                  <a:pt x="2756" y="8441"/>
                </a:lnTo>
                <a:lnTo>
                  <a:pt x="2740" y="8406"/>
                </a:lnTo>
                <a:lnTo>
                  <a:pt x="2726" y="8372"/>
                </a:lnTo>
                <a:lnTo>
                  <a:pt x="2711" y="8338"/>
                </a:lnTo>
                <a:lnTo>
                  <a:pt x="2699" y="8303"/>
                </a:lnTo>
                <a:lnTo>
                  <a:pt x="2687" y="8269"/>
                </a:lnTo>
                <a:lnTo>
                  <a:pt x="2676" y="8233"/>
                </a:lnTo>
                <a:lnTo>
                  <a:pt x="2665" y="8198"/>
                </a:lnTo>
                <a:lnTo>
                  <a:pt x="2655" y="8163"/>
                </a:lnTo>
                <a:lnTo>
                  <a:pt x="2647" y="8127"/>
                </a:lnTo>
                <a:lnTo>
                  <a:pt x="2640" y="8092"/>
                </a:lnTo>
                <a:lnTo>
                  <a:pt x="2633" y="8055"/>
                </a:lnTo>
                <a:lnTo>
                  <a:pt x="2627" y="8019"/>
                </a:lnTo>
                <a:lnTo>
                  <a:pt x="2623" y="7982"/>
                </a:lnTo>
                <a:lnTo>
                  <a:pt x="2620" y="7946"/>
                </a:lnTo>
                <a:lnTo>
                  <a:pt x="2617" y="7908"/>
                </a:lnTo>
                <a:lnTo>
                  <a:pt x="2616" y="7872"/>
                </a:lnTo>
                <a:lnTo>
                  <a:pt x="2616" y="7835"/>
                </a:lnTo>
                <a:lnTo>
                  <a:pt x="2617" y="7797"/>
                </a:lnTo>
                <a:lnTo>
                  <a:pt x="2620" y="7759"/>
                </a:lnTo>
                <a:lnTo>
                  <a:pt x="2623" y="7721"/>
                </a:lnTo>
                <a:lnTo>
                  <a:pt x="2628" y="7682"/>
                </a:lnTo>
                <a:lnTo>
                  <a:pt x="2635" y="7644"/>
                </a:lnTo>
                <a:lnTo>
                  <a:pt x="2629" y="7639"/>
                </a:lnTo>
                <a:lnTo>
                  <a:pt x="2625" y="7635"/>
                </a:lnTo>
                <a:lnTo>
                  <a:pt x="2620" y="7629"/>
                </a:lnTo>
                <a:lnTo>
                  <a:pt x="2615" y="7624"/>
                </a:lnTo>
                <a:lnTo>
                  <a:pt x="2611" y="7619"/>
                </a:lnTo>
                <a:lnTo>
                  <a:pt x="2606" y="7615"/>
                </a:lnTo>
                <a:lnTo>
                  <a:pt x="2602" y="7610"/>
                </a:lnTo>
                <a:lnTo>
                  <a:pt x="2597" y="7604"/>
                </a:lnTo>
                <a:lnTo>
                  <a:pt x="2506" y="7605"/>
                </a:lnTo>
                <a:lnTo>
                  <a:pt x="2415" y="7604"/>
                </a:lnTo>
                <a:lnTo>
                  <a:pt x="2325" y="7601"/>
                </a:lnTo>
                <a:lnTo>
                  <a:pt x="2235" y="7595"/>
                </a:lnTo>
                <a:lnTo>
                  <a:pt x="2144" y="7587"/>
                </a:lnTo>
                <a:lnTo>
                  <a:pt x="2055" y="7575"/>
                </a:lnTo>
                <a:lnTo>
                  <a:pt x="1966" y="7563"/>
                </a:lnTo>
                <a:lnTo>
                  <a:pt x="1878" y="7547"/>
                </a:lnTo>
                <a:lnTo>
                  <a:pt x="1791" y="7528"/>
                </a:lnTo>
                <a:lnTo>
                  <a:pt x="1704" y="7508"/>
                </a:lnTo>
                <a:lnTo>
                  <a:pt x="1618" y="7485"/>
                </a:lnTo>
                <a:lnTo>
                  <a:pt x="1533" y="7459"/>
                </a:lnTo>
                <a:lnTo>
                  <a:pt x="1450" y="7430"/>
                </a:lnTo>
                <a:lnTo>
                  <a:pt x="1368" y="7399"/>
                </a:lnTo>
                <a:lnTo>
                  <a:pt x="1287" y="7366"/>
                </a:lnTo>
                <a:lnTo>
                  <a:pt x="1207" y="7330"/>
                </a:lnTo>
                <a:lnTo>
                  <a:pt x="1128" y="7292"/>
                </a:lnTo>
                <a:lnTo>
                  <a:pt x="1052" y="7251"/>
                </a:lnTo>
                <a:lnTo>
                  <a:pt x="976" y="7208"/>
                </a:lnTo>
                <a:lnTo>
                  <a:pt x="903" y="7162"/>
                </a:lnTo>
                <a:lnTo>
                  <a:pt x="832" y="7113"/>
                </a:lnTo>
                <a:lnTo>
                  <a:pt x="762" y="7062"/>
                </a:lnTo>
                <a:lnTo>
                  <a:pt x="694" y="7008"/>
                </a:lnTo>
                <a:lnTo>
                  <a:pt x="629" y="6951"/>
                </a:lnTo>
                <a:lnTo>
                  <a:pt x="565" y="6892"/>
                </a:lnTo>
                <a:lnTo>
                  <a:pt x="505" y="6830"/>
                </a:lnTo>
                <a:lnTo>
                  <a:pt x="446" y="6766"/>
                </a:lnTo>
                <a:lnTo>
                  <a:pt x="390" y="6698"/>
                </a:lnTo>
                <a:lnTo>
                  <a:pt x="335" y="6629"/>
                </a:lnTo>
                <a:lnTo>
                  <a:pt x="284" y="6557"/>
                </a:lnTo>
                <a:lnTo>
                  <a:pt x="236" y="6482"/>
                </a:lnTo>
                <a:lnTo>
                  <a:pt x="190" y="6404"/>
                </a:lnTo>
                <a:lnTo>
                  <a:pt x="165" y="6352"/>
                </a:lnTo>
                <a:lnTo>
                  <a:pt x="142" y="6300"/>
                </a:lnTo>
                <a:lnTo>
                  <a:pt x="120" y="6247"/>
                </a:lnTo>
                <a:lnTo>
                  <a:pt x="100" y="6195"/>
                </a:lnTo>
                <a:lnTo>
                  <a:pt x="83" y="6144"/>
                </a:lnTo>
                <a:lnTo>
                  <a:pt x="67" y="6092"/>
                </a:lnTo>
                <a:lnTo>
                  <a:pt x="52" y="6040"/>
                </a:lnTo>
                <a:lnTo>
                  <a:pt x="39" y="5989"/>
                </a:lnTo>
                <a:lnTo>
                  <a:pt x="29" y="5937"/>
                </a:lnTo>
                <a:lnTo>
                  <a:pt x="19" y="5886"/>
                </a:lnTo>
                <a:lnTo>
                  <a:pt x="11" y="5834"/>
                </a:lnTo>
                <a:lnTo>
                  <a:pt x="6" y="5783"/>
                </a:lnTo>
                <a:lnTo>
                  <a:pt x="2" y="5732"/>
                </a:lnTo>
                <a:lnTo>
                  <a:pt x="0" y="5680"/>
                </a:lnTo>
                <a:lnTo>
                  <a:pt x="0" y="5629"/>
                </a:lnTo>
                <a:lnTo>
                  <a:pt x="1" y="5578"/>
                </a:lnTo>
                <a:lnTo>
                  <a:pt x="5" y="5527"/>
                </a:lnTo>
                <a:lnTo>
                  <a:pt x="10" y="5476"/>
                </a:lnTo>
                <a:lnTo>
                  <a:pt x="16" y="5425"/>
                </a:lnTo>
                <a:lnTo>
                  <a:pt x="26" y="5374"/>
                </a:lnTo>
                <a:lnTo>
                  <a:pt x="36" y="5323"/>
                </a:lnTo>
                <a:lnTo>
                  <a:pt x="48" y="5272"/>
                </a:lnTo>
                <a:lnTo>
                  <a:pt x="62" y="5221"/>
                </a:lnTo>
                <a:lnTo>
                  <a:pt x="78" y="5171"/>
                </a:lnTo>
                <a:lnTo>
                  <a:pt x="95" y="5120"/>
                </a:lnTo>
                <a:lnTo>
                  <a:pt x="115" y="5069"/>
                </a:lnTo>
                <a:lnTo>
                  <a:pt x="135" y="5018"/>
                </a:lnTo>
                <a:lnTo>
                  <a:pt x="158" y="4968"/>
                </a:lnTo>
                <a:lnTo>
                  <a:pt x="183" y="4917"/>
                </a:lnTo>
                <a:lnTo>
                  <a:pt x="209" y="4867"/>
                </a:lnTo>
                <a:lnTo>
                  <a:pt x="238" y="4815"/>
                </a:lnTo>
                <a:lnTo>
                  <a:pt x="268" y="4764"/>
                </a:lnTo>
                <a:lnTo>
                  <a:pt x="308" y="4708"/>
                </a:lnTo>
                <a:lnTo>
                  <a:pt x="349" y="4654"/>
                </a:lnTo>
                <a:lnTo>
                  <a:pt x="392" y="4601"/>
                </a:lnTo>
                <a:lnTo>
                  <a:pt x="436" y="4550"/>
                </a:lnTo>
                <a:lnTo>
                  <a:pt x="481" y="4500"/>
                </a:lnTo>
                <a:lnTo>
                  <a:pt x="527" y="4452"/>
                </a:lnTo>
                <a:lnTo>
                  <a:pt x="575" y="4406"/>
                </a:lnTo>
                <a:lnTo>
                  <a:pt x="625" y="4361"/>
                </a:lnTo>
                <a:lnTo>
                  <a:pt x="675" y="4318"/>
                </a:lnTo>
                <a:lnTo>
                  <a:pt x="726" y="4276"/>
                </a:lnTo>
                <a:lnTo>
                  <a:pt x="778" y="4236"/>
                </a:lnTo>
                <a:lnTo>
                  <a:pt x="832" y="4198"/>
                </a:lnTo>
                <a:lnTo>
                  <a:pt x="886" y="4161"/>
                </a:lnTo>
                <a:lnTo>
                  <a:pt x="941" y="4126"/>
                </a:lnTo>
                <a:lnTo>
                  <a:pt x="999" y="4092"/>
                </a:lnTo>
                <a:lnTo>
                  <a:pt x="1055" y="4060"/>
                </a:lnTo>
                <a:lnTo>
                  <a:pt x="1114" y="4029"/>
                </a:lnTo>
                <a:lnTo>
                  <a:pt x="1173" y="4000"/>
                </a:lnTo>
                <a:lnTo>
                  <a:pt x="1233" y="3973"/>
                </a:lnTo>
                <a:lnTo>
                  <a:pt x="1293" y="3947"/>
                </a:lnTo>
                <a:lnTo>
                  <a:pt x="1355" y="3922"/>
                </a:lnTo>
                <a:lnTo>
                  <a:pt x="1417" y="3899"/>
                </a:lnTo>
                <a:lnTo>
                  <a:pt x="1480" y="3877"/>
                </a:lnTo>
                <a:lnTo>
                  <a:pt x="1543" y="3857"/>
                </a:lnTo>
                <a:lnTo>
                  <a:pt x="1608" y="3839"/>
                </a:lnTo>
                <a:lnTo>
                  <a:pt x="1673" y="3822"/>
                </a:lnTo>
                <a:lnTo>
                  <a:pt x="1737" y="3806"/>
                </a:lnTo>
                <a:lnTo>
                  <a:pt x="1803" y="3792"/>
                </a:lnTo>
                <a:lnTo>
                  <a:pt x="1869" y="3779"/>
                </a:lnTo>
                <a:lnTo>
                  <a:pt x="1936" y="3768"/>
                </a:lnTo>
                <a:lnTo>
                  <a:pt x="2003" y="3758"/>
                </a:lnTo>
                <a:lnTo>
                  <a:pt x="2070" y="3750"/>
                </a:lnTo>
                <a:lnTo>
                  <a:pt x="2037" y="3718"/>
                </a:lnTo>
                <a:lnTo>
                  <a:pt x="2005" y="3685"/>
                </a:lnTo>
                <a:lnTo>
                  <a:pt x="1974" y="3651"/>
                </a:lnTo>
                <a:lnTo>
                  <a:pt x="1945" y="3618"/>
                </a:lnTo>
                <a:lnTo>
                  <a:pt x="1919" y="3583"/>
                </a:lnTo>
                <a:lnTo>
                  <a:pt x="1893" y="3549"/>
                </a:lnTo>
                <a:lnTo>
                  <a:pt x="1868" y="3514"/>
                </a:lnTo>
                <a:lnTo>
                  <a:pt x="1846" y="3478"/>
                </a:lnTo>
                <a:lnTo>
                  <a:pt x="1825" y="3442"/>
                </a:lnTo>
                <a:lnTo>
                  <a:pt x="1806" y="3405"/>
                </a:lnTo>
                <a:lnTo>
                  <a:pt x="1787" y="3368"/>
                </a:lnTo>
                <a:lnTo>
                  <a:pt x="1772" y="3330"/>
                </a:lnTo>
                <a:lnTo>
                  <a:pt x="1758" y="3293"/>
                </a:lnTo>
                <a:lnTo>
                  <a:pt x="1744" y="3254"/>
                </a:lnTo>
                <a:lnTo>
                  <a:pt x="1733" y="3216"/>
                </a:lnTo>
                <a:lnTo>
                  <a:pt x="1724" y="3176"/>
                </a:lnTo>
                <a:lnTo>
                  <a:pt x="1717" y="3137"/>
                </a:lnTo>
                <a:lnTo>
                  <a:pt x="1711" y="3097"/>
                </a:lnTo>
                <a:lnTo>
                  <a:pt x="1706" y="3058"/>
                </a:lnTo>
                <a:lnTo>
                  <a:pt x="1703" y="3017"/>
                </a:lnTo>
                <a:lnTo>
                  <a:pt x="1702" y="2975"/>
                </a:lnTo>
                <a:lnTo>
                  <a:pt x="1703" y="2935"/>
                </a:lnTo>
                <a:lnTo>
                  <a:pt x="1706" y="2893"/>
                </a:lnTo>
                <a:lnTo>
                  <a:pt x="1712" y="2851"/>
                </a:lnTo>
                <a:lnTo>
                  <a:pt x="1718" y="2809"/>
                </a:lnTo>
                <a:lnTo>
                  <a:pt x="1726" y="2767"/>
                </a:lnTo>
                <a:lnTo>
                  <a:pt x="1736" y="2724"/>
                </a:lnTo>
                <a:lnTo>
                  <a:pt x="1747" y="2681"/>
                </a:lnTo>
                <a:lnTo>
                  <a:pt x="1761" y="2638"/>
                </a:lnTo>
                <a:lnTo>
                  <a:pt x="1777" y="2594"/>
                </a:lnTo>
                <a:lnTo>
                  <a:pt x="1795" y="2550"/>
                </a:lnTo>
                <a:lnTo>
                  <a:pt x="1813" y="2507"/>
                </a:lnTo>
                <a:lnTo>
                  <a:pt x="1843" y="2454"/>
                </a:lnTo>
                <a:lnTo>
                  <a:pt x="1874" y="2404"/>
                </a:lnTo>
                <a:lnTo>
                  <a:pt x="1906" y="2354"/>
                </a:lnTo>
                <a:lnTo>
                  <a:pt x="1940" y="2306"/>
                </a:lnTo>
                <a:lnTo>
                  <a:pt x="1976" y="2260"/>
                </a:lnTo>
                <a:lnTo>
                  <a:pt x="2013" y="2215"/>
                </a:lnTo>
                <a:lnTo>
                  <a:pt x="2052" y="2171"/>
                </a:lnTo>
                <a:lnTo>
                  <a:pt x="2092" y="2129"/>
                </a:lnTo>
                <a:lnTo>
                  <a:pt x="2133" y="2088"/>
                </a:lnTo>
                <a:lnTo>
                  <a:pt x="2175" y="2048"/>
                </a:lnTo>
                <a:lnTo>
                  <a:pt x="2219" y="2011"/>
                </a:lnTo>
                <a:lnTo>
                  <a:pt x="2264" y="1973"/>
                </a:lnTo>
                <a:lnTo>
                  <a:pt x="2310" y="1938"/>
                </a:lnTo>
                <a:lnTo>
                  <a:pt x="2358" y="1904"/>
                </a:lnTo>
                <a:lnTo>
                  <a:pt x="2405" y="1871"/>
                </a:lnTo>
                <a:lnTo>
                  <a:pt x="2454" y="1839"/>
                </a:lnTo>
                <a:lnTo>
                  <a:pt x="2504" y="1809"/>
                </a:lnTo>
                <a:lnTo>
                  <a:pt x="2555" y="1780"/>
                </a:lnTo>
                <a:lnTo>
                  <a:pt x="2607" y="1752"/>
                </a:lnTo>
                <a:lnTo>
                  <a:pt x="2659" y="1725"/>
                </a:lnTo>
                <a:lnTo>
                  <a:pt x="2712" y="1699"/>
                </a:lnTo>
                <a:lnTo>
                  <a:pt x="2766" y="1675"/>
                </a:lnTo>
                <a:lnTo>
                  <a:pt x="2820" y="1651"/>
                </a:lnTo>
                <a:lnTo>
                  <a:pt x="2876" y="1629"/>
                </a:lnTo>
                <a:lnTo>
                  <a:pt x="2931" y="1607"/>
                </a:lnTo>
                <a:lnTo>
                  <a:pt x="2986" y="1587"/>
                </a:lnTo>
                <a:lnTo>
                  <a:pt x="3043" y="1568"/>
                </a:lnTo>
                <a:lnTo>
                  <a:pt x="3099" y="1550"/>
                </a:lnTo>
                <a:lnTo>
                  <a:pt x="3155" y="1533"/>
                </a:lnTo>
                <a:lnTo>
                  <a:pt x="3213" y="1516"/>
                </a:lnTo>
                <a:lnTo>
                  <a:pt x="3270" y="1502"/>
                </a:lnTo>
                <a:lnTo>
                  <a:pt x="3328" y="1487"/>
                </a:lnTo>
                <a:lnTo>
                  <a:pt x="3378" y="1477"/>
                </a:lnTo>
                <a:lnTo>
                  <a:pt x="3427" y="1467"/>
                </a:lnTo>
                <a:lnTo>
                  <a:pt x="3477" y="1458"/>
                </a:lnTo>
                <a:lnTo>
                  <a:pt x="3528" y="1451"/>
                </a:lnTo>
                <a:lnTo>
                  <a:pt x="3577" y="1442"/>
                </a:lnTo>
                <a:lnTo>
                  <a:pt x="3627" y="1436"/>
                </a:lnTo>
                <a:lnTo>
                  <a:pt x="3677" y="1430"/>
                </a:lnTo>
                <a:lnTo>
                  <a:pt x="3727" y="1425"/>
                </a:lnTo>
                <a:lnTo>
                  <a:pt x="3777" y="1420"/>
                </a:lnTo>
                <a:lnTo>
                  <a:pt x="3827" y="1416"/>
                </a:lnTo>
                <a:lnTo>
                  <a:pt x="3876" y="1413"/>
                </a:lnTo>
                <a:lnTo>
                  <a:pt x="3927" y="1411"/>
                </a:lnTo>
                <a:lnTo>
                  <a:pt x="3977" y="1410"/>
                </a:lnTo>
                <a:lnTo>
                  <a:pt x="4026" y="1409"/>
                </a:lnTo>
                <a:lnTo>
                  <a:pt x="4076" y="1409"/>
                </a:lnTo>
                <a:lnTo>
                  <a:pt x="4126" y="1410"/>
                </a:lnTo>
                <a:lnTo>
                  <a:pt x="4176" y="1412"/>
                </a:lnTo>
                <a:lnTo>
                  <a:pt x="4225" y="1414"/>
                </a:lnTo>
                <a:lnTo>
                  <a:pt x="4275" y="1417"/>
                </a:lnTo>
                <a:lnTo>
                  <a:pt x="4325" y="1422"/>
                </a:lnTo>
                <a:lnTo>
                  <a:pt x="4374" y="1427"/>
                </a:lnTo>
                <a:lnTo>
                  <a:pt x="4423" y="1433"/>
                </a:lnTo>
                <a:lnTo>
                  <a:pt x="4472" y="1439"/>
                </a:lnTo>
                <a:lnTo>
                  <a:pt x="4521" y="1447"/>
                </a:lnTo>
                <a:lnTo>
                  <a:pt x="4571" y="1455"/>
                </a:lnTo>
                <a:lnTo>
                  <a:pt x="4620" y="1464"/>
                </a:lnTo>
                <a:lnTo>
                  <a:pt x="4669" y="1475"/>
                </a:lnTo>
                <a:lnTo>
                  <a:pt x="4718" y="1485"/>
                </a:lnTo>
                <a:lnTo>
                  <a:pt x="4767" y="1498"/>
                </a:lnTo>
                <a:lnTo>
                  <a:pt x="4816" y="1510"/>
                </a:lnTo>
                <a:lnTo>
                  <a:pt x="4864" y="1524"/>
                </a:lnTo>
                <a:lnTo>
                  <a:pt x="4912" y="1537"/>
                </a:lnTo>
                <a:lnTo>
                  <a:pt x="4927" y="1532"/>
                </a:lnTo>
                <a:lnTo>
                  <a:pt x="4940" y="1526"/>
                </a:lnTo>
                <a:lnTo>
                  <a:pt x="4953" y="1519"/>
                </a:lnTo>
                <a:lnTo>
                  <a:pt x="4968" y="1513"/>
                </a:lnTo>
                <a:lnTo>
                  <a:pt x="4981" y="1508"/>
                </a:lnTo>
                <a:lnTo>
                  <a:pt x="4995" y="1502"/>
                </a:lnTo>
                <a:lnTo>
                  <a:pt x="5009" y="1495"/>
                </a:lnTo>
                <a:lnTo>
                  <a:pt x="5023" y="1490"/>
                </a:lnTo>
                <a:lnTo>
                  <a:pt x="5070" y="1401"/>
                </a:lnTo>
                <a:lnTo>
                  <a:pt x="5121" y="1315"/>
                </a:lnTo>
                <a:lnTo>
                  <a:pt x="5177" y="1232"/>
                </a:lnTo>
                <a:lnTo>
                  <a:pt x="5237" y="1153"/>
                </a:lnTo>
                <a:lnTo>
                  <a:pt x="5301" y="1077"/>
                </a:lnTo>
                <a:lnTo>
                  <a:pt x="5367" y="1003"/>
                </a:lnTo>
                <a:lnTo>
                  <a:pt x="5438" y="932"/>
                </a:lnTo>
                <a:lnTo>
                  <a:pt x="5513" y="865"/>
                </a:lnTo>
                <a:lnTo>
                  <a:pt x="5590" y="801"/>
                </a:lnTo>
                <a:lnTo>
                  <a:pt x="5670" y="738"/>
                </a:lnTo>
                <a:lnTo>
                  <a:pt x="5752" y="680"/>
                </a:lnTo>
                <a:lnTo>
                  <a:pt x="5838" y="624"/>
                </a:lnTo>
                <a:lnTo>
                  <a:pt x="5925" y="571"/>
                </a:lnTo>
                <a:lnTo>
                  <a:pt x="6015" y="520"/>
                </a:lnTo>
                <a:lnTo>
                  <a:pt x="6107" y="472"/>
                </a:lnTo>
                <a:lnTo>
                  <a:pt x="6200" y="426"/>
                </a:lnTo>
                <a:lnTo>
                  <a:pt x="6295" y="383"/>
                </a:lnTo>
                <a:lnTo>
                  <a:pt x="6391" y="343"/>
                </a:lnTo>
                <a:lnTo>
                  <a:pt x="6488" y="305"/>
                </a:lnTo>
                <a:lnTo>
                  <a:pt x="6587" y="269"/>
                </a:lnTo>
                <a:lnTo>
                  <a:pt x="6686" y="235"/>
                </a:lnTo>
                <a:lnTo>
                  <a:pt x="6787" y="205"/>
                </a:lnTo>
                <a:lnTo>
                  <a:pt x="6886" y="176"/>
                </a:lnTo>
                <a:lnTo>
                  <a:pt x="6988" y="150"/>
                </a:lnTo>
                <a:lnTo>
                  <a:pt x="7088" y="126"/>
                </a:lnTo>
                <a:lnTo>
                  <a:pt x="7189" y="103"/>
                </a:lnTo>
                <a:lnTo>
                  <a:pt x="7289" y="83"/>
                </a:lnTo>
                <a:lnTo>
                  <a:pt x="7389" y="66"/>
                </a:lnTo>
                <a:lnTo>
                  <a:pt x="7488" y="50"/>
                </a:lnTo>
                <a:lnTo>
                  <a:pt x="7587" y="36"/>
                </a:lnTo>
                <a:lnTo>
                  <a:pt x="7683" y="24"/>
                </a:lnTo>
                <a:lnTo>
                  <a:pt x="7779" y="14"/>
                </a:lnTo>
                <a:lnTo>
                  <a:pt x="7866" y="8"/>
                </a:lnTo>
                <a:lnTo>
                  <a:pt x="7952" y="4"/>
                </a:lnTo>
                <a:lnTo>
                  <a:pt x="8038" y="2"/>
                </a:lnTo>
                <a:lnTo>
                  <a:pt x="8125" y="0"/>
                </a:lnTo>
                <a:lnTo>
                  <a:pt x="8212" y="0"/>
                </a:lnTo>
                <a:lnTo>
                  <a:pt x="8299" y="1"/>
                </a:lnTo>
                <a:lnTo>
                  <a:pt x="8387" y="4"/>
                </a:lnTo>
                <a:lnTo>
                  <a:pt x="8475" y="8"/>
                </a:lnTo>
                <a:lnTo>
                  <a:pt x="8562" y="15"/>
                </a:lnTo>
                <a:lnTo>
                  <a:pt x="8650" y="22"/>
                </a:lnTo>
                <a:lnTo>
                  <a:pt x="8737" y="31"/>
                </a:lnTo>
                <a:lnTo>
                  <a:pt x="8824" y="42"/>
                </a:lnTo>
                <a:lnTo>
                  <a:pt x="8912" y="55"/>
                </a:lnTo>
                <a:lnTo>
                  <a:pt x="8998" y="69"/>
                </a:lnTo>
                <a:lnTo>
                  <a:pt x="9084" y="85"/>
                </a:lnTo>
                <a:lnTo>
                  <a:pt x="9170" y="104"/>
                </a:lnTo>
                <a:lnTo>
                  <a:pt x="9255" y="124"/>
                </a:lnTo>
                <a:lnTo>
                  <a:pt x="9339" y="146"/>
                </a:lnTo>
                <a:lnTo>
                  <a:pt x="9422" y="171"/>
                </a:lnTo>
                <a:lnTo>
                  <a:pt x="9505" y="197"/>
                </a:lnTo>
                <a:lnTo>
                  <a:pt x="9587" y="225"/>
                </a:lnTo>
                <a:lnTo>
                  <a:pt x="9668" y="256"/>
                </a:lnTo>
                <a:lnTo>
                  <a:pt x="9748" y="290"/>
                </a:lnTo>
                <a:lnTo>
                  <a:pt x="9827" y="324"/>
                </a:lnTo>
                <a:lnTo>
                  <a:pt x="9904" y="361"/>
                </a:lnTo>
                <a:lnTo>
                  <a:pt x="9981" y="402"/>
                </a:lnTo>
                <a:lnTo>
                  <a:pt x="10056" y="445"/>
                </a:lnTo>
                <a:lnTo>
                  <a:pt x="10130" y="489"/>
                </a:lnTo>
                <a:lnTo>
                  <a:pt x="10202" y="536"/>
                </a:lnTo>
                <a:lnTo>
                  <a:pt x="10272" y="586"/>
                </a:lnTo>
                <a:lnTo>
                  <a:pt x="10341" y="639"/>
                </a:lnTo>
                <a:lnTo>
                  <a:pt x="10409" y="695"/>
                </a:lnTo>
                <a:lnTo>
                  <a:pt x="10490" y="661"/>
                </a:lnTo>
                <a:lnTo>
                  <a:pt x="10572" y="633"/>
                </a:lnTo>
                <a:lnTo>
                  <a:pt x="10655" y="609"/>
                </a:lnTo>
                <a:lnTo>
                  <a:pt x="10739" y="589"/>
                </a:lnTo>
                <a:lnTo>
                  <a:pt x="10824" y="575"/>
                </a:lnTo>
                <a:lnTo>
                  <a:pt x="10910" y="563"/>
                </a:lnTo>
                <a:lnTo>
                  <a:pt x="10996" y="557"/>
                </a:lnTo>
                <a:lnTo>
                  <a:pt x="11083" y="554"/>
                </a:lnTo>
                <a:lnTo>
                  <a:pt x="11170" y="555"/>
                </a:lnTo>
                <a:lnTo>
                  <a:pt x="11256" y="559"/>
                </a:lnTo>
                <a:lnTo>
                  <a:pt x="11343" y="569"/>
                </a:lnTo>
                <a:lnTo>
                  <a:pt x="11429" y="581"/>
                </a:lnTo>
                <a:lnTo>
                  <a:pt x="11515" y="597"/>
                </a:lnTo>
                <a:lnTo>
                  <a:pt x="11600" y="615"/>
                </a:lnTo>
                <a:lnTo>
                  <a:pt x="11686" y="638"/>
                </a:lnTo>
                <a:lnTo>
                  <a:pt x="11770" y="664"/>
                </a:lnTo>
                <a:lnTo>
                  <a:pt x="11853" y="694"/>
                </a:lnTo>
                <a:lnTo>
                  <a:pt x="11936" y="726"/>
                </a:lnTo>
                <a:lnTo>
                  <a:pt x="12016" y="761"/>
                </a:lnTo>
                <a:lnTo>
                  <a:pt x="12096" y="800"/>
                </a:lnTo>
                <a:lnTo>
                  <a:pt x="12174" y="840"/>
                </a:lnTo>
                <a:lnTo>
                  <a:pt x="12251" y="884"/>
                </a:lnTo>
                <a:lnTo>
                  <a:pt x="12325" y="931"/>
                </a:lnTo>
                <a:lnTo>
                  <a:pt x="12398" y="980"/>
                </a:lnTo>
                <a:lnTo>
                  <a:pt x="12469" y="1031"/>
                </a:lnTo>
                <a:lnTo>
                  <a:pt x="12537" y="1085"/>
                </a:lnTo>
                <a:lnTo>
                  <a:pt x="12603" y="1141"/>
                </a:lnTo>
                <a:lnTo>
                  <a:pt x="12667" y="1200"/>
                </a:lnTo>
                <a:lnTo>
                  <a:pt x="12727" y="1261"/>
                </a:lnTo>
                <a:lnTo>
                  <a:pt x="12786" y="1324"/>
                </a:lnTo>
                <a:lnTo>
                  <a:pt x="12841" y="1388"/>
                </a:lnTo>
                <a:lnTo>
                  <a:pt x="12894" y="145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386000" y="5576760"/>
            <a:ext cx="842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89040" y="3381480"/>
            <a:ext cx="772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46200"/>
                <a:tab algn="l" pos="1292400"/>
                <a:tab algn="l" pos="1938240"/>
                <a:tab algn="l" pos="2584440"/>
                <a:tab algn="l" pos="3230640"/>
                <a:tab algn="l" pos="3876840"/>
                <a:tab algn="l" pos="4522680"/>
                <a:tab algn="l" pos="5168880"/>
                <a:tab algn="l" pos="5815080"/>
                <a:tab algn="l" pos="6461280"/>
                <a:tab algn="l" pos="7107120"/>
                <a:tab algn="l" pos="7753320"/>
                <a:tab algn="l" pos="8399520"/>
                <a:tab algn="l" pos="9045720"/>
                <a:tab algn="l" pos="96915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7010280" y="5562720"/>
            <a:ext cx="381240" cy="228600"/>
            <a:chOff x="7010280" y="5562720"/>
            <a:chExt cx="381240" cy="228600"/>
          </a:xfrm>
        </p:grpSpPr>
        <p:sp>
          <p:nvSpPr>
            <p:cNvPr id="1730" name=""/>
            <p:cNvSpPr/>
            <p:nvPr/>
          </p:nvSpPr>
          <p:spPr>
            <a:xfrm>
              <a:off x="7010280" y="5626440"/>
              <a:ext cx="38124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10280" y="5562720"/>
              <a:ext cx="37980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2" name=""/>
            <p:cNvGrpSpPr/>
            <p:nvPr/>
          </p:nvGrpSpPr>
          <p:grpSpPr>
            <a:xfrm>
              <a:off x="7069320" y="5577480"/>
              <a:ext cx="261720" cy="94680"/>
              <a:chOff x="7069320" y="5577480"/>
              <a:chExt cx="261720" cy="94680"/>
            </a:xfrm>
          </p:grpSpPr>
          <p:sp>
            <p:nvSpPr>
              <p:cNvPr id="1733" name=""/>
              <p:cNvSpPr/>
              <p:nvPr/>
            </p:nvSpPr>
            <p:spPr>
              <a:xfrm>
                <a:off x="720504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20504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069320" y="562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069320" y="562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075440" y="557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075440" y="557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200000" y="563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200000" y="563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207560" y="5582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207560" y="5582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071840" y="5627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071840" y="5627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07796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796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202880" y="5632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202880" y="5632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9" name=""/>
          <p:cNvGrpSpPr/>
          <p:nvPr/>
        </p:nvGrpSpPr>
        <p:grpSpPr>
          <a:xfrm>
            <a:off x="1371600" y="5562720"/>
            <a:ext cx="380880" cy="228600"/>
            <a:chOff x="1371600" y="5562720"/>
            <a:chExt cx="380880" cy="228600"/>
          </a:xfrm>
        </p:grpSpPr>
        <p:sp>
          <p:nvSpPr>
            <p:cNvPr id="1750" name=""/>
            <p:cNvSpPr/>
            <p:nvPr/>
          </p:nvSpPr>
          <p:spPr>
            <a:xfrm>
              <a:off x="1371600" y="56264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371600" y="55627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2" name=""/>
            <p:cNvGrpSpPr/>
            <p:nvPr/>
          </p:nvGrpSpPr>
          <p:grpSpPr>
            <a:xfrm>
              <a:off x="1430640" y="5577480"/>
              <a:ext cx="261720" cy="94680"/>
              <a:chOff x="1430640" y="5577480"/>
              <a:chExt cx="261720" cy="94680"/>
            </a:xfrm>
          </p:grpSpPr>
          <p:sp>
            <p:nvSpPr>
              <p:cNvPr id="1753" name=""/>
              <p:cNvSpPr/>
              <p:nvPr/>
            </p:nvSpPr>
            <p:spPr>
              <a:xfrm>
                <a:off x="156636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56636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430640" y="562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430640" y="56253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436760" y="557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436760" y="55774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561320" y="563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561320" y="56304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68880" y="5582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568880" y="55825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433160" y="5627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433160" y="56278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43928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39280" y="55800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564200" y="5632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564200" y="56329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9" name=""/>
          <p:cNvSpPr/>
          <p:nvPr/>
        </p:nvSpPr>
        <p:spPr>
          <a:xfrm>
            <a:off x="3591000" y="5181480"/>
            <a:ext cx="175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形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1447920" y="2895480"/>
            <a:ext cx="380880" cy="228600"/>
            <a:chOff x="1447920" y="2895480"/>
            <a:chExt cx="380880" cy="228600"/>
          </a:xfrm>
        </p:grpSpPr>
        <p:sp>
          <p:nvSpPr>
            <p:cNvPr id="1772" name=""/>
            <p:cNvSpPr/>
            <p:nvPr/>
          </p:nvSpPr>
          <p:spPr>
            <a:xfrm>
              <a:off x="1447920" y="295920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447920" y="289548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1506960" y="2910240"/>
              <a:ext cx="261720" cy="94680"/>
              <a:chOff x="1506960" y="2910240"/>
              <a:chExt cx="261720" cy="94680"/>
            </a:xfrm>
          </p:grpSpPr>
          <p:sp>
            <p:nvSpPr>
              <p:cNvPr id="1775" name=""/>
              <p:cNvSpPr/>
              <p:nvPr/>
            </p:nvSpPr>
            <p:spPr>
              <a:xfrm>
                <a:off x="1642680" y="2912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642680" y="2912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506960" y="29581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506960" y="295812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513080" y="29102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513080" y="291024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637640" y="2963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637640" y="29631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645200" y="29152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645200" y="291528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509480" y="2960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509480" y="296064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515600" y="2912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515600" y="291276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640520" y="2965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640520" y="29656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1" name=""/>
          <p:cNvGrpSpPr/>
          <p:nvPr/>
        </p:nvGrpSpPr>
        <p:grpSpPr>
          <a:xfrm>
            <a:off x="6934320" y="2819520"/>
            <a:ext cx="380880" cy="228600"/>
            <a:chOff x="6934320" y="2819520"/>
            <a:chExt cx="380880" cy="228600"/>
          </a:xfrm>
        </p:grpSpPr>
        <p:sp>
          <p:nvSpPr>
            <p:cNvPr id="1792" name=""/>
            <p:cNvSpPr/>
            <p:nvPr/>
          </p:nvSpPr>
          <p:spPr>
            <a:xfrm>
              <a:off x="6934320" y="2883240"/>
              <a:ext cx="380880" cy="1648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934320" y="2819520"/>
              <a:ext cx="379440" cy="12564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6993360" y="2834280"/>
              <a:ext cx="261720" cy="94680"/>
              <a:chOff x="6993360" y="2834280"/>
              <a:chExt cx="261720" cy="94680"/>
            </a:xfrm>
          </p:grpSpPr>
          <p:sp>
            <p:nvSpPr>
              <p:cNvPr id="1795" name=""/>
              <p:cNvSpPr/>
              <p:nvPr/>
            </p:nvSpPr>
            <p:spPr>
              <a:xfrm>
                <a:off x="712908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12908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93360" y="2882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993360" y="288216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999480" y="2834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999480" y="283428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124040" y="2887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124040" y="28872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131600" y="2839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131600" y="2839320"/>
                <a:ext cx="123480" cy="392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995880" y="2884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995880" y="2884680"/>
                <a:ext cx="124560" cy="417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00200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002000" y="283680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126920" y="2889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126920" y="2889720"/>
                <a:ext cx="124560" cy="392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1" name=""/>
          <p:cNvSpPr/>
          <p:nvPr/>
        </p:nvSpPr>
        <p:spPr>
          <a:xfrm>
            <a:off x="3957840" y="2057400"/>
            <a:ext cx="86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149480" y="2362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点到点的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149480" y="4572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分组交换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2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虚电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电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叫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被叫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间的逻辑连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电路建立的过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叫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TE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本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CE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远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CE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被叫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V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交换虚电路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V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永久虚电路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带宽复用技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虚电路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标识虚电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.12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.2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封装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X.2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工作模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ncapsulation x25 [dte|dc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X.12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25 address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x.121-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映射协议地址及相对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x.12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25 map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protocol-address x.121-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封装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.2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CE,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.2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线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CE,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2" name=""/>
          <p:cNvSpPr/>
          <p:nvPr/>
        </p:nvSpPr>
        <p:spPr>
          <a:xfrm>
            <a:off x="69343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114264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2362320" y="31240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1828800" y="2514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3244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1752480" y="2895480"/>
            <a:ext cx="762120" cy="456840"/>
            <a:chOff x="1752480" y="2895480"/>
            <a:chExt cx="762120" cy="456840"/>
          </a:xfrm>
        </p:grpSpPr>
        <p:sp>
          <p:nvSpPr>
            <p:cNvPr id="3378" name=""/>
            <p:cNvSpPr/>
            <p:nvPr/>
          </p:nvSpPr>
          <p:spPr>
            <a:xfrm>
              <a:off x="1752480" y="30225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1752480" y="28954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0" name=""/>
            <p:cNvGrpSpPr/>
            <p:nvPr/>
          </p:nvGrpSpPr>
          <p:grpSpPr>
            <a:xfrm>
              <a:off x="1870560" y="2925000"/>
              <a:ext cx="523440" cy="190080"/>
              <a:chOff x="1870560" y="2925000"/>
              <a:chExt cx="523440" cy="190080"/>
            </a:xfrm>
          </p:grpSpPr>
          <p:sp>
            <p:nvSpPr>
              <p:cNvPr id="3381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7" name=""/>
          <p:cNvGrpSpPr/>
          <p:nvPr/>
        </p:nvGrpSpPr>
        <p:grpSpPr>
          <a:xfrm>
            <a:off x="6248520" y="2895480"/>
            <a:ext cx="761760" cy="456840"/>
            <a:chOff x="6248520" y="2895480"/>
            <a:chExt cx="761760" cy="456840"/>
          </a:xfrm>
        </p:grpSpPr>
        <p:sp>
          <p:nvSpPr>
            <p:cNvPr id="3398" name=""/>
            <p:cNvSpPr/>
            <p:nvPr/>
          </p:nvSpPr>
          <p:spPr>
            <a:xfrm>
              <a:off x="6248520" y="3022560"/>
              <a:ext cx="76176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248520" y="2895480"/>
              <a:ext cx="75852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6366600" y="2925000"/>
              <a:ext cx="523080" cy="190080"/>
              <a:chOff x="6366600" y="2925000"/>
              <a:chExt cx="523080" cy="190080"/>
            </a:xfrm>
          </p:grpSpPr>
          <p:sp>
            <p:nvSpPr>
              <p:cNvPr id="3401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7" name=""/>
          <p:cNvSpPr/>
          <p:nvPr/>
        </p:nvSpPr>
        <p:spPr>
          <a:xfrm>
            <a:off x="2666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548640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2438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45720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2" name=""/>
          <p:cNvSpPr/>
          <p:nvPr/>
        </p:nvSpPr>
        <p:spPr>
          <a:xfrm>
            <a:off x="6934320" y="31240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762120" y="297180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362320" y="31240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1828800" y="2514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63244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7" name=""/>
          <p:cNvGrpSpPr/>
          <p:nvPr/>
        </p:nvGrpSpPr>
        <p:grpSpPr>
          <a:xfrm>
            <a:off x="1752480" y="2895480"/>
            <a:ext cx="762120" cy="456840"/>
            <a:chOff x="1752480" y="2895480"/>
            <a:chExt cx="762120" cy="456840"/>
          </a:xfrm>
        </p:grpSpPr>
        <p:sp>
          <p:nvSpPr>
            <p:cNvPr id="3428" name=""/>
            <p:cNvSpPr/>
            <p:nvPr/>
          </p:nvSpPr>
          <p:spPr>
            <a:xfrm>
              <a:off x="1752480" y="30225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752480" y="28954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0" name=""/>
            <p:cNvGrpSpPr/>
            <p:nvPr/>
          </p:nvGrpSpPr>
          <p:grpSpPr>
            <a:xfrm>
              <a:off x="1870560" y="2925000"/>
              <a:ext cx="523440" cy="190080"/>
              <a:chOff x="1870560" y="2925000"/>
              <a:chExt cx="523440" cy="190080"/>
            </a:xfrm>
          </p:grpSpPr>
          <p:sp>
            <p:nvSpPr>
              <p:cNvPr id="3431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7" name=""/>
          <p:cNvGrpSpPr/>
          <p:nvPr/>
        </p:nvGrpSpPr>
        <p:grpSpPr>
          <a:xfrm>
            <a:off x="6248520" y="2895480"/>
            <a:ext cx="761760" cy="456840"/>
            <a:chOff x="6248520" y="2895480"/>
            <a:chExt cx="761760" cy="456840"/>
          </a:xfrm>
        </p:grpSpPr>
        <p:sp>
          <p:nvSpPr>
            <p:cNvPr id="3448" name=""/>
            <p:cNvSpPr/>
            <p:nvPr/>
          </p:nvSpPr>
          <p:spPr>
            <a:xfrm>
              <a:off x="6248520" y="3022560"/>
              <a:ext cx="76176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248520" y="2895480"/>
              <a:ext cx="75852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0" name=""/>
            <p:cNvGrpSpPr/>
            <p:nvPr/>
          </p:nvGrpSpPr>
          <p:grpSpPr>
            <a:xfrm>
              <a:off x="6366600" y="2925000"/>
              <a:ext cx="523080" cy="190080"/>
              <a:chOff x="6366600" y="2925000"/>
              <a:chExt cx="523080" cy="190080"/>
            </a:xfrm>
          </p:grpSpPr>
          <p:sp>
            <p:nvSpPr>
              <p:cNvPr id="3451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"/>
          <p:cNvSpPr/>
          <p:nvPr/>
        </p:nvSpPr>
        <p:spPr>
          <a:xfrm>
            <a:off x="2666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8640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2438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45720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350532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2" name="" descr=""/>
          <p:cNvPicPr/>
          <p:nvPr/>
        </p:nvPicPr>
        <p:blipFill>
          <a:blip r:embed="rId1"/>
          <a:stretch/>
        </p:blipFill>
        <p:spPr>
          <a:xfrm>
            <a:off x="7543800" y="396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473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474" name=""/>
          <p:cNvSpPr/>
          <p:nvPr/>
        </p:nvSpPr>
        <p:spPr>
          <a:xfrm>
            <a:off x="609480" y="4495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1.1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647712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3.3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2286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1.1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71629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3.3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.2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上配置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R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广播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映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后面加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邻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.2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子接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拟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虚电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点到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点到多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X.2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子接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创建子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封装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.25,Frame-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ame-Re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PSTN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公共电话交换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ublic Switched Telephon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模拟线路上的电路交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速度慢，误码率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联网设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odem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拨号方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原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6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ame-Re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快速分组交换技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简化数据链路层的工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帧编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流量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监视等机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通信线路质量提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户终端智能化提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ame-Re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虚电路连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最大帧长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6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帧，适合封装局域网的数据单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带宽管理和防止拥塞的机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转发速率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4Kbps~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带宽控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LCI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据链路连接标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IR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承诺信息速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c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承诺突发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允许超过突发两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带宽控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IR=128kbps,Bc=128kbit,Be=64kb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突发数据量可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92kb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发生拥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2kbi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全部送到终点用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发生拥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只能传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28kbi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部分的帧被丢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拥塞管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ECN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前向拥塞指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CN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后向拥塞指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E: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抛弃标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L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标识虚电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本地有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电路范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支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2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条虚电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户可用范围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6~1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其它代表特殊功能，如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2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保留给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LM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专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本地管理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建立与维护路由器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交换机的连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维护虚电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虚电路的建立，删除和状态改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支持三种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N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Q933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isco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兼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中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传输速率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动态分配带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支持可变长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适合突发性数据传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中继的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封装帧中继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Encapsulation frame-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M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rame-relay lmi-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映射对端协议地址与本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LC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rame-relay map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protocol protocol-address dlci-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SDN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综合业务数字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ntegrated Services Digita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数字的电话线路，提供全数字化服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户接口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联网设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NT1,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NT1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拨号方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设置为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DCE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设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全局配置模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rame-relay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接口配置模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rame-relay intf-type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d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8" name=""/>
          <p:cNvSpPr/>
          <p:nvPr/>
        </p:nvSpPr>
        <p:spPr>
          <a:xfrm>
            <a:off x="69343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114264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31240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1828800" y="2514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3244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1752480" y="2895480"/>
            <a:ext cx="762120" cy="456840"/>
            <a:chOff x="1752480" y="2895480"/>
            <a:chExt cx="762120" cy="456840"/>
          </a:xfrm>
        </p:grpSpPr>
        <p:sp>
          <p:nvSpPr>
            <p:cNvPr id="3514" name=""/>
            <p:cNvSpPr/>
            <p:nvPr/>
          </p:nvSpPr>
          <p:spPr>
            <a:xfrm>
              <a:off x="1752480" y="30225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752480" y="28954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6" name=""/>
            <p:cNvGrpSpPr/>
            <p:nvPr/>
          </p:nvGrpSpPr>
          <p:grpSpPr>
            <a:xfrm>
              <a:off x="1870560" y="2925000"/>
              <a:ext cx="523440" cy="190080"/>
              <a:chOff x="1870560" y="2925000"/>
              <a:chExt cx="523440" cy="190080"/>
            </a:xfrm>
          </p:grpSpPr>
          <p:sp>
            <p:nvSpPr>
              <p:cNvPr id="3517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3" name=""/>
          <p:cNvGrpSpPr/>
          <p:nvPr/>
        </p:nvGrpSpPr>
        <p:grpSpPr>
          <a:xfrm>
            <a:off x="6248520" y="2895480"/>
            <a:ext cx="761760" cy="456840"/>
            <a:chOff x="6248520" y="2895480"/>
            <a:chExt cx="761760" cy="456840"/>
          </a:xfrm>
        </p:grpSpPr>
        <p:sp>
          <p:nvSpPr>
            <p:cNvPr id="3534" name=""/>
            <p:cNvSpPr/>
            <p:nvPr/>
          </p:nvSpPr>
          <p:spPr>
            <a:xfrm>
              <a:off x="6248520" y="3022560"/>
              <a:ext cx="76176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248520" y="2895480"/>
              <a:ext cx="75852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6" name=""/>
            <p:cNvGrpSpPr/>
            <p:nvPr/>
          </p:nvGrpSpPr>
          <p:grpSpPr>
            <a:xfrm>
              <a:off x="6366600" y="2925000"/>
              <a:ext cx="523080" cy="190080"/>
              <a:chOff x="6366600" y="2925000"/>
              <a:chExt cx="523080" cy="190080"/>
            </a:xfrm>
          </p:grpSpPr>
          <p:sp>
            <p:nvSpPr>
              <p:cNvPr id="3537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3" name=""/>
          <p:cNvSpPr/>
          <p:nvPr/>
        </p:nvSpPr>
        <p:spPr>
          <a:xfrm>
            <a:off x="2666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548640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2438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45720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8" name=""/>
          <p:cNvSpPr/>
          <p:nvPr/>
        </p:nvSpPr>
        <p:spPr>
          <a:xfrm>
            <a:off x="6934320" y="31240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 flipH="1">
            <a:off x="762120" y="297180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2362320" y="31240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1828800" y="2514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63244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3" name=""/>
          <p:cNvGrpSpPr/>
          <p:nvPr/>
        </p:nvGrpSpPr>
        <p:grpSpPr>
          <a:xfrm>
            <a:off x="1752480" y="2895480"/>
            <a:ext cx="762120" cy="456840"/>
            <a:chOff x="1752480" y="2895480"/>
            <a:chExt cx="762120" cy="456840"/>
          </a:xfrm>
        </p:grpSpPr>
        <p:sp>
          <p:nvSpPr>
            <p:cNvPr id="3564" name=""/>
            <p:cNvSpPr/>
            <p:nvPr/>
          </p:nvSpPr>
          <p:spPr>
            <a:xfrm>
              <a:off x="1752480" y="30225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1752480" y="28954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6" name=""/>
            <p:cNvGrpSpPr/>
            <p:nvPr/>
          </p:nvGrpSpPr>
          <p:grpSpPr>
            <a:xfrm>
              <a:off x="1870560" y="2925000"/>
              <a:ext cx="523440" cy="190080"/>
              <a:chOff x="1870560" y="2925000"/>
              <a:chExt cx="523440" cy="190080"/>
            </a:xfrm>
          </p:grpSpPr>
          <p:sp>
            <p:nvSpPr>
              <p:cNvPr id="3567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3" name=""/>
          <p:cNvGrpSpPr/>
          <p:nvPr/>
        </p:nvGrpSpPr>
        <p:grpSpPr>
          <a:xfrm>
            <a:off x="6248520" y="2895480"/>
            <a:ext cx="761760" cy="456840"/>
            <a:chOff x="6248520" y="2895480"/>
            <a:chExt cx="761760" cy="456840"/>
          </a:xfrm>
        </p:grpSpPr>
        <p:sp>
          <p:nvSpPr>
            <p:cNvPr id="3584" name=""/>
            <p:cNvSpPr/>
            <p:nvPr/>
          </p:nvSpPr>
          <p:spPr>
            <a:xfrm>
              <a:off x="6248520" y="3022560"/>
              <a:ext cx="76176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248520" y="2895480"/>
              <a:ext cx="75852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6" name=""/>
            <p:cNvGrpSpPr/>
            <p:nvPr/>
          </p:nvGrpSpPr>
          <p:grpSpPr>
            <a:xfrm>
              <a:off x="6366600" y="2925000"/>
              <a:ext cx="523080" cy="190080"/>
              <a:chOff x="6366600" y="2925000"/>
              <a:chExt cx="523080" cy="190080"/>
            </a:xfrm>
          </p:grpSpPr>
          <p:sp>
            <p:nvSpPr>
              <p:cNvPr id="3587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3" name=""/>
          <p:cNvSpPr/>
          <p:nvPr/>
        </p:nvSpPr>
        <p:spPr>
          <a:xfrm>
            <a:off x="2666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548640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2438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45720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50532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8" name="" descr=""/>
          <p:cNvPicPr/>
          <p:nvPr/>
        </p:nvPicPr>
        <p:blipFill>
          <a:blip r:embed="rId1"/>
          <a:stretch/>
        </p:blipFill>
        <p:spPr>
          <a:xfrm>
            <a:off x="7543800" y="396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09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610" name=""/>
          <p:cNvSpPr/>
          <p:nvPr/>
        </p:nvSpPr>
        <p:spPr>
          <a:xfrm>
            <a:off x="609480" y="4495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1.1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647712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3.3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2286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1.1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71629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3.3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5" name=""/>
          <p:cNvSpPr/>
          <p:nvPr/>
        </p:nvSpPr>
        <p:spPr>
          <a:xfrm>
            <a:off x="6934320" y="31240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62120" y="297180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2362320" y="31240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1828800" y="2514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63244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0" name=""/>
          <p:cNvGrpSpPr/>
          <p:nvPr/>
        </p:nvGrpSpPr>
        <p:grpSpPr>
          <a:xfrm>
            <a:off x="1752480" y="2895480"/>
            <a:ext cx="762120" cy="456840"/>
            <a:chOff x="1752480" y="2895480"/>
            <a:chExt cx="762120" cy="456840"/>
          </a:xfrm>
        </p:grpSpPr>
        <p:sp>
          <p:nvSpPr>
            <p:cNvPr id="3621" name=""/>
            <p:cNvSpPr/>
            <p:nvPr/>
          </p:nvSpPr>
          <p:spPr>
            <a:xfrm>
              <a:off x="1752480" y="3022560"/>
              <a:ext cx="76212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752480" y="2895480"/>
              <a:ext cx="75888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3" name=""/>
            <p:cNvGrpSpPr/>
            <p:nvPr/>
          </p:nvGrpSpPr>
          <p:grpSpPr>
            <a:xfrm>
              <a:off x="1870560" y="2925000"/>
              <a:ext cx="523440" cy="190080"/>
              <a:chOff x="1870560" y="2925000"/>
              <a:chExt cx="523440" cy="190080"/>
            </a:xfrm>
          </p:grpSpPr>
          <p:sp>
            <p:nvSpPr>
              <p:cNvPr id="3624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14164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187056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188316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13228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14704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187560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1888200" y="2930040"/>
                <a:ext cx="24912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13732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0" name=""/>
          <p:cNvGrpSpPr/>
          <p:nvPr/>
        </p:nvGrpSpPr>
        <p:grpSpPr>
          <a:xfrm>
            <a:off x="6248520" y="2895480"/>
            <a:ext cx="761760" cy="456840"/>
            <a:chOff x="6248520" y="2895480"/>
            <a:chExt cx="761760" cy="456840"/>
          </a:xfrm>
        </p:grpSpPr>
        <p:sp>
          <p:nvSpPr>
            <p:cNvPr id="3641" name=""/>
            <p:cNvSpPr/>
            <p:nvPr/>
          </p:nvSpPr>
          <p:spPr>
            <a:xfrm>
              <a:off x="6248520" y="3022560"/>
              <a:ext cx="761760" cy="32976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248520" y="2895480"/>
              <a:ext cx="758520" cy="2509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6366600" y="2925000"/>
              <a:ext cx="523080" cy="190080"/>
              <a:chOff x="6366600" y="2925000"/>
              <a:chExt cx="523080" cy="190080"/>
            </a:xfrm>
          </p:grpSpPr>
          <p:sp>
            <p:nvSpPr>
              <p:cNvPr id="3644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63768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366600" y="302112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6379200" y="29250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627960" y="303120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642720" y="2935080"/>
                <a:ext cx="246960" cy="7884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371640" y="3026160"/>
                <a:ext cx="248760" cy="838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384240" y="29300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633360" y="3036240"/>
                <a:ext cx="248760" cy="7884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0" name=""/>
          <p:cNvSpPr/>
          <p:nvPr/>
        </p:nvSpPr>
        <p:spPr>
          <a:xfrm>
            <a:off x="2666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548640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438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45720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2.2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50532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5" name="" descr=""/>
          <p:cNvPicPr/>
          <p:nvPr/>
        </p:nvPicPr>
        <p:blipFill>
          <a:blip r:embed="rId1"/>
          <a:stretch/>
        </p:blipFill>
        <p:spPr>
          <a:xfrm>
            <a:off x="7543800" y="396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66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667" name=""/>
          <p:cNvSpPr/>
          <p:nvPr/>
        </p:nvSpPr>
        <p:spPr>
          <a:xfrm>
            <a:off x="609480" y="4495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1.1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647712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3.3.2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286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1.1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71629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3.3.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Frame-Relay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上配置路由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水平分割与帧中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回顾水平分割原理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决的办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具备多个物理接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关掉水平分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水平分割与帧中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回顾水平分割原理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决的办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具备多个物理接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关掉水平分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划分子接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划分子接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决水平分割的问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个物理接口划分成多个逻辑子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NB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on-Broadcast Muti-Acces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非广播多点访问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划分子接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nterface Ser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serial interface number.subinterfa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SD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两种信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信道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4Kbp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信道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4Kbp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户接口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RI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B+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R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0B+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048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为一个主接口配置子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虚电路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LC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verse A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反地址解析协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获得虚电路连接的对端设备的协议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需要手动配置地址映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删除已配置完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映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方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查看动态映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how frame-relay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SDN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接口类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Rate Interfa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包括两个能独立工作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道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4Kb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道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Kb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道一般用来传输话音、数据和图像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道用来传输信令或分组信息（现尚未开放业务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式的用户设备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TI Plu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实现联网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Rate Interfa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皆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Kb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字信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式的用户设备则通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S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（利用市话双绞线）或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及光端机（利用光纤）实现网络接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4:21:28Z</dcterms:created>
  <dc:creator>ccn</dc:creator>
  <dc:description/>
  <dc:language>en-US</dc:language>
  <cp:lastModifiedBy>软件仓库</cp:lastModifiedBy>
  <dcterms:modified xsi:type="dcterms:W3CDTF">2005-05-17T02:44:25Z</dcterms:modified>
  <cp:revision>54</cp:revision>
  <dc:subject/>
  <dc:title>广域网</dc:title>
</cp:coreProperties>
</file>