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7047-4A2D-48D1-8BB8-4B00CE02BB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国际标准化组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EE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电子电器工程师协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ANS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美国国家标准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IA/TI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电子工业协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TU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国际电信联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AB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行动委员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ETF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工程任务协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ietf.or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纯文本网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witch v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太网的地位及发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BC6-2F79-43CF-BE0B-3507C6F5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2C8-DE60-4F3A-8ADD-5DA9EBB1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FBC-DBE1-462C-A9B2-8EEC57E4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9C1-47EE-4149-B1A9-8E420163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427B-DDC1-4580-83E1-435F8422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33F5-4525-42B3-BAE9-A25B3A32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29AA-E119-4E6E-B760-C4733E04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494E-D427-4B29-BC6F-5BDB6442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BA7D-A5D5-4958-9204-CDEF051C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6906-1BB9-4D65-B2F2-3B6EE21B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C68E-C3E0-4173-AE3A-A1CB8F13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3C1-7F73-4B88-860F-AC69AB08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62D5-E61F-4927-AAD5-EC9372D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8394-FB66-492B-80FC-B460F9BF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C20C-6541-44C8-9935-7ABC62BF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FA82-4D86-463E-AA59-8D060526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CE5C-478F-4B89-99B1-C1010FAD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07B-25CC-4D1B-A3DB-BA0FAA40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4AC-A234-4B56-ADB3-F52AF34A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36B-59C8-450A-9176-70EAF979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882-8CA0-4CA7-B971-EA0AD915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8F3-D72E-4153-9682-83FA6EC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821-98E5-4F39-A9CD-9B243A16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826-764F-4E15-9690-E9519A99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73E-B6D4-4FBF-A3F4-E253AF277B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BD62-82AB-4D2C-A05E-18A5B0ECC9E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络基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国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证实验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标准化组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SO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nternational Standards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EE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电子电器工程师协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ANS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merican National Standards Instit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EIA/TIA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电子工业协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TU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nternational Telecommunications Un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AB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nternet Architecture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ET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nternet Engineering Task 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OSI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参考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OSI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参考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历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层的目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工作过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OSI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pplicatio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应用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esentatio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表示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essio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会话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传输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Network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网络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ata Link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链路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hysical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物理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OSI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L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物理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电压水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传输速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最大传输距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物理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设备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集线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数据链路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物理地址定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差错验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物理介质访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设备：网卡，交换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EEE 8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L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416400" y="3530520"/>
            <a:ext cx="5110200" cy="977760"/>
            <a:chOff x="3416400" y="3530520"/>
            <a:chExt cx="5110200" cy="977760"/>
          </a:xfrm>
        </p:grpSpPr>
        <p:sp>
          <p:nvSpPr>
            <p:cNvPr id="154" name=""/>
            <p:cNvSpPr/>
            <p:nvPr/>
          </p:nvSpPr>
          <p:spPr>
            <a:xfrm>
              <a:off x="4254480" y="3530520"/>
              <a:ext cx="411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ogical Link 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55560" y="3987720"/>
              <a:ext cx="427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dia Access 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16400" y="4038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797280" y="3809880"/>
              <a:ext cx="396360" cy="451080"/>
              <a:chOff x="3797280" y="3809880"/>
              <a:chExt cx="396360" cy="451080"/>
            </a:xfrm>
          </p:grpSpPr>
          <p:sp>
            <p:nvSpPr>
              <p:cNvPr id="158" name=""/>
              <p:cNvSpPr/>
              <p:nvPr/>
            </p:nvSpPr>
            <p:spPr>
              <a:xfrm>
                <a:off x="3811320" y="3809880"/>
                <a:ext cx="0" cy="45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97280" y="3809880"/>
                <a:ext cx="3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97280" y="4260960"/>
                <a:ext cx="3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络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将数据发送到目的网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寻址和路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网络协议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PX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设备：路由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传输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建立端到端的连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保证数据正确传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提供可靠的传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流量控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概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线是否属于物理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ode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网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卫星，无线网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s  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s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以太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局域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太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令牌环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太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太网简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访问机制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什么是以太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种共享介质技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访问机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什么样的方式访问网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SMA/CD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arrier-Sense Multiple Access with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带冲突检测的载波侦听和多路访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工作过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访问机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任何时刻，只能有一台主机在共享介质上发送数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寻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MAC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物理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硬件设备的唯一标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被固化在网络接口卡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MAC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十六进制的数组成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byte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ender code+Serial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00-E0-FC-XX-XX-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00-E0-FC-02-37-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局域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LA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Local Area Network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广域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WA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Wide Area Network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寻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帧形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00-E0-FC-12-34-5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FF-FF-FF-FF-FF-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ff3300"/>
                </a:solidFill>
                <a:latin typeface="Courier New"/>
              </a:rPr>
              <a:t>01-00-5E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-XX-XX-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帧格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帧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4 byte ~ 1518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EEE 80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局域网标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02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02.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02.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以太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02.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令牌总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02.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令牌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02.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标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6564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标准以太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Base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Ba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快速以太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0Base-T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0Base-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兆以太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00Base-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Courier New"/>
              </a:rPr>
              <a:t>总结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域有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传输速率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传输可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拓扑结构灵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局域网中常用的设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57760" y="3011400"/>
            <a:ext cx="1905120" cy="658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14360" y="3166920"/>
            <a:ext cx="646200" cy="50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1500120" cy="469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6520" y="37767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04800" y="377676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/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80840" y="37767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域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LAN –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拓扑结构不灵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广域网中常用的设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90680" y="2895480"/>
            <a:ext cx="1666800" cy="527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77000" y="2340000"/>
            <a:ext cx="720720" cy="1082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710320" y="2211480"/>
            <a:ext cx="1031760" cy="1211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459320" y="2254320"/>
            <a:ext cx="984240" cy="1168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839880" y="2913120"/>
            <a:ext cx="87624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20" y="34225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m/CSU/D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5960" y="342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94320" y="342252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28160" y="34225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81840" y="38797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络拓扑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络拓扑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总线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星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树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环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状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4:24:22Z</dcterms:created>
  <dc:creator>ccn</dc:creator>
  <dc:description/>
  <dc:language>en-US</dc:language>
  <cp:lastModifiedBy>软件仓库</cp:lastModifiedBy>
  <dcterms:modified xsi:type="dcterms:W3CDTF">2005-05-17T02:30:18Z</dcterms:modified>
  <cp:revision>60</cp:revision>
  <dc:subject/>
  <dc:title>构建中小企业网</dc:title>
</cp:coreProperties>
</file>