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492-ED77-4E2C-A84C-4B3BD8F8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B0A-A8E6-4A28-BF8F-96FC8C5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5DD-B57B-4124-9E1A-0639A27A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DD3-05DC-44C1-A3D6-6DBCE7B4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3590-0871-4A81-9980-A1A97ED6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0E0-AC37-493F-8B63-A76DD74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BE1-F2C3-4F69-96C5-01816BB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846-176D-4FF8-A8C8-73E51D06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769-0C2C-4D34-9045-BDA92B6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1B9-E15E-45D4-8802-DA5C578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D0AE-6044-4638-ACCE-AB489FA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6FC-23F3-4992-9EE9-6BB4842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D592-0962-4AF7-A658-C24F18F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B701-FA72-4CE3-946F-4F5E477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A3DD-3563-4D17-A639-C9F29AA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D32E-0BA8-49BD-B8CD-49C7E9BA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B32-65E0-42A6-9023-537ABA21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60B-2B5B-4A35-82BF-D19351AA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DD3-7002-49A4-B8AA-7CA8CD13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620-B79F-489F-861F-F61C0C9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361-51AC-40D5-A7A1-3959504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DAB-3999-43EC-BDDC-3D9391C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209-4F91-4BCB-8510-8A4A2AC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27F-7E3F-474C-81F0-9799603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755-D079-45B9-B25B-EF97B60013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4AA8-DC04-4584-9BF5-BDC4EEBA2B3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访问控制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使用通配符比较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配符比较规定：在通配位中相应位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地址位在比较中被忽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.255.255.25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只比较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.0.0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则比较所有的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55.255.255.25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则不比较任何一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又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址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9.102.1.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通配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.0.255.25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则表示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9.102.0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段内的主机被允许或拒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扩展访问控制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除源地址外更多的信息描述数据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目标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目标端口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扩展访问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同协议的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CP/UD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cess-list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list-numb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ermit|deny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tcp|udp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source-addr source-mask dest-addr dest-mask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ort-numb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cess-list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list-numb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ermit|deny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cmp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source-addr source-mask dest-addr dest-mask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cmp-type icmp-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它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ACL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操作符的含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2362320"/>
          <a:ext cx="822960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多条规则的组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条访问控制列表可以由多条规则组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多条规则可以使用相同的序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冲突规则的判断的依据是“深度优先”，就是描述地址范围越小的，将优先考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cess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deny 202.38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.0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cess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ermit 202.38.16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.0.0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则表示不允许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2.38.0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里的主机访问，但是允许其中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2.38.160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里的主机访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使访问列表生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将访问控制列表应用到接口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指明在接口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向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向生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启动防火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irewall enable|di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irewall default{permit|deny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在路由器的串口上做，不要管主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组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另一组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C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方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通你，可以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通你，不可以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时间段包过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殊时间段内应用特殊的规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imerange {enable|disabl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ettr begin-time end-time[begin-time end-time…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转换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N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twork address tran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转换的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公共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私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为什么要进行访问控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拒绝某些不希望的访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合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81080" y="4038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53080" y="38098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典型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124080"/>
            <a:ext cx="3733920" cy="152424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72428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3200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3.196.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34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2.18.245.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133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36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7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6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2514600"/>
            <a:ext cx="990720" cy="3048120"/>
            <a:chOff x="380880" y="2514600"/>
            <a:chExt cx="990720" cy="3048120"/>
          </a:xfrm>
        </p:grpSpPr>
        <p:sp>
          <p:nvSpPr>
            <p:cNvPr id="336" name=""/>
            <p:cNvSpPr/>
            <p:nvPr/>
          </p:nvSpPr>
          <p:spPr>
            <a:xfrm flipH="1">
              <a:off x="99072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990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9144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57200" y="3733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380880" y="251460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371600" y="26668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752480" y="3886200"/>
            <a:ext cx="381240" cy="228600"/>
            <a:chOff x="1752480" y="3886200"/>
            <a:chExt cx="381240" cy="228600"/>
          </a:xfrm>
        </p:grpSpPr>
        <p:sp>
          <p:nvSpPr>
            <p:cNvPr id="344" name=""/>
            <p:cNvSpPr/>
            <p:nvPr/>
          </p:nvSpPr>
          <p:spPr>
            <a:xfrm>
              <a:off x="1752480" y="39499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2480" y="38862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11520" y="3900960"/>
              <a:ext cx="261720" cy="94680"/>
              <a:chOff x="1811520" y="3900960"/>
              <a:chExt cx="261720" cy="9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194724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4724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11520" y="3948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11520" y="3948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17640" y="3900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17640" y="3900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42200" y="3953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42200" y="3953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49760" y="3906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49760" y="3906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14040" y="3951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14040" y="3951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2016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2016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45080" y="3956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45080" y="3956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2286000" y="3962520"/>
            <a:ext cx="304920" cy="137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7543800" y="4876920"/>
            <a:ext cx="304920" cy="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 flipV="1">
            <a:off x="5486400" y="2133720"/>
            <a:ext cx="22096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4038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38098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典型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752480" y="3886200"/>
            <a:ext cx="381240" cy="228600"/>
            <a:chOff x="1752480" y="3886200"/>
            <a:chExt cx="381240" cy="228600"/>
          </a:xfrm>
        </p:grpSpPr>
        <p:sp>
          <p:nvSpPr>
            <p:cNvPr id="371" name=""/>
            <p:cNvSpPr/>
            <p:nvPr/>
          </p:nvSpPr>
          <p:spPr>
            <a:xfrm>
              <a:off x="1752480" y="39499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52480" y="38862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811520" y="3900960"/>
              <a:ext cx="261720" cy="94680"/>
              <a:chOff x="1811520" y="3900960"/>
              <a:chExt cx="261720" cy="9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194724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4724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11520" y="3948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11520" y="3948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17640" y="3900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17640" y="3900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42200" y="3953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42200" y="3953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49760" y="3906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49760" y="3906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14040" y="3951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814040" y="3951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2016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20160" y="3903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45080" y="3956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45080" y="3956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3429000" y="3124080"/>
            <a:ext cx="3733920" cy="152424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2428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3200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3.196.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34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2.18.245.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36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7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6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304920" cy="13788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380880" y="2514600"/>
            <a:ext cx="990720" cy="3048120"/>
            <a:chOff x="380880" y="2514600"/>
            <a:chExt cx="990720" cy="3048120"/>
          </a:xfrm>
        </p:grpSpPr>
        <p:sp>
          <p:nvSpPr>
            <p:cNvPr id="400" name=""/>
            <p:cNvSpPr/>
            <p:nvPr/>
          </p:nvSpPr>
          <p:spPr>
            <a:xfrm flipH="1">
              <a:off x="99072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990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9144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3"/>
            <a:stretch/>
          </p:blipFill>
          <p:spPr>
            <a:xfrm>
              <a:off x="457200" y="3733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4"/>
            <a:stretch/>
          </p:blipFill>
          <p:spPr>
            <a:xfrm>
              <a:off x="457200" y="49528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5"/>
            <a:stretch/>
          </p:blipFill>
          <p:spPr>
            <a:xfrm>
              <a:off x="380880" y="251460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371600" y="26668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781680" y="2438280"/>
            <a:ext cx="381240" cy="228600"/>
            <a:chOff x="6781680" y="2438280"/>
            <a:chExt cx="381240" cy="228600"/>
          </a:xfrm>
        </p:grpSpPr>
        <p:sp>
          <p:nvSpPr>
            <p:cNvPr id="408" name=""/>
            <p:cNvSpPr/>
            <p:nvPr/>
          </p:nvSpPr>
          <p:spPr>
            <a:xfrm>
              <a:off x="6781680" y="25020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81680" y="24382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840720" y="2453040"/>
              <a:ext cx="261720" cy="94680"/>
              <a:chOff x="6840720" y="2453040"/>
              <a:chExt cx="261720" cy="94680"/>
            </a:xfrm>
          </p:grpSpPr>
          <p:sp>
            <p:nvSpPr>
              <p:cNvPr id="411" name=""/>
              <p:cNvSpPr/>
              <p:nvPr/>
            </p:nvSpPr>
            <p:spPr>
              <a:xfrm>
                <a:off x="6976440" y="2455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76440" y="2455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40720" y="25009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40720" y="25009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46840" y="24530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46840" y="24530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71400" y="2505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71400" y="2505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78960" y="24580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78960" y="24580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43240" y="25034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43240" y="25034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849360" y="2455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49360" y="2455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974280" y="250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974280" y="250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6324480" y="2743200"/>
            <a:ext cx="304920" cy="13824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7391520" y="1905120"/>
            <a:ext cx="1066320" cy="457200"/>
            <a:chOff x="7391520" y="1905120"/>
            <a:chExt cx="1066320" cy="457200"/>
          </a:xfrm>
        </p:grpSpPr>
        <p:sp>
          <p:nvSpPr>
            <p:cNvPr id="429" name=""/>
            <p:cNvSpPr/>
            <p:nvPr/>
          </p:nvSpPr>
          <p:spPr>
            <a:xfrm>
              <a:off x="7401600" y="1905120"/>
              <a:ext cx="1031760" cy="457200"/>
            </a:xfrm>
            <a:custGeom>
              <a:avLst/>
              <a:gdLst/>
              <a:ahLst/>
              <a:rect l="l" t="t" r="r" b="b"/>
              <a:pathLst>
                <a:path w="2305" h="1492">
                  <a:moveTo>
                    <a:pt x="366" y="354"/>
                  </a:moveTo>
                  <a:lnTo>
                    <a:pt x="384" y="313"/>
                  </a:lnTo>
                  <a:lnTo>
                    <a:pt x="414" y="271"/>
                  </a:lnTo>
                  <a:lnTo>
                    <a:pt x="457" y="237"/>
                  </a:lnTo>
                  <a:lnTo>
                    <a:pt x="517" y="209"/>
                  </a:lnTo>
                  <a:lnTo>
                    <a:pt x="563" y="194"/>
                  </a:lnTo>
                  <a:lnTo>
                    <a:pt x="622" y="180"/>
                  </a:lnTo>
                  <a:lnTo>
                    <a:pt x="711" y="173"/>
                  </a:lnTo>
                  <a:lnTo>
                    <a:pt x="797" y="180"/>
                  </a:lnTo>
                  <a:lnTo>
                    <a:pt x="878" y="197"/>
                  </a:lnTo>
                  <a:lnTo>
                    <a:pt x="937" y="218"/>
                  </a:lnTo>
                  <a:lnTo>
                    <a:pt x="972" y="149"/>
                  </a:lnTo>
                  <a:lnTo>
                    <a:pt x="1018" y="97"/>
                  </a:lnTo>
                  <a:lnTo>
                    <a:pt x="1077" y="54"/>
                  </a:lnTo>
                  <a:lnTo>
                    <a:pt x="1158" y="26"/>
                  </a:lnTo>
                  <a:lnTo>
                    <a:pt x="1256" y="2"/>
                  </a:lnTo>
                  <a:lnTo>
                    <a:pt x="1352" y="0"/>
                  </a:lnTo>
                  <a:lnTo>
                    <a:pt x="1439" y="11"/>
                  </a:lnTo>
                  <a:lnTo>
                    <a:pt x="1536" y="38"/>
                  </a:lnTo>
                  <a:lnTo>
                    <a:pt x="1608" y="85"/>
                  </a:lnTo>
                  <a:lnTo>
                    <a:pt x="1662" y="130"/>
                  </a:lnTo>
                  <a:lnTo>
                    <a:pt x="1694" y="175"/>
                  </a:lnTo>
                  <a:lnTo>
                    <a:pt x="1703" y="233"/>
                  </a:lnTo>
                  <a:lnTo>
                    <a:pt x="1770" y="214"/>
                  </a:lnTo>
                  <a:lnTo>
                    <a:pt x="1851" y="221"/>
                  </a:lnTo>
                  <a:lnTo>
                    <a:pt x="1915" y="237"/>
                  </a:lnTo>
                  <a:lnTo>
                    <a:pt x="1973" y="278"/>
                  </a:lnTo>
                  <a:lnTo>
                    <a:pt x="2015" y="330"/>
                  </a:lnTo>
                  <a:lnTo>
                    <a:pt x="2032" y="388"/>
                  </a:lnTo>
                  <a:lnTo>
                    <a:pt x="2029" y="429"/>
                  </a:lnTo>
                  <a:lnTo>
                    <a:pt x="2067" y="426"/>
                  </a:lnTo>
                  <a:lnTo>
                    <a:pt x="2115" y="436"/>
                  </a:lnTo>
                  <a:lnTo>
                    <a:pt x="2163" y="455"/>
                  </a:lnTo>
                  <a:lnTo>
                    <a:pt x="2201" y="479"/>
                  </a:lnTo>
                  <a:lnTo>
                    <a:pt x="2225" y="498"/>
                  </a:lnTo>
                  <a:lnTo>
                    <a:pt x="2250" y="524"/>
                  </a:lnTo>
                  <a:lnTo>
                    <a:pt x="2274" y="557"/>
                  </a:lnTo>
                  <a:lnTo>
                    <a:pt x="2288" y="598"/>
                  </a:lnTo>
                  <a:lnTo>
                    <a:pt x="2290" y="626"/>
                  </a:lnTo>
                  <a:lnTo>
                    <a:pt x="2282" y="659"/>
                  </a:lnTo>
                  <a:lnTo>
                    <a:pt x="2265" y="700"/>
                  </a:lnTo>
                  <a:lnTo>
                    <a:pt x="2288" y="740"/>
                  </a:lnTo>
                  <a:lnTo>
                    <a:pt x="2295" y="778"/>
                  </a:lnTo>
                  <a:lnTo>
                    <a:pt x="2300" y="819"/>
                  </a:lnTo>
                  <a:lnTo>
                    <a:pt x="2290" y="871"/>
                  </a:lnTo>
                  <a:lnTo>
                    <a:pt x="2282" y="900"/>
                  </a:lnTo>
                  <a:lnTo>
                    <a:pt x="2255" y="935"/>
                  </a:lnTo>
                  <a:lnTo>
                    <a:pt x="2290" y="988"/>
                  </a:lnTo>
                  <a:lnTo>
                    <a:pt x="2300" y="1018"/>
                  </a:lnTo>
                  <a:lnTo>
                    <a:pt x="2304" y="1066"/>
                  </a:lnTo>
                  <a:lnTo>
                    <a:pt x="2295" y="1111"/>
                  </a:lnTo>
                  <a:lnTo>
                    <a:pt x="2277" y="1162"/>
                  </a:lnTo>
                  <a:lnTo>
                    <a:pt x="2250" y="1198"/>
                  </a:lnTo>
                  <a:lnTo>
                    <a:pt x="2209" y="1234"/>
                  </a:lnTo>
                  <a:lnTo>
                    <a:pt x="2140" y="1267"/>
                  </a:lnTo>
                  <a:lnTo>
                    <a:pt x="2067" y="1279"/>
                  </a:lnTo>
                  <a:lnTo>
                    <a:pt x="2002" y="1269"/>
                  </a:lnTo>
                  <a:lnTo>
                    <a:pt x="1959" y="1250"/>
                  </a:lnTo>
                  <a:lnTo>
                    <a:pt x="1929" y="1286"/>
                  </a:lnTo>
                  <a:lnTo>
                    <a:pt x="1896" y="1315"/>
                  </a:lnTo>
                  <a:lnTo>
                    <a:pt x="1870" y="1334"/>
                  </a:lnTo>
                  <a:lnTo>
                    <a:pt x="1816" y="1357"/>
                  </a:lnTo>
                  <a:lnTo>
                    <a:pt x="1770" y="1374"/>
                  </a:lnTo>
                  <a:lnTo>
                    <a:pt x="1703" y="1386"/>
                  </a:lnTo>
                  <a:lnTo>
                    <a:pt x="1635" y="1383"/>
                  </a:lnTo>
                  <a:lnTo>
                    <a:pt x="1571" y="1367"/>
                  </a:lnTo>
                  <a:lnTo>
                    <a:pt x="1512" y="1338"/>
                  </a:lnTo>
                  <a:lnTo>
                    <a:pt x="1477" y="1388"/>
                  </a:lnTo>
                  <a:lnTo>
                    <a:pt x="1444" y="1417"/>
                  </a:lnTo>
                  <a:lnTo>
                    <a:pt x="1404" y="1441"/>
                  </a:lnTo>
                  <a:lnTo>
                    <a:pt x="1355" y="1460"/>
                  </a:lnTo>
                  <a:lnTo>
                    <a:pt x="1301" y="1469"/>
                  </a:lnTo>
                  <a:lnTo>
                    <a:pt x="1252" y="1469"/>
                  </a:lnTo>
                  <a:lnTo>
                    <a:pt x="1204" y="1460"/>
                  </a:lnTo>
                  <a:lnTo>
                    <a:pt x="1145" y="1433"/>
                  </a:lnTo>
                  <a:lnTo>
                    <a:pt x="1110" y="1410"/>
                  </a:lnTo>
                  <a:lnTo>
                    <a:pt x="1077" y="1441"/>
                  </a:lnTo>
                  <a:lnTo>
                    <a:pt x="1045" y="1460"/>
                  </a:lnTo>
                  <a:lnTo>
                    <a:pt x="1002" y="1476"/>
                  </a:lnTo>
                  <a:lnTo>
                    <a:pt x="943" y="1491"/>
                  </a:lnTo>
                  <a:lnTo>
                    <a:pt x="883" y="1486"/>
                  </a:lnTo>
                  <a:lnTo>
                    <a:pt x="819" y="1471"/>
                  </a:lnTo>
                  <a:lnTo>
                    <a:pt x="770" y="1448"/>
                  </a:lnTo>
                  <a:lnTo>
                    <a:pt x="725" y="1407"/>
                  </a:lnTo>
                  <a:lnTo>
                    <a:pt x="697" y="1367"/>
                  </a:lnTo>
                  <a:lnTo>
                    <a:pt x="649" y="1381"/>
                  </a:lnTo>
                  <a:lnTo>
                    <a:pt x="595" y="1391"/>
                  </a:lnTo>
                  <a:lnTo>
                    <a:pt x="530" y="1388"/>
                  </a:lnTo>
                  <a:lnTo>
                    <a:pt x="474" y="1369"/>
                  </a:lnTo>
                  <a:lnTo>
                    <a:pt x="428" y="1343"/>
                  </a:lnTo>
                  <a:lnTo>
                    <a:pt x="393" y="1315"/>
                  </a:lnTo>
                  <a:lnTo>
                    <a:pt x="363" y="1274"/>
                  </a:lnTo>
                  <a:lnTo>
                    <a:pt x="355" y="1234"/>
                  </a:lnTo>
                  <a:lnTo>
                    <a:pt x="325" y="1243"/>
                  </a:lnTo>
                  <a:lnTo>
                    <a:pt x="271" y="1246"/>
                  </a:lnTo>
                  <a:lnTo>
                    <a:pt x="212" y="1234"/>
                  </a:lnTo>
                  <a:lnTo>
                    <a:pt x="153" y="1205"/>
                  </a:lnTo>
                  <a:lnTo>
                    <a:pt x="113" y="1167"/>
                  </a:lnTo>
                  <a:lnTo>
                    <a:pt x="78" y="1118"/>
                  </a:lnTo>
                  <a:lnTo>
                    <a:pt x="59" y="1066"/>
                  </a:lnTo>
                  <a:lnTo>
                    <a:pt x="50" y="995"/>
                  </a:lnTo>
                  <a:lnTo>
                    <a:pt x="53" y="947"/>
                  </a:lnTo>
                  <a:lnTo>
                    <a:pt x="72" y="876"/>
                  </a:lnTo>
                  <a:lnTo>
                    <a:pt x="32" y="835"/>
                  </a:lnTo>
                  <a:lnTo>
                    <a:pt x="10" y="783"/>
                  </a:lnTo>
                  <a:lnTo>
                    <a:pt x="0" y="728"/>
                  </a:lnTo>
                  <a:lnTo>
                    <a:pt x="0" y="669"/>
                  </a:lnTo>
                  <a:lnTo>
                    <a:pt x="13" y="607"/>
                  </a:lnTo>
                  <a:lnTo>
                    <a:pt x="40" y="560"/>
                  </a:lnTo>
                  <a:lnTo>
                    <a:pt x="86" y="510"/>
                  </a:lnTo>
                  <a:lnTo>
                    <a:pt x="134" y="472"/>
                  </a:lnTo>
                  <a:lnTo>
                    <a:pt x="191" y="436"/>
                  </a:lnTo>
                  <a:lnTo>
                    <a:pt x="264" y="412"/>
                  </a:lnTo>
                  <a:lnTo>
                    <a:pt x="330" y="398"/>
                  </a:lnTo>
                  <a:lnTo>
                    <a:pt x="363" y="391"/>
                  </a:lnTo>
                  <a:lnTo>
                    <a:pt x="366" y="354"/>
                  </a:lnTo>
                </a:path>
              </a:pathLst>
            </a:custGeom>
            <a:solidFill>
              <a:srgbClr val="ccffcc"/>
            </a:solidFill>
            <a:ln cap="rnd" w="25560">
              <a:solidFill>
                <a:srgbClr val="ff6600"/>
              </a:solidFill>
              <a:round/>
            </a:ln>
            <a:effectLst>
              <a:outerShdw dist="36147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91520" y="2044440"/>
              <a:ext cx="1066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198960" y="5257800"/>
            <a:ext cx="15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0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2438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7543800" y="4876920"/>
            <a:ext cx="304920" cy="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转换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源主机                 路由器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主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           路由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目标主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        目标主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端口号                 路由器的源端口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目标端口号              目标端口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路由器：地址对应，端口号对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86200" y="3352680"/>
            <a:ext cx="1066680" cy="914400"/>
            <a:chOff x="3886200" y="3352680"/>
            <a:chExt cx="1066680" cy="914400"/>
          </a:xfrm>
        </p:grpSpPr>
        <p:sp>
          <p:nvSpPr>
            <p:cNvPr id="438" name=""/>
            <p:cNvSpPr/>
            <p:nvPr/>
          </p:nvSpPr>
          <p:spPr>
            <a:xfrm>
              <a:off x="3962520" y="3352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86200" y="4267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086600" y="40384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4038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典型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505320" y="3886200"/>
            <a:ext cx="533160" cy="304920"/>
            <a:chOff x="3505320" y="3886200"/>
            <a:chExt cx="533160" cy="304920"/>
          </a:xfrm>
        </p:grpSpPr>
        <p:sp>
          <p:nvSpPr>
            <p:cNvPr id="445" name=""/>
            <p:cNvSpPr/>
            <p:nvPr/>
          </p:nvSpPr>
          <p:spPr>
            <a:xfrm>
              <a:off x="3505320" y="3971160"/>
              <a:ext cx="533160" cy="2199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5320" y="3886200"/>
              <a:ext cx="531000" cy="16740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588120" y="3905640"/>
              <a:ext cx="366120" cy="127080"/>
              <a:chOff x="3588120" y="3905640"/>
              <a:chExt cx="366120" cy="127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777840" y="390888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7840" y="390888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88120" y="3969720"/>
                <a:ext cx="174240" cy="561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88120" y="3969720"/>
                <a:ext cx="174240" cy="561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96760" y="390564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96760" y="390564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1000" y="397656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1000" y="397656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81440" y="3912120"/>
                <a:ext cx="17280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81440" y="3912120"/>
                <a:ext cx="17280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91360" y="3973320"/>
                <a:ext cx="174240" cy="561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91360" y="3973320"/>
                <a:ext cx="174240" cy="561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00360" y="390888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00360" y="390888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74600" y="398016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74600" y="3980160"/>
                <a:ext cx="174240" cy="5256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962520" y="33526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3.196.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133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7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192.168.1.6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457200" cy="20628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380880" y="2514600"/>
            <a:ext cx="990720" cy="3048120"/>
            <a:chOff x="380880" y="2514600"/>
            <a:chExt cx="990720" cy="3048120"/>
          </a:xfrm>
        </p:grpSpPr>
        <p:sp>
          <p:nvSpPr>
            <p:cNvPr id="469" name=""/>
            <p:cNvSpPr/>
            <p:nvPr/>
          </p:nvSpPr>
          <p:spPr>
            <a:xfrm flipH="1">
              <a:off x="99072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90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9144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457200" y="3733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"/>
            <a:stretch/>
          </p:blipFill>
          <p:spPr>
            <a:xfrm>
              <a:off x="380880" y="251460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1371600" y="26668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8077320" y="4648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7467480" y="3429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202.18.245.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3505320"/>
            <a:ext cx="1600200" cy="99036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4191120"/>
            <a:ext cx="2514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源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P 192.168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目标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P 202.18.245.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源端口号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60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目标端口号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267080"/>
            <a:ext cx="2514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源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P 203.196.3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目标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P 202.18.245.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源端口号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328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目标端口号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7696080" y="4572000"/>
            <a:ext cx="45720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访问控制列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ccess-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用在接口上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C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以进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at inside access-list-numb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增加一个内部服务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at server global global-address global-port inside inide-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718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52388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895480"/>
            <a:ext cx="2361960" cy="1660680"/>
          </a:xfrm>
          <a:custGeom>
            <a:avLst/>
            <a:gdLst/>
            <a:ahLst/>
            <a:rect l="l" t="t" r="r" b="b"/>
            <a:pathLst>
              <a:path w="3977" h="1737">
                <a:moveTo>
                  <a:pt x="372" y="452"/>
                </a:moveTo>
                <a:lnTo>
                  <a:pt x="240" y="486"/>
                </a:lnTo>
                <a:lnTo>
                  <a:pt x="134" y="543"/>
                </a:lnTo>
                <a:lnTo>
                  <a:pt x="59" y="618"/>
                </a:lnTo>
                <a:lnTo>
                  <a:pt x="13" y="705"/>
                </a:lnTo>
                <a:lnTo>
                  <a:pt x="0" y="796"/>
                </a:lnTo>
                <a:lnTo>
                  <a:pt x="19" y="892"/>
                </a:lnTo>
                <a:lnTo>
                  <a:pt x="73" y="981"/>
                </a:lnTo>
                <a:lnTo>
                  <a:pt x="164" y="1065"/>
                </a:lnTo>
                <a:lnTo>
                  <a:pt x="119" y="1185"/>
                </a:lnTo>
                <a:lnTo>
                  <a:pt x="119" y="1212"/>
                </a:lnTo>
                <a:lnTo>
                  <a:pt x="119" y="1243"/>
                </a:lnTo>
                <a:lnTo>
                  <a:pt x="136" y="1300"/>
                </a:lnTo>
                <a:lnTo>
                  <a:pt x="205" y="1399"/>
                </a:lnTo>
                <a:lnTo>
                  <a:pt x="315" y="1478"/>
                </a:lnTo>
                <a:lnTo>
                  <a:pt x="453" y="1527"/>
                </a:lnTo>
                <a:lnTo>
                  <a:pt x="608" y="1547"/>
                </a:lnTo>
                <a:lnTo>
                  <a:pt x="767" y="1526"/>
                </a:lnTo>
                <a:lnTo>
                  <a:pt x="921" y="1455"/>
                </a:lnTo>
                <a:lnTo>
                  <a:pt x="1144" y="1563"/>
                </a:lnTo>
                <a:lnTo>
                  <a:pt x="1398" y="1621"/>
                </a:lnTo>
                <a:lnTo>
                  <a:pt x="1528" y="1627"/>
                </a:lnTo>
                <a:lnTo>
                  <a:pt x="1596" y="1627"/>
                </a:lnTo>
                <a:lnTo>
                  <a:pt x="1663" y="1623"/>
                </a:lnTo>
                <a:lnTo>
                  <a:pt x="1923" y="1565"/>
                </a:lnTo>
                <a:lnTo>
                  <a:pt x="2088" y="1645"/>
                </a:lnTo>
                <a:lnTo>
                  <a:pt x="2269" y="1701"/>
                </a:lnTo>
                <a:lnTo>
                  <a:pt x="2457" y="1732"/>
                </a:lnTo>
                <a:lnTo>
                  <a:pt x="2553" y="1737"/>
                </a:lnTo>
                <a:lnTo>
                  <a:pt x="2602" y="1737"/>
                </a:lnTo>
                <a:lnTo>
                  <a:pt x="2652" y="1737"/>
                </a:lnTo>
                <a:lnTo>
                  <a:pt x="2841" y="1717"/>
                </a:lnTo>
                <a:lnTo>
                  <a:pt x="3025" y="1669"/>
                </a:lnTo>
                <a:lnTo>
                  <a:pt x="3197" y="1600"/>
                </a:lnTo>
                <a:lnTo>
                  <a:pt x="3353" y="1505"/>
                </a:lnTo>
                <a:lnTo>
                  <a:pt x="3452" y="1512"/>
                </a:lnTo>
                <a:lnTo>
                  <a:pt x="3498" y="1512"/>
                </a:lnTo>
                <a:lnTo>
                  <a:pt x="3546" y="1509"/>
                </a:lnTo>
                <a:lnTo>
                  <a:pt x="3712" y="1467"/>
                </a:lnTo>
                <a:lnTo>
                  <a:pt x="3841" y="1393"/>
                </a:lnTo>
                <a:lnTo>
                  <a:pt x="3932" y="1289"/>
                </a:lnTo>
                <a:lnTo>
                  <a:pt x="3974" y="1174"/>
                </a:lnTo>
                <a:lnTo>
                  <a:pt x="3977" y="1116"/>
                </a:lnTo>
                <a:lnTo>
                  <a:pt x="3963" y="1053"/>
                </a:lnTo>
                <a:lnTo>
                  <a:pt x="3893" y="938"/>
                </a:lnTo>
                <a:lnTo>
                  <a:pt x="3754" y="838"/>
                </a:lnTo>
                <a:lnTo>
                  <a:pt x="3833" y="773"/>
                </a:lnTo>
                <a:lnTo>
                  <a:pt x="3871" y="699"/>
                </a:lnTo>
                <a:lnTo>
                  <a:pt x="3874" y="663"/>
                </a:lnTo>
                <a:lnTo>
                  <a:pt x="3868" y="624"/>
                </a:lnTo>
                <a:lnTo>
                  <a:pt x="3829" y="552"/>
                </a:lnTo>
                <a:lnTo>
                  <a:pt x="3761" y="495"/>
                </a:lnTo>
                <a:lnTo>
                  <a:pt x="3669" y="453"/>
                </a:lnTo>
                <a:lnTo>
                  <a:pt x="3558" y="438"/>
                </a:lnTo>
                <a:lnTo>
                  <a:pt x="3530" y="438"/>
                </a:lnTo>
                <a:lnTo>
                  <a:pt x="3498" y="441"/>
                </a:lnTo>
                <a:lnTo>
                  <a:pt x="3434" y="455"/>
                </a:lnTo>
                <a:lnTo>
                  <a:pt x="3347" y="389"/>
                </a:lnTo>
                <a:lnTo>
                  <a:pt x="3245" y="332"/>
                </a:lnTo>
                <a:lnTo>
                  <a:pt x="3014" y="257"/>
                </a:lnTo>
                <a:lnTo>
                  <a:pt x="2889" y="242"/>
                </a:lnTo>
                <a:lnTo>
                  <a:pt x="2827" y="239"/>
                </a:lnTo>
                <a:lnTo>
                  <a:pt x="2795" y="239"/>
                </a:lnTo>
                <a:lnTo>
                  <a:pt x="2761" y="238"/>
                </a:lnTo>
                <a:lnTo>
                  <a:pt x="2506" y="278"/>
                </a:lnTo>
                <a:lnTo>
                  <a:pt x="2393" y="157"/>
                </a:lnTo>
                <a:lnTo>
                  <a:pt x="2242" y="70"/>
                </a:lnTo>
                <a:lnTo>
                  <a:pt x="2068" y="18"/>
                </a:lnTo>
                <a:lnTo>
                  <a:pt x="1881" y="0"/>
                </a:lnTo>
                <a:lnTo>
                  <a:pt x="1836" y="0"/>
                </a:lnTo>
                <a:lnTo>
                  <a:pt x="1789" y="2"/>
                </a:lnTo>
                <a:lnTo>
                  <a:pt x="1696" y="15"/>
                </a:lnTo>
                <a:lnTo>
                  <a:pt x="1521" y="69"/>
                </a:lnTo>
                <a:lnTo>
                  <a:pt x="1370" y="154"/>
                </a:lnTo>
                <a:lnTo>
                  <a:pt x="1253" y="278"/>
                </a:lnTo>
                <a:lnTo>
                  <a:pt x="1168" y="198"/>
                </a:lnTo>
                <a:lnTo>
                  <a:pt x="1053" y="151"/>
                </a:lnTo>
                <a:lnTo>
                  <a:pt x="919" y="136"/>
                </a:lnTo>
                <a:lnTo>
                  <a:pt x="885" y="136"/>
                </a:lnTo>
                <a:lnTo>
                  <a:pt x="849" y="138"/>
                </a:lnTo>
                <a:lnTo>
                  <a:pt x="777" y="151"/>
                </a:lnTo>
                <a:lnTo>
                  <a:pt x="644" y="192"/>
                </a:lnTo>
                <a:lnTo>
                  <a:pt x="529" y="259"/>
                </a:lnTo>
                <a:lnTo>
                  <a:pt x="447" y="346"/>
                </a:lnTo>
                <a:lnTo>
                  <a:pt x="405" y="453"/>
                </a:lnTo>
                <a:lnTo>
                  <a:pt x="372" y="452"/>
                </a:lnTo>
                <a:close/>
              </a:path>
            </a:pathLst>
          </a:custGeom>
          <a:solidFill>
            <a:srgbClr val="00ce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1840" y="3700440"/>
            <a:ext cx="152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Courier New"/>
              </a:rPr>
              <a:t>Intern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28080" y="3676680"/>
            <a:ext cx="152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dc"/>
                </a:solidFill>
                <a:latin typeface="Courier New"/>
              </a:rPr>
              <a:t>Intern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2971800"/>
            <a:ext cx="274680" cy="1414440"/>
            <a:chOff x="3276720" y="2971800"/>
            <a:chExt cx="274680" cy="1414440"/>
          </a:xfrm>
        </p:grpSpPr>
        <p:grpSp>
          <p:nvGrpSpPr>
            <p:cNvPr id="109" name=""/>
            <p:cNvGrpSpPr/>
            <p:nvPr/>
          </p:nvGrpSpPr>
          <p:grpSpPr>
            <a:xfrm>
              <a:off x="3276720" y="2971800"/>
              <a:ext cx="274680" cy="1414440"/>
              <a:chOff x="3276720" y="2971800"/>
              <a:chExt cx="274680" cy="1414440"/>
            </a:xfrm>
          </p:grpSpPr>
          <p:sp>
            <p:nvSpPr>
              <p:cNvPr id="110" name=""/>
              <p:cNvSpPr/>
              <p:nvPr/>
            </p:nvSpPr>
            <p:spPr>
              <a:xfrm>
                <a:off x="3410280" y="2971800"/>
                <a:ext cx="141120" cy="1414440"/>
              </a:xfrm>
              <a:custGeom>
                <a:avLst/>
                <a:gdLst/>
                <a:ahLst/>
                <a:rect l="l" t="t" r="r" b="b"/>
                <a:pathLst>
                  <a:path w="89" h="891">
                    <a:moveTo>
                      <a:pt x="0" y="891"/>
                    </a:moveTo>
                    <a:lnTo>
                      <a:pt x="0" y="95"/>
                    </a:lnTo>
                    <a:lnTo>
                      <a:pt x="89" y="0"/>
                    </a:lnTo>
                    <a:lnTo>
                      <a:pt x="89" y="796"/>
                    </a:lnTo>
                    <a:lnTo>
                      <a:pt x="0" y="891"/>
                    </a:lnTo>
                    <a:close/>
                  </a:path>
                </a:pathLst>
              </a:custGeom>
              <a:solidFill>
                <a:srgbClr val="e02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2971800"/>
                <a:ext cx="274680" cy="150480"/>
              </a:xfrm>
              <a:custGeom>
                <a:avLst/>
                <a:gdLst/>
                <a:ahLst/>
                <a:rect l="l" t="t" r="r" b="b"/>
                <a:pathLst>
                  <a:path w="173" h="95">
                    <a:moveTo>
                      <a:pt x="84" y="95"/>
                    </a:moveTo>
                    <a:lnTo>
                      <a:pt x="0" y="95"/>
                    </a:lnTo>
                    <a:lnTo>
                      <a:pt x="89" y="0"/>
                    </a:lnTo>
                    <a:lnTo>
                      <a:pt x="173" y="0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9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276720" y="3122280"/>
              <a:ext cx="133560" cy="126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125880" y="4765680"/>
            <a:ext cx="82440" cy="4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3080" y="5032440"/>
            <a:ext cx="135000" cy="3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0040" y="5011560"/>
            <a:ext cx="11412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14720" y="5008680"/>
            <a:ext cx="104760" cy="1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505320"/>
            <a:ext cx="431640" cy="387360"/>
          </a:xfrm>
          <a:custGeom>
            <a:avLst/>
            <a:gdLst/>
            <a:ahLst/>
            <a:rect l="l" t="t" r="r" b="b"/>
            <a:pathLst>
              <a:path w="544" h="489">
                <a:moveTo>
                  <a:pt x="0" y="245"/>
                </a:moveTo>
                <a:lnTo>
                  <a:pt x="3" y="280"/>
                </a:lnTo>
                <a:lnTo>
                  <a:pt x="11" y="313"/>
                </a:lnTo>
                <a:lnTo>
                  <a:pt x="24" y="346"/>
                </a:lnTo>
                <a:lnTo>
                  <a:pt x="43" y="377"/>
                </a:lnTo>
                <a:lnTo>
                  <a:pt x="66" y="405"/>
                </a:lnTo>
                <a:lnTo>
                  <a:pt x="93" y="430"/>
                </a:lnTo>
                <a:lnTo>
                  <a:pt x="125" y="451"/>
                </a:lnTo>
                <a:lnTo>
                  <a:pt x="158" y="467"/>
                </a:lnTo>
                <a:lnTo>
                  <a:pt x="196" y="479"/>
                </a:lnTo>
                <a:lnTo>
                  <a:pt x="233" y="487"/>
                </a:lnTo>
                <a:lnTo>
                  <a:pt x="272" y="489"/>
                </a:lnTo>
                <a:lnTo>
                  <a:pt x="311" y="487"/>
                </a:lnTo>
                <a:lnTo>
                  <a:pt x="348" y="479"/>
                </a:lnTo>
                <a:lnTo>
                  <a:pt x="385" y="467"/>
                </a:lnTo>
                <a:lnTo>
                  <a:pt x="419" y="451"/>
                </a:lnTo>
                <a:lnTo>
                  <a:pt x="451" y="430"/>
                </a:lnTo>
                <a:lnTo>
                  <a:pt x="478" y="405"/>
                </a:lnTo>
                <a:lnTo>
                  <a:pt x="501" y="377"/>
                </a:lnTo>
                <a:lnTo>
                  <a:pt x="520" y="346"/>
                </a:lnTo>
                <a:lnTo>
                  <a:pt x="533" y="313"/>
                </a:lnTo>
                <a:lnTo>
                  <a:pt x="542" y="280"/>
                </a:lnTo>
                <a:lnTo>
                  <a:pt x="544" y="245"/>
                </a:lnTo>
                <a:lnTo>
                  <a:pt x="542" y="210"/>
                </a:lnTo>
                <a:lnTo>
                  <a:pt x="533" y="176"/>
                </a:lnTo>
                <a:lnTo>
                  <a:pt x="520" y="143"/>
                </a:lnTo>
                <a:lnTo>
                  <a:pt x="501" y="113"/>
                </a:lnTo>
                <a:lnTo>
                  <a:pt x="478" y="84"/>
                </a:lnTo>
                <a:lnTo>
                  <a:pt x="451" y="60"/>
                </a:lnTo>
                <a:lnTo>
                  <a:pt x="419" y="39"/>
                </a:lnTo>
                <a:lnTo>
                  <a:pt x="385" y="22"/>
                </a:lnTo>
                <a:lnTo>
                  <a:pt x="348" y="11"/>
                </a:lnTo>
                <a:lnTo>
                  <a:pt x="311" y="3"/>
                </a:lnTo>
                <a:lnTo>
                  <a:pt x="272" y="0"/>
                </a:lnTo>
                <a:lnTo>
                  <a:pt x="233" y="3"/>
                </a:lnTo>
                <a:lnTo>
                  <a:pt x="196" y="11"/>
                </a:lnTo>
                <a:lnTo>
                  <a:pt x="158" y="22"/>
                </a:lnTo>
                <a:lnTo>
                  <a:pt x="125" y="39"/>
                </a:lnTo>
                <a:lnTo>
                  <a:pt x="93" y="60"/>
                </a:lnTo>
                <a:lnTo>
                  <a:pt x="66" y="84"/>
                </a:lnTo>
                <a:lnTo>
                  <a:pt x="43" y="113"/>
                </a:lnTo>
                <a:lnTo>
                  <a:pt x="24" y="143"/>
                </a:lnTo>
                <a:lnTo>
                  <a:pt x="11" y="176"/>
                </a:lnTo>
                <a:lnTo>
                  <a:pt x="3" y="210"/>
                </a:lnTo>
                <a:lnTo>
                  <a:pt x="0" y="245"/>
                </a:lnTo>
                <a:close/>
                <a:moveTo>
                  <a:pt x="386" y="382"/>
                </a:moveTo>
                <a:lnTo>
                  <a:pt x="359" y="397"/>
                </a:lnTo>
                <a:lnTo>
                  <a:pt x="328" y="408"/>
                </a:lnTo>
                <a:lnTo>
                  <a:pt x="297" y="414"/>
                </a:lnTo>
                <a:lnTo>
                  <a:pt x="265" y="416"/>
                </a:lnTo>
                <a:lnTo>
                  <a:pt x="233" y="412"/>
                </a:lnTo>
                <a:lnTo>
                  <a:pt x="201" y="404"/>
                </a:lnTo>
                <a:lnTo>
                  <a:pt x="173" y="391"/>
                </a:lnTo>
                <a:lnTo>
                  <a:pt x="147" y="373"/>
                </a:lnTo>
                <a:lnTo>
                  <a:pt x="124" y="352"/>
                </a:lnTo>
                <a:lnTo>
                  <a:pt x="106" y="329"/>
                </a:lnTo>
                <a:lnTo>
                  <a:pt x="92" y="302"/>
                </a:lnTo>
                <a:lnTo>
                  <a:pt x="85" y="273"/>
                </a:lnTo>
                <a:lnTo>
                  <a:pt x="82" y="245"/>
                </a:lnTo>
                <a:lnTo>
                  <a:pt x="83" y="218"/>
                </a:lnTo>
                <a:lnTo>
                  <a:pt x="91" y="190"/>
                </a:lnTo>
                <a:lnTo>
                  <a:pt x="103" y="166"/>
                </a:lnTo>
                <a:lnTo>
                  <a:pt x="119" y="143"/>
                </a:lnTo>
                <a:lnTo>
                  <a:pt x="386" y="382"/>
                </a:lnTo>
                <a:close/>
                <a:moveTo>
                  <a:pt x="158" y="108"/>
                </a:moveTo>
                <a:lnTo>
                  <a:pt x="186" y="92"/>
                </a:lnTo>
                <a:lnTo>
                  <a:pt x="216" y="82"/>
                </a:lnTo>
                <a:lnTo>
                  <a:pt x="248" y="75"/>
                </a:lnTo>
                <a:lnTo>
                  <a:pt x="279" y="74"/>
                </a:lnTo>
                <a:lnTo>
                  <a:pt x="311" y="78"/>
                </a:lnTo>
                <a:lnTo>
                  <a:pt x="343" y="86"/>
                </a:lnTo>
                <a:lnTo>
                  <a:pt x="372" y="99"/>
                </a:lnTo>
                <a:lnTo>
                  <a:pt x="397" y="115"/>
                </a:lnTo>
                <a:lnTo>
                  <a:pt x="421" y="137"/>
                </a:lnTo>
                <a:lnTo>
                  <a:pt x="438" y="161"/>
                </a:lnTo>
                <a:lnTo>
                  <a:pt x="452" y="188"/>
                </a:lnTo>
                <a:lnTo>
                  <a:pt x="459" y="216"/>
                </a:lnTo>
                <a:lnTo>
                  <a:pt x="462" y="245"/>
                </a:lnTo>
                <a:lnTo>
                  <a:pt x="461" y="272"/>
                </a:lnTo>
                <a:lnTo>
                  <a:pt x="454" y="299"/>
                </a:lnTo>
                <a:lnTo>
                  <a:pt x="441" y="324"/>
                </a:lnTo>
                <a:lnTo>
                  <a:pt x="425" y="347"/>
                </a:lnTo>
                <a:lnTo>
                  <a:pt x="158" y="1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939960" cy="692280"/>
          </a:xfrm>
          <a:custGeom>
            <a:avLst/>
            <a:gdLst/>
            <a:ahLst/>
            <a:rect l="l" t="t" r="r" b="b"/>
            <a:pathLst>
              <a:path w="1776" h="1306">
                <a:moveTo>
                  <a:pt x="138" y="1138"/>
                </a:moveTo>
                <a:lnTo>
                  <a:pt x="45" y="1101"/>
                </a:lnTo>
                <a:lnTo>
                  <a:pt x="15" y="1064"/>
                </a:lnTo>
                <a:lnTo>
                  <a:pt x="0" y="1016"/>
                </a:lnTo>
                <a:lnTo>
                  <a:pt x="0" y="124"/>
                </a:lnTo>
                <a:lnTo>
                  <a:pt x="44" y="41"/>
                </a:lnTo>
                <a:lnTo>
                  <a:pt x="138" y="0"/>
                </a:lnTo>
                <a:lnTo>
                  <a:pt x="1638" y="0"/>
                </a:lnTo>
                <a:lnTo>
                  <a:pt x="1731" y="39"/>
                </a:lnTo>
                <a:lnTo>
                  <a:pt x="1761" y="77"/>
                </a:lnTo>
                <a:lnTo>
                  <a:pt x="1776" y="124"/>
                </a:lnTo>
                <a:lnTo>
                  <a:pt x="1776" y="1016"/>
                </a:lnTo>
                <a:lnTo>
                  <a:pt x="1732" y="1098"/>
                </a:lnTo>
                <a:lnTo>
                  <a:pt x="1638" y="1138"/>
                </a:lnTo>
                <a:lnTo>
                  <a:pt x="1508" y="1138"/>
                </a:lnTo>
                <a:lnTo>
                  <a:pt x="1633" y="1306"/>
                </a:lnTo>
                <a:lnTo>
                  <a:pt x="1330" y="1138"/>
                </a:lnTo>
                <a:lnTo>
                  <a:pt x="138" y="1138"/>
                </a:lnTo>
                <a:close/>
              </a:path>
            </a:pathLst>
          </a:custGeom>
          <a:solidFill>
            <a:srgbClr val="00efe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9760" y="31240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8480" y="4319640"/>
            <a:ext cx="885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88480" y="4316400"/>
            <a:ext cx="88560" cy="3240"/>
          </a:xfrm>
          <a:prstGeom prst="rect">
            <a:avLst/>
          </a:prstGeom>
          <a:solidFill>
            <a:srgbClr val="040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88480" y="4311720"/>
            <a:ext cx="88560" cy="1440"/>
          </a:xfrm>
          <a:prstGeom prst="rect">
            <a:avLst/>
          </a:prstGeom>
          <a:solidFill>
            <a:srgbClr val="0d0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88480" y="4308480"/>
            <a:ext cx="88560" cy="3240"/>
          </a:xfrm>
          <a:prstGeom prst="rect">
            <a:avLst/>
          </a:prstGeom>
          <a:solidFill>
            <a:srgbClr val="11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88480" y="4305240"/>
            <a:ext cx="88560" cy="3240"/>
          </a:xfrm>
          <a:prstGeom prst="rect">
            <a:avLst/>
          </a:prstGeom>
          <a:solidFill>
            <a:srgbClr val="150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88480" y="4302000"/>
            <a:ext cx="88560" cy="3240"/>
          </a:xfrm>
          <a:prstGeom prst="rect">
            <a:avLst/>
          </a:prstGeom>
          <a:solidFill>
            <a:srgbClr val="19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88480" y="4299120"/>
            <a:ext cx="88560" cy="2880"/>
          </a:xfrm>
          <a:prstGeom prst="rect">
            <a:avLst/>
          </a:prstGeom>
          <a:solidFill>
            <a:srgbClr val="1d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88480" y="4297320"/>
            <a:ext cx="88560" cy="1800"/>
          </a:xfrm>
          <a:prstGeom prst="rect">
            <a:avLst/>
          </a:prstGeom>
          <a:solidFill>
            <a:srgbClr val="21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8480" y="4290840"/>
            <a:ext cx="88560" cy="3240"/>
          </a:xfrm>
          <a:prstGeom prst="rect">
            <a:avLst/>
          </a:prstGeom>
          <a:solidFill>
            <a:srgbClr val="2a0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88480" y="4287960"/>
            <a:ext cx="88560" cy="2880"/>
          </a:xfrm>
          <a:prstGeom prst="rect">
            <a:avLst/>
          </a:prstGeom>
          <a:solidFill>
            <a:srgbClr val="2e0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88480" y="4284720"/>
            <a:ext cx="88560" cy="3240"/>
          </a:xfrm>
          <a:prstGeom prst="rect">
            <a:avLst/>
          </a:prstGeom>
          <a:solidFill>
            <a:srgbClr val="32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88480" y="4282920"/>
            <a:ext cx="88560" cy="1800"/>
          </a:xfrm>
          <a:prstGeom prst="rect">
            <a:avLst/>
          </a:prstGeom>
          <a:solidFill>
            <a:srgbClr val="360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88480" y="4280040"/>
            <a:ext cx="88560" cy="2880"/>
          </a:xfrm>
          <a:prstGeom prst="rect">
            <a:avLst/>
          </a:prstGeom>
          <a:solidFill>
            <a:srgbClr val="3a0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8480" y="4270320"/>
            <a:ext cx="88560" cy="3240"/>
          </a:xfrm>
          <a:prstGeom prst="rect">
            <a:avLst/>
          </a:prstGeom>
          <a:solidFill>
            <a:srgbClr val="4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88480" y="4268880"/>
            <a:ext cx="88560" cy="1440"/>
          </a:xfrm>
          <a:prstGeom prst="rect">
            <a:avLst/>
          </a:prstGeom>
          <a:solidFill>
            <a:srgbClr val="4b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88480" y="4265640"/>
            <a:ext cx="88560" cy="3240"/>
          </a:xfrm>
          <a:prstGeom prst="rect">
            <a:avLst/>
          </a:prstGeom>
          <a:solidFill>
            <a:srgbClr val="4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88480" y="4262400"/>
            <a:ext cx="88560" cy="3240"/>
          </a:xfrm>
          <a:prstGeom prst="rect">
            <a:avLst/>
          </a:prstGeom>
          <a:solidFill>
            <a:srgbClr val="53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8480" y="4259160"/>
            <a:ext cx="88560" cy="3240"/>
          </a:xfrm>
          <a:prstGeom prst="rect">
            <a:avLst/>
          </a:prstGeom>
          <a:solidFill>
            <a:srgbClr val="58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88480" y="4254480"/>
            <a:ext cx="88560" cy="1440"/>
          </a:xfrm>
          <a:prstGeom prst="rect">
            <a:avLst/>
          </a:prstGeom>
          <a:solidFill>
            <a:srgbClr val="600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88480" y="4251240"/>
            <a:ext cx="88560" cy="3240"/>
          </a:xfrm>
          <a:prstGeom prst="rect">
            <a:avLst/>
          </a:prstGeom>
          <a:solidFill>
            <a:srgbClr val="640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88480" y="4248000"/>
            <a:ext cx="88560" cy="3240"/>
          </a:xfrm>
          <a:prstGeom prst="rect">
            <a:avLst/>
          </a:prstGeom>
          <a:solidFill>
            <a:srgbClr val="68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4245120"/>
            <a:ext cx="88560" cy="2880"/>
          </a:xfrm>
          <a:prstGeom prst="rect">
            <a:avLst/>
          </a:prstGeom>
          <a:solidFill>
            <a:srgbClr val="6c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88480" y="4241880"/>
            <a:ext cx="88560" cy="3240"/>
          </a:xfrm>
          <a:prstGeom prst="rect">
            <a:avLst/>
          </a:prstGeom>
          <a:solidFill>
            <a:srgbClr val="71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88480" y="4240080"/>
            <a:ext cx="88560" cy="1800"/>
          </a:xfrm>
          <a:prstGeom prst="rect">
            <a:avLst/>
          </a:prstGeom>
          <a:solidFill>
            <a:srgbClr val="750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88480" y="4233960"/>
            <a:ext cx="88560" cy="3240"/>
          </a:xfrm>
          <a:prstGeom prst="rect">
            <a:avLst/>
          </a:prstGeom>
          <a:solidFill>
            <a:srgbClr val="7d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88480" y="4230720"/>
            <a:ext cx="88560" cy="3240"/>
          </a:xfrm>
          <a:prstGeom prst="rect">
            <a:avLst/>
          </a:prstGeom>
          <a:solidFill>
            <a:srgbClr val="81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8480" y="4227480"/>
            <a:ext cx="88560" cy="3240"/>
          </a:xfrm>
          <a:prstGeom prst="rect">
            <a:avLst/>
          </a:prstGeom>
          <a:solidFill>
            <a:srgbClr val="85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88480" y="4226040"/>
            <a:ext cx="88560" cy="1440"/>
          </a:xfrm>
          <a:prstGeom prst="rect">
            <a:avLst/>
          </a:prstGeom>
          <a:solidFill>
            <a:srgbClr val="8a0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8480" y="4222800"/>
            <a:ext cx="88560" cy="3240"/>
          </a:xfrm>
          <a:prstGeom prst="rect">
            <a:avLst/>
          </a:prstGeom>
          <a:solidFill>
            <a:srgbClr val="8e0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29360" y="5099040"/>
            <a:ext cx="457200" cy="12600"/>
          </a:xfrm>
          <a:custGeom>
            <a:avLst/>
            <a:gdLst/>
            <a:ahLst/>
            <a:rect l="l" t="t" r="r" b="b"/>
            <a:pathLst>
              <a:path w="863" h="24">
                <a:moveTo>
                  <a:pt x="0" y="0"/>
                </a:moveTo>
                <a:lnTo>
                  <a:pt x="863" y="0"/>
                </a:lnTo>
                <a:lnTo>
                  <a:pt x="842" y="24"/>
                </a:lnTo>
                <a:lnTo>
                  <a:pt x="21" y="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41040" y="342900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0078"/>
                </a:solidFill>
                <a:latin typeface="宋体"/>
              </a:rPr>
              <a:t>Oicq</a:t>
            </a:r>
            <a:r>
              <a:rPr b="1" lang="zh-CN" sz="1600" spc="-1" strike="noStrike">
                <a:solidFill>
                  <a:srgbClr val="280078"/>
                </a:solidFill>
                <a:latin typeface="宋体"/>
              </a:rPr>
              <a:t>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657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209680" y="3429000"/>
            <a:ext cx="9144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0880" y="3886200"/>
            <a:ext cx="1600200" cy="1066320"/>
            <a:chOff x="380880" y="3886200"/>
            <a:chExt cx="1600200" cy="1066320"/>
          </a:xfrm>
        </p:grpSpPr>
        <p:sp>
          <p:nvSpPr>
            <p:cNvPr id="154" name=""/>
            <p:cNvSpPr/>
            <p:nvPr/>
          </p:nvSpPr>
          <p:spPr>
            <a:xfrm>
              <a:off x="380880" y="4052880"/>
              <a:ext cx="1600200" cy="8996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6560" y="4123440"/>
              <a:ext cx="21960" cy="6228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28640" y="4135680"/>
              <a:ext cx="24120" cy="6228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8560" y="4147920"/>
              <a:ext cx="26640" cy="594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9920" y="4158720"/>
              <a:ext cx="24120" cy="5724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99840" y="4165560"/>
              <a:ext cx="25560" cy="5724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4160" y="4318920"/>
              <a:ext cx="25200" cy="5688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86240" y="4331160"/>
              <a:ext cx="26640" cy="5724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7600" y="4343400"/>
              <a:ext cx="27720" cy="5544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7520" y="4355640"/>
              <a:ext cx="28800" cy="5400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56360" y="4366440"/>
              <a:ext cx="28800" cy="5400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43040" y="4376160"/>
              <a:ext cx="29880" cy="5400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6560" y="4385520"/>
              <a:ext cx="24120" cy="486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9720" y="4390920"/>
              <a:ext cx="24120" cy="4752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23240" y="4395240"/>
              <a:ext cx="24120" cy="4716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16400" y="4399200"/>
              <a:ext cx="23400" cy="4716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8480" y="4403160"/>
              <a:ext cx="24120" cy="4716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2000" y="4407120"/>
              <a:ext cx="23400" cy="4608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4080" y="4411440"/>
              <a:ext cx="23400" cy="4572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6520" y="4413960"/>
              <a:ext cx="23400" cy="4608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8600" y="4418280"/>
              <a:ext cx="23400" cy="4608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70680" y="4420440"/>
              <a:ext cx="23400" cy="4608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3120" y="4423320"/>
              <a:ext cx="23040" cy="4608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47640" y="4426200"/>
              <a:ext cx="29880" cy="4716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1080" y="4431600"/>
              <a:ext cx="30960" cy="4608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15240" y="4435560"/>
              <a:ext cx="29880" cy="4428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98680" y="4438440"/>
              <a:ext cx="29880" cy="4428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82120" y="4439520"/>
              <a:ext cx="29880" cy="4464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66280" y="4441320"/>
              <a:ext cx="28800" cy="4320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59800" y="4442400"/>
              <a:ext cx="17640" cy="4212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54040" y="4448160"/>
              <a:ext cx="16560" cy="5400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9720" y="4460040"/>
              <a:ext cx="16560" cy="5292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4472280"/>
              <a:ext cx="17640" cy="5148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37480" y="4483080"/>
              <a:ext cx="17640" cy="5148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31000" y="4494240"/>
              <a:ext cx="17640" cy="5004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3080" y="4503240"/>
              <a:ext cx="18720" cy="5148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14080" y="4514400"/>
              <a:ext cx="19800" cy="486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5080" y="4524120"/>
              <a:ext cx="20160" cy="486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95360" y="4533120"/>
              <a:ext cx="19800" cy="4752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85280" y="4541400"/>
              <a:ext cx="19800" cy="4716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4120" y="4549680"/>
              <a:ext cx="20880" cy="4752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2960" y="4557960"/>
              <a:ext cx="19800" cy="4716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0720" y="4565880"/>
              <a:ext cx="20880" cy="4608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8480" y="4572720"/>
              <a:ext cx="20880" cy="4608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25160" y="4579560"/>
              <a:ext cx="21960" cy="4608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19760" y="4586040"/>
              <a:ext cx="14040" cy="4212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05360" y="4590360"/>
              <a:ext cx="21960" cy="4320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92040" y="4595760"/>
              <a:ext cx="20880" cy="4320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81960" y="4601160"/>
              <a:ext cx="16560" cy="4212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66120" y="4604040"/>
              <a:ext cx="23400" cy="4320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0640" y="4609440"/>
              <a:ext cx="22320" cy="4212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5160" y="4613760"/>
              <a:ext cx="21960" cy="417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680" y="4617720"/>
              <a:ext cx="20880" cy="4032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04200" y="4621680"/>
              <a:ext cx="20880" cy="3924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8720" y="4624200"/>
              <a:ext cx="19800" cy="3924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72880" y="4625640"/>
              <a:ext cx="19800" cy="3924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56320" y="4628520"/>
              <a:ext cx="19800" cy="381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9760" y="4629960"/>
              <a:ext cx="19800" cy="3780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22840" y="4629960"/>
              <a:ext cx="20160" cy="3780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11680" y="4629960"/>
              <a:ext cx="13320" cy="3780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80720" y="4628520"/>
              <a:ext cx="33120" cy="3924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5240" y="4627080"/>
              <a:ext cx="16560" cy="3924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9400" y="4624200"/>
              <a:ext cx="16560" cy="3924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34280" y="4621680"/>
              <a:ext cx="15120" cy="4032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18440" y="4617720"/>
              <a:ext cx="15480" cy="4212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02960" y="4613760"/>
              <a:ext cx="16560" cy="417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87480" y="4609440"/>
              <a:ext cx="16560" cy="4212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73080" y="4605120"/>
              <a:ext cx="16560" cy="4212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58680" y="4600080"/>
              <a:ext cx="16560" cy="4320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3920" y="4592880"/>
              <a:ext cx="16560" cy="4464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0600" y="4586040"/>
              <a:ext cx="16560" cy="4464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7640" y="4579560"/>
              <a:ext cx="16560" cy="4608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3960" y="4571280"/>
              <a:ext cx="16560" cy="4608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3160" y="4563000"/>
              <a:ext cx="15120" cy="4752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0560" y="4554000"/>
              <a:ext cx="16560" cy="486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0480" y="4544280"/>
              <a:ext cx="15480" cy="486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0760" y="4533120"/>
              <a:ext cx="14040" cy="5040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6000" y="4532040"/>
              <a:ext cx="20160" cy="4032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1960" y="4529160"/>
              <a:ext cx="19800" cy="4212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560" y="4528080"/>
              <a:ext cx="20880" cy="4212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4240" y="4524120"/>
              <a:ext cx="19800" cy="4320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9480" y="4521240"/>
              <a:ext cx="20880" cy="4320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6520" y="4517280"/>
              <a:ext cx="20880" cy="4428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840" y="4512960"/>
              <a:ext cx="20880" cy="4464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520" y="4509000"/>
              <a:ext cx="20880" cy="4464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7280" y="4503240"/>
              <a:ext cx="20880" cy="4608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960" y="4498200"/>
              <a:ext cx="21960" cy="4608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800" y="4491360"/>
              <a:ext cx="20880" cy="4716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920" y="4484520"/>
              <a:ext cx="20880" cy="486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760" y="4478040"/>
              <a:ext cx="20880" cy="486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9680" y="4469400"/>
              <a:ext cx="20880" cy="5004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9600" y="4461480"/>
              <a:ext cx="20880" cy="5004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600" y="4452120"/>
              <a:ext cx="19800" cy="5112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480" y="4377240"/>
              <a:ext cx="25560" cy="4464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080" y="4377240"/>
              <a:ext cx="26640" cy="4464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9680" y="4376160"/>
              <a:ext cx="26640" cy="4428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20" y="4373280"/>
              <a:ext cx="27720" cy="4608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600" y="4371840"/>
              <a:ext cx="26640" cy="4608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" y="4367520"/>
              <a:ext cx="26280" cy="4752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5320" y="4363560"/>
              <a:ext cx="26280" cy="486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2000" y="4359600"/>
              <a:ext cx="27720" cy="486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400" y="4354200"/>
              <a:ext cx="27720" cy="5040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8240" y="4348800"/>
              <a:ext cx="26640" cy="5004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360" y="4341960"/>
              <a:ext cx="27720" cy="5112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6280" y="4335480"/>
              <a:ext cx="26640" cy="5292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6200" y="4327200"/>
              <a:ext cx="26640" cy="5292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318920"/>
              <a:ext cx="25200" cy="5400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8560" y="4309560"/>
              <a:ext cx="25200" cy="5544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1720" y="4299840"/>
              <a:ext cx="24120" cy="5544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1800" y="4377240"/>
              <a:ext cx="15480" cy="4608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1960" y="4442400"/>
              <a:ext cx="19800" cy="5292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5120" y="4431600"/>
              <a:ext cx="17640" cy="5292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8640" y="4418280"/>
              <a:ext cx="17640" cy="5508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6120" y="4411440"/>
              <a:ext cx="14040" cy="5004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6320" y="4289040"/>
              <a:ext cx="21960" cy="5688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2000" y="4279680"/>
              <a:ext cx="20880" cy="5688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0680" y="4119480"/>
              <a:ext cx="23400" cy="5976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0600" y="4108680"/>
              <a:ext cx="23040" cy="6228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200" y="4096440"/>
              <a:ext cx="19800" cy="6336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040" y="4091040"/>
              <a:ext cx="15480" cy="5688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240" y="3886200"/>
              <a:ext cx="1302480" cy="74376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85800" y="4114800"/>
            <a:ext cx="8380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8229600" y="3200400"/>
            <a:ext cx="642960" cy="754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7162920" y="4495680"/>
            <a:ext cx="642960" cy="754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477120" y="54100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Www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7772400" y="1981080"/>
            <a:ext cx="642960" cy="754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505320" y="3962520"/>
            <a:ext cx="3725640" cy="696960"/>
          </a:xfrm>
          <a:custGeom>
            <a:avLst/>
            <a:gdLst/>
            <a:ahLst/>
            <a:rect l="l" t="t" r="r" b="b"/>
            <a:pathLst>
              <a:path w="7042" h="1315">
                <a:moveTo>
                  <a:pt x="7042" y="1315"/>
                </a:moveTo>
                <a:lnTo>
                  <a:pt x="6710" y="1090"/>
                </a:lnTo>
                <a:lnTo>
                  <a:pt x="6351" y="884"/>
                </a:lnTo>
                <a:lnTo>
                  <a:pt x="5971" y="699"/>
                </a:lnTo>
                <a:lnTo>
                  <a:pt x="5567" y="532"/>
                </a:lnTo>
                <a:lnTo>
                  <a:pt x="5148" y="392"/>
                </a:lnTo>
                <a:lnTo>
                  <a:pt x="4712" y="269"/>
                </a:lnTo>
                <a:lnTo>
                  <a:pt x="4261" y="171"/>
                </a:lnTo>
                <a:lnTo>
                  <a:pt x="3799" y="93"/>
                </a:lnTo>
                <a:lnTo>
                  <a:pt x="3332" y="40"/>
                </a:lnTo>
                <a:lnTo>
                  <a:pt x="2855" y="9"/>
                </a:lnTo>
                <a:lnTo>
                  <a:pt x="2375" y="0"/>
                </a:lnTo>
                <a:lnTo>
                  <a:pt x="1892" y="18"/>
                </a:lnTo>
                <a:lnTo>
                  <a:pt x="1413" y="55"/>
                </a:lnTo>
                <a:lnTo>
                  <a:pt x="936" y="123"/>
                </a:lnTo>
                <a:lnTo>
                  <a:pt x="465" y="212"/>
                </a:lnTo>
                <a:lnTo>
                  <a:pt x="0" y="32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39040" y="19684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Access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9666000">
            <a:off x="2841480" y="1253160"/>
            <a:ext cx="83808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853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853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82600" y="2468520"/>
          <a:ext cx="77724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468520"/>
                    <a:ext cx="77724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访问控制列表如何工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包中的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2666880"/>
          <a:ext cx="792468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792468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访问控制列表种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利用数字范围标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04920" y="3352680"/>
          <a:ext cx="82296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352680"/>
                    <a:ext cx="82296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标准访问控制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准访问控制列表只使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源地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描述数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源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标准访问控制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ccess-list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list-number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[permit|deny]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 ip-address wildcard-m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通配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子网掩码相似，但写法不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需要比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忽略比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结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结合使用，描述一个地址范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4800600"/>
          <a:ext cx="739152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800600"/>
                    <a:ext cx="73915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1:30:23Z</dcterms:created>
  <dc:creator>ccn</dc:creator>
  <dc:description/>
  <dc:language>en-US</dc:language>
  <cp:lastModifiedBy>软件仓库</cp:lastModifiedBy>
  <dcterms:modified xsi:type="dcterms:W3CDTF">2005-05-17T02:44:14Z</dcterms:modified>
  <cp:revision>33</cp:revision>
  <dc:subject/>
  <dc:title>ACL Lab</dc:title>
</cp:coreProperties>
</file>