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1C3-73DD-453F-A20A-69FDAD5078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MSTT31f1a53b6o088044S00"/>
              </a:rPr>
              <a:t>在</a:t>
            </a:r>
            <a:r>
              <a:rPr b="0" lang="zh-CN" sz="1200" spc="-1" strike="noStrike">
                <a:solidFill>
                  <a:srgbClr val="000000"/>
                </a:solidFill>
                <a:latin typeface="MSTT31f1a53b6o088044S00"/>
              </a:rPr>
              <a:t>2501</a:t>
            </a:r>
            <a:r>
              <a:rPr b="0" lang="zh-CN" sz="1200" spc="-1" strike="noStrike">
                <a:solidFill>
                  <a:srgbClr val="000000"/>
                </a:solidFill>
                <a:latin typeface="MSTT31f1a53b6o088044S00"/>
              </a:rPr>
              <a:t>基础上研制的一种路由器，接口完全一样，电源外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MSTT31f1a53b6o088044S00"/>
              </a:rPr>
              <a:t>造型美观，性价比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CFE-5323-412A-8DD7-6F78C729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6B9-B4AA-44BC-945A-46041FE8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9C4-F8FF-4BBB-A551-4A6BF064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2D2-F168-4C96-A20A-675464CC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F8CC-2D33-42FE-8598-3EFCBB4B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E56-4745-47EB-A0B9-B6D5749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CA6-32CE-4095-A2CF-CA8B1EE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CE21-D192-4402-8B02-9C41C35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1CF8-A419-40D8-801E-25FCC85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C852-6B0B-4295-A974-C28706AA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E2D-8226-4BF4-80CE-0FFB87A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900-7140-4A4F-99A4-6485257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4DA-E8B1-43E6-9057-7E289CF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48C9-B955-4EFB-B7A9-15B46DA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315-CEC6-4B18-BDF8-CEB49BB6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49B-4CF4-499C-BD4D-8623D86F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F16-E2D9-40E3-8657-0764032A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717-512E-4158-B44D-36FA083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422-3416-4A83-8188-99B2E1A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69D-0875-47C2-949B-E231B08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4CF-6BF8-40F0-9866-BC5AFA2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726-A092-451F-95B3-ECDE4AC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4D9-EE1B-48CF-AB1D-35BC1B6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2BD-0935-4C28-8D56-CC6CB75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7AF-FBA3-4F5A-A13B-90A771CE86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EA67-D8E4-413C-8D23-C4032D1D0B7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路由器的基本配置及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器简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R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基本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以太口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串口连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静态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国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认证实验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转换工作模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特权用户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全局配置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接口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nterface ethernet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nterface serial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Courier New"/>
              </a:rPr>
              <a:t>快节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trl+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trl+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trl+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教室实验环境物理连线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2286000"/>
            <a:ext cx="7620120" cy="3202560"/>
            <a:chOff x="1066680" y="2286000"/>
            <a:chExt cx="7620120" cy="3202560"/>
          </a:xfrm>
        </p:grpSpPr>
        <p:sp>
          <p:nvSpPr>
            <p:cNvPr id="132" name=""/>
            <p:cNvSpPr/>
            <p:nvPr/>
          </p:nvSpPr>
          <p:spPr>
            <a:xfrm>
              <a:off x="6553080" y="2286000"/>
              <a:ext cx="198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idway R16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1143000" y="3581280"/>
            <a:ext cx="96192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3581280"/>
                      <a:ext cx="96192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1143000" y="4479840"/>
              <a:ext cx="62532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981080" y="38703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idway S24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501336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6781680" y="3581280"/>
            <a:ext cx="962280" cy="365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81680" y="3581280"/>
                      <a:ext cx="9622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62568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410080" y="3962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idway S24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50896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6680" y="23623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idway R16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599840" y="2819520"/>
              <a:ext cx="6020280" cy="1828800"/>
              <a:chOff x="1599840" y="2819520"/>
              <a:chExt cx="6020280" cy="1828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238880" y="388620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904760" y="3048120"/>
                <a:ext cx="53316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599840" y="3886200"/>
                <a:ext cx="228600" cy="59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3080" y="3048120"/>
                <a:ext cx="6858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71800" y="2819520"/>
                <a:ext cx="3276720" cy="152280"/>
              </a:xfrm>
              <a:custGeom>
                <a:avLst/>
                <a:gdLst/>
                <a:ahLst/>
                <a:rect l="l" t="t" r="r" b="b"/>
                <a:pathLst>
                  <a:path w="1056" h="144">
                    <a:moveTo>
                      <a:pt x="0" y="96"/>
                    </a:moveTo>
                    <a:lnTo>
                      <a:pt x="624" y="0"/>
                    </a:lnTo>
                    <a:lnTo>
                      <a:pt x="528" y="144"/>
                    </a:lnTo>
                    <a:lnTo>
                      <a:pt x="1056" y="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71800" y="2575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2590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9680" y="3124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2895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209680" y="2743200"/>
              <a:ext cx="762120" cy="456840"/>
              <a:chOff x="2209680" y="2743200"/>
              <a:chExt cx="762120" cy="456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209680" y="287028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09680" y="274320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2327760" y="2772720"/>
                <a:ext cx="523440" cy="190080"/>
                <a:chOff x="2327760" y="2772720"/>
                <a:chExt cx="523440" cy="190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598840" y="27777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98840" y="27777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327760" y="28688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27760" y="286884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340360" y="27727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40360" y="27727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589480" y="28789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589480" y="287892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604240" y="27828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04240" y="278280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32800" y="28738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32800" y="287388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345400" y="27777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45400" y="277776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4520" y="28839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94520" y="288396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6019920" y="2666880"/>
              <a:ext cx="761760" cy="456840"/>
              <a:chOff x="6019920" y="2666880"/>
              <a:chExt cx="761760" cy="456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019920" y="27939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9920" y="26668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138000" y="2696400"/>
                <a:ext cx="523080" cy="190080"/>
                <a:chOff x="6138000" y="2696400"/>
                <a:chExt cx="523080" cy="190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09080" y="2701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409080" y="2701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38000" y="27925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38000" y="27925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50600" y="26964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50600" y="26964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399360" y="28026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99360" y="28026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14120" y="27064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414120" y="27064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143040" y="27975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43040" y="27975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155640" y="2701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55640" y="27014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404760" y="28076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404760" y="28076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际网络连接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C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3520" y="2514600"/>
            <a:ext cx="8076960" cy="2786040"/>
            <a:chOff x="533520" y="2514600"/>
            <a:chExt cx="8076960" cy="2786040"/>
          </a:xfrm>
        </p:grpSpPr>
        <p:grpSp>
          <p:nvGrpSpPr>
            <p:cNvPr id="197" name=""/>
            <p:cNvGrpSpPr/>
            <p:nvPr/>
          </p:nvGrpSpPr>
          <p:grpSpPr>
            <a:xfrm>
              <a:off x="838080" y="4572000"/>
              <a:ext cx="1100160" cy="728640"/>
              <a:chOff x="838080" y="4572000"/>
              <a:chExt cx="1100160" cy="728640"/>
            </a:xfrm>
          </p:grpSpPr>
          <p:sp>
            <p:nvSpPr>
              <p:cNvPr id="198" name=""/>
              <p:cNvSpPr/>
              <p:nvPr/>
            </p:nvSpPr>
            <p:spPr>
              <a:xfrm>
                <a:off x="838080" y="457200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66680" y="480060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1219320" y="4114800"/>
              <a:ext cx="62532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3352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C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657600" y="2743200"/>
              <a:ext cx="1973160" cy="885240"/>
              <a:chOff x="3657600" y="2743200"/>
              <a:chExt cx="1973160" cy="88524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657600" y="2743200"/>
                <a:ext cx="1973160" cy="885240"/>
                <a:chOff x="3657600" y="2743200"/>
                <a:chExt cx="1973160" cy="8852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657600" y="2881440"/>
                  <a:ext cx="1973160" cy="74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05960" y="2940120"/>
                  <a:ext cx="27000" cy="51840"/>
                </a:xfrm>
                <a:custGeom>
                  <a:avLst/>
                  <a:gdLst/>
                  <a:ahLst/>
                  <a:rect l="l" t="t" r="r" b="b"/>
                  <a:pathLst>
                    <a:path w="284" h="969">
                      <a:moveTo>
                        <a:pt x="284" y="0"/>
                      </a:moveTo>
                      <a:lnTo>
                        <a:pt x="70" y="780"/>
                      </a:lnTo>
                      <a:lnTo>
                        <a:pt x="55" y="828"/>
                      </a:lnTo>
                      <a:lnTo>
                        <a:pt x="39" y="875"/>
                      </a:lnTo>
                      <a:lnTo>
                        <a:pt x="21" y="922"/>
                      </a:lnTo>
                      <a:lnTo>
                        <a:pt x="0" y="969"/>
                      </a:lnTo>
                      <a:lnTo>
                        <a:pt x="212" y="194"/>
                      </a:lnTo>
                      <a:lnTo>
                        <a:pt x="234" y="147"/>
                      </a:lnTo>
                      <a:lnTo>
                        <a:pt x="252" y="99"/>
                      </a:lnTo>
                      <a:lnTo>
                        <a:pt x="270" y="5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196240" y="2950200"/>
                  <a:ext cx="29880" cy="51840"/>
                </a:xfrm>
                <a:custGeom>
                  <a:avLst/>
                  <a:gdLst/>
                  <a:ahLst/>
                  <a:rect l="l" t="t" r="r" b="b"/>
                  <a:pathLst>
                    <a:path w="311" h="952">
                      <a:moveTo>
                        <a:pt x="311" y="0"/>
                      </a:moveTo>
                      <a:lnTo>
                        <a:pt x="99" y="775"/>
                      </a:lnTo>
                      <a:lnTo>
                        <a:pt x="78" y="819"/>
                      </a:lnTo>
                      <a:lnTo>
                        <a:pt x="53" y="864"/>
                      </a:lnTo>
                      <a:lnTo>
                        <a:pt x="27" y="908"/>
                      </a:lnTo>
                      <a:lnTo>
                        <a:pt x="0" y="952"/>
                      </a:lnTo>
                      <a:lnTo>
                        <a:pt x="210" y="181"/>
                      </a:lnTo>
                      <a:lnTo>
                        <a:pt x="238" y="137"/>
                      </a:lnTo>
                      <a:lnTo>
                        <a:pt x="264" y="92"/>
                      </a:lnTo>
                      <a:lnTo>
                        <a:pt x="289" y="47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83640" y="2960640"/>
                  <a:ext cx="32760" cy="49320"/>
                </a:xfrm>
                <a:custGeom>
                  <a:avLst/>
                  <a:gdLst/>
                  <a:ahLst/>
                  <a:rect l="l" t="t" r="r" b="b"/>
                  <a:pathLst>
                    <a:path w="338" h="935">
                      <a:moveTo>
                        <a:pt x="338" y="0"/>
                      </a:moveTo>
                      <a:lnTo>
                        <a:pt x="128" y="771"/>
                      </a:lnTo>
                      <a:lnTo>
                        <a:pt x="99" y="813"/>
                      </a:lnTo>
                      <a:lnTo>
                        <a:pt x="68" y="855"/>
                      </a:lnTo>
                      <a:lnTo>
                        <a:pt x="35" y="896"/>
                      </a:lnTo>
                      <a:lnTo>
                        <a:pt x="0" y="935"/>
                      </a:lnTo>
                      <a:lnTo>
                        <a:pt x="207" y="170"/>
                      </a:lnTo>
                      <a:lnTo>
                        <a:pt x="242" y="128"/>
                      </a:lnTo>
                      <a:lnTo>
                        <a:pt x="275" y="86"/>
                      </a:lnTo>
                      <a:lnTo>
                        <a:pt x="307" y="44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cbe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172840" y="2969280"/>
                  <a:ext cx="29880" cy="47520"/>
                </a:xfrm>
                <a:custGeom>
                  <a:avLst/>
                  <a:gdLst/>
                  <a:ahLst/>
                  <a:rect l="l" t="t" r="r" b="b"/>
                  <a:pathLst>
                    <a:path w="318" h="881">
                      <a:moveTo>
                        <a:pt x="318" y="0"/>
                      </a:moveTo>
                      <a:lnTo>
                        <a:pt x="111" y="765"/>
                      </a:lnTo>
                      <a:lnTo>
                        <a:pt x="76" y="805"/>
                      </a:lnTo>
                      <a:lnTo>
                        <a:pt x="39" y="843"/>
                      </a:lnTo>
                      <a:lnTo>
                        <a:pt x="0" y="881"/>
                      </a:lnTo>
                      <a:lnTo>
                        <a:pt x="202" y="117"/>
                      </a:lnTo>
                      <a:lnTo>
                        <a:pt x="243" y="79"/>
                      </a:lnTo>
                      <a:lnTo>
                        <a:pt x="281" y="39"/>
                      </a:lnTo>
                      <a:lnTo>
                        <a:pt x="318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60600" y="2975040"/>
                  <a:ext cx="31680" cy="47520"/>
                </a:xfrm>
                <a:custGeom>
                  <a:avLst/>
                  <a:gdLst/>
                  <a:ahLst/>
                  <a:rect l="l" t="t" r="r" b="b"/>
                  <a:pathLst>
                    <a:path w="330" h="871">
                      <a:moveTo>
                        <a:pt x="330" y="0"/>
                      </a:moveTo>
                      <a:lnTo>
                        <a:pt x="128" y="764"/>
                      </a:lnTo>
                      <a:lnTo>
                        <a:pt x="87" y="800"/>
                      </a:lnTo>
                      <a:lnTo>
                        <a:pt x="45" y="836"/>
                      </a:lnTo>
                      <a:lnTo>
                        <a:pt x="0" y="871"/>
                      </a:lnTo>
                      <a:lnTo>
                        <a:pt x="200" y="111"/>
                      </a:lnTo>
                      <a:lnTo>
                        <a:pt x="245" y="74"/>
                      </a:lnTo>
                      <a:lnTo>
                        <a:pt x="289" y="38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76880" y="310248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317" h="895">
                      <a:moveTo>
                        <a:pt x="317" y="0"/>
                      </a:moveTo>
                      <a:lnTo>
                        <a:pt x="79" y="703"/>
                      </a:lnTo>
                      <a:lnTo>
                        <a:pt x="42" y="800"/>
                      </a:lnTo>
                      <a:lnTo>
                        <a:pt x="0" y="895"/>
                      </a:lnTo>
                      <a:lnTo>
                        <a:pt x="236" y="197"/>
                      </a:lnTo>
                      <a:lnTo>
                        <a:pt x="279" y="10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7520" y="3112560"/>
                  <a:ext cx="32760" cy="47520"/>
                </a:xfrm>
                <a:custGeom>
                  <a:avLst/>
                  <a:gdLst/>
                  <a:ahLst/>
                  <a:rect l="l" t="t" r="r" b="b"/>
                  <a:pathLst>
                    <a:path w="334" h="882">
                      <a:moveTo>
                        <a:pt x="334" y="0"/>
                      </a:moveTo>
                      <a:lnTo>
                        <a:pt x="98" y="698"/>
                      </a:lnTo>
                      <a:lnTo>
                        <a:pt x="51" y="791"/>
                      </a:lnTo>
                      <a:lnTo>
                        <a:pt x="0" y="882"/>
                      </a:lnTo>
                      <a:lnTo>
                        <a:pt x="234" y="188"/>
                      </a:lnTo>
                      <a:lnTo>
                        <a:pt x="286" y="96"/>
                      </a:lnTo>
                      <a:lnTo>
                        <a:pt x="334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56360" y="3122640"/>
                  <a:ext cx="33840" cy="46080"/>
                </a:xfrm>
                <a:custGeom>
                  <a:avLst/>
                  <a:gdLst/>
                  <a:ahLst/>
                  <a:rect l="l" t="t" r="r" b="b"/>
                  <a:pathLst>
                    <a:path w="348" h="869">
                      <a:moveTo>
                        <a:pt x="348" y="0"/>
                      </a:moveTo>
                      <a:lnTo>
                        <a:pt x="114" y="694"/>
                      </a:lnTo>
                      <a:lnTo>
                        <a:pt x="60" y="783"/>
                      </a:lnTo>
                      <a:lnTo>
                        <a:pt x="0" y="869"/>
                      </a:lnTo>
                      <a:lnTo>
                        <a:pt x="230" y="181"/>
                      </a:lnTo>
                      <a:lnTo>
                        <a:pt x="291" y="92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44120" y="3133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61" h="854">
                      <a:moveTo>
                        <a:pt x="361" y="0"/>
                      </a:moveTo>
                      <a:lnTo>
                        <a:pt x="131" y="688"/>
                      </a:lnTo>
                      <a:lnTo>
                        <a:pt x="67" y="771"/>
                      </a:lnTo>
                      <a:lnTo>
                        <a:pt x="0" y="854"/>
                      </a:lnTo>
                      <a:lnTo>
                        <a:pt x="226" y="169"/>
                      </a:lnTo>
                      <a:lnTo>
                        <a:pt x="296" y="85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30440" y="314208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371" h="841">
                      <a:moveTo>
                        <a:pt x="371" y="0"/>
                      </a:moveTo>
                      <a:lnTo>
                        <a:pt x="145" y="685"/>
                      </a:lnTo>
                      <a:lnTo>
                        <a:pt x="75" y="764"/>
                      </a:lnTo>
                      <a:lnTo>
                        <a:pt x="0" y="841"/>
                      </a:lnTo>
                      <a:lnTo>
                        <a:pt x="224" y="161"/>
                      </a:lnTo>
                      <a:lnTo>
                        <a:pt x="300" y="8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13880" y="3150000"/>
                  <a:ext cx="36720" cy="44640"/>
                </a:xfrm>
                <a:custGeom>
                  <a:avLst/>
                  <a:gdLst/>
                  <a:ahLst/>
                  <a:rect l="l" t="t" r="r" b="b"/>
                  <a:pathLst>
                    <a:path w="381" h="826">
                      <a:moveTo>
                        <a:pt x="381" y="0"/>
                      </a:moveTo>
                      <a:lnTo>
                        <a:pt x="157" y="680"/>
                      </a:lnTo>
                      <a:lnTo>
                        <a:pt x="80" y="754"/>
                      </a:lnTo>
                      <a:lnTo>
                        <a:pt x="0" y="826"/>
                      </a:lnTo>
                      <a:lnTo>
                        <a:pt x="219" y="150"/>
                      </a:lnTo>
                      <a:lnTo>
                        <a:pt x="301" y="76"/>
                      </a:lnTo>
                      <a:lnTo>
                        <a:pt x="38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05960" y="315792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301" h="744">
                      <a:moveTo>
                        <a:pt x="301" y="0"/>
                      </a:moveTo>
                      <a:lnTo>
                        <a:pt x="82" y="676"/>
                      </a:lnTo>
                      <a:lnTo>
                        <a:pt x="0" y="744"/>
                      </a:lnTo>
                      <a:lnTo>
                        <a:pt x="216" y="71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197320" y="3162240"/>
                  <a:ext cx="29880" cy="39600"/>
                </a:xfrm>
                <a:custGeom>
                  <a:avLst/>
                  <a:gdLst/>
                  <a:ahLst/>
                  <a:rect l="l" t="t" r="r" b="b"/>
                  <a:pathLst>
                    <a:path w="301" h="740">
                      <a:moveTo>
                        <a:pt x="301" y="0"/>
                      </a:moveTo>
                      <a:lnTo>
                        <a:pt x="85" y="673"/>
                      </a:lnTo>
                      <a:lnTo>
                        <a:pt x="0" y="740"/>
                      </a:lnTo>
                      <a:lnTo>
                        <a:pt x="213" y="68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189400" y="316584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1" h="737">
                      <a:moveTo>
                        <a:pt x="301" y="0"/>
                      </a:moveTo>
                      <a:lnTo>
                        <a:pt x="88" y="672"/>
                      </a:lnTo>
                      <a:lnTo>
                        <a:pt x="0" y="737"/>
                      </a:lnTo>
                      <a:lnTo>
                        <a:pt x="211" y="66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181120" y="3169080"/>
                  <a:ext cx="2880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31">
                      <a:moveTo>
                        <a:pt x="300" y="0"/>
                      </a:moveTo>
                      <a:lnTo>
                        <a:pt x="89" y="671"/>
                      </a:lnTo>
                      <a:lnTo>
                        <a:pt x="0" y="731"/>
                      </a:lnTo>
                      <a:lnTo>
                        <a:pt x="208" y="62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fdb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71400" y="3172320"/>
                  <a:ext cx="29880" cy="39240"/>
                </a:xfrm>
                <a:custGeom>
                  <a:avLst/>
                  <a:gdLst/>
                  <a:ahLst/>
                  <a:rect l="l" t="t" r="r" b="b"/>
                  <a:pathLst>
                    <a:path w="300" h="728">
                      <a:moveTo>
                        <a:pt x="300" y="0"/>
                      </a:moveTo>
                      <a:lnTo>
                        <a:pt x="92" y="669"/>
                      </a:lnTo>
                      <a:lnTo>
                        <a:pt x="0" y="728"/>
                      </a:lnTo>
                      <a:lnTo>
                        <a:pt x="206" y="6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63120" y="317556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9" h="723">
                      <a:moveTo>
                        <a:pt x="299" y="0"/>
                      </a:moveTo>
                      <a:lnTo>
                        <a:pt x="93" y="668"/>
                      </a:lnTo>
                      <a:lnTo>
                        <a:pt x="0" y="723"/>
                      </a:lnTo>
                      <a:lnTo>
                        <a:pt x="203" y="57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153760" y="317916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298" h="720">
                      <a:moveTo>
                        <a:pt x="298" y="0"/>
                      </a:moveTo>
                      <a:lnTo>
                        <a:pt x="95" y="666"/>
                      </a:lnTo>
                      <a:lnTo>
                        <a:pt x="0" y="720"/>
                      </a:lnTo>
                      <a:lnTo>
                        <a:pt x="200" y="54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144040" y="31813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7" h="715">
                      <a:moveTo>
                        <a:pt x="297" y="0"/>
                      </a:moveTo>
                      <a:lnTo>
                        <a:pt x="97" y="666"/>
                      </a:lnTo>
                      <a:lnTo>
                        <a:pt x="0" y="715"/>
                      </a:lnTo>
                      <a:lnTo>
                        <a:pt x="198" y="5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34320" y="31849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5" h="711">
                      <a:moveTo>
                        <a:pt x="295" y="0"/>
                      </a:moveTo>
                      <a:lnTo>
                        <a:pt x="97" y="664"/>
                      </a:lnTo>
                      <a:lnTo>
                        <a:pt x="0" y="711"/>
                      </a:lnTo>
                      <a:lnTo>
                        <a:pt x="195" y="49"/>
                      </a:lnTo>
                      <a:lnTo>
                        <a:pt x="295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24600" y="3186720"/>
                  <a:ext cx="28800" cy="38160"/>
                </a:xfrm>
                <a:custGeom>
                  <a:avLst/>
                  <a:gdLst/>
                  <a:ahLst/>
                  <a:rect l="l" t="t" r="r" b="b"/>
                  <a:pathLst>
                    <a:path w="292" h="706">
                      <a:moveTo>
                        <a:pt x="292" y="0"/>
                      </a:moveTo>
                      <a:lnTo>
                        <a:pt x="97" y="662"/>
                      </a:lnTo>
                      <a:lnTo>
                        <a:pt x="0" y="706"/>
                      </a:lnTo>
                      <a:lnTo>
                        <a:pt x="191" y="45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115240" y="318924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291" h="702">
                      <a:moveTo>
                        <a:pt x="291" y="0"/>
                      </a:moveTo>
                      <a:lnTo>
                        <a:pt x="100" y="661"/>
                      </a:lnTo>
                      <a:lnTo>
                        <a:pt x="0" y="702"/>
                      </a:lnTo>
                      <a:lnTo>
                        <a:pt x="189" y="4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9ac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96160" y="319140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388" h="732">
                      <a:moveTo>
                        <a:pt x="388" y="0"/>
                      </a:moveTo>
                      <a:lnTo>
                        <a:pt x="199" y="660"/>
                      </a:lnTo>
                      <a:lnTo>
                        <a:pt x="100" y="697"/>
                      </a:lnTo>
                      <a:lnTo>
                        <a:pt x="0" y="732"/>
                      </a:lnTo>
                      <a:lnTo>
                        <a:pt x="183" y="73"/>
                      </a:lnTo>
                      <a:lnTo>
                        <a:pt x="286" y="38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8eb7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75640" y="3196080"/>
                  <a:ext cx="38160" cy="38160"/>
                </a:xfrm>
                <a:custGeom>
                  <a:avLst/>
                  <a:gdLst/>
                  <a:ahLst/>
                  <a:rect l="l" t="t" r="r" b="b"/>
                  <a:pathLst>
                    <a:path w="385" h="716">
                      <a:moveTo>
                        <a:pt x="385" y="0"/>
                      </a:moveTo>
                      <a:lnTo>
                        <a:pt x="202" y="659"/>
                      </a:lnTo>
                      <a:lnTo>
                        <a:pt x="168" y="669"/>
                      </a:lnTo>
                      <a:lnTo>
                        <a:pt x="134" y="679"/>
                      </a:lnTo>
                      <a:lnTo>
                        <a:pt x="102" y="689"/>
                      </a:lnTo>
                      <a:lnTo>
                        <a:pt x="68" y="698"/>
                      </a:lnTo>
                      <a:lnTo>
                        <a:pt x="34" y="708"/>
                      </a:lnTo>
                      <a:lnTo>
                        <a:pt x="0" y="716"/>
                      </a:lnTo>
                      <a:lnTo>
                        <a:pt x="177" y="60"/>
                      </a:lnTo>
                      <a:lnTo>
                        <a:pt x="212" y="50"/>
                      </a:lnTo>
                      <a:lnTo>
                        <a:pt x="247" y="41"/>
                      </a:lnTo>
                      <a:lnTo>
                        <a:pt x="281" y="32"/>
                      </a:lnTo>
                      <a:lnTo>
                        <a:pt x="316" y="21"/>
                      </a:lnTo>
                      <a:lnTo>
                        <a:pt x="351" y="1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56200" y="31993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9" h="702">
                      <a:moveTo>
                        <a:pt x="379" y="0"/>
                      </a:moveTo>
                      <a:lnTo>
                        <a:pt x="202" y="656"/>
                      </a:lnTo>
                      <a:lnTo>
                        <a:pt x="169" y="664"/>
                      </a:lnTo>
                      <a:lnTo>
                        <a:pt x="135" y="673"/>
                      </a:lnTo>
                      <a:lnTo>
                        <a:pt x="102" y="680"/>
                      </a:lnTo>
                      <a:lnTo>
                        <a:pt x="68" y="688"/>
                      </a:lnTo>
                      <a:lnTo>
                        <a:pt x="34" y="694"/>
                      </a:lnTo>
                      <a:lnTo>
                        <a:pt x="0" y="702"/>
                      </a:lnTo>
                      <a:lnTo>
                        <a:pt x="172" y="46"/>
                      </a:lnTo>
                      <a:lnTo>
                        <a:pt x="207" y="39"/>
                      </a:lnTo>
                      <a:lnTo>
                        <a:pt x="241" y="32"/>
                      </a:lnTo>
                      <a:lnTo>
                        <a:pt x="276" y="24"/>
                      </a:lnTo>
                      <a:lnTo>
                        <a:pt x="311" y="17"/>
                      </a:lnTo>
                      <a:lnTo>
                        <a:pt x="346" y="8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7f9e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36040" y="3201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375" h="689">
                      <a:moveTo>
                        <a:pt x="375" y="0"/>
                      </a:moveTo>
                      <a:lnTo>
                        <a:pt x="203" y="656"/>
                      </a:lnTo>
                      <a:lnTo>
                        <a:pt x="169" y="662"/>
                      </a:lnTo>
                      <a:lnTo>
                        <a:pt x="135" y="668"/>
                      </a:lnTo>
                      <a:lnTo>
                        <a:pt x="102" y="673"/>
                      </a:lnTo>
                      <a:lnTo>
                        <a:pt x="68" y="680"/>
                      </a:lnTo>
                      <a:lnTo>
                        <a:pt x="34" y="685"/>
                      </a:lnTo>
                      <a:lnTo>
                        <a:pt x="0" y="689"/>
                      </a:lnTo>
                      <a:lnTo>
                        <a:pt x="165" y="34"/>
                      </a:lnTo>
                      <a:lnTo>
                        <a:pt x="200" y="30"/>
                      </a:lnTo>
                      <a:lnTo>
                        <a:pt x="236" y="25"/>
                      </a:lnTo>
                      <a:lnTo>
                        <a:pt x="271" y="18"/>
                      </a:lnTo>
                      <a:lnTo>
                        <a:pt x="306" y="13"/>
                      </a:lnTo>
                      <a:lnTo>
                        <a:pt x="340" y="7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778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015520" y="3202560"/>
                  <a:ext cx="36720" cy="37080"/>
                </a:xfrm>
                <a:custGeom>
                  <a:avLst/>
                  <a:gdLst/>
                  <a:ahLst/>
                  <a:rect l="l" t="t" r="r" b="b"/>
                  <a:pathLst>
                    <a:path w="371" h="677">
                      <a:moveTo>
                        <a:pt x="371" y="0"/>
                      </a:moveTo>
                      <a:lnTo>
                        <a:pt x="206" y="655"/>
                      </a:lnTo>
                      <a:lnTo>
                        <a:pt x="171" y="659"/>
                      </a:lnTo>
                      <a:lnTo>
                        <a:pt x="137" y="663"/>
                      </a:lnTo>
                      <a:lnTo>
                        <a:pt x="103" y="668"/>
                      </a:lnTo>
                      <a:lnTo>
                        <a:pt x="69" y="671"/>
                      </a:lnTo>
                      <a:lnTo>
                        <a:pt x="34" y="674"/>
                      </a:lnTo>
                      <a:lnTo>
                        <a:pt x="0" y="677"/>
                      </a:lnTo>
                      <a:lnTo>
                        <a:pt x="159" y="23"/>
                      </a:lnTo>
                      <a:lnTo>
                        <a:pt x="195" y="20"/>
                      </a:lnTo>
                      <a:lnTo>
                        <a:pt x="231" y="17"/>
                      </a:lnTo>
                      <a:lnTo>
                        <a:pt x="265" y="14"/>
                      </a:lnTo>
                      <a:lnTo>
                        <a:pt x="301" y="9"/>
                      </a:lnTo>
                      <a:lnTo>
                        <a:pt x="336" y="5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96080" y="3204000"/>
                  <a:ext cx="35640" cy="36000"/>
                </a:xfrm>
                <a:custGeom>
                  <a:avLst/>
                  <a:gdLst/>
                  <a:ahLst/>
                  <a:rect l="l" t="t" r="r" b="b"/>
                  <a:pathLst>
                    <a:path w="368" h="663">
                      <a:moveTo>
                        <a:pt x="368" y="0"/>
                      </a:moveTo>
                      <a:lnTo>
                        <a:pt x="209" y="654"/>
                      </a:lnTo>
                      <a:lnTo>
                        <a:pt x="174" y="656"/>
                      </a:lnTo>
                      <a:lnTo>
                        <a:pt x="139" y="658"/>
                      </a:lnTo>
                      <a:lnTo>
                        <a:pt x="104" y="660"/>
                      </a:lnTo>
                      <a:lnTo>
                        <a:pt x="69" y="661"/>
                      </a:lnTo>
                      <a:lnTo>
                        <a:pt x="35" y="662"/>
                      </a:lnTo>
                      <a:lnTo>
                        <a:pt x="0" y="663"/>
                      </a:lnTo>
                      <a:lnTo>
                        <a:pt x="152" y="9"/>
                      </a:lnTo>
                      <a:lnTo>
                        <a:pt x="189" y="8"/>
                      </a:lnTo>
                      <a:lnTo>
                        <a:pt x="225" y="7"/>
                      </a:lnTo>
                      <a:lnTo>
                        <a:pt x="261" y="6"/>
                      </a:lnTo>
                      <a:lnTo>
                        <a:pt x="297" y="4"/>
                      </a:lnTo>
                      <a:lnTo>
                        <a:pt x="333" y="2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6d7a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88160" y="3205080"/>
                  <a:ext cx="21600" cy="34920"/>
                </a:xfrm>
                <a:custGeom>
                  <a:avLst/>
                  <a:gdLst/>
                  <a:ahLst/>
                  <a:rect l="l" t="t" r="r" b="b"/>
                  <a:pathLst>
                    <a:path w="223" h="654">
                      <a:moveTo>
                        <a:pt x="223" y="0"/>
                      </a:moveTo>
                      <a:lnTo>
                        <a:pt x="71" y="654"/>
                      </a:lnTo>
                      <a:lnTo>
                        <a:pt x="35" y="654"/>
                      </a:lnTo>
                      <a:lnTo>
                        <a:pt x="0" y="654"/>
                      </a:lnTo>
                      <a:lnTo>
                        <a:pt x="152" y="0"/>
                      </a:lnTo>
                      <a:lnTo>
                        <a:pt x="188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6872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980960" y="3209760"/>
                  <a:ext cx="20520" cy="44640"/>
                </a:xfrm>
                <a:custGeom>
                  <a:avLst/>
                  <a:gdLst/>
                  <a:ahLst/>
                  <a:rect l="l" t="t" r="r" b="b"/>
                  <a:pathLst>
                    <a:path w="201" h="832">
                      <a:moveTo>
                        <a:pt x="201" y="0"/>
                      </a:moveTo>
                      <a:lnTo>
                        <a:pt x="50" y="652"/>
                      </a:lnTo>
                      <a:lnTo>
                        <a:pt x="27" y="743"/>
                      </a:lnTo>
                      <a:lnTo>
                        <a:pt x="0" y="832"/>
                      </a:lnTo>
                      <a:lnTo>
                        <a:pt x="150" y="185"/>
                      </a:lnTo>
                      <a:lnTo>
                        <a:pt x="177" y="9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75560" y="3219480"/>
                  <a:ext cx="20160" cy="43920"/>
                </a:xfrm>
                <a:custGeom>
                  <a:avLst/>
                  <a:gdLst/>
                  <a:ahLst/>
                  <a:rect l="l" t="t" r="r" b="b"/>
                  <a:pathLst>
                    <a:path w="210" h="821">
                      <a:moveTo>
                        <a:pt x="210" y="0"/>
                      </a:moveTo>
                      <a:lnTo>
                        <a:pt x="60" y="647"/>
                      </a:lnTo>
                      <a:lnTo>
                        <a:pt x="31" y="735"/>
                      </a:lnTo>
                      <a:lnTo>
                        <a:pt x="0" y="821"/>
                      </a:lnTo>
                      <a:lnTo>
                        <a:pt x="147" y="179"/>
                      </a:lnTo>
                      <a:lnTo>
                        <a:pt x="180" y="90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968720" y="3229920"/>
                  <a:ext cx="21600" cy="42840"/>
                </a:xfrm>
                <a:custGeom>
                  <a:avLst/>
                  <a:gdLst/>
                  <a:ahLst/>
                  <a:rect l="l" t="t" r="r" b="b"/>
                  <a:pathLst>
                    <a:path w="219" h="810">
                      <a:moveTo>
                        <a:pt x="219" y="0"/>
                      </a:moveTo>
                      <a:lnTo>
                        <a:pt x="72" y="642"/>
                      </a:lnTo>
                      <a:lnTo>
                        <a:pt x="37" y="726"/>
                      </a:lnTo>
                      <a:lnTo>
                        <a:pt x="0" y="810"/>
                      </a:lnTo>
                      <a:lnTo>
                        <a:pt x="146" y="172"/>
                      </a:lnTo>
                      <a:lnTo>
                        <a:pt x="183" y="87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960440" y="3238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226" h="800">
                      <a:moveTo>
                        <a:pt x="226" y="0"/>
                      </a:moveTo>
                      <a:lnTo>
                        <a:pt x="80" y="638"/>
                      </a:lnTo>
                      <a:lnTo>
                        <a:pt x="41" y="720"/>
                      </a:lnTo>
                      <a:lnTo>
                        <a:pt x="0" y="800"/>
                      </a:lnTo>
                      <a:lnTo>
                        <a:pt x="143" y="167"/>
                      </a:lnTo>
                      <a:lnTo>
                        <a:pt x="185" y="84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52160" y="3247920"/>
                  <a:ext cx="21600" cy="41400"/>
                </a:xfrm>
                <a:custGeom>
                  <a:avLst/>
                  <a:gdLst/>
                  <a:ahLst/>
                  <a:rect l="l" t="t" r="r" b="b"/>
                  <a:pathLst>
                    <a:path w="233" h="788">
                      <a:moveTo>
                        <a:pt x="233" y="0"/>
                      </a:moveTo>
                      <a:lnTo>
                        <a:pt x="90" y="633"/>
                      </a:lnTo>
                      <a:lnTo>
                        <a:pt x="46" y="711"/>
                      </a:lnTo>
                      <a:lnTo>
                        <a:pt x="0" y="788"/>
                      </a:lnTo>
                      <a:lnTo>
                        <a:pt x="140" y="159"/>
                      </a:lnTo>
                      <a:lnTo>
                        <a:pt x="187" y="8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42800" y="325548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240" h="780">
                      <a:moveTo>
                        <a:pt x="240" y="0"/>
                      </a:moveTo>
                      <a:lnTo>
                        <a:pt x="100" y="629"/>
                      </a:lnTo>
                      <a:lnTo>
                        <a:pt x="51" y="705"/>
                      </a:lnTo>
                      <a:lnTo>
                        <a:pt x="0" y="780"/>
                      </a:lnTo>
                      <a:lnTo>
                        <a:pt x="139" y="154"/>
                      </a:lnTo>
                      <a:lnTo>
                        <a:pt x="191" y="78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31640" y="3264840"/>
                  <a:ext cx="24480" cy="40320"/>
                </a:xfrm>
                <a:custGeom>
                  <a:avLst/>
                  <a:gdLst/>
                  <a:ahLst/>
                  <a:rect l="l" t="t" r="r" b="b"/>
                  <a:pathLst>
                    <a:path w="247" h="770">
                      <a:moveTo>
                        <a:pt x="247" y="0"/>
                      </a:moveTo>
                      <a:lnTo>
                        <a:pt x="108" y="626"/>
                      </a:lnTo>
                      <a:lnTo>
                        <a:pt x="56" y="698"/>
                      </a:lnTo>
                      <a:lnTo>
                        <a:pt x="0" y="770"/>
                      </a:lnTo>
                      <a:lnTo>
                        <a:pt x="136" y="148"/>
                      </a:lnTo>
                      <a:lnTo>
                        <a:pt x="192" y="75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920480" y="327276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250" h="761">
                      <a:moveTo>
                        <a:pt x="250" y="0"/>
                      </a:moveTo>
                      <a:lnTo>
                        <a:pt x="114" y="622"/>
                      </a:lnTo>
                      <a:lnTo>
                        <a:pt x="58" y="692"/>
                      </a:lnTo>
                      <a:lnTo>
                        <a:pt x="0" y="761"/>
                      </a:lnTo>
                      <a:lnTo>
                        <a:pt x="131" y="143"/>
                      </a:lnTo>
                      <a:lnTo>
                        <a:pt x="191" y="72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908600" y="3280320"/>
                  <a:ext cx="24480" cy="39600"/>
                </a:xfrm>
                <a:custGeom>
                  <a:avLst/>
                  <a:gdLst/>
                  <a:ahLst/>
                  <a:rect l="l" t="t" r="r" b="b"/>
                  <a:pathLst>
                    <a:path w="254" h="750">
                      <a:moveTo>
                        <a:pt x="254" y="0"/>
                      </a:moveTo>
                      <a:lnTo>
                        <a:pt x="123" y="618"/>
                      </a:lnTo>
                      <a:lnTo>
                        <a:pt x="62" y="684"/>
                      </a:lnTo>
                      <a:lnTo>
                        <a:pt x="0" y="750"/>
                      </a:lnTo>
                      <a:lnTo>
                        <a:pt x="128" y="136"/>
                      </a:lnTo>
                      <a:lnTo>
                        <a:pt x="191" y="69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96000" y="32871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59" h="741">
                      <a:moveTo>
                        <a:pt x="259" y="0"/>
                      </a:moveTo>
                      <a:lnTo>
                        <a:pt x="131" y="614"/>
                      </a:lnTo>
                      <a:lnTo>
                        <a:pt x="66" y="678"/>
                      </a:lnTo>
                      <a:lnTo>
                        <a:pt x="0" y="741"/>
                      </a:lnTo>
                      <a:lnTo>
                        <a:pt x="124" y="131"/>
                      </a:lnTo>
                      <a:lnTo>
                        <a:pt x="192" y="66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bde1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82320" y="3294000"/>
                  <a:ext cx="25920" cy="39600"/>
                </a:xfrm>
                <a:custGeom>
                  <a:avLst/>
                  <a:gdLst/>
                  <a:ahLst/>
                  <a:rect l="l" t="t" r="r" b="b"/>
                  <a:pathLst>
                    <a:path w="261" h="731">
                      <a:moveTo>
                        <a:pt x="261" y="0"/>
                      </a:moveTo>
                      <a:lnTo>
                        <a:pt x="137" y="610"/>
                      </a:lnTo>
                      <a:lnTo>
                        <a:pt x="70" y="671"/>
                      </a:lnTo>
                      <a:lnTo>
                        <a:pt x="0" y="731"/>
                      </a:lnTo>
                      <a:lnTo>
                        <a:pt x="120" y="124"/>
                      </a:lnTo>
                      <a:lnTo>
                        <a:pt x="192" y="62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68640" y="330084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264" h="722">
                      <a:moveTo>
                        <a:pt x="264" y="0"/>
                      </a:moveTo>
                      <a:lnTo>
                        <a:pt x="144" y="607"/>
                      </a:lnTo>
                      <a:lnTo>
                        <a:pt x="73" y="665"/>
                      </a:lnTo>
                      <a:lnTo>
                        <a:pt x="0" y="722"/>
                      </a:lnTo>
                      <a:lnTo>
                        <a:pt x="116" y="118"/>
                      </a:lnTo>
                      <a:lnTo>
                        <a:pt x="191" y="6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53520" y="33076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5" h="715">
                      <a:moveTo>
                        <a:pt x="265" y="0"/>
                      </a:moveTo>
                      <a:lnTo>
                        <a:pt x="149" y="604"/>
                      </a:lnTo>
                      <a:lnTo>
                        <a:pt x="75" y="661"/>
                      </a:lnTo>
                      <a:lnTo>
                        <a:pt x="0" y="715"/>
                      </a:lnTo>
                      <a:lnTo>
                        <a:pt x="111" y="113"/>
                      </a:lnTo>
                      <a:lnTo>
                        <a:pt x="189" y="5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838400" y="33130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66" h="706">
                      <a:moveTo>
                        <a:pt x="266" y="0"/>
                      </a:moveTo>
                      <a:lnTo>
                        <a:pt x="155" y="602"/>
                      </a:lnTo>
                      <a:lnTo>
                        <a:pt x="78" y="654"/>
                      </a:lnTo>
                      <a:lnTo>
                        <a:pt x="0" y="706"/>
                      </a:lnTo>
                      <a:lnTo>
                        <a:pt x="107" y="107"/>
                      </a:lnTo>
                      <a:lnTo>
                        <a:pt x="187" y="54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22200" y="331884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67" h="698">
                      <a:moveTo>
                        <a:pt x="267" y="0"/>
                      </a:moveTo>
                      <a:lnTo>
                        <a:pt x="160" y="599"/>
                      </a:lnTo>
                      <a:lnTo>
                        <a:pt x="81" y="649"/>
                      </a:lnTo>
                      <a:lnTo>
                        <a:pt x="0" y="698"/>
                      </a:lnTo>
                      <a:lnTo>
                        <a:pt x="102" y="102"/>
                      </a:lnTo>
                      <a:lnTo>
                        <a:pt x="185" y="52"/>
                      </a:lnTo>
                      <a:lnTo>
                        <a:pt x="267" y="0"/>
                      </a:lnTo>
                      <a:close/>
                    </a:path>
                  </a:pathLst>
                </a:custGeom>
                <a:solidFill>
                  <a:srgbClr val="a9d8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815360" y="3324240"/>
                  <a:ext cx="17640" cy="34920"/>
                </a:xfrm>
                <a:custGeom>
                  <a:avLst/>
                  <a:gdLst/>
                  <a:ahLst/>
                  <a:rect l="l" t="t" r="r" b="b"/>
                  <a:pathLst>
                    <a:path w="184" h="643">
                      <a:moveTo>
                        <a:pt x="184" y="0"/>
                      </a:moveTo>
                      <a:lnTo>
                        <a:pt x="82" y="596"/>
                      </a:lnTo>
                      <a:lnTo>
                        <a:pt x="0" y="643"/>
                      </a:lnTo>
                      <a:lnTo>
                        <a:pt x="100" y="48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97360" y="332784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272" h="683">
                      <a:moveTo>
                        <a:pt x="272" y="0"/>
                      </a:moveTo>
                      <a:lnTo>
                        <a:pt x="172" y="595"/>
                      </a:lnTo>
                      <a:lnTo>
                        <a:pt x="144" y="610"/>
                      </a:lnTo>
                      <a:lnTo>
                        <a:pt x="115" y="625"/>
                      </a:lnTo>
                      <a:lnTo>
                        <a:pt x="87" y="639"/>
                      </a:lnTo>
                      <a:lnTo>
                        <a:pt x="58" y="654"/>
                      </a:lnTo>
                      <a:lnTo>
                        <a:pt x="29" y="669"/>
                      </a:lnTo>
                      <a:lnTo>
                        <a:pt x="0" y="683"/>
                      </a:lnTo>
                      <a:lnTo>
                        <a:pt x="96" y="91"/>
                      </a:lnTo>
                      <a:lnTo>
                        <a:pt x="125" y="76"/>
                      </a:lnTo>
                      <a:lnTo>
                        <a:pt x="154" y="61"/>
                      </a:lnTo>
                      <a:lnTo>
                        <a:pt x="184" y="47"/>
                      </a:lnTo>
                      <a:lnTo>
                        <a:pt x="214" y="31"/>
                      </a:lnTo>
                      <a:lnTo>
                        <a:pt x="242" y="16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81160" y="3332160"/>
                  <a:ext cx="25560" cy="36000"/>
                </a:xfrm>
                <a:custGeom>
                  <a:avLst/>
                  <a:gdLst/>
                  <a:ahLst/>
                  <a:rect l="l" t="t" r="r" b="b"/>
                  <a:pathLst>
                    <a:path w="270" h="674">
                      <a:moveTo>
                        <a:pt x="270" y="0"/>
                      </a:moveTo>
                      <a:lnTo>
                        <a:pt x="174" y="592"/>
                      </a:lnTo>
                      <a:lnTo>
                        <a:pt x="146" y="606"/>
                      </a:lnTo>
                      <a:lnTo>
                        <a:pt x="116" y="620"/>
                      </a:lnTo>
                      <a:lnTo>
                        <a:pt x="87" y="634"/>
                      </a:lnTo>
                      <a:lnTo>
                        <a:pt x="59" y="647"/>
                      </a:lnTo>
                      <a:lnTo>
                        <a:pt x="29" y="661"/>
                      </a:lnTo>
                      <a:lnTo>
                        <a:pt x="0" y="674"/>
                      </a:lnTo>
                      <a:lnTo>
                        <a:pt x="90" y="85"/>
                      </a:lnTo>
                      <a:lnTo>
                        <a:pt x="120" y="70"/>
                      </a:lnTo>
                      <a:lnTo>
                        <a:pt x="150" y="57"/>
                      </a:lnTo>
                      <a:lnTo>
                        <a:pt x="180" y="43"/>
                      </a:lnTo>
                      <a:lnTo>
                        <a:pt x="210" y="29"/>
                      </a:lnTo>
                      <a:lnTo>
                        <a:pt x="240" y="14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68560" y="333684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08" h="643">
                      <a:moveTo>
                        <a:pt x="208" y="0"/>
                      </a:moveTo>
                      <a:lnTo>
                        <a:pt x="118" y="589"/>
                      </a:lnTo>
                      <a:lnTo>
                        <a:pt x="88" y="603"/>
                      </a:lnTo>
                      <a:lnTo>
                        <a:pt x="60" y="617"/>
                      </a:lnTo>
                      <a:lnTo>
                        <a:pt x="30" y="630"/>
                      </a:lnTo>
                      <a:lnTo>
                        <a:pt x="0" y="643"/>
                      </a:lnTo>
                      <a:lnTo>
                        <a:pt x="86" y="54"/>
                      </a:lnTo>
                      <a:lnTo>
                        <a:pt x="117" y="41"/>
                      </a:lnTo>
                      <a:lnTo>
                        <a:pt x="148" y="27"/>
                      </a:lnTo>
                      <a:lnTo>
                        <a:pt x="178" y="1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749480" y="3339360"/>
                  <a:ext cx="28800" cy="36000"/>
                </a:xfrm>
                <a:custGeom>
                  <a:avLst/>
                  <a:gdLst/>
                  <a:ahLst/>
                  <a:rect l="l" t="t" r="r" b="b"/>
                  <a:pathLst>
                    <a:path w="284" h="662">
                      <a:moveTo>
                        <a:pt x="284" y="0"/>
                      </a:moveTo>
                      <a:lnTo>
                        <a:pt x="198" y="589"/>
                      </a:lnTo>
                      <a:lnTo>
                        <a:pt x="132" y="615"/>
                      </a:lnTo>
                      <a:lnTo>
                        <a:pt x="66" y="639"/>
                      </a:lnTo>
                      <a:lnTo>
                        <a:pt x="0" y="662"/>
                      </a:lnTo>
                      <a:lnTo>
                        <a:pt x="80" y="76"/>
                      </a:lnTo>
                      <a:lnTo>
                        <a:pt x="149" y="52"/>
                      </a:lnTo>
                      <a:lnTo>
                        <a:pt x="217" y="2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91b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30040" y="334368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277" h="653">
                      <a:moveTo>
                        <a:pt x="277" y="0"/>
                      </a:moveTo>
                      <a:lnTo>
                        <a:pt x="197" y="586"/>
                      </a:lnTo>
                      <a:lnTo>
                        <a:pt x="132" y="609"/>
                      </a:lnTo>
                      <a:lnTo>
                        <a:pt x="66" y="631"/>
                      </a:lnTo>
                      <a:lnTo>
                        <a:pt x="0" y="653"/>
                      </a:lnTo>
                      <a:lnTo>
                        <a:pt x="75" y="68"/>
                      </a:lnTo>
                      <a:lnTo>
                        <a:pt x="142" y="46"/>
                      </a:lnTo>
                      <a:lnTo>
                        <a:pt x="210" y="2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bb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11320" y="3347280"/>
                  <a:ext cx="27000" cy="34560"/>
                </a:xfrm>
                <a:custGeom>
                  <a:avLst/>
                  <a:gdLst/>
                  <a:ahLst/>
                  <a:rect l="l" t="t" r="r" b="b"/>
                  <a:pathLst>
                    <a:path w="272" h="642">
                      <a:moveTo>
                        <a:pt x="272" y="0"/>
                      </a:moveTo>
                      <a:lnTo>
                        <a:pt x="197" y="585"/>
                      </a:lnTo>
                      <a:lnTo>
                        <a:pt x="132" y="605"/>
                      </a:lnTo>
                      <a:lnTo>
                        <a:pt x="66" y="624"/>
                      </a:lnTo>
                      <a:lnTo>
                        <a:pt x="0" y="642"/>
                      </a:lnTo>
                      <a:lnTo>
                        <a:pt x="69" y="59"/>
                      </a:lnTo>
                      <a:lnTo>
                        <a:pt x="137" y="40"/>
                      </a:lnTo>
                      <a:lnTo>
                        <a:pt x="205" y="21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91880" y="3350520"/>
                  <a:ext cx="25920" cy="33480"/>
                </a:xfrm>
                <a:custGeom>
                  <a:avLst/>
                  <a:gdLst/>
                  <a:ahLst/>
                  <a:rect l="l" t="t" r="r" b="b"/>
                  <a:pathLst>
                    <a:path w="265" h="633">
                      <a:moveTo>
                        <a:pt x="265" y="0"/>
                      </a:moveTo>
                      <a:lnTo>
                        <a:pt x="196" y="583"/>
                      </a:lnTo>
                      <a:lnTo>
                        <a:pt x="131" y="601"/>
                      </a:lnTo>
                      <a:lnTo>
                        <a:pt x="65" y="618"/>
                      </a:lnTo>
                      <a:lnTo>
                        <a:pt x="0" y="633"/>
                      </a:lnTo>
                      <a:lnTo>
                        <a:pt x="63" y="51"/>
                      </a:lnTo>
                      <a:lnTo>
                        <a:pt x="131" y="36"/>
                      </a:lnTo>
                      <a:lnTo>
                        <a:pt x="199" y="1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83a3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672440" y="3353760"/>
                  <a:ext cx="25920" cy="32400"/>
                </a:xfrm>
                <a:custGeom>
                  <a:avLst/>
                  <a:gdLst/>
                  <a:ahLst/>
                  <a:rect l="l" t="t" r="r" b="b"/>
                  <a:pathLst>
                    <a:path w="260" h="625">
                      <a:moveTo>
                        <a:pt x="260" y="0"/>
                      </a:moveTo>
                      <a:lnTo>
                        <a:pt x="197" y="582"/>
                      </a:lnTo>
                      <a:lnTo>
                        <a:pt x="131" y="597"/>
                      </a:lnTo>
                      <a:lnTo>
                        <a:pt x="65" y="612"/>
                      </a:lnTo>
                      <a:lnTo>
                        <a:pt x="0" y="625"/>
                      </a:lnTo>
                      <a:lnTo>
                        <a:pt x="57" y="44"/>
                      </a:lnTo>
                      <a:lnTo>
                        <a:pt x="125" y="30"/>
                      </a:lnTo>
                      <a:lnTo>
                        <a:pt x="192" y="16"/>
                      </a:lnTo>
                      <a:lnTo>
                        <a:pt x="260" y="0"/>
                      </a:lnTo>
                      <a:close/>
                    </a:path>
                  </a:pathLst>
                </a:custGeom>
                <a:solidFill>
                  <a:srgbClr val="7d9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53720" y="335592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6" h="615">
                      <a:moveTo>
                        <a:pt x="256" y="0"/>
                      </a:moveTo>
                      <a:lnTo>
                        <a:pt x="199" y="581"/>
                      </a:lnTo>
                      <a:lnTo>
                        <a:pt x="132" y="593"/>
                      </a:lnTo>
                      <a:lnTo>
                        <a:pt x="66" y="604"/>
                      </a:lnTo>
                      <a:lnTo>
                        <a:pt x="0" y="615"/>
                      </a:lnTo>
                      <a:lnTo>
                        <a:pt x="51" y="35"/>
                      </a:lnTo>
                      <a:lnTo>
                        <a:pt x="120" y="24"/>
                      </a:lnTo>
                      <a:lnTo>
                        <a:pt x="187" y="12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799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34280" y="335700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251" h="607">
                      <a:moveTo>
                        <a:pt x="251" y="0"/>
                      </a:moveTo>
                      <a:lnTo>
                        <a:pt x="200" y="580"/>
                      </a:lnTo>
                      <a:lnTo>
                        <a:pt x="133" y="590"/>
                      </a:lnTo>
                      <a:lnTo>
                        <a:pt x="66" y="599"/>
                      </a:lnTo>
                      <a:lnTo>
                        <a:pt x="0" y="607"/>
                      </a:lnTo>
                      <a:lnTo>
                        <a:pt x="45" y="27"/>
                      </a:lnTo>
                      <a:lnTo>
                        <a:pt x="114" y="19"/>
                      </a:lnTo>
                      <a:lnTo>
                        <a:pt x="182" y="10"/>
                      </a:lnTo>
                      <a:lnTo>
                        <a:pt x="251" y="0"/>
                      </a:lnTo>
                      <a:close/>
                    </a:path>
                  </a:pathLst>
                </a:custGeom>
                <a:solidFill>
                  <a:srgbClr val="758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13760" y="3359520"/>
                  <a:ext cx="24480" cy="31680"/>
                </a:xfrm>
                <a:custGeom>
                  <a:avLst/>
                  <a:gdLst/>
                  <a:ahLst/>
                  <a:rect l="l" t="t" r="r" b="b"/>
                  <a:pathLst>
                    <a:path w="248" h="599">
                      <a:moveTo>
                        <a:pt x="248" y="0"/>
                      </a:moveTo>
                      <a:lnTo>
                        <a:pt x="203" y="580"/>
                      </a:lnTo>
                      <a:lnTo>
                        <a:pt x="135" y="588"/>
                      </a:lnTo>
                      <a:lnTo>
                        <a:pt x="67" y="594"/>
                      </a:lnTo>
                      <a:lnTo>
                        <a:pt x="0" y="599"/>
                      </a:lnTo>
                      <a:lnTo>
                        <a:pt x="39" y="20"/>
                      </a:lnTo>
                      <a:lnTo>
                        <a:pt x="108" y="15"/>
                      </a:lnTo>
                      <a:lnTo>
                        <a:pt x="178" y="8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3240" y="33606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245" h="592">
                      <a:moveTo>
                        <a:pt x="245" y="0"/>
                      </a:moveTo>
                      <a:lnTo>
                        <a:pt x="206" y="579"/>
                      </a:lnTo>
                      <a:lnTo>
                        <a:pt x="137" y="585"/>
                      </a:lnTo>
                      <a:lnTo>
                        <a:pt x="68" y="589"/>
                      </a:lnTo>
                      <a:lnTo>
                        <a:pt x="0" y="592"/>
                      </a:lnTo>
                      <a:lnTo>
                        <a:pt x="32" y="13"/>
                      </a:lnTo>
                      <a:lnTo>
                        <a:pt x="104" y="10"/>
                      </a:lnTo>
                      <a:lnTo>
                        <a:pt x="174" y="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6f7f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572720" y="3360600"/>
                  <a:ext cx="24840" cy="31320"/>
                </a:xfrm>
                <a:custGeom>
                  <a:avLst/>
                  <a:gdLst/>
                  <a:ahLst/>
                  <a:rect l="l" t="t" r="r" b="b"/>
                  <a:pathLst>
                    <a:path w="243" h="584">
                      <a:moveTo>
                        <a:pt x="243" y="0"/>
                      </a:moveTo>
                      <a:lnTo>
                        <a:pt x="211" y="579"/>
                      </a:lnTo>
                      <a:lnTo>
                        <a:pt x="141" y="581"/>
                      </a:lnTo>
                      <a:lnTo>
                        <a:pt x="71" y="583"/>
                      </a:lnTo>
                      <a:lnTo>
                        <a:pt x="0" y="584"/>
                      </a:lnTo>
                      <a:lnTo>
                        <a:pt x="28" y="5"/>
                      </a:lnTo>
                      <a:lnTo>
                        <a:pt x="100" y="5"/>
                      </a:lnTo>
                      <a:lnTo>
                        <a:pt x="172" y="3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b7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559040" y="336060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w="169" h="579">
                      <a:moveTo>
                        <a:pt x="169" y="0"/>
                      </a:moveTo>
                      <a:lnTo>
                        <a:pt x="141" y="579"/>
                      </a:lnTo>
                      <a:lnTo>
                        <a:pt x="71" y="579"/>
                      </a:lnTo>
                      <a:lnTo>
                        <a:pt x="0" y="578"/>
                      </a:lnTo>
                      <a:lnTo>
                        <a:pt x="22" y="0"/>
                      </a:lnTo>
                      <a:lnTo>
                        <a:pt x="96" y="1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520520" y="3359520"/>
                  <a:ext cx="40680" cy="32400"/>
                </a:xfrm>
                <a:custGeom>
                  <a:avLst/>
                  <a:gdLst/>
                  <a:ahLst/>
                  <a:rect l="l" t="t" r="r" b="b"/>
                  <a:pathLst>
                    <a:path w="412" h="607">
                      <a:moveTo>
                        <a:pt x="412" y="29"/>
                      </a:moveTo>
                      <a:lnTo>
                        <a:pt x="390" y="607"/>
                      </a:lnTo>
                      <a:lnTo>
                        <a:pt x="0" y="579"/>
                      </a:lnTo>
                      <a:lnTo>
                        <a:pt x="11" y="0"/>
                      </a:lnTo>
                      <a:lnTo>
                        <a:pt x="412" y="29"/>
                      </a:lnTo>
                      <a:close/>
                    </a:path>
                  </a:pathLst>
                </a:custGeom>
                <a:solidFill>
                  <a:srgbClr val="5c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501440" y="335844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8" h="609">
                      <a:moveTo>
                        <a:pt x="208" y="30"/>
                      </a:moveTo>
                      <a:lnTo>
                        <a:pt x="197" y="609"/>
                      </a:lnTo>
                      <a:lnTo>
                        <a:pt x="99" y="595"/>
                      </a:lnTo>
                      <a:lnTo>
                        <a:pt x="0" y="581"/>
                      </a:lnTo>
                      <a:lnTo>
                        <a:pt x="6" y="0"/>
                      </a:lnTo>
                      <a:lnTo>
                        <a:pt x="107" y="16"/>
                      </a:lnTo>
                      <a:lnTo>
                        <a:pt x="208" y="30"/>
                      </a:lnTo>
                      <a:close/>
                    </a:path>
                  </a:pathLst>
                </a:custGeom>
                <a:solidFill>
                  <a:srgbClr val="505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482000" y="3355920"/>
                  <a:ext cx="20160" cy="32400"/>
                </a:xfrm>
                <a:custGeom>
                  <a:avLst/>
                  <a:gdLst/>
                  <a:ahLst/>
                  <a:rect l="l" t="t" r="r" b="b"/>
                  <a:pathLst>
                    <a:path w="202" h="618">
                      <a:moveTo>
                        <a:pt x="202" y="37"/>
                      </a:moveTo>
                      <a:lnTo>
                        <a:pt x="196" y="618"/>
                      </a:lnTo>
                      <a:lnTo>
                        <a:pt x="99" y="600"/>
                      </a:lnTo>
                      <a:lnTo>
                        <a:pt x="0" y="581"/>
                      </a:lnTo>
                      <a:lnTo>
                        <a:pt x="0" y="0"/>
                      </a:lnTo>
                      <a:lnTo>
                        <a:pt x="101" y="19"/>
                      </a:lnTo>
                      <a:lnTo>
                        <a:pt x="202" y="37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463280" y="3353760"/>
                  <a:ext cx="18720" cy="33480"/>
                </a:xfrm>
                <a:custGeom>
                  <a:avLst/>
                  <a:gdLst/>
                  <a:ahLst/>
                  <a:rect l="l" t="t" r="r" b="b"/>
                  <a:pathLst>
                    <a:path w="201" h="626">
                      <a:moveTo>
                        <a:pt x="201" y="45"/>
                      </a:moveTo>
                      <a:lnTo>
                        <a:pt x="201" y="626"/>
                      </a:lnTo>
                      <a:lnTo>
                        <a:pt x="104" y="605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101" y="24"/>
                      </a:lnTo>
                      <a:lnTo>
                        <a:pt x="201" y="45"/>
                      </a:lnTo>
                      <a:close/>
                    </a:path>
                  </a:pathLst>
                </a:custGeom>
                <a:solidFill>
                  <a:srgbClr val="414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443840" y="3350520"/>
                  <a:ext cx="19080" cy="34920"/>
                </a:xfrm>
                <a:custGeom>
                  <a:avLst/>
                  <a:gdLst/>
                  <a:ahLst/>
                  <a:rect l="l" t="t" r="r" b="b"/>
                  <a:pathLst>
                    <a:path w="206" h="635">
                      <a:moveTo>
                        <a:pt x="198" y="51"/>
                      </a:moveTo>
                      <a:lnTo>
                        <a:pt x="206" y="635"/>
                      </a:lnTo>
                      <a:lnTo>
                        <a:pt x="108" y="610"/>
                      </a:lnTo>
                      <a:lnTo>
                        <a:pt x="13" y="584"/>
                      </a:lnTo>
                      <a:lnTo>
                        <a:pt x="0" y="0"/>
                      </a:lnTo>
                      <a:lnTo>
                        <a:pt x="99" y="26"/>
                      </a:lnTo>
                      <a:lnTo>
                        <a:pt x="198" y="51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424760" y="3347280"/>
                  <a:ext cx="20160" cy="34560"/>
                </a:xfrm>
                <a:custGeom>
                  <a:avLst/>
                  <a:gdLst/>
                  <a:ahLst/>
                  <a:rect l="l" t="t" r="r" b="b"/>
                  <a:pathLst>
                    <a:path w="207" h="644">
                      <a:moveTo>
                        <a:pt x="194" y="60"/>
                      </a:moveTo>
                      <a:lnTo>
                        <a:pt x="207" y="644"/>
                      </a:lnTo>
                      <a:lnTo>
                        <a:pt x="111" y="615"/>
                      </a:lnTo>
                      <a:lnTo>
                        <a:pt x="17" y="586"/>
                      </a:lnTo>
                      <a:lnTo>
                        <a:pt x="0" y="0"/>
                      </a:lnTo>
                      <a:lnTo>
                        <a:pt x="97" y="31"/>
                      </a:lnTo>
                      <a:lnTo>
                        <a:pt x="194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5320" y="3343680"/>
                  <a:ext cx="20520" cy="34920"/>
                </a:xfrm>
                <a:custGeom>
                  <a:avLst/>
                  <a:gdLst/>
                  <a:ahLst/>
                  <a:rect l="l" t="t" r="r" b="b"/>
                  <a:pathLst>
                    <a:path w="210" h="654">
                      <a:moveTo>
                        <a:pt x="193" y="68"/>
                      </a:moveTo>
                      <a:lnTo>
                        <a:pt x="210" y="654"/>
                      </a:lnTo>
                      <a:lnTo>
                        <a:pt x="117" y="622"/>
                      </a:lnTo>
                      <a:lnTo>
                        <a:pt x="23" y="588"/>
                      </a:lnTo>
                      <a:lnTo>
                        <a:pt x="0" y="0"/>
                      </a:lnTo>
                      <a:lnTo>
                        <a:pt x="96" y="36"/>
                      </a:lnTo>
                      <a:lnTo>
                        <a:pt x="193" y="68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387680" y="3340080"/>
                  <a:ext cx="20160" cy="34920"/>
                </a:xfrm>
                <a:custGeom>
                  <a:avLst/>
                  <a:gdLst/>
                  <a:ahLst/>
                  <a:rect l="l" t="t" r="r" b="b"/>
                  <a:pathLst>
                    <a:path w="211" h="664">
                      <a:moveTo>
                        <a:pt x="188" y="76"/>
                      </a:moveTo>
                      <a:lnTo>
                        <a:pt x="211" y="664"/>
                      </a:lnTo>
                      <a:lnTo>
                        <a:pt x="120" y="628"/>
                      </a:lnTo>
                      <a:lnTo>
                        <a:pt x="29" y="590"/>
                      </a:lnTo>
                      <a:lnTo>
                        <a:pt x="0" y="0"/>
                      </a:lnTo>
                      <a:lnTo>
                        <a:pt x="94" y="40"/>
                      </a:lnTo>
                      <a:lnTo>
                        <a:pt x="188" y="76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370040" y="3335760"/>
                  <a:ext cx="20160" cy="36000"/>
                </a:xfrm>
                <a:custGeom>
                  <a:avLst/>
                  <a:gdLst/>
                  <a:ahLst/>
                  <a:rect l="l" t="t" r="r" b="b"/>
                  <a:pathLst>
                    <a:path w="212" h="674">
                      <a:moveTo>
                        <a:pt x="183" y="84"/>
                      </a:moveTo>
                      <a:lnTo>
                        <a:pt x="212" y="674"/>
                      </a:lnTo>
                      <a:lnTo>
                        <a:pt x="123" y="634"/>
                      </a:lnTo>
                      <a:lnTo>
                        <a:pt x="33" y="591"/>
                      </a:lnTo>
                      <a:lnTo>
                        <a:pt x="0" y="0"/>
                      </a:lnTo>
                      <a:lnTo>
                        <a:pt x="91" y="43"/>
                      </a:lnTo>
                      <a:lnTo>
                        <a:pt x="183" y="84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352040" y="333000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686">
                      <a:moveTo>
                        <a:pt x="179" y="95"/>
                      </a:moveTo>
                      <a:lnTo>
                        <a:pt x="212" y="686"/>
                      </a:lnTo>
                      <a:lnTo>
                        <a:pt x="125" y="642"/>
                      </a:lnTo>
                      <a:lnTo>
                        <a:pt x="39" y="595"/>
                      </a:lnTo>
                      <a:lnTo>
                        <a:pt x="0" y="0"/>
                      </a:lnTo>
                      <a:lnTo>
                        <a:pt x="89" y="48"/>
                      </a:lnTo>
                      <a:lnTo>
                        <a:pt x="179" y="9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335480" y="3324240"/>
                  <a:ext cx="20520" cy="37080"/>
                </a:xfrm>
                <a:custGeom>
                  <a:avLst/>
                  <a:gdLst/>
                  <a:ahLst/>
                  <a:rect l="l" t="t" r="r" b="b"/>
                  <a:pathLst>
                    <a:path w="211" h="698">
                      <a:moveTo>
                        <a:pt x="172" y="103"/>
                      </a:moveTo>
                      <a:lnTo>
                        <a:pt x="211" y="698"/>
                      </a:lnTo>
                      <a:lnTo>
                        <a:pt x="127" y="649"/>
                      </a:lnTo>
                      <a:lnTo>
                        <a:pt x="44" y="598"/>
                      </a:lnTo>
                      <a:lnTo>
                        <a:pt x="0" y="0"/>
                      </a:lnTo>
                      <a:lnTo>
                        <a:pt x="86" y="53"/>
                      </a:lnTo>
                      <a:lnTo>
                        <a:pt x="172" y="10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19280" y="331884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10" h="710">
                      <a:moveTo>
                        <a:pt x="166" y="112"/>
                      </a:moveTo>
                      <a:lnTo>
                        <a:pt x="210" y="710"/>
                      </a:lnTo>
                      <a:lnTo>
                        <a:pt x="129" y="656"/>
                      </a:lnTo>
                      <a:lnTo>
                        <a:pt x="49" y="599"/>
                      </a:lnTo>
                      <a:lnTo>
                        <a:pt x="0" y="0"/>
                      </a:lnTo>
                      <a:lnTo>
                        <a:pt x="82" y="57"/>
                      </a:lnTo>
                      <a:lnTo>
                        <a:pt x="166" y="112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302720" y="3312000"/>
                  <a:ext cx="20160" cy="38160"/>
                </a:xfrm>
                <a:custGeom>
                  <a:avLst/>
                  <a:gdLst/>
                  <a:ahLst/>
                  <a:rect l="l" t="t" r="r" b="b"/>
                  <a:pathLst>
                    <a:path w="208" h="722">
                      <a:moveTo>
                        <a:pt x="159" y="123"/>
                      </a:moveTo>
                      <a:lnTo>
                        <a:pt x="208" y="722"/>
                      </a:lnTo>
                      <a:lnTo>
                        <a:pt x="130" y="664"/>
                      </a:lnTo>
                      <a:lnTo>
                        <a:pt x="53" y="604"/>
                      </a:lnTo>
                      <a:lnTo>
                        <a:pt x="0" y="0"/>
                      </a:lnTo>
                      <a:lnTo>
                        <a:pt x="79" y="62"/>
                      </a:lnTo>
                      <a:lnTo>
                        <a:pt x="159" y="12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89040" y="3305160"/>
                  <a:ext cx="18720" cy="39600"/>
                </a:xfrm>
                <a:custGeom>
                  <a:avLst/>
                  <a:gdLst/>
                  <a:ahLst/>
                  <a:rect l="l" t="t" r="r" b="b"/>
                  <a:pathLst>
                    <a:path w="205" h="737">
                      <a:moveTo>
                        <a:pt x="152" y="133"/>
                      </a:moveTo>
                      <a:lnTo>
                        <a:pt x="205" y="737"/>
                      </a:lnTo>
                      <a:lnTo>
                        <a:pt x="130" y="673"/>
                      </a:lnTo>
                      <a:lnTo>
                        <a:pt x="57" y="608"/>
                      </a:lnTo>
                      <a:lnTo>
                        <a:pt x="0" y="0"/>
                      </a:lnTo>
                      <a:lnTo>
                        <a:pt x="75" y="68"/>
                      </a:lnTo>
                      <a:lnTo>
                        <a:pt x="152" y="13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73920" y="3297600"/>
                  <a:ext cx="20160" cy="40320"/>
                </a:xfrm>
                <a:custGeom>
                  <a:avLst/>
                  <a:gdLst/>
                  <a:ahLst/>
                  <a:rect l="l" t="t" r="r" b="b"/>
                  <a:pathLst>
                    <a:path w="201" h="751">
                      <a:moveTo>
                        <a:pt x="144" y="143"/>
                      </a:moveTo>
                      <a:lnTo>
                        <a:pt x="201" y="751"/>
                      </a:lnTo>
                      <a:lnTo>
                        <a:pt x="132" y="682"/>
                      </a:lnTo>
                      <a:lnTo>
                        <a:pt x="63" y="611"/>
                      </a:lnTo>
                      <a:lnTo>
                        <a:pt x="0" y="0"/>
                      </a:lnTo>
                      <a:lnTo>
                        <a:pt x="71" y="73"/>
                      </a:lnTo>
                      <a:lnTo>
                        <a:pt x="144" y="14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61680" y="3289680"/>
                  <a:ext cx="19080" cy="40320"/>
                </a:xfrm>
                <a:custGeom>
                  <a:avLst/>
                  <a:gdLst/>
                  <a:ahLst/>
                  <a:rect l="l" t="t" r="r" b="b"/>
                  <a:pathLst>
                    <a:path w="197" h="764">
                      <a:moveTo>
                        <a:pt x="134" y="153"/>
                      </a:moveTo>
                      <a:lnTo>
                        <a:pt x="197" y="764"/>
                      </a:lnTo>
                      <a:lnTo>
                        <a:pt x="130" y="691"/>
                      </a:lnTo>
                      <a:lnTo>
                        <a:pt x="66" y="615"/>
                      </a:lnTo>
                      <a:lnTo>
                        <a:pt x="0" y="0"/>
                      </a:lnTo>
                      <a:lnTo>
                        <a:pt x="67" y="78"/>
                      </a:lnTo>
                      <a:lnTo>
                        <a:pt x="134" y="15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249440" y="3280320"/>
                  <a:ext cx="17640" cy="41760"/>
                </a:xfrm>
                <a:custGeom>
                  <a:avLst/>
                  <a:gdLst/>
                  <a:ahLst/>
                  <a:rect l="l" t="t" r="r" b="b"/>
                  <a:pathLst>
                    <a:path w="191" h="780">
                      <a:moveTo>
                        <a:pt x="125" y="165"/>
                      </a:moveTo>
                      <a:lnTo>
                        <a:pt x="191" y="780"/>
                      </a:lnTo>
                      <a:lnTo>
                        <a:pt x="129" y="701"/>
                      </a:lnTo>
                      <a:lnTo>
                        <a:pt x="70" y="620"/>
                      </a:lnTo>
                      <a:lnTo>
                        <a:pt x="0" y="0"/>
                      </a:lnTo>
                      <a:lnTo>
                        <a:pt x="62" y="83"/>
                      </a:lnTo>
                      <a:lnTo>
                        <a:pt x="125" y="165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31440" y="3279240"/>
                  <a:ext cx="24840" cy="33480"/>
                </a:xfrm>
                <a:custGeom>
                  <a:avLst/>
                  <a:gdLst/>
                  <a:ahLst/>
                  <a:rect l="l" t="t" r="r" b="b"/>
                  <a:pathLst>
                    <a:path w="250" h="643">
                      <a:moveTo>
                        <a:pt x="180" y="23"/>
                      </a:moveTo>
                      <a:lnTo>
                        <a:pt x="250" y="643"/>
                      </a:lnTo>
                      <a:lnTo>
                        <a:pt x="162" y="632"/>
                      </a:lnTo>
                      <a:lnTo>
                        <a:pt x="73" y="621"/>
                      </a:lnTo>
                      <a:lnTo>
                        <a:pt x="0" y="0"/>
                      </a:lnTo>
                      <a:lnTo>
                        <a:pt x="90" y="1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535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13800" y="3277080"/>
                  <a:ext cx="24480" cy="34920"/>
                </a:xfrm>
                <a:custGeom>
                  <a:avLst/>
                  <a:gdLst/>
                  <a:ahLst/>
                  <a:rect l="l" t="t" r="r" b="b"/>
                  <a:pathLst>
                    <a:path w="254" h="650">
                      <a:moveTo>
                        <a:pt x="181" y="29"/>
                      </a:moveTo>
                      <a:lnTo>
                        <a:pt x="254" y="650"/>
                      </a:lnTo>
                      <a:lnTo>
                        <a:pt x="167" y="636"/>
                      </a:lnTo>
                      <a:lnTo>
                        <a:pt x="80" y="621"/>
                      </a:lnTo>
                      <a:lnTo>
                        <a:pt x="0" y="0"/>
                      </a:lnTo>
                      <a:lnTo>
                        <a:pt x="90" y="16"/>
                      </a:lnTo>
                      <a:lnTo>
                        <a:pt x="181" y="29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95800" y="327600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258" h="656">
                      <a:moveTo>
                        <a:pt x="178" y="35"/>
                      </a:moveTo>
                      <a:lnTo>
                        <a:pt x="258" y="656"/>
                      </a:lnTo>
                      <a:lnTo>
                        <a:pt x="171" y="639"/>
                      </a:lnTo>
                      <a:lnTo>
                        <a:pt x="85" y="621"/>
                      </a:lnTo>
                      <a:lnTo>
                        <a:pt x="0" y="0"/>
                      </a:lnTo>
                      <a:lnTo>
                        <a:pt x="89" y="18"/>
                      </a:lnTo>
                      <a:lnTo>
                        <a:pt x="178" y="35"/>
                      </a:lnTo>
                      <a:close/>
                    </a:path>
                  </a:pathLst>
                </a:custGeom>
                <a:solidFill>
                  <a:srgbClr val="4544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79600" y="3272760"/>
                  <a:ext cx="24480" cy="36000"/>
                </a:xfrm>
                <a:custGeom>
                  <a:avLst/>
                  <a:gdLst/>
                  <a:ahLst/>
                  <a:rect l="l" t="t" r="r" b="b"/>
                  <a:pathLst>
                    <a:path w="262" h="665">
                      <a:moveTo>
                        <a:pt x="177" y="44"/>
                      </a:moveTo>
                      <a:lnTo>
                        <a:pt x="262" y="665"/>
                      </a:lnTo>
                      <a:lnTo>
                        <a:pt x="176" y="646"/>
                      </a:lnTo>
                      <a:lnTo>
                        <a:pt x="89" y="624"/>
                      </a:lnTo>
                      <a:lnTo>
                        <a:pt x="0" y="0"/>
                      </a:lnTo>
                      <a:lnTo>
                        <a:pt x="88" y="23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3c39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61600" y="3270600"/>
                  <a:ext cx="25920" cy="36000"/>
                </a:xfrm>
                <a:custGeom>
                  <a:avLst/>
                  <a:gdLst/>
                  <a:ahLst/>
                  <a:rect l="l" t="t" r="r" b="b"/>
                  <a:pathLst>
                    <a:path w="264" h="673">
                      <a:moveTo>
                        <a:pt x="175" y="49"/>
                      </a:moveTo>
                      <a:lnTo>
                        <a:pt x="264" y="673"/>
                      </a:lnTo>
                      <a:lnTo>
                        <a:pt x="179" y="649"/>
                      </a:lnTo>
                      <a:lnTo>
                        <a:pt x="95" y="624"/>
                      </a:lnTo>
                      <a:lnTo>
                        <a:pt x="0" y="0"/>
                      </a:lnTo>
                      <a:lnTo>
                        <a:pt x="87" y="25"/>
                      </a:lnTo>
                      <a:lnTo>
                        <a:pt x="175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45400" y="3267000"/>
                  <a:ext cx="25560" cy="36720"/>
                </a:xfrm>
                <a:custGeom>
                  <a:avLst/>
                  <a:gdLst/>
                  <a:ahLst/>
                  <a:rect l="l" t="t" r="r" b="b"/>
                  <a:pathLst>
                    <a:path w="266" h="681">
                      <a:moveTo>
                        <a:pt x="171" y="57"/>
                      </a:moveTo>
                      <a:lnTo>
                        <a:pt x="266" y="681"/>
                      </a:lnTo>
                      <a:lnTo>
                        <a:pt x="182" y="654"/>
                      </a:lnTo>
                      <a:lnTo>
                        <a:pt x="99" y="625"/>
                      </a:lnTo>
                      <a:lnTo>
                        <a:pt x="0" y="0"/>
                      </a:lnTo>
                      <a:lnTo>
                        <a:pt x="85" y="29"/>
                      </a:lnTo>
                      <a:lnTo>
                        <a:pt x="171" y="57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28840" y="326340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69" h="690">
                      <a:moveTo>
                        <a:pt x="170" y="65"/>
                      </a:moveTo>
                      <a:lnTo>
                        <a:pt x="269" y="690"/>
                      </a:lnTo>
                      <a:lnTo>
                        <a:pt x="187" y="660"/>
                      </a:lnTo>
                      <a:lnTo>
                        <a:pt x="105" y="628"/>
                      </a:lnTo>
                      <a:lnTo>
                        <a:pt x="0" y="0"/>
                      </a:lnTo>
                      <a:lnTo>
                        <a:pt x="84" y="33"/>
                      </a:lnTo>
                      <a:lnTo>
                        <a:pt x="170" y="6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112280" y="3260160"/>
                  <a:ext cx="25560" cy="37080"/>
                </a:xfrm>
                <a:custGeom>
                  <a:avLst/>
                  <a:gdLst/>
                  <a:ahLst/>
                  <a:rect l="l" t="t" r="r" b="b"/>
                  <a:pathLst>
                    <a:path w="270" h="700">
                      <a:moveTo>
                        <a:pt x="165" y="72"/>
                      </a:moveTo>
                      <a:lnTo>
                        <a:pt x="270" y="700"/>
                      </a:lnTo>
                      <a:lnTo>
                        <a:pt x="190" y="666"/>
                      </a:lnTo>
                      <a:lnTo>
                        <a:pt x="110" y="629"/>
                      </a:lnTo>
                      <a:lnTo>
                        <a:pt x="0" y="0"/>
                      </a:lnTo>
                      <a:lnTo>
                        <a:pt x="82" y="37"/>
                      </a:lnTo>
                      <a:lnTo>
                        <a:pt x="165" y="72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97160" y="3255480"/>
                  <a:ext cx="2592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09">
                      <a:moveTo>
                        <a:pt x="160" y="80"/>
                      </a:moveTo>
                      <a:lnTo>
                        <a:pt x="270" y="709"/>
                      </a:lnTo>
                      <a:lnTo>
                        <a:pt x="191" y="672"/>
                      </a:lnTo>
                      <a:lnTo>
                        <a:pt x="114" y="632"/>
                      </a:lnTo>
                      <a:lnTo>
                        <a:pt x="0" y="0"/>
                      </a:lnTo>
                      <a:lnTo>
                        <a:pt x="80" y="41"/>
                      </a:lnTo>
                      <a:lnTo>
                        <a:pt x="160" y="8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080600" y="325116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270" h="719">
                      <a:moveTo>
                        <a:pt x="156" y="87"/>
                      </a:moveTo>
                      <a:lnTo>
                        <a:pt x="270" y="719"/>
                      </a:lnTo>
                      <a:lnTo>
                        <a:pt x="193" y="677"/>
                      </a:lnTo>
                      <a:lnTo>
                        <a:pt x="118" y="634"/>
                      </a:lnTo>
                      <a:lnTo>
                        <a:pt x="0" y="0"/>
                      </a:lnTo>
                      <a:lnTo>
                        <a:pt x="77" y="44"/>
                      </a:lnTo>
                      <a:lnTo>
                        <a:pt x="156" y="87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066920" y="3245760"/>
                  <a:ext cx="25920" cy="39240"/>
                </a:xfrm>
                <a:custGeom>
                  <a:avLst/>
                  <a:gdLst/>
                  <a:ahLst/>
                  <a:rect l="l" t="t" r="r" b="b"/>
                  <a:pathLst>
                    <a:path w="268" h="730">
                      <a:moveTo>
                        <a:pt x="150" y="96"/>
                      </a:moveTo>
                      <a:lnTo>
                        <a:pt x="268" y="730"/>
                      </a:lnTo>
                      <a:lnTo>
                        <a:pt x="195" y="684"/>
                      </a:lnTo>
                      <a:lnTo>
                        <a:pt x="122" y="636"/>
                      </a:lnTo>
                      <a:lnTo>
                        <a:pt x="0" y="0"/>
                      </a:lnTo>
                      <a:lnTo>
                        <a:pt x="75" y="49"/>
                      </a:lnTo>
                      <a:lnTo>
                        <a:pt x="150" y="96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52160" y="32400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8" h="740">
                      <a:moveTo>
                        <a:pt x="146" y="104"/>
                      </a:moveTo>
                      <a:lnTo>
                        <a:pt x="268" y="740"/>
                      </a:lnTo>
                      <a:lnTo>
                        <a:pt x="197" y="691"/>
                      </a:lnTo>
                      <a:lnTo>
                        <a:pt x="127" y="639"/>
                      </a:lnTo>
                      <a:lnTo>
                        <a:pt x="0" y="0"/>
                      </a:lnTo>
                      <a:lnTo>
                        <a:pt x="72" y="53"/>
                      </a:lnTo>
                      <a:lnTo>
                        <a:pt x="146" y="104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38480" y="3234600"/>
                  <a:ext cx="25560" cy="40320"/>
                </a:xfrm>
                <a:custGeom>
                  <a:avLst/>
                  <a:gdLst/>
                  <a:ahLst/>
                  <a:rect l="l" t="t" r="r" b="b"/>
                  <a:pathLst>
                    <a:path w="265" h="752">
                      <a:moveTo>
                        <a:pt x="138" y="113"/>
                      </a:moveTo>
                      <a:lnTo>
                        <a:pt x="265" y="752"/>
                      </a:lnTo>
                      <a:lnTo>
                        <a:pt x="198" y="699"/>
                      </a:lnTo>
                      <a:lnTo>
                        <a:pt x="131" y="643"/>
                      </a:lnTo>
                      <a:lnTo>
                        <a:pt x="0" y="0"/>
                      </a:lnTo>
                      <a:lnTo>
                        <a:pt x="68" y="57"/>
                      </a:lnTo>
                      <a:lnTo>
                        <a:pt x="138" y="11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025880" y="322740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3" h="764">
                      <a:moveTo>
                        <a:pt x="132" y="121"/>
                      </a:moveTo>
                      <a:lnTo>
                        <a:pt x="263" y="764"/>
                      </a:lnTo>
                      <a:lnTo>
                        <a:pt x="197" y="706"/>
                      </a:lnTo>
                      <a:lnTo>
                        <a:pt x="135" y="646"/>
                      </a:lnTo>
                      <a:lnTo>
                        <a:pt x="0" y="0"/>
                      </a:lnTo>
                      <a:lnTo>
                        <a:pt x="65" y="62"/>
                      </a:lnTo>
                      <a:lnTo>
                        <a:pt x="132" y="12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013640" y="3220920"/>
                  <a:ext cx="25920" cy="41400"/>
                </a:xfrm>
                <a:custGeom>
                  <a:avLst/>
                  <a:gdLst/>
                  <a:ahLst/>
                  <a:rect l="l" t="t" r="r" b="b"/>
                  <a:pathLst>
                    <a:path w="260" h="776">
                      <a:moveTo>
                        <a:pt x="125" y="130"/>
                      </a:moveTo>
                      <a:lnTo>
                        <a:pt x="260" y="776"/>
                      </a:lnTo>
                      <a:lnTo>
                        <a:pt x="198" y="713"/>
                      </a:lnTo>
                      <a:lnTo>
                        <a:pt x="139" y="650"/>
                      </a:lnTo>
                      <a:lnTo>
                        <a:pt x="0" y="0"/>
                      </a:lnTo>
                      <a:lnTo>
                        <a:pt x="62" y="67"/>
                      </a:lnTo>
                      <a:lnTo>
                        <a:pt x="125" y="13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02480" y="3213000"/>
                  <a:ext cx="24480" cy="42480"/>
                </a:xfrm>
                <a:custGeom>
                  <a:avLst/>
                  <a:gdLst/>
                  <a:ahLst/>
                  <a:rect l="l" t="t" r="r" b="b"/>
                  <a:pathLst>
                    <a:path w="256" h="788">
                      <a:moveTo>
                        <a:pt x="117" y="138"/>
                      </a:moveTo>
                      <a:lnTo>
                        <a:pt x="256" y="788"/>
                      </a:lnTo>
                      <a:lnTo>
                        <a:pt x="197" y="721"/>
                      </a:lnTo>
                      <a:lnTo>
                        <a:pt x="142" y="653"/>
                      </a:lnTo>
                      <a:lnTo>
                        <a:pt x="0" y="0"/>
                      </a:lnTo>
                      <a:lnTo>
                        <a:pt x="58" y="7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950280" y="3150720"/>
                  <a:ext cx="31680" cy="37080"/>
                </a:xfrm>
                <a:custGeom>
                  <a:avLst/>
                  <a:gdLst/>
                  <a:ahLst/>
                  <a:rect l="l" t="t" r="r" b="b"/>
                  <a:pathLst>
                    <a:path w="332" h="686">
                      <a:moveTo>
                        <a:pt x="182" y="0"/>
                      </a:moveTo>
                      <a:lnTo>
                        <a:pt x="332" y="684"/>
                      </a:lnTo>
                      <a:lnTo>
                        <a:pt x="244" y="686"/>
                      </a:lnTo>
                      <a:lnTo>
                        <a:pt x="156" y="685"/>
                      </a:lnTo>
                      <a:lnTo>
                        <a:pt x="0" y="0"/>
                      </a:lnTo>
                      <a:lnTo>
                        <a:pt x="91" y="1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32640" y="3150720"/>
                  <a:ext cx="32760" cy="37080"/>
                </a:xfrm>
                <a:custGeom>
                  <a:avLst/>
                  <a:gdLst/>
                  <a:ahLst/>
                  <a:rect l="l" t="t" r="r" b="b"/>
                  <a:pathLst>
                    <a:path w="336" h="694">
                      <a:moveTo>
                        <a:pt x="180" y="9"/>
                      </a:moveTo>
                      <a:lnTo>
                        <a:pt x="336" y="694"/>
                      </a:lnTo>
                      <a:lnTo>
                        <a:pt x="249" y="689"/>
                      </a:lnTo>
                      <a:lnTo>
                        <a:pt x="161" y="684"/>
                      </a:lnTo>
                      <a:lnTo>
                        <a:pt x="0" y="0"/>
                      </a:lnTo>
                      <a:lnTo>
                        <a:pt x="90" y="6"/>
                      </a:lnTo>
                      <a:lnTo>
                        <a:pt x="180" y="9"/>
                      </a:lnTo>
                      <a:close/>
                    </a:path>
                  </a:pathLst>
                </a:custGeom>
                <a:solidFill>
                  <a:srgbClr val="5f66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15000" y="3150000"/>
                  <a:ext cx="32760" cy="36720"/>
                </a:xfrm>
                <a:custGeom>
                  <a:avLst/>
                  <a:gdLst/>
                  <a:ahLst/>
                  <a:rect l="l" t="t" r="r" b="b"/>
                  <a:pathLst>
                    <a:path w="341" h="704">
                      <a:moveTo>
                        <a:pt x="180" y="20"/>
                      </a:moveTo>
                      <a:lnTo>
                        <a:pt x="341" y="704"/>
                      </a:lnTo>
                      <a:lnTo>
                        <a:pt x="253" y="696"/>
                      </a:lnTo>
                      <a:lnTo>
                        <a:pt x="166" y="685"/>
                      </a:lnTo>
                      <a:lnTo>
                        <a:pt x="0" y="0"/>
                      </a:lnTo>
                      <a:lnTo>
                        <a:pt x="89" y="12"/>
                      </a:lnTo>
                      <a:lnTo>
                        <a:pt x="180" y="20"/>
                      </a:lnTo>
                      <a:close/>
                    </a:path>
                  </a:pathLst>
                </a:custGeom>
                <a:solidFill>
                  <a:srgbClr val="5559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7000" y="3147480"/>
                  <a:ext cx="34200" cy="38160"/>
                </a:xfrm>
                <a:custGeom>
                  <a:avLst/>
                  <a:gdLst/>
                  <a:ahLst/>
                  <a:rect l="l" t="t" r="r" b="b"/>
                  <a:pathLst>
                    <a:path w="343" h="713">
                      <a:moveTo>
                        <a:pt x="177" y="28"/>
                      </a:moveTo>
                      <a:lnTo>
                        <a:pt x="343" y="713"/>
                      </a:lnTo>
                      <a:lnTo>
                        <a:pt x="257" y="700"/>
                      </a:lnTo>
                      <a:lnTo>
                        <a:pt x="171" y="685"/>
                      </a:lnTo>
                      <a:lnTo>
                        <a:pt x="0" y="0"/>
                      </a:lnTo>
                      <a:lnTo>
                        <a:pt x="88" y="16"/>
                      </a:lnTo>
                      <a:lnTo>
                        <a:pt x="177" y="28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880440" y="3146400"/>
                  <a:ext cx="32760" cy="38160"/>
                </a:xfrm>
                <a:custGeom>
                  <a:avLst/>
                  <a:gdLst/>
                  <a:ahLst/>
                  <a:rect l="l" t="t" r="r" b="b"/>
                  <a:pathLst>
                    <a:path w="345" h="724">
                      <a:moveTo>
                        <a:pt x="174" y="39"/>
                      </a:moveTo>
                      <a:lnTo>
                        <a:pt x="345" y="724"/>
                      </a:lnTo>
                      <a:lnTo>
                        <a:pt x="261" y="707"/>
                      </a:lnTo>
                      <a:lnTo>
                        <a:pt x="177" y="686"/>
                      </a:lnTo>
                      <a:lnTo>
                        <a:pt x="0" y="0"/>
                      </a:lnTo>
                      <a:lnTo>
                        <a:pt x="87" y="20"/>
                      </a:lnTo>
                      <a:lnTo>
                        <a:pt x="174" y="39"/>
                      </a:lnTo>
                      <a:close/>
                    </a:path>
                  </a:pathLst>
                </a:custGeom>
                <a:solidFill>
                  <a:srgbClr val="3f3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64240" y="3142800"/>
                  <a:ext cx="32400" cy="39600"/>
                </a:xfrm>
                <a:custGeom>
                  <a:avLst/>
                  <a:gdLst/>
                  <a:ahLst/>
                  <a:rect l="l" t="t" r="r" b="b"/>
                  <a:pathLst>
                    <a:path w="348" h="735">
                      <a:moveTo>
                        <a:pt x="171" y="49"/>
                      </a:moveTo>
                      <a:lnTo>
                        <a:pt x="348" y="735"/>
                      </a:lnTo>
                      <a:lnTo>
                        <a:pt x="264" y="712"/>
                      </a:lnTo>
                      <a:lnTo>
                        <a:pt x="182" y="687"/>
                      </a:lnTo>
                      <a:lnTo>
                        <a:pt x="0" y="0"/>
                      </a:lnTo>
                      <a:lnTo>
                        <a:pt x="85" y="26"/>
                      </a:lnTo>
                      <a:lnTo>
                        <a:pt x="171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848040" y="3139560"/>
                  <a:ext cx="3240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47">
                      <a:moveTo>
                        <a:pt x="165" y="60"/>
                      </a:moveTo>
                      <a:lnTo>
                        <a:pt x="347" y="747"/>
                      </a:lnTo>
                      <a:lnTo>
                        <a:pt x="266" y="720"/>
                      </a:lnTo>
                      <a:lnTo>
                        <a:pt x="186" y="690"/>
                      </a:lnTo>
                      <a:lnTo>
                        <a:pt x="0" y="0"/>
                      </a:lnTo>
                      <a:lnTo>
                        <a:pt x="82" y="31"/>
                      </a:lnTo>
                      <a:lnTo>
                        <a:pt x="165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1480" y="3136320"/>
                  <a:ext cx="33840" cy="40320"/>
                </a:xfrm>
                <a:custGeom>
                  <a:avLst/>
                  <a:gdLst/>
                  <a:ahLst/>
                  <a:rect l="l" t="t" r="r" b="b"/>
                  <a:pathLst>
                    <a:path w="347" h="759">
                      <a:moveTo>
                        <a:pt x="161" y="69"/>
                      </a:moveTo>
                      <a:lnTo>
                        <a:pt x="347" y="759"/>
                      </a:lnTo>
                      <a:lnTo>
                        <a:pt x="268" y="726"/>
                      </a:lnTo>
                      <a:lnTo>
                        <a:pt x="190" y="692"/>
                      </a:lnTo>
                      <a:lnTo>
                        <a:pt x="0" y="0"/>
                      </a:lnTo>
                      <a:lnTo>
                        <a:pt x="80" y="36"/>
                      </a:lnTo>
                      <a:lnTo>
                        <a:pt x="161" y="6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16360" y="3131640"/>
                  <a:ext cx="33840" cy="41760"/>
                </a:xfrm>
                <a:custGeom>
                  <a:avLst/>
                  <a:gdLst/>
                  <a:ahLst/>
                  <a:rect l="l" t="t" r="r" b="b"/>
                  <a:pathLst>
                    <a:path w="345" h="771">
                      <a:moveTo>
                        <a:pt x="155" y="79"/>
                      </a:moveTo>
                      <a:lnTo>
                        <a:pt x="345" y="771"/>
                      </a:lnTo>
                      <a:lnTo>
                        <a:pt x="269" y="734"/>
                      </a:lnTo>
                      <a:lnTo>
                        <a:pt x="195" y="693"/>
                      </a:lnTo>
                      <a:lnTo>
                        <a:pt x="0" y="0"/>
                      </a:lnTo>
                      <a:lnTo>
                        <a:pt x="76" y="41"/>
                      </a:lnTo>
                      <a:lnTo>
                        <a:pt x="155" y="7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02680" y="3127320"/>
                  <a:ext cx="32760" cy="41400"/>
                </a:xfrm>
                <a:custGeom>
                  <a:avLst/>
                  <a:gdLst/>
                  <a:ahLst/>
                  <a:rect l="l" t="t" r="r" b="b"/>
                  <a:pathLst>
                    <a:path w="344" h="782">
                      <a:moveTo>
                        <a:pt x="149" y="89"/>
                      </a:moveTo>
                      <a:lnTo>
                        <a:pt x="344" y="782"/>
                      </a:lnTo>
                      <a:lnTo>
                        <a:pt x="270" y="740"/>
                      </a:lnTo>
                      <a:lnTo>
                        <a:pt x="199" y="695"/>
                      </a:lnTo>
                      <a:lnTo>
                        <a:pt x="0" y="0"/>
                      </a:lnTo>
                      <a:lnTo>
                        <a:pt x="73" y="46"/>
                      </a:lnTo>
                      <a:lnTo>
                        <a:pt x="149" y="89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87560" y="3121560"/>
                  <a:ext cx="33840" cy="42480"/>
                </a:xfrm>
                <a:custGeom>
                  <a:avLst/>
                  <a:gdLst/>
                  <a:ahLst/>
                  <a:rect l="l" t="t" r="r" b="b"/>
                  <a:pathLst>
                    <a:path w="340" h="795">
                      <a:moveTo>
                        <a:pt x="141" y="100"/>
                      </a:moveTo>
                      <a:lnTo>
                        <a:pt x="340" y="795"/>
                      </a:lnTo>
                      <a:lnTo>
                        <a:pt x="271" y="748"/>
                      </a:lnTo>
                      <a:lnTo>
                        <a:pt x="203" y="698"/>
                      </a:lnTo>
                      <a:lnTo>
                        <a:pt x="0" y="0"/>
                      </a:lnTo>
                      <a:lnTo>
                        <a:pt x="70" y="51"/>
                      </a:lnTo>
                      <a:lnTo>
                        <a:pt x="141" y="100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75320" y="311616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133" y="111"/>
                      </a:moveTo>
                      <a:lnTo>
                        <a:pt x="336" y="809"/>
                      </a:lnTo>
                      <a:lnTo>
                        <a:pt x="270" y="756"/>
                      </a:lnTo>
                      <a:lnTo>
                        <a:pt x="207" y="701"/>
                      </a:lnTo>
                      <a:lnTo>
                        <a:pt x="0" y="0"/>
                      </a:lnTo>
                      <a:lnTo>
                        <a:pt x="65" y="57"/>
                      </a:lnTo>
                      <a:lnTo>
                        <a:pt x="133" y="11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762720" y="3109320"/>
                  <a:ext cx="32760" cy="43920"/>
                </a:xfrm>
                <a:custGeom>
                  <a:avLst/>
                  <a:gdLst/>
                  <a:ahLst/>
                  <a:rect l="l" t="t" r="r" b="b"/>
                  <a:pathLst>
                    <a:path w="331" h="822">
                      <a:moveTo>
                        <a:pt x="124" y="121"/>
                      </a:moveTo>
                      <a:lnTo>
                        <a:pt x="331" y="822"/>
                      </a:lnTo>
                      <a:lnTo>
                        <a:pt x="269" y="764"/>
                      </a:lnTo>
                      <a:lnTo>
                        <a:pt x="210" y="705"/>
                      </a:lnTo>
                      <a:lnTo>
                        <a:pt x="0" y="0"/>
                      </a:lnTo>
                      <a:lnTo>
                        <a:pt x="60" y="62"/>
                      </a:lnTo>
                      <a:lnTo>
                        <a:pt x="124" y="12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51920" y="3102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325" h="837">
                      <a:moveTo>
                        <a:pt x="115" y="132"/>
                      </a:moveTo>
                      <a:lnTo>
                        <a:pt x="325" y="837"/>
                      </a:lnTo>
                      <a:lnTo>
                        <a:pt x="267" y="773"/>
                      </a:lnTo>
                      <a:lnTo>
                        <a:pt x="213" y="709"/>
                      </a:lnTo>
                      <a:lnTo>
                        <a:pt x="0" y="0"/>
                      </a:lnTo>
                      <a:lnTo>
                        <a:pt x="56" y="68"/>
                      </a:lnTo>
                      <a:lnTo>
                        <a:pt x="11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741120" y="3094560"/>
                  <a:ext cx="31320" cy="46080"/>
                </a:xfrm>
                <a:custGeom>
                  <a:avLst/>
                  <a:gdLst/>
                  <a:ahLst/>
                  <a:rect l="l" t="t" r="r" b="b"/>
                  <a:pathLst>
                    <a:path w="319" h="850">
                      <a:moveTo>
                        <a:pt x="106" y="141"/>
                      </a:moveTo>
                      <a:lnTo>
                        <a:pt x="319" y="850"/>
                      </a:lnTo>
                      <a:lnTo>
                        <a:pt x="267" y="781"/>
                      </a:lnTo>
                      <a:lnTo>
                        <a:pt x="216" y="711"/>
                      </a:lnTo>
                      <a:lnTo>
                        <a:pt x="0" y="0"/>
                      </a:lnTo>
                      <a:lnTo>
                        <a:pt x="51" y="72"/>
                      </a:lnTo>
                      <a:lnTo>
                        <a:pt x="106" y="14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732480" y="308664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310" h="864">
                      <a:moveTo>
                        <a:pt x="94" y="153"/>
                      </a:moveTo>
                      <a:lnTo>
                        <a:pt x="310" y="864"/>
                      </a:lnTo>
                      <a:lnTo>
                        <a:pt x="263" y="791"/>
                      </a:lnTo>
                      <a:lnTo>
                        <a:pt x="219" y="715"/>
                      </a:lnTo>
                      <a:lnTo>
                        <a:pt x="0" y="0"/>
                      </a:lnTo>
                      <a:lnTo>
                        <a:pt x="46" y="78"/>
                      </a:lnTo>
                      <a:lnTo>
                        <a:pt x="94" y="153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966840" y="315072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87" h="722">
                      <a:moveTo>
                        <a:pt x="38" y="40"/>
                      </a:moveTo>
                      <a:lnTo>
                        <a:pt x="187" y="722"/>
                      </a:lnTo>
                      <a:lnTo>
                        <a:pt x="182" y="718"/>
                      </a:lnTo>
                      <a:lnTo>
                        <a:pt x="178" y="713"/>
                      </a:lnTo>
                      <a:lnTo>
                        <a:pt x="173" y="708"/>
                      </a:lnTo>
                      <a:lnTo>
                        <a:pt x="169" y="703"/>
                      </a:lnTo>
                      <a:lnTo>
                        <a:pt x="165" y="698"/>
                      </a:lnTo>
                      <a:lnTo>
                        <a:pt x="160" y="694"/>
                      </a:lnTo>
                      <a:lnTo>
                        <a:pt x="155" y="689"/>
                      </a:lnTo>
                      <a:lnTo>
                        <a:pt x="150" y="684"/>
                      </a:lnTo>
                      <a:lnTo>
                        <a:pt x="0" y="0"/>
                      </a:lnTo>
                      <a:lnTo>
                        <a:pt x="5" y="6"/>
                      </a:lnTo>
                      <a:lnTo>
                        <a:pt x="9" y="11"/>
                      </a:lnTo>
                      <a:lnTo>
                        <a:pt x="14" y="15"/>
                      </a:lnTo>
                      <a:lnTo>
                        <a:pt x="18" y="20"/>
                      </a:lnTo>
                      <a:lnTo>
                        <a:pt x="23" y="25"/>
                      </a:lnTo>
                      <a:lnTo>
                        <a:pt x="28" y="31"/>
                      </a:lnTo>
                      <a:lnTo>
                        <a:pt x="32" y="35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991680" y="3205080"/>
                  <a:ext cx="24480" cy="43920"/>
                </a:xfrm>
                <a:custGeom>
                  <a:avLst/>
                  <a:gdLst/>
                  <a:ahLst/>
                  <a:rect l="l" t="t" r="r" b="b"/>
                  <a:pathLst>
                    <a:path w="246" h="814">
                      <a:moveTo>
                        <a:pt x="104" y="161"/>
                      </a:moveTo>
                      <a:lnTo>
                        <a:pt x="246" y="814"/>
                      </a:lnTo>
                      <a:lnTo>
                        <a:pt x="224" y="783"/>
                      </a:lnTo>
                      <a:lnTo>
                        <a:pt x="203" y="752"/>
                      </a:lnTo>
                      <a:lnTo>
                        <a:pt x="182" y="721"/>
                      </a:lnTo>
                      <a:lnTo>
                        <a:pt x="163" y="690"/>
                      </a:lnTo>
                      <a:lnTo>
                        <a:pt x="143" y="657"/>
                      </a:lnTo>
                      <a:lnTo>
                        <a:pt x="0" y="0"/>
                      </a:lnTo>
                      <a:lnTo>
                        <a:pt x="19" y="33"/>
                      </a:lnTo>
                      <a:lnTo>
                        <a:pt x="40" y="65"/>
                      </a:lnTo>
                      <a:lnTo>
                        <a:pt x="60" y="97"/>
                      </a:lnTo>
                      <a:lnTo>
                        <a:pt x="82" y="129"/>
                      </a:lnTo>
                      <a:lnTo>
                        <a:pt x="104" y="161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983400" y="3196080"/>
                  <a:ext cx="21960" cy="43920"/>
                </a:xfrm>
                <a:custGeom>
                  <a:avLst/>
                  <a:gdLst/>
                  <a:ahLst/>
                  <a:rect l="l" t="t" r="r" b="b"/>
                  <a:pathLst>
                    <a:path w="232" h="822">
                      <a:moveTo>
                        <a:pt x="89" y="165"/>
                      </a:moveTo>
                      <a:lnTo>
                        <a:pt x="232" y="822"/>
                      </a:lnTo>
                      <a:lnTo>
                        <a:pt x="214" y="791"/>
                      </a:lnTo>
                      <a:lnTo>
                        <a:pt x="196" y="759"/>
                      </a:lnTo>
                      <a:lnTo>
                        <a:pt x="179" y="727"/>
                      </a:lnTo>
                      <a:lnTo>
                        <a:pt x="163" y="694"/>
                      </a:lnTo>
                      <a:lnTo>
                        <a:pt x="146" y="661"/>
                      </a:lnTo>
                      <a:lnTo>
                        <a:pt x="0" y="0"/>
                      </a:lnTo>
                      <a:lnTo>
                        <a:pt x="16" y="33"/>
                      </a:lnTo>
                      <a:lnTo>
                        <a:pt x="33" y="66"/>
                      </a:lnTo>
                      <a:lnTo>
                        <a:pt x="51" y="100"/>
                      </a:lnTo>
                      <a:lnTo>
                        <a:pt x="69" y="133"/>
                      </a:lnTo>
                      <a:lnTo>
                        <a:pt x="89" y="165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975480" y="3184920"/>
                  <a:ext cx="21600" cy="45720"/>
                </a:xfrm>
                <a:custGeom>
                  <a:avLst/>
                  <a:gdLst/>
                  <a:ahLst/>
                  <a:rect l="l" t="t" r="r" b="b"/>
                  <a:pathLst>
                    <a:path w="226" h="869">
                      <a:moveTo>
                        <a:pt x="80" y="208"/>
                      </a:moveTo>
                      <a:lnTo>
                        <a:pt x="226" y="869"/>
                      </a:lnTo>
                      <a:lnTo>
                        <a:pt x="212" y="836"/>
                      </a:lnTo>
                      <a:lnTo>
                        <a:pt x="197" y="802"/>
                      </a:lnTo>
                      <a:lnTo>
                        <a:pt x="184" y="769"/>
                      </a:lnTo>
                      <a:lnTo>
                        <a:pt x="171" y="736"/>
                      </a:lnTo>
                      <a:lnTo>
                        <a:pt x="160" y="702"/>
                      </a:lnTo>
                      <a:lnTo>
                        <a:pt x="148" y="668"/>
                      </a:lnTo>
                      <a:lnTo>
                        <a:pt x="0" y="0"/>
                      </a:lnTo>
                      <a:lnTo>
                        <a:pt x="11" y="36"/>
                      </a:lnTo>
                      <a:lnTo>
                        <a:pt x="23" y="70"/>
                      </a:lnTo>
                      <a:lnTo>
                        <a:pt x="35" y="105"/>
                      </a:lnTo>
                      <a:lnTo>
                        <a:pt x="50" y="139"/>
                      </a:lnTo>
                      <a:lnTo>
                        <a:pt x="64" y="173"/>
                      </a:lnTo>
                      <a:lnTo>
                        <a:pt x="80" y="20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972600" y="31791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177" h="774">
                      <a:moveTo>
                        <a:pt x="29" y="106"/>
                      </a:moveTo>
                      <a:lnTo>
                        <a:pt x="177" y="774"/>
                      </a:lnTo>
                      <a:lnTo>
                        <a:pt x="167" y="740"/>
                      </a:lnTo>
                      <a:lnTo>
                        <a:pt x="158" y="705"/>
                      </a:lnTo>
                      <a:lnTo>
                        <a:pt x="150" y="670"/>
                      </a:lnTo>
                      <a:lnTo>
                        <a:pt x="0" y="0"/>
                      </a:lnTo>
                      <a:lnTo>
                        <a:pt x="8" y="36"/>
                      </a:lnTo>
                      <a:lnTo>
                        <a:pt x="18" y="71"/>
                      </a:lnTo>
                      <a:lnTo>
                        <a:pt x="29" y="106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725640" y="3077640"/>
                  <a:ext cx="27000" cy="47160"/>
                </a:xfrm>
                <a:custGeom>
                  <a:avLst/>
                  <a:gdLst/>
                  <a:ahLst/>
                  <a:rect l="l" t="t" r="r" b="b"/>
                  <a:pathLst>
                    <a:path w="289" h="872">
                      <a:moveTo>
                        <a:pt x="70" y="157"/>
                      </a:moveTo>
                      <a:lnTo>
                        <a:pt x="289" y="872"/>
                      </a:lnTo>
                      <a:lnTo>
                        <a:pt x="265" y="821"/>
                      </a:lnTo>
                      <a:lnTo>
                        <a:pt x="242" y="771"/>
                      </a:lnTo>
                      <a:lnTo>
                        <a:pt x="221" y="720"/>
                      </a:lnTo>
                      <a:lnTo>
                        <a:pt x="0" y="0"/>
                      </a:lnTo>
                      <a:lnTo>
                        <a:pt x="22" y="53"/>
                      </a:lnTo>
                      <a:lnTo>
                        <a:pt x="45" y="105"/>
                      </a:lnTo>
                      <a:lnTo>
                        <a:pt x="70" y="157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720600" y="3069720"/>
                  <a:ext cx="25560" cy="47160"/>
                </a:xfrm>
                <a:custGeom>
                  <a:avLst/>
                  <a:gdLst/>
                  <a:ahLst/>
                  <a:rect l="l" t="t" r="r" b="b"/>
                  <a:pathLst>
                    <a:path w="274" h="875">
                      <a:moveTo>
                        <a:pt x="53" y="155"/>
                      </a:moveTo>
                      <a:lnTo>
                        <a:pt x="274" y="875"/>
                      </a:lnTo>
                      <a:lnTo>
                        <a:pt x="255" y="824"/>
                      </a:lnTo>
                      <a:lnTo>
                        <a:pt x="238" y="774"/>
                      </a:lnTo>
                      <a:lnTo>
                        <a:pt x="221" y="724"/>
                      </a:lnTo>
                      <a:lnTo>
                        <a:pt x="0" y="0"/>
                      </a:lnTo>
                      <a:lnTo>
                        <a:pt x="16" y="52"/>
                      </a:lnTo>
                      <a:lnTo>
                        <a:pt x="33" y="103"/>
                      </a:lnTo>
                      <a:lnTo>
                        <a:pt x="53" y="155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903840" y="2936880"/>
                  <a:ext cx="28800" cy="49680"/>
                </a:xfrm>
                <a:custGeom>
                  <a:avLst/>
                  <a:gdLst/>
                  <a:ahLst/>
                  <a:rect l="l" t="t" r="r" b="b"/>
                  <a:pathLst>
                    <a:path w="289" h="914">
                      <a:moveTo>
                        <a:pt x="125" y="132"/>
                      </a:moveTo>
                      <a:lnTo>
                        <a:pt x="289" y="914"/>
                      </a:lnTo>
                      <a:lnTo>
                        <a:pt x="256" y="883"/>
                      </a:lnTo>
                      <a:lnTo>
                        <a:pt x="225" y="851"/>
                      </a:lnTo>
                      <a:lnTo>
                        <a:pt x="195" y="818"/>
                      </a:lnTo>
                      <a:lnTo>
                        <a:pt x="168" y="785"/>
                      </a:lnTo>
                      <a:lnTo>
                        <a:pt x="0" y="0"/>
                      </a:lnTo>
                      <a:lnTo>
                        <a:pt x="29" y="33"/>
                      </a:lnTo>
                      <a:lnTo>
                        <a:pt x="60" y="67"/>
                      </a:lnTo>
                      <a:lnTo>
                        <a:pt x="92" y="100"/>
                      </a:lnTo>
                      <a:lnTo>
                        <a:pt x="12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891600" y="2927880"/>
                  <a:ext cx="28440" cy="51840"/>
                </a:xfrm>
                <a:custGeom>
                  <a:avLst/>
                  <a:gdLst/>
                  <a:ahLst/>
                  <a:rect l="l" t="t" r="r" b="b"/>
                  <a:pathLst>
                    <a:path w="288" h="961">
                      <a:moveTo>
                        <a:pt x="120" y="176"/>
                      </a:moveTo>
                      <a:lnTo>
                        <a:pt x="288" y="961"/>
                      </a:lnTo>
                      <a:lnTo>
                        <a:pt x="261" y="928"/>
                      </a:lnTo>
                      <a:lnTo>
                        <a:pt x="236" y="894"/>
                      </a:lnTo>
                      <a:lnTo>
                        <a:pt x="213" y="860"/>
                      </a:lnTo>
                      <a:lnTo>
                        <a:pt x="191" y="826"/>
                      </a:lnTo>
                      <a:lnTo>
                        <a:pt x="171" y="790"/>
                      </a:lnTo>
                      <a:lnTo>
                        <a:pt x="0" y="0"/>
                      </a:lnTo>
                      <a:lnTo>
                        <a:pt x="21" y="36"/>
                      </a:lnTo>
                      <a:lnTo>
                        <a:pt x="43" y="72"/>
                      </a:lnTo>
                      <a:lnTo>
                        <a:pt x="68" y="107"/>
                      </a:lnTo>
                      <a:lnTo>
                        <a:pt x="94" y="141"/>
                      </a:lnTo>
                      <a:lnTo>
                        <a:pt x="120" y="176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884760" y="291780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252" h="978">
                      <a:moveTo>
                        <a:pt x="81" y="188"/>
                      </a:moveTo>
                      <a:lnTo>
                        <a:pt x="252" y="978"/>
                      </a:lnTo>
                      <a:lnTo>
                        <a:pt x="232" y="942"/>
                      </a:lnTo>
                      <a:lnTo>
                        <a:pt x="216" y="906"/>
                      </a:lnTo>
                      <a:lnTo>
                        <a:pt x="199" y="870"/>
                      </a:lnTo>
                      <a:lnTo>
                        <a:pt x="186" y="833"/>
                      </a:lnTo>
                      <a:lnTo>
                        <a:pt x="173" y="795"/>
                      </a:lnTo>
                      <a:lnTo>
                        <a:pt x="0" y="0"/>
                      </a:lnTo>
                      <a:lnTo>
                        <a:pt x="14" y="39"/>
                      </a:lnTo>
                      <a:lnTo>
                        <a:pt x="28" y="76"/>
                      </a:lnTo>
                      <a:lnTo>
                        <a:pt x="43" y="114"/>
                      </a:lnTo>
                      <a:lnTo>
                        <a:pt x="62" y="151"/>
                      </a:lnTo>
                      <a:lnTo>
                        <a:pt x="81" y="18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882240" y="2913120"/>
                  <a:ext cx="19080" cy="47160"/>
                </a:xfrm>
                <a:custGeom>
                  <a:avLst/>
                  <a:gdLst/>
                  <a:ahLst/>
                  <a:rect l="l" t="t" r="r" b="b"/>
                  <a:pathLst>
                    <a:path w="193" h="873">
                      <a:moveTo>
                        <a:pt x="20" y="78"/>
                      </a:moveTo>
                      <a:lnTo>
                        <a:pt x="193" y="873"/>
                      </a:lnTo>
                      <a:lnTo>
                        <a:pt x="182" y="836"/>
                      </a:lnTo>
                      <a:lnTo>
                        <a:pt x="173" y="798"/>
                      </a:lnTo>
                      <a:lnTo>
                        <a:pt x="0" y="0"/>
                      </a:lnTo>
                      <a:lnTo>
                        <a:pt x="9" y="40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2622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13400" y="2743200"/>
                  <a:ext cx="1605960" cy="617400"/>
                </a:xfrm>
                <a:custGeom>
                  <a:avLst/>
                  <a:gdLst/>
                  <a:ahLst/>
                  <a:rect l="l" t="t" r="r" b="b"/>
                  <a:pathLst>
                    <a:path w="16408" h="11518">
                      <a:moveTo>
                        <a:pt x="12894" y="1455"/>
                      </a:moveTo>
                      <a:lnTo>
                        <a:pt x="12992" y="1452"/>
                      </a:lnTo>
                      <a:lnTo>
                        <a:pt x="13091" y="1453"/>
                      </a:lnTo>
                      <a:lnTo>
                        <a:pt x="13190" y="1456"/>
                      </a:lnTo>
                      <a:lnTo>
                        <a:pt x="13290" y="1463"/>
                      </a:lnTo>
                      <a:lnTo>
                        <a:pt x="13391" y="1473"/>
                      </a:lnTo>
                      <a:lnTo>
                        <a:pt x="13490" y="1485"/>
                      </a:lnTo>
                      <a:lnTo>
                        <a:pt x="13591" y="1501"/>
                      </a:lnTo>
                      <a:lnTo>
                        <a:pt x="13690" y="1519"/>
                      </a:lnTo>
                      <a:lnTo>
                        <a:pt x="13790" y="1541"/>
                      </a:lnTo>
                      <a:lnTo>
                        <a:pt x="13888" y="1566"/>
                      </a:lnTo>
                      <a:lnTo>
                        <a:pt x="13987" y="1594"/>
                      </a:lnTo>
                      <a:lnTo>
                        <a:pt x="14083" y="1626"/>
                      </a:lnTo>
                      <a:lnTo>
                        <a:pt x="14179" y="1659"/>
                      </a:lnTo>
                      <a:lnTo>
                        <a:pt x="14273" y="1696"/>
                      </a:lnTo>
                      <a:lnTo>
                        <a:pt x="14365" y="1737"/>
                      </a:lnTo>
                      <a:lnTo>
                        <a:pt x="14455" y="1781"/>
                      </a:lnTo>
                      <a:lnTo>
                        <a:pt x="14545" y="1828"/>
                      </a:lnTo>
                      <a:lnTo>
                        <a:pt x="14631" y="1878"/>
                      </a:lnTo>
                      <a:lnTo>
                        <a:pt x="14715" y="1931"/>
                      </a:lnTo>
                      <a:lnTo>
                        <a:pt x="14797" y="1987"/>
                      </a:lnTo>
                      <a:lnTo>
                        <a:pt x="14876" y="2046"/>
                      </a:lnTo>
                      <a:lnTo>
                        <a:pt x="14952" y="2109"/>
                      </a:lnTo>
                      <a:lnTo>
                        <a:pt x="15026" y="2174"/>
                      </a:lnTo>
                      <a:lnTo>
                        <a:pt x="15095" y="2244"/>
                      </a:lnTo>
                      <a:lnTo>
                        <a:pt x="15162" y="2316"/>
                      </a:lnTo>
                      <a:lnTo>
                        <a:pt x="15225" y="2392"/>
                      </a:lnTo>
                      <a:lnTo>
                        <a:pt x="15283" y="2471"/>
                      </a:lnTo>
                      <a:lnTo>
                        <a:pt x="15338" y="2554"/>
                      </a:lnTo>
                      <a:lnTo>
                        <a:pt x="15389" y="2639"/>
                      </a:lnTo>
                      <a:lnTo>
                        <a:pt x="15436" y="2727"/>
                      </a:lnTo>
                      <a:lnTo>
                        <a:pt x="15478" y="2820"/>
                      </a:lnTo>
                      <a:lnTo>
                        <a:pt x="15515" y="2915"/>
                      </a:lnTo>
                      <a:lnTo>
                        <a:pt x="15530" y="2973"/>
                      </a:lnTo>
                      <a:lnTo>
                        <a:pt x="15544" y="3031"/>
                      </a:lnTo>
                      <a:lnTo>
                        <a:pt x="15555" y="3088"/>
                      </a:lnTo>
                      <a:lnTo>
                        <a:pt x="15563" y="3144"/>
                      </a:lnTo>
                      <a:lnTo>
                        <a:pt x="15569" y="3199"/>
                      </a:lnTo>
                      <a:lnTo>
                        <a:pt x="15573" y="3255"/>
                      </a:lnTo>
                      <a:lnTo>
                        <a:pt x="15575" y="3310"/>
                      </a:lnTo>
                      <a:lnTo>
                        <a:pt x="15575" y="3364"/>
                      </a:lnTo>
                      <a:lnTo>
                        <a:pt x="15572" y="3417"/>
                      </a:lnTo>
                      <a:lnTo>
                        <a:pt x="15568" y="3470"/>
                      </a:lnTo>
                      <a:lnTo>
                        <a:pt x="15561" y="3522"/>
                      </a:lnTo>
                      <a:lnTo>
                        <a:pt x="15553" y="3573"/>
                      </a:lnTo>
                      <a:lnTo>
                        <a:pt x="15541" y="3624"/>
                      </a:lnTo>
                      <a:lnTo>
                        <a:pt x="15528" y="3674"/>
                      </a:lnTo>
                      <a:lnTo>
                        <a:pt x="15514" y="3724"/>
                      </a:lnTo>
                      <a:lnTo>
                        <a:pt x="15496" y="3773"/>
                      </a:lnTo>
                      <a:lnTo>
                        <a:pt x="15478" y="3821"/>
                      </a:lnTo>
                      <a:lnTo>
                        <a:pt x="15456" y="3868"/>
                      </a:lnTo>
                      <a:lnTo>
                        <a:pt x="15434" y="3915"/>
                      </a:lnTo>
                      <a:lnTo>
                        <a:pt x="15409" y="3960"/>
                      </a:lnTo>
                      <a:lnTo>
                        <a:pt x="15383" y="4005"/>
                      </a:lnTo>
                      <a:lnTo>
                        <a:pt x="15355" y="4049"/>
                      </a:lnTo>
                      <a:lnTo>
                        <a:pt x="15324" y="4093"/>
                      </a:lnTo>
                      <a:lnTo>
                        <a:pt x="15292" y="4135"/>
                      </a:lnTo>
                      <a:lnTo>
                        <a:pt x="15259" y="4177"/>
                      </a:lnTo>
                      <a:lnTo>
                        <a:pt x="15224" y="4219"/>
                      </a:lnTo>
                      <a:lnTo>
                        <a:pt x="15187" y="4258"/>
                      </a:lnTo>
                      <a:lnTo>
                        <a:pt x="15149" y="4298"/>
                      </a:lnTo>
                      <a:lnTo>
                        <a:pt x="15108" y="4336"/>
                      </a:lnTo>
                      <a:lnTo>
                        <a:pt x="15067" y="4374"/>
                      </a:lnTo>
                      <a:lnTo>
                        <a:pt x="15023" y="4410"/>
                      </a:lnTo>
                      <a:lnTo>
                        <a:pt x="14978" y="4447"/>
                      </a:lnTo>
                      <a:lnTo>
                        <a:pt x="15048" y="4466"/>
                      </a:lnTo>
                      <a:lnTo>
                        <a:pt x="15117" y="4487"/>
                      </a:lnTo>
                      <a:lnTo>
                        <a:pt x="15186" y="4510"/>
                      </a:lnTo>
                      <a:lnTo>
                        <a:pt x="15252" y="4534"/>
                      </a:lnTo>
                      <a:lnTo>
                        <a:pt x="15318" y="4561"/>
                      </a:lnTo>
                      <a:lnTo>
                        <a:pt x="15381" y="4588"/>
                      </a:lnTo>
                      <a:lnTo>
                        <a:pt x="15444" y="4619"/>
                      </a:lnTo>
                      <a:lnTo>
                        <a:pt x="15506" y="4650"/>
                      </a:lnTo>
                      <a:lnTo>
                        <a:pt x="15566" y="4683"/>
                      </a:lnTo>
                      <a:lnTo>
                        <a:pt x="15625" y="4718"/>
                      </a:lnTo>
                      <a:lnTo>
                        <a:pt x="15681" y="4755"/>
                      </a:lnTo>
                      <a:lnTo>
                        <a:pt x="15736" y="4793"/>
                      </a:lnTo>
                      <a:lnTo>
                        <a:pt x="15790" y="4833"/>
                      </a:lnTo>
                      <a:lnTo>
                        <a:pt x="15841" y="4875"/>
                      </a:lnTo>
                      <a:lnTo>
                        <a:pt x="15891" y="4919"/>
                      </a:lnTo>
                      <a:lnTo>
                        <a:pt x="15939" y="4964"/>
                      </a:lnTo>
                      <a:lnTo>
                        <a:pt x="15985" y="5011"/>
                      </a:lnTo>
                      <a:lnTo>
                        <a:pt x="16030" y="5060"/>
                      </a:lnTo>
                      <a:lnTo>
                        <a:pt x="16072" y="5111"/>
                      </a:lnTo>
                      <a:lnTo>
                        <a:pt x="16112" y="5164"/>
                      </a:lnTo>
                      <a:lnTo>
                        <a:pt x="16150" y="5219"/>
                      </a:lnTo>
                      <a:lnTo>
                        <a:pt x="16184" y="5275"/>
                      </a:lnTo>
                      <a:lnTo>
                        <a:pt x="16218" y="5333"/>
                      </a:lnTo>
                      <a:lnTo>
                        <a:pt x="16249" y="5392"/>
                      </a:lnTo>
                      <a:lnTo>
                        <a:pt x="16278" y="5455"/>
                      </a:lnTo>
                      <a:lnTo>
                        <a:pt x="16303" y="5518"/>
                      </a:lnTo>
                      <a:lnTo>
                        <a:pt x="16327" y="5584"/>
                      </a:lnTo>
                      <a:lnTo>
                        <a:pt x="16349" y="5651"/>
                      </a:lnTo>
                      <a:lnTo>
                        <a:pt x="16367" y="5720"/>
                      </a:lnTo>
                      <a:lnTo>
                        <a:pt x="16382" y="5791"/>
                      </a:lnTo>
                      <a:lnTo>
                        <a:pt x="16396" y="5864"/>
                      </a:lnTo>
                      <a:lnTo>
                        <a:pt x="16406" y="5939"/>
                      </a:lnTo>
                      <a:lnTo>
                        <a:pt x="16408" y="6053"/>
                      </a:lnTo>
                      <a:lnTo>
                        <a:pt x="16404" y="6164"/>
                      </a:lnTo>
                      <a:lnTo>
                        <a:pt x="16395" y="6273"/>
                      </a:lnTo>
                      <a:lnTo>
                        <a:pt x="16378" y="6381"/>
                      </a:lnTo>
                      <a:lnTo>
                        <a:pt x="16357" y="6487"/>
                      </a:lnTo>
                      <a:lnTo>
                        <a:pt x="16329" y="6591"/>
                      </a:lnTo>
                      <a:lnTo>
                        <a:pt x="16296" y="6692"/>
                      </a:lnTo>
                      <a:lnTo>
                        <a:pt x="16258" y="6792"/>
                      </a:lnTo>
                      <a:lnTo>
                        <a:pt x="16215" y="6889"/>
                      </a:lnTo>
                      <a:lnTo>
                        <a:pt x="16167" y="6985"/>
                      </a:lnTo>
                      <a:lnTo>
                        <a:pt x="16115" y="7077"/>
                      </a:lnTo>
                      <a:lnTo>
                        <a:pt x="16058" y="7169"/>
                      </a:lnTo>
                      <a:lnTo>
                        <a:pt x="15997" y="7258"/>
                      </a:lnTo>
                      <a:lnTo>
                        <a:pt x="15932" y="7343"/>
                      </a:lnTo>
                      <a:lnTo>
                        <a:pt x="15862" y="7427"/>
                      </a:lnTo>
                      <a:lnTo>
                        <a:pt x="15791" y="7509"/>
                      </a:lnTo>
                      <a:lnTo>
                        <a:pt x="15715" y="7588"/>
                      </a:lnTo>
                      <a:lnTo>
                        <a:pt x="15635" y="7664"/>
                      </a:lnTo>
                      <a:lnTo>
                        <a:pt x="15553" y="7738"/>
                      </a:lnTo>
                      <a:lnTo>
                        <a:pt x="15468" y="7809"/>
                      </a:lnTo>
                      <a:lnTo>
                        <a:pt x="15380" y="7877"/>
                      </a:lnTo>
                      <a:lnTo>
                        <a:pt x="15290" y="7943"/>
                      </a:lnTo>
                      <a:lnTo>
                        <a:pt x="15198" y="8005"/>
                      </a:lnTo>
                      <a:lnTo>
                        <a:pt x="15104" y="8065"/>
                      </a:lnTo>
                      <a:lnTo>
                        <a:pt x="15008" y="8122"/>
                      </a:lnTo>
                      <a:lnTo>
                        <a:pt x="14910" y="8176"/>
                      </a:lnTo>
                      <a:lnTo>
                        <a:pt x="14811" y="8227"/>
                      </a:lnTo>
                      <a:lnTo>
                        <a:pt x="14711" y="8276"/>
                      </a:lnTo>
                      <a:lnTo>
                        <a:pt x="14610" y="8321"/>
                      </a:lnTo>
                      <a:lnTo>
                        <a:pt x="14508" y="8363"/>
                      </a:lnTo>
                      <a:lnTo>
                        <a:pt x="14406" y="8401"/>
                      </a:lnTo>
                      <a:lnTo>
                        <a:pt x="14303" y="8436"/>
                      </a:lnTo>
                      <a:lnTo>
                        <a:pt x="14269" y="8448"/>
                      </a:lnTo>
                      <a:lnTo>
                        <a:pt x="14234" y="8457"/>
                      </a:lnTo>
                      <a:lnTo>
                        <a:pt x="14199" y="8468"/>
                      </a:lnTo>
                      <a:lnTo>
                        <a:pt x="14165" y="8477"/>
                      </a:lnTo>
                      <a:lnTo>
                        <a:pt x="14130" y="8486"/>
                      </a:lnTo>
                      <a:lnTo>
                        <a:pt x="14095" y="8496"/>
                      </a:lnTo>
                      <a:lnTo>
                        <a:pt x="14062" y="8504"/>
                      </a:lnTo>
                      <a:lnTo>
                        <a:pt x="14027" y="8513"/>
                      </a:lnTo>
                      <a:lnTo>
                        <a:pt x="13992" y="8520"/>
                      </a:lnTo>
                      <a:lnTo>
                        <a:pt x="13957" y="8528"/>
                      </a:lnTo>
                      <a:lnTo>
                        <a:pt x="13923" y="8535"/>
                      </a:lnTo>
                      <a:lnTo>
                        <a:pt x="13888" y="8542"/>
                      </a:lnTo>
                      <a:lnTo>
                        <a:pt x="13853" y="8549"/>
                      </a:lnTo>
                      <a:lnTo>
                        <a:pt x="13819" y="8555"/>
                      </a:lnTo>
                      <a:lnTo>
                        <a:pt x="13784" y="8560"/>
                      </a:lnTo>
                      <a:lnTo>
                        <a:pt x="13749" y="8567"/>
                      </a:lnTo>
                      <a:lnTo>
                        <a:pt x="13713" y="8572"/>
                      </a:lnTo>
                      <a:lnTo>
                        <a:pt x="13678" y="8576"/>
                      </a:lnTo>
                      <a:lnTo>
                        <a:pt x="13643" y="8581"/>
                      </a:lnTo>
                      <a:lnTo>
                        <a:pt x="13608" y="8585"/>
                      </a:lnTo>
                      <a:lnTo>
                        <a:pt x="13572" y="8590"/>
                      </a:lnTo>
                      <a:lnTo>
                        <a:pt x="13538" y="8593"/>
                      </a:lnTo>
                      <a:lnTo>
                        <a:pt x="13502" y="8596"/>
                      </a:lnTo>
                      <a:lnTo>
                        <a:pt x="13466" y="8599"/>
                      </a:lnTo>
                      <a:lnTo>
                        <a:pt x="13431" y="8601"/>
                      </a:lnTo>
                      <a:lnTo>
                        <a:pt x="13395" y="8603"/>
                      </a:lnTo>
                      <a:lnTo>
                        <a:pt x="13359" y="8605"/>
                      </a:lnTo>
                      <a:lnTo>
                        <a:pt x="13323" y="8606"/>
                      </a:lnTo>
                      <a:lnTo>
                        <a:pt x="13287" y="8607"/>
                      </a:lnTo>
                      <a:lnTo>
                        <a:pt x="13250" y="8608"/>
                      </a:lnTo>
                      <a:lnTo>
                        <a:pt x="13215" y="8608"/>
                      </a:lnTo>
                      <a:lnTo>
                        <a:pt x="13179" y="8608"/>
                      </a:lnTo>
                      <a:lnTo>
                        <a:pt x="13156" y="8703"/>
                      </a:lnTo>
                      <a:lnTo>
                        <a:pt x="13132" y="8797"/>
                      </a:lnTo>
                      <a:lnTo>
                        <a:pt x="13105" y="8888"/>
                      </a:lnTo>
                      <a:lnTo>
                        <a:pt x="13075" y="8978"/>
                      </a:lnTo>
                      <a:lnTo>
                        <a:pt x="13042" y="9067"/>
                      </a:lnTo>
                      <a:lnTo>
                        <a:pt x="13006" y="9154"/>
                      </a:lnTo>
                      <a:lnTo>
                        <a:pt x="12969" y="9239"/>
                      </a:lnTo>
                      <a:lnTo>
                        <a:pt x="12928" y="9323"/>
                      </a:lnTo>
                      <a:lnTo>
                        <a:pt x="12886" y="9406"/>
                      </a:lnTo>
                      <a:lnTo>
                        <a:pt x="12840" y="9486"/>
                      </a:lnTo>
                      <a:lnTo>
                        <a:pt x="12793" y="9565"/>
                      </a:lnTo>
                      <a:lnTo>
                        <a:pt x="12744" y="9643"/>
                      </a:lnTo>
                      <a:lnTo>
                        <a:pt x="12692" y="9719"/>
                      </a:lnTo>
                      <a:lnTo>
                        <a:pt x="12637" y="9794"/>
                      </a:lnTo>
                      <a:lnTo>
                        <a:pt x="12581" y="9867"/>
                      </a:lnTo>
                      <a:lnTo>
                        <a:pt x="12522" y="9939"/>
                      </a:lnTo>
                      <a:lnTo>
                        <a:pt x="12462" y="10010"/>
                      </a:lnTo>
                      <a:lnTo>
                        <a:pt x="12399" y="10079"/>
                      </a:lnTo>
                      <a:lnTo>
                        <a:pt x="12336" y="10146"/>
                      </a:lnTo>
                      <a:lnTo>
                        <a:pt x="12269" y="10212"/>
                      </a:lnTo>
                      <a:lnTo>
                        <a:pt x="12201" y="10277"/>
                      </a:lnTo>
                      <a:lnTo>
                        <a:pt x="12132" y="10339"/>
                      </a:lnTo>
                      <a:lnTo>
                        <a:pt x="12060" y="10401"/>
                      </a:lnTo>
                      <a:lnTo>
                        <a:pt x="11987" y="10461"/>
                      </a:lnTo>
                      <a:lnTo>
                        <a:pt x="11912" y="10519"/>
                      </a:lnTo>
                      <a:lnTo>
                        <a:pt x="11836" y="10577"/>
                      </a:lnTo>
                      <a:lnTo>
                        <a:pt x="11758" y="10632"/>
                      </a:lnTo>
                      <a:lnTo>
                        <a:pt x="11679" y="10686"/>
                      </a:lnTo>
                      <a:lnTo>
                        <a:pt x="11599" y="10739"/>
                      </a:lnTo>
                      <a:lnTo>
                        <a:pt x="11517" y="10791"/>
                      </a:lnTo>
                      <a:lnTo>
                        <a:pt x="11434" y="10841"/>
                      </a:lnTo>
                      <a:lnTo>
                        <a:pt x="11350" y="10889"/>
                      </a:lnTo>
                      <a:lnTo>
                        <a:pt x="11320" y="10905"/>
                      </a:lnTo>
                      <a:lnTo>
                        <a:pt x="11292" y="10920"/>
                      </a:lnTo>
                      <a:lnTo>
                        <a:pt x="11262" y="10936"/>
                      </a:lnTo>
                      <a:lnTo>
                        <a:pt x="11232" y="10950"/>
                      </a:lnTo>
                      <a:lnTo>
                        <a:pt x="11203" y="10965"/>
                      </a:lnTo>
                      <a:lnTo>
                        <a:pt x="11174" y="10980"/>
                      </a:lnTo>
                      <a:lnTo>
                        <a:pt x="11144" y="10994"/>
                      </a:lnTo>
                      <a:lnTo>
                        <a:pt x="11114" y="11009"/>
                      </a:lnTo>
                      <a:lnTo>
                        <a:pt x="11084" y="11023"/>
                      </a:lnTo>
                      <a:lnTo>
                        <a:pt x="11054" y="11037"/>
                      </a:lnTo>
                      <a:lnTo>
                        <a:pt x="11024" y="11050"/>
                      </a:lnTo>
                      <a:lnTo>
                        <a:pt x="10994" y="11065"/>
                      </a:lnTo>
                      <a:lnTo>
                        <a:pt x="10964" y="11079"/>
                      </a:lnTo>
                      <a:lnTo>
                        <a:pt x="10934" y="11092"/>
                      </a:lnTo>
                      <a:lnTo>
                        <a:pt x="10903" y="11106"/>
                      </a:lnTo>
                      <a:lnTo>
                        <a:pt x="10872" y="11119"/>
                      </a:lnTo>
                      <a:lnTo>
                        <a:pt x="10805" y="11145"/>
                      </a:lnTo>
                      <a:lnTo>
                        <a:pt x="10737" y="11171"/>
                      </a:lnTo>
                      <a:lnTo>
                        <a:pt x="10668" y="11195"/>
                      </a:lnTo>
                      <a:lnTo>
                        <a:pt x="10601" y="11219"/>
                      </a:lnTo>
                      <a:lnTo>
                        <a:pt x="10533" y="11241"/>
                      </a:lnTo>
                      <a:lnTo>
                        <a:pt x="10466" y="11263"/>
                      </a:lnTo>
                      <a:lnTo>
                        <a:pt x="10399" y="11284"/>
                      </a:lnTo>
                      <a:lnTo>
                        <a:pt x="10331" y="11303"/>
                      </a:lnTo>
                      <a:lnTo>
                        <a:pt x="10263" y="11322"/>
                      </a:lnTo>
                      <a:lnTo>
                        <a:pt x="10197" y="11340"/>
                      </a:lnTo>
                      <a:lnTo>
                        <a:pt x="10129" y="11358"/>
                      </a:lnTo>
                      <a:lnTo>
                        <a:pt x="10061" y="11373"/>
                      </a:lnTo>
                      <a:lnTo>
                        <a:pt x="9993" y="11389"/>
                      </a:lnTo>
                      <a:lnTo>
                        <a:pt x="9926" y="11403"/>
                      </a:lnTo>
                      <a:lnTo>
                        <a:pt x="9858" y="11417"/>
                      </a:lnTo>
                      <a:lnTo>
                        <a:pt x="9789" y="11429"/>
                      </a:lnTo>
                      <a:lnTo>
                        <a:pt x="9722" y="11441"/>
                      </a:lnTo>
                      <a:lnTo>
                        <a:pt x="9653" y="11452"/>
                      </a:lnTo>
                      <a:lnTo>
                        <a:pt x="9584" y="11462"/>
                      </a:lnTo>
                      <a:lnTo>
                        <a:pt x="9516" y="11471"/>
                      </a:lnTo>
                      <a:lnTo>
                        <a:pt x="9447" y="11479"/>
                      </a:lnTo>
                      <a:lnTo>
                        <a:pt x="9377" y="11487"/>
                      </a:lnTo>
                      <a:lnTo>
                        <a:pt x="9307" y="11494"/>
                      </a:lnTo>
                      <a:lnTo>
                        <a:pt x="9238" y="11499"/>
                      </a:lnTo>
                      <a:lnTo>
                        <a:pt x="9167" y="11504"/>
                      </a:lnTo>
                      <a:lnTo>
                        <a:pt x="9097" y="11509"/>
                      </a:lnTo>
                      <a:lnTo>
                        <a:pt x="9025" y="11512"/>
                      </a:lnTo>
                      <a:lnTo>
                        <a:pt x="8954" y="11515"/>
                      </a:lnTo>
                      <a:lnTo>
                        <a:pt x="8882" y="11517"/>
                      </a:lnTo>
                      <a:lnTo>
                        <a:pt x="8810" y="11517"/>
                      </a:lnTo>
                      <a:lnTo>
                        <a:pt x="8737" y="11518"/>
                      </a:lnTo>
                      <a:lnTo>
                        <a:pt x="8663" y="11517"/>
                      </a:lnTo>
                      <a:lnTo>
                        <a:pt x="8262" y="11488"/>
                      </a:lnTo>
                      <a:lnTo>
                        <a:pt x="8161" y="11474"/>
                      </a:lnTo>
                      <a:lnTo>
                        <a:pt x="8060" y="11458"/>
                      </a:lnTo>
                      <a:lnTo>
                        <a:pt x="7959" y="11440"/>
                      </a:lnTo>
                      <a:lnTo>
                        <a:pt x="7858" y="11421"/>
                      </a:lnTo>
                      <a:lnTo>
                        <a:pt x="7758" y="11400"/>
                      </a:lnTo>
                      <a:lnTo>
                        <a:pt x="7657" y="11376"/>
                      </a:lnTo>
                      <a:lnTo>
                        <a:pt x="7558" y="11351"/>
                      </a:lnTo>
                      <a:lnTo>
                        <a:pt x="7459" y="11325"/>
                      </a:lnTo>
                      <a:lnTo>
                        <a:pt x="7362" y="11296"/>
                      </a:lnTo>
                      <a:lnTo>
                        <a:pt x="7265" y="11265"/>
                      </a:lnTo>
                      <a:lnTo>
                        <a:pt x="7168" y="11233"/>
                      </a:lnTo>
                      <a:lnTo>
                        <a:pt x="7072" y="11197"/>
                      </a:lnTo>
                      <a:lnTo>
                        <a:pt x="6978" y="11161"/>
                      </a:lnTo>
                      <a:lnTo>
                        <a:pt x="6884" y="11121"/>
                      </a:lnTo>
                      <a:lnTo>
                        <a:pt x="6792" y="11080"/>
                      </a:lnTo>
                      <a:lnTo>
                        <a:pt x="6701" y="11037"/>
                      </a:lnTo>
                      <a:lnTo>
                        <a:pt x="6611" y="10990"/>
                      </a:lnTo>
                      <a:lnTo>
                        <a:pt x="6522" y="10942"/>
                      </a:lnTo>
                      <a:lnTo>
                        <a:pt x="6436" y="10892"/>
                      </a:lnTo>
                      <a:lnTo>
                        <a:pt x="6350" y="10839"/>
                      </a:lnTo>
                      <a:lnTo>
                        <a:pt x="6266" y="10784"/>
                      </a:lnTo>
                      <a:lnTo>
                        <a:pt x="6184" y="10727"/>
                      </a:lnTo>
                      <a:lnTo>
                        <a:pt x="6104" y="10666"/>
                      </a:lnTo>
                      <a:lnTo>
                        <a:pt x="6025" y="10604"/>
                      </a:lnTo>
                      <a:lnTo>
                        <a:pt x="5948" y="10539"/>
                      </a:lnTo>
                      <a:lnTo>
                        <a:pt x="5873" y="10471"/>
                      </a:lnTo>
                      <a:lnTo>
                        <a:pt x="5800" y="10401"/>
                      </a:lnTo>
                      <a:lnTo>
                        <a:pt x="5729" y="10328"/>
                      </a:lnTo>
                      <a:lnTo>
                        <a:pt x="5662" y="10253"/>
                      </a:lnTo>
                      <a:lnTo>
                        <a:pt x="5595" y="10175"/>
                      </a:lnTo>
                      <a:lnTo>
                        <a:pt x="5532" y="10093"/>
                      </a:lnTo>
                      <a:lnTo>
                        <a:pt x="5470" y="10010"/>
                      </a:lnTo>
                      <a:lnTo>
                        <a:pt x="5380" y="10000"/>
                      </a:lnTo>
                      <a:lnTo>
                        <a:pt x="5290" y="9987"/>
                      </a:lnTo>
                      <a:lnTo>
                        <a:pt x="5199" y="9974"/>
                      </a:lnTo>
                      <a:lnTo>
                        <a:pt x="5109" y="9958"/>
                      </a:lnTo>
                      <a:lnTo>
                        <a:pt x="5020" y="9941"/>
                      </a:lnTo>
                      <a:lnTo>
                        <a:pt x="4931" y="9923"/>
                      </a:lnTo>
                      <a:lnTo>
                        <a:pt x="4842" y="9902"/>
                      </a:lnTo>
                      <a:lnTo>
                        <a:pt x="4754" y="9879"/>
                      </a:lnTo>
                      <a:lnTo>
                        <a:pt x="4666" y="9855"/>
                      </a:lnTo>
                      <a:lnTo>
                        <a:pt x="4579" y="9830"/>
                      </a:lnTo>
                      <a:lnTo>
                        <a:pt x="4493" y="9802"/>
                      </a:lnTo>
                      <a:lnTo>
                        <a:pt x="4408" y="9773"/>
                      </a:lnTo>
                      <a:lnTo>
                        <a:pt x="4322" y="9741"/>
                      </a:lnTo>
                      <a:lnTo>
                        <a:pt x="4238" y="9708"/>
                      </a:lnTo>
                      <a:lnTo>
                        <a:pt x="4155" y="9673"/>
                      </a:lnTo>
                      <a:lnTo>
                        <a:pt x="4073" y="9636"/>
                      </a:lnTo>
                      <a:lnTo>
                        <a:pt x="3993" y="9597"/>
                      </a:lnTo>
                      <a:lnTo>
                        <a:pt x="3913" y="9556"/>
                      </a:lnTo>
                      <a:lnTo>
                        <a:pt x="3834" y="9513"/>
                      </a:lnTo>
                      <a:lnTo>
                        <a:pt x="3757" y="9469"/>
                      </a:lnTo>
                      <a:lnTo>
                        <a:pt x="3682" y="9422"/>
                      </a:lnTo>
                      <a:lnTo>
                        <a:pt x="3607" y="9373"/>
                      </a:lnTo>
                      <a:lnTo>
                        <a:pt x="3533" y="9322"/>
                      </a:lnTo>
                      <a:lnTo>
                        <a:pt x="3461" y="9269"/>
                      </a:lnTo>
                      <a:lnTo>
                        <a:pt x="3391" y="9213"/>
                      </a:lnTo>
                      <a:lnTo>
                        <a:pt x="3323" y="9156"/>
                      </a:lnTo>
                      <a:lnTo>
                        <a:pt x="3256" y="9097"/>
                      </a:lnTo>
                      <a:lnTo>
                        <a:pt x="3191" y="9035"/>
                      </a:lnTo>
                      <a:lnTo>
                        <a:pt x="3128" y="8972"/>
                      </a:lnTo>
                      <a:lnTo>
                        <a:pt x="3066" y="8905"/>
                      </a:lnTo>
                      <a:lnTo>
                        <a:pt x="3007" y="8837"/>
                      </a:lnTo>
                      <a:lnTo>
                        <a:pt x="2949" y="8767"/>
                      </a:lnTo>
                      <a:lnTo>
                        <a:pt x="2927" y="8735"/>
                      </a:lnTo>
                      <a:lnTo>
                        <a:pt x="2905" y="8703"/>
                      </a:lnTo>
                      <a:lnTo>
                        <a:pt x="2885" y="8671"/>
                      </a:lnTo>
                      <a:lnTo>
                        <a:pt x="2864" y="8639"/>
                      </a:lnTo>
                      <a:lnTo>
                        <a:pt x="2845" y="8606"/>
                      </a:lnTo>
                      <a:lnTo>
                        <a:pt x="2825" y="8574"/>
                      </a:lnTo>
                      <a:lnTo>
                        <a:pt x="2807" y="8541"/>
                      </a:lnTo>
                      <a:lnTo>
                        <a:pt x="2789" y="8507"/>
                      </a:lnTo>
                      <a:lnTo>
                        <a:pt x="2772" y="8474"/>
                      </a:lnTo>
                      <a:lnTo>
                        <a:pt x="2756" y="8441"/>
                      </a:lnTo>
                      <a:lnTo>
                        <a:pt x="2740" y="8406"/>
                      </a:lnTo>
                      <a:lnTo>
                        <a:pt x="2726" y="8372"/>
                      </a:lnTo>
                      <a:lnTo>
                        <a:pt x="2711" y="8338"/>
                      </a:lnTo>
                      <a:lnTo>
                        <a:pt x="2699" y="8303"/>
                      </a:lnTo>
                      <a:lnTo>
                        <a:pt x="2687" y="8269"/>
                      </a:lnTo>
                      <a:lnTo>
                        <a:pt x="2676" y="8233"/>
                      </a:lnTo>
                      <a:lnTo>
                        <a:pt x="2665" y="8198"/>
                      </a:lnTo>
                      <a:lnTo>
                        <a:pt x="2655" y="8163"/>
                      </a:lnTo>
                      <a:lnTo>
                        <a:pt x="2647" y="8127"/>
                      </a:lnTo>
                      <a:lnTo>
                        <a:pt x="2640" y="8092"/>
                      </a:lnTo>
                      <a:lnTo>
                        <a:pt x="2633" y="8055"/>
                      </a:lnTo>
                      <a:lnTo>
                        <a:pt x="2627" y="8019"/>
                      </a:lnTo>
                      <a:lnTo>
                        <a:pt x="2623" y="7982"/>
                      </a:lnTo>
                      <a:lnTo>
                        <a:pt x="2620" y="7946"/>
                      </a:lnTo>
                      <a:lnTo>
                        <a:pt x="2617" y="7908"/>
                      </a:lnTo>
                      <a:lnTo>
                        <a:pt x="2616" y="7872"/>
                      </a:lnTo>
                      <a:lnTo>
                        <a:pt x="2616" y="7835"/>
                      </a:lnTo>
                      <a:lnTo>
                        <a:pt x="2617" y="7797"/>
                      </a:lnTo>
                      <a:lnTo>
                        <a:pt x="2620" y="7759"/>
                      </a:lnTo>
                      <a:lnTo>
                        <a:pt x="2623" y="7721"/>
                      </a:lnTo>
                      <a:lnTo>
                        <a:pt x="2628" y="7682"/>
                      </a:lnTo>
                      <a:lnTo>
                        <a:pt x="2635" y="7644"/>
                      </a:lnTo>
                      <a:lnTo>
                        <a:pt x="2629" y="7639"/>
                      </a:lnTo>
                      <a:lnTo>
                        <a:pt x="2625" y="7635"/>
                      </a:lnTo>
                      <a:lnTo>
                        <a:pt x="2620" y="7629"/>
                      </a:lnTo>
                      <a:lnTo>
                        <a:pt x="2615" y="7624"/>
                      </a:lnTo>
                      <a:lnTo>
                        <a:pt x="2611" y="7619"/>
                      </a:lnTo>
                      <a:lnTo>
                        <a:pt x="2606" y="7615"/>
                      </a:lnTo>
                      <a:lnTo>
                        <a:pt x="2602" y="7610"/>
                      </a:lnTo>
                      <a:lnTo>
                        <a:pt x="2597" y="7604"/>
                      </a:lnTo>
                      <a:lnTo>
                        <a:pt x="2506" y="7605"/>
                      </a:lnTo>
                      <a:lnTo>
                        <a:pt x="2415" y="7604"/>
                      </a:lnTo>
                      <a:lnTo>
                        <a:pt x="2325" y="7601"/>
                      </a:lnTo>
                      <a:lnTo>
                        <a:pt x="2235" y="7595"/>
                      </a:lnTo>
                      <a:lnTo>
                        <a:pt x="2144" y="7587"/>
                      </a:lnTo>
                      <a:lnTo>
                        <a:pt x="2055" y="7575"/>
                      </a:lnTo>
                      <a:lnTo>
                        <a:pt x="1966" y="7563"/>
                      </a:lnTo>
                      <a:lnTo>
                        <a:pt x="1878" y="7547"/>
                      </a:lnTo>
                      <a:lnTo>
                        <a:pt x="1791" y="7528"/>
                      </a:lnTo>
                      <a:lnTo>
                        <a:pt x="1704" y="7508"/>
                      </a:lnTo>
                      <a:lnTo>
                        <a:pt x="1618" y="7485"/>
                      </a:lnTo>
                      <a:lnTo>
                        <a:pt x="1533" y="7459"/>
                      </a:lnTo>
                      <a:lnTo>
                        <a:pt x="1450" y="7430"/>
                      </a:lnTo>
                      <a:lnTo>
                        <a:pt x="1368" y="7399"/>
                      </a:lnTo>
                      <a:lnTo>
                        <a:pt x="1287" y="7366"/>
                      </a:lnTo>
                      <a:lnTo>
                        <a:pt x="1207" y="7330"/>
                      </a:lnTo>
                      <a:lnTo>
                        <a:pt x="1128" y="7292"/>
                      </a:lnTo>
                      <a:lnTo>
                        <a:pt x="1052" y="7251"/>
                      </a:lnTo>
                      <a:lnTo>
                        <a:pt x="976" y="7208"/>
                      </a:lnTo>
                      <a:lnTo>
                        <a:pt x="903" y="7162"/>
                      </a:lnTo>
                      <a:lnTo>
                        <a:pt x="832" y="7113"/>
                      </a:lnTo>
                      <a:lnTo>
                        <a:pt x="762" y="7062"/>
                      </a:lnTo>
                      <a:lnTo>
                        <a:pt x="694" y="7008"/>
                      </a:lnTo>
                      <a:lnTo>
                        <a:pt x="629" y="6951"/>
                      </a:lnTo>
                      <a:lnTo>
                        <a:pt x="565" y="6892"/>
                      </a:lnTo>
                      <a:lnTo>
                        <a:pt x="505" y="6830"/>
                      </a:lnTo>
                      <a:lnTo>
                        <a:pt x="446" y="6766"/>
                      </a:lnTo>
                      <a:lnTo>
                        <a:pt x="390" y="6698"/>
                      </a:lnTo>
                      <a:lnTo>
                        <a:pt x="335" y="6629"/>
                      </a:lnTo>
                      <a:lnTo>
                        <a:pt x="284" y="6557"/>
                      </a:lnTo>
                      <a:lnTo>
                        <a:pt x="236" y="6482"/>
                      </a:lnTo>
                      <a:lnTo>
                        <a:pt x="190" y="6404"/>
                      </a:lnTo>
                      <a:lnTo>
                        <a:pt x="165" y="6352"/>
                      </a:lnTo>
                      <a:lnTo>
                        <a:pt x="142" y="6300"/>
                      </a:lnTo>
                      <a:lnTo>
                        <a:pt x="120" y="6247"/>
                      </a:lnTo>
                      <a:lnTo>
                        <a:pt x="100" y="6195"/>
                      </a:lnTo>
                      <a:lnTo>
                        <a:pt x="83" y="6144"/>
                      </a:lnTo>
                      <a:lnTo>
                        <a:pt x="67" y="6092"/>
                      </a:lnTo>
                      <a:lnTo>
                        <a:pt x="52" y="6040"/>
                      </a:lnTo>
                      <a:lnTo>
                        <a:pt x="39" y="5989"/>
                      </a:lnTo>
                      <a:lnTo>
                        <a:pt x="29" y="5937"/>
                      </a:lnTo>
                      <a:lnTo>
                        <a:pt x="19" y="5886"/>
                      </a:lnTo>
                      <a:lnTo>
                        <a:pt x="11" y="5834"/>
                      </a:lnTo>
                      <a:lnTo>
                        <a:pt x="6" y="5783"/>
                      </a:lnTo>
                      <a:lnTo>
                        <a:pt x="2" y="5732"/>
                      </a:lnTo>
                      <a:lnTo>
                        <a:pt x="0" y="5680"/>
                      </a:lnTo>
                      <a:lnTo>
                        <a:pt x="0" y="5629"/>
                      </a:lnTo>
                      <a:lnTo>
                        <a:pt x="1" y="5578"/>
                      </a:lnTo>
                      <a:lnTo>
                        <a:pt x="5" y="5527"/>
                      </a:lnTo>
                      <a:lnTo>
                        <a:pt x="10" y="5476"/>
                      </a:lnTo>
                      <a:lnTo>
                        <a:pt x="16" y="5425"/>
                      </a:lnTo>
                      <a:lnTo>
                        <a:pt x="26" y="5374"/>
                      </a:lnTo>
                      <a:lnTo>
                        <a:pt x="36" y="5323"/>
                      </a:lnTo>
                      <a:lnTo>
                        <a:pt x="48" y="5272"/>
                      </a:lnTo>
                      <a:lnTo>
                        <a:pt x="62" y="5221"/>
                      </a:lnTo>
                      <a:lnTo>
                        <a:pt x="78" y="5171"/>
                      </a:lnTo>
                      <a:lnTo>
                        <a:pt x="95" y="5120"/>
                      </a:lnTo>
                      <a:lnTo>
                        <a:pt x="115" y="5069"/>
                      </a:lnTo>
                      <a:lnTo>
                        <a:pt x="135" y="5018"/>
                      </a:lnTo>
                      <a:lnTo>
                        <a:pt x="158" y="4968"/>
                      </a:lnTo>
                      <a:lnTo>
                        <a:pt x="183" y="4917"/>
                      </a:lnTo>
                      <a:lnTo>
                        <a:pt x="209" y="4867"/>
                      </a:lnTo>
                      <a:lnTo>
                        <a:pt x="238" y="4815"/>
                      </a:lnTo>
                      <a:lnTo>
                        <a:pt x="268" y="4764"/>
                      </a:lnTo>
                      <a:lnTo>
                        <a:pt x="308" y="4708"/>
                      </a:lnTo>
                      <a:lnTo>
                        <a:pt x="349" y="4654"/>
                      </a:lnTo>
                      <a:lnTo>
                        <a:pt x="392" y="4601"/>
                      </a:lnTo>
                      <a:lnTo>
                        <a:pt x="436" y="4550"/>
                      </a:lnTo>
                      <a:lnTo>
                        <a:pt x="481" y="4500"/>
                      </a:lnTo>
                      <a:lnTo>
                        <a:pt x="527" y="4452"/>
                      </a:lnTo>
                      <a:lnTo>
                        <a:pt x="575" y="4406"/>
                      </a:lnTo>
                      <a:lnTo>
                        <a:pt x="625" y="4361"/>
                      </a:lnTo>
                      <a:lnTo>
                        <a:pt x="675" y="4318"/>
                      </a:lnTo>
                      <a:lnTo>
                        <a:pt x="726" y="4276"/>
                      </a:lnTo>
                      <a:lnTo>
                        <a:pt x="778" y="4236"/>
                      </a:lnTo>
                      <a:lnTo>
                        <a:pt x="832" y="4198"/>
                      </a:lnTo>
                      <a:lnTo>
                        <a:pt x="886" y="4161"/>
                      </a:lnTo>
                      <a:lnTo>
                        <a:pt x="941" y="4126"/>
                      </a:lnTo>
                      <a:lnTo>
                        <a:pt x="999" y="4092"/>
                      </a:lnTo>
                      <a:lnTo>
                        <a:pt x="1055" y="4060"/>
                      </a:lnTo>
                      <a:lnTo>
                        <a:pt x="1114" y="4029"/>
                      </a:lnTo>
                      <a:lnTo>
                        <a:pt x="1173" y="4000"/>
                      </a:lnTo>
                      <a:lnTo>
                        <a:pt x="1233" y="3973"/>
                      </a:lnTo>
                      <a:lnTo>
                        <a:pt x="1293" y="3947"/>
                      </a:lnTo>
                      <a:lnTo>
                        <a:pt x="1355" y="3922"/>
                      </a:lnTo>
                      <a:lnTo>
                        <a:pt x="1417" y="3899"/>
                      </a:lnTo>
                      <a:lnTo>
                        <a:pt x="1480" y="3877"/>
                      </a:lnTo>
                      <a:lnTo>
                        <a:pt x="1543" y="3857"/>
                      </a:lnTo>
                      <a:lnTo>
                        <a:pt x="1608" y="3839"/>
                      </a:lnTo>
                      <a:lnTo>
                        <a:pt x="1673" y="3822"/>
                      </a:lnTo>
                      <a:lnTo>
                        <a:pt x="1737" y="3806"/>
                      </a:lnTo>
                      <a:lnTo>
                        <a:pt x="1803" y="3792"/>
                      </a:lnTo>
                      <a:lnTo>
                        <a:pt x="1869" y="3779"/>
                      </a:lnTo>
                      <a:lnTo>
                        <a:pt x="1936" y="3768"/>
                      </a:lnTo>
                      <a:lnTo>
                        <a:pt x="2003" y="3758"/>
                      </a:lnTo>
                      <a:lnTo>
                        <a:pt x="2070" y="3750"/>
                      </a:lnTo>
                      <a:lnTo>
                        <a:pt x="2037" y="3718"/>
                      </a:lnTo>
                      <a:lnTo>
                        <a:pt x="2005" y="3685"/>
                      </a:lnTo>
                      <a:lnTo>
                        <a:pt x="1974" y="3651"/>
                      </a:lnTo>
                      <a:lnTo>
                        <a:pt x="1945" y="3618"/>
                      </a:lnTo>
                      <a:lnTo>
                        <a:pt x="1919" y="3583"/>
                      </a:lnTo>
                      <a:lnTo>
                        <a:pt x="1893" y="3549"/>
                      </a:lnTo>
                      <a:lnTo>
                        <a:pt x="1868" y="3514"/>
                      </a:lnTo>
                      <a:lnTo>
                        <a:pt x="1846" y="3478"/>
                      </a:lnTo>
                      <a:lnTo>
                        <a:pt x="1825" y="3442"/>
                      </a:lnTo>
                      <a:lnTo>
                        <a:pt x="1806" y="3405"/>
                      </a:lnTo>
                      <a:lnTo>
                        <a:pt x="1787" y="3368"/>
                      </a:lnTo>
                      <a:lnTo>
                        <a:pt x="1772" y="3330"/>
                      </a:lnTo>
                      <a:lnTo>
                        <a:pt x="1758" y="3293"/>
                      </a:lnTo>
                      <a:lnTo>
                        <a:pt x="1744" y="3254"/>
                      </a:lnTo>
                      <a:lnTo>
                        <a:pt x="1733" y="3216"/>
                      </a:lnTo>
                      <a:lnTo>
                        <a:pt x="1724" y="3176"/>
                      </a:lnTo>
                      <a:lnTo>
                        <a:pt x="1717" y="3137"/>
                      </a:lnTo>
                      <a:lnTo>
                        <a:pt x="1711" y="3097"/>
                      </a:lnTo>
                      <a:lnTo>
                        <a:pt x="1706" y="3058"/>
                      </a:lnTo>
                      <a:lnTo>
                        <a:pt x="1703" y="3017"/>
                      </a:lnTo>
                      <a:lnTo>
                        <a:pt x="1702" y="2975"/>
                      </a:lnTo>
                      <a:lnTo>
                        <a:pt x="1703" y="2935"/>
                      </a:lnTo>
                      <a:lnTo>
                        <a:pt x="1706" y="2893"/>
                      </a:lnTo>
                      <a:lnTo>
                        <a:pt x="1712" y="2851"/>
                      </a:lnTo>
                      <a:lnTo>
                        <a:pt x="1718" y="2809"/>
                      </a:lnTo>
                      <a:lnTo>
                        <a:pt x="1726" y="2767"/>
                      </a:lnTo>
                      <a:lnTo>
                        <a:pt x="1736" y="2724"/>
                      </a:lnTo>
                      <a:lnTo>
                        <a:pt x="1747" y="2681"/>
                      </a:lnTo>
                      <a:lnTo>
                        <a:pt x="1761" y="2638"/>
                      </a:lnTo>
                      <a:lnTo>
                        <a:pt x="1777" y="2594"/>
                      </a:lnTo>
                      <a:lnTo>
                        <a:pt x="1795" y="2550"/>
                      </a:lnTo>
                      <a:lnTo>
                        <a:pt x="1813" y="2507"/>
                      </a:lnTo>
                      <a:lnTo>
                        <a:pt x="1843" y="2454"/>
                      </a:lnTo>
                      <a:lnTo>
                        <a:pt x="1874" y="2404"/>
                      </a:lnTo>
                      <a:lnTo>
                        <a:pt x="1906" y="2354"/>
                      </a:lnTo>
                      <a:lnTo>
                        <a:pt x="1940" y="2306"/>
                      </a:lnTo>
                      <a:lnTo>
                        <a:pt x="1976" y="2260"/>
                      </a:lnTo>
                      <a:lnTo>
                        <a:pt x="2013" y="2215"/>
                      </a:lnTo>
                      <a:lnTo>
                        <a:pt x="2052" y="2171"/>
                      </a:lnTo>
                      <a:lnTo>
                        <a:pt x="2092" y="2129"/>
                      </a:lnTo>
                      <a:lnTo>
                        <a:pt x="2133" y="2088"/>
                      </a:lnTo>
                      <a:lnTo>
                        <a:pt x="2175" y="2048"/>
                      </a:lnTo>
                      <a:lnTo>
                        <a:pt x="2219" y="2011"/>
                      </a:lnTo>
                      <a:lnTo>
                        <a:pt x="2264" y="1973"/>
                      </a:lnTo>
                      <a:lnTo>
                        <a:pt x="2310" y="1938"/>
                      </a:lnTo>
                      <a:lnTo>
                        <a:pt x="2358" y="1904"/>
                      </a:lnTo>
                      <a:lnTo>
                        <a:pt x="2405" y="1871"/>
                      </a:lnTo>
                      <a:lnTo>
                        <a:pt x="2454" y="1839"/>
                      </a:lnTo>
                      <a:lnTo>
                        <a:pt x="2504" y="1809"/>
                      </a:lnTo>
                      <a:lnTo>
                        <a:pt x="2555" y="1780"/>
                      </a:lnTo>
                      <a:lnTo>
                        <a:pt x="2607" y="1752"/>
                      </a:lnTo>
                      <a:lnTo>
                        <a:pt x="2659" y="1725"/>
                      </a:lnTo>
                      <a:lnTo>
                        <a:pt x="2712" y="1699"/>
                      </a:lnTo>
                      <a:lnTo>
                        <a:pt x="2766" y="1675"/>
                      </a:lnTo>
                      <a:lnTo>
                        <a:pt x="2820" y="1651"/>
                      </a:lnTo>
                      <a:lnTo>
                        <a:pt x="2876" y="1629"/>
                      </a:lnTo>
                      <a:lnTo>
                        <a:pt x="2931" y="1607"/>
                      </a:lnTo>
                      <a:lnTo>
                        <a:pt x="2986" y="1587"/>
                      </a:lnTo>
                      <a:lnTo>
                        <a:pt x="3043" y="1568"/>
                      </a:lnTo>
                      <a:lnTo>
                        <a:pt x="3099" y="1550"/>
                      </a:lnTo>
                      <a:lnTo>
                        <a:pt x="3155" y="1533"/>
                      </a:lnTo>
                      <a:lnTo>
                        <a:pt x="3213" y="1516"/>
                      </a:lnTo>
                      <a:lnTo>
                        <a:pt x="3270" y="1502"/>
                      </a:lnTo>
                      <a:lnTo>
                        <a:pt x="3328" y="1487"/>
                      </a:lnTo>
                      <a:lnTo>
                        <a:pt x="3378" y="1477"/>
                      </a:lnTo>
                      <a:lnTo>
                        <a:pt x="3427" y="1467"/>
                      </a:lnTo>
                      <a:lnTo>
                        <a:pt x="3477" y="1458"/>
                      </a:lnTo>
                      <a:lnTo>
                        <a:pt x="3528" y="1451"/>
                      </a:lnTo>
                      <a:lnTo>
                        <a:pt x="3577" y="1442"/>
                      </a:lnTo>
                      <a:lnTo>
                        <a:pt x="3627" y="1436"/>
                      </a:lnTo>
                      <a:lnTo>
                        <a:pt x="3677" y="1430"/>
                      </a:lnTo>
                      <a:lnTo>
                        <a:pt x="3727" y="1425"/>
                      </a:lnTo>
                      <a:lnTo>
                        <a:pt x="3777" y="1420"/>
                      </a:lnTo>
                      <a:lnTo>
                        <a:pt x="3827" y="1416"/>
                      </a:lnTo>
                      <a:lnTo>
                        <a:pt x="3876" y="1413"/>
                      </a:lnTo>
                      <a:lnTo>
                        <a:pt x="3927" y="1411"/>
                      </a:lnTo>
                      <a:lnTo>
                        <a:pt x="3977" y="1410"/>
                      </a:lnTo>
                      <a:lnTo>
                        <a:pt x="4026" y="1409"/>
                      </a:lnTo>
                      <a:lnTo>
                        <a:pt x="4076" y="1409"/>
                      </a:lnTo>
                      <a:lnTo>
                        <a:pt x="4126" y="1410"/>
                      </a:lnTo>
                      <a:lnTo>
                        <a:pt x="4176" y="1412"/>
                      </a:lnTo>
                      <a:lnTo>
                        <a:pt x="4225" y="1414"/>
                      </a:lnTo>
                      <a:lnTo>
                        <a:pt x="4275" y="1417"/>
                      </a:lnTo>
                      <a:lnTo>
                        <a:pt x="4325" y="1422"/>
                      </a:lnTo>
                      <a:lnTo>
                        <a:pt x="4374" y="1427"/>
                      </a:lnTo>
                      <a:lnTo>
                        <a:pt x="4423" y="1433"/>
                      </a:lnTo>
                      <a:lnTo>
                        <a:pt x="4472" y="1439"/>
                      </a:lnTo>
                      <a:lnTo>
                        <a:pt x="4521" y="1447"/>
                      </a:lnTo>
                      <a:lnTo>
                        <a:pt x="4571" y="1455"/>
                      </a:lnTo>
                      <a:lnTo>
                        <a:pt x="4620" y="1464"/>
                      </a:lnTo>
                      <a:lnTo>
                        <a:pt x="4669" y="1475"/>
                      </a:lnTo>
                      <a:lnTo>
                        <a:pt x="4718" y="1485"/>
                      </a:lnTo>
                      <a:lnTo>
                        <a:pt x="4767" y="1498"/>
                      </a:lnTo>
                      <a:lnTo>
                        <a:pt x="4816" y="1510"/>
                      </a:lnTo>
                      <a:lnTo>
                        <a:pt x="4864" y="1524"/>
                      </a:lnTo>
                      <a:lnTo>
                        <a:pt x="4912" y="1537"/>
                      </a:lnTo>
                      <a:lnTo>
                        <a:pt x="4927" y="1532"/>
                      </a:lnTo>
                      <a:lnTo>
                        <a:pt x="4940" y="1526"/>
                      </a:lnTo>
                      <a:lnTo>
                        <a:pt x="4953" y="1519"/>
                      </a:lnTo>
                      <a:lnTo>
                        <a:pt x="4968" y="1513"/>
                      </a:lnTo>
                      <a:lnTo>
                        <a:pt x="4981" y="1508"/>
                      </a:lnTo>
                      <a:lnTo>
                        <a:pt x="4995" y="1502"/>
                      </a:lnTo>
                      <a:lnTo>
                        <a:pt x="5009" y="1495"/>
                      </a:lnTo>
                      <a:lnTo>
                        <a:pt x="5023" y="1490"/>
                      </a:lnTo>
                      <a:lnTo>
                        <a:pt x="5070" y="1401"/>
                      </a:lnTo>
                      <a:lnTo>
                        <a:pt x="5121" y="1315"/>
                      </a:lnTo>
                      <a:lnTo>
                        <a:pt x="5177" y="1232"/>
                      </a:lnTo>
                      <a:lnTo>
                        <a:pt x="5237" y="1153"/>
                      </a:lnTo>
                      <a:lnTo>
                        <a:pt x="5301" y="1077"/>
                      </a:lnTo>
                      <a:lnTo>
                        <a:pt x="5367" y="1003"/>
                      </a:lnTo>
                      <a:lnTo>
                        <a:pt x="5438" y="932"/>
                      </a:lnTo>
                      <a:lnTo>
                        <a:pt x="5513" y="865"/>
                      </a:lnTo>
                      <a:lnTo>
                        <a:pt x="5590" y="801"/>
                      </a:lnTo>
                      <a:lnTo>
                        <a:pt x="5670" y="738"/>
                      </a:lnTo>
                      <a:lnTo>
                        <a:pt x="5752" y="680"/>
                      </a:lnTo>
                      <a:lnTo>
                        <a:pt x="5838" y="624"/>
                      </a:lnTo>
                      <a:lnTo>
                        <a:pt x="5925" y="571"/>
                      </a:lnTo>
                      <a:lnTo>
                        <a:pt x="6015" y="520"/>
                      </a:lnTo>
                      <a:lnTo>
                        <a:pt x="6107" y="472"/>
                      </a:lnTo>
                      <a:lnTo>
                        <a:pt x="6200" y="426"/>
                      </a:lnTo>
                      <a:lnTo>
                        <a:pt x="6295" y="383"/>
                      </a:lnTo>
                      <a:lnTo>
                        <a:pt x="6391" y="343"/>
                      </a:lnTo>
                      <a:lnTo>
                        <a:pt x="6488" y="305"/>
                      </a:lnTo>
                      <a:lnTo>
                        <a:pt x="6587" y="269"/>
                      </a:lnTo>
                      <a:lnTo>
                        <a:pt x="6686" y="235"/>
                      </a:lnTo>
                      <a:lnTo>
                        <a:pt x="6787" y="205"/>
                      </a:lnTo>
                      <a:lnTo>
                        <a:pt x="6886" y="176"/>
                      </a:lnTo>
                      <a:lnTo>
                        <a:pt x="6988" y="150"/>
                      </a:lnTo>
                      <a:lnTo>
                        <a:pt x="7088" y="126"/>
                      </a:lnTo>
                      <a:lnTo>
                        <a:pt x="7189" y="103"/>
                      </a:lnTo>
                      <a:lnTo>
                        <a:pt x="7289" y="83"/>
                      </a:lnTo>
                      <a:lnTo>
                        <a:pt x="7389" y="66"/>
                      </a:lnTo>
                      <a:lnTo>
                        <a:pt x="7488" y="50"/>
                      </a:lnTo>
                      <a:lnTo>
                        <a:pt x="7587" y="36"/>
                      </a:lnTo>
                      <a:lnTo>
                        <a:pt x="7683" y="24"/>
                      </a:lnTo>
                      <a:lnTo>
                        <a:pt x="7779" y="14"/>
                      </a:lnTo>
                      <a:lnTo>
                        <a:pt x="7866" y="8"/>
                      </a:lnTo>
                      <a:lnTo>
                        <a:pt x="7952" y="4"/>
                      </a:lnTo>
                      <a:lnTo>
                        <a:pt x="8038" y="2"/>
                      </a:lnTo>
                      <a:lnTo>
                        <a:pt x="8125" y="0"/>
                      </a:lnTo>
                      <a:lnTo>
                        <a:pt x="8212" y="0"/>
                      </a:lnTo>
                      <a:lnTo>
                        <a:pt x="8299" y="1"/>
                      </a:lnTo>
                      <a:lnTo>
                        <a:pt x="8387" y="4"/>
                      </a:lnTo>
                      <a:lnTo>
                        <a:pt x="8475" y="8"/>
                      </a:lnTo>
                      <a:lnTo>
                        <a:pt x="8562" y="15"/>
                      </a:lnTo>
                      <a:lnTo>
                        <a:pt x="8650" y="22"/>
                      </a:lnTo>
                      <a:lnTo>
                        <a:pt x="8737" y="31"/>
                      </a:lnTo>
                      <a:lnTo>
                        <a:pt x="8824" y="42"/>
                      </a:lnTo>
                      <a:lnTo>
                        <a:pt x="8912" y="55"/>
                      </a:lnTo>
                      <a:lnTo>
                        <a:pt x="8998" y="69"/>
                      </a:lnTo>
                      <a:lnTo>
                        <a:pt x="9084" y="85"/>
                      </a:lnTo>
                      <a:lnTo>
                        <a:pt x="9170" y="104"/>
                      </a:lnTo>
                      <a:lnTo>
                        <a:pt x="9255" y="124"/>
                      </a:lnTo>
                      <a:lnTo>
                        <a:pt x="9339" y="146"/>
                      </a:lnTo>
                      <a:lnTo>
                        <a:pt x="9422" y="171"/>
                      </a:lnTo>
                      <a:lnTo>
                        <a:pt x="9505" y="197"/>
                      </a:lnTo>
                      <a:lnTo>
                        <a:pt x="9587" y="225"/>
                      </a:lnTo>
                      <a:lnTo>
                        <a:pt x="9668" y="256"/>
                      </a:lnTo>
                      <a:lnTo>
                        <a:pt x="9748" y="290"/>
                      </a:lnTo>
                      <a:lnTo>
                        <a:pt x="9827" y="324"/>
                      </a:lnTo>
                      <a:lnTo>
                        <a:pt x="9904" y="361"/>
                      </a:lnTo>
                      <a:lnTo>
                        <a:pt x="9981" y="402"/>
                      </a:lnTo>
                      <a:lnTo>
                        <a:pt x="10056" y="445"/>
                      </a:lnTo>
                      <a:lnTo>
                        <a:pt x="10130" y="489"/>
                      </a:lnTo>
                      <a:lnTo>
                        <a:pt x="10202" y="536"/>
                      </a:lnTo>
                      <a:lnTo>
                        <a:pt x="10272" y="586"/>
                      </a:lnTo>
                      <a:lnTo>
                        <a:pt x="10341" y="639"/>
                      </a:lnTo>
                      <a:lnTo>
                        <a:pt x="10409" y="695"/>
                      </a:lnTo>
                      <a:lnTo>
                        <a:pt x="10490" y="661"/>
                      </a:lnTo>
                      <a:lnTo>
                        <a:pt x="10572" y="633"/>
                      </a:lnTo>
                      <a:lnTo>
                        <a:pt x="10655" y="609"/>
                      </a:lnTo>
                      <a:lnTo>
                        <a:pt x="10739" y="589"/>
                      </a:lnTo>
                      <a:lnTo>
                        <a:pt x="10824" y="575"/>
                      </a:lnTo>
                      <a:lnTo>
                        <a:pt x="10910" y="563"/>
                      </a:lnTo>
                      <a:lnTo>
                        <a:pt x="10996" y="557"/>
                      </a:lnTo>
                      <a:lnTo>
                        <a:pt x="11083" y="554"/>
                      </a:lnTo>
                      <a:lnTo>
                        <a:pt x="11170" y="555"/>
                      </a:lnTo>
                      <a:lnTo>
                        <a:pt x="11256" y="559"/>
                      </a:lnTo>
                      <a:lnTo>
                        <a:pt x="11343" y="569"/>
                      </a:lnTo>
                      <a:lnTo>
                        <a:pt x="11429" y="581"/>
                      </a:lnTo>
                      <a:lnTo>
                        <a:pt x="11515" y="597"/>
                      </a:lnTo>
                      <a:lnTo>
                        <a:pt x="11600" y="615"/>
                      </a:lnTo>
                      <a:lnTo>
                        <a:pt x="11686" y="638"/>
                      </a:lnTo>
                      <a:lnTo>
                        <a:pt x="11770" y="664"/>
                      </a:lnTo>
                      <a:lnTo>
                        <a:pt x="11853" y="694"/>
                      </a:lnTo>
                      <a:lnTo>
                        <a:pt x="11936" y="726"/>
                      </a:lnTo>
                      <a:lnTo>
                        <a:pt x="12016" y="761"/>
                      </a:lnTo>
                      <a:lnTo>
                        <a:pt x="12096" y="800"/>
                      </a:lnTo>
                      <a:lnTo>
                        <a:pt x="12174" y="840"/>
                      </a:lnTo>
                      <a:lnTo>
                        <a:pt x="12251" y="884"/>
                      </a:lnTo>
                      <a:lnTo>
                        <a:pt x="12325" y="931"/>
                      </a:lnTo>
                      <a:lnTo>
                        <a:pt x="12398" y="980"/>
                      </a:lnTo>
                      <a:lnTo>
                        <a:pt x="12469" y="1031"/>
                      </a:lnTo>
                      <a:lnTo>
                        <a:pt x="12537" y="1085"/>
                      </a:lnTo>
                      <a:lnTo>
                        <a:pt x="12603" y="1141"/>
                      </a:lnTo>
                      <a:lnTo>
                        <a:pt x="12667" y="1200"/>
                      </a:lnTo>
                      <a:lnTo>
                        <a:pt x="12727" y="1261"/>
                      </a:lnTo>
                      <a:lnTo>
                        <a:pt x="12786" y="1324"/>
                      </a:lnTo>
                      <a:lnTo>
                        <a:pt x="12841" y="1388"/>
                      </a:lnTo>
                      <a:lnTo>
                        <a:pt x="12894" y="1455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4093920" y="2901960"/>
                <a:ext cx="898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400" rIns="77400" tIns="38880" bIns="38880" anchor="ctr">
                <a:noAutofit/>
              </a:bodyPr>
              <a:p>
                <a:pPr algn="ctr">
                  <a:tabLst>
                    <a:tab algn="l" pos="0"/>
                    <a:tab algn="l" pos="776160"/>
                    <a:tab algn="l" pos="1552680"/>
                    <a:tab algn="l" pos="2328840"/>
                    <a:tab algn="l" pos="3105000"/>
                    <a:tab algn="l" pos="3881520"/>
                    <a:tab algn="l" pos="4657680"/>
                    <a:tab algn="l" pos="5433840"/>
                    <a:tab algn="l" pos="6210360"/>
                    <a:tab algn="l" pos="6986520"/>
                    <a:tab algn="l" pos="7763040"/>
                    <a:tab algn="l" pos="8539200"/>
                    <a:tab algn="l" pos="9315360"/>
                    <a:tab algn="l" pos="10091880"/>
                    <a:tab algn="l" pos="1086804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828800" y="3886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.1.1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380988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934320" y="4529160"/>
              <a:ext cx="1100160" cy="728640"/>
              <a:chOff x="6934320" y="4529160"/>
              <a:chExt cx="1100160" cy="728640"/>
            </a:xfrm>
          </p:grpSpPr>
          <p:sp>
            <p:nvSpPr>
              <p:cNvPr id="329" name=""/>
              <p:cNvSpPr/>
              <p:nvPr/>
            </p:nvSpPr>
            <p:spPr>
              <a:xfrm>
                <a:off x="6934320" y="452916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62920" y="475776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7010280" y="4071960"/>
              <a:ext cx="62568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"/>
            <p:cNvGrpSpPr/>
            <p:nvPr/>
          </p:nvGrpSpPr>
          <p:grpSpPr>
            <a:xfrm>
              <a:off x="1752120" y="3124080"/>
              <a:ext cx="5639400" cy="1067040"/>
              <a:chOff x="1752120" y="3124080"/>
              <a:chExt cx="5639400" cy="106704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1752120" y="3200400"/>
                <a:ext cx="38124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10280" y="3233880"/>
                <a:ext cx="3812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19520" y="312408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7800" y="31240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62120" y="30481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3260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343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363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" name=""/>
            <p:cNvSpPr/>
            <p:nvPr/>
          </p:nvSpPr>
          <p:spPr>
            <a:xfrm>
              <a:off x="7086600" y="29718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.3.3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以太口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361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实现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A 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A 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B 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B 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口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ip address 1.1.1.1 255.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ping 1.1.1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ow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ow interface e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ut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ow interface e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no 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两点要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任何接口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的都必须在不同网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激活接口，生效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361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串口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B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串口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ing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A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串口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串口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#Config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)#interface s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s0)#ip address 2.2.2.1 255.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s0)#ping 2.2.2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ow interface 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show interface 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e0)#no 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RTA(config-if-s0)#ping 2.2.2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CA ping RT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CA ping PC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CB ping 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CB ping P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法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路由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互连的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异种网络互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路由（寻径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子网协议转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隔离网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 route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目标网络 子网掩码 网关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静态路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A  default gateway 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B#ip route 1.0.0.0 8 2.2.2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TA#ip route 3.0.0.0 8 2.2.2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CB  default gateway RT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路由器的配置方法总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口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拨号远程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eln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式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哑终端方式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t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式传送配置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通过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console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口远程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33520" y="2438280"/>
          <a:ext cx="807696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0769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通过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au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口远程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914400" y="2362320"/>
          <a:ext cx="7162920" cy="33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16292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升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口升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tp server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升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调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解决问题的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首先看配置是否正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然后看线缆是否接好，物理层是否为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看链路协议是否为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最后看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地址是否配置正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路由器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Quid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列路由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路由器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-- P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VRP --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ootRom – B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Ram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-- 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lash -- Hard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V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dway R16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11200" y="2017800"/>
          <a:ext cx="7373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2017800"/>
                    <a:ext cx="7373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Quidway R160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基本配置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1981080"/>
          <a:ext cx="731520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Console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erTer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1 or Com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 per secon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清空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Quidway&gt;e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Quidway#e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Quidway#reb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没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ab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密码怎么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trl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WhiteLily29700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trl+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基本命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sh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how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how interface etherne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how interface serial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how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enable 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hostname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E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reb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帮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s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sh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show interfac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1:04:38Z</dcterms:created>
  <dc:creator>ccn</dc:creator>
  <dc:description/>
  <dc:language>en-US</dc:language>
  <cp:lastModifiedBy>软件仓库</cp:lastModifiedBy>
  <dcterms:modified xsi:type="dcterms:W3CDTF">2005-05-17T02:45:18Z</dcterms:modified>
  <cp:revision>22</cp:revision>
  <dc:subject/>
  <dc:title>第五章 路由器的基本配置及静态路由</dc:title>
</cp:coreProperties>
</file>