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3FF1-33E2-40CB-AA22-BA205308D0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P Private 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秒收不到路由收不到路由更新信息，表示为网路不可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其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秒收不到更新信息，将路由删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你不用在意我这样我比较自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P Private 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165-F310-4888-A504-7ABE0B69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C0A-A76A-46C0-9F97-8FB003EC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78C-6004-4DED-A81B-486B8C15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BD5-7633-44E0-8CCC-51764E7E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0C11-A14A-43F9-ADB7-064D44DC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B48B-20C7-47F4-BADA-4E9A518A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6A80-6E67-4B26-880C-569FB080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E1A3-C640-44EB-A9F2-6A440F10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BFE4-3D5A-41C6-B202-75188171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B5D5-5892-4145-A660-7A95DD35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0525-CFB6-401E-89C2-A5E7407C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BF7-8B44-4109-B405-A83BDC5B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9465-3876-45AF-88ED-D24E7101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E9A8-2955-4399-8AD7-88864796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0EAA-2082-4179-8EE9-969982B5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7003-8B00-4B6B-A216-B6621DF0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82EE-4348-4D30-9CA5-DBAA4A4B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65C-1154-4C70-9831-9EAA5702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0D4-3E4F-4710-88F9-2634B45C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FA0-15FE-4F7B-B26C-8BF5F015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804-96BF-44B9-B339-21DD3ED7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D69-D390-4A8A-AD84-268D3F50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264-6F3C-4F0B-946E-A6B53E78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E8B-9482-4607-B72A-576FFE8F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378D-E109-41AB-B179-476312FC237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09E0-4287-4C4C-B512-1B7F71ED2D3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2.bin"/><Relationship Id="rId20" Type="http://schemas.openxmlformats.org/officeDocument/2006/relationships/image" Target="../media/image1.png"/><Relationship Id="rId21" Type="http://schemas.openxmlformats.org/officeDocument/2006/relationships/image" Target="../media/image8.wmf"/><Relationship Id="rId22" Type="http://schemas.openxmlformats.org/officeDocument/2006/relationships/oleObject" Target="../embeddings/oleObject3.bin"/><Relationship Id="rId23" Type="http://schemas.openxmlformats.org/officeDocument/2006/relationships/image" Target="../media/image1.png"/><Relationship Id="rId24" Type="http://schemas.openxmlformats.org/officeDocument/2006/relationships/oleObject" Target="../embeddings/oleObject4.bin"/><Relationship Id="rId25" Type="http://schemas.openxmlformats.org/officeDocument/2006/relationships/image" Target="../media/image1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复习静态路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3357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认证实验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缺省路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特殊的静态路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urier New"/>
              </a:rPr>
              <a:t>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ip route 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0.0.0.0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0.0.0.0 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gateway</a:t>
            </a:r>
            <a:br>
              <a:rPr sz="28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目标网络    子网掩码      下一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36576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使用场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3581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743200" y="3352680"/>
            <a:ext cx="762120" cy="456840"/>
            <a:chOff x="2743200" y="3352680"/>
            <a:chExt cx="762120" cy="456840"/>
          </a:xfrm>
        </p:grpSpPr>
        <p:sp>
          <p:nvSpPr>
            <p:cNvPr id="228" name=""/>
            <p:cNvSpPr/>
            <p:nvPr/>
          </p:nvSpPr>
          <p:spPr>
            <a:xfrm>
              <a:off x="2743200" y="3479760"/>
              <a:ext cx="762120" cy="3297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3200" y="3352680"/>
              <a:ext cx="758880" cy="250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861280" y="3382200"/>
              <a:ext cx="523440" cy="190080"/>
              <a:chOff x="2861280" y="3382200"/>
              <a:chExt cx="523440" cy="190080"/>
            </a:xfrm>
          </p:grpSpPr>
          <p:sp>
            <p:nvSpPr>
              <p:cNvPr id="231" name=""/>
              <p:cNvSpPr/>
              <p:nvPr/>
            </p:nvSpPr>
            <p:spPr>
              <a:xfrm>
                <a:off x="3132360" y="33872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32360" y="33872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861280" y="34783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861280" y="34783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873880" y="3382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73880" y="3382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23000" y="34884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23000" y="34884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137760" y="33922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37760" y="33922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66320" y="34833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66320" y="34833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78920" y="33872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878920" y="33872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28040" y="34934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28040" y="34934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609480" y="3124080"/>
            <a:ext cx="1067040" cy="838080"/>
            <a:chOff x="609480" y="3124080"/>
            <a:chExt cx="1067040" cy="838080"/>
          </a:xfrm>
        </p:grpSpPr>
        <p:sp>
          <p:nvSpPr>
            <p:cNvPr id="248" name=""/>
            <p:cNvSpPr/>
            <p:nvPr/>
          </p:nvSpPr>
          <p:spPr>
            <a:xfrm>
              <a:off x="609480" y="3124080"/>
              <a:ext cx="1067040" cy="838080"/>
            </a:xfrm>
            <a:custGeom>
              <a:avLst/>
              <a:gdLst/>
              <a:ahLst/>
              <a:rect l="l" t="t" r="r" b="b"/>
              <a:pathLst>
                <a:path w="2305" h="1492">
                  <a:moveTo>
                    <a:pt x="366" y="354"/>
                  </a:moveTo>
                  <a:lnTo>
                    <a:pt x="384" y="313"/>
                  </a:lnTo>
                  <a:lnTo>
                    <a:pt x="414" y="271"/>
                  </a:lnTo>
                  <a:lnTo>
                    <a:pt x="457" y="237"/>
                  </a:lnTo>
                  <a:lnTo>
                    <a:pt x="517" y="209"/>
                  </a:lnTo>
                  <a:lnTo>
                    <a:pt x="563" y="194"/>
                  </a:lnTo>
                  <a:lnTo>
                    <a:pt x="622" y="180"/>
                  </a:lnTo>
                  <a:lnTo>
                    <a:pt x="711" y="173"/>
                  </a:lnTo>
                  <a:lnTo>
                    <a:pt x="797" y="180"/>
                  </a:lnTo>
                  <a:lnTo>
                    <a:pt x="878" y="197"/>
                  </a:lnTo>
                  <a:lnTo>
                    <a:pt x="937" y="218"/>
                  </a:lnTo>
                  <a:lnTo>
                    <a:pt x="972" y="149"/>
                  </a:lnTo>
                  <a:lnTo>
                    <a:pt x="1018" y="97"/>
                  </a:lnTo>
                  <a:lnTo>
                    <a:pt x="1077" y="54"/>
                  </a:lnTo>
                  <a:lnTo>
                    <a:pt x="1158" y="26"/>
                  </a:lnTo>
                  <a:lnTo>
                    <a:pt x="1256" y="2"/>
                  </a:lnTo>
                  <a:lnTo>
                    <a:pt x="1352" y="0"/>
                  </a:lnTo>
                  <a:lnTo>
                    <a:pt x="1439" y="11"/>
                  </a:lnTo>
                  <a:lnTo>
                    <a:pt x="1536" y="38"/>
                  </a:lnTo>
                  <a:lnTo>
                    <a:pt x="1608" y="85"/>
                  </a:lnTo>
                  <a:lnTo>
                    <a:pt x="1662" y="130"/>
                  </a:lnTo>
                  <a:lnTo>
                    <a:pt x="1694" y="175"/>
                  </a:lnTo>
                  <a:lnTo>
                    <a:pt x="1703" y="233"/>
                  </a:lnTo>
                  <a:lnTo>
                    <a:pt x="1770" y="214"/>
                  </a:lnTo>
                  <a:lnTo>
                    <a:pt x="1851" y="221"/>
                  </a:lnTo>
                  <a:lnTo>
                    <a:pt x="1915" y="237"/>
                  </a:lnTo>
                  <a:lnTo>
                    <a:pt x="1973" y="278"/>
                  </a:lnTo>
                  <a:lnTo>
                    <a:pt x="2015" y="330"/>
                  </a:lnTo>
                  <a:lnTo>
                    <a:pt x="2032" y="388"/>
                  </a:lnTo>
                  <a:lnTo>
                    <a:pt x="2029" y="429"/>
                  </a:lnTo>
                  <a:lnTo>
                    <a:pt x="2067" y="426"/>
                  </a:lnTo>
                  <a:lnTo>
                    <a:pt x="2115" y="436"/>
                  </a:lnTo>
                  <a:lnTo>
                    <a:pt x="2163" y="455"/>
                  </a:lnTo>
                  <a:lnTo>
                    <a:pt x="2201" y="479"/>
                  </a:lnTo>
                  <a:lnTo>
                    <a:pt x="2225" y="498"/>
                  </a:lnTo>
                  <a:lnTo>
                    <a:pt x="2250" y="524"/>
                  </a:lnTo>
                  <a:lnTo>
                    <a:pt x="2274" y="557"/>
                  </a:lnTo>
                  <a:lnTo>
                    <a:pt x="2288" y="598"/>
                  </a:lnTo>
                  <a:lnTo>
                    <a:pt x="2290" y="626"/>
                  </a:lnTo>
                  <a:lnTo>
                    <a:pt x="2282" y="659"/>
                  </a:lnTo>
                  <a:lnTo>
                    <a:pt x="2265" y="700"/>
                  </a:lnTo>
                  <a:lnTo>
                    <a:pt x="2288" y="740"/>
                  </a:lnTo>
                  <a:lnTo>
                    <a:pt x="2295" y="778"/>
                  </a:lnTo>
                  <a:lnTo>
                    <a:pt x="2300" y="819"/>
                  </a:lnTo>
                  <a:lnTo>
                    <a:pt x="2290" y="871"/>
                  </a:lnTo>
                  <a:lnTo>
                    <a:pt x="2282" y="900"/>
                  </a:lnTo>
                  <a:lnTo>
                    <a:pt x="2255" y="935"/>
                  </a:lnTo>
                  <a:lnTo>
                    <a:pt x="2290" y="988"/>
                  </a:lnTo>
                  <a:lnTo>
                    <a:pt x="2300" y="1018"/>
                  </a:lnTo>
                  <a:lnTo>
                    <a:pt x="2304" y="1066"/>
                  </a:lnTo>
                  <a:lnTo>
                    <a:pt x="2295" y="1111"/>
                  </a:lnTo>
                  <a:lnTo>
                    <a:pt x="2277" y="1162"/>
                  </a:lnTo>
                  <a:lnTo>
                    <a:pt x="2250" y="1198"/>
                  </a:lnTo>
                  <a:lnTo>
                    <a:pt x="2209" y="1234"/>
                  </a:lnTo>
                  <a:lnTo>
                    <a:pt x="2140" y="1267"/>
                  </a:lnTo>
                  <a:lnTo>
                    <a:pt x="2067" y="1279"/>
                  </a:lnTo>
                  <a:lnTo>
                    <a:pt x="2002" y="1269"/>
                  </a:lnTo>
                  <a:lnTo>
                    <a:pt x="1959" y="1250"/>
                  </a:lnTo>
                  <a:lnTo>
                    <a:pt x="1929" y="1286"/>
                  </a:lnTo>
                  <a:lnTo>
                    <a:pt x="1896" y="1315"/>
                  </a:lnTo>
                  <a:lnTo>
                    <a:pt x="1870" y="1334"/>
                  </a:lnTo>
                  <a:lnTo>
                    <a:pt x="1816" y="1357"/>
                  </a:lnTo>
                  <a:lnTo>
                    <a:pt x="1770" y="1374"/>
                  </a:lnTo>
                  <a:lnTo>
                    <a:pt x="1703" y="1386"/>
                  </a:lnTo>
                  <a:lnTo>
                    <a:pt x="1635" y="1383"/>
                  </a:lnTo>
                  <a:lnTo>
                    <a:pt x="1571" y="1367"/>
                  </a:lnTo>
                  <a:lnTo>
                    <a:pt x="1512" y="1338"/>
                  </a:lnTo>
                  <a:lnTo>
                    <a:pt x="1477" y="1388"/>
                  </a:lnTo>
                  <a:lnTo>
                    <a:pt x="1444" y="1417"/>
                  </a:lnTo>
                  <a:lnTo>
                    <a:pt x="1404" y="1441"/>
                  </a:lnTo>
                  <a:lnTo>
                    <a:pt x="1355" y="1460"/>
                  </a:lnTo>
                  <a:lnTo>
                    <a:pt x="1301" y="1469"/>
                  </a:lnTo>
                  <a:lnTo>
                    <a:pt x="1252" y="1469"/>
                  </a:lnTo>
                  <a:lnTo>
                    <a:pt x="1204" y="1460"/>
                  </a:lnTo>
                  <a:lnTo>
                    <a:pt x="1145" y="1433"/>
                  </a:lnTo>
                  <a:lnTo>
                    <a:pt x="1110" y="1410"/>
                  </a:lnTo>
                  <a:lnTo>
                    <a:pt x="1077" y="1441"/>
                  </a:lnTo>
                  <a:lnTo>
                    <a:pt x="1045" y="1460"/>
                  </a:lnTo>
                  <a:lnTo>
                    <a:pt x="1002" y="1476"/>
                  </a:lnTo>
                  <a:lnTo>
                    <a:pt x="943" y="1491"/>
                  </a:lnTo>
                  <a:lnTo>
                    <a:pt x="883" y="1486"/>
                  </a:lnTo>
                  <a:lnTo>
                    <a:pt x="819" y="1471"/>
                  </a:lnTo>
                  <a:lnTo>
                    <a:pt x="770" y="1448"/>
                  </a:lnTo>
                  <a:lnTo>
                    <a:pt x="725" y="1407"/>
                  </a:lnTo>
                  <a:lnTo>
                    <a:pt x="697" y="1367"/>
                  </a:lnTo>
                  <a:lnTo>
                    <a:pt x="649" y="1381"/>
                  </a:lnTo>
                  <a:lnTo>
                    <a:pt x="595" y="1391"/>
                  </a:lnTo>
                  <a:lnTo>
                    <a:pt x="530" y="1388"/>
                  </a:lnTo>
                  <a:lnTo>
                    <a:pt x="474" y="1369"/>
                  </a:lnTo>
                  <a:lnTo>
                    <a:pt x="428" y="1343"/>
                  </a:lnTo>
                  <a:lnTo>
                    <a:pt x="393" y="1315"/>
                  </a:lnTo>
                  <a:lnTo>
                    <a:pt x="363" y="1274"/>
                  </a:lnTo>
                  <a:lnTo>
                    <a:pt x="355" y="1234"/>
                  </a:lnTo>
                  <a:lnTo>
                    <a:pt x="325" y="1243"/>
                  </a:lnTo>
                  <a:lnTo>
                    <a:pt x="271" y="1246"/>
                  </a:lnTo>
                  <a:lnTo>
                    <a:pt x="212" y="1234"/>
                  </a:lnTo>
                  <a:lnTo>
                    <a:pt x="153" y="1205"/>
                  </a:lnTo>
                  <a:lnTo>
                    <a:pt x="113" y="1167"/>
                  </a:lnTo>
                  <a:lnTo>
                    <a:pt x="78" y="1118"/>
                  </a:lnTo>
                  <a:lnTo>
                    <a:pt x="59" y="1066"/>
                  </a:lnTo>
                  <a:lnTo>
                    <a:pt x="50" y="995"/>
                  </a:lnTo>
                  <a:lnTo>
                    <a:pt x="53" y="947"/>
                  </a:lnTo>
                  <a:lnTo>
                    <a:pt x="72" y="876"/>
                  </a:lnTo>
                  <a:lnTo>
                    <a:pt x="32" y="835"/>
                  </a:lnTo>
                  <a:lnTo>
                    <a:pt x="10" y="783"/>
                  </a:lnTo>
                  <a:lnTo>
                    <a:pt x="0" y="728"/>
                  </a:lnTo>
                  <a:lnTo>
                    <a:pt x="0" y="669"/>
                  </a:lnTo>
                  <a:lnTo>
                    <a:pt x="13" y="607"/>
                  </a:lnTo>
                  <a:lnTo>
                    <a:pt x="40" y="560"/>
                  </a:lnTo>
                  <a:lnTo>
                    <a:pt x="86" y="510"/>
                  </a:lnTo>
                  <a:lnTo>
                    <a:pt x="134" y="472"/>
                  </a:lnTo>
                  <a:lnTo>
                    <a:pt x="191" y="436"/>
                  </a:lnTo>
                  <a:lnTo>
                    <a:pt x="264" y="412"/>
                  </a:lnTo>
                  <a:lnTo>
                    <a:pt x="330" y="398"/>
                  </a:lnTo>
                  <a:lnTo>
                    <a:pt x="363" y="391"/>
                  </a:lnTo>
                  <a:lnTo>
                    <a:pt x="366" y="354"/>
                  </a:lnTo>
                </a:path>
              </a:pathLst>
            </a:custGeom>
            <a:solidFill>
              <a:srgbClr val="ccffcc"/>
            </a:solidFill>
            <a:ln cap="rnd" w="25560">
              <a:solidFill>
                <a:srgbClr val="ff6600"/>
              </a:solidFill>
              <a:round/>
            </a:ln>
            <a:effectLst>
              <a:outerShdw dist="36147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0880" y="3386880"/>
              <a:ext cx="7110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646200"/>
                  <a:tab algn="l" pos="1292400"/>
                  <a:tab algn="l" pos="1938240"/>
                  <a:tab algn="l" pos="2584440"/>
                  <a:tab algn="l" pos="3230640"/>
                  <a:tab algn="l" pos="3876840"/>
                  <a:tab algn="l" pos="4522680"/>
                  <a:tab algn="l" pos="5168880"/>
                  <a:tab algn="l" pos="5815080"/>
                  <a:tab algn="l" pos="6461280"/>
                  <a:tab algn="l" pos="7107120"/>
                  <a:tab algn="l" pos="7753320"/>
                  <a:tab algn="l" pos="8399520"/>
                  <a:tab algn="l" pos="9045720"/>
                  <a:tab algn="l" pos="9691560"/>
                  <a:tab algn="l" pos="10337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410080" y="2209680"/>
            <a:ext cx="152424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91320" y="1905120"/>
            <a:ext cx="121896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19920" y="3276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29200" y="30481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11.16.11.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3048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92.168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6232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5320" y="3733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4571640"/>
            <a:ext cx="6364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配置方法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____________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3048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11.16.1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429000"/>
            <a:ext cx="533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课程安排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什么是路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动态路由协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动态路由协议的两种算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-V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算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L-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算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495680" y="60199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51055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6080" y="44197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933960" y="51814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6095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486400" y="60958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114800" y="60958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5638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495320" y="5715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96080" y="518148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181480" y="4952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533520"/>
            <a:ext cx="5638680" cy="2895480"/>
          </a:xfrm>
          <a:custGeom>
            <a:avLst/>
            <a:gdLst/>
            <a:ahLst/>
            <a:rect l="l" t="t" r="r" b="b"/>
            <a:pathLst>
              <a:path w="16408" h="11518">
                <a:moveTo>
                  <a:pt x="12894" y="1455"/>
                </a:moveTo>
                <a:lnTo>
                  <a:pt x="12992" y="1452"/>
                </a:lnTo>
                <a:lnTo>
                  <a:pt x="13091" y="1453"/>
                </a:lnTo>
                <a:lnTo>
                  <a:pt x="13190" y="1456"/>
                </a:lnTo>
                <a:lnTo>
                  <a:pt x="13290" y="1463"/>
                </a:lnTo>
                <a:lnTo>
                  <a:pt x="13391" y="1473"/>
                </a:lnTo>
                <a:lnTo>
                  <a:pt x="13490" y="1485"/>
                </a:lnTo>
                <a:lnTo>
                  <a:pt x="13591" y="1501"/>
                </a:lnTo>
                <a:lnTo>
                  <a:pt x="13690" y="1519"/>
                </a:lnTo>
                <a:lnTo>
                  <a:pt x="13790" y="1541"/>
                </a:lnTo>
                <a:lnTo>
                  <a:pt x="13888" y="1566"/>
                </a:lnTo>
                <a:lnTo>
                  <a:pt x="13987" y="1594"/>
                </a:lnTo>
                <a:lnTo>
                  <a:pt x="14083" y="1626"/>
                </a:lnTo>
                <a:lnTo>
                  <a:pt x="14179" y="1659"/>
                </a:lnTo>
                <a:lnTo>
                  <a:pt x="14273" y="1696"/>
                </a:lnTo>
                <a:lnTo>
                  <a:pt x="14365" y="1737"/>
                </a:lnTo>
                <a:lnTo>
                  <a:pt x="14455" y="1781"/>
                </a:lnTo>
                <a:lnTo>
                  <a:pt x="14545" y="1828"/>
                </a:lnTo>
                <a:lnTo>
                  <a:pt x="14631" y="1878"/>
                </a:lnTo>
                <a:lnTo>
                  <a:pt x="14715" y="1931"/>
                </a:lnTo>
                <a:lnTo>
                  <a:pt x="14797" y="1987"/>
                </a:lnTo>
                <a:lnTo>
                  <a:pt x="14876" y="2046"/>
                </a:lnTo>
                <a:lnTo>
                  <a:pt x="14952" y="2109"/>
                </a:lnTo>
                <a:lnTo>
                  <a:pt x="15026" y="2174"/>
                </a:lnTo>
                <a:lnTo>
                  <a:pt x="15095" y="2244"/>
                </a:lnTo>
                <a:lnTo>
                  <a:pt x="15162" y="2316"/>
                </a:lnTo>
                <a:lnTo>
                  <a:pt x="15225" y="2392"/>
                </a:lnTo>
                <a:lnTo>
                  <a:pt x="15283" y="2471"/>
                </a:lnTo>
                <a:lnTo>
                  <a:pt x="15338" y="2554"/>
                </a:lnTo>
                <a:lnTo>
                  <a:pt x="15389" y="2639"/>
                </a:lnTo>
                <a:lnTo>
                  <a:pt x="15436" y="2727"/>
                </a:lnTo>
                <a:lnTo>
                  <a:pt x="15478" y="2820"/>
                </a:lnTo>
                <a:lnTo>
                  <a:pt x="15515" y="2915"/>
                </a:lnTo>
                <a:lnTo>
                  <a:pt x="15530" y="2973"/>
                </a:lnTo>
                <a:lnTo>
                  <a:pt x="15544" y="3031"/>
                </a:lnTo>
                <a:lnTo>
                  <a:pt x="15555" y="3088"/>
                </a:lnTo>
                <a:lnTo>
                  <a:pt x="15563" y="3144"/>
                </a:lnTo>
                <a:lnTo>
                  <a:pt x="15569" y="3199"/>
                </a:lnTo>
                <a:lnTo>
                  <a:pt x="15573" y="3255"/>
                </a:lnTo>
                <a:lnTo>
                  <a:pt x="15575" y="3310"/>
                </a:lnTo>
                <a:lnTo>
                  <a:pt x="15575" y="3364"/>
                </a:lnTo>
                <a:lnTo>
                  <a:pt x="15572" y="3417"/>
                </a:lnTo>
                <a:lnTo>
                  <a:pt x="15568" y="3470"/>
                </a:lnTo>
                <a:lnTo>
                  <a:pt x="15561" y="3522"/>
                </a:lnTo>
                <a:lnTo>
                  <a:pt x="15553" y="3573"/>
                </a:lnTo>
                <a:lnTo>
                  <a:pt x="15541" y="3624"/>
                </a:lnTo>
                <a:lnTo>
                  <a:pt x="15528" y="3674"/>
                </a:lnTo>
                <a:lnTo>
                  <a:pt x="15514" y="3724"/>
                </a:lnTo>
                <a:lnTo>
                  <a:pt x="15496" y="3773"/>
                </a:lnTo>
                <a:lnTo>
                  <a:pt x="15478" y="3821"/>
                </a:lnTo>
                <a:lnTo>
                  <a:pt x="15456" y="3868"/>
                </a:lnTo>
                <a:lnTo>
                  <a:pt x="15434" y="3915"/>
                </a:lnTo>
                <a:lnTo>
                  <a:pt x="15409" y="3960"/>
                </a:lnTo>
                <a:lnTo>
                  <a:pt x="15383" y="4005"/>
                </a:lnTo>
                <a:lnTo>
                  <a:pt x="15355" y="4049"/>
                </a:lnTo>
                <a:lnTo>
                  <a:pt x="15324" y="4093"/>
                </a:lnTo>
                <a:lnTo>
                  <a:pt x="15292" y="4135"/>
                </a:lnTo>
                <a:lnTo>
                  <a:pt x="15259" y="4177"/>
                </a:lnTo>
                <a:lnTo>
                  <a:pt x="15224" y="4219"/>
                </a:lnTo>
                <a:lnTo>
                  <a:pt x="15187" y="4258"/>
                </a:lnTo>
                <a:lnTo>
                  <a:pt x="15149" y="4298"/>
                </a:lnTo>
                <a:lnTo>
                  <a:pt x="15108" y="4336"/>
                </a:lnTo>
                <a:lnTo>
                  <a:pt x="15067" y="4374"/>
                </a:lnTo>
                <a:lnTo>
                  <a:pt x="15023" y="4410"/>
                </a:lnTo>
                <a:lnTo>
                  <a:pt x="14978" y="4447"/>
                </a:lnTo>
                <a:lnTo>
                  <a:pt x="15048" y="4466"/>
                </a:lnTo>
                <a:lnTo>
                  <a:pt x="15117" y="4487"/>
                </a:lnTo>
                <a:lnTo>
                  <a:pt x="15186" y="4510"/>
                </a:lnTo>
                <a:lnTo>
                  <a:pt x="15252" y="4534"/>
                </a:lnTo>
                <a:lnTo>
                  <a:pt x="15318" y="4561"/>
                </a:lnTo>
                <a:lnTo>
                  <a:pt x="15381" y="4588"/>
                </a:lnTo>
                <a:lnTo>
                  <a:pt x="15444" y="4619"/>
                </a:lnTo>
                <a:lnTo>
                  <a:pt x="15506" y="4650"/>
                </a:lnTo>
                <a:lnTo>
                  <a:pt x="15566" y="4683"/>
                </a:lnTo>
                <a:lnTo>
                  <a:pt x="15625" y="4718"/>
                </a:lnTo>
                <a:lnTo>
                  <a:pt x="15681" y="4755"/>
                </a:lnTo>
                <a:lnTo>
                  <a:pt x="15736" y="4793"/>
                </a:lnTo>
                <a:lnTo>
                  <a:pt x="15790" y="4833"/>
                </a:lnTo>
                <a:lnTo>
                  <a:pt x="15841" y="4875"/>
                </a:lnTo>
                <a:lnTo>
                  <a:pt x="15891" y="4919"/>
                </a:lnTo>
                <a:lnTo>
                  <a:pt x="15939" y="4964"/>
                </a:lnTo>
                <a:lnTo>
                  <a:pt x="15985" y="5011"/>
                </a:lnTo>
                <a:lnTo>
                  <a:pt x="16030" y="5060"/>
                </a:lnTo>
                <a:lnTo>
                  <a:pt x="16072" y="5111"/>
                </a:lnTo>
                <a:lnTo>
                  <a:pt x="16112" y="5164"/>
                </a:lnTo>
                <a:lnTo>
                  <a:pt x="16150" y="5219"/>
                </a:lnTo>
                <a:lnTo>
                  <a:pt x="16184" y="5275"/>
                </a:lnTo>
                <a:lnTo>
                  <a:pt x="16218" y="5333"/>
                </a:lnTo>
                <a:lnTo>
                  <a:pt x="16249" y="5392"/>
                </a:lnTo>
                <a:lnTo>
                  <a:pt x="16278" y="5455"/>
                </a:lnTo>
                <a:lnTo>
                  <a:pt x="16303" y="5518"/>
                </a:lnTo>
                <a:lnTo>
                  <a:pt x="16327" y="5584"/>
                </a:lnTo>
                <a:lnTo>
                  <a:pt x="16349" y="5651"/>
                </a:lnTo>
                <a:lnTo>
                  <a:pt x="16367" y="5720"/>
                </a:lnTo>
                <a:lnTo>
                  <a:pt x="16382" y="5791"/>
                </a:lnTo>
                <a:lnTo>
                  <a:pt x="16396" y="5864"/>
                </a:lnTo>
                <a:lnTo>
                  <a:pt x="16406" y="5939"/>
                </a:lnTo>
                <a:lnTo>
                  <a:pt x="16408" y="6053"/>
                </a:lnTo>
                <a:lnTo>
                  <a:pt x="16404" y="6164"/>
                </a:lnTo>
                <a:lnTo>
                  <a:pt x="16395" y="6273"/>
                </a:lnTo>
                <a:lnTo>
                  <a:pt x="16378" y="6381"/>
                </a:lnTo>
                <a:lnTo>
                  <a:pt x="16357" y="6487"/>
                </a:lnTo>
                <a:lnTo>
                  <a:pt x="16329" y="6591"/>
                </a:lnTo>
                <a:lnTo>
                  <a:pt x="16296" y="6692"/>
                </a:lnTo>
                <a:lnTo>
                  <a:pt x="16258" y="6792"/>
                </a:lnTo>
                <a:lnTo>
                  <a:pt x="16215" y="6889"/>
                </a:lnTo>
                <a:lnTo>
                  <a:pt x="16167" y="6985"/>
                </a:lnTo>
                <a:lnTo>
                  <a:pt x="16115" y="7077"/>
                </a:lnTo>
                <a:lnTo>
                  <a:pt x="16058" y="7169"/>
                </a:lnTo>
                <a:lnTo>
                  <a:pt x="15997" y="7258"/>
                </a:lnTo>
                <a:lnTo>
                  <a:pt x="15932" y="7343"/>
                </a:lnTo>
                <a:lnTo>
                  <a:pt x="15862" y="7427"/>
                </a:lnTo>
                <a:lnTo>
                  <a:pt x="15791" y="7509"/>
                </a:lnTo>
                <a:lnTo>
                  <a:pt x="15715" y="7588"/>
                </a:lnTo>
                <a:lnTo>
                  <a:pt x="15635" y="7664"/>
                </a:lnTo>
                <a:lnTo>
                  <a:pt x="15553" y="7738"/>
                </a:lnTo>
                <a:lnTo>
                  <a:pt x="15468" y="7809"/>
                </a:lnTo>
                <a:lnTo>
                  <a:pt x="15380" y="7877"/>
                </a:lnTo>
                <a:lnTo>
                  <a:pt x="15290" y="7943"/>
                </a:lnTo>
                <a:lnTo>
                  <a:pt x="15198" y="8005"/>
                </a:lnTo>
                <a:lnTo>
                  <a:pt x="15104" y="8065"/>
                </a:lnTo>
                <a:lnTo>
                  <a:pt x="15008" y="8122"/>
                </a:lnTo>
                <a:lnTo>
                  <a:pt x="14910" y="8176"/>
                </a:lnTo>
                <a:lnTo>
                  <a:pt x="14811" y="8227"/>
                </a:lnTo>
                <a:lnTo>
                  <a:pt x="14711" y="8276"/>
                </a:lnTo>
                <a:lnTo>
                  <a:pt x="14610" y="8321"/>
                </a:lnTo>
                <a:lnTo>
                  <a:pt x="14508" y="8363"/>
                </a:lnTo>
                <a:lnTo>
                  <a:pt x="14406" y="8401"/>
                </a:lnTo>
                <a:lnTo>
                  <a:pt x="14303" y="8436"/>
                </a:lnTo>
                <a:lnTo>
                  <a:pt x="14269" y="8448"/>
                </a:lnTo>
                <a:lnTo>
                  <a:pt x="14234" y="8457"/>
                </a:lnTo>
                <a:lnTo>
                  <a:pt x="14199" y="8468"/>
                </a:lnTo>
                <a:lnTo>
                  <a:pt x="14165" y="8477"/>
                </a:lnTo>
                <a:lnTo>
                  <a:pt x="14130" y="8486"/>
                </a:lnTo>
                <a:lnTo>
                  <a:pt x="14095" y="8496"/>
                </a:lnTo>
                <a:lnTo>
                  <a:pt x="14062" y="8504"/>
                </a:lnTo>
                <a:lnTo>
                  <a:pt x="14027" y="8513"/>
                </a:lnTo>
                <a:lnTo>
                  <a:pt x="13992" y="8520"/>
                </a:lnTo>
                <a:lnTo>
                  <a:pt x="13957" y="8528"/>
                </a:lnTo>
                <a:lnTo>
                  <a:pt x="13923" y="8535"/>
                </a:lnTo>
                <a:lnTo>
                  <a:pt x="13888" y="8542"/>
                </a:lnTo>
                <a:lnTo>
                  <a:pt x="13853" y="8549"/>
                </a:lnTo>
                <a:lnTo>
                  <a:pt x="13819" y="8555"/>
                </a:lnTo>
                <a:lnTo>
                  <a:pt x="13784" y="8560"/>
                </a:lnTo>
                <a:lnTo>
                  <a:pt x="13749" y="8567"/>
                </a:lnTo>
                <a:lnTo>
                  <a:pt x="13713" y="8572"/>
                </a:lnTo>
                <a:lnTo>
                  <a:pt x="13678" y="8576"/>
                </a:lnTo>
                <a:lnTo>
                  <a:pt x="13643" y="8581"/>
                </a:lnTo>
                <a:lnTo>
                  <a:pt x="13608" y="8585"/>
                </a:lnTo>
                <a:lnTo>
                  <a:pt x="13572" y="8590"/>
                </a:lnTo>
                <a:lnTo>
                  <a:pt x="13538" y="8593"/>
                </a:lnTo>
                <a:lnTo>
                  <a:pt x="13502" y="8596"/>
                </a:lnTo>
                <a:lnTo>
                  <a:pt x="13466" y="8599"/>
                </a:lnTo>
                <a:lnTo>
                  <a:pt x="13431" y="8601"/>
                </a:lnTo>
                <a:lnTo>
                  <a:pt x="13395" y="8603"/>
                </a:lnTo>
                <a:lnTo>
                  <a:pt x="13359" y="8605"/>
                </a:lnTo>
                <a:lnTo>
                  <a:pt x="13323" y="8606"/>
                </a:lnTo>
                <a:lnTo>
                  <a:pt x="13287" y="8607"/>
                </a:lnTo>
                <a:lnTo>
                  <a:pt x="13250" y="8608"/>
                </a:lnTo>
                <a:lnTo>
                  <a:pt x="13215" y="8608"/>
                </a:lnTo>
                <a:lnTo>
                  <a:pt x="13179" y="8608"/>
                </a:lnTo>
                <a:lnTo>
                  <a:pt x="13156" y="8703"/>
                </a:lnTo>
                <a:lnTo>
                  <a:pt x="13132" y="8797"/>
                </a:lnTo>
                <a:lnTo>
                  <a:pt x="13105" y="8888"/>
                </a:lnTo>
                <a:lnTo>
                  <a:pt x="13075" y="8978"/>
                </a:lnTo>
                <a:lnTo>
                  <a:pt x="13042" y="9067"/>
                </a:lnTo>
                <a:lnTo>
                  <a:pt x="13006" y="9154"/>
                </a:lnTo>
                <a:lnTo>
                  <a:pt x="12969" y="9239"/>
                </a:lnTo>
                <a:lnTo>
                  <a:pt x="12928" y="9323"/>
                </a:lnTo>
                <a:lnTo>
                  <a:pt x="12886" y="9406"/>
                </a:lnTo>
                <a:lnTo>
                  <a:pt x="12840" y="9486"/>
                </a:lnTo>
                <a:lnTo>
                  <a:pt x="12793" y="9565"/>
                </a:lnTo>
                <a:lnTo>
                  <a:pt x="12744" y="9643"/>
                </a:lnTo>
                <a:lnTo>
                  <a:pt x="12692" y="9719"/>
                </a:lnTo>
                <a:lnTo>
                  <a:pt x="12637" y="9794"/>
                </a:lnTo>
                <a:lnTo>
                  <a:pt x="12581" y="9867"/>
                </a:lnTo>
                <a:lnTo>
                  <a:pt x="12522" y="9939"/>
                </a:lnTo>
                <a:lnTo>
                  <a:pt x="12462" y="10010"/>
                </a:lnTo>
                <a:lnTo>
                  <a:pt x="12399" y="10079"/>
                </a:lnTo>
                <a:lnTo>
                  <a:pt x="12336" y="10146"/>
                </a:lnTo>
                <a:lnTo>
                  <a:pt x="12269" y="10212"/>
                </a:lnTo>
                <a:lnTo>
                  <a:pt x="12201" y="10277"/>
                </a:lnTo>
                <a:lnTo>
                  <a:pt x="12132" y="10339"/>
                </a:lnTo>
                <a:lnTo>
                  <a:pt x="12060" y="10401"/>
                </a:lnTo>
                <a:lnTo>
                  <a:pt x="11987" y="10461"/>
                </a:lnTo>
                <a:lnTo>
                  <a:pt x="11912" y="10519"/>
                </a:lnTo>
                <a:lnTo>
                  <a:pt x="11836" y="10577"/>
                </a:lnTo>
                <a:lnTo>
                  <a:pt x="11758" y="10632"/>
                </a:lnTo>
                <a:lnTo>
                  <a:pt x="11679" y="10686"/>
                </a:lnTo>
                <a:lnTo>
                  <a:pt x="11599" y="10739"/>
                </a:lnTo>
                <a:lnTo>
                  <a:pt x="11517" y="10791"/>
                </a:lnTo>
                <a:lnTo>
                  <a:pt x="11434" y="10841"/>
                </a:lnTo>
                <a:lnTo>
                  <a:pt x="11350" y="10889"/>
                </a:lnTo>
                <a:lnTo>
                  <a:pt x="11320" y="10905"/>
                </a:lnTo>
                <a:lnTo>
                  <a:pt x="11292" y="10920"/>
                </a:lnTo>
                <a:lnTo>
                  <a:pt x="11262" y="10936"/>
                </a:lnTo>
                <a:lnTo>
                  <a:pt x="11232" y="10950"/>
                </a:lnTo>
                <a:lnTo>
                  <a:pt x="11203" y="10965"/>
                </a:lnTo>
                <a:lnTo>
                  <a:pt x="11174" y="10980"/>
                </a:lnTo>
                <a:lnTo>
                  <a:pt x="11144" y="10994"/>
                </a:lnTo>
                <a:lnTo>
                  <a:pt x="11114" y="11009"/>
                </a:lnTo>
                <a:lnTo>
                  <a:pt x="11084" y="11023"/>
                </a:lnTo>
                <a:lnTo>
                  <a:pt x="11054" y="11037"/>
                </a:lnTo>
                <a:lnTo>
                  <a:pt x="11024" y="11050"/>
                </a:lnTo>
                <a:lnTo>
                  <a:pt x="10994" y="11065"/>
                </a:lnTo>
                <a:lnTo>
                  <a:pt x="10964" y="11079"/>
                </a:lnTo>
                <a:lnTo>
                  <a:pt x="10934" y="11092"/>
                </a:lnTo>
                <a:lnTo>
                  <a:pt x="10903" y="11106"/>
                </a:lnTo>
                <a:lnTo>
                  <a:pt x="10872" y="11119"/>
                </a:lnTo>
                <a:lnTo>
                  <a:pt x="10805" y="11145"/>
                </a:lnTo>
                <a:lnTo>
                  <a:pt x="10737" y="11171"/>
                </a:lnTo>
                <a:lnTo>
                  <a:pt x="10668" y="11195"/>
                </a:lnTo>
                <a:lnTo>
                  <a:pt x="10601" y="11219"/>
                </a:lnTo>
                <a:lnTo>
                  <a:pt x="10533" y="11241"/>
                </a:lnTo>
                <a:lnTo>
                  <a:pt x="10466" y="11263"/>
                </a:lnTo>
                <a:lnTo>
                  <a:pt x="10399" y="11284"/>
                </a:lnTo>
                <a:lnTo>
                  <a:pt x="10331" y="11303"/>
                </a:lnTo>
                <a:lnTo>
                  <a:pt x="10263" y="11322"/>
                </a:lnTo>
                <a:lnTo>
                  <a:pt x="10197" y="11340"/>
                </a:lnTo>
                <a:lnTo>
                  <a:pt x="10129" y="11358"/>
                </a:lnTo>
                <a:lnTo>
                  <a:pt x="10061" y="11373"/>
                </a:lnTo>
                <a:lnTo>
                  <a:pt x="9993" y="11389"/>
                </a:lnTo>
                <a:lnTo>
                  <a:pt x="9926" y="11403"/>
                </a:lnTo>
                <a:lnTo>
                  <a:pt x="9858" y="11417"/>
                </a:lnTo>
                <a:lnTo>
                  <a:pt x="9789" y="11429"/>
                </a:lnTo>
                <a:lnTo>
                  <a:pt x="9722" y="11441"/>
                </a:lnTo>
                <a:lnTo>
                  <a:pt x="9653" y="11452"/>
                </a:lnTo>
                <a:lnTo>
                  <a:pt x="9584" y="11462"/>
                </a:lnTo>
                <a:lnTo>
                  <a:pt x="9516" y="11471"/>
                </a:lnTo>
                <a:lnTo>
                  <a:pt x="9447" y="11479"/>
                </a:lnTo>
                <a:lnTo>
                  <a:pt x="9377" y="11487"/>
                </a:lnTo>
                <a:lnTo>
                  <a:pt x="9307" y="11494"/>
                </a:lnTo>
                <a:lnTo>
                  <a:pt x="9238" y="11499"/>
                </a:lnTo>
                <a:lnTo>
                  <a:pt x="9167" y="11504"/>
                </a:lnTo>
                <a:lnTo>
                  <a:pt x="9097" y="11509"/>
                </a:lnTo>
                <a:lnTo>
                  <a:pt x="9025" y="11512"/>
                </a:lnTo>
                <a:lnTo>
                  <a:pt x="8954" y="11515"/>
                </a:lnTo>
                <a:lnTo>
                  <a:pt x="8882" y="11517"/>
                </a:lnTo>
                <a:lnTo>
                  <a:pt x="8810" y="11517"/>
                </a:lnTo>
                <a:lnTo>
                  <a:pt x="8737" y="11518"/>
                </a:lnTo>
                <a:lnTo>
                  <a:pt x="8663" y="11517"/>
                </a:lnTo>
                <a:lnTo>
                  <a:pt x="8262" y="11488"/>
                </a:lnTo>
                <a:lnTo>
                  <a:pt x="8161" y="11474"/>
                </a:lnTo>
                <a:lnTo>
                  <a:pt x="8060" y="11458"/>
                </a:lnTo>
                <a:lnTo>
                  <a:pt x="7959" y="11440"/>
                </a:lnTo>
                <a:lnTo>
                  <a:pt x="7858" y="11421"/>
                </a:lnTo>
                <a:lnTo>
                  <a:pt x="7758" y="11400"/>
                </a:lnTo>
                <a:lnTo>
                  <a:pt x="7657" y="11376"/>
                </a:lnTo>
                <a:lnTo>
                  <a:pt x="7558" y="11351"/>
                </a:lnTo>
                <a:lnTo>
                  <a:pt x="7459" y="11325"/>
                </a:lnTo>
                <a:lnTo>
                  <a:pt x="7362" y="11296"/>
                </a:lnTo>
                <a:lnTo>
                  <a:pt x="7265" y="11265"/>
                </a:lnTo>
                <a:lnTo>
                  <a:pt x="7168" y="11233"/>
                </a:lnTo>
                <a:lnTo>
                  <a:pt x="7072" y="11197"/>
                </a:lnTo>
                <a:lnTo>
                  <a:pt x="6978" y="11161"/>
                </a:lnTo>
                <a:lnTo>
                  <a:pt x="6884" y="11121"/>
                </a:lnTo>
                <a:lnTo>
                  <a:pt x="6792" y="11080"/>
                </a:lnTo>
                <a:lnTo>
                  <a:pt x="6701" y="11037"/>
                </a:lnTo>
                <a:lnTo>
                  <a:pt x="6611" y="10990"/>
                </a:lnTo>
                <a:lnTo>
                  <a:pt x="6522" y="10942"/>
                </a:lnTo>
                <a:lnTo>
                  <a:pt x="6436" y="10892"/>
                </a:lnTo>
                <a:lnTo>
                  <a:pt x="6350" y="10839"/>
                </a:lnTo>
                <a:lnTo>
                  <a:pt x="6266" y="10784"/>
                </a:lnTo>
                <a:lnTo>
                  <a:pt x="6184" y="10727"/>
                </a:lnTo>
                <a:lnTo>
                  <a:pt x="6104" y="10666"/>
                </a:lnTo>
                <a:lnTo>
                  <a:pt x="6025" y="10604"/>
                </a:lnTo>
                <a:lnTo>
                  <a:pt x="5948" y="10539"/>
                </a:lnTo>
                <a:lnTo>
                  <a:pt x="5873" y="10471"/>
                </a:lnTo>
                <a:lnTo>
                  <a:pt x="5800" y="10401"/>
                </a:lnTo>
                <a:lnTo>
                  <a:pt x="5729" y="10328"/>
                </a:lnTo>
                <a:lnTo>
                  <a:pt x="5662" y="10253"/>
                </a:lnTo>
                <a:lnTo>
                  <a:pt x="5595" y="10175"/>
                </a:lnTo>
                <a:lnTo>
                  <a:pt x="5532" y="10093"/>
                </a:lnTo>
                <a:lnTo>
                  <a:pt x="5470" y="10010"/>
                </a:lnTo>
                <a:lnTo>
                  <a:pt x="5380" y="10000"/>
                </a:lnTo>
                <a:lnTo>
                  <a:pt x="5290" y="9987"/>
                </a:lnTo>
                <a:lnTo>
                  <a:pt x="5199" y="9974"/>
                </a:lnTo>
                <a:lnTo>
                  <a:pt x="5109" y="9958"/>
                </a:lnTo>
                <a:lnTo>
                  <a:pt x="5020" y="9941"/>
                </a:lnTo>
                <a:lnTo>
                  <a:pt x="4931" y="9923"/>
                </a:lnTo>
                <a:lnTo>
                  <a:pt x="4842" y="9902"/>
                </a:lnTo>
                <a:lnTo>
                  <a:pt x="4754" y="9879"/>
                </a:lnTo>
                <a:lnTo>
                  <a:pt x="4666" y="9855"/>
                </a:lnTo>
                <a:lnTo>
                  <a:pt x="4579" y="9830"/>
                </a:lnTo>
                <a:lnTo>
                  <a:pt x="4493" y="9802"/>
                </a:lnTo>
                <a:lnTo>
                  <a:pt x="4408" y="9773"/>
                </a:lnTo>
                <a:lnTo>
                  <a:pt x="4322" y="9741"/>
                </a:lnTo>
                <a:lnTo>
                  <a:pt x="4238" y="9708"/>
                </a:lnTo>
                <a:lnTo>
                  <a:pt x="4155" y="9673"/>
                </a:lnTo>
                <a:lnTo>
                  <a:pt x="4073" y="9636"/>
                </a:lnTo>
                <a:lnTo>
                  <a:pt x="3993" y="9597"/>
                </a:lnTo>
                <a:lnTo>
                  <a:pt x="3913" y="9556"/>
                </a:lnTo>
                <a:lnTo>
                  <a:pt x="3834" y="9513"/>
                </a:lnTo>
                <a:lnTo>
                  <a:pt x="3757" y="9469"/>
                </a:lnTo>
                <a:lnTo>
                  <a:pt x="3682" y="9422"/>
                </a:lnTo>
                <a:lnTo>
                  <a:pt x="3607" y="9373"/>
                </a:lnTo>
                <a:lnTo>
                  <a:pt x="3533" y="9322"/>
                </a:lnTo>
                <a:lnTo>
                  <a:pt x="3461" y="9269"/>
                </a:lnTo>
                <a:lnTo>
                  <a:pt x="3391" y="9213"/>
                </a:lnTo>
                <a:lnTo>
                  <a:pt x="3323" y="9156"/>
                </a:lnTo>
                <a:lnTo>
                  <a:pt x="3256" y="9097"/>
                </a:lnTo>
                <a:lnTo>
                  <a:pt x="3191" y="9035"/>
                </a:lnTo>
                <a:lnTo>
                  <a:pt x="3128" y="8972"/>
                </a:lnTo>
                <a:lnTo>
                  <a:pt x="3066" y="8905"/>
                </a:lnTo>
                <a:lnTo>
                  <a:pt x="3007" y="8837"/>
                </a:lnTo>
                <a:lnTo>
                  <a:pt x="2949" y="8767"/>
                </a:lnTo>
                <a:lnTo>
                  <a:pt x="2927" y="8735"/>
                </a:lnTo>
                <a:lnTo>
                  <a:pt x="2905" y="8703"/>
                </a:lnTo>
                <a:lnTo>
                  <a:pt x="2885" y="8671"/>
                </a:lnTo>
                <a:lnTo>
                  <a:pt x="2864" y="8639"/>
                </a:lnTo>
                <a:lnTo>
                  <a:pt x="2845" y="8606"/>
                </a:lnTo>
                <a:lnTo>
                  <a:pt x="2825" y="8574"/>
                </a:lnTo>
                <a:lnTo>
                  <a:pt x="2807" y="8541"/>
                </a:lnTo>
                <a:lnTo>
                  <a:pt x="2789" y="8507"/>
                </a:lnTo>
                <a:lnTo>
                  <a:pt x="2772" y="8474"/>
                </a:lnTo>
                <a:lnTo>
                  <a:pt x="2756" y="8441"/>
                </a:lnTo>
                <a:lnTo>
                  <a:pt x="2740" y="8406"/>
                </a:lnTo>
                <a:lnTo>
                  <a:pt x="2726" y="8372"/>
                </a:lnTo>
                <a:lnTo>
                  <a:pt x="2711" y="8338"/>
                </a:lnTo>
                <a:lnTo>
                  <a:pt x="2699" y="8303"/>
                </a:lnTo>
                <a:lnTo>
                  <a:pt x="2687" y="8269"/>
                </a:lnTo>
                <a:lnTo>
                  <a:pt x="2676" y="8233"/>
                </a:lnTo>
                <a:lnTo>
                  <a:pt x="2665" y="8198"/>
                </a:lnTo>
                <a:lnTo>
                  <a:pt x="2655" y="8163"/>
                </a:lnTo>
                <a:lnTo>
                  <a:pt x="2647" y="8127"/>
                </a:lnTo>
                <a:lnTo>
                  <a:pt x="2640" y="8092"/>
                </a:lnTo>
                <a:lnTo>
                  <a:pt x="2633" y="8055"/>
                </a:lnTo>
                <a:lnTo>
                  <a:pt x="2627" y="8019"/>
                </a:lnTo>
                <a:lnTo>
                  <a:pt x="2623" y="7982"/>
                </a:lnTo>
                <a:lnTo>
                  <a:pt x="2620" y="7946"/>
                </a:lnTo>
                <a:lnTo>
                  <a:pt x="2617" y="7908"/>
                </a:lnTo>
                <a:lnTo>
                  <a:pt x="2616" y="7872"/>
                </a:lnTo>
                <a:lnTo>
                  <a:pt x="2616" y="7835"/>
                </a:lnTo>
                <a:lnTo>
                  <a:pt x="2617" y="7797"/>
                </a:lnTo>
                <a:lnTo>
                  <a:pt x="2620" y="7759"/>
                </a:lnTo>
                <a:lnTo>
                  <a:pt x="2623" y="7721"/>
                </a:lnTo>
                <a:lnTo>
                  <a:pt x="2628" y="7682"/>
                </a:lnTo>
                <a:lnTo>
                  <a:pt x="2635" y="7644"/>
                </a:lnTo>
                <a:lnTo>
                  <a:pt x="2629" y="7639"/>
                </a:lnTo>
                <a:lnTo>
                  <a:pt x="2625" y="7635"/>
                </a:lnTo>
                <a:lnTo>
                  <a:pt x="2620" y="7629"/>
                </a:lnTo>
                <a:lnTo>
                  <a:pt x="2615" y="7624"/>
                </a:lnTo>
                <a:lnTo>
                  <a:pt x="2611" y="7619"/>
                </a:lnTo>
                <a:lnTo>
                  <a:pt x="2606" y="7615"/>
                </a:lnTo>
                <a:lnTo>
                  <a:pt x="2602" y="7610"/>
                </a:lnTo>
                <a:lnTo>
                  <a:pt x="2597" y="7604"/>
                </a:lnTo>
                <a:lnTo>
                  <a:pt x="2506" y="7605"/>
                </a:lnTo>
                <a:lnTo>
                  <a:pt x="2415" y="7604"/>
                </a:lnTo>
                <a:lnTo>
                  <a:pt x="2325" y="7601"/>
                </a:lnTo>
                <a:lnTo>
                  <a:pt x="2235" y="7595"/>
                </a:lnTo>
                <a:lnTo>
                  <a:pt x="2144" y="7587"/>
                </a:lnTo>
                <a:lnTo>
                  <a:pt x="2055" y="7575"/>
                </a:lnTo>
                <a:lnTo>
                  <a:pt x="1966" y="7563"/>
                </a:lnTo>
                <a:lnTo>
                  <a:pt x="1878" y="7547"/>
                </a:lnTo>
                <a:lnTo>
                  <a:pt x="1791" y="7528"/>
                </a:lnTo>
                <a:lnTo>
                  <a:pt x="1704" y="7508"/>
                </a:lnTo>
                <a:lnTo>
                  <a:pt x="1618" y="7485"/>
                </a:lnTo>
                <a:lnTo>
                  <a:pt x="1533" y="7459"/>
                </a:lnTo>
                <a:lnTo>
                  <a:pt x="1450" y="7430"/>
                </a:lnTo>
                <a:lnTo>
                  <a:pt x="1368" y="7399"/>
                </a:lnTo>
                <a:lnTo>
                  <a:pt x="1287" y="7366"/>
                </a:lnTo>
                <a:lnTo>
                  <a:pt x="1207" y="7330"/>
                </a:lnTo>
                <a:lnTo>
                  <a:pt x="1128" y="7292"/>
                </a:lnTo>
                <a:lnTo>
                  <a:pt x="1052" y="7251"/>
                </a:lnTo>
                <a:lnTo>
                  <a:pt x="976" y="7208"/>
                </a:lnTo>
                <a:lnTo>
                  <a:pt x="903" y="7162"/>
                </a:lnTo>
                <a:lnTo>
                  <a:pt x="832" y="7113"/>
                </a:lnTo>
                <a:lnTo>
                  <a:pt x="762" y="7062"/>
                </a:lnTo>
                <a:lnTo>
                  <a:pt x="694" y="7008"/>
                </a:lnTo>
                <a:lnTo>
                  <a:pt x="629" y="6951"/>
                </a:lnTo>
                <a:lnTo>
                  <a:pt x="565" y="6892"/>
                </a:lnTo>
                <a:lnTo>
                  <a:pt x="505" y="6830"/>
                </a:lnTo>
                <a:lnTo>
                  <a:pt x="446" y="6766"/>
                </a:lnTo>
                <a:lnTo>
                  <a:pt x="390" y="6698"/>
                </a:lnTo>
                <a:lnTo>
                  <a:pt x="335" y="6629"/>
                </a:lnTo>
                <a:lnTo>
                  <a:pt x="284" y="6557"/>
                </a:lnTo>
                <a:lnTo>
                  <a:pt x="236" y="6482"/>
                </a:lnTo>
                <a:lnTo>
                  <a:pt x="190" y="6404"/>
                </a:lnTo>
                <a:lnTo>
                  <a:pt x="165" y="6352"/>
                </a:lnTo>
                <a:lnTo>
                  <a:pt x="142" y="6300"/>
                </a:lnTo>
                <a:lnTo>
                  <a:pt x="120" y="6247"/>
                </a:lnTo>
                <a:lnTo>
                  <a:pt x="100" y="6195"/>
                </a:lnTo>
                <a:lnTo>
                  <a:pt x="83" y="6144"/>
                </a:lnTo>
                <a:lnTo>
                  <a:pt x="67" y="6092"/>
                </a:lnTo>
                <a:lnTo>
                  <a:pt x="52" y="6040"/>
                </a:lnTo>
                <a:lnTo>
                  <a:pt x="39" y="5989"/>
                </a:lnTo>
                <a:lnTo>
                  <a:pt x="29" y="5937"/>
                </a:lnTo>
                <a:lnTo>
                  <a:pt x="19" y="5886"/>
                </a:lnTo>
                <a:lnTo>
                  <a:pt x="11" y="5834"/>
                </a:lnTo>
                <a:lnTo>
                  <a:pt x="6" y="5783"/>
                </a:lnTo>
                <a:lnTo>
                  <a:pt x="2" y="5732"/>
                </a:lnTo>
                <a:lnTo>
                  <a:pt x="0" y="5680"/>
                </a:lnTo>
                <a:lnTo>
                  <a:pt x="0" y="5629"/>
                </a:lnTo>
                <a:lnTo>
                  <a:pt x="1" y="5578"/>
                </a:lnTo>
                <a:lnTo>
                  <a:pt x="5" y="5527"/>
                </a:lnTo>
                <a:lnTo>
                  <a:pt x="10" y="5476"/>
                </a:lnTo>
                <a:lnTo>
                  <a:pt x="16" y="5425"/>
                </a:lnTo>
                <a:lnTo>
                  <a:pt x="26" y="5374"/>
                </a:lnTo>
                <a:lnTo>
                  <a:pt x="36" y="5323"/>
                </a:lnTo>
                <a:lnTo>
                  <a:pt x="48" y="5272"/>
                </a:lnTo>
                <a:lnTo>
                  <a:pt x="62" y="5221"/>
                </a:lnTo>
                <a:lnTo>
                  <a:pt x="78" y="5171"/>
                </a:lnTo>
                <a:lnTo>
                  <a:pt x="95" y="5120"/>
                </a:lnTo>
                <a:lnTo>
                  <a:pt x="115" y="5069"/>
                </a:lnTo>
                <a:lnTo>
                  <a:pt x="135" y="5018"/>
                </a:lnTo>
                <a:lnTo>
                  <a:pt x="158" y="4968"/>
                </a:lnTo>
                <a:lnTo>
                  <a:pt x="183" y="4917"/>
                </a:lnTo>
                <a:lnTo>
                  <a:pt x="209" y="4867"/>
                </a:lnTo>
                <a:lnTo>
                  <a:pt x="238" y="4815"/>
                </a:lnTo>
                <a:lnTo>
                  <a:pt x="268" y="4764"/>
                </a:lnTo>
                <a:lnTo>
                  <a:pt x="308" y="4708"/>
                </a:lnTo>
                <a:lnTo>
                  <a:pt x="349" y="4654"/>
                </a:lnTo>
                <a:lnTo>
                  <a:pt x="392" y="4601"/>
                </a:lnTo>
                <a:lnTo>
                  <a:pt x="436" y="4550"/>
                </a:lnTo>
                <a:lnTo>
                  <a:pt x="481" y="4500"/>
                </a:lnTo>
                <a:lnTo>
                  <a:pt x="527" y="4452"/>
                </a:lnTo>
                <a:lnTo>
                  <a:pt x="575" y="4406"/>
                </a:lnTo>
                <a:lnTo>
                  <a:pt x="625" y="4361"/>
                </a:lnTo>
                <a:lnTo>
                  <a:pt x="675" y="4318"/>
                </a:lnTo>
                <a:lnTo>
                  <a:pt x="726" y="4276"/>
                </a:lnTo>
                <a:lnTo>
                  <a:pt x="778" y="4236"/>
                </a:lnTo>
                <a:lnTo>
                  <a:pt x="832" y="4198"/>
                </a:lnTo>
                <a:lnTo>
                  <a:pt x="886" y="4161"/>
                </a:lnTo>
                <a:lnTo>
                  <a:pt x="941" y="4126"/>
                </a:lnTo>
                <a:lnTo>
                  <a:pt x="999" y="4092"/>
                </a:lnTo>
                <a:lnTo>
                  <a:pt x="1055" y="4060"/>
                </a:lnTo>
                <a:lnTo>
                  <a:pt x="1114" y="4029"/>
                </a:lnTo>
                <a:lnTo>
                  <a:pt x="1173" y="4000"/>
                </a:lnTo>
                <a:lnTo>
                  <a:pt x="1233" y="3973"/>
                </a:lnTo>
                <a:lnTo>
                  <a:pt x="1293" y="3947"/>
                </a:lnTo>
                <a:lnTo>
                  <a:pt x="1355" y="3922"/>
                </a:lnTo>
                <a:lnTo>
                  <a:pt x="1417" y="3899"/>
                </a:lnTo>
                <a:lnTo>
                  <a:pt x="1480" y="3877"/>
                </a:lnTo>
                <a:lnTo>
                  <a:pt x="1543" y="3857"/>
                </a:lnTo>
                <a:lnTo>
                  <a:pt x="1608" y="3839"/>
                </a:lnTo>
                <a:lnTo>
                  <a:pt x="1673" y="3822"/>
                </a:lnTo>
                <a:lnTo>
                  <a:pt x="1737" y="3806"/>
                </a:lnTo>
                <a:lnTo>
                  <a:pt x="1803" y="3792"/>
                </a:lnTo>
                <a:lnTo>
                  <a:pt x="1869" y="3779"/>
                </a:lnTo>
                <a:lnTo>
                  <a:pt x="1936" y="3768"/>
                </a:lnTo>
                <a:lnTo>
                  <a:pt x="2003" y="3758"/>
                </a:lnTo>
                <a:lnTo>
                  <a:pt x="2070" y="3750"/>
                </a:lnTo>
                <a:lnTo>
                  <a:pt x="2037" y="3718"/>
                </a:lnTo>
                <a:lnTo>
                  <a:pt x="2005" y="3685"/>
                </a:lnTo>
                <a:lnTo>
                  <a:pt x="1974" y="3651"/>
                </a:lnTo>
                <a:lnTo>
                  <a:pt x="1945" y="3618"/>
                </a:lnTo>
                <a:lnTo>
                  <a:pt x="1919" y="3583"/>
                </a:lnTo>
                <a:lnTo>
                  <a:pt x="1893" y="3549"/>
                </a:lnTo>
                <a:lnTo>
                  <a:pt x="1868" y="3514"/>
                </a:lnTo>
                <a:lnTo>
                  <a:pt x="1846" y="3478"/>
                </a:lnTo>
                <a:lnTo>
                  <a:pt x="1825" y="3442"/>
                </a:lnTo>
                <a:lnTo>
                  <a:pt x="1806" y="3405"/>
                </a:lnTo>
                <a:lnTo>
                  <a:pt x="1787" y="3368"/>
                </a:lnTo>
                <a:lnTo>
                  <a:pt x="1772" y="3330"/>
                </a:lnTo>
                <a:lnTo>
                  <a:pt x="1758" y="3293"/>
                </a:lnTo>
                <a:lnTo>
                  <a:pt x="1744" y="3254"/>
                </a:lnTo>
                <a:lnTo>
                  <a:pt x="1733" y="3216"/>
                </a:lnTo>
                <a:lnTo>
                  <a:pt x="1724" y="3176"/>
                </a:lnTo>
                <a:lnTo>
                  <a:pt x="1717" y="3137"/>
                </a:lnTo>
                <a:lnTo>
                  <a:pt x="1711" y="3097"/>
                </a:lnTo>
                <a:lnTo>
                  <a:pt x="1706" y="3058"/>
                </a:lnTo>
                <a:lnTo>
                  <a:pt x="1703" y="3017"/>
                </a:lnTo>
                <a:lnTo>
                  <a:pt x="1702" y="2975"/>
                </a:lnTo>
                <a:lnTo>
                  <a:pt x="1703" y="2935"/>
                </a:lnTo>
                <a:lnTo>
                  <a:pt x="1706" y="2893"/>
                </a:lnTo>
                <a:lnTo>
                  <a:pt x="1712" y="2851"/>
                </a:lnTo>
                <a:lnTo>
                  <a:pt x="1718" y="2809"/>
                </a:lnTo>
                <a:lnTo>
                  <a:pt x="1726" y="2767"/>
                </a:lnTo>
                <a:lnTo>
                  <a:pt x="1736" y="2724"/>
                </a:lnTo>
                <a:lnTo>
                  <a:pt x="1747" y="2681"/>
                </a:lnTo>
                <a:lnTo>
                  <a:pt x="1761" y="2638"/>
                </a:lnTo>
                <a:lnTo>
                  <a:pt x="1777" y="2594"/>
                </a:lnTo>
                <a:lnTo>
                  <a:pt x="1795" y="2550"/>
                </a:lnTo>
                <a:lnTo>
                  <a:pt x="1813" y="2507"/>
                </a:lnTo>
                <a:lnTo>
                  <a:pt x="1843" y="2454"/>
                </a:lnTo>
                <a:lnTo>
                  <a:pt x="1874" y="2404"/>
                </a:lnTo>
                <a:lnTo>
                  <a:pt x="1906" y="2354"/>
                </a:lnTo>
                <a:lnTo>
                  <a:pt x="1940" y="2306"/>
                </a:lnTo>
                <a:lnTo>
                  <a:pt x="1976" y="2260"/>
                </a:lnTo>
                <a:lnTo>
                  <a:pt x="2013" y="2215"/>
                </a:lnTo>
                <a:lnTo>
                  <a:pt x="2052" y="2171"/>
                </a:lnTo>
                <a:lnTo>
                  <a:pt x="2092" y="2129"/>
                </a:lnTo>
                <a:lnTo>
                  <a:pt x="2133" y="2088"/>
                </a:lnTo>
                <a:lnTo>
                  <a:pt x="2175" y="2048"/>
                </a:lnTo>
                <a:lnTo>
                  <a:pt x="2219" y="2011"/>
                </a:lnTo>
                <a:lnTo>
                  <a:pt x="2264" y="1973"/>
                </a:lnTo>
                <a:lnTo>
                  <a:pt x="2310" y="1938"/>
                </a:lnTo>
                <a:lnTo>
                  <a:pt x="2358" y="1904"/>
                </a:lnTo>
                <a:lnTo>
                  <a:pt x="2405" y="1871"/>
                </a:lnTo>
                <a:lnTo>
                  <a:pt x="2454" y="1839"/>
                </a:lnTo>
                <a:lnTo>
                  <a:pt x="2504" y="1809"/>
                </a:lnTo>
                <a:lnTo>
                  <a:pt x="2555" y="1780"/>
                </a:lnTo>
                <a:lnTo>
                  <a:pt x="2607" y="1752"/>
                </a:lnTo>
                <a:lnTo>
                  <a:pt x="2659" y="1725"/>
                </a:lnTo>
                <a:lnTo>
                  <a:pt x="2712" y="1699"/>
                </a:lnTo>
                <a:lnTo>
                  <a:pt x="2766" y="1675"/>
                </a:lnTo>
                <a:lnTo>
                  <a:pt x="2820" y="1651"/>
                </a:lnTo>
                <a:lnTo>
                  <a:pt x="2876" y="1629"/>
                </a:lnTo>
                <a:lnTo>
                  <a:pt x="2931" y="1607"/>
                </a:lnTo>
                <a:lnTo>
                  <a:pt x="2986" y="1587"/>
                </a:lnTo>
                <a:lnTo>
                  <a:pt x="3043" y="1568"/>
                </a:lnTo>
                <a:lnTo>
                  <a:pt x="3099" y="1550"/>
                </a:lnTo>
                <a:lnTo>
                  <a:pt x="3155" y="1533"/>
                </a:lnTo>
                <a:lnTo>
                  <a:pt x="3213" y="1516"/>
                </a:lnTo>
                <a:lnTo>
                  <a:pt x="3270" y="1502"/>
                </a:lnTo>
                <a:lnTo>
                  <a:pt x="3328" y="1487"/>
                </a:lnTo>
                <a:lnTo>
                  <a:pt x="3378" y="1477"/>
                </a:lnTo>
                <a:lnTo>
                  <a:pt x="3427" y="1467"/>
                </a:lnTo>
                <a:lnTo>
                  <a:pt x="3477" y="1458"/>
                </a:lnTo>
                <a:lnTo>
                  <a:pt x="3528" y="1451"/>
                </a:lnTo>
                <a:lnTo>
                  <a:pt x="3577" y="1442"/>
                </a:lnTo>
                <a:lnTo>
                  <a:pt x="3627" y="1436"/>
                </a:lnTo>
                <a:lnTo>
                  <a:pt x="3677" y="1430"/>
                </a:lnTo>
                <a:lnTo>
                  <a:pt x="3727" y="1425"/>
                </a:lnTo>
                <a:lnTo>
                  <a:pt x="3777" y="1420"/>
                </a:lnTo>
                <a:lnTo>
                  <a:pt x="3827" y="1416"/>
                </a:lnTo>
                <a:lnTo>
                  <a:pt x="3876" y="1413"/>
                </a:lnTo>
                <a:lnTo>
                  <a:pt x="3927" y="1411"/>
                </a:lnTo>
                <a:lnTo>
                  <a:pt x="3977" y="1410"/>
                </a:lnTo>
                <a:lnTo>
                  <a:pt x="4026" y="1409"/>
                </a:lnTo>
                <a:lnTo>
                  <a:pt x="4076" y="1409"/>
                </a:lnTo>
                <a:lnTo>
                  <a:pt x="4126" y="1410"/>
                </a:lnTo>
                <a:lnTo>
                  <a:pt x="4176" y="1412"/>
                </a:lnTo>
                <a:lnTo>
                  <a:pt x="4225" y="1414"/>
                </a:lnTo>
                <a:lnTo>
                  <a:pt x="4275" y="1417"/>
                </a:lnTo>
                <a:lnTo>
                  <a:pt x="4325" y="1422"/>
                </a:lnTo>
                <a:lnTo>
                  <a:pt x="4374" y="1427"/>
                </a:lnTo>
                <a:lnTo>
                  <a:pt x="4423" y="1433"/>
                </a:lnTo>
                <a:lnTo>
                  <a:pt x="4472" y="1439"/>
                </a:lnTo>
                <a:lnTo>
                  <a:pt x="4521" y="1447"/>
                </a:lnTo>
                <a:lnTo>
                  <a:pt x="4571" y="1455"/>
                </a:lnTo>
                <a:lnTo>
                  <a:pt x="4620" y="1464"/>
                </a:lnTo>
                <a:lnTo>
                  <a:pt x="4669" y="1475"/>
                </a:lnTo>
                <a:lnTo>
                  <a:pt x="4718" y="1485"/>
                </a:lnTo>
                <a:lnTo>
                  <a:pt x="4767" y="1498"/>
                </a:lnTo>
                <a:lnTo>
                  <a:pt x="4816" y="1510"/>
                </a:lnTo>
                <a:lnTo>
                  <a:pt x="4864" y="1524"/>
                </a:lnTo>
                <a:lnTo>
                  <a:pt x="4912" y="1537"/>
                </a:lnTo>
                <a:lnTo>
                  <a:pt x="4927" y="1532"/>
                </a:lnTo>
                <a:lnTo>
                  <a:pt x="4940" y="1526"/>
                </a:lnTo>
                <a:lnTo>
                  <a:pt x="4953" y="1519"/>
                </a:lnTo>
                <a:lnTo>
                  <a:pt x="4968" y="1513"/>
                </a:lnTo>
                <a:lnTo>
                  <a:pt x="4981" y="1508"/>
                </a:lnTo>
                <a:lnTo>
                  <a:pt x="4995" y="1502"/>
                </a:lnTo>
                <a:lnTo>
                  <a:pt x="5009" y="1495"/>
                </a:lnTo>
                <a:lnTo>
                  <a:pt x="5023" y="1490"/>
                </a:lnTo>
                <a:lnTo>
                  <a:pt x="5070" y="1401"/>
                </a:lnTo>
                <a:lnTo>
                  <a:pt x="5121" y="1315"/>
                </a:lnTo>
                <a:lnTo>
                  <a:pt x="5177" y="1232"/>
                </a:lnTo>
                <a:lnTo>
                  <a:pt x="5237" y="1153"/>
                </a:lnTo>
                <a:lnTo>
                  <a:pt x="5301" y="1077"/>
                </a:lnTo>
                <a:lnTo>
                  <a:pt x="5367" y="1003"/>
                </a:lnTo>
                <a:lnTo>
                  <a:pt x="5438" y="932"/>
                </a:lnTo>
                <a:lnTo>
                  <a:pt x="5513" y="865"/>
                </a:lnTo>
                <a:lnTo>
                  <a:pt x="5590" y="801"/>
                </a:lnTo>
                <a:lnTo>
                  <a:pt x="5670" y="738"/>
                </a:lnTo>
                <a:lnTo>
                  <a:pt x="5752" y="680"/>
                </a:lnTo>
                <a:lnTo>
                  <a:pt x="5838" y="624"/>
                </a:lnTo>
                <a:lnTo>
                  <a:pt x="5925" y="571"/>
                </a:lnTo>
                <a:lnTo>
                  <a:pt x="6015" y="520"/>
                </a:lnTo>
                <a:lnTo>
                  <a:pt x="6107" y="472"/>
                </a:lnTo>
                <a:lnTo>
                  <a:pt x="6200" y="426"/>
                </a:lnTo>
                <a:lnTo>
                  <a:pt x="6295" y="383"/>
                </a:lnTo>
                <a:lnTo>
                  <a:pt x="6391" y="343"/>
                </a:lnTo>
                <a:lnTo>
                  <a:pt x="6488" y="305"/>
                </a:lnTo>
                <a:lnTo>
                  <a:pt x="6587" y="269"/>
                </a:lnTo>
                <a:lnTo>
                  <a:pt x="6686" y="235"/>
                </a:lnTo>
                <a:lnTo>
                  <a:pt x="6787" y="205"/>
                </a:lnTo>
                <a:lnTo>
                  <a:pt x="6886" y="176"/>
                </a:lnTo>
                <a:lnTo>
                  <a:pt x="6988" y="150"/>
                </a:lnTo>
                <a:lnTo>
                  <a:pt x="7088" y="126"/>
                </a:lnTo>
                <a:lnTo>
                  <a:pt x="7189" y="103"/>
                </a:lnTo>
                <a:lnTo>
                  <a:pt x="7289" y="83"/>
                </a:lnTo>
                <a:lnTo>
                  <a:pt x="7389" y="66"/>
                </a:lnTo>
                <a:lnTo>
                  <a:pt x="7488" y="50"/>
                </a:lnTo>
                <a:lnTo>
                  <a:pt x="7587" y="36"/>
                </a:lnTo>
                <a:lnTo>
                  <a:pt x="7683" y="24"/>
                </a:lnTo>
                <a:lnTo>
                  <a:pt x="7779" y="14"/>
                </a:lnTo>
                <a:lnTo>
                  <a:pt x="7866" y="8"/>
                </a:lnTo>
                <a:lnTo>
                  <a:pt x="7952" y="4"/>
                </a:lnTo>
                <a:lnTo>
                  <a:pt x="8038" y="2"/>
                </a:lnTo>
                <a:lnTo>
                  <a:pt x="8125" y="0"/>
                </a:lnTo>
                <a:lnTo>
                  <a:pt x="8212" y="0"/>
                </a:lnTo>
                <a:lnTo>
                  <a:pt x="8299" y="1"/>
                </a:lnTo>
                <a:lnTo>
                  <a:pt x="8387" y="4"/>
                </a:lnTo>
                <a:lnTo>
                  <a:pt x="8475" y="8"/>
                </a:lnTo>
                <a:lnTo>
                  <a:pt x="8562" y="15"/>
                </a:lnTo>
                <a:lnTo>
                  <a:pt x="8650" y="22"/>
                </a:lnTo>
                <a:lnTo>
                  <a:pt x="8737" y="31"/>
                </a:lnTo>
                <a:lnTo>
                  <a:pt x="8824" y="42"/>
                </a:lnTo>
                <a:lnTo>
                  <a:pt x="8912" y="55"/>
                </a:lnTo>
                <a:lnTo>
                  <a:pt x="8998" y="69"/>
                </a:lnTo>
                <a:lnTo>
                  <a:pt x="9084" y="85"/>
                </a:lnTo>
                <a:lnTo>
                  <a:pt x="9170" y="104"/>
                </a:lnTo>
                <a:lnTo>
                  <a:pt x="9255" y="124"/>
                </a:lnTo>
                <a:lnTo>
                  <a:pt x="9339" y="146"/>
                </a:lnTo>
                <a:lnTo>
                  <a:pt x="9422" y="171"/>
                </a:lnTo>
                <a:lnTo>
                  <a:pt x="9505" y="197"/>
                </a:lnTo>
                <a:lnTo>
                  <a:pt x="9587" y="225"/>
                </a:lnTo>
                <a:lnTo>
                  <a:pt x="9668" y="256"/>
                </a:lnTo>
                <a:lnTo>
                  <a:pt x="9748" y="290"/>
                </a:lnTo>
                <a:lnTo>
                  <a:pt x="9827" y="324"/>
                </a:lnTo>
                <a:lnTo>
                  <a:pt x="9904" y="361"/>
                </a:lnTo>
                <a:lnTo>
                  <a:pt x="9981" y="402"/>
                </a:lnTo>
                <a:lnTo>
                  <a:pt x="10056" y="445"/>
                </a:lnTo>
                <a:lnTo>
                  <a:pt x="10130" y="489"/>
                </a:lnTo>
                <a:lnTo>
                  <a:pt x="10202" y="536"/>
                </a:lnTo>
                <a:lnTo>
                  <a:pt x="10272" y="586"/>
                </a:lnTo>
                <a:lnTo>
                  <a:pt x="10341" y="639"/>
                </a:lnTo>
                <a:lnTo>
                  <a:pt x="10409" y="695"/>
                </a:lnTo>
                <a:lnTo>
                  <a:pt x="10490" y="661"/>
                </a:lnTo>
                <a:lnTo>
                  <a:pt x="10572" y="633"/>
                </a:lnTo>
                <a:lnTo>
                  <a:pt x="10655" y="609"/>
                </a:lnTo>
                <a:lnTo>
                  <a:pt x="10739" y="589"/>
                </a:lnTo>
                <a:lnTo>
                  <a:pt x="10824" y="575"/>
                </a:lnTo>
                <a:lnTo>
                  <a:pt x="10910" y="563"/>
                </a:lnTo>
                <a:lnTo>
                  <a:pt x="10996" y="557"/>
                </a:lnTo>
                <a:lnTo>
                  <a:pt x="11083" y="554"/>
                </a:lnTo>
                <a:lnTo>
                  <a:pt x="11170" y="555"/>
                </a:lnTo>
                <a:lnTo>
                  <a:pt x="11256" y="559"/>
                </a:lnTo>
                <a:lnTo>
                  <a:pt x="11343" y="569"/>
                </a:lnTo>
                <a:lnTo>
                  <a:pt x="11429" y="581"/>
                </a:lnTo>
                <a:lnTo>
                  <a:pt x="11515" y="597"/>
                </a:lnTo>
                <a:lnTo>
                  <a:pt x="11600" y="615"/>
                </a:lnTo>
                <a:lnTo>
                  <a:pt x="11686" y="638"/>
                </a:lnTo>
                <a:lnTo>
                  <a:pt x="11770" y="664"/>
                </a:lnTo>
                <a:lnTo>
                  <a:pt x="11853" y="694"/>
                </a:lnTo>
                <a:lnTo>
                  <a:pt x="11936" y="726"/>
                </a:lnTo>
                <a:lnTo>
                  <a:pt x="12016" y="761"/>
                </a:lnTo>
                <a:lnTo>
                  <a:pt x="12096" y="800"/>
                </a:lnTo>
                <a:lnTo>
                  <a:pt x="12174" y="840"/>
                </a:lnTo>
                <a:lnTo>
                  <a:pt x="12251" y="884"/>
                </a:lnTo>
                <a:lnTo>
                  <a:pt x="12325" y="931"/>
                </a:lnTo>
                <a:lnTo>
                  <a:pt x="12398" y="980"/>
                </a:lnTo>
                <a:lnTo>
                  <a:pt x="12469" y="1031"/>
                </a:lnTo>
                <a:lnTo>
                  <a:pt x="12537" y="1085"/>
                </a:lnTo>
                <a:lnTo>
                  <a:pt x="12603" y="1141"/>
                </a:lnTo>
                <a:lnTo>
                  <a:pt x="12667" y="1200"/>
                </a:lnTo>
                <a:lnTo>
                  <a:pt x="12727" y="1261"/>
                </a:lnTo>
                <a:lnTo>
                  <a:pt x="12786" y="1324"/>
                </a:lnTo>
                <a:lnTo>
                  <a:pt x="12841" y="1388"/>
                </a:lnTo>
                <a:lnTo>
                  <a:pt x="12894" y="145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1120" y="1523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800600" y="2819520"/>
            <a:ext cx="380880" cy="228600"/>
            <a:chOff x="4800600" y="2819520"/>
            <a:chExt cx="380880" cy="228600"/>
          </a:xfrm>
        </p:grpSpPr>
        <p:sp>
          <p:nvSpPr>
            <p:cNvPr id="278" name=""/>
            <p:cNvSpPr/>
            <p:nvPr/>
          </p:nvSpPr>
          <p:spPr>
            <a:xfrm>
              <a:off x="4800600" y="288324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00600" y="281952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859640" y="2834280"/>
              <a:ext cx="261720" cy="94680"/>
              <a:chOff x="4859640" y="2834280"/>
              <a:chExt cx="261720" cy="94680"/>
            </a:xfrm>
          </p:grpSpPr>
          <p:sp>
            <p:nvSpPr>
              <p:cNvPr id="281" name=""/>
              <p:cNvSpPr/>
              <p:nvPr/>
            </p:nvSpPr>
            <p:spPr>
              <a:xfrm>
                <a:off x="4995360" y="2836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995360" y="2836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59640" y="2882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859640" y="2882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865760" y="2834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65760" y="2834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90320" y="2887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90320" y="2887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97880" y="28393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97880" y="28393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62160" y="28846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62160" y="28846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68280" y="2836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68280" y="2836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993200" y="28897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993200" y="28897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4419720" y="3200400"/>
            <a:ext cx="1218960" cy="990720"/>
          </a:xfrm>
          <a:prstGeom prst="rect">
            <a:avLst/>
          </a:prstGeom>
          <a:noFill/>
          <a:ln w="316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3733920"/>
            <a:ext cx="9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大型</a:t>
            </a: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504960" y="350532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10280" y="2438280"/>
            <a:ext cx="60984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3733920"/>
            <a:ext cx="990360" cy="914400"/>
          </a:xfrm>
          <a:prstGeom prst="rect">
            <a:avLst/>
          </a:prstGeom>
          <a:noFill/>
          <a:ln w="316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4114800"/>
            <a:ext cx="9144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中小型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209680" y="411444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4740120"/>
            <a:ext cx="1122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用户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29200" y="3505320"/>
            <a:ext cx="3049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377120" y="6019920"/>
            <a:ext cx="1309680" cy="516960"/>
            <a:chOff x="7377120" y="6019920"/>
            <a:chExt cx="1309680" cy="516960"/>
          </a:xfrm>
        </p:grpSpPr>
        <p:sp>
          <p:nvSpPr>
            <p:cNvPr id="308" name=""/>
            <p:cNvSpPr/>
            <p:nvPr/>
          </p:nvSpPr>
          <p:spPr>
            <a:xfrm>
              <a:off x="7377120" y="6100560"/>
              <a:ext cx="1309680" cy="43632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04920" y="6135120"/>
              <a:ext cx="18000" cy="30240"/>
            </a:xfrm>
            <a:custGeom>
              <a:avLst/>
              <a:gdLst/>
              <a:ahLst/>
              <a:rect l="l" t="t" r="r" b="b"/>
              <a:pathLst>
                <a:path w="284" h="969">
                  <a:moveTo>
                    <a:pt x="284" y="0"/>
                  </a:moveTo>
                  <a:lnTo>
                    <a:pt x="70" y="780"/>
                  </a:lnTo>
                  <a:lnTo>
                    <a:pt x="55" y="828"/>
                  </a:lnTo>
                  <a:lnTo>
                    <a:pt x="39" y="875"/>
                  </a:lnTo>
                  <a:lnTo>
                    <a:pt x="21" y="922"/>
                  </a:lnTo>
                  <a:lnTo>
                    <a:pt x="0" y="969"/>
                  </a:lnTo>
                  <a:lnTo>
                    <a:pt x="212" y="194"/>
                  </a:lnTo>
                  <a:lnTo>
                    <a:pt x="234" y="147"/>
                  </a:lnTo>
                  <a:lnTo>
                    <a:pt x="252" y="99"/>
                  </a:lnTo>
                  <a:lnTo>
                    <a:pt x="270" y="5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98440" y="6140880"/>
              <a:ext cx="19800" cy="30240"/>
            </a:xfrm>
            <a:custGeom>
              <a:avLst/>
              <a:gdLst/>
              <a:ahLst/>
              <a:rect l="l" t="t" r="r" b="b"/>
              <a:pathLst>
                <a:path w="311" h="952">
                  <a:moveTo>
                    <a:pt x="311" y="0"/>
                  </a:moveTo>
                  <a:lnTo>
                    <a:pt x="99" y="775"/>
                  </a:lnTo>
                  <a:lnTo>
                    <a:pt x="78" y="819"/>
                  </a:lnTo>
                  <a:lnTo>
                    <a:pt x="53" y="864"/>
                  </a:lnTo>
                  <a:lnTo>
                    <a:pt x="27" y="908"/>
                  </a:lnTo>
                  <a:lnTo>
                    <a:pt x="0" y="952"/>
                  </a:lnTo>
                  <a:lnTo>
                    <a:pt x="210" y="181"/>
                  </a:lnTo>
                  <a:lnTo>
                    <a:pt x="238" y="137"/>
                  </a:lnTo>
                  <a:lnTo>
                    <a:pt x="264" y="92"/>
                  </a:lnTo>
                  <a:lnTo>
                    <a:pt x="289" y="47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90160" y="6146640"/>
              <a:ext cx="21600" cy="28800"/>
            </a:xfrm>
            <a:custGeom>
              <a:avLst/>
              <a:gdLst/>
              <a:ahLst/>
              <a:rect l="l" t="t" r="r" b="b"/>
              <a:pathLst>
                <a:path w="338" h="935">
                  <a:moveTo>
                    <a:pt x="338" y="0"/>
                  </a:moveTo>
                  <a:lnTo>
                    <a:pt x="128" y="771"/>
                  </a:lnTo>
                  <a:lnTo>
                    <a:pt x="99" y="813"/>
                  </a:lnTo>
                  <a:lnTo>
                    <a:pt x="68" y="855"/>
                  </a:lnTo>
                  <a:lnTo>
                    <a:pt x="35" y="896"/>
                  </a:lnTo>
                  <a:lnTo>
                    <a:pt x="0" y="935"/>
                  </a:lnTo>
                  <a:lnTo>
                    <a:pt x="207" y="170"/>
                  </a:lnTo>
                  <a:lnTo>
                    <a:pt x="242" y="128"/>
                  </a:lnTo>
                  <a:lnTo>
                    <a:pt x="275" y="86"/>
                  </a:lnTo>
                  <a:lnTo>
                    <a:pt x="307" y="44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cbe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82960" y="6152040"/>
              <a:ext cx="19800" cy="27720"/>
            </a:xfrm>
            <a:custGeom>
              <a:avLst/>
              <a:gdLst/>
              <a:ahLst/>
              <a:rect l="l" t="t" r="r" b="b"/>
              <a:pathLst>
                <a:path w="318" h="881">
                  <a:moveTo>
                    <a:pt x="318" y="0"/>
                  </a:moveTo>
                  <a:lnTo>
                    <a:pt x="111" y="765"/>
                  </a:lnTo>
                  <a:lnTo>
                    <a:pt x="76" y="805"/>
                  </a:lnTo>
                  <a:lnTo>
                    <a:pt x="39" y="843"/>
                  </a:lnTo>
                  <a:lnTo>
                    <a:pt x="0" y="881"/>
                  </a:lnTo>
                  <a:lnTo>
                    <a:pt x="202" y="117"/>
                  </a:lnTo>
                  <a:lnTo>
                    <a:pt x="243" y="79"/>
                  </a:lnTo>
                  <a:lnTo>
                    <a:pt x="281" y="39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74680" y="6155280"/>
              <a:ext cx="20880" cy="27720"/>
            </a:xfrm>
            <a:custGeom>
              <a:avLst/>
              <a:gdLst/>
              <a:ahLst/>
              <a:rect l="l" t="t" r="r" b="b"/>
              <a:pathLst>
                <a:path w="330" h="871">
                  <a:moveTo>
                    <a:pt x="330" y="0"/>
                  </a:moveTo>
                  <a:lnTo>
                    <a:pt x="128" y="764"/>
                  </a:lnTo>
                  <a:lnTo>
                    <a:pt x="87" y="800"/>
                  </a:lnTo>
                  <a:lnTo>
                    <a:pt x="45" y="836"/>
                  </a:lnTo>
                  <a:lnTo>
                    <a:pt x="0" y="871"/>
                  </a:lnTo>
                  <a:lnTo>
                    <a:pt x="200" y="111"/>
                  </a:lnTo>
                  <a:lnTo>
                    <a:pt x="245" y="74"/>
                  </a:lnTo>
                  <a:lnTo>
                    <a:pt x="289" y="38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452080" y="6229800"/>
              <a:ext cx="20520" cy="27360"/>
            </a:xfrm>
            <a:custGeom>
              <a:avLst/>
              <a:gdLst/>
              <a:ahLst/>
              <a:rect l="l" t="t" r="r" b="b"/>
              <a:pathLst>
                <a:path w="317" h="895">
                  <a:moveTo>
                    <a:pt x="317" y="0"/>
                  </a:moveTo>
                  <a:lnTo>
                    <a:pt x="79" y="703"/>
                  </a:lnTo>
                  <a:lnTo>
                    <a:pt x="42" y="800"/>
                  </a:lnTo>
                  <a:lnTo>
                    <a:pt x="0" y="895"/>
                  </a:lnTo>
                  <a:lnTo>
                    <a:pt x="236" y="197"/>
                  </a:lnTo>
                  <a:lnTo>
                    <a:pt x="279" y="10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445600" y="6235560"/>
              <a:ext cx="21600" cy="27720"/>
            </a:xfrm>
            <a:custGeom>
              <a:avLst/>
              <a:gdLst/>
              <a:ahLst/>
              <a:rect l="l" t="t" r="r" b="b"/>
              <a:pathLst>
                <a:path w="334" h="882">
                  <a:moveTo>
                    <a:pt x="334" y="0"/>
                  </a:moveTo>
                  <a:lnTo>
                    <a:pt x="98" y="698"/>
                  </a:lnTo>
                  <a:lnTo>
                    <a:pt x="51" y="791"/>
                  </a:lnTo>
                  <a:lnTo>
                    <a:pt x="0" y="882"/>
                  </a:lnTo>
                  <a:lnTo>
                    <a:pt x="234" y="188"/>
                  </a:lnTo>
                  <a:lnTo>
                    <a:pt x="286" y="96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438400" y="6241680"/>
              <a:ext cx="22680" cy="27000"/>
            </a:xfrm>
            <a:custGeom>
              <a:avLst/>
              <a:gdLst/>
              <a:ahLst/>
              <a:rect l="l" t="t" r="r" b="b"/>
              <a:pathLst>
                <a:path w="348" h="869">
                  <a:moveTo>
                    <a:pt x="348" y="0"/>
                  </a:moveTo>
                  <a:lnTo>
                    <a:pt x="114" y="694"/>
                  </a:lnTo>
                  <a:lnTo>
                    <a:pt x="60" y="783"/>
                  </a:lnTo>
                  <a:lnTo>
                    <a:pt x="0" y="869"/>
                  </a:lnTo>
                  <a:lnTo>
                    <a:pt x="230" y="181"/>
                  </a:lnTo>
                  <a:lnTo>
                    <a:pt x="291" y="92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30120" y="6247440"/>
              <a:ext cx="23400" cy="25920"/>
            </a:xfrm>
            <a:custGeom>
              <a:avLst/>
              <a:gdLst/>
              <a:ahLst/>
              <a:rect l="l" t="t" r="r" b="b"/>
              <a:pathLst>
                <a:path w="361" h="854">
                  <a:moveTo>
                    <a:pt x="361" y="0"/>
                  </a:moveTo>
                  <a:lnTo>
                    <a:pt x="131" y="688"/>
                  </a:lnTo>
                  <a:lnTo>
                    <a:pt x="67" y="771"/>
                  </a:lnTo>
                  <a:lnTo>
                    <a:pt x="0" y="854"/>
                  </a:lnTo>
                  <a:lnTo>
                    <a:pt x="226" y="169"/>
                  </a:lnTo>
                  <a:lnTo>
                    <a:pt x="296" y="85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21120" y="6252840"/>
              <a:ext cx="23400" cy="25920"/>
            </a:xfrm>
            <a:custGeom>
              <a:avLst/>
              <a:gdLst/>
              <a:ahLst/>
              <a:rect l="l" t="t" r="r" b="b"/>
              <a:pathLst>
                <a:path w="371" h="841">
                  <a:moveTo>
                    <a:pt x="371" y="0"/>
                  </a:moveTo>
                  <a:lnTo>
                    <a:pt x="145" y="685"/>
                  </a:lnTo>
                  <a:lnTo>
                    <a:pt x="75" y="764"/>
                  </a:lnTo>
                  <a:lnTo>
                    <a:pt x="0" y="841"/>
                  </a:lnTo>
                  <a:lnTo>
                    <a:pt x="224" y="161"/>
                  </a:lnTo>
                  <a:lnTo>
                    <a:pt x="300" y="82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10320" y="6257520"/>
              <a:ext cx="24480" cy="25920"/>
            </a:xfrm>
            <a:custGeom>
              <a:avLst/>
              <a:gdLst/>
              <a:ahLst/>
              <a:rect l="l" t="t" r="r" b="b"/>
              <a:pathLst>
                <a:path w="381" h="826">
                  <a:moveTo>
                    <a:pt x="381" y="0"/>
                  </a:moveTo>
                  <a:lnTo>
                    <a:pt x="157" y="680"/>
                  </a:lnTo>
                  <a:lnTo>
                    <a:pt x="80" y="754"/>
                  </a:lnTo>
                  <a:lnTo>
                    <a:pt x="0" y="826"/>
                  </a:lnTo>
                  <a:lnTo>
                    <a:pt x="219" y="150"/>
                  </a:lnTo>
                  <a:lnTo>
                    <a:pt x="301" y="76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404920" y="6262200"/>
              <a:ext cx="19800" cy="23400"/>
            </a:xfrm>
            <a:custGeom>
              <a:avLst/>
              <a:gdLst/>
              <a:ahLst/>
              <a:rect l="l" t="t" r="r" b="b"/>
              <a:pathLst>
                <a:path w="301" h="744">
                  <a:moveTo>
                    <a:pt x="301" y="0"/>
                  </a:moveTo>
                  <a:lnTo>
                    <a:pt x="82" y="676"/>
                  </a:lnTo>
                  <a:lnTo>
                    <a:pt x="0" y="744"/>
                  </a:lnTo>
                  <a:lnTo>
                    <a:pt x="216" y="7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99160" y="6264720"/>
              <a:ext cx="19800" cy="23040"/>
            </a:xfrm>
            <a:custGeom>
              <a:avLst/>
              <a:gdLst/>
              <a:ahLst/>
              <a:rect l="l" t="t" r="r" b="b"/>
              <a:pathLst>
                <a:path w="301" h="740">
                  <a:moveTo>
                    <a:pt x="301" y="0"/>
                  </a:moveTo>
                  <a:lnTo>
                    <a:pt x="85" y="673"/>
                  </a:lnTo>
                  <a:lnTo>
                    <a:pt x="0" y="740"/>
                  </a:lnTo>
                  <a:lnTo>
                    <a:pt x="213" y="68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93760" y="6266880"/>
              <a:ext cx="19800" cy="22680"/>
            </a:xfrm>
            <a:custGeom>
              <a:avLst/>
              <a:gdLst/>
              <a:ahLst/>
              <a:rect l="l" t="t" r="r" b="b"/>
              <a:pathLst>
                <a:path w="301" h="737">
                  <a:moveTo>
                    <a:pt x="301" y="0"/>
                  </a:moveTo>
                  <a:lnTo>
                    <a:pt x="88" y="672"/>
                  </a:lnTo>
                  <a:lnTo>
                    <a:pt x="0" y="737"/>
                  </a:lnTo>
                  <a:lnTo>
                    <a:pt x="211" y="66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388360" y="6268680"/>
              <a:ext cx="19080" cy="22680"/>
            </a:xfrm>
            <a:custGeom>
              <a:avLst/>
              <a:gdLst/>
              <a:ahLst/>
              <a:rect l="l" t="t" r="r" b="b"/>
              <a:pathLst>
                <a:path w="300" h="731">
                  <a:moveTo>
                    <a:pt x="300" y="0"/>
                  </a:moveTo>
                  <a:lnTo>
                    <a:pt x="89" y="671"/>
                  </a:lnTo>
                  <a:lnTo>
                    <a:pt x="0" y="731"/>
                  </a:lnTo>
                  <a:lnTo>
                    <a:pt x="208" y="62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f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81880" y="6270480"/>
              <a:ext cx="19800" cy="22680"/>
            </a:xfrm>
            <a:custGeom>
              <a:avLst/>
              <a:gdLst/>
              <a:ahLst/>
              <a:rect l="l" t="t" r="r" b="b"/>
              <a:pathLst>
                <a:path w="300" h="728">
                  <a:moveTo>
                    <a:pt x="300" y="0"/>
                  </a:moveTo>
                  <a:lnTo>
                    <a:pt x="92" y="669"/>
                  </a:lnTo>
                  <a:lnTo>
                    <a:pt x="0" y="728"/>
                  </a:lnTo>
                  <a:lnTo>
                    <a:pt x="206" y="6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76480" y="6272640"/>
              <a:ext cx="19080" cy="22320"/>
            </a:xfrm>
            <a:custGeom>
              <a:avLst/>
              <a:gdLst/>
              <a:ahLst/>
              <a:rect l="l" t="t" r="r" b="b"/>
              <a:pathLst>
                <a:path w="299" h="723">
                  <a:moveTo>
                    <a:pt x="299" y="0"/>
                  </a:moveTo>
                  <a:lnTo>
                    <a:pt x="93" y="668"/>
                  </a:lnTo>
                  <a:lnTo>
                    <a:pt x="0" y="723"/>
                  </a:lnTo>
                  <a:lnTo>
                    <a:pt x="203" y="57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70000" y="6274800"/>
              <a:ext cx="19080" cy="21960"/>
            </a:xfrm>
            <a:custGeom>
              <a:avLst/>
              <a:gdLst/>
              <a:ahLst/>
              <a:rect l="l" t="t" r="r" b="b"/>
              <a:pathLst>
                <a:path w="298" h="720">
                  <a:moveTo>
                    <a:pt x="298" y="0"/>
                  </a:moveTo>
                  <a:lnTo>
                    <a:pt x="95" y="666"/>
                  </a:lnTo>
                  <a:lnTo>
                    <a:pt x="0" y="720"/>
                  </a:lnTo>
                  <a:lnTo>
                    <a:pt x="200" y="54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63880" y="6275880"/>
              <a:ext cx="19080" cy="22320"/>
            </a:xfrm>
            <a:custGeom>
              <a:avLst/>
              <a:gdLst/>
              <a:ahLst/>
              <a:rect l="l" t="t" r="r" b="b"/>
              <a:pathLst>
                <a:path w="297" h="715">
                  <a:moveTo>
                    <a:pt x="297" y="0"/>
                  </a:moveTo>
                  <a:lnTo>
                    <a:pt x="97" y="666"/>
                  </a:lnTo>
                  <a:lnTo>
                    <a:pt x="0" y="715"/>
                  </a:lnTo>
                  <a:lnTo>
                    <a:pt x="198" y="51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57400" y="6278040"/>
              <a:ext cx="19080" cy="22320"/>
            </a:xfrm>
            <a:custGeom>
              <a:avLst/>
              <a:gdLst/>
              <a:ahLst/>
              <a:rect l="l" t="t" r="r" b="b"/>
              <a:pathLst>
                <a:path w="295" h="711">
                  <a:moveTo>
                    <a:pt x="295" y="0"/>
                  </a:moveTo>
                  <a:lnTo>
                    <a:pt x="97" y="664"/>
                  </a:lnTo>
                  <a:lnTo>
                    <a:pt x="0" y="711"/>
                  </a:lnTo>
                  <a:lnTo>
                    <a:pt x="195" y="4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50920" y="6279120"/>
              <a:ext cx="19080" cy="22320"/>
            </a:xfrm>
            <a:custGeom>
              <a:avLst/>
              <a:gdLst/>
              <a:ahLst/>
              <a:rect l="l" t="t" r="r" b="b"/>
              <a:pathLst>
                <a:path w="292" h="706">
                  <a:moveTo>
                    <a:pt x="292" y="0"/>
                  </a:moveTo>
                  <a:lnTo>
                    <a:pt x="97" y="662"/>
                  </a:lnTo>
                  <a:lnTo>
                    <a:pt x="0" y="706"/>
                  </a:lnTo>
                  <a:lnTo>
                    <a:pt x="191" y="45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344800" y="6280560"/>
              <a:ext cx="18720" cy="22320"/>
            </a:xfrm>
            <a:custGeom>
              <a:avLst/>
              <a:gdLst/>
              <a:ahLst/>
              <a:rect l="l" t="t" r="r" b="b"/>
              <a:pathLst>
                <a:path w="291" h="702">
                  <a:moveTo>
                    <a:pt x="291" y="0"/>
                  </a:moveTo>
                  <a:lnTo>
                    <a:pt x="100" y="661"/>
                  </a:lnTo>
                  <a:lnTo>
                    <a:pt x="0" y="702"/>
                  </a:lnTo>
                  <a:lnTo>
                    <a:pt x="189" y="4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9a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31840" y="6281640"/>
              <a:ext cx="24480" cy="22680"/>
            </a:xfrm>
            <a:custGeom>
              <a:avLst/>
              <a:gdLst/>
              <a:ahLst/>
              <a:rect l="l" t="t" r="r" b="b"/>
              <a:pathLst>
                <a:path w="388" h="732">
                  <a:moveTo>
                    <a:pt x="388" y="0"/>
                  </a:moveTo>
                  <a:lnTo>
                    <a:pt x="199" y="660"/>
                  </a:lnTo>
                  <a:lnTo>
                    <a:pt x="100" y="697"/>
                  </a:lnTo>
                  <a:lnTo>
                    <a:pt x="0" y="732"/>
                  </a:lnTo>
                  <a:lnTo>
                    <a:pt x="183" y="73"/>
                  </a:lnTo>
                  <a:lnTo>
                    <a:pt x="286" y="38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8e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18520" y="6284520"/>
              <a:ext cx="25200" cy="22320"/>
            </a:xfrm>
            <a:custGeom>
              <a:avLst/>
              <a:gdLst/>
              <a:ahLst/>
              <a:rect l="l" t="t" r="r" b="b"/>
              <a:pathLst>
                <a:path w="385" h="716">
                  <a:moveTo>
                    <a:pt x="385" y="0"/>
                  </a:moveTo>
                  <a:lnTo>
                    <a:pt x="202" y="659"/>
                  </a:lnTo>
                  <a:lnTo>
                    <a:pt x="168" y="669"/>
                  </a:lnTo>
                  <a:lnTo>
                    <a:pt x="134" y="679"/>
                  </a:lnTo>
                  <a:lnTo>
                    <a:pt x="102" y="689"/>
                  </a:lnTo>
                  <a:lnTo>
                    <a:pt x="68" y="698"/>
                  </a:lnTo>
                  <a:lnTo>
                    <a:pt x="34" y="708"/>
                  </a:lnTo>
                  <a:lnTo>
                    <a:pt x="0" y="716"/>
                  </a:lnTo>
                  <a:lnTo>
                    <a:pt x="177" y="60"/>
                  </a:lnTo>
                  <a:lnTo>
                    <a:pt x="212" y="50"/>
                  </a:lnTo>
                  <a:lnTo>
                    <a:pt x="247" y="41"/>
                  </a:lnTo>
                  <a:lnTo>
                    <a:pt x="281" y="32"/>
                  </a:lnTo>
                  <a:lnTo>
                    <a:pt x="316" y="21"/>
                  </a:lnTo>
                  <a:lnTo>
                    <a:pt x="351" y="12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05560" y="6286320"/>
              <a:ext cx="24480" cy="21600"/>
            </a:xfrm>
            <a:custGeom>
              <a:avLst/>
              <a:gdLst/>
              <a:ahLst/>
              <a:rect l="l" t="t" r="r" b="b"/>
              <a:pathLst>
                <a:path w="379" h="702">
                  <a:moveTo>
                    <a:pt x="379" y="0"/>
                  </a:moveTo>
                  <a:lnTo>
                    <a:pt x="202" y="656"/>
                  </a:lnTo>
                  <a:lnTo>
                    <a:pt x="169" y="664"/>
                  </a:lnTo>
                  <a:lnTo>
                    <a:pt x="135" y="673"/>
                  </a:lnTo>
                  <a:lnTo>
                    <a:pt x="102" y="680"/>
                  </a:lnTo>
                  <a:lnTo>
                    <a:pt x="68" y="688"/>
                  </a:lnTo>
                  <a:lnTo>
                    <a:pt x="34" y="694"/>
                  </a:lnTo>
                  <a:lnTo>
                    <a:pt x="0" y="702"/>
                  </a:lnTo>
                  <a:lnTo>
                    <a:pt x="172" y="46"/>
                  </a:lnTo>
                  <a:lnTo>
                    <a:pt x="207" y="39"/>
                  </a:lnTo>
                  <a:lnTo>
                    <a:pt x="241" y="32"/>
                  </a:lnTo>
                  <a:lnTo>
                    <a:pt x="276" y="24"/>
                  </a:lnTo>
                  <a:lnTo>
                    <a:pt x="311" y="17"/>
                  </a:lnTo>
                  <a:lnTo>
                    <a:pt x="346" y="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7f9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91880" y="6287760"/>
              <a:ext cx="24480" cy="21600"/>
            </a:xfrm>
            <a:custGeom>
              <a:avLst/>
              <a:gdLst/>
              <a:ahLst/>
              <a:rect l="l" t="t" r="r" b="b"/>
              <a:pathLst>
                <a:path w="375" h="689">
                  <a:moveTo>
                    <a:pt x="375" y="0"/>
                  </a:moveTo>
                  <a:lnTo>
                    <a:pt x="203" y="656"/>
                  </a:lnTo>
                  <a:lnTo>
                    <a:pt x="169" y="662"/>
                  </a:lnTo>
                  <a:lnTo>
                    <a:pt x="135" y="668"/>
                  </a:lnTo>
                  <a:lnTo>
                    <a:pt x="102" y="673"/>
                  </a:lnTo>
                  <a:lnTo>
                    <a:pt x="68" y="680"/>
                  </a:lnTo>
                  <a:lnTo>
                    <a:pt x="34" y="685"/>
                  </a:lnTo>
                  <a:lnTo>
                    <a:pt x="0" y="689"/>
                  </a:lnTo>
                  <a:lnTo>
                    <a:pt x="165" y="34"/>
                  </a:lnTo>
                  <a:lnTo>
                    <a:pt x="200" y="30"/>
                  </a:lnTo>
                  <a:lnTo>
                    <a:pt x="236" y="25"/>
                  </a:lnTo>
                  <a:lnTo>
                    <a:pt x="271" y="18"/>
                  </a:lnTo>
                  <a:lnTo>
                    <a:pt x="306" y="13"/>
                  </a:lnTo>
                  <a:lnTo>
                    <a:pt x="340" y="7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778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78200" y="6288480"/>
              <a:ext cx="24480" cy="21600"/>
            </a:xfrm>
            <a:custGeom>
              <a:avLst/>
              <a:gdLst/>
              <a:ahLst/>
              <a:rect l="l" t="t" r="r" b="b"/>
              <a:pathLst>
                <a:path w="371" h="677">
                  <a:moveTo>
                    <a:pt x="371" y="0"/>
                  </a:moveTo>
                  <a:lnTo>
                    <a:pt x="206" y="655"/>
                  </a:lnTo>
                  <a:lnTo>
                    <a:pt x="171" y="659"/>
                  </a:lnTo>
                  <a:lnTo>
                    <a:pt x="137" y="663"/>
                  </a:lnTo>
                  <a:lnTo>
                    <a:pt x="103" y="668"/>
                  </a:lnTo>
                  <a:lnTo>
                    <a:pt x="69" y="671"/>
                  </a:lnTo>
                  <a:lnTo>
                    <a:pt x="34" y="674"/>
                  </a:lnTo>
                  <a:lnTo>
                    <a:pt x="0" y="677"/>
                  </a:lnTo>
                  <a:lnTo>
                    <a:pt x="159" y="23"/>
                  </a:lnTo>
                  <a:lnTo>
                    <a:pt x="195" y="20"/>
                  </a:lnTo>
                  <a:lnTo>
                    <a:pt x="231" y="17"/>
                  </a:lnTo>
                  <a:lnTo>
                    <a:pt x="265" y="14"/>
                  </a:lnTo>
                  <a:lnTo>
                    <a:pt x="301" y="9"/>
                  </a:lnTo>
                  <a:lnTo>
                    <a:pt x="336" y="5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65600" y="6289200"/>
              <a:ext cx="23400" cy="20880"/>
            </a:xfrm>
            <a:custGeom>
              <a:avLst/>
              <a:gdLst/>
              <a:ahLst/>
              <a:rect l="l" t="t" r="r" b="b"/>
              <a:pathLst>
                <a:path w="368" h="663">
                  <a:moveTo>
                    <a:pt x="368" y="0"/>
                  </a:moveTo>
                  <a:lnTo>
                    <a:pt x="209" y="654"/>
                  </a:lnTo>
                  <a:lnTo>
                    <a:pt x="174" y="656"/>
                  </a:lnTo>
                  <a:lnTo>
                    <a:pt x="139" y="658"/>
                  </a:lnTo>
                  <a:lnTo>
                    <a:pt x="104" y="660"/>
                  </a:lnTo>
                  <a:lnTo>
                    <a:pt x="69" y="661"/>
                  </a:lnTo>
                  <a:lnTo>
                    <a:pt x="35" y="662"/>
                  </a:lnTo>
                  <a:lnTo>
                    <a:pt x="0" y="663"/>
                  </a:lnTo>
                  <a:lnTo>
                    <a:pt x="152" y="9"/>
                  </a:lnTo>
                  <a:lnTo>
                    <a:pt x="189" y="8"/>
                  </a:lnTo>
                  <a:lnTo>
                    <a:pt x="225" y="7"/>
                  </a:lnTo>
                  <a:lnTo>
                    <a:pt x="261" y="6"/>
                  </a:lnTo>
                  <a:lnTo>
                    <a:pt x="297" y="4"/>
                  </a:lnTo>
                  <a:lnTo>
                    <a:pt x="333" y="2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6d7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60200" y="6289560"/>
              <a:ext cx="14400" cy="20160"/>
            </a:xfrm>
            <a:custGeom>
              <a:avLst/>
              <a:gdLst/>
              <a:ahLst/>
              <a:rect l="l" t="t" r="r" b="b"/>
              <a:pathLst>
                <a:path w="223" h="654">
                  <a:moveTo>
                    <a:pt x="223" y="0"/>
                  </a:moveTo>
                  <a:lnTo>
                    <a:pt x="71" y="654"/>
                  </a:lnTo>
                  <a:lnTo>
                    <a:pt x="35" y="654"/>
                  </a:lnTo>
                  <a:lnTo>
                    <a:pt x="0" y="654"/>
                  </a:lnTo>
                  <a:lnTo>
                    <a:pt x="152" y="0"/>
                  </a:lnTo>
                  <a:lnTo>
                    <a:pt x="188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68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55520" y="6292440"/>
              <a:ext cx="13680" cy="25920"/>
            </a:xfrm>
            <a:custGeom>
              <a:avLst/>
              <a:gdLst/>
              <a:ahLst/>
              <a:rect l="l" t="t" r="r" b="b"/>
              <a:pathLst>
                <a:path w="201" h="832">
                  <a:moveTo>
                    <a:pt x="201" y="0"/>
                  </a:moveTo>
                  <a:lnTo>
                    <a:pt x="50" y="652"/>
                  </a:lnTo>
                  <a:lnTo>
                    <a:pt x="27" y="743"/>
                  </a:lnTo>
                  <a:lnTo>
                    <a:pt x="0" y="832"/>
                  </a:lnTo>
                  <a:lnTo>
                    <a:pt x="150" y="185"/>
                  </a:lnTo>
                  <a:lnTo>
                    <a:pt x="177" y="9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51920" y="6298200"/>
              <a:ext cx="13320" cy="25560"/>
            </a:xfrm>
            <a:custGeom>
              <a:avLst/>
              <a:gdLst/>
              <a:ahLst/>
              <a:rect l="l" t="t" r="r" b="b"/>
              <a:pathLst>
                <a:path w="210" h="821">
                  <a:moveTo>
                    <a:pt x="210" y="0"/>
                  </a:moveTo>
                  <a:lnTo>
                    <a:pt x="60" y="647"/>
                  </a:lnTo>
                  <a:lnTo>
                    <a:pt x="31" y="735"/>
                  </a:lnTo>
                  <a:lnTo>
                    <a:pt x="0" y="821"/>
                  </a:lnTo>
                  <a:lnTo>
                    <a:pt x="147" y="179"/>
                  </a:lnTo>
                  <a:lnTo>
                    <a:pt x="180" y="9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47240" y="6304320"/>
              <a:ext cx="14400" cy="24840"/>
            </a:xfrm>
            <a:custGeom>
              <a:avLst/>
              <a:gdLst/>
              <a:ahLst/>
              <a:rect l="l" t="t" r="r" b="b"/>
              <a:pathLst>
                <a:path w="219" h="810">
                  <a:moveTo>
                    <a:pt x="219" y="0"/>
                  </a:moveTo>
                  <a:lnTo>
                    <a:pt x="72" y="642"/>
                  </a:lnTo>
                  <a:lnTo>
                    <a:pt x="37" y="726"/>
                  </a:lnTo>
                  <a:lnTo>
                    <a:pt x="0" y="810"/>
                  </a:lnTo>
                  <a:lnTo>
                    <a:pt x="146" y="172"/>
                  </a:lnTo>
                  <a:lnTo>
                    <a:pt x="183" y="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241840" y="6309360"/>
              <a:ext cx="14400" cy="24840"/>
            </a:xfrm>
            <a:custGeom>
              <a:avLst/>
              <a:gdLst/>
              <a:ahLst/>
              <a:rect l="l" t="t" r="r" b="b"/>
              <a:pathLst>
                <a:path w="226" h="800">
                  <a:moveTo>
                    <a:pt x="226" y="0"/>
                  </a:moveTo>
                  <a:lnTo>
                    <a:pt x="80" y="638"/>
                  </a:lnTo>
                  <a:lnTo>
                    <a:pt x="41" y="720"/>
                  </a:lnTo>
                  <a:lnTo>
                    <a:pt x="0" y="800"/>
                  </a:lnTo>
                  <a:lnTo>
                    <a:pt x="143" y="167"/>
                  </a:lnTo>
                  <a:lnTo>
                    <a:pt x="185" y="84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236440" y="6314760"/>
              <a:ext cx="14400" cy="24120"/>
            </a:xfrm>
            <a:custGeom>
              <a:avLst/>
              <a:gdLst/>
              <a:ahLst/>
              <a:rect l="l" t="t" r="r" b="b"/>
              <a:pathLst>
                <a:path w="233" h="788">
                  <a:moveTo>
                    <a:pt x="233" y="0"/>
                  </a:moveTo>
                  <a:lnTo>
                    <a:pt x="90" y="633"/>
                  </a:lnTo>
                  <a:lnTo>
                    <a:pt x="46" y="711"/>
                  </a:lnTo>
                  <a:lnTo>
                    <a:pt x="0" y="788"/>
                  </a:lnTo>
                  <a:lnTo>
                    <a:pt x="140" y="159"/>
                  </a:lnTo>
                  <a:lnTo>
                    <a:pt x="187" y="8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229960" y="6319440"/>
              <a:ext cx="15120" cy="24840"/>
            </a:xfrm>
            <a:custGeom>
              <a:avLst/>
              <a:gdLst/>
              <a:ahLst/>
              <a:rect l="l" t="t" r="r" b="b"/>
              <a:pathLst>
                <a:path w="240" h="780">
                  <a:moveTo>
                    <a:pt x="240" y="0"/>
                  </a:moveTo>
                  <a:lnTo>
                    <a:pt x="100" y="629"/>
                  </a:lnTo>
                  <a:lnTo>
                    <a:pt x="51" y="705"/>
                  </a:lnTo>
                  <a:lnTo>
                    <a:pt x="0" y="780"/>
                  </a:lnTo>
                  <a:lnTo>
                    <a:pt x="139" y="154"/>
                  </a:lnTo>
                  <a:lnTo>
                    <a:pt x="191" y="78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22760" y="6324480"/>
              <a:ext cx="16200" cy="23400"/>
            </a:xfrm>
            <a:custGeom>
              <a:avLst/>
              <a:gdLst/>
              <a:ahLst/>
              <a:rect l="l" t="t" r="r" b="b"/>
              <a:pathLst>
                <a:path w="247" h="770">
                  <a:moveTo>
                    <a:pt x="247" y="0"/>
                  </a:moveTo>
                  <a:lnTo>
                    <a:pt x="108" y="626"/>
                  </a:lnTo>
                  <a:lnTo>
                    <a:pt x="56" y="698"/>
                  </a:lnTo>
                  <a:lnTo>
                    <a:pt x="0" y="770"/>
                  </a:lnTo>
                  <a:lnTo>
                    <a:pt x="136" y="148"/>
                  </a:lnTo>
                  <a:lnTo>
                    <a:pt x="192" y="7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15560" y="6329160"/>
              <a:ext cx="16200" cy="23400"/>
            </a:xfrm>
            <a:custGeom>
              <a:avLst/>
              <a:gdLst/>
              <a:ahLst/>
              <a:rect l="l" t="t" r="r" b="b"/>
              <a:pathLst>
                <a:path w="250" h="761">
                  <a:moveTo>
                    <a:pt x="250" y="0"/>
                  </a:moveTo>
                  <a:lnTo>
                    <a:pt x="114" y="622"/>
                  </a:lnTo>
                  <a:lnTo>
                    <a:pt x="58" y="692"/>
                  </a:lnTo>
                  <a:lnTo>
                    <a:pt x="0" y="761"/>
                  </a:lnTo>
                  <a:lnTo>
                    <a:pt x="131" y="143"/>
                  </a:lnTo>
                  <a:lnTo>
                    <a:pt x="191" y="7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07280" y="6333840"/>
              <a:ext cx="16200" cy="23040"/>
            </a:xfrm>
            <a:custGeom>
              <a:avLst/>
              <a:gdLst/>
              <a:ahLst/>
              <a:rect l="l" t="t" r="r" b="b"/>
              <a:pathLst>
                <a:path w="254" h="750">
                  <a:moveTo>
                    <a:pt x="254" y="0"/>
                  </a:moveTo>
                  <a:lnTo>
                    <a:pt x="123" y="618"/>
                  </a:lnTo>
                  <a:lnTo>
                    <a:pt x="62" y="684"/>
                  </a:lnTo>
                  <a:lnTo>
                    <a:pt x="0" y="750"/>
                  </a:lnTo>
                  <a:lnTo>
                    <a:pt x="128" y="136"/>
                  </a:lnTo>
                  <a:lnTo>
                    <a:pt x="191" y="6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99000" y="6337800"/>
              <a:ext cx="16200" cy="22680"/>
            </a:xfrm>
            <a:custGeom>
              <a:avLst/>
              <a:gdLst/>
              <a:ahLst/>
              <a:rect l="l" t="t" r="r" b="b"/>
              <a:pathLst>
                <a:path w="259" h="741">
                  <a:moveTo>
                    <a:pt x="259" y="0"/>
                  </a:moveTo>
                  <a:lnTo>
                    <a:pt x="131" y="614"/>
                  </a:lnTo>
                  <a:lnTo>
                    <a:pt x="66" y="678"/>
                  </a:lnTo>
                  <a:lnTo>
                    <a:pt x="0" y="741"/>
                  </a:lnTo>
                  <a:lnTo>
                    <a:pt x="124" y="131"/>
                  </a:lnTo>
                  <a:lnTo>
                    <a:pt x="192" y="66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bde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190000" y="6341760"/>
              <a:ext cx="17280" cy="23040"/>
            </a:xfrm>
            <a:custGeom>
              <a:avLst/>
              <a:gdLst/>
              <a:ahLst/>
              <a:rect l="l" t="t" r="r" b="b"/>
              <a:pathLst>
                <a:path w="261" h="731">
                  <a:moveTo>
                    <a:pt x="261" y="0"/>
                  </a:moveTo>
                  <a:lnTo>
                    <a:pt x="137" y="610"/>
                  </a:lnTo>
                  <a:lnTo>
                    <a:pt x="70" y="671"/>
                  </a:lnTo>
                  <a:lnTo>
                    <a:pt x="0" y="731"/>
                  </a:lnTo>
                  <a:lnTo>
                    <a:pt x="120" y="124"/>
                  </a:lnTo>
                  <a:lnTo>
                    <a:pt x="192" y="6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181000" y="6345720"/>
              <a:ext cx="16200" cy="22680"/>
            </a:xfrm>
            <a:custGeom>
              <a:avLst/>
              <a:gdLst/>
              <a:ahLst/>
              <a:rect l="l" t="t" r="r" b="b"/>
              <a:pathLst>
                <a:path w="264" h="722">
                  <a:moveTo>
                    <a:pt x="264" y="0"/>
                  </a:moveTo>
                  <a:lnTo>
                    <a:pt x="144" y="607"/>
                  </a:lnTo>
                  <a:lnTo>
                    <a:pt x="73" y="665"/>
                  </a:lnTo>
                  <a:lnTo>
                    <a:pt x="0" y="722"/>
                  </a:lnTo>
                  <a:lnTo>
                    <a:pt x="116" y="118"/>
                  </a:lnTo>
                  <a:lnTo>
                    <a:pt x="191" y="6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170920" y="6349680"/>
              <a:ext cx="17280" cy="22320"/>
            </a:xfrm>
            <a:custGeom>
              <a:avLst/>
              <a:gdLst/>
              <a:ahLst/>
              <a:rect l="l" t="t" r="r" b="b"/>
              <a:pathLst>
                <a:path w="265" h="715">
                  <a:moveTo>
                    <a:pt x="265" y="0"/>
                  </a:moveTo>
                  <a:lnTo>
                    <a:pt x="149" y="604"/>
                  </a:lnTo>
                  <a:lnTo>
                    <a:pt x="75" y="661"/>
                  </a:lnTo>
                  <a:lnTo>
                    <a:pt x="0" y="715"/>
                  </a:lnTo>
                  <a:lnTo>
                    <a:pt x="111" y="113"/>
                  </a:lnTo>
                  <a:lnTo>
                    <a:pt x="189" y="5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60840" y="6352920"/>
              <a:ext cx="17280" cy="22320"/>
            </a:xfrm>
            <a:custGeom>
              <a:avLst/>
              <a:gdLst/>
              <a:ahLst/>
              <a:rect l="l" t="t" r="r" b="b"/>
              <a:pathLst>
                <a:path w="266" h="706">
                  <a:moveTo>
                    <a:pt x="266" y="0"/>
                  </a:moveTo>
                  <a:lnTo>
                    <a:pt x="155" y="602"/>
                  </a:lnTo>
                  <a:lnTo>
                    <a:pt x="78" y="654"/>
                  </a:lnTo>
                  <a:lnTo>
                    <a:pt x="0" y="706"/>
                  </a:lnTo>
                  <a:lnTo>
                    <a:pt x="107" y="107"/>
                  </a:lnTo>
                  <a:lnTo>
                    <a:pt x="187" y="54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50040" y="6356160"/>
              <a:ext cx="18000" cy="22320"/>
            </a:xfrm>
            <a:custGeom>
              <a:avLst/>
              <a:gdLst/>
              <a:ahLst/>
              <a:rect l="l" t="t" r="r" b="b"/>
              <a:pathLst>
                <a:path w="267" h="698">
                  <a:moveTo>
                    <a:pt x="267" y="0"/>
                  </a:moveTo>
                  <a:lnTo>
                    <a:pt x="160" y="599"/>
                  </a:lnTo>
                  <a:lnTo>
                    <a:pt x="81" y="649"/>
                  </a:lnTo>
                  <a:lnTo>
                    <a:pt x="0" y="698"/>
                  </a:lnTo>
                  <a:lnTo>
                    <a:pt x="102" y="102"/>
                  </a:lnTo>
                  <a:lnTo>
                    <a:pt x="185" y="52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a9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45360" y="6359400"/>
              <a:ext cx="11520" cy="20160"/>
            </a:xfrm>
            <a:custGeom>
              <a:avLst/>
              <a:gdLst/>
              <a:ahLst/>
              <a:rect l="l" t="t" r="r" b="b"/>
              <a:pathLst>
                <a:path w="184" h="643">
                  <a:moveTo>
                    <a:pt x="184" y="0"/>
                  </a:moveTo>
                  <a:lnTo>
                    <a:pt x="82" y="596"/>
                  </a:lnTo>
                  <a:lnTo>
                    <a:pt x="0" y="643"/>
                  </a:lnTo>
                  <a:lnTo>
                    <a:pt x="100" y="4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33840" y="6361560"/>
              <a:ext cx="18000" cy="20880"/>
            </a:xfrm>
            <a:custGeom>
              <a:avLst/>
              <a:gdLst/>
              <a:ahLst/>
              <a:rect l="l" t="t" r="r" b="b"/>
              <a:pathLst>
                <a:path w="272" h="683">
                  <a:moveTo>
                    <a:pt x="272" y="0"/>
                  </a:moveTo>
                  <a:lnTo>
                    <a:pt x="172" y="595"/>
                  </a:lnTo>
                  <a:lnTo>
                    <a:pt x="144" y="610"/>
                  </a:lnTo>
                  <a:lnTo>
                    <a:pt x="115" y="625"/>
                  </a:lnTo>
                  <a:lnTo>
                    <a:pt x="87" y="639"/>
                  </a:lnTo>
                  <a:lnTo>
                    <a:pt x="58" y="654"/>
                  </a:lnTo>
                  <a:lnTo>
                    <a:pt x="29" y="669"/>
                  </a:lnTo>
                  <a:lnTo>
                    <a:pt x="0" y="683"/>
                  </a:lnTo>
                  <a:lnTo>
                    <a:pt x="96" y="91"/>
                  </a:lnTo>
                  <a:lnTo>
                    <a:pt x="125" y="76"/>
                  </a:lnTo>
                  <a:lnTo>
                    <a:pt x="154" y="61"/>
                  </a:lnTo>
                  <a:lnTo>
                    <a:pt x="184" y="47"/>
                  </a:lnTo>
                  <a:lnTo>
                    <a:pt x="214" y="31"/>
                  </a:lnTo>
                  <a:lnTo>
                    <a:pt x="242" y="16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22680" y="6364080"/>
              <a:ext cx="16920" cy="20880"/>
            </a:xfrm>
            <a:custGeom>
              <a:avLst/>
              <a:gdLst/>
              <a:ahLst/>
              <a:rect l="l" t="t" r="r" b="b"/>
              <a:pathLst>
                <a:path w="270" h="674">
                  <a:moveTo>
                    <a:pt x="270" y="0"/>
                  </a:moveTo>
                  <a:lnTo>
                    <a:pt x="174" y="592"/>
                  </a:lnTo>
                  <a:lnTo>
                    <a:pt x="146" y="606"/>
                  </a:lnTo>
                  <a:lnTo>
                    <a:pt x="116" y="620"/>
                  </a:lnTo>
                  <a:lnTo>
                    <a:pt x="87" y="634"/>
                  </a:lnTo>
                  <a:lnTo>
                    <a:pt x="59" y="647"/>
                  </a:lnTo>
                  <a:lnTo>
                    <a:pt x="29" y="661"/>
                  </a:lnTo>
                  <a:lnTo>
                    <a:pt x="0" y="674"/>
                  </a:lnTo>
                  <a:lnTo>
                    <a:pt x="90" y="85"/>
                  </a:lnTo>
                  <a:lnTo>
                    <a:pt x="120" y="70"/>
                  </a:lnTo>
                  <a:lnTo>
                    <a:pt x="150" y="57"/>
                  </a:lnTo>
                  <a:lnTo>
                    <a:pt x="180" y="43"/>
                  </a:lnTo>
                  <a:lnTo>
                    <a:pt x="210" y="29"/>
                  </a:lnTo>
                  <a:lnTo>
                    <a:pt x="240" y="1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14400" y="6366600"/>
              <a:ext cx="13320" cy="20160"/>
            </a:xfrm>
            <a:custGeom>
              <a:avLst/>
              <a:gdLst/>
              <a:ahLst/>
              <a:rect l="l" t="t" r="r" b="b"/>
              <a:pathLst>
                <a:path w="208" h="643">
                  <a:moveTo>
                    <a:pt x="208" y="0"/>
                  </a:moveTo>
                  <a:lnTo>
                    <a:pt x="118" y="589"/>
                  </a:lnTo>
                  <a:lnTo>
                    <a:pt x="88" y="603"/>
                  </a:lnTo>
                  <a:lnTo>
                    <a:pt x="60" y="617"/>
                  </a:lnTo>
                  <a:lnTo>
                    <a:pt x="30" y="630"/>
                  </a:lnTo>
                  <a:lnTo>
                    <a:pt x="0" y="643"/>
                  </a:lnTo>
                  <a:lnTo>
                    <a:pt x="86" y="54"/>
                  </a:lnTo>
                  <a:lnTo>
                    <a:pt x="117" y="41"/>
                  </a:lnTo>
                  <a:lnTo>
                    <a:pt x="148" y="27"/>
                  </a:lnTo>
                  <a:lnTo>
                    <a:pt x="178" y="1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01800" y="6368040"/>
              <a:ext cx="19080" cy="20880"/>
            </a:xfrm>
            <a:custGeom>
              <a:avLst/>
              <a:gdLst/>
              <a:ahLst/>
              <a:rect l="l" t="t" r="r" b="b"/>
              <a:pathLst>
                <a:path w="284" h="662">
                  <a:moveTo>
                    <a:pt x="284" y="0"/>
                  </a:moveTo>
                  <a:lnTo>
                    <a:pt x="198" y="589"/>
                  </a:lnTo>
                  <a:lnTo>
                    <a:pt x="132" y="615"/>
                  </a:lnTo>
                  <a:lnTo>
                    <a:pt x="66" y="639"/>
                  </a:lnTo>
                  <a:lnTo>
                    <a:pt x="0" y="662"/>
                  </a:lnTo>
                  <a:lnTo>
                    <a:pt x="80" y="76"/>
                  </a:lnTo>
                  <a:lnTo>
                    <a:pt x="149" y="52"/>
                  </a:lnTo>
                  <a:lnTo>
                    <a:pt x="217" y="2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91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88840" y="6370560"/>
              <a:ext cx="18000" cy="20160"/>
            </a:xfrm>
            <a:custGeom>
              <a:avLst/>
              <a:gdLst/>
              <a:ahLst/>
              <a:rect l="l" t="t" r="r" b="b"/>
              <a:pathLst>
                <a:path w="277" h="653">
                  <a:moveTo>
                    <a:pt x="277" y="0"/>
                  </a:moveTo>
                  <a:lnTo>
                    <a:pt x="197" y="586"/>
                  </a:lnTo>
                  <a:lnTo>
                    <a:pt x="132" y="609"/>
                  </a:lnTo>
                  <a:lnTo>
                    <a:pt x="66" y="631"/>
                  </a:lnTo>
                  <a:lnTo>
                    <a:pt x="0" y="653"/>
                  </a:lnTo>
                  <a:lnTo>
                    <a:pt x="75" y="68"/>
                  </a:lnTo>
                  <a:lnTo>
                    <a:pt x="142" y="46"/>
                  </a:lnTo>
                  <a:lnTo>
                    <a:pt x="210" y="24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8b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76240" y="6372720"/>
              <a:ext cx="18000" cy="20160"/>
            </a:xfrm>
            <a:custGeom>
              <a:avLst/>
              <a:gdLst/>
              <a:ahLst/>
              <a:rect l="l" t="t" r="r" b="b"/>
              <a:pathLst>
                <a:path w="272" h="642">
                  <a:moveTo>
                    <a:pt x="272" y="0"/>
                  </a:moveTo>
                  <a:lnTo>
                    <a:pt x="197" y="585"/>
                  </a:lnTo>
                  <a:lnTo>
                    <a:pt x="132" y="605"/>
                  </a:lnTo>
                  <a:lnTo>
                    <a:pt x="66" y="624"/>
                  </a:lnTo>
                  <a:lnTo>
                    <a:pt x="0" y="642"/>
                  </a:lnTo>
                  <a:lnTo>
                    <a:pt x="69" y="59"/>
                  </a:lnTo>
                  <a:lnTo>
                    <a:pt x="137" y="40"/>
                  </a:lnTo>
                  <a:lnTo>
                    <a:pt x="205" y="21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63640" y="6374520"/>
              <a:ext cx="17280" cy="19440"/>
            </a:xfrm>
            <a:custGeom>
              <a:avLst/>
              <a:gdLst/>
              <a:ahLst/>
              <a:rect l="l" t="t" r="r" b="b"/>
              <a:pathLst>
                <a:path w="265" h="633">
                  <a:moveTo>
                    <a:pt x="265" y="0"/>
                  </a:moveTo>
                  <a:lnTo>
                    <a:pt x="196" y="583"/>
                  </a:lnTo>
                  <a:lnTo>
                    <a:pt x="131" y="601"/>
                  </a:lnTo>
                  <a:lnTo>
                    <a:pt x="65" y="618"/>
                  </a:lnTo>
                  <a:lnTo>
                    <a:pt x="0" y="633"/>
                  </a:lnTo>
                  <a:lnTo>
                    <a:pt x="63" y="51"/>
                  </a:lnTo>
                  <a:lnTo>
                    <a:pt x="131" y="36"/>
                  </a:lnTo>
                  <a:lnTo>
                    <a:pt x="199" y="1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83a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050680" y="6376680"/>
              <a:ext cx="17280" cy="19080"/>
            </a:xfrm>
            <a:custGeom>
              <a:avLst/>
              <a:gdLst/>
              <a:ahLst/>
              <a:rect l="l" t="t" r="r" b="b"/>
              <a:pathLst>
                <a:path w="260" h="625">
                  <a:moveTo>
                    <a:pt x="260" y="0"/>
                  </a:moveTo>
                  <a:lnTo>
                    <a:pt x="197" y="582"/>
                  </a:lnTo>
                  <a:lnTo>
                    <a:pt x="131" y="597"/>
                  </a:lnTo>
                  <a:lnTo>
                    <a:pt x="65" y="612"/>
                  </a:lnTo>
                  <a:lnTo>
                    <a:pt x="0" y="625"/>
                  </a:lnTo>
                  <a:lnTo>
                    <a:pt x="57" y="44"/>
                  </a:lnTo>
                  <a:lnTo>
                    <a:pt x="125" y="30"/>
                  </a:lnTo>
                  <a:lnTo>
                    <a:pt x="192" y="16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7d9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38080" y="6378120"/>
              <a:ext cx="16200" cy="19080"/>
            </a:xfrm>
            <a:custGeom>
              <a:avLst/>
              <a:gdLst/>
              <a:ahLst/>
              <a:rect l="l" t="t" r="r" b="b"/>
              <a:pathLst>
                <a:path w="256" h="615">
                  <a:moveTo>
                    <a:pt x="256" y="0"/>
                  </a:moveTo>
                  <a:lnTo>
                    <a:pt x="199" y="581"/>
                  </a:lnTo>
                  <a:lnTo>
                    <a:pt x="132" y="593"/>
                  </a:lnTo>
                  <a:lnTo>
                    <a:pt x="66" y="604"/>
                  </a:lnTo>
                  <a:lnTo>
                    <a:pt x="0" y="615"/>
                  </a:lnTo>
                  <a:lnTo>
                    <a:pt x="51" y="35"/>
                  </a:lnTo>
                  <a:lnTo>
                    <a:pt x="120" y="24"/>
                  </a:lnTo>
                  <a:lnTo>
                    <a:pt x="187" y="12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79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025480" y="6378480"/>
              <a:ext cx="16200" cy="19080"/>
            </a:xfrm>
            <a:custGeom>
              <a:avLst/>
              <a:gdLst/>
              <a:ahLst/>
              <a:rect l="l" t="t" r="r" b="b"/>
              <a:pathLst>
                <a:path w="251" h="607">
                  <a:moveTo>
                    <a:pt x="251" y="0"/>
                  </a:moveTo>
                  <a:lnTo>
                    <a:pt x="200" y="580"/>
                  </a:lnTo>
                  <a:lnTo>
                    <a:pt x="133" y="590"/>
                  </a:lnTo>
                  <a:lnTo>
                    <a:pt x="66" y="599"/>
                  </a:lnTo>
                  <a:lnTo>
                    <a:pt x="0" y="607"/>
                  </a:lnTo>
                  <a:lnTo>
                    <a:pt x="45" y="27"/>
                  </a:lnTo>
                  <a:lnTo>
                    <a:pt x="114" y="19"/>
                  </a:lnTo>
                  <a:lnTo>
                    <a:pt x="182" y="1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758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11800" y="6379920"/>
              <a:ext cx="16200" cy="18360"/>
            </a:xfrm>
            <a:custGeom>
              <a:avLst/>
              <a:gdLst/>
              <a:ahLst/>
              <a:rect l="l" t="t" r="r" b="b"/>
              <a:pathLst>
                <a:path w="248" h="599">
                  <a:moveTo>
                    <a:pt x="248" y="0"/>
                  </a:moveTo>
                  <a:lnTo>
                    <a:pt x="203" y="580"/>
                  </a:lnTo>
                  <a:lnTo>
                    <a:pt x="135" y="588"/>
                  </a:lnTo>
                  <a:lnTo>
                    <a:pt x="67" y="594"/>
                  </a:lnTo>
                  <a:lnTo>
                    <a:pt x="0" y="599"/>
                  </a:lnTo>
                  <a:lnTo>
                    <a:pt x="39" y="20"/>
                  </a:lnTo>
                  <a:lnTo>
                    <a:pt x="108" y="15"/>
                  </a:lnTo>
                  <a:lnTo>
                    <a:pt x="178" y="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998120" y="6380640"/>
              <a:ext cx="16200" cy="18360"/>
            </a:xfrm>
            <a:custGeom>
              <a:avLst/>
              <a:gdLst/>
              <a:ahLst/>
              <a:rect l="l" t="t" r="r" b="b"/>
              <a:pathLst>
                <a:path w="245" h="592">
                  <a:moveTo>
                    <a:pt x="245" y="0"/>
                  </a:moveTo>
                  <a:lnTo>
                    <a:pt x="206" y="579"/>
                  </a:lnTo>
                  <a:lnTo>
                    <a:pt x="137" y="585"/>
                  </a:lnTo>
                  <a:lnTo>
                    <a:pt x="68" y="589"/>
                  </a:lnTo>
                  <a:lnTo>
                    <a:pt x="0" y="592"/>
                  </a:lnTo>
                  <a:lnTo>
                    <a:pt x="32" y="13"/>
                  </a:lnTo>
                  <a:lnTo>
                    <a:pt x="104" y="10"/>
                  </a:lnTo>
                  <a:lnTo>
                    <a:pt x="174" y="5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6f7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84440" y="6380640"/>
              <a:ext cx="16200" cy="18360"/>
            </a:xfrm>
            <a:custGeom>
              <a:avLst/>
              <a:gdLst/>
              <a:ahLst/>
              <a:rect l="l" t="t" r="r" b="b"/>
              <a:pathLst>
                <a:path w="243" h="584">
                  <a:moveTo>
                    <a:pt x="243" y="0"/>
                  </a:moveTo>
                  <a:lnTo>
                    <a:pt x="211" y="579"/>
                  </a:lnTo>
                  <a:lnTo>
                    <a:pt x="141" y="581"/>
                  </a:lnTo>
                  <a:lnTo>
                    <a:pt x="71" y="583"/>
                  </a:lnTo>
                  <a:lnTo>
                    <a:pt x="0" y="584"/>
                  </a:lnTo>
                  <a:lnTo>
                    <a:pt x="28" y="5"/>
                  </a:lnTo>
                  <a:lnTo>
                    <a:pt x="100" y="5"/>
                  </a:lnTo>
                  <a:lnTo>
                    <a:pt x="172" y="3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b7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75440" y="6380640"/>
              <a:ext cx="10800" cy="1836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169" y="0"/>
                  </a:moveTo>
                  <a:lnTo>
                    <a:pt x="141" y="579"/>
                  </a:lnTo>
                  <a:lnTo>
                    <a:pt x="71" y="579"/>
                  </a:lnTo>
                  <a:lnTo>
                    <a:pt x="0" y="578"/>
                  </a:lnTo>
                  <a:lnTo>
                    <a:pt x="22" y="0"/>
                  </a:lnTo>
                  <a:lnTo>
                    <a:pt x="96" y="1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49880" y="6379920"/>
              <a:ext cx="27000" cy="19080"/>
            </a:xfrm>
            <a:custGeom>
              <a:avLst/>
              <a:gdLst/>
              <a:ahLst/>
              <a:rect l="l" t="t" r="r" b="b"/>
              <a:pathLst>
                <a:path w="412" h="607">
                  <a:moveTo>
                    <a:pt x="412" y="29"/>
                  </a:moveTo>
                  <a:lnTo>
                    <a:pt x="390" y="607"/>
                  </a:lnTo>
                  <a:lnTo>
                    <a:pt x="0" y="579"/>
                  </a:lnTo>
                  <a:lnTo>
                    <a:pt x="11" y="0"/>
                  </a:lnTo>
                  <a:lnTo>
                    <a:pt x="412" y="29"/>
                  </a:lnTo>
                  <a:close/>
                </a:path>
              </a:pathLst>
            </a:custGeom>
            <a:solidFill>
              <a:srgbClr val="5c6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37280" y="6379200"/>
              <a:ext cx="13320" cy="19080"/>
            </a:xfrm>
            <a:custGeom>
              <a:avLst/>
              <a:gdLst/>
              <a:ahLst/>
              <a:rect l="l" t="t" r="r" b="b"/>
              <a:pathLst>
                <a:path w="208" h="609">
                  <a:moveTo>
                    <a:pt x="208" y="30"/>
                  </a:moveTo>
                  <a:lnTo>
                    <a:pt x="197" y="609"/>
                  </a:lnTo>
                  <a:lnTo>
                    <a:pt x="99" y="595"/>
                  </a:lnTo>
                  <a:lnTo>
                    <a:pt x="0" y="581"/>
                  </a:lnTo>
                  <a:lnTo>
                    <a:pt x="6" y="0"/>
                  </a:lnTo>
                  <a:lnTo>
                    <a:pt x="107" y="16"/>
                  </a:lnTo>
                  <a:lnTo>
                    <a:pt x="208" y="30"/>
                  </a:lnTo>
                  <a:close/>
                </a:path>
              </a:pathLst>
            </a:custGeom>
            <a:solidFill>
              <a:srgbClr val="505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24320" y="6378120"/>
              <a:ext cx="13320" cy="19080"/>
            </a:xfrm>
            <a:custGeom>
              <a:avLst/>
              <a:gdLst/>
              <a:ahLst/>
              <a:rect l="l" t="t" r="r" b="b"/>
              <a:pathLst>
                <a:path w="202" h="618">
                  <a:moveTo>
                    <a:pt x="202" y="37"/>
                  </a:moveTo>
                  <a:lnTo>
                    <a:pt x="196" y="618"/>
                  </a:lnTo>
                  <a:lnTo>
                    <a:pt x="99" y="600"/>
                  </a:lnTo>
                  <a:lnTo>
                    <a:pt x="0" y="581"/>
                  </a:lnTo>
                  <a:lnTo>
                    <a:pt x="0" y="0"/>
                  </a:lnTo>
                  <a:lnTo>
                    <a:pt x="101" y="19"/>
                  </a:lnTo>
                  <a:lnTo>
                    <a:pt x="202" y="37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11720" y="6376680"/>
              <a:ext cx="12240" cy="19440"/>
            </a:xfrm>
            <a:custGeom>
              <a:avLst/>
              <a:gdLst/>
              <a:ahLst/>
              <a:rect l="l" t="t" r="r" b="b"/>
              <a:pathLst>
                <a:path w="201" h="626">
                  <a:moveTo>
                    <a:pt x="201" y="45"/>
                  </a:moveTo>
                  <a:lnTo>
                    <a:pt x="201" y="626"/>
                  </a:lnTo>
                  <a:lnTo>
                    <a:pt x="104" y="605"/>
                  </a:lnTo>
                  <a:lnTo>
                    <a:pt x="8" y="584"/>
                  </a:lnTo>
                  <a:lnTo>
                    <a:pt x="0" y="0"/>
                  </a:lnTo>
                  <a:lnTo>
                    <a:pt x="101" y="24"/>
                  </a:lnTo>
                  <a:lnTo>
                    <a:pt x="201" y="45"/>
                  </a:lnTo>
                  <a:close/>
                </a:path>
              </a:pathLst>
            </a:custGeom>
            <a:solidFill>
              <a:srgbClr val="414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99120" y="6374520"/>
              <a:ext cx="12600" cy="20160"/>
            </a:xfrm>
            <a:custGeom>
              <a:avLst/>
              <a:gdLst/>
              <a:ahLst/>
              <a:rect l="l" t="t" r="r" b="b"/>
              <a:pathLst>
                <a:path w="206" h="635">
                  <a:moveTo>
                    <a:pt x="198" y="51"/>
                  </a:moveTo>
                  <a:lnTo>
                    <a:pt x="206" y="635"/>
                  </a:lnTo>
                  <a:lnTo>
                    <a:pt x="108" y="610"/>
                  </a:lnTo>
                  <a:lnTo>
                    <a:pt x="13" y="584"/>
                  </a:lnTo>
                  <a:lnTo>
                    <a:pt x="0" y="0"/>
                  </a:lnTo>
                  <a:lnTo>
                    <a:pt x="99" y="26"/>
                  </a:lnTo>
                  <a:lnTo>
                    <a:pt x="198" y="51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86160" y="6372720"/>
              <a:ext cx="13320" cy="20160"/>
            </a:xfrm>
            <a:custGeom>
              <a:avLst/>
              <a:gdLst/>
              <a:ahLst/>
              <a:rect l="l" t="t" r="r" b="b"/>
              <a:pathLst>
                <a:path w="207" h="644">
                  <a:moveTo>
                    <a:pt x="194" y="60"/>
                  </a:moveTo>
                  <a:lnTo>
                    <a:pt x="207" y="644"/>
                  </a:lnTo>
                  <a:lnTo>
                    <a:pt x="111" y="615"/>
                  </a:lnTo>
                  <a:lnTo>
                    <a:pt x="17" y="586"/>
                  </a:lnTo>
                  <a:lnTo>
                    <a:pt x="0" y="0"/>
                  </a:lnTo>
                  <a:lnTo>
                    <a:pt x="97" y="31"/>
                  </a:lnTo>
                  <a:lnTo>
                    <a:pt x="194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73560" y="6370560"/>
              <a:ext cx="13680" cy="20160"/>
            </a:xfrm>
            <a:custGeom>
              <a:avLst/>
              <a:gdLst/>
              <a:ahLst/>
              <a:rect l="l" t="t" r="r" b="b"/>
              <a:pathLst>
                <a:path w="210" h="654">
                  <a:moveTo>
                    <a:pt x="193" y="68"/>
                  </a:moveTo>
                  <a:lnTo>
                    <a:pt x="210" y="654"/>
                  </a:lnTo>
                  <a:lnTo>
                    <a:pt x="117" y="622"/>
                  </a:lnTo>
                  <a:lnTo>
                    <a:pt x="23" y="588"/>
                  </a:lnTo>
                  <a:lnTo>
                    <a:pt x="0" y="0"/>
                  </a:lnTo>
                  <a:lnTo>
                    <a:pt x="96" y="36"/>
                  </a:lnTo>
                  <a:lnTo>
                    <a:pt x="193" y="68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61680" y="6368760"/>
              <a:ext cx="13320" cy="20160"/>
            </a:xfrm>
            <a:custGeom>
              <a:avLst/>
              <a:gdLst/>
              <a:ahLst/>
              <a:rect l="l" t="t" r="r" b="b"/>
              <a:pathLst>
                <a:path w="211" h="664">
                  <a:moveTo>
                    <a:pt x="188" y="76"/>
                  </a:moveTo>
                  <a:lnTo>
                    <a:pt x="211" y="664"/>
                  </a:lnTo>
                  <a:lnTo>
                    <a:pt x="120" y="628"/>
                  </a:lnTo>
                  <a:lnTo>
                    <a:pt x="29" y="590"/>
                  </a:lnTo>
                  <a:lnTo>
                    <a:pt x="0" y="0"/>
                  </a:lnTo>
                  <a:lnTo>
                    <a:pt x="94" y="40"/>
                  </a:lnTo>
                  <a:lnTo>
                    <a:pt x="188" y="76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49800" y="6366240"/>
              <a:ext cx="13320" cy="20880"/>
            </a:xfrm>
            <a:custGeom>
              <a:avLst/>
              <a:gdLst/>
              <a:ahLst/>
              <a:rect l="l" t="t" r="r" b="b"/>
              <a:pathLst>
                <a:path w="212" h="674">
                  <a:moveTo>
                    <a:pt x="183" y="84"/>
                  </a:moveTo>
                  <a:lnTo>
                    <a:pt x="212" y="674"/>
                  </a:lnTo>
                  <a:lnTo>
                    <a:pt x="123" y="634"/>
                  </a:lnTo>
                  <a:lnTo>
                    <a:pt x="33" y="591"/>
                  </a:lnTo>
                  <a:lnTo>
                    <a:pt x="0" y="0"/>
                  </a:lnTo>
                  <a:lnTo>
                    <a:pt x="91" y="43"/>
                  </a:lnTo>
                  <a:lnTo>
                    <a:pt x="183" y="84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37920" y="6362640"/>
              <a:ext cx="13680" cy="21600"/>
            </a:xfrm>
            <a:custGeom>
              <a:avLst/>
              <a:gdLst/>
              <a:ahLst/>
              <a:rect l="l" t="t" r="r" b="b"/>
              <a:pathLst>
                <a:path w="212" h="686">
                  <a:moveTo>
                    <a:pt x="179" y="95"/>
                  </a:moveTo>
                  <a:lnTo>
                    <a:pt x="212" y="686"/>
                  </a:lnTo>
                  <a:lnTo>
                    <a:pt x="125" y="642"/>
                  </a:lnTo>
                  <a:lnTo>
                    <a:pt x="39" y="595"/>
                  </a:lnTo>
                  <a:lnTo>
                    <a:pt x="0" y="0"/>
                  </a:lnTo>
                  <a:lnTo>
                    <a:pt x="89" y="48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27120" y="6359400"/>
              <a:ext cx="13680" cy="21600"/>
            </a:xfrm>
            <a:custGeom>
              <a:avLst/>
              <a:gdLst/>
              <a:ahLst/>
              <a:rect l="l" t="t" r="r" b="b"/>
              <a:pathLst>
                <a:path w="211" h="698">
                  <a:moveTo>
                    <a:pt x="172" y="103"/>
                  </a:moveTo>
                  <a:lnTo>
                    <a:pt x="211" y="698"/>
                  </a:lnTo>
                  <a:lnTo>
                    <a:pt x="127" y="649"/>
                  </a:lnTo>
                  <a:lnTo>
                    <a:pt x="44" y="598"/>
                  </a:lnTo>
                  <a:lnTo>
                    <a:pt x="0" y="0"/>
                  </a:lnTo>
                  <a:lnTo>
                    <a:pt x="86" y="53"/>
                  </a:lnTo>
                  <a:lnTo>
                    <a:pt x="172" y="10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16320" y="6356160"/>
              <a:ext cx="13320" cy="22320"/>
            </a:xfrm>
            <a:custGeom>
              <a:avLst/>
              <a:gdLst/>
              <a:ahLst/>
              <a:rect l="l" t="t" r="r" b="b"/>
              <a:pathLst>
                <a:path w="210" h="710">
                  <a:moveTo>
                    <a:pt x="166" y="112"/>
                  </a:moveTo>
                  <a:lnTo>
                    <a:pt x="210" y="710"/>
                  </a:lnTo>
                  <a:lnTo>
                    <a:pt x="129" y="656"/>
                  </a:lnTo>
                  <a:lnTo>
                    <a:pt x="49" y="599"/>
                  </a:lnTo>
                  <a:lnTo>
                    <a:pt x="0" y="0"/>
                  </a:lnTo>
                  <a:lnTo>
                    <a:pt x="82" y="57"/>
                  </a:lnTo>
                  <a:lnTo>
                    <a:pt x="166" y="112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05520" y="6352200"/>
              <a:ext cx="13320" cy="22320"/>
            </a:xfrm>
            <a:custGeom>
              <a:avLst/>
              <a:gdLst/>
              <a:ahLst/>
              <a:rect l="l" t="t" r="r" b="b"/>
              <a:pathLst>
                <a:path w="208" h="722">
                  <a:moveTo>
                    <a:pt x="159" y="123"/>
                  </a:moveTo>
                  <a:lnTo>
                    <a:pt x="208" y="722"/>
                  </a:lnTo>
                  <a:lnTo>
                    <a:pt x="130" y="664"/>
                  </a:lnTo>
                  <a:lnTo>
                    <a:pt x="53" y="604"/>
                  </a:lnTo>
                  <a:lnTo>
                    <a:pt x="0" y="0"/>
                  </a:lnTo>
                  <a:lnTo>
                    <a:pt x="79" y="62"/>
                  </a:lnTo>
                  <a:lnTo>
                    <a:pt x="159" y="12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96160" y="6348240"/>
              <a:ext cx="12240" cy="23040"/>
            </a:xfrm>
            <a:custGeom>
              <a:avLst/>
              <a:gdLst/>
              <a:ahLst/>
              <a:rect l="l" t="t" r="r" b="b"/>
              <a:pathLst>
                <a:path w="205" h="737">
                  <a:moveTo>
                    <a:pt x="152" y="133"/>
                  </a:moveTo>
                  <a:lnTo>
                    <a:pt x="205" y="737"/>
                  </a:lnTo>
                  <a:lnTo>
                    <a:pt x="130" y="673"/>
                  </a:lnTo>
                  <a:lnTo>
                    <a:pt x="57" y="608"/>
                  </a:lnTo>
                  <a:lnTo>
                    <a:pt x="0" y="0"/>
                  </a:lnTo>
                  <a:lnTo>
                    <a:pt x="75" y="68"/>
                  </a:lnTo>
                  <a:lnTo>
                    <a:pt x="152" y="13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86080" y="6343920"/>
              <a:ext cx="13320" cy="23400"/>
            </a:xfrm>
            <a:custGeom>
              <a:avLst/>
              <a:gdLst/>
              <a:ahLst/>
              <a:rect l="l" t="t" r="r" b="b"/>
              <a:pathLst>
                <a:path w="201" h="751">
                  <a:moveTo>
                    <a:pt x="144" y="143"/>
                  </a:moveTo>
                  <a:lnTo>
                    <a:pt x="201" y="751"/>
                  </a:lnTo>
                  <a:lnTo>
                    <a:pt x="132" y="682"/>
                  </a:lnTo>
                  <a:lnTo>
                    <a:pt x="63" y="611"/>
                  </a:lnTo>
                  <a:lnTo>
                    <a:pt x="0" y="0"/>
                  </a:lnTo>
                  <a:lnTo>
                    <a:pt x="71" y="73"/>
                  </a:lnTo>
                  <a:lnTo>
                    <a:pt x="144" y="14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77800" y="6339240"/>
              <a:ext cx="12600" cy="23400"/>
            </a:xfrm>
            <a:custGeom>
              <a:avLst/>
              <a:gdLst/>
              <a:ahLst/>
              <a:rect l="l" t="t" r="r" b="b"/>
              <a:pathLst>
                <a:path w="197" h="764">
                  <a:moveTo>
                    <a:pt x="134" y="153"/>
                  </a:moveTo>
                  <a:lnTo>
                    <a:pt x="197" y="764"/>
                  </a:lnTo>
                  <a:lnTo>
                    <a:pt x="130" y="691"/>
                  </a:lnTo>
                  <a:lnTo>
                    <a:pt x="66" y="615"/>
                  </a:lnTo>
                  <a:lnTo>
                    <a:pt x="0" y="0"/>
                  </a:lnTo>
                  <a:lnTo>
                    <a:pt x="67" y="78"/>
                  </a:lnTo>
                  <a:lnTo>
                    <a:pt x="134" y="15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769880" y="6333840"/>
              <a:ext cx="11520" cy="24480"/>
            </a:xfrm>
            <a:custGeom>
              <a:avLst/>
              <a:gdLst/>
              <a:ahLst/>
              <a:rect l="l" t="t" r="r" b="b"/>
              <a:pathLst>
                <a:path w="191" h="780">
                  <a:moveTo>
                    <a:pt x="125" y="165"/>
                  </a:moveTo>
                  <a:lnTo>
                    <a:pt x="191" y="780"/>
                  </a:lnTo>
                  <a:lnTo>
                    <a:pt x="129" y="701"/>
                  </a:lnTo>
                  <a:lnTo>
                    <a:pt x="70" y="620"/>
                  </a:lnTo>
                  <a:lnTo>
                    <a:pt x="0" y="0"/>
                  </a:lnTo>
                  <a:lnTo>
                    <a:pt x="62" y="83"/>
                  </a:lnTo>
                  <a:lnTo>
                    <a:pt x="125" y="165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58000" y="6333120"/>
              <a:ext cx="16200" cy="19440"/>
            </a:xfrm>
            <a:custGeom>
              <a:avLst/>
              <a:gdLst/>
              <a:ahLst/>
              <a:rect l="l" t="t" r="r" b="b"/>
              <a:pathLst>
                <a:path w="250" h="643">
                  <a:moveTo>
                    <a:pt x="180" y="23"/>
                  </a:moveTo>
                  <a:lnTo>
                    <a:pt x="250" y="643"/>
                  </a:lnTo>
                  <a:lnTo>
                    <a:pt x="162" y="632"/>
                  </a:lnTo>
                  <a:lnTo>
                    <a:pt x="73" y="621"/>
                  </a:lnTo>
                  <a:lnTo>
                    <a:pt x="0" y="0"/>
                  </a:lnTo>
                  <a:lnTo>
                    <a:pt x="90" y="13"/>
                  </a:lnTo>
                  <a:lnTo>
                    <a:pt x="180" y="23"/>
                  </a:lnTo>
                  <a:close/>
                </a:path>
              </a:pathLst>
            </a:custGeom>
            <a:solidFill>
              <a:srgbClr val="535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46120" y="6331680"/>
              <a:ext cx="16200" cy="20160"/>
            </a:xfrm>
            <a:custGeom>
              <a:avLst/>
              <a:gdLst/>
              <a:ahLst/>
              <a:rect l="l" t="t" r="r" b="b"/>
              <a:pathLst>
                <a:path w="254" h="650">
                  <a:moveTo>
                    <a:pt x="181" y="29"/>
                  </a:moveTo>
                  <a:lnTo>
                    <a:pt x="254" y="650"/>
                  </a:lnTo>
                  <a:lnTo>
                    <a:pt x="167" y="636"/>
                  </a:lnTo>
                  <a:lnTo>
                    <a:pt x="80" y="621"/>
                  </a:lnTo>
                  <a:lnTo>
                    <a:pt x="0" y="0"/>
                  </a:lnTo>
                  <a:lnTo>
                    <a:pt x="90" y="16"/>
                  </a:lnTo>
                  <a:lnTo>
                    <a:pt x="181" y="29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34240" y="6331320"/>
              <a:ext cx="16920" cy="20160"/>
            </a:xfrm>
            <a:custGeom>
              <a:avLst/>
              <a:gdLst/>
              <a:ahLst/>
              <a:rect l="l" t="t" r="r" b="b"/>
              <a:pathLst>
                <a:path w="258" h="656">
                  <a:moveTo>
                    <a:pt x="178" y="35"/>
                  </a:moveTo>
                  <a:lnTo>
                    <a:pt x="258" y="656"/>
                  </a:lnTo>
                  <a:lnTo>
                    <a:pt x="171" y="639"/>
                  </a:lnTo>
                  <a:lnTo>
                    <a:pt x="85" y="621"/>
                  </a:lnTo>
                  <a:lnTo>
                    <a:pt x="0" y="0"/>
                  </a:lnTo>
                  <a:lnTo>
                    <a:pt x="89" y="18"/>
                  </a:lnTo>
                  <a:lnTo>
                    <a:pt x="178" y="35"/>
                  </a:lnTo>
                  <a:close/>
                </a:path>
              </a:pathLst>
            </a:custGeom>
            <a:solidFill>
              <a:srgbClr val="45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723440" y="6329160"/>
              <a:ext cx="16200" cy="20880"/>
            </a:xfrm>
            <a:custGeom>
              <a:avLst/>
              <a:gdLst/>
              <a:ahLst/>
              <a:rect l="l" t="t" r="r" b="b"/>
              <a:pathLst>
                <a:path w="262" h="665">
                  <a:moveTo>
                    <a:pt x="177" y="44"/>
                  </a:moveTo>
                  <a:lnTo>
                    <a:pt x="262" y="665"/>
                  </a:lnTo>
                  <a:lnTo>
                    <a:pt x="176" y="646"/>
                  </a:lnTo>
                  <a:lnTo>
                    <a:pt x="89" y="624"/>
                  </a:lnTo>
                  <a:lnTo>
                    <a:pt x="0" y="0"/>
                  </a:lnTo>
                  <a:lnTo>
                    <a:pt x="88" y="23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3c3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11560" y="6328080"/>
              <a:ext cx="17280" cy="20880"/>
            </a:xfrm>
            <a:custGeom>
              <a:avLst/>
              <a:gdLst/>
              <a:ahLst/>
              <a:rect l="l" t="t" r="r" b="b"/>
              <a:pathLst>
                <a:path w="264" h="673">
                  <a:moveTo>
                    <a:pt x="175" y="49"/>
                  </a:moveTo>
                  <a:lnTo>
                    <a:pt x="264" y="673"/>
                  </a:lnTo>
                  <a:lnTo>
                    <a:pt x="179" y="649"/>
                  </a:lnTo>
                  <a:lnTo>
                    <a:pt x="95" y="624"/>
                  </a:lnTo>
                  <a:lnTo>
                    <a:pt x="0" y="0"/>
                  </a:lnTo>
                  <a:lnTo>
                    <a:pt x="87" y="25"/>
                  </a:lnTo>
                  <a:lnTo>
                    <a:pt x="175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00760" y="6325920"/>
              <a:ext cx="16920" cy="21600"/>
            </a:xfrm>
            <a:custGeom>
              <a:avLst/>
              <a:gdLst/>
              <a:ahLst/>
              <a:rect l="l" t="t" r="r" b="b"/>
              <a:pathLst>
                <a:path w="266" h="681">
                  <a:moveTo>
                    <a:pt x="171" y="57"/>
                  </a:moveTo>
                  <a:lnTo>
                    <a:pt x="266" y="681"/>
                  </a:lnTo>
                  <a:lnTo>
                    <a:pt x="182" y="654"/>
                  </a:lnTo>
                  <a:lnTo>
                    <a:pt x="99" y="625"/>
                  </a:lnTo>
                  <a:lnTo>
                    <a:pt x="0" y="0"/>
                  </a:lnTo>
                  <a:lnTo>
                    <a:pt x="85" y="29"/>
                  </a:lnTo>
                  <a:lnTo>
                    <a:pt x="171" y="57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89960" y="6323760"/>
              <a:ext cx="16920" cy="21600"/>
            </a:xfrm>
            <a:custGeom>
              <a:avLst/>
              <a:gdLst/>
              <a:ahLst/>
              <a:rect l="l" t="t" r="r" b="b"/>
              <a:pathLst>
                <a:path w="269" h="690">
                  <a:moveTo>
                    <a:pt x="170" y="65"/>
                  </a:moveTo>
                  <a:lnTo>
                    <a:pt x="269" y="690"/>
                  </a:lnTo>
                  <a:lnTo>
                    <a:pt x="187" y="660"/>
                  </a:lnTo>
                  <a:lnTo>
                    <a:pt x="105" y="628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170" y="6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78800" y="6321960"/>
              <a:ext cx="16920" cy="21600"/>
            </a:xfrm>
            <a:custGeom>
              <a:avLst/>
              <a:gdLst/>
              <a:ahLst/>
              <a:rect l="l" t="t" r="r" b="b"/>
              <a:pathLst>
                <a:path w="270" h="700">
                  <a:moveTo>
                    <a:pt x="165" y="72"/>
                  </a:moveTo>
                  <a:lnTo>
                    <a:pt x="270" y="700"/>
                  </a:lnTo>
                  <a:lnTo>
                    <a:pt x="190" y="666"/>
                  </a:lnTo>
                  <a:lnTo>
                    <a:pt x="110" y="629"/>
                  </a:lnTo>
                  <a:lnTo>
                    <a:pt x="0" y="0"/>
                  </a:lnTo>
                  <a:lnTo>
                    <a:pt x="82" y="37"/>
                  </a:lnTo>
                  <a:lnTo>
                    <a:pt x="165" y="72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8720" y="6319440"/>
              <a:ext cx="17280" cy="22320"/>
            </a:xfrm>
            <a:custGeom>
              <a:avLst/>
              <a:gdLst/>
              <a:ahLst/>
              <a:rect l="l" t="t" r="r" b="b"/>
              <a:pathLst>
                <a:path w="270" h="709">
                  <a:moveTo>
                    <a:pt x="160" y="80"/>
                  </a:moveTo>
                  <a:lnTo>
                    <a:pt x="270" y="709"/>
                  </a:lnTo>
                  <a:lnTo>
                    <a:pt x="191" y="672"/>
                  </a:lnTo>
                  <a:lnTo>
                    <a:pt x="114" y="632"/>
                  </a:lnTo>
                  <a:lnTo>
                    <a:pt x="0" y="0"/>
                  </a:lnTo>
                  <a:lnTo>
                    <a:pt x="80" y="41"/>
                  </a:lnTo>
                  <a:lnTo>
                    <a:pt x="160" y="8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57920" y="6316560"/>
              <a:ext cx="18000" cy="22320"/>
            </a:xfrm>
            <a:custGeom>
              <a:avLst/>
              <a:gdLst/>
              <a:ahLst/>
              <a:rect l="l" t="t" r="r" b="b"/>
              <a:pathLst>
                <a:path w="270" h="719">
                  <a:moveTo>
                    <a:pt x="156" y="87"/>
                  </a:moveTo>
                  <a:lnTo>
                    <a:pt x="270" y="719"/>
                  </a:lnTo>
                  <a:lnTo>
                    <a:pt x="193" y="677"/>
                  </a:lnTo>
                  <a:lnTo>
                    <a:pt x="118" y="634"/>
                  </a:lnTo>
                  <a:lnTo>
                    <a:pt x="0" y="0"/>
                  </a:lnTo>
                  <a:lnTo>
                    <a:pt x="77" y="44"/>
                  </a:lnTo>
                  <a:lnTo>
                    <a:pt x="156" y="87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48920" y="6313320"/>
              <a:ext cx="17280" cy="22680"/>
            </a:xfrm>
            <a:custGeom>
              <a:avLst/>
              <a:gdLst/>
              <a:ahLst/>
              <a:rect l="l" t="t" r="r" b="b"/>
              <a:pathLst>
                <a:path w="268" h="730">
                  <a:moveTo>
                    <a:pt x="150" y="96"/>
                  </a:moveTo>
                  <a:lnTo>
                    <a:pt x="268" y="730"/>
                  </a:lnTo>
                  <a:lnTo>
                    <a:pt x="195" y="684"/>
                  </a:lnTo>
                  <a:lnTo>
                    <a:pt x="122" y="636"/>
                  </a:lnTo>
                  <a:lnTo>
                    <a:pt x="0" y="0"/>
                  </a:lnTo>
                  <a:lnTo>
                    <a:pt x="75" y="49"/>
                  </a:lnTo>
                  <a:lnTo>
                    <a:pt x="150" y="96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38840" y="6310080"/>
              <a:ext cx="16920" cy="23400"/>
            </a:xfrm>
            <a:custGeom>
              <a:avLst/>
              <a:gdLst/>
              <a:ahLst/>
              <a:rect l="l" t="t" r="r" b="b"/>
              <a:pathLst>
                <a:path w="268" h="740">
                  <a:moveTo>
                    <a:pt x="146" y="104"/>
                  </a:moveTo>
                  <a:lnTo>
                    <a:pt x="268" y="740"/>
                  </a:lnTo>
                  <a:lnTo>
                    <a:pt x="197" y="691"/>
                  </a:lnTo>
                  <a:lnTo>
                    <a:pt x="127" y="639"/>
                  </a:lnTo>
                  <a:lnTo>
                    <a:pt x="0" y="0"/>
                  </a:lnTo>
                  <a:lnTo>
                    <a:pt x="72" y="53"/>
                  </a:lnTo>
                  <a:lnTo>
                    <a:pt x="146" y="104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29840" y="6306840"/>
              <a:ext cx="16920" cy="23400"/>
            </a:xfrm>
            <a:custGeom>
              <a:avLst/>
              <a:gdLst/>
              <a:ahLst/>
              <a:rect l="l" t="t" r="r" b="b"/>
              <a:pathLst>
                <a:path w="265" h="752">
                  <a:moveTo>
                    <a:pt x="138" y="113"/>
                  </a:moveTo>
                  <a:lnTo>
                    <a:pt x="265" y="752"/>
                  </a:lnTo>
                  <a:lnTo>
                    <a:pt x="198" y="699"/>
                  </a:lnTo>
                  <a:lnTo>
                    <a:pt x="131" y="643"/>
                  </a:lnTo>
                  <a:lnTo>
                    <a:pt x="0" y="0"/>
                  </a:lnTo>
                  <a:lnTo>
                    <a:pt x="68" y="57"/>
                  </a:lnTo>
                  <a:lnTo>
                    <a:pt x="138" y="11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21560" y="6302880"/>
              <a:ext cx="17280" cy="24120"/>
            </a:xfrm>
            <a:custGeom>
              <a:avLst/>
              <a:gdLst/>
              <a:ahLst/>
              <a:rect l="l" t="t" r="r" b="b"/>
              <a:pathLst>
                <a:path w="263" h="764">
                  <a:moveTo>
                    <a:pt x="132" y="121"/>
                  </a:moveTo>
                  <a:lnTo>
                    <a:pt x="263" y="764"/>
                  </a:lnTo>
                  <a:lnTo>
                    <a:pt x="197" y="706"/>
                  </a:lnTo>
                  <a:lnTo>
                    <a:pt x="135" y="646"/>
                  </a:lnTo>
                  <a:lnTo>
                    <a:pt x="0" y="0"/>
                  </a:lnTo>
                  <a:lnTo>
                    <a:pt x="65" y="62"/>
                  </a:lnTo>
                  <a:lnTo>
                    <a:pt x="132" y="12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13280" y="6298920"/>
              <a:ext cx="17280" cy="24120"/>
            </a:xfrm>
            <a:custGeom>
              <a:avLst/>
              <a:gdLst/>
              <a:ahLst/>
              <a:rect l="l" t="t" r="r" b="b"/>
              <a:pathLst>
                <a:path w="260" h="776">
                  <a:moveTo>
                    <a:pt x="125" y="130"/>
                  </a:moveTo>
                  <a:lnTo>
                    <a:pt x="260" y="776"/>
                  </a:lnTo>
                  <a:lnTo>
                    <a:pt x="198" y="713"/>
                  </a:lnTo>
                  <a:lnTo>
                    <a:pt x="139" y="650"/>
                  </a:lnTo>
                  <a:lnTo>
                    <a:pt x="0" y="0"/>
                  </a:lnTo>
                  <a:lnTo>
                    <a:pt x="62" y="67"/>
                  </a:lnTo>
                  <a:lnTo>
                    <a:pt x="125" y="13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06080" y="6294240"/>
              <a:ext cx="16200" cy="24840"/>
            </a:xfrm>
            <a:custGeom>
              <a:avLst/>
              <a:gdLst/>
              <a:ahLst/>
              <a:rect l="l" t="t" r="r" b="b"/>
              <a:pathLst>
                <a:path w="256" h="788">
                  <a:moveTo>
                    <a:pt x="117" y="138"/>
                  </a:moveTo>
                  <a:lnTo>
                    <a:pt x="256" y="788"/>
                  </a:lnTo>
                  <a:lnTo>
                    <a:pt x="197" y="721"/>
                  </a:lnTo>
                  <a:lnTo>
                    <a:pt x="142" y="653"/>
                  </a:lnTo>
                  <a:lnTo>
                    <a:pt x="0" y="0"/>
                  </a:lnTo>
                  <a:lnTo>
                    <a:pt x="58" y="70"/>
                  </a:lnTo>
                  <a:lnTo>
                    <a:pt x="117" y="138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71520" y="6257880"/>
              <a:ext cx="20880" cy="21600"/>
            </a:xfrm>
            <a:custGeom>
              <a:avLst/>
              <a:gdLst/>
              <a:ahLst/>
              <a:rect l="l" t="t" r="r" b="b"/>
              <a:pathLst>
                <a:path w="332" h="686">
                  <a:moveTo>
                    <a:pt x="182" y="0"/>
                  </a:moveTo>
                  <a:lnTo>
                    <a:pt x="332" y="684"/>
                  </a:lnTo>
                  <a:lnTo>
                    <a:pt x="244" y="686"/>
                  </a:lnTo>
                  <a:lnTo>
                    <a:pt x="156" y="685"/>
                  </a:lnTo>
                  <a:lnTo>
                    <a:pt x="0" y="0"/>
                  </a:lnTo>
                  <a:lnTo>
                    <a:pt x="91" y="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59640" y="6257880"/>
              <a:ext cx="21600" cy="21600"/>
            </a:xfrm>
            <a:custGeom>
              <a:avLst/>
              <a:gdLst/>
              <a:ahLst/>
              <a:rect l="l" t="t" r="r" b="b"/>
              <a:pathLst>
                <a:path w="336" h="694">
                  <a:moveTo>
                    <a:pt x="180" y="9"/>
                  </a:moveTo>
                  <a:lnTo>
                    <a:pt x="336" y="694"/>
                  </a:lnTo>
                  <a:lnTo>
                    <a:pt x="249" y="689"/>
                  </a:lnTo>
                  <a:lnTo>
                    <a:pt x="161" y="684"/>
                  </a:lnTo>
                  <a:lnTo>
                    <a:pt x="0" y="0"/>
                  </a:lnTo>
                  <a:lnTo>
                    <a:pt x="90" y="6"/>
                  </a:lnTo>
                  <a:lnTo>
                    <a:pt x="180" y="9"/>
                  </a:lnTo>
                  <a:close/>
                </a:path>
              </a:pathLst>
            </a:custGeom>
            <a:solidFill>
              <a:srgbClr val="5f6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48120" y="6257520"/>
              <a:ext cx="21600" cy="21600"/>
            </a:xfrm>
            <a:custGeom>
              <a:avLst/>
              <a:gdLst/>
              <a:ahLst/>
              <a:rect l="l" t="t" r="r" b="b"/>
              <a:pathLst>
                <a:path w="341" h="704">
                  <a:moveTo>
                    <a:pt x="180" y="20"/>
                  </a:moveTo>
                  <a:lnTo>
                    <a:pt x="341" y="704"/>
                  </a:lnTo>
                  <a:lnTo>
                    <a:pt x="253" y="696"/>
                  </a:lnTo>
                  <a:lnTo>
                    <a:pt x="166" y="685"/>
                  </a:lnTo>
                  <a:lnTo>
                    <a:pt x="0" y="0"/>
                  </a:lnTo>
                  <a:lnTo>
                    <a:pt x="89" y="12"/>
                  </a:lnTo>
                  <a:lnTo>
                    <a:pt x="180" y="20"/>
                  </a:lnTo>
                  <a:close/>
                </a:path>
              </a:pathLst>
            </a:custGeom>
            <a:solidFill>
              <a:srgbClr val="55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35880" y="6256080"/>
              <a:ext cx="22680" cy="22320"/>
            </a:xfrm>
            <a:custGeom>
              <a:avLst/>
              <a:gdLst/>
              <a:ahLst/>
              <a:rect l="l" t="t" r="r" b="b"/>
              <a:pathLst>
                <a:path w="343" h="713">
                  <a:moveTo>
                    <a:pt x="177" y="28"/>
                  </a:moveTo>
                  <a:lnTo>
                    <a:pt x="343" y="713"/>
                  </a:lnTo>
                  <a:lnTo>
                    <a:pt x="257" y="700"/>
                  </a:lnTo>
                  <a:lnTo>
                    <a:pt x="171" y="685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77" y="28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25080" y="6255360"/>
              <a:ext cx="21600" cy="22320"/>
            </a:xfrm>
            <a:custGeom>
              <a:avLst/>
              <a:gdLst/>
              <a:ahLst/>
              <a:rect l="l" t="t" r="r" b="b"/>
              <a:pathLst>
                <a:path w="345" h="724">
                  <a:moveTo>
                    <a:pt x="174" y="39"/>
                  </a:moveTo>
                  <a:lnTo>
                    <a:pt x="345" y="724"/>
                  </a:lnTo>
                  <a:lnTo>
                    <a:pt x="261" y="707"/>
                  </a:lnTo>
                  <a:lnTo>
                    <a:pt x="177" y="686"/>
                  </a:lnTo>
                  <a:lnTo>
                    <a:pt x="0" y="0"/>
                  </a:lnTo>
                  <a:lnTo>
                    <a:pt x="87" y="20"/>
                  </a:lnTo>
                  <a:lnTo>
                    <a:pt x="174" y="39"/>
                  </a:lnTo>
                  <a:close/>
                </a:path>
              </a:pathLst>
            </a:custGeom>
            <a:solidFill>
              <a:srgbClr val="3f3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14280" y="6253560"/>
              <a:ext cx="21600" cy="23040"/>
            </a:xfrm>
            <a:custGeom>
              <a:avLst/>
              <a:gdLst/>
              <a:ahLst/>
              <a:rect l="l" t="t" r="r" b="b"/>
              <a:pathLst>
                <a:path w="348" h="735">
                  <a:moveTo>
                    <a:pt x="171" y="49"/>
                  </a:moveTo>
                  <a:lnTo>
                    <a:pt x="348" y="735"/>
                  </a:lnTo>
                  <a:lnTo>
                    <a:pt x="264" y="712"/>
                  </a:lnTo>
                  <a:lnTo>
                    <a:pt x="182" y="687"/>
                  </a:lnTo>
                  <a:lnTo>
                    <a:pt x="0" y="0"/>
                  </a:lnTo>
                  <a:lnTo>
                    <a:pt x="85" y="26"/>
                  </a:lnTo>
                  <a:lnTo>
                    <a:pt x="171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03480" y="6251400"/>
              <a:ext cx="21600" cy="23400"/>
            </a:xfrm>
            <a:custGeom>
              <a:avLst/>
              <a:gdLst/>
              <a:ahLst/>
              <a:rect l="l" t="t" r="r" b="b"/>
              <a:pathLst>
                <a:path w="347" h="747">
                  <a:moveTo>
                    <a:pt x="165" y="60"/>
                  </a:moveTo>
                  <a:lnTo>
                    <a:pt x="347" y="747"/>
                  </a:lnTo>
                  <a:lnTo>
                    <a:pt x="266" y="720"/>
                  </a:lnTo>
                  <a:lnTo>
                    <a:pt x="186" y="690"/>
                  </a:lnTo>
                  <a:lnTo>
                    <a:pt x="0" y="0"/>
                  </a:lnTo>
                  <a:lnTo>
                    <a:pt x="82" y="31"/>
                  </a:lnTo>
                  <a:lnTo>
                    <a:pt x="165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92320" y="6249600"/>
              <a:ext cx="22680" cy="23400"/>
            </a:xfrm>
            <a:custGeom>
              <a:avLst/>
              <a:gdLst/>
              <a:ahLst/>
              <a:rect l="l" t="t" r="r" b="b"/>
              <a:pathLst>
                <a:path w="347" h="759">
                  <a:moveTo>
                    <a:pt x="161" y="69"/>
                  </a:moveTo>
                  <a:lnTo>
                    <a:pt x="347" y="759"/>
                  </a:lnTo>
                  <a:lnTo>
                    <a:pt x="268" y="726"/>
                  </a:lnTo>
                  <a:lnTo>
                    <a:pt x="190" y="692"/>
                  </a:lnTo>
                  <a:lnTo>
                    <a:pt x="0" y="0"/>
                  </a:lnTo>
                  <a:lnTo>
                    <a:pt x="80" y="36"/>
                  </a:lnTo>
                  <a:lnTo>
                    <a:pt x="161" y="6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82240" y="6246720"/>
              <a:ext cx="22680" cy="24480"/>
            </a:xfrm>
            <a:custGeom>
              <a:avLst/>
              <a:gdLst/>
              <a:ahLst/>
              <a:rect l="l" t="t" r="r" b="b"/>
              <a:pathLst>
                <a:path w="345" h="771">
                  <a:moveTo>
                    <a:pt x="155" y="79"/>
                  </a:moveTo>
                  <a:lnTo>
                    <a:pt x="345" y="771"/>
                  </a:lnTo>
                  <a:lnTo>
                    <a:pt x="269" y="734"/>
                  </a:lnTo>
                  <a:lnTo>
                    <a:pt x="195" y="693"/>
                  </a:lnTo>
                  <a:lnTo>
                    <a:pt x="0" y="0"/>
                  </a:lnTo>
                  <a:lnTo>
                    <a:pt x="76" y="41"/>
                  </a:lnTo>
                  <a:lnTo>
                    <a:pt x="155" y="7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73240" y="6244200"/>
              <a:ext cx="21600" cy="24120"/>
            </a:xfrm>
            <a:custGeom>
              <a:avLst/>
              <a:gdLst/>
              <a:ahLst/>
              <a:rect l="l" t="t" r="r" b="b"/>
              <a:pathLst>
                <a:path w="344" h="782">
                  <a:moveTo>
                    <a:pt x="149" y="89"/>
                  </a:moveTo>
                  <a:lnTo>
                    <a:pt x="344" y="782"/>
                  </a:lnTo>
                  <a:lnTo>
                    <a:pt x="270" y="740"/>
                  </a:lnTo>
                  <a:lnTo>
                    <a:pt x="199" y="695"/>
                  </a:lnTo>
                  <a:lnTo>
                    <a:pt x="0" y="0"/>
                  </a:lnTo>
                  <a:lnTo>
                    <a:pt x="73" y="46"/>
                  </a:lnTo>
                  <a:lnTo>
                    <a:pt x="149" y="89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63520" y="6240960"/>
              <a:ext cx="22680" cy="24840"/>
            </a:xfrm>
            <a:custGeom>
              <a:avLst/>
              <a:gdLst/>
              <a:ahLst/>
              <a:rect l="l" t="t" r="r" b="b"/>
              <a:pathLst>
                <a:path w="340" h="795">
                  <a:moveTo>
                    <a:pt x="141" y="100"/>
                  </a:moveTo>
                  <a:lnTo>
                    <a:pt x="340" y="795"/>
                  </a:lnTo>
                  <a:lnTo>
                    <a:pt x="271" y="748"/>
                  </a:lnTo>
                  <a:lnTo>
                    <a:pt x="203" y="698"/>
                  </a:lnTo>
                  <a:lnTo>
                    <a:pt x="0" y="0"/>
                  </a:lnTo>
                  <a:lnTo>
                    <a:pt x="70" y="51"/>
                  </a:lnTo>
                  <a:lnTo>
                    <a:pt x="141" y="100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55240" y="6237720"/>
              <a:ext cx="21600" cy="25560"/>
            </a:xfrm>
            <a:custGeom>
              <a:avLst/>
              <a:gdLst/>
              <a:ahLst/>
              <a:rect l="l" t="t" r="r" b="b"/>
              <a:pathLst>
                <a:path w="336" h="809">
                  <a:moveTo>
                    <a:pt x="133" y="111"/>
                  </a:moveTo>
                  <a:lnTo>
                    <a:pt x="336" y="809"/>
                  </a:lnTo>
                  <a:lnTo>
                    <a:pt x="270" y="756"/>
                  </a:lnTo>
                  <a:lnTo>
                    <a:pt x="207" y="701"/>
                  </a:lnTo>
                  <a:lnTo>
                    <a:pt x="0" y="0"/>
                  </a:lnTo>
                  <a:lnTo>
                    <a:pt x="65" y="57"/>
                  </a:lnTo>
                  <a:lnTo>
                    <a:pt x="133" y="11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46960" y="6233760"/>
              <a:ext cx="21600" cy="25560"/>
            </a:xfrm>
            <a:custGeom>
              <a:avLst/>
              <a:gdLst/>
              <a:ahLst/>
              <a:rect l="l" t="t" r="r" b="b"/>
              <a:pathLst>
                <a:path w="331" h="822">
                  <a:moveTo>
                    <a:pt x="124" y="121"/>
                  </a:moveTo>
                  <a:lnTo>
                    <a:pt x="331" y="822"/>
                  </a:lnTo>
                  <a:lnTo>
                    <a:pt x="269" y="764"/>
                  </a:lnTo>
                  <a:lnTo>
                    <a:pt x="210" y="705"/>
                  </a:lnTo>
                  <a:lnTo>
                    <a:pt x="0" y="0"/>
                  </a:lnTo>
                  <a:lnTo>
                    <a:pt x="60" y="62"/>
                  </a:lnTo>
                  <a:lnTo>
                    <a:pt x="124" y="12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39760" y="6229800"/>
              <a:ext cx="20520" cy="25920"/>
            </a:xfrm>
            <a:custGeom>
              <a:avLst/>
              <a:gdLst/>
              <a:ahLst/>
              <a:rect l="l" t="t" r="r" b="b"/>
              <a:pathLst>
                <a:path w="325" h="837">
                  <a:moveTo>
                    <a:pt x="115" y="132"/>
                  </a:moveTo>
                  <a:lnTo>
                    <a:pt x="325" y="837"/>
                  </a:lnTo>
                  <a:lnTo>
                    <a:pt x="267" y="773"/>
                  </a:lnTo>
                  <a:lnTo>
                    <a:pt x="213" y="709"/>
                  </a:lnTo>
                  <a:lnTo>
                    <a:pt x="0" y="0"/>
                  </a:lnTo>
                  <a:lnTo>
                    <a:pt x="56" y="68"/>
                  </a:lnTo>
                  <a:lnTo>
                    <a:pt x="11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432560" y="6225120"/>
              <a:ext cx="20520" cy="27000"/>
            </a:xfrm>
            <a:custGeom>
              <a:avLst/>
              <a:gdLst/>
              <a:ahLst/>
              <a:rect l="l" t="t" r="r" b="b"/>
              <a:pathLst>
                <a:path w="319" h="850">
                  <a:moveTo>
                    <a:pt x="106" y="141"/>
                  </a:moveTo>
                  <a:lnTo>
                    <a:pt x="319" y="850"/>
                  </a:lnTo>
                  <a:lnTo>
                    <a:pt x="267" y="781"/>
                  </a:lnTo>
                  <a:lnTo>
                    <a:pt x="216" y="711"/>
                  </a:lnTo>
                  <a:lnTo>
                    <a:pt x="0" y="0"/>
                  </a:lnTo>
                  <a:lnTo>
                    <a:pt x="51" y="72"/>
                  </a:lnTo>
                  <a:lnTo>
                    <a:pt x="106" y="14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26800" y="6220440"/>
              <a:ext cx="19800" cy="27000"/>
            </a:xfrm>
            <a:custGeom>
              <a:avLst/>
              <a:gdLst/>
              <a:ahLst/>
              <a:rect l="l" t="t" r="r" b="b"/>
              <a:pathLst>
                <a:path w="310" h="864">
                  <a:moveTo>
                    <a:pt x="94" y="153"/>
                  </a:moveTo>
                  <a:lnTo>
                    <a:pt x="310" y="864"/>
                  </a:lnTo>
                  <a:lnTo>
                    <a:pt x="263" y="791"/>
                  </a:lnTo>
                  <a:lnTo>
                    <a:pt x="219" y="715"/>
                  </a:lnTo>
                  <a:lnTo>
                    <a:pt x="0" y="0"/>
                  </a:lnTo>
                  <a:lnTo>
                    <a:pt x="46" y="78"/>
                  </a:lnTo>
                  <a:lnTo>
                    <a:pt x="94" y="153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82320" y="6257880"/>
              <a:ext cx="12600" cy="22320"/>
            </a:xfrm>
            <a:custGeom>
              <a:avLst/>
              <a:gdLst/>
              <a:ahLst/>
              <a:rect l="l" t="t" r="r" b="b"/>
              <a:pathLst>
                <a:path w="187" h="722">
                  <a:moveTo>
                    <a:pt x="38" y="40"/>
                  </a:moveTo>
                  <a:lnTo>
                    <a:pt x="187" y="722"/>
                  </a:lnTo>
                  <a:lnTo>
                    <a:pt x="182" y="718"/>
                  </a:lnTo>
                  <a:lnTo>
                    <a:pt x="178" y="713"/>
                  </a:lnTo>
                  <a:lnTo>
                    <a:pt x="173" y="708"/>
                  </a:lnTo>
                  <a:lnTo>
                    <a:pt x="169" y="703"/>
                  </a:lnTo>
                  <a:lnTo>
                    <a:pt x="165" y="698"/>
                  </a:lnTo>
                  <a:lnTo>
                    <a:pt x="160" y="694"/>
                  </a:lnTo>
                  <a:lnTo>
                    <a:pt x="155" y="689"/>
                  </a:lnTo>
                  <a:lnTo>
                    <a:pt x="150" y="684"/>
                  </a:lnTo>
                  <a:lnTo>
                    <a:pt x="0" y="0"/>
                  </a:lnTo>
                  <a:lnTo>
                    <a:pt x="5" y="6"/>
                  </a:lnTo>
                  <a:lnTo>
                    <a:pt x="9" y="11"/>
                  </a:lnTo>
                  <a:lnTo>
                    <a:pt x="14" y="15"/>
                  </a:lnTo>
                  <a:lnTo>
                    <a:pt x="18" y="20"/>
                  </a:lnTo>
                  <a:lnTo>
                    <a:pt x="23" y="25"/>
                  </a:lnTo>
                  <a:lnTo>
                    <a:pt x="28" y="31"/>
                  </a:lnTo>
                  <a:lnTo>
                    <a:pt x="32" y="35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98880" y="6289560"/>
              <a:ext cx="16200" cy="25560"/>
            </a:xfrm>
            <a:custGeom>
              <a:avLst/>
              <a:gdLst/>
              <a:ahLst/>
              <a:rect l="l" t="t" r="r" b="b"/>
              <a:pathLst>
                <a:path w="246" h="814">
                  <a:moveTo>
                    <a:pt x="104" y="161"/>
                  </a:moveTo>
                  <a:lnTo>
                    <a:pt x="246" y="814"/>
                  </a:lnTo>
                  <a:lnTo>
                    <a:pt x="224" y="783"/>
                  </a:lnTo>
                  <a:lnTo>
                    <a:pt x="203" y="752"/>
                  </a:lnTo>
                  <a:lnTo>
                    <a:pt x="182" y="721"/>
                  </a:lnTo>
                  <a:lnTo>
                    <a:pt x="163" y="690"/>
                  </a:lnTo>
                  <a:lnTo>
                    <a:pt x="143" y="657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40" y="65"/>
                  </a:lnTo>
                  <a:lnTo>
                    <a:pt x="60" y="97"/>
                  </a:lnTo>
                  <a:lnTo>
                    <a:pt x="82" y="129"/>
                  </a:lnTo>
                  <a:lnTo>
                    <a:pt x="104" y="161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93480" y="6284520"/>
              <a:ext cx="14400" cy="25560"/>
            </a:xfrm>
            <a:custGeom>
              <a:avLst/>
              <a:gdLst/>
              <a:ahLst/>
              <a:rect l="l" t="t" r="r" b="b"/>
              <a:pathLst>
                <a:path w="232" h="822">
                  <a:moveTo>
                    <a:pt x="89" y="165"/>
                  </a:moveTo>
                  <a:lnTo>
                    <a:pt x="232" y="822"/>
                  </a:lnTo>
                  <a:lnTo>
                    <a:pt x="214" y="791"/>
                  </a:lnTo>
                  <a:lnTo>
                    <a:pt x="196" y="759"/>
                  </a:lnTo>
                  <a:lnTo>
                    <a:pt x="179" y="727"/>
                  </a:lnTo>
                  <a:lnTo>
                    <a:pt x="163" y="694"/>
                  </a:lnTo>
                  <a:lnTo>
                    <a:pt x="146" y="661"/>
                  </a:lnTo>
                  <a:lnTo>
                    <a:pt x="0" y="0"/>
                  </a:lnTo>
                  <a:lnTo>
                    <a:pt x="16" y="33"/>
                  </a:lnTo>
                  <a:lnTo>
                    <a:pt x="33" y="66"/>
                  </a:lnTo>
                  <a:lnTo>
                    <a:pt x="51" y="100"/>
                  </a:lnTo>
                  <a:lnTo>
                    <a:pt x="69" y="133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88080" y="6278040"/>
              <a:ext cx="14400" cy="26640"/>
            </a:xfrm>
            <a:custGeom>
              <a:avLst/>
              <a:gdLst/>
              <a:ahLst/>
              <a:rect l="l" t="t" r="r" b="b"/>
              <a:pathLst>
                <a:path w="226" h="869">
                  <a:moveTo>
                    <a:pt x="80" y="208"/>
                  </a:moveTo>
                  <a:lnTo>
                    <a:pt x="226" y="869"/>
                  </a:lnTo>
                  <a:lnTo>
                    <a:pt x="212" y="836"/>
                  </a:lnTo>
                  <a:lnTo>
                    <a:pt x="197" y="802"/>
                  </a:lnTo>
                  <a:lnTo>
                    <a:pt x="184" y="769"/>
                  </a:lnTo>
                  <a:lnTo>
                    <a:pt x="171" y="736"/>
                  </a:lnTo>
                  <a:lnTo>
                    <a:pt x="160" y="702"/>
                  </a:lnTo>
                  <a:lnTo>
                    <a:pt x="148" y="668"/>
                  </a:lnTo>
                  <a:lnTo>
                    <a:pt x="0" y="0"/>
                  </a:lnTo>
                  <a:lnTo>
                    <a:pt x="11" y="36"/>
                  </a:lnTo>
                  <a:lnTo>
                    <a:pt x="23" y="70"/>
                  </a:lnTo>
                  <a:lnTo>
                    <a:pt x="35" y="105"/>
                  </a:lnTo>
                  <a:lnTo>
                    <a:pt x="50" y="139"/>
                  </a:lnTo>
                  <a:lnTo>
                    <a:pt x="64" y="173"/>
                  </a:lnTo>
                  <a:lnTo>
                    <a:pt x="80" y="20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86280" y="6274800"/>
              <a:ext cx="11520" cy="24120"/>
            </a:xfrm>
            <a:custGeom>
              <a:avLst/>
              <a:gdLst/>
              <a:ahLst/>
              <a:rect l="l" t="t" r="r" b="b"/>
              <a:pathLst>
                <a:path w="177" h="774">
                  <a:moveTo>
                    <a:pt x="29" y="106"/>
                  </a:moveTo>
                  <a:lnTo>
                    <a:pt x="177" y="774"/>
                  </a:lnTo>
                  <a:lnTo>
                    <a:pt x="167" y="740"/>
                  </a:lnTo>
                  <a:lnTo>
                    <a:pt x="158" y="705"/>
                  </a:lnTo>
                  <a:lnTo>
                    <a:pt x="150" y="670"/>
                  </a:lnTo>
                  <a:lnTo>
                    <a:pt x="0" y="0"/>
                  </a:lnTo>
                  <a:lnTo>
                    <a:pt x="8" y="36"/>
                  </a:lnTo>
                  <a:lnTo>
                    <a:pt x="18" y="71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22480" y="6215400"/>
              <a:ext cx="18000" cy="27360"/>
            </a:xfrm>
            <a:custGeom>
              <a:avLst/>
              <a:gdLst/>
              <a:ahLst/>
              <a:rect l="l" t="t" r="r" b="b"/>
              <a:pathLst>
                <a:path w="289" h="872">
                  <a:moveTo>
                    <a:pt x="70" y="157"/>
                  </a:moveTo>
                  <a:lnTo>
                    <a:pt x="289" y="872"/>
                  </a:lnTo>
                  <a:lnTo>
                    <a:pt x="265" y="821"/>
                  </a:lnTo>
                  <a:lnTo>
                    <a:pt x="242" y="771"/>
                  </a:lnTo>
                  <a:lnTo>
                    <a:pt x="221" y="720"/>
                  </a:lnTo>
                  <a:lnTo>
                    <a:pt x="0" y="0"/>
                  </a:lnTo>
                  <a:lnTo>
                    <a:pt x="22" y="53"/>
                  </a:lnTo>
                  <a:lnTo>
                    <a:pt x="45" y="105"/>
                  </a:lnTo>
                  <a:lnTo>
                    <a:pt x="70" y="157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18880" y="6210720"/>
              <a:ext cx="16920" cy="27360"/>
            </a:xfrm>
            <a:custGeom>
              <a:avLst/>
              <a:gdLst/>
              <a:ahLst/>
              <a:rect l="l" t="t" r="r" b="b"/>
              <a:pathLst>
                <a:path w="274" h="875">
                  <a:moveTo>
                    <a:pt x="53" y="155"/>
                  </a:moveTo>
                  <a:lnTo>
                    <a:pt x="274" y="875"/>
                  </a:lnTo>
                  <a:lnTo>
                    <a:pt x="255" y="824"/>
                  </a:lnTo>
                  <a:lnTo>
                    <a:pt x="238" y="774"/>
                  </a:lnTo>
                  <a:lnTo>
                    <a:pt x="221" y="724"/>
                  </a:lnTo>
                  <a:lnTo>
                    <a:pt x="0" y="0"/>
                  </a:lnTo>
                  <a:lnTo>
                    <a:pt x="16" y="52"/>
                  </a:lnTo>
                  <a:lnTo>
                    <a:pt x="33" y="103"/>
                  </a:lnTo>
                  <a:lnTo>
                    <a:pt x="53" y="155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0560" y="6132960"/>
              <a:ext cx="19080" cy="28800"/>
            </a:xfrm>
            <a:custGeom>
              <a:avLst/>
              <a:gdLst/>
              <a:ahLst/>
              <a:rect l="l" t="t" r="r" b="b"/>
              <a:pathLst>
                <a:path w="289" h="914">
                  <a:moveTo>
                    <a:pt x="125" y="132"/>
                  </a:moveTo>
                  <a:lnTo>
                    <a:pt x="289" y="914"/>
                  </a:lnTo>
                  <a:lnTo>
                    <a:pt x="256" y="883"/>
                  </a:lnTo>
                  <a:lnTo>
                    <a:pt x="225" y="851"/>
                  </a:lnTo>
                  <a:lnTo>
                    <a:pt x="195" y="818"/>
                  </a:lnTo>
                  <a:lnTo>
                    <a:pt x="168" y="785"/>
                  </a:lnTo>
                  <a:lnTo>
                    <a:pt x="0" y="0"/>
                  </a:lnTo>
                  <a:lnTo>
                    <a:pt x="29" y="33"/>
                  </a:lnTo>
                  <a:lnTo>
                    <a:pt x="60" y="67"/>
                  </a:lnTo>
                  <a:lnTo>
                    <a:pt x="92" y="100"/>
                  </a:lnTo>
                  <a:lnTo>
                    <a:pt x="12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32640" y="6127560"/>
              <a:ext cx="18720" cy="30240"/>
            </a:xfrm>
            <a:custGeom>
              <a:avLst/>
              <a:gdLst/>
              <a:ahLst/>
              <a:rect l="l" t="t" r="r" b="b"/>
              <a:pathLst>
                <a:path w="288" h="961">
                  <a:moveTo>
                    <a:pt x="120" y="176"/>
                  </a:moveTo>
                  <a:lnTo>
                    <a:pt x="288" y="961"/>
                  </a:lnTo>
                  <a:lnTo>
                    <a:pt x="261" y="928"/>
                  </a:lnTo>
                  <a:lnTo>
                    <a:pt x="236" y="894"/>
                  </a:lnTo>
                  <a:lnTo>
                    <a:pt x="213" y="860"/>
                  </a:lnTo>
                  <a:lnTo>
                    <a:pt x="191" y="826"/>
                  </a:lnTo>
                  <a:lnTo>
                    <a:pt x="171" y="790"/>
                  </a:lnTo>
                  <a:lnTo>
                    <a:pt x="0" y="0"/>
                  </a:lnTo>
                  <a:lnTo>
                    <a:pt x="21" y="36"/>
                  </a:lnTo>
                  <a:lnTo>
                    <a:pt x="43" y="72"/>
                  </a:lnTo>
                  <a:lnTo>
                    <a:pt x="68" y="107"/>
                  </a:lnTo>
                  <a:lnTo>
                    <a:pt x="94" y="141"/>
                  </a:lnTo>
                  <a:lnTo>
                    <a:pt x="120" y="176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27960" y="6121800"/>
              <a:ext cx="16200" cy="30600"/>
            </a:xfrm>
            <a:custGeom>
              <a:avLst/>
              <a:gdLst/>
              <a:ahLst/>
              <a:rect l="l" t="t" r="r" b="b"/>
              <a:pathLst>
                <a:path w="252" h="978">
                  <a:moveTo>
                    <a:pt x="81" y="188"/>
                  </a:moveTo>
                  <a:lnTo>
                    <a:pt x="252" y="978"/>
                  </a:lnTo>
                  <a:lnTo>
                    <a:pt x="232" y="942"/>
                  </a:lnTo>
                  <a:lnTo>
                    <a:pt x="216" y="906"/>
                  </a:lnTo>
                  <a:lnTo>
                    <a:pt x="199" y="870"/>
                  </a:lnTo>
                  <a:lnTo>
                    <a:pt x="186" y="833"/>
                  </a:lnTo>
                  <a:lnTo>
                    <a:pt x="173" y="795"/>
                  </a:lnTo>
                  <a:lnTo>
                    <a:pt x="0" y="0"/>
                  </a:lnTo>
                  <a:lnTo>
                    <a:pt x="14" y="39"/>
                  </a:lnTo>
                  <a:lnTo>
                    <a:pt x="28" y="76"/>
                  </a:lnTo>
                  <a:lnTo>
                    <a:pt x="43" y="114"/>
                  </a:lnTo>
                  <a:lnTo>
                    <a:pt x="62" y="151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26160" y="6119280"/>
              <a:ext cx="12600" cy="27360"/>
            </a:xfrm>
            <a:custGeom>
              <a:avLst/>
              <a:gdLst/>
              <a:ahLst/>
              <a:rect l="l" t="t" r="r" b="b"/>
              <a:pathLst>
                <a:path w="193" h="873">
                  <a:moveTo>
                    <a:pt x="20" y="78"/>
                  </a:moveTo>
                  <a:lnTo>
                    <a:pt x="193" y="873"/>
                  </a:lnTo>
                  <a:lnTo>
                    <a:pt x="182" y="836"/>
                  </a:lnTo>
                  <a:lnTo>
                    <a:pt x="173" y="798"/>
                  </a:lnTo>
                  <a:lnTo>
                    <a:pt x="0" y="0"/>
                  </a:lnTo>
                  <a:lnTo>
                    <a:pt x="9" y="40"/>
                  </a:lnTo>
                  <a:lnTo>
                    <a:pt x="20" y="78"/>
                  </a:lnTo>
                  <a:close/>
                </a:path>
              </a:pathLst>
            </a:custGeom>
            <a:solidFill>
              <a:srgbClr val="262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414200" y="6019920"/>
              <a:ext cx="1065960" cy="360720"/>
            </a:xfrm>
            <a:custGeom>
              <a:avLst/>
              <a:gdLst/>
              <a:ahLst/>
              <a:rect l="l" t="t" r="r" b="b"/>
              <a:pathLst>
                <a:path w="16408" h="11518">
                  <a:moveTo>
                    <a:pt x="12894" y="1455"/>
                  </a:moveTo>
                  <a:lnTo>
                    <a:pt x="12992" y="1452"/>
                  </a:lnTo>
                  <a:lnTo>
                    <a:pt x="13091" y="1453"/>
                  </a:lnTo>
                  <a:lnTo>
                    <a:pt x="13190" y="1456"/>
                  </a:lnTo>
                  <a:lnTo>
                    <a:pt x="13290" y="1463"/>
                  </a:lnTo>
                  <a:lnTo>
                    <a:pt x="13391" y="1473"/>
                  </a:lnTo>
                  <a:lnTo>
                    <a:pt x="13490" y="1485"/>
                  </a:lnTo>
                  <a:lnTo>
                    <a:pt x="13591" y="1501"/>
                  </a:lnTo>
                  <a:lnTo>
                    <a:pt x="13690" y="1519"/>
                  </a:lnTo>
                  <a:lnTo>
                    <a:pt x="13790" y="1541"/>
                  </a:lnTo>
                  <a:lnTo>
                    <a:pt x="13888" y="1566"/>
                  </a:lnTo>
                  <a:lnTo>
                    <a:pt x="13987" y="1594"/>
                  </a:lnTo>
                  <a:lnTo>
                    <a:pt x="14083" y="1626"/>
                  </a:lnTo>
                  <a:lnTo>
                    <a:pt x="14179" y="1659"/>
                  </a:lnTo>
                  <a:lnTo>
                    <a:pt x="14273" y="1696"/>
                  </a:lnTo>
                  <a:lnTo>
                    <a:pt x="14365" y="1737"/>
                  </a:lnTo>
                  <a:lnTo>
                    <a:pt x="14455" y="1781"/>
                  </a:lnTo>
                  <a:lnTo>
                    <a:pt x="14545" y="1828"/>
                  </a:lnTo>
                  <a:lnTo>
                    <a:pt x="14631" y="1878"/>
                  </a:lnTo>
                  <a:lnTo>
                    <a:pt x="14715" y="1931"/>
                  </a:lnTo>
                  <a:lnTo>
                    <a:pt x="14797" y="1987"/>
                  </a:lnTo>
                  <a:lnTo>
                    <a:pt x="14876" y="2046"/>
                  </a:lnTo>
                  <a:lnTo>
                    <a:pt x="14952" y="2109"/>
                  </a:lnTo>
                  <a:lnTo>
                    <a:pt x="15026" y="2174"/>
                  </a:lnTo>
                  <a:lnTo>
                    <a:pt x="15095" y="2244"/>
                  </a:lnTo>
                  <a:lnTo>
                    <a:pt x="15162" y="2316"/>
                  </a:lnTo>
                  <a:lnTo>
                    <a:pt x="15225" y="2392"/>
                  </a:lnTo>
                  <a:lnTo>
                    <a:pt x="15283" y="2471"/>
                  </a:lnTo>
                  <a:lnTo>
                    <a:pt x="15338" y="2554"/>
                  </a:lnTo>
                  <a:lnTo>
                    <a:pt x="15389" y="2639"/>
                  </a:lnTo>
                  <a:lnTo>
                    <a:pt x="15436" y="2727"/>
                  </a:lnTo>
                  <a:lnTo>
                    <a:pt x="15478" y="2820"/>
                  </a:lnTo>
                  <a:lnTo>
                    <a:pt x="15515" y="2915"/>
                  </a:lnTo>
                  <a:lnTo>
                    <a:pt x="15530" y="2973"/>
                  </a:lnTo>
                  <a:lnTo>
                    <a:pt x="15544" y="3031"/>
                  </a:lnTo>
                  <a:lnTo>
                    <a:pt x="15555" y="3088"/>
                  </a:lnTo>
                  <a:lnTo>
                    <a:pt x="15563" y="3144"/>
                  </a:lnTo>
                  <a:lnTo>
                    <a:pt x="15569" y="3199"/>
                  </a:lnTo>
                  <a:lnTo>
                    <a:pt x="15573" y="3255"/>
                  </a:lnTo>
                  <a:lnTo>
                    <a:pt x="15575" y="3310"/>
                  </a:lnTo>
                  <a:lnTo>
                    <a:pt x="15575" y="3364"/>
                  </a:lnTo>
                  <a:lnTo>
                    <a:pt x="15572" y="3417"/>
                  </a:lnTo>
                  <a:lnTo>
                    <a:pt x="15568" y="3470"/>
                  </a:lnTo>
                  <a:lnTo>
                    <a:pt x="15561" y="3522"/>
                  </a:lnTo>
                  <a:lnTo>
                    <a:pt x="15553" y="3573"/>
                  </a:lnTo>
                  <a:lnTo>
                    <a:pt x="15541" y="3624"/>
                  </a:lnTo>
                  <a:lnTo>
                    <a:pt x="15528" y="3674"/>
                  </a:lnTo>
                  <a:lnTo>
                    <a:pt x="15514" y="3724"/>
                  </a:lnTo>
                  <a:lnTo>
                    <a:pt x="15496" y="3773"/>
                  </a:lnTo>
                  <a:lnTo>
                    <a:pt x="15478" y="3821"/>
                  </a:lnTo>
                  <a:lnTo>
                    <a:pt x="15456" y="3868"/>
                  </a:lnTo>
                  <a:lnTo>
                    <a:pt x="15434" y="3915"/>
                  </a:lnTo>
                  <a:lnTo>
                    <a:pt x="15409" y="3960"/>
                  </a:lnTo>
                  <a:lnTo>
                    <a:pt x="15383" y="4005"/>
                  </a:lnTo>
                  <a:lnTo>
                    <a:pt x="15355" y="4049"/>
                  </a:lnTo>
                  <a:lnTo>
                    <a:pt x="15324" y="4093"/>
                  </a:lnTo>
                  <a:lnTo>
                    <a:pt x="15292" y="4135"/>
                  </a:lnTo>
                  <a:lnTo>
                    <a:pt x="15259" y="4177"/>
                  </a:lnTo>
                  <a:lnTo>
                    <a:pt x="15224" y="4219"/>
                  </a:lnTo>
                  <a:lnTo>
                    <a:pt x="15187" y="4258"/>
                  </a:lnTo>
                  <a:lnTo>
                    <a:pt x="15149" y="4298"/>
                  </a:lnTo>
                  <a:lnTo>
                    <a:pt x="15108" y="4336"/>
                  </a:lnTo>
                  <a:lnTo>
                    <a:pt x="15067" y="4374"/>
                  </a:lnTo>
                  <a:lnTo>
                    <a:pt x="15023" y="4410"/>
                  </a:lnTo>
                  <a:lnTo>
                    <a:pt x="14978" y="4447"/>
                  </a:lnTo>
                  <a:lnTo>
                    <a:pt x="15048" y="4466"/>
                  </a:lnTo>
                  <a:lnTo>
                    <a:pt x="15117" y="4487"/>
                  </a:lnTo>
                  <a:lnTo>
                    <a:pt x="15186" y="4510"/>
                  </a:lnTo>
                  <a:lnTo>
                    <a:pt x="15252" y="4534"/>
                  </a:lnTo>
                  <a:lnTo>
                    <a:pt x="15318" y="4561"/>
                  </a:lnTo>
                  <a:lnTo>
                    <a:pt x="15381" y="4588"/>
                  </a:lnTo>
                  <a:lnTo>
                    <a:pt x="15444" y="4619"/>
                  </a:lnTo>
                  <a:lnTo>
                    <a:pt x="15506" y="4650"/>
                  </a:lnTo>
                  <a:lnTo>
                    <a:pt x="15566" y="4683"/>
                  </a:lnTo>
                  <a:lnTo>
                    <a:pt x="15625" y="4718"/>
                  </a:lnTo>
                  <a:lnTo>
                    <a:pt x="15681" y="4755"/>
                  </a:lnTo>
                  <a:lnTo>
                    <a:pt x="15736" y="4793"/>
                  </a:lnTo>
                  <a:lnTo>
                    <a:pt x="15790" y="4833"/>
                  </a:lnTo>
                  <a:lnTo>
                    <a:pt x="15841" y="4875"/>
                  </a:lnTo>
                  <a:lnTo>
                    <a:pt x="15891" y="4919"/>
                  </a:lnTo>
                  <a:lnTo>
                    <a:pt x="15939" y="4964"/>
                  </a:lnTo>
                  <a:lnTo>
                    <a:pt x="15985" y="5011"/>
                  </a:lnTo>
                  <a:lnTo>
                    <a:pt x="16030" y="5060"/>
                  </a:lnTo>
                  <a:lnTo>
                    <a:pt x="16072" y="5111"/>
                  </a:lnTo>
                  <a:lnTo>
                    <a:pt x="16112" y="5164"/>
                  </a:lnTo>
                  <a:lnTo>
                    <a:pt x="16150" y="5219"/>
                  </a:lnTo>
                  <a:lnTo>
                    <a:pt x="16184" y="5275"/>
                  </a:lnTo>
                  <a:lnTo>
                    <a:pt x="16218" y="5333"/>
                  </a:lnTo>
                  <a:lnTo>
                    <a:pt x="16249" y="5392"/>
                  </a:lnTo>
                  <a:lnTo>
                    <a:pt x="16278" y="5455"/>
                  </a:lnTo>
                  <a:lnTo>
                    <a:pt x="16303" y="5518"/>
                  </a:lnTo>
                  <a:lnTo>
                    <a:pt x="16327" y="5584"/>
                  </a:lnTo>
                  <a:lnTo>
                    <a:pt x="16349" y="5651"/>
                  </a:lnTo>
                  <a:lnTo>
                    <a:pt x="16367" y="5720"/>
                  </a:lnTo>
                  <a:lnTo>
                    <a:pt x="16382" y="5791"/>
                  </a:lnTo>
                  <a:lnTo>
                    <a:pt x="16396" y="5864"/>
                  </a:lnTo>
                  <a:lnTo>
                    <a:pt x="16406" y="5939"/>
                  </a:lnTo>
                  <a:lnTo>
                    <a:pt x="16408" y="6053"/>
                  </a:lnTo>
                  <a:lnTo>
                    <a:pt x="16404" y="6164"/>
                  </a:lnTo>
                  <a:lnTo>
                    <a:pt x="16395" y="6273"/>
                  </a:lnTo>
                  <a:lnTo>
                    <a:pt x="16378" y="6381"/>
                  </a:lnTo>
                  <a:lnTo>
                    <a:pt x="16357" y="6487"/>
                  </a:lnTo>
                  <a:lnTo>
                    <a:pt x="16329" y="6591"/>
                  </a:lnTo>
                  <a:lnTo>
                    <a:pt x="16296" y="6692"/>
                  </a:lnTo>
                  <a:lnTo>
                    <a:pt x="16258" y="6792"/>
                  </a:lnTo>
                  <a:lnTo>
                    <a:pt x="16215" y="6889"/>
                  </a:lnTo>
                  <a:lnTo>
                    <a:pt x="16167" y="6985"/>
                  </a:lnTo>
                  <a:lnTo>
                    <a:pt x="16115" y="7077"/>
                  </a:lnTo>
                  <a:lnTo>
                    <a:pt x="16058" y="7169"/>
                  </a:lnTo>
                  <a:lnTo>
                    <a:pt x="15997" y="7258"/>
                  </a:lnTo>
                  <a:lnTo>
                    <a:pt x="15932" y="7343"/>
                  </a:lnTo>
                  <a:lnTo>
                    <a:pt x="15862" y="7427"/>
                  </a:lnTo>
                  <a:lnTo>
                    <a:pt x="15791" y="7509"/>
                  </a:lnTo>
                  <a:lnTo>
                    <a:pt x="15715" y="7588"/>
                  </a:lnTo>
                  <a:lnTo>
                    <a:pt x="15635" y="7664"/>
                  </a:lnTo>
                  <a:lnTo>
                    <a:pt x="15553" y="7738"/>
                  </a:lnTo>
                  <a:lnTo>
                    <a:pt x="15468" y="7809"/>
                  </a:lnTo>
                  <a:lnTo>
                    <a:pt x="15380" y="7877"/>
                  </a:lnTo>
                  <a:lnTo>
                    <a:pt x="15290" y="7943"/>
                  </a:lnTo>
                  <a:lnTo>
                    <a:pt x="15198" y="8005"/>
                  </a:lnTo>
                  <a:lnTo>
                    <a:pt x="15104" y="8065"/>
                  </a:lnTo>
                  <a:lnTo>
                    <a:pt x="15008" y="8122"/>
                  </a:lnTo>
                  <a:lnTo>
                    <a:pt x="14910" y="8176"/>
                  </a:lnTo>
                  <a:lnTo>
                    <a:pt x="14811" y="8227"/>
                  </a:lnTo>
                  <a:lnTo>
                    <a:pt x="14711" y="8276"/>
                  </a:lnTo>
                  <a:lnTo>
                    <a:pt x="14610" y="8321"/>
                  </a:lnTo>
                  <a:lnTo>
                    <a:pt x="14508" y="8363"/>
                  </a:lnTo>
                  <a:lnTo>
                    <a:pt x="14406" y="8401"/>
                  </a:lnTo>
                  <a:lnTo>
                    <a:pt x="14303" y="8436"/>
                  </a:lnTo>
                  <a:lnTo>
                    <a:pt x="14269" y="8448"/>
                  </a:lnTo>
                  <a:lnTo>
                    <a:pt x="14234" y="8457"/>
                  </a:lnTo>
                  <a:lnTo>
                    <a:pt x="14199" y="8468"/>
                  </a:lnTo>
                  <a:lnTo>
                    <a:pt x="14165" y="8477"/>
                  </a:lnTo>
                  <a:lnTo>
                    <a:pt x="14130" y="8486"/>
                  </a:lnTo>
                  <a:lnTo>
                    <a:pt x="14095" y="8496"/>
                  </a:lnTo>
                  <a:lnTo>
                    <a:pt x="14062" y="8504"/>
                  </a:lnTo>
                  <a:lnTo>
                    <a:pt x="14027" y="8513"/>
                  </a:lnTo>
                  <a:lnTo>
                    <a:pt x="13992" y="8520"/>
                  </a:lnTo>
                  <a:lnTo>
                    <a:pt x="13957" y="8528"/>
                  </a:lnTo>
                  <a:lnTo>
                    <a:pt x="13923" y="8535"/>
                  </a:lnTo>
                  <a:lnTo>
                    <a:pt x="13888" y="8542"/>
                  </a:lnTo>
                  <a:lnTo>
                    <a:pt x="13853" y="8549"/>
                  </a:lnTo>
                  <a:lnTo>
                    <a:pt x="13819" y="8555"/>
                  </a:lnTo>
                  <a:lnTo>
                    <a:pt x="13784" y="8560"/>
                  </a:lnTo>
                  <a:lnTo>
                    <a:pt x="13749" y="8567"/>
                  </a:lnTo>
                  <a:lnTo>
                    <a:pt x="13713" y="8572"/>
                  </a:lnTo>
                  <a:lnTo>
                    <a:pt x="13678" y="8576"/>
                  </a:lnTo>
                  <a:lnTo>
                    <a:pt x="13643" y="8581"/>
                  </a:lnTo>
                  <a:lnTo>
                    <a:pt x="13608" y="8585"/>
                  </a:lnTo>
                  <a:lnTo>
                    <a:pt x="13572" y="8590"/>
                  </a:lnTo>
                  <a:lnTo>
                    <a:pt x="13538" y="8593"/>
                  </a:lnTo>
                  <a:lnTo>
                    <a:pt x="13502" y="8596"/>
                  </a:lnTo>
                  <a:lnTo>
                    <a:pt x="13466" y="8599"/>
                  </a:lnTo>
                  <a:lnTo>
                    <a:pt x="13431" y="8601"/>
                  </a:lnTo>
                  <a:lnTo>
                    <a:pt x="13395" y="8603"/>
                  </a:lnTo>
                  <a:lnTo>
                    <a:pt x="13359" y="8605"/>
                  </a:lnTo>
                  <a:lnTo>
                    <a:pt x="13323" y="8606"/>
                  </a:lnTo>
                  <a:lnTo>
                    <a:pt x="13287" y="8607"/>
                  </a:lnTo>
                  <a:lnTo>
                    <a:pt x="13250" y="8608"/>
                  </a:lnTo>
                  <a:lnTo>
                    <a:pt x="13215" y="8608"/>
                  </a:lnTo>
                  <a:lnTo>
                    <a:pt x="13179" y="8608"/>
                  </a:lnTo>
                  <a:lnTo>
                    <a:pt x="13156" y="8703"/>
                  </a:lnTo>
                  <a:lnTo>
                    <a:pt x="13132" y="8797"/>
                  </a:lnTo>
                  <a:lnTo>
                    <a:pt x="13105" y="8888"/>
                  </a:lnTo>
                  <a:lnTo>
                    <a:pt x="13075" y="8978"/>
                  </a:lnTo>
                  <a:lnTo>
                    <a:pt x="13042" y="9067"/>
                  </a:lnTo>
                  <a:lnTo>
                    <a:pt x="13006" y="9154"/>
                  </a:lnTo>
                  <a:lnTo>
                    <a:pt x="12969" y="9239"/>
                  </a:lnTo>
                  <a:lnTo>
                    <a:pt x="12928" y="9323"/>
                  </a:lnTo>
                  <a:lnTo>
                    <a:pt x="12886" y="9406"/>
                  </a:lnTo>
                  <a:lnTo>
                    <a:pt x="12840" y="9486"/>
                  </a:lnTo>
                  <a:lnTo>
                    <a:pt x="12793" y="9565"/>
                  </a:lnTo>
                  <a:lnTo>
                    <a:pt x="12744" y="9643"/>
                  </a:lnTo>
                  <a:lnTo>
                    <a:pt x="12692" y="9719"/>
                  </a:lnTo>
                  <a:lnTo>
                    <a:pt x="12637" y="9794"/>
                  </a:lnTo>
                  <a:lnTo>
                    <a:pt x="12581" y="9867"/>
                  </a:lnTo>
                  <a:lnTo>
                    <a:pt x="12522" y="9939"/>
                  </a:lnTo>
                  <a:lnTo>
                    <a:pt x="12462" y="10010"/>
                  </a:lnTo>
                  <a:lnTo>
                    <a:pt x="12399" y="10079"/>
                  </a:lnTo>
                  <a:lnTo>
                    <a:pt x="12336" y="10146"/>
                  </a:lnTo>
                  <a:lnTo>
                    <a:pt x="12269" y="10212"/>
                  </a:lnTo>
                  <a:lnTo>
                    <a:pt x="12201" y="10277"/>
                  </a:lnTo>
                  <a:lnTo>
                    <a:pt x="12132" y="10339"/>
                  </a:lnTo>
                  <a:lnTo>
                    <a:pt x="12060" y="10401"/>
                  </a:lnTo>
                  <a:lnTo>
                    <a:pt x="11987" y="10461"/>
                  </a:lnTo>
                  <a:lnTo>
                    <a:pt x="11912" y="10519"/>
                  </a:lnTo>
                  <a:lnTo>
                    <a:pt x="11836" y="10577"/>
                  </a:lnTo>
                  <a:lnTo>
                    <a:pt x="11758" y="10632"/>
                  </a:lnTo>
                  <a:lnTo>
                    <a:pt x="11679" y="10686"/>
                  </a:lnTo>
                  <a:lnTo>
                    <a:pt x="11599" y="10739"/>
                  </a:lnTo>
                  <a:lnTo>
                    <a:pt x="11517" y="10791"/>
                  </a:lnTo>
                  <a:lnTo>
                    <a:pt x="11434" y="10841"/>
                  </a:lnTo>
                  <a:lnTo>
                    <a:pt x="11350" y="10889"/>
                  </a:lnTo>
                  <a:lnTo>
                    <a:pt x="11320" y="10905"/>
                  </a:lnTo>
                  <a:lnTo>
                    <a:pt x="11292" y="10920"/>
                  </a:lnTo>
                  <a:lnTo>
                    <a:pt x="11262" y="10936"/>
                  </a:lnTo>
                  <a:lnTo>
                    <a:pt x="11232" y="10950"/>
                  </a:lnTo>
                  <a:lnTo>
                    <a:pt x="11203" y="10965"/>
                  </a:lnTo>
                  <a:lnTo>
                    <a:pt x="11174" y="10980"/>
                  </a:lnTo>
                  <a:lnTo>
                    <a:pt x="11144" y="10994"/>
                  </a:lnTo>
                  <a:lnTo>
                    <a:pt x="11114" y="11009"/>
                  </a:lnTo>
                  <a:lnTo>
                    <a:pt x="11084" y="11023"/>
                  </a:lnTo>
                  <a:lnTo>
                    <a:pt x="11054" y="11037"/>
                  </a:lnTo>
                  <a:lnTo>
                    <a:pt x="11024" y="11050"/>
                  </a:lnTo>
                  <a:lnTo>
                    <a:pt x="10994" y="11065"/>
                  </a:lnTo>
                  <a:lnTo>
                    <a:pt x="10964" y="11079"/>
                  </a:lnTo>
                  <a:lnTo>
                    <a:pt x="10934" y="11092"/>
                  </a:lnTo>
                  <a:lnTo>
                    <a:pt x="10903" y="11106"/>
                  </a:lnTo>
                  <a:lnTo>
                    <a:pt x="10872" y="11119"/>
                  </a:lnTo>
                  <a:lnTo>
                    <a:pt x="10805" y="11145"/>
                  </a:lnTo>
                  <a:lnTo>
                    <a:pt x="10737" y="11171"/>
                  </a:lnTo>
                  <a:lnTo>
                    <a:pt x="10668" y="11195"/>
                  </a:lnTo>
                  <a:lnTo>
                    <a:pt x="10601" y="11219"/>
                  </a:lnTo>
                  <a:lnTo>
                    <a:pt x="10533" y="11241"/>
                  </a:lnTo>
                  <a:lnTo>
                    <a:pt x="10466" y="11263"/>
                  </a:lnTo>
                  <a:lnTo>
                    <a:pt x="10399" y="11284"/>
                  </a:lnTo>
                  <a:lnTo>
                    <a:pt x="10331" y="11303"/>
                  </a:lnTo>
                  <a:lnTo>
                    <a:pt x="10263" y="11322"/>
                  </a:lnTo>
                  <a:lnTo>
                    <a:pt x="10197" y="11340"/>
                  </a:lnTo>
                  <a:lnTo>
                    <a:pt x="10129" y="11358"/>
                  </a:lnTo>
                  <a:lnTo>
                    <a:pt x="10061" y="11373"/>
                  </a:lnTo>
                  <a:lnTo>
                    <a:pt x="9993" y="11389"/>
                  </a:lnTo>
                  <a:lnTo>
                    <a:pt x="9926" y="11403"/>
                  </a:lnTo>
                  <a:lnTo>
                    <a:pt x="9858" y="11417"/>
                  </a:lnTo>
                  <a:lnTo>
                    <a:pt x="9789" y="11429"/>
                  </a:lnTo>
                  <a:lnTo>
                    <a:pt x="9722" y="11441"/>
                  </a:lnTo>
                  <a:lnTo>
                    <a:pt x="9653" y="11452"/>
                  </a:lnTo>
                  <a:lnTo>
                    <a:pt x="9584" y="11462"/>
                  </a:lnTo>
                  <a:lnTo>
                    <a:pt x="9516" y="11471"/>
                  </a:lnTo>
                  <a:lnTo>
                    <a:pt x="9447" y="11479"/>
                  </a:lnTo>
                  <a:lnTo>
                    <a:pt x="9377" y="11487"/>
                  </a:lnTo>
                  <a:lnTo>
                    <a:pt x="9307" y="11494"/>
                  </a:lnTo>
                  <a:lnTo>
                    <a:pt x="9238" y="11499"/>
                  </a:lnTo>
                  <a:lnTo>
                    <a:pt x="9167" y="11504"/>
                  </a:lnTo>
                  <a:lnTo>
                    <a:pt x="9097" y="11509"/>
                  </a:lnTo>
                  <a:lnTo>
                    <a:pt x="9025" y="11512"/>
                  </a:lnTo>
                  <a:lnTo>
                    <a:pt x="8954" y="11515"/>
                  </a:lnTo>
                  <a:lnTo>
                    <a:pt x="8882" y="11517"/>
                  </a:lnTo>
                  <a:lnTo>
                    <a:pt x="8810" y="11517"/>
                  </a:lnTo>
                  <a:lnTo>
                    <a:pt x="8737" y="11518"/>
                  </a:lnTo>
                  <a:lnTo>
                    <a:pt x="8663" y="11517"/>
                  </a:lnTo>
                  <a:lnTo>
                    <a:pt x="8262" y="11488"/>
                  </a:lnTo>
                  <a:lnTo>
                    <a:pt x="8161" y="11474"/>
                  </a:lnTo>
                  <a:lnTo>
                    <a:pt x="8060" y="11458"/>
                  </a:lnTo>
                  <a:lnTo>
                    <a:pt x="7959" y="11440"/>
                  </a:lnTo>
                  <a:lnTo>
                    <a:pt x="7858" y="11421"/>
                  </a:lnTo>
                  <a:lnTo>
                    <a:pt x="7758" y="11400"/>
                  </a:lnTo>
                  <a:lnTo>
                    <a:pt x="7657" y="11376"/>
                  </a:lnTo>
                  <a:lnTo>
                    <a:pt x="7558" y="11351"/>
                  </a:lnTo>
                  <a:lnTo>
                    <a:pt x="7459" y="11325"/>
                  </a:lnTo>
                  <a:lnTo>
                    <a:pt x="7362" y="11296"/>
                  </a:lnTo>
                  <a:lnTo>
                    <a:pt x="7265" y="11265"/>
                  </a:lnTo>
                  <a:lnTo>
                    <a:pt x="7168" y="11233"/>
                  </a:lnTo>
                  <a:lnTo>
                    <a:pt x="7072" y="11197"/>
                  </a:lnTo>
                  <a:lnTo>
                    <a:pt x="6978" y="11161"/>
                  </a:lnTo>
                  <a:lnTo>
                    <a:pt x="6884" y="11121"/>
                  </a:lnTo>
                  <a:lnTo>
                    <a:pt x="6792" y="11080"/>
                  </a:lnTo>
                  <a:lnTo>
                    <a:pt x="6701" y="11037"/>
                  </a:lnTo>
                  <a:lnTo>
                    <a:pt x="6611" y="10990"/>
                  </a:lnTo>
                  <a:lnTo>
                    <a:pt x="6522" y="10942"/>
                  </a:lnTo>
                  <a:lnTo>
                    <a:pt x="6436" y="10892"/>
                  </a:lnTo>
                  <a:lnTo>
                    <a:pt x="6350" y="10839"/>
                  </a:lnTo>
                  <a:lnTo>
                    <a:pt x="6266" y="10784"/>
                  </a:lnTo>
                  <a:lnTo>
                    <a:pt x="6184" y="10727"/>
                  </a:lnTo>
                  <a:lnTo>
                    <a:pt x="6104" y="10666"/>
                  </a:lnTo>
                  <a:lnTo>
                    <a:pt x="6025" y="10604"/>
                  </a:lnTo>
                  <a:lnTo>
                    <a:pt x="5948" y="10539"/>
                  </a:lnTo>
                  <a:lnTo>
                    <a:pt x="5873" y="10471"/>
                  </a:lnTo>
                  <a:lnTo>
                    <a:pt x="5800" y="10401"/>
                  </a:lnTo>
                  <a:lnTo>
                    <a:pt x="5729" y="10328"/>
                  </a:lnTo>
                  <a:lnTo>
                    <a:pt x="5662" y="10253"/>
                  </a:lnTo>
                  <a:lnTo>
                    <a:pt x="5595" y="10175"/>
                  </a:lnTo>
                  <a:lnTo>
                    <a:pt x="5532" y="10093"/>
                  </a:lnTo>
                  <a:lnTo>
                    <a:pt x="5470" y="10010"/>
                  </a:lnTo>
                  <a:lnTo>
                    <a:pt x="5380" y="10000"/>
                  </a:lnTo>
                  <a:lnTo>
                    <a:pt x="5290" y="9987"/>
                  </a:lnTo>
                  <a:lnTo>
                    <a:pt x="5199" y="9974"/>
                  </a:lnTo>
                  <a:lnTo>
                    <a:pt x="5109" y="9958"/>
                  </a:lnTo>
                  <a:lnTo>
                    <a:pt x="5020" y="9941"/>
                  </a:lnTo>
                  <a:lnTo>
                    <a:pt x="4931" y="9923"/>
                  </a:lnTo>
                  <a:lnTo>
                    <a:pt x="4842" y="9902"/>
                  </a:lnTo>
                  <a:lnTo>
                    <a:pt x="4754" y="9879"/>
                  </a:lnTo>
                  <a:lnTo>
                    <a:pt x="4666" y="9855"/>
                  </a:lnTo>
                  <a:lnTo>
                    <a:pt x="4579" y="9830"/>
                  </a:lnTo>
                  <a:lnTo>
                    <a:pt x="4493" y="9802"/>
                  </a:lnTo>
                  <a:lnTo>
                    <a:pt x="4408" y="9773"/>
                  </a:lnTo>
                  <a:lnTo>
                    <a:pt x="4322" y="9741"/>
                  </a:lnTo>
                  <a:lnTo>
                    <a:pt x="4238" y="9708"/>
                  </a:lnTo>
                  <a:lnTo>
                    <a:pt x="4155" y="9673"/>
                  </a:lnTo>
                  <a:lnTo>
                    <a:pt x="4073" y="9636"/>
                  </a:lnTo>
                  <a:lnTo>
                    <a:pt x="3993" y="9597"/>
                  </a:lnTo>
                  <a:lnTo>
                    <a:pt x="3913" y="9556"/>
                  </a:lnTo>
                  <a:lnTo>
                    <a:pt x="3834" y="9513"/>
                  </a:lnTo>
                  <a:lnTo>
                    <a:pt x="3757" y="9469"/>
                  </a:lnTo>
                  <a:lnTo>
                    <a:pt x="3682" y="9422"/>
                  </a:lnTo>
                  <a:lnTo>
                    <a:pt x="3607" y="9373"/>
                  </a:lnTo>
                  <a:lnTo>
                    <a:pt x="3533" y="9322"/>
                  </a:lnTo>
                  <a:lnTo>
                    <a:pt x="3461" y="9269"/>
                  </a:lnTo>
                  <a:lnTo>
                    <a:pt x="3391" y="9213"/>
                  </a:lnTo>
                  <a:lnTo>
                    <a:pt x="3323" y="9156"/>
                  </a:lnTo>
                  <a:lnTo>
                    <a:pt x="3256" y="9097"/>
                  </a:lnTo>
                  <a:lnTo>
                    <a:pt x="3191" y="9035"/>
                  </a:lnTo>
                  <a:lnTo>
                    <a:pt x="3128" y="8972"/>
                  </a:lnTo>
                  <a:lnTo>
                    <a:pt x="3066" y="8905"/>
                  </a:lnTo>
                  <a:lnTo>
                    <a:pt x="3007" y="8837"/>
                  </a:lnTo>
                  <a:lnTo>
                    <a:pt x="2949" y="8767"/>
                  </a:lnTo>
                  <a:lnTo>
                    <a:pt x="2927" y="8735"/>
                  </a:lnTo>
                  <a:lnTo>
                    <a:pt x="2905" y="8703"/>
                  </a:lnTo>
                  <a:lnTo>
                    <a:pt x="2885" y="8671"/>
                  </a:lnTo>
                  <a:lnTo>
                    <a:pt x="2864" y="8639"/>
                  </a:lnTo>
                  <a:lnTo>
                    <a:pt x="2845" y="8606"/>
                  </a:lnTo>
                  <a:lnTo>
                    <a:pt x="2825" y="8574"/>
                  </a:lnTo>
                  <a:lnTo>
                    <a:pt x="2807" y="8541"/>
                  </a:lnTo>
                  <a:lnTo>
                    <a:pt x="2789" y="8507"/>
                  </a:lnTo>
                  <a:lnTo>
                    <a:pt x="2772" y="8474"/>
                  </a:lnTo>
                  <a:lnTo>
                    <a:pt x="2756" y="8441"/>
                  </a:lnTo>
                  <a:lnTo>
                    <a:pt x="2740" y="8406"/>
                  </a:lnTo>
                  <a:lnTo>
                    <a:pt x="2726" y="8372"/>
                  </a:lnTo>
                  <a:lnTo>
                    <a:pt x="2711" y="8338"/>
                  </a:lnTo>
                  <a:lnTo>
                    <a:pt x="2699" y="8303"/>
                  </a:lnTo>
                  <a:lnTo>
                    <a:pt x="2687" y="8269"/>
                  </a:lnTo>
                  <a:lnTo>
                    <a:pt x="2676" y="8233"/>
                  </a:lnTo>
                  <a:lnTo>
                    <a:pt x="2665" y="8198"/>
                  </a:lnTo>
                  <a:lnTo>
                    <a:pt x="2655" y="8163"/>
                  </a:lnTo>
                  <a:lnTo>
                    <a:pt x="2647" y="8127"/>
                  </a:lnTo>
                  <a:lnTo>
                    <a:pt x="2640" y="8092"/>
                  </a:lnTo>
                  <a:lnTo>
                    <a:pt x="2633" y="8055"/>
                  </a:lnTo>
                  <a:lnTo>
                    <a:pt x="2627" y="8019"/>
                  </a:lnTo>
                  <a:lnTo>
                    <a:pt x="2623" y="7982"/>
                  </a:lnTo>
                  <a:lnTo>
                    <a:pt x="2620" y="7946"/>
                  </a:lnTo>
                  <a:lnTo>
                    <a:pt x="2617" y="7908"/>
                  </a:lnTo>
                  <a:lnTo>
                    <a:pt x="2616" y="7872"/>
                  </a:lnTo>
                  <a:lnTo>
                    <a:pt x="2616" y="7835"/>
                  </a:lnTo>
                  <a:lnTo>
                    <a:pt x="2617" y="7797"/>
                  </a:lnTo>
                  <a:lnTo>
                    <a:pt x="2620" y="7759"/>
                  </a:lnTo>
                  <a:lnTo>
                    <a:pt x="2623" y="7721"/>
                  </a:lnTo>
                  <a:lnTo>
                    <a:pt x="2628" y="7682"/>
                  </a:lnTo>
                  <a:lnTo>
                    <a:pt x="2635" y="7644"/>
                  </a:lnTo>
                  <a:lnTo>
                    <a:pt x="2629" y="7639"/>
                  </a:lnTo>
                  <a:lnTo>
                    <a:pt x="2625" y="7635"/>
                  </a:lnTo>
                  <a:lnTo>
                    <a:pt x="2620" y="7629"/>
                  </a:lnTo>
                  <a:lnTo>
                    <a:pt x="2615" y="7624"/>
                  </a:lnTo>
                  <a:lnTo>
                    <a:pt x="2611" y="7619"/>
                  </a:lnTo>
                  <a:lnTo>
                    <a:pt x="2606" y="7615"/>
                  </a:lnTo>
                  <a:lnTo>
                    <a:pt x="2602" y="7610"/>
                  </a:lnTo>
                  <a:lnTo>
                    <a:pt x="2597" y="7604"/>
                  </a:lnTo>
                  <a:lnTo>
                    <a:pt x="2506" y="7605"/>
                  </a:lnTo>
                  <a:lnTo>
                    <a:pt x="2415" y="7604"/>
                  </a:lnTo>
                  <a:lnTo>
                    <a:pt x="2325" y="7601"/>
                  </a:lnTo>
                  <a:lnTo>
                    <a:pt x="2235" y="7595"/>
                  </a:lnTo>
                  <a:lnTo>
                    <a:pt x="2144" y="7587"/>
                  </a:lnTo>
                  <a:lnTo>
                    <a:pt x="2055" y="7575"/>
                  </a:lnTo>
                  <a:lnTo>
                    <a:pt x="1966" y="7563"/>
                  </a:lnTo>
                  <a:lnTo>
                    <a:pt x="1878" y="7547"/>
                  </a:lnTo>
                  <a:lnTo>
                    <a:pt x="1791" y="7528"/>
                  </a:lnTo>
                  <a:lnTo>
                    <a:pt x="1704" y="7508"/>
                  </a:lnTo>
                  <a:lnTo>
                    <a:pt x="1618" y="7485"/>
                  </a:lnTo>
                  <a:lnTo>
                    <a:pt x="1533" y="7459"/>
                  </a:lnTo>
                  <a:lnTo>
                    <a:pt x="1450" y="7430"/>
                  </a:lnTo>
                  <a:lnTo>
                    <a:pt x="1368" y="7399"/>
                  </a:lnTo>
                  <a:lnTo>
                    <a:pt x="1287" y="7366"/>
                  </a:lnTo>
                  <a:lnTo>
                    <a:pt x="1207" y="7330"/>
                  </a:lnTo>
                  <a:lnTo>
                    <a:pt x="1128" y="7292"/>
                  </a:lnTo>
                  <a:lnTo>
                    <a:pt x="1052" y="7251"/>
                  </a:lnTo>
                  <a:lnTo>
                    <a:pt x="976" y="7208"/>
                  </a:lnTo>
                  <a:lnTo>
                    <a:pt x="903" y="7162"/>
                  </a:lnTo>
                  <a:lnTo>
                    <a:pt x="832" y="7113"/>
                  </a:lnTo>
                  <a:lnTo>
                    <a:pt x="762" y="7062"/>
                  </a:lnTo>
                  <a:lnTo>
                    <a:pt x="694" y="7008"/>
                  </a:lnTo>
                  <a:lnTo>
                    <a:pt x="629" y="6951"/>
                  </a:lnTo>
                  <a:lnTo>
                    <a:pt x="565" y="6892"/>
                  </a:lnTo>
                  <a:lnTo>
                    <a:pt x="505" y="6830"/>
                  </a:lnTo>
                  <a:lnTo>
                    <a:pt x="446" y="6766"/>
                  </a:lnTo>
                  <a:lnTo>
                    <a:pt x="390" y="6698"/>
                  </a:lnTo>
                  <a:lnTo>
                    <a:pt x="335" y="6629"/>
                  </a:lnTo>
                  <a:lnTo>
                    <a:pt x="284" y="6557"/>
                  </a:lnTo>
                  <a:lnTo>
                    <a:pt x="236" y="6482"/>
                  </a:lnTo>
                  <a:lnTo>
                    <a:pt x="190" y="6404"/>
                  </a:lnTo>
                  <a:lnTo>
                    <a:pt x="165" y="6352"/>
                  </a:lnTo>
                  <a:lnTo>
                    <a:pt x="142" y="6300"/>
                  </a:lnTo>
                  <a:lnTo>
                    <a:pt x="120" y="6247"/>
                  </a:lnTo>
                  <a:lnTo>
                    <a:pt x="100" y="6195"/>
                  </a:lnTo>
                  <a:lnTo>
                    <a:pt x="83" y="6144"/>
                  </a:lnTo>
                  <a:lnTo>
                    <a:pt x="67" y="6092"/>
                  </a:lnTo>
                  <a:lnTo>
                    <a:pt x="52" y="6040"/>
                  </a:lnTo>
                  <a:lnTo>
                    <a:pt x="39" y="5989"/>
                  </a:lnTo>
                  <a:lnTo>
                    <a:pt x="29" y="5937"/>
                  </a:lnTo>
                  <a:lnTo>
                    <a:pt x="19" y="5886"/>
                  </a:lnTo>
                  <a:lnTo>
                    <a:pt x="11" y="5834"/>
                  </a:lnTo>
                  <a:lnTo>
                    <a:pt x="6" y="5783"/>
                  </a:lnTo>
                  <a:lnTo>
                    <a:pt x="2" y="5732"/>
                  </a:lnTo>
                  <a:lnTo>
                    <a:pt x="0" y="5680"/>
                  </a:lnTo>
                  <a:lnTo>
                    <a:pt x="0" y="5629"/>
                  </a:lnTo>
                  <a:lnTo>
                    <a:pt x="1" y="5578"/>
                  </a:lnTo>
                  <a:lnTo>
                    <a:pt x="5" y="5527"/>
                  </a:lnTo>
                  <a:lnTo>
                    <a:pt x="10" y="5476"/>
                  </a:lnTo>
                  <a:lnTo>
                    <a:pt x="16" y="5425"/>
                  </a:lnTo>
                  <a:lnTo>
                    <a:pt x="26" y="5374"/>
                  </a:lnTo>
                  <a:lnTo>
                    <a:pt x="36" y="5323"/>
                  </a:lnTo>
                  <a:lnTo>
                    <a:pt x="48" y="5272"/>
                  </a:lnTo>
                  <a:lnTo>
                    <a:pt x="62" y="5221"/>
                  </a:lnTo>
                  <a:lnTo>
                    <a:pt x="78" y="5171"/>
                  </a:lnTo>
                  <a:lnTo>
                    <a:pt x="95" y="5120"/>
                  </a:lnTo>
                  <a:lnTo>
                    <a:pt x="115" y="5069"/>
                  </a:lnTo>
                  <a:lnTo>
                    <a:pt x="135" y="5018"/>
                  </a:lnTo>
                  <a:lnTo>
                    <a:pt x="158" y="4968"/>
                  </a:lnTo>
                  <a:lnTo>
                    <a:pt x="183" y="4917"/>
                  </a:lnTo>
                  <a:lnTo>
                    <a:pt x="209" y="4867"/>
                  </a:lnTo>
                  <a:lnTo>
                    <a:pt x="238" y="4815"/>
                  </a:lnTo>
                  <a:lnTo>
                    <a:pt x="268" y="4764"/>
                  </a:lnTo>
                  <a:lnTo>
                    <a:pt x="308" y="4708"/>
                  </a:lnTo>
                  <a:lnTo>
                    <a:pt x="349" y="4654"/>
                  </a:lnTo>
                  <a:lnTo>
                    <a:pt x="392" y="4601"/>
                  </a:lnTo>
                  <a:lnTo>
                    <a:pt x="436" y="4550"/>
                  </a:lnTo>
                  <a:lnTo>
                    <a:pt x="481" y="4500"/>
                  </a:lnTo>
                  <a:lnTo>
                    <a:pt x="527" y="4452"/>
                  </a:lnTo>
                  <a:lnTo>
                    <a:pt x="575" y="4406"/>
                  </a:lnTo>
                  <a:lnTo>
                    <a:pt x="625" y="4361"/>
                  </a:lnTo>
                  <a:lnTo>
                    <a:pt x="675" y="4318"/>
                  </a:lnTo>
                  <a:lnTo>
                    <a:pt x="726" y="4276"/>
                  </a:lnTo>
                  <a:lnTo>
                    <a:pt x="778" y="4236"/>
                  </a:lnTo>
                  <a:lnTo>
                    <a:pt x="832" y="4198"/>
                  </a:lnTo>
                  <a:lnTo>
                    <a:pt x="886" y="4161"/>
                  </a:lnTo>
                  <a:lnTo>
                    <a:pt x="941" y="4126"/>
                  </a:lnTo>
                  <a:lnTo>
                    <a:pt x="999" y="4092"/>
                  </a:lnTo>
                  <a:lnTo>
                    <a:pt x="1055" y="4060"/>
                  </a:lnTo>
                  <a:lnTo>
                    <a:pt x="1114" y="4029"/>
                  </a:lnTo>
                  <a:lnTo>
                    <a:pt x="1173" y="4000"/>
                  </a:lnTo>
                  <a:lnTo>
                    <a:pt x="1233" y="3973"/>
                  </a:lnTo>
                  <a:lnTo>
                    <a:pt x="1293" y="3947"/>
                  </a:lnTo>
                  <a:lnTo>
                    <a:pt x="1355" y="3922"/>
                  </a:lnTo>
                  <a:lnTo>
                    <a:pt x="1417" y="3899"/>
                  </a:lnTo>
                  <a:lnTo>
                    <a:pt x="1480" y="3877"/>
                  </a:lnTo>
                  <a:lnTo>
                    <a:pt x="1543" y="3857"/>
                  </a:lnTo>
                  <a:lnTo>
                    <a:pt x="1608" y="3839"/>
                  </a:lnTo>
                  <a:lnTo>
                    <a:pt x="1673" y="3822"/>
                  </a:lnTo>
                  <a:lnTo>
                    <a:pt x="1737" y="3806"/>
                  </a:lnTo>
                  <a:lnTo>
                    <a:pt x="1803" y="3792"/>
                  </a:lnTo>
                  <a:lnTo>
                    <a:pt x="1869" y="3779"/>
                  </a:lnTo>
                  <a:lnTo>
                    <a:pt x="1936" y="3768"/>
                  </a:lnTo>
                  <a:lnTo>
                    <a:pt x="2003" y="3758"/>
                  </a:lnTo>
                  <a:lnTo>
                    <a:pt x="2070" y="3750"/>
                  </a:lnTo>
                  <a:lnTo>
                    <a:pt x="2037" y="3718"/>
                  </a:lnTo>
                  <a:lnTo>
                    <a:pt x="2005" y="3685"/>
                  </a:lnTo>
                  <a:lnTo>
                    <a:pt x="1974" y="3651"/>
                  </a:lnTo>
                  <a:lnTo>
                    <a:pt x="1945" y="3618"/>
                  </a:lnTo>
                  <a:lnTo>
                    <a:pt x="1919" y="3583"/>
                  </a:lnTo>
                  <a:lnTo>
                    <a:pt x="1893" y="3549"/>
                  </a:lnTo>
                  <a:lnTo>
                    <a:pt x="1868" y="3514"/>
                  </a:lnTo>
                  <a:lnTo>
                    <a:pt x="1846" y="3478"/>
                  </a:lnTo>
                  <a:lnTo>
                    <a:pt x="1825" y="3442"/>
                  </a:lnTo>
                  <a:lnTo>
                    <a:pt x="1806" y="3405"/>
                  </a:lnTo>
                  <a:lnTo>
                    <a:pt x="1787" y="3368"/>
                  </a:lnTo>
                  <a:lnTo>
                    <a:pt x="1772" y="3330"/>
                  </a:lnTo>
                  <a:lnTo>
                    <a:pt x="1758" y="3293"/>
                  </a:lnTo>
                  <a:lnTo>
                    <a:pt x="1744" y="3254"/>
                  </a:lnTo>
                  <a:lnTo>
                    <a:pt x="1733" y="3216"/>
                  </a:lnTo>
                  <a:lnTo>
                    <a:pt x="1724" y="3176"/>
                  </a:lnTo>
                  <a:lnTo>
                    <a:pt x="1717" y="3137"/>
                  </a:lnTo>
                  <a:lnTo>
                    <a:pt x="1711" y="3097"/>
                  </a:lnTo>
                  <a:lnTo>
                    <a:pt x="1706" y="3058"/>
                  </a:lnTo>
                  <a:lnTo>
                    <a:pt x="1703" y="3017"/>
                  </a:lnTo>
                  <a:lnTo>
                    <a:pt x="1702" y="2975"/>
                  </a:lnTo>
                  <a:lnTo>
                    <a:pt x="1703" y="2935"/>
                  </a:lnTo>
                  <a:lnTo>
                    <a:pt x="1706" y="2893"/>
                  </a:lnTo>
                  <a:lnTo>
                    <a:pt x="1712" y="2851"/>
                  </a:lnTo>
                  <a:lnTo>
                    <a:pt x="1718" y="2809"/>
                  </a:lnTo>
                  <a:lnTo>
                    <a:pt x="1726" y="2767"/>
                  </a:lnTo>
                  <a:lnTo>
                    <a:pt x="1736" y="2724"/>
                  </a:lnTo>
                  <a:lnTo>
                    <a:pt x="1747" y="2681"/>
                  </a:lnTo>
                  <a:lnTo>
                    <a:pt x="1761" y="2638"/>
                  </a:lnTo>
                  <a:lnTo>
                    <a:pt x="1777" y="2594"/>
                  </a:lnTo>
                  <a:lnTo>
                    <a:pt x="1795" y="2550"/>
                  </a:lnTo>
                  <a:lnTo>
                    <a:pt x="1813" y="2507"/>
                  </a:lnTo>
                  <a:lnTo>
                    <a:pt x="1843" y="2454"/>
                  </a:lnTo>
                  <a:lnTo>
                    <a:pt x="1874" y="2404"/>
                  </a:lnTo>
                  <a:lnTo>
                    <a:pt x="1906" y="2354"/>
                  </a:lnTo>
                  <a:lnTo>
                    <a:pt x="1940" y="2306"/>
                  </a:lnTo>
                  <a:lnTo>
                    <a:pt x="1976" y="2260"/>
                  </a:lnTo>
                  <a:lnTo>
                    <a:pt x="2013" y="2215"/>
                  </a:lnTo>
                  <a:lnTo>
                    <a:pt x="2052" y="2171"/>
                  </a:lnTo>
                  <a:lnTo>
                    <a:pt x="2092" y="2129"/>
                  </a:lnTo>
                  <a:lnTo>
                    <a:pt x="2133" y="2088"/>
                  </a:lnTo>
                  <a:lnTo>
                    <a:pt x="2175" y="2048"/>
                  </a:lnTo>
                  <a:lnTo>
                    <a:pt x="2219" y="2011"/>
                  </a:lnTo>
                  <a:lnTo>
                    <a:pt x="2264" y="1973"/>
                  </a:lnTo>
                  <a:lnTo>
                    <a:pt x="2310" y="1938"/>
                  </a:lnTo>
                  <a:lnTo>
                    <a:pt x="2358" y="1904"/>
                  </a:lnTo>
                  <a:lnTo>
                    <a:pt x="2405" y="1871"/>
                  </a:lnTo>
                  <a:lnTo>
                    <a:pt x="2454" y="1839"/>
                  </a:lnTo>
                  <a:lnTo>
                    <a:pt x="2504" y="1809"/>
                  </a:lnTo>
                  <a:lnTo>
                    <a:pt x="2555" y="1780"/>
                  </a:lnTo>
                  <a:lnTo>
                    <a:pt x="2607" y="1752"/>
                  </a:lnTo>
                  <a:lnTo>
                    <a:pt x="2659" y="1725"/>
                  </a:lnTo>
                  <a:lnTo>
                    <a:pt x="2712" y="1699"/>
                  </a:lnTo>
                  <a:lnTo>
                    <a:pt x="2766" y="1675"/>
                  </a:lnTo>
                  <a:lnTo>
                    <a:pt x="2820" y="1651"/>
                  </a:lnTo>
                  <a:lnTo>
                    <a:pt x="2876" y="1629"/>
                  </a:lnTo>
                  <a:lnTo>
                    <a:pt x="2931" y="1607"/>
                  </a:lnTo>
                  <a:lnTo>
                    <a:pt x="2986" y="1587"/>
                  </a:lnTo>
                  <a:lnTo>
                    <a:pt x="3043" y="1568"/>
                  </a:lnTo>
                  <a:lnTo>
                    <a:pt x="3099" y="1550"/>
                  </a:lnTo>
                  <a:lnTo>
                    <a:pt x="3155" y="1533"/>
                  </a:lnTo>
                  <a:lnTo>
                    <a:pt x="3213" y="1516"/>
                  </a:lnTo>
                  <a:lnTo>
                    <a:pt x="3270" y="1502"/>
                  </a:lnTo>
                  <a:lnTo>
                    <a:pt x="3328" y="1487"/>
                  </a:lnTo>
                  <a:lnTo>
                    <a:pt x="3378" y="1477"/>
                  </a:lnTo>
                  <a:lnTo>
                    <a:pt x="3427" y="1467"/>
                  </a:lnTo>
                  <a:lnTo>
                    <a:pt x="3477" y="1458"/>
                  </a:lnTo>
                  <a:lnTo>
                    <a:pt x="3528" y="1451"/>
                  </a:lnTo>
                  <a:lnTo>
                    <a:pt x="3577" y="1442"/>
                  </a:lnTo>
                  <a:lnTo>
                    <a:pt x="3627" y="1436"/>
                  </a:lnTo>
                  <a:lnTo>
                    <a:pt x="3677" y="1430"/>
                  </a:lnTo>
                  <a:lnTo>
                    <a:pt x="3727" y="1425"/>
                  </a:lnTo>
                  <a:lnTo>
                    <a:pt x="3777" y="1420"/>
                  </a:lnTo>
                  <a:lnTo>
                    <a:pt x="3827" y="1416"/>
                  </a:lnTo>
                  <a:lnTo>
                    <a:pt x="3876" y="1413"/>
                  </a:lnTo>
                  <a:lnTo>
                    <a:pt x="3927" y="1411"/>
                  </a:lnTo>
                  <a:lnTo>
                    <a:pt x="3977" y="1410"/>
                  </a:lnTo>
                  <a:lnTo>
                    <a:pt x="4026" y="1409"/>
                  </a:lnTo>
                  <a:lnTo>
                    <a:pt x="4076" y="1409"/>
                  </a:lnTo>
                  <a:lnTo>
                    <a:pt x="4126" y="1410"/>
                  </a:lnTo>
                  <a:lnTo>
                    <a:pt x="4176" y="1412"/>
                  </a:lnTo>
                  <a:lnTo>
                    <a:pt x="4225" y="1414"/>
                  </a:lnTo>
                  <a:lnTo>
                    <a:pt x="4275" y="1417"/>
                  </a:lnTo>
                  <a:lnTo>
                    <a:pt x="4325" y="1422"/>
                  </a:lnTo>
                  <a:lnTo>
                    <a:pt x="4374" y="1427"/>
                  </a:lnTo>
                  <a:lnTo>
                    <a:pt x="4423" y="1433"/>
                  </a:lnTo>
                  <a:lnTo>
                    <a:pt x="4472" y="1439"/>
                  </a:lnTo>
                  <a:lnTo>
                    <a:pt x="4521" y="1447"/>
                  </a:lnTo>
                  <a:lnTo>
                    <a:pt x="4571" y="1455"/>
                  </a:lnTo>
                  <a:lnTo>
                    <a:pt x="4620" y="1464"/>
                  </a:lnTo>
                  <a:lnTo>
                    <a:pt x="4669" y="1475"/>
                  </a:lnTo>
                  <a:lnTo>
                    <a:pt x="4718" y="1485"/>
                  </a:lnTo>
                  <a:lnTo>
                    <a:pt x="4767" y="1498"/>
                  </a:lnTo>
                  <a:lnTo>
                    <a:pt x="4816" y="1510"/>
                  </a:lnTo>
                  <a:lnTo>
                    <a:pt x="4864" y="1524"/>
                  </a:lnTo>
                  <a:lnTo>
                    <a:pt x="4912" y="1537"/>
                  </a:lnTo>
                  <a:lnTo>
                    <a:pt x="4927" y="1532"/>
                  </a:lnTo>
                  <a:lnTo>
                    <a:pt x="4940" y="1526"/>
                  </a:lnTo>
                  <a:lnTo>
                    <a:pt x="4953" y="1519"/>
                  </a:lnTo>
                  <a:lnTo>
                    <a:pt x="4968" y="1513"/>
                  </a:lnTo>
                  <a:lnTo>
                    <a:pt x="4981" y="1508"/>
                  </a:lnTo>
                  <a:lnTo>
                    <a:pt x="4995" y="1502"/>
                  </a:lnTo>
                  <a:lnTo>
                    <a:pt x="5009" y="1495"/>
                  </a:lnTo>
                  <a:lnTo>
                    <a:pt x="5023" y="1490"/>
                  </a:lnTo>
                  <a:lnTo>
                    <a:pt x="5070" y="1401"/>
                  </a:lnTo>
                  <a:lnTo>
                    <a:pt x="5121" y="1315"/>
                  </a:lnTo>
                  <a:lnTo>
                    <a:pt x="5177" y="1232"/>
                  </a:lnTo>
                  <a:lnTo>
                    <a:pt x="5237" y="1153"/>
                  </a:lnTo>
                  <a:lnTo>
                    <a:pt x="5301" y="1077"/>
                  </a:lnTo>
                  <a:lnTo>
                    <a:pt x="5367" y="1003"/>
                  </a:lnTo>
                  <a:lnTo>
                    <a:pt x="5438" y="932"/>
                  </a:lnTo>
                  <a:lnTo>
                    <a:pt x="5513" y="865"/>
                  </a:lnTo>
                  <a:lnTo>
                    <a:pt x="5590" y="801"/>
                  </a:lnTo>
                  <a:lnTo>
                    <a:pt x="5670" y="738"/>
                  </a:lnTo>
                  <a:lnTo>
                    <a:pt x="5752" y="680"/>
                  </a:lnTo>
                  <a:lnTo>
                    <a:pt x="5838" y="624"/>
                  </a:lnTo>
                  <a:lnTo>
                    <a:pt x="5925" y="571"/>
                  </a:lnTo>
                  <a:lnTo>
                    <a:pt x="6015" y="520"/>
                  </a:lnTo>
                  <a:lnTo>
                    <a:pt x="6107" y="472"/>
                  </a:lnTo>
                  <a:lnTo>
                    <a:pt x="6200" y="426"/>
                  </a:lnTo>
                  <a:lnTo>
                    <a:pt x="6295" y="383"/>
                  </a:lnTo>
                  <a:lnTo>
                    <a:pt x="6391" y="343"/>
                  </a:lnTo>
                  <a:lnTo>
                    <a:pt x="6488" y="305"/>
                  </a:lnTo>
                  <a:lnTo>
                    <a:pt x="6587" y="269"/>
                  </a:lnTo>
                  <a:lnTo>
                    <a:pt x="6686" y="235"/>
                  </a:lnTo>
                  <a:lnTo>
                    <a:pt x="6787" y="205"/>
                  </a:lnTo>
                  <a:lnTo>
                    <a:pt x="6886" y="176"/>
                  </a:lnTo>
                  <a:lnTo>
                    <a:pt x="6988" y="150"/>
                  </a:lnTo>
                  <a:lnTo>
                    <a:pt x="7088" y="126"/>
                  </a:lnTo>
                  <a:lnTo>
                    <a:pt x="7189" y="103"/>
                  </a:lnTo>
                  <a:lnTo>
                    <a:pt x="7289" y="83"/>
                  </a:lnTo>
                  <a:lnTo>
                    <a:pt x="7389" y="66"/>
                  </a:lnTo>
                  <a:lnTo>
                    <a:pt x="7488" y="50"/>
                  </a:lnTo>
                  <a:lnTo>
                    <a:pt x="7587" y="36"/>
                  </a:lnTo>
                  <a:lnTo>
                    <a:pt x="7683" y="24"/>
                  </a:lnTo>
                  <a:lnTo>
                    <a:pt x="7779" y="14"/>
                  </a:lnTo>
                  <a:lnTo>
                    <a:pt x="7866" y="8"/>
                  </a:lnTo>
                  <a:lnTo>
                    <a:pt x="7952" y="4"/>
                  </a:lnTo>
                  <a:lnTo>
                    <a:pt x="8038" y="2"/>
                  </a:lnTo>
                  <a:lnTo>
                    <a:pt x="8125" y="0"/>
                  </a:lnTo>
                  <a:lnTo>
                    <a:pt x="8212" y="0"/>
                  </a:lnTo>
                  <a:lnTo>
                    <a:pt x="8299" y="1"/>
                  </a:lnTo>
                  <a:lnTo>
                    <a:pt x="8387" y="4"/>
                  </a:lnTo>
                  <a:lnTo>
                    <a:pt x="8475" y="8"/>
                  </a:lnTo>
                  <a:lnTo>
                    <a:pt x="8562" y="15"/>
                  </a:lnTo>
                  <a:lnTo>
                    <a:pt x="8650" y="22"/>
                  </a:lnTo>
                  <a:lnTo>
                    <a:pt x="8737" y="31"/>
                  </a:lnTo>
                  <a:lnTo>
                    <a:pt x="8824" y="42"/>
                  </a:lnTo>
                  <a:lnTo>
                    <a:pt x="8912" y="55"/>
                  </a:lnTo>
                  <a:lnTo>
                    <a:pt x="8998" y="69"/>
                  </a:lnTo>
                  <a:lnTo>
                    <a:pt x="9084" y="85"/>
                  </a:lnTo>
                  <a:lnTo>
                    <a:pt x="9170" y="104"/>
                  </a:lnTo>
                  <a:lnTo>
                    <a:pt x="9255" y="124"/>
                  </a:lnTo>
                  <a:lnTo>
                    <a:pt x="9339" y="146"/>
                  </a:lnTo>
                  <a:lnTo>
                    <a:pt x="9422" y="171"/>
                  </a:lnTo>
                  <a:lnTo>
                    <a:pt x="9505" y="197"/>
                  </a:lnTo>
                  <a:lnTo>
                    <a:pt x="9587" y="225"/>
                  </a:lnTo>
                  <a:lnTo>
                    <a:pt x="9668" y="256"/>
                  </a:lnTo>
                  <a:lnTo>
                    <a:pt x="9748" y="290"/>
                  </a:lnTo>
                  <a:lnTo>
                    <a:pt x="9827" y="324"/>
                  </a:lnTo>
                  <a:lnTo>
                    <a:pt x="9904" y="361"/>
                  </a:lnTo>
                  <a:lnTo>
                    <a:pt x="9981" y="402"/>
                  </a:lnTo>
                  <a:lnTo>
                    <a:pt x="10056" y="445"/>
                  </a:lnTo>
                  <a:lnTo>
                    <a:pt x="10130" y="489"/>
                  </a:lnTo>
                  <a:lnTo>
                    <a:pt x="10202" y="536"/>
                  </a:lnTo>
                  <a:lnTo>
                    <a:pt x="10272" y="586"/>
                  </a:lnTo>
                  <a:lnTo>
                    <a:pt x="10341" y="639"/>
                  </a:lnTo>
                  <a:lnTo>
                    <a:pt x="10409" y="695"/>
                  </a:lnTo>
                  <a:lnTo>
                    <a:pt x="10490" y="661"/>
                  </a:lnTo>
                  <a:lnTo>
                    <a:pt x="10572" y="633"/>
                  </a:lnTo>
                  <a:lnTo>
                    <a:pt x="10655" y="609"/>
                  </a:lnTo>
                  <a:lnTo>
                    <a:pt x="10739" y="589"/>
                  </a:lnTo>
                  <a:lnTo>
                    <a:pt x="10824" y="575"/>
                  </a:lnTo>
                  <a:lnTo>
                    <a:pt x="10910" y="563"/>
                  </a:lnTo>
                  <a:lnTo>
                    <a:pt x="10996" y="557"/>
                  </a:lnTo>
                  <a:lnTo>
                    <a:pt x="11083" y="554"/>
                  </a:lnTo>
                  <a:lnTo>
                    <a:pt x="11170" y="555"/>
                  </a:lnTo>
                  <a:lnTo>
                    <a:pt x="11256" y="559"/>
                  </a:lnTo>
                  <a:lnTo>
                    <a:pt x="11343" y="569"/>
                  </a:lnTo>
                  <a:lnTo>
                    <a:pt x="11429" y="581"/>
                  </a:lnTo>
                  <a:lnTo>
                    <a:pt x="11515" y="597"/>
                  </a:lnTo>
                  <a:lnTo>
                    <a:pt x="11600" y="615"/>
                  </a:lnTo>
                  <a:lnTo>
                    <a:pt x="11686" y="638"/>
                  </a:lnTo>
                  <a:lnTo>
                    <a:pt x="11770" y="664"/>
                  </a:lnTo>
                  <a:lnTo>
                    <a:pt x="11853" y="694"/>
                  </a:lnTo>
                  <a:lnTo>
                    <a:pt x="11936" y="726"/>
                  </a:lnTo>
                  <a:lnTo>
                    <a:pt x="12016" y="761"/>
                  </a:lnTo>
                  <a:lnTo>
                    <a:pt x="12096" y="800"/>
                  </a:lnTo>
                  <a:lnTo>
                    <a:pt x="12174" y="840"/>
                  </a:lnTo>
                  <a:lnTo>
                    <a:pt x="12251" y="884"/>
                  </a:lnTo>
                  <a:lnTo>
                    <a:pt x="12325" y="931"/>
                  </a:lnTo>
                  <a:lnTo>
                    <a:pt x="12398" y="980"/>
                  </a:lnTo>
                  <a:lnTo>
                    <a:pt x="12469" y="1031"/>
                  </a:lnTo>
                  <a:lnTo>
                    <a:pt x="12537" y="1085"/>
                  </a:lnTo>
                  <a:lnTo>
                    <a:pt x="12603" y="1141"/>
                  </a:lnTo>
                  <a:lnTo>
                    <a:pt x="12667" y="1200"/>
                  </a:lnTo>
                  <a:lnTo>
                    <a:pt x="12727" y="1261"/>
                  </a:lnTo>
                  <a:lnTo>
                    <a:pt x="12786" y="1324"/>
                  </a:lnTo>
                  <a:lnTo>
                    <a:pt x="12841" y="1388"/>
                  </a:lnTo>
                  <a:lnTo>
                    <a:pt x="12894" y="145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5486400" y="5105520"/>
            <a:ext cx="9349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小型企业网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09680" y="3290760"/>
            <a:ext cx="843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9040" y="3381480"/>
            <a:ext cx="772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057040" y="24382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58128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企业园区网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324480" y="4191120"/>
            <a:ext cx="2362320" cy="1523880"/>
          </a:xfrm>
          <a:custGeom>
            <a:avLst/>
            <a:gdLst/>
            <a:ahLst/>
            <a:rect l="l" t="t" r="r" b="b"/>
            <a:pathLst>
              <a:path w="16408" h="11518">
                <a:moveTo>
                  <a:pt x="12894" y="1455"/>
                </a:moveTo>
                <a:lnTo>
                  <a:pt x="12992" y="1452"/>
                </a:lnTo>
                <a:lnTo>
                  <a:pt x="13091" y="1453"/>
                </a:lnTo>
                <a:lnTo>
                  <a:pt x="13190" y="1456"/>
                </a:lnTo>
                <a:lnTo>
                  <a:pt x="13290" y="1463"/>
                </a:lnTo>
                <a:lnTo>
                  <a:pt x="13391" y="1473"/>
                </a:lnTo>
                <a:lnTo>
                  <a:pt x="13490" y="1485"/>
                </a:lnTo>
                <a:lnTo>
                  <a:pt x="13591" y="1501"/>
                </a:lnTo>
                <a:lnTo>
                  <a:pt x="13690" y="1519"/>
                </a:lnTo>
                <a:lnTo>
                  <a:pt x="13790" y="1541"/>
                </a:lnTo>
                <a:lnTo>
                  <a:pt x="13888" y="1566"/>
                </a:lnTo>
                <a:lnTo>
                  <a:pt x="13987" y="1594"/>
                </a:lnTo>
                <a:lnTo>
                  <a:pt x="14083" y="1626"/>
                </a:lnTo>
                <a:lnTo>
                  <a:pt x="14179" y="1659"/>
                </a:lnTo>
                <a:lnTo>
                  <a:pt x="14273" y="1696"/>
                </a:lnTo>
                <a:lnTo>
                  <a:pt x="14365" y="1737"/>
                </a:lnTo>
                <a:lnTo>
                  <a:pt x="14455" y="1781"/>
                </a:lnTo>
                <a:lnTo>
                  <a:pt x="14545" y="1828"/>
                </a:lnTo>
                <a:lnTo>
                  <a:pt x="14631" y="1878"/>
                </a:lnTo>
                <a:lnTo>
                  <a:pt x="14715" y="1931"/>
                </a:lnTo>
                <a:lnTo>
                  <a:pt x="14797" y="1987"/>
                </a:lnTo>
                <a:lnTo>
                  <a:pt x="14876" y="2046"/>
                </a:lnTo>
                <a:lnTo>
                  <a:pt x="14952" y="2109"/>
                </a:lnTo>
                <a:lnTo>
                  <a:pt x="15026" y="2174"/>
                </a:lnTo>
                <a:lnTo>
                  <a:pt x="15095" y="2244"/>
                </a:lnTo>
                <a:lnTo>
                  <a:pt x="15162" y="2316"/>
                </a:lnTo>
                <a:lnTo>
                  <a:pt x="15225" y="2392"/>
                </a:lnTo>
                <a:lnTo>
                  <a:pt x="15283" y="2471"/>
                </a:lnTo>
                <a:lnTo>
                  <a:pt x="15338" y="2554"/>
                </a:lnTo>
                <a:lnTo>
                  <a:pt x="15389" y="2639"/>
                </a:lnTo>
                <a:lnTo>
                  <a:pt x="15436" y="2727"/>
                </a:lnTo>
                <a:lnTo>
                  <a:pt x="15478" y="2820"/>
                </a:lnTo>
                <a:lnTo>
                  <a:pt x="15515" y="2915"/>
                </a:lnTo>
                <a:lnTo>
                  <a:pt x="15530" y="2973"/>
                </a:lnTo>
                <a:lnTo>
                  <a:pt x="15544" y="3031"/>
                </a:lnTo>
                <a:lnTo>
                  <a:pt x="15555" y="3088"/>
                </a:lnTo>
                <a:lnTo>
                  <a:pt x="15563" y="3144"/>
                </a:lnTo>
                <a:lnTo>
                  <a:pt x="15569" y="3199"/>
                </a:lnTo>
                <a:lnTo>
                  <a:pt x="15573" y="3255"/>
                </a:lnTo>
                <a:lnTo>
                  <a:pt x="15575" y="3310"/>
                </a:lnTo>
                <a:lnTo>
                  <a:pt x="15575" y="3364"/>
                </a:lnTo>
                <a:lnTo>
                  <a:pt x="15572" y="3417"/>
                </a:lnTo>
                <a:lnTo>
                  <a:pt x="15568" y="3470"/>
                </a:lnTo>
                <a:lnTo>
                  <a:pt x="15561" y="3522"/>
                </a:lnTo>
                <a:lnTo>
                  <a:pt x="15553" y="3573"/>
                </a:lnTo>
                <a:lnTo>
                  <a:pt x="15541" y="3624"/>
                </a:lnTo>
                <a:lnTo>
                  <a:pt x="15528" y="3674"/>
                </a:lnTo>
                <a:lnTo>
                  <a:pt x="15514" y="3724"/>
                </a:lnTo>
                <a:lnTo>
                  <a:pt x="15496" y="3773"/>
                </a:lnTo>
                <a:lnTo>
                  <a:pt x="15478" y="3821"/>
                </a:lnTo>
                <a:lnTo>
                  <a:pt x="15456" y="3868"/>
                </a:lnTo>
                <a:lnTo>
                  <a:pt x="15434" y="3915"/>
                </a:lnTo>
                <a:lnTo>
                  <a:pt x="15409" y="3960"/>
                </a:lnTo>
                <a:lnTo>
                  <a:pt x="15383" y="4005"/>
                </a:lnTo>
                <a:lnTo>
                  <a:pt x="15355" y="4049"/>
                </a:lnTo>
                <a:lnTo>
                  <a:pt x="15324" y="4093"/>
                </a:lnTo>
                <a:lnTo>
                  <a:pt x="15292" y="4135"/>
                </a:lnTo>
                <a:lnTo>
                  <a:pt x="15259" y="4177"/>
                </a:lnTo>
                <a:lnTo>
                  <a:pt x="15224" y="4219"/>
                </a:lnTo>
                <a:lnTo>
                  <a:pt x="15187" y="4258"/>
                </a:lnTo>
                <a:lnTo>
                  <a:pt x="15149" y="4298"/>
                </a:lnTo>
                <a:lnTo>
                  <a:pt x="15108" y="4336"/>
                </a:lnTo>
                <a:lnTo>
                  <a:pt x="15067" y="4374"/>
                </a:lnTo>
                <a:lnTo>
                  <a:pt x="15023" y="4410"/>
                </a:lnTo>
                <a:lnTo>
                  <a:pt x="14978" y="4447"/>
                </a:lnTo>
                <a:lnTo>
                  <a:pt x="15048" y="4466"/>
                </a:lnTo>
                <a:lnTo>
                  <a:pt x="15117" y="4487"/>
                </a:lnTo>
                <a:lnTo>
                  <a:pt x="15186" y="4510"/>
                </a:lnTo>
                <a:lnTo>
                  <a:pt x="15252" y="4534"/>
                </a:lnTo>
                <a:lnTo>
                  <a:pt x="15318" y="4561"/>
                </a:lnTo>
                <a:lnTo>
                  <a:pt x="15381" y="4588"/>
                </a:lnTo>
                <a:lnTo>
                  <a:pt x="15444" y="4619"/>
                </a:lnTo>
                <a:lnTo>
                  <a:pt x="15506" y="4650"/>
                </a:lnTo>
                <a:lnTo>
                  <a:pt x="15566" y="4683"/>
                </a:lnTo>
                <a:lnTo>
                  <a:pt x="15625" y="4718"/>
                </a:lnTo>
                <a:lnTo>
                  <a:pt x="15681" y="4755"/>
                </a:lnTo>
                <a:lnTo>
                  <a:pt x="15736" y="4793"/>
                </a:lnTo>
                <a:lnTo>
                  <a:pt x="15790" y="4833"/>
                </a:lnTo>
                <a:lnTo>
                  <a:pt x="15841" y="4875"/>
                </a:lnTo>
                <a:lnTo>
                  <a:pt x="15891" y="4919"/>
                </a:lnTo>
                <a:lnTo>
                  <a:pt x="15939" y="4964"/>
                </a:lnTo>
                <a:lnTo>
                  <a:pt x="15985" y="5011"/>
                </a:lnTo>
                <a:lnTo>
                  <a:pt x="16030" y="5060"/>
                </a:lnTo>
                <a:lnTo>
                  <a:pt x="16072" y="5111"/>
                </a:lnTo>
                <a:lnTo>
                  <a:pt x="16112" y="5164"/>
                </a:lnTo>
                <a:lnTo>
                  <a:pt x="16150" y="5219"/>
                </a:lnTo>
                <a:lnTo>
                  <a:pt x="16184" y="5275"/>
                </a:lnTo>
                <a:lnTo>
                  <a:pt x="16218" y="5333"/>
                </a:lnTo>
                <a:lnTo>
                  <a:pt x="16249" y="5392"/>
                </a:lnTo>
                <a:lnTo>
                  <a:pt x="16278" y="5455"/>
                </a:lnTo>
                <a:lnTo>
                  <a:pt x="16303" y="5518"/>
                </a:lnTo>
                <a:lnTo>
                  <a:pt x="16327" y="5584"/>
                </a:lnTo>
                <a:lnTo>
                  <a:pt x="16349" y="5651"/>
                </a:lnTo>
                <a:lnTo>
                  <a:pt x="16367" y="5720"/>
                </a:lnTo>
                <a:lnTo>
                  <a:pt x="16382" y="5791"/>
                </a:lnTo>
                <a:lnTo>
                  <a:pt x="16396" y="5864"/>
                </a:lnTo>
                <a:lnTo>
                  <a:pt x="16406" y="5939"/>
                </a:lnTo>
                <a:lnTo>
                  <a:pt x="16408" y="6053"/>
                </a:lnTo>
                <a:lnTo>
                  <a:pt x="16404" y="6164"/>
                </a:lnTo>
                <a:lnTo>
                  <a:pt x="16395" y="6273"/>
                </a:lnTo>
                <a:lnTo>
                  <a:pt x="16378" y="6381"/>
                </a:lnTo>
                <a:lnTo>
                  <a:pt x="16357" y="6487"/>
                </a:lnTo>
                <a:lnTo>
                  <a:pt x="16329" y="6591"/>
                </a:lnTo>
                <a:lnTo>
                  <a:pt x="16296" y="6692"/>
                </a:lnTo>
                <a:lnTo>
                  <a:pt x="16258" y="6792"/>
                </a:lnTo>
                <a:lnTo>
                  <a:pt x="16215" y="6889"/>
                </a:lnTo>
                <a:lnTo>
                  <a:pt x="16167" y="6985"/>
                </a:lnTo>
                <a:lnTo>
                  <a:pt x="16115" y="7077"/>
                </a:lnTo>
                <a:lnTo>
                  <a:pt x="16058" y="7169"/>
                </a:lnTo>
                <a:lnTo>
                  <a:pt x="15997" y="7258"/>
                </a:lnTo>
                <a:lnTo>
                  <a:pt x="15932" y="7343"/>
                </a:lnTo>
                <a:lnTo>
                  <a:pt x="15862" y="7427"/>
                </a:lnTo>
                <a:lnTo>
                  <a:pt x="15791" y="7509"/>
                </a:lnTo>
                <a:lnTo>
                  <a:pt x="15715" y="7588"/>
                </a:lnTo>
                <a:lnTo>
                  <a:pt x="15635" y="7664"/>
                </a:lnTo>
                <a:lnTo>
                  <a:pt x="15553" y="7738"/>
                </a:lnTo>
                <a:lnTo>
                  <a:pt x="15468" y="7809"/>
                </a:lnTo>
                <a:lnTo>
                  <a:pt x="15380" y="7877"/>
                </a:lnTo>
                <a:lnTo>
                  <a:pt x="15290" y="7943"/>
                </a:lnTo>
                <a:lnTo>
                  <a:pt x="15198" y="8005"/>
                </a:lnTo>
                <a:lnTo>
                  <a:pt x="15104" y="8065"/>
                </a:lnTo>
                <a:lnTo>
                  <a:pt x="15008" y="8122"/>
                </a:lnTo>
                <a:lnTo>
                  <a:pt x="14910" y="8176"/>
                </a:lnTo>
                <a:lnTo>
                  <a:pt x="14811" y="8227"/>
                </a:lnTo>
                <a:lnTo>
                  <a:pt x="14711" y="8276"/>
                </a:lnTo>
                <a:lnTo>
                  <a:pt x="14610" y="8321"/>
                </a:lnTo>
                <a:lnTo>
                  <a:pt x="14508" y="8363"/>
                </a:lnTo>
                <a:lnTo>
                  <a:pt x="14406" y="8401"/>
                </a:lnTo>
                <a:lnTo>
                  <a:pt x="14303" y="8436"/>
                </a:lnTo>
                <a:lnTo>
                  <a:pt x="14269" y="8448"/>
                </a:lnTo>
                <a:lnTo>
                  <a:pt x="14234" y="8457"/>
                </a:lnTo>
                <a:lnTo>
                  <a:pt x="14199" y="8468"/>
                </a:lnTo>
                <a:lnTo>
                  <a:pt x="14165" y="8477"/>
                </a:lnTo>
                <a:lnTo>
                  <a:pt x="14130" y="8486"/>
                </a:lnTo>
                <a:lnTo>
                  <a:pt x="14095" y="8496"/>
                </a:lnTo>
                <a:lnTo>
                  <a:pt x="14062" y="8504"/>
                </a:lnTo>
                <a:lnTo>
                  <a:pt x="14027" y="8513"/>
                </a:lnTo>
                <a:lnTo>
                  <a:pt x="13992" y="8520"/>
                </a:lnTo>
                <a:lnTo>
                  <a:pt x="13957" y="8528"/>
                </a:lnTo>
                <a:lnTo>
                  <a:pt x="13923" y="8535"/>
                </a:lnTo>
                <a:lnTo>
                  <a:pt x="13888" y="8542"/>
                </a:lnTo>
                <a:lnTo>
                  <a:pt x="13853" y="8549"/>
                </a:lnTo>
                <a:lnTo>
                  <a:pt x="13819" y="8555"/>
                </a:lnTo>
                <a:lnTo>
                  <a:pt x="13784" y="8560"/>
                </a:lnTo>
                <a:lnTo>
                  <a:pt x="13749" y="8567"/>
                </a:lnTo>
                <a:lnTo>
                  <a:pt x="13713" y="8572"/>
                </a:lnTo>
                <a:lnTo>
                  <a:pt x="13678" y="8576"/>
                </a:lnTo>
                <a:lnTo>
                  <a:pt x="13643" y="8581"/>
                </a:lnTo>
                <a:lnTo>
                  <a:pt x="13608" y="8585"/>
                </a:lnTo>
                <a:lnTo>
                  <a:pt x="13572" y="8590"/>
                </a:lnTo>
                <a:lnTo>
                  <a:pt x="13538" y="8593"/>
                </a:lnTo>
                <a:lnTo>
                  <a:pt x="13502" y="8596"/>
                </a:lnTo>
                <a:lnTo>
                  <a:pt x="13466" y="8599"/>
                </a:lnTo>
                <a:lnTo>
                  <a:pt x="13431" y="8601"/>
                </a:lnTo>
                <a:lnTo>
                  <a:pt x="13395" y="8603"/>
                </a:lnTo>
                <a:lnTo>
                  <a:pt x="13359" y="8605"/>
                </a:lnTo>
                <a:lnTo>
                  <a:pt x="13323" y="8606"/>
                </a:lnTo>
                <a:lnTo>
                  <a:pt x="13287" y="8607"/>
                </a:lnTo>
                <a:lnTo>
                  <a:pt x="13250" y="8608"/>
                </a:lnTo>
                <a:lnTo>
                  <a:pt x="13215" y="8608"/>
                </a:lnTo>
                <a:lnTo>
                  <a:pt x="13179" y="8608"/>
                </a:lnTo>
                <a:lnTo>
                  <a:pt x="13156" y="8703"/>
                </a:lnTo>
                <a:lnTo>
                  <a:pt x="13132" y="8797"/>
                </a:lnTo>
                <a:lnTo>
                  <a:pt x="13105" y="8888"/>
                </a:lnTo>
                <a:lnTo>
                  <a:pt x="13075" y="8978"/>
                </a:lnTo>
                <a:lnTo>
                  <a:pt x="13042" y="9067"/>
                </a:lnTo>
                <a:lnTo>
                  <a:pt x="13006" y="9154"/>
                </a:lnTo>
                <a:lnTo>
                  <a:pt x="12969" y="9239"/>
                </a:lnTo>
                <a:lnTo>
                  <a:pt x="12928" y="9323"/>
                </a:lnTo>
                <a:lnTo>
                  <a:pt x="12886" y="9406"/>
                </a:lnTo>
                <a:lnTo>
                  <a:pt x="12840" y="9486"/>
                </a:lnTo>
                <a:lnTo>
                  <a:pt x="12793" y="9565"/>
                </a:lnTo>
                <a:lnTo>
                  <a:pt x="12744" y="9643"/>
                </a:lnTo>
                <a:lnTo>
                  <a:pt x="12692" y="9719"/>
                </a:lnTo>
                <a:lnTo>
                  <a:pt x="12637" y="9794"/>
                </a:lnTo>
                <a:lnTo>
                  <a:pt x="12581" y="9867"/>
                </a:lnTo>
                <a:lnTo>
                  <a:pt x="12522" y="9939"/>
                </a:lnTo>
                <a:lnTo>
                  <a:pt x="12462" y="10010"/>
                </a:lnTo>
                <a:lnTo>
                  <a:pt x="12399" y="10079"/>
                </a:lnTo>
                <a:lnTo>
                  <a:pt x="12336" y="10146"/>
                </a:lnTo>
                <a:lnTo>
                  <a:pt x="12269" y="10212"/>
                </a:lnTo>
                <a:lnTo>
                  <a:pt x="12201" y="10277"/>
                </a:lnTo>
                <a:lnTo>
                  <a:pt x="12132" y="10339"/>
                </a:lnTo>
                <a:lnTo>
                  <a:pt x="12060" y="10401"/>
                </a:lnTo>
                <a:lnTo>
                  <a:pt x="11987" y="10461"/>
                </a:lnTo>
                <a:lnTo>
                  <a:pt x="11912" y="10519"/>
                </a:lnTo>
                <a:lnTo>
                  <a:pt x="11836" y="10577"/>
                </a:lnTo>
                <a:lnTo>
                  <a:pt x="11758" y="10632"/>
                </a:lnTo>
                <a:lnTo>
                  <a:pt x="11679" y="10686"/>
                </a:lnTo>
                <a:lnTo>
                  <a:pt x="11599" y="10739"/>
                </a:lnTo>
                <a:lnTo>
                  <a:pt x="11517" y="10791"/>
                </a:lnTo>
                <a:lnTo>
                  <a:pt x="11434" y="10841"/>
                </a:lnTo>
                <a:lnTo>
                  <a:pt x="11350" y="10889"/>
                </a:lnTo>
                <a:lnTo>
                  <a:pt x="11320" y="10905"/>
                </a:lnTo>
                <a:lnTo>
                  <a:pt x="11292" y="10920"/>
                </a:lnTo>
                <a:lnTo>
                  <a:pt x="11262" y="10936"/>
                </a:lnTo>
                <a:lnTo>
                  <a:pt x="11232" y="10950"/>
                </a:lnTo>
                <a:lnTo>
                  <a:pt x="11203" y="10965"/>
                </a:lnTo>
                <a:lnTo>
                  <a:pt x="11174" y="10980"/>
                </a:lnTo>
                <a:lnTo>
                  <a:pt x="11144" y="10994"/>
                </a:lnTo>
                <a:lnTo>
                  <a:pt x="11114" y="11009"/>
                </a:lnTo>
                <a:lnTo>
                  <a:pt x="11084" y="11023"/>
                </a:lnTo>
                <a:lnTo>
                  <a:pt x="11054" y="11037"/>
                </a:lnTo>
                <a:lnTo>
                  <a:pt x="11024" y="11050"/>
                </a:lnTo>
                <a:lnTo>
                  <a:pt x="10994" y="11065"/>
                </a:lnTo>
                <a:lnTo>
                  <a:pt x="10964" y="11079"/>
                </a:lnTo>
                <a:lnTo>
                  <a:pt x="10934" y="11092"/>
                </a:lnTo>
                <a:lnTo>
                  <a:pt x="10903" y="11106"/>
                </a:lnTo>
                <a:lnTo>
                  <a:pt x="10872" y="11119"/>
                </a:lnTo>
                <a:lnTo>
                  <a:pt x="10805" y="11145"/>
                </a:lnTo>
                <a:lnTo>
                  <a:pt x="10737" y="11171"/>
                </a:lnTo>
                <a:lnTo>
                  <a:pt x="10668" y="11195"/>
                </a:lnTo>
                <a:lnTo>
                  <a:pt x="10601" y="11219"/>
                </a:lnTo>
                <a:lnTo>
                  <a:pt x="10533" y="11241"/>
                </a:lnTo>
                <a:lnTo>
                  <a:pt x="10466" y="11263"/>
                </a:lnTo>
                <a:lnTo>
                  <a:pt x="10399" y="11284"/>
                </a:lnTo>
                <a:lnTo>
                  <a:pt x="10331" y="11303"/>
                </a:lnTo>
                <a:lnTo>
                  <a:pt x="10263" y="11322"/>
                </a:lnTo>
                <a:lnTo>
                  <a:pt x="10197" y="11340"/>
                </a:lnTo>
                <a:lnTo>
                  <a:pt x="10129" y="11358"/>
                </a:lnTo>
                <a:lnTo>
                  <a:pt x="10061" y="11373"/>
                </a:lnTo>
                <a:lnTo>
                  <a:pt x="9993" y="11389"/>
                </a:lnTo>
                <a:lnTo>
                  <a:pt x="9926" y="11403"/>
                </a:lnTo>
                <a:lnTo>
                  <a:pt x="9858" y="11417"/>
                </a:lnTo>
                <a:lnTo>
                  <a:pt x="9789" y="11429"/>
                </a:lnTo>
                <a:lnTo>
                  <a:pt x="9722" y="11441"/>
                </a:lnTo>
                <a:lnTo>
                  <a:pt x="9653" y="11452"/>
                </a:lnTo>
                <a:lnTo>
                  <a:pt x="9584" y="11462"/>
                </a:lnTo>
                <a:lnTo>
                  <a:pt x="9516" y="11471"/>
                </a:lnTo>
                <a:lnTo>
                  <a:pt x="9447" y="11479"/>
                </a:lnTo>
                <a:lnTo>
                  <a:pt x="9377" y="11487"/>
                </a:lnTo>
                <a:lnTo>
                  <a:pt x="9307" y="11494"/>
                </a:lnTo>
                <a:lnTo>
                  <a:pt x="9238" y="11499"/>
                </a:lnTo>
                <a:lnTo>
                  <a:pt x="9167" y="11504"/>
                </a:lnTo>
                <a:lnTo>
                  <a:pt x="9097" y="11509"/>
                </a:lnTo>
                <a:lnTo>
                  <a:pt x="9025" y="11512"/>
                </a:lnTo>
                <a:lnTo>
                  <a:pt x="8954" y="11515"/>
                </a:lnTo>
                <a:lnTo>
                  <a:pt x="8882" y="11517"/>
                </a:lnTo>
                <a:lnTo>
                  <a:pt x="8810" y="11517"/>
                </a:lnTo>
                <a:lnTo>
                  <a:pt x="8737" y="11518"/>
                </a:lnTo>
                <a:lnTo>
                  <a:pt x="8663" y="11517"/>
                </a:lnTo>
                <a:lnTo>
                  <a:pt x="8262" y="11488"/>
                </a:lnTo>
                <a:lnTo>
                  <a:pt x="8161" y="11474"/>
                </a:lnTo>
                <a:lnTo>
                  <a:pt x="8060" y="11458"/>
                </a:lnTo>
                <a:lnTo>
                  <a:pt x="7959" y="11440"/>
                </a:lnTo>
                <a:lnTo>
                  <a:pt x="7858" y="11421"/>
                </a:lnTo>
                <a:lnTo>
                  <a:pt x="7758" y="11400"/>
                </a:lnTo>
                <a:lnTo>
                  <a:pt x="7657" y="11376"/>
                </a:lnTo>
                <a:lnTo>
                  <a:pt x="7558" y="11351"/>
                </a:lnTo>
                <a:lnTo>
                  <a:pt x="7459" y="11325"/>
                </a:lnTo>
                <a:lnTo>
                  <a:pt x="7362" y="11296"/>
                </a:lnTo>
                <a:lnTo>
                  <a:pt x="7265" y="11265"/>
                </a:lnTo>
                <a:lnTo>
                  <a:pt x="7168" y="11233"/>
                </a:lnTo>
                <a:lnTo>
                  <a:pt x="7072" y="11197"/>
                </a:lnTo>
                <a:lnTo>
                  <a:pt x="6978" y="11161"/>
                </a:lnTo>
                <a:lnTo>
                  <a:pt x="6884" y="11121"/>
                </a:lnTo>
                <a:lnTo>
                  <a:pt x="6792" y="11080"/>
                </a:lnTo>
                <a:lnTo>
                  <a:pt x="6701" y="11037"/>
                </a:lnTo>
                <a:lnTo>
                  <a:pt x="6611" y="10990"/>
                </a:lnTo>
                <a:lnTo>
                  <a:pt x="6522" y="10942"/>
                </a:lnTo>
                <a:lnTo>
                  <a:pt x="6436" y="10892"/>
                </a:lnTo>
                <a:lnTo>
                  <a:pt x="6350" y="10839"/>
                </a:lnTo>
                <a:lnTo>
                  <a:pt x="6266" y="10784"/>
                </a:lnTo>
                <a:lnTo>
                  <a:pt x="6184" y="10727"/>
                </a:lnTo>
                <a:lnTo>
                  <a:pt x="6104" y="10666"/>
                </a:lnTo>
                <a:lnTo>
                  <a:pt x="6025" y="10604"/>
                </a:lnTo>
                <a:lnTo>
                  <a:pt x="5948" y="10539"/>
                </a:lnTo>
                <a:lnTo>
                  <a:pt x="5873" y="10471"/>
                </a:lnTo>
                <a:lnTo>
                  <a:pt x="5800" y="10401"/>
                </a:lnTo>
                <a:lnTo>
                  <a:pt x="5729" y="10328"/>
                </a:lnTo>
                <a:lnTo>
                  <a:pt x="5662" y="10253"/>
                </a:lnTo>
                <a:lnTo>
                  <a:pt x="5595" y="10175"/>
                </a:lnTo>
                <a:lnTo>
                  <a:pt x="5532" y="10093"/>
                </a:lnTo>
                <a:lnTo>
                  <a:pt x="5470" y="10010"/>
                </a:lnTo>
                <a:lnTo>
                  <a:pt x="5380" y="10000"/>
                </a:lnTo>
                <a:lnTo>
                  <a:pt x="5290" y="9987"/>
                </a:lnTo>
                <a:lnTo>
                  <a:pt x="5199" y="9974"/>
                </a:lnTo>
                <a:lnTo>
                  <a:pt x="5109" y="9958"/>
                </a:lnTo>
                <a:lnTo>
                  <a:pt x="5020" y="9941"/>
                </a:lnTo>
                <a:lnTo>
                  <a:pt x="4931" y="9923"/>
                </a:lnTo>
                <a:lnTo>
                  <a:pt x="4842" y="9902"/>
                </a:lnTo>
                <a:lnTo>
                  <a:pt x="4754" y="9879"/>
                </a:lnTo>
                <a:lnTo>
                  <a:pt x="4666" y="9855"/>
                </a:lnTo>
                <a:lnTo>
                  <a:pt x="4579" y="9830"/>
                </a:lnTo>
                <a:lnTo>
                  <a:pt x="4493" y="9802"/>
                </a:lnTo>
                <a:lnTo>
                  <a:pt x="4408" y="9773"/>
                </a:lnTo>
                <a:lnTo>
                  <a:pt x="4322" y="9741"/>
                </a:lnTo>
                <a:lnTo>
                  <a:pt x="4238" y="9708"/>
                </a:lnTo>
                <a:lnTo>
                  <a:pt x="4155" y="9673"/>
                </a:lnTo>
                <a:lnTo>
                  <a:pt x="4073" y="9636"/>
                </a:lnTo>
                <a:lnTo>
                  <a:pt x="3993" y="9597"/>
                </a:lnTo>
                <a:lnTo>
                  <a:pt x="3913" y="9556"/>
                </a:lnTo>
                <a:lnTo>
                  <a:pt x="3834" y="9513"/>
                </a:lnTo>
                <a:lnTo>
                  <a:pt x="3757" y="9469"/>
                </a:lnTo>
                <a:lnTo>
                  <a:pt x="3682" y="9422"/>
                </a:lnTo>
                <a:lnTo>
                  <a:pt x="3607" y="9373"/>
                </a:lnTo>
                <a:lnTo>
                  <a:pt x="3533" y="9322"/>
                </a:lnTo>
                <a:lnTo>
                  <a:pt x="3461" y="9269"/>
                </a:lnTo>
                <a:lnTo>
                  <a:pt x="3391" y="9213"/>
                </a:lnTo>
                <a:lnTo>
                  <a:pt x="3323" y="9156"/>
                </a:lnTo>
                <a:lnTo>
                  <a:pt x="3256" y="9097"/>
                </a:lnTo>
                <a:lnTo>
                  <a:pt x="3191" y="9035"/>
                </a:lnTo>
                <a:lnTo>
                  <a:pt x="3128" y="8972"/>
                </a:lnTo>
                <a:lnTo>
                  <a:pt x="3066" y="8905"/>
                </a:lnTo>
                <a:lnTo>
                  <a:pt x="3007" y="8837"/>
                </a:lnTo>
                <a:lnTo>
                  <a:pt x="2949" y="8767"/>
                </a:lnTo>
                <a:lnTo>
                  <a:pt x="2927" y="8735"/>
                </a:lnTo>
                <a:lnTo>
                  <a:pt x="2905" y="8703"/>
                </a:lnTo>
                <a:lnTo>
                  <a:pt x="2885" y="8671"/>
                </a:lnTo>
                <a:lnTo>
                  <a:pt x="2864" y="8639"/>
                </a:lnTo>
                <a:lnTo>
                  <a:pt x="2845" y="8606"/>
                </a:lnTo>
                <a:lnTo>
                  <a:pt x="2825" y="8574"/>
                </a:lnTo>
                <a:lnTo>
                  <a:pt x="2807" y="8541"/>
                </a:lnTo>
                <a:lnTo>
                  <a:pt x="2789" y="8507"/>
                </a:lnTo>
                <a:lnTo>
                  <a:pt x="2772" y="8474"/>
                </a:lnTo>
                <a:lnTo>
                  <a:pt x="2756" y="8441"/>
                </a:lnTo>
                <a:lnTo>
                  <a:pt x="2740" y="8406"/>
                </a:lnTo>
                <a:lnTo>
                  <a:pt x="2726" y="8372"/>
                </a:lnTo>
                <a:lnTo>
                  <a:pt x="2711" y="8338"/>
                </a:lnTo>
                <a:lnTo>
                  <a:pt x="2699" y="8303"/>
                </a:lnTo>
                <a:lnTo>
                  <a:pt x="2687" y="8269"/>
                </a:lnTo>
                <a:lnTo>
                  <a:pt x="2676" y="8233"/>
                </a:lnTo>
                <a:lnTo>
                  <a:pt x="2665" y="8198"/>
                </a:lnTo>
                <a:lnTo>
                  <a:pt x="2655" y="8163"/>
                </a:lnTo>
                <a:lnTo>
                  <a:pt x="2647" y="8127"/>
                </a:lnTo>
                <a:lnTo>
                  <a:pt x="2640" y="8092"/>
                </a:lnTo>
                <a:lnTo>
                  <a:pt x="2633" y="8055"/>
                </a:lnTo>
                <a:lnTo>
                  <a:pt x="2627" y="8019"/>
                </a:lnTo>
                <a:lnTo>
                  <a:pt x="2623" y="7982"/>
                </a:lnTo>
                <a:lnTo>
                  <a:pt x="2620" y="7946"/>
                </a:lnTo>
                <a:lnTo>
                  <a:pt x="2617" y="7908"/>
                </a:lnTo>
                <a:lnTo>
                  <a:pt x="2616" y="7872"/>
                </a:lnTo>
                <a:lnTo>
                  <a:pt x="2616" y="7835"/>
                </a:lnTo>
                <a:lnTo>
                  <a:pt x="2617" y="7797"/>
                </a:lnTo>
                <a:lnTo>
                  <a:pt x="2620" y="7759"/>
                </a:lnTo>
                <a:lnTo>
                  <a:pt x="2623" y="7721"/>
                </a:lnTo>
                <a:lnTo>
                  <a:pt x="2628" y="7682"/>
                </a:lnTo>
                <a:lnTo>
                  <a:pt x="2635" y="7644"/>
                </a:lnTo>
                <a:lnTo>
                  <a:pt x="2629" y="7639"/>
                </a:lnTo>
                <a:lnTo>
                  <a:pt x="2625" y="7635"/>
                </a:lnTo>
                <a:lnTo>
                  <a:pt x="2620" y="7629"/>
                </a:lnTo>
                <a:lnTo>
                  <a:pt x="2615" y="7624"/>
                </a:lnTo>
                <a:lnTo>
                  <a:pt x="2611" y="7619"/>
                </a:lnTo>
                <a:lnTo>
                  <a:pt x="2606" y="7615"/>
                </a:lnTo>
                <a:lnTo>
                  <a:pt x="2602" y="7610"/>
                </a:lnTo>
                <a:lnTo>
                  <a:pt x="2597" y="7604"/>
                </a:lnTo>
                <a:lnTo>
                  <a:pt x="2506" y="7605"/>
                </a:lnTo>
                <a:lnTo>
                  <a:pt x="2415" y="7604"/>
                </a:lnTo>
                <a:lnTo>
                  <a:pt x="2325" y="7601"/>
                </a:lnTo>
                <a:lnTo>
                  <a:pt x="2235" y="7595"/>
                </a:lnTo>
                <a:lnTo>
                  <a:pt x="2144" y="7587"/>
                </a:lnTo>
                <a:lnTo>
                  <a:pt x="2055" y="7575"/>
                </a:lnTo>
                <a:lnTo>
                  <a:pt x="1966" y="7563"/>
                </a:lnTo>
                <a:lnTo>
                  <a:pt x="1878" y="7547"/>
                </a:lnTo>
                <a:lnTo>
                  <a:pt x="1791" y="7528"/>
                </a:lnTo>
                <a:lnTo>
                  <a:pt x="1704" y="7508"/>
                </a:lnTo>
                <a:lnTo>
                  <a:pt x="1618" y="7485"/>
                </a:lnTo>
                <a:lnTo>
                  <a:pt x="1533" y="7459"/>
                </a:lnTo>
                <a:lnTo>
                  <a:pt x="1450" y="7430"/>
                </a:lnTo>
                <a:lnTo>
                  <a:pt x="1368" y="7399"/>
                </a:lnTo>
                <a:lnTo>
                  <a:pt x="1287" y="7366"/>
                </a:lnTo>
                <a:lnTo>
                  <a:pt x="1207" y="7330"/>
                </a:lnTo>
                <a:lnTo>
                  <a:pt x="1128" y="7292"/>
                </a:lnTo>
                <a:lnTo>
                  <a:pt x="1052" y="7251"/>
                </a:lnTo>
                <a:lnTo>
                  <a:pt x="976" y="7208"/>
                </a:lnTo>
                <a:lnTo>
                  <a:pt x="903" y="7162"/>
                </a:lnTo>
                <a:lnTo>
                  <a:pt x="832" y="7113"/>
                </a:lnTo>
                <a:lnTo>
                  <a:pt x="762" y="7062"/>
                </a:lnTo>
                <a:lnTo>
                  <a:pt x="694" y="7008"/>
                </a:lnTo>
                <a:lnTo>
                  <a:pt x="629" y="6951"/>
                </a:lnTo>
                <a:lnTo>
                  <a:pt x="565" y="6892"/>
                </a:lnTo>
                <a:lnTo>
                  <a:pt x="505" y="6830"/>
                </a:lnTo>
                <a:lnTo>
                  <a:pt x="446" y="6766"/>
                </a:lnTo>
                <a:lnTo>
                  <a:pt x="390" y="6698"/>
                </a:lnTo>
                <a:lnTo>
                  <a:pt x="335" y="6629"/>
                </a:lnTo>
                <a:lnTo>
                  <a:pt x="284" y="6557"/>
                </a:lnTo>
                <a:lnTo>
                  <a:pt x="236" y="6482"/>
                </a:lnTo>
                <a:lnTo>
                  <a:pt x="190" y="6404"/>
                </a:lnTo>
                <a:lnTo>
                  <a:pt x="165" y="6352"/>
                </a:lnTo>
                <a:lnTo>
                  <a:pt x="142" y="6300"/>
                </a:lnTo>
                <a:lnTo>
                  <a:pt x="120" y="6247"/>
                </a:lnTo>
                <a:lnTo>
                  <a:pt x="100" y="6195"/>
                </a:lnTo>
                <a:lnTo>
                  <a:pt x="83" y="6144"/>
                </a:lnTo>
                <a:lnTo>
                  <a:pt x="67" y="6092"/>
                </a:lnTo>
                <a:lnTo>
                  <a:pt x="52" y="6040"/>
                </a:lnTo>
                <a:lnTo>
                  <a:pt x="39" y="5989"/>
                </a:lnTo>
                <a:lnTo>
                  <a:pt x="29" y="5937"/>
                </a:lnTo>
                <a:lnTo>
                  <a:pt x="19" y="5886"/>
                </a:lnTo>
                <a:lnTo>
                  <a:pt x="11" y="5834"/>
                </a:lnTo>
                <a:lnTo>
                  <a:pt x="6" y="5783"/>
                </a:lnTo>
                <a:lnTo>
                  <a:pt x="2" y="5732"/>
                </a:lnTo>
                <a:lnTo>
                  <a:pt x="0" y="5680"/>
                </a:lnTo>
                <a:lnTo>
                  <a:pt x="0" y="5629"/>
                </a:lnTo>
                <a:lnTo>
                  <a:pt x="1" y="5578"/>
                </a:lnTo>
                <a:lnTo>
                  <a:pt x="5" y="5527"/>
                </a:lnTo>
                <a:lnTo>
                  <a:pt x="10" y="5476"/>
                </a:lnTo>
                <a:lnTo>
                  <a:pt x="16" y="5425"/>
                </a:lnTo>
                <a:lnTo>
                  <a:pt x="26" y="5374"/>
                </a:lnTo>
                <a:lnTo>
                  <a:pt x="36" y="5323"/>
                </a:lnTo>
                <a:lnTo>
                  <a:pt x="48" y="5272"/>
                </a:lnTo>
                <a:lnTo>
                  <a:pt x="62" y="5221"/>
                </a:lnTo>
                <a:lnTo>
                  <a:pt x="78" y="5171"/>
                </a:lnTo>
                <a:lnTo>
                  <a:pt x="95" y="5120"/>
                </a:lnTo>
                <a:lnTo>
                  <a:pt x="115" y="5069"/>
                </a:lnTo>
                <a:lnTo>
                  <a:pt x="135" y="5018"/>
                </a:lnTo>
                <a:lnTo>
                  <a:pt x="158" y="4968"/>
                </a:lnTo>
                <a:lnTo>
                  <a:pt x="183" y="4917"/>
                </a:lnTo>
                <a:lnTo>
                  <a:pt x="209" y="4867"/>
                </a:lnTo>
                <a:lnTo>
                  <a:pt x="238" y="4815"/>
                </a:lnTo>
                <a:lnTo>
                  <a:pt x="268" y="4764"/>
                </a:lnTo>
                <a:lnTo>
                  <a:pt x="308" y="4708"/>
                </a:lnTo>
                <a:lnTo>
                  <a:pt x="349" y="4654"/>
                </a:lnTo>
                <a:lnTo>
                  <a:pt x="392" y="4601"/>
                </a:lnTo>
                <a:lnTo>
                  <a:pt x="436" y="4550"/>
                </a:lnTo>
                <a:lnTo>
                  <a:pt x="481" y="4500"/>
                </a:lnTo>
                <a:lnTo>
                  <a:pt x="527" y="4452"/>
                </a:lnTo>
                <a:lnTo>
                  <a:pt x="575" y="4406"/>
                </a:lnTo>
                <a:lnTo>
                  <a:pt x="625" y="4361"/>
                </a:lnTo>
                <a:lnTo>
                  <a:pt x="675" y="4318"/>
                </a:lnTo>
                <a:lnTo>
                  <a:pt x="726" y="4276"/>
                </a:lnTo>
                <a:lnTo>
                  <a:pt x="778" y="4236"/>
                </a:lnTo>
                <a:lnTo>
                  <a:pt x="832" y="4198"/>
                </a:lnTo>
                <a:lnTo>
                  <a:pt x="886" y="4161"/>
                </a:lnTo>
                <a:lnTo>
                  <a:pt x="941" y="4126"/>
                </a:lnTo>
                <a:lnTo>
                  <a:pt x="999" y="4092"/>
                </a:lnTo>
                <a:lnTo>
                  <a:pt x="1055" y="4060"/>
                </a:lnTo>
                <a:lnTo>
                  <a:pt x="1114" y="4029"/>
                </a:lnTo>
                <a:lnTo>
                  <a:pt x="1173" y="4000"/>
                </a:lnTo>
                <a:lnTo>
                  <a:pt x="1233" y="3973"/>
                </a:lnTo>
                <a:lnTo>
                  <a:pt x="1293" y="3947"/>
                </a:lnTo>
                <a:lnTo>
                  <a:pt x="1355" y="3922"/>
                </a:lnTo>
                <a:lnTo>
                  <a:pt x="1417" y="3899"/>
                </a:lnTo>
                <a:lnTo>
                  <a:pt x="1480" y="3877"/>
                </a:lnTo>
                <a:lnTo>
                  <a:pt x="1543" y="3857"/>
                </a:lnTo>
                <a:lnTo>
                  <a:pt x="1608" y="3839"/>
                </a:lnTo>
                <a:lnTo>
                  <a:pt x="1673" y="3822"/>
                </a:lnTo>
                <a:lnTo>
                  <a:pt x="1737" y="3806"/>
                </a:lnTo>
                <a:lnTo>
                  <a:pt x="1803" y="3792"/>
                </a:lnTo>
                <a:lnTo>
                  <a:pt x="1869" y="3779"/>
                </a:lnTo>
                <a:lnTo>
                  <a:pt x="1936" y="3768"/>
                </a:lnTo>
                <a:lnTo>
                  <a:pt x="2003" y="3758"/>
                </a:lnTo>
                <a:lnTo>
                  <a:pt x="2070" y="3750"/>
                </a:lnTo>
                <a:lnTo>
                  <a:pt x="2037" y="3718"/>
                </a:lnTo>
                <a:lnTo>
                  <a:pt x="2005" y="3685"/>
                </a:lnTo>
                <a:lnTo>
                  <a:pt x="1974" y="3651"/>
                </a:lnTo>
                <a:lnTo>
                  <a:pt x="1945" y="3618"/>
                </a:lnTo>
                <a:lnTo>
                  <a:pt x="1919" y="3583"/>
                </a:lnTo>
                <a:lnTo>
                  <a:pt x="1893" y="3549"/>
                </a:lnTo>
                <a:lnTo>
                  <a:pt x="1868" y="3514"/>
                </a:lnTo>
                <a:lnTo>
                  <a:pt x="1846" y="3478"/>
                </a:lnTo>
                <a:lnTo>
                  <a:pt x="1825" y="3442"/>
                </a:lnTo>
                <a:lnTo>
                  <a:pt x="1806" y="3405"/>
                </a:lnTo>
                <a:lnTo>
                  <a:pt x="1787" y="3368"/>
                </a:lnTo>
                <a:lnTo>
                  <a:pt x="1772" y="3330"/>
                </a:lnTo>
                <a:lnTo>
                  <a:pt x="1758" y="3293"/>
                </a:lnTo>
                <a:lnTo>
                  <a:pt x="1744" y="3254"/>
                </a:lnTo>
                <a:lnTo>
                  <a:pt x="1733" y="3216"/>
                </a:lnTo>
                <a:lnTo>
                  <a:pt x="1724" y="3176"/>
                </a:lnTo>
                <a:lnTo>
                  <a:pt x="1717" y="3137"/>
                </a:lnTo>
                <a:lnTo>
                  <a:pt x="1711" y="3097"/>
                </a:lnTo>
                <a:lnTo>
                  <a:pt x="1706" y="3058"/>
                </a:lnTo>
                <a:lnTo>
                  <a:pt x="1703" y="3017"/>
                </a:lnTo>
                <a:lnTo>
                  <a:pt x="1702" y="2975"/>
                </a:lnTo>
                <a:lnTo>
                  <a:pt x="1703" y="2935"/>
                </a:lnTo>
                <a:lnTo>
                  <a:pt x="1706" y="2893"/>
                </a:lnTo>
                <a:lnTo>
                  <a:pt x="1712" y="2851"/>
                </a:lnTo>
                <a:lnTo>
                  <a:pt x="1718" y="2809"/>
                </a:lnTo>
                <a:lnTo>
                  <a:pt x="1726" y="2767"/>
                </a:lnTo>
                <a:lnTo>
                  <a:pt x="1736" y="2724"/>
                </a:lnTo>
                <a:lnTo>
                  <a:pt x="1747" y="2681"/>
                </a:lnTo>
                <a:lnTo>
                  <a:pt x="1761" y="2638"/>
                </a:lnTo>
                <a:lnTo>
                  <a:pt x="1777" y="2594"/>
                </a:lnTo>
                <a:lnTo>
                  <a:pt x="1795" y="2550"/>
                </a:lnTo>
                <a:lnTo>
                  <a:pt x="1813" y="2507"/>
                </a:lnTo>
                <a:lnTo>
                  <a:pt x="1843" y="2454"/>
                </a:lnTo>
                <a:lnTo>
                  <a:pt x="1874" y="2404"/>
                </a:lnTo>
                <a:lnTo>
                  <a:pt x="1906" y="2354"/>
                </a:lnTo>
                <a:lnTo>
                  <a:pt x="1940" y="2306"/>
                </a:lnTo>
                <a:lnTo>
                  <a:pt x="1976" y="2260"/>
                </a:lnTo>
                <a:lnTo>
                  <a:pt x="2013" y="2215"/>
                </a:lnTo>
                <a:lnTo>
                  <a:pt x="2052" y="2171"/>
                </a:lnTo>
                <a:lnTo>
                  <a:pt x="2092" y="2129"/>
                </a:lnTo>
                <a:lnTo>
                  <a:pt x="2133" y="2088"/>
                </a:lnTo>
                <a:lnTo>
                  <a:pt x="2175" y="2048"/>
                </a:lnTo>
                <a:lnTo>
                  <a:pt x="2219" y="2011"/>
                </a:lnTo>
                <a:lnTo>
                  <a:pt x="2264" y="1973"/>
                </a:lnTo>
                <a:lnTo>
                  <a:pt x="2310" y="1938"/>
                </a:lnTo>
                <a:lnTo>
                  <a:pt x="2358" y="1904"/>
                </a:lnTo>
                <a:lnTo>
                  <a:pt x="2405" y="1871"/>
                </a:lnTo>
                <a:lnTo>
                  <a:pt x="2454" y="1839"/>
                </a:lnTo>
                <a:lnTo>
                  <a:pt x="2504" y="1809"/>
                </a:lnTo>
                <a:lnTo>
                  <a:pt x="2555" y="1780"/>
                </a:lnTo>
                <a:lnTo>
                  <a:pt x="2607" y="1752"/>
                </a:lnTo>
                <a:lnTo>
                  <a:pt x="2659" y="1725"/>
                </a:lnTo>
                <a:lnTo>
                  <a:pt x="2712" y="1699"/>
                </a:lnTo>
                <a:lnTo>
                  <a:pt x="2766" y="1675"/>
                </a:lnTo>
                <a:lnTo>
                  <a:pt x="2820" y="1651"/>
                </a:lnTo>
                <a:lnTo>
                  <a:pt x="2876" y="1629"/>
                </a:lnTo>
                <a:lnTo>
                  <a:pt x="2931" y="1607"/>
                </a:lnTo>
                <a:lnTo>
                  <a:pt x="2986" y="1587"/>
                </a:lnTo>
                <a:lnTo>
                  <a:pt x="3043" y="1568"/>
                </a:lnTo>
                <a:lnTo>
                  <a:pt x="3099" y="1550"/>
                </a:lnTo>
                <a:lnTo>
                  <a:pt x="3155" y="1533"/>
                </a:lnTo>
                <a:lnTo>
                  <a:pt x="3213" y="1516"/>
                </a:lnTo>
                <a:lnTo>
                  <a:pt x="3270" y="1502"/>
                </a:lnTo>
                <a:lnTo>
                  <a:pt x="3328" y="1487"/>
                </a:lnTo>
                <a:lnTo>
                  <a:pt x="3378" y="1477"/>
                </a:lnTo>
                <a:lnTo>
                  <a:pt x="3427" y="1467"/>
                </a:lnTo>
                <a:lnTo>
                  <a:pt x="3477" y="1458"/>
                </a:lnTo>
                <a:lnTo>
                  <a:pt x="3528" y="1451"/>
                </a:lnTo>
                <a:lnTo>
                  <a:pt x="3577" y="1442"/>
                </a:lnTo>
                <a:lnTo>
                  <a:pt x="3627" y="1436"/>
                </a:lnTo>
                <a:lnTo>
                  <a:pt x="3677" y="1430"/>
                </a:lnTo>
                <a:lnTo>
                  <a:pt x="3727" y="1425"/>
                </a:lnTo>
                <a:lnTo>
                  <a:pt x="3777" y="1420"/>
                </a:lnTo>
                <a:lnTo>
                  <a:pt x="3827" y="1416"/>
                </a:lnTo>
                <a:lnTo>
                  <a:pt x="3876" y="1413"/>
                </a:lnTo>
                <a:lnTo>
                  <a:pt x="3927" y="1411"/>
                </a:lnTo>
                <a:lnTo>
                  <a:pt x="3977" y="1410"/>
                </a:lnTo>
                <a:lnTo>
                  <a:pt x="4026" y="1409"/>
                </a:lnTo>
                <a:lnTo>
                  <a:pt x="4076" y="1409"/>
                </a:lnTo>
                <a:lnTo>
                  <a:pt x="4126" y="1410"/>
                </a:lnTo>
                <a:lnTo>
                  <a:pt x="4176" y="1412"/>
                </a:lnTo>
                <a:lnTo>
                  <a:pt x="4225" y="1414"/>
                </a:lnTo>
                <a:lnTo>
                  <a:pt x="4275" y="1417"/>
                </a:lnTo>
                <a:lnTo>
                  <a:pt x="4325" y="1422"/>
                </a:lnTo>
                <a:lnTo>
                  <a:pt x="4374" y="1427"/>
                </a:lnTo>
                <a:lnTo>
                  <a:pt x="4423" y="1433"/>
                </a:lnTo>
                <a:lnTo>
                  <a:pt x="4472" y="1439"/>
                </a:lnTo>
                <a:lnTo>
                  <a:pt x="4521" y="1447"/>
                </a:lnTo>
                <a:lnTo>
                  <a:pt x="4571" y="1455"/>
                </a:lnTo>
                <a:lnTo>
                  <a:pt x="4620" y="1464"/>
                </a:lnTo>
                <a:lnTo>
                  <a:pt x="4669" y="1475"/>
                </a:lnTo>
                <a:lnTo>
                  <a:pt x="4718" y="1485"/>
                </a:lnTo>
                <a:lnTo>
                  <a:pt x="4767" y="1498"/>
                </a:lnTo>
                <a:lnTo>
                  <a:pt x="4816" y="1510"/>
                </a:lnTo>
                <a:lnTo>
                  <a:pt x="4864" y="1524"/>
                </a:lnTo>
                <a:lnTo>
                  <a:pt x="4912" y="1537"/>
                </a:lnTo>
                <a:lnTo>
                  <a:pt x="4927" y="1532"/>
                </a:lnTo>
                <a:lnTo>
                  <a:pt x="4940" y="1526"/>
                </a:lnTo>
                <a:lnTo>
                  <a:pt x="4953" y="1519"/>
                </a:lnTo>
                <a:lnTo>
                  <a:pt x="4968" y="1513"/>
                </a:lnTo>
                <a:lnTo>
                  <a:pt x="4981" y="1508"/>
                </a:lnTo>
                <a:lnTo>
                  <a:pt x="4995" y="1502"/>
                </a:lnTo>
                <a:lnTo>
                  <a:pt x="5009" y="1495"/>
                </a:lnTo>
                <a:lnTo>
                  <a:pt x="5023" y="1490"/>
                </a:lnTo>
                <a:lnTo>
                  <a:pt x="5070" y="1401"/>
                </a:lnTo>
                <a:lnTo>
                  <a:pt x="5121" y="1315"/>
                </a:lnTo>
                <a:lnTo>
                  <a:pt x="5177" y="1232"/>
                </a:lnTo>
                <a:lnTo>
                  <a:pt x="5237" y="1153"/>
                </a:lnTo>
                <a:lnTo>
                  <a:pt x="5301" y="1077"/>
                </a:lnTo>
                <a:lnTo>
                  <a:pt x="5367" y="1003"/>
                </a:lnTo>
                <a:lnTo>
                  <a:pt x="5438" y="932"/>
                </a:lnTo>
                <a:lnTo>
                  <a:pt x="5513" y="865"/>
                </a:lnTo>
                <a:lnTo>
                  <a:pt x="5590" y="801"/>
                </a:lnTo>
                <a:lnTo>
                  <a:pt x="5670" y="738"/>
                </a:lnTo>
                <a:lnTo>
                  <a:pt x="5752" y="680"/>
                </a:lnTo>
                <a:lnTo>
                  <a:pt x="5838" y="624"/>
                </a:lnTo>
                <a:lnTo>
                  <a:pt x="5925" y="571"/>
                </a:lnTo>
                <a:lnTo>
                  <a:pt x="6015" y="520"/>
                </a:lnTo>
                <a:lnTo>
                  <a:pt x="6107" y="472"/>
                </a:lnTo>
                <a:lnTo>
                  <a:pt x="6200" y="426"/>
                </a:lnTo>
                <a:lnTo>
                  <a:pt x="6295" y="383"/>
                </a:lnTo>
                <a:lnTo>
                  <a:pt x="6391" y="343"/>
                </a:lnTo>
                <a:lnTo>
                  <a:pt x="6488" y="305"/>
                </a:lnTo>
                <a:lnTo>
                  <a:pt x="6587" y="269"/>
                </a:lnTo>
                <a:lnTo>
                  <a:pt x="6686" y="235"/>
                </a:lnTo>
                <a:lnTo>
                  <a:pt x="6787" y="205"/>
                </a:lnTo>
                <a:lnTo>
                  <a:pt x="6886" y="176"/>
                </a:lnTo>
                <a:lnTo>
                  <a:pt x="6988" y="150"/>
                </a:lnTo>
                <a:lnTo>
                  <a:pt x="7088" y="126"/>
                </a:lnTo>
                <a:lnTo>
                  <a:pt x="7189" y="103"/>
                </a:lnTo>
                <a:lnTo>
                  <a:pt x="7289" y="83"/>
                </a:lnTo>
                <a:lnTo>
                  <a:pt x="7389" y="66"/>
                </a:lnTo>
                <a:lnTo>
                  <a:pt x="7488" y="50"/>
                </a:lnTo>
                <a:lnTo>
                  <a:pt x="7587" y="36"/>
                </a:lnTo>
                <a:lnTo>
                  <a:pt x="7683" y="24"/>
                </a:lnTo>
                <a:lnTo>
                  <a:pt x="7779" y="14"/>
                </a:lnTo>
                <a:lnTo>
                  <a:pt x="7866" y="8"/>
                </a:lnTo>
                <a:lnTo>
                  <a:pt x="7952" y="4"/>
                </a:lnTo>
                <a:lnTo>
                  <a:pt x="8038" y="2"/>
                </a:lnTo>
                <a:lnTo>
                  <a:pt x="8125" y="0"/>
                </a:lnTo>
                <a:lnTo>
                  <a:pt x="8212" y="0"/>
                </a:lnTo>
                <a:lnTo>
                  <a:pt x="8299" y="1"/>
                </a:lnTo>
                <a:lnTo>
                  <a:pt x="8387" y="4"/>
                </a:lnTo>
                <a:lnTo>
                  <a:pt x="8475" y="8"/>
                </a:lnTo>
                <a:lnTo>
                  <a:pt x="8562" y="15"/>
                </a:lnTo>
                <a:lnTo>
                  <a:pt x="8650" y="22"/>
                </a:lnTo>
                <a:lnTo>
                  <a:pt x="8737" y="31"/>
                </a:lnTo>
                <a:lnTo>
                  <a:pt x="8824" y="42"/>
                </a:lnTo>
                <a:lnTo>
                  <a:pt x="8912" y="55"/>
                </a:lnTo>
                <a:lnTo>
                  <a:pt x="8998" y="69"/>
                </a:lnTo>
                <a:lnTo>
                  <a:pt x="9084" y="85"/>
                </a:lnTo>
                <a:lnTo>
                  <a:pt x="9170" y="104"/>
                </a:lnTo>
                <a:lnTo>
                  <a:pt x="9255" y="124"/>
                </a:lnTo>
                <a:lnTo>
                  <a:pt x="9339" y="146"/>
                </a:lnTo>
                <a:lnTo>
                  <a:pt x="9422" y="171"/>
                </a:lnTo>
                <a:lnTo>
                  <a:pt x="9505" y="197"/>
                </a:lnTo>
                <a:lnTo>
                  <a:pt x="9587" y="225"/>
                </a:lnTo>
                <a:lnTo>
                  <a:pt x="9668" y="256"/>
                </a:lnTo>
                <a:lnTo>
                  <a:pt x="9748" y="290"/>
                </a:lnTo>
                <a:lnTo>
                  <a:pt x="9827" y="324"/>
                </a:lnTo>
                <a:lnTo>
                  <a:pt x="9904" y="361"/>
                </a:lnTo>
                <a:lnTo>
                  <a:pt x="9981" y="402"/>
                </a:lnTo>
                <a:lnTo>
                  <a:pt x="10056" y="445"/>
                </a:lnTo>
                <a:lnTo>
                  <a:pt x="10130" y="489"/>
                </a:lnTo>
                <a:lnTo>
                  <a:pt x="10202" y="536"/>
                </a:lnTo>
                <a:lnTo>
                  <a:pt x="10272" y="586"/>
                </a:lnTo>
                <a:lnTo>
                  <a:pt x="10341" y="639"/>
                </a:lnTo>
                <a:lnTo>
                  <a:pt x="10409" y="695"/>
                </a:lnTo>
                <a:lnTo>
                  <a:pt x="10490" y="661"/>
                </a:lnTo>
                <a:lnTo>
                  <a:pt x="10572" y="633"/>
                </a:lnTo>
                <a:lnTo>
                  <a:pt x="10655" y="609"/>
                </a:lnTo>
                <a:lnTo>
                  <a:pt x="10739" y="589"/>
                </a:lnTo>
                <a:lnTo>
                  <a:pt x="10824" y="575"/>
                </a:lnTo>
                <a:lnTo>
                  <a:pt x="10910" y="563"/>
                </a:lnTo>
                <a:lnTo>
                  <a:pt x="10996" y="557"/>
                </a:lnTo>
                <a:lnTo>
                  <a:pt x="11083" y="554"/>
                </a:lnTo>
                <a:lnTo>
                  <a:pt x="11170" y="555"/>
                </a:lnTo>
                <a:lnTo>
                  <a:pt x="11256" y="559"/>
                </a:lnTo>
                <a:lnTo>
                  <a:pt x="11343" y="569"/>
                </a:lnTo>
                <a:lnTo>
                  <a:pt x="11429" y="581"/>
                </a:lnTo>
                <a:lnTo>
                  <a:pt x="11515" y="597"/>
                </a:lnTo>
                <a:lnTo>
                  <a:pt x="11600" y="615"/>
                </a:lnTo>
                <a:lnTo>
                  <a:pt x="11686" y="638"/>
                </a:lnTo>
                <a:lnTo>
                  <a:pt x="11770" y="664"/>
                </a:lnTo>
                <a:lnTo>
                  <a:pt x="11853" y="694"/>
                </a:lnTo>
                <a:lnTo>
                  <a:pt x="11936" y="726"/>
                </a:lnTo>
                <a:lnTo>
                  <a:pt x="12016" y="761"/>
                </a:lnTo>
                <a:lnTo>
                  <a:pt x="12096" y="800"/>
                </a:lnTo>
                <a:lnTo>
                  <a:pt x="12174" y="840"/>
                </a:lnTo>
                <a:lnTo>
                  <a:pt x="12251" y="884"/>
                </a:lnTo>
                <a:lnTo>
                  <a:pt x="12325" y="931"/>
                </a:lnTo>
                <a:lnTo>
                  <a:pt x="12398" y="980"/>
                </a:lnTo>
                <a:lnTo>
                  <a:pt x="12469" y="1031"/>
                </a:lnTo>
                <a:lnTo>
                  <a:pt x="12537" y="1085"/>
                </a:lnTo>
                <a:lnTo>
                  <a:pt x="12603" y="1141"/>
                </a:lnTo>
                <a:lnTo>
                  <a:pt x="12667" y="1200"/>
                </a:lnTo>
                <a:lnTo>
                  <a:pt x="12727" y="1261"/>
                </a:lnTo>
                <a:lnTo>
                  <a:pt x="12786" y="1324"/>
                </a:lnTo>
                <a:lnTo>
                  <a:pt x="12841" y="1388"/>
                </a:lnTo>
                <a:lnTo>
                  <a:pt x="12894" y="145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4800600" y="3276720"/>
          <a:ext cx="38268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276720"/>
                    <a:ext cx="3826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7010280" y="472428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012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7543800" y="5105520"/>
            <a:ext cx="304920" cy="152280"/>
            <a:chOff x="7543800" y="5105520"/>
            <a:chExt cx="304920" cy="152280"/>
          </a:xfrm>
        </p:grpSpPr>
        <p:sp>
          <p:nvSpPr>
            <p:cNvPr id="440" name=""/>
            <p:cNvSpPr/>
            <p:nvPr/>
          </p:nvSpPr>
          <p:spPr>
            <a:xfrm>
              <a:off x="7543800" y="5148000"/>
              <a:ext cx="304920" cy="109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43800" y="5105520"/>
              <a:ext cx="303840" cy="835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7590960" y="5115240"/>
              <a:ext cx="209520" cy="63360"/>
              <a:chOff x="7590960" y="5115240"/>
              <a:chExt cx="209520" cy="63360"/>
            </a:xfrm>
          </p:grpSpPr>
          <p:sp>
            <p:nvSpPr>
              <p:cNvPr id="443" name=""/>
              <p:cNvSpPr/>
              <p:nvPr/>
            </p:nvSpPr>
            <p:spPr>
              <a:xfrm>
                <a:off x="7699320" y="511668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699320" y="511668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590960" y="5147280"/>
                <a:ext cx="9972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590960" y="5147280"/>
                <a:ext cx="9972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596000" y="511524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596000" y="511524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95720" y="515052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95720" y="515052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701480" y="511848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01480" y="511848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592760" y="5149080"/>
                <a:ext cx="9972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92760" y="5149080"/>
                <a:ext cx="9972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597800" y="511668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597800" y="511668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697880" y="515232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697880" y="515232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7620120" y="6095880"/>
            <a:ext cx="1066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7086600" y="44193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648320" y="5524560"/>
            <a:ext cx="838080" cy="2109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4114800" y="5943600"/>
            <a:ext cx="609480" cy="1890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5410080" y="5943600"/>
            <a:ext cx="609840" cy="18900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3886200" y="6248520"/>
            <a:ext cx="380880" cy="304200"/>
            <a:chOff x="3886200" y="6248520"/>
            <a:chExt cx="380880" cy="304200"/>
          </a:xfrm>
        </p:grpSpPr>
        <p:sp>
          <p:nvSpPr>
            <p:cNvPr id="465" name=""/>
            <p:cNvSpPr/>
            <p:nvPr/>
          </p:nvSpPr>
          <p:spPr>
            <a:xfrm>
              <a:off x="4028760" y="6397560"/>
              <a:ext cx="92880" cy="5760"/>
            </a:xfrm>
            <a:custGeom>
              <a:avLst/>
              <a:gdLst/>
              <a:ahLst/>
              <a:rect l="l" t="t" r="r" b="b"/>
              <a:pathLst>
                <a:path w="205" h="16">
                  <a:moveTo>
                    <a:pt x="25" y="16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179" y="16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62160" y="6248520"/>
              <a:ext cx="218880" cy="145440"/>
            </a:xfrm>
            <a:custGeom>
              <a:avLst/>
              <a:gdLst/>
              <a:ahLst/>
              <a:rect l="l" t="t" r="r" b="b"/>
              <a:pathLst>
                <a:path w="484" h="409">
                  <a:moveTo>
                    <a:pt x="0" y="385"/>
                  </a:moveTo>
                  <a:lnTo>
                    <a:pt x="3" y="402"/>
                  </a:lnTo>
                  <a:lnTo>
                    <a:pt x="19" y="409"/>
                  </a:lnTo>
                  <a:lnTo>
                    <a:pt x="458" y="409"/>
                  </a:lnTo>
                  <a:lnTo>
                    <a:pt x="477" y="406"/>
                  </a:lnTo>
                  <a:lnTo>
                    <a:pt x="484" y="390"/>
                  </a:lnTo>
                  <a:lnTo>
                    <a:pt x="484" y="22"/>
                  </a:lnTo>
                  <a:lnTo>
                    <a:pt x="480" y="6"/>
                  </a:lnTo>
                  <a:lnTo>
                    <a:pt x="463" y="0"/>
                  </a:lnTo>
                  <a:lnTo>
                    <a:pt x="24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65760" y="6248880"/>
              <a:ext cx="211320" cy="142560"/>
            </a:xfrm>
            <a:custGeom>
              <a:avLst/>
              <a:gdLst/>
              <a:ahLst/>
              <a:rect l="l" t="t" r="r" b="b"/>
              <a:pathLst>
                <a:path w="467" h="399">
                  <a:moveTo>
                    <a:pt x="0" y="375"/>
                  </a:moveTo>
                  <a:lnTo>
                    <a:pt x="3" y="392"/>
                  </a:lnTo>
                  <a:lnTo>
                    <a:pt x="18" y="399"/>
                  </a:lnTo>
                  <a:lnTo>
                    <a:pt x="442" y="399"/>
                  </a:lnTo>
                  <a:lnTo>
                    <a:pt x="459" y="396"/>
                  </a:lnTo>
                  <a:lnTo>
                    <a:pt x="467" y="381"/>
                  </a:lnTo>
                  <a:lnTo>
                    <a:pt x="467" y="21"/>
                  </a:lnTo>
                  <a:lnTo>
                    <a:pt x="462" y="6"/>
                  </a:lnTo>
                  <a:lnTo>
                    <a:pt x="445" y="0"/>
                  </a:lnTo>
                  <a:lnTo>
                    <a:pt x="22" y="0"/>
                  </a:lnTo>
                  <a:lnTo>
                    <a:pt x="6" y="4"/>
                  </a:lnTo>
                  <a:lnTo>
                    <a:pt x="0" y="21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1080" y="6268320"/>
              <a:ext cx="10800" cy="101880"/>
            </a:xfrm>
            <a:custGeom>
              <a:avLst/>
              <a:gdLst/>
              <a:ahLst/>
              <a:rect l="l" t="t" r="r" b="b"/>
              <a:pathLst>
                <a:path w="24" h="285">
                  <a:moveTo>
                    <a:pt x="24" y="11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11" y="26"/>
                  </a:lnTo>
                  <a:lnTo>
                    <a:pt x="11" y="271"/>
                  </a:lnTo>
                  <a:lnTo>
                    <a:pt x="24" y="285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90960" y="6268320"/>
              <a:ext cx="10800" cy="105480"/>
            </a:xfrm>
            <a:custGeom>
              <a:avLst/>
              <a:gdLst/>
              <a:ahLst/>
              <a:rect l="l" t="t" r="r" b="b"/>
              <a:pathLst>
                <a:path w="25" h="296">
                  <a:moveTo>
                    <a:pt x="0" y="285"/>
                  </a:moveTo>
                  <a:lnTo>
                    <a:pt x="11" y="296"/>
                  </a:lnTo>
                  <a:lnTo>
                    <a:pt x="25" y="280"/>
                  </a:lnTo>
                  <a:lnTo>
                    <a:pt x="14" y="270"/>
                  </a:lnTo>
                  <a:lnTo>
                    <a:pt x="14" y="146"/>
                  </a:lnTo>
                  <a:lnTo>
                    <a:pt x="14" y="26"/>
                  </a:lnTo>
                  <a:lnTo>
                    <a:pt x="25" y="16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95280" y="6268320"/>
              <a:ext cx="151920" cy="5400"/>
            </a:xfrm>
            <a:custGeom>
              <a:avLst/>
              <a:gdLst/>
              <a:ahLst/>
              <a:rect l="l" t="t" r="r" b="b"/>
              <a:pathLst>
                <a:path w="336" h="16">
                  <a:moveTo>
                    <a:pt x="0" y="0"/>
                  </a:moveTo>
                  <a:lnTo>
                    <a:pt x="13" y="16"/>
                  </a:lnTo>
                  <a:lnTo>
                    <a:pt x="321" y="16"/>
                  </a:lnTo>
                  <a:lnTo>
                    <a:pt x="3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95280" y="6365520"/>
              <a:ext cx="156600" cy="8280"/>
            </a:xfrm>
            <a:custGeom>
              <a:avLst/>
              <a:gdLst/>
              <a:ahLst/>
              <a:rect l="l" t="t" r="r" b="b"/>
              <a:pathLst>
                <a:path w="345" h="25">
                  <a:moveTo>
                    <a:pt x="334" y="25"/>
                  </a:moveTo>
                  <a:lnTo>
                    <a:pt x="345" y="14"/>
                  </a:lnTo>
                  <a:lnTo>
                    <a:pt x="332" y="0"/>
                  </a:lnTo>
                  <a:lnTo>
                    <a:pt x="321" y="10"/>
                  </a:lnTo>
                  <a:lnTo>
                    <a:pt x="14" y="9"/>
                  </a:lnTo>
                  <a:lnTo>
                    <a:pt x="0" y="25"/>
                  </a:lnTo>
                  <a:lnTo>
                    <a:pt x="334" y="25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47560" y="6384600"/>
              <a:ext cx="5040" cy="180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94560" y="6271200"/>
              <a:ext cx="153720" cy="100440"/>
            </a:xfrm>
            <a:custGeom>
              <a:avLst/>
              <a:gdLst/>
              <a:ahLst/>
              <a:rect l="l" t="t" r="r" b="b"/>
              <a:pathLst>
                <a:path w="341" h="284">
                  <a:moveTo>
                    <a:pt x="0" y="266"/>
                  </a:moveTo>
                  <a:lnTo>
                    <a:pt x="2" y="278"/>
                  </a:lnTo>
                  <a:lnTo>
                    <a:pt x="13" y="284"/>
                  </a:lnTo>
                  <a:lnTo>
                    <a:pt x="322" y="284"/>
                  </a:lnTo>
                  <a:lnTo>
                    <a:pt x="335" y="281"/>
                  </a:lnTo>
                  <a:lnTo>
                    <a:pt x="341" y="270"/>
                  </a:lnTo>
                  <a:lnTo>
                    <a:pt x="341" y="16"/>
                  </a:lnTo>
                  <a:lnTo>
                    <a:pt x="337" y="6"/>
                  </a:lnTo>
                  <a:lnTo>
                    <a:pt x="326" y="0"/>
                  </a:lnTo>
                  <a:lnTo>
                    <a:pt x="16" y="0"/>
                  </a:lnTo>
                  <a:lnTo>
                    <a:pt x="5" y="3"/>
                  </a:lnTo>
                  <a:lnTo>
                    <a:pt x="0" y="15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52800" y="6415200"/>
              <a:ext cx="251640" cy="71280"/>
            </a:xfrm>
            <a:custGeom>
              <a:avLst/>
              <a:gdLst/>
              <a:ahLst/>
              <a:rect l="l" t="t" r="r" b="b"/>
              <a:pathLst>
                <a:path w="555" h="202">
                  <a:moveTo>
                    <a:pt x="0" y="186"/>
                  </a:moveTo>
                  <a:lnTo>
                    <a:pt x="5" y="195"/>
                  </a:lnTo>
                  <a:lnTo>
                    <a:pt x="22" y="202"/>
                  </a:lnTo>
                  <a:lnTo>
                    <a:pt x="534" y="202"/>
                  </a:lnTo>
                  <a:lnTo>
                    <a:pt x="551" y="198"/>
                  </a:lnTo>
                  <a:lnTo>
                    <a:pt x="555" y="187"/>
                  </a:lnTo>
                  <a:lnTo>
                    <a:pt x="554" y="17"/>
                  </a:lnTo>
                  <a:lnTo>
                    <a:pt x="552" y="7"/>
                  </a:lnTo>
                  <a:lnTo>
                    <a:pt x="537" y="0"/>
                  </a:lnTo>
                  <a:lnTo>
                    <a:pt x="22" y="0"/>
                  </a:lnTo>
                  <a:lnTo>
                    <a:pt x="5" y="6"/>
                  </a:lnTo>
                  <a:lnTo>
                    <a:pt x="0" y="17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86200" y="6489360"/>
              <a:ext cx="380880" cy="63360"/>
            </a:xfrm>
            <a:custGeom>
              <a:avLst/>
              <a:gdLst/>
              <a:ahLst/>
              <a:rect l="l" t="t" r="r" b="b"/>
              <a:pathLst>
                <a:path w="841" h="179">
                  <a:moveTo>
                    <a:pt x="802" y="0"/>
                  </a:moveTo>
                  <a:lnTo>
                    <a:pt x="841" y="136"/>
                  </a:lnTo>
                  <a:lnTo>
                    <a:pt x="840" y="157"/>
                  </a:lnTo>
                  <a:lnTo>
                    <a:pt x="835" y="179"/>
                  </a:lnTo>
                  <a:lnTo>
                    <a:pt x="18" y="179"/>
                  </a:lnTo>
                  <a:lnTo>
                    <a:pt x="3" y="168"/>
                  </a:lnTo>
                  <a:lnTo>
                    <a:pt x="0" y="158"/>
                  </a:lnTo>
                  <a:lnTo>
                    <a:pt x="1" y="136"/>
                  </a:lnTo>
                  <a:lnTo>
                    <a:pt x="39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90520" y="6540840"/>
              <a:ext cx="371880" cy="3960"/>
            </a:xfrm>
            <a:custGeom>
              <a:avLst/>
              <a:gdLst/>
              <a:ahLst/>
              <a:rect l="l" t="t" r="r" b="b"/>
              <a:pathLst>
                <a:path w="823" h="11">
                  <a:moveTo>
                    <a:pt x="823" y="0"/>
                  </a:moveTo>
                  <a:lnTo>
                    <a:pt x="821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23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08520" y="6508080"/>
              <a:ext cx="63000" cy="24120"/>
            </a:xfrm>
            <a:custGeom>
              <a:avLst/>
              <a:gdLst/>
              <a:ahLst/>
              <a:rect l="l" t="t" r="r" b="b"/>
              <a:pathLst>
                <a:path w="140" h="68">
                  <a:moveTo>
                    <a:pt x="0" y="68"/>
                  </a:moveTo>
                  <a:lnTo>
                    <a:pt x="18" y="0"/>
                  </a:lnTo>
                  <a:lnTo>
                    <a:pt x="40" y="0"/>
                  </a:lnTo>
                  <a:lnTo>
                    <a:pt x="37" y="17"/>
                  </a:lnTo>
                  <a:lnTo>
                    <a:pt x="60" y="17"/>
                  </a:lnTo>
                  <a:lnTo>
                    <a:pt x="57" y="32"/>
                  </a:lnTo>
                  <a:lnTo>
                    <a:pt x="90" y="32"/>
                  </a:lnTo>
                  <a:lnTo>
                    <a:pt x="86" y="46"/>
                  </a:lnTo>
                  <a:lnTo>
                    <a:pt x="140" y="46"/>
                  </a:lnTo>
                  <a:lnTo>
                    <a:pt x="135" y="68"/>
                  </a:lnTo>
                  <a:lnTo>
                    <a:pt x="78" y="68"/>
                  </a:lnTo>
                  <a:lnTo>
                    <a:pt x="80" y="58"/>
                  </a:lnTo>
                  <a:lnTo>
                    <a:pt x="59" y="58"/>
                  </a:lnTo>
                  <a:lnTo>
                    <a:pt x="56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27600" y="6508080"/>
              <a:ext cx="180000" cy="2412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" y="0"/>
                  </a:moveTo>
                  <a:lnTo>
                    <a:pt x="0" y="15"/>
                  </a:lnTo>
                  <a:lnTo>
                    <a:pt x="23" y="15"/>
                  </a:lnTo>
                  <a:lnTo>
                    <a:pt x="18" y="30"/>
                  </a:lnTo>
                  <a:lnTo>
                    <a:pt x="51" y="30"/>
                  </a:lnTo>
                  <a:lnTo>
                    <a:pt x="49" y="44"/>
                  </a:lnTo>
                  <a:lnTo>
                    <a:pt x="101" y="44"/>
                  </a:lnTo>
                  <a:lnTo>
                    <a:pt x="98" y="68"/>
                  </a:lnTo>
                  <a:lnTo>
                    <a:pt x="303" y="68"/>
                  </a:lnTo>
                  <a:lnTo>
                    <a:pt x="312" y="43"/>
                  </a:lnTo>
                  <a:lnTo>
                    <a:pt x="354" y="43"/>
                  </a:lnTo>
                  <a:lnTo>
                    <a:pt x="359" y="29"/>
                  </a:lnTo>
                  <a:lnTo>
                    <a:pt x="396" y="29"/>
                  </a:lnTo>
                  <a:lnTo>
                    <a:pt x="399" y="18"/>
                  </a:lnTo>
                  <a:lnTo>
                    <a:pt x="387" y="18"/>
                  </a:lnTo>
                  <a:lnTo>
                    <a:pt x="39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24600" y="6508800"/>
              <a:ext cx="18000" cy="23400"/>
            </a:xfrm>
            <a:custGeom>
              <a:avLst/>
              <a:gdLst/>
              <a:ahLst/>
              <a:rect l="l" t="t" r="r" b="b"/>
              <a:pathLst>
                <a:path w="40" h="67">
                  <a:moveTo>
                    <a:pt x="0" y="0"/>
                  </a:moveTo>
                  <a:lnTo>
                    <a:pt x="22" y="0"/>
                  </a:lnTo>
                  <a:lnTo>
                    <a:pt x="40" y="67"/>
                  </a:lnTo>
                  <a:lnTo>
                    <a:pt x="1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6920" y="6520320"/>
              <a:ext cx="60480" cy="1188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35" y="36"/>
                  </a:moveTo>
                  <a:lnTo>
                    <a:pt x="131" y="0"/>
                  </a:lnTo>
                  <a:lnTo>
                    <a:pt x="55" y="0"/>
                  </a:lnTo>
                  <a:lnTo>
                    <a:pt x="49" y="14"/>
                  </a:lnTo>
                  <a:lnTo>
                    <a:pt x="9" y="14"/>
                  </a:lnTo>
                  <a:lnTo>
                    <a:pt x="0" y="36"/>
                  </a:lnTo>
                  <a:lnTo>
                    <a:pt x="52" y="36"/>
                  </a:lnTo>
                  <a:lnTo>
                    <a:pt x="55" y="26"/>
                  </a:lnTo>
                  <a:lnTo>
                    <a:pt x="76" y="26"/>
                  </a:lnTo>
                  <a:lnTo>
                    <a:pt x="74" y="36"/>
                  </a:lnTo>
                  <a:lnTo>
                    <a:pt x="135" y="3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05800" y="6508080"/>
              <a:ext cx="19080" cy="468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44" y="14"/>
                  </a:moveTo>
                  <a:lnTo>
                    <a:pt x="44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09760" y="6515280"/>
              <a:ext cx="16200" cy="324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11"/>
                  </a:moveTo>
                  <a:lnTo>
                    <a:pt x="35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77440" y="6508080"/>
              <a:ext cx="48960" cy="24120"/>
            </a:xfrm>
            <a:custGeom>
              <a:avLst/>
              <a:gdLst/>
              <a:ahLst/>
              <a:rect l="l" t="t" r="r" b="b"/>
              <a:pathLst>
                <a:path w="108" h="68">
                  <a:moveTo>
                    <a:pt x="90" y="0"/>
                  </a:moveTo>
                  <a:lnTo>
                    <a:pt x="0" y="0"/>
                  </a:lnTo>
                  <a:lnTo>
                    <a:pt x="19" y="68"/>
                  </a:lnTo>
                  <a:lnTo>
                    <a:pt x="108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1360" y="6508080"/>
              <a:ext cx="43200" cy="1332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1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38"/>
                  </a:lnTo>
                  <a:lnTo>
                    <a:pt x="96" y="3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29560" y="6497280"/>
              <a:ext cx="42480" cy="7560"/>
            </a:xfrm>
            <a:custGeom>
              <a:avLst/>
              <a:gdLst/>
              <a:ahLst/>
              <a:rect l="l" t="t" r="r" b="b"/>
              <a:pathLst>
                <a:path w="94" h="22">
                  <a:moveTo>
                    <a:pt x="91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94" y="2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32080" y="6525360"/>
              <a:ext cx="46080" cy="684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94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101" y="2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75640" y="6497280"/>
              <a:ext cx="57600" cy="7560"/>
            </a:xfrm>
            <a:custGeom>
              <a:avLst/>
              <a:gdLst/>
              <a:ahLst/>
              <a:rect l="l" t="t" r="r" b="b"/>
              <a:pathLst>
                <a:path w="130" h="22">
                  <a:moveTo>
                    <a:pt x="127" y="0"/>
                  </a:moveTo>
                  <a:lnTo>
                    <a:pt x="0" y="0"/>
                  </a:lnTo>
                  <a:lnTo>
                    <a:pt x="5" y="22"/>
                  </a:lnTo>
                  <a:lnTo>
                    <a:pt x="130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43800" y="6497280"/>
              <a:ext cx="61560" cy="756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5" y="0"/>
                  </a:moveTo>
                  <a:lnTo>
                    <a:pt x="135" y="0"/>
                  </a:lnTo>
                  <a:lnTo>
                    <a:pt x="130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07160" y="6497280"/>
              <a:ext cx="56160" cy="7560"/>
            </a:xfrm>
            <a:custGeom>
              <a:avLst/>
              <a:gdLst/>
              <a:ahLst/>
              <a:rect l="l" t="t" r="r" b="b"/>
              <a:pathLst>
                <a:path w="124" h="22">
                  <a:moveTo>
                    <a:pt x="5" y="0"/>
                  </a:moveTo>
                  <a:lnTo>
                    <a:pt x="124" y="0"/>
                  </a:lnTo>
                  <a:lnTo>
                    <a:pt x="118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65120" y="6497280"/>
              <a:ext cx="59400" cy="7560"/>
            </a:xfrm>
            <a:custGeom>
              <a:avLst/>
              <a:gdLst/>
              <a:ahLst/>
              <a:rect l="l" t="t" r="r" b="b"/>
              <a:pathLst>
                <a:path w="131" h="22">
                  <a:moveTo>
                    <a:pt x="5" y="0"/>
                  </a:moveTo>
                  <a:lnTo>
                    <a:pt x="131" y="0"/>
                  </a:lnTo>
                  <a:lnTo>
                    <a:pt x="131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903120" y="6497280"/>
              <a:ext cx="347760" cy="36720"/>
            </a:xfrm>
            <a:custGeom>
              <a:avLst/>
              <a:gdLst/>
              <a:ahLst/>
              <a:rect l="l" t="t" r="r" b="b"/>
              <a:pathLst>
                <a:path w="768" h="103">
                  <a:moveTo>
                    <a:pt x="22" y="0"/>
                  </a:moveTo>
                  <a:lnTo>
                    <a:pt x="0" y="103"/>
                  </a:lnTo>
                  <a:lnTo>
                    <a:pt x="768" y="103"/>
                  </a:lnTo>
                  <a:lnTo>
                    <a:pt x="744" y="0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17520" y="6497280"/>
              <a:ext cx="18000" cy="756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4" y="0"/>
                  </a:moveTo>
                  <a:lnTo>
                    <a:pt x="39" y="0"/>
                  </a:lnTo>
                  <a:lnTo>
                    <a:pt x="35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91240" y="6545880"/>
              <a:ext cx="370080" cy="3240"/>
            </a:xfrm>
            <a:custGeom>
              <a:avLst/>
              <a:gdLst/>
              <a:ahLst/>
              <a:rect l="l" t="t" r="r" b="b"/>
              <a:pathLst>
                <a:path w="818" h="10">
                  <a:moveTo>
                    <a:pt x="818" y="0"/>
                  </a:moveTo>
                  <a:lnTo>
                    <a:pt x="814" y="10"/>
                  </a:lnTo>
                  <a:lnTo>
                    <a:pt x="3" y="9"/>
                  </a:lnTo>
                  <a:lnTo>
                    <a:pt x="0" y="0"/>
                  </a:lnTo>
                  <a:lnTo>
                    <a:pt x="818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90520" y="6540840"/>
              <a:ext cx="37188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86920" y="6545160"/>
              <a:ext cx="379080" cy="3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04200" y="6489360"/>
              <a:ext cx="34488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57480" y="6418080"/>
              <a:ext cx="241560" cy="3492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62320" y="6442920"/>
              <a:ext cx="72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019040" y="6442920"/>
              <a:ext cx="72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90320" y="6442920"/>
              <a:ext cx="72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19040" y="6418800"/>
              <a:ext cx="72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90320" y="6418800"/>
              <a:ext cx="72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162320" y="6418800"/>
              <a:ext cx="72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22640" y="6425280"/>
              <a:ext cx="63360" cy="147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0" y="24"/>
                  </a:moveTo>
                  <a:lnTo>
                    <a:pt x="42" y="24"/>
                  </a:lnTo>
                  <a:lnTo>
                    <a:pt x="42" y="0"/>
                  </a:lnTo>
                  <a:lnTo>
                    <a:pt x="96" y="0"/>
                  </a:lnTo>
                  <a:lnTo>
                    <a:pt x="96" y="24"/>
                  </a:lnTo>
                  <a:lnTo>
                    <a:pt x="140" y="24"/>
                  </a:lnTo>
                  <a:lnTo>
                    <a:pt x="140" y="34"/>
                  </a:lnTo>
                  <a:lnTo>
                    <a:pt x="96" y="34"/>
                  </a:lnTo>
                  <a:lnTo>
                    <a:pt x="96" y="42"/>
                  </a:lnTo>
                  <a:lnTo>
                    <a:pt x="42" y="42"/>
                  </a:lnTo>
                  <a:lnTo>
                    <a:pt x="42" y="34"/>
                  </a:lnTo>
                  <a:lnTo>
                    <a:pt x="0" y="3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043520" y="6436800"/>
              <a:ext cx="20520" cy="36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22640" y="6436800"/>
              <a:ext cx="19080" cy="36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066200" y="6436800"/>
              <a:ext cx="19080" cy="36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41720" y="6425280"/>
              <a:ext cx="24120" cy="82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2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24"/>
                  </a:lnTo>
                  <a:lnTo>
                    <a:pt x="47" y="21"/>
                  </a:lnTo>
                  <a:lnTo>
                    <a:pt x="9" y="2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41720" y="6425280"/>
              <a:ext cx="24120" cy="79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0" y="0"/>
                  </a:moveTo>
                  <a:lnTo>
                    <a:pt x="9" y="21"/>
                  </a:lnTo>
                  <a:lnTo>
                    <a:pt x="47" y="21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64840" y="6426000"/>
              <a:ext cx="3240" cy="1800"/>
            </a:xfrm>
            <a:prstGeom prst="rect">
              <a:avLst/>
            </a:prstGeom>
            <a:solidFill>
              <a:srgbClr val="00ce00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64840" y="6438240"/>
              <a:ext cx="3240" cy="1800"/>
            </a:xfrm>
            <a:prstGeom prst="rect">
              <a:avLst/>
            </a:prstGeom>
            <a:solidFill>
              <a:srgbClr val="ff0000"/>
            </a:solidFill>
            <a:ln w="144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22640" y="6428160"/>
              <a:ext cx="5400" cy="180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958200" y="6431040"/>
              <a:ext cx="240480" cy="14760"/>
            </a:xfrm>
            <a:custGeom>
              <a:avLst/>
              <a:gdLst/>
              <a:ahLst/>
              <a:rect l="l" t="t" r="r" b="b"/>
              <a:pathLst>
                <a:path w="534" h="42">
                  <a:moveTo>
                    <a:pt x="0" y="42"/>
                  </a:moveTo>
                  <a:lnTo>
                    <a:pt x="0" y="32"/>
                  </a:lnTo>
                  <a:lnTo>
                    <a:pt x="242" y="33"/>
                  </a:lnTo>
                  <a:lnTo>
                    <a:pt x="242" y="21"/>
                  </a:lnTo>
                  <a:lnTo>
                    <a:pt x="283" y="21"/>
                  </a:lnTo>
                  <a:lnTo>
                    <a:pt x="283" y="32"/>
                  </a:lnTo>
                  <a:lnTo>
                    <a:pt x="478" y="3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32"/>
                  </a:lnTo>
                  <a:lnTo>
                    <a:pt x="534" y="32"/>
                  </a:lnTo>
                  <a:lnTo>
                    <a:pt x="53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73840" y="6424560"/>
              <a:ext cx="13320" cy="133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39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31" y="39"/>
                  </a:lnTo>
                  <a:lnTo>
                    <a:pt x="25" y="33"/>
                  </a:lnTo>
                  <a:lnTo>
                    <a:pt x="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73840" y="6424560"/>
              <a:ext cx="13320" cy="111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0"/>
                  </a:moveTo>
                  <a:lnTo>
                    <a:pt x="4" y="33"/>
                  </a:lnTo>
                  <a:lnTo>
                    <a:pt x="25" y="33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173840" y="6436080"/>
              <a:ext cx="13320" cy="4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14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26" y="1"/>
                  </a:lnTo>
                  <a:lnTo>
                    <a:pt x="31" y="5"/>
                  </a:lnTo>
                  <a:lnTo>
                    <a:pt x="31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77440" y="6433200"/>
              <a:ext cx="6120" cy="3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77440" y="6433200"/>
              <a:ext cx="6120" cy="360"/>
            </a:xfrm>
            <a:prstGeom prst="rect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77440" y="6432480"/>
              <a:ext cx="6120" cy="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177440" y="6429600"/>
              <a:ext cx="6120" cy="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3400" y="6440400"/>
              <a:ext cx="7200" cy="3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73400" y="6440400"/>
              <a:ext cx="6120" cy="3240"/>
            </a:xfrm>
            <a:prstGeom prst="rect">
              <a:avLst/>
            </a:prstGeom>
            <a:noFill/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64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700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747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783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819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9855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9891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927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9744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0104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00464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0824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1184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58200" y="6459480"/>
              <a:ext cx="720" cy="2124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628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664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70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747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783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81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985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891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927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974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010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04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082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0118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154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190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0237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26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31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45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388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424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460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500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543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579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0615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651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0687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723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770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806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842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885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914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96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0996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032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068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11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148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87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23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25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302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338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374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41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457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493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52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572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612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648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684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720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75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803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183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875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911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947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198320" y="6459480"/>
              <a:ext cx="720" cy="2124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9628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9664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970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9747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783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81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85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891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927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974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0010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04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082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118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154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190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237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26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31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345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0388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0424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0460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500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543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579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0615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651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687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23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770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806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842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885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914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96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996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1032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068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111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148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187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23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25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302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1338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374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1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457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1493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52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1572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1612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1648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684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720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75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803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83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875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911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1947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66480" y="6424560"/>
              <a:ext cx="22320" cy="13320"/>
            </a:xfrm>
            <a:prstGeom prst="roundRect">
              <a:avLst>
                <a:gd name="adj" fmla="val 588236"/>
              </a:avLst>
            </a:prstGeom>
            <a:solidFill>
              <a:srgbClr val="808080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57480" y="6418080"/>
              <a:ext cx="241560" cy="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57480" y="6424560"/>
              <a:ext cx="241560" cy="18360"/>
            </a:xfrm>
            <a:custGeom>
              <a:avLst/>
              <a:gdLst/>
              <a:ahLst/>
              <a:rect l="l" t="t" r="r" b="b"/>
              <a:pathLst>
                <a:path w="535" h="52">
                  <a:moveTo>
                    <a:pt x="0" y="52"/>
                  </a:moveTo>
                  <a:lnTo>
                    <a:pt x="243" y="52"/>
                  </a:lnTo>
                  <a:lnTo>
                    <a:pt x="243" y="40"/>
                  </a:lnTo>
                  <a:lnTo>
                    <a:pt x="284" y="40"/>
                  </a:lnTo>
                  <a:lnTo>
                    <a:pt x="284" y="52"/>
                  </a:lnTo>
                  <a:lnTo>
                    <a:pt x="478" y="5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52"/>
                  </a:lnTo>
                  <a:lnTo>
                    <a:pt x="535" y="52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89320" y="6438240"/>
              <a:ext cx="4320" cy="3240"/>
            </a:xfrm>
            <a:prstGeom prst="ellipse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91840" y="6429600"/>
              <a:ext cx="720" cy="46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043520" y="6402240"/>
              <a:ext cx="68760" cy="324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07160" y="6405840"/>
              <a:ext cx="139320" cy="828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4419720" y="6248520"/>
            <a:ext cx="380880" cy="304200"/>
            <a:chOff x="4419720" y="6248520"/>
            <a:chExt cx="380880" cy="304200"/>
          </a:xfrm>
        </p:grpSpPr>
        <p:sp>
          <p:nvSpPr>
            <p:cNvPr id="670" name=""/>
            <p:cNvSpPr/>
            <p:nvPr/>
          </p:nvSpPr>
          <p:spPr>
            <a:xfrm>
              <a:off x="4562280" y="6397560"/>
              <a:ext cx="92880" cy="5760"/>
            </a:xfrm>
            <a:custGeom>
              <a:avLst/>
              <a:gdLst/>
              <a:ahLst/>
              <a:rect l="l" t="t" r="r" b="b"/>
              <a:pathLst>
                <a:path w="205" h="16">
                  <a:moveTo>
                    <a:pt x="25" y="16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179" y="16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95680" y="6248520"/>
              <a:ext cx="218880" cy="145440"/>
            </a:xfrm>
            <a:custGeom>
              <a:avLst/>
              <a:gdLst/>
              <a:ahLst/>
              <a:rect l="l" t="t" r="r" b="b"/>
              <a:pathLst>
                <a:path w="484" h="409">
                  <a:moveTo>
                    <a:pt x="0" y="385"/>
                  </a:moveTo>
                  <a:lnTo>
                    <a:pt x="3" y="402"/>
                  </a:lnTo>
                  <a:lnTo>
                    <a:pt x="19" y="409"/>
                  </a:lnTo>
                  <a:lnTo>
                    <a:pt x="458" y="409"/>
                  </a:lnTo>
                  <a:lnTo>
                    <a:pt x="477" y="406"/>
                  </a:lnTo>
                  <a:lnTo>
                    <a:pt x="484" y="390"/>
                  </a:lnTo>
                  <a:lnTo>
                    <a:pt x="484" y="22"/>
                  </a:lnTo>
                  <a:lnTo>
                    <a:pt x="480" y="6"/>
                  </a:lnTo>
                  <a:lnTo>
                    <a:pt x="463" y="0"/>
                  </a:lnTo>
                  <a:lnTo>
                    <a:pt x="24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99280" y="6248880"/>
              <a:ext cx="211320" cy="142560"/>
            </a:xfrm>
            <a:custGeom>
              <a:avLst/>
              <a:gdLst/>
              <a:ahLst/>
              <a:rect l="l" t="t" r="r" b="b"/>
              <a:pathLst>
                <a:path w="467" h="399">
                  <a:moveTo>
                    <a:pt x="0" y="375"/>
                  </a:moveTo>
                  <a:lnTo>
                    <a:pt x="3" y="392"/>
                  </a:lnTo>
                  <a:lnTo>
                    <a:pt x="18" y="399"/>
                  </a:lnTo>
                  <a:lnTo>
                    <a:pt x="442" y="399"/>
                  </a:lnTo>
                  <a:lnTo>
                    <a:pt x="459" y="396"/>
                  </a:lnTo>
                  <a:lnTo>
                    <a:pt x="467" y="381"/>
                  </a:lnTo>
                  <a:lnTo>
                    <a:pt x="467" y="21"/>
                  </a:lnTo>
                  <a:lnTo>
                    <a:pt x="462" y="6"/>
                  </a:lnTo>
                  <a:lnTo>
                    <a:pt x="445" y="0"/>
                  </a:lnTo>
                  <a:lnTo>
                    <a:pt x="22" y="0"/>
                  </a:lnTo>
                  <a:lnTo>
                    <a:pt x="6" y="4"/>
                  </a:lnTo>
                  <a:lnTo>
                    <a:pt x="0" y="21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74600" y="6268320"/>
              <a:ext cx="10800" cy="101880"/>
            </a:xfrm>
            <a:custGeom>
              <a:avLst/>
              <a:gdLst/>
              <a:ahLst/>
              <a:rect l="l" t="t" r="r" b="b"/>
              <a:pathLst>
                <a:path w="24" h="285">
                  <a:moveTo>
                    <a:pt x="24" y="11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11" y="26"/>
                  </a:lnTo>
                  <a:lnTo>
                    <a:pt x="11" y="271"/>
                  </a:lnTo>
                  <a:lnTo>
                    <a:pt x="24" y="285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524480" y="6268320"/>
              <a:ext cx="10800" cy="105480"/>
            </a:xfrm>
            <a:custGeom>
              <a:avLst/>
              <a:gdLst/>
              <a:ahLst/>
              <a:rect l="l" t="t" r="r" b="b"/>
              <a:pathLst>
                <a:path w="25" h="296">
                  <a:moveTo>
                    <a:pt x="0" y="285"/>
                  </a:moveTo>
                  <a:lnTo>
                    <a:pt x="11" y="296"/>
                  </a:lnTo>
                  <a:lnTo>
                    <a:pt x="25" y="280"/>
                  </a:lnTo>
                  <a:lnTo>
                    <a:pt x="14" y="270"/>
                  </a:lnTo>
                  <a:lnTo>
                    <a:pt x="14" y="146"/>
                  </a:lnTo>
                  <a:lnTo>
                    <a:pt x="14" y="26"/>
                  </a:lnTo>
                  <a:lnTo>
                    <a:pt x="25" y="16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28800" y="6268320"/>
              <a:ext cx="151920" cy="5400"/>
            </a:xfrm>
            <a:custGeom>
              <a:avLst/>
              <a:gdLst/>
              <a:ahLst/>
              <a:rect l="l" t="t" r="r" b="b"/>
              <a:pathLst>
                <a:path w="336" h="16">
                  <a:moveTo>
                    <a:pt x="0" y="0"/>
                  </a:moveTo>
                  <a:lnTo>
                    <a:pt x="13" y="16"/>
                  </a:lnTo>
                  <a:lnTo>
                    <a:pt x="321" y="16"/>
                  </a:lnTo>
                  <a:lnTo>
                    <a:pt x="3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28800" y="6365520"/>
              <a:ext cx="156600" cy="8280"/>
            </a:xfrm>
            <a:custGeom>
              <a:avLst/>
              <a:gdLst/>
              <a:ahLst/>
              <a:rect l="l" t="t" r="r" b="b"/>
              <a:pathLst>
                <a:path w="345" h="25">
                  <a:moveTo>
                    <a:pt x="334" y="25"/>
                  </a:moveTo>
                  <a:lnTo>
                    <a:pt x="345" y="14"/>
                  </a:lnTo>
                  <a:lnTo>
                    <a:pt x="332" y="0"/>
                  </a:lnTo>
                  <a:lnTo>
                    <a:pt x="321" y="10"/>
                  </a:lnTo>
                  <a:lnTo>
                    <a:pt x="14" y="9"/>
                  </a:lnTo>
                  <a:lnTo>
                    <a:pt x="0" y="25"/>
                  </a:lnTo>
                  <a:lnTo>
                    <a:pt x="334" y="25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81080" y="6384600"/>
              <a:ext cx="5040" cy="180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28080" y="6271200"/>
              <a:ext cx="153720" cy="100440"/>
            </a:xfrm>
            <a:custGeom>
              <a:avLst/>
              <a:gdLst/>
              <a:ahLst/>
              <a:rect l="l" t="t" r="r" b="b"/>
              <a:pathLst>
                <a:path w="341" h="284">
                  <a:moveTo>
                    <a:pt x="0" y="266"/>
                  </a:moveTo>
                  <a:lnTo>
                    <a:pt x="2" y="278"/>
                  </a:lnTo>
                  <a:lnTo>
                    <a:pt x="13" y="284"/>
                  </a:lnTo>
                  <a:lnTo>
                    <a:pt x="322" y="284"/>
                  </a:lnTo>
                  <a:lnTo>
                    <a:pt x="335" y="281"/>
                  </a:lnTo>
                  <a:lnTo>
                    <a:pt x="341" y="270"/>
                  </a:lnTo>
                  <a:lnTo>
                    <a:pt x="341" y="16"/>
                  </a:lnTo>
                  <a:lnTo>
                    <a:pt x="337" y="6"/>
                  </a:lnTo>
                  <a:lnTo>
                    <a:pt x="326" y="0"/>
                  </a:lnTo>
                  <a:lnTo>
                    <a:pt x="16" y="0"/>
                  </a:lnTo>
                  <a:lnTo>
                    <a:pt x="5" y="3"/>
                  </a:lnTo>
                  <a:lnTo>
                    <a:pt x="0" y="15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86320" y="6415200"/>
              <a:ext cx="251640" cy="71280"/>
            </a:xfrm>
            <a:custGeom>
              <a:avLst/>
              <a:gdLst/>
              <a:ahLst/>
              <a:rect l="l" t="t" r="r" b="b"/>
              <a:pathLst>
                <a:path w="555" h="202">
                  <a:moveTo>
                    <a:pt x="0" y="186"/>
                  </a:moveTo>
                  <a:lnTo>
                    <a:pt x="5" y="195"/>
                  </a:lnTo>
                  <a:lnTo>
                    <a:pt x="22" y="202"/>
                  </a:lnTo>
                  <a:lnTo>
                    <a:pt x="534" y="202"/>
                  </a:lnTo>
                  <a:lnTo>
                    <a:pt x="551" y="198"/>
                  </a:lnTo>
                  <a:lnTo>
                    <a:pt x="555" y="187"/>
                  </a:lnTo>
                  <a:lnTo>
                    <a:pt x="554" y="17"/>
                  </a:lnTo>
                  <a:lnTo>
                    <a:pt x="552" y="7"/>
                  </a:lnTo>
                  <a:lnTo>
                    <a:pt x="537" y="0"/>
                  </a:lnTo>
                  <a:lnTo>
                    <a:pt x="22" y="0"/>
                  </a:lnTo>
                  <a:lnTo>
                    <a:pt x="5" y="6"/>
                  </a:lnTo>
                  <a:lnTo>
                    <a:pt x="0" y="17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19720" y="6489360"/>
              <a:ext cx="380880" cy="63360"/>
            </a:xfrm>
            <a:custGeom>
              <a:avLst/>
              <a:gdLst/>
              <a:ahLst/>
              <a:rect l="l" t="t" r="r" b="b"/>
              <a:pathLst>
                <a:path w="841" h="179">
                  <a:moveTo>
                    <a:pt x="802" y="0"/>
                  </a:moveTo>
                  <a:lnTo>
                    <a:pt x="841" y="136"/>
                  </a:lnTo>
                  <a:lnTo>
                    <a:pt x="840" y="157"/>
                  </a:lnTo>
                  <a:lnTo>
                    <a:pt x="835" y="179"/>
                  </a:lnTo>
                  <a:lnTo>
                    <a:pt x="18" y="179"/>
                  </a:lnTo>
                  <a:lnTo>
                    <a:pt x="3" y="168"/>
                  </a:lnTo>
                  <a:lnTo>
                    <a:pt x="0" y="158"/>
                  </a:lnTo>
                  <a:lnTo>
                    <a:pt x="1" y="136"/>
                  </a:lnTo>
                  <a:lnTo>
                    <a:pt x="39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24040" y="6540840"/>
              <a:ext cx="371880" cy="3960"/>
            </a:xfrm>
            <a:custGeom>
              <a:avLst/>
              <a:gdLst/>
              <a:ahLst/>
              <a:rect l="l" t="t" r="r" b="b"/>
              <a:pathLst>
                <a:path w="823" h="11">
                  <a:moveTo>
                    <a:pt x="823" y="0"/>
                  </a:moveTo>
                  <a:lnTo>
                    <a:pt x="821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23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42040" y="6508080"/>
              <a:ext cx="63000" cy="24120"/>
            </a:xfrm>
            <a:custGeom>
              <a:avLst/>
              <a:gdLst/>
              <a:ahLst/>
              <a:rect l="l" t="t" r="r" b="b"/>
              <a:pathLst>
                <a:path w="140" h="68">
                  <a:moveTo>
                    <a:pt x="0" y="68"/>
                  </a:moveTo>
                  <a:lnTo>
                    <a:pt x="18" y="0"/>
                  </a:lnTo>
                  <a:lnTo>
                    <a:pt x="40" y="0"/>
                  </a:lnTo>
                  <a:lnTo>
                    <a:pt x="37" y="17"/>
                  </a:lnTo>
                  <a:lnTo>
                    <a:pt x="60" y="17"/>
                  </a:lnTo>
                  <a:lnTo>
                    <a:pt x="57" y="32"/>
                  </a:lnTo>
                  <a:lnTo>
                    <a:pt x="90" y="32"/>
                  </a:lnTo>
                  <a:lnTo>
                    <a:pt x="86" y="46"/>
                  </a:lnTo>
                  <a:lnTo>
                    <a:pt x="140" y="46"/>
                  </a:lnTo>
                  <a:lnTo>
                    <a:pt x="135" y="68"/>
                  </a:lnTo>
                  <a:lnTo>
                    <a:pt x="78" y="68"/>
                  </a:lnTo>
                  <a:lnTo>
                    <a:pt x="80" y="58"/>
                  </a:lnTo>
                  <a:lnTo>
                    <a:pt x="59" y="58"/>
                  </a:lnTo>
                  <a:lnTo>
                    <a:pt x="56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461120" y="6508080"/>
              <a:ext cx="180000" cy="2412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" y="0"/>
                  </a:moveTo>
                  <a:lnTo>
                    <a:pt x="0" y="15"/>
                  </a:lnTo>
                  <a:lnTo>
                    <a:pt x="23" y="15"/>
                  </a:lnTo>
                  <a:lnTo>
                    <a:pt x="18" y="30"/>
                  </a:lnTo>
                  <a:lnTo>
                    <a:pt x="51" y="30"/>
                  </a:lnTo>
                  <a:lnTo>
                    <a:pt x="49" y="44"/>
                  </a:lnTo>
                  <a:lnTo>
                    <a:pt x="101" y="44"/>
                  </a:lnTo>
                  <a:lnTo>
                    <a:pt x="98" y="68"/>
                  </a:lnTo>
                  <a:lnTo>
                    <a:pt x="303" y="68"/>
                  </a:lnTo>
                  <a:lnTo>
                    <a:pt x="312" y="43"/>
                  </a:lnTo>
                  <a:lnTo>
                    <a:pt x="354" y="43"/>
                  </a:lnTo>
                  <a:lnTo>
                    <a:pt x="359" y="29"/>
                  </a:lnTo>
                  <a:lnTo>
                    <a:pt x="396" y="29"/>
                  </a:lnTo>
                  <a:lnTo>
                    <a:pt x="399" y="18"/>
                  </a:lnTo>
                  <a:lnTo>
                    <a:pt x="387" y="18"/>
                  </a:lnTo>
                  <a:lnTo>
                    <a:pt x="39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58120" y="6508800"/>
              <a:ext cx="18000" cy="23400"/>
            </a:xfrm>
            <a:custGeom>
              <a:avLst/>
              <a:gdLst/>
              <a:ahLst/>
              <a:rect l="l" t="t" r="r" b="b"/>
              <a:pathLst>
                <a:path w="40" h="67">
                  <a:moveTo>
                    <a:pt x="0" y="0"/>
                  </a:moveTo>
                  <a:lnTo>
                    <a:pt x="22" y="0"/>
                  </a:lnTo>
                  <a:lnTo>
                    <a:pt x="40" y="67"/>
                  </a:lnTo>
                  <a:lnTo>
                    <a:pt x="1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00440" y="6520320"/>
              <a:ext cx="60480" cy="1188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35" y="36"/>
                  </a:moveTo>
                  <a:lnTo>
                    <a:pt x="131" y="0"/>
                  </a:lnTo>
                  <a:lnTo>
                    <a:pt x="55" y="0"/>
                  </a:lnTo>
                  <a:lnTo>
                    <a:pt x="49" y="14"/>
                  </a:lnTo>
                  <a:lnTo>
                    <a:pt x="9" y="14"/>
                  </a:lnTo>
                  <a:lnTo>
                    <a:pt x="0" y="36"/>
                  </a:lnTo>
                  <a:lnTo>
                    <a:pt x="52" y="36"/>
                  </a:lnTo>
                  <a:lnTo>
                    <a:pt x="55" y="26"/>
                  </a:lnTo>
                  <a:lnTo>
                    <a:pt x="76" y="26"/>
                  </a:lnTo>
                  <a:lnTo>
                    <a:pt x="74" y="36"/>
                  </a:lnTo>
                  <a:lnTo>
                    <a:pt x="135" y="3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39320" y="6508080"/>
              <a:ext cx="19080" cy="468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44" y="14"/>
                  </a:moveTo>
                  <a:lnTo>
                    <a:pt x="44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43280" y="6515280"/>
              <a:ext cx="16200" cy="324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11"/>
                  </a:moveTo>
                  <a:lnTo>
                    <a:pt x="35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10960" y="6508080"/>
              <a:ext cx="48960" cy="24120"/>
            </a:xfrm>
            <a:custGeom>
              <a:avLst/>
              <a:gdLst/>
              <a:ahLst/>
              <a:rect l="l" t="t" r="r" b="b"/>
              <a:pathLst>
                <a:path w="108" h="68">
                  <a:moveTo>
                    <a:pt x="90" y="0"/>
                  </a:moveTo>
                  <a:lnTo>
                    <a:pt x="0" y="0"/>
                  </a:lnTo>
                  <a:lnTo>
                    <a:pt x="19" y="68"/>
                  </a:lnTo>
                  <a:lnTo>
                    <a:pt x="108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64880" y="6508080"/>
              <a:ext cx="43200" cy="1332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1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38"/>
                  </a:lnTo>
                  <a:lnTo>
                    <a:pt x="96" y="3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63080" y="6497280"/>
              <a:ext cx="42480" cy="7560"/>
            </a:xfrm>
            <a:custGeom>
              <a:avLst/>
              <a:gdLst/>
              <a:ahLst/>
              <a:rect l="l" t="t" r="r" b="b"/>
              <a:pathLst>
                <a:path w="94" h="22">
                  <a:moveTo>
                    <a:pt x="91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94" y="2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65600" y="6525360"/>
              <a:ext cx="46080" cy="684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94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101" y="2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09160" y="6497280"/>
              <a:ext cx="57600" cy="7560"/>
            </a:xfrm>
            <a:custGeom>
              <a:avLst/>
              <a:gdLst/>
              <a:ahLst/>
              <a:rect l="l" t="t" r="r" b="b"/>
              <a:pathLst>
                <a:path w="130" h="22">
                  <a:moveTo>
                    <a:pt x="127" y="0"/>
                  </a:moveTo>
                  <a:lnTo>
                    <a:pt x="0" y="0"/>
                  </a:lnTo>
                  <a:lnTo>
                    <a:pt x="5" y="22"/>
                  </a:lnTo>
                  <a:lnTo>
                    <a:pt x="130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77320" y="6497280"/>
              <a:ext cx="61560" cy="756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5" y="0"/>
                  </a:moveTo>
                  <a:lnTo>
                    <a:pt x="135" y="0"/>
                  </a:lnTo>
                  <a:lnTo>
                    <a:pt x="130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40680" y="6497280"/>
              <a:ext cx="56160" cy="7560"/>
            </a:xfrm>
            <a:custGeom>
              <a:avLst/>
              <a:gdLst/>
              <a:ahLst/>
              <a:rect l="l" t="t" r="r" b="b"/>
              <a:pathLst>
                <a:path w="124" h="22">
                  <a:moveTo>
                    <a:pt x="5" y="0"/>
                  </a:moveTo>
                  <a:lnTo>
                    <a:pt x="124" y="0"/>
                  </a:lnTo>
                  <a:lnTo>
                    <a:pt x="118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598640" y="6497280"/>
              <a:ext cx="59400" cy="7560"/>
            </a:xfrm>
            <a:custGeom>
              <a:avLst/>
              <a:gdLst/>
              <a:ahLst/>
              <a:rect l="l" t="t" r="r" b="b"/>
              <a:pathLst>
                <a:path w="131" h="22">
                  <a:moveTo>
                    <a:pt x="5" y="0"/>
                  </a:moveTo>
                  <a:lnTo>
                    <a:pt x="131" y="0"/>
                  </a:lnTo>
                  <a:lnTo>
                    <a:pt x="131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36640" y="6497280"/>
              <a:ext cx="347760" cy="36720"/>
            </a:xfrm>
            <a:custGeom>
              <a:avLst/>
              <a:gdLst/>
              <a:ahLst/>
              <a:rect l="l" t="t" r="r" b="b"/>
              <a:pathLst>
                <a:path w="768" h="103">
                  <a:moveTo>
                    <a:pt x="22" y="0"/>
                  </a:moveTo>
                  <a:lnTo>
                    <a:pt x="0" y="103"/>
                  </a:lnTo>
                  <a:lnTo>
                    <a:pt x="768" y="103"/>
                  </a:lnTo>
                  <a:lnTo>
                    <a:pt x="744" y="0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51040" y="6497280"/>
              <a:ext cx="18000" cy="756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4" y="0"/>
                  </a:moveTo>
                  <a:lnTo>
                    <a:pt x="39" y="0"/>
                  </a:lnTo>
                  <a:lnTo>
                    <a:pt x="35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24760" y="6545880"/>
              <a:ext cx="370080" cy="3240"/>
            </a:xfrm>
            <a:custGeom>
              <a:avLst/>
              <a:gdLst/>
              <a:ahLst/>
              <a:rect l="l" t="t" r="r" b="b"/>
              <a:pathLst>
                <a:path w="818" h="10">
                  <a:moveTo>
                    <a:pt x="818" y="0"/>
                  </a:moveTo>
                  <a:lnTo>
                    <a:pt x="814" y="10"/>
                  </a:lnTo>
                  <a:lnTo>
                    <a:pt x="3" y="9"/>
                  </a:lnTo>
                  <a:lnTo>
                    <a:pt x="0" y="0"/>
                  </a:lnTo>
                  <a:lnTo>
                    <a:pt x="818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24040" y="6540840"/>
              <a:ext cx="37188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20440" y="6545160"/>
              <a:ext cx="379080" cy="3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37720" y="6489360"/>
              <a:ext cx="34488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91000" y="6418080"/>
              <a:ext cx="241560" cy="3492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95840" y="6442920"/>
              <a:ext cx="72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552560" y="6442920"/>
              <a:ext cx="72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23840" y="6442920"/>
              <a:ext cx="72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552560" y="6418800"/>
              <a:ext cx="72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23840" y="6418800"/>
              <a:ext cx="72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95840" y="6418800"/>
              <a:ext cx="72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56160" y="6425280"/>
              <a:ext cx="63360" cy="147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0" y="24"/>
                  </a:moveTo>
                  <a:lnTo>
                    <a:pt x="42" y="24"/>
                  </a:lnTo>
                  <a:lnTo>
                    <a:pt x="42" y="0"/>
                  </a:lnTo>
                  <a:lnTo>
                    <a:pt x="96" y="0"/>
                  </a:lnTo>
                  <a:lnTo>
                    <a:pt x="96" y="24"/>
                  </a:lnTo>
                  <a:lnTo>
                    <a:pt x="140" y="24"/>
                  </a:lnTo>
                  <a:lnTo>
                    <a:pt x="140" y="34"/>
                  </a:lnTo>
                  <a:lnTo>
                    <a:pt x="96" y="34"/>
                  </a:lnTo>
                  <a:lnTo>
                    <a:pt x="96" y="42"/>
                  </a:lnTo>
                  <a:lnTo>
                    <a:pt x="42" y="42"/>
                  </a:lnTo>
                  <a:lnTo>
                    <a:pt x="42" y="34"/>
                  </a:lnTo>
                  <a:lnTo>
                    <a:pt x="0" y="3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77040" y="6436800"/>
              <a:ext cx="20520" cy="36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56160" y="6436800"/>
              <a:ext cx="19080" cy="36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99720" y="6436800"/>
              <a:ext cx="19080" cy="36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75240" y="6425280"/>
              <a:ext cx="24120" cy="82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2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24"/>
                  </a:lnTo>
                  <a:lnTo>
                    <a:pt x="47" y="21"/>
                  </a:lnTo>
                  <a:lnTo>
                    <a:pt x="9" y="2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75240" y="6425280"/>
              <a:ext cx="24120" cy="79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0" y="0"/>
                  </a:moveTo>
                  <a:lnTo>
                    <a:pt x="9" y="21"/>
                  </a:lnTo>
                  <a:lnTo>
                    <a:pt x="47" y="21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98360" y="6426000"/>
              <a:ext cx="3240" cy="1800"/>
            </a:xfrm>
            <a:prstGeom prst="rect">
              <a:avLst/>
            </a:prstGeom>
            <a:solidFill>
              <a:srgbClr val="00ce00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98360" y="6438240"/>
              <a:ext cx="3240" cy="1800"/>
            </a:xfrm>
            <a:prstGeom prst="rect">
              <a:avLst/>
            </a:prstGeom>
            <a:solidFill>
              <a:srgbClr val="ff0000"/>
            </a:solidFill>
            <a:ln w="144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56160" y="6428160"/>
              <a:ext cx="5400" cy="180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91720" y="6431040"/>
              <a:ext cx="240480" cy="14760"/>
            </a:xfrm>
            <a:custGeom>
              <a:avLst/>
              <a:gdLst/>
              <a:ahLst/>
              <a:rect l="l" t="t" r="r" b="b"/>
              <a:pathLst>
                <a:path w="534" h="42">
                  <a:moveTo>
                    <a:pt x="0" y="42"/>
                  </a:moveTo>
                  <a:lnTo>
                    <a:pt x="0" y="32"/>
                  </a:lnTo>
                  <a:lnTo>
                    <a:pt x="242" y="33"/>
                  </a:lnTo>
                  <a:lnTo>
                    <a:pt x="242" y="21"/>
                  </a:lnTo>
                  <a:lnTo>
                    <a:pt x="283" y="21"/>
                  </a:lnTo>
                  <a:lnTo>
                    <a:pt x="283" y="32"/>
                  </a:lnTo>
                  <a:lnTo>
                    <a:pt x="478" y="3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32"/>
                  </a:lnTo>
                  <a:lnTo>
                    <a:pt x="534" y="32"/>
                  </a:lnTo>
                  <a:lnTo>
                    <a:pt x="53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07360" y="6424560"/>
              <a:ext cx="13320" cy="133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39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31" y="39"/>
                  </a:lnTo>
                  <a:lnTo>
                    <a:pt x="25" y="33"/>
                  </a:lnTo>
                  <a:lnTo>
                    <a:pt x="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07360" y="6424560"/>
              <a:ext cx="13320" cy="111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0"/>
                  </a:moveTo>
                  <a:lnTo>
                    <a:pt x="4" y="33"/>
                  </a:lnTo>
                  <a:lnTo>
                    <a:pt x="25" y="33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07360" y="6436080"/>
              <a:ext cx="13320" cy="4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14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26" y="1"/>
                  </a:lnTo>
                  <a:lnTo>
                    <a:pt x="31" y="5"/>
                  </a:lnTo>
                  <a:lnTo>
                    <a:pt x="31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10960" y="6433200"/>
              <a:ext cx="6120" cy="3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710960" y="6433200"/>
              <a:ext cx="6120" cy="360"/>
            </a:xfrm>
            <a:prstGeom prst="rect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10960" y="6432480"/>
              <a:ext cx="6120" cy="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10960" y="6429600"/>
              <a:ext cx="6120" cy="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06920" y="6440400"/>
              <a:ext cx="7200" cy="3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06920" y="6440400"/>
              <a:ext cx="6120" cy="3240"/>
            </a:xfrm>
            <a:prstGeom prst="rect">
              <a:avLst/>
            </a:prstGeom>
            <a:noFill/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0000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0360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082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118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154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190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226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262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309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345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381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5417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453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91720" y="6459480"/>
              <a:ext cx="720" cy="2124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964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000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5036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5082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118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154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19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5226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5262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530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534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381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5417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453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548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52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572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5604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651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5680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723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575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9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5835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5878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5914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950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98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022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058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6105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141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6177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220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6249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6296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332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6368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04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483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22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6566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594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6638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674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6710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746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792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6828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864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6908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947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6983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701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705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7091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7138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717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10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724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7282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731840" y="6459480"/>
              <a:ext cx="720" cy="2124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964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000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36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82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5118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154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19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5226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5262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530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534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5381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5417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5453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548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552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5572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5604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5651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680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723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5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579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5835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5878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914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5950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598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6022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6058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105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6141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6177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6220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6249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296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6332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6368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6404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645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6483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6522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566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594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638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674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6710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6746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6792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6828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864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6908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6947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6983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701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05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091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7138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17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210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724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282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00000" y="6424560"/>
              <a:ext cx="22320" cy="13320"/>
            </a:xfrm>
            <a:prstGeom prst="roundRect">
              <a:avLst>
                <a:gd name="adj" fmla="val 588236"/>
              </a:avLst>
            </a:prstGeom>
            <a:solidFill>
              <a:srgbClr val="808080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91000" y="6418080"/>
              <a:ext cx="241560" cy="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491000" y="6424560"/>
              <a:ext cx="241560" cy="18360"/>
            </a:xfrm>
            <a:custGeom>
              <a:avLst/>
              <a:gdLst/>
              <a:ahLst/>
              <a:rect l="l" t="t" r="r" b="b"/>
              <a:pathLst>
                <a:path w="535" h="52">
                  <a:moveTo>
                    <a:pt x="0" y="52"/>
                  </a:moveTo>
                  <a:lnTo>
                    <a:pt x="243" y="52"/>
                  </a:lnTo>
                  <a:lnTo>
                    <a:pt x="243" y="40"/>
                  </a:lnTo>
                  <a:lnTo>
                    <a:pt x="284" y="40"/>
                  </a:lnTo>
                  <a:lnTo>
                    <a:pt x="284" y="52"/>
                  </a:lnTo>
                  <a:lnTo>
                    <a:pt x="478" y="5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52"/>
                  </a:lnTo>
                  <a:lnTo>
                    <a:pt x="535" y="52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722840" y="6438240"/>
              <a:ext cx="4320" cy="3240"/>
            </a:xfrm>
            <a:prstGeom prst="ellipse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725360" y="6429600"/>
              <a:ext cx="720" cy="46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577040" y="6402240"/>
              <a:ext cx="68760" cy="324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40680" y="6405840"/>
              <a:ext cx="139320" cy="828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5257800" y="6248520"/>
            <a:ext cx="380880" cy="304200"/>
            <a:chOff x="5257800" y="6248520"/>
            <a:chExt cx="380880" cy="304200"/>
          </a:xfrm>
        </p:grpSpPr>
        <p:sp>
          <p:nvSpPr>
            <p:cNvPr id="875" name=""/>
            <p:cNvSpPr/>
            <p:nvPr/>
          </p:nvSpPr>
          <p:spPr>
            <a:xfrm>
              <a:off x="5400360" y="6397560"/>
              <a:ext cx="92880" cy="5760"/>
            </a:xfrm>
            <a:custGeom>
              <a:avLst/>
              <a:gdLst/>
              <a:ahLst/>
              <a:rect l="l" t="t" r="r" b="b"/>
              <a:pathLst>
                <a:path w="205" h="16">
                  <a:moveTo>
                    <a:pt x="25" y="16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179" y="16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3760" y="6248520"/>
              <a:ext cx="218880" cy="145440"/>
            </a:xfrm>
            <a:custGeom>
              <a:avLst/>
              <a:gdLst/>
              <a:ahLst/>
              <a:rect l="l" t="t" r="r" b="b"/>
              <a:pathLst>
                <a:path w="484" h="409">
                  <a:moveTo>
                    <a:pt x="0" y="385"/>
                  </a:moveTo>
                  <a:lnTo>
                    <a:pt x="3" y="402"/>
                  </a:lnTo>
                  <a:lnTo>
                    <a:pt x="19" y="409"/>
                  </a:lnTo>
                  <a:lnTo>
                    <a:pt x="458" y="409"/>
                  </a:lnTo>
                  <a:lnTo>
                    <a:pt x="477" y="406"/>
                  </a:lnTo>
                  <a:lnTo>
                    <a:pt x="484" y="390"/>
                  </a:lnTo>
                  <a:lnTo>
                    <a:pt x="484" y="22"/>
                  </a:lnTo>
                  <a:lnTo>
                    <a:pt x="480" y="6"/>
                  </a:lnTo>
                  <a:lnTo>
                    <a:pt x="463" y="0"/>
                  </a:lnTo>
                  <a:lnTo>
                    <a:pt x="24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37360" y="6248880"/>
              <a:ext cx="211320" cy="142560"/>
            </a:xfrm>
            <a:custGeom>
              <a:avLst/>
              <a:gdLst/>
              <a:ahLst/>
              <a:rect l="l" t="t" r="r" b="b"/>
              <a:pathLst>
                <a:path w="467" h="399">
                  <a:moveTo>
                    <a:pt x="0" y="375"/>
                  </a:moveTo>
                  <a:lnTo>
                    <a:pt x="3" y="392"/>
                  </a:lnTo>
                  <a:lnTo>
                    <a:pt x="18" y="399"/>
                  </a:lnTo>
                  <a:lnTo>
                    <a:pt x="442" y="399"/>
                  </a:lnTo>
                  <a:lnTo>
                    <a:pt x="459" y="396"/>
                  </a:lnTo>
                  <a:lnTo>
                    <a:pt x="467" y="381"/>
                  </a:lnTo>
                  <a:lnTo>
                    <a:pt x="467" y="21"/>
                  </a:lnTo>
                  <a:lnTo>
                    <a:pt x="462" y="6"/>
                  </a:lnTo>
                  <a:lnTo>
                    <a:pt x="445" y="0"/>
                  </a:lnTo>
                  <a:lnTo>
                    <a:pt x="22" y="0"/>
                  </a:lnTo>
                  <a:lnTo>
                    <a:pt x="6" y="4"/>
                  </a:lnTo>
                  <a:lnTo>
                    <a:pt x="0" y="21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512680" y="6268320"/>
              <a:ext cx="10800" cy="101880"/>
            </a:xfrm>
            <a:custGeom>
              <a:avLst/>
              <a:gdLst/>
              <a:ahLst/>
              <a:rect l="l" t="t" r="r" b="b"/>
              <a:pathLst>
                <a:path w="24" h="285">
                  <a:moveTo>
                    <a:pt x="24" y="11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11" y="26"/>
                  </a:lnTo>
                  <a:lnTo>
                    <a:pt x="11" y="271"/>
                  </a:lnTo>
                  <a:lnTo>
                    <a:pt x="24" y="285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362560" y="6268320"/>
              <a:ext cx="10800" cy="105480"/>
            </a:xfrm>
            <a:custGeom>
              <a:avLst/>
              <a:gdLst/>
              <a:ahLst/>
              <a:rect l="l" t="t" r="r" b="b"/>
              <a:pathLst>
                <a:path w="25" h="296">
                  <a:moveTo>
                    <a:pt x="0" y="285"/>
                  </a:moveTo>
                  <a:lnTo>
                    <a:pt x="11" y="296"/>
                  </a:lnTo>
                  <a:lnTo>
                    <a:pt x="25" y="280"/>
                  </a:lnTo>
                  <a:lnTo>
                    <a:pt x="14" y="270"/>
                  </a:lnTo>
                  <a:lnTo>
                    <a:pt x="14" y="146"/>
                  </a:lnTo>
                  <a:lnTo>
                    <a:pt x="14" y="26"/>
                  </a:lnTo>
                  <a:lnTo>
                    <a:pt x="25" y="16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366880" y="6268320"/>
              <a:ext cx="151920" cy="5400"/>
            </a:xfrm>
            <a:custGeom>
              <a:avLst/>
              <a:gdLst/>
              <a:ahLst/>
              <a:rect l="l" t="t" r="r" b="b"/>
              <a:pathLst>
                <a:path w="336" h="16">
                  <a:moveTo>
                    <a:pt x="0" y="0"/>
                  </a:moveTo>
                  <a:lnTo>
                    <a:pt x="13" y="16"/>
                  </a:lnTo>
                  <a:lnTo>
                    <a:pt x="321" y="16"/>
                  </a:lnTo>
                  <a:lnTo>
                    <a:pt x="3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366880" y="6365520"/>
              <a:ext cx="156600" cy="8280"/>
            </a:xfrm>
            <a:custGeom>
              <a:avLst/>
              <a:gdLst/>
              <a:ahLst/>
              <a:rect l="l" t="t" r="r" b="b"/>
              <a:pathLst>
                <a:path w="345" h="25">
                  <a:moveTo>
                    <a:pt x="334" y="25"/>
                  </a:moveTo>
                  <a:lnTo>
                    <a:pt x="345" y="14"/>
                  </a:lnTo>
                  <a:lnTo>
                    <a:pt x="332" y="0"/>
                  </a:lnTo>
                  <a:lnTo>
                    <a:pt x="321" y="10"/>
                  </a:lnTo>
                  <a:lnTo>
                    <a:pt x="14" y="9"/>
                  </a:lnTo>
                  <a:lnTo>
                    <a:pt x="0" y="25"/>
                  </a:lnTo>
                  <a:lnTo>
                    <a:pt x="334" y="25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19160" y="6384600"/>
              <a:ext cx="5040" cy="180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66160" y="6271200"/>
              <a:ext cx="153720" cy="100440"/>
            </a:xfrm>
            <a:custGeom>
              <a:avLst/>
              <a:gdLst/>
              <a:ahLst/>
              <a:rect l="l" t="t" r="r" b="b"/>
              <a:pathLst>
                <a:path w="341" h="284">
                  <a:moveTo>
                    <a:pt x="0" y="266"/>
                  </a:moveTo>
                  <a:lnTo>
                    <a:pt x="2" y="278"/>
                  </a:lnTo>
                  <a:lnTo>
                    <a:pt x="13" y="284"/>
                  </a:lnTo>
                  <a:lnTo>
                    <a:pt x="322" y="284"/>
                  </a:lnTo>
                  <a:lnTo>
                    <a:pt x="335" y="281"/>
                  </a:lnTo>
                  <a:lnTo>
                    <a:pt x="341" y="270"/>
                  </a:lnTo>
                  <a:lnTo>
                    <a:pt x="341" y="16"/>
                  </a:lnTo>
                  <a:lnTo>
                    <a:pt x="337" y="6"/>
                  </a:lnTo>
                  <a:lnTo>
                    <a:pt x="326" y="0"/>
                  </a:lnTo>
                  <a:lnTo>
                    <a:pt x="16" y="0"/>
                  </a:lnTo>
                  <a:lnTo>
                    <a:pt x="5" y="3"/>
                  </a:lnTo>
                  <a:lnTo>
                    <a:pt x="0" y="15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324400" y="6415200"/>
              <a:ext cx="251640" cy="71280"/>
            </a:xfrm>
            <a:custGeom>
              <a:avLst/>
              <a:gdLst/>
              <a:ahLst/>
              <a:rect l="l" t="t" r="r" b="b"/>
              <a:pathLst>
                <a:path w="555" h="202">
                  <a:moveTo>
                    <a:pt x="0" y="186"/>
                  </a:moveTo>
                  <a:lnTo>
                    <a:pt x="5" y="195"/>
                  </a:lnTo>
                  <a:lnTo>
                    <a:pt x="22" y="202"/>
                  </a:lnTo>
                  <a:lnTo>
                    <a:pt x="534" y="202"/>
                  </a:lnTo>
                  <a:lnTo>
                    <a:pt x="551" y="198"/>
                  </a:lnTo>
                  <a:lnTo>
                    <a:pt x="555" y="187"/>
                  </a:lnTo>
                  <a:lnTo>
                    <a:pt x="554" y="17"/>
                  </a:lnTo>
                  <a:lnTo>
                    <a:pt x="552" y="7"/>
                  </a:lnTo>
                  <a:lnTo>
                    <a:pt x="537" y="0"/>
                  </a:lnTo>
                  <a:lnTo>
                    <a:pt x="22" y="0"/>
                  </a:lnTo>
                  <a:lnTo>
                    <a:pt x="5" y="6"/>
                  </a:lnTo>
                  <a:lnTo>
                    <a:pt x="0" y="17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57800" y="6489360"/>
              <a:ext cx="380880" cy="63360"/>
            </a:xfrm>
            <a:custGeom>
              <a:avLst/>
              <a:gdLst/>
              <a:ahLst/>
              <a:rect l="l" t="t" r="r" b="b"/>
              <a:pathLst>
                <a:path w="841" h="179">
                  <a:moveTo>
                    <a:pt x="802" y="0"/>
                  </a:moveTo>
                  <a:lnTo>
                    <a:pt x="841" y="136"/>
                  </a:lnTo>
                  <a:lnTo>
                    <a:pt x="840" y="157"/>
                  </a:lnTo>
                  <a:lnTo>
                    <a:pt x="835" y="179"/>
                  </a:lnTo>
                  <a:lnTo>
                    <a:pt x="18" y="179"/>
                  </a:lnTo>
                  <a:lnTo>
                    <a:pt x="3" y="168"/>
                  </a:lnTo>
                  <a:lnTo>
                    <a:pt x="0" y="158"/>
                  </a:lnTo>
                  <a:lnTo>
                    <a:pt x="1" y="136"/>
                  </a:lnTo>
                  <a:lnTo>
                    <a:pt x="39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262120" y="6540840"/>
              <a:ext cx="371880" cy="3960"/>
            </a:xfrm>
            <a:custGeom>
              <a:avLst/>
              <a:gdLst/>
              <a:ahLst/>
              <a:rect l="l" t="t" r="r" b="b"/>
              <a:pathLst>
                <a:path w="823" h="11">
                  <a:moveTo>
                    <a:pt x="823" y="0"/>
                  </a:moveTo>
                  <a:lnTo>
                    <a:pt x="821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23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80120" y="6508080"/>
              <a:ext cx="63000" cy="24120"/>
            </a:xfrm>
            <a:custGeom>
              <a:avLst/>
              <a:gdLst/>
              <a:ahLst/>
              <a:rect l="l" t="t" r="r" b="b"/>
              <a:pathLst>
                <a:path w="140" h="68">
                  <a:moveTo>
                    <a:pt x="0" y="68"/>
                  </a:moveTo>
                  <a:lnTo>
                    <a:pt x="18" y="0"/>
                  </a:lnTo>
                  <a:lnTo>
                    <a:pt x="40" y="0"/>
                  </a:lnTo>
                  <a:lnTo>
                    <a:pt x="37" y="17"/>
                  </a:lnTo>
                  <a:lnTo>
                    <a:pt x="60" y="17"/>
                  </a:lnTo>
                  <a:lnTo>
                    <a:pt x="57" y="32"/>
                  </a:lnTo>
                  <a:lnTo>
                    <a:pt x="90" y="32"/>
                  </a:lnTo>
                  <a:lnTo>
                    <a:pt x="86" y="46"/>
                  </a:lnTo>
                  <a:lnTo>
                    <a:pt x="140" y="46"/>
                  </a:lnTo>
                  <a:lnTo>
                    <a:pt x="135" y="68"/>
                  </a:lnTo>
                  <a:lnTo>
                    <a:pt x="78" y="68"/>
                  </a:lnTo>
                  <a:lnTo>
                    <a:pt x="80" y="58"/>
                  </a:lnTo>
                  <a:lnTo>
                    <a:pt x="59" y="58"/>
                  </a:lnTo>
                  <a:lnTo>
                    <a:pt x="56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299200" y="6508080"/>
              <a:ext cx="180000" cy="2412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" y="0"/>
                  </a:moveTo>
                  <a:lnTo>
                    <a:pt x="0" y="15"/>
                  </a:lnTo>
                  <a:lnTo>
                    <a:pt x="23" y="15"/>
                  </a:lnTo>
                  <a:lnTo>
                    <a:pt x="18" y="30"/>
                  </a:lnTo>
                  <a:lnTo>
                    <a:pt x="51" y="30"/>
                  </a:lnTo>
                  <a:lnTo>
                    <a:pt x="49" y="44"/>
                  </a:lnTo>
                  <a:lnTo>
                    <a:pt x="101" y="44"/>
                  </a:lnTo>
                  <a:lnTo>
                    <a:pt x="98" y="68"/>
                  </a:lnTo>
                  <a:lnTo>
                    <a:pt x="303" y="68"/>
                  </a:lnTo>
                  <a:lnTo>
                    <a:pt x="312" y="43"/>
                  </a:lnTo>
                  <a:lnTo>
                    <a:pt x="354" y="43"/>
                  </a:lnTo>
                  <a:lnTo>
                    <a:pt x="359" y="29"/>
                  </a:lnTo>
                  <a:lnTo>
                    <a:pt x="396" y="29"/>
                  </a:lnTo>
                  <a:lnTo>
                    <a:pt x="399" y="18"/>
                  </a:lnTo>
                  <a:lnTo>
                    <a:pt x="387" y="18"/>
                  </a:lnTo>
                  <a:lnTo>
                    <a:pt x="39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96200" y="6508800"/>
              <a:ext cx="18000" cy="23400"/>
            </a:xfrm>
            <a:custGeom>
              <a:avLst/>
              <a:gdLst/>
              <a:ahLst/>
              <a:rect l="l" t="t" r="r" b="b"/>
              <a:pathLst>
                <a:path w="40" h="67">
                  <a:moveTo>
                    <a:pt x="0" y="0"/>
                  </a:moveTo>
                  <a:lnTo>
                    <a:pt x="22" y="0"/>
                  </a:lnTo>
                  <a:lnTo>
                    <a:pt x="40" y="67"/>
                  </a:lnTo>
                  <a:lnTo>
                    <a:pt x="1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438520" y="6520320"/>
              <a:ext cx="60480" cy="1188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35" y="36"/>
                  </a:moveTo>
                  <a:lnTo>
                    <a:pt x="131" y="0"/>
                  </a:lnTo>
                  <a:lnTo>
                    <a:pt x="55" y="0"/>
                  </a:lnTo>
                  <a:lnTo>
                    <a:pt x="49" y="14"/>
                  </a:lnTo>
                  <a:lnTo>
                    <a:pt x="9" y="14"/>
                  </a:lnTo>
                  <a:lnTo>
                    <a:pt x="0" y="36"/>
                  </a:lnTo>
                  <a:lnTo>
                    <a:pt x="52" y="36"/>
                  </a:lnTo>
                  <a:lnTo>
                    <a:pt x="55" y="26"/>
                  </a:lnTo>
                  <a:lnTo>
                    <a:pt x="76" y="26"/>
                  </a:lnTo>
                  <a:lnTo>
                    <a:pt x="74" y="36"/>
                  </a:lnTo>
                  <a:lnTo>
                    <a:pt x="135" y="3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77400" y="6508080"/>
              <a:ext cx="19080" cy="468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44" y="14"/>
                  </a:moveTo>
                  <a:lnTo>
                    <a:pt x="44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81360" y="6515280"/>
              <a:ext cx="16200" cy="324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11"/>
                  </a:moveTo>
                  <a:lnTo>
                    <a:pt x="35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549040" y="6508080"/>
              <a:ext cx="48960" cy="24120"/>
            </a:xfrm>
            <a:custGeom>
              <a:avLst/>
              <a:gdLst/>
              <a:ahLst/>
              <a:rect l="l" t="t" r="r" b="b"/>
              <a:pathLst>
                <a:path w="108" h="68">
                  <a:moveTo>
                    <a:pt x="90" y="0"/>
                  </a:moveTo>
                  <a:lnTo>
                    <a:pt x="0" y="0"/>
                  </a:lnTo>
                  <a:lnTo>
                    <a:pt x="19" y="68"/>
                  </a:lnTo>
                  <a:lnTo>
                    <a:pt x="108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502960" y="6508080"/>
              <a:ext cx="43200" cy="1332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1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38"/>
                  </a:lnTo>
                  <a:lnTo>
                    <a:pt x="96" y="3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01160" y="6497280"/>
              <a:ext cx="42480" cy="7560"/>
            </a:xfrm>
            <a:custGeom>
              <a:avLst/>
              <a:gdLst/>
              <a:ahLst/>
              <a:rect l="l" t="t" r="r" b="b"/>
              <a:pathLst>
                <a:path w="94" h="22">
                  <a:moveTo>
                    <a:pt x="91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94" y="2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503680" y="6525360"/>
              <a:ext cx="46080" cy="684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94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101" y="2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547240" y="6497280"/>
              <a:ext cx="57600" cy="7560"/>
            </a:xfrm>
            <a:custGeom>
              <a:avLst/>
              <a:gdLst/>
              <a:ahLst/>
              <a:rect l="l" t="t" r="r" b="b"/>
              <a:pathLst>
                <a:path w="130" h="22">
                  <a:moveTo>
                    <a:pt x="127" y="0"/>
                  </a:moveTo>
                  <a:lnTo>
                    <a:pt x="0" y="0"/>
                  </a:lnTo>
                  <a:lnTo>
                    <a:pt x="5" y="22"/>
                  </a:lnTo>
                  <a:lnTo>
                    <a:pt x="130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315400" y="6497280"/>
              <a:ext cx="61560" cy="756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5" y="0"/>
                  </a:moveTo>
                  <a:lnTo>
                    <a:pt x="135" y="0"/>
                  </a:lnTo>
                  <a:lnTo>
                    <a:pt x="130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78760" y="6497280"/>
              <a:ext cx="56160" cy="7560"/>
            </a:xfrm>
            <a:custGeom>
              <a:avLst/>
              <a:gdLst/>
              <a:ahLst/>
              <a:rect l="l" t="t" r="r" b="b"/>
              <a:pathLst>
                <a:path w="124" h="22">
                  <a:moveTo>
                    <a:pt x="5" y="0"/>
                  </a:moveTo>
                  <a:lnTo>
                    <a:pt x="124" y="0"/>
                  </a:lnTo>
                  <a:lnTo>
                    <a:pt x="118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436720" y="6497280"/>
              <a:ext cx="59400" cy="7560"/>
            </a:xfrm>
            <a:custGeom>
              <a:avLst/>
              <a:gdLst/>
              <a:ahLst/>
              <a:rect l="l" t="t" r="r" b="b"/>
              <a:pathLst>
                <a:path w="131" h="22">
                  <a:moveTo>
                    <a:pt x="5" y="0"/>
                  </a:moveTo>
                  <a:lnTo>
                    <a:pt x="131" y="0"/>
                  </a:lnTo>
                  <a:lnTo>
                    <a:pt x="131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274720" y="6497280"/>
              <a:ext cx="347760" cy="36720"/>
            </a:xfrm>
            <a:custGeom>
              <a:avLst/>
              <a:gdLst/>
              <a:ahLst/>
              <a:rect l="l" t="t" r="r" b="b"/>
              <a:pathLst>
                <a:path w="768" h="103">
                  <a:moveTo>
                    <a:pt x="22" y="0"/>
                  </a:moveTo>
                  <a:lnTo>
                    <a:pt x="0" y="103"/>
                  </a:lnTo>
                  <a:lnTo>
                    <a:pt x="768" y="103"/>
                  </a:lnTo>
                  <a:lnTo>
                    <a:pt x="744" y="0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289120" y="6497280"/>
              <a:ext cx="18000" cy="756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4" y="0"/>
                  </a:moveTo>
                  <a:lnTo>
                    <a:pt x="39" y="0"/>
                  </a:lnTo>
                  <a:lnTo>
                    <a:pt x="35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262840" y="6545880"/>
              <a:ext cx="370080" cy="3240"/>
            </a:xfrm>
            <a:custGeom>
              <a:avLst/>
              <a:gdLst/>
              <a:ahLst/>
              <a:rect l="l" t="t" r="r" b="b"/>
              <a:pathLst>
                <a:path w="818" h="10">
                  <a:moveTo>
                    <a:pt x="818" y="0"/>
                  </a:moveTo>
                  <a:lnTo>
                    <a:pt x="814" y="10"/>
                  </a:lnTo>
                  <a:lnTo>
                    <a:pt x="3" y="9"/>
                  </a:lnTo>
                  <a:lnTo>
                    <a:pt x="0" y="0"/>
                  </a:lnTo>
                  <a:lnTo>
                    <a:pt x="818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262120" y="6540840"/>
              <a:ext cx="37188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258520" y="6545160"/>
              <a:ext cx="379080" cy="3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275800" y="6489360"/>
              <a:ext cx="34488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29080" y="6418080"/>
              <a:ext cx="241560" cy="3492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533920" y="6442920"/>
              <a:ext cx="72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90640" y="6442920"/>
              <a:ext cx="72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61920" y="6442920"/>
              <a:ext cx="72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90640" y="6418800"/>
              <a:ext cx="72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461920" y="6418800"/>
              <a:ext cx="72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533920" y="6418800"/>
              <a:ext cx="72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394240" y="6425280"/>
              <a:ext cx="63360" cy="147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0" y="24"/>
                  </a:moveTo>
                  <a:lnTo>
                    <a:pt x="42" y="24"/>
                  </a:lnTo>
                  <a:lnTo>
                    <a:pt x="42" y="0"/>
                  </a:lnTo>
                  <a:lnTo>
                    <a:pt x="96" y="0"/>
                  </a:lnTo>
                  <a:lnTo>
                    <a:pt x="96" y="24"/>
                  </a:lnTo>
                  <a:lnTo>
                    <a:pt x="140" y="24"/>
                  </a:lnTo>
                  <a:lnTo>
                    <a:pt x="140" y="34"/>
                  </a:lnTo>
                  <a:lnTo>
                    <a:pt x="96" y="34"/>
                  </a:lnTo>
                  <a:lnTo>
                    <a:pt x="96" y="42"/>
                  </a:lnTo>
                  <a:lnTo>
                    <a:pt x="42" y="42"/>
                  </a:lnTo>
                  <a:lnTo>
                    <a:pt x="42" y="34"/>
                  </a:lnTo>
                  <a:lnTo>
                    <a:pt x="0" y="3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415120" y="6436800"/>
              <a:ext cx="20520" cy="36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394240" y="6436800"/>
              <a:ext cx="19080" cy="36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37800" y="6436800"/>
              <a:ext cx="19080" cy="36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413320" y="6425280"/>
              <a:ext cx="24120" cy="82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2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24"/>
                  </a:lnTo>
                  <a:lnTo>
                    <a:pt x="47" y="21"/>
                  </a:lnTo>
                  <a:lnTo>
                    <a:pt x="9" y="2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413320" y="6425280"/>
              <a:ext cx="24120" cy="79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0" y="0"/>
                  </a:moveTo>
                  <a:lnTo>
                    <a:pt x="9" y="21"/>
                  </a:lnTo>
                  <a:lnTo>
                    <a:pt x="47" y="21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536440" y="6426000"/>
              <a:ext cx="3240" cy="1800"/>
            </a:xfrm>
            <a:prstGeom prst="rect">
              <a:avLst/>
            </a:prstGeom>
            <a:solidFill>
              <a:srgbClr val="00ce00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536440" y="6438240"/>
              <a:ext cx="3240" cy="1800"/>
            </a:xfrm>
            <a:prstGeom prst="rect">
              <a:avLst/>
            </a:prstGeom>
            <a:solidFill>
              <a:srgbClr val="ff0000"/>
            </a:solidFill>
            <a:ln w="144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394240" y="6428160"/>
              <a:ext cx="5400" cy="180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29800" y="6431040"/>
              <a:ext cx="240480" cy="14760"/>
            </a:xfrm>
            <a:custGeom>
              <a:avLst/>
              <a:gdLst/>
              <a:ahLst/>
              <a:rect l="l" t="t" r="r" b="b"/>
              <a:pathLst>
                <a:path w="534" h="42">
                  <a:moveTo>
                    <a:pt x="0" y="42"/>
                  </a:moveTo>
                  <a:lnTo>
                    <a:pt x="0" y="32"/>
                  </a:lnTo>
                  <a:lnTo>
                    <a:pt x="242" y="33"/>
                  </a:lnTo>
                  <a:lnTo>
                    <a:pt x="242" y="21"/>
                  </a:lnTo>
                  <a:lnTo>
                    <a:pt x="283" y="21"/>
                  </a:lnTo>
                  <a:lnTo>
                    <a:pt x="283" y="32"/>
                  </a:lnTo>
                  <a:lnTo>
                    <a:pt x="478" y="3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32"/>
                  </a:lnTo>
                  <a:lnTo>
                    <a:pt x="534" y="32"/>
                  </a:lnTo>
                  <a:lnTo>
                    <a:pt x="53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545440" y="6424560"/>
              <a:ext cx="13320" cy="133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39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31" y="39"/>
                  </a:lnTo>
                  <a:lnTo>
                    <a:pt x="25" y="33"/>
                  </a:lnTo>
                  <a:lnTo>
                    <a:pt x="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545440" y="6424560"/>
              <a:ext cx="13320" cy="111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0"/>
                  </a:moveTo>
                  <a:lnTo>
                    <a:pt x="4" y="33"/>
                  </a:lnTo>
                  <a:lnTo>
                    <a:pt x="25" y="33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5440" y="6436080"/>
              <a:ext cx="13320" cy="4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14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26" y="1"/>
                  </a:lnTo>
                  <a:lnTo>
                    <a:pt x="31" y="5"/>
                  </a:lnTo>
                  <a:lnTo>
                    <a:pt x="31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549040" y="6433200"/>
              <a:ext cx="6120" cy="3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549040" y="6433200"/>
              <a:ext cx="6120" cy="360"/>
            </a:xfrm>
            <a:prstGeom prst="rect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549040" y="6432480"/>
              <a:ext cx="6120" cy="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49040" y="6429600"/>
              <a:ext cx="6120" cy="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445000" y="6440400"/>
              <a:ext cx="7200" cy="3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445000" y="6440400"/>
              <a:ext cx="6120" cy="3240"/>
            </a:xfrm>
            <a:prstGeom prst="rect">
              <a:avLst/>
            </a:prstGeom>
            <a:noFill/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380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416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463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499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535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571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607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643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6904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7264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37624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7984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8344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329800" y="6459480"/>
              <a:ext cx="720" cy="2124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344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38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416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463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49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53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571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607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3643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690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72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762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3798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834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70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390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3953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398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032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4061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4104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140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17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216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259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295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331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367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403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439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486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522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558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601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630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676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712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748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4784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4831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864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4903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4946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97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5018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5054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509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5126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173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20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24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288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328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364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5400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543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5472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519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551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591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5627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5663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569920" y="6459480"/>
              <a:ext cx="720" cy="2124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3344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38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3416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463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49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53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571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607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3643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3690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372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3762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3798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3834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3870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90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953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398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4032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061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4104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4140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417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4216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4259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295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331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367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4403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439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486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4522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4558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4601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4630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676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4712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4748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4784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4831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864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4903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4946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97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5018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5054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509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5126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5173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520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524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5288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5328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364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5400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43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472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519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5551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5591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5627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5663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338080" y="6424560"/>
              <a:ext cx="22320" cy="13320"/>
            </a:xfrm>
            <a:prstGeom prst="roundRect">
              <a:avLst>
                <a:gd name="adj" fmla="val 588236"/>
              </a:avLst>
            </a:prstGeom>
            <a:solidFill>
              <a:srgbClr val="808080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329080" y="6418080"/>
              <a:ext cx="241560" cy="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29080" y="6424560"/>
              <a:ext cx="241560" cy="18360"/>
            </a:xfrm>
            <a:custGeom>
              <a:avLst/>
              <a:gdLst/>
              <a:ahLst/>
              <a:rect l="l" t="t" r="r" b="b"/>
              <a:pathLst>
                <a:path w="535" h="52">
                  <a:moveTo>
                    <a:pt x="0" y="52"/>
                  </a:moveTo>
                  <a:lnTo>
                    <a:pt x="243" y="52"/>
                  </a:lnTo>
                  <a:lnTo>
                    <a:pt x="243" y="40"/>
                  </a:lnTo>
                  <a:lnTo>
                    <a:pt x="284" y="40"/>
                  </a:lnTo>
                  <a:lnTo>
                    <a:pt x="284" y="52"/>
                  </a:lnTo>
                  <a:lnTo>
                    <a:pt x="478" y="5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52"/>
                  </a:lnTo>
                  <a:lnTo>
                    <a:pt x="535" y="52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60920" y="6438240"/>
              <a:ext cx="4320" cy="3240"/>
            </a:xfrm>
            <a:prstGeom prst="ellipse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563440" y="6429600"/>
              <a:ext cx="720" cy="46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415120" y="6402240"/>
              <a:ext cx="68760" cy="324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378760" y="6405840"/>
              <a:ext cx="139320" cy="828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5791320" y="6248520"/>
            <a:ext cx="380880" cy="304200"/>
            <a:chOff x="5791320" y="6248520"/>
            <a:chExt cx="380880" cy="304200"/>
          </a:xfrm>
        </p:grpSpPr>
        <p:sp>
          <p:nvSpPr>
            <p:cNvPr id="1080" name=""/>
            <p:cNvSpPr/>
            <p:nvPr/>
          </p:nvSpPr>
          <p:spPr>
            <a:xfrm>
              <a:off x="5933880" y="6397560"/>
              <a:ext cx="92880" cy="5760"/>
            </a:xfrm>
            <a:custGeom>
              <a:avLst/>
              <a:gdLst/>
              <a:ahLst/>
              <a:rect l="l" t="t" r="r" b="b"/>
              <a:pathLst>
                <a:path w="205" h="16">
                  <a:moveTo>
                    <a:pt x="25" y="16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179" y="16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67280" y="6248520"/>
              <a:ext cx="218880" cy="145440"/>
            </a:xfrm>
            <a:custGeom>
              <a:avLst/>
              <a:gdLst/>
              <a:ahLst/>
              <a:rect l="l" t="t" r="r" b="b"/>
              <a:pathLst>
                <a:path w="484" h="409">
                  <a:moveTo>
                    <a:pt x="0" y="385"/>
                  </a:moveTo>
                  <a:lnTo>
                    <a:pt x="3" y="402"/>
                  </a:lnTo>
                  <a:lnTo>
                    <a:pt x="19" y="409"/>
                  </a:lnTo>
                  <a:lnTo>
                    <a:pt x="458" y="409"/>
                  </a:lnTo>
                  <a:lnTo>
                    <a:pt x="477" y="406"/>
                  </a:lnTo>
                  <a:lnTo>
                    <a:pt x="484" y="390"/>
                  </a:lnTo>
                  <a:lnTo>
                    <a:pt x="484" y="22"/>
                  </a:lnTo>
                  <a:lnTo>
                    <a:pt x="480" y="6"/>
                  </a:lnTo>
                  <a:lnTo>
                    <a:pt x="463" y="0"/>
                  </a:lnTo>
                  <a:lnTo>
                    <a:pt x="24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70880" y="6248880"/>
              <a:ext cx="211320" cy="142560"/>
            </a:xfrm>
            <a:custGeom>
              <a:avLst/>
              <a:gdLst/>
              <a:ahLst/>
              <a:rect l="l" t="t" r="r" b="b"/>
              <a:pathLst>
                <a:path w="467" h="399">
                  <a:moveTo>
                    <a:pt x="0" y="375"/>
                  </a:moveTo>
                  <a:lnTo>
                    <a:pt x="3" y="392"/>
                  </a:lnTo>
                  <a:lnTo>
                    <a:pt x="18" y="399"/>
                  </a:lnTo>
                  <a:lnTo>
                    <a:pt x="442" y="399"/>
                  </a:lnTo>
                  <a:lnTo>
                    <a:pt x="459" y="396"/>
                  </a:lnTo>
                  <a:lnTo>
                    <a:pt x="467" y="381"/>
                  </a:lnTo>
                  <a:lnTo>
                    <a:pt x="467" y="21"/>
                  </a:lnTo>
                  <a:lnTo>
                    <a:pt x="462" y="6"/>
                  </a:lnTo>
                  <a:lnTo>
                    <a:pt x="445" y="0"/>
                  </a:lnTo>
                  <a:lnTo>
                    <a:pt x="22" y="0"/>
                  </a:lnTo>
                  <a:lnTo>
                    <a:pt x="6" y="4"/>
                  </a:lnTo>
                  <a:lnTo>
                    <a:pt x="0" y="21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046200" y="6268320"/>
              <a:ext cx="10800" cy="101880"/>
            </a:xfrm>
            <a:custGeom>
              <a:avLst/>
              <a:gdLst/>
              <a:ahLst/>
              <a:rect l="l" t="t" r="r" b="b"/>
              <a:pathLst>
                <a:path w="24" h="285">
                  <a:moveTo>
                    <a:pt x="24" y="11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11" y="26"/>
                  </a:lnTo>
                  <a:lnTo>
                    <a:pt x="11" y="271"/>
                  </a:lnTo>
                  <a:lnTo>
                    <a:pt x="24" y="285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896080" y="6268320"/>
              <a:ext cx="10800" cy="105480"/>
            </a:xfrm>
            <a:custGeom>
              <a:avLst/>
              <a:gdLst/>
              <a:ahLst/>
              <a:rect l="l" t="t" r="r" b="b"/>
              <a:pathLst>
                <a:path w="25" h="296">
                  <a:moveTo>
                    <a:pt x="0" y="285"/>
                  </a:moveTo>
                  <a:lnTo>
                    <a:pt x="11" y="296"/>
                  </a:lnTo>
                  <a:lnTo>
                    <a:pt x="25" y="280"/>
                  </a:lnTo>
                  <a:lnTo>
                    <a:pt x="14" y="270"/>
                  </a:lnTo>
                  <a:lnTo>
                    <a:pt x="14" y="146"/>
                  </a:lnTo>
                  <a:lnTo>
                    <a:pt x="14" y="26"/>
                  </a:lnTo>
                  <a:lnTo>
                    <a:pt x="25" y="16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00400" y="6268320"/>
              <a:ext cx="151920" cy="5400"/>
            </a:xfrm>
            <a:custGeom>
              <a:avLst/>
              <a:gdLst/>
              <a:ahLst/>
              <a:rect l="l" t="t" r="r" b="b"/>
              <a:pathLst>
                <a:path w="336" h="16">
                  <a:moveTo>
                    <a:pt x="0" y="0"/>
                  </a:moveTo>
                  <a:lnTo>
                    <a:pt x="13" y="16"/>
                  </a:lnTo>
                  <a:lnTo>
                    <a:pt x="321" y="16"/>
                  </a:lnTo>
                  <a:lnTo>
                    <a:pt x="3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900400" y="6365520"/>
              <a:ext cx="156600" cy="8280"/>
            </a:xfrm>
            <a:custGeom>
              <a:avLst/>
              <a:gdLst/>
              <a:ahLst/>
              <a:rect l="l" t="t" r="r" b="b"/>
              <a:pathLst>
                <a:path w="345" h="25">
                  <a:moveTo>
                    <a:pt x="334" y="25"/>
                  </a:moveTo>
                  <a:lnTo>
                    <a:pt x="345" y="14"/>
                  </a:lnTo>
                  <a:lnTo>
                    <a:pt x="332" y="0"/>
                  </a:lnTo>
                  <a:lnTo>
                    <a:pt x="321" y="10"/>
                  </a:lnTo>
                  <a:lnTo>
                    <a:pt x="14" y="9"/>
                  </a:lnTo>
                  <a:lnTo>
                    <a:pt x="0" y="25"/>
                  </a:lnTo>
                  <a:lnTo>
                    <a:pt x="334" y="25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052680" y="6384600"/>
              <a:ext cx="5040" cy="180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99680" y="6271200"/>
              <a:ext cx="153720" cy="100440"/>
            </a:xfrm>
            <a:custGeom>
              <a:avLst/>
              <a:gdLst/>
              <a:ahLst/>
              <a:rect l="l" t="t" r="r" b="b"/>
              <a:pathLst>
                <a:path w="341" h="284">
                  <a:moveTo>
                    <a:pt x="0" y="266"/>
                  </a:moveTo>
                  <a:lnTo>
                    <a:pt x="2" y="278"/>
                  </a:lnTo>
                  <a:lnTo>
                    <a:pt x="13" y="284"/>
                  </a:lnTo>
                  <a:lnTo>
                    <a:pt x="322" y="284"/>
                  </a:lnTo>
                  <a:lnTo>
                    <a:pt x="335" y="281"/>
                  </a:lnTo>
                  <a:lnTo>
                    <a:pt x="341" y="270"/>
                  </a:lnTo>
                  <a:lnTo>
                    <a:pt x="341" y="16"/>
                  </a:lnTo>
                  <a:lnTo>
                    <a:pt x="337" y="6"/>
                  </a:lnTo>
                  <a:lnTo>
                    <a:pt x="326" y="0"/>
                  </a:lnTo>
                  <a:lnTo>
                    <a:pt x="16" y="0"/>
                  </a:lnTo>
                  <a:lnTo>
                    <a:pt x="5" y="3"/>
                  </a:lnTo>
                  <a:lnTo>
                    <a:pt x="0" y="15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857920" y="6415200"/>
              <a:ext cx="251640" cy="71280"/>
            </a:xfrm>
            <a:custGeom>
              <a:avLst/>
              <a:gdLst/>
              <a:ahLst/>
              <a:rect l="l" t="t" r="r" b="b"/>
              <a:pathLst>
                <a:path w="555" h="202">
                  <a:moveTo>
                    <a:pt x="0" y="186"/>
                  </a:moveTo>
                  <a:lnTo>
                    <a:pt x="5" y="195"/>
                  </a:lnTo>
                  <a:lnTo>
                    <a:pt x="22" y="202"/>
                  </a:lnTo>
                  <a:lnTo>
                    <a:pt x="534" y="202"/>
                  </a:lnTo>
                  <a:lnTo>
                    <a:pt x="551" y="198"/>
                  </a:lnTo>
                  <a:lnTo>
                    <a:pt x="555" y="187"/>
                  </a:lnTo>
                  <a:lnTo>
                    <a:pt x="554" y="17"/>
                  </a:lnTo>
                  <a:lnTo>
                    <a:pt x="552" y="7"/>
                  </a:lnTo>
                  <a:lnTo>
                    <a:pt x="537" y="0"/>
                  </a:lnTo>
                  <a:lnTo>
                    <a:pt x="22" y="0"/>
                  </a:lnTo>
                  <a:lnTo>
                    <a:pt x="5" y="6"/>
                  </a:lnTo>
                  <a:lnTo>
                    <a:pt x="0" y="17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791320" y="6489360"/>
              <a:ext cx="380880" cy="63360"/>
            </a:xfrm>
            <a:custGeom>
              <a:avLst/>
              <a:gdLst/>
              <a:ahLst/>
              <a:rect l="l" t="t" r="r" b="b"/>
              <a:pathLst>
                <a:path w="841" h="179">
                  <a:moveTo>
                    <a:pt x="802" y="0"/>
                  </a:moveTo>
                  <a:lnTo>
                    <a:pt x="841" y="136"/>
                  </a:lnTo>
                  <a:lnTo>
                    <a:pt x="840" y="157"/>
                  </a:lnTo>
                  <a:lnTo>
                    <a:pt x="835" y="179"/>
                  </a:lnTo>
                  <a:lnTo>
                    <a:pt x="18" y="179"/>
                  </a:lnTo>
                  <a:lnTo>
                    <a:pt x="3" y="168"/>
                  </a:lnTo>
                  <a:lnTo>
                    <a:pt x="0" y="158"/>
                  </a:lnTo>
                  <a:lnTo>
                    <a:pt x="1" y="136"/>
                  </a:lnTo>
                  <a:lnTo>
                    <a:pt x="39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95640" y="6540840"/>
              <a:ext cx="371880" cy="3960"/>
            </a:xfrm>
            <a:custGeom>
              <a:avLst/>
              <a:gdLst/>
              <a:ahLst/>
              <a:rect l="l" t="t" r="r" b="b"/>
              <a:pathLst>
                <a:path w="823" h="11">
                  <a:moveTo>
                    <a:pt x="823" y="0"/>
                  </a:moveTo>
                  <a:lnTo>
                    <a:pt x="821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23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813640" y="6508080"/>
              <a:ext cx="63000" cy="24120"/>
            </a:xfrm>
            <a:custGeom>
              <a:avLst/>
              <a:gdLst/>
              <a:ahLst/>
              <a:rect l="l" t="t" r="r" b="b"/>
              <a:pathLst>
                <a:path w="140" h="68">
                  <a:moveTo>
                    <a:pt x="0" y="68"/>
                  </a:moveTo>
                  <a:lnTo>
                    <a:pt x="18" y="0"/>
                  </a:lnTo>
                  <a:lnTo>
                    <a:pt x="40" y="0"/>
                  </a:lnTo>
                  <a:lnTo>
                    <a:pt x="37" y="17"/>
                  </a:lnTo>
                  <a:lnTo>
                    <a:pt x="60" y="17"/>
                  </a:lnTo>
                  <a:lnTo>
                    <a:pt x="57" y="32"/>
                  </a:lnTo>
                  <a:lnTo>
                    <a:pt x="90" y="32"/>
                  </a:lnTo>
                  <a:lnTo>
                    <a:pt x="86" y="46"/>
                  </a:lnTo>
                  <a:lnTo>
                    <a:pt x="140" y="46"/>
                  </a:lnTo>
                  <a:lnTo>
                    <a:pt x="135" y="68"/>
                  </a:lnTo>
                  <a:lnTo>
                    <a:pt x="78" y="68"/>
                  </a:lnTo>
                  <a:lnTo>
                    <a:pt x="80" y="58"/>
                  </a:lnTo>
                  <a:lnTo>
                    <a:pt x="59" y="58"/>
                  </a:lnTo>
                  <a:lnTo>
                    <a:pt x="56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832720" y="6508080"/>
              <a:ext cx="180000" cy="2412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" y="0"/>
                  </a:moveTo>
                  <a:lnTo>
                    <a:pt x="0" y="15"/>
                  </a:lnTo>
                  <a:lnTo>
                    <a:pt x="23" y="15"/>
                  </a:lnTo>
                  <a:lnTo>
                    <a:pt x="18" y="30"/>
                  </a:lnTo>
                  <a:lnTo>
                    <a:pt x="51" y="30"/>
                  </a:lnTo>
                  <a:lnTo>
                    <a:pt x="49" y="44"/>
                  </a:lnTo>
                  <a:lnTo>
                    <a:pt x="101" y="44"/>
                  </a:lnTo>
                  <a:lnTo>
                    <a:pt x="98" y="68"/>
                  </a:lnTo>
                  <a:lnTo>
                    <a:pt x="303" y="68"/>
                  </a:lnTo>
                  <a:lnTo>
                    <a:pt x="312" y="43"/>
                  </a:lnTo>
                  <a:lnTo>
                    <a:pt x="354" y="43"/>
                  </a:lnTo>
                  <a:lnTo>
                    <a:pt x="359" y="29"/>
                  </a:lnTo>
                  <a:lnTo>
                    <a:pt x="396" y="29"/>
                  </a:lnTo>
                  <a:lnTo>
                    <a:pt x="399" y="18"/>
                  </a:lnTo>
                  <a:lnTo>
                    <a:pt x="387" y="18"/>
                  </a:lnTo>
                  <a:lnTo>
                    <a:pt x="39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129720" y="6508800"/>
              <a:ext cx="18000" cy="23400"/>
            </a:xfrm>
            <a:custGeom>
              <a:avLst/>
              <a:gdLst/>
              <a:ahLst/>
              <a:rect l="l" t="t" r="r" b="b"/>
              <a:pathLst>
                <a:path w="40" h="67">
                  <a:moveTo>
                    <a:pt x="0" y="0"/>
                  </a:moveTo>
                  <a:lnTo>
                    <a:pt x="22" y="0"/>
                  </a:lnTo>
                  <a:lnTo>
                    <a:pt x="40" y="67"/>
                  </a:lnTo>
                  <a:lnTo>
                    <a:pt x="1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72040" y="6520320"/>
              <a:ext cx="60480" cy="1188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35" y="36"/>
                  </a:moveTo>
                  <a:lnTo>
                    <a:pt x="131" y="0"/>
                  </a:lnTo>
                  <a:lnTo>
                    <a:pt x="55" y="0"/>
                  </a:lnTo>
                  <a:lnTo>
                    <a:pt x="49" y="14"/>
                  </a:lnTo>
                  <a:lnTo>
                    <a:pt x="9" y="14"/>
                  </a:lnTo>
                  <a:lnTo>
                    <a:pt x="0" y="36"/>
                  </a:lnTo>
                  <a:lnTo>
                    <a:pt x="52" y="36"/>
                  </a:lnTo>
                  <a:lnTo>
                    <a:pt x="55" y="26"/>
                  </a:lnTo>
                  <a:lnTo>
                    <a:pt x="76" y="26"/>
                  </a:lnTo>
                  <a:lnTo>
                    <a:pt x="74" y="36"/>
                  </a:lnTo>
                  <a:lnTo>
                    <a:pt x="135" y="3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10920" y="6508080"/>
              <a:ext cx="19080" cy="468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44" y="14"/>
                  </a:moveTo>
                  <a:lnTo>
                    <a:pt x="44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014880" y="6515280"/>
              <a:ext cx="16200" cy="324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11"/>
                  </a:moveTo>
                  <a:lnTo>
                    <a:pt x="35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082560" y="6508080"/>
              <a:ext cx="48960" cy="24120"/>
            </a:xfrm>
            <a:custGeom>
              <a:avLst/>
              <a:gdLst/>
              <a:ahLst/>
              <a:rect l="l" t="t" r="r" b="b"/>
              <a:pathLst>
                <a:path w="108" h="68">
                  <a:moveTo>
                    <a:pt x="90" y="0"/>
                  </a:moveTo>
                  <a:lnTo>
                    <a:pt x="0" y="0"/>
                  </a:lnTo>
                  <a:lnTo>
                    <a:pt x="19" y="68"/>
                  </a:lnTo>
                  <a:lnTo>
                    <a:pt x="108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036480" y="6508080"/>
              <a:ext cx="43200" cy="1332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1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38"/>
                  </a:lnTo>
                  <a:lnTo>
                    <a:pt x="96" y="3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034680" y="6497280"/>
              <a:ext cx="42480" cy="7560"/>
            </a:xfrm>
            <a:custGeom>
              <a:avLst/>
              <a:gdLst/>
              <a:ahLst/>
              <a:rect l="l" t="t" r="r" b="b"/>
              <a:pathLst>
                <a:path w="94" h="22">
                  <a:moveTo>
                    <a:pt x="91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94" y="2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7200" y="6525360"/>
              <a:ext cx="46080" cy="684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94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101" y="2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80760" y="6497280"/>
              <a:ext cx="57600" cy="7560"/>
            </a:xfrm>
            <a:custGeom>
              <a:avLst/>
              <a:gdLst/>
              <a:ahLst/>
              <a:rect l="l" t="t" r="r" b="b"/>
              <a:pathLst>
                <a:path w="130" h="22">
                  <a:moveTo>
                    <a:pt x="127" y="0"/>
                  </a:moveTo>
                  <a:lnTo>
                    <a:pt x="0" y="0"/>
                  </a:lnTo>
                  <a:lnTo>
                    <a:pt x="5" y="22"/>
                  </a:lnTo>
                  <a:lnTo>
                    <a:pt x="130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848920" y="6497280"/>
              <a:ext cx="61560" cy="756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5" y="0"/>
                  </a:moveTo>
                  <a:lnTo>
                    <a:pt x="135" y="0"/>
                  </a:lnTo>
                  <a:lnTo>
                    <a:pt x="130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912280" y="6497280"/>
              <a:ext cx="56160" cy="7560"/>
            </a:xfrm>
            <a:custGeom>
              <a:avLst/>
              <a:gdLst/>
              <a:ahLst/>
              <a:rect l="l" t="t" r="r" b="b"/>
              <a:pathLst>
                <a:path w="124" h="22">
                  <a:moveTo>
                    <a:pt x="5" y="0"/>
                  </a:moveTo>
                  <a:lnTo>
                    <a:pt x="124" y="0"/>
                  </a:lnTo>
                  <a:lnTo>
                    <a:pt x="118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970240" y="6497280"/>
              <a:ext cx="59400" cy="7560"/>
            </a:xfrm>
            <a:custGeom>
              <a:avLst/>
              <a:gdLst/>
              <a:ahLst/>
              <a:rect l="l" t="t" r="r" b="b"/>
              <a:pathLst>
                <a:path w="131" h="22">
                  <a:moveTo>
                    <a:pt x="5" y="0"/>
                  </a:moveTo>
                  <a:lnTo>
                    <a:pt x="131" y="0"/>
                  </a:lnTo>
                  <a:lnTo>
                    <a:pt x="131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808240" y="6497280"/>
              <a:ext cx="347760" cy="36720"/>
            </a:xfrm>
            <a:custGeom>
              <a:avLst/>
              <a:gdLst/>
              <a:ahLst/>
              <a:rect l="l" t="t" r="r" b="b"/>
              <a:pathLst>
                <a:path w="768" h="103">
                  <a:moveTo>
                    <a:pt x="22" y="0"/>
                  </a:moveTo>
                  <a:lnTo>
                    <a:pt x="0" y="103"/>
                  </a:lnTo>
                  <a:lnTo>
                    <a:pt x="768" y="103"/>
                  </a:lnTo>
                  <a:lnTo>
                    <a:pt x="744" y="0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822640" y="6497280"/>
              <a:ext cx="18000" cy="756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4" y="0"/>
                  </a:moveTo>
                  <a:lnTo>
                    <a:pt x="39" y="0"/>
                  </a:lnTo>
                  <a:lnTo>
                    <a:pt x="35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796360" y="6545880"/>
              <a:ext cx="370080" cy="3240"/>
            </a:xfrm>
            <a:custGeom>
              <a:avLst/>
              <a:gdLst/>
              <a:ahLst/>
              <a:rect l="l" t="t" r="r" b="b"/>
              <a:pathLst>
                <a:path w="818" h="10">
                  <a:moveTo>
                    <a:pt x="818" y="0"/>
                  </a:moveTo>
                  <a:lnTo>
                    <a:pt x="814" y="10"/>
                  </a:lnTo>
                  <a:lnTo>
                    <a:pt x="3" y="9"/>
                  </a:lnTo>
                  <a:lnTo>
                    <a:pt x="0" y="0"/>
                  </a:lnTo>
                  <a:lnTo>
                    <a:pt x="818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95640" y="6540840"/>
              <a:ext cx="37188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92040" y="6545160"/>
              <a:ext cx="379080" cy="3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809320" y="6489360"/>
              <a:ext cx="34488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862600" y="6418080"/>
              <a:ext cx="241560" cy="3492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067440" y="6442920"/>
              <a:ext cx="72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924160" y="6442920"/>
              <a:ext cx="72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995440" y="6442920"/>
              <a:ext cx="72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24160" y="6418800"/>
              <a:ext cx="72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995440" y="6418800"/>
              <a:ext cx="72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67440" y="6418800"/>
              <a:ext cx="72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927760" y="6425280"/>
              <a:ext cx="63360" cy="147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0" y="24"/>
                  </a:moveTo>
                  <a:lnTo>
                    <a:pt x="42" y="24"/>
                  </a:lnTo>
                  <a:lnTo>
                    <a:pt x="42" y="0"/>
                  </a:lnTo>
                  <a:lnTo>
                    <a:pt x="96" y="0"/>
                  </a:lnTo>
                  <a:lnTo>
                    <a:pt x="96" y="24"/>
                  </a:lnTo>
                  <a:lnTo>
                    <a:pt x="140" y="24"/>
                  </a:lnTo>
                  <a:lnTo>
                    <a:pt x="140" y="34"/>
                  </a:lnTo>
                  <a:lnTo>
                    <a:pt x="96" y="34"/>
                  </a:lnTo>
                  <a:lnTo>
                    <a:pt x="96" y="42"/>
                  </a:lnTo>
                  <a:lnTo>
                    <a:pt x="42" y="42"/>
                  </a:lnTo>
                  <a:lnTo>
                    <a:pt x="42" y="34"/>
                  </a:lnTo>
                  <a:lnTo>
                    <a:pt x="0" y="3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948640" y="6436800"/>
              <a:ext cx="20520" cy="36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927760" y="6436800"/>
              <a:ext cx="19080" cy="36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71320" y="6436800"/>
              <a:ext cx="19080" cy="36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946840" y="6425280"/>
              <a:ext cx="24120" cy="82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2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24"/>
                  </a:lnTo>
                  <a:lnTo>
                    <a:pt x="47" y="21"/>
                  </a:lnTo>
                  <a:lnTo>
                    <a:pt x="9" y="2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46840" y="6425280"/>
              <a:ext cx="24120" cy="79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0" y="0"/>
                  </a:moveTo>
                  <a:lnTo>
                    <a:pt x="9" y="21"/>
                  </a:lnTo>
                  <a:lnTo>
                    <a:pt x="47" y="21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069960" y="6426000"/>
              <a:ext cx="3240" cy="1800"/>
            </a:xfrm>
            <a:prstGeom prst="rect">
              <a:avLst/>
            </a:prstGeom>
            <a:solidFill>
              <a:srgbClr val="00ce00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69960" y="6438240"/>
              <a:ext cx="3240" cy="1800"/>
            </a:xfrm>
            <a:prstGeom prst="rect">
              <a:avLst/>
            </a:prstGeom>
            <a:solidFill>
              <a:srgbClr val="ff0000"/>
            </a:solidFill>
            <a:ln w="144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927760" y="6428160"/>
              <a:ext cx="5400" cy="180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863320" y="6431040"/>
              <a:ext cx="240480" cy="14760"/>
            </a:xfrm>
            <a:custGeom>
              <a:avLst/>
              <a:gdLst/>
              <a:ahLst/>
              <a:rect l="l" t="t" r="r" b="b"/>
              <a:pathLst>
                <a:path w="534" h="42">
                  <a:moveTo>
                    <a:pt x="0" y="42"/>
                  </a:moveTo>
                  <a:lnTo>
                    <a:pt x="0" y="32"/>
                  </a:lnTo>
                  <a:lnTo>
                    <a:pt x="242" y="33"/>
                  </a:lnTo>
                  <a:lnTo>
                    <a:pt x="242" y="21"/>
                  </a:lnTo>
                  <a:lnTo>
                    <a:pt x="283" y="21"/>
                  </a:lnTo>
                  <a:lnTo>
                    <a:pt x="283" y="32"/>
                  </a:lnTo>
                  <a:lnTo>
                    <a:pt x="478" y="3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32"/>
                  </a:lnTo>
                  <a:lnTo>
                    <a:pt x="534" y="32"/>
                  </a:lnTo>
                  <a:lnTo>
                    <a:pt x="53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078960" y="6424560"/>
              <a:ext cx="13320" cy="133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39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31" y="39"/>
                  </a:lnTo>
                  <a:lnTo>
                    <a:pt x="25" y="33"/>
                  </a:lnTo>
                  <a:lnTo>
                    <a:pt x="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078960" y="6424560"/>
              <a:ext cx="13320" cy="111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0"/>
                  </a:moveTo>
                  <a:lnTo>
                    <a:pt x="4" y="33"/>
                  </a:lnTo>
                  <a:lnTo>
                    <a:pt x="25" y="33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078960" y="6436080"/>
              <a:ext cx="13320" cy="4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14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26" y="1"/>
                  </a:lnTo>
                  <a:lnTo>
                    <a:pt x="31" y="5"/>
                  </a:lnTo>
                  <a:lnTo>
                    <a:pt x="31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82560" y="6433200"/>
              <a:ext cx="6120" cy="3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82560" y="6433200"/>
              <a:ext cx="6120" cy="360"/>
            </a:xfrm>
            <a:prstGeom prst="rect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82560" y="6432480"/>
              <a:ext cx="6120" cy="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082560" y="6429600"/>
              <a:ext cx="6120" cy="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78520" y="6440400"/>
              <a:ext cx="7200" cy="3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78520" y="6440400"/>
              <a:ext cx="6120" cy="3240"/>
            </a:xfrm>
            <a:prstGeom prst="rect">
              <a:avLst/>
            </a:prstGeom>
            <a:noFill/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87160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87520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8798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8834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8870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8906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8942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978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025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061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097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133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169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863320" y="6459480"/>
              <a:ext cx="720" cy="2124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8680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8716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752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8798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834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887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8906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8942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8978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902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9061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9097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133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16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20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241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288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932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367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39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943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947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511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551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594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630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66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702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738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774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821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857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9893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993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9965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0012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0048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084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0120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166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0199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0238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0282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031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0354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0390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0426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0462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0508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544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058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0624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0663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069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073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0771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807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0854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886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092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0962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0998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03440" y="6459480"/>
              <a:ext cx="720" cy="2124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8680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8716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8752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8798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834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87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8906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8942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978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902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9061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9097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9133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916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920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9241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9288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932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9367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939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943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947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511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9551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9594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630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966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9702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9738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9774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9821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9857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9893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993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965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0012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0048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0084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0120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0166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0199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0238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0282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031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354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390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426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0462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0508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0544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058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0624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0663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069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073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0771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0807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0854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0886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092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0962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0998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871600" y="6424560"/>
              <a:ext cx="22320" cy="13320"/>
            </a:xfrm>
            <a:prstGeom prst="roundRect">
              <a:avLst>
                <a:gd name="adj" fmla="val 588236"/>
              </a:avLst>
            </a:prstGeom>
            <a:solidFill>
              <a:srgbClr val="808080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862600" y="6418080"/>
              <a:ext cx="241560" cy="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62600" y="6424560"/>
              <a:ext cx="241560" cy="18360"/>
            </a:xfrm>
            <a:custGeom>
              <a:avLst/>
              <a:gdLst/>
              <a:ahLst/>
              <a:rect l="l" t="t" r="r" b="b"/>
              <a:pathLst>
                <a:path w="535" h="52">
                  <a:moveTo>
                    <a:pt x="0" y="52"/>
                  </a:moveTo>
                  <a:lnTo>
                    <a:pt x="243" y="52"/>
                  </a:lnTo>
                  <a:lnTo>
                    <a:pt x="243" y="40"/>
                  </a:lnTo>
                  <a:lnTo>
                    <a:pt x="284" y="40"/>
                  </a:lnTo>
                  <a:lnTo>
                    <a:pt x="284" y="52"/>
                  </a:lnTo>
                  <a:lnTo>
                    <a:pt x="478" y="5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52"/>
                  </a:lnTo>
                  <a:lnTo>
                    <a:pt x="535" y="52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094440" y="6438240"/>
              <a:ext cx="4320" cy="3240"/>
            </a:xfrm>
            <a:prstGeom prst="ellipse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096960" y="6429600"/>
              <a:ext cx="720" cy="46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8640" y="6402240"/>
              <a:ext cx="68760" cy="324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912280" y="6405840"/>
              <a:ext cx="139320" cy="828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4" name="" descr=""/>
          <p:cNvPicPr/>
          <p:nvPr/>
        </p:nvPicPr>
        <p:blipFill>
          <a:blip r:embed="rId18"/>
          <a:stretch/>
        </p:blipFill>
        <p:spPr>
          <a:xfrm>
            <a:off x="2133720" y="4191120"/>
            <a:ext cx="214200" cy="38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5" name=""/>
          <p:cNvGraphicFramePr/>
          <p:nvPr/>
        </p:nvGraphicFramePr>
        <p:xfrm>
          <a:off x="3200400" y="3886200"/>
          <a:ext cx="304920" cy="293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8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00400" y="3886200"/>
                    <a:ext cx="30492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7" name=""/>
          <p:cNvGrpSpPr/>
          <p:nvPr/>
        </p:nvGrpSpPr>
        <p:grpSpPr>
          <a:xfrm>
            <a:off x="631800" y="4267080"/>
            <a:ext cx="1177920" cy="533520"/>
            <a:chOff x="631800" y="4267080"/>
            <a:chExt cx="1177920" cy="533520"/>
          </a:xfrm>
        </p:grpSpPr>
        <p:pic>
          <p:nvPicPr>
            <p:cNvPr id="1288" name="" descr=""/>
            <p:cNvPicPr/>
            <p:nvPr/>
          </p:nvPicPr>
          <p:blipFill>
            <a:blip r:embed="rId21"/>
            <a:stretch/>
          </p:blipFill>
          <p:spPr>
            <a:xfrm>
              <a:off x="631800" y="4267080"/>
              <a:ext cx="11779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665640" y="4399200"/>
              <a:ext cx="10850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880" bIns="38880" anchor="t">
              <a:spAutoFit/>
            </a:bodyPr>
            <a:p>
              <a:pPr algn="ctr">
                <a:tabLst>
                  <a:tab algn="l" pos="0"/>
                  <a:tab algn="l" pos="646200"/>
                  <a:tab algn="l" pos="1292400"/>
                  <a:tab algn="l" pos="1938240"/>
                  <a:tab algn="l" pos="2584440"/>
                  <a:tab algn="l" pos="3230640"/>
                  <a:tab algn="l" pos="3876840"/>
                  <a:tab algn="l" pos="4522680"/>
                  <a:tab algn="l" pos="5168880"/>
                  <a:tab algn="l" pos="5815080"/>
                  <a:tab algn="l" pos="6461280"/>
                  <a:tab algn="l" pos="7107120"/>
                  <a:tab algn="l" pos="7753320"/>
                  <a:tab algn="l" pos="8399520"/>
                  <a:tab algn="l" pos="9045720"/>
                  <a:tab algn="l" pos="9691560"/>
                  <a:tab algn="l" pos="10337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STN/IS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3809880" y="2743200"/>
            <a:ext cx="381240" cy="228600"/>
            <a:chOff x="3809880" y="2743200"/>
            <a:chExt cx="381240" cy="228600"/>
          </a:xfrm>
        </p:grpSpPr>
        <p:sp>
          <p:nvSpPr>
            <p:cNvPr id="1291" name=""/>
            <p:cNvSpPr/>
            <p:nvPr/>
          </p:nvSpPr>
          <p:spPr>
            <a:xfrm>
              <a:off x="3809880" y="280692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809880" y="274320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3868920" y="2757960"/>
              <a:ext cx="261720" cy="94680"/>
              <a:chOff x="3868920" y="2757960"/>
              <a:chExt cx="261720" cy="94680"/>
            </a:xfrm>
          </p:grpSpPr>
          <p:sp>
            <p:nvSpPr>
              <p:cNvPr id="1294" name=""/>
              <p:cNvSpPr/>
              <p:nvPr/>
            </p:nvSpPr>
            <p:spPr>
              <a:xfrm>
                <a:off x="4004640" y="2760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004640" y="2760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868920" y="2805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868920" y="2805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875040" y="2757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875040" y="2757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99600" y="2810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999600" y="2810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007160" y="27630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007160" y="27630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871440" y="2808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871440" y="2808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877560" y="2760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877560" y="2760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4002480" y="2813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4002480" y="2813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0" name=""/>
          <p:cNvGrpSpPr/>
          <p:nvPr/>
        </p:nvGrpSpPr>
        <p:grpSpPr>
          <a:xfrm>
            <a:off x="4419720" y="1219320"/>
            <a:ext cx="380880" cy="228600"/>
            <a:chOff x="4419720" y="1219320"/>
            <a:chExt cx="380880" cy="228600"/>
          </a:xfrm>
        </p:grpSpPr>
        <p:sp>
          <p:nvSpPr>
            <p:cNvPr id="1311" name=""/>
            <p:cNvSpPr/>
            <p:nvPr/>
          </p:nvSpPr>
          <p:spPr>
            <a:xfrm>
              <a:off x="4419720" y="128304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419720" y="121932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3" name=""/>
            <p:cNvGrpSpPr/>
            <p:nvPr/>
          </p:nvGrpSpPr>
          <p:grpSpPr>
            <a:xfrm>
              <a:off x="4478760" y="1234080"/>
              <a:ext cx="261720" cy="94680"/>
              <a:chOff x="4478760" y="1234080"/>
              <a:chExt cx="261720" cy="94680"/>
            </a:xfrm>
          </p:grpSpPr>
          <p:sp>
            <p:nvSpPr>
              <p:cNvPr id="1314" name=""/>
              <p:cNvSpPr/>
              <p:nvPr/>
            </p:nvSpPr>
            <p:spPr>
              <a:xfrm>
                <a:off x="4614480" y="1236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614480" y="1236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478760" y="12819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478760" y="12819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484880" y="12340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484880" y="12340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609440" y="1287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609440" y="1287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617000" y="12391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617000" y="12391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481280" y="12844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481280" y="12844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487400" y="1236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487400" y="1236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612320" y="12895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612320" y="12895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0" name=""/>
          <p:cNvGrpSpPr/>
          <p:nvPr/>
        </p:nvGrpSpPr>
        <p:grpSpPr>
          <a:xfrm>
            <a:off x="5638680" y="1523880"/>
            <a:ext cx="381240" cy="228600"/>
            <a:chOff x="5638680" y="1523880"/>
            <a:chExt cx="381240" cy="228600"/>
          </a:xfrm>
        </p:grpSpPr>
        <p:sp>
          <p:nvSpPr>
            <p:cNvPr id="1331" name=""/>
            <p:cNvSpPr/>
            <p:nvPr/>
          </p:nvSpPr>
          <p:spPr>
            <a:xfrm>
              <a:off x="5638680" y="158760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638680" y="152388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3" name=""/>
            <p:cNvGrpSpPr/>
            <p:nvPr/>
          </p:nvGrpSpPr>
          <p:grpSpPr>
            <a:xfrm>
              <a:off x="5697720" y="1538640"/>
              <a:ext cx="261720" cy="94680"/>
              <a:chOff x="5697720" y="1538640"/>
              <a:chExt cx="261720" cy="94680"/>
            </a:xfrm>
          </p:grpSpPr>
          <p:sp>
            <p:nvSpPr>
              <p:cNvPr id="1334" name=""/>
              <p:cNvSpPr/>
              <p:nvPr/>
            </p:nvSpPr>
            <p:spPr>
              <a:xfrm>
                <a:off x="5833440" y="15411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33440" y="15411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697720" y="15865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697720" y="15865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703840" y="15386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703840" y="15386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828400" y="15915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828400" y="15915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835960" y="15436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835960" y="15436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700240" y="15890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700240" y="15890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706360" y="15411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706360" y="15411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831280" y="15940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831280" y="15940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0" name=""/>
          <p:cNvGrpSpPr/>
          <p:nvPr/>
        </p:nvGrpSpPr>
        <p:grpSpPr>
          <a:xfrm>
            <a:off x="5105520" y="2286000"/>
            <a:ext cx="380880" cy="228600"/>
            <a:chOff x="5105520" y="2286000"/>
            <a:chExt cx="380880" cy="228600"/>
          </a:xfrm>
        </p:grpSpPr>
        <p:sp>
          <p:nvSpPr>
            <p:cNvPr id="1351" name=""/>
            <p:cNvSpPr/>
            <p:nvPr/>
          </p:nvSpPr>
          <p:spPr>
            <a:xfrm>
              <a:off x="5105520" y="234972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105520" y="228600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3" name=""/>
            <p:cNvGrpSpPr/>
            <p:nvPr/>
          </p:nvGrpSpPr>
          <p:grpSpPr>
            <a:xfrm>
              <a:off x="5164560" y="2300760"/>
              <a:ext cx="261720" cy="94680"/>
              <a:chOff x="5164560" y="2300760"/>
              <a:chExt cx="261720" cy="94680"/>
            </a:xfrm>
          </p:grpSpPr>
          <p:sp>
            <p:nvSpPr>
              <p:cNvPr id="1354" name=""/>
              <p:cNvSpPr/>
              <p:nvPr/>
            </p:nvSpPr>
            <p:spPr>
              <a:xfrm>
                <a:off x="5300280" y="2303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300280" y="2303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164560" y="23486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164560" y="23486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170680" y="2300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170680" y="2300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295240" y="2353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295240" y="2353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302800" y="23058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302800" y="23058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167080" y="2351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167080" y="2351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173200" y="2303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173200" y="2303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298120" y="2356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298120" y="2356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0" name=""/>
          <p:cNvGrpSpPr/>
          <p:nvPr/>
        </p:nvGrpSpPr>
        <p:grpSpPr>
          <a:xfrm>
            <a:off x="4191120" y="2133720"/>
            <a:ext cx="380880" cy="228600"/>
            <a:chOff x="4191120" y="2133720"/>
            <a:chExt cx="380880" cy="228600"/>
          </a:xfrm>
        </p:grpSpPr>
        <p:sp>
          <p:nvSpPr>
            <p:cNvPr id="1371" name=""/>
            <p:cNvSpPr/>
            <p:nvPr/>
          </p:nvSpPr>
          <p:spPr>
            <a:xfrm>
              <a:off x="4191120" y="219744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191120" y="213372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3" name=""/>
            <p:cNvGrpSpPr/>
            <p:nvPr/>
          </p:nvGrpSpPr>
          <p:grpSpPr>
            <a:xfrm>
              <a:off x="4250160" y="2148480"/>
              <a:ext cx="261720" cy="94680"/>
              <a:chOff x="4250160" y="2148480"/>
              <a:chExt cx="261720" cy="94680"/>
            </a:xfrm>
          </p:grpSpPr>
          <p:sp>
            <p:nvSpPr>
              <p:cNvPr id="1374" name=""/>
              <p:cNvSpPr/>
              <p:nvPr/>
            </p:nvSpPr>
            <p:spPr>
              <a:xfrm>
                <a:off x="4385880" y="2151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385880" y="2151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250160" y="2196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250160" y="2196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256280" y="2148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256280" y="2148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380840" y="2201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380840" y="2201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388400" y="21535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388400" y="21535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252680" y="21988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252680" y="21988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258800" y="2151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258800" y="2151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383720" y="22039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383720" y="22039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0" name=""/>
          <p:cNvGrpSpPr/>
          <p:nvPr/>
        </p:nvGrpSpPr>
        <p:grpSpPr>
          <a:xfrm>
            <a:off x="3505320" y="1676520"/>
            <a:ext cx="380880" cy="228600"/>
            <a:chOff x="3505320" y="1676520"/>
            <a:chExt cx="380880" cy="228600"/>
          </a:xfrm>
        </p:grpSpPr>
        <p:sp>
          <p:nvSpPr>
            <p:cNvPr id="1391" name=""/>
            <p:cNvSpPr/>
            <p:nvPr/>
          </p:nvSpPr>
          <p:spPr>
            <a:xfrm>
              <a:off x="3505320" y="174024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505320" y="167652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3" name=""/>
            <p:cNvGrpSpPr/>
            <p:nvPr/>
          </p:nvGrpSpPr>
          <p:grpSpPr>
            <a:xfrm>
              <a:off x="3564360" y="1691280"/>
              <a:ext cx="261720" cy="94680"/>
              <a:chOff x="3564360" y="1691280"/>
              <a:chExt cx="261720" cy="94680"/>
            </a:xfrm>
          </p:grpSpPr>
          <p:sp>
            <p:nvSpPr>
              <p:cNvPr id="1394" name=""/>
              <p:cNvSpPr/>
              <p:nvPr/>
            </p:nvSpPr>
            <p:spPr>
              <a:xfrm>
                <a:off x="3700080" y="1693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700080" y="1693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564360" y="1739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564360" y="1739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3570480" y="1691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570480" y="1691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695040" y="1744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695040" y="1744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702600" y="16963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702600" y="16963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566880" y="17416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566880" y="17416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573000" y="1693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573000" y="1693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697920" y="17467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697920" y="17467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0" name=""/>
          <p:cNvGrpSpPr/>
          <p:nvPr/>
        </p:nvGrpSpPr>
        <p:grpSpPr>
          <a:xfrm>
            <a:off x="6324480" y="2057400"/>
            <a:ext cx="381240" cy="228600"/>
            <a:chOff x="6324480" y="2057400"/>
            <a:chExt cx="381240" cy="228600"/>
          </a:xfrm>
        </p:grpSpPr>
        <p:sp>
          <p:nvSpPr>
            <p:cNvPr id="1411" name=""/>
            <p:cNvSpPr/>
            <p:nvPr/>
          </p:nvSpPr>
          <p:spPr>
            <a:xfrm>
              <a:off x="6324480" y="212112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24480" y="205740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3" name=""/>
            <p:cNvGrpSpPr/>
            <p:nvPr/>
          </p:nvGrpSpPr>
          <p:grpSpPr>
            <a:xfrm>
              <a:off x="6383520" y="2072160"/>
              <a:ext cx="261720" cy="94680"/>
              <a:chOff x="6383520" y="2072160"/>
              <a:chExt cx="261720" cy="9468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19240" y="2074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19240" y="2074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383520" y="21200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383520" y="21200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389640" y="20721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389640" y="20721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514200" y="21250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514200" y="21250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521760" y="20772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21760" y="20772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386040" y="21225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386040" y="21225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392160" y="2074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392160" y="2074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517080" y="2127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517080" y="2127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430" name=""/>
          <p:cNvGraphicFramePr/>
          <p:nvPr/>
        </p:nvGraphicFramePr>
        <p:xfrm>
          <a:off x="6858000" y="2362320"/>
          <a:ext cx="382680" cy="3682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43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858000" y="2362320"/>
                    <a:ext cx="3826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2" name=""/>
          <p:cNvGrpSpPr/>
          <p:nvPr/>
        </p:nvGrpSpPr>
        <p:grpSpPr>
          <a:xfrm>
            <a:off x="5410080" y="838080"/>
            <a:ext cx="381240" cy="228600"/>
            <a:chOff x="5410080" y="838080"/>
            <a:chExt cx="381240" cy="228600"/>
          </a:xfrm>
        </p:grpSpPr>
        <p:sp>
          <p:nvSpPr>
            <p:cNvPr id="1433" name=""/>
            <p:cNvSpPr/>
            <p:nvPr/>
          </p:nvSpPr>
          <p:spPr>
            <a:xfrm>
              <a:off x="5410080" y="90180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410080" y="83808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5" name=""/>
            <p:cNvGrpSpPr/>
            <p:nvPr/>
          </p:nvGrpSpPr>
          <p:grpSpPr>
            <a:xfrm>
              <a:off x="5469120" y="852840"/>
              <a:ext cx="261720" cy="94680"/>
              <a:chOff x="5469120" y="852840"/>
              <a:chExt cx="261720" cy="94680"/>
            </a:xfrm>
          </p:grpSpPr>
          <p:sp>
            <p:nvSpPr>
              <p:cNvPr id="1436" name=""/>
              <p:cNvSpPr/>
              <p:nvPr/>
            </p:nvSpPr>
            <p:spPr>
              <a:xfrm>
                <a:off x="5604840" y="8553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604840" y="8553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469120" y="9007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469120" y="9007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475240" y="8528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475240" y="8528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599800" y="905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599800" y="905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607360" y="8578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607360" y="8578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471640" y="9032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471640" y="9032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477760" y="8553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477760" y="8553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602680" y="908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602680" y="908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2" name=""/>
          <p:cNvGrpSpPr/>
          <p:nvPr/>
        </p:nvGrpSpPr>
        <p:grpSpPr>
          <a:xfrm>
            <a:off x="3352680" y="1066680"/>
            <a:ext cx="381240" cy="228600"/>
            <a:chOff x="3352680" y="1066680"/>
            <a:chExt cx="381240" cy="228600"/>
          </a:xfrm>
        </p:grpSpPr>
        <p:sp>
          <p:nvSpPr>
            <p:cNvPr id="1453" name=""/>
            <p:cNvSpPr/>
            <p:nvPr/>
          </p:nvSpPr>
          <p:spPr>
            <a:xfrm>
              <a:off x="3352680" y="113040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352680" y="106668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5" name=""/>
            <p:cNvGrpSpPr/>
            <p:nvPr/>
          </p:nvGrpSpPr>
          <p:grpSpPr>
            <a:xfrm>
              <a:off x="3411720" y="1081440"/>
              <a:ext cx="261720" cy="94680"/>
              <a:chOff x="3411720" y="1081440"/>
              <a:chExt cx="261720" cy="94680"/>
            </a:xfrm>
          </p:grpSpPr>
          <p:sp>
            <p:nvSpPr>
              <p:cNvPr id="1456" name=""/>
              <p:cNvSpPr/>
              <p:nvPr/>
            </p:nvSpPr>
            <p:spPr>
              <a:xfrm>
                <a:off x="3547440" y="1083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547440" y="1083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411720" y="11293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411720" y="11293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417840" y="10814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417840" y="10814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542400" y="11343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542400" y="11343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549960" y="10864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549960" y="10864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414240" y="1131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414240" y="1131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420360" y="1083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420360" y="1083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545280" y="1136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545280" y="1136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2" name=""/>
          <p:cNvGrpSpPr/>
          <p:nvPr/>
        </p:nvGrpSpPr>
        <p:grpSpPr>
          <a:xfrm>
            <a:off x="3124080" y="2286000"/>
            <a:ext cx="381240" cy="228600"/>
            <a:chOff x="3124080" y="2286000"/>
            <a:chExt cx="381240" cy="228600"/>
          </a:xfrm>
        </p:grpSpPr>
        <p:sp>
          <p:nvSpPr>
            <p:cNvPr id="1473" name=""/>
            <p:cNvSpPr/>
            <p:nvPr/>
          </p:nvSpPr>
          <p:spPr>
            <a:xfrm>
              <a:off x="3124080" y="234972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124080" y="228600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5" name=""/>
            <p:cNvGrpSpPr/>
            <p:nvPr/>
          </p:nvGrpSpPr>
          <p:grpSpPr>
            <a:xfrm>
              <a:off x="3183120" y="2300760"/>
              <a:ext cx="261720" cy="94680"/>
              <a:chOff x="3183120" y="2300760"/>
              <a:chExt cx="261720" cy="94680"/>
            </a:xfrm>
          </p:grpSpPr>
          <p:sp>
            <p:nvSpPr>
              <p:cNvPr id="1476" name=""/>
              <p:cNvSpPr/>
              <p:nvPr/>
            </p:nvSpPr>
            <p:spPr>
              <a:xfrm>
                <a:off x="3318840" y="2303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318840" y="2303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183120" y="23486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183120" y="23486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9240" y="2300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189240" y="2300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313800" y="2353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313800" y="2353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21360" y="23058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321360" y="23058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185640" y="2351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185640" y="2351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91760" y="2303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191760" y="2303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316680" y="2356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316680" y="2356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2" name=""/>
          <p:cNvGrpSpPr/>
          <p:nvPr/>
        </p:nvGrpSpPr>
        <p:grpSpPr>
          <a:xfrm>
            <a:off x="2590920" y="1600200"/>
            <a:ext cx="380880" cy="228600"/>
            <a:chOff x="2590920" y="1600200"/>
            <a:chExt cx="380880" cy="228600"/>
          </a:xfrm>
        </p:grpSpPr>
        <p:sp>
          <p:nvSpPr>
            <p:cNvPr id="1493" name=""/>
            <p:cNvSpPr/>
            <p:nvPr/>
          </p:nvSpPr>
          <p:spPr>
            <a:xfrm>
              <a:off x="2590920" y="166392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590920" y="160020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5" name=""/>
            <p:cNvGrpSpPr/>
            <p:nvPr/>
          </p:nvGrpSpPr>
          <p:grpSpPr>
            <a:xfrm>
              <a:off x="2649960" y="1614960"/>
              <a:ext cx="261720" cy="94680"/>
              <a:chOff x="2649960" y="1614960"/>
              <a:chExt cx="261720" cy="94680"/>
            </a:xfrm>
          </p:grpSpPr>
          <p:sp>
            <p:nvSpPr>
              <p:cNvPr id="1496" name=""/>
              <p:cNvSpPr/>
              <p:nvPr/>
            </p:nvSpPr>
            <p:spPr>
              <a:xfrm>
                <a:off x="2785680" y="1617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785680" y="1617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649960" y="1662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649960" y="1662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656080" y="1614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656080" y="1614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780640" y="1667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780640" y="1667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788200" y="16200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788200" y="16200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652480" y="1665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652480" y="1665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658600" y="1617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658600" y="1617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783520" y="1670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783520" y="1670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2" name=""/>
          <p:cNvGrpSpPr/>
          <p:nvPr/>
        </p:nvGrpSpPr>
        <p:grpSpPr>
          <a:xfrm>
            <a:off x="6553080" y="1219320"/>
            <a:ext cx="381240" cy="228600"/>
            <a:chOff x="6553080" y="1219320"/>
            <a:chExt cx="381240" cy="228600"/>
          </a:xfrm>
        </p:grpSpPr>
        <p:sp>
          <p:nvSpPr>
            <p:cNvPr id="1513" name=""/>
            <p:cNvSpPr/>
            <p:nvPr/>
          </p:nvSpPr>
          <p:spPr>
            <a:xfrm>
              <a:off x="6553080" y="128304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553080" y="121932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5" name=""/>
            <p:cNvGrpSpPr/>
            <p:nvPr/>
          </p:nvGrpSpPr>
          <p:grpSpPr>
            <a:xfrm>
              <a:off x="6612120" y="1234080"/>
              <a:ext cx="261720" cy="94680"/>
              <a:chOff x="6612120" y="1234080"/>
              <a:chExt cx="261720" cy="94680"/>
            </a:xfrm>
          </p:grpSpPr>
          <p:sp>
            <p:nvSpPr>
              <p:cNvPr id="1516" name=""/>
              <p:cNvSpPr/>
              <p:nvPr/>
            </p:nvSpPr>
            <p:spPr>
              <a:xfrm>
                <a:off x="6747840" y="1236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747840" y="1236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612120" y="12819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612120" y="12819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618240" y="12340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618240" y="12340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742800" y="1287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742800" y="1287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750360" y="12391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750360" y="12391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614640" y="12844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614640" y="12844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620760" y="1236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620760" y="1236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745680" y="12895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745680" y="12895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532" name=""/>
          <p:cNvGraphicFramePr/>
          <p:nvPr/>
        </p:nvGraphicFramePr>
        <p:xfrm>
          <a:off x="2133720" y="2133720"/>
          <a:ext cx="382320" cy="3682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533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133720" y="2133720"/>
                    <a:ext cx="3823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34" name=""/>
          <p:cNvGrpSpPr/>
          <p:nvPr/>
        </p:nvGrpSpPr>
        <p:grpSpPr>
          <a:xfrm>
            <a:off x="228600" y="2971800"/>
            <a:ext cx="2124000" cy="541440"/>
            <a:chOff x="228600" y="2971800"/>
            <a:chExt cx="2124000" cy="541440"/>
          </a:xfrm>
        </p:grpSpPr>
        <p:sp>
          <p:nvSpPr>
            <p:cNvPr id="1535" name=""/>
            <p:cNvSpPr/>
            <p:nvPr/>
          </p:nvSpPr>
          <p:spPr>
            <a:xfrm flipV="1">
              <a:off x="1527120" y="3216240"/>
              <a:ext cx="29052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6" name=""/>
            <p:cNvGrpSpPr/>
            <p:nvPr/>
          </p:nvGrpSpPr>
          <p:grpSpPr>
            <a:xfrm>
              <a:off x="297000" y="3102120"/>
              <a:ext cx="563400" cy="389880"/>
              <a:chOff x="297000" y="3102120"/>
              <a:chExt cx="563400" cy="389880"/>
            </a:xfrm>
          </p:grpSpPr>
          <p:sp>
            <p:nvSpPr>
              <p:cNvPr id="1537" name=""/>
              <p:cNvSpPr/>
              <p:nvPr/>
            </p:nvSpPr>
            <p:spPr>
              <a:xfrm>
                <a:off x="302040" y="3102120"/>
                <a:ext cx="545040" cy="3344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97000" y="3204000"/>
                <a:ext cx="563400" cy="2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9" name=""/>
            <p:cNvSpPr/>
            <p:nvPr/>
          </p:nvSpPr>
          <p:spPr>
            <a:xfrm>
              <a:off x="857160" y="3255840"/>
              <a:ext cx="217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28600" y="2971800"/>
              <a:ext cx="2124000" cy="54144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1" name="" descr=""/>
            <p:cNvPicPr/>
            <p:nvPr/>
          </p:nvPicPr>
          <p:blipFill>
            <a:blip r:embed="rId26"/>
            <a:stretch/>
          </p:blipFill>
          <p:spPr>
            <a:xfrm>
              <a:off x="1069920" y="3200400"/>
              <a:ext cx="438120" cy="20808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0238c0"/>
              </a:outerShdw>
            </a:effectLst>
          </p:spPr>
        </p:pic>
        <p:sp>
          <p:nvSpPr>
            <p:cNvPr id="1542" name=""/>
            <p:cNvSpPr/>
            <p:nvPr/>
          </p:nvSpPr>
          <p:spPr>
            <a:xfrm>
              <a:off x="303120" y="3200400"/>
              <a:ext cx="155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880" bIns="38880" anchor="t">
              <a:spAutoFit/>
            </a:bodyPr>
            <a:p>
              <a:pPr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3" name="" descr=""/>
            <p:cNvPicPr/>
            <p:nvPr/>
          </p:nvPicPr>
          <p:blipFill>
            <a:blip r:embed="rId27"/>
            <a:stretch/>
          </p:blipFill>
          <p:spPr>
            <a:xfrm>
              <a:off x="1744560" y="3111480"/>
              <a:ext cx="528840" cy="15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4" name="" descr=""/>
          <p:cNvPicPr/>
          <p:nvPr/>
        </p:nvPicPr>
        <p:blipFill>
          <a:blip r:embed="rId28"/>
          <a:stretch/>
        </p:blipFill>
        <p:spPr>
          <a:xfrm>
            <a:off x="4800600" y="4876920"/>
            <a:ext cx="914400" cy="280800"/>
          </a:xfrm>
          <a:prstGeom prst="rect">
            <a:avLst/>
          </a:prstGeom>
          <a:ln w="0">
            <a:noFill/>
          </a:ln>
        </p:spPr>
      </p:pic>
      <p:grpSp>
        <p:nvGrpSpPr>
          <p:cNvPr id="1545" name=""/>
          <p:cNvGrpSpPr/>
          <p:nvPr/>
        </p:nvGrpSpPr>
        <p:grpSpPr>
          <a:xfrm>
            <a:off x="6248520" y="5562720"/>
            <a:ext cx="1309680" cy="516960"/>
            <a:chOff x="6248520" y="5562720"/>
            <a:chExt cx="1309680" cy="516960"/>
          </a:xfrm>
        </p:grpSpPr>
        <p:sp>
          <p:nvSpPr>
            <p:cNvPr id="1546" name=""/>
            <p:cNvSpPr/>
            <p:nvPr/>
          </p:nvSpPr>
          <p:spPr>
            <a:xfrm>
              <a:off x="6248520" y="5643360"/>
              <a:ext cx="1309680" cy="43632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276320" y="5677920"/>
              <a:ext cx="18000" cy="30240"/>
            </a:xfrm>
            <a:custGeom>
              <a:avLst/>
              <a:gdLst/>
              <a:ahLst/>
              <a:rect l="l" t="t" r="r" b="b"/>
              <a:pathLst>
                <a:path w="284" h="969">
                  <a:moveTo>
                    <a:pt x="284" y="0"/>
                  </a:moveTo>
                  <a:lnTo>
                    <a:pt x="70" y="780"/>
                  </a:lnTo>
                  <a:lnTo>
                    <a:pt x="55" y="828"/>
                  </a:lnTo>
                  <a:lnTo>
                    <a:pt x="39" y="875"/>
                  </a:lnTo>
                  <a:lnTo>
                    <a:pt x="21" y="922"/>
                  </a:lnTo>
                  <a:lnTo>
                    <a:pt x="0" y="969"/>
                  </a:lnTo>
                  <a:lnTo>
                    <a:pt x="212" y="194"/>
                  </a:lnTo>
                  <a:lnTo>
                    <a:pt x="234" y="147"/>
                  </a:lnTo>
                  <a:lnTo>
                    <a:pt x="252" y="99"/>
                  </a:lnTo>
                  <a:lnTo>
                    <a:pt x="270" y="5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269840" y="5683680"/>
              <a:ext cx="19800" cy="30240"/>
            </a:xfrm>
            <a:custGeom>
              <a:avLst/>
              <a:gdLst/>
              <a:ahLst/>
              <a:rect l="l" t="t" r="r" b="b"/>
              <a:pathLst>
                <a:path w="311" h="952">
                  <a:moveTo>
                    <a:pt x="311" y="0"/>
                  </a:moveTo>
                  <a:lnTo>
                    <a:pt x="99" y="775"/>
                  </a:lnTo>
                  <a:lnTo>
                    <a:pt x="78" y="819"/>
                  </a:lnTo>
                  <a:lnTo>
                    <a:pt x="53" y="864"/>
                  </a:lnTo>
                  <a:lnTo>
                    <a:pt x="27" y="908"/>
                  </a:lnTo>
                  <a:lnTo>
                    <a:pt x="0" y="952"/>
                  </a:lnTo>
                  <a:lnTo>
                    <a:pt x="210" y="181"/>
                  </a:lnTo>
                  <a:lnTo>
                    <a:pt x="238" y="137"/>
                  </a:lnTo>
                  <a:lnTo>
                    <a:pt x="264" y="92"/>
                  </a:lnTo>
                  <a:lnTo>
                    <a:pt x="289" y="47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261560" y="5689440"/>
              <a:ext cx="21600" cy="28800"/>
            </a:xfrm>
            <a:custGeom>
              <a:avLst/>
              <a:gdLst/>
              <a:ahLst/>
              <a:rect l="l" t="t" r="r" b="b"/>
              <a:pathLst>
                <a:path w="338" h="935">
                  <a:moveTo>
                    <a:pt x="338" y="0"/>
                  </a:moveTo>
                  <a:lnTo>
                    <a:pt x="128" y="771"/>
                  </a:lnTo>
                  <a:lnTo>
                    <a:pt x="99" y="813"/>
                  </a:lnTo>
                  <a:lnTo>
                    <a:pt x="68" y="855"/>
                  </a:lnTo>
                  <a:lnTo>
                    <a:pt x="35" y="896"/>
                  </a:lnTo>
                  <a:lnTo>
                    <a:pt x="0" y="935"/>
                  </a:lnTo>
                  <a:lnTo>
                    <a:pt x="207" y="170"/>
                  </a:lnTo>
                  <a:lnTo>
                    <a:pt x="242" y="128"/>
                  </a:lnTo>
                  <a:lnTo>
                    <a:pt x="275" y="86"/>
                  </a:lnTo>
                  <a:lnTo>
                    <a:pt x="307" y="44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cbe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254360" y="5694840"/>
              <a:ext cx="19800" cy="27720"/>
            </a:xfrm>
            <a:custGeom>
              <a:avLst/>
              <a:gdLst/>
              <a:ahLst/>
              <a:rect l="l" t="t" r="r" b="b"/>
              <a:pathLst>
                <a:path w="318" h="881">
                  <a:moveTo>
                    <a:pt x="318" y="0"/>
                  </a:moveTo>
                  <a:lnTo>
                    <a:pt x="111" y="765"/>
                  </a:lnTo>
                  <a:lnTo>
                    <a:pt x="76" y="805"/>
                  </a:lnTo>
                  <a:lnTo>
                    <a:pt x="39" y="843"/>
                  </a:lnTo>
                  <a:lnTo>
                    <a:pt x="0" y="881"/>
                  </a:lnTo>
                  <a:lnTo>
                    <a:pt x="202" y="117"/>
                  </a:lnTo>
                  <a:lnTo>
                    <a:pt x="243" y="79"/>
                  </a:lnTo>
                  <a:lnTo>
                    <a:pt x="281" y="39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246080" y="5698080"/>
              <a:ext cx="20880" cy="27720"/>
            </a:xfrm>
            <a:custGeom>
              <a:avLst/>
              <a:gdLst/>
              <a:ahLst/>
              <a:rect l="l" t="t" r="r" b="b"/>
              <a:pathLst>
                <a:path w="330" h="871">
                  <a:moveTo>
                    <a:pt x="330" y="0"/>
                  </a:moveTo>
                  <a:lnTo>
                    <a:pt x="128" y="764"/>
                  </a:lnTo>
                  <a:lnTo>
                    <a:pt x="87" y="800"/>
                  </a:lnTo>
                  <a:lnTo>
                    <a:pt x="45" y="836"/>
                  </a:lnTo>
                  <a:lnTo>
                    <a:pt x="0" y="871"/>
                  </a:lnTo>
                  <a:lnTo>
                    <a:pt x="200" y="111"/>
                  </a:lnTo>
                  <a:lnTo>
                    <a:pt x="245" y="74"/>
                  </a:lnTo>
                  <a:lnTo>
                    <a:pt x="289" y="38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323480" y="5772600"/>
              <a:ext cx="20520" cy="27360"/>
            </a:xfrm>
            <a:custGeom>
              <a:avLst/>
              <a:gdLst/>
              <a:ahLst/>
              <a:rect l="l" t="t" r="r" b="b"/>
              <a:pathLst>
                <a:path w="317" h="895">
                  <a:moveTo>
                    <a:pt x="317" y="0"/>
                  </a:moveTo>
                  <a:lnTo>
                    <a:pt x="79" y="703"/>
                  </a:lnTo>
                  <a:lnTo>
                    <a:pt x="42" y="800"/>
                  </a:lnTo>
                  <a:lnTo>
                    <a:pt x="0" y="895"/>
                  </a:lnTo>
                  <a:lnTo>
                    <a:pt x="236" y="197"/>
                  </a:lnTo>
                  <a:lnTo>
                    <a:pt x="279" y="10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317000" y="5778360"/>
              <a:ext cx="21600" cy="27720"/>
            </a:xfrm>
            <a:custGeom>
              <a:avLst/>
              <a:gdLst/>
              <a:ahLst/>
              <a:rect l="l" t="t" r="r" b="b"/>
              <a:pathLst>
                <a:path w="334" h="882">
                  <a:moveTo>
                    <a:pt x="334" y="0"/>
                  </a:moveTo>
                  <a:lnTo>
                    <a:pt x="98" y="698"/>
                  </a:lnTo>
                  <a:lnTo>
                    <a:pt x="51" y="791"/>
                  </a:lnTo>
                  <a:lnTo>
                    <a:pt x="0" y="882"/>
                  </a:lnTo>
                  <a:lnTo>
                    <a:pt x="234" y="188"/>
                  </a:lnTo>
                  <a:lnTo>
                    <a:pt x="286" y="96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309800" y="5784480"/>
              <a:ext cx="22680" cy="27000"/>
            </a:xfrm>
            <a:custGeom>
              <a:avLst/>
              <a:gdLst/>
              <a:ahLst/>
              <a:rect l="l" t="t" r="r" b="b"/>
              <a:pathLst>
                <a:path w="348" h="869">
                  <a:moveTo>
                    <a:pt x="348" y="0"/>
                  </a:moveTo>
                  <a:lnTo>
                    <a:pt x="114" y="694"/>
                  </a:lnTo>
                  <a:lnTo>
                    <a:pt x="60" y="783"/>
                  </a:lnTo>
                  <a:lnTo>
                    <a:pt x="0" y="869"/>
                  </a:lnTo>
                  <a:lnTo>
                    <a:pt x="230" y="181"/>
                  </a:lnTo>
                  <a:lnTo>
                    <a:pt x="291" y="92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301520" y="5790240"/>
              <a:ext cx="23400" cy="25920"/>
            </a:xfrm>
            <a:custGeom>
              <a:avLst/>
              <a:gdLst/>
              <a:ahLst/>
              <a:rect l="l" t="t" r="r" b="b"/>
              <a:pathLst>
                <a:path w="361" h="854">
                  <a:moveTo>
                    <a:pt x="361" y="0"/>
                  </a:moveTo>
                  <a:lnTo>
                    <a:pt x="131" y="688"/>
                  </a:lnTo>
                  <a:lnTo>
                    <a:pt x="67" y="771"/>
                  </a:lnTo>
                  <a:lnTo>
                    <a:pt x="0" y="854"/>
                  </a:lnTo>
                  <a:lnTo>
                    <a:pt x="226" y="169"/>
                  </a:lnTo>
                  <a:lnTo>
                    <a:pt x="296" y="85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92520" y="5795640"/>
              <a:ext cx="23400" cy="25920"/>
            </a:xfrm>
            <a:custGeom>
              <a:avLst/>
              <a:gdLst/>
              <a:ahLst/>
              <a:rect l="l" t="t" r="r" b="b"/>
              <a:pathLst>
                <a:path w="371" h="841">
                  <a:moveTo>
                    <a:pt x="371" y="0"/>
                  </a:moveTo>
                  <a:lnTo>
                    <a:pt x="145" y="685"/>
                  </a:lnTo>
                  <a:lnTo>
                    <a:pt x="75" y="764"/>
                  </a:lnTo>
                  <a:lnTo>
                    <a:pt x="0" y="841"/>
                  </a:lnTo>
                  <a:lnTo>
                    <a:pt x="224" y="161"/>
                  </a:lnTo>
                  <a:lnTo>
                    <a:pt x="300" y="82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281720" y="5800320"/>
              <a:ext cx="24480" cy="25920"/>
            </a:xfrm>
            <a:custGeom>
              <a:avLst/>
              <a:gdLst/>
              <a:ahLst/>
              <a:rect l="l" t="t" r="r" b="b"/>
              <a:pathLst>
                <a:path w="381" h="826">
                  <a:moveTo>
                    <a:pt x="381" y="0"/>
                  </a:moveTo>
                  <a:lnTo>
                    <a:pt x="157" y="680"/>
                  </a:lnTo>
                  <a:lnTo>
                    <a:pt x="80" y="754"/>
                  </a:lnTo>
                  <a:lnTo>
                    <a:pt x="0" y="826"/>
                  </a:lnTo>
                  <a:lnTo>
                    <a:pt x="219" y="150"/>
                  </a:lnTo>
                  <a:lnTo>
                    <a:pt x="301" y="76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276320" y="5805000"/>
              <a:ext cx="19800" cy="23400"/>
            </a:xfrm>
            <a:custGeom>
              <a:avLst/>
              <a:gdLst/>
              <a:ahLst/>
              <a:rect l="l" t="t" r="r" b="b"/>
              <a:pathLst>
                <a:path w="301" h="744">
                  <a:moveTo>
                    <a:pt x="301" y="0"/>
                  </a:moveTo>
                  <a:lnTo>
                    <a:pt x="82" y="676"/>
                  </a:lnTo>
                  <a:lnTo>
                    <a:pt x="0" y="744"/>
                  </a:lnTo>
                  <a:lnTo>
                    <a:pt x="216" y="7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270560" y="5807520"/>
              <a:ext cx="19800" cy="23040"/>
            </a:xfrm>
            <a:custGeom>
              <a:avLst/>
              <a:gdLst/>
              <a:ahLst/>
              <a:rect l="l" t="t" r="r" b="b"/>
              <a:pathLst>
                <a:path w="301" h="740">
                  <a:moveTo>
                    <a:pt x="301" y="0"/>
                  </a:moveTo>
                  <a:lnTo>
                    <a:pt x="85" y="673"/>
                  </a:lnTo>
                  <a:lnTo>
                    <a:pt x="0" y="740"/>
                  </a:lnTo>
                  <a:lnTo>
                    <a:pt x="213" y="68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265160" y="5809680"/>
              <a:ext cx="19800" cy="22680"/>
            </a:xfrm>
            <a:custGeom>
              <a:avLst/>
              <a:gdLst/>
              <a:ahLst/>
              <a:rect l="l" t="t" r="r" b="b"/>
              <a:pathLst>
                <a:path w="301" h="737">
                  <a:moveTo>
                    <a:pt x="301" y="0"/>
                  </a:moveTo>
                  <a:lnTo>
                    <a:pt x="88" y="672"/>
                  </a:lnTo>
                  <a:lnTo>
                    <a:pt x="0" y="737"/>
                  </a:lnTo>
                  <a:lnTo>
                    <a:pt x="211" y="66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259760" y="5811480"/>
              <a:ext cx="19080" cy="22680"/>
            </a:xfrm>
            <a:custGeom>
              <a:avLst/>
              <a:gdLst/>
              <a:ahLst/>
              <a:rect l="l" t="t" r="r" b="b"/>
              <a:pathLst>
                <a:path w="300" h="731">
                  <a:moveTo>
                    <a:pt x="300" y="0"/>
                  </a:moveTo>
                  <a:lnTo>
                    <a:pt x="89" y="671"/>
                  </a:lnTo>
                  <a:lnTo>
                    <a:pt x="0" y="731"/>
                  </a:lnTo>
                  <a:lnTo>
                    <a:pt x="208" y="62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f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253280" y="5813280"/>
              <a:ext cx="19800" cy="22680"/>
            </a:xfrm>
            <a:custGeom>
              <a:avLst/>
              <a:gdLst/>
              <a:ahLst/>
              <a:rect l="l" t="t" r="r" b="b"/>
              <a:pathLst>
                <a:path w="300" h="728">
                  <a:moveTo>
                    <a:pt x="300" y="0"/>
                  </a:moveTo>
                  <a:lnTo>
                    <a:pt x="92" y="669"/>
                  </a:lnTo>
                  <a:lnTo>
                    <a:pt x="0" y="728"/>
                  </a:lnTo>
                  <a:lnTo>
                    <a:pt x="206" y="6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247880" y="5815440"/>
              <a:ext cx="19080" cy="22320"/>
            </a:xfrm>
            <a:custGeom>
              <a:avLst/>
              <a:gdLst/>
              <a:ahLst/>
              <a:rect l="l" t="t" r="r" b="b"/>
              <a:pathLst>
                <a:path w="299" h="723">
                  <a:moveTo>
                    <a:pt x="299" y="0"/>
                  </a:moveTo>
                  <a:lnTo>
                    <a:pt x="93" y="668"/>
                  </a:lnTo>
                  <a:lnTo>
                    <a:pt x="0" y="723"/>
                  </a:lnTo>
                  <a:lnTo>
                    <a:pt x="203" y="57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241400" y="5817600"/>
              <a:ext cx="19080" cy="21960"/>
            </a:xfrm>
            <a:custGeom>
              <a:avLst/>
              <a:gdLst/>
              <a:ahLst/>
              <a:rect l="l" t="t" r="r" b="b"/>
              <a:pathLst>
                <a:path w="298" h="720">
                  <a:moveTo>
                    <a:pt x="298" y="0"/>
                  </a:moveTo>
                  <a:lnTo>
                    <a:pt x="95" y="666"/>
                  </a:lnTo>
                  <a:lnTo>
                    <a:pt x="0" y="720"/>
                  </a:lnTo>
                  <a:lnTo>
                    <a:pt x="200" y="54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235280" y="5818680"/>
              <a:ext cx="19080" cy="22320"/>
            </a:xfrm>
            <a:custGeom>
              <a:avLst/>
              <a:gdLst/>
              <a:ahLst/>
              <a:rect l="l" t="t" r="r" b="b"/>
              <a:pathLst>
                <a:path w="297" h="715">
                  <a:moveTo>
                    <a:pt x="297" y="0"/>
                  </a:moveTo>
                  <a:lnTo>
                    <a:pt x="97" y="666"/>
                  </a:lnTo>
                  <a:lnTo>
                    <a:pt x="0" y="715"/>
                  </a:lnTo>
                  <a:lnTo>
                    <a:pt x="198" y="51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228800" y="5820840"/>
              <a:ext cx="19080" cy="22320"/>
            </a:xfrm>
            <a:custGeom>
              <a:avLst/>
              <a:gdLst/>
              <a:ahLst/>
              <a:rect l="l" t="t" r="r" b="b"/>
              <a:pathLst>
                <a:path w="295" h="711">
                  <a:moveTo>
                    <a:pt x="295" y="0"/>
                  </a:moveTo>
                  <a:lnTo>
                    <a:pt x="97" y="664"/>
                  </a:lnTo>
                  <a:lnTo>
                    <a:pt x="0" y="711"/>
                  </a:lnTo>
                  <a:lnTo>
                    <a:pt x="195" y="4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222320" y="5821920"/>
              <a:ext cx="19080" cy="22320"/>
            </a:xfrm>
            <a:custGeom>
              <a:avLst/>
              <a:gdLst/>
              <a:ahLst/>
              <a:rect l="l" t="t" r="r" b="b"/>
              <a:pathLst>
                <a:path w="292" h="706">
                  <a:moveTo>
                    <a:pt x="292" y="0"/>
                  </a:moveTo>
                  <a:lnTo>
                    <a:pt x="97" y="662"/>
                  </a:lnTo>
                  <a:lnTo>
                    <a:pt x="0" y="706"/>
                  </a:lnTo>
                  <a:lnTo>
                    <a:pt x="191" y="45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216200" y="5823360"/>
              <a:ext cx="18720" cy="22320"/>
            </a:xfrm>
            <a:custGeom>
              <a:avLst/>
              <a:gdLst/>
              <a:ahLst/>
              <a:rect l="l" t="t" r="r" b="b"/>
              <a:pathLst>
                <a:path w="291" h="702">
                  <a:moveTo>
                    <a:pt x="291" y="0"/>
                  </a:moveTo>
                  <a:lnTo>
                    <a:pt x="100" y="661"/>
                  </a:lnTo>
                  <a:lnTo>
                    <a:pt x="0" y="702"/>
                  </a:lnTo>
                  <a:lnTo>
                    <a:pt x="189" y="4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9a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203240" y="5824440"/>
              <a:ext cx="24480" cy="22680"/>
            </a:xfrm>
            <a:custGeom>
              <a:avLst/>
              <a:gdLst/>
              <a:ahLst/>
              <a:rect l="l" t="t" r="r" b="b"/>
              <a:pathLst>
                <a:path w="388" h="732">
                  <a:moveTo>
                    <a:pt x="388" y="0"/>
                  </a:moveTo>
                  <a:lnTo>
                    <a:pt x="199" y="660"/>
                  </a:lnTo>
                  <a:lnTo>
                    <a:pt x="100" y="697"/>
                  </a:lnTo>
                  <a:lnTo>
                    <a:pt x="0" y="732"/>
                  </a:lnTo>
                  <a:lnTo>
                    <a:pt x="183" y="73"/>
                  </a:lnTo>
                  <a:lnTo>
                    <a:pt x="286" y="38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8e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189920" y="5827320"/>
              <a:ext cx="25200" cy="22320"/>
            </a:xfrm>
            <a:custGeom>
              <a:avLst/>
              <a:gdLst/>
              <a:ahLst/>
              <a:rect l="l" t="t" r="r" b="b"/>
              <a:pathLst>
                <a:path w="385" h="716">
                  <a:moveTo>
                    <a:pt x="385" y="0"/>
                  </a:moveTo>
                  <a:lnTo>
                    <a:pt x="202" y="659"/>
                  </a:lnTo>
                  <a:lnTo>
                    <a:pt x="168" y="669"/>
                  </a:lnTo>
                  <a:lnTo>
                    <a:pt x="134" y="679"/>
                  </a:lnTo>
                  <a:lnTo>
                    <a:pt x="102" y="689"/>
                  </a:lnTo>
                  <a:lnTo>
                    <a:pt x="68" y="698"/>
                  </a:lnTo>
                  <a:lnTo>
                    <a:pt x="34" y="708"/>
                  </a:lnTo>
                  <a:lnTo>
                    <a:pt x="0" y="716"/>
                  </a:lnTo>
                  <a:lnTo>
                    <a:pt x="177" y="60"/>
                  </a:lnTo>
                  <a:lnTo>
                    <a:pt x="212" y="50"/>
                  </a:lnTo>
                  <a:lnTo>
                    <a:pt x="247" y="41"/>
                  </a:lnTo>
                  <a:lnTo>
                    <a:pt x="281" y="32"/>
                  </a:lnTo>
                  <a:lnTo>
                    <a:pt x="316" y="21"/>
                  </a:lnTo>
                  <a:lnTo>
                    <a:pt x="351" y="12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176960" y="5829120"/>
              <a:ext cx="24480" cy="21600"/>
            </a:xfrm>
            <a:custGeom>
              <a:avLst/>
              <a:gdLst/>
              <a:ahLst/>
              <a:rect l="l" t="t" r="r" b="b"/>
              <a:pathLst>
                <a:path w="379" h="702">
                  <a:moveTo>
                    <a:pt x="379" y="0"/>
                  </a:moveTo>
                  <a:lnTo>
                    <a:pt x="202" y="656"/>
                  </a:lnTo>
                  <a:lnTo>
                    <a:pt x="169" y="664"/>
                  </a:lnTo>
                  <a:lnTo>
                    <a:pt x="135" y="673"/>
                  </a:lnTo>
                  <a:lnTo>
                    <a:pt x="102" y="680"/>
                  </a:lnTo>
                  <a:lnTo>
                    <a:pt x="68" y="688"/>
                  </a:lnTo>
                  <a:lnTo>
                    <a:pt x="34" y="694"/>
                  </a:lnTo>
                  <a:lnTo>
                    <a:pt x="0" y="702"/>
                  </a:lnTo>
                  <a:lnTo>
                    <a:pt x="172" y="46"/>
                  </a:lnTo>
                  <a:lnTo>
                    <a:pt x="207" y="39"/>
                  </a:lnTo>
                  <a:lnTo>
                    <a:pt x="241" y="32"/>
                  </a:lnTo>
                  <a:lnTo>
                    <a:pt x="276" y="24"/>
                  </a:lnTo>
                  <a:lnTo>
                    <a:pt x="311" y="17"/>
                  </a:lnTo>
                  <a:lnTo>
                    <a:pt x="346" y="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7f9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163280" y="5830560"/>
              <a:ext cx="24480" cy="21600"/>
            </a:xfrm>
            <a:custGeom>
              <a:avLst/>
              <a:gdLst/>
              <a:ahLst/>
              <a:rect l="l" t="t" r="r" b="b"/>
              <a:pathLst>
                <a:path w="375" h="689">
                  <a:moveTo>
                    <a:pt x="375" y="0"/>
                  </a:moveTo>
                  <a:lnTo>
                    <a:pt x="203" y="656"/>
                  </a:lnTo>
                  <a:lnTo>
                    <a:pt x="169" y="662"/>
                  </a:lnTo>
                  <a:lnTo>
                    <a:pt x="135" y="668"/>
                  </a:lnTo>
                  <a:lnTo>
                    <a:pt x="102" y="673"/>
                  </a:lnTo>
                  <a:lnTo>
                    <a:pt x="68" y="680"/>
                  </a:lnTo>
                  <a:lnTo>
                    <a:pt x="34" y="685"/>
                  </a:lnTo>
                  <a:lnTo>
                    <a:pt x="0" y="689"/>
                  </a:lnTo>
                  <a:lnTo>
                    <a:pt x="165" y="34"/>
                  </a:lnTo>
                  <a:lnTo>
                    <a:pt x="200" y="30"/>
                  </a:lnTo>
                  <a:lnTo>
                    <a:pt x="236" y="25"/>
                  </a:lnTo>
                  <a:lnTo>
                    <a:pt x="271" y="18"/>
                  </a:lnTo>
                  <a:lnTo>
                    <a:pt x="306" y="13"/>
                  </a:lnTo>
                  <a:lnTo>
                    <a:pt x="340" y="7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778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149600" y="5831280"/>
              <a:ext cx="24480" cy="21600"/>
            </a:xfrm>
            <a:custGeom>
              <a:avLst/>
              <a:gdLst/>
              <a:ahLst/>
              <a:rect l="l" t="t" r="r" b="b"/>
              <a:pathLst>
                <a:path w="371" h="677">
                  <a:moveTo>
                    <a:pt x="371" y="0"/>
                  </a:moveTo>
                  <a:lnTo>
                    <a:pt x="206" y="655"/>
                  </a:lnTo>
                  <a:lnTo>
                    <a:pt x="171" y="659"/>
                  </a:lnTo>
                  <a:lnTo>
                    <a:pt x="137" y="663"/>
                  </a:lnTo>
                  <a:lnTo>
                    <a:pt x="103" y="668"/>
                  </a:lnTo>
                  <a:lnTo>
                    <a:pt x="69" y="671"/>
                  </a:lnTo>
                  <a:lnTo>
                    <a:pt x="34" y="674"/>
                  </a:lnTo>
                  <a:lnTo>
                    <a:pt x="0" y="677"/>
                  </a:lnTo>
                  <a:lnTo>
                    <a:pt x="159" y="23"/>
                  </a:lnTo>
                  <a:lnTo>
                    <a:pt x="195" y="20"/>
                  </a:lnTo>
                  <a:lnTo>
                    <a:pt x="231" y="17"/>
                  </a:lnTo>
                  <a:lnTo>
                    <a:pt x="265" y="14"/>
                  </a:lnTo>
                  <a:lnTo>
                    <a:pt x="301" y="9"/>
                  </a:lnTo>
                  <a:lnTo>
                    <a:pt x="336" y="5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137000" y="5832000"/>
              <a:ext cx="23400" cy="20880"/>
            </a:xfrm>
            <a:custGeom>
              <a:avLst/>
              <a:gdLst/>
              <a:ahLst/>
              <a:rect l="l" t="t" r="r" b="b"/>
              <a:pathLst>
                <a:path w="368" h="663">
                  <a:moveTo>
                    <a:pt x="368" y="0"/>
                  </a:moveTo>
                  <a:lnTo>
                    <a:pt x="209" y="654"/>
                  </a:lnTo>
                  <a:lnTo>
                    <a:pt x="174" y="656"/>
                  </a:lnTo>
                  <a:lnTo>
                    <a:pt x="139" y="658"/>
                  </a:lnTo>
                  <a:lnTo>
                    <a:pt x="104" y="660"/>
                  </a:lnTo>
                  <a:lnTo>
                    <a:pt x="69" y="661"/>
                  </a:lnTo>
                  <a:lnTo>
                    <a:pt x="35" y="662"/>
                  </a:lnTo>
                  <a:lnTo>
                    <a:pt x="0" y="663"/>
                  </a:lnTo>
                  <a:lnTo>
                    <a:pt x="152" y="9"/>
                  </a:lnTo>
                  <a:lnTo>
                    <a:pt x="189" y="8"/>
                  </a:lnTo>
                  <a:lnTo>
                    <a:pt x="225" y="7"/>
                  </a:lnTo>
                  <a:lnTo>
                    <a:pt x="261" y="6"/>
                  </a:lnTo>
                  <a:lnTo>
                    <a:pt x="297" y="4"/>
                  </a:lnTo>
                  <a:lnTo>
                    <a:pt x="333" y="2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6d7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131600" y="5832360"/>
              <a:ext cx="14400" cy="20160"/>
            </a:xfrm>
            <a:custGeom>
              <a:avLst/>
              <a:gdLst/>
              <a:ahLst/>
              <a:rect l="l" t="t" r="r" b="b"/>
              <a:pathLst>
                <a:path w="223" h="654">
                  <a:moveTo>
                    <a:pt x="223" y="0"/>
                  </a:moveTo>
                  <a:lnTo>
                    <a:pt x="71" y="654"/>
                  </a:lnTo>
                  <a:lnTo>
                    <a:pt x="35" y="654"/>
                  </a:lnTo>
                  <a:lnTo>
                    <a:pt x="0" y="654"/>
                  </a:lnTo>
                  <a:lnTo>
                    <a:pt x="152" y="0"/>
                  </a:lnTo>
                  <a:lnTo>
                    <a:pt x="188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68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126920" y="5835240"/>
              <a:ext cx="13680" cy="25920"/>
            </a:xfrm>
            <a:custGeom>
              <a:avLst/>
              <a:gdLst/>
              <a:ahLst/>
              <a:rect l="l" t="t" r="r" b="b"/>
              <a:pathLst>
                <a:path w="201" h="832">
                  <a:moveTo>
                    <a:pt x="201" y="0"/>
                  </a:moveTo>
                  <a:lnTo>
                    <a:pt x="50" y="652"/>
                  </a:lnTo>
                  <a:lnTo>
                    <a:pt x="27" y="743"/>
                  </a:lnTo>
                  <a:lnTo>
                    <a:pt x="0" y="832"/>
                  </a:lnTo>
                  <a:lnTo>
                    <a:pt x="150" y="185"/>
                  </a:lnTo>
                  <a:lnTo>
                    <a:pt x="177" y="9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123320" y="5841000"/>
              <a:ext cx="13320" cy="25560"/>
            </a:xfrm>
            <a:custGeom>
              <a:avLst/>
              <a:gdLst/>
              <a:ahLst/>
              <a:rect l="l" t="t" r="r" b="b"/>
              <a:pathLst>
                <a:path w="210" h="821">
                  <a:moveTo>
                    <a:pt x="210" y="0"/>
                  </a:moveTo>
                  <a:lnTo>
                    <a:pt x="60" y="647"/>
                  </a:lnTo>
                  <a:lnTo>
                    <a:pt x="31" y="735"/>
                  </a:lnTo>
                  <a:lnTo>
                    <a:pt x="0" y="821"/>
                  </a:lnTo>
                  <a:lnTo>
                    <a:pt x="147" y="179"/>
                  </a:lnTo>
                  <a:lnTo>
                    <a:pt x="180" y="9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118640" y="5847120"/>
              <a:ext cx="14400" cy="24840"/>
            </a:xfrm>
            <a:custGeom>
              <a:avLst/>
              <a:gdLst/>
              <a:ahLst/>
              <a:rect l="l" t="t" r="r" b="b"/>
              <a:pathLst>
                <a:path w="219" h="810">
                  <a:moveTo>
                    <a:pt x="219" y="0"/>
                  </a:moveTo>
                  <a:lnTo>
                    <a:pt x="72" y="642"/>
                  </a:lnTo>
                  <a:lnTo>
                    <a:pt x="37" y="726"/>
                  </a:lnTo>
                  <a:lnTo>
                    <a:pt x="0" y="810"/>
                  </a:lnTo>
                  <a:lnTo>
                    <a:pt x="146" y="172"/>
                  </a:lnTo>
                  <a:lnTo>
                    <a:pt x="183" y="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113240" y="5852160"/>
              <a:ext cx="14400" cy="24840"/>
            </a:xfrm>
            <a:custGeom>
              <a:avLst/>
              <a:gdLst/>
              <a:ahLst/>
              <a:rect l="l" t="t" r="r" b="b"/>
              <a:pathLst>
                <a:path w="226" h="800">
                  <a:moveTo>
                    <a:pt x="226" y="0"/>
                  </a:moveTo>
                  <a:lnTo>
                    <a:pt x="80" y="638"/>
                  </a:lnTo>
                  <a:lnTo>
                    <a:pt x="41" y="720"/>
                  </a:lnTo>
                  <a:lnTo>
                    <a:pt x="0" y="800"/>
                  </a:lnTo>
                  <a:lnTo>
                    <a:pt x="143" y="167"/>
                  </a:lnTo>
                  <a:lnTo>
                    <a:pt x="185" y="84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7840" y="5857560"/>
              <a:ext cx="14400" cy="24120"/>
            </a:xfrm>
            <a:custGeom>
              <a:avLst/>
              <a:gdLst/>
              <a:ahLst/>
              <a:rect l="l" t="t" r="r" b="b"/>
              <a:pathLst>
                <a:path w="233" h="788">
                  <a:moveTo>
                    <a:pt x="233" y="0"/>
                  </a:moveTo>
                  <a:lnTo>
                    <a:pt x="90" y="633"/>
                  </a:lnTo>
                  <a:lnTo>
                    <a:pt x="46" y="711"/>
                  </a:lnTo>
                  <a:lnTo>
                    <a:pt x="0" y="788"/>
                  </a:lnTo>
                  <a:lnTo>
                    <a:pt x="140" y="159"/>
                  </a:lnTo>
                  <a:lnTo>
                    <a:pt x="187" y="8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1360" y="5862240"/>
              <a:ext cx="15120" cy="24840"/>
            </a:xfrm>
            <a:custGeom>
              <a:avLst/>
              <a:gdLst/>
              <a:ahLst/>
              <a:rect l="l" t="t" r="r" b="b"/>
              <a:pathLst>
                <a:path w="240" h="780">
                  <a:moveTo>
                    <a:pt x="240" y="0"/>
                  </a:moveTo>
                  <a:lnTo>
                    <a:pt x="100" y="629"/>
                  </a:lnTo>
                  <a:lnTo>
                    <a:pt x="51" y="705"/>
                  </a:lnTo>
                  <a:lnTo>
                    <a:pt x="0" y="780"/>
                  </a:lnTo>
                  <a:lnTo>
                    <a:pt x="139" y="154"/>
                  </a:lnTo>
                  <a:lnTo>
                    <a:pt x="191" y="78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94160" y="5867280"/>
              <a:ext cx="16200" cy="23400"/>
            </a:xfrm>
            <a:custGeom>
              <a:avLst/>
              <a:gdLst/>
              <a:ahLst/>
              <a:rect l="l" t="t" r="r" b="b"/>
              <a:pathLst>
                <a:path w="247" h="770">
                  <a:moveTo>
                    <a:pt x="247" y="0"/>
                  </a:moveTo>
                  <a:lnTo>
                    <a:pt x="108" y="626"/>
                  </a:lnTo>
                  <a:lnTo>
                    <a:pt x="56" y="698"/>
                  </a:lnTo>
                  <a:lnTo>
                    <a:pt x="0" y="770"/>
                  </a:lnTo>
                  <a:lnTo>
                    <a:pt x="136" y="148"/>
                  </a:lnTo>
                  <a:lnTo>
                    <a:pt x="192" y="7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6960" y="5871960"/>
              <a:ext cx="16200" cy="23400"/>
            </a:xfrm>
            <a:custGeom>
              <a:avLst/>
              <a:gdLst/>
              <a:ahLst/>
              <a:rect l="l" t="t" r="r" b="b"/>
              <a:pathLst>
                <a:path w="250" h="761">
                  <a:moveTo>
                    <a:pt x="250" y="0"/>
                  </a:moveTo>
                  <a:lnTo>
                    <a:pt x="114" y="622"/>
                  </a:lnTo>
                  <a:lnTo>
                    <a:pt x="58" y="692"/>
                  </a:lnTo>
                  <a:lnTo>
                    <a:pt x="0" y="761"/>
                  </a:lnTo>
                  <a:lnTo>
                    <a:pt x="131" y="143"/>
                  </a:lnTo>
                  <a:lnTo>
                    <a:pt x="191" y="7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78680" y="5876640"/>
              <a:ext cx="16200" cy="23040"/>
            </a:xfrm>
            <a:custGeom>
              <a:avLst/>
              <a:gdLst/>
              <a:ahLst/>
              <a:rect l="l" t="t" r="r" b="b"/>
              <a:pathLst>
                <a:path w="254" h="750">
                  <a:moveTo>
                    <a:pt x="254" y="0"/>
                  </a:moveTo>
                  <a:lnTo>
                    <a:pt x="123" y="618"/>
                  </a:lnTo>
                  <a:lnTo>
                    <a:pt x="62" y="684"/>
                  </a:lnTo>
                  <a:lnTo>
                    <a:pt x="0" y="750"/>
                  </a:lnTo>
                  <a:lnTo>
                    <a:pt x="128" y="136"/>
                  </a:lnTo>
                  <a:lnTo>
                    <a:pt x="191" y="6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70400" y="5880600"/>
              <a:ext cx="16200" cy="22680"/>
            </a:xfrm>
            <a:custGeom>
              <a:avLst/>
              <a:gdLst/>
              <a:ahLst/>
              <a:rect l="l" t="t" r="r" b="b"/>
              <a:pathLst>
                <a:path w="259" h="741">
                  <a:moveTo>
                    <a:pt x="259" y="0"/>
                  </a:moveTo>
                  <a:lnTo>
                    <a:pt x="131" y="614"/>
                  </a:lnTo>
                  <a:lnTo>
                    <a:pt x="66" y="678"/>
                  </a:lnTo>
                  <a:lnTo>
                    <a:pt x="0" y="741"/>
                  </a:lnTo>
                  <a:lnTo>
                    <a:pt x="124" y="131"/>
                  </a:lnTo>
                  <a:lnTo>
                    <a:pt x="192" y="66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bde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61400" y="5884560"/>
              <a:ext cx="17280" cy="23040"/>
            </a:xfrm>
            <a:custGeom>
              <a:avLst/>
              <a:gdLst/>
              <a:ahLst/>
              <a:rect l="l" t="t" r="r" b="b"/>
              <a:pathLst>
                <a:path w="261" h="731">
                  <a:moveTo>
                    <a:pt x="261" y="0"/>
                  </a:moveTo>
                  <a:lnTo>
                    <a:pt x="137" y="610"/>
                  </a:lnTo>
                  <a:lnTo>
                    <a:pt x="70" y="671"/>
                  </a:lnTo>
                  <a:lnTo>
                    <a:pt x="0" y="731"/>
                  </a:lnTo>
                  <a:lnTo>
                    <a:pt x="120" y="124"/>
                  </a:lnTo>
                  <a:lnTo>
                    <a:pt x="192" y="6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52400" y="5888520"/>
              <a:ext cx="16200" cy="22680"/>
            </a:xfrm>
            <a:custGeom>
              <a:avLst/>
              <a:gdLst/>
              <a:ahLst/>
              <a:rect l="l" t="t" r="r" b="b"/>
              <a:pathLst>
                <a:path w="264" h="722">
                  <a:moveTo>
                    <a:pt x="264" y="0"/>
                  </a:moveTo>
                  <a:lnTo>
                    <a:pt x="144" y="607"/>
                  </a:lnTo>
                  <a:lnTo>
                    <a:pt x="73" y="665"/>
                  </a:lnTo>
                  <a:lnTo>
                    <a:pt x="0" y="722"/>
                  </a:lnTo>
                  <a:lnTo>
                    <a:pt x="116" y="118"/>
                  </a:lnTo>
                  <a:lnTo>
                    <a:pt x="191" y="6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42320" y="5892480"/>
              <a:ext cx="17280" cy="22320"/>
            </a:xfrm>
            <a:custGeom>
              <a:avLst/>
              <a:gdLst/>
              <a:ahLst/>
              <a:rect l="l" t="t" r="r" b="b"/>
              <a:pathLst>
                <a:path w="265" h="715">
                  <a:moveTo>
                    <a:pt x="265" y="0"/>
                  </a:moveTo>
                  <a:lnTo>
                    <a:pt x="149" y="604"/>
                  </a:lnTo>
                  <a:lnTo>
                    <a:pt x="75" y="661"/>
                  </a:lnTo>
                  <a:lnTo>
                    <a:pt x="0" y="715"/>
                  </a:lnTo>
                  <a:lnTo>
                    <a:pt x="111" y="113"/>
                  </a:lnTo>
                  <a:lnTo>
                    <a:pt x="189" y="5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32240" y="5895720"/>
              <a:ext cx="17280" cy="22320"/>
            </a:xfrm>
            <a:custGeom>
              <a:avLst/>
              <a:gdLst/>
              <a:ahLst/>
              <a:rect l="l" t="t" r="r" b="b"/>
              <a:pathLst>
                <a:path w="266" h="706">
                  <a:moveTo>
                    <a:pt x="266" y="0"/>
                  </a:moveTo>
                  <a:lnTo>
                    <a:pt x="155" y="602"/>
                  </a:lnTo>
                  <a:lnTo>
                    <a:pt x="78" y="654"/>
                  </a:lnTo>
                  <a:lnTo>
                    <a:pt x="0" y="706"/>
                  </a:lnTo>
                  <a:lnTo>
                    <a:pt x="107" y="107"/>
                  </a:lnTo>
                  <a:lnTo>
                    <a:pt x="187" y="54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021440" y="5898960"/>
              <a:ext cx="18000" cy="22320"/>
            </a:xfrm>
            <a:custGeom>
              <a:avLst/>
              <a:gdLst/>
              <a:ahLst/>
              <a:rect l="l" t="t" r="r" b="b"/>
              <a:pathLst>
                <a:path w="267" h="698">
                  <a:moveTo>
                    <a:pt x="267" y="0"/>
                  </a:moveTo>
                  <a:lnTo>
                    <a:pt x="160" y="599"/>
                  </a:lnTo>
                  <a:lnTo>
                    <a:pt x="81" y="649"/>
                  </a:lnTo>
                  <a:lnTo>
                    <a:pt x="0" y="698"/>
                  </a:lnTo>
                  <a:lnTo>
                    <a:pt x="102" y="102"/>
                  </a:lnTo>
                  <a:lnTo>
                    <a:pt x="185" y="52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a9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016760" y="5902200"/>
              <a:ext cx="11520" cy="20160"/>
            </a:xfrm>
            <a:custGeom>
              <a:avLst/>
              <a:gdLst/>
              <a:ahLst/>
              <a:rect l="l" t="t" r="r" b="b"/>
              <a:pathLst>
                <a:path w="184" h="643">
                  <a:moveTo>
                    <a:pt x="184" y="0"/>
                  </a:moveTo>
                  <a:lnTo>
                    <a:pt x="82" y="596"/>
                  </a:lnTo>
                  <a:lnTo>
                    <a:pt x="0" y="643"/>
                  </a:lnTo>
                  <a:lnTo>
                    <a:pt x="100" y="4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05240" y="5904360"/>
              <a:ext cx="18000" cy="20880"/>
            </a:xfrm>
            <a:custGeom>
              <a:avLst/>
              <a:gdLst/>
              <a:ahLst/>
              <a:rect l="l" t="t" r="r" b="b"/>
              <a:pathLst>
                <a:path w="272" h="683">
                  <a:moveTo>
                    <a:pt x="272" y="0"/>
                  </a:moveTo>
                  <a:lnTo>
                    <a:pt x="172" y="595"/>
                  </a:lnTo>
                  <a:lnTo>
                    <a:pt x="144" y="610"/>
                  </a:lnTo>
                  <a:lnTo>
                    <a:pt x="115" y="625"/>
                  </a:lnTo>
                  <a:lnTo>
                    <a:pt x="87" y="639"/>
                  </a:lnTo>
                  <a:lnTo>
                    <a:pt x="58" y="654"/>
                  </a:lnTo>
                  <a:lnTo>
                    <a:pt x="29" y="669"/>
                  </a:lnTo>
                  <a:lnTo>
                    <a:pt x="0" y="683"/>
                  </a:lnTo>
                  <a:lnTo>
                    <a:pt x="96" y="91"/>
                  </a:lnTo>
                  <a:lnTo>
                    <a:pt x="125" y="76"/>
                  </a:lnTo>
                  <a:lnTo>
                    <a:pt x="154" y="61"/>
                  </a:lnTo>
                  <a:lnTo>
                    <a:pt x="184" y="47"/>
                  </a:lnTo>
                  <a:lnTo>
                    <a:pt x="214" y="31"/>
                  </a:lnTo>
                  <a:lnTo>
                    <a:pt x="242" y="16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994080" y="5906880"/>
              <a:ext cx="16920" cy="20880"/>
            </a:xfrm>
            <a:custGeom>
              <a:avLst/>
              <a:gdLst/>
              <a:ahLst/>
              <a:rect l="l" t="t" r="r" b="b"/>
              <a:pathLst>
                <a:path w="270" h="674">
                  <a:moveTo>
                    <a:pt x="270" y="0"/>
                  </a:moveTo>
                  <a:lnTo>
                    <a:pt x="174" y="592"/>
                  </a:lnTo>
                  <a:lnTo>
                    <a:pt x="146" y="606"/>
                  </a:lnTo>
                  <a:lnTo>
                    <a:pt x="116" y="620"/>
                  </a:lnTo>
                  <a:lnTo>
                    <a:pt x="87" y="634"/>
                  </a:lnTo>
                  <a:lnTo>
                    <a:pt x="59" y="647"/>
                  </a:lnTo>
                  <a:lnTo>
                    <a:pt x="29" y="661"/>
                  </a:lnTo>
                  <a:lnTo>
                    <a:pt x="0" y="674"/>
                  </a:lnTo>
                  <a:lnTo>
                    <a:pt x="90" y="85"/>
                  </a:lnTo>
                  <a:lnTo>
                    <a:pt x="120" y="70"/>
                  </a:lnTo>
                  <a:lnTo>
                    <a:pt x="150" y="57"/>
                  </a:lnTo>
                  <a:lnTo>
                    <a:pt x="180" y="43"/>
                  </a:lnTo>
                  <a:lnTo>
                    <a:pt x="210" y="29"/>
                  </a:lnTo>
                  <a:lnTo>
                    <a:pt x="240" y="1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985800" y="5909400"/>
              <a:ext cx="13320" cy="20160"/>
            </a:xfrm>
            <a:custGeom>
              <a:avLst/>
              <a:gdLst/>
              <a:ahLst/>
              <a:rect l="l" t="t" r="r" b="b"/>
              <a:pathLst>
                <a:path w="208" h="643">
                  <a:moveTo>
                    <a:pt x="208" y="0"/>
                  </a:moveTo>
                  <a:lnTo>
                    <a:pt x="118" y="589"/>
                  </a:lnTo>
                  <a:lnTo>
                    <a:pt x="88" y="603"/>
                  </a:lnTo>
                  <a:lnTo>
                    <a:pt x="60" y="617"/>
                  </a:lnTo>
                  <a:lnTo>
                    <a:pt x="30" y="630"/>
                  </a:lnTo>
                  <a:lnTo>
                    <a:pt x="0" y="643"/>
                  </a:lnTo>
                  <a:lnTo>
                    <a:pt x="86" y="54"/>
                  </a:lnTo>
                  <a:lnTo>
                    <a:pt x="117" y="41"/>
                  </a:lnTo>
                  <a:lnTo>
                    <a:pt x="148" y="27"/>
                  </a:lnTo>
                  <a:lnTo>
                    <a:pt x="178" y="1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973200" y="5910840"/>
              <a:ext cx="19080" cy="20880"/>
            </a:xfrm>
            <a:custGeom>
              <a:avLst/>
              <a:gdLst/>
              <a:ahLst/>
              <a:rect l="l" t="t" r="r" b="b"/>
              <a:pathLst>
                <a:path w="284" h="662">
                  <a:moveTo>
                    <a:pt x="284" y="0"/>
                  </a:moveTo>
                  <a:lnTo>
                    <a:pt x="198" y="589"/>
                  </a:lnTo>
                  <a:lnTo>
                    <a:pt x="132" y="615"/>
                  </a:lnTo>
                  <a:lnTo>
                    <a:pt x="66" y="639"/>
                  </a:lnTo>
                  <a:lnTo>
                    <a:pt x="0" y="662"/>
                  </a:lnTo>
                  <a:lnTo>
                    <a:pt x="80" y="76"/>
                  </a:lnTo>
                  <a:lnTo>
                    <a:pt x="149" y="52"/>
                  </a:lnTo>
                  <a:lnTo>
                    <a:pt x="217" y="2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91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960240" y="5913360"/>
              <a:ext cx="18000" cy="20160"/>
            </a:xfrm>
            <a:custGeom>
              <a:avLst/>
              <a:gdLst/>
              <a:ahLst/>
              <a:rect l="l" t="t" r="r" b="b"/>
              <a:pathLst>
                <a:path w="277" h="653">
                  <a:moveTo>
                    <a:pt x="277" y="0"/>
                  </a:moveTo>
                  <a:lnTo>
                    <a:pt x="197" y="586"/>
                  </a:lnTo>
                  <a:lnTo>
                    <a:pt x="132" y="609"/>
                  </a:lnTo>
                  <a:lnTo>
                    <a:pt x="66" y="631"/>
                  </a:lnTo>
                  <a:lnTo>
                    <a:pt x="0" y="653"/>
                  </a:lnTo>
                  <a:lnTo>
                    <a:pt x="75" y="68"/>
                  </a:lnTo>
                  <a:lnTo>
                    <a:pt x="142" y="46"/>
                  </a:lnTo>
                  <a:lnTo>
                    <a:pt x="210" y="24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8b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947640" y="5915520"/>
              <a:ext cx="18000" cy="20160"/>
            </a:xfrm>
            <a:custGeom>
              <a:avLst/>
              <a:gdLst/>
              <a:ahLst/>
              <a:rect l="l" t="t" r="r" b="b"/>
              <a:pathLst>
                <a:path w="272" h="642">
                  <a:moveTo>
                    <a:pt x="272" y="0"/>
                  </a:moveTo>
                  <a:lnTo>
                    <a:pt x="197" y="585"/>
                  </a:lnTo>
                  <a:lnTo>
                    <a:pt x="132" y="605"/>
                  </a:lnTo>
                  <a:lnTo>
                    <a:pt x="66" y="624"/>
                  </a:lnTo>
                  <a:lnTo>
                    <a:pt x="0" y="642"/>
                  </a:lnTo>
                  <a:lnTo>
                    <a:pt x="69" y="59"/>
                  </a:lnTo>
                  <a:lnTo>
                    <a:pt x="137" y="40"/>
                  </a:lnTo>
                  <a:lnTo>
                    <a:pt x="205" y="21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35040" y="5917320"/>
              <a:ext cx="17280" cy="19440"/>
            </a:xfrm>
            <a:custGeom>
              <a:avLst/>
              <a:gdLst/>
              <a:ahLst/>
              <a:rect l="l" t="t" r="r" b="b"/>
              <a:pathLst>
                <a:path w="265" h="633">
                  <a:moveTo>
                    <a:pt x="265" y="0"/>
                  </a:moveTo>
                  <a:lnTo>
                    <a:pt x="196" y="583"/>
                  </a:lnTo>
                  <a:lnTo>
                    <a:pt x="131" y="601"/>
                  </a:lnTo>
                  <a:lnTo>
                    <a:pt x="65" y="618"/>
                  </a:lnTo>
                  <a:lnTo>
                    <a:pt x="0" y="633"/>
                  </a:lnTo>
                  <a:lnTo>
                    <a:pt x="63" y="51"/>
                  </a:lnTo>
                  <a:lnTo>
                    <a:pt x="131" y="36"/>
                  </a:lnTo>
                  <a:lnTo>
                    <a:pt x="199" y="1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83a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922080" y="5919480"/>
              <a:ext cx="17280" cy="19080"/>
            </a:xfrm>
            <a:custGeom>
              <a:avLst/>
              <a:gdLst/>
              <a:ahLst/>
              <a:rect l="l" t="t" r="r" b="b"/>
              <a:pathLst>
                <a:path w="260" h="625">
                  <a:moveTo>
                    <a:pt x="260" y="0"/>
                  </a:moveTo>
                  <a:lnTo>
                    <a:pt x="197" y="582"/>
                  </a:lnTo>
                  <a:lnTo>
                    <a:pt x="131" y="597"/>
                  </a:lnTo>
                  <a:lnTo>
                    <a:pt x="65" y="612"/>
                  </a:lnTo>
                  <a:lnTo>
                    <a:pt x="0" y="625"/>
                  </a:lnTo>
                  <a:lnTo>
                    <a:pt x="57" y="44"/>
                  </a:lnTo>
                  <a:lnTo>
                    <a:pt x="125" y="30"/>
                  </a:lnTo>
                  <a:lnTo>
                    <a:pt x="192" y="16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7d9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909480" y="5920920"/>
              <a:ext cx="16200" cy="19080"/>
            </a:xfrm>
            <a:custGeom>
              <a:avLst/>
              <a:gdLst/>
              <a:ahLst/>
              <a:rect l="l" t="t" r="r" b="b"/>
              <a:pathLst>
                <a:path w="256" h="615">
                  <a:moveTo>
                    <a:pt x="256" y="0"/>
                  </a:moveTo>
                  <a:lnTo>
                    <a:pt x="199" y="581"/>
                  </a:lnTo>
                  <a:lnTo>
                    <a:pt x="132" y="593"/>
                  </a:lnTo>
                  <a:lnTo>
                    <a:pt x="66" y="604"/>
                  </a:lnTo>
                  <a:lnTo>
                    <a:pt x="0" y="615"/>
                  </a:lnTo>
                  <a:lnTo>
                    <a:pt x="51" y="35"/>
                  </a:lnTo>
                  <a:lnTo>
                    <a:pt x="120" y="24"/>
                  </a:lnTo>
                  <a:lnTo>
                    <a:pt x="187" y="12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79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896880" y="5921280"/>
              <a:ext cx="16200" cy="19080"/>
            </a:xfrm>
            <a:custGeom>
              <a:avLst/>
              <a:gdLst/>
              <a:ahLst/>
              <a:rect l="l" t="t" r="r" b="b"/>
              <a:pathLst>
                <a:path w="251" h="607">
                  <a:moveTo>
                    <a:pt x="251" y="0"/>
                  </a:moveTo>
                  <a:lnTo>
                    <a:pt x="200" y="580"/>
                  </a:lnTo>
                  <a:lnTo>
                    <a:pt x="133" y="590"/>
                  </a:lnTo>
                  <a:lnTo>
                    <a:pt x="66" y="599"/>
                  </a:lnTo>
                  <a:lnTo>
                    <a:pt x="0" y="607"/>
                  </a:lnTo>
                  <a:lnTo>
                    <a:pt x="45" y="27"/>
                  </a:lnTo>
                  <a:lnTo>
                    <a:pt x="114" y="19"/>
                  </a:lnTo>
                  <a:lnTo>
                    <a:pt x="182" y="1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758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883200" y="5922720"/>
              <a:ext cx="16200" cy="18360"/>
            </a:xfrm>
            <a:custGeom>
              <a:avLst/>
              <a:gdLst/>
              <a:ahLst/>
              <a:rect l="l" t="t" r="r" b="b"/>
              <a:pathLst>
                <a:path w="248" h="599">
                  <a:moveTo>
                    <a:pt x="248" y="0"/>
                  </a:moveTo>
                  <a:lnTo>
                    <a:pt x="203" y="580"/>
                  </a:lnTo>
                  <a:lnTo>
                    <a:pt x="135" y="588"/>
                  </a:lnTo>
                  <a:lnTo>
                    <a:pt x="67" y="594"/>
                  </a:lnTo>
                  <a:lnTo>
                    <a:pt x="0" y="599"/>
                  </a:lnTo>
                  <a:lnTo>
                    <a:pt x="39" y="20"/>
                  </a:lnTo>
                  <a:lnTo>
                    <a:pt x="108" y="15"/>
                  </a:lnTo>
                  <a:lnTo>
                    <a:pt x="178" y="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869520" y="5923440"/>
              <a:ext cx="16200" cy="18360"/>
            </a:xfrm>
            <a:custGeom>
              <a:avLst/>
              <a:gdLst/>
              <a:ahLst/>
              <a:rect l="l" t="t" r="r" b="b"/>
              <a:pathLst>
                <a:path w="245" h="592">
                  <a:moveTo>
                    <a:pt x="245" y="0"/>
                  </a:moveTo>
                  <a:lnTo>
                    <a:pt x="206" y="579"/>
                  </a:lnTo>
                  <a:lnTo>
                    <a:pt x="137" y="585"/>
                  </a:lnTo>
                  <a:lnTo>
                    <a:pt x="68" y="589"/>
                  </a:lnTo>
                  <a:lnTo>
                    <a:pt x="0" y="592"/>
                  </a:lnTo>
                  <a:lnTo>
                    <a:pt x="32" y="13"/>
                  </a:lnTo>
                  <a:lnTo>
                    <a:pt x="104" y="10"/>
                  </a:lnTo>
                  <a:lnTo>
                    <a:pt x="174" y="5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6f7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855840" y="5923440"/>
              <a:ext cx="16200" cy="18360"/>
            </a:xfrm>
            <a:custGeom>
              <a:avLst/>
              <a:gdLst/>
              <a:ahLst/>
              <a:rect l="l" t="t" r="r" b="b"/>
              <a:pathLst>
                <a:path w="243" h="584">
                  <a:moveTo>
                    <a:pt x="243" y="0"/>
                  </a:moveTo>
                  <a:lnTo>
                    <a:pt x="211" y="579"/>
                  </a:lnTo>
                  <a:lnTo>
                    <a:pt x="141" y="581"/>
                  </a:lnTo>
                  <a:lnTo>
                    <a:pt x="71" y="583"/>
                  </a:lnTo>
                  <a:lnTo>
                    <a:pt x="0" y="584"/>
                  </a:lnTo>
                  <a:lnTo>
                    <a:pt x="28" y="5"/>
                  </a:lnTo>
                  <a:lnTo>
                    <a:pt x="100" y="5"/>
                  </a:lnTo>
                  <a:lnTo>
                    <a:pt x="172" y="3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b7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846840" y="5923440"/>
              <a:ext cx="10800" cy="1836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169" y="0"/>
                  </a:moveTo>
                  <a:lnTo>
                    <a:pt x="141" y="579"/>
                  </a:lnTo>
                  <a:lnTo>
                    <a:pt x="71" y="579"/>
                  </a:lnTo>
                  <a:lnTo>
                    <a:pt x="0" y="578"/>
                  </a:lnTo>
                  <a:lnTo>
                    <a:pt x="22" y="0"/>
                  </a:lnTo>
                  <a:lnTo>
                    <a:pt x="96" y="1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821280" y="5922720"/>
              <a:ext cx="27000" cy="19080"/>
            </a:xfrm>
            <a:custGeom>
              <a:avLst/>
              <a:gdLst/>
              <a:ahLst/>
              <a:rect l="l" t="t" r="r" b="b"/>
              <a:pathLst>
                <a:path w="412" h="607">
                  <a:moveTo>
                    <a:pt x="412" y="29"/>
                  </a:moveTo>
                  <a:lnTo>
                    <a:pt x="390" y="607"/>
                  </a:lnTo>
                  <a:lnTo>
                    <a:pt x="0" y="579"/>
                  </a:lnTo>
                  <a:lnTo>
                    <a:pt x="11" y="0"/>
                  </a:lnTo>
                  <a:lnTo>
                    <a:pt x="412" y="29"/>
                  </a:lnTo>
                  <a:close/>
                </a:path>
              </a:pathLst>
            </a:custGeom>
            <a:solidFill>
              <a:srgbClr val="5c6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808680" y="5922000"/>
              <a:ext cx="13320" cy="19080"/>
            </a:xfrm>
            <a:custGeom>
              <a:avLst/>
              <a:gdLst/>
              <a:ahLst/>
              <a:rect l="l" t="t" r="r" b="b"/>
              <a:pathLst>
                <a:path w="208" h="609">
                  <a:moveTo>
                    <a:pt x="208" y="30"/>
                  </a:moveTo>
                  <a:lnTo>
                    <a:pt x="197" y="609"/>
                  </a:lnTo>
                  <a:lnTo>
                    <a:pt x="99" y="595"/>
                  </a:lnTo>
                  <a:lnTo>
                    <a:pt x="0" y="581"/>
                  </a:lnTo>
                  <a:lnTo>
                    <a:pt x="6" y="0"/>
                  </a:lnTo>
                  <a:lnTo>
                    <a:pt x="107" y="16"/>
                  </a:lnTo>
                  <a:lnTo>
                    <a:pt x="208" y="30"/>
                  </a:lnTo>
                  <a:close/>
                </a:path>
              </a:pathLst>
            </a:custGeom>
            <a:solidFill>
              <a:srgbClr val="505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795720" y="5920920"/>
              <a:ext cx="13320" cy="19080"/>
            </a:xfrm>
            <a:custGeom>
              <a:avLst/>
              <a:gdLst/>
              <a:ahLst/>
              <a:rect l="l" t="t" r="r" b="b"/>
              <a:pathLst>
                <a:path w="202" h="618">
                  <a:moveTo>
                    <a:pt x="202" y="37"/>
                  </a:moveTo>
                  <a:lnTo>
                    <a:pt x="196" y="618"/>
                  </a:lnTo>
                  <a:lnTo>
                    <a:pt x="99" y="600"/>
                  </a:lnTo>
                  <a:lnTo>
                    <a:pt x="0" y="581"/>
                  </a:lnTo>
                  <a:lnTo>
                    <a:pt x="0" y="0"/>
                  </a:lnTo>
                  <a:lnTo>
                    <a:pt x="101" y="19"/>
                  </a:lnTo>
                  <a:lnTo>
                    <a:pt x="202" y="37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783120" y="5919480"/>
              <a:ext cx="12240" cy="19440"/>
            </a:xfrm>
            <a:custGeom>
              <a:avLst/>
              <a:gdLst/>
              <a:ahLst/>
              <a:rect l="l" t="t" r="r" b="b"/>
              <a:pathLst>
                <a:path w="201" h="626">
                  <a:moveTo>
                    <a:pt x="201" y="45"/>
                  </a:moveTo>
                  <a:lnTo>
                    <a:pt x="201" y="626"/>
                  </a:lnTo>
                  <a:lnTo>
                    <a:pt x="104" y="605"/>
                  </a:lnTo>
                  <a:lnTo>
                    <a:pt x="8" y="584"/>
                  </a:lnTo>
                  <a:lnTo>
                    <a:pt x="0" y="0"/>
                  </a:lnTo>
                  <a:lnTo>
                    <a:pt x="101" y="24"/>
                  </a:lnTo>
                  <a:lnTo>
                    <a:pt x="201" y="45"/>
                  </a:lnTo>
                  <a:close/>
                </a:path>
              </a:pathLst>
            </a:custGeom>
            <a:solidFill>
              <a:srgbClr val="414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770520" y="5917320"/>
              <a:ext cx="12600" cy="20160"/>
            </a:xfrm>
            <a:custGeom>
              <a:avLst/>
              <a:gdLst/>
              <a:ahLst/>
              <a:rect l="l" t="t" r="r" b="b"/>
              <a:pathLst>
                <a:path w="206" h="635">
                  <a:moveTo>
                    <a:pt x="198" y="51"/>
                  </a:moveTo>
                  <a:lnTo>
                    <a:pt x="206" y="635"/>
                  </a:lnTo>
                  <a:lnTo>
                    <a:pt x="108" y="610"/>
                  </a:lnTo>
                  <a:lnTo>
                    <a:pt x="13" y="584"/>
                  </a:lnTo>
                  <a:lnTo>
                    <a:pt x="0" y="0"/>
                  </a:lnTo>
                  <a:lnTo>
                    <a:pt x="99" y="26"/>
                  </a:lnTo>
                  <a:lnTo>
                    <a:pt x="198" y="51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757560" y="5915520"/>
              <a:ext cx="13320" cy="20160"/>
            </a:xfrm>
            <a:custGeom>
              <a:avLst/>
              <a:gdLst/>
              <a:ahLst/>
              <a:rect l="l" t="t" r="r" b="b"/>
              <a:pathLst>
                <a:path w="207" h="644">
                  <a:moveTo>
                    <a:pt x="194" y="60"/>
                  </a:moveTo>
                  <a:lnTo>
                    <a:pt x="207" y="644"/>
                  </a:lnTo>
                  <a:lnTo>
                    <a:pt x="111" y="615"/>
                  </a:lnTo>
                  <a:lnTo>
                    <a:pt x="17" y="586"/>
                  </a:lnTo>
                  <a:lnTo>
                    <a:pt x="0" y="0"/>
                  </a:lnTo>
                  <a:lnTo>
                    <a:pt x="97" y="31"/>
                  </a:lnTo>
                  <a:lnTo>
                    <a:pt x="194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744960" y="5913360"/>
              <a:ext cx="13680" cy="20160"/>
            </a:xfrm>
            <a:custGeom>
              <a:avLst/>
              <a:gdLst/>
              <a:ahLst/>
              <a:rect l="l" t="t" r="r" b="b"/>
              <a:pathLst>
                <a:path w="210" h="654">
                  <a:moveTo>
                    <a:pt x="193" y="68"/>
                  </a:moveTo>
                  <a:lnTo>
                    <a:pt x="210" y="654"/>
                  </a:lnTo>
                  <a:lnTo>
                    <a:pt x="117" y="622"/>
                  </a:lnTo>
                  <a:lnTo>
                    <a:pt x="23" y="588"/>
                  </a:lnTo>
                  <a:lnTo>
                    <a:pt x="0" y="0"/>
                  </a:lnTo>
                  <a:lnTo>
                    <a:pt x="96" y="36"/>
                  </a:lnTo>
                  <a:lnTo>
                    <a:pt x="193" y="68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733080" y="5911560"/>
              <a:ext cx="13320" cy="20160"/>
            </a:xfrm>
            <a:custGeom>
              <a:avLst/>
              <a:gdLst/>
              <a:ahLst/>
              <a:rect l="l" t="t" r="r" b="b"/>
              <a:pathLst>
                <a:path w="211" h="664">
                  <a:moveTo>
                    <a:pt x="188" y="76"/>
                  </a:moveTo>
                  <a:lnTo>
                    <a:pt x="211" y="664"/>
                  </a:lnTo>
                  <a:lnTo>
                    <a:pt x="120" y="628"/>
                  </a:lnTo>
                  <a:lnTo>
                    <a:pt x="29" y="590"/>
                  </a:lnTo>
                  <a:lnTo>
                    <a:pt x="0" y="0"/>
                  </a:lnTo>
                  <a:lnTo>
                    <a:pt x="94" y="40"/>
                  </a:lnTo>
                  <a:lnTo>
                    <a:pt x="188" y="76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721200" y="5909040"/>
              <a:ext cx="13320" cy="20880"/>
            </a:xfrm>
            <a:custGeom>
              <a:avLst/>
              <a:gdLst/>
              <a:ahLst/>
              <a:rect l="l" t="t" r="r" b="b"/>
              <a:pathLst>
                <a:path w="212" h="674">
                  <a:moveTo>
                    <a:pt x="183" y="84"/>
                  </a:moveTo>
                  <a:lnTo>
                    <a:pt x="212" y="674"/>
                  </a:lnTo>
                  <a:lnTo>
                    <a:pt x="123" y="634"/>
                  </a:lnTo>
                  <a:lnTo>
                    <a:pt x="33" y="591"/>
                  </a:lnTo>
                  <a:lnTo>
                    <a:pt x="0" y="0"/>
                  </a:lnTo>
                  <a:lnTo>
                    <a:pt x="91" y="43"/>
                  </a:lnTo>
                  <a:lnTo>
                    <a:pt x="183" y="84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709320" y="5905440"/>
              <a:ext cx="13680" cy="21600"/>
            </a:xfrm>
            <a:custGeom>
              <a:avLst/>
              <a:gdLst/>
              <a:ahLst/>
              <a:rect l="l" t="t" r="r" b="b"/>
              <a:pathLst>
                <a:path w="212" h="686">
                  <a:moveTo>
                    <a:pt x="179" y="95"/>
                  </a:moveTo>
                  <a:lnTo>
                    <a:pt x="212" y="686"/>
                  </a:lnTo>
                  <a:lnTo>
                    <a:pt x="125" y="642"/>
                  </a:lnTo>
                  <a:lnTo>
                    <a:pt x="39" y="595"/>
                  </a:lnTo>
                  <a:lnTo>
                    <a:pt x="0" y="0"/>
                  </a:lnTo>
                  <a:lnTo>
                    <a:pt x="89" y="48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698520" y="5902200"/>
              <a:ext cx="13680" cy="21600"/>
            </a:xfrm>
            <a:custGeom>
              <a:avLst/>
              <a:gdLst/>
              <a:ahLst/>
              <a:rect l="l" t="t" r="r" b="b"/>
              <a:pathLst>
                <a:path w="211" h="698">
                  <a:moveTo>
                    <a:pt x="172" y="103"/>
                  </a:moveTo>
                  <a:lnTo>
                    <a:pt x="211" y="698"/>
                  </a:lnTo>
                  <a:lnTo>
                    <a:pt x="127" y="649"/>
                  </a:lnTo>
                  <a:lnTo>
                    <a:pt x="44" y="598"/>
                  </a:lnTo>
                  <a:lnTo>
                    <a:pt x="0" y="0"/>
                  </a:lnTo>
                  <a:lnTo>
                    <a:pt x="86" y="53"/>
                  </a:lnTo>
                  <a:lnTo>
                    <a:pt x="172" y="10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687720" y="5898960"/>
              <a:ext cx="13320" cy="22320"/>
            </a:xfrm>
            <a:custGeom>
              <a:avLst/>
              <a:gdLst/>
              <a:ahLst/>
              <a:rect l="l" t="t" r="r" b="b"/>
              <a:pathLst>
                <a:path w="210" h="710">
                  <a:moveTo>
                    <a:pt x="166" y="112"/>
                  </a:moveTo>
                  <a:lnTo>
                    <a:pt x="210" y="710"/>
                  </a:lnTo>
                  <a:lnTo>
                    <a:pt x="129" y="656"/>
                  </a:lnTo>
                  <a:lnTo>
                    <a:pt x="49" y="599"/>
                  </a:lnTo>
                  <a:lnTo>
                    <a:pt x="0" y="0"/>
                  </a:lnTo>
                  <a:lnTo>
                    <a:pt x="82" y="57"/>
                  </a:lnTo>
                  <a:lnTo>
                    <a:pt x="166" y="112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676920" y="5895000"/>
              <a:ext cx="13320" cy="22320"/>
            </a:xfrm>
            <a:custGeom>
              <a:avLst/>
              <a:gdLst/>
              <a:ahLst/>
              <a:rect l="l" t="t" r="r" b="b"/>
              <a:pathLst>
                <a:path w="208" h="722">
                  <a:moveTo>
                    <a:pt x="159" y="123"/>
                  </a:moveTo>
                  <a:lnTo>
                    <a:pt x="208" y="722"/>
                  </a:lnTo>
                  <a:lnTo>
                    <a:pt x="130" y="664"/>
                  </a:lnTo>
                  <a:lnTo>
                    <a:pt x="53" y="604"/>
                  </a:lnTo>
                  <a:lnTo>
                    <a:pt x="0" y="0"/>
                  </a:lnTo>
                  <a:lnTo>
                    <a:pt x="79" y="62"/>
                  </a:lnTo>
                  <a:lnTo>
                    <a:pt x="159" y="12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667560" y="5891040"/>
              <a:ext cx="12240" cy="23040"/>
            </a:xfrm>
            <a:custGeom>
              <a:avLst/>
              <a:gdLst/>
              <a:ahLst/>
              <a:rect l="l" t="t" r="r" b="b"/>
              <a:pathLst>
                <a:path w="205" h="737">
                  <a:moveTo>
                    <a:pt x="152" y="133"/>
                  </a:moveTo>
                  <a:lnTo>
                    <a:pt x="205" y="737"/>
                  </a:lnTo>
                  <a:lnTo>
                    <a:pt x="130" y="673"/>
                  </a:lnTo>
                  <a:lnTo>
                    <a:pt x="57" y="608"/>
                  </a:lnTo>
                  <a:lnTo>
                    <a:pt x="0" y="0"/>
                  </a:lnTo>
                  <a:lnTo>
                    <a:pt x="75" y="68"/>
                  </a:lnTo>
                  <a:lnTo>
                    <a:pt x="152" y="13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657480" y="5886720"/>
              <a:ext cx="13320" cy="23400"/>
            </a:xfrm>
            <a:custGeom>
              <a:avLst/>
              <a:gdLst/>
              <a:ahLst/>
              <a:rect l="l" t="t" r="r" b="b"/>
              <a:pathLst>
                <a:path w="201" h="751">
                  <a:moveTo>
                    <a:pt x="144" y="143"/>
                  </a:moveTo>
                  <a:lnTo>
                    <a:pt x="201" y="751"/>
                  </a:lnTo>
                  <a:lnTo>
                    <a:pt x="132" y="682"/>
                  </a:lnTo>
                  <a:lnTo>
                    <a:pt x="63" y="611"/>
                  </a:lnTo>
                  <a:lnTo>
                    <a:pt x="0" y="0"/>
                  </a:lnTo>
                  <a:lnTo>
                    <a:pt x="71" y="73"/>
                  </a:lnTo>
                  <a:lnTo>
                    <a:pt x="144" y="14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649200" y="5882040"/>
              <a:ext cx="12600" cy="23400"/>
            </a:xfrm>
            <a:custGeom>
              <a:avLst/>
              <a:gdLst/>
              <a:ahLst/>
              <a:rect l="l" t="t" r="r" b="b"/>
              <a:pathLst>
                <a:path w="197" h="764">
                  <a:moveTo>
                    <a:pt x="134" y="153"/>
                  </a:moveTo>
                  <a:lnTo>
                    <a:pt x="197" y="764"/>
                  </a:lnTo>
                  <a:lnTo>
                    <a:pt x="130" y="691"/>
                  </a:lnTo>
                  <a:lnTo>
                    <a:pt x="66" y="615"/>
                  </a:lnTo>
                  <a:lnTo>
                    <a:pt x="0" y="0"/>
                  </a:lnTo>
                  <a:lnTo>
                    <a:pt x="67" y="78"/>
                  </a:lnTo>
                  <a:lnTo>
                    <a:pt x="134" y="15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641280" y="5876640"/>
              <a:ext cx="11520" cy="24480"/>
            </a:xfrm>
            <a:custGeom>
              <a:avLst/>
              <a:gdLst/>
              <a:ahLst/>
              <a:rect l="l" t="t" r="r" b="b"/>
              <a:pathLst>
                <a:path w="191" h="780">
                  <a:moveTo>
                    <a:pt x="125" y="165"/>
                  </a:moveTo>
                  <a:lnTo>
                    <a:pt x="191" y="780"/>
                  </a:lnTo>
                  <a:lnTo>
                    <a:pt x="129" y="701"/>
                  </a:lnTo>
                  <a:lnTo>
                    <a:pt x="70" y="620"/>
                  </a:lnTo>
                  <a:lnTo>
                    <a:pt x="0" y="0"/>
                  </a:lnTo>
                  <a:lnTo>
                    <a:pt x="62" y="83"/>
                  </a:lnTo>
                  <a:lnTo>
                    <a:pt x="125" y="165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629400" y="5875920"/>
              <a:ext cx="16200" cy="19440"/>
            </a:xfrm>
            <a:custGeom>
              <a:avLst/>
              <a:gdLst/>
              <a:ahLst/>
              <a:rect l="l" t="t" r="r" b="b"/>
              <a:pathLst>
                <a:path w="250" h="643">
                  <a:moveTo>
                    <a:pt x="180" y="23"/>
                  </a:moveTo>
                  <a:lnTo>
                    <a:pt x="250" y="643"/>
                  </a:lnTo>
                  <a:lnTo>
                    <a:pt x="162" y="632"/>
                  </a:lnTo>
                  <a:lnTo>
                    <a:pt x="73" y="621"/>
                  </a:lnTo>
                  <a:lnTo>
                    <a:pt x="0" y="0"/>
                  </a:lnTo>
                  <a:lnTo>
                    <a:pt x="90" y="13"/>
                  </a:lnTo>
                  <a:lnTo>
                    <a:pt x="180" y="23"/>
                  </a:lnTo>
                  <a:close/>
                </a:path>
              </a:pathLst>
            </a:custGeom>
            <a:solidFill>
              <a:srgbClr val="535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617520" y="5874480"/>
              <a:ext cx="16200" cy="20160"/>
            </a:xfrm>
            <a:custGeom>
              <a:avLst/>
              <a:gdLst/>
              <a:ahLst/>
              <a:rect l="l" t="t" r="r" b="b"/>
              <a:pathLst>
                <a:path w="254" h="650">
                  <a:moveTo>
                    <a:pt x="181" y="29"/>
                  </a:moveTo>
                  <a:lnTo>
                    <a:pt x="254" y="650"/>
                  </a:lnTo>
                  <a:lnTo>
                    <a:pt x="167" y="636"/>
                  </a:lnTo>
                  <a:lnTo>
                    <a:pt x="80" y="621"/>
                  </a:lnTo>
                  <a:lnTo>
                    <a:pt x="0" y="0"/>
                  </a:lnTo>
                  <a:lnTo>
                    <a:pt x="90" y="16"/>
                  </a:lnTo>
                  <a:lnTo>
                    <a:pt x="181" y="29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605640" y="5874120"/>
              <a:ext cx="16920" cy="20160"/>
            </a:xfrm>
            <a:custGeom>
              <a:avLst/>
              <a:gdLst/>
              <a:ahLst/>
              <a:rect l="l" t="t" r="r" b="b"/>
              <a:pathLst>
                <a:path w="258" h="656">
                  <a:moveTo>
                    <a:pt x="178" y="35"/>
                  </a:moveTo>
                  <a:lnTo>
                    <a:pt x="258" y="656"/>
                  </a:lnTo>
                  <a:lnTo>
                    <a:pt x="171" y="639"/>
                  </a:lnTo>
                  <a:lnTo>
                    <a:pt x="85" y="621"/>
                  </a:lnTo>
                  <a:lnTo>
                    <a:pt x="0" y="0"/>
                  </a:lnTo>
                  <a:lnTo>
                    <a:pt x="89" y="18"/>
                  </a:lnTo>
                  <a:lnTo>
                    <a:pt x="178" y="35"/>
                  </a:lnTo>
                  <a:close/>
                </a:path>
              </a:pathLst>
            </a:custGeom>
            <a:solidFill>
              <a:srgbClr val="45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594840" y="5871960"/>
              <a:ext cx="16200" cy="20880"/>
            </a:xfrm>
            <a:custGeom>
              <a:avLst/>
              <a:gdLst/>
              <a:ahLst/>
              <a:rect l="l" t="t" r="r" b="b"/>
              <a:pathLst>
                <a:path w="262" h="665">
                  <a:moveTo>
                    <a:pt x="177" y="44"/>
                  </a:moveTo>
                  <a:lnTo>
                    <a:pt x="262" y="665"/>
                  </a:lnTo>
                  <a:lnTo>
                    <a:pt x="176" y="646"/>
                  </a:lnTo>
                  <a:lnTo>
                    <a:pt x="89" y="624"/>
                  </a:lnTo>
                  <a:lnTo>
                    <a:pt x="0" y="0"/>
                  </a:lnTo>
                  <a:lnTo>
                    <a:pt x="88" y="23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3c3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582960" y="5870880"/>
              <a:ext cx="17280" cy="20880"/>
            </a:xfrm>
            <a:custGeom>
              <a:avLst/>
              <a:gdLst/>
              <a:ahLst/>
              <a:rect l="l" t="t" r="r" b="b"/>
              <a:pathLst>
                <a:path w="264" h="673">
                  <a:moveTo>
                    <a:pt x="175" y="49"/>
                  </a:moveTo>
                  <a:lnTo>
                    <a:pt x="264" y="673"/>
                  </a:lnTo>
                  <a:lnTo>
                    <a:pt x="179" y="649"/>
                  </a:lnTo>
                  <a:lnTo>
                    <a:pt x="95" y="624"/>
                  </a:lnTo>
                  <a:lnTo>
                    <a:pt x="0" y="0"/>
                  </a:lnTo>
                  <a:lnTo>
                    <a:pt x="87" y="25"/>
                  </a:lnTo>
                  <a:lnTo>
                    <a:pt x="175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572160" y="5868720"/>
              <a:ext cx="16920" cy="21600"/>
            </a:xfrm>
            <a:custGeom>
              <a:avLst/>
              <a:gdLst/>
              <a:ahLst/>
              <a:rect l="l" t="t" r="r" b="b"/>
              <a:pathLst>
                <a:path w="266" h="681">
                  <a:moveTo>
                    <a:pt x="171" y="57"/>
                  </a:moveTo>
                  <a:lnTo>
                    <a:pt x="266" y="681"/>
                  </a:lnTo>
                  <a:lnTo>
                    <a:pt x="182" y="654"/>
                  </a:lnTo>
                  <a:lnTo>
                    <a:pt x="99" y="625"/>
                  </a:lnTo>
                  <a:lnTo>
                    <a:pt x="0" y="0"/>
                  </a:lnTo>
                  <a:lnTo>
                    <a:pt x="85" y="29"/>
                  </a:lnTo>
                  <a:lnTo>
                    <a:pt x="171" y="57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561360" y="5866560"/>
              <a:ext cx="16920" cy="21600"/>
            </a:xfrm>
            <a:custGeom>
              <a:avLst/>
              <a:gdLst/>
              <a:ahLst/>
              <a:rect l="l" t="t" r="r" b="b"/>
              <a:pathLst>
                <a:path w="269" h="690">
                  <a:moveTo>
                    <a:pt x="170" y="65"/>
                  </a:moveTo>
                  <a:lnTo>
                    <a:pt x="269" y="690"/>
                  </a:lnTo>
                  <a:lnTo>
                    <a:pt x="187" y="660"/>
                  </a:lnTo>
                  <a:lnTo>
                    <a:pt x="105" y="628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170" y="6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550200" y="5864760"/>
              <a:ext cx="16920" cy="21600"/>
            </a:xfrm>
            <a:custGeom>
              <a:avLst/>
              <a:gdLst/>
              <a:ahLst/>
              <a:rect l="l" t="t" r="r" b="b"/>
              <a:pathLst>
                <a:path w="270" h="700">
                  <a:moveTo>
                    <a:pt x="165" y="72"/>
                  </a:moveTo>
                  <a:lnTo>
                    <a:pt x="270" y="700"/>
                  </a:lnTo>
                  <a:lnTo>
                    <a:pt x="190" y="666"/>
                  </a:lnTo>
                  <a:lnTo>
                    <a:pt x="110" y="629"/>
                  </a:lnTo>
                  <a:lnTo>
                    <a:pt x="0" y="0"/>
                  </a:lnTo>
                  <a:lnTo>
                    <a:pt x="82" y="37"/>
                  </a:lnTo>
                  <a:lnTo>
                    <a:pt x="165" y="72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540120" y="5862240"/>
              <a:ext cx="17280" cy="22320"/>
            </a:xfrm>
            <a:custGeom>
              <a:avLst/>
              <a:gdLst/>
              <a:ahLst/>
              <a:rect l="l" t="t" r="r" b="b"/>
              <a:pathLst>
                <a:path w="270" h="709">
                  <a:moveTo>
                    <a:pt x="160" y="80"/>
                  </a:moveTo>
                  <a:lnTo>
                    <a:pt x="270" y="709"/>
                  </a:lnTo>
                  <a:lnTo>
                    <a:pt x="191" y="672"/>
                  </a:lnTo>
                  <a:lnTo>
                    <a:pt x="114" y="632"/>
                  </a:lnTo>
                  <a:lnTo>
                    <a:pt x="0" y="0"/>
                  </a:lnTo>
                  <a:lnTo>
                    <a:pt x="80" y="41"/>
                  </a:lnTo>
                  <a:lnTo>
                    <a:pt x="160" y="8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529320" y="5859360"/>
              <a:ext cx="18000" cy="22320"/>
            </a:xfrm>
            <a:custGeom>
              <a:avLst/>
              <a:gdLst/>
              <a:ahLst/>
              <a:rect l="l" t="t" r="r" b="b"/>
              <a:pathLst>
                <a:path w="270" h="719">
                  <a:moveTo>
                    <a:pt x="156" y="87"/>
                  </a:moveTo>
                  <a:lnTo>
                    <a:pt x="270" y="719"/>
                  </a:lnTo>
                  <a:lnTo>
                    <a:pt x="193" y="677"/>
                  </a:lnTo>
                  <a:lnTo>
                    <a:pt x="118" y="634"/>
                  </a:lnTo>
                  <a:lnTo>
                    <a:pt x="0" y="0"/>
                  </a:lnTo>
                  <a:lnTo>
                    <a:pt x="77" y="44"/>
                  </a:lnTo>
                  <a:lnTo>
                    <a:pt x="156" y="87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520320" y="5856120"/>
              <a:ext cx="17280" cy="22680"/>
            </a:xfrm>
            <a:custGeom>
              <a:avLst/>
              <a:gdLst/>
              <a:ahLst/>
              <a:rect l="l" t="t" r="r" b="b"/>
              <a:pathLst>
                <a:path w="268" h="730">
                  <a:moveTo>
                    <a:pt x="150" y="96"/>
                  </a:moveTo>
                  <a:lnTo>
                    <a:pt x="268" y="730"/>
                  </a:lnTo>
                  <a:lnTo>
                    <a:pt x="195" y="684"/>
                  </a:lnTo>
                  <a:lnTo>
                    <a:pt x="122" y="636"/>
                  </a:lnTo>
                  <a:lnTo>
                    <a:pt x="0" y="0"/>
                  </a:lnTo>
                  <a:lnTo>
                    <a:pt x="75" y="49"/>
                  </a:lnTo>
                  <a:lnTo>
                    <a:pt x="150" y="96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510240" y="5852880"/>
              <a:ext cx="16920" cy="23400"/>
            </a:xfrm>
            <a:custGeom>
              <a:avLst/>
              <a:gdLst/>
              <a:ahLst/>
              <a:rect l="l" t="t" r="r" b="b"/>
              <a:pathLst>
                <a:path w="268" h="740">
                  <a:moveTo>
                    <a:pt x="146" y="104"/>
                  </a:moveTo>
                  <a:lnTo>
                    <a:pt x="268" y="740"/>
                  </a:lnTo>
                  <a:lnTo>
                    <a:pt x="197" y="691"/>
                  </a:lnTo>
                  <a:lnTo>
                    <a:pt x="127" y="639"/>
                  </a:lnTo>
                  <a:lnTo>
                    <a:pt x="0" y="0"/>
                  </a:lnTo>
                  <a:lnTo>
                    <a:pt x="72" y="53"/>
                  </a:lnTo>
                  <a:lnTo>
                    <a:pt x="146" y="104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501240" y="5849640"/>
              <a:ext cx="16920" cy="23400"/>
            </a:xfrm>
            <a:custGeom>
              <a:avLst/>
              <a:gdLst/>
              <a:ahLst/>
              <a:rect l="l" t="t" r="r" b="b"/>
              <a:pathLst>
                <a:path w="265" h="752">
                  <a:moveTo>
                    <a:pt x="138" y="113"/>
                  </a:moveTo>
                  <a:lnTo>
                    <a:pt x="265" y="752"/>
                  </a:lnTo>
                  <a:lnTo>
                    <a:pt x="198" y="699"/>
                  </a:lnTo>
                  <a:lnTo>
                    <a:pt x="131" y="643"/>
                  </a:lnTo>
                  <a:lnTo>
                    <a:pt x="0" y="0"/>
                  </a:lnTo>
                  <a:lnTo>
                    <a:pt x="68" y="57"/>
                  </a:lnTo>
                  <a:lnTo>
                    <a:pt x="138" y="11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492960" y="5845680"/>
              <a:ext cx="17280" cy="24120"/>
            </a:xfrm>
            <a:custGeom>
              <a:avLst/>
              <a:gdLst/>
              <a:ahLst/>
              <a:rect l="l" t="t" r="r" b="b"/>
              <a:pathLst>
                <a:path w="263" h="764">
                  <a:moveTo>
                    <a:pt x="132" y="121"/>
                  </a:moveTo>
                  <a:lnTo>
                    <a:pt x="263" y="764"/>
                  </a:lnTo>
                  <a:lnTo>
                    <a:pt x="197" y="706"/>
                  </a:lnTo>
                  <a:lnTo>
                    <a:pt x="135" y="646"/>
                  </a:lnTo>
                  <a:lnTo>
                    <a:pt x="0" y="0"/>
                  </a:lnTo>
                  <a:lnTo>
                    <a:pt x="65" y="62"/>
                  </a:lnTo>
                  <a:lnTo>
                    <a:pt x="132" y="12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84680" y="5841720"/>
              <a:ext cx="17280" cy="24120"/>
            </a:xfrm>
            <a:custGeom>
              <a:avLst/>
              <a:gdLst/>
              <a:ahLst/>
              <a:rect l="l" t="t" r="r" b="b"/>
              <a:pathLst>
                <a:path w="260" h="776">
                  <a:moveTo>
                    <a:pt x="125" y="130"/>
                  </a:moveTo>
                  <a:lnTo>
                    <a:pt x="260" y="776"/>
                  </a:lnTo>
                  <a:lnTo>
                    <a:pt x="198" y="713"/>
                  </a:lnTo>
                  <a:lnTo>
                    <a:pt x="139" y="650"/>
                  </a:lnTo>
                  <a:lnTo>
                    <a:pt x="0" y="0"/>
                  </a:lnTo>
                  <a:lnTo>
                    <a:pt x="62" y="67"/>
                  </a:lnTo>
                  <a:lnTo>
                    <a:pt x="125" y="13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477480" y="5837040"/>
              <a:ext cx="16200" cy="24840"/>
            </a:xfrm>
            <a:custGeom>
              <a:avLst/>
              <a:gdLst/>
              <a:ahLst/>
              <a:rect l="l" t="t" r="r" b="b"/>
              <a:pathLst>
                <a:path w="256" h="788">
                  <a:moveTo>
                    <a:pt x="117" y="138"/>
                  </a:moveTo>
                  <a:lnTo>
                    <a:pt x="256" y="788"/>
                  </a:lnTo>
                  <a:lnTo>
                    <a:pt x="197" y="721"/>
                  </a:lnTo>
                  <a:lnTo>
                    <a:pt x="142" y="653"/>
                  </a:lnTo>
                  <a:lnTo>
                    <a:pt x="0" y="0"/>
                  </a:lnTo>
                  <a:lnTo>
                    <a:pt x="58" y="70"/>
                  </a:lnTo>
                  <a:lnTo>
                    <a:pt x="117" y="138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442920" y="5800680"/>
              <a:ext cx="20880" cy="21600"/>
            </a:xfrm>
            <a:custGeom>
              <a:avLst/>
              <a:gdLst/>
              <a:ahLst/>
              <a:rect l="l" t="t" r="r" b="b"/>
              <a:pathLst>
                <a:path w="332" h="686">
                  <a:moveTo>
                    <a:pt x="182" y="0"/>
                  </a:moveTo>
                  <a:lnTo>
                    <a:pt x="332" y="684"/>
                  </a:lnTo>
                  <a:lnTo>
                    <a:pt x="244" y="686"/>
                  </a:lnTo>
                  <a:lnTo>
                    <a:pt x="156" y="685"/>
                  </a:lnTo>
                  <a:lnTo>
                    <a:pt x="0" y="0"/>
                  </a:lnTo>
                  <a:lnTo>
                    <a:pt x="91" y="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431040" y="5800680"/>
              <a:ext cx="21600" cy="21600"/>
            </a:xfrm>
            <a:custGeom>
              <a:avLst/>
              <a:gdLst/>
              <a:ahLst/>
              <a:rect l="l" t="t" r="r" b="b"/>
              <a:pathLst>
                <a:path w="336" h="694">
                  <a:moveTo>
                    <a:pt x="180" y="9"/>
                  </a:moveTo>
                  <a:lnTo>
                    <a:pt x="336" y="694"/>
                  </a:lnTo>
                  <a:lnTo>
                    <a:pt x="249" y="689"/>
                  </a:lnTo>
                  <a:lnTo>
                    <a:pt x="161" y="684"/>
                  </a:lnTo>
                  <a:lnTo>
                    <a:pt x="0" y="0"/>
                  </a:lnTo>
                  <a:lnTo>
                    <a:pt x="90" y="6"/>
                  </a:lnTo>
                  <a:lnTo>
                    <a:pt x="180" y="9"/>
                  </a:lnTo>
                  <a:close/>
                </a:path>
              </a:pathLst>
            </a:custGeom>
            <a:solidFill>
              <a:srgbClr val="5f6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419520" y="5800320"/>
              <a:ext cx="21600" cy="21600"/>
            </a:xfrm>
            <a:custGeom>
              <a:avLst/>
              <a:gdLst/>
              <a:ahLst/>
              <a:rect l="l" t="t" r="r" b="b"/>
              <a:pathLst>
                <a:path w="341" h="704">
                  <a:moveTo>
                    <a:pt x="180" y="20"/>
                  </a:moveTo>
                  <a:lnTo>
                    <a:pt x="341" y="704"/>
                  </a:lnTo>
                  <a:lnTo>
                    <a:pt x="253" y="696"/>
                  </a:lnTo>
                  <a:lnTo>
                    <a:pt x="166" y="685"/>
                  </a:lnTo>
                  <a:lnTo>
                    <a:pt x="0" y="0"/>
                  </a:lnTo>
                  <a:lnTo>
                    <a:pt x="89" y="12"/>
                  </a:lnTo>
                  <a:lnTo>
                    <a:pt x="180" y="20"/>
                  </a:lnTo>
                  <a:close/>
                </a:path>
              </a:pathLst>
            </a:custGeom>
            <a:solidFill>
              <a:srgbClr val="55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407280" y="5798880"/>
              <a:ext cx="22680" cy="22320"/>
            </a:xfrm>
            <a:custGeom>
              <a:avLst/>
              <a:gdLst/>
              <a:ahLst/>
              <a:rect l="l" t="t" r="r" b="b"/>
              <a:pathLst>
                <a:path w="343" h="713">
                  <a:moveTo>
                    <a:pt x="177" y="28"/>
                  </a:moveTo>
                  <a:lnTo>
                    <a:pt x="343" y="713"/>
                  </a:lnTo>
                  <a:lnTo>
                    <a:pt x="257" y="700"/>
                  </a:lnTo>
                  <a:lnTo>
                    <a:pt x="171" y="685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77" y="28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396480" y="5798160"/>
              <a:ext cx="21600" cy="22320"/>
            </a:xfrm>
            <a:custGeom>
              <a:avLst/>
              <a:gdLst/>
              <a:ahLst/>
              <a:rect l="l" t="t" r="r" b="b"/>
              <a:pathLst>
                <a:path w="345" h="724">
                  <a:moveTo>
                    <a:pt x="174" y="39"/>
                  </a:moveTo>
                  <a:lnTo>
                    <a:pt x="345" y="724"/>
                  </a:lnTo>
                  <a:lnTo>
                    <a:pt x="261" y="707"/>
                  </a:lnTo>
                  <a:lnTo>
                    <a:pt x="177" y="686"/>
                  </a:lnTo>
                  <a:lnTo>
                    <a:pt x="0" y="0"/>
                  </a:lnTo>
                  <a:lnTo>
                    <a:pt x="87" y="20"/>
                  </a:lnTo>
                  <a:lnTo>
                    <a:pt x="174" y="39"/>
                  </a:lnTo>
                  <a:close/>
                </a:path>
              </a:pathLst>
            </a:custGeom>
            <a:solidFill>
              <a:srgbClr val="3f3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385680" y="5796360"/>
              <a:ext cx="21600" cy="23040"/>
            </a:xfrm>
            <a:custGeom>
              <a:avLst/>
              <a:gdLst/>
              <a:ahLst/>
              <a:rect l="l" t="t" r="r" b="b"/>
              <a:pathLst>
                <a:path w="348" h="735">
                  <a:moveTo>
                    <a:pt x="171" y="49"/>
                  </a:moveTo>
                  <a:lnTo>
                    <a:pt x="348" y="735"/>
                  </a:lnTo>
                  <a:lnTo>
                    <a:pt x="264" y="712"/>
                  </a:lnTo>
                  <a:lnTo>
                    <a:pt x="182" y="687"/>
                  </a:lnTo>
                  <a:lnTo>
                    <a:pt x="0" y="0"/>
                  </a:lnTo>
                  <a:lnTo>
                    <a:pt x="85" y="26"/>
                  </a:lnTo>
                  <a:lnTo>
                    <a:pt x="171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374880" y="5794200"/>
              <a:ext cx="21600" cy="23400"/>
            </a:xfrm>
            <a:custGeom>
              <a:avLst/>
              <a:gdLst/>
              <a:ahLst/>
              <a:rect l="l" t="t" r="r" b="b"/>
              <a:pathLst>
                <a:path w="347" h="747">
                  <a:moveTo>
                    <a:pt x="165" y="60"/>
                  </a:moveTo>
                  <a:lnTo>
                    <a:pt x="347" y="747"/>
                  </a:lnTo>
                  <a:lnTo>
                    <a:pt x="266" y="720"/>
                  </a:lnTo>
                  <a:lnTo>
                    <a:pt x="186" y="690"/>
                  </a:lnTo>
                  <a:lnTo>
                    <a:pt x="0" y="0"/>
                  </a:lnTo>
                  <a:lnTo>
                    <a:pt x="82" y="31"/>
                  </a:lnTo>
                  <a:lnTo>
                    <a:pt x="165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363720" y="5792400"/>
              <a:ext cx="22680" cy="23400"/>
            </a:xfrm>
            <a:custGeom>
              <a:avLst/>
              <a:gdLst/>
              <a:ahLst/>
              <a:rect l="l" t="t" r="r" b="b"/>
              <a:pathLst>
                <a:path w="347" h="759">
                  <a:moveTo>
                    <a:pt x="161" y="69"/>
                  </a:moveTo>
                  <a:lnTo>
                    <a:pt x="347" y="759"/>
                  </a:lnTo>
                  <a:lnTo>
                    <a:pt x="268" y="726"/>
                  </a:lnTo>
                  <a:lnTo>
                    <a:pt x="190" y="692"/>
                  </a:lnTo>
                  <a:lnTo>
                    <a:pt x="0" y="0"/>
                  </a:lnTo>
                  <a:lnTo>
                    <a:pt x="80" y="36"/>
                  </a:lnTo>
                  <a:lnTo>
                    <a:pt x="161" y="6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353640" y="5789520"/>
              <a:ext cx="22680" cy="24480"/>
            </a:xfrm>
            <a:custGeom>
              <a:avLst/>
              <a:gdLst/>
              <a:ahLst/>
              <a:rect l="l" t="t" r="r" b="b"/>
              <a:pathLst>
                <a:path w="345" h="771">
                  <a:moveTo>
                    <a:pt x="155" y="79"/>
                  </a:moveTo>
                  <a:lnTo>
                    <a:pt x="345" y="771"/>
                  </a:lnTo>
                  <a:lnTo>
                    <a:pt x="269" y="734"/>
                  </a:lnTo>
                  <a:lnTo>
                    <a:pt x="195" y="693"/>
                  </a:lnTo>
                  <a:lnTo>
                    <a:pt x="0" y="0"/>
                  </a:lnTo>
                  <a:lnTo>
                    <a:pt x="76" y="41"/>
                  </a:lnTo>
                  <a:lnTo>
                    <a:pt x="155" y="7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44640" y="5787000"/>
              <a:ext cx="21600" cy="24120"/>
            </a:xfrm>
            <a:custGeom>
              <a:avLst/>
              <a:gdLst/>
              <a:ahLst/>
              <a:rect l="l" t="t" r="r" b="b"/>
              <a:pathLst>
                <a:path w="344" h="782">
                  <a:moveTo>
                    <a:pt x="149" y="89"/>
                  </a:moveTo>
                  <a:lnTo>
                    <a:pt x="344" y="782"/>
                  </a:lnTo>
                  <a:lnTo>
                    <a:pt x="270" y="740"/>
                  </a:lnTo>
                  <a:lnTo>
                    <a:pt x="199" y="695"/>
                  </a:lnTo>
                  <a:lnTo>
                    <a:pt x="0" y="0"/>
                  </a:lnTo>
                  <a:lnTo>
                    <a:pt x="73" y="46"/>
                  </a:lnTo>
                  <a:lnTo>
                    <a:pt x="149" y="89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334920" y="5783760"/>
              <a:ext cx="22680" cy="24840"/>
            </a:xfrm>
            <a:custGeom>
              <a:avLst/>
              <a:gdLst/>
              <a:ahLst/>
              <a:rect l="l" t="t" r="r" b="b"/>
              <a:pathLst>
                <a:path w="340" h="795">
                  <a:moveTo>
                    <a:pt x="141" y="100"/>
                  </a:moveTo>
                  <a:lnTo>
                    <a:pt x="340" y="795"/>
                  </a:lnTo>
                  <a:lnTo>
                    <a:pt x="271" y="748"/>
                  </a:lnTo>
                  <a:lnTo>
                    <a:pt x="203" y="698"/>
                  </a:lnTo>
                  <a:lnTo>
                    <a:pt x="0" y="0"/>
                  </a:lnTo>
                  <a:lnTo>
                    <a:pt x="70" y="51"/>
                  </a:lnTo>
                  <a:lnTo>
                    <a:pt x="141" y="100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6640" y="5780520"/>
              <a:ext cx="21600" cy="25560"/>
            </a:xfrm>
            <a:custGeom>
              <a:avLst/>
              <a:gdLst/>
              <a:ahLst/>
              <a:rect l="l" t="t" r="r" b="b"/>
              <a:pathLst>
                <a:path w="336" h="809">
                  <a:moveTo>
                    <a:pt x="133" y="111"/>
                  </a:moveTo>
                  <a:lnTo>
                    <a:pt x="336" y="809"/>
                  </a:lnTo>
                  <a:lnTo>
                    <a:pt x="270" y="756"/>
                  </a:lnTo>
                  <a:lnTo>
                    <a:pt x="207" y="701"/>
                  </a:lnTo>
                  <a:lnTo>
                    <a:pt x="0" y="0"/>
                  </a:lnTo>
                  <a:lnTo>
                    <a:pt x="65" y="57"/>
                  </a:lnTo>
                  <a:lnTo>
                    <a:pt x="133" y="11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318360" y="5776560"/>
              <a:ext cx="21600" cy="25560"/>
            </a:xfrm>
            <a:custGeom>
              <a:avLst/>
              <a:gdLst/>
              <a:ahLst/>
              <a:rect l="l" t="t" r="r" b="b"/>
              <a:pathLst>
                <a:path w="331" h="822">
                  <a:moveTo>
                    <a:pt x="124" y="121"/>
                  </a:moveTo>
                  <a:lnTo>
                    <a:pt x="331" y="822"/>
                  </a:lnTo>
                  <a:lnTo>
                    <a:pt x="269" y="764"/>
                  </a:lnTo>
                  <a:lnTo>
                    <a:pt x="210" y="705"/>
                  </a:lnTo>
                  <a:lnTo>
                    <a:pt x="0" y="0"/>
                  </a:lnTo>
                  <a:lnTo>
                    <a:pt x="60" y="62"/>
                  </a:lnTo>
                  <a:lnTo>
                    <a:pt x="124" y="12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11160" y="5772600"/>
              <a:ext cx="20520" cy="25920"/>
            </a:xfrm>
            <a:custGeom>
              <a:avLst/>
              <a:gdLst/>
              <a:ahLst/>
              <a:rect l="l" t="t" r="r" b="b"/>
              <a:pathLst>
                <a:path w="325" h="837">
                  <a:moveTo>
                    <a:pt x="115" y="132"/>
                  </a:moveTo>
                  <a:lnTo>
                    <a:pt x="325" y="837"/>
                  </a:lnTo>
                  <a:lnTo>
                    <a:pt x="267" y="773"/>
                  </a:lnTo>
                  <a:lnTo>
                    <a:pt x="213" y="709"/>
                  </a:lnTo>
                  <a:lnTo>
                    <a:pt x="0" y="0"/>
                  </a:lnTo>
                  <a:lnTo>
                    <a:pt x="56" y="68"/>
                  </a:lnTo>
                  <a:lnTo>
                    <a:pt x="11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303960" y="5767920"/>
              <a:ext cx="20520" cy="27000"/>
            </a:xfrm>
            <a:custGeom>
              <a:avLst/>
              <a:gdLst/>
              <a:ahLst/>
              <a:rect l="l" t="t" r="r" b="b"/>
              <a:pathLst>
                <a:path w="319" h="850">
                  <a:moveTo>
                    <a:pt x="106" y="141"/>
                  </a:moveTo>
                  <a:lnTo>
                    <a:pt x="319" y="850"/>
                  </a:lnTo>
                  <a:lnTo>
                    <a:pt x="267" y="781"/>
                  </a:lnTo>
                  <a:lnTo>
                    <a:pt x="216" y="711"/>
                  </a:lnTo>
                  <a:lnTo>
                    <a:pt x="0" y="0"/>
                  </a:lnTo>
                  <a:lnTo>
                    <a:pt x="51" y="72"/>
                  </a:lnTo>
                  <a:lnTo>
                    <a:pt x="106" y="14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298200" y="5763240"/>
              <a:ext cx="19800" cy="27000"/>
            </a:xfrm>
            <a:custGeom>
              <a:avLst/>
              <a:gdLst/>
              <a:ahLst/>
              <a:rect l="l" t="t" r="r" b="b"/>
              <a:pathLst>
                <a:path w="310" h="864">
                  <a:moveTo>
                    <a:pt x="94" y="153"/>
                  </a:moveTo>
                  <a:lnTo>
                    <a:pt x="310" y="864"/>
                  </a:lnTo>
                  <a:lnTo>
                    <a:pt x="263" y="791"/>
                  </a:lnTo>
                  <a:lnTo>
                    <a:pt x="219" y="715"/>
                  </a:lnTo>
                  <a:lnTo>
                    <a:pt x="0" y="0"/>
                  </a:lnTo>
                  <a:lnTo>
                    <a:pt x="46" y="78"/>
                  </a:lnTo>
                  <a:lnTo>
                    <a:pt x="94" y="153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453720" y="5800680"/>
              <a:ext cx="12600" cy="22320"/>
            </a:xfrm>
            <a:custGeom>
              <a:avLst/>
              <a:gdLst/>
              <a:ahLst/>
              <a:rect l="l" t="t" r="r" b="b"/>
              <a:pathLst>
                <a:path w="187" h="722">
                  <a:moveTo>
                    <a:pt x="38" y="40"/>
                  </a:moveTo>
                  <a:lnTo>
                    <a:pt x="187" y="722"/>
                  </a:lnTo>
                  <a:lnTo>
                    <a:pt x="182" y="718"/>
                  </a:lnTo>
                  <a:lnTo>
                    <a:pt x="178" y="713"/>
                  </a:lnTo>
                  <a:lnTo>
                    <a:pt x="173" y="708"/>
                  </a:lnTo>
                  <a:lnTo>
                    <a:pt x="169" y="703"/>
                  </a:lnTo>
                  <a:lnTo>
                    <a:pt x="165" y="698"/>
                  </a:lnTo>
                  <a:lnTo>
                    <a:pt x="160" y="694"/>
                  </a:lnTo>
                  <a:lnTo>
                    <a:pt x="155" y="689"/>
                  </a:lnTo>
                  <a:lnTo>
                    <a:pt x="150" y="684"/>
                  </a:lnTo>
                  <a:lnTo>
                    <a:pt x="0" y="0"/>
                  </a:lnTo>
                  <a:lnTo>
                    <a:pt x="5" y="6"/>
                  </a:lnTo>
                  <a:lnTo>
                    <a:pt x="9" y="11"/>
                  </a:lnTo>
                  <a:lnTo>
                    <a:pt x="14" y="15"/>
                  </a:lnTo>
                  <a:lnTo>
                    <a:pt x="18" y="20"/>
                  </a:lnTo>
                  <a:lnTo>
                    <a:pt x="23" y="25"/>
                  </a:lnTo>
                  <a:lnTo>
                    <a:pt x="28" y="31"/>
                  </a:lnTo>
                  <a:lnTo>
                    <a:pt x="32" y="35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470280" y="5832360"/>
              <a:ext cx="16200" cy="25560"/>
            </a:xfrm>
            <a:custGeom>
              <a:avLst/>
              <a:gdLst/>
              <a:ahLst/>
              <a:rect l="l" t="t" r="r" b="b"/>
              <a:pathLst>
                <a:path w="246" h="814">
                  <a:moveTo>
                    <a:pt x="104" y="161"/>
                  </a:moveTo>
                  <a:lnTo>
                    <a:pt x="246" y="814"/>
                  </a:lnTo>
                  <a:lnTo>
                    <a:pt x="224" y="783"/>
                  </a:lnTo>
                  <a:lnTo>
                    <a:pt x="203" y="752"/>
                  </a:lnTo>
                  <a:lnTo>
                    <a:pt x="182" y="721"/>
                  </a:lnTo>
                  <a:lnTo>
                    <a:pt x="163" y="690"/>
                  </a:lnTo>
                  <a:lnTo>
                    <a:pt x="143" y="657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40" y="65"/>
                  </a:lnTo>
                  <a:lnTo>
                    <a:pt x="60" y="97"/>
                  </a:lnTo>
                  <a:lnTo>
                    <a:pt x="82" y="129"/>
                  </a:lnTo>
                  <a:lnTo>
                    <a:pt x="104" y="161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464880" y="5827320"/>
              <a:ext cx="14400" cy="25560"/>
            </a:xfrm>
            <a:custGeom>
              <a:avLst/>
              <a:gdLst/>
              <a:ahLst/>
              <a:rect l="l" t="t" r="r" b="b"/>
              <a:pathLst>
                <a:path w="232" h="822">
                  <a:moveTo>
                    <a:pt x="89" y="165"/>
                  </a:moveTo>
                  <a:lnTo>
                    <a:pt x="232" y="822"/>
                  </a:lnTo>
                  <a:lnTo>
                    <a:pt x="214" y="791"/>
                  </a:lnTo>
                  <a:lnTo>
                    <a:pt x="196" y="759"/>
                  </a:lnTo>
                  <a:lnTo>
                    <a:pt x="179" y="727"/>
                  </a:lnTo>
                  <a:lnTo>
                    <a:pt x="163" y="694"/>
                  </a:lnTo>
                  <a:lnTo>
                    <a:pt x="146" y="661"/>
                  </a:lnTo>
                  <a:lnTo>
                    <a:pt x="0" y="0"/>
                  </a:lnTo>
                  <a:lnTo>
                    <a:pt x="16" y="33"/>
                  </a:lnTo>
                  <a:lnTo>
                    <a:pt x="33" y="66"/>
                  </a:lnTo>
                  <a:lnTo>
                    <a:pt x="51" y="100"/>
                  </a:lnTo>
                  <a:lnTo>
                    <a:pt x="69" y="133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459480" y="5820840"/>
              <a:ext cx="14400" cy="26640"/>
            </a:xfrm>
            <a:custGeom>
              <a:avLst/>
              <a:gdLst/>
              <a:ahLst/>
              <a:rect l="l" t="t" r="r" b="b"/>
              <a:pathLst>
                <a:path w="226" h="869">
                  <a:moveTo>
                    <a:pt x="80" y="208"/>
                  </a:moveTo>
                  <a:lnTo>
                    <a:pt x="226" y="869"/>
                  </a:lnTo>
                  <a:lnTo>
                    <a:pt x="212" y="836"/>
                  </a:lnTo>
                  <a:lnTo>
                    <a:pt x="197" y="802"/>
                  </a:lnTo>
                  <a:lnTo>
                    <a:pt x="184" y="769"/>
                  </a:lnTo>
                  <a:lnTo>
                    <a:pt x="171" y="736"/>
                  </a:lnTo>
                  <a:lnTo>
                    <a:pt x="160" y="702"/>
                  </a:lnTo>
                  <a:lnTo>
                    <a:pt x="148" y="668"/>
                  </a:lnTo>
                  <a:lnTo>
                    <a:pt x="0" y="0"/>
                  </a:lnTo>
                  <a:lnTo>
                    <a:pt x="11" y="36"/>
                  </a:lnTo>
                  <a:lnTo>
                    <a:pt x="23" y="70"/>
                  </a:lnTo>
                  <a:lnTo>
                    <a:pt x="35" y="105"/>
                  </a:lnTo>
                  <a:lnTo>
                    <a:pt x="50" y="139"/>
                  </a:lnTo>
                  <a:lnTo>
                    <a:pt x="64" y="173"/>
                  </a:lnTo>
                  <a:lnTo>
                    <a:pt x="80" y="20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457680" y="5817600"/>
              <a:ext cx="11520" cy="24120"/>
            </a:xfrm>
            <a:custGeom>
              <a:avLst/>
              <a:gdLst/>
              <a:ahLst/>
              <a:rect l="l" t="t" r="r" b="b"/>
              <a:pathLst>
                <a:path w="177" h="774">
                  <a:moveTo>
                    <a:pt x="29" y="106"/>
                  </a:moveTo>
                  <a:lnTo>
                    <a:pt x="177" y="774"/>
                  </a:lnTo>
                  <a:lnTo>
                    <a:pt x="167" y="740"/>
                  </a:lnTo>
                  <a:lnTo>
                    <a:pt x="158" y="705"/>
                  </a:lnTo>
                  <a:lnTo>
                    <a:pt x="150" y="670"/>
                  </a:lnTo>
                  <a:lnTo>
                    <a:pt x="0" y="0"/>
                  </a:lnTo>
                  <a:lnTo>
                    <a:pt x="8" y="36"/>
                  </a:lnTo>
                  <a:lnTo>
                    <a:pt x="18" y="71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293880" y="5758200"/>
              <a:ext cx="18000" cy="27360"/>
            </a:xfrm>
            <a:custGeom>
              <a:avLst/>
              <a:gdLst/>
              <a:ahLst/>
              <a:rect l="l" t="t" r="r" b="b"/>
              <a:pathLst>
                <a:path w="289" h="872">
                  <a:moveTo>
                    <a:pt x="70" y="157"/>
                  </a:moveTo>
                  <a:lnTo>
                    <a:pt x="289" y="872"/>
                  </a:lnTo>
                  <a:lnTo>
                    <a:pt x="265" y="821"/>
                  </a:lnTo>
                  <a:lnTo>
                    <a:pt x="242" y="771"/>
                  </a:lnTo>
                  <a:lnTo>
                    <a:pt x="221" y="720"/>
                  </a:lnTo>
                  <a:lnTo>
                    <a:pt x="0" y="0"/>
                  </a:lnTo>
                  <a:lnTo>
                    <a:pt x="22" y="53"/>
                  </a:lnTo>
                  <a:lnTo>
                    <a:pt x="45" y="105"/>
                  </a:lnTo>
                  <a:lnTo>
                    <a:pt x="70" y="157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290280" y="5753520"/>
              <a:ext cx="16920" cy="27360"/>
            </a:xfrm>
            <a:custGeom>
              <a:avLst/>
              <a:gdLst/>
              <a:ahLst/>
              <a:rect l="l" t="t" r="r" b="b"/>
              <a:pathLst>
                <a:path w="274" h="875">
                  <a:moveTo>
                    <a:pt x="53" y="155"/>
                  </a:moveTo>
                  <a:lnTo>
                    <a:pt x="274" y="875"/>
                  </a:lnTo>
                  <a:lnTo>
                    <a:pt x="255" y="824"/>
                  </a:lnTo>
                  <a:lnTo>
                    <a:pt x="238" y="774"/>
                  </a:lnTo>
                  <a:lnTo>
                    <a:pt x="221" y="724"/>
                  </a:lnTo>
                  <a:lnTo>
                    <a:pt x="0" y="0"/>
                  </a:lnTo>
                  <a:lnTo>
                    <a:pt x="16" y="52"/>
                  </a:lnTo>
                  <a:lnTo>
                    <a:pt x="33" y="103"/>
                  </a:lnTo>
                  <a:lnTo>
                    <a:pt x="53" y="155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411960" y="5675760"/>
              <a:ext cx="19080" cy="28800"/>
            </a:xfrm>
            <a:custGeom>
              <a:avLst/>
              <a:gdLst/>
              <a:ahLst/>
              <a:rect l="l" t="t" r="r" b="b"/>
              <a:pathLst>
                <a:path w="289" h="914">
                  <a:moveTo>
                    <a:pt x="125" y="132"/>
                  </a:moveTo>
                  <a:lnTo>
                    <a:pt x="289" y="914"/>
                  </a:lnTo>
                  <a:lnTo>
                    <a:pt x="256" y="883"/>
                  </a:lnTo>
                  <a:lnTo>
                    <a:pt x="225" y="851"/>
                  </a:lnTo>
                  <a:lnTo>
                    <a:pt x="195" y="818"/>
                  </a:lnTo>
                  <a:lnTo>
                    <a:pt x="168" y="785"/>
                  </a:lnTo>
                  <a:lnTo>
                    <a:pt x="0" y="0"/>
                  </a:lnTo>
                  <a:lnTo>
                    <a:pt x="29" y="33"/>
                  </a:lnTo>
                  <a:lnTo>
                    <a:pt x="60" y="67"/>
                  </a:lnTo>
                  <a:lnTo>
                    <a:pt x="92" y="100"/>
                  </a:lnTo>
                  <a:lnTo>
                    <a:pt x="12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404040" y="5670360"/>
              <a:ext cx="18720" cy="30240"/>
            </a:xfrm>
            <a:custGeom>
              <a:avLst/>
              <a:gdLst/>
              <a:ahLst/>
              <a:rect l="l" t="t" r="r" b="b"/>
              <a:pathLst>
                <a:path w="288" h="961">
                  <a:moveTo>
                    <a:pt x="120" y="176"/>
                  </a:moveTo>
                  <a:lnTo>
                    <a:pt x="288" y="961"/>
                  </a:lnTo>
                  <a:lnTo>
                    <a:pt x="261" y="928"/>
                  </a:lnTo>
                  <a:lnTo>
                    <a:pt x="236" y="894"/>
                  </a:lnTo>
                  <a:lnTo>
                    <a:pt x="213" y="860"/>
                  </a:lnTo>
                  <a:lnTo>
                    <a:pt x="191" y="826"/>
                  </a:lnTo>
                  <a:lnTo>
                    <a:pt x="171" y="790"/>
                  </a:lnTo>
                  <a:lnTo>
                    <a:pt x="0" y="0"/>
                  </a:lnTo>
                  <a:lnTo>
                    <a:pt x="21" y="36"/>
                  </a:lnTo>
                  <a:lnTo>
                    <a:pt x="43" y="72"/>
                  </a:lnTo>
                  <a:lnTo>
                    <a:pt x="68" y="107"/>
                  </a:lnTo>
                  <a:lnTo>
                    <a:pt x="94" y="141"/>
                  </a:lnTo>
                  <a:lnTo>
                    <a:pt x="120" y="176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99360" y="5664600"/>
              <a:ext cx="16200" cy="30600"/>
            </a:xfrm>
            <a:custGeom>
              <a:avLst/>
              <a:gdLst/>
              <a:ahLst/>
              <a:rect l="l" t="t" r="r" b="b"/>
              <a:pathLst>
                <a:path w="252" h="978">
                  <a:moveTo>
                    <a:pt x="81" y="188"/>
                  </a:moveTo>
                  <a:lnTo>
                    <a:pt x="252" y="978"/>
                  </a:lnTo>
                  <a:lnTo>
                    <a:pt x="232" y="942"/>
                  </a:lnTo>
                  <a:lnTo>
                    <a:pt x="216" y="906"/>
                  </a:lnTo>
                  <a:lnTo>
                    <a:pt x="199" y="870"/>
                  </a:lnTo>
                  <a:lnTo>
                    <a:pt x="186" y="833"/>
                  </a:lnTo>
                  <a:lnTo>
                    <a:pt x="173" y="795"/>
                  </a:lnTo>
                  <a:lnTo>
                    <a:pt x="0" y="0"/>
                  </a:lnTo>
                  <a:lnTo>
                    <a:pt x="14" y="39"/>
                  </a:lnTo>
                  <a:lnTo>
                    <a:pt x="28" y="76"/>
                  </a:lnTo>
                  <a:lnTo>
                    <a:pt x="43" y="114"/>
                  </a:lnTo>
                  <a:lnTo>
                    <a:pt x="62" y="151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397560" y="5662080"/>
              <a:ext cx="12600" cy="27360"/>
            </a:xfrm>
            <a:custGeom>
              <a:avLst/>
              <a:gdLst/>
              <a:ahLst/>
              <a:rect l="l" t="t" r="r" b="b"/>
              <a:pathLst>
                <a:path w="193" h="873">
                  <a:moveTo>
                    <a:pt x="20" y="78"/>
                  </a:moveTo>
                  <a:lnTo>
                    <a:pt x="193" y="873"/>
                  </a:lnTo>
                  <a:lnTo>
                    <a:pt x="182" y="836"/>
                  </a:lnTo>
                  <a:lnTo>
                    <a:pt x="173" y="798"/>
                  </a:lnTo>
                  <a:lnTo>
                    <a:pt x="0" y="0"/>
                  </a:lnTo>
                  <a:lnTo>
                    <a:pt x="9" y="40"/>
                  </a:lnTo>
                  <a:lnTo>
                    <a:pt x="20" y="78"/>
                  </a:lnTo>
                  <a:close/>
                </a:path>
              </a:pathLst>
            </a:custGeom>
            <a:solidFill>
              <a:srgbClr val="262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285600" y="5562720"/>
              <a:ext cx="1065960" cy="360720"/>
            </a:xfrm>
            <a:custGeom>
              <a:avLst/>
              <a:gdLst/>
              <a:ahLst/>
              <a:rect l="l" t="t" r="r" b="b"/>
              <a:pathLst>
                <a:path w="16408" h="11518">
                  <a:moveTo>
                    <a:pt x="12894" y="1455"/>
                  </a:moveTo>
                  <a:lnTo>
                    <a:pt x="12992" y="1452"/>
                  </a:lnTo>
                  <a:lnTo>
                    <a:pt x="13091" y="1453"/>
                  </a:lnTo>
                  <a:lnTo>
                    <a:pt x="13190" y="1456"/>
                  </a:lnTo>
                  <a:lnTo>
                    <a:pt x="13290" y="1463"/>
                  </a:lnTo>
                  <a:lnTo>
                    <a:pt x="13391" y="1473"/>
                  </a:lnTo>
                  <a:lnTo>
                    <a:pt x="13490" y="1485"/>
                  </a:lnTo>
                  <a:lnTo>
                    <a:pt x="13591" y="1501"/>
                  </a:lnTo>
                  <a:lnTo>
                    <a:pt x="13690" y="1519"/>
                  </a:lnTo>
                  <a:lnTo>
                    <a:pt x="13790" y="1541"/>
                  </a:lnTo>
                  <a:lnTo>
                    <a:pt x="13888" y="1566"/>
                  </a:lnTo>
                  <a:lnTo>
                    <a:pt x="13987" y="1594"/>
                  </a:lnTo>
                  <a:lnTo>
                    <a:pt x="14083" y="1626"/>
                  </a:lnTo>
                  <a:lnTo>
                    <a:pt x="14179" y="1659"/>
                  </a:lnTo>
                  <a:lnTo>
                    <a:pt x="14273" y="1696"/>
                  </a:lnTo>
                  <a:lnTo>
                    <a:pt x="14365" y="1737"/>
                  </a:lnTo>
                  <a:lnTo>
                    <a:pt x="14455" y="1781"/>
                  </a:lnTo>
                  <a:lnTo>
                    <a:pt x="14545" y="1828"/>
                  </a:lnTo>
                  <a:lnTo>
                    <a:pt x="14631" y="1878"/>
                  </a:lnTo>
                  <a:lnTo>
                    <a:pt x="14715" y="1931"/>
                  </a:lnTo>
                  <a:lnTo>
                    <a:pt x="14797" y="1987"/>
                  </a:lnTo>
                  <a:lnTo>
                    <a:pt x="14876" y="2046"/>
                  </a:lnTo>
                  <a:lnTo>
                    <a:pt x="14952" y="2109"/>
                  </a:lnTo>
                  <a:lnTo>
                    <a:pt x="15026" y="2174"/>
                  </a:lnTo>
                  <a:lnTo>
                    <a:pt x="15095" y="2244"/>
                  </a:lnTo>
                  <a:lnTo>
                    <a:pt x="15162" y="2316"/>
                  </a:lnTo>
                  <a:lnTo>
                    <a:pt x="15225" y="2392"/>
                  </a:lnTo>
                  <a:lnTo>
                    <a:pt x="15283" y="2471"/>
                  </a:lnTo>
                  <a:lnTo>
                    <a:pt x="15338" y="2554"/>
                  </a:lnTo>
                  <a:lnTo>
                    <a:pt x="15389" y="2639"/>
                  </a:lnTo>
                  <a:lnTo>
                    <a:pt x="15436" y="2727"/>
                  </a:lnTo>
                  <a:lnTo>
                    <a:pt x="15478" y="2820"/>
                  </a:lnTo>
                  <a:lnTo>
                    <a:pt x="15515" y="2915"/>
                  </a:lnTo>
                  <a:lnTo>
                    <a:pt x="15530" y="2973"/>
                  </a:lnTo>
                  <a:lnTo>
                    <a:pt x="15544" y="3031"/>
                  </a:lnTo>
                  <a:lnTo>
                    <a:pt x="15555" y="3088"/>
                  </a:lnTo>
                  <a:lnTo>
                    <a:pt x="15563" y="3144"/>
                  </a:lnTo>
                  <a:lnTo>
                    <a:pt x="15569" y="3199"/>
                  </a:lnTo>
                  <a:lnTo>
                    <a:pt x="15573" y="3255"/>
                  </a:lnTo>
                  <a:lnTo>
                    <a:pt x="15575" y="3310"/>
                  </a:lnTo>
                  <a:lnTo>
                    <a:pt x="15575" y="3364"/>
                  </a:lnTo>
                  <a:lnTo>
                    <a:pt x="15572" y="3417"/>
                  </a:lnTo>
                  <a:lnTo>
                    <a:pt x="15568" y="3470"/>
                  </a:lnTo>
                  <a:lnTo>
                    <a:pt x="15561" y="3522"/>
                  </a:lnTo>
                  <a:lnTo>
                    <a:pt x="15553" y="3573"/>
                  </a:lnTo>
                  <a:lnTo>
                    <a:pt x="15541" y="3624"/>
                  </a:lnTo>
                  <a:lnTo>
                    <a:pt x="15528" y="3674"/>
                  </a:lnTo>
                  <a:lnTo>
                    <a:pt x="15514" y="3724"/>
                  </a:lnTo>
                  <a:lnTo>
                    <a:pt x="15496" y="3773"/>
                  </a:lnTo>
                  <a:lnTo>
                    <a:pt x="15478" y="3821"/>
                  </a:lnTo>
                  <a:lnTo>
                    <a:pt x="15456" y="3868"/>
                  </a:lnTo>
                  <a:lnTo>
                    <a:pt x="15434" y="3915"/>
                  </a:lnTo>
                  <a:lnTo>
                    <a:pt x="15409" y="3960"/>
                  </a:lnTo>
                  <a:lnTo>
                    <a:pt x="15383" y="4005"/>
                  </a:lnTo>
                  <a:lnTo>
                    <a:pt x="15355" y="4049"/>
                  </a:lnTo>
                  <a:lnTo>
                    <a:pt x="15324" y="4093"/>
                  </a:lnTo>
                  <a:lnTo>
                    <a:pt x="15292" y="4135"/>
                  </a:lnTo>
                  <a:lnTo>
                    <a:pt x="15259" y="4177"/>
                  </a:lnTo>
                  <a:lnTo>
                    <a:pt x="15224" y="4219"/>
                  </a:lnTo>
                  <a:lnTo>
                    <a:pt x="15187" y="4258"/>
                  </a:lnTo>
                  <a:lnTo>
                    <a:pt x="15149" y="4298"/>
                  </a:lnTo>
                  <a:lnTo>
                    <a:pt x="15108" y="4336"/>
                  </a:lnTo>
                  <a:lnTo>
                    <a:pt x="15067" y="4374"/>
                  </a:lnTo>
                  <a:lnTo>
                    <a:pt x="15023" y="4410"/>
                  </a:lnTo>
                  <a:lnTo>
                    <a:pt x="14978" y="4447"/>
                  </a:lnTo>
                  <a:lnTo>
                    <a:pt x="15048" y="4466"/>
                  </a:lnTo>
                  <a:lnTo>
                    <a:pt x="15117" y="4487"/>
                  </a:lnTo>
                  <a:lnTo>
                    <a:pt x="15186" y="4510"/>
                  </a:lnTo>
                  <a:lnTo>
                    <a:pt x="15252" y="4534"/>
                  </a:lnTo>
                  <a:lnTo>
                    <a:pt x="15318" y="4561"/>
                  </a:lnTo>
                  <a:lnTo>
                    <a:pt x="15381" y="4588"/>
                  </a:lnTo>
                  <a:lnTo>
                    <a:pt x="15444" y="4619"/>
                  </a:lnTo>
                  <a:lnTo>
                    <a:pt x="15506" y="4650"/>
                  </a:lnTo>
                  <a:lnTo>
                    <a:pt x="15566" y="4683"/>
                  </a:lnTo>
                  <a:lnTo>
                    <a:pt x="15625" y="4718"/>
                  </a:lnTo>
                  <a:lnTo>
                    <a:pt x="15681" y="4755"/>
                  </a:lnTo>
                  <a:lnTo>
                    <a:pt x="15736" y="4793"/>
                  </a:lnTo>
                  <a:lnTo>
                    <a:pt x="15790" y="4833"/>
                  </a:lnTo>
                  <a:lnTo>
                    <a:pt x="15841" y="4875"/>
                  </a:lnTo>
                  <a:lnTo>
                    <a:pt x="15891" y="4919"/>
                  </a:lnTo>
                  <a:lnTo>
                    <a:pt x="15939" y="4964"/>
                  </a:lnTo>
                  <a:lnTo>
                    <a:pt x="15985" y="5011"/>
                  </a:lnTo>
                  <a:lnTo>
                    <a:pt x="16030" y="5060"/>
                  </a:lnTo>
                  <a:lnTo>
                    <a:pt x="16072" y="5111"/>
                  </a:lnTo>
                  <a:lnTo>
                    <a:pt x="16112" y="5164"/>
                  </a:lnTo>
                  <a:lnTo>
                    <a:pt x="16150" y="5219"/>
                  </a:lnTo>
                  <a:lnTo>
                    <a:pt x="16184" y="5275"/>
                  </a:lnTo>
                  <a:lnTo>
                    <a:pt x="16218" y="5333"/>
                  </a:lnTo>
                  <a:lnTo>
                    <a:pt x="16249" y="5392"/>
                  </a:lnTo>
                  <a:lnTo>
                    <a:pt x="16278" y="5455"/>
                  </a:lnTo>
                  <a:lnTo>
                    <a:pt x="16303" y="5518"/>
                  </a:lnTo>
                  <a:lnTo>
                    <a:pt x="16327" y="5584"/>
                  </a:lnTo>
                  <a:lnTo>
                    <a:pt x="16349" y="5651"/>
                  </a:lnTo>
                  <a:lnTo>
                    <a:pt x="16367" y="5720"/>
                  </a:lnTo>
                  <a:lnTo>
                    <a:pt x="16382" y="5791"/>
                  </a:lnTo>
                  <a:lnTo>
                    <a:pt x="16396" y="5864"/>
                  </a:lnTo>
                  <a:lnTo>
                    <a:pt x="16406" y="5939"/>
                  </a:lnTo>
                  <a:lnTo>
                    <a:pt x="16408" y="6053"/>
                  </a:lnTo>
                  <a:lnTo>
                    <a:pt x="16404" y="6164"/>
                  </a:lnTo>
                  <a:lnTo>
                    <a:pt x="16395" y="6273"/>
                  </a:lnTo>
                  <a:lnTo>
                    <a:pt x="16378" y="6381"/>
                  </a:lnTo>
                  <a:lnTo>
                    <a:pt x="16357" y="6487"/>
                  </a:lnTo>
                  <a:lnTo>
                    <a:pt x="16329" y="6591"/>
                  </a:lnTo>
                  <a:lnTo>
                    <a:pt x="16296" y="6692"/>
                  </a:lnTo>
                  <a:lnTo>
                    <a:pt x="16258" y="6792"/>
                  </a:lnTo>
                  <a:lnTo>
                    <a:pt x="16215" y="6889"/>
                  </a:lnTo>
                  <a:lnTo>
                    <a:pt x="16167" y="6985"/>
                  </a:lnTo>
                  <a:lnTo>
                    <a:pt x="16115" y="7077"/>
                  </a:lnTo>
                  <a:lnTo>
                    <a:pt x="16058" y="7169"/>
                  </a:lnTo>
                  <a:lnTo>
                    <a:pt x="15997" y="7258"/>
                  </a:lnTo>
                  <a:lnTo>
                    <a:pt x="15932" y="7343"/>
                  </a:lnTo>
                  <a:lnTo>
                    <a:pt x="15862" y="7427"/>
                  </a:lnTo>
                  <a:lnTo>
                    <a:pt x="15791" y="7509"/>
                  </a:lnTo>
                  <a:lnTo>
                    <a:pt x="15715" y="7588"/>
                  </a:lnTo>
                  <a:lnTo>
                    <a:pt x="15635" y="7664"/>
                  </a:lnTo>
                  <a:lnTo>
                    <a:pt x="15553" y="7738"/>
                  </a:lnTo>
                  <a:lnTo>
                    <a:pt x="15468" y="7809"/>
                  </a:lnTo>
                  <a:lnTo>
                    <a:pt x="15380" y="7877"/>
                  </a:lnTo>
                  <a:lnTo>
                    <a:pt x="15290" y="7943"/>
                  </a:lnTo>
                  <a:lnTo>
                    <a:pt x="15198" y="8005"/>
                  </a:lnTo>
                  <a:lnTo>
                    <a:pt x="15104" y="8065"/>
                  </a:lnTo>
                  <a:lnTo>
                    <a:pt x="15008" y="8122"/>
                  </a:lnTo>
                  <a:lnTo>
                    <a:pt x="14910" y="8176"/>
                  </a:lnTo>
                  <a:lnTo>
                    <a:pt x="14811" y="8227"/>
                  </a:lnTo>
                  <a:lnTo>
                    <a:pt x="14711" y="8276"/>
                  </a:lnTo>
                  <a:lnTo>
                    <a:pt x="14610" y="8321"/>
                  </a:lnTo>
                  <a:lnTo>
                    <a:pt x="14508" y="8363"/>
                  </a:lnTo>
                  <a:lnTo>
                    <a:pt x="14406" y="8401"/>
                  </a:lnTo>
                  <a:lnTo>
                    <a:pt x="14303" y="8436"/>
                  </a:lnTo>
                  <a:lnTo>
                    <a:pt x="14269" y="8448"/>
                  </a:lnTo>
                  <a:lnTo>
                    <a:pt x="14234" y="8457"/>
                  </a:lnTo>
                  <a:lnTo>
                    <a:pt x="14199" y="8468"/>
                  </a:lnTo>
                  <a:lnTo>
                    <a:pt x="14165" y="8477"/>
                  </a:lnTo>
                  <a:lnTo>
                    <a:pt x="14130" y="8486"/>
                  </a:lnTo>
                  <a:lnTo>
                    <a:pt x="14095" y="8496"/>
                  </a:lnTo>
                  <a:lnTo>
                    <a:pt x="14062" y="8504"/>
                  </a:lnTo>
                  <a:lnTo>
                    <a:pt x="14027" y="8513"/>
                  </a:lnTo>
                  <a:lnTo>
                    <a:pt x="13992" y="8520"/>
                  </a:lnTo>
                  <a:lnTo>
                    <a:pt x="13957" y="8528"/>
                  </a:lnTo>
                  <a:lnTo>
                    <a:pt x="13923" y="8535"/>
                  </a:lnTo>
                  <a:lnTo>
                    <a:pt x="13888" y="8542"/>
                  </a:lnTo>
                  <a:lnTo>
                    <a:pt x="13853" y="8549"/>
                  </a:lnTo>
                  <a:lnTo>
                    <a:pt x="13819" y="8555"/>
                  </a:lnTo>
                  <a:lnTo>
                    <a:pt x="13784" y="8560"/>
                  </a:lnTo>
                  <a:lnTo>
                    <a:pt x="13749" y="8567"/>
                  </a:lnTo>
                  <a:lnTo>
                    <a:pt x="13713" y="8572"/>
                  </a:lnTo>
                  <a:lnTo>
                    <a:pt x="13678" y="8576"/>
                  </a:lnTo>
                  <a:lnTo>
                    <a:pt x="13643" y="8581"/>
                  </a:lnTo>
                  <a:lnTo>
                    <a:pt x="13608" y="8585"/>
                  </a:lnTo>
                  <a:lnTo>
                    <a:pt x="13572" y="8590"/>
                  </a:lnTo>
                  <a:lnTo>
                    <a:pt x="13538" y="8593"/>
                  </a:lnTo>
                  <a:lnTo>
                    <a:pt x="13502" y="8596"/>
                  </a:lnTo>
                  <a:lnTo>
                    <a:pt x="13466" y="8599"/>
                  </a:lnTo>
                  <a:lnTo>
                    <a:pt x="13431" y="8601"/>
                  </a:lnTo>
                  <a:lnTo>
                    <a:pt x="13395" y="8603"/>
                  </a:lnTo>
                  <a:lnTo>
                    <a:pt x="13359" y="8605"/>
                  </a:lnTo>
                  <a:lnTo>
                    <a:pt x="13323" y="8606"/>
                  </a:lnTo>
                  <a:lnTo>
                    <a:pt x="13287" y="8607"/>
                  </a:lnTo>
                  <a:lnTo>
                    <a:pt x="13250" y="8608"/>
                  </a:lnTo>
                  <a:lnTo>
                    <a:pt x="13215" y="8608"/>
                  </a:lnTo>
                  <a:lnTo>
                    <a:pt x="13179" y="8608"/>
                  </a:lnTo>
                  <a:lnTo>
                    <a:pt x="13156" y="8703"/>
                  </a:lnTo>
                  <a:lnTo>
                    <a:pt x="13132" y="8797"/>
                  </a:lnTo>
                  <a:lnTo>
                    <a:pt x="13105" y="8888"/>
                  </a:lnTo>
                  <a:lnTo>
                    <a:pt x="13075" y="8978"/>
                  </a:lnTo>
                  <a:lnTo>
                    <a:pt x="13042" y="9067"/>
                  </a:lnTo>
                  <a:lnTo>
                    <a:pt x="13006" y="9154"/>
                  </a:lnTo>
                  <a:lnTo>
                    <a:pt x="12969" y="9239"/>
                  </a:lnTo>
                  <a:lnTo>
                    <a:pt x="12928" y="9323"/>
                  </a:lnTo>
                  <a:lnTo>
                    <a:pt x="12886" y="9406"/>
                  </a:lnTo>
                  <a:lnTo>
                    <a:pt x="12840" y="9486"/>
                  </a:lnTo>
                  <a:lnTo>
                    <a:pt x="12793" y="9565"/>
                  </a:lnTo>
                  <a:lnTo>
                    <a:pt x="12744" y="9643"/>
                  </a:lnTo>
                  <a:lnTo>
                    <a:pt x="12692" y="9719"/>
                  </a:lnTo>
                  <a:lnTo>
                    <a:pt x="12637" y="9794"/>
                  </a:lnTo>
                  <a:lnTo>
                    <a:pt x="12581" y="9867"/>
                  </a:lnTo>
                  <a:lnTo>
                    <a:pt x="12522" y="9939"/>
                  </a:lnTo>
                  <a:lnTo>
                    <a:pt x="12462" y="10010"/>
                  </a:lnTo>
                  <a:lnTo>
                    <a:pt x="12399" y="10079"/>
                  </a:lnTo>
                  <a:lnTo>
                    <a:pt x="12336" y="10146"/>
                  </a:lnTo>
                  <a:lnTo>
                    <a:pt x="12269" y="10212"/>
                  </a:lnTo>
                  <a:lnTo>
                    <a:pt x="12201" y="10277"/>
                  </a:lnTo>
                  <a:lnTo>
                    <a:pt x="12132" y="10339"/>
                  </a:lnTo>
                  <a:lnTo>
                    <a:pt x="12060" y="10401"/>
                  </a:lnTo>
                  <a:lnTo>
                    <a:pt x="11987" y="10461"/>
                  </a:lnTo>
                  <a:lnTo>
                    <a:pt x="11912" y="10519"/>
                  </a:lnTo>
                  <a:lnTo>
                    <a:pt x="11836" y="10577"/>
                  </a:lnTo>
                  <a:lnTo>
                    <a:pt x="11758" y="10632"/>
                  </a:lnTo>
                  <a:lnTo>
                    <a:pt x="11679" y="10686"/>
                  </a:lnTo>
                  <a:lnTo>
                    <a:pt x="11599" y="10739"/>
                  </a:lnTo>
                  <a:lnTo>
                    <a:pt x="11517" y="10791"/>
                  </a:lnTo>
                  <a:lnTo>
                    <a:pt x="11434" y="10841"/>
                  </a:lnTo>
                  <a:lnTo>
                    <a:pt x="11350" y="10889"/>
                  </a:lnTo>
                  <a:lnTo>
                    <a:pt x="11320" y="10905"/>
                  </a:lnTo>
                  <a:lnTo>
                    <a:pt x="11292" y="10920"/>
                  </a:lnTo>
                  <a:lnTo>
                    <a:pt x="11262" y="10936"/>
                  </a:lnTo>
                  <a:lnTo>
                    <a:pt x="11232" y="10950"/>
                  </a:lnTo>
                  <a:lnTo>
                    <a:pt x="11203" y="10965"/>
                  </a:lnTo>
                  <a:lnTo>
                    <a:pt x="11174" y="10980"/>
                  </a:lnTo>
                  <a:lnTo>
                    <a:pt x="11144" y="10994"/>
                  </a:lnTo>
                  <a:lnTo>
                    <a:pt x="11114" y="11009"/>
                  </a:lnTo>
                  <a:lnTo>
                    <a:pt x="11084" y="11023"/>
                  </a:lnTo>
                  <a:lnTo>
                    <a:pt x="11054" y="11037"/>
                  </a:lnTo>
                  <a:lnTo>
                    <a:pt x="11024" y="11050"/>
                  </a:lnTo>
                  <a:lnTo>
                    <a:pt x="10994" y="11065"/>
                  </a:lnTo>
                  <a:lnTo>
                    <a:pt x="10964" y="11079"/>
                  </a:lnTo>
                  <a:lnTo>
                    <a:pt x="10934" y="11092"/>
                  </a:lnTo>
                  <a:lnTo>
                    <a:pt x="10903" y="11106"/>
                  </a:lnTo>
                  <a:lnTo>
                    <a:pt x="10872" y="11119"/>
                  </a:lnTo>
                  <a:lnTo>
                    <a:pt x="10805" y="11145"/>
                  </a:lnTo>
                  <a:lnTo>
                    <a:pt x="10737" y="11171"/>
                  </a:lnTo>
                  <a:lnTo>
                    <a:pt x="10668" y="11195"/>
                  </a:lnTo>
                  <a:lnTo>
                    <a:pt x="10601" y="11219"/>
                  </a:lnTo>
                  <a:lnTo>
                    <a:pt x="10533" y="11241"/>
                  </a:lnTo>
                  <a:lnTo>
                    <a:pt x="10466" y="11263"/>
                  </a:lnTo>
                  <a:lnTo>
                    <a:pt x="10399" y="11284"/>
                  </a:lnTo>
                  <a:lnTo>
                    <a:pt x="10331" y="11303"/>
                  </a:lnTo>
                  <a:lnTo>
                    <a:pt x="10263" y="11322"/>
                  </a:lnTo>
                  <a:lnTo>
                    <a:pt x="10197" y="11340"/>
                  </a:lnTo>
                  <a:lnTo>
                    <a:pt x="10129" y="11358"/>
                  </a:lnTo>
                  <a:lnTo>
                    <a:pt x="10061" y="11373"/>
                  </a:lnTo>
                  <a:lnTo>
                    <a:pt x="9993" y="11389"/>
                  </a:lnTo>
                  <a:lnTo>
                    <a:pt x="9926" y="11403"/>
                  </a:lnTo>
                  <a:lnTo>
                    <a:pt x="9858" y="11417"/>
                  </a:lnTo>
                  <a:lnTo>
                    <a:pt x="9789" y="11429"/>
                  </a:lnTo>
                  <a:lnTo>
                    <a:pt x="9722" y="11441"/>
                  </a:lnTo>
                  <a:lnTo>
                    <a:pt x="9653" y="11452"/>
                  </a:lnTo>
                  <a:lnTo>
                    <a:pt x="9584" y="11462"/>
                  </a:lnTo>
                  <a:lnTo>
                    <a:pt x="9516" y="11471"/>
                  </a:lnTo>
                  <a:lnTo>
                    <a:pt x="9447" y="11479"/>
                  </a:lnTo>
                  <a:lnTo>
                    <a:pt x="9377" y="11487"/>
                  </a:lnTo>
                  <a:lnTo>
                    <a:pt x="9307" y="11494"/>
                  </a:lnTo>
                  <a:lnTo>
                    <a:pt x="9238" y="11499"/>
                  </a:lnTo>
                  <a:lnTo>
                    <a:pt x="9167" y="11504"/>
                  </a:lnTo>
                  <a:lnTo>
                    <a:pt x="9097" y="11509"/>
                  </a:lnTo>
                  <a:lnTo>
                    <a:pt x="9025" y="11512"/>
                  </a:lnTo>
                  <a:lnTo>
                    <a:pt x="8954" y="11515"/>
                  </a:lnTo>
                  <a:lnTo>
                    <a:pt x="8882" y="11517"/>
                  </a:lnTo>
                  <a:lnTo>
                    <a:pt x="8810" y="11517"/>
                  </a:lnTo>
                  <a:lnTo>
                    <a:pt x="8737" y="11518"/>
                  </a:lnTo>
                  <a:lnTo>
                    <a:pt x="8663" y="11517"/>
                  </a:lnTo>
                  <a:lnTo>
                    <a:pt x="8262" y="11488"/>
                  </a:lnTo>
                  <a:lnTo>
                    <a:pt x="8161" y="11474"/>
                  </a:lnTo>
                  <a:lnTo>
                    <a:pt x="8060" y="11458"/>
                  </a:lnTo>
                  <a:lnTo>
                    <a:pt x="7959" y="11440"/>
                  </a:lnTo>
                  <a:lnTo>
                    <a:pt x="7858" y="11421"/>
                  </a:lnTo>
                  <a:lnTo>
                    <a:pt x="7758" y="11400"/>
                  </a:lnTo>
                  <a:lnTo>
                    <a:pt x="7657" y="11376"/>
                  </a:lnTo>
                  <a:lnTo>
                    <a:pt x="7558" y="11351"/>
                  </a:lnTo>
                  <a:lnTo>
                    <a:pt x="7459" y="11325"/>
                  </a:lnTo>
                  <a:lnTo>
                    <a:pt x="7362" y="11296"/>
                  </a:lnTo>
                  <a:lnTo>
                    <a:pt x="7265" y="11265"/>
                  </a:lnTo>
                  <a:lnTo>
                    <a:pt x="7168" y="11233"/>
                  </a:lnTo>
                  <a:lnTo>
                    <a:pt x="7072" y="11197"/>
                  </a:lnTo>
                  <a:lnTo>
                    <a:pt x="6978" y="11161"/>
                  </a:lnTo>
                  <a:lnTo>
                    <a:pt x="6884" y="11121"/>
                  </a:lnTo>
                  <a:lnTo>
                    <a:pt x="6792" y="11080"/>
                  </a:lnTo>
                  <a:lnTo>
                    <a:pt x="6701" y="11037"/>
                  </a:lnTo>
                  <a:lnTo>
                    <a:pt x="6611" y="10990"/>
                  </a:lnTo>
                  <a:lnTo>
                    <a:pt x="6522" y="10942"/>
                  </a:lnTo>
                  <a:lnTo>
                    <a:pt x="6436" y="10892"/>
                  </a:lnTo>
                  <a:lnTo>
                    <a:pt x="6350" y="10839"/>
                  </a:lnTo>
                  <a:lnTo>
                    <a:pt x="6266" y="10784"/>
                  </a:lnTo>
                  <a:lnTo>
                    <a:pt x="6184" y="10727"/>
                  </a:lnTo>
                  <a:lnTo>
                    <a:pt x="6104" y="10666"/>
                  </a:lnTo>
                  <a:lnTo>
                    <a:pt x="6025" y="10604"/>
                  </a:lnTo>
                  <a:lnTo>
                    <a:pt x="5948" y="10539"/>
                  </a:lnTo>
                  <a:lnTo>
                    <a:pt x="5873" y="10471"/>
                  </a:lnTo>
                  <a:lnTo>
                    <a:pt x="5800" y="10401"/>
                  </a:lnTo>
                  <a:lnTo>
                    <a:pt x="5729" y="10328"/>
                  </a:lnTo>
                  <a:lnTo>
                    <a:pt x="5662" y="10253"/>
                  </a:lnTo>
                  <a:lnTo>
                    <a:pt x="5595" y="10175"/>
                  </a:lnTo>
                  <a:lnTo>
                    <a:pt x="5532" y="10093"/>
                  </a:lnTo>
                  <a:lnTo>
                    <a:pt x="5470" y="10010"/>
                  </a:lnTo>
                  <a:lnTo>
                    <a:pt x="5380" y="10000"/>
                  </a:lnTo>
                  <a:lnTo>
                    <a:pt x="5290" y="9987"/>
                  </a:lnTo>
                  <a:lnTo>
                    <a:pt x="5199" y="9974"/>
                  </a:lnTo>
                  <a:lnTo>
                    <a:pt x="5109" y="9958"/>
                  </a:lnTo>
                  <a:lnTo>
                    <a:pt x="5020" y="9941"/>
                  </a:lnTo>
                  <a:lnTo>
                    <a:pt x="4931" y="9923"/>
                  </a:lnTo>
                  <a:lnTo>
                    <a:pt x="4842" y="9902"/>
                  </a:lnTo>
                  <a:lnTo>
                    <a:pt x="4754" y="9879"/>
                  </a:lnTo>
                  <a:lnTo>
                    <a:pt x="4666" y="9855"/>
                  </a:lnTo>
                  <a:lnTo>
                    <a:pt x="4579" y="9830"/>
                  </a:lnTo>
                  <a:lnTo>
                    <a:pt x="4493" y="9802"/>
                  </a:lnTo>
                  <a:lnTo>
                    <a:pt x="4408" y="9773"/>
                  </a:lnTo>
                  <a:lnTo>
                    <a:pt x="4322" y="9741"/>
                  </a:lnTo>
                  <a:lnTo>
                    <a:pt x="4238" y="9708"/>
                  </a:lnTo>
                  <a:lnTo>
                    <a:pt x="4155" y="9673"/>
                  </a:lnTo>
                  <a:lnTo>
                    <a:pt x="4073" y="9636"/>
                  </a:lnTo>
                  <a:lnTo>
                    <a:pt x="3993" y="9597"/>
                  </a:lnTo>
                  <a:lnTo>
                    <a:pt x="3913" y="9556"/>
                  </a:lnTo>
                  <a:lnTo>
                    <a:pt x="3834" y="9513"/>
                  </a:lnTo>
                  <a:lnTo>
                    <a:pt x="3757" y="9469"/>
                  </a:lnTo>
                  <a:lnTo>
                    <a:pt x="3682" y="9422"/>
                  </a:lnTo>
                  <a:lnTo>
                    <a:pt x="3607" y="9373"/>
                  </a:lnTo>
                  <a:lnTo>
                    <a:pt x="3533" y="9322"/>
                  </a:lnTo>
                  <a:lnTo>
                    <a:pt x="3461" y="9269"/>
                  </a:lnTo>
                  <a:lnTo>
                    <a:pt x="3391" y="9213"/>
                  </a:lnTo>
                  <a:lnTo>
                    <a:pt x="3323" y="9156"/>
                  </a:lnTo>
                  <a:lnTo>
                    <a:pt x="3256" y="9097"/>
                  </a:lnTo>
                  <a:lnTo>
                    <a:pt x="3191" y="9035"/>
                  </a:lnTo>
                  <a:lnTo>
                    <a:pt x="3128" y="8972"/>
                  </a:lnTo>
                  <a:lnTo>
                    <a:pt x="3066" y="8905"/>
                  </a:lnTo>
                  <a:lnTo>
                    <a:pt x="3007" y="8837"/>
                  </a:lnTo>
                  <a:lnTo>
                    <a:pt x="2949" y="8767"/>
                  </a:lnTo>
                  <a:lnTo>
                    <a:pt x="2927" y="8735"/>
                  </a:lnTo>
                  <a:lnTo>
                    <a:pt x="2905" y="8703"/>
                  </a:lnTo>
                  <a:lnTo>
                    <a:pt x="2885" y="8671"/>
                  </a:lnTo>
                  <a:lnTo>
                    <a:pt x="2864" y="8639"/>
                  </a:lnTo>
                  <a:lnTo>
                    <a:pt x="2845" y="8606"/>
                  </a:lnTo>
                  <a:lnTo>
                    <a:pt x="2825" y="8574"/>
                  </a:lnTo>
                  <a:lnTo>
                    <a:pt x="2807" y="8541"/>
                  </a:lnTo>
                  <a:lnTo>
                    <a:pt x="2789" y="8507"/>
                  </a:lnTo>
                  <a:lnTo>
                    <a:pt x="2772" y="8474"/>
                  </a:lnTo>
                  <a:lnTo>
                    <a:pt x="2756" y="8441"/>
                  </a:lnTo>
                  <a:lnTo>
                    <a:pt x="2740" y="8406"/>
                  </a:lnTo>
                  <a:lnTo>
                    <a:pt x="2726" y="8372"/>
                  </a:lnTo>
                  <a:lnTo>
                    <a:pt x="2711" y="8338"/>
                  </a:lnTo>
                  <a:lnTo>
                    <a:pt x="2699" y="8303"/>
                  </a:lnTo>
                  <a:lnTo>
                    <a:pt x="2687" y="8269"/>
                  </a:lnTo>
                  <a:lnTo>
                    <a:pt x="2676" y="8233"/>
                  </a:lnTo>
                  <a:lnTo>
                    <a:pt x="2665" y="8198"/>
                  </a:lnTo>
                  <a:lnTo>
                    <a:pt x="2655" y="8163"/>
                  </a:lnTo>
                  <a:lnTo>
                    <a:pt x="2647" y="8127"/>
                  </a:lnTo>
                  <a:lnTo>
                    <a:pt x="2640" y="8092"/>
                  </a:lnTo>
                  <a:lnTo>
                    <a:pt x="2633" y="8055"/>
                  </a:lnTo>
                  <a:lnTo>
                    <a:pt x="2627" y="8019"/>
                  </a:lnTo>
                  <a:lnTo>
                    <a:pt x="2623" y="7982"/>
                  </a:lnTo>
                  <a:lnTo>
                    <a:pt x="2620" y="7946"/>
                  </a:lnTo>
                  <a:lnTo>
                    <a:pt x="2617" y="7908"/>
                  </a:lnTo>
                  <a:lnTo>
                    <a:pt x="2616" y="7872"/>
                  </a:lnTo>
                  <a:lnTo>
                    <a:pt x="2616" y="7835"/>
                  </a:lnTo>
                  <a:lnTo>
                    <a:pt x="2617" y="7797"/>
                  </a:lnTo>
                  <a:lnTo>
                    <a:pt x="2620" y="7759"/>
                  </a:lnTo>
                  <a:lnTo>
                    <a:pt x="2623" y="7721"/>
                  </a:lnTo>
                  <a:lnTo>
                    <a:pt x="2628" y="7682"/>
                  </a:lnTo>
                  <a:lnTo>
                    <a:pt x="2635" y="7644"/>
                  </a:lnTo>
                  <a:lnTo>
                    <a:pt x="2629" y="7639"/>
                  </a:lnTo>
                  <a:lnTo>
                    <a:pt x="2625" y="7635"/>
                  </a:lnTo>
                  <a:lnTo>
                    <a:pt x="2620" y="7629"/>
                  </a:lnTo>
                  <a:lnTo>
                    <a:pt x="2615" y="7624"/>
                  </a:lnTo>
                  <a:lnTo>
                    <a:pt x="2611" y="7619"/>
                  </a:lnTo>
                  <a:lnTo>
                    <a:pt x="2606" y="7615"/>
                  </a:lnTo>
                  <a:lnTo>
                    <a:pt x="2602" y="7610"/>
                  </a:lnTo>
                  <a:lnTo>
                    <a:pt x="2597" y="7604"/>
                  </a:lnTo>
                  <a:lnTo>
                    <a:pt x="2506" y="7605"/>
                  </a:lnTo>
                  <a:lnTo>
                    <a:pt x="2415" y="7604"/>
                  </a:lnTo>
                  <a:lnTo>
                    <a:pt x="2325" y="7601"/>
                  </a:lnTo>
                  <a:lnTo>
                    <a:pt x="2235" y="7595"/>
                  </a:lnTo>
                  <a:lnTo>
                    <a:pt x="2144" y="7587"/>
                  </a:lnTo>
                  <a:lnTo>
                    <a:pt x="2055" y="7575"/>
                  </a:lnTo>
                  <a:lnTo>
                    <a:pt x="1966" y="7563"/>
                  </a:lnTo>
                  <a:lnTo>
                    <a:pt x="1878" y="7547"/>
                  </a:lnTo>
                  <a:lnTo>
                    <a:pt x="1791" y="7528"/>
                  </a:lnTo>
                  <a:lnTo>
                    <a:pt x="1704" y="7508"/>
                  </a:lnTo>
                  <a:lnTo>
                    <a:pt x="1618" y="7485"/>
                  </a:lnTo>
                  <a:lnTo>
                    <a:pt x="1533" y="7459"/>
                  </a:lnTo>
                  <a:lnTo>
                    <a:pt x="1450" y="7430"/>
                  </a:lnTo>
                  <a:lnTo>
                    <a:pt x="1368" y="7399"/>
                  </a:lnTo>
                  <a:lnTo>
                    <a:pt x="1287" y="7366"/>
                  </a:lnTo>
                  <a:lnTo>
                    <a:pt x="1207" y="7330"/>
                  </a:lnTo>
                  <a:lnTo>
                    <a:pt x="1128" y="7292"/>
                  </a:lnTo>
                  <a:lnTo>
                    <a:pt x="1052" y="7251"/>
                  </a:lnTo>
                  <a:lnTo>
                    <a:pt x="976" y="7208"/>
                  </a:lnTo>
                  <a:lnTo>
                    <a:pt x="903" y="7162"/>
                  </a:lnTo>
                  <a:lnTo>
                    <a:pt x="832" y="7113"/>
                  </a:lnTo>
                  <a:lnTo>
                    <a:pt x="762" y="7062"/>
                  </a:lnTo>
                  <a:lnTo>
                    <a:pt x="694" y="7008"/>
                  </a:lnTo>
                  <a:lnTo>
                    <a:pt x="629" y="6951"/>
                  </a:lnTo>
                  <a:lnTo>
                    <a:pt x="565" y="6892"/>
                  </a:lnTo>
                  <a:lnTo>
                    <a:pt x="505" y="6830"/>
                  </a:lnTo>
                  <a:lnTo>
                    <a:pt x="446" y="6766"/>
                  </a:lnTo>
                  <a:lnTo>
                    <a:pt x="390" y="6698"/>
                  </a:lnTo>
                  <a:lnTo>
                    <a:pt x="335" y="6629"/>
                  </a:lnTo>
                  <a:lnTo>
                    <a:pt x="284" y="6557"/>
                  </a:lnTo>
                  <a:lnTo>
                    <a:pt x="236" y="6482"/>
                  </a:lnTo>
                  <a:lnTo>
                    <a:pt x="190" y="6404"/>
                  </a:lnTo>
                  <a:lnTo>
                    <a:pt x="165" y="6352"/>
                  </a:lnTo>
                  <a:lnTo>
                    <a:pt x="142" y="6300"/>
                  </a:lnTo>
                  <a:lnTo>
                    <a:pt x="120" y="6247"/>
                  </a:lnTo>
                  <a:lnTo>
                    <a:pt x="100" y="6195"/>
                  </a:lnTo>
                  <a:lnTo>
                    <a:pt x="83" y="6144"/>
                  </a:lnTo>
                  <a:lnTo>
                    <a:pt x="67" y="6092"/>
                  </a:lnTo>
                  <a:lnTo>
                    <a:pt x="52" y="6040"/>
                  </a:lnTo>
                  <a:lnTo>
                    <a:pt x="39" y="5989"/>
                  </a:lnTo>
                  <a:lnTo>
                    <a:pt x="29" y="5937"/>
                  </a:lnTo>
                  <a:lnTo>
                    <a:pt x="19" y="5886"/>
                  </a:lnTo>
                  <a:lnTo>
                    <a:pt x="11" y="5834"/>
                  </a:lnTo>
                  <a:lnTo>
                    <a:pt x="6" y="5783"/>
                  </a:lnTo>
                  <a:lnTo>
                    <a:pt x="2" y="5732"/>
                  </a:lnTo>
                  <a:lnTo>
                    <a:pt x="0" y="5680"/>
                  </a:lnTo>
                  <a:lnTo>
                    <a:pt x="0" y="5629"/>
                  </a:lnTo>
                  <a:lnTo>
                    <a:pt x="1" y="5578"/>
                  </a:lnTo>
                  <a:lnTo>
                    <a:pt x="5" y="5527"/>
                  </a:lnTo>
                  <a:lnTo>
                    <a:pt x="10" y="5476"/>
                  </a:lnTo>
                  <a:lnTo>
                    <a:pt x="16" y="5425"/>
                  </a:lnTo>
                  <a:lnTo>
                    <a:pt x="26" y="5374"/>
                  </a:lnTo>
                  <a:lnTo>
                    <a:pt x="36" y="5323"/>
                  </a:lnTo>
                  <a:lnTo>
                    <a:pt x="48" y="5272"/>
                  </a:lnTo>
                  <a:lnTo>
                    <a:pt x="62" y="5221"/>
                  </a:lnTo>
                  <a:lnTo>
                    <a:pt x="78" y="5171"/>
                  </a:lnTo>
                  <a:lnTo>
                    <a:pt x="95" y="5120"/>
                  </a:lnTo>
                  <a:lnTo>
                    <a:pt x="115" y="5069"/>
                  </a:lnTo>
                  <a:lnTo>
                    <a:pt x="135" y="5018"/>
                  </a:lnTo>
                  <a:lnTo>
                    <a:pt x="158" y="4968"/>
                  </a:lnTo>
                  <a:lnTo>
                    <a:pt x="183" y="4917"/>
                  </a:lnTo>
                  <a:lnTo>
                    <a:pt x="209" y="4867"/>
                  </a:lnTo>
                  <a:lnTo>
                    <a:pt x="238" y="4815"/>
                  </a:lnTo>
                  <a:lnTo>
                    <a:pt x="268" y="4764"/>
                  </a:lnTo>
                  <a:lnTo>
                    <a:pt x="308" y="4708"/>
                  </a:lnTo>
                  <a:lnTo>
                    <a:pt x="349" y="4654"/>
                  </a:lnTo>
                  <a:lnTo>
                    <a:pt x="392" y="4601"/>
                  </a:lnTo>
                  <a:lnTo>
                    <a:pt x="436" y="4550"/>
                  </a:lnTo>
                  <a:lnTo>
                    <a:pt x="481" y="4500"/>
                  </a:lnTo>
                  <a:lnTo>
                    <a:pt x="527" y="4452"/>
                  </a:lnTo>
                  <a:lnTo>
                    <a:pt x="575" y="4406"/>
                  </a:lnTo>
                  <a:lnTo>
                    <a:pt x="625" y="4361"/>
                  </a:lnTo>
                  <a:lnTo>
                    <a:pt x="675" y="4318"/>
                  </a:lnTo>
                  <a:lnTo>
                    <a:pt x="726" y="4276"/>
                  </a:lnTo>
                  <a:lnTo>
                    <a:pt x="778" y="4236"/>
                  </a:lnTo>
                  <a:lnTo>
                    <a:pt x="832" y="4198"/>
                  </a:lnTo>
                  <a:lnTo>
                    <a:pt x="886" y="4161"/>
                  </a:lnTo>
                  <a:lnTo>
                    <a:pt x="941" y="4126"/>
                  </a:lnTo>
                  <a:lnTo>
                    <a:pt x="999" y="4092"/>
                  </a:lnTo>
                  <a:lnTo>
                    <a:pt x="1055" y="4060"/>
                  </a:lnTo>
                  <a:lnTo>
                    <a:pt x="1114" y="4029"/>
                  </a:lnTo>
                  <a:lnTo>
                    <a:pt x="1173" y="4000"/>
                  </a:lnTo>
                  <a:lnTo>
                    <a:pt x="1233" y="3973"/>
                  </a:lnTo>
                  <a:lnTo>
                    <a:pt x="1293" y="3947"/>
                  </a:lnTo>
                  <a:lnTo>
                    <a:pt x="1355" y="3922"/>
                  </a:lnTo>
                  <a:lnTo>
                    <a:pt x="1417" y="3899"/>
                  </a:lnTo>
                  <a:lnTo>
                    <a:pt x="1480" y="3877"/>
                  </a:lnTo>
                  <a:lnTo>
                    <a:pt x="1543" y="3857"/>
                  </a:lnTo>
                  <a:lnTo>
                    <a:pt x="1608" y="3839"/>
                  </a:lnTo>
                  <a:lnTo>
                    <a:pt x="1673" y="3822"/>
                  </a:lnTo>
                  <a:lnTo>
                    <a:pt x="1737" y="3806"/>
                  </a:lnTo>
                  <a:lnTo>
                    <a:pt x="1803" y="3792"/>
                  </a:lnTo>
                  <a:lnTo>
                    <a:pt x="1869" y="3779"/>
                  </a:lnTo>
                  <a:lnTo>
                    <a:pt x="1936" y="3768"/>
                  </a:lnTo>
                  <a:lnTo>
                    <a:pt x="2003" y="3758"/>
                  </a:lnTo>
                  <a:lnTo>
                    <a:pt x="2070" y="3750"/>
                  </a:lnTo>
                  <a:lnTo>
                    <a:pt x="2037" y="3718"/>
                  </a:lnTo>
                  <a:lnTo>
                    <a:pt x="2005" y="3685"/>
                  </a:lnTo>
                  <a:lnTo>
                    <a:pt x="1974" y="3651"/>
                  </a:lnTo>
                  <a:lnTo>
                    <a:pt x="1945" y="3618"/>
                  </a:lnTo>
                  <a:lnTo>
                    <a:pt x="1919" y="3583"/>
                  </a:lnTo>
                  <a:lnTo>
                    <a:pt x="1893" y="3549"/>
                  </a:lnTo>
                  <a:lnTo>
                    <a:pt x="1868" y="3514"/>
                  </a:lnTo>
                  <a:lnTo>
                    <a:pt x="1846" y="3478"/>
                  </a:lnTo>
                  <a:lnTo>
                    <a:pt x="1825" y="3442"/>
                  </a:lnTo>
                  <a:lnTo>
                    <a:pt x="1806" y="3405"/>
                  </a:lnTo>
                  <a:lnTo>
                    <a:pt x="1787" y="3368"/>
                  </a:lnTo>
                  <a:lnTo>
                    <a:pt x="1772" y="3330"/>
                  </a:lnTo>
                  <a:lnTo>
                    <a:pt x="1758" y="3293"/>
                  </a:lnTo>
                  <a:lnTo>
                    <a:pt x="1744" y="3254"/>
                  </a:lnTo>
                  <a:lnTo>
                    <a:pt x="1733" y="3216"/>
                  </a:lnTo>
                  <a:lnTo>
                    <a:pt x="1724" y="3176"/>
                  </a:lnTo>
                  <a:lnTo>
                    <a:pt x="1717" y="3137"/>
                  </a:lnTo>
                  <a:lnTo>
                    <a:pt x="1711" y="3097"/>
                  </a:lnTo>
                  <a:lnTo>
                    <a:pt x="1706" y="3058"/>
                  </a:lnTo>
                  <a:lnTo>
                    <a:pt x="1703" y="3017"/>
                  </a:lnTo>
                  <a:lnTo>
                    <a:pt x="1702" y="2975"/>
                  </a:lnTo>
                  <a:lnTo>
                    <a:pt x="1703" y="2935"/>
                  </a:lnTo>
                  <a:lnTo>
                    <a:pt x="1706" y="2893"/>
                  </a:lnTo>
                  <a:lnTo>
                    <a:pt x="1712" y="2851"/>
                  </a:lnTo>
                  <a:lnTo>
                    <a:pt x="1718" y="2809"/>
                  </a:lnTo>
                  <a:lnTo>
                    <a:pt x="1726" y="2767"/>
                  </a:lnTo>
                  <a:lnTo>
                    <a:pt x="1736" y="2724"/>
                  </a:lnTo>
                  <a:lnTo>
                    <a:pt x="1747" y="2681"/>
                  </a:lnTo>
                  <a:lnTo>
                    <a:pt x="1761" y="2638"/>
                  </a:lnTo>
                  <a:lnTo>
                    <a:pt x="1777" y="2594"/>
                  </a:lnTo>
                  <a:lnTo>
                    <a:pt x="1795" y="2550"/>
                  </a:lnTo>
                  <a:lnTo>
                    <a:pt x="1813" y="2507"/>
                  </a:lnTo>
                  <a:lnTo>
                    <a:pt x="1843" y="2454"/>
                  </a:lnTo>
                  <a:lnTo>
                    <a:pt x="1874" y="2404"/>
                  </a:lnTo>
                  <a:lnTo>
                    <a:pt x="1906" y="2354"/>
                  </a:lnTo>
                  <a:lnTo>
                    <a:pt x="1940" y="2306"/>
                  </a:lnTo>
                  <a:lnTo>
                    <a:pt x="1976" y="2260"/>
                  </a:lnTo>
                  <a:lnTo>
                    <a:pt x="2013" y="2215"/>
                  </a:lnTo>
                  <a:lnTo>
                    <a:pt x="2052" y="2171"/>
                  </a:lnTo>
                  <a:lnTo>
                    <a:pt x="2092" y="2129"/>
                  </a:lnTo>
                  <a:lnTo>
                    <a:pt x="2133" y="2088"/>
                  </a:lnTo>
                  <a:lnTo>
                    <a:pt x="2175" y="2048"/>
                  </a:lnTo>
                  <a:lnTo>
                    <a:pt x="2219" y="2011"/>
                  </a:lnTo>
                  <a:lnTo>
                    <a:pt x="2264" y="1973"/>
                  </a:lnTo>
                  <a:lnTo>
                    <a:pt x="2310" y="1938"/>
                  </a:lnTo>
                  <a:lnTo>
                    <a:pt x="2358" y="1904"/>
                  </a:lnTo>
                  <a:lnTo>
                    <a:pt x="2405" y="1871"/>
                  </a:lnTo>
                  <a:lnTo>
                    <a:pt x="2454" y="1839"/>
                  </a:lnTo>
                  <a:lnTo>
                    <a:pt x="2504" y="1809"/>
                  </a:lnTo>
                  <a:lnTo>
                    <a:pt x="2555" y="1780"/>
                  </a:lnTo>
                  <a:lnTo>
                    <a:pt x="2607" y="1752"/>
                  </a:lnTo>
                  <a:lnTo>
                    <a:pt x="2659" y="1725"/>
                  </a:lnTo>
                  <a:lnTo>
                    <a:pt x="2712" y="1699"/>
                  </a:lnTo>
                  <a:lnTo>
                    <a:pt x="2766" y="1675"/>
                  </a:lnTo>
                  <a:lnTo>
                    <a:pt x="2820" y="1651"/>
                  </a:lnTo>
                  <a:lnTo>
                    <a:pt x="2876" y="1629"/>
                  </a:lnTo>
                  <a:lnTo>
                    <a:pt x="2931" y="1607"/>
                  </a:lnTo>
                  <a:lnTo>
                    <a:pt x="2986" y="1587"/>
                  </a:lnTo>
                  <a:lnTo>
                    <a:pt x="3043" y="1568"/>
                  </a:lnTo>
                  <a:lnTo>
                    <a:pt x="3099" y="1550"/>
                  </a:lnTo>
                  <a:lnTo>
                    <a:pt x="3155" y="1533"/>
                  </a:lnTo>
                  <a:lnTo>
                    <a:pt x="3213" y="1516"/>
                  </a:lnTo>
                  <a:lnTo>
                    <a:pt x="3270" y="1502"/>
                  </a:lnTo>
                  <a:lnTo>
                    <a:pt x="3328" y="1487"/>
                  </a:lnTo>
                  <a:lnTo>
                    <a:pt x="3378" y="1477"/>
                  </a:lnTo>
                  <a:lnTo>
                    <a:pt x="3427" y="1467"/>
                  </a:lnTo>
                  <a:lnTo>
                    <a:pt x="3477" y="1458"/>
                  </a:lnTo>
                  <a:lnTo>
                    <a:pt x="3528" y="1451"/>
                  </a:lnTo>
                  <a:lnTo>
                    <a:pt x="3577" y="1442"/>
                  </a:lnTo>
                  <a:lnTo>
                    <a:pt x="3627" y="1436"/>
                  </a:lnTo>
                  <a:lnTo>
                    <a:pt x="3677" y="1430"/>
                  </a:lnTo>
                  <a:lnTo>
                    <a:pt x="3727" y="1425"/>
                  </a:lnTo>
                  <a:lnTo>
                    <a:pt x="3777" y="1420"/>
                  </a:lnTo>
                  <a:lnTo>
                    <a:pt x="3827" y="1416"/>
                  </a:lnTo>
                  <a:lnTo>
                    <a:pt x="3876" y="1413"/>
                  </a:lnTo>
                  <a:lnTo>
                    <a:pt x="3927" y="1411"/>
                  </a:lnTo>
                  <a:lnTo>
                    <a:pt x="3977" y="1410"/>
                  </a:lnTo>
                  <a:lnTo>
                    <a:pt x="4026" y="1409"/>
                  </a:lnTo>
                  <a:lnTo>
                    <a:pt x="4076" y="1409"/>
                  </a:lnTo>
                  <a:lnTo>
                    <a:pt x="4126" y="1410"/>
                  </a:lnTo>
                  <a:lnTo>
                    <a:pt x="4176" y="1412"/>
                  </a:lnTo>
                  <a:lnTo>
                    <a:pt x="4225" y="1414"/>
                  </a:lnTo>
                  <a:lnTo>
                    <a:pt x="4275" y="1417"/>
                  </a:lnTo>
                  <a:lnTo>
                    <a:pt x="4325" y="1422"/>
                  </a:lnTo>
                  <a:lnTo>
                    <a:pt x="4374" y="1427"/>
                  </a:lnTo>
                  <a:lnTo>
                    <a:pt x="4423" y="1433"/>
                  </a:lnTo>
                  <a:lnTo>
                    <a:pt x="4472" y="1439"/>
                  </a:lnTo>
                  <a:lnTo>
                    <a:pt x="4521" y="1447"/>
                  </a:lnTo>
                  <a:lnTo>
                    <a:pt x="4571" y="1455"/>
                  </a:lnTo>
                  <a:lnTo>
                    <a:pt x="4620" y="1464"/>
                  </a:lnTo>
                  <a:lnTo>
                    <a:pt x="4669" y="1475"/>
                  </a:lnTo>
                  <a:lnTo>
                    <a:pt x="4718" y="1485"/>
                  </a:lnTo>
                  <a:lnTo>
                    <a:pt x="4767" y="1498"/>
                  </a:lnTo>
                  <a:lnTo>
                    <a:pt x="4816" y="1510"/>
                  </a:lnTo>
                  <a:lnTo>
                    <a:pt x="4864" y="1524"/>
                  </a:lnTo>
                  <a:lnTo>
                    <a:pt x="4912" y="1537"/>
                  </a:lnTo>
                  <a:lnTo>
                    <a:pt x="4927" y="1532"/>
                  </a:lnTo>
                  <a:lnTo>
                    <a:pt x="4940" y="1526"/>
                  </a:lnTo>
                  <a:lnTo>
                    <a:pt x="4953" y="1519"/>
                  </a:lnTo>
                  <a:lnTo>
                    <a:pt x="4968" y="1513"/>
                  </a:lnTo>
                  <a:lnTo>
                    <a:pt x="4981" y="1508"/>
                  </a:lnTo>
                  <a:lnTo>
                    <a:pt x="4995" y="1502"/>
                  </a:lnTo>
                  <a:lnTo>
                    <a:pt x="5009" y="1495"/>
                  </a:lnTo>
                  <a:lnTo>
                    <a:pt x="5023" y="1490"/>
                  </a:lnTo>
                  <a:lnTo>
                    <a:pt x="5070" y="1401"/>
                  </a:lnTo>
                  <a:lnTo>
                    <a:pt x="5121" y="1315"/>
                  </a:lnTo>
                  <a:lnTo>
                    <a:pt x="5177" y="1232"/>
                  </a:lnTo>
                  <a:lnTo>
                    <a:pt x="5237" y="1153"/>
                  </a:lnTo>
                  <a:lnTo>
                    <a:pt x="5301" y="1077"/>
                  </a:lnTo>
                  <a:lnTo>
                    <a:pt x="5367" y="1003"/>
                  </a:lnTo>
                  <a:lnTo>
                    <a:pt x="5438" y="932"/>
                  </a:lnTo>
                  <a:lnTo>
                    <a:pt x="5513" y="865"/>
                  </a:lnTo>
                  <a:lnTo>
                    <a:pt x="5590" y="801"/>
                  </a:lnTo>
                  <a:lnTo>
                    <a:pt x="5670" y="738"/>
                  </a:lnTo>
                  <a:lnTo>
                    <a:pt x="5752" y="680"/>
                  </a:lnTo>
                  <a:lnTo>
                    <a:pt x="5838" y="624"/>
                  </a:lnTo>
                  <a:lnTo>
                    <a:pt x="5925" y="571"/>
                  </a:lnTo>
                  <a:lnTo>
                    <a:pt x="6015" y="520"/>
                  </a:lnTo>
                  <a:lnTo>
                    <a:pt x="6107" y="472"/>
                  </a:lnTo>
                  <a:lnTo>
                    <a:pt x="6200" y="426"/>
                  </a:lnTo>
                  <a:lnTo>
                    <a:pt x="6295" y="383"/>
                  </a:lnTo>
                  <a:lnTo>
                    <a:pt x="6391" y="343"/>
                  </a:lnTo>
                  <a:lnTo>
                    <a:pt x="6488" y="305"/>
                  </a:lnTo>
                  <a:lnTo>
                    <a:pt x="6587" y="269"/>
                  </a:lnTo>
                  <a:lnTo>
                    <a:pt x="6686" y="235"/>
                  </a:lnTo>
                  <a:lnTo>
                    <a:pt x="6787" y="205"/>
                  </a:lnTo>
                  <a:lnTo>
                    <a:pt x="6886" y="176"/>
                  </a:lnTo>
                  <a:lnTo>
                    <a:pt x="6988" y="150"/>
                  </a:lnTo>
                  <a:lnTo>
                    <a:pt x="7088" y="126"/>
                  </a:lnTo>
                  <a:lnTo>
                    <a:pt x="7189" y="103"/>
                  </a:lnTo>
                  <a:lnTo>
                    <a:pt x="7289" y="83"/>
                  </a:lnTo>
                  <a:lnTo>
                    <a:pt x="7389" y="66"/>
                  </a:lnTo>
                  <a:lnTo>
                    <a:pt x="7488" y="50"/>
                  </a:lnTo>
                  <a:lnTo>
                    <a:pt x="7587" y="36"/>
                  </a:lnTo>
                  <a:lnTo>
                    <a:pt x="7683" y="24"/>
                  </a:lnTo>
                  <a:lnTo>
                    <a:pt x="7779" y="14"/>
                  </a:lnTo>
                  <a:lnTo>
                    <a:pt x="7866" y="8"/>
                  </a:lnTo>
                  <a:lnTo>
                    <a:pt x="7952" y="4"/>
                  </a:lnTo>
                  <a:lnTo>
                    <a:pt x="8038" y="2"/>
                  </a:lnTo>
                  <a:lnTo>
                    <a:pt x="8125" y="0"/>
                  </a:lnTo>
                  <a:lnTo>
                    <a:pt x="8212" y="0"/>
                  </a:lnTo>
                  <a:lnTo>
                    <a:pt x="8299" y="1"/>
                  </a:lnTo>
                  <a:lnTo>
                    <a:pt x="8387" y="4"/>
                  </a:lnTo>
                  <a:lnTo>
                    <a:pt x="8475" y="8"/>
                  </a:lnTo>
                  <a:lnTo>
                    <a:pt x="8562" y="15"/>
                  </a:lnTo>
                  <a:lnTo>
                    <a:pt x="8650" y="22"/>
                  </a:lnTo>
                  <a:lnTo>
                    <a:pt x="8737" y="31"/>
                  </a:lnTo>
                  <a:lnTo>
                    <a:pt x="8824" y="42"/>
                  </a:lnTo>
                  <a:lnTo>
                    <a:pt x="8912" y="55"/>
                  </a:lnTo>
                  <a:lnTo>
                    <a:pt x="8998" y="69"/>
                  </a:lnTo>
                  <a:lnTo>
                    <a:pt x="9084" y="85"/>
                  </a:lnTo>
                  <a:lnTo>
                    <a:pt x="9170" y="104"/>
                  </a:lnTo>
                  <a:lnTo>
                    <a:pt x="9255" y="124"/>
                  </a:lnTo>
                  <a:lnTo>
                    <a:pt x="9339" y="146"/>
                  </a:lnTo>
                  <a:lnTo>
                    <a:pt x="9422" y="171"/>
                  </a:lnTo>
                  <a:lnTo>
                    <a:pt x="9505" y="197"/>
                  </a:lnTo>
                  <a:lnTo>
                    <a:pt x="9587" y="225"/>
                  </a:lnTo>
                  <a:lnTo>
                    <a:pt x="9668" y="256"/>
                  </a:lnTo>
                  <a:lnTo>
                    <a:pt x="9748" y="290"/>
                  </a:lnTo>
                  <a:lnTo>
                    <a:pt x="9827" y="324"/>
                  </a:lnTo>
                  <a:lnTo>
                    <a:pt x="9904" y="361"/>
                  </a:lnTo>
                  <a:lnTo>
                    <a:pt x="9981" y="402"/>
                  </a:lnTo>
                  <a:lnTo>
                    <a:pt x="10056" y="445"/>
                  </a:lnTo>
                  <a:lnTo>
                    <a:pt x="10130" y="489"/>
                  </a:lnTo>
                  <a:lnTo>
                    <a:pt x="10202" y="536"/>
                  </a:lnTo>
                  <a:lnTo>
                    <a:pt x="10272" y="586"/>
                  </a:lnTo>
                  <a:lnTo>
                    <a:pt x="10341" y="639"/>
                  </a:lnTo>
                  <a:lnTo>
                    <a:pt x="10409" y="695"/>
                  </a:lnTo>
                  <a:lnTo>
                    <a:pt x="10490" y="661"/>
                  </a:lnTo>
                  <a:lnTo>
                    <a:pt x="10572" y="633"/>
                  </a:lnTo>
                  <a:lnTo>
                    <a:pt x="10655" y="609"/>
                  </a:lnTo>
                  <a:lnTo>
                    <a:pt x="10739" y="589"/>
                  </a:lnTo>
                  <a:lnTo>
                    <a:pt x="10824" y="575"/>
                  </a:lnTo>
                  <a:lnTo>
                    <a:pt x="10910" y="563"/>
                  </a:lnTo>
                  <a:lnTo>
                    <a:pt x="10996" y="557"/>
                  </a:lnTo>
                  <a:lnTo>
                    <a:pt x="11083" y="554"/>
                  </a:lnTo>
                  <a:lnTo>
                    <a:pt x="11170" y="555"/>
                  </a:lnTo>
                  <a:lnTo>
                    <a:pt x="11256" y="559"/>
                  </a:lnTo>
                  <a:lnTo>
                    <a:pt x="11343" y="569"/>
                  </a:lnTo>
                  <a:lnTo>
                    <a:pt x="11429" y="581"/>
                  </a:lnTo>
                  <a:lnTo>
                    <a:pt x="11515" y="597"/>
                  </a:lnTo>
                  <a:lnTo>
                    <a:pt x="11600" y="615"/>
                  </a:lnTo>
                  <a:lnTo>
                    <a:pt x="11686" y="638"/>
                  </a:lnTo>
                  <a:lnTo>
                    <a:pt x="11770" y="664"/>
                  </a:lnTo>
                  <a:lnTo>
                    <a:pt x="11853" y="694"/>
                  </a:lnTo>
                  <a:lnTo>
                    <a:pt x="11936" y="726"/>
                  </a:lnTo>
                  <a:lnTo>
                    <a:pt x="12016" y="761"/>
                  </a:lnTo>
                  <a:lnTo>
                    <a:pt x="12096" y="800"/>
                  </a:lnTo>
                  <a:lnTo>
                    <a:pt x="12174" y="840"/>
                  </a:lnTo>
                  <a:lnTo>
                    <a:pt x="12251" y="884"/>
                  </a:lnTo>
                  <a:lnTo>
                    <a:pt x="12325" y="931"/>
                  </a:lnTo>
                  <a:lnTo>
                    <a:pt x="12398" y="980"/>
                  </a:lnTo>
                  <a:lnTo>
                    <a:pt x="12469" y="1031"/>
                  </a:lnTo>
                  <a:lnTo>
                    <a:pt x="12537" y="1085"/>
                  </a:lnTo>
                  <a:lnTo>
                    <a:pt x="12603" y="1141"/>
                  </a:lnTo>
                  <a:lnTo>
                    <a:pt x="12667" y="1200"/>
                  </a:lnTo>
                  <a:lnTo>
                    <a:pt x="12727" y="1261"/>
                  </a:lnTo>
                  <a:lnTo>
                    <a:pt x="12786" y="1324"/>
                  </a:lnTo>
                  <a:lnTo>
                    <a:pt x="12841" y="1388"/>
                  </a:lnTo>
                  <a:lnTo>
                    <a:pt x="12894" y="145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6400800" y="5638680"/>
            <a:ext cx="838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8305920" y="472428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8153280" y="5410080"/>
            <a:ext cx="1309680" cy="517320"/>
            <a:chOff x="8153280" y="5410080"/>
            <a:chExt cx="1309680" cy="517320"/>
          </a:xfrm>
        </p:grpSpPr>
        <p:sp>
          <p:nvSpPr>
            <p:cNvPr id="1670" name=""/>
            <p:cNvSpPr/>
            <p:nvPr/>
          </p:nvSpPr>
          <p:spPr>
            <a:xfrm>
              <a:off x="8153280" y="5490720"/>
              <a:ext cx="1309680" cy="43668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9181080" y="5525280"/>
              <a:ext cx="18000" cy="30240"/>
            </a:xfrm>
            <a:custGeom>
              <a:avLst/>
              <a:gdLst/>
              <a:ahLst/>
              <a:rect l="l" t="t" r="r" b="b"/>
              <a:pathLst>
                <a:path w="284" h="969">
                  <a:moveTo>
                    <a:pt x="284" y="0"/>
                  </a:moveTo>
                  <a:lnTo>
                    <a:pt x="70" y="780"/>
                  </a:lnTo>
                  <a:lnTo>
                    <a:pt x="55" y="828"/>
                  </a:lnTo>
                  <a:lnTo>
                    <a:pt x="39" y="875"/>
                  </a:lnTo>
                  <a:lnTo>
                    <a:pt x="21" y="922"/>
                  </a:lnTo>
                  <a:lnTo>
                    <a:pt x="0" y="969"/>
                  </a:lnTo>
                  <a:lnTo>
                    <a:pt x="212" y="194"/>
                  </a:lnTo>
                  <a:lnTo>
                    <a:pt x="234" y="147"/>
                  </a:lnTo>
                  <a:lnTo>
                    <a:pt x="252" y="99"/>
                  </a:lnTo>
                  <a:lnTo>
                    <a:pt x="270" y="5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9174600" y="5531040"/>
              <a:ext cx="19800" cy="30240"/>
            </a:xfrm>
            <a:custGeom>
              <a:avLst/>
              <a:gdLst/>
              <a:ahLst/>
              <a:rect l="l" t="t" r="r" b="b"/>
              <a:pathLst>
                <a:path w="311" h="952">
                  <a:moveTo>
                    <a:pt x="311" y="0"/>
                  </a:moveTo>
                  <a:lnTo>
                    <a:pt x="99" y="775"/>
                  </a:lnTo>
                  <a:lnTo>
                    <a:pt x="78" y="819"/>
                  </a:lnTo>
                  <a:lnTo>
                    <a:pt x="53" y="864"/>
                  </a:lnTo>
                  <a:lnTo>
                    <a:pt x="27" y="908"/>
                  </a:lnTo>
                  <a:lnTo>
                    <a:pt x="0" y="952"/>
                  </a:lnTo>
                  <a:lnTo>
                    <a:pt x="210" y="181"/>
                  </a:lnTo>
                  <a:lnTo>
                    <a:pt x="238" y="137"/>
                  </a:lnTo>
                  <a:lnTo>
                    <a:pt x="264" y="92"/>
                  </a:lnTo>
                  <a:lnTo>
                    <a:pt x="289" y="47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9166320" y="5537160"/>
              <a:ext cx="21600" cy="28800"/>
            </a:xfrm>
            <a:custGeom>
              <a:avLst/>
              <a:gdLst/>
              <a:ahLst/>
              <a:rect l="l" t="t" r="r" b="b"/>
              <a:pathLst>
                <a:path w="338" h="935">
                  <a:moveTo>
                    <a:pt x="338" y="0"/>
                  </a:moveTo>
                  <a:lnTo>
                    <a:pt x="128" y="771"/>
                  </a:lnTo>
                  <a:lnTo>
                    <a:pt x="99" y="813"/>
                  </a:lnTo>
                  <a:lnTo>
                    <a:pt x="68" y="855"/>
                  </a:lnTo>
                  <a:lnTo>
                    <a:pt x="35" y="896"/>
                  </a:lnTo>
                  <a:lnTo>
                    <a:pt x="0" y="935"/>
                  </a:lnTo>
                  <a:lnTo>
                    <a:pt x="207" y="170"/>
                  </a:lnTo>
                  <a:lnTo>
                    <a:pt x="242" y="128"/>
                  </a:lnTo>
                  <a:lnTo>
                    <a:pt x="275" y="86"/>
                  </a:lnTo>
                  <a:lnTo>
                    <a:pt x="307" y="44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cbe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9159120" y="5542200"/>
              <a:ext cx="19800" cy="27720"/>
            </a:xfrm>
            <a:custGeom>
              <a:avLst/>
              <a:gdLst/>
              <a:ahLst/>
              <a:rect l="l" t="t" r="r" b="b"/>
              <a:pathLst>
                <a:path w="318" h="881">
                  <a:moveTo>
                    <a:pt x="318" y="0"/>
                  </a:moveTo>
                  <a:lnTo>
                    <a:pt x="111" y="765"/>
                  </a:lnTo>
                  <a:lnTo>
                    <a:pt x="76" y="805"/>
                  </a:lnTo>
                  <a:lnTo>
                    <a:pt x="39" y="843"/>
                  </a:lnTo>
                  <a:lnTo>
                    <a:pt x="0" y="881"/>
                  </a:lnTo>
                  <a:lnTo>
                    <a:pt x="202" y="117"/>
                  </a:lnTo>
                  <a:lnTo>
                    <a:pt x="243" y="79"/>
                  </a:lnTo>
                  <a:lnTo>
                    <a:pt x="281" y="39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9150840" y="5545440"/>
              <a:ext cx="20880" cy="27720"/>
            </a:xfrm>
            <a:custGeom>
              <a:avLst/>
              <a:gdLst/>
              <a:ahLst/>
              <a:rect l="l" t="t" r="r" b="b"/>
              <a:pathLst>
                <a:path w="330" h="871">
                  <a:moveTo>
                    <a:pt x="330" y="0"/>
                  </a:moveTo>
                  <a:lnTo>
                    <a:pt x="128" y="764"/>
                  </a:lnTo>
                  <a:lnTo>
                    <a:pt x="87" y="800"/>
                  </a:lnTo>
                  <a:lnTo>
                    <a:pt x="45" y="836"/>
                  </a:lnTo>
                  <a:lnTo>
                    <a:pt x="0" y="871"/>
                  </a:lnTo>
                  <a:lnTo>
                    <a:pt x="200" y="111"/>
                  </a:lnTo>
                  <a:lnTo>
                    <a:pt x="245" y="74"/>
                  </a:lnTo>
                  <a:lnTo>
                    <a:pt x="289" y="38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228240" y="5619960"/>
              <a:ext cx="20520" cy="27360"/>
            </a:xfrm>
            <a:custGeom>
              <a:avLst/>
              <a:gdLst/>
              <a:ahLst/>
              <a:rect l="l" t="t" r="r" b="b"/>
              <a:pathLst>
                <a:path w="317" h="895">
                  <a:moveTo>
                    <a:pt x="317" y="0"/>
                  </a:moveTo>
                  <a:lnTo>
                    <a:pt x="79" y="703"/>
                  </a:lnTo>
                  <a:lnTo>
                    <a:pt x="42" y="800"/>
                  </a:lnTo>
                  <a:lnTo>
                    <a:pt x="0" y="895"/>
                  </a:lnTo>
                  <a:lnTo>
                    <a:pt x="236" y="197"/>
                  </a:lnTo>
                  <a:lnTo>
                    <a:pt x="279" y="10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9221760" y="5626080"/>
              <a:ext cx="21600" cy="27720"/>
            </a:xfrm>
            <a:custGeom>
              <a:avLst/>
              <a:gdLst/>
              <a:ahLst/>
              <a:rect l="l" t="t" r="r" b="b"/>
              <a:pathLst>
                <a:path w="334" h="882">
                  <a:moveTo>
                    <a:pt x="334" y="0"/>
                  </a:moveTo>
                  <a:lnTo>
                    <a:pt x="98" y="698"/>
                  </a:lnTo>
                  <a:lnTo>
                    <a:pt x="51" y="791"/>
                  </a:lnTo>
                  <a:lnTo>
                    <a:pt x="0" y="882"/>
                  </a:lnTo>
                  <a:lnTo>
                    <a:pt x="234" y="188"/>
                  </a:lnTo>
                  <a:lnTo>
                    <a:pt x="286" y="96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9214560" y="5631840"/>
              <a:ext cx="22680" cy="27000"/>
            </a:xfrm>
            <a:custGeom>
              <a:avLst/>
              <a:gdLst/>
              <a:ahLst/>
              <a:rect l="l" t="t" r="r" b="b"/>
              <a:pathLst>
                <a:path w="348" h="869">
                  <a:moveTo>
                    <a:pt x="348" y="0"/>
                  </a:moveTo>
                  <a:lnTo>
                    <a:pt x="114" y="694"/>
                  </a:lnTo>
                  <a:lnTo>
                    <a:pt x="60" y="783"/>
                  </a:lnTo>
                  <a:lnTo>
                    <a:pt x="0" y="869"/>
                  </a:lnTo>
                  <a:lnTo>
                    <a:pt x="230" y="181"/>
                  </a:lnTo>
                  <a:lnTo>
                    <a:pt x="291" y="92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9206280" y="5637960"/>
              <a:ext cx="23400" cy="26280"/>
            </a:xfrm>
            <a:custGeom>
              <a:avLst/>
              <a:gdLst/>
              <a:ahLst/>
              <a:rect l="l" t="t" r="r" b="b"/>
              <a:pathLst>
                <a:path w="361" h="854">
                  <a:moveTo>
                    <a:pt x="361" y="0"/>
                  </a:moveTo>
                  <a:lnTo>
                    <a:pt x="131" y="688"/>
                  </a:lnTo>
                  <a:lnTo>
                    <a:pt x="67" y="771"/>
                  </a:lnTo>
                  <a:lnTo>
                    <a:pt x="0" y="854"/>
                  </a:lnTo>
                  <a:lnTo>
                    <a:pt x="226" y="169"/>
                  </a:lnTo>
                  <a:lnTo>
                    <a:pt x="296" y="85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9197280" y="5643000"/>
              <a:ext cx="23400" cy="26280"/>
            </a:xfrm>
            <a:custGeom>
              <a:avLst/>
              <a:gdLst/>
              <a:ahLst/>
              <a:rect l="l" t="t" r="r" b="b"/>
              <a:pathLst>
                <a:path w="371" h="841">
                  <a:moveTo>
                    <a:pt x="371" y="0"/>
                  </a:moveTo>
                  <a:lnTo>
                    <a:pt x="145" y="685"/>
                  </a:lnTo>
                  <a:lnTo>
                    <a:pt x="75" y="764"/>
                  </a:lnTo>
                  <a:lnTo>
                    <a:pt x="0" y="841"/>
                  </a:lnTo>
                  <a:lnTo>
                    <a:pt x="224" y="161"/>
                  </a:lnTo>
                  <a:lnTo>
                    <a:pt x="300" y="82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9186480" y="5647680"/>
              <a:ext cx="24480" cy="26280"/>
            </a:xfrm>
            <a:custGeom>
              <a:avLst/>
              <a:gdLst/>
              <a:ahLst/>
              <a:rect l="l" t="t" r="r" b="b"/>
              <a:pathLst>
                <a:path w="381" h="826">
                  <a:moveTo>
                    <a:pt x="381" y="0"/>
                  </a:moveTo>
                  <a:lnTo>
                    <a:pt x="157" y="680"/>
                  </a:lnTo>
                  <a:lnTo>
                    <a:pt x="80" y="754"/>
                  </a:lnTo>
                  <a:lnTo>
                    <a:pt x="0" y="826"/>
                  </a:lnTo>
                  <a:lnTo>
                    <a:pt x="219" y="150"/>
                  </a:lnTo>
                  <a:lnTo>
                    <a:pt x="301" y="76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9181080" y="5652360"/>
              <a:ext cx="19800" cy="23400"/>
            </a:xfrm>
            <a:custGeom>
              <a:avLst/>
              <a:gdLst/>
              <a:ahLst/>
              <a:rect l="l" t="t" r="r" b="b"/>
              <a:pathLst>
                <a:path w="301" h="744">
                  <a:moveTo>
                    <a:pt x="301" y="0"/>
                  </a:moveTo>
                  <a:lnTo>
                    <a:pt x="82" y="676"/>
                  </a:lnTo>
                  <a:lnTo>
                    <a:pt x="0" y="744"/>
                  </a:lnTo>
                  <a:lnTo>
                    <a:pt x="216" y="7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9175320" y="5654880"/>
              <a:ext cx="19800" cy="23040"/>
            </a:xfrm>
            <a:custGeom>
              <a:avLst/>
              <a:gdLst/>
              <a:ahLst/>
              <a:rect l="l" t="t" r="r" b="b"/>
              <a:pathLst>
                <a:path w="301" h="740">
                  <a:moveTo>
                    <a:pt x="301" y="0"/>
                  </a:moveTo>
                  <a:lnTo>
                    <a:pt x="85" y="673"/>
                  </a:lnTo>
                  <a:lnTo>
                    <a:pt x="0" y="740"/>
                  </a:lnTo>
                  <a:lnTo>
                    <a:pt x="213" y="68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9169920" y="5657040"/>
              <a:ext cx="19800" cy="22680"/>
            </a:xfrm>
            <a:custGeom>
              <a:avLst/>
              <a:gdLst/>
              <a:ahLst/>
              <a:rect l="l" t="t" r="r" b="b"/>
              <a:pathLst>
                <a:path w="301" h="737">
                  <a:moveTo>
                    <a:pt x="301" y="0"/>
                  </a:moveTo>
                  <a:lnTo>
                    <a:pt x="88" y="672"/>
                  </a:lnTo>
                  <a:lnTo>
                    <a:pt x="0" y="737"/>
                  </a:lnTo>
                  <a:lnTo>
                    <a:pt x="211" y="66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9164520" y="5658840"/>
              <a:ext cx="19080" cy="22680"/>
            </a:xfrm>
            <a:custGeom>
              <a:avLst/>
              <a:gdLst/>
              <a:ahLst/>
              <a:rect l="l" t="t" r="r" b="b"/>
              <a:pathLst>
                <a:path w="300" h="731">
                  <a:moveTo>
                    <a:pt x="300" y="0"/>
                  </a:moveTo>
                  <a:lnTo>
                    <a:pt x="89" y="671"/>
                  </a:lnTo>
                  <a:lnTo>
                    <a:pt x="0" y="731"/>
                  </a:lnTo>
                  <a:lnTo>
                    <a:pt x="208" y="62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f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9158040" y="5661000"/>
              <a:ext cx="19800" cy="22680"/>
            </a:xfrm>
            <a:custGeom>
              <a:avLst/>
              <a:gdLst/>
              <a:ahLst/>
              <a:rect l="l" t="t" r="r" b="b"/>
              <a:pathLst>
                <a:path w="300" h="728">
                  <a:moveTo>
                    <a:pt x="300" y="0"/>
                  </a:moveTo>
                  <a:lnTo>
                    <a:pt x="92" y="669"/>
                  </a:lnTo>
                  <a:lnTo>
                    <a:pt x="0" y="728"/>
                  </a:lnTo>
                  <a:lnTo>
                    <a:pt x="206" y="6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9152640" y="5662800"/>
              <a:ext cx="19080" cy="22320"/>
            </a:xfrm>
            <a:custGeom>
              <a:avLst/>
              <a:gdLst/>
              <a:ahLst/>
              <a:rect l="l" t="t" r="r" b="b"/>
              <a:pathLst>
                <a:path w="299" h="723">
                  <a:moveTo>
                    <a:pt x="299" y="0"/>
                  </a:moveTo>
                  <a:lnTo>
                    <a:pt x="93" y="668"/>
                  </a:lnTo>
                  <a:lnTo>
                    <a:pt x="0" y="723"/>
                  </a:lnTo>
                  <a:lnTo>
                    <a:pt x="203" y="57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9146160" y="5664960"/>
              <a:ext cx="19080" cy="21960"/>
            </a:xfrm>
            <a:custGeom>
              <a:avLst/>
              <a:gdLst/>
              <a:ahLst/>
              <a:rect l="l" t="t" r="r" b="b"/>
              <a:pathLst>
                <a:path w="298" h="720">
                  <a:moveTo>
                    <a:pt x="298" y="0"/>
                  </a:moveTo>
                  <a:lnTo>
                    <a:pt x="95" y="666"/>
                  </a:lnTo>
                  <a:lnTo>
                    <a:pt x="0" y="720"/>
                  </a:lnTo>
                  <a:lnTo>
                    <a:pt x="200" y="54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9140040" y="5666040"/>
              <a:ext cx="19080" cy="22320"/>
            </a:xfrm>
            <a:custGeom>
              <a:avLst/>
              <a:gdLst/>
              <a:ahLst/>
              <a:rect l="l" t="t" r="r" b="b"/>
              <a:pathLst>
                <a:path w="297" h="715">
                  <a:moveTo>
                    <a:pt x="297" y="0"/>
                  </a:moveTo>
                  <a:lnTo>
                    <a:pt x="97" y="666"/>
                  </a:lnTo>
                  <a:lnTo>
                    <a:pt x="0" y="715"/>
                  </a:lnTo>
                  <a:lnTo>
                    <a:pt x="198" y="51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9133560" y="5668200"/>
              <a:ext cx="19080" cy="22320"/>
            </a:xfrm>
            <a:custGeom>
              <a:avLst/>
              <a:gdLst/>
              <a:ahLst/>
              <a:rect l="l" t="t" r="r" b="b"/>
              <a:pathLst>
                <a:path w="295" h="711">
                  <a:moveTo>
                    <a:pt x="295" y="0"/>
                  </a:moveTo>
                  <a:lnTo>
                    <a:pt x="97" y="664"/>
                  </a:lnTo>
                  <a:lnTo>
                    <a:pt x="0" y="711"/>
                  </a:lnTo>
                  <a:lnTo>
                    <a:pt x="195" y="4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9127080" y="5669280"/>
              <a:ext cx="19080" cy="22320"/>
            </a:xfrm>
            <a:custGeom>
              <a:avLst/>
              <a:gdLst/>
              <a:ahLst/>
              <a:rect l="l" t="t" r="r" b="b"/>
              <a:pathLst>
                <a:path w="292" h="706">
                  <a:moveTo>
                    <a:pt x="292" y="0"/>
                  </a:moveTo>
                  <a:lnTo>
                    <a:pt x="97" y="662"/>
                  </a:lnTo>
                  <a:lnTo>
                    <a:pt x="0" y="706"/>
                  </a:lnTo>
                  <a:lnTo>
                    <a:pt x="191" y="45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9120960" y="5670720"/>
              <a:ext cx="18720" cy="22320"/>
            </a:xfrm>
            <a:custGeom>
              <a:avLst/>
              <a:gdLst/>
              <a:ahLst/>
              <a:rect l="l" t="t" r="r" b="b"/>
              <a:pathLst>
                <a:path w="291" h="702">
                  <a:moveTo>
                    <a:pt x="291" y="0"/>
                  </a:moveTo>
                  <a:lnTo>
                    <a:pt x="100" y="661"/>
                  </a:lnTo>
                  <a:lnTo>
                    <a:pt x="0" y="702"/>
                  </a:lnTo>
                  <a:lnTo>
                    <a:pt x="189" y="4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9a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9108000" y="5672160"/>
              <a:ext cx="24480" cy="22680"/>
            </a:xfrm>
            <a:custGeom>
              <a:avLst/>
              <a:gdLst/>
              <a:ahLst/>
              <a:rect l="l" t="t" r="r" b="b"/>
              <a:pathLst>
                <a:path w="388" h="732">
                  <a:moveTo>
                    <a:pt x="388" y="0"/>
                  </a:moveTo>
                  <a:lnTo>
                    <a:pt x="199" y="660"/>
                  </a:lnTo>
                  <a:lnTo>
                    <a:pt x="100" y="697"/>
                  </a:lnTo>
                  <a:lnTo>
                    <a:pt x="0" y="732"/>
                  </a:lnTo>
                  <a:lnTo>
                    <a:pt x="183" y="73"/>
                  </a:lnTo>
                  <a:lnTo>
                    <a:pt x="286" y="38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8e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9094680" y="5674680"/>
              <a:ext cx="25200" cy="22320"/>
            </a:xfrm>
            <a:custGeom>
              <a:avLst/>
              <a:gdLst/>
              <a:ahLst/>
              <a:rect l="l" t="t" r="r" b="b"/>
              <a:pathLst>
                <a:path w="385" h="716">
                  <a:moveTo>
                    <a:pt x="385" y="0"/>
                  </a:moveTo>
                  <a:lnTo>
                    <a:pt x="202" y="659"/>
                  </a:lnTo>
                  <a:lnTo>
                    <a:pt x="168" y="669"/>
                  </a:lnTo>
                  <a:lnTo>
                    <a:pt x="134" y="679"/>
                  </a:lnTo>
                  <a:lnTo>
                    <a:pt x="102" y="689"/>
                  </a:lnTo>
                  <a:lnTo>
                    <a:pt x="68" y="698"/>
                  </a:lnTo>
                  <a:lnTo>
                    <a:pt x="34" y="708"/>
                  </a:lnTo>
                  <a:lnTo>
                    <a:pt x="0" y="716"/>
                  </a:lnTo>
                  <a:lnTo>
                    <a:pt x="177" y="60"/>
                  </a:lnTo>
                  <a:lnTo>
                    <a:pt x="212" y="50"/>
                  </a:lnTo>
                  <a:lnTo>
                    <a:pt x="247" y="41"/>
                  </a:lnTo>
                  <a:lnTo>
                    <a:pt x="281" y="32"/>
                  </a:lnTo>
                  <a:lnTo>
                    <a:pt x="316" y="21"/>
                  </a:lnTo>
                  <a:lnTo>
                    <a:pt x="351" y="12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9081720" y="5676840"/>
              <a:ext cx="24480" cy="21600"/>
            </a:xfrm>
            <a:custGeom>
              <a:avLst/>
              <a:gdLst/>
              <a:ahLst/>
              <a:rect l="l" t="t" r="r" b="b"/>
              <a:pathLst>
                <a:path w="379" h="702">
                  <a:moveTo>
                    <a:pt x="379" y="0"/>
                  </a:moveTo>
                  <a:lnTo>
                    <a:pt x="202" y="656"/>
                  </a:lnTo>
                  <a:lnTo>
                    <a:pt x="169" y="664"/>
                  </a:lnTo>
                  <a:lnTo>
                    <a:pt x="135" y="673"/>
                  </a:lnTo>
                  <a:lnTo>
                    <a:pt x="102" y="680"/>
                  </a:lnTo>
                  <a:lnTo>
                    <a:pt x="68" y="688"/>
                  </a:lnTo>
                  <a:lnTo>
                    <a:pt x="34" y="694"/>
                  </a:lnTo>
                  <a:lnTo>
                    <a:pt x="0" y="702"/>
                  </a:lnTo>
                  <a:lnTo>
                    <a:pt x="172" y="46"/>
                  </a:lnTo>
                  <a:lnTo>
                    <a:pt x="207" y="39"/>
                  </a:lnTo>
                  <a:lnTo>
                    <a:pt x="241" y="32"/>
                  </a:lnTo>
                  <a:lnTo>
                    <a:pt x="276" y="24"/>
                  </a:lnTo>
                  <a:lnTo>
                    <a:pt x="311" y="17"/>
                  </a:lnTo>
                  <a:lnTo>
                    <a:pt x="346" y="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7f9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9068040" y="5678280"/>
              <a:ext cx="24480" cy="21600"/>
            </a:xfrm>
            <a:custGeom>
              <a:avLst/>
              <a:gdLst/>
              <a:ahLst/>
              <a:rect l="l" t="t" r="r" b="b"/>
              <a:pathLst>
                <a:path w="375" h="689">
                  <a:moveTo>
                    <a:pt x="375" y="0"/>
                  </a:moveTo>
                  <a:lnTo>
                    <a:pt x="203" y="656"/>
                  </a:lnTo>
                  <a:lnTo>
                    <a:pt x="169" y="662"/>
                  </a:lnTo>
                  <a:lnTo>
                    <a:pt x="135" y="668"/>
                  </a:lnTo>
                  <a:lnTo>
                    <a:pt x="102" y="673"/>
                  </a:lnTo>
                  <a:lnTo>
                    <a:pt x="68" y="680"/>
                  </a:lnTo>
                  <a:lnTo>
                    <a:pt x="34" y="685"/>
                  </a:lnTo>
                  <a:lnTo>
                    <a:pt x="0" y="689"/>
                  </a:lnTo>
                  <a:lnTo>
                    <a:pt x="165" y="34"/>
                  </a:lnTo>
                  <a:lnTo>
                    <a:pt x="200" y="30"/>
                  </a:lnTo>
                  <a:lnTo>
                    <a:pt x="236" y="25"/>
                  </a:lnTo>
                  <a:lnTo>
                    <a:pt x="271" y="18"/>
                  </a:lnTo>
                  <a:lnTo>
                    <a:pt x="306" y="13"/>
                  </a:lnTo>
                  <a:lnTo>
                    <a:pt x="340" y="7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778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9054360" y="5678640"/>
              <a:ext cx="24480" cy="21600"/>
            </a:xfrm>
            <a:custGeom>
              <a:avLst/>
              <a:gdLst/>
              <a:ahLst/>
              <a:rect l="l" t="t" r="r" b="b"/>
              <a:pathLst>
                <a:path w="371" h="677">
                  <a:moveTo>
                    <a:pt x="371" y="0"/>
                  </a:moveTo>
                  <a:lnTo>
                    <a:pt x="206" y="655"/>
                  </a:lnTo>
                  <a:lnTo>
                    <a:pt x="171" y="659"/>
                  </a:lnTo>
                  <a:lnTo>
                    <a:pt x="137" y="663"/>
                  </a:lnTo>
                  <a:lnTo>
                    <a:pt x="103" y="668"/>
                  </a:lnTo>
                  <a:lnTo>
                    <a:pt x="69" y="671"/>
                  </a:lnTo>
                  <a:lnTo>
                    <a:pt x="34" y="674"/>
                  </a:lnTo>
                  <a:lnTo>
                    <a:pt x="0" y="677"/>
                  </a:lnTo>
                  <a:lnTo>
                    <a:pt x="159" y="23"/>
                  </a:lnTo>
                  <a:lnTo>
                    <a:pt x="195" y="20"/>
                  </a:lnTo>
                  <a:lnTo>
                    <a:pt x="231" y="17"/>
                  </a:lnTo>
                  <a:lnTo>
                    <a:pt x="265" y="14"/>
                  </a:lnTo>
                  <a:lnTo>
                    <a:pt x="301" y="9"/>
                  </a:lnTo>
                  <a:lnTo>
                    <a:pt x="336" y="5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9041760" y="5679360"/>
              <a:ext cx="23400" cy="20880"/>
            </a:xfrm>
            <a:custGeom>
              <a:avLst/>
              <a:gdLst/>
              <a:ahLst/>
              <a:rect l="l" t="t" r="r" b="b"/>
              <a:pathLst>
                <a:path w="368" h="663">
                  <a:moveTo>
                    <a:pt x="368" y="0"/>
                  </a:moveTo>
                  <a:lnTo>
                    <a:pt x="209" y="654"/>
                  </a:lnTo>
                  <a:lnTo>
                    <a:pt x="174" y="656"/>
                  </a:lnTo>
                  <a:lnTo>
                    <a:pt x="139" y="658"/>
                  </a:lnTo>
                  <a:lnTo>
                    <a:pt x="104" y="660"/>
                  </a:lnTo>
                  <a:lnTo>
                    <a:pt x="69" y="661"/>
                  </a:lnTo>
                  <a:lnTo>
                    <a:pt x="35" y="662"/>
                  </a:lnTo>
                  <a:lnTo>
                    <a:pt x="0" y="663"/>
                  </a:lnTo>
                  <a:lnTo>
                    <a:pt x="152" y="9"/>
                  </a:lnTo>
                  <a:lnTo>
                    <a:pt x="189" y="8"/>
                  </a:lnTo>
                  <a:lnTo>
                    <a:pt x="225" y="7"/>
                  </a:lnTo>
                  <a:lnTo>
                    <a:pt x="261" y="6"/>
                  </a:lnTo>
                  <a:lnTo>
                    <a:pt x="297" y="4"/>
                  </a:lnTo>
                  <a:lnTo>
                    <a:pt x="333" y="2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6d7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9036360" y="5680080"/>
              <a:ext cx="14400" cy="20160"/>
            </a:xfrm>
            <a:custGeom>
              <a:avLst/>
              <a:gdLst/>
              <a:ahLst/>
              <a:rect l="l" t="t" r="r" b="b"/>
              <a:pathLst>
                <a:path w="223" h="654">
                  <a:moveTo>
                    <a:pt x="223" y="0"/>
                  </a:moveTo>
                  <a:lnTo>
                    <a:pt x="71" y="654"/>
                  </a:lnTo>
                  <a:lnTo>
                    <a:pt x="35" y="654"/>
                  </a:lnTo>
                  <a:lnTo>
                    <a:pt x="0" y="654"/>
                  </a:lnTo>
                  <a:lnTo>
                    <a:pt x="152" y="0"/>
                  </a:lnTo>
                  <a:lnTo>
                    <a:pt x="188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68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9031680" y="5682600"/>
              <a:ext cx="13680" cy="26280"/>
            </a:xfrm>
            <a:custGeom>
              <a:avLst/>
              <a:gdLst/>
              <a:ahLst/>
              <a:rect l="l" t="t" r="r" b="b"/>
              <a:pathLst>
                <a:path w="201" h="832">
                  <a:moveTo>
                    <a:pt x="201" y="0"/>
                  </a:moveTo>
                  <a:lnTo>
                    <a:pt x="50" y="652"/>
                  </a:lnTo>
                  <a:lnTo>
                    <a:pt x="27" y="743"/>
                  </a:lnTo>
                  <a:lnTo>
                    <a:pt x="0" y="832"/>
                  </a:lnTo>
                  <a:lnTo>
                    <a:pt x="150" y="185"/>
                  </a:lnTo>
                  <a:lnTo>
                    <a:pt x="177" y="9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9028080" y="5688720"/>
              <a:ext cx="13320" cy="25560"/>
            </a:xfrm>
            <a:custGeom>
              <a:avLst/>
              <a:gdLst/>
              <a:ahLst/>
              <a:rect l="l" t="t" r="r" b="b"/>
              <a:pathLst>
                <a:path w="210" h="821">
                  <a:moveTo>
                    <a:pt x="210" y="0"/>
                  </a:moveTo>
                  <a:lnTo>
                    <a:pt x="60" y="647"/>
                  </a:lnTo>
                  <a:lnTo>
                    <a:pt x="31" y="735"/>
                  </a:lnTo>
                  <a:lnTo>
                    <a:pt x="0" y="821"/>
                  </a:lnTo>
                  <a:lnTo>
                    <a:pt x="147" y="179"/>
                  </a:lnTo>
                  <a:lnTo>
                    <a:pt x="180" y="9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9023400" y="5694480"/>
              <a:ext cx="14400" cy="24840"/>
            </a:xfrm>
            <a:custGeom>
              <a:avLst/>
              <a:gdLst/>
              <a:ahLst/>
              <a:rect l="l" t="t" r="r" b="b"/>
              <a:pathLst>
                <a:path w="219" h="810">
                  <a:moveTo>
                    <a:pt x="219" y="0"/>
                  </a:moveTo>
                  <a:lnTo>
                    <a:pt x="72" y="642"/>
                  </a:lnTo>
                  <a:lnTo>
                    <a:pt x="37" y="726"/>
                  </a:lnTo>
                  <a:lnTo>
                    <a:pt x="0" y="810"/>
                  </a:lnTo>
                  <a:lnTo>
                    <a:pt x="146" y="172"/>
                  </a:lnTo>
                  <a:lnTo>
                    <a:pt x="183" y="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9018000" y="5699880"/>
              <a:ext cx="14400" cy="24840"/>
            </a:xfrm>
            <a:custGeom>
              <a:avLst/>
              <a:gdLst/>
              <a:ahLst/>
              <a:rect l="l" t="t" r="r" b="b"/>
              <a:pathLst>
                <a:path w="226" h="800">
                  <a:moveTo>
                    <a:pt x="226" y="0"/>
                  </a:moveTo>
                  <a:lnTo>
                    <a:pt x="80" y="638"/>
                  </a:lnTo>
                  <a:lnTo>
                    <a:pt x="41" y="720"/>
                  </a:lnTo>
                  <a:lnTo>
                    <a:pt x="0" y="800"/>
                  </a:lnTo>
                  <a:lnTo>
                    <a:pt x="143" y="167"/>
                  </a:lnTo>
                  <a:lnTo>
                    <a:pt x="185" y="84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9012600" y="5705280"/>
              <a:ext cx="14400" cy="24120"/>
            </a:xfrm>
            <a:custGeom>
              <a:avLst/>
              <a:gdLst/>
              <a:ahLst/>
              <a:rect l="l" t="t" r="r" b="b"/>
              <a:pathLst>
                <a:path w="233" h="788">
                  <a:moveTo>
                    <a:pt x="233" y="0"/>
                  </a:moveTo>
                  <a:lnTo>
                    <a:pt x="90" y="633"/>
                  </a:lnTo>
                  <a:lnTo>
                    <a:pt x="46" y="711"/>
                  </a:lnTo>
                  <a:lnTo>
                    <a:pt x="0" y="788"/>
                  </a:lnTo>
                  <a:lnTo>
                    <a:pt x="140" y="159"/>
                  </a:lnTo>
                  <a:lnTo>
                    <a:pt x="187" y="8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9006120" y="5709600"/>
              <a:ext cx="15120" cy="24840"/>
            </a:xfrm>
            <a:custGeom>
              <a:avLst/>
              <a:gdLst/>
              <a:ahLst/>
              <a:rect l="l" t="t" r="r" b="b"/>
              <a:pathLst>
                <a:path w="240" h="780">
                  <a:moveTo>
                    <a:pt x="240" y="0"/>
                  </a:moveTo>
                  <a:lnTo>
                    <a:pt x="100" y="629"/>
                  </a:lnTo>
                  <a:lnTo>
                    <a:pt x="51" y="705"/>
                  </a:lnTo>
                  <a:lnTo>
                    <a:pt x="0" y="780"/>
                  </a:lnTo>
                  <a:lnTo>
                    <a:pt x="139" y="154"/>
                  </a:lnTo>
                  <a:lnTo>
                    <a:pt x="191" y="78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998920" y="5715000"/>
              <a:ext cx="16200" cy="23400"/>
            </a:xfrm>
            <a:custGeom>
              <a:avLst/>
              <a:gdLst/>
              <a:ahLst/>
              <a:rect l="l" t="t" r="r" b="b"/>
              <a:pathLst>
                <a:path w="247" h="770">
                  <a:moveTo>
                    <a:pt x="247" y="0"/>
                  </a:moveTo>
                  <a:lnTo>
                    <a:pt x="108" y="626"/>
                  </a:lnTo>
                  <a:lnTo>
                    <a:pt x="56" y="698"/>
                  </a:lnTo>
                  <a:lnTo>
                    <a:pt x="0" y="770"/>
                  </a:lnTo>
                  <a:lnTo>
                    <a:pt x="136" y="148"/>
                  </a:lnTo>
                  <a:lnTo>
                    <a:pt x="192" y="7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991720" y="5719680"/>
              <a:ext cx="16200" cy="23400"/>
            </a:xfrm>
            <a:custGeom>
              <a:avLst/>
              <a:gdLst/>
              <a:ahLst/>
              <a:rect l="l" t="t" r="r" b="b"/>
              <a:pathLst>
                <a:path w="250" h="761">
                  <a:moveTo>
                    <a:pt x="250" y="0"/>
                  </a:moveTo>
                  <a:lnTo>
                    <a:pt x="114" y="622"/>
                  </a:lnTo>
                  <a:lnTo>
                    <a:pt x="58" y="692"/>
                  </a:lnTo>
                  <a:lnTo>
                    <a:pt x="0" y="761"/>
                  </a:lnTo>
                  <a:lnTo>
                    <a:pt x="131" y="143"/>
                  </a:lnTo>
                  <a:lnTo>
                    <a:pt x="191" y="7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983440" y="5724000"/>
              <a:ext cx="16200" cy="23040"/>
            </a:xfrm>
            <a:custGeom>
              <a:avLst/>
              <a:gdLst/>
              <a:ahLst/>
              <a:rect l="l" t="t" r="r" b="b"/>
              <a:pathLst>
                <a:path w="254" h="750">
                  <a:moveTo>
                    <a:pt x="254" y="0"/>
                  </a:moveTo>
                  <a:lnTo>
                    <a:pt x="123" y="618"/>
                  </a:lnTo>
                  <a:lnTo>
                    <a:pt x="62" y="684"/>
                  </a:lnTo>
                  <a:lnTo>
                    <a:pt x="0" y="750"/>
                  </a:lnTo>
                  <a:lnTo>
                    <a:pt x="128" y="136"/>
                  </a:lnTo>
                  <a:lnTo>
                    <a:pt x="191" y="6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975160" y="5728320"/>
              <a:ext cx="16200" cy="22680"/>
            </a:xfrm>
            <a:custGeom>
              <a:avLst/>
              <a:gdLst/>
              <a:ahLst/>
              <a:rect l="l" t="t" r="r" b="b"/>
              <a:pathLst>
                <a:path w="259" h="741">
                  <a:moveTo>
                    <a:pt x="259" y="0"/>
                  </a:moveTo>
                  <a:lnTo>
                    <a:pt x="131" y="614"/>
                  </a:lnTo>
                  <a:lnTo>
                    <a:pt x="66" y="678"/>
                  </a:lnTo>
                  <a:lnTo>
                    <a:pt x="0" y="741"/>
                  </a:lnTo>
                  <a:lnTo>
                    <a:pt x="124" y="131"/>
                  </a:lnTo>
                  <a:lnTo>
                    <a:pt x="192" y="66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bde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966160" y="5731920"/>
              <a:ext cx="17280" cy="23040"/>
            </a:xfrm>
            <a:custGeom>
              <a:avLst/>
              <a:gdLst/>
              <a:ahLst/>
              <a:rect l="l" t="t" r="r" b="b"/>
              <a:pathLst>
                <a:path w="261" h="731">
                  <a:moveTo>
                    <a:pt x="261" y="0"/>
                  </a:moveTo>
                  <a:lnTo>
                    <a:pt x="137" y="610"/>
                  </a:lnTo>
                  <a:lnTo>
                    <a:pt x="70" y="671"/>
                  </a:lnTo>
                  <a:lnTo>
                    <a:pt x="0" y="731"/>
                  </a:lnTo>
                  <a:lnTo>
                    <a:pt x="120" y="124"/>
                  </a:lnTo>
                  <a:lnTo>
                    <a:pt x="192" y="6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957160" y="5736240"/>
              <a:ext cx="16200" cy="22680"/>
            </a:xfrm>
            <a:custGeom>
              <a:avLst/>
              <a:gdLst/>
              <a:ahLst/>
              <a:rect l="l" t="t" r="r" b="b"/>
              <a:pathLst>
                <a:path w="264" h="722">
                  <a:moveTo>
                    <a:pt x="264" y="0"/>
                  </a:moveTo>
                  <a:lnTo>
                    <a:pt x="144" y="607"/>
                  </a:lnTo>
                  <a:lnTo>
                    <a:pt x="73" y="665"/>
                  </a:lnTo>
                  <a:lnTo>
                    <a:pt x="0" y="722"/>
                  </a:lnTo>
                  <a:lnTo>
                    <a:pt x="116" y="118"/>
                  </a:lnTo>
                  <a:lnTo>
                    <a:pt x="191" y="6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947080" y="5739840"/>
              <a:ext cx="17280" cy="22320"/>
            </a:xfrm>
            <a:custGeom>
              <a:avLst/>
              <a:gdLst/>
              <a:ahLst/>
              <a:rect l="l" t="t" r="r" b="b"/>
              <a:pathLst>
                <a:path w="265" h="715">
                  <a:moveTo>
                    <a:pt x="265" y="0"/>
                  </a:moveTo>
                  <a:lnTo>
                    <a:pt x="149" y="604"/>
                  </a:lnTo>
                  <a:lnTo>
                    <a:pt x="75" y="661"/>
                  </a:lnTo>
                  <a:lnTo>
                    <a:pt x="0" y="715"/>
                  </a:lnTo>
                  <a:lnTo>
                    <a:pt x="111" y="113"/>
                  </a:lnTo>
                  <a:lnTo>
                    <a:pt x="189" y="5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937000" y="5743080"/>
              <a:ext cx="17280" cy="22320"/>
            </a:xfrm>
            <a:custGeom>
              <a:avLst/>
              <a:gdLst/>
              <a:ahLst/>
              <a:rect l="l" t="t" r="r" b="b"/>
              <a:pathLst>
                <a:path w="266" h="706">
                  <a:moveTo>
                    <a:pt x="266" y="0"/>
                  </a:moveTo>
                  <a:lnTo>
                    <a:pt x="155" y="602"/>
                  </a:lnTo>
                  <a:lnTo>
                    <a:pt x="78" y="654"/>
                  </a:lnTo>
                  <a:lnTo>
                    <a:pt x="0" y="706"/>
                  </a:lnTo>
                  <a:lnTo>
                    <a:pt x="107" y="107"/>
                  </a:lnTo>
                  <a:lnTo>
                    <a:pt x="187" y="54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926200" y="5746680"/>
              <a:ext cx="18000" cy="22320"/>
            </a:xfrm>
            <a:custGeom>
              <a:avLst/>
              <a:gdLst/>
              <a:ahLst/>
              <a:rect l="l" t="t" r="r" b="b"/>
              <a:pathLst>
                <a:path w="267" h="698">
                  <a:moveTo>
                    <a:pt x="267" y="0"/>
                  </a:moveTo>
                  <a:lnTo>
                    <a:pt x="160" y="599"/>
                  </a:lnTo>
                  <a:lnTo>
                    <a:pt x="81" y="649"/>
                  </a:lnTo>
                  <a:lnTo>
                    <a:pt x="0" y="698"/>
                  </a:lnTo>
                  <a:lnTo>
                    <a:pt x="102" y="102"/>
                  </a:lnTo>
                  <a:lnTo>
                    <a:pt x="185" y="52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a9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921520" y="5749920"/>
              <a:ext cx="11520" cy="20160"/>
            </a:xfrm>
            <a:custGeom>
              <a:avLst/>
              <a:gdLst/>
              <a:ahLst/>
              <a:rect l="l" t="t" r="r" b="b"/>
              <a:pathLst>
                <a:path w="184" h="643">
                  <a:moveTo>
                    <a:pt x="184" y="0"/>
                  </a:moveTo>
                  <a:lnTo>
                    <a:pt x="82" y="596"/>
                  </a:lnTo>
                  <a:lnTo>
                    <a:pt x="0" y="643"/>
                  </a:lnTo>
                  <a:lnTo>
                    <a:pt x="100" y="4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910000" y="5752080"/>
              <a:ext cx="18000" cy="20880"/>
            </a:xfrm>
            <a:custGeom>
              <a:avLst/>
              <a:gdLst/>
              <a:ahLst/>
              <a:rect l="l" t="t" r="r" b="b"/>
              <a:pathLst>
                <a:path w="272" h="683">
                  <a:moveTo>
                    <a:pt x="272" y="0"/>
                  </a:moveTo>
                  <a:lnTo>
                    <a:pt x="172" y="595"/>
                  </a:lnTo>
                  <a:lnTo>
                    <a:pt x="144" y="610"/>
                  </a:lnTo>
                  <a:lnTo>
                    <a:pt x="115" y="625"/>
                  </a:lnTo>
                  <a:lnTo>
                    <a:pt x="87" y="639"/>
                  </a:lnTo>
                  <a:lnTo>
                    <a:pt x="58" y="654"/>
                  </a:lnTo>
                  <a:lnTo>
                    <a:pt x="29" y="669"/>
                  </a:lnTo>
                  <a:lnTo>
                    <a:pt x="0" y="683"/>
                  </a:lnTo>
                  <a:lnTo>
                    <a:pt x="96" y="91"/>
                  </a:lnTo>
                  <a:lnTo>
                    <a:pt x="125" y="76"/>
                  </a:lnTo>
                  <a:lnTo>
                    <a:pt x="154" y="61"/>
                  </a:lnTo>
                  <a:lnTo>
                    <a:pt x="184" y="47"/>
                  </a:lnTo>
                  <a:lnTo>
                    <a:pt x="214" y="31"/>
                  </a:lnTo>
                  <a:lnTo>
                    <a:pt x="242" y="16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898840" y="5754600"/>
              <a:ext cx="16920" cy="20880"/>
            </a:xfrm>
            <a:custGeom>
              <a:avLst/>
              <a:gdLst/>
              <a:ahLst/>
              <a:rect l="l" t="t" r="r" b="b"/>
              <a:pathLst>
                <a:path w="270" h="674">
                  <a:moveTo>
                    <a:pt x="270" y="0"/>
                  </a:moveTo>
                  <a:lnTo>
                    <a:pt x="174" y="592"/>
                  </a:lnTo>
                  <a:lnTo>
                    <a:pt x="146" y="606"/>
                  </a:lnTo>
                  <a:lnTo>
                    <a:pt x="116" y="620"/>
                  </a:lnTo>
                  <a:lnTo>
                    <a:pt x="87" y="634"/>
                  </a:lnTo>
                  <a:lnTo>
                    <a:pt x="59" y="647"/>
                  </a:lnTo>
                  <a:lnTo>
                    <a:pt x="29" y="661"/>
                  </a:lnTo>
                  <a:lnTo>
                    <a:pt x="0" y="674"/>
                  </a:lnTo>
                  <a:lnTo>
                    <a:pt x="90" y="85"/>
                  </a:lnTo>
                  <a:lnTo>
                    <a:pt x="120" y="70"/>
                  </a:lnTo>
                  <a:lnTo>
                    <a:pt x="150" y="57"/>
                  </a:lnTo>
                  <a:lnTo>
                    <a:pt x="180" y="43"/>
                  </a:lnTo>
                  <a:lnTo>
                    <a:pt x="210" y="29"/>
                  </a:lnTo>
                  <a:lnTo>
                    <a:pt x="240" y="1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890560" y="5757120"/>
              <a:ext cx="13320" cy="20160"/>
            </a:xfrm>
            <a:custGeom>
              <a:avLst/>
              <a:gdLst/>
              <a:ahLst/>
              <a:rect l="l" t="t" r="r" b="b"/>
              <a:pathLst>
                <a:path w="208" h="643">
                  <a:moveTo>
                    <a:pt x="208" y="0"/>
                  </a:moveTo>
                  <a:lnTo>
                    <a:pt x="118" y="589"/>
                  </a:lnTo>
                  <a:lnTo>
                    <a:pt x="88" y="603"/>
                  </a:lnTo>
                  <a:lnTo>
                    <a:pt x="60" y="617"/>
                  </a:lnTo>
                  <a:lnTo>
                    <a:pt x="30" y="630"/>
                  </a:lnTo>
                  <a:lnTo>
                    <a:pt x="0" y="643"/>
                  </a:lnTo>
                  <a:lnTo>
                    <a:pt x="86" y="54"/>
                  </a:lnTo>
                  <a:lnTo>
                    <a:pt x="117" y="41"/>
                  </a:lnTo>
                  <a:lnTo>
                    <a:pt x="148" y="27"/>
                  </a:lnTo>
                  <a:lnTo>
                    <a:pt x="178" y="1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877960" y="5758560"/>
              <a:ext cx="19080" cy="20880"/>
            </a:xfrm>
            <a:custGeom>
              <a:avLst/>
              <a:gdLst/>
              <a:ahLst/>
              <a:rect l="l" t="t" r="r" b="b"/>
              <a:pathLst>
                <a:path w="284" h="662">
                  <a:moveTo>
                    <a:pt x="284" y="0"/>
                  </a:moveTo>
                  <a:lnTo>
                    <a:pt x="198" y="589"/>
                  </a:lnTo>
                  <a:lnTo>
                    <a:pt x="132" y="615"/>
                  </a:lnTo>
                  <a:lnTo>
                    <a:pt x="66" y="639"/>
                  </a:lnTo>
                  <a:lnTo>
                    <a:pt x="0" y="662"/>
                  </a:lnTo>
                  <a:lnTo>
                    <a:pt x="80" y="76"/>
                  </a:lnTo>
                  <a:lnTo>
                    <a:pt x="149" y="52"/>
                  </a:lnTo>
                  <a:lnTo>
                    <a:pt x="217" y="2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91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865000" y="5761080"/>
              <a:ext cx="18000" cy="20160"/>
            </a:xfrm>
            <a:custGeom>
              <a:avLst/>
              <a:gdLst/>
              <a:ahLst/>
              <a:rect l="l" t="t" r="r" b="b"/>
              <a:pathLst>
                <a:path w="277" h="653">
                  <a:moveTo>
                    <a:pt x="277" y="0"/>
                  </a:moveTo>
                  <a:lnTo>
                    <a:pt x="197" y="586"/>
                  </a:lnTo>
                  <a:lnTo>
                    <a:pt x="132" y="609"/>
                  </a:lnTo>
                  <a:lnTo>
                    <a:pt x="66" y="631"/>
                  </a:lnTo>
                  <a:lnTo>
                    <a:pt x="0" y="653"/>
                  </a:lnTo>
                  <a:lnTo>
                    <a:pt x="75" y="68"/>
                  </a:lnTo>
                  <a:lnTo>
                    <a:pt x="142" y="46"/>
                  </a:lnTo>
                  <a:lnTo>
                    <a:pt x="210" y="24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8b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852400" y="5763240"/>
              <a:ext cx="18000" cy="20160"/>
            </a:xfrm>
            <a:custGeom>
              <a:avLst/>
              <a:gdLst/>
              <a:ahLst/>
              <a:rect l="l" t="t" r="r" b="b"/>
              <a:pathLst>
                <a:path w="272" h="642">
                  <a:moveTo>
                    <a:pt x="272" y="0"/>
                  </a:moveTo>
                  <a:lnTo>
                    <a:pt x="197" y="585"/>
                  </a:lnTo>
                  <a:lnTo>
                    <a:pt x="132" y="605"/>
                  </a:lnTo>
                  <a:lnTo>
                    <a:pt x="66" y="624"/>
                  </a:lnTo>
                  <a:lnTo>
                    <a:pt x="0" y="642"/>
                  </a:lnTo>
                  <a:lnTo>
                    <a:pt x="69" y="59"/>
                  </a:lnTo>
                  <a:lnTo>
                    <a:pt x="137" y="40"/>
                  </a:lnTo>
                  <a:lnTo>
                    <a:pt x="205" y="21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839800" y="5765040"/>
              <a:ext cx="17280" cy="19440"/>
            </a:xfrm>
            <a:custGeom>
              <a:avLst/>
              <a:gdLst/>
              <a:ahLst/>
              <a:rect l="l" t="t" r="r" b="b"/>
              <a:pathLst>
                <a:path w="265" h="633">
                  <a:moveTo>
                    <a:pt x="265" y="0"/>
                  </a:moveTo>
                  <a:lnTo>
                    <a:pt x="196" y="583"/>
                  </a:lnTo>
                  <a:lnTo>
                    <a:pt x="131" y="601"/>
                  </a:lnTo>
                  <a:lnTo>
                    <a:pt x="65" y="618"/>
                  </a:lnTo>
                  <a:lnTo>
                    <a:pt x="0" y="633"/>
                  </a:lnTo>
                  <a:lnTo>
                    <a:pt x="63" y="51"/>
                  </a:lnTo>
                  <a:lnTo>
                    <a:pt x="131" y="36"/>
                  </a:lnTo>
                  <a:lnTo>
                    <a:pt x="199" y="1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83a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826840" y="5766840"/>
              <a:ext cx="17280" cy="19080"/>
            </a:xfrm>
            <a:custGeom>
              <a:avLst/>
              <a:gdLst/>
              <a:ahLst/>
              <a:rect l="l" t="t" r="r" b="b"/>
              <a:pathLst>
                <a:path w="260" h="625">
                  <a:moveTo>
                    <a:pt x="260" y="0"/>
                  </a:moveTo>
                  <a:lnTo>
                    <a:pt x="197" y="582"/>
                  </a:lnTo>
                  <a:lnTo>
                    <a:pt x="131" y="597"/>
                  </a:lnTo>
                  <a:lnTo>
                    <a:pt x="65" y="612"/>
                  </a:lnTo>
                  <a:lnTo>
                    <a:pt x="0" y="625"/>
                  </a:lnTo>
                  <a:lnTo>
                    <a:pt x="57" y="44"/>
                  </a:lnTo>
                  <a:lnTo>
                    <a:pt x="125" y="30"/>
                  </a:lnTo>
                  <a:lnTo>
                    <a:pt x="192" y="16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7d9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814240" y="5768280"/>
              <a:ext cx="16200" cy="19080"/>
            </a:xfrm>
            <a:custGeom>
              <a:avLst/>
              <a:gdLst/>
              <a:ahLst/>
              <a:rect l="l" t="t" r="r" b="b"/>
              <a:pathLst>
                <a:path w="256" h="615">
                  <a:moveTo>
                    <a:pt x="256" y="0"/>
                  </a:moveTo>
                  <a:lnTo>
                    <a:pt x="199" y="581"/>
                  </a:lnTo>
                  <a:lnTo>
                    <a:pt x="132" y="593"/>
                  </a:lnTo>
                  <a:lnTo>
                    <a:pt x="66" y="604"/>
                  </a:lnTo>
                  <a:lnTo>
                    <a:pt x="0" y="615"/>
                  </a:lnTo>
                  <a:lnTo>
                    <a:pt x="51" y="35"/>
                  </a:lnTo>
                  <a:lnTo>
                    <a:pt x="120" y="24"/>
                  </a:lnTo>
                  <a:lnTo>
                    <a:pt x="187" y="12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79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801640" y="5769000"/>
              <a:ext cx="16200" cy="19080"/>
            </a:xfrm>
            <a:custGeom>
              <a:avLst/>
              <a:gdLst/>
              <a:ahLst/>
              <a:rect l="l" t="t" r="r" b="b"/>
              <a:pathLst>
                <a:path w="251" h="607">
                  <a:moveTo>
                    <a:pt x="251" y="0"/>
                  </a:moveTo>
                  <a:lnTo>
                    <a:pt x="200" y="580"/>
                  </a:lnTo>
                  <a:lnTo>
                    <a:pt x="133" y="590"/>
                  </a:lnTo>
                  <a:lnTo>
                    <a:pt x="66" y="599"/>
                  </a:lnTo>
                  <a:lnTo>
                    <a:pt x="0" y="607"/>
                  </a:lnTo>
                  <a:lnTo>
                    <a:pt x="45" y="27"/>
                  </a:lnTo>
                  <a:lnTo>
                    <a:pt x="114" y="19"/>
                  </a:lnTo>
                  <a:lnTo>
                    <a:pt x="182" y="1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758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787960" y="5770440"/>
              <a:ext cx="16200" cy="18360"/>
            </a:xfrm>
            <a:custGeom>
              <a:avLst/>
              <a:gdLst/>
              <a:ahLst/>
              <a:rect l="l" t="t" r="r" b="b"/>
              <a:pathLst>
                <a:path w="248" h="599">
                  <a:moveTo>
                    <a:pt x="248" y="0"/>
                  </a:moveTo>
                  <a:lnTo>
                    <a:pt x="203" y="580"/>
                  </a:lnTo>
                  <a:lnTo>
                    <a:pt x="135" y="588"/>
                  </a:lnTo>
                  <a:lnTo>
                    <a:pt x="67" y="594"/>
                  </a:lnTo>
                  <a:lnTo>
                    <a:pt x="0" y="599"/>
                  </a:lnTo>
                  <a:lnTo>
                    <a:pt x="39" y="20"/>
                  </a:lnTo>
                  <a:lnTo>
                    <a:pt x="108" y="15"/>
                  </a:lnTo>
                  <a:lnTo>
                    <a:pt x="178" y="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774280" y="5771160"/>
              <a:ext cx="16200" cy="18360"/>
            </a:xfrm>
            <a:custGeom>
              <a:avLst/>
              <a:gdLst/>
              <a:ahLst/>
              <a:rect l="l" t="t" r="r" b="b"/>
              <a:pathLst>
                <a:path w="245" h="592">
                  <a:moveTo>
                    <a:pt x="245" y="0"/>
                  </a:moveTo>
                  <a:lnTo>
                    <a:pt x="206" y="579"/>
                  </a:lnTo>
                  <a:lnTo>
                    <a:pt x="137" y="585"/>
                  </a:lnTo>
                  <a:lnTo>
                    <a:pt x="68" y="589"/>
                  </a:lnTo>
                  <a:lnTo>
                    <a:pt x="0" y="592"/>
                  </a:lnTo>
                  <a:lnTo>
                    <a:pt x="32" y="13"/>
                  </a:lnTo>
                  <a:lnTo>
                    <a:pt x="104" y="10"/>
                  </a:lnTo>
                  <a:lnTo>
                    <a:pt x="174" y="5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6f7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760600" y="5771160"/>
              <a:ext cx="16200" cy="18360"/>
            </a:xfrm>
            <a:custGeom>
              <a:avLst/>
              <a:gdLst/>
              <a:ahLst/>
              <a:rect l="l" t="t" r="r" b="b"/>
              <a:pathLst>
                <a:path w="243" h="584">
                  <a:moveTo>
                    <a:pt x="243" y="0"/>
                  </a:moveTo>
                  <a:lnTo>
                    <a:pt x="211" y="579"/>
                  </a:lnTo>
                  <a:lnTo>
                    <a:pt x="141" y="581"/>
                  </a:lnTo>
                  <a:lnTo>
                    <a:pt x="71" y="583"/>
                  </a:lnTo>
                  <a:lnTo>
                    <a:pt x="0" y="584"/>
                  </a:lnTo>
                  <a:lnTo>
                    <a:pt x="28" y="5"/>
                  </a:lnTo>
                  <a:lnTo>
                    <a:pt x="100" y="5"/>
                  </a:lnTo>
                  <a:lnTo>
                    <a:pt x="172" y="3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b7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751600" y="5771160"/>
              <a:ext cx="10800" cy="1836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169" y="0"/>
                  </a:moveTo>
                  <a:lnTo>
                    <a:pt x="141" y="579"/>
                  </a:lnTo>
                  <a:lnTo>
                    <a:pt x="71" y="579"/>
                  </a:lnTo>
                  <a:lnTo>
                    <a:pt x="0" y="578"/>
                  </a:lnTo>
                  <a:lnTo>
                    <a:pt x="22" y="0"/>
                  </a:lnTo>
                  <a:lnTo>
                    <a:pt x="96" y="1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726040" y="5770440"/>
              <a:ext cx="27000" cy="19080"/>
            </a:xfrm>
            <a:custGeom>
              <a:avLst/>
              <a:gdLst/>
              <a:ahLst/>
              <a:rect l="l" t="t" r="r" b="b"/>
              <a:pathLst>
                <a:path w="412" h="607">
                  <a:moveTo>
                    <a:pt x="412" y="29"/>
                  </a:moveTo>
                  <a:lnTo>
                    <a:pt x="390" y="607"/>
                  </a:lnTo>
                  <a:lnTo>
                    <a:pt x="0" y="579"/>
                  </a:lnTo>
                  <a:lnTo>
                    <a:pt x="11" y="0"/>
                  </a:lnTo>
                  <a:lnTo>
                    <a:pt x="412" y="29"/>
                  </a:lnTo>
                  <a:close/>
                </a:path>
              </a:pathLst>
            </a:custGeom>
            <a:solidFill>
              <a:srgbClr val="5c6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713440" y="5769720"/>
              <a:ext cx="13320" cy="19080"/>
            </a:xfrm>
            <a:custGeom>
              <a:avLst/>
              <a:gdLst/>
              <a:ahLst/>
              <a:rect l="l" t="t" r="r" b="b"/>
              <a:pathLst>
                <a:path w="208" h="609">
                  <a:moveTo>
                    <a:pt x="208" y="30"/>
                  </a:moveTo>
                  <a:lnTo>
                    <a:pt x="197" y="609"/>
                  </a:lnTo>
                  <a:lnTo>
                    <a:pt x="99" y="595"/>
                  </a:lnTo>
                  <a:lnTo>
                    <a:pt x="0" y="581"/>
                  </a:lnTo>
                  <a:lnTo>
                    <a:pt x="6" y="0"/>
                  </a:lnTo>
                  <a:lnTo>
                    <a:pt x="107" y="16"/>
                  </a:lnTo>
                  <a:lnTo>
                    <a:pt x="208" y="30"/>
                  </a:lnTo>
                  <a:close/>
                </a:path>
              </a:pathLst>
            </a:custGeom>
            <a:solidFill>
              <a:srgbClr val="505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700480" y="5768280"/>
              <a:ext cx="13320" cy="19080"/>
            </a:xfrm>
            <a:custGeom>
              <a:avLst/>
              <a:gdLst/>
              <a:ahLst/>
              <a:rect l="l" t="t" r="r" b="b"/>
              <a:pathLst>
                <a:path w="202" h="618">
                  <a:moveTo>
                    <a:pt x="202" y="37"/>
                  </a:moveTo>
                  <a:lnTo>
                    <a:pt x="196" y="618"/>
                  </a:lnTo>
                  <a:lnTo>
                    <a:pt x="99" y="600"/>
                  </a:lnTo>
                  <a:lnTo>
                    <a:pt x="0" y="581"/>
                  </a:lnTo>
                  <a:lnTo>
                    <a:pt x="0" y="0"/>
                  </a:lnTo>
                  <a:lnTo>
                    <a:pt x="101" y="19"/>
                  </a:lnTo>
                  <a:lnTo>
                    <a:pt x="202" y="37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687880" y="5766840"/>
              <a:ext cx="12240" cy="19440"/>
            </a:xfrm>
            <a:custGeom>
              <a:avLst/>
              <a:gdLst/>
              <a:ahLst/>
              <a:rect l="l" t="t" r="r" b="b"/>
              <a:pathLst>
                <a:path w="201" h="626">
                  <a:moveTo>
                    <a:pt x="201" y="45"/>
                  </a:moveTo>
                  <a:lnTo>
                    <a:pt x="201" y="626"/>
                  </a:lnTo>
                  <a:lnTo>
                    <a:pt x="104" y="605"/>
                  </a:lnTo>
                  <a:lnTo>
                    <a:pt x="8" y="584"/>
                  </a:lnTo>
                  <a:lnTo>
                    <a:pt x="0" y="0"/>
                  </a:lnTo>
                  <a:lnTo>
                    <a:pt x="101" y="24"/>
                  </a:lnTo>
                  <a:lnTo>
                    <a:pt x="201" y="45"/>
                  </a:lnTo>
                  <a:close/>
                </a:path>
              </a:pathLst>
            </a:custGeom>
            <a:solidFill>
              <a:srgbClr val="414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675280" y="5765040"/>
              <a:ext cx="12600" cy="20160"/>
            </a:xfrm>
            <a:custGeom>
              <a:avLst/>
              <a:gdLst/>
              <a:ahLst/>
              <a:rect l="l" t="t" r="r" b="b"/>
              <a:pathLst>
                <a:path w="206" h="635">
                  <a:moveTo>
                    <a:pt x="198" y="51"/>
                  </a:moveTo>
                  <a:lnTo>
                    <a:pt x="206" y="635"/>
                  </a:lnTo>
                  <a:lnTo>
                    <a:pt x="108" y="610"/>
                  </a:lnTo>
                  <a:lnTo>
                    <a:pt x="13" y="584"/>
                  </a:lnTo>
                  <a:lnTo>
                    <a:pt x="0" y="0"/>
                  </a:lnTo>
                  <a:lnTo>
                    <a:pt x="99" y="26"/>
                  </a:lnTo>
                  <a:lnTo>
                    <a:pt x="198" y="51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662320" y="5763240"/>
              <a:ext cx="13320" cy="20160"/>
            </a:xfrm>
            <a:custGeom>
              <a:avLst/>
              <a:gdLst/>
              <a:ahLst/>
              <a:rect l="l" t="t" r="r" b="b"/>
              <a:pathLst>
                <a:path w="207" h="644">
                  <a:moveTo>
                    <a:pt x="194" y="60"/>
                  </a:moveTo>
                  <a:lnTo>
                    <a:pt x="207" y="644"/>
                  </a:lnTo>
                  <a:lnTo>
                    <a:pt x="111" y="615"/>
                  </a:lnTo>
                  <a:lnTo>
                    <a:pt x="17" y="586"/>
                  </a:lnTo>
                  <a:lnTo>
                    <a:pt x="0" y="0"/>
                  </a:lnTo>
                  <a:lnTo>
                    <a:pt x="97" y="31"/>
                  </a:lnTo>
                  <a:lnTo>
                    <a:pt x="194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649720" y="5761080"/>
              <a:ext cx="13680" cy="20160"/>
            </a:xfrm>
            <a:custGeom>
              <a:avLst/>
              <a:gdLst/>
              <a:ahLst/>
              <a:rect l="l" t="t" r="r" b="b"/>
              <a:pathLst>
                <a:path w="210" h="654">
                  <a:moveTo>
                    <a:pt x="193" y="68"/>
                  </a:moveTo>
                  <a:lnTo>
                    <a:pt x="210" y="654"/>
                  </a:lnTo>
                  <a:lnTo>
                    <a:pt x="117" y="622"/>
                  </a:lnTo>
                  <a:lnTo>
                    <a:pt x="23" y="588"/>
                  </a:lnTo>
                  <a:lnTo>
                    <a:pt x="0" y="0"/>
                  </a:lnTo>
                  <a:lnTo>
                    <a:pt x="96" y="36"/>
                  </a:lnTo>
                  <a:lnTo>
                    <a:pt x="193" y="68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637840" y="5758920"/>
              <a:ext cx="13320" cy="20160"/>
            </a:xfrm>
            <a:custGeom>
              <a:avLst/>
              <a:gdLst/>
              <a:ahLst/>
              <a:rect l="l" t="t" r="r" b="b"/>
              <a:pathLst>
                <a:path w="211" h="664">
                  <a:moveTo>
                    <a:pt x="188" y="76"/>
                  </a:moveTo>
                  <a:lnTo>
                    <a:pt x="211" y="664"/>
                  </a:lnTo>
                  <a:lnTo>
                    <a:pt x="120" y="628"/>
                  </a:lnTo>
                  <a:lnTo>
                    <a:pt x="29" y="590"/>
                  </a:lnTo>
                  <a:lnTo>
                    <a:pt x="0" y="0"/>
                  </a:lnTo>
                  <a:lnTo>
                    <a:pt x="94" y="40"/>
                  </a:lnTo>
                  <a:lnTo>
                    <a:pt x="188" y="76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625960" y="5756400"/>
              <a:ext cx="13320" cy="20880"/>
            </a:xfrm>
            <a:custGeom>
              <a:avLst/>
              <a:gdLst/>
              <a:ahLst/>
              <a:rect l="l" t="t" r="r" b="b"/>
              <a:pathLst>
                <a:path w="212" h="674">
                  <a:moveTo>
                    <a:pt x="183" y="84"/>
                  </a:moveTo>
                  <a:lnTo>
                    <a:pt x="212" y="674"/>
                  </a:lnTo>
                  <a:lnTo>
                    <a:pt x="123" y="634"/>
                  </a:lnTo>
                  <a:lnTo>
                    <a:pt x="33" y="591"/>
                  </a:lnTo>
                  <a:lnTo>
                    <a:pt x="0" y="0"/>
                  </a:lnTo>
                  <a:lnTo>
                    <a:pt x="91" y="43"/>
                  </a:lnTo>
                  <a:lnTo>
                    <a:pt x="183" y="84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614080" y="5753160"/>
              <a:ext cx="13680" cy="21600"/>
            </a:xfrm>
            <a:custGeom>
              <a:avLst/>
              <a:gdLst/>
              <a:ahLst/>
              <a:rect l="l" t="t" r="r" b="b"/>
              <a:pathLst>
                <a:path w="212" h="686">
                  <a:moveTo>
                    <a:pt x="179" y="95"/>
                  </a:moveTo>
                  <a:lnTo>
                    <a:pt x="212" y="686"/>
                  </a:lnTo>
                  <a:lnTo>
                    <a:pt x="125" y="642"/>
                  </a:lnTo>
                  <a:lnTo>
                    <a:pt x="39" y="595"/>
                  </a:lnTo>
                  <a:lnTo>
                    <a:pt x="0" y="0"/>
                  </a:lnTo>
                  <a:lnTo>
                    <a:pt x="89" y="48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603280" y="5749920"/>
              <a:ext cx="13680" cy="21600"/>
            </a:xfrm>
            <a:custGeom>
              <a:avLst/>
              <a:gdLst/>
              <a:ahLst/>
              <a:rect l="l" t="t" r="r" b="b"/>
              <a:pathLst>
                <a:path w="211" h="698">
                  <a:moveTo>
                    <a:pt x="172" y="103"/>
                  </a:moveTo>
                  <a:lnTo>
                    <a:pt x="211" y="698"/>
                  </a:lnTo>
                  <a:lnTo>
                    <a:pt x="127" y="649"/>
                  </a:lnTo>
                  <a:lnTo>
                    <a:pt x="44" y="598"/>
                  </a:lnTo>
                  <a:lnTo>
                    <a:pt x="0" y="0"/>
                  </a:lnTo>
                  <a:lnTo>
                    <a:pt x="86" y="53"/>
                  </a:lnTo>
                  <a:lnTo>
                    <a:pt x="172" y="10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592480" y="5746680"/>
              <a:ext cx="13320" cy="22320"/>
            </a:xfrm>
            <a:custGeom>
              <a:avLst/>
              <a:gdLst/>
              <a:ahLst/>
              <a:rect l="l" t="t" r="r" b="b"/>
              <a:pathLst>
                <a:path w="210" h="710">
                  <a:moveTo>
                    <a:pt x="166" y="112"/>
                  </a:moveTo>
                  <a:lnTo>
                    <a:pt x="210" y="710"/>
                  </a:lnTo>
                  <a:lnTo>
                    <a:pt x="129" y="656"/>
                  </a:lnTo>
                  <a:lnTo>
                    <a:pt x="49" y="599"/>
                  </a:lnTo>
                  <a:lnTo>
                    <a:pt x="0" y="0"/>
                  </a:lnTo>
                  <a:lnTo>
                    <a:pt x="82" y="57"/>
                  </a:lnTo>
                  <a:lnTo>
                    <a:pt x="166" y="112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581680" y="5742720"/>
              <a:ext cx="13320" cy="22320"/>
            </a:xfrm>
            <a:custGeom>
              <a:avLst/>
              <a:gdLst/>
              <a:ahLst/>
              <a:rect l="l" t="t" r="r" b="b"/>
              <a:pathLst>
                <a:path w="208" h="722">
                  <a:moveTo>
                    <a:pt x="159" y="123"/>
                  </a:moveTo>
                  <a:lnTo>
                    <a:pt x="208" y="722"/>
                  </a:lnTo>
                  <a:lnTo>
                    <a:pt x="130" y="664"/>
                  </a:lnTo>
                  <a:lnTo>
                    <a:pt x="53" y="604"/>
                  </a:lnTo>
                  <a:lnTo>
                    <a:pt x="0" y="0"/>
                  </a:lnTo>
                  <a:lnTo>
                    <a:pt x="79" y="62"/>
                  </a:lnTo>
                  <a:lnTo>
                    <a:pt x="159" y="12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572320" y="5738760"/>
              <a:ext cx="12240" cy="23040"/>
            </a:xfrm>
            <a:custGeom>
              <a:avLst/>
              <a:gdLst/>
              <a:ahLst/>
              <a:rect l="l" t="t" r="r" b="b"/>
              <a:pathLst>
                <a:path w="205" h="737">
                  <a:moveTo>
                    <a:pt x="152" y="133"/>
                  </a:moveTo>
                  <a:lnTo>
                    <a:pt x="205" y="737"/>
                  </a:lnTo>
                  <a:lnTo>
                    <a:pt x="130" y="673"/>
                  </a:lnTo>
                  <a:lnTo>
                    <a:pt x="57" y="608"/>
                  </a:lnTo>
                  <a:lnTo>
                    <a:pt x="0" y="0"/>
                  </a:lnTo>
                  <a:lnTo>
                    <a:pt x="75" y="68"/>
                  </a:lnTo>
                  <a:lnTo>
                    <a:pt x="152" y="13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562240" y="5734080"/>
              <a:ext cx="13320" cy="23400"/>
            </a:xfrm>
            <a:custGeom>
              <a:avLst/>
              <a:gdLst/>
              <a:ahLst/>
              <a:rect l="l" t="t" r="r" b="b"/>
              <a:pathLst>
                <a:path w="201" h="751">
                  <a:moveTo>
                    <a:pt x="144" y="143"/>
                  </a:moveTo>
                  <a:lnTo>
                    <a:pt x="201" y="751"/>
                  </a:lnTo>
                  <a:lnTo>
                    <a:pt x="132" y="682"/>
                  </a:lnTo>
                  <a:lnTo>
                    <a:pt x="63" y="611"/>
                  </a:lnTo>
                  <a:lnTo>
                    <a:pt x="0" y="0"/>
                  </a:lnTo>
                  <a:lnTo>
                    <a:pt x="71" y="73"/>
                  </a:lnTo>
                  <a:lnTo>
                    <a:pt x="144" y="14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553960" y="5729400"/>
              <a:ext cx="12600" cy="23400"/>
            </a:xfrm>
            <a:custGeom>
              <a:avLst/>
              <a:gdLst/>
              <a:ahLst/>
              <a:rect l="l" t="t" r="r" b="b"/>
              <a:pathLst>
                <a:path w="197" h="764">
                  <a:moveTo>
                    <a:pt x="134" y="153"/>
                  </a:moveTo>
                  <a:lnTo>
                    <a:pt x="197" y="764"/>
                  </a:lnTo>
                  <a:lnTo>
                    <a:pt x="130" y="691"/>
                  </a:lnTo>
                  <a:lnTo>
                    <a:pt x="66" y="615"/>
                  </a:lnTo>
                  <a:lnTo>
                    <a:pt x="0" y="0"/>
                  </a:lnTo>
                  <a:lnTo>
                    <a:pt x="67" y="78"/>
                  </a:lnTo>
                  <a:lnTo>
                    <a:pt x="134" y="15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546040" y="5724000"/>
              <a:ext cx="11520" cy="24480"/>
            </a:xfrm>
            <a:custGeom>
              <a:avLst/>
              <a:gdLst/>
              <a:ahLst/>
              <a:rect l="l" t="t" r="r" b="b"/>
              <a:pathLst>
                <a:path w="191" h="780">
                  <a:moveTo>
                    <a:pt x="125" y="165"/>
                  </a:moveTo>
                  <a:lnTo>
                    <a:pt x="191" y="780"/>
                  </a:lnTo>
                  <a:lnTo>
                    <a:pt x="129" y="701"/>
                  </a:lnTo>
                  <a:lnTo>
                    <a:pt x="70" y="620"/>
                  </a:lnTo>
                  <a:lnTo>
                    <a:pt x="0" y="0"/>
                  </a:lnTo>
                  <a:lnTo>
                    <a:pt x="62" y="83"/>
                  </a:lnTo>
                  <a:lnTo>
                    <a:pt x="125" y="165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534160" y="5723640"/>
              <a:ext cx="16200" cy="19440"/>
            </a:xfrm>
            <a:custGeom>
              <a:avLst/>
              <a:gdLst/>
              <a:ahLst/>
              <a:rect l="l" t="t" r="r" b="b"/>
              <a:pathLst>
                <a:path w="250" h="643">
                  <a:moveTo>
                    <a:pt x="180" y="23"/>
                  </a:moveTo>
                  <a:lnTo>
                    <a:pt x="250" y="643"/>
                  </a:lnTo>
                  <a:lnTo>
                    <a:pt x="162" y="632"/>
                  </a:lnTo>
                  <a:lnTo>
                    <a:pt x="73" y="621"/>
                  </a:lnTo>
                  <a:lnTo>
                    <a:pt x="0" y="0"/>
                  </a:lnTo>
                  <a:lnTo>
                    <a:pt x="90" y="13"/>
                  </a:lnTo>
                  <a:lnTo>
                    <a:pt x="180" y="23"/>
                  </a:lnTo>
                  <a:close/>
                </a:path>
              </a:pathLst>
            </a:custGeom>
            <a:solidFill>
              <a:srgbClr val="535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522280" y="5722200"/>
              <a:ext cx="16200" cy="20160"/>
            </a:xfrm>
            <a:custGeom>
              <a:avLst/>
              <a:gdLst/>
              <a:ahLst/>
              <a:rect l="l" t="t" r="r" b="b"/>
              <a:pathLst>
                <a:path w="254" h="650">
                  <a:moveTo>
                    <a:pt x="181" y="29"/>
                  </a:moveTo>
                  <a:lnTo>
                    <a:pt x="254" y="650"/>
                  </a:lnTo>
                  <a:lnTo>
                    <a:pt x="167" y="636"/>
                  </a:lnTo>
                  <a:lnTo>
                    <a:pt x="80" y="621"/>
                  </a:lnTo>
                  <a:lnTo>
                    <a:pt x="0" y="0"/>
                  </a:lnTo>
                  <a:lnTo>
                    <a:pt x="90" y="16"/>
                  </a:lnTo>
                  <a:lnTo>
                    <a:pt x="181" y="29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510400" y="5721480"/>
              <a:ext cx="16920" cy="20160"/>
            </a:xfrm>
            <a:custGeom>
              <a:avLst/>
              <a:gdLst/>
              <a:ahLst/>
              <a:rect l="l" t="t" r="r" b="b"/>
              <a:pathLst>
                <a:path w="258" h="656">
                  <a:moveTo>
                    <a:pt x="178" y="35"/>
                  </a:moveTo>
                  <a:lnTo>
                    <a:pt x="258" y="656"/>
                  </a:lnTo>
                  <a:lnTo>
                    <a:pt x="171" y="639"/>
                  </a:lnTo>
                  <a:lnTo>
                    <a:pt x="85" y="621"/>
                  </a:lnTo>
                  <a:lnTo>
                    <a:pt x="0" y="0"/>
                  </a:lnTo>
                  <a:lnTo>
                    <a:pt x="89" y="18"/>
                  </a:lnTo>
                  <a:lnTo>
                    <a:pt x="178" y="35"/>
                  </a:lnTo>
                  <a:close/>
                </a:path>
              </a:pathLst>
            </a:custGeom>
            <a:solidFill>
              <a:srgbClr val="45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499600" y="5719680"/>
              <a:ext cx="16200" cy="20880"/>
            </a:xfrm>
            <a:custGeom>
              <a:avLst/>
              <a:gdLst/>
              <a:ahLst/>
              <a:rect l="l" t="t" r="r" b="b"/>
              <a:pathLst>
                <a:path w="262" h="665">
                  <a:moveTo>
                    <a:pt x="177" y="44"/>
                  </a:moveTo>
                  <a:lnTo>
                    <a:pt x="262" y="665"/>
                  </a:lnTo>
                  <a:lnTo>
                    <a:pt x="176" y="646"/>
                  </a:lnTo>
                  <a:lnTo>
                    <a:pt x="89" y="624"/>
                  </a:lnTo>
                  <a:lnTo>
                    <a:pt x="0" y="0"/>
                  </a:lnTo>
                  <a:lnTo>
                    <a:pt x="88" y="23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3c3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487720" y="5718240"/>
              <a:ext cx="17280" cy="20880"/>
            </a:xfrm>
            <a:custGeom>
              <a:avLst/>
              <a:gdLst/>
              <a:ahLst/>
              <a:rect l="l" t="t" r="r" b="b"/>
              <a:pathLst>
                <a:path w="264" h="673">
                  <a:moveTo>
                    <a:pt x="175" y="49"/>
                  </a:moveTo>
                  <a:lnTo>
                    <a:pt x="264" y="673"/>
                  </a:lnTo>
                  <a:lnTo>
                    <a:pt x="179" y="649"/>
                  </a:lnTo>
                  <a:lnTo>
                    <a:pt x="95" y="624"/>
                  </a:lnTo>
                  <a:lnTo>
                    <a:pt x="0" y="0"/>
                  </a:lnTo>
                  <a:lnTo>
                    <a:pt x="87" y="25"/>
                  </a:lnTo>
                  <a:lnTo>
                    <a:pt x="175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476920" y="5716440"/>
              <a:ext cx="16920" cy="21600"/>
            </a:xfrm>
            <a:custGeom>
              <a:avLst/>
              <a:gdLst/>
              <a:ahLst/>
              <a:rect l="l" t="t" r="r" b="b"/>
              <a:pathLst>
                <a:path w="266" h="681">
                  <a:moveTo>
                    <a:pt x="171" y="57"/>
                  </a:moveTo>
                  <a:lnTo>
                    <a:pt x="266" y="681"/>
                  </a:lnTo>
                  <a:lnTo>
                    <a:pt x="182" y="654"/>
                  </a:lnTo>
                  <a:lnTo>
                    <a:pt x="99" y="625"/>
                  </a:lnTo>
                  <a:lnTo>
                    <a:pt x="0" y="0"/>
                  </a:lnTo>
                  <a:lnTo>
                    <a:pt x="85" y="29"/>
                  </a:lnTo>
                  <a:lnTo>
                    <a:pt x="171" y="57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466120" y="5714280"/>
              <a:ext cx="16920" cy="21600"/>
            </a:xfrm>
            <a:custGeom>
              <a:avLst/>
              <a:gdLst/>
              <a:ahLst/>
              <a:rect l="l" t="t" r="r" b="b"/>
              <a:pathLst>
                <a:path w="269" h="690">
                  <a:moveTo>
                    <a:pt x="170" y="65"/>
                  </a:moveTo>
                  <a:lnTo>
                    <a:pt x="269" y="690"/>
                  </a:lnTo>
                  <a:lnTo>
                    <a:pt x="187" y="660"/>
                  </a:lnTo>
                  <a:lnTo>
                    <a:pt x="105" y="628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170" y="6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454960" y="5712480"/>
              <a:ext cx="16920" cy="21600"/>
            </a:xfrm>
            <a:custGeom>
              <a:avLst/>
              <a:gdLst/>
              <a:ahLst/>
              <a:rect l="l" t="t" r="r" b="b"/>
              <a:pathLst>
                <a:path w="270" h="700">
                  <a:moveTo>
                    <a:pt x="165" y="72"/>
                  </a:moveTo>
                  <a:lnTo>
                    <a:pt x="270" y="700"/>
                  </a:lnTo>
                  <a:lnTo>
                    <a:pt x="190" y="666"/>
                  </a:lnTo>
                  <a:lnTo>
                    <a:pt x="110" y="629"/>
                  </a:lnTo>
                  <a:lnTo>
                    <a:pt x="0" y="0"/>
                  </a:lnTo>
                  <a:lnTo>
                    <a:pt x="82" y="37"/>
                  </a:lnTo>
                  <a:lnTo>
                    <a:pt x="165" y="72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444880" y="5709600"/>
              <a:ext cx="17280" cy="22320"/>
            </a:xfrm>
            <a:custGeom>
              <a:avLst/>
              <a:gdLst/>
              <a:ahLst/>
              <a:rect l="l" t="t" r="r" b="b"/>
              <a:pathLst>
                <a:path w="270" h="709">
                  <a:moveTo>
                    <a:pt x="160" y="80"/>
                  </a:moveTo>
                  <a:lnTo>
                    <a:pt x="270" y="709"/>
                  </a:lnTo>
                  <a:lnTo>
                    <a:pt x="191" y="672"/>
                  </a:lnTo>
                  <a:lnTo>
                    <a:pt x="114" y="632"/>
                  </a:lnTo>
                  <a:lnTo>
                    <a:pt x="0" y="0"/>
                  </a:lnTo>
                  <a:lnTo>
                    <a:pt x="80" y="41"/>
                  </a:lnTo>
                  <a:lnTo>
                    <a:pt x="160" y="8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434080" y="5707080"/>
              <a:ext cx="18000" cy="22320"/>
            </a:xfrm>
            <a:custGeom>
              <a:avLst/>
              <a:gdLst/>
              <a:ahLst/>
              <a:rect l="l" t="t" r="r" b="b"/>
              <a:pathLst>
                <a:path w="270" h="719">
                  <a:moveTo>
                    <a:pt x="156" y="87"/>
                  </a:moveTo>
                  <a:lnTo>
                    <a:pt x="270" y="719"/>
                  </a:lnTo>
                  <a:lnTo>
                    <a:pt x="193" y="677"/>
                  </a:lnTo>
                  <a:lnTo>
                    <a:pt x="118" y="634"/>
                  </a:lnTo>
                  <a:lnTo>
                    <a:pt x="0" y="0"/>
                  </a:lnTo>
                  <a:lnTo>
                    <a:pt x="77" y="44"/>
                  </a:lnTo>
                  <a:lnTo>
                    <a:pt x="156" y="87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425080" y="5703840"/>
              <a:ext cx="17280" cy="22680"/>
            </a:xfrm>
            <a:custGeom>
              <a:avLst/>
              <a:gdLst/>
              <a:ahLst/>
              <a:rect l="l" t="t" r="r" b="b"/>
              <a:pathLst>
                <a:path w="268" h="730">
                  <a:moveTo>
                    <a:pt x="150" y="96"/>
                  </a:moveTo>
                  <a:lnTo>
                    <a:pt x="268" y="730"/>
                  </a:lnTo>
                  <a:lnTo>
                    <a:pt x="195" y="684"/>
                  </a:lnTo>
                  <a:lnTo>
                    <a:pt x="122" y="636"/>
                  </a:lnTo>
                  <a:lnTo>
                    <a:pt x="0" y="0"/>
                  </a:lnTo>
                  <a:lnTo>
                    <a:pt x="75" y="49"/>
                  </a:lnTo>
                  <a:lnTo>
                    <a:pt x="150" y="96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415000" y="5700600"/>
              <a:ext cx="16920" cy="23400"/>
            </a:xfrm>
            <a:custGeom>
              <a:avLst/>
              <a:gdLst/>
              <a:ahLst/>
              <a:rect l="l" t="t" r="r" b="b"/>
              <a:pathLst>
                <a:path w="268" h="740">
                  <a:moveTo>
                    <a:pt x="146" y="104"/>
                  </a:moveTo>
                  <a:lnTo>
                    <a:pt x="268" y="740"/>
                  </a:lnTo>
                  <a:lnTo>
                    <a:pt x="197" y="691"/>
                  </a:lnTo>
                  <a:lnTo>
                    <a:pt x="127" y="639"/>
                  </a:lnTo>
                  <a:lnTo>
                    <a:pt x="0" y="0"/>
                  </a:lnTo>
                  <a:lnTo>
                    <a:pt x="72" y="53"/>
                  </a:lnTo>
                  <a:lnTo>
                    <a:pt x="146" y="104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406000" y="5697360"/>
              <a:ext cx="16920" cy="23400"/>
            </a:xfrm>
            <a:custGeom>
              <a:avLst/>
              <a:gdLst/>
              <a:ahLst/>
              <a:rect l="l" t="t" r="r" b="b"/>
              <a:pathLst>
                <a:path w="265" h="752">
                  <a:moveTo>
                    <a:pt x="138" y="113"/>
                  </a:moveTo>
                  <a:lnTo>
                    <a:pt x="265" y="752"/>
                  </a:lnTo>
                  <a:lnTo>
                    <a:pt x="198" y="699"/>
                  </a:lnTo>
                  <a:lnTo>
                    <a:pt x="131" y="643"/>
                  </a:lnTo>
                  <a:lnTo>
                    <a:pt x="0" y="0"/>
                  </a:lnTo>
                  <a:lnTo>
                    <a:pt x="68" y="57"/>
                  </a:lnTo>
                  <a:lnTo>
                    <a:pt x="138" y="11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397720" y="5693040"/>
              <a:ext cx="17280" cy="24120"/>
            </a:xfrm>
            <a:custGeom>
              <a:avLst/>
              <a:gdLst/>
              <a:ahLst/>
              <a:rect l="l" t="t" r="r" b="b"/>
              <a:pathLst>
                <a:path w="263" h="764">
                  <a:moveTo>
                    <a:pt x="132" y="121"/>
                  </a:moveTo>
                  <a:lnTo>
                    <a:pt x="263" y="764"/>
                  </a:lnTo>
                  <a:lnTo>
                    <a:pt x="197" y="706"/>
                  </a:lnTo>
                  <a:lnTo>
                    <a:pt x="135" y="646"/>
                  </a:lnTo>
                  <a:lnTo>
                    <a:pt x="0" y="0"/>
                  </a:lnTo>
                  <a:lnTo>
                    <a:pt x="65" y="62"/>
                  </a:lnTo>
                  <a:lnTo>
                    <a:pt x="132" y="12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389440" y="5689440"/>
              <a:ext cx="17280" cy="24120"/>
            </a:xfrm>
            <a:custGeom>
              <a:avLst/>
              <a:gdLst/>
              <a:ahLst/>
              <a:rect l="l" t="t" r="r" b="b"/>
              <a:pathLst>
                <a:path w="260" h="776">
                  <a:moveTo>
                    <a:pt x="125" y="130"/>
                  </a:moveTo>
                  <a:lnTo>
                    <a:pt x="260" y="776"/>
                  </a:lnTo>
                  <a:lnTo>
                    <a:pt x="198" y="713"/>
                  </a:lnTo>
                  <a:lnTo>
                    <a:pt x="139" y="650"/>
                  </a:lnTo>
                  <a:lnTo>
                    <a:pt x="0" y="0"/>
                  </a:lnTo>
                  <a:lnTo>
                    <a:pt x="62" y="67"/>
                  </a:lnTo>
                  <a:lnTo>
                    <a:pt x="125" y="13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382240" y="5684760"/>
              <a:ext cx="16200" cy="24840"/>
            </a:xfrm>
            <a:custGeom>
              <a:avLst/>
              <a:gdLst/>
              <a:ahLst/>
              <a:rect l="l" t="t" r="r" b="b"/>
              <a:pathLst>
                <a:path w="256" h="788">
                  <a:moveTo>
                    <a:pt x="117" y="138"/>
                  </a:moveTo>
                  <a:lnTo>
                    <a:pt x="256" y="788"/>
                  </a:lnTo>
                  <a:lnTo>
                    <a:pt x="197" y="721"/>
                  </a:lnTo>
                  <a:lnTo>
                    <a:pt x="142" y="653"/>
                  </a:lnTo>
                  <a:lnTo>
                    <a:pt x="0" y="0"/>
                  </a:lnTo>
                  <a:lnTo>
                    <a:pt x="58" y="70"/>
                  </a:lnTo>
                  <a:lnTo>
                    <a:pt x="117" y="138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347680" y="5648400"/>
              <a:ext cx="20880" cy="21600"/>
            </a:xfrm>
            <a:custGeom>
              <a:avLst/>
              <a:gdLst/>
              <a:ahLst/>
              <a:rect l="l" t="t" r="r" b="b"/>
              <a:pathLst>
                <a:path w="332" h="686">
                  <a:moveTo>
                    <a:pt x="182" y="0"/>
                  </a:moveTo>
                  <a:lnTo>
                    <a:pt x="332" y="684"/>
                  </a:lnTo>
                  <a:lnTo>
                    <a:pt x="244" y="686"/>
                  </a:lnTo>
                  <a:lnTo>
                    <a:pt x="156" y="685"/>
                  </a:lnTo>
                  <a:lnTo>
                    <a:pt x="0" y="0"/>
                  </a:lnTo>
                  <a:lnTo>
                    <a:pt x="91" y="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335800" y="5648400"/>
              <a:ext cx="21600" cy="21600"/>
            </a:xfrm>
            <a:custGeom>
              <a:avLst/>
              <a:gdLst/>
              <a:ahLst/>
              <a:rect l="l" t="t" r="r" b="b"/>
              <a:pathLst>
                <a:path w="336" h="694">
                  <a:moveTo>
                    <a:pt x="180" y="9"/>
                  </a:moveTo>
                  <a:lnTo>
                    <a:pt x="336" y="694"/>
                  </a:lnTo>
                  <a:lnTo>
                    <a:pt x="249" y="689"/>
                  </a:lnTo>
                  <a:lnTo>
                    <a:pt x="161" y="684"/>
                  </a:lnTo>
                  <a:lnTo>
                    <a:pt x="0" y="0"/>
                  </a:lnTo>
                  <a:lnTo>
                    <a:pt x="90" y="6"/>
                  </a:lnTo>
                  <a:lnTo>
                    <a:pt x="180" y="9"/>
                  </a:lnTo>
                  <a:close/>
                </a:path>
              </a:pathLst>
            </a:custGeom>
            <a:solidFill>
              <a:srgbClr val="5f6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324280" y="5647680"/>
              <a:ext cx="21600" cy="21600"/>
            </a:xfrm>
            <a:custGeom>
              <a:avLst/>
              <a:gdLst/>
              <a:ahLst/>
              <a:rect l="l" t="t" r="r" b="b"/>
              <a:pathLst>
                <a:path w="341" h="704">
                  <a:moveTo>
                    <a:pt x="180" y="20"/>
                  </a:moveTo>
                  <a:lnTo>
                    <a:pt x="341" y="704"/>
                  </a:lnTo>
                  <a:lnTo>
                    <a:pt x="253" y="696"/>
                  </a:lnTo>
                  <a:lnTo>
                    <a:pt x="166" y="685"/>
                  </a:lnTo>
                  <a:lnTo>
                    <a:pt x="0" y="0"/>
                  </a:lnTo>
                  <a:lnTo>
                    <a:pt x="89" y="12"/>
                  </a:lnTo>
                  <a:lnTo>
                    <a:pt x="180" y="20"/>
                  </a:lnTo>
                  <a:close/>
                </a:path>
              </a:pathLst>
            </a:custGeom>
            <a:solidFill>
              <a:srgbClr val="55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312040" y="5646600"/>
              <a:ext cx="22680" cy="22320"/>
            </a:xfrm>
            <a:custGeom>
              <a:avLst/>
              <a:gdLst/>
              <a:ahLst/>
              <a:rect l="l" t="t" r="r" b="b"/>
              <a:pathLst>
                <a:path w="343" h="713">
                  <a:moveTo>
                    <a:pt x="177" y="28"/>
                  </a:moveTo>
                  <a:lnTo>
                    <a:pt x="343" y="713"/>
                  </a:lnTo>
                  <a:lnTo>
                    <a:pt x="257" y="700"/>
                  </a:lnTo>
                  <a:lnTo>
                    <a:pt x="171" y="685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77" y="28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301240" y="5645880"/>
              <a:ext cx="21600" cy="22320"/>
            </a:xfrm>
            <a:custGeom>
              <a:avLst/>
              <a:gdLst/>
              <a:ahLst/>
              <a:rect l="l" t="t" r="r" b="b"/>
              <a:pathLst>
                <a:path w="345" h="724">
                  <a:moveTo>
                    <a:pt x="174" y="39"/>
                  </a:moveTo>
                  <a:lnTo>
                    <a:pt x="345" y="724"/>
                  </a:lnTo>
                  <a:lnTo>
                    <a:pt x="261" y="707"/>
                  </a:lnTo>
                  <a:lnTo>
                    <a:pt x="177" y="686"/>
                  </a:lnTo>
                  <a:lnTo>
                    <a:pt x="0" y="0"/>
                  </a:lnTo>
                  <a:lnTo>
                    <a:pt x="87" y="20"/>
                  </a:lnTo>
                  <a:lnTo>
                    <a:pt x="174" y="39"/>
                  </a:lnTo>
                  <a:close/>
                </a:path>
              </a:pathLst>
            </a:custGeom>
            <a:solidFill>
              <a:srgbClr val="3f3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290440" y="5643720"/>
              <a:ext cx="21600" cy="23040"/>
            </a:xfrm>
            <a:custGeom>
              <a:avLst/>
              <a:gdLst/>
              <a:ahLst/>
              <a:rect l="l" t="t" r="r" b="b"/>
              <a:pathLst>
                <a:path w="348" h="735">
                  <a:moveTo>
                    <a:pt x="171" y="49"/>
                  </a:moveTo>
                  <a:lnTo>
                    <a:pt x="348" y="735"/>
                  </a:lnTo>
                  <a:lnTo>
                    <a:pt x="264" y="712"/>
                  </a:lnTo>
                  <a:lnTo>
                    <a:pt x="182" y="687"/>
                  </a:lnTo>
                  <a:lnTo>
                    <a:pt x="0" y="0"/>
                  </a:lnTo>
                  <a:lnTo>
                    <a:pt x="85" y="26"/>
                  </a:lnTo>
                  <a:lnTo>
                    <a:pt x="171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279640" y="5641920"/>
              <a:ext cx="21600" cy="23400"/>
            </a:xfrm>
            <a:custGeom>
              <a:avLst/>
              <a:gdLst/>
              <a:ahLst/>
              <a:rect l="l" t="t" r="r" b="b"/>
              <a:pathLst>
                <a:path w="347" h="747">
                  <a:moveTo>
                    <a:pt x="165" y="60"/>
                  </a:moveTo>
                  <a:lnTo>
                    <a:pt x="347" y="747"/>
                  </a:lnTo>
                  <a:lnTo>
                    <a:pt x="266" y="720"/>
                  </a:lnTo>
                  <a:lnTo>
                    <a:pt x="186" y="690"/>
                  </a:lnTo>
                  <a:lnTo>
                    <a:pt x="0" y="0"/>
                  </a:lnTo>
                  <a:lnTo>
                    <a:pt x="82" y="31"/>
                  </a:lnTo>
                  <a:lnTo>
                    <a:pt x="165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268480" y="5639760"/>
              <a:ext cx="22680" cy="23400"/>
            </a:xfrm>
            <a:custGeom>
              <a:avLst/>
              <a:gdLst/>
              <a:ahLst/>
              <a:rect l="l" t="t" r="r" b="b"/>
              <a:pathLst>
                <a:path w="347" h="759">
                  <a:moveTo>
                    <a:pt x="161" y="69"/>
                  </a:moveTo>
                  <a:lnTo>
                    <a:pt x="347" y="759"/>
                  </a:lnTo>
                  <a:lnTo>
                    <a:pt x="268" y="726"/>
                  </a:lnTo>
                  <a:lnTo>
                    <a:pt x="190" y="692"/>
                  </a:lnTo>
                  <a:lnTo>
                    <a:pt x="0" y="0"/>
                  </a:lnTo>
                  <a:lnTo>
                    <a:pt x="80" y="36"/>
                  </a:lnTo>
                  <a:lnTo>
                    <a:pt x="161" y="6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258400" y="5637240"/>
              <a:ext cx="22680" cy="24480"/>
            </a:xfrm>
            <a:custGeom>
              <a:avLst/>
              <a:gdLst/>
              <a:ahLst/>
              <a:rect l="l" t="t" r="r" b="b"/>
              <a:pathLst>
                <a:path w="345" h="771">
                  <a:moveTo>
                    <a:pt x="155" y="79"/>
                  </a:moveTo>
                  <a:lnTo>
                    <a:pt x="345" y="771"/>
                  </a:lnTo>
                  <a:lnTo>
                    <a:pt x="269" y="734"/>
                  </a:lnTo>
                  <a:lnTo>
                    <a:pt x="195" y="693"/>
                  </a:lnTo>
                  <a:lnTo>
                    <a:pt x="0" y="0"/>
                  </a:lnTo>
                  <a:lnTo>
                    <a:pt x="76" y="41"/>
                  </a:lnTo>
                  <a:lnTo>
                    <a:pt x="155" y="7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249400" y="5634720"/>
              <a:ext cx="21600" cy="24120"/>
            </a:xfrm>
            <a:custGeom>
              <a:avLst/>
              <a:gdLst/>
              <a:ahLst/>
              <a:rect l="l" t="t" r="r" b="b"/>
              <a:pathLst>
                <a:path w="344" h="782">
                  <a:moveTo>
                    <a:pt x="149" y="89"/>
                  </a:moveTo>
                  <a:lnTo>
                    <a:pt x="344" y="782"/>
                  </a:lnTo>
                  <a:lnTo>
                    <a:pt x="270" y="740"/>
                  </a:lnTo>
                  <a:lnTo>
                    <a:pt x="199" y="695"/>
                  </a:lnTo>
                  <a:lnTo>
                    <a:pt x="0" y="0"/>
                  </a:lnTo>
                  <a:lnTo>
                    <a:pt x="73" y="46"/>
                  </a:lnTo>
                  <a:lnTo>
                    <a:pt x="149" y="89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239680" y="5631480"/>
              <a:ext cx="22680" cy="24840"/>
            </a:xfrm>
            <a:custGeom>
              <a:avLst/>
              <a:gdLst/>
              <a:ahLst/>
              <a:rect l="l" t="t" r="r" b="b"/>
              <a:pathLst>
                <a:path w="340" h="795">
                  <a:moveTo>
                    <a:pt x="141" y="100"/>
                  </a:moveTo>
                  <a:lnTo>
                    <a:pt x="340" y="795"/>
                  </a:lnTo>
                  <a:lnTo>
                    <a:pt x="271" y="748"/>
                  </a:lnTo>
                  <a:lnTo>
                    <a:pt x="203" y="698"/>
                  </a:lnTo>
                  <a:lnTo>
                    <a:pt x="0" y="0"/>
                  </a:lnTo>
                  <a:lnTo>
                    <a:pt x="70" y="51"/>
                  </a:lnTo>
                  <a:lnTo>
                    <a:pt x="141" y="100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231400" y="5627880"/>
              <a:ext cx="21600" cy="25560"/>
            </a:xfrm>
            <a:custGeom>
              <a:avLst/>
              <a:gdLst/>
              <a:ahLst/>
              <a:rect l="l" t="t" r="r" b="b"/>
              <a:pathLst>
                <a:path w="336" h="809">
                  <a:moveTo>
                    <a:pt x="133" y="111"/>
                  </a:moveTo>
                  <a:lnTo>
                    <a:pt x="336" y="809"/>
                  </a:lnTo>
                  <a:lnTo>
                    <a:pt x="270" y="756"/>
                  </a:lnTo>
                  <a:lnTo>
                    <a:pt x="207" y="701"/>
                  </a:lnTo>
                  <a:lnTo>
                    <a:pt x="0" y="0"/>
                  </a:lnTo>
                  <a:lnTo>
                    <a:pt x="65" y="57"/>
                  </a:lnTo>
                  <a:lnTo>
                    <a:pt x="133" y="11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223120" y="5623920"/>
              <a:ext cx="21600" cy="25560"/>
            </a:xfrm>
            <a:custGeom>
              <a:avLst/>
              <a:gdLst/>
              <a:ahLst/>
              <a:rect l="l" t="t" r="r" b="b"/>
              <a:pathLst>
                <a:path w="331" h="822">
                  <a:moveTo>
                    <a:pt x="124" y="121"/>
                  </a:moveTo>
                  <a:lnTo>
                    <a:pt x="331" y="822"/>
                  </a:lnTo>
                  <a:lnTo>
                    <a:pt x="269" y="764"/>
                  </a:lnTo>
                  <a:lnTo>
                    <a:pt x="210" y="705"/>
                  </a:lnTo>
                  <a:lnTo>
                    <a:pt x="0" y="0"/>
                  </a:lnTo>
                  <a:lnTo>
                    <a:pt x="60" y="62"/>
                  </a:lnTo>
                  <a:lnTo>
                    <a:pt x="124" y="12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215920" y="5619960"/>
              <a:ext cx="20520" cy="26280"/>
            </a:xfrm>
            <a:custGeom>
              <a:avLst/>
              <a:gdLst/>
              <a:ahLst/>
              <a:rect l="l" t="t" r="r" b="b"/>
              <a:pathLst>
                <a:path w="325" h="837">
                  <a:moveTo>
                    <a:pt x="115" y="132"/>
                  </a:moveTo>
                  <a:lnTo>
                    <a:pt x="325" y="837"/>
                  </a:lnTo>
                  <a:lnTo>
                    <a:pt x="267" y="773"/>
                  </a:lnTo>
                  <a:lnTo>
                    <a:pt x="213" y="709"/>
                  </a:lnTo>
                  <a:lnTo>
                    <a:pt x="0" y="0"/>
                  </a:lnTo>
                  <a:lnTo>
                    <a:pt x="56" y="68"/>
                  </a:lnTo>
                  <a:lnTo>
                    <a:pt x="11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208720" y="5615640"/>
              <a:ext cx="20520" cy="27000"/>
            </a:xfrm>
            <a:custGeom>
              <a:avLst/>
              <a:gdLst/>
              <a:ahLst/>
              <a:rect l="l" t="t" r="r" b="b"/>
              <a:pathLst>
                <a:path w="319" h="850">
                  <a:moveTo>
                    <a:pt x="106" y="141"/>
                  </a:moveTo>
                  <a:lnTo>
                    <a:pt x="319" y="850"/>
                  </a:lnTo>
                  <a:lnTo>
                    <a:pt x="267" y="781"/>
                  </a:lnTo>
                  <a:lnTo>
                    <a:pt x="216" y="711"/>
                  </a:lnTo>
                  <a:lnTo>
                    <a:pt x="0" y="0"/>
                  </a:lnTo>
                  <a:lnTo>
                    <a:pt x="51" y="72"/>
                  </a:lnTo>
                  <a:lnTo>
                    <a:pt x="106" y="14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202960" y="5610960"/>
              <a:ext cx="19800" cy="27000"/>
            </a:xfrm>
            <a:custGeom>
              <a:avLst/>
              <a:gdLst/>
              <a:ahLst/>
              <a:rect l="l" t="t" r="r" b="b"/>
              <a:pathLst>
                <a:path w="310" h="864">
                  <a:moveTo>
                    <a:pt x="94" y="153"/>
                  </a:moveTo>
                  <a:lnTo>
                    <a:pt x="310" y="864"/>
                  </a:lnTo>
                  <a:lnTo>
                    <a:pt x="263" y="791"/>
                  </a:lnTo>
                  <a:lnTo>
                    <a:pt x="219" y="715"/>
                  </a:lnTo>
                  <a:lnTo>
                    <a:pt x="0" y="0"/>
                  </a:lnTo>
                  <a:lnTo>
                    <a:pt x="46" y="78"/>
                  </a:lnTo>
                  <a:lnTo>
                    <a:pt x="94" y="153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358480" y="5648400"/>
              <a:ext cx="12600" cy="22320"/>
            </a:xfrm>
            <a:custGeom>
              <a:avLst/>
              <a:gdLst/>
              <a:ahLst/>
              <a:rect l="l" t="t" r="r" b="b"/>
              <a:pathLst>
                <a:path w="187" h="722">
                  <a:moveTo>
                    <a:pt x="38" y="40"/>
                  </a:moveTo>
                  <a:lnTo>
                    <a:pt x="187" y="722"/>
                  </a:lnTo>
                  <a:lnTo>
                    <a:pt x="182" y="718"/>
                  </a:lnTo>
                  <a:lnTo>
                    <a:pt x="178" y="713"/>
                  </a:lnTo>
                  <a:lnTo>
                    <a:pt x="173" y="708"/>
                  </a:lnTo>
                  <a:lnTo>
                    <a:pt x="169" y="703"/>
                  </a:lnTo>
                  <a:lnTo>
                    <a:pt x="165" y="698"/>
                  </a:lnTo>
                  <a:lnTo>
                    <a:pt x="160" y="694"/>
                  </a:lnTo>
                  <a:lnTo>
                    <a:pt x="155" y="689"/>
                  </a:lnTo>
                  <a:lnTo>
                    <a:pt x="150" y="684"/>
                  </a:lnTo>
                  <a:lnTo>
                    <a:pt x="0" y="0"/>
                  </a:lnTo>
                  <a:lnTo>
                    <a:pt x="5" y="6"/>
                  </a:lnTo>
                  <a:lnTo>
                    <a:pt x="9" y="11"/>
                  </a:lnTo>
                  <a:lnTo>
                    <a:pt x="14" y="15"/>
                  </a:lnTo>
                  <a:lnTo>
                    <a:pt x="18" y="20"/>
                  </a:lnTo>
                  <a:lnTo>
                    <a:pt x="23" y="25"/>
                  </a:lnTo>
                  <a:lnTo>
                    <a:pt x="28" y="31"/>
                  </a:lnTo>
                  <a:lnTo>
                    <a:pt x="32" y="35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375040" y="5680080"/>
              <a:ext cx="16200" cy="25560"/>
            </a:xfrm>
            <a:custGeom>
              <a:avLst/>
              <a:gdLst/>
              <a:ahLst/>
              <a:rect l="l" t="t" r="r" b="b"/>
              <a:pathLst>
                <a:path w="246" h="814">
                  <a:moveTo>
                    <a:pt x="104" y="161"/>
                  </a:moveTo>
                  <a:lnTo>
                    <a:pt x="246" y="814"/>
                  </a:lnTo>
                  <a:lnTo>
                    <a:pt x="224" y="783"/>
                  </a:lnTo>
                  <a:lnTo>
                    <a:pt x="203" y="752"/>
                  </a:lnTo>
                  <a:lnTo>
                    <a:pt x="182" y="721"/>
                  </a:lnTo>
                  <a:lnTo>
                    <a:pt x="163" y="690"/>
                  </a:lnTo>
                  <a:lnTo>
                    <a:pt x="143" y="657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40" y="65"/>
                  </a:lnTo>
                  <a:lnTo>
                    <a:pt x="60" y="97"/>
                  </a:lnTo>
                  <a:lnTo>
                    <a:pt x="82" y="129"/>
                  </a:lnTo>
                  <a:lnTo>
                    <a:pt x="104" y="161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369640" y="5674680"/>
              <a:ext cx="14400" cy="25560"/>
            </a:xfrm>
            <a:custGeom>
              <a:avLst/>
              <a:gdLst/>
              <a:ahLst/>
              <a:rect l="l" t="t" r="r" b="b"/>
              <a:pathLst>
                <a:path w="232" h="822">
                  <a:moveTo>
                    <a:pt x="89" y="165"/>
                  </a:moveTo>
                  <a:lnTo>
                    <a:pt x="232" y="822"/>
                  </a:lnTo>
                  <a:lnTo>
                    <a:pt x="214" y="791"/>
                  </a:lnTo>
                  <a:lnTo>
                    <a:pt x="196" y="759"/>
                  </a:lnTo>
                  <a:lnTo>
                    <a:pt x="179" y="727"/>
                  </a:lnTo>
                  <a:lnTo>
                    <a:pt x="163" y="694"/>
                  </a:lnTo>
                  <a:lnTo>
                    <a:pt x="146" y="661"/>
                  </a:lnTo>
                  <a:lnTo>
                    <a:pt x="0" y="0"/>
                  </a:lnTo>
                  <a:lnTo>
                    <a:pt x="16" y="33"/>
                  </a:lnTo>
                  <a:lnTo>
                    <a:pt x="33" y="66"/>
                  </a:lnTo>
                  <a:lnTo>
                    <a:pt x="51" y="100"/>
                  </a:lnTo>
                  <a:lnTo>
                    <a:pt x="69" y="133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8364240" y="5668200"/>
              <a:ext cx="14400" cy="26640"/>
            </a:xfrm>
            <a:custGeom>
              <a:avLst/>
              <a:gdLst/>
              <a:ahLst/>
              <a:rect l="l" t="t" r="r" b="b"/>
              <a:pathLst>
                <a:path w="226" h="869">
                  <a:moveTo>
                    <a:pt x="80" y="208"/>
                  </a:moveTo>
                  <a:lnTo>
                    <a:pt x="226" y="869"/>
                  </a:lnTo>
                  <a:lnTo>
                    <a:pt x="212" y="836"/>
                  </a:lnTo>
                  <a:lnTo>
                    <a:pt x="197" y="802"/>
                  </a:lnTo>
                  <a:lnTo>
                    <a:pt x="184" y="769"/>
                  </a:lnTo>
                  <a:lnTo>
                    <a:pt x="171" y="736"/>
                  </a:lnTo>
                  <a:lnTo>
                    <a:pt x="160" y="702"/>
                  </a:lnTo>
                  <a:lnTo>
                    <a:pt x="148" y="668"/>
                  </a:lnTo>
                  <a:lnTo>
                    <a:pt x="0" y="0"/>
                  </a:lnTo>
                  <a:lnTo>
                    <a:pt x="11" y="36"/>
                  </a:lnTo>
                  <a:lnTo>
                    <a:pt x="23" y="70"/>
                  </a:lnTo>
                  <a:lnTo>
                    <a:pt x="35" y="105"/>
                  </a:lnTo>
                  <a:lnTo>
                    <a:pt x="50" y="139"/>
                  </a:lnTo>
                  <a:lnTo>
                    <a:pt x="64" y="173"/>
                  </a:lnTo>
                  <a:lnTo>
                    <a:pt x="80" y="20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362440" y="5664960"/>
              <a:ext cx="11520" cy="24120"/>
            </a:xfrm>
            <a:custGeom>
              <a:avLst/>
              <a:gdLst/>
              <a:ahLst/>
              <a:rect l="l" t="t" r="r" b="b"/>
              <a:pathLst>
                <a:path w="177" h="774">
                  <a:moveTo>
                    <a:pt x="29" y="106"/>
                  </a:moveTo>
                  <a:lnTo>
                    <a:pt x="177" y="774"/>
                  </a:lnTo>
                  <a:lnTo>
                    <a:pt x="167" y="740"/>
                  </a:lnTo>
                  <a:lnTo>
                    <a:pt x="158" y="705"/>
                  </a:lnTo>
                  <a:lnTo>
                    <a:pt x="150" y="670"/>
                  </a:lnTo>
                  <a:lnTo>
                    <a:pt x="0" y="0"/>
                  </a:lnTo>
                  <a:lnTo>
                    <a:pt x="8" y="36"/>
                  </a:lnTo>
                  <a:lnTo>
                    <a:pt x="18" y="71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198640" y="5605560"/>
              <a:ext cx="18000" cy="27360"/>
            </a:xfrm>
            <a:custGeom>
              <a:avLst/>
              <a:gdLst/>
              <a:ahLst/>
              <a:rect l="l" t="t" r="r" b="b"/>
              <a:pathLst>
                <a:path w="289" h="872">
                  <a:moveTo>
                    <a:pt x="70" y="157"/>
                  </a:moveTo>
                  <a:lnTo>
                    <a:pt x="289" y="872"/>
                  </a:lnTo>
                  <a:lnTo>
                    <a:pt x="265" y="821"/>
                  </a:lnTo>
                  <a:lnTo>
                    <a:pt x="242" y="771"/>
                  </a:lnTo>
                  <a:lnTo>
                    <a:pt x="221" y="720"/>
                  </a:lnTo>
                  <a:lnTo>
                    <a:pt x="0" y="0"/>
                  </a:lnTo>
                  <a:lnTo>
                    <a:pt x="22" y="53"/>
                  </a:lnTo>
                  <a:lnTo>
                    <a:pt x="45" y="105"/>
                  </a:lnTo>
                  <a:lnTo>
                    <a:pt x="70" y="157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195040" y="5600880"/>
              <a:ext cx="16920" cy="27360"/>
            </a:xfrm>
            <a:custGeom>
              <a:avLst/>
              <a:gdLst/>
              <a:ahLst/>
              <a:rect l="l" t="t" r="r" b="b"/>
              <a:pathLst>
                <a:path w="274" h="875">
                  <a:moveTo>
                    <a:pt x="53" y="155"/>
                  </a:moveTo>
                  <a:lnTo>
                    <a:pt x="274" y="875"/>
                  </a:lnTo>
                  <a:lnTo>
                    <a:pt x="255" y="824"/>
                  </a:lnTo>
                  <a:lnTo>
                    <a:pt x="238" y="774"/>
                  </a:lnTo>
                  <a:lnTo>
                    <a:pt x="221" y="724"/>
                  </a:lnTo>
                  <a:lnTo>
                    <a:pt x="0" y="0"/>
                  </a:lnTo>
                  <a:lnTo>
                    <a:pt x="16" y="52"/>
                  </a:lnTo>
                  <a:lnTo>
                    <a:pt x="33" y="103"/>
                  </a:lnTo>
                  <a:lnTo>
                    <a:pt x="53" y="155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8316720" y="5523120"/>
              <a:ext cx="19080" cy="28800"/>
            </a:xfrm>
            <a:custGeom>
              <a:avLst/>
              <a:gdLst/>
              <a:ahLst/>
              <a:rect l="l" t="t" r="r" b="b"/>
              <a:pathLst>
                <a:path w="289" h="914">
                  <a:moveTo>
                    <a:pt x="125" y="132"/>
                  </a:moveTo>
                  <a:lnTo>
                    <a:pt x="289" y="914"/>
                  </a:lnTo>
                  <a:lnTo>
                    <a:pt x="256" y="883"/>
                  </a:lnTo>
                  <a:lnTo>
                    <a:pt x="225" y="851"/>
                  </a:lnTo>
                  <a:lnTo>
                    <a:pt x="195" y="818"/>
                  </a:lnTo>
                  <a:lnTo>
                    <a:pt x="168" y="785"/>
                  </a:lnTo>
                  <a:lnTo>
                    <a:pt x="0" y="0"/>
                  </a:lnTo>
                  <a:lnTo>
                    <a:pt x="29" y="33"/>
                  </a:lnTo>
                  <a:lnTo>
                    <a:pt x="60" y="67"/>
                  </a:lnTo>
                  <a:lnTo>
                    <a:pt x="92" y="100"/>
                  </a:lnTo>
                  <a:lnTo>
                    <a:pt x="12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308800" y="5518080"/>
              <a:ext cx="18720" cy="30240"/>
            </a:xfrm>
            <a:custGeom>
              <a:avLst/>
              <a:gdLst/>
              <a:ahLst/>
              <a:rect l="l" t="t" r="r" b="b"/>
              <a:pathLst>
                <a:path w="288" h="961">
                  <a:moveTo>
                    <a:pt x="120" y="176"/>
                  </a:moveTo>
                  <a:lnTo>
                    <a:pt x="288" y="961"/>
                  </a:lnTo>
                  <a:lnTo>
                    <a:pt x="261" y="928"/>
                  </a:lnTo>
                  <a:lnTo>
                    <a:pt x="236" y="894"/>
                  </a:lnTo>
                  <a:lnTo>
                    <a:pt x="213" y="860"/>
                  </a:lnTo>
                  <a:lnTo>
                    <a:pt x="191" y="826"/>
                  </a:lnTo>
                  <a:lnTo>
                    <a:pt x="171" y="790"/>
                  </a:lnTo>
                  <a:lnTo>
                    <a:pt x="0" y="0"/>
                  </a:lnTo>
                  <a:lnTo>
                    <a:pt x="21" y="36"/>
                  </a:lnTo>
                  <a:lnTo>
                    <a:pt x="43" y="72"/>
                  </a:lnTo>
                  <a:lnTo>
                    <a:pt x="68" y="107"/>
                  </a:lnTo>
                  <a:lnTo>
                    <a:pt x="94" y="141"/>
                  </a:lnTo>
                  <a:lnTo>
                    <a:pt x="120" y="176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304120" y="5511960"/>
              <a:ext cx="16200" cy="30600"/>
            </a:xfrm>
            <a:custGeom>
              <a:avLst/>
              <a:gdLst/>
              <a:ahLst/>
              <a:rect l="l" t="t" r="r" b="b"/>
              <a:pathLst>
                <a:path w="252" h="978">
                  <a:moveTo>
                    <a:pt x="81" y="188"/>
                  </a:moveTo>
                  <a:lnTo>
                    <a:pt x="252" y="978"/>
                  </a:lnTo>
                  <a:lnTo>
                    <a:pt x="232" y="942"/>
                  </a:lnTo>
                  <a:lnTo>
                    <a:pt x="216" y="906"/>
                  </a:lnTo>
                  <a:lnTo>
                    <a:pt x="199" y="870"/>
                  </a:lnTo>
                  <a:lnTo>
                    <a:pt x="186" y="833"/>
                  </a:lnTo>
                  <a:lnTo>
                    <a:pt x="173" y="795"/>
                  </a:lnTo>
                  <a:lnTo>
                    <a:pt x="0" y="0"/>
                  </a:lnTo>
                  <a:lnTo>
                    <a:pt x="14" y="39"/>
                  </a:lnTo>
                  <a:lnTo>
                    <a:pt x="28" y="76"/>
                  </a:lnTo>
                  <a:lnTo>
                    <a:pt x="43" y="114"/>
                  </a:lnTo>
                  <a:lnTo>
                    <a:pt x="62" y="151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302320" y="5509440"/>
              <a:ext cx="12600" cy="27360"/>
            </a:xfrm>
            <a:custGeom>
              <a:avLst/>
              <a:gdLst/>
              <a:ahLst/>
              <a:rect l="l" t="t" r="r" b="b"/>
              <a:pathLst>
                <a:path w="193" h="873">
                  <a:moveTo>
                    <a:pt x="20" y="78"/>
                  </a:moveTo>
                  <a:lnTo>
                    <a:pt x="193" y="873"/>
                  </a:lnTo>
                  <a:lnTo>
                    <a:pt x="182" y="836"/>
                  </a:lnTo>
                  <a:lnTo>
                    <a:pt x="173" y="798"/>
                  </a:lnTo>
                  <a:lnTo>
                    <a:pt x="0" y="0"/>
                  </a:lnTo>
                  <a:lnTo>
                    <a:pt x="9" y="40"/>
                  </a:lnTo>
                  <a:lnTo>
                    <a:pt x="20" y="78"/>
                  </a:lnTo>
                  <a:close/>
                </a:path>
              </a:pathLst>
            </a:custGeom>
            <a:solidFill>
              <a:srgbClr val="262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190360" y="5410080"/>
              <a:ext cx="1065960" cy="361080"/>
            </a:xfrm>
            <a:custGeom>
              <a:avLst/>
              <a:gdLst/>
              <a:ahLst/>
              <a:rect l="l" t="t" r="r" b="b"/>
              <a:pathLst>
                <a:path w="16408" h="11518">
                  <a:moveTo>
                    <a:pt x="12894" y="1455"/>
                  </a:moveTo>
                  <a:lnTo>
                    <a:pt x="12992" y="1452"/>
                  </a:lnTo>
                  <a:lnTo>
                    <a:pt x="13091" y="1453"/>
                  </a:lnTo>
                  <a:lnTo>
                    <a:pt x="13190" y="1456"/>
                  </a:lnTo>
                  <a:lnTo>
                    <a:pt x="13290" y="1463"/>
                  </a:lnTo>
                  <a:lnTo>
                    <a:pt x="13391" y="1473"/>
                  </a:lnTo>
                  <a:lnTo>
                    <a:pt x="13490" y="1485"/>
                  </a:lnTo>
                  <a:lnTo>
                    <a:pt x="13591" y="1501"/>
                  </a:lnTo>
                  <a:lnTo>
                    <a:pt x="13690" y="1519"/>
                  </a:lnTo>
                  <a:lnTo>
                    <a:pt x="13790" y="1541"/>
                  </a:lnTo>
                  <a:lnTo>
                    <a:pt x="13888" y="1566"/>
                  </a:lnTo>
                  <a:lnTo>
                    <a:pt x="13987" y="1594"/>
                  </a:lnTo>
                  <a:lnTo>
                    <a:pt x="14083" y="1626"/>
                  </a:lnTo>
                  <a:lnTo>
                    <a:pt x="14179" y="1659"/>
                  </a:lnTo>
                  <a:lnTo>
                    <a:pt x="14273" y="1696"/>
                  </a:lnTo>
                  <a:lnTo>
                    <a:pt x="14365" y="1737"/>
                  </a:lnTo>
                  <a:lnTo>
                    <a:pt x="14455" y="1781"/>
                  </a:lnTo>
                  <a:lnTo>
                    <a:pt x="14545" y="1828"/>
                  </a:lnTo>
                  <a:lnTo>
                    <a:pt x="14631" y="1878"/>
                  </a:lnTo>
                  <a:lnTo>
                    <a:pt x="14715" y="1931"/>
                  </a:lnTo>
                  <a:lnTo>
                    <a:pt x="14797" y="1987"/>
                  </a:lnTo>
                  <a:lnTo>
                    <a:pt x="14876" y="2046"/>
                  </a:lnTo>
                  <a:lnTo>
                    <a:pt x="14952" y="2109"/>
                  </a:lnTo>
                  <a:lnTo>
                    <a:pt x="15026" y="2174"/>
                  </a:lnTo>
                  <a:lnTo>
                    <a:pt x="15095" y="2244"/>
                  </a:lnTo>
                  <a:lnTo>
                    <a:pt x="15162" y="2316"/>
                  </a:lnTo>
                  <a:lnTo>
                    <a:pt x="15225" y="2392"/>
                  </a:lnTo>
                  <a:lnTo>
                    <a:pt x="15283" y="2471"/>
                  </a:lnTo>
                  <a:lnTo>
                    <a:pt x="15338" y="2554"/>
                  </a:lnTo>
                  <a:lnTo>
                    <a:pt x="15389" y="2639"/>
                  </a:lnTo>
                  <a:lnTo>
                    <a:pt x="15436" y="2727"/>
                  </a:lnTo>
                  <a:lnTo>
                    <a:pt x="15478" y="2820"/>
                  </a:lnTo>
                  <a:lnTo>
                    <a:pt x="15515" y="2915"/>
                  </a:lnTo>
                  <a:lnTo>
                    <a:pt x="15530" y="2973"/>
                  </a:lnTo>
                  <a:lnTo>
                    <a:pt x="15544" y="3031"/>
                  </a:lnTo>
                  <a:lnTo>
                    <a:pt x="15555" y="3088"/>
                  </a:lnTo>
                  <a:lnTo>
                    <a:pt x="15563" y="3144"/>
                  </a:lnTo>
                  <a:lnTo>
                    <a:pt x="15569" y="3199"/>
                  </a:lnTo>
                  <a:lnTo>
                    <a:pt x="15573" y="3255"/>
                  </a:lnTo>
                  <a:lnTo>
                    <a:pt x="15575" y="3310"/>
                  </a:lnTo>
                  <a:lnTo>
                    <a:pt x="15575" y="3364"/>
                  </a:lnTo>
                  <a:lnTo>
                    <a:pt x="15572" y="3417"/>
                  </a:lnTo>
                  <a:lnTo>
                    <a:pt x="15568" y="3470"/>
                  </a:lnTo>
                  <a:lnTo>
                    <a:pt x="15561" y="3522"/>
                  </a:lnTo>
                  <a:lnTo>
                    <a:pt x="15553" y="3573"/>
                  </a:lnTo>
                  <a:lnTo>
                    <a:pt x="15541" y="3624"/>
                  </a:lnTo>
                  <a:lnTo>
                    <a:pt x="15528" y="3674"/>
                  </a:lnTo>
                  <a:lnTo>
                    <a:pt x="15514" y="3724"/>
                  </a:lnTo>
                  <a:lnTo>
                    <a:pt x="15496" y="3773"/>
                  </a:lnTo>
                  <a:lnTo>
                    <a:pt x="15478" y="3821"/>
                  </a:lnTo>
                  <a:lnTo>
                    <a:pt x="15456" y="3868"/>
                  </a:lnTo>
                  <a:lnTo>
                    <a:pt x="15434" y="3915"/>
                  </a:lnTo>
                  <a:lnTo>
                    <a:pt x="15409" y="3960"/>
                  </a:lnTo>
                  <a:lnTo>
                    <a:pt x="15383" y="4005"/>
                  </a:lnTo>
                  <a:lnTo>
                    <a:pt x="15355" y="4049"/>
                  </a:lnTo>
                  <a:lnTo>
                    <a:pt x="15324" y="4093"/>
                  </a:lnTo>
                  <a:lnTo>
                    <a:pt x="15292" y="4135"/>
                  </a:lnTo>
                  <a:lnTo>
                    <a:pt x="15259" y="4177"/>
                  </a:lnTo>
                  <a:lnTo>
                    <a:pt x="15224" y="4219"/>
                  </a:lnTo>
                  <a:lnTo>
                    <a:pt x="15187" y="4258"/>
                  </a:lnTo>
                  <a:lnTo>
                    <a:pt x="15149" y="4298"/>
                  </a:lnTo>
                  <a:lnTo>
                    <a:pt x="15108" y="4336"/>
                  </a:lnTo>
                  <a:lnTo>
                    <a:pt x="15067" y="4374"/>
                  </a:lnTo>
                  <a:lnTo>
                    <a:pt x="15023" y="4410"/>
                  </a:lnTo>
                  <a:lnTo>
                    <a:pt x="14978" y="4447"/>
                  </a:lnTo>
                  <a:lnTo>
                    <a:pt x="15048" y="4466"/>
                  </a:lnTo>
                  <a:lnTo>
                    <a:pt x="15117" y="4487"/>
                  </a:lnTo>
                  <a:lnTo>
                    <a:pt x="15186" y="4510"/>
                  </a:lnTo>
                  <a:lnTo>
                    <a:pt x="15252" y="4534"/>
                  </a:lnTo>
                  <a:lnTo>
                    <a:pt x="15318" y="4561"/>
                  </a:lnTo>
                  <a:lnTo>
                    <a:pt x="15381" y="4588"/>
                  </a:lnTo>
                  <a:lnTo>
                    <a:pt x="15444" y="4619"/>
                  </a:lnTo>
                  <a:lnTo>
                    <a:pt x="15506" y="4650"/>
                  </a:lnTo>
                  <a:lnTo>
                    <a:pt x="15566" y="4683"/>
                  </a:lnTo>
                  <a:lnTo>
                    <a:pt x="15625" y="4718"/>
                  </a:lnTo>
                  <a:lnTo>
                    <a:pt x="15681" y="4755"/>
                  </a:lnTo>
                  <a:lnTo>
                    <a:pt x="15736" y="4793"/>
                  </a:lnTo>
                  <a:lnTo>
                    <a:pt x="15790" y="4833"/>
                  </a:lnTo>
                  <a:lnTo>
                    <a:pt x="15841" y="4875"/>
                  </a:lnTo>
                  <a:lnTo>
                    <a:pt x="15891" y="4919"/>
                  </a:lnTo>
                  <a:lnTo>
                    <a:pt x="15939" y="4964"/>
                  </a:lnTo>
                  <a:lnTo>
                    <a:pt x="15985" y="5011"/>
                  </a:lnTo>
                  <a:lnTo>
                    <a:pt x="16030" y="5060"/>
                  </a:lnTo>
                  <a:lnTo>
                    <a:pt x="16072" y="5111"/>
                  </a:lnTo>
                  <a:lnTo>
                    <a:pt x="16112" y="5164"/>
                  </a:lnTo>
                  <a:lnTo>
                    <a:pt x="16150" y="5219"/>
                  </a:lnTo>
                  <a:lnTo>
                    <a:pt x="16184" y="5275"/>
                  </a:lnTo>
                  <a:lnTo>
                    <a:pt x="16218" y="5333"/>
                  </a:lnTo>
                  <a:lnTo>
                    <a:pt x="16249" y="5392"/>
                  </a:lnTo>
                  <a:lnTo>
                    <a:pt x="16278" y="5455"/>
                  </a:lnTo>
                  <a:lnTo>
                    <a:pt x="16303" y="5518"/>
                  </a:lnTo>
                  <a:lnTo>
                    <a:pt x="16327" y="5584"/>
                  </a:lnTo>
                  <a:lnTo>
                    <a:pt x="16349" y="5651"/>
                  </a:lnTo>
                  <a:lnTo>
                    <a:pt x="16367" y="5720"/>
                  </a:lnTo>
                  <a:lnTo>
                    <a:pt x="16382" y="5791"/>
                  </a:lnTo>
                  <a:lnTo>
                    <a:pt x="16396" y="5864"/>
                  </a:lnTo>
                  <a:lnTo>
                    <a:pt x="16406" y="5939"/>
                  </a:lnTo>
                  <a:lnTo>
                    <a:pt x="16408" y="6053"/>
                  </a:lnTo>
                  <a:lnTo>
                    <a:pt x="16404" y="6164"/>
                  </a:lnTo>
                  <a:lnTo>
                    <a:pt x="16395" y="6273"/>
                  </a:lnTo>
                  <a:lnTo>
                    <a:pt x="16378" y="6381"/>
                  </a:lnTo>
                  <a:lnTo>
                    <a:pt x="16357" y="6487"/>
                  </a:lnTo>
                  <a:lnTo>
                    <a:pt x="16329" y="6591"/>
                  </a:lnTo>
                  <a:lnTo>
                    <a:pt x="16296" y="6692"/>
                  </a:lnTo>
                  <a:lnTo>
                    <a:pt x="16258" y="6792"/>
                  </a:lnTo>
                  <a:lnTo>
                    <a:pt x="16215" y="6889"/>
                  </a:lnTo>
                  <a:lnTo>
                    <a:pt x="16167" y="6985"/>
                  </a:lnTo>
                  <a:lnTo>
                    <a:pt x="16115" y="7077"/>
                  </a:lnTo>
                  <a:lnTo>
                    <a:pt x="16058" y="7169"/>
                  </a:lnTo>
                  <a:lnTo>
                    <a:pt x="15997" y="7258"/>
                  </a:lnTo>
                  <a:lnTo>
                    <a:pt x="15932" y="7343"/>
                  </a:lnTo>
                  <a:lnTo>
                    <a:pt x="15862" y="7427"/>
                  </a:lnTo>
                  <a:lnTo>
                    <a:pt x="15791" y="7509"/>
                  </a:lnTo>
                  <a:lnTo>
                    <a:pt x="15715" y="7588"/>
                  </a:lnTo>
                  <a:lnTo>
                    <a:pt x="15635" y="7664"/>
                  </a:lnTo>
                  <a:lnTo>
                    <a:pt x="15553" y="7738"/>
                  </a:lnTo>
                  <a:lnTo>
                    <a:pt x="15468" y="7809"/>
                  </a:lnTo>
                  <a:lnTo>
                    <a:pt x="15380" y="7877"/>
                  </a:lnTo>
                  <a:lnTo>
                    <a:pt x="15290" y="7943"/>
                  </a:lnTo>
                  <a:lnTo>
                    <a:pt x="15198" y="8005"/>
                  </a:lnTo>
                  <a:lnTo>
                    <a:pt x="15104" y="8065"/>
                  </a:lnTo>
                  <a:lnTo>
                    <a:pt x="15008" y="8122"/>
                  </a:lnTo>
                  <a:lnTo>
                    <a:pt x="14910" y="8176"/>
                  </a:lnTo>
                  <a:lnTo>
                    <a:pt x="14811" y="8227"/>
                  </a:lnTo>
                  <a:lnTo>
                    <a:pt x="14711" y="8276"/>
                  </a:lnTo>
                  <a:lnTo>
                    <a:pt x="14610" y="8321"/>
                  </a:lnTo>
                  <a:lnTo>
                    <a:pt x="14508" y="8363"/>
                  </a:lnTo>
                  <a:lnTo>
                    <a:pt x="14406" y="8401"/>
                  </a:lnTo>
                  <a:lnTo>
                    <a:pt x="14303" y="8436"/>
                  </a:lnTo>
                  <a:lnTo>
                    <a:pt x="14269" y="8448"/>
                  </a:lnTo>
                  <a:lnTo>
                    <a:pt x="14234" y="8457"/>
                  </a:lnTo>
                  <a:lnTo>
                    <a:pt x="14199" y="8468"/>
                  </a:lnTo>
                  <a:lnTo>
                    <a:pt x="14165" y="8477"/>
                  </a:lnTo>
                  <a:lnTo>
                    <a:pt x="14130" y="8486"/>
                  </a:lnTo>
                  <a:lnTo>
                    <a:pt x="14095" y="8496"/>
                  </a:lnTo>
                  <a:lnTo>
                    <a:pt x="14062" y="8504"/>
                  </a:lnTo>
                  <a:lnTo>
                    <a:pt x="14027" y="8513"/>
                  </a:lnTo>
                  <a:lnTo>
                    <a:pt x="13992" y="8520"/>
                  </a:lnTo>
                  <a:lnTo>
                    <a:pt x="13957" y="8528"/>
                  </a:lnTo>
                  <a:lnTo>
                    <a:pt x="13923" y="8535"/>
                  </a:lnTo>
                  <a:lnTo>
                    <a:pt x="13888" y="8542"/>
                  </a:lnTo>
                  <a:lnTo>
                    <a:pt x="13853" y="8549"/>
                  </a:lnTo>
                  <a:lnTo>
                    <a:pt x="13819" y="8555"/>
                  </a:lnTo>
                  <a:lnTo>
                    <a:pt x="13784" y="8560"/>
                  </a:lnTo>
                  <a:lnTo>
                    <a:pt x="13749" y="8567"/>
                  </a:lnTo>
                  <a:lnTo>
                    <a:pt x="13713" y="8572"/>
                  </a:lnTo>
                  <a:lnTo>
                    <a:pt x="13678" y="8576"/>
                  </a:lnTo>
                  <a:lnTo>
                    <a:pt x="13643" y="8581"/>
                  </a:lnTo>
                  <a:lnTo>
                    <a:pt x="13608" y="8585"/>
                  </a:lnTo>
                  <a:lnTo>
                    <a:pt x="13572" y="8590"/>
                  </a:lnTo>
                  <a:lnTo>
                    <a:pt x="13538" y="8593"/>
                  </a:lnTo>
                  <a:lnTo>
                    <a:pt x="13502" y="8596"/>
                  </a:lnTo>
                  <a:lnTo>
                    <a:pt x="13466" y="8599"/>
                  </a:lnTo>
                  <a:lnTo>
                    <a:pt x="13431" y="8601"/>
                  </a:lnTo>
                  <a:lnTo>
                    <a:pt x="13395" y="8603"/>
                  </a:lnTo>
                  <a:lnTo>
                    <a:pt x="13359" y="8605"/>
                  </a:lnTo>
                  <a:lnTo>
                    <a:pt x="13323" y="8606"/>
                  </a:lnTo>
                  <a:lnTo>
                    <a:pt x="13287" y="8607"/>
                  </a:lnTo>
                  <a:lnTo>
                    <a:pt x="13250" y="8608"/>
                  </a:lnTo>
                  <a:lnTo>
                    <a:pt x="13215" y="8608"/>
                  </a:lnTo>
                  <a:lnTo>
                    <a:pt x="13179" y="8608"/>
                  </a:lnTo>
                  <a:lnTo>
                    <a:pt x="13156" y="8703"/>
                  </a:lnTo>
                  <a:lnTo>
                    <a:pt x="13132" y="8797"/>
                  </a:lnTo>
                  <a:lnTo>
                    <a:pt x="13105" y="8888"/>
                  </a:lnTo>
                  <a:lnTo>
                    <a:pt x="13075" y="8978"/>
                  </a:lnTo>
                  <a:lnTo>
                    <a:pt x="13042" y="9067"/>
                  </a:lnTo>
                  <a:lnTo>
                    <a:pt x="13006" y="9154"/>
                  </a:lnTo>
                  <a:lnTo>
                    <a:pt x="12969" y="9239"/>
                  </a:lnTo>
                  <a:lnTo>
                    <a:pt x="12928" y="9323"/>
                  </a:lnTo>
                  <a:lnTo>
                    <a:pt x="12886" y="9406"/>
                  </a:lnTo>
                  <a:lnTo>
                    <a:pt x="12840" y="9486"/>
                  </a:lnTo>
                  <a:lnTo>
                    <a:pt x="12793" y="9565"/>
                  </a:lnTo>
                  <a:lnTo>
                    <a:pt x="12744" y="9643"/>
                  </a:lnTo>
                  <a:lnTo>
                    <a:pt x="12692" y="9719"/>
                  </a:lnTo>
                  <a:lnTo>
                    <a:pt x="12637" y="9794"/>
                  </a:lnTo>
                  <a:lnTo>
                    <a:pt x="12581" y="9867"/>
                  </a:lnTo>
                  <a:lnTo>
                    <a:pt x="12522" y="9939"/>
                  </a:lnTo>
                  <a:lnTo>
                    <a:pt x="12462" y="10010"/>
                  </a:lnTo>
                  <a:lnTo>
                    <a:pt x="12399" y="10079"/>
                  </a:lnTo>
                  <a:lnTo>
                    <a:pt x="12336" y="10146"/>
                  </a:lnTo>
                  <a:lnTo>
                    <a:pt x="12269" y="10212"/>
                  </a:lnTo>
                  <a:lnTo>
                    <a:pt x="12201" y="10277"/>
                  </a:lnTo>
                  <a:lnTo>
                    <a:pt x="12132" y="10339"/>
                  </a:lnTo>
                  <a:lnTo>
                    <a:pt x="12060" y="10401"/>
                  </a:lnTo>
                  <a:lnTo>
                    <a:pt x="11987" y="10461"/>
                  </a:lnTo>
                  <a:lnTo>
                    <a:pt x="11912" y="10519"/>
                  </a:lnTo>
                  <a:lnTo>
                    <a:pt x="11836" y="10577"/>
                  </a:lnTo>
                  <a:lnTo>
                    <a:pt x="11758" y="10632"/>
                  </a:lnTo>
                  <a:lnTo>
                    <a:pt x="11679" y="10686"/>
                  </a:lnTo>
                  <a:lnTo>
                    <a:pt x="11599" y="10739"/>
                  </a:lnTo>
                  <a:lnTo>
                    <a:pt x="11517" y="10791"/>
                  </a:lnTo>
                  <a:lnTo>
                    <a:pt x="11434" y="10841"/>
                  </a:lnTo>
                  <a:lnTo>
                    <a:pt x="11350" y="10889"/>
                  </a:lnTo>
                  <a:lnTo>
                    <a:pt x="11320" y="10905"/>
                  </a:lnTo>
                  <a:lnTo>
                    <a:pt x="11292" y="10920"/>
                  </a:lnTo>
                  <a:lnTo>
                    <a:pt x="11262" y="10936"/>
                  </a:lnTo>
                  <a:lnTo>
                    <a:pt x="11232" y="10950"/>
                  </a:lnTo>
                  <a:lnTo>
                    <a:pt x="11203" y="10965"/>
                  </a:lnTo>
                  <a:lnTo>
                    <a:pt x="11174" y="10980"/>
                  </a:lnTo>
                  <a:lnTo>
                    <a:pt x="11144" y="10994"/>
                  </a:lnTo>
                  <a:lnTo>
                    <a:pt x="11114" y="11009"/>
                  </a:lnTo>
                  <a:lnTo>
                    <a:pt x="11084" y="11023"/>
                  </a:lnTo>
                  <a:lnTo>
                    <a:pt x="11054" y="11037"/>
                  </a:lnTo>
                  <a:lnTo>
                    <a:pt x="11024" y="11050"/>
                  </a:lnTo>
                  <a:lnTo>
                    <a:pt x="10994" y="11065"/>
                  </a:lnTo>
                  <a:lnTo>
                    <a:pt x="10964" y="11079"/>
                  </a:lnTo>
                  <a:lnTo>
                    <a:pt x="10934" y="11092"/>
                  </a:lnTo>
                  <a:lnTo>
                    <a:pt x="10903" y="11106"/>
                  </a:lnTo>
                  <a:lnTo>
                    <a:pt x="10872" y="11119"/>
                  </a:lnTo>
                  <a:lnTo>
                    <a:pt x="10805" y="11145"/>
                  </a:lnTo>
                  <a:lnTo>
                    <a:pt x="10737" y="11171"/>
                  </a:lnTo>
                  <a:lnTo>
                    <a:pt x="10668" y="11195"/>
                  </a:lnTo>
                  <a:lnTo>
                    <a:pt x="10601" y="11219"/>
                  </a:lnTo>
                  <a:lnTo>
                    <a:pt x="10533" y="11241"/>
                  </a:lnTo>
                  <a:lnTo>
                    <a:pt x="10466" y="11263"/>
                  </a:lnTo>
                  <a:lnTo>
                    <a:pt x="10399" y="11284"/>
                  </a:lnTo>
                  <a:lnTo>
                    <a:pt x="10331" y="11303"/>
                  </a:lnTo>
                  <a:lnTo>
                    <a:pt x="10263" y="11322"/>
                  </a:lnTo>
                  <a:lnTo>
                    <a:pt x="10197" y="11340"/>
                  </a:lnTo>
                  <a:lnTo>
                    <a:pt x="10129" y="11358"/>
                  </a:lnTo>
                  <a:lnTo>
                    <a:pt x="10061" y="11373"/>
                  </a:lnTo>
                  <a:lnTo>
                    <a:pt x="9993" y="11389"/>
                  </a:lnTo>
                  <a:lnTo>
                    <a:pt x="9926" y="11403"/>
                  </a:lnTo>
                  <a:lnTo>
                    <a:pt x="9858" y="11417"/>
                  </a:lnTo>
                  <a:lnTo>
                    <a:pt x="9789" y="11429"/>
                  </a:lnTo>
                  <a:lnTo>
                    <a:pt x="9722" y="11441"/>
                  </a:lnTo>
                  <a:lnTo>
                    <a:pt x="9653" y="11452"/>
                  </a:lnTo>
                  <a:lnTo>
                    <a:pt x="9584" y="11462"/>
                  </a:lnTo>
                  <a:lnTo>
                    <a:pt x="9516" y="11471"/>
                  </a:lnTo>
                  <a:lnTo>
                    <a:pt x="9447" y="11479"/>
                  </a:lnTo>
                  <a:lnTo>
                    <a:pt x="9377" y="11487"/>
                  </a:lnTo>
                  <a:lnTo>
                    <a:pt x="9307" y="11494"/>
                  </a:lnTo>
                  <a:lnTo>
                    <a:pt x="9238" y="11499"/>
                  </a:lnTo>
                  <a:lnTo>
                    <a:pt x="9167" y="11504"/>
                  </a:lnTo>
                  <a:lnTo>
                    <a:pt x="9097" y="11509"/>
                  </a:lnTo>
                  <a:lnTo>
                    <a:pt x="9025" y="11512"/>
                  </a:lnTo>
                  <a:lnTo>
                    <a:pt x="8954" y="11515"/>
                  </a:lnTo>
                  <a:lnTo>
                    <a:pt x="8882" y="11517"/>
                  </a:lnTo>
                  <a:lnTo>
                    <a:pt x="8810" y="11517"/>
                  </a:lnTo>
                  <a:lnTo>
                    <a:pt x="8737" y="11518"/>
                  </a:lnTo>
                  <a:lnTo>
                    <a:pt x="8663" y="11517"/>
                  </a:lnTo>
                  <a:lnTo>
                    <a:pt x="8262" y="11488"/>
                  </a:lnTo>
                  <a:lnTo>
                    <a:pt x="8161" y="11474"/>
                  </a:lnTo>
                  <a:lnTo>
                    <a:pt x="8060" y="11458"/>
                  </a:lnTo>
                  <a:lnTo>
                    <a:pt x="7959" y="11440"/>
                  </a:lnTo>
                  <a:lnTo>
                    <a:pt x="7858" y="11421"/>
                  </a:lnTo>
                  <a:lnTo>
                    <a:pt x="7758" y="11400"/>
                  </a:lnTo>
                  <a:lnTo>
                    <a:pt x="7657" y="11376"/>
                  </a:lnTo>
                  <a:lnTo>
                    <a:pt x="7558" y="11351"/>
                  </a:lnTo>
                  <a:lnTo>
                    <a:pt x="7459" y="11325"/>
                  </a:lnTo>
                  <a:lnTo>
                    <a:pt x="7362" y="11296"/>
                  </a:lnTo>
                  <a:lnTo>
                    <a:pt x="7265" y="11265"/>
                  </a:lnTo>
                  <a:lnTo>
                    <a:pt x="7168" y="11233"/>
                  </a:lnTo>
                  <a:lnTo>
                    <a:pt x="7072" y="11197"/>
                  </a:lnTo>
                  <a:lnTo>
                    <a:pt x="6978" y="11161"/>
                  </a:lnTo>
                  <a:lnTo>
                    <a:pt x="6884" y="11121"/>
                  </a:lnTo>
                  <a:lnTo>
                    <a:pt x="6792" y="11080"/>
                  </a:lnTo>
                  <a:lnTo>
                    <a:pt x="6701" y="11037"/>
                  </a:lnTo>
                  <a:lnTo>
                    <a:pt x="6611" y="10990"/>
                  </a:lnTo>
                  <a:lnTo>
                    <a:pt x="6522" y="10942"/>
                  </a:lnTo>
                  <a:lnTo>
                    <a:pt x="6436" y="10892"/>
                  </a:lnTo>
                  <a:lnTo>
                    <a:pt x="6350" y="10839"/>
                  </a:lnTo>
                  <a:lnTo>
                    <a:pt x="6266" y="10784"/>
                  </a:lnTo>
                  <a:lnTo>
                    <a:pt x="6184" y="10727"/>
                  </a:lnTo>
                  <a:lnTo>
                    <a:pt x="6104" y="10666"/>
                  </a:lnTo>
                  <a:lnTo>
                    <a:pt x="6025" y="10604"/>
                  </a:lnTo>
                  <a:lnTo>
                    <a:pt x="5948" y="10539"/>
                  </a:lnTo>
                  <a:lnTo>
                    <a:pt x="5873" y="10471"/>
                  </a:lnTo>
                  <a:lnTo>
                    <a:pt x="5800" y="10401"/>
                  </a:lnTo>
                  <a:lnTo>
                    <a:pt x="5729" y="10328"/>
                  </a:lnTo>
                  <a:lnTo>
                    <a:pt x="5662" y="10253"/>
                  </a:lnTo>
                  <a:lnTo>
                    <a:pt x="5595" y="10175"/>
                  </a:lnTo>
                  <a:lnTo>
                    <a:pt x="5532" y="10093"/>
                  </a:lnTo>
                  <a:lnTo>
                    <a:pt x="5470" y="10010"/>
                  </a:lnTo>
                  <a:lnTo>
                    <a:pt x="5380" y="10000"/>
                  </a:lnTo>
                  <a:lnTo>
                    <a:pt x="5290" y="9987"/>
                  </a:lnTo>
                  <a:lnTo>
                    <a:pt x="5199" y="9974"/>
                  </a:lnTo>
                  <a:lnTo>
                    <a:pt x="5109" y="9958"/>
                  </a:lnTo>
                  <a:lnTo>
                    <a:pt x="5020" y="9941"/>
                  </a:lnTo>
                  <a:lnTo>
                    <a:pt x="4931" y="9923"/>
                  </a:lnTo>
                  <a:lnTo>
                    <a:pt x="4842" y="9902"/>
                  </a:lnTo>
                  <a:lnTo>
                    <a:pt x="4754" y="9879"/>
                  </a:lnTo>
                  <a:lnTo>
                    <a:pt x="4666" y="9855"/>
                  </a:lnTo>
                  <a:lnTo>
                    <a:pt x="4579" y="9830"/>
                  </a:lnTo>
                  <a:lnTo>
                    <a:pt x="4493" y="9802"/>
                  </a:lnTo>
                  <a:lnTo>
                    <a:pt x="4408" y="9773"/>
                  </a:lnTo>
                  <a:lnTo>
                    <a:pt x="4322" y="9741"/>
                  </a:lnTo>
                  <a:lnTo>
                    <a:pt x="4238" y="9708"/>
                  </a:lnTo>
                  <a:lnTo>
                    <a:pt x="4155" y="9673"/>
                  </a:lnTo>
                  <a:lnTo>
                    <a:pt x="4073" y="9636"/>
                  </a:lnTo>
                  <a:lnTo>
                    <a:pt x="3993" y="9597"/>
                  </a:lnTo>
                  <a:lnTo>
                    <a:pt x="3913" y="9556"/>
                  </a:lnTo>
                  <a:lnTo>
                    <a:pt x="3834" y="9513"/>
                  </a:lnTo>
                  <a:lnTo>
                    <a:pt x="3757" y="9469"/>
                  </a:lnTo>
                  <a:lnTo>
                    <a:pt x="3682" y="9422"/>
                  </a:lnTo>
                  <a:lnTo>
                    <a:pt x="3607" y="9373"/>
                  </a:lnTo>
                  <a:lnTo>
                    <a:pt x="3533" y="9322"/>
                  </a:lnTo>
                  <a:lnTo>
                    <a:pt x="3461" y="9269"/>
                  </a:lnTo>
                  <a:lnTo>
                    <a:pt x="3391" y="9213"/>
                  </a:lnTo>
                  <a:lnTo>
                    <a:pt x="3323" y="9156"/>
                  </a:lnTo>
                  <a:lnTo>
                    <a:pt x="3256" y="9097"/>
                  </a:lnTo>
                  <a:lnTo>
                    <a:pt x="3191" y="9035"/>
                  </a:lnTo>
                  <a:lnTo>
                    <a:pt x="3128" y="8972"/>
                  </a:lnTo>
                  <a:lnTo>
                    <a:pt x="3066" y="8905"/>
                  </a:lnTo>
                  <a:lnTo>
                    <a:pt x="3007" y="8837"/>
                  </a:lnTo>
                  <a:lnTo>
                    <a:pt x="2949" y="8767"/>
                  </a:lnTo>
                  <a:lnTo>
                    <a:pt x="2927" y="8735"/>
                  </a:lnTo>
                  <a:lnTo>
                    <a:pt x="2905" y="8703"/>
                  </a:lnTo>
                  <a:lnTo>
                    <a:pt x="2885" y="8671"/>
                  </a:lnTo>
                  <a:lnTo>
                    <a:pt x="2864" y="8639"/>
                  </a:lnTo>
                  <a:lnTo>
                    <a:pt x="2845" y="8606"/>
                  </a:lnTo>
                  <a:lnTo>
                    <a:pt x="2825" y="8574"/>
                  </a:lnTo>
                  <a:lnTo>
                    <a:pt x="2807" y="8541"/>
                  </a:lnTo>
                  <a:lnTo>
                    <a:pt x="2789" y="8507"/>
                  </a:lnTo>
                  <a:lnTo>
                    <a:pt x="2772" y="8474"/>
                  </a:lnTo>
                  <a:lnTo>
                    <a:pt x="2756" y="8441"/>
                  </a:lnTo>
                  <a:lnTo>
                    <a:pt x="2740" y="8406"/>
                  </a:lnTo>
                  <a:lnTo>
                    <a:pt x="2726" y="8372"/>
                  </a:lnTo>
                  <a:lnTo>
                    <a:pt x="2711" y="8338"/>
                  </a:lnTo>
                  <a:lnTo>
                    <a:pt x="2699" y="8303"/>
                  </a:lnTo>
                  <a:lnTo>
                    <a:pt x="2687" y="8269"/>
                  </a:lnTo>
                  <a:lnTo>
                    <a:pt x="2676" y="8233"/>
                  </a:lnTo>
                  <a:lnTo>
                    <a:pt x="2665" y="8198"/>
                  </a:lnTo>
                  <a:lnTo>
                    <a:pt x="2655" y="8163"/>
                  </a:lnTo>
                  <a:lnTo>
                    <a:pt x="2647" y="8127"/>
                  </a:lnTo>
                  <a:lnTo>
                    <a:pt x="2640" y="8092"/>
                  </a:lnTo>
                  <a:lnTo>
                    <a:pt x="2633" y="8055"/>
                  </a:lnTo>
                  <a:lnTo>
                    <a:pt x="2627" y="8019"/>
                  </a:lnTo>
                  <a:lnTo>
                    <a:pt x="2623" y="7982"/>
                  </a:lnTo>
                  <a:lnTo>
                    <a:pt x="2620" y="7946"/>
                  </a:lnTo>
                  <a:lnTo>
                    <a:pt x="2617" y="7908"/>
                  </a:lnTo>
                  <a:lnTo>
                    <a:pt x="2616" y="7872"/>
                  </a:lnTo>
                  <a:lnTo>
                    <a:pt x="2616" y="7835"/>
                  </a:lnTo>
                  <a:lnTo>
                    <a:pt x="2617" y="7797"/>
                  </a:lnTo>
                  <a:lnTo>
                    <a:pt x="2620" y="7759"/>
                  </a:lnTo>
                  <a:lnTo>
                    <a:pt x="2623" y="7721"/>
                  </a:lnTo>
                  <a:lnTo>
                    <a:pt x="2628" y="7682"/>
                  </a:lnTo>
                  <a:lnTo>
                    <a:pt x="2635" y="7644"/>
                  </a:lnTo>
                  <a:lnTo>
                    <a:pt x="2629" y="7639"/>
                  </a:lnTo>
                  <a:lnTo>
                    <a:pt x="2625" y="7635"/>
                  </a:lnTo>
                  <a:lnTo>
                    <a:pt x="2620" y="7629"/>
                  </a:lnTo>
                  <a:lnTo>
                    <a:pt x="2615" y="7624"/>
                  </a:lnTo>
                  <a:lnTo>
                    <a:pt x="2611" y="7619"/>
                  </a:lnTo>
                  <a:lnTo>
                    <a:pt x="2606" y="7615"/>
                  </a:lnTo>
                  <a:lnTo>
                    <a:pt x="2602" y="7610"/>
                  </a:lnTo>
                  <a:lnTo>
                    <a:pt x="2597" y="7604"/>
                  </a:lnTo>
                  <a:lnTo>
                    <a:pt x="2506" y="7605"/>
                  </a:lnTo>
                  <a:lnTo>
                    <a:pt x="2415" y="7604"/>
                  </a:lnTo>
                  <a:lnTo>
                    <a:pt x="2325" y="7601"/>
                  </a:lnTo>
                  <a:lnTo>
                    <a:pt x="2235" y="7595"/>
                  </a:lnTo>
                  <a:lnTo>
                    <a:pt x="2144" y="7587"/>
                  </a:lnTo>
                  <a:lnTo>
                    <a:pt x="2055" y="7575"/>
                  </a:lnTo>
                  <a:lnTo>
                    <a:pt x="1966" y="7563"/>
                  </a:lnTo>
                  <a:lnTo>
                    <a:pt x="1878" y="7547"/>
                  </a:lnTo>
                  <a:lnTo>
                    <a:pt x="1791" y="7528"/>
                  </a:lnTo>
                  <a:lnTo>
                    <a:pt x="1704" y="7508"/>
                  </a:lnTo>
                  <a:lnTo>
                    <a:pt x="1618" y="7485"/>
                  </a:lnTo>
                  <a:lnTo>
                    <a:pt x="1533" y="7459"/>
                  </a:lnTo>
                  <a:lnTo>
                    <a:pt x="1450" y="7430"/>
                  </a:lnTo>
                  <a:lnTo>
                    <a:pt x="1368" y="7399"/>
                  </a:lnTo>
                  <a:lnTo>
                    <a:pt x="1287" y="7366"/>
                  </a:lnTo>
                  <a:lnTo>
                    <a:pt x="1207" y="7330"/>
                  </a:lnTo>
                  <a:lnTo>
                    <a:pt x="1128" y="7292"/>
                  </a:lnTo>
                  <a:lnTo>
                    <a:pt x="1052" y="7251"/>
                  </a:lnTo>
                  <a:lnTo>
                    <a:pt x="976" y="7208"/>
                  </a:lnTo>
                  <a:lnTo>
                    <a:pt x="903" y="7162"/>
                  </a:lnTo>
                  <a:lnTo>
                    <a:pt x="832" y="7113"/>
                  </a:lnTo>
                  <a:lnTo>
                    <a:pt x="762" y="7062"/>
                  </a:lnTo>
                  <a:lnTo>
                    <a:pt x="694" y="7008"/>
                  </a:lnTo>
                  <a:lnTo>
                    <a:pt x="629" y="6951"/>
                  </a:lnTo>
                  <a:lnTo>
                    <a:pt x="565" y="6892"/>
                  </a:lnTo>
                  <a:lnTo>
                    <a:pt x="505" y="6830"/>
                  </a:lnTo>
                  <a:lnTo>
                    <a:pt x="446" y="6766"/>
                  </a:lnTo>
                  <a:lnTo>
                    <a:pt x="390" y="6698"/>
                  </a:lnTo>
                  <a:lnTo>
                    <a:pt x="335" y="6629"/>
                  </a:lnTo>
                  <a:lnTo>
                    <a:pt x="284" y="6557"/>
                  </a:lnTo>
                  <a:lnTo>
                    <a:pt x="236" y="6482"/>
                  </a:lnTo>
                  <a:lnTo>
                    <a:pt x="190" y="6404"/>
                  </a:lnTo>
                  <a:lnTo>
                    <a:pt x="165" y="6352"/>
                  </a:lnTo>
                  <a:lnTo>
                    <a:pt x="142" y="6300"/>
                  </a:lnTo>
                  <a:lnTo>
                    <a:pt x="120" y="6247"/>
                  </a:lnTo>
                  <a:lnTo>
                    <a:pt x="100" y="6195"/>
                  </a:lnTo>
                  <a:lnTo>
                    <a:pt x="83" y="6144"/>
                  </a:lnTo>
                  <a:lnTo>
                    <a:pt x="67" y="6092"/>
                  </a:lnTo>
                  <a:lnTo>
                    <a:pt x="52" y="6040"/>
                  </a:lnTo>
                  <a:lnTo>
                    <a:pt x="39" y="5989"/>
                  </a:lnTo>
                  <a:lnTo>
                    <a:pt x="29" y="5937"/>
                  </a:lnTo>
                  <a:lnTo>
                    <a:pt x="19" y="5886"/>
                  </a:lnTo>
                  <a:lnTo>
                    <a:pt x="11" y="5834"/>
                  </a:lnTo>
                  <a:lnTo>
                    <a:pt x="6" y="5783"/>
                  </a:lnTo>
                  <a:lnTo>
                    <a:pt x="2" y="5732"/>
                  </a:lnTo>
                  <a:lnTo>
                    <a:pt x="0" y="5680"/>
                  </a:lnTo>
                  <a:lnTo>
                    <a:pt x="0" y="5629"/>
                  </a:lnTo>
                  <a:lnTo>
                    <a:pt x="1" y="5578"/>
                  </a:lnTo>
                  <a:lnTo>
                    <a:pt x="5" y="5527"/>
                  </a:lnTo>
                  <a:lnTo>
                    <a:pt x="10" y="5476"/>
                  </a:lnTo>
                  <a:lnTo>
                    <a:pt x="16" y="5425"/>
                  </a:lnTo>
                  <a:lnTo>
                    <a:pt x="26" y="5374"/>
                  </a:lnTo>
                  <a:lnTo>
                    <a:pt x="36" y="5323"/>
                  </a:lnTo>
                  <a:lnTo>
                    <a:pt x="48" y="5272"/>
                  </a:lnTo>
                  <a:lnTo>
                    <a:pt x="62" y="5221"/>
                  </a:lnTo>
                  <a:lnTo>
                    <a:pt x="78" y="5171"/>
                  </a:lnTo>
                  <a:lnTo>
                    <a:pt x="95" y="5120"/>
                  </a:lnTo>
                  <a:lnTo>
                    <a:pt x="115" y="5069"/>
                  </a:lnTo>
                  <a:lnTo>
                    <a:pt x="135" y="5018"/>
                  </a:lnTo>
                  <a:lnTo>
                    <a:pt x="158" y="4968"/>
                  </a:lnTo>
                  <a:lnTo>
                    <a:pt x="183" y="4917"/>
                  </a:lnTo>
                  <a:lnTo>
                    <a:pt x="209" y="4867"/>
                  </a:lnTo>
                  <a:lnTo>
                    <a:pt x="238" y="4815"/>
                  </a:lnTo>
                  <a:lnTo>
                    <a:pt x="268" y="4764"/>
                  </a:lnTo>
                  <a:lnTo>
                    <a:pt x="308" y="4708"/>
                  </a:lnTo>
                  <a:lnTo>
                    <a:pt x="349" y="4654"/>
                  </a:lnTo>
                  <a:lnTo>
                    <a:pt x="392" y="4601"/>
                  </a:lnTo>
                  <a:lnTo>
                    <a:pt x="436" y="4550"/>
                  </a:lnTo>
                  <a:lnTo>
                    <a:pt x="481" y="4500"/>
                  </a:lnTo>
                  <a:lnTo>
                    <a:pt x="527" y="4452"/>
                  </a:lnTo>
                  <a:lnTo>
                    <a:pt x="575" y="4406"/>
                  </a:lnTo>
                  <a:lnTo>
                    <a:pt x="625" y="4361"/>
                  </a:lnTo>
                  <a:lnTo>
                    <a:pt x="675" y="4318"/>
                  </a:lnTo>
                  <a:lnTo>
                    <a:pt x="726" y="4276"/>
                  </a:lnTo>
                  <a:lnTo>
                    <a:pt x="778" y="4236"/>
                  </a:lnTo>
                  <a:lnTo>
                    <a:pt x="832" y="4198"/>
                  </a:lnTo>
                  <a:lnTo>
                    <a:pt x="886" y="4161"/>
                  </a:lnTo>
                  <a:lnTo>
                    <a:pt x="941" y="4126"/>
                  </a:lnTo>
                  <a:lnTo>
                    <a:pt x="999" y="4092"/>
                  </a:lnTo>
                  <a:lnTo>
                    <a:pt x="1055" y="4060"/>
                  </a:lnTo>
                  <a:lnTo>
                    <a:pt x="1114" y="4029"/>
                  </a:lnTo>
                  <a:lnTo>
                    <a:pt x="1173" y="4000"/>
                  </a:lnTo>
                  <a:lnTo>
                    <a:pt x="1233" y="3973"/>
                  </a:lnTo>
                  <a:lnTo>
                    <a:pt x="1293" y="3947"/>
                  </a:lnTo>
                  <a:lnTo>
                    <a:pt x="1355" y="3922"/>
                  </a:lnTo>
                  <a:lnTo>
                    <a:pt x="1417" y="3899"/>
                  </a:lnTo>
                  <a:lnTo>
                    <a:pt x="1480" y="3877"/>
                  </a:lnTo>
                  <a:lnTo>
                    <a:pt x="1543" y="3857"/>
                  </a:lnTo>
                  <a:lnTo>
                    <a:pt x="1608" y="3839"/>
                  </a:lnTo>
                  <a:lnTo>
                    <a:pt x="1673" y="3822"/>
                  </a:lnTo>
                  <a:lnTo>
                    <a:pt x="1737" y="3806"/>
                  </a:lnTo>
                  <a:lnTo>
                    <a:pt x="1803" y="3792"/>
                  </a:lnTo>
                  <a:lnTo>
                    <a:pt x="1869" y="3779"/>
                  </a:lnTo>
                  <a:lnTo>
                    <a:pt x="1936" y="3768"/>
                  </a:lnTo>
                  <a:lnTo>
                    <a:pt x="2003" y="3758"/>
                  </a:lnTo>
                  <a:lnTo>
                    <a:pt x="2070" y="3750"/>
                  </a:lnTo>
                  <a:lnTo>
                    <a:pt x="2037" y="3718"/>
                  </a:lnTo>
                  <a:lnTo>
                    <a:pt x="2005" y="3685"/>
                  </a:lnTo>
                  <a:lnTo>
                    <a:pt x="1974" y="3651"/>
                  </a:lnTo>
                  <a:lnTo>
                    <a:pt x="1945" y="3618"/>
                  </a:lnTo>
                  <a:lnTo>
                    <a:pt x="1919" y="3583"/>
                  </a:lnTo>
                  <a:lnTo>
                    <a:pt x="1893" y="3549"/>
                  </a:lnTo>
                  <a:lnTo>
                    <a:pt x="1868" y="3514"/>
                  </a:lnTo>
                  <a:lnTo>
                    <a:pt x="1846" y="3478"/>
                  </a:lnTo>
                  <a:lnTo>
                    <a:pt x="1825" y="3442"/>
                  </a:lnTo>
                  <a:lnTo>
                    <a:pt x="1806" y="3405"/>
                  </a:lnTo>
                  <a:lnTo>
                    <a:pt x="1787" y="3368"/>
                  </a:lnTo>
                  <a:lnTo>
                    <a:pt x="1772" y="3330"/>
                  </a:lnTo>
                  <a:lnTo>
                    <a:pt x="1758" y="3293"/>
                  </a:lnTo>
                  <a:lnTo>
                    <a:pt x="1744" y="3254"/>
                  </a:lnTo>
                  <a:lnTo>
                    <a:pt x="1733" y="3216"/>
                  </a:lnTo>
                  <a:lnTo>
                    <a:pt x="1724" y="3176"/>
                  </a:lnTo>
                  <a:lnTo>
                    <a:pt x="1717" y="3137"/>
                  </a:lnTo>
                  <a:lnTo>
                    <a:pt x="1711" y="3097"/>
                  </a:lnTo>
                  <a:lnTo>
                    <a:pt x="1706" y="3058"/>
                  </a:lnTo>
                  <a:lnTo>
                    <a:pt x="1703" y="3017"/>
                  </a:lnTo>
                  <a:lnTo>
                    <a:pt x="1702" y="2975"/>
                  </a:lnTo>
                  <a:lnTo>
                    <a:pt x="1703" y="2935"/>
                  </a:lnTo>
                  <a:lnTo>
                    <a:pt x="1706" y="2893"/>
                  </a:lnTo>
                  <a:lnTo>
                    <a:pt x="1712" y="2851"/>
                  </a:lnTo>
                  <a:lnTo>
                    <a:pt x="1718" y="2809"/>
                  </a:lnTo>
                  <a:lnTo>
                    <a:pt x="1726" y="2767"/>
                  </a:lnTo>
                  <a:lnTo>
                    <a:pt x="1736" y="2724"/>
                  </a:lnTo>
                  <a:lnTo>
                    <a:pt x="1747" y="2681"/>
                  </a:lnTo>
                  <a:lnTo>
                    <a:pt x="1761" y="2638"/>
                  </a:lnTo>
                  <a:lnTo>
                    <a:pt x="1777" y="2594"/>
                  </a:lnTo>
                  <a:lnTo>
                    <a:pt x="1795" y="2550"/>
                  </a:lnTo>
                  <a:lnTo>
                    <a:pt x="1813" y="2507"/>
                  </a:lnTo>
                  <a:lnTo>
                    <a:pt x="1843" y="2454"/>
                  </a:lnTo>
                  <a:lnTo>
                    <a:pt x="1874" y="2404"/>
                  </a:lnTo>
                  <a:lnTo>
                    <a:pt x="1906" y="2354"/>
                  </a:lnTo>
                  <a:lnTo>
                    <a:pt x="1940" y="2306"/>
                  </a:lnTo>
                  <a:lnTo>
                    <a:pt x="1976" y="2260"/>
                  </a:lnTo>
                  <a:lnTo>
                    <a:pt x="2013" y="2215"/>
                  </a:lnTo>
                  <a:lnTo>
                    <a:pt x="2052" y="2171"/>
                  </a:lnTo>
                  <a:lnTo>
                    <a:pt x="2092" y="2129"/>
                  </a:lnTo>
                  <a:lnTo>
                    <a:pt x="2133" y="2088"/>
                  </a:lnTo>
                  <a:lnTo>
                    <a:pt x="2175" y="2048"/>
                  </a:lnTo>
                  <a:lnTo>
                    <a:pt x="2219" y="2011"/>
                  </a:lnTo>
                  <a:lnTo>
                    <a:pt x="2264" y="1973"/>
                  </a:lnTo>
                  <a:lnTo>
                    <a:pt x="2310" y="1938"/>
                  </a:lnTo>
                  <a:lnTo>
                    <a:pt x="2358" y="1904"/>
                  </a:lnTo>
                  <a:lnTo>
                    <a:pt x="2405" y="1871"/>
                  </a:lnTo>
                  <a:lnTo>
                    <a:pt x="2454" y="1839"/>
                  </a:lnTo>
                  <a:lnTo>
                    <a:pt x="2504" y="1809"/>
                  </a:lnTo>
                  <a:lnTo>
                    <a:pt x="2555" y="1780"/>
                  </a:lnTo>
                  <a:lnTo>
                    <a:pt x="2607" y="1752"/>
                  </a:lnTo>
                  <a:lnTo>
                    <a:pt x="2659" y="1725"/>
                  </a:lnTo>
                  <a:lnTo>
                    <a:pt x="2712" y="1699"/>
                  </a:lnTo>
                  <a:lnTo>
                    <a:pt x="2766" y="1675"/>
                  </a:lnTo>
                  <a:lnTo>
                    <a:pt x="2820" y="1651"/>
                  </a:lnTo>
                  <a:lnTo>
                    <a:pt x="2876" y="1629"/>
                  </a:lnTo>
                  <a:lnTo>
                    <a:pt x="2931" y="1607"/>
                  </a:lnTo>
                  <a:lnTo>
                    <a:pt x="2986" y="1587"/>
                  </a:lnTo>
                  <a:lnTo>
                    <a:pt x="3043" y="1568"/>
                  </a:lnTo>
                  <a:lnTo>
                    <a:pt x="3099" y="1550"/>
                  </a:lnTo>
                  <a:lnTo>
                    <a:pt x="3155" y="1533"/>
                  </a:lnTo>
                  <a:lnTo>
                    <a:pt x="3213" y="1516"/>
                  </a:lnTo>
                  <a:lnTo>
                    <a:pt x="3270" y="1502"/>
                  </a:lnTo>
                  <a:lnTo>
                    <a:pt x="3328" y="1487"/>
                  </a:lnTo>
                  <a:lnTo>
                    <a:pt x="3378" y="1477"/>
                  </a:lnTo>
                  <a:lnTo>
                    <a:pt x="3427" y="1467"/>
                  </a:lnTo>
                  <a:lnTo>
                    <a:pt x="3477" y="1458"/>
                  </a:lnTo>
                  <a:lnTo>
                    <a:pt x="3528" y="1451"/>
                  </a:lnTo>
                  <a:lnTo>
                    <a:pt x="3577" y="1442"/>
                  </a:lnTo>
                  <a:lnTo>
                    <a:pt x="3627" y="1436"/>
                  </a:lnTo>
                  <a:lnTo>
                    <a:pt x="3677" y="1430"/>
                  </a:lnTo>
                  <a:lnTo>
                    <a:pt x="3727" y="1425"/>
                  </a:lnTo>
                  <a:lnTo>
                    <a:pt x="3777" y="1420"/>
                  </a:lnTo>
                  <a:lnTo>
                    <a:pt x="3827" y="1416"/>
                  </a:lnTo>
                  <a:lnTo>
                    <a:pt x="3876" y="1413"/>
                  </a:lnTo>
                  <a:lnTo>
                    <a:pt x="3927" y="1411"/>
                  </a:lnTo>
                  <a:lnTo>
                    <a:pt x="3977" y="1410"/>
                  </a:lnTo>
                  <a:lnTo>
                    <a:pt x="4026" y="1409"/>
                  </a:lnTo>
                  <a:lnTo>
                    <a:pt x="4076" y="1409"/>
                  </a:lnTo>
                  <a:lnTo>
                    <a:pt x="4126" y="1410"/>
                  </a:lnTo>
                  <a:lnTo>
                    <a:pt x="4176" y="1412"/>
                  </a:lnTo>
                  <a:lnTo>
                    <a:pt x="4225" y="1414"/>
                  </a:lnTo>
                  <a:lnTo>
                    <a:pt x="4275" y="1417"/>
                  </a:lnTo>
                  <a:lnTo>
                    <a:pt x="4325" y="1422"/>
                  </a:lnTo>
                  <a:lnTo>
                    <a:pt x="4374" y="1427"/>
                  </a:lnTo>
                  <a:lnTo>
                    <a:pt x="4423" y="1433"/>
                  </a:lnTo>
                  <a:lnTo>
                    <a:pt x="4472" y="1439"/>
                  </a:lnTo>
                  <a:lnTo>
                    <a:pt x="4521" y="1447"/>
                  </a:lnTo>
                  <a:lnTo>
                    <a:pt x="4571" y="1455"/>
                  </a:lnTo>
                  <a:lnTo>
                    <a:pt x="4620" y="1464"/>
                  </a:lnTo>
                  <a:lnTo>
                    <a:pt x="4669" y="1475"/>
                  </a:lnTo>
                  <a:lnTo>
                    <a:pt x="4718" y="1485"/>
                  </a:lnTo>
                  <a:lnTo>
                    <a:pt x="4767" y="1498"/>
                  </a:lnTo>
                  <a:lnTo>
                    <a:pt x="4816" y="1510"/>
                  </a:lnTo>
                  <a:lnTo>
                    <a:pt x="4864" y="1524"/>
                  </a:lnTo>
                  <a:lnTo>
                    <a:pt x="4912" y="1537"/>
                  </a:lnTo>
                  <a:lnTo>
                    <a:pt x="4927" y="1532"/>
                  </a:lnTo>
                  <a:lnTo>
                    <a:pt x="4940" y="1526"/>
                  </a:lnTo>
                  <a:lnTo>
                    <a:pt x="4953" y="1519"/>
                  </a:lnTo>
                  <a:lnTo>
                    <a:pt x="4968" y="1513"/>
                  </a:lnTo>
                  <a:lnTo>
                    <a:pt x="4981" y="1508"/>
                  </a:lnTo>
                  <a:lnTo>
                    <a:pt x="4995" y="1502"/>
                  </a:lnTo>
                  <a:lnTo>
                    <a:pt x="5009" y="1495"/>
                  </a:lnTo>
                  <a:lnTo>
                    <a:pt x="5023" y="1490"/>
                  </a:lnTo>
                  <a:lnTo>
                    <a:pt x="5070" y="1401"/>
                  </a:lnTo>
                  <a:lnTo>
                    <a:pt x="5121" y="1315"/>
                  </a:lnTo>
                  <a:lnTo>
                    <a:pt x="5177" y="1232"/>
                  </a:lnTo>
                  <a:lnTo>
                    <a:pt x="5237" y="1153"/>
                  </a:lnTo>
                  <a:lnTo>
                    <a:pt x="5301" y="1077"/>
                  </a:lnTo>
                  <a:lnTo>
                    <a:pt x="5367" y="1003"/>
                  </a:lnTo>
                  <a:lnTo>
                    <a:pt x="5438" y="932"/>
                  </a:lnTo>
                  <a:lnTo>
                    <a:pt x="5513" y="865"/>
                  </a:lnTo>
                  <a:lnTo>
                    <a:pt x="5590" y="801"/>
                  </a:lnTo>
                  <a:lnTo>
                    <a:pt x="5670" y="738"/>
                  </a:lnTo>
                  <a:lnTo>
                    <a:pt x="5752" y="680"/>
                  </a:lnTo>
                  <a:lnTo>
                    <a:pt x="5838" y="624"/>
                  </a:lnTo>
                  <a:lnTo>
                    <a:pt x="5925" y="571"/>
                  </a:lnTo>
                  <a:lnTo>
                    <a:pt x="6015" y="520"/>
                  </a:lnTo>
                  <a:lnTo>
                    <a:pt x="6107" y="472"/>
                  </a:lnTo>
                  <a:lnTo>
                    <a:pt x="6200" y="426"/>
                  </a:lnTo>
                  <a:lnTo>
                    <a:pt x="6295" y="383"/>
                  </a:lnTo>
                  <a:lnTo>
                    <a:pt x="6391" y="343"/>
                  </a:lnTo>
                  <a:lnTo>
                    <a:pt x="6488" y="305"/>
                  </a:lnTo>
                  <a:lnTo>
                    <a:pt x="6587" y="269"/>
                  </a:lnTo>
                  <a:lnTo>
                    <a:pt x="6686" y="235"/>
                  </a:lnTo>
                  <a:lnTo>
                    <a:pt x="6787" y="205"/>
                  </a:lnTo>
                  <a:lnTo>
                    <a:pt x="6886" y="176"/>
                  </a:lnTo>
                  <a:lnTo>
                    <a:pt x="6988" y="150"/>
                  </a:lnTo>
                  <a:lnTo>
                    <a:pt x="7088" y="126"/>
                  </a:lnTo>
                  <a:lnTo>
                    <a:pt x="7189" y="103"/>
                  </a:lnTo>
                  <a:lnTo>
                    <a:pt x="7289" y="83"/>
                  </a:lnTo>
                  <a:lnTo>
                    <a:pt x="7389" y="66"/>
                  </a:lnTo>
                  <a:lnTo>
                    <a:pt x="7488" y="50"/>
                  </a:lnTo>
                  <a:lnTo>
                    <a:pt x="7587" y="36"/>
                  </a:lnTo>
                  <a:lnTo>
                    <a:pt x="7683" y="24"/>
                  </a:lnTo>
                  <a:lnTo>
                    <a:pt x="7779" y="14"/>
                  </a:lnTo>
                  <a:lnTo>
                    <a:pt x="7866" y="8"/>
                  </a:lnTo>
                  <a:lnTo>
                    <a:pt x="7952" y="4"/>
                  </a:lnTo>
                  <a:lnTo>
                    <a:pt x="8038" y="2"/>
                  </a:lnTo>
                  <a:lnTo>
                    <a:pt x="8125" y="0"/>
                  </a:lnTo>
                  <a:lnTo>
                    <a:pt x="8212" y="0"/>
                  </a:lnTo>
                  <a:lnTo>
                    <a:pt x="8299" y="1"/>
                  </a:lnTo>
                  <a:lnTo>
                    <a:pt x="8387" y="4"/>
                  </a:lnTo>
                  <a:lnTo>
                    <a:pt x="8475" y="8"/>
                  </a:lnTo>
                  <a:lnTo>
                    <a:pt x="8562" y="15"/>
                  </a:lnTo>
                  <a:lnTo>
                    <a:pt x="8650" y="22"/>
                  </a:lnTo>
                  <a:lnTo>
                    <a:pt x="8737" y="31"/>
                  </a:lnTo>
                  <a:lnTo>
                    <a:pt x="8824" y="42"/>
                  </a:lnTo>
                  <a:lnTo>
                    <a:pt x="8912" y="55"/>
                  </a:lnTo>
                  <a:lnTo>
                    <a:pt x="8998" y="69"/>
                  </a:lnTo>
                  <a:lnTo>
                    <a:pt x="9084" y="85"/>
                  </a:lnTo>
                  <a:lnTo>
                    <a:pt x="9170" y="104"/>
                  </a:lnTo>
                  <a:lnTo>
                    <a:pt x="9255" y="124"/>
                  </a:lnTo>
                  <a:lnTo>
                    <a:pt x="9339" y="146"/>
                  </a:lnTo>
                  <a:lnTo>
                    <a:pt x="9422" y="171"/>
                  </a:lnTo>
                  <a:lnTo>
                    <a:pt x="9505" y="197"/>
                  </a:lnTo>
                  <a:lnTo>
                    <a:pt x="9587" y="225"/>
                  </a:lnTo>
                  <a:lnTo>
                    <a:pt x="9668" y="256"/>
                  </a:lnTo>
                  <a:lnTo>
                    <a:pt x="9748" y="290"/>
                  </a:lnTo>
                  <a:lnTo>
                    <a:pt x="9827" y="324"/>
                  </a:lnTo>
                  <a:lnTo>
                    <a:pt x="9904" y="361"/>
                  </a:lnTo>
                  <a:lnTo>
                    <a:pt x="9981" y="402"/>
                  </a:lnTo>
                  <a:lnTo>
                    <a:pt x="10056" y="445"/>
                  </a:lnTo>
                  <a:lnTo>
                    <a:pt x="10130" y="489"/>
                  </a:lnTo>
                  <a:lnTo>
                    <a:pt x="10202" y="536"/>
                  </a:lnTo>
                  <a:lnTo>
                    <a:pt x="10272" y="586"/>
                  </a:lnTo>
                  <a:lnTo>
                    <a:pt x="10341" y="639"/>
                  </a:lnTo>
                  <a:lnTo>
                    <a:pt x="10409" y="695"/>
                  </a:lnTo>
                  <a:lnTo>
                    <a:pt x="10490" y="661"/>
                  </a:lnTo>
                  <a:lnTo>
                    <a:pt x="10572" y="633"/>
                  </a:lnTo>
                  <a:lnTo>
                    <a:pt x="10655" y="609"/>
                  </a:lnTo>
                  <a:lnTo>
                    <a:pt x="10739" y="589"/>
                  </a:lnTo>
                  <a:lnTo>
                    <a:pt x="10824" y="575"/>
                  </a:lnTo>
                  <a:lnTo>
                    <a:pt x="10910" y="563"/>
                  </a:lnTo>
                  <a:lnTo>
                    <a:pt x="10996" y="557"/>
                  </a:lnTo>
                  <a:lnTo>
                    <a:pt x="11083" y="554"/>
                  </a:lnTo>
                  <a:lnTo>
                    <a:pt x="11170" y="555"/>
                  </a:lnTo>
                  <a:lnTo>
                    <a:pt x="11256" y="559"/>
                  </a:lnTo>
                  <a:lnTo>
                    <a:pt x="11343" y="569"/>
                  </a:lnTo>
                  <a:lnTo>
                    <a:pt x="11429" y="581"/>
                  </a:lnTo>
                  <a:lnTo>
                    <a:pt x="11515" y="597"/>
                  </a:lnTo>
                  <a:lnTo>
                    <a:pt x="11600" y="615"/>
                  </a:lnTo>
                  <a:lnTo>
                    <a:pt x="11686" y="638"/>
                  </a:lnTo>
                  <a:lnTo>
                    <a:pt x="11770" y="664"/>
                  </a:lnTo>
                  <a:lnTo>
                    <a:pt x="11853" y="694"/>
                  </a:lnTo>
                  <a:lnTo>
                    <a:pt x="11936" y="726"/>
                  </a:lnTo>
                  <a:lnTo>
                    <a:pt x="12016" y="761"/>
                  </a:lnTo>
                  <a:lnTo>
                    <a:pt x="12096" y="800"/>
                  </a:lnTo>
                  <a:lnTo>
                    <a:pt x="12174" y="840"/>
                  </a:lnTo>
                  <a:lnTo>
                    <a:pt x="12251" y="884"/>
                  </a:lnTo>
                  <a:lnTo>
                    <a:pt x="12325" y="931"/>
                  </a:lnTo>
                  <a:lnTo>
                    <a:pt x="12398" y="980"/>
                  </a:lnTo>
                  <a:lnTo>
                    <a:pt x="12469" y="1031"/>
                  </a:lnTo>
                  <a:lnTo>
                    <a:pt x="12537" y="1085"/>
                  </a:lnTo>
                  <a:lnTo>
                    <a:pt x="12603" y="1141"/>
                  </a:lnTo>
                  <a:lnTo>
                    <a:pt x="12667" y="1200"/>
                  </a:lnTo>
                  <a:lnTo>
                    <a:pt x="12727" y="1261"/>
                  </a:lnTo>
                  <a:lnTo>
                    <a:pt x="12786" y="1324"/>
                  </a:lnTo>
                  <a:lnTo>
                    <a:pt x="12841" y="1388"/>
                  </a:lnTo>
                  <a:lnTo>
                    <a:pt x="12894" y="145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>
            <a:off x="8305920" y="5486400"/>
            <a:ext cx="838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2" name="" descr=""/>
          <p:cNvPicPr/>
          <p:nvPr/>
        </p:nvPicPr>
        <p:blipFill>
          <a:blip r:embed="rId29"/>
          <a:stretch/>
        </p:blipFill>
        <p:spPr>
          <a:xfrm>
            <a:off x="5105520" y="4648320"/>
            <a:ext cx="380880" cy="171360"/>
          </a:xfrm>
          <a:prstGeom prst="rect">
            <a:avLst/>
          </a:prstGeom>
          <a:ln w="0">
            <a:noFill/>
          </a:ln>
        </p:spPr>
      </p:pic>
      <p:pic>
        <p:nvPicPr>
          <p:cNvPr id="1793" name="" descr=""/>
          <p:cNvPicPr/>
          <p:nvPr/>
        </p:nvPicPr>
        <p:blipFill>
          <a:blip r:embed="rId30"/>
          <a:stretch/>
        </p:blipFill>
        <p:spPr>
          <a:xfrm>
            <a:off x="7315200" y="3886200"/>
            <a:ext cx="380880" cy="171360"/>
          </a:xfrm>
          <a:prstGeom prst="rect">
            <a:avLst/>
          </a:prstGeom>
          <a:ln w="0">
            <a:noFill/>
          </a:ln>
        </p:spPr>
      </p:pic>
      <p:grpSp>
        <p:nvGrpSpPr>
          <p:cNvPr id="1794" name=""/>
          <p:cNvGrpSpPr/>
          <p:nvPr/>
        </p:nvGrpSpPr>
        <p:grpSpPr>
          <a:xfrm>
            <a:off x="7467480" y="4343400"/>
            <a:ext cx="304920" cy="152280"/>
            <a:chOff x="7467480" y="4343400"/>
            <a:chExt cx="304920" cy="152280"/>
          </a:xfrm>
        </p:grpSpPr>
        <p:sp>
          <p:nvSpPr>
            <p:cNvPr id="1795" name=""/>
            <p:cNvSpPr/>
            <p:nvPr/>
          </p:nvSpPr>
          <p:spPr>
            <a:xfrm>
              <a:off x="7467480" y="4385880"/>
              <a:ext cx="304920" cy="109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467480" y="4343400"/>
              <a:ext cx="303840" cy="835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7" name=""/>
            <p:cNvGrpSpPr/>
            <p:nvPr/>
          </p:nvGrpSpPr>
          <p:grpSpPr>
            <a:xfrm>
              <a:off x="7514640" y="4353120"/>
              <a:ext cx="209520" cy="63360"/>
              <a:chOff x="7514640" y="4353120"/>
              <a:chExt cx="209520" cy="63360"/>
            </a:xfrm>
          </p:grpSpPr>
          <p:sp>
            <p:nvSpPr>
              <p:cNvPr id="1798" name=""/>
              <p:cNvSpPr/>
              <p:nvPr/>
            </p:nvSpPr>
            <p:spPr>
              <a:xfrm>
                <a:off x="7623000" y="435456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623000" y="435456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514640" y="4385160"/>
                <a:ext cx="9972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514640" y="4385160"/>
                <a:ext cx="9972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519680" y="435312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519680" y="435312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619400" y="438840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619400" y="438840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625160" y="435636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625160" y="435636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516440" y="4386960"/>
                <a:ext cx="9972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516440" y="4386960"/>
                <a:ext cx="9972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521480" y="435456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521480" y="435456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621560" y="439020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621560" y="439020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4" name=""/>
          <p:cNvGrpSpPr/>
          <p:nvPr/>
        </p:nvGrpSpPr>
        <p:grpSpPr>
          <a:xfrm>
            <a:off x="6934320" y="4648320"/>
            <a:ext cx="304560" cy="152280"/>
            <a:chOff x="6934320" y="4648320"/>
            <a:chExt cx="304560" cy="152280"/>
          </a:xfrm>
        </p:grpSpPr>
        <p:sp>
          <p:nvSpPr>
            <p:cNvPr id="1815" name=""/>
            <p:cNvSpPr/>
            <p:nvPr/>
          </p:nvSpPr>
          <p:spPr>
            <a:xfrm>
              <a:off x="6934320" y="4690800"/>
              <a:ext cx="304560" cy="109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934320" y="4648320"/>
              <a:ext cx="303480" cy="835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7" name=""/>
            <p:cNvGrpSpPr/>
            <p:nvPr/>
          </p:nvGrpSpPr>
          <p:grpSpPr>
            <a:xfrm>
              <a:off x="6981480" y="4658040"/>
              <a:ext cx="209160" cy="63360"/>
              <a:chOff x="6981480" y="4658040"/>
              <a:chExt cx="209160" cy="63360"/>
            </a:xfrm>
          </p:grpSpPr>
          <p:sp>
            <p:nvSpPr>
              <p:cNvPr id="1818" name=""/>
              <p:cNvSpPr/>
              <p:nvPr/>
            </p:nvSpPr>
            <p:spPr>
              <a:xfrm>
                <a:off x="7089840" y="4659480"/>
                <a:ext cx="9936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089840" y="4659480"/>
                <a:ext cx="9936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981480" y="4690080"/>
                <a:ext cx="9936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6981480" y="4690080"/>
                <a:ext cx="9936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986520" y="4658040"/>
                <a:ext cx="9936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986520" y="4658040"/>
                <a:ext cx="9936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085880" y="4693320"/>
                <a:ext cx="9936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085880" y="4693320"/>
                <a:ext cx="9936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092000" y="4661280"/>
                <a:ext cx="98640" cy="2628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092000" y="4661280"/>
                <a:ext cx="98640" cy="2628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983280" y="4691880"/>
                <a:ext cx="9936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983280" y="4691880"/>
                <a:ext cx="9936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988320" y="4659480"/>
                <a:ext cx="9936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88320" y="4659480"/>
                <a:ext cx="9936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88040" y="4695120"/>
                <a:ext cx="9936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88040" y="4695120"/>
                <a:ext cx="9936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4" name=""/>
          <p:cNvGrpSpPr/>
          <p:nvPr/>
        </p:nvGrpSpPr>
        <p:grpSpPr>
          <a:xfrm>
            <a:off x="8153280" y="4648320"/>
            <a:ext cx="304920" cy="152280"/>
            <a:chOff x="8153280" y="4648320"/>
            <a:chExt cx="304920" cy="152280"/>
          </a:xfrm>
        </p:grpSpPr>
        <p:sp>
          <p:nvSpPr>
            <p:cNvPr id="1835" name=""/>
            <p:cNvSpPr/>
            <p:nvPr/>
          </p:nvSpPr>
          <p:spPr>
            <a:xfrm>
              <a:off x="8153280" y="4690800"/>
              <a:ext cx="304920" cy="109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8153280" y="4648320"/>
              <a:ext cx="303840" cy="835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7" name=""/>
            <p:cNvGrpSpPr/>
            <p:nvPr/>
          </p:nvGrpSpPr>
          <p:grpSpPr>
            <a:xfrm>
              <a:off x="8200440" y="4658040"/>
              <a:ext cx="209520" cy="63360"/>
              <a:chOff x="8200440" y="4658040"/>
              <a:chExt cx="209520" cy="63360"/>
            </a:xfrm>
          </p:grpSpPr>
          <p:sp>
            <p:nvSpPr>
              <p:cNvPr id="1838" name=""/>
              <p:cNvSpPr/>
              <p:nvPr/>
            </p:nvSpPr>
            <p:spPr>
              <a:xfrm>
                <a:off x="8308800" y="465948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308800" y="465948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200440" y="4690080"/>
                <a:ext cx="9972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200440" y="4690080"/>
                <a:ext cx="9972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8205480" y="465804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8205480" y="465804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305200" y="469332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8305200" y="469332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310960" y="466128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310960" y="466128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8202240" y="4691880"/>
                <a:ext cx="9972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8202240" y="4691880"/>
                <a:ext cx="9972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8207280" y="465948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8207280" y="465948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8307360" y="469512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307360" y="469512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4" name=""/>
          <p:cNvGrpSpPr/>
          <p:nvPr/>
        </p:nvGrpSpPr>
        <p:grpSpPr>
          <a:xfrm>
            <a:off x="7010280" y="5029200"/>
            <a:ext cx="304920" cy="152280"/>
            <a:chOff x="7010280" y="5029200"/>
            <a:chExt cx="304920" cy="152280"/>
          </a:xfrm>
        </p:grpSpPr>
        <p:sp>
          <p:nvSpPr>
            <p:cNvPr id="1855" name=""/>
            <p:cNvSpPr/>
            <p:nvPr/>
          </p:nvSpPr>
          <p:spPr>
            <a:xfrm>
              <a:off x="7010280" y="5071680"/>
              <a:ext cx="304920" cy="1098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010280" y="5029200"/>
              <a:ext cx="303840" cy="835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7057440" y="5038920"/>
              <a:ext cx="209520" cy="63360"/>
              <a:chOff x="7057440" y="5038920"/>
              <a:chExt cx="209520" cy="63360"/>
            </a:xfrm>
          </p:grpSpPr>
          <p:sp>
            <p:nvSpPr>
              <p:cNvPr id="1858" name=""/>
              <p:cNvSpPr/>
              <p:nvPr/>
            </p:nvSpPr>
            <p:spPr>
              <a:xfrm>
                <a:off x="7165800" y="504036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165800" y="504036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057440" y="5070960"/>
                <a:ext cx="9972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057440" y="5070960"/>
                <a:ext cx="9972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062480" y="503892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062480" y="503892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162200" y="507420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162200" y="507420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167960" y="504216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167960" y="504216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059240" y="5072760"/>
                <a:ext cx="9972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059240" y="5072760"/>
                <a:ext cx="99720" cy="28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064280" y="504036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064280" y="504036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164360" y="507600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164360" y="5076000"/>
                <a:ext cx="99720" cy="2628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什么是路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路由的工作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6" name=""/>
          <p:cNvGraphicFramePr/>
          <p:nvPr/>
        </p:nvGraphicFramePr>
        <p:xfrm>
          <a:off x="533520" y="2362320"/>
          <a:ext cx="7848360" cy="33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7848360" cy="33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路由的工作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发数据包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改变第二层的包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改变第三层的包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转发数据包的依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转发数据包的依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目标网络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路由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静态路由的配置命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p route &lt;ip_address&gt; &lt;mask|masklen&gt; &lt;interface_name|gateway_address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什么是路由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什么是路由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记录能够到达网络的路由信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路由表的路由信息的来源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直连路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静态路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动态路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静态路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0" y="2895480"/>
            <a:ext cx="8839080" cy="2252880"/>
            <a:chOff x="0" y="2895480"/>
            <a:chExt cx="8839080" cy="2252880"/>
          </a:xfrm>
        </p:grpSpPr>
        <p:sp>
          <p:nvSpPr>
            <p:cNvPr id="1890" name=""/>
            <p:cNvSpPr/>
            <p:nvPr/>
          </p:nvSpPr>
          <p:spPr>
            <a:xfrm>
              <a:off x="1676520" y="350532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934320" y="3505320"/>
              <a:ext cx="83808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914400" y="358128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0" y="3733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.1.1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514600" y="3733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.2.2.2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5" name=""/>
            <p:cNvGrpSpPr/>
            <p:nvPr/>
          </p:nvGrpSpPr>
          <p:grpSpPr>
            <a:xfrm>
              <a:off x="228600" y="4419720"/>
              <a:ext cx="1100160" cy="728640"/>
              <a:chOff x="228600" y="4419720"/>
              <a:chExt cx="1100160" cy="728640"/>
            </a:xfrm>
          </p:grpSpPr>
          <p:sp>
            <p:nvSpPr>
              <p:cNvPr id="1896" name=""/>
              <p:cNvSpPr/>
              <p:nvPr/>
            </p:nvSpPr>
            <p:spPr>
              <a:xfrm>
                <a:off x="228600" y="441972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57200" y="464832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8" name=""/>
            <p:cNvSpPr/>
            <p:nvPr/>
          </p:nvSpPr>
          <p:spPr>
            <a:xfrm>
              <a:off x="1371600" y="373392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.2.2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343400" y="28954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3.3.2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124080" y="289548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3.3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315200" y="3733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5.5.5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2" name=""/>
            <p:cNvGrpSpPr/>
            <p:nvPr/>
          </p:nvGrpSpPr>
          <p:grpSpPr>
            <a:xfrm>
              <a:off x="1219320" y="3276720"/>
              <a:ext cx="761760" cy="456840"/>
              <a:chOff x="1219320" y="3276720"/>
              <a:chExt cx="761760" cy="456840"/>
            </a:xfrm>
          </p:grpSpPr>
          <p:sp>
            <p:nvSpPr>
              <p:cNvPr id="1903" name=""/>
              <p:cNvSpPr/>
              <p:nvPr/>
            </p:nvSpPr>
            <p:spPr>
              <a:xfrm>
                <a:off x="1219320" y="3403800"/>
                <a:ext cx="76176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19320" y="3276720"/>
                <a:ext cx="75852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5" name=""/>
              <p:cNvGrpSpPr/>
              <p:nvPr/>
            </p:nvGrpSpPr>
            <p:grpSpPr>
              <a:xfrm>
                <a:off x="1337400" y="3306240"/>
                <a:ext cx="523080" cy="190080"/>
                <a:chOff x="1337400" y="3306240"/>
                <a:chExt cx="523080" cy="19008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160848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160848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133740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33740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35000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135000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159876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159876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161352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161352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134244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134244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135504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135504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160416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160416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2" name=""/>
            <p:cNvGrpSpPr/>
            <p:nvPr/>
          </p:nvGrpSpPr>
          <p:grpSpPr>
            <a:xfrm>
              <a:off x="4800600" y="3276720"/>
              <a:ext cx="762120" cy="456840"/>
              <a:chOff x="4800600" y="3276720"/>
              <a:chExt cx="762120" cy="456840"/>
            </a:xfrm>
          </p:grpSpPr>
          <p:sp>
            <p:nvSpPr>
              <p:cNvPr id="1923" name=""/>
              <p:cNvSpPr/>
              <p:nvPr/>
            </p:nvSpPr>
            <p:spPr>
              <a:xfrm>
                <a:off x="4800600" y="3403800"/>
                <a:ext cx="76212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800600" y="3276720"/>
                <a:ext cx="75888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5" name=""/>
              <p:cNvGrpSpPr/>
              <p:nvPr/>
            </p:nvGrpSpPr>
            <p:grpSpPr>
              <a:xfrm>
                <a:off x="4918680" y="3306240"/>
                <a:ext cx="523440" cy="190080"/>
                <a:chOff x="4918680" y="3306240"/>
                <a:chExt cx="523440" cy="190080"/>
              </a:xfrm>
            </p:grpSpPr>
            <p:sp>
              <p:nvSpPr>
                <p:cNvPr id="1926" name=""/>
                <p:cNvSpPr/>
                <p:nvPr/>
              </p:nvSpPr>
              <p:spPr>
                <a:xfrm>
                  <a:off x="518976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518976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491868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491868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493128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493128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518040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518040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519516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519516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492372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92372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493632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493632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518544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518544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2" name=""/>
            <p:cNvGrpSpPr/>
            <p:nvPr/>
          </p:nvGrpSpPr>
          <p:grpSpPr>
            <a:xfrm>
              <a:off x="6477120" y="3276720"/>
              <a:ext cx="761760" cy="456840"/>
              <a:chOff x="6477120" y="3276720"/>
              <a:chExt cx="761760" cy="456840"/>
            </a:xfrm>
          </p:grpSpPr>
          <p:sp>
            <p:nvSpPr>
              <p:cNvPr id="1943" name=""/>
              <p:cNvSpPr/>
              <p:nvPr/>
            </p:nvSpPr>
            <p:spPr>
              <a:xfrm>
                <a:off x="6477120" y="3403800"/>
                <a:ext cx="76176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477120" y="3276720"/>
                <a:ext cx="75852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5" name=""/>
              <p:cNvGrpSpPr/>
              <p:nvPr/>
            </p:nvGrpSpPr>
            <p:grpSpPr>
              <a:xfrm>
                <a:off x="6595200" y="3306240"/>
                <a:ext cx="523080" cy="190080"/>
                <a:chOff x="6595200" y="3306240"/>
                <a:chExt cx="523080" cy="190080"/>
              </a:xfrm>
            </p:grpSpPr>
            <p:sp>
              <p:nvSpPr>
                <p:cNvPr id="1946" name=""/>
                <p:cNvSpPr/>
                <p:nvPr/>
              </p:nvSpPr>
              <p:spPr>
                <a:xfrm>
                  <a:off x="686628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686628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659520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59520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660780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660780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685656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685656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687132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687132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660024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660024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661284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661284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686196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686196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2" name=""/>
            <p:cNvGrpSpPr/>
            <p:nvPr/>
          </p:nvGrpSpPr>
          <p:grpSpPr>
            <a:xfrm>
              <a:off x="7086600" y="4419720"/>
              <a:ext cx="1100160" cy="728640"/>
              <a:chOff x="7086600" y="4419720"/>
              <a:chExt cx="1100160" cy="728640"/>
            </a:xfrm>
          </p:grpSpPr>
          <p:sp>
            <p:nvSpPr>
              <p:cNvPr id="1963" name=""/>
              <p:cNvSpPr/>
              <p:nvPr/>
            </p:nvSpPr>
            <p:spPr>
              <a:xfrm>
                <a:off x="7086600" y="441972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315200" y="464832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5" name=""/>
            <p:cNvGrpSpPr/>
            <p:nvPr/>
          </p:nvGrpSpPr>
          <p:grpSpPr>
            <a:xfrm>
              <a:off x="2971800" y="3276720"/>
              <a:ext cx="762120" cy="456840"/>
              <a:chOff x="2971800" y="3276720"/>
              <a:chExt cx="762120" cy="456840"/>
            </a:xfrm>
          </p:grpSpPr>
          <p:sp>
            <p:nvSpPr>
              <p:cNvPr id="1966" name=""/>
              <p:cNvSpPr/>
              <p:nvPr/>
            </p:nvSpPr>
            <p:spPr>
              <a:xfrm>
                <a:off x="2971800" y="3403800"/>
                <a:ext cx="76212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971800" y="3276720"/>
                <a:ext cx="75888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8" name=""/>
              <p:cNvGrpSpPr/>
              <p:nvPr/>
            </p:nvGrpSpPr>
            <p:grpSpPr>
              <a:xfrm>
                <a:off x="3089880" y="3306240"/>
                <a:ext cx="523440" cy="190080"/>
                <a:chOff x="3089880" y="3306240"/>
                <a:chExt cx="523440" cy="190080"/>
              </a:xfrm>
            </p:grpSpPr>
            <p:sp>
              <p:nvSpPr>
                <p:cNvPr id="1969" name=""/>
                <p:cNvSpPr/>
                <p:nvPr/>
              </p:nvSpPr>
              <p:spPr>
                <a:xfrm>
                  <a:off x="336096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336096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308988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308988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310248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310248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335160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335160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336636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336636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309492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309492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310752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310752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335664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335664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5" name=""/>
            <p:cNvSpPr/>
            <p:nvPr/>
          </p:nvSpPr>
          <p:spPr>
            <a:xfrm>
              <a:off x="4724280" y="37339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4.4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943600" y="3733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4.4.2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7" name=""/>
          <p:cNvGrpSpPr/>
          <p:nvPr/>
        </p:nvGrpSpPr>
        <p:grpSpPr>
          <a:xfrm>
            <a:off x="0" y="2895480"/>
            <a:ext cx="8839080" cy="2252880"/>
            <a:chOff x="0" y="2895480"/>
            <a:chExt cx="8839080" cy="2252880"/>
          </a:xfrm>
        </p:grpSpPr>
        <p:sp>
          <p:nvSpPr>
            <p:cNvPr id="1988" name=""/>
            <p:cNvSpPr/>
            <p:nvPr/>
          </p:nvSpPr>
          <p:spPr>
            <a:xfrm flipH="1">
              <a:off x="3200040" y="36576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181480" y="3657600"/>
              <a:ext cx="152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676520" y="350532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934320" y="3505320"/>
              <a:ext cx="83808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H="1">
              <a:off x="914400" y="358128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0" y="3733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.1.1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362320" y="3733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.2.2.2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5" name=""/>
            <p:cNvGrpSpPr/>
            <p:nvPr/>
          </p:nvGrpSpPr>
          <p:grpSpPr>
            <a:xfrm>
              <a:off x="228600" y="4419720"/>
              <a:ext cx="1100160" cy="728640"/>
              <a:chOff x="228600" y="4419720"/>
              <a:chExt cx="1100160" cy="728640"/>
            </a:xfrm>
          </p:grpSpPr>
          <p:sp>
            <p:nvSpPr>
              <p:cNvPr id="1996" name=""/>
              <p:cNvSpPr/>
              <p:nvPr/>
            </p:nvSpPr>
            <p:spPr>
              <a:xfrm>
                <a:off x="228600" y="441972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457200" y="464832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8" name=""/>
            <p:cNvSpPr/>
            <p:nvPr/>
          </p:nvSpPr>
          <p:spPr>
            <a:xfrm>
              <a:off x="1295280" y="373392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.2.2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343400" y="28954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3.3.2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200400" y="28954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3.3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7315200" y="3733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5.5.5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2" name=""/>
            <p:cNvGrpSpPr/>
            <p:nvPr/>
          </p:nvGrpSpPr>
          <p:grpSpPr>
            <a:xfrm>
              <a:off x="1219320" y="3276720"/>
              <a:ext cx="761760" cy="456840"/>
              <a:chOff x="1219320" y="3276720"/>
              <a:chExt cx="761760" cy="456840"/>
            </a:xfrm>
          </p:grpSpPr>
          <p:sp>
            <p:nvSpPr>
              <p:cNvPr id="2003" name=""/>
              <p:cNvSpPr/>
              <p:nvPr/>
            </p:nvSpPr>
            <p:spPr>
              <a:xfrm>
                <a:off x="1219320" y="3403800"/>
                <a:ext cx="76176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219320" y="3276720"/>
                <a:ext cx="75852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5" name=""/>
              <p:cNvGrpSpPr/>
              <p:nvPr/>
            </p:nvGrpSpPr>
            <p:grpSpPr>
              <a:xfrm>
                <a:off x="1337400" y="3306240"/>
                <a:ext cx="523080" cy="190080"/>
                <a:chOff x="1337400" y="3306240"/>
                <a:chExt cx="523080" cy="190080"/>
              </a:xfrm>
            </p:grpSpPr>
            <p:sp>
              <p:nvSpPr>
                <p:cNvPr id="2006" name=""/>
                <p:cNvSpPr/>
                <p:nvPr/>
              </p:nvSpPr>
              <p:spPr>
                <a:xfrm>
                  <a:off x="160848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160848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133740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133740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135000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135000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159876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159876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161352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161352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134244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134244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135504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135504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160416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160416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2" name=""/>
            <p:cNvGrpSpPr/>
            <p:nvPr/>
          </p:nvGrpSpPr>
          <p:grpSpPr>
            <a:xfrm>
              <a:off x="4800600" y="3276720"/>
              <a:ext cx="762120" cy="456840"/>
              <a:chOff x="4800600" y="3276720"/>
              <a:chExt cx="762120" cy="456840"/>
            </a:xfrm>
          </p:grpSpPr>
          <p:sp>
            <p:nvSpPr>
              <p:cNvPr id="2023" name=""/>
              <p:cNvSpPr/>
              <p:nvPr/>
            </p:nvSpPr>
            <p:spPr>
              <a:xfrm>
                <a:off x="4800600" y="3403800"/>
                <a:ext cx="76212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00600" y="3276720"/>
                <a:ext cx="75888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5" name=""/>
              <p:cNvGrpSpPr/>
              <p:nvPr/>
            </p:nvGrpSpPr>
            <p:grpSpPr>
              <a:xfrm>
                <a:off x="4918680" y="3306240"/>
                <a:ext cx="523440" cy="190080"/>
                <a:chOff x="4918680" y="3306240"/>
                <a:chExt cx="523440" cy="190080"/>
              </a:xfrm>
            </p:grpSpPr>
            <p:sp>
              <p:nvSpPr>
                <p:cNvPr id="2026" name=""/>
                <p:cNvSpPr/>
                <p:nvPr/>
              </p:nvSpPr>
              <p:spPr>
                <a:xfrm>
                  <a:off x="518976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518976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491868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491868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493128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493128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518040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518040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519516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519516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492372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92372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93632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93632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518544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518544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2" name=""/>
            <p:cNvGrpSpPr/>
            <p:nvPr/>
          </p:nvGrpSpPr>
          <p:grpSpPr>
            <a:xfrm>
              <a:off x="6477120" y="3276720"/>
              <a:ext cx="761760" cy="456840"/>
              <a:chOff x="6477120" y="3276720"/>
              <a:chExt cx="761760" cy="456840"/>
            </a:xfrm>
          </p:grpSpPr>
          <p:sp>
            <p:nvSpPr>
              <p:cNvPr id="2043" name=""/>
              <p:cNvSpPr/>
              <p:nvPr/>
            </p:nvSpPr>
            <p:spPr>
              <a:xfrm>
                <a:off x="6477120" y="3403800"/>
                <a:ext cx="76176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6477120" y="3276720"/>
                <a:ext cx="75852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5" name=""/>
              <p:cNvGrpSpPr/>
              <p:nvPr/>
            </p:nvGrpSpPr>
            <p:grpSpPr>
              <a:xfrm>
                <a:off x="6595200" y="3306240"/>
                <a:ext cx="523080" cy="190080"/>
                <a:chOff x="6595200" y="3306240"/>
                <a:chExt cx="523080" cy="190080"/>
              </a:xfrm>
            </p:grpSpPr>
            <p:sp>
              <p:nvSpPr>
                <p:cNvPr id="2046" name=""/>
                <p:cNvSpPr/>
                <p:nvPr/>
              </p:nvSpPr>
              <p:spPr>
                <a:xfrm>
                  <a:off x="686628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686628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659520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659520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660780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660780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685656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685656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687132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687132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660024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660024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661284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661284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686196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686196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2" name=""/>
            <p:cNvGrpSpPr/>
            <p:nvPr/>
          </p:nvGrpSpPr>
          <p:grpSpPr>
            <a:xfrm>
              <a:off x="7086600" y="4419720"/>
              <a:ext cx="1100160" cy="728640"/>
              <a:chOff x="7086600" y="4419720"/>
              <a:chExt cx="1100160" cy="728640"/>
            </a:xfrm>
          </p:grpSpPr>
          <p:sp>
            <p:nvSpPr>
              <p:cNvPr id="2063" name=""/>
              <p:cNvSpPr/>
              <p:nvPr/>
            </p:nvSpPr>
            <p:spPr>
              <a:xfrm>
                <a:off x="7086600" y="441972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315200" y="464832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5" name=""/>
            <p:cNvGrpSpPr/>
            <p:nvPr/>
          </p:nvGrpSpPr>
          <p:grpSpPr>
            <a:xfrm>
              <a:off x="2971800" y="3276720"/>
              <a:ext cx="762120" cy="456840"/>
              <a:chOff x="2971800" y="3276720"/>
              <a:chExt cx="762120" cy="456840"/>
            </a:xfrm>
          </p:grpSpPr>
          <p:sp>
            <p:nvSpPr>
              <p:cNvPr id="2066" name=""/>
              <p:cNvSpPr/>
              <p:nvPr/>
            </p:nvSpPr>
            <p:spPr>
              <a:xfrm>
                <a:off x="2971800" y="3403800"/>
                <a:ext cx="76212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971800" y="3276720"/>
                <a:ext cx="75888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8" name=""/>
              <p:cNvGrpSpPr/>
              <p:nvPr/>
            </p:nvGrpSpPr>
            <p:grpSpPr>
              <a:xfrm>
                <a:off x="3089880" y="3306240"/>
                <a:ext cx="523440" cy="190080"/>
                <a:chOff x="3089880" y="3306240"/>
                <a:chExt cx="523440" cy="190080"/>
              </a:xfrm>
            </p:grpSpPr>
            <p:sp>
              <p:nvSpPr>
                <p:cNvPr id="2069" name=""/>
                <p:cNvSpPr/>
                <p:nvPr/>
              </p:nvSpPr>
              <p:spPr>
                <a:xfrm>
                  <a:off x="336096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336096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308988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308988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310248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310248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335160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335160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336636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336636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309492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309492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310752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310752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335664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335664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5" name=""/>
            <p:cNvSpPr/>
            <p:nvPr/>
          </p:nvSpPr>
          <p:spPr>
            <a:xfrm>
              <a:off x="4800600" y="3733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4.4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095880" y="37339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4.4.2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7" name=""/>
            <p:cNvGrpSpPr/>
            <p:nvPr/>
          </p:nvGrpSpPr>
          <p:grpSpPr>
            <a:xfrm>
              <a:off x="2590920" y="4419720"/>
              <a:ext cx="1100160" cy="728640"/>
              <a:chOff x="2590920" y="4419720"/>
              <a:chExt cx="1100160" cy="728640"/>
            </a:xfrm>
          </p:grpSpPr>
          <p:sp>
            <p:nvSpPr>
              <p:cNvPr id="2088" name=""/>
              <p:cNvSpPr/>
              <p:nvPr/>
            </p:nvSpPr>
            <p:spPr>
              <a:xfrm>
                <a:off x="2590920" y="441972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819520" y="464832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"/>
            <p:cNvGrpSpPr/>
            <p:nvPr/>
          </p:nvGrpSpPr>
          <p:grpSpPr>
            <a:xfrm>
              <a:off x="4724280" y="4419720"/>
              <a:ext cx="1100160" cy="728640"/>
              <a:chOff x="4724280" y="4419720"/>
              <a:chExt cx="1100160" cy="728640"/>
            </a:xfrm>
          </p:grpSpPr>
          <p:sp>
            <p:nvSpPr>
              <p:cNvPr id="2091" name=""/>
              <p:cNvSpPr/>
              <p:nvPr/>
            </p:nvSpPr>
            <p:spPr>
              <a:xfrm>
                <a:off x="4724280" y="441972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4952880" y="464832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静态路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动态路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动态路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动态路由协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路由器之间路由信息共享的一种机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相互传递路由信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计算出最好的路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常见动态路由协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GR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IGR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S-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G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寻径算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距离矢量算法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D-V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istance Vecto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链路状态算法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L-S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Link Stat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常见动态路由算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距离矢量算法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D-V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istance Vecto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R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IGR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IGR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链路状态算法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L-S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Link Stat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IS-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距离矢量算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概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距离矢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Metric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度量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R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协议为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原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传递路由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矢量叠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静态路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ip route ip_address 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mask|masklen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 interface_name|gateway_address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目标网络 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10.3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子网掩码 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255.255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下一跳地址 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1.1.1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配置命令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___________________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D-V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算法的工作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05" name=""/>
          <p:cNvGrpSpPr/>
          <p:nvPr/>
        </p:nvGrpSpPr>
        <p:grpSpPr>
          <a:xfrm>
            <a:off x="533520" y="2133720"/>
            <a:ext cx="7619760" cy="1110240"/>
            <a:chOff x="533520" y="2133720"/>
            <a:chExt cx="7619760" cy="1110240"/>
          </a:xfrm>
        </p:grpSpPr>
        <p:sp>
          <p:nvSpPr>
            <p:cNvPr id="2106" name=""/>
            <p:cNvSpPr/>
            <p:nvPr/>
          </p:nvSpPr>
          <p:spPr>
            <a:xfrm>
              <a:off x="609480" y="278604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33520" y="290664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.1.1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447920" y="213372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895480" y="290664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.2.2.2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676520" y="290664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.2.2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733920" y="213372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T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486400" y="290664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3.3.2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267080" y="290664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3.3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248520" y="219384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T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629400" y="290664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5.5.5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6" name=""/>
            <p:cNvGrpSpPr/>
            <p:nvPr/>
          </p:nvGrpSpPr>
          <p:grpSpPr>
            <a:xfrm>
              <a:off x="1371600" y="2514600"/>
              <a:ext cx="762120" cy="456840"/>
              <a:chOff x="1371600" y="2514600"/>
              <a:chExt cx="762120" cy="456840"/>
            </a:xfrm>
          </p:grpSpPr>
          <p:sp>
            <p:nvSpPr>
              <p:cNvPr id="2117" name=""/>
              <p:cNvSpPr/>
              <p:nvPr/>
            </p:nvSpPr>
            <p:spPr>
              <a:xfrm>
                <a:off x="1371600" y="2641680"/>
                <a:ext cx="76212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1371600" y="2514600"/>
                <a:ext cx="75888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9" name=""/>
              <p:cNvGrpSpPr/>
              <p:nvPr/>
            </p:nvGrpSpPr>
            <p:grpSpPr>
              <a:xfrm>
                <a:off x="1489680" y="2544120"/>
                <a:ext cx="523440" cy="190080"/>
                <a:chOff x="1489680" y="2544120"/>
                <a:chExt cx="523440" cy="190080"/>
              </a:xfrm>
            </p:grpSpPr>
            <p:sp>
              <p:nvSpPr>
                <p:cNvPr id="2120" name=""/>
                <p:cNvSpPr/>
                <p:nvPr/>
              </p:nvSpPr>
              <p:spPr>
                <a:xfrm>
                  <a:off x="1760760" y="254916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1760760" y="254916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1489680" y="264024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1489680" y="264024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1502280" y="254412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1502280" y="254412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1751400" y="265032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1751400" y="265032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1766160" y="255420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1766160" y="255420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1494720" y="264528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1494720" y="264528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1507320" y="254916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1507320" y="254916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1756440" y="265536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1756440" y="265536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6" name=""/>
            <p:cNvGrpSpPr/>
            <p:nvPr/>
          </p:nvGrpSpPr>
          <p:grpSpPr>
            <a:xfrm>
              <a:off x="3733920" y="2514600"/>
              <a:ext cx="761760" cy="456840"/>
              <a:chOff x="3733920" y="2514600"/>
              <a:chExt cx="761760" cy="456840"/>
            </a:xfrm>
          </p:grpSpPr>
          <p:sp>
            <p:nvSpPr>
              <p:cNvPr id="2137" name=""/>
              <p:cNvSpPr/>
              <p:nvPr/>
            </p:nvSpPr>
            <p:spPr>
              <a:xfrm>
                <a:off x="3733920" y="2641680"/>
                <a:ext cx="76176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733920" y="2514600"/>
                <a:ext cx="75852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9" name=""/>
              <p:cNvGrpSpPr/>
              <p:nvPr/>
            </p:nvGrpSpPr>
            <p:grpSpPr>
              <a:xfrm>
                <a:off x="3852000" y="2544120"/>
                <a:ext cx="523080" cy="190080"/>
                <a:chOff x="3852000" y="2544120"/>
                <a:chExt cx="523080" cy="190080"/>
              </a:xfrm>
            </p:grpSpPr>
            <p:sp>
              <p:nvSpPr>
                <p:cNvPr id="2140" name=""/>
                <p:cNvSpPr/>
                <p:nvPr/>
              </p:nvSpPr>
              <p:spPr>
                <a:xfrm>
                  <a:off x="4123080" y="254916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4123080" y="254916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852000" y="264024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852000" y="264024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864600" y="254412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864600" y="254412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4113360" y="265032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4113360" y="265032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4128120" y="255420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4128120" y="255420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857040" y="264528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857040" y="264528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869640" y="254916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869640" y="254916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4118760" y="265536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4118760" y="265536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56" name=""/>
            <p:cNvGrpSpPr/>
            <p:nvPr/>
          </p:nvGrpSpPr>
          <p:grpSpPr>
            <a:xfrm>
              <a:off x="6172200" y="2514600"/>
              <a:ext cx="762120" cy="456840"/>
              <a:chOff x="6172200" y="2514600"/>
              <a:chExt cx="762120" cy="456840"/>
            </a:xfrm>
          </p:grpSpPr>
          <p:sp>
            <p:nvSpPr>
              <p:cNvPr id="2157" name=""/>
              <p:cNvSpPr/>
              <p:nvPr/>
            </p:nvSpPr>
            <p:spPr>
              <a:xfrm>
                <a:off x="6172200" y="2641680"/>
                <a:ext cx="76212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172200" y="2514600"/>
                <a:ext cx="75888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9" name=""/>
              <p:cNvGrpSpPr/>
              <p:nvPr/>
            </p:nvGrpSpPr>
            <p:grpSpPr>
              <a:xfrm>
                <a:off x="6290280" y="2544120"/>
                <a:ext cx="523440" cy="190080"/>
                <a:chOff x="6290280" y="2544120"/>
                <a:chExt cx="523440" cy="190080"/>
              </a:xfrm>
            </p:grpSpPr>
            <p:sp>
              <p:nvSpPr>
                <p:cNvPr id="2160" name=""/>
                <p:cNvSpPr/>
                <p:nvPr/>
              </p:nvSpPr>
              <p:spPr>
                <a:xfrm>
                  <a:off x="6561360" y="254916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6561360" y="254916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6290280" y="264024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6290280" y="264024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6302880" y="254412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6302880" y="254412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6552000" y="265032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6552000" y="265032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6566760" y="255420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6566760" y="255420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6295320" y="264528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6295320" y="264528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6307920" y="254916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6307920" y="254916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6557040" y="265536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6557040" y="265536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76" name=""/>
          <p:cNvSpPr/>
          <p:nvPr/>
        </p:nvSpPr>
        <p:spPr>
          <a:xfrm>
            <a:off x="304920" y="23623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0.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476800" y="236232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0.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4915440" y="236232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0.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7277400" y="236232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.0.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收敛时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路由表更新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路由表达到平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更新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746748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于没有的路由项，添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于已有的，当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xt ho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相同时，无论度量值增大或减少，都更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于已有的，当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xt hop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不同时，只在度量值减少时，更新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D-V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算法的经典问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D-V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算法的经典问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路由环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计算到无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解决方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最大路由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解决方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最大路由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水平分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解决方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最大路由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水平分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毒性逆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路由保持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触发更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总结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-V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算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只在相邻路由器之间传递信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定期发送路由表的路由信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Link-State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算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-V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算法不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链路状态计算路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"/>
          <p:cNvSpPr/>
          <p:nvPr/>
        </p:nvSpPr>
        <p:spPr>
          <a:xfrm>
            <a:off x="746748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ith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静态路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ip route ip_address 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mask|masklen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 interface_name|gateway_address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目标网络 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10.3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子网掩码 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255.255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下一跳地址 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1.1.1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ip route 10.3.0.0 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255.255.0.0 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1.1.1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ip route 10.3.0.0 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16 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1.1.1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L-S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算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9" name=""/>
          <p:cNvSpPr/>
          <p:nvPr/>
        </p:nvSpPr>
        <p:spPr>
          <a:xfrm>
            <a:off x="3760920" y="1849320"/>
            <a:ext cx="1387440" cy="395280"/>
          </a:xfrm>
          <a:custGeom>
            <a:avLst/>
            <a:gdLst/>
            <a:ahLst/>
            <a:rect l="l" t="t" r="r" b="b"/>
            <a:pathLst>
              <a:path w="874" h="249">
                <a:moveTo>
                  <a:pt x="0" y="124"/>
                </a:moveTo>
                <a:lnTo>
                  <a:pt x="2" y="113"/>
                </a:lnTo>
                <a:lnTo>
                  <a:pt x="9" y="100"/>
                </a:lnTo>
                <a:lnTo>
                  <a:pt x="19" y="88"/>
                </a:lnTo>
                <a:lnTo>
                  <a:pt x="33" y="77"/>
                </a:lnTo>
                <a:lnTo>
                  <a:pt x="52" y="65"/>
                </a:lnTo>
                <a:lnTo>
                  <a:pt x="74" y="55"/>
                </a:lnTo>
                <a:lnTo>
                  <a:pt x="99" y="45"/>
                </a:lnTo>
                <a:lnTo>
                  <a:pt x="128" y="37"/>
                </a:lnTo>
                <a:lnTo>
                  <a:pt x="160" y="28"/>
                </a:lnTo>
                <a:lnTo>
                  <a:pt x="194" y="21"/>
                </a:lnTo>
                <a:lnTo>
                  <a:pt x="230" y="14"/>
                </a:lnTo>
                <a:lnTo>
                  <a:pt x="269" y="9"/>
                </a:lnTo>
                <a:lnTo>
                  <a:pt x="310" y="5"/>
                </a:lnTo>
                <a:lnTo>
                  <a:pt x="352" y="2"/>
                </a:lnTo>
                <a:lnTo>
                  <a:pt x="394" y="1"/>
                </a:lnTo>
                <a:lnTo>
                  <a:pt x="436" y="0"/>
                </a:lnTo>
                <a:lnTo>
                  <a:pt x="480" y="1"/>
                </a:lnTo>
                <a:lnTo>
                  <a:pt x="522" y="2"/>
                </a:lnTo>
                <a:lnTo>
                  <a:pt x="563" y="5"/>
                </a:lnTo>
                <a:lnTo>
                  <a:pt x="603" y="9"/>
                </a:lnTo>
                <a:lnTo>
                  <a:pt x="642" y="14"/>
                </a:lnTo>
                <a:lnTo>
                  <a:pt x="679" y="21"/>
                </a:lnTo>
                <a:lnTo>
                  <a:pt x="713" y="28"/>
                </a:lnTo>
                <a:lnTo>
                  <a:pt x="746" y="37"/>
                </a:lnTo>
                <a:lnTo>
                  <a:pt x="774" y="45"/>
                </a:lnTo>
                <a:lnTo>
                  <a:pt x="800" y="55"/>
                </a:lnTo>
                <a:lnTo>
                  <a:pt x="822" y="65"/>
                </a:lnTo>
                <a:lnTo>
                  <a:pt x="840" y="77"/>
                </a:lnTo>
                <a:lnTo>
                  <a:pt x="855" y="88"/>
                </a:lnTo>
                <a:lnTo>
                  <a:pt x="865" y="100"/>
                </a:lnTo>
                <a:lnTo>
                  <a:pt x="872" y="113"/>
                </a:lnTo>
                <a:lnTo>
                  <a:pt x="874" y="124"/>
                </a:lnTo>
                <a:lnTo>
                  <a:pt x="872" y="137"/>
                </a:lnTo>
                <a:lnTo>
                  <a:pt x="865" y="149"/>
                </a:lnTo>
                <a:lnTo>
                  <a:pt x="855" y="160"/>
                </a:lnTo>
                <a:lnTo>
                  <a:pt x="840" y="172"/>
                </a:lnTo>
                <a:lnTo>
                  <a:pt x="822" y="183"/>
                </a:lnTo>
                <a:lnTo>
                  <a:pt x="800" y="194"/>
                </a:lnTo>
                <a:lnTo>
                  <a:pt x="774" y="203"/>
                </a:lnTo>
                <a:lnTo>
                  <a:pt x="746" y="213"/>
                </a:lnTo>
                <a:lnTo>
                  <a:pt x="713" y="220"/>
                </a:lnTo>
                <a:lnTo>
                  <a:pt x="679" y="228"/>
                </a:lnTo>
                <a:lnTo>
                  <a:pt x="642" y="234"/>
                </a:lnTo>
                <a:lnTo>
                  <a:pt x="603" y="239"/>
                </a:lnTo>
                <a:lnTo>
                  <a:pt x="563" y="244"/>
                </a:lnTo>
                <a:lnTo>
                  <a:pt x="522" y="247"/>
                </a:lnTo>
                <a:lnTo>
                  <a:pt x="480" y="249"/>
                </a:lnTo>
                <a:lnTo>
                  <a:pt x="436" y="249"/>
                </a:lnTo>
                <a:lnTo>
                  <a:pt x="394" y="249"/>
                </a:lnTo>
                <a:lnTo>
                  <a:pt x="352" y="247"/>
                </a:lnTo>
                <a:lnTo>
                  <a:pt x="310" y="244"/>
                </a:lnTo>
                <a:lnTo>
                  <a:pt x="269" y="239"/>
                </a:lnTo>
                <a:lnTo>
                  <a:pt x="230" y="234"/>
                </a:lnTo>
                <a:lnTo>
                  <a:pt x="194" y="228"/>
                </a:lnTo>
                <a:lnTo>
                  <a:pt x="160" y="220"/>
                </a:lnTo>
                <a:lnTo>
                  <a:pt x="128" y="213"/>
                </a:lnTo>
                <a:lnTo>
                  <a:pt x="99" y="203"/>
                </a:lnTo>
                <a:lnTo>
                  <a:pt x="74" y="194"/>
                </a:lnTo>
                <a:lnTo>
                  <a:pt x="52" y="183"/>
                </a:lnTo>
                <a:lnTo>
                  <a:pt x="33" y="172"/>
                </a:lnTo>
                <a:lnTo>
                  <a:pt x="19" y="160"/>
                </a:lnTo>
                <a:lnTo>
                  <a:pt x="9" y="149"/>
                </a:lnTo>
                <a:lnTo>
                  <a:pt x="2" y="137"/>
                </a:lnTo>
                <a:lnTo>
                  <a:pt x="0" y="1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4249080" y="195264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LSD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760920" y="2441520"/>
            <a:ext cx="1387440" cy="200160"/>
          </a:xfrm>
          <a:custGeom>
            <a:avLst/>
            <a:gdLst/>
            <a:ahLst/>
            <a:rect l="l" t="t" r="r" b="b"/>
            <a:pathLst>
              <a:path w="874" h="126">
                <a:moveTo>
                  <a:pt x="0" y="0"/>
                </a:moveTo>
                <a:lnTo>
                  <a:pt x="50" y="29"/>
                </a:lnTo>
                <a:lnTo>
                  <a:pt x="102" y="54"/>
                </a:lnTo>
                <a:lnTo>
                  <a:pt x="154" y="76"/>
                </a:lnTo>
                <a:lnTo>
                  <a:pt x="209" y="93"/>
                </a:lnTo>
                <a:lnTo>
                  <a:pt x="265" y="108"/>
                </a:lnTo>
                <a:lnTo>
                  <a:pt x="322" y="118"/>
                </a:lnTo>
                <a:lnTo>
                  <a:pt x="379" y="124"/>
                </a:lnTo>
                <a:lnTo>
                  <a:pt x="436" y="126"/>
                </a:lnTo>
                <a:lnTo>
                  <a:pt x="494" y="124"/>
                </a:lnTo>
                <a:lnTo>
                  <a:pt x="551" y="118"/>
                </a:lnTo>
                <a:lnTo>
                  <a:pt x="607" y="108"/>
                </a:lnTo>
                <a:lnTo>
                  <a:pt x="663" y="93"/>
                </a:lnTo>
                <a:lnTo>
                  <a:pt x="718" y="76"/>
                </a:lnTo>
                <a:lnTo>
                  <a:pt x="771" y="54"/>
                </a:lnTo>
                <a:lnTo>
                  <a:pt x="823" y="29"/>
                </a:lnTo>
                <a:lnTo>
                  <a:pt x="87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760920" y="2046240"/>
            <a:ext cx="14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5148360" y="2046240"/>
            <a:ext cx="14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760920" y="2840040"/>
            <a:ext cx="1387440" cy="196920"/>
          </a:xfrm>
          <a:custGeom>
            <a:avLst/>
            <a:gdLst/>
            <a:ahLst/>
            <a:rect l="l" t="t" r="r" b="b"/>
            <a:pathLst>
              <a:path w="874" h="124">
                <a:moveTo>
                  <a:pt x="0" y="0"/>
                </a:moveTo>
                <a:lnTo>
                  <a:pt x="50" y="28"/>
                </a:lnTo>
                <a:lnTo>
                  <a:pt x="102" y="54"/>
                </a:lnTo>
                <a:lnTo>
                  <a:pt x="154" y="75"/>
                </a:lnTo>
                <a:lnTo>
                  <a:pt x="209" y="93"/>
                </a:lnTo>
                <a:lnTo>
                  <a:pt x="265" y="106"/>
                </a:lnTo>
                <a:lnTo>
                  <a:pt x="322" y="116"/>
                </a:lnTo>
                <a:lnTo>
                  <a:pt x="379" y="122"/>
                </a:lnTo>
                <a:lnTo>
                  <a:pt x="436" y="124"/>
                </a:lnTo>
                <a:lnTo>
                  <a:pt x="494" y="122"/>
                </a:lnTo>
                <a:lnTo>
                  <a:pt x="551" y="116"/>
                </a:lnTo>
                <a:lnTo>
                  <a:pt x="607" y="106"/>
                </a:lnTo>
                <a:lnTo>
                  <a:pt x="663" y="93"/>
                </a:lnTo>
                <a:lnTo>
                  <a:pt x="718" y="75"/>
                </a:lnTo>
                <a:lnTo>
                  <a:pt x="771" y="54"/>
                </a:lnTo>
                <a:lnTo>
                  <a:pt x="823" y="28"/>
                </a:lnTo>
                <a:lnTo>
                  <a:pt x="87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760920" y="3235320"/>
            <a:ext cx="1387440" cy="198360"/>
          </a:xfrm>
          <a:custGeom>
            <a:avLst/>
            <a:gdLst/>
            <a:ahLst/>
            <a:rect l="l" t="t" r="r" b="b"/>
            <a:pathLst>
              <a:path w="874" h="125">
                <a:moveTo>
                  <a:pt x="0" y="0"/>
                </a:moveTo>
                <a:lnTo>
                  <a:pt x="50" y="28"/>
                </a:lnTo>
                <a:lnTo>
                  <a:pt x="102" y="54"/>
                </a:lnTo>
                <a:lnTo>
                  <a:pt x="154" y="75"/>
                </a:lnTo>
                <a:lnTo>
                  <a:pt x="209" y="93"/>
                </a:lnTo>
                <a:lnTo>
                  <a:pt x="265" y="107"/>
                </a:lnTo>
                <a:lnTo>
                  <a:pt x="322" y="116"/>
                </a:lnTo>
                <a:lnTo>
                  <a:pt x="379" y="122"/>
                </a:lnTo>
                <a:lnTo>
                  <a:pt x="436" y="125"/>
                </a:lnTo>
                <a:lnTo>
                  <a:pt x="494" y="122"/>
                </a:lnTo>
                <a:lnTo>
                  <a:pt x="551" y="116"/>
                </a:lnTo>
                <a:lnTo>
                  <a:pt x="607" y="107"/>
                </a:lnTo>
                <a:lnTo>
                  <a:pt x="663" y="93"/>
                </a:lnTo>
                <a:lnTo>
                  <a:pt x="718" y="75"/>
                </a:lnTo>
                <a:lnTo>
                  <a:pt x="771" y="54"/>
                </a:lnTo>
                <a:lnTo>
                  <a:pt x="823" y="28"/>
                </a:lnTo>
                <a:lnTo>
                  <a:pt x="87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760920" y="3630600"/>
            <a:ext cx="1387440" cy="198360"/>
          </a:xfrm>
          <a:custGeom>
            <a:avLst/>
            <a:gdLst/>
            <a:ahLst/>
            <a:rect l="l" t="t" r="r" b="b"/>
            <a:pathLst>
              <a:path w="874" h="125">
                <a:moveTo>
                  <a:pt x="0" y="0"/>
                </a:moveTo>
                <a:lnTo>
                  <a:pt x="50" y="29"/>
                </a:lnTo>
                <a:lnTo>
                  <a:pt x="102" y="54"/>
                </a:lnTo>
                <a:lnTo>
                  <a:pt x="154" y="75"/>
                </a:lnTo>
                <a:lnTo>
                  <a:pt x="209" y="93"/>
                </a:lnTo>
                <a:lnTo>
                  <a:pt x="265" y="107"/>
                </a:lnTo>
                <a:lnTo>
                  <a:pt x="322" y="117"/>
                </a:lnTo>
                <a:lnTo>
                  <a:pt x="379" y="123"/>
                </a:lnTo>
                <a:lnTo>
                  <a:pt x="436" y="125"/>
                </a:lnTo>
                <a:lnTo>
                  <a:pt x="494" y="123"/>
                </a:lnTo>
                <a:lnTo>
                  <a:pt x="551" y="117"/>
                </a:lnTo>
                <a:lnTo>
                  <a:pt x="607" y="107"/>
                </a:lnTo>
                <a:lnTo>
                  <a:pt x="663" y="93"/>
                </a:lnTo>
                <a:lnTo>
                  <a:pt x="718" y="75"/>
                </a:lnTo>
                <a:lnTo>
                  <a:pt x="771" y="54"/>
                </a:lnTo>
                <a:lnTo>
                  <a:pt x="823" y="29"/>
                </a:lnTo>
                <a:lnTo>
                  <a:pt x="87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095360" y="234792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RTA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L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094640" y="2744640"/>
            <a:ext cx="76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RTB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L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087800" y="3537000"/>
            <a:ext cx="77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RTD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L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096080" y="3141720"/>
            <a:ext cx="75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RTC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L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176560" y="2244600"/>
            <a:ext cx="514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1978200" y="2363760"/>
            <a:ext cx="198360" cy="5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2571840" y="2363760"/>
            <a:ext cx="317520" cy="59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374920" y="3036960"/>
            <a:ext cx="144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434600" y="215100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R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088080" y="2151000"/>
            <a:ext cx="30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RT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2622600" y="2801880"/>
            <a:ext cx="298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RT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2614320" y="3537000"/>
            <a:ext cx="31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RT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851080" y="2011320"/>
            <a:ext cx="10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5742000" y="1952640"/>
            <a:ext cx="617760" cy="1630440"/>
            <a:chOff x="5742000" y="1952640"/>
            <a:chExt cx="617760" cy="1630440"/>
          </a:xfrm>
        </p:grpSpPr>
        <p:sp>
          <p:nvSpPr>
            <p:cNvPr id="2221" name=""/>
            <p:cNvSpPr/>
            <p:nvPr/>
          </p:nvSpPr>
          <p:spPr>
            <a:xfrm>
              <a:off x="5742000" y="1952640"/>
              <a:ext cx="316080" cy="29196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0" y="92"/>
                  </a:moveTo>
                  <a:lnTo>
                    <a:pt x="2" y="74"/>
                  </a:lnTo>
                  <a:lnTo>
                    <a:pt x="7" y="57"/>
                  </a:lnTo>
                  <a:lnTo>
                    <a:pt x="16" y="41"/>
                  </a:lnTo>
                  <a:lnTo>
                    <a:pt x="29" y="28"/>
                  </a:lnTo>
                  <a:lnTo>
                    <a:pt x="44" y="16"/>
                  </a:lnTo>
                  <a:lnTo>
                    <a:pt x="61" y="8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2"/>
                  </a:lnTo>
                  <a:lnTo>
                    <a:pt x="138" y="8"/>
                  </a:lnTo>
                  <a:lnTo>
                    <a:pt x="155" y="16"/>
                  </a:lnTo>
                  <a:lnTo>
                    <a:pt x="170" y="28"/>
                  </a:lnTo>
                  <a:lnTo>
                    <a:pt x="182" y="41"/>
                  </a:lnTo>
                  <a:lnTo>
                    <a:pt x="192" y="57"/>
                  </a:lnTo>
                  <a:lnTo>
                    <a:pt x="197" y="74"/>
                  </a:lnTo>
                  <a:lnTo>
                    <a:pt x="199" y="92"/>
                  </a:lnTo>
                  <a:lnTo>
                    <a:pt x="197" y="110"/>
                  </a:lnTo>
                  <a:lnTo>
                    <a:pt x="192" y="128"/>
                  </a:lnTo>
                  <a:lnTo>
                    <a:pt x="182" y="144"/>
                  </a:lnTo>
                  <a:lnTo>
                    <a:pt x="170" y="157"/>
                  </a:lnTo>
                  <a:lnTo>
                    <a:pt x="155" y="169"/>
                  </a:lnTo>
                  <a:lnTo>
                    <a:pt x="138" y="178"/>
                  </a:lnTo>
                  <a:lnTo>
                    <a:pt x="119" y="183"/>
                  </a:lnTo>
                  <a:lnTo>
                    <a:pt x="99" y="184"/>
                  </a:lnTo>
                  <a:lnTo>
                    <a:pt x="80" y="183"/>
                  </a:lnTo>
                  <a:lnTo>
                    <a:pt x="61" y="178"/>
                  </a:lnTo>
                  <a:lnTo>
                    <a:pt x="44" y="169"/>
                  </a:lnTo>
                  <a:lnTo>
                    <a:pt x="29" y="157"/>
                  </a:lnTo>
                  <a:lnTo>
                    <a:pt x="16" y="144"/>
                  </a:lnTo>
                  <a:lnTo>
                    <a:pt x="7" y="128"/>
                  </a:lnTo>
                  <a:lnTo>
                    <a:pt x="2" y="11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238800" y="3384720"/>
              <a:ext cx="12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247080" y="2685960"/>
              <a:ext cx="104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4" name=""/>
          <p:cNvSpPr/>
          <p:nvPr/>
        </p:nvSpPr>
        <p:spPr>
          <a:xfrm>
            <a:off x="6640920" y="2000160"/>
            <a:ext cx="10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6532560" y="1952640"/>
            <a:ext cx="317520" cy="291960"/>
          </a:xfrm>
          <a:custGeom>
            <a:avLst/>
            <a:gdLst/>
            <a:ahLst/>
            <a:rect l="l" t="t" r="r" b="b"/>
            <a:pathLst>
              <a:path w="200" h="184">
                <a:moveTo>
                  <a:pt x="0" y="92"/>
                </a:moveTo>
                <a:lnTo>
                  <a:pt x="2" y="74"/>
                </a:lnTo>
                <a:lnTo>
                  <a:pt x="9" y="57"/>
                </a:lnTo>
                <a:lnTo>
                  <a:pt x="17" y="41"/>
                </a:lnTo>
                <a:lnTo>
                  <a:pt x="30" y="28"/>
                </a:lnTo>
                <a:lnTo>
                  <a:pt x="44" y="16"/>
                </a:lnTo>
                <a:lnTo>
                  <a:pt x="62" y="8"/>
                </a:lnTo>
                <a:lnTo>
                  <a:pt x="80" y="2"/>
                </a:lnTo>
                <a:lnTo>
                  <a:pt x="100" y="0"/>
                </a:lnTo>
                <a:lnTo>
                  <a:pt x="119" y="2"/>
                </a:lnTo>
                <a:lnTo>
                  <a:pt x="138" y="8"/>
                </a:lnTo>
                <a:lnTo>
                  <a:pt x="155" y="16"/>
                </a:lnTo>
                <a:lnTo>
                  <a:pt x="171" y="28"/>
                </a:lnTo>
                <a:lnTo>
                  <a:pt x="183" y="41"/>
                </a:lnTo>
                <a:lnTo>
                  <a:pt x="192" y="57"/>
                </a:lnTo>
                <a:lnTo>
                  <a:pt x="199" y="74"/>
                </a:lnTo>
                <a:lnTo>
                  <a:pt x="200" y="92"/>
                </a:lnTo>
                <a:lnTo>
                  <a:pt x="199" y="110"/>
                </a:lnTo>
                <a:lnTo>
                  <a:pt x="192" y="128"/>
                </a:lnTo>
                <a:lnTo>
                  <a:pt x="183" y="144"/>
                </a:lnTo>
                <a:lnTo>
                  <a:pt x="171" y="157"/>
                </a:lnTo>
                <a:lnTo>
                  <a:pt x="155" y="169"/>
                </a:lnTo>
                <a:lnTo>
                  <a:pt x="138" y="178"/>
                </a:lnTo>
                <a:lnTo>
                  <a:pt x="119" y="183"/>
                </a:lnTo>
                <a:lnTo>
                  <a:pt x="100" y="184"/>
                </a:lnTo>
                <a:lnTo>
                  <a:pt x="80" y="183"/>
                </a:lnTo>
                <a:lnTo>
                  <a:pt x="62" y="178"/>
                </a:lnTo>
                <a:lnTo>
                  <a:pt x="44" y="169"/>
                </a:lnTo>
                <a:lnTo>
                  <a:pt x="30" y="157"/>
                </a:lnTo>
                <a:lnTo>
                  <a:pt x="17" y="144"/>
                </a:lnTo>
                <a:lnTo>
                  <a:pt x="9" y="128"/>
                </a:lnTo>
                <a:lnTo>
                  <a:pt x="2" y="110"/>
                </a:lnTo>
                <a:lnTo>
                  <a:pt x="0" y="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37280" y="3338640"/>
            <a:ext cx="316080" cy="291960"/>
          </a:xfrm>
          <a:custGeom>
            <a:avLst/>
            <a:gdLst/>
            <a:ahLst/>
            <a:rect l="l" t="t" r="r" b="b"/>
            <a:pathLst>
              <a:path w="199" h="184">
                <a:moveTo>
                  <a:pt x="0" y="92"/>
                </a:moveTo>
                <a:lnTo>
                  <a:pt x="2" y="74"/>
                </a:lnTo>
                <a:lnTo>
                  <a:pt x="7" y="57"/>
                </a:lnTo>
                <a:lnTo>
                  <a:pt x="17" y="42"/>
                </a:lnTo>
                <a:lnTo>
                  <a:pt x="29" y="28"/>
                </a:lnTo>
                <a:lnTo>
                  <a:pt x="44" y="16"/>
                </a:lnTo>
                <a:lnTo>
                  <a:pt x="62" y="8"/>
                </a:lnTo>
                <a:lnTo>
                  <a:pt x="80" y="3"/>
                </a:lnTo>
                <a:lnTo>
                  <a:pt x="100" y="0"/>
                </a:lnTo>
                <a:lnTo>
                  <a:pt x="119" y="3"/>
                </a:lnTo>
                <a:lnTo>
                  <a:pt x="138" y="8"/>
                </a:lnTo>
                <a:lnTo>
                  <a:pt x="155" y="16"/>
                </a:lnTo>
                <a:lnTo>
                  <a:pt x="170" y="28"/>
                </a:lnTo>
                <a:lnTo>
                  <a:pt x="183" y="42"/>
                </a:lnTo>
                <a:lnTo>
                  <a:pt x="192" y="57"/>
                </a:lnTo>
                <a:lnTo>
                  <a:pt x="197" y="74"/>
                </a:lnTo>
                <a:lnTo>
                  <a:pt x="199" y="92"/>
                </a:lnTo>
                <a:lnTo>
                  <a:pt x="197" y="110"/>
                </a:lnTo>
                <a:lnTo>
                  <a:pt x="192" y="127"/>
                </a:lnTo>
                <a:lnTo>
                  <a:pt x="183" y="143"/>
                </a:lnTo>
                <a:lnTo>
                  <a:pt x="170" y="158"/>
                </a:lnTo>
                <a:lnTo>
                  <a:pt x="155" y="168"/>
                </a:lnTo>
                <a:lnTo>
                  <a:pt x="138" y="177"/>
                </a:lnTo>
                <a:lnTo>
                  <a:pt x="119" y="182"/>
                </a:lnTo>
                <a:lnTo>
                  <a:pt x="100" y="184"/>
                </a:lnTo>
                <a:lnTo>
                  <a:pt x="80" y="182"/>
                </a:lnTo>
                <a:lnTo>
                  <a:pt x="62" y="177"/>
                </a:lnTo>
                <a:lnTo>
                  <a:pt x="44" y="168"/>
                </a:lnTo>
                <a:lnTo>
                  <a:pt x="29" y="158"/>
                </a:lnTo>
                <a:lnTo>
                  <a:pt x="17" y="143"/>
                </a:lnTo>
                <a:lnTo>
                  <a:pt x="7" y="127"/>
                </a:lnTo>
                <a:lnTo>
                  <a:pt x="2" y="110"/>
                </a:lnTo>
                <a:lnTo>
                  <a:pt x="0" y="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6137280" y="2639880"/>
            <a:ext cx="316080" cy="292320"/>
          </a:xfrm>
          <a:custGeom>
            <a:avLst/>
            <a:gdLst/>
            <a:ahLst/>
            <a:rect l="l" t="t" r="r" b="b"/>
            <a:pathLst>
              <a:path w="199" h="184">
                <a:moveTo>
                  <a:pt x="0" y="92"/>
                </a:moveTo>
                <a:lnTo>
                  <a:pt x="2" y="74"/>
                </a:lnTo>
                <a:lnTo>
                  <a:pt x="7" y="57"/>
                </a:lnTo>
                <a:lnTo>
                  <a:pt x="17" y="41"/>
                </a:lnTo>
                <a:lnTo>
                  <a:pt x="29" y="28"/>
                </a:lnTo>
                <a:lnTo>
                  <a:pt x="44" y="16"/>
                </a:lnTo>
                <a:lnTo>
                  <a:pt x="62" y="7"/>
                </a:lnTo>
                <a:lnTo>
                  <a:pt x="80" y="2"/>
                </a:lnTo>
                <a:lnTo>
                  <a:pt x="100" y="0"/>
                </a:lnTo>
                <a:lnTo>
                  <a:pt x="119" y="2"/>
                </a:lnTo>
                <a:lnTo>
                  <a:pt x="138" y="7"/>
                </a:lnTo>
                <a:lnTo>
                  <a:pt x="155" y="16"/>
                </a:lnTo>
                <a:lnTo>
                  <a:pt x="170" y="28"/>
                </a:lnTo>
                <a:lnTo>
                  <a:pt x="183" y="41"/>
                </a:lnTo>
                <a:lnTo>
                  <a:pt x="192" y="57"/>
                </a:lnTo>
                <a:lnTo>
                  <a:pt x="197" y="74"/>
                </a:lnTo>
                <a:lnTo>
                  <a:pt x="199" y="92"/>
                </a:lnTo>
                <a:lnTo>
                  <a:pt x="197" y="110"/>
                </a:lnTo>
                <a:lnTo>
                  <a:pt x="192" y="128"/>
                </a:lnTo>
                <a:lnTo>
                  <a:pt x="183" y="144"/>
                </a:lnTo>
                <a:lnTo>
                  <a:pt x="170" y="157"/>
                </a:lnTo>
                <a:lnTo>
                  <a:pt x="155" y="169"/>
                </a:lnTo>
                <a:lnTo>
                  <a:pt x="138" y="177"/>
                </a:lnTo>
                <a:lnTo>
                  <a:pt x="119" y="183"/>
                </a:lnTo>
                <a:lnTo>
                  <a:pt x="100" y="184"/>
                </a:lnTo>
                <a:lnTo>
                  <a:pt x="80" y="183"/>
                </a:lnTo>
                <a:lnTo>
                  <a:pt x="62" y="177"/>
                </a:lnTo>
                <a:lnTo>
                  <a:pt x="44" y="169"/>
                </a:lnTo>
                <a:lnTo>
                  <a:pt x="29" y="157"/>
                </a:lnTo>
                <a:lnTo>
                  <a:pt x="17" y="144"/>
                </a:lnTo>
                <a:lnTo>
                  <a:pt x="7" y="128"/>
                </a:lnTo>
                <a:lnTo>
                  <a:pt x="2" y="110"/>
                </a:lnTo>
                <a:lnTo>
                  <a:pt x="0" y="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126120" y="2125800"/>
            <a:ext cx="33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6058080" y="2079720"/>
            <a:ext cx="9036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0" y="29"/>
                </a:moveTo>
                <a:lnTo>
                  <a:pt x="57" y="0"/>
                </a:lnTo>
                <a:lnTo>
                  <a:pt x="52" y="14"/>
                </a:lnTo>
                <a:lnTo>
                  <a:pt x="51" y="29"/>
                </a:lnTo>
                <a:lnTo>
                  <a:pt x="52" y="44"/>
                </a:lnTo>
                <a:lnTo>
                  <a:pt x="57" y="57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442200" y="2079720"/>
            <a:ext cx="9036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57" y="29"/>
                </a:moveTo>
                <a:lnTo>
                  <a:pt x="0" y="57"/>
                </a:lnTo>
                <a:lnTo>
                  <a:pt x="5" y="44"/>
                </a:lnTo>
                <a:lnTo>
                  <a:pt x="7" y="29"/>
                </a:lnTo>
                <a:lnTo>
                  <a:pt x="5" y="14"/>
                </a:lnTo>
                <a:lnTo>
                  <a:pt x="0" y="0"/>
                </a:lnTo>
                <a:lnTo>
                  <a:pt x="5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5979960" y="2301840"/>
            <a:ext cx="19692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5938920" y="2244600"/>
            <a:ext cx="88920" cy="100080"/>
          </a:xfrm>
          <a:custGeom>
            <a:avLst/>
            <a:gdLst/>
            <a:ahLst/>
            <a:rect l="l" t="t" r="r" b="b"/>
            <a:pathLst>
              <a:path w="56" h="63">
                <a:moveTo>
                  <a:pt x="0" y="0"/>
                </a:moveTo>
                <a:lnTo>
                  <a:pt x="56" y="30"/>
                </a:lnTo>
                <a:lnTo>
                  <a:pt x="42" y="35"/>
                </a:lnTo>
                <a:lnTo>
                  <a:pt x="29" y="41"/>
                </a:lnTo>
                <a:lnTo>
                  <a:pt x="18" y="52"/>
                </a:lnTo>
                <a:lnTo>
                  <a:pt x="10" y="6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126120" y="2541600"/>
            <a:ext cx="88920" cy="98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56" y="62"/>
                </a:moveTo>
                <a:lnTo>
                  <a:pt x="0" y="33"/>
                </a:lnTo>
                <a:lnTo>
                  <a:pt x="15" y="28"/>
                </a:lnTo>
                <a:lnTo>
                  <a:pt x="28" y="21"/>
                </a:lnTo>
                <a:lnTo>
                  <a:pt x="40" y="11"/>
                </a:lnTo>
                <a:lnTo>
                  <a:pt x="48" y="0"/>
                </a:lnTo>
                <a:lnTo>
                  <a:pt x="56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 flipH="1">
            <a:off x="6446520" y="2305080"/>
            <a:ext cx="17316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568920" y="2244600"/>
            <a:ext cx="82800" cy="101880"/>
          </a:xfrm>
          <a:custGeom>
            <a:avLst/>
            <a:gdLst/>
            <a:ahLst/>
            <a:rect l="l" t="t" r="r" b="b"/>
            <a:pathLst>
              <a:path w="52" h="64">
                <a:moveTo>
                  <a:pt x="52" y="0"/>
                </a:moveTo>
                <a:lnTo>
                  <a:pt x="50" y="64"/>
                </a:lnTo>
                <a:lnTo>
                  <a:pt x="40" y="53"/>
                </a:lnTo>
                <a:lnTo>
                  <a:pt x="28" y="44"/>
                </a:lnTo>
                <a:lnTo>
                  <a:pt x="15" y="39"/>
                </a:lnTo>
                <a:lnTo>
                  <a:pt x="0" y="37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415200" y="2579760"/>
            <a:ext cx="82440" cy="100080"/>
          </a:xfrm>
          <a:custGeom>
            <a:avLst/>
            <a:gdLst/>
            <a:ahLst/>
            <a:rect l="l" t="t" r="r" b="b"/>
            <a:pathLst>
              <a:path w="52" h="63">
                <a:moveTo>
                  <a:pt x="0" y="63"/>
                </a:moveTo>
                <a:lnTo>
                  <a:pt x="2" y="0"/>
                </a:lnTo>
                <a:lnTo>
                  <a:pt x="12" y="11"/>
                </a:lnTo>
                <a:lnTo>
                  <a:pt x="23" y="19"/>
                </a:lnTo>
                <a:lnTo>
                  <a:pt x="37" y="24"/>
                </a:lnTo>
                <a:lnTo>
                  <a:pt x="52" y="28"/>
                </a:lnTo>
                <a:lnTo>
                  <a:pt x="0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334200" y="2987640"/>
            <a:ext cx="144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289560" y="2917800"/>
            <a:ext cx="9072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0"/>
                </a:moveTo>
                <a:lnTo>
                  <a:pt x="57" y="57"/>
                </a:lnTo>
                <a:lnTo>
                  <a:pt x="43" y="52"/>
                </a:lnTo>
                <a:lnTo>
                  <a:pt x="28" y="50"/>
                </a:lnTo>
                <a:lnTo>
                  <a:pt x="14" y="52"/>
                </a:lnTo>
                <a:lnTo>
                  <a:pt x="0" y="57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289560" y="3263760"/>
            <a:ext cx="90720" cy="9072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57"/>
                </a:moveTo>
                <a:lnTo>
                  <a:pt x="0" y="0"/>
                </a:lnTo>
                <a:lnTo>
                  <a:pt x="14" y="4"/>
                </a:lnTo>
                <a:lnTo>
                  <a:pt x="28" y="6"/>
                </a:lnTo>
                <a:lnTo>
                  <a:pt x="43" y="4"/>
                </a:lnTo>
                <a:lnTo>
                  <a:pt x="57" y="0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280560" y="19526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926320" y="23479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662880" y="23479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386760" y="30002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357280" y="5829480"/>
            <a:ext cx="12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2365560" y="5132520"/>
            <a:ext cx="10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2651040" y="4398840"/>
            <a:ext cx="317520" cy="290520"/>
          </a:xfrm>
          <a:custGeom>
            <a:avLst/>
            <a:gdLst/>
            <a:ahLst/>
            <a:rect l="l" t="t" r="r" b="b"/>
            <a:pathLst>
              <a:path w="200" h="183">
                <a:moveTo>
                  <a:pt x="0" y="92"/>
                </a:moveTo>
                <a:lnTo>
                  <a:pt x="2" y="74"/>
                </a:lnTo>
                <a:lnTo>
                  <a:pt x="8" y="57"/>
                </a:lnTo>
                <a:lnTo>
                  <a:pt x="17" y="41"/>
                </a:lnTo>
                <a:lnTo>
                  <a:pt x="29" y="27"/>
                </a:lnTo>
                <a:lnTo>
                  <a:pt x="44" y="16"/>
                </a:lnTo>
                <a:lnTo>
                  <a:pt x="62" y="7"/>
                </a:lnTo>
                <a:lnTo>
                  <a:pt x="80" y="2"/>
                </a:lnTo>
                <a:lnTo>
                  <a:pt x="100" y="0"/>
                </a:lnTo>
                <a:lnTo>
                  <a:pt x="119" y="2"/>
                </a:lnTo>
                <a:lnTo>
                  <a:pt x="138" y="7"/>
                </a:lnTo>
                <a:lnTo>
                  <a:pt x="155" y="16"/>
                </a:lnTo>
                <a:lnTo>
                  <a:pt x="171" y="27"/>
                </a:lnTo>
                <a:lnTo>
                  <a:pt x="183" y="41"/>
                </a:lnTo>
                <a:lnTo>
                  <a:pt x="192" y="57"/>
                </a:lnTo>
                <a:lnTo>
                  <a:pt x="198" y="74"/>
                </a:lnTo>
                <a:lnTo>
                  <a:pt x="200" y="92"/>
                </a:lnTo>
                <a:lnTo>
                  <a:pt x="198" y="110"/>
                </a:lnTo>
                <a:lnTo>
                  <a:pt x="192" y="128"/>
                </a:lnTo>
                <a:lnTo>
                  <a:pt x="183" y="143"/>
                </a:lnTo>
                <a:lnTo>
                  <a:pt x="171" y="157"/>
                </a:lnTo>
                <a:lnTo>
                  <a:pt x="155" y="169"/>
                </a:lnTo>
                <a:lnTo>
                  <a:pt x="138" y="177"/>
                </a:lnTo>
                <a:lnTo>
                  <a:pt x="119" y="182"/>
                </a:lnTo>
                <a:lnTo>
                  <a:pt x="100" y="183"/>
                </a:lnTo>
                <a:lnTo>
                  <a:pt x="80" y="182"/>
                </a:lnTo>
                <a:lnTo>
                  <a:pt x="62" y="177"/>
                </a:lnTo>
                <a:lnTo>
                  <a:pt x="44" y="169"/>
                </a:lnTo>
                <a:lnTo>
                  <a:pt x="29" y="157"/>
                </a:lnTo>
                <a:lnTo>
                  <a:pt x="17" y="143"/>
                </a:lnTo>
                <a:lnTo>
                  <a:pt x="8" y="128"/>
                </a:lnTo>
                <a:lnTo>
                  <a:pt x="2" y="110"/>
                </a:lnTo>
                <a:lnTo>
                  <a:pt x="0" y="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2255760" y="5784840"/>
            <a:ext cx="316080" cy="291960"/>
          </a:xfrm>
          <a:custGeom>
            <a:avLst/>
            <a:gdLst/>
            <a:ahLst/>
            <a:rect l="l" t="t" r="r" b="b"/>
            <a:pathLst>
              <a:path w="199" h="184">
                <a:moveTo>
                  <a:pt x="0" y="92"/>
                </a:moveTo>
                <a:lnTo>
                  <a:pt x="2" y="74"/>
                </a:lnTo>
                <a:lnTo>
                  <a:pt x="7" y="57"/>
                </a:lnTo>
                <a:lnTo>
                  <a:pt x="17" y="41"/>
                </a:lnTo>
                <a:lnTo>
                  <a:pt x="29" y="27"/>
                </a:lnTo>
                <a:lnTo>
                  <a:pt x="44" y="16"/>
                </a:lnTo>
                <a:lnTo>
                  <a:pt x="62" y="7"/>
                </a:lnTo>
                <a:lnTo>
                  <a:pt x="80" y="2"/>
                </a:lnTo>
                <a:lnTo>
                  <a:pt x="100" y="0"/>
                </a:lnTo>
                <a:lnTo>
                  <a:pt x="119" y="2"/>
                </a:lnTo>
                <a:lnTo>
                  <a:pt x="138" y="7"/>
                </a:lnTo>
                <a:lnTo>
                  <a:pt x="155" y="16"/>
                </a:lnTo>
                <a:lnTo>
                  <a:pt x="171" y="27"/>
                </a:lnTo>
                <a:lnTo>
                  <a:pt x="182" y="41"/>
                </a:lnTo>
                <a:lnTo>
                  <a:pt x="192" y="57"/>
                </a:lnTo>
                <a:lnTo>
                  <a:pt x="197" y="74"/>
                </a:lnTo>
                <a:lnTo>
                  <a:pt x="199" y="92"/>
                </a:lnTo>
                <a:lnTo>
                  <a:pt x="197" y="110"/>
                </a:lnTo>
                <a:lnTo>
                  <a:pt x="192" y="127"/>
                </a:lnTo>
                <a:lnTo>
                  <a:pt x="182" y="143"/>
                </a:lnTo>
                <a:lnTo>
                  <a:pt x="171" y="157"/>
                </a:lnTo>
                <a:lnTo>
                  <a:pt x="155" y="168"/>
                </a:lnTo>
                <a:lnTo>
                  <a:pt x="138" y="176"/>
                </a:lnTo>
                <a:lnTo>
                  <a:pt x="119" y="182"/>
                </a:lnTo>
                <a:lnTo>
                  <a:pt x="100" y="184"/>
                </a:lnTo>
                <a:lnTo>
                  <a:pt x="80" y="182"/>
                </a:lnTo>
                <a:lnTo>
                  <a:pt x="62" y="176"/>
                </a:lnTo>
                <a:lnTo>
                  <a:pt x="44" y="168"/>
                </a:lnTo>
                <a:lnTo>
                  <a:pt x="29" y="157"/>
                </a:lnTo>
                <a:lnTo>
                  <a:pt x="17" y="143"/>
                </a:lnTo>
                <a:lnTo>
                  <a:pt x="7" y="127"/>
                </a:lnTo>
                <a:lnTo>
                  <a:pt x="2" y="110"/>
                </a:lnTo>
                <a:lnTo>
                  <a:pt x="0" y="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2176560" y="4572000"/>
            <a:ext cx="407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2560680" y="4525920"/>
            <a:ext cx="9036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57" y="29"/>
                </a:moveTo>
                <a:lnTo>
                  <a:pt x="0" y="57"/>
                </a:lnTo>
                <a:lnTo>
                  <a:pt x="5" y="43"/>
                </a:lnTo>
                <a:lnTo>
                  <a:pt x="7" y="29"/>
                </a:lnTo>
                <a:lnTo>
                  <a:pt x="5" y="14"/>
                </a:lnTo>
                <a:lnTo>
                  <a:pt x="0" y="0"/>
                </a:lnTo>
                <a:lnTo>
                  <a:pt x="5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2057400" y="4689360"/>
            <a:ext cx="237960" cy="3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2244600" y="4986360"/>
            <a:ext cx="88920" cy="100080"/>
          </a:xfrm>
          <a:custGeom>
            <a:avLst/>
            <a:gdLst/>
            <a:ahLst/>
            <a:rect l="l" t="t" r="r" b="b"/>
            <a:pathLst>
              <a:path w="56" h="63">
                <a:moveTo>
                  <a:pt x="56" y="63"/>
                </a:moveTo>
                <a:lnTo>
                  <a:pt x="0" y="33"/>
                </a:lnTo>
                <a:lnTo>
                  <a:pt x="15" y="29"/>
                </a:lnTo>
                <a:lnTo>
                  <a:pt x="28" y="21"/>
                </a:lnTo>
                <a:lnTo>
                  <a:pt x="39" y="12"/>
                </a:lnTo>
                <a:lnTo>
                  <a:pt x="48" y="0"/>
                </a:lnTo>
                <a:lnTo>
                  <a:pt x="56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2452680" y="5364000"/>
            <a:ext cx="144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408400" y="5708520"/>
            <a:ext cx="9036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8" y="58"/>
                </a:moveTo>
                <a:lnTo>
                  <a:pt x="0" y="0"/>
                </a:lnTo>
                <a:lnTo>
                  <a:pt x="13" y="5"/>
                </a:lnTo>
                <a:lnTo>
                  <a:pt x="28" y="7"/>
                </a:lnTo>
                <a:lnTo>
                  <a:pt x="43" y="5"/>
                </a:lnTo>
                <a:lnTo>
                  <a:pt x="57" y="0"/>
                </a:lnTo>
                <a:lnTo>
                  <a:pt x="28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2399040" y="4398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044800" y="47941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505240" y="54468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632400" y="5132520"/>
            <a:ext cx="10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026240" y="4444920"/>
            <a:ext cx="10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917880" y="4398840"/>
            <a:ext cx="317520" cy="290520"/>
          </a:xfrm>
          <a:custGeom>
            <a:avLst/>
            <a:gdLst/>
            <a:ahLst/>
            <a:rect l="l" t="t" r="r" b="b"/>
            <a:pathLst>
              <a:path w="200" h="183">
                <a:moveTo>
                  <a:pt x="0" y="92"/>
                </a:moveTo>
                <a:lnTo>
                  <a:pt x="3" y="74"/>
                </a:lnTo>
                <a:lnTo>
                  <a:pt x="9" y="57"/>
                </a:lnTo>
                <a:lnTo>
                  <a:pt x="17" y="41"/>
                </a:lnTo>
                <a:lnTo>
                  <a:pt x="30" y="27"/>
                </a:lnTo>
                <a:lnTo>
                  <a:pt x="45" y="16"/>
                </a:lnTo>
                <a:lnTo>
                  <a:pt x="63" y="7"/>
                </a:lnTo>
                <a:lnTo>
                  <a:pt x="81" y="2"/>
                </a:lnTo>
                <a:lnTo>
                  <a:pt x="101" y="0"/>
                </a:lnTo>
                <a:lnTo>
                  <a:pt x="120" y="2"/>
                </a:lnTo>
                <a:lnTo>
                  <a:pt x="139" y="7"/>
                </a:lnTo>
                <a:lnTo>
                  <a:pt x="156" y="16"/>
                </a:lnTo>
                <a:lnTo>
                  <a:pt x="172" y="27"/>
                </a:lnTo>
                <a:lnTo>
                  <a:pt x="183" y="41"/>
                </a:lnTo>
                <a:lnTo>
                  <a:pt x="193" y="57"/>
                </a:lnTo>
                <a:lnTo>
                  <a:pt x="199" y="74"/>
                </a:lnTo>
                <a:lnTo>
                  <a:pt x="200" y="92"/>
                </a:lnTo>
                <a:lnTo>
                  <a:pt x="199" y="110"/>
                </a:lnTo>
                <a:lnTo>
                  <a:pt x="193" y="128"/>
                </a:lnTo>
                <a:lnTo>
                  <a:pt x="183" y="143"/>
                </a:lnTo>
                <a:lnTo>
                  <a:pt x="172" y="157"/>
                </a:lnTo>
                <a:lnTo>
                  <a:pt x="156" y="169"/>
                </a:lnTo>
                <a:lnTo>
                  <a:pt x="139" y="177"/>
                </a:lnTo>
                <a:lnTo>
                  <a:pt x="120" y="182"/>
                </a:lnTo>
                <a:lnTo>
                  <a:pt x="101" y="183"/>
                </a:lnTo>
                <a:lnTo>
                  <a:pt x="81" y="182"/>
                </a:lnTo>
                <a:lnTo>
                  <a:pt x="63" y="177"/>
                </a:lnTo>
                <a:lnTo>
                  <a:pt x="45" y="169"/>
                </a:lnTo>
                <a:lnTo>
                  <a:pt x="30" y="157"/>
                </a:lnTo>
                <a:lnTo>
                  <a:pt x="17" y="143"/>
                </a:lnTo>
                <a:lnTo>
                  <a:pt x="9" y="128"/>
                </a:lnTo>
                <a:lnTo>
                  <a:pt x="3" y="110"/>
                </a:lnTo>
                <a:lnTo>
                  <a:pt x="0" y="92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522600" y="5784840"/>
            <a:ext cx="317520" cy="291960"/>
          </a:xfrm>
          <a:custGeom>
            <a:avLst/>
            <a:gdLst/>
            <a:ahLst/>
            <a:rect l="l" t="t" r="r" b="b"/>
            <a:pathLst>
              <a:path w="200" h="184">
                <a:moveTo>
                  <a:pt x="0" y="92"/>
                </a:moveTo>
                <a:lnTo>
                  <a:pt x="2" y="74"/>
                </a:lnTo>
                <a:lnTo>
                  <a:pt x="8" y="57"/>
                </a:lnTo>
                <a:lnTo>
                  <a:pt x="17" y="41"/>
                </a:lnTo>
                <a:lnTo>
                  <a:pt x="30" y="27"/>
                </a:lnTo>
                <a:lnTo>
                  <a:pt x="45" y="16"/>
                </a:lnTo>
                <a:lnTo>
                  <a:pt x="61" y="7"/>
                </a:lnTo>
                <a:lnTo>
                  <a:pt x="80" y="2"/>
                </a:lnTo>
                <a:lnTo>
                  <a:pt x="100" y="0"/>
                </a:lnTo>
                <a:lnTo>
                  <a:pt x="120" y="2"/>
                </a:lnTo>
                <a:lnTo>
                  <a:pt x="139" y="7"/>
                </a:lnTo>
                <a:lnTo>
                  <a:pt x="155" y="16"/>
                </a:lnTo>
                <a:lnTo>
                  <a:pt x="170" y="27"/>
                </a:lnTo>
                <a:lnTo>
                  <a:pt x="183" y="41"/>
                </a:lnTo>
                <a:lnTo>
                  <a:pt x="192" y="57"/>
                </a:lnTo>
                <a:lnTo>
                  <a:pt x="198" y="74"/>
                </a:lnTo>
                <a:lnTo>
                  <a:pt x="200" y="92"/>
                </a:lnTo>
                <a:lnTo>
                  <a:pt x="198" y="110"/>
                </a:lnTo>
                <a:lnTo>
                  <a:pt x="192" y="127"/>
                </a:lnTo>
                <a:lnTo>
                  <a:pt x="183" y="143"/>
                </a:lnTo>
                <a:lnTo>
                  <a:pt x="170" y="157"/>
                </a:lnTo>
                <a:lnTo>
                  <a:pt x="155" y="168"/>
                </a:lnTo>
                <a:lnTo>
                  <a:pt x="139" y="176"/>
                </a:lnTo>
                <a:lnTo>
                  <a:pt x="120" y="182"/>
                </a:lnTo>
                <a:lnTo>
                  <a:pt x="100" y="184"/>
                </a:lnTo>
                <a:lnTo>
                  <a:pt x="80" y="182"/>
                </a:lnTo>
                <a:lnTo>
                  <a:pt x="61" y="176"/>
                </a:lnTo>
                <a:lnTo>
                  <a:pt x="45" y="168"/>
                </a:lnTo>
                <a:lnTo>
                  <a:pt x="30" y="157"/>
                </a:lnTo>
                <a:lnTo>
                  <a:pt x="17" y="143"/>
                </a:lnTo>
                <a:lnTo>
                  <a:pt x="8" y="127"/>
                </a:lnTo>
                <a:lnTo>
                  <a:pt x="2" y="110"/>
                </a:lnTo>
                <a:lnTo>
                  <a:pt x="0" y="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513240" y="4572000"/>
            <a:ext cx="40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444840" y="4525920"/>
            <a:ext cx="9036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0" y="29"/>
                </a:moveTo>
                <a:lnTo>
                  <a:pt x="57" y="0"/>
                </a:lnTo>
                <a:lnTo>
                  <a:pt x="51" y="14"/>
                </a:lnTo>
                <a:lnTo>
                  <a:pt x="50" y="29"/>
                </a:lnTo>
                <a:lnTo>
                  <a:pt x="51" y="43"/>
                </a:lnTo>
                <a:lnTo>
                  <a:pt x="57" y="57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325680" y="4689360"/>
            <a:ext cx="236520" cy="3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3513240" y="4986360"/>
            <a:ext cx="88920" cy="100080"/>
          </a:xfrm>
          <a:custGeom>
            <a:avLst/>
            <a:gdLst/>
            <a:ahLst/>
            <a:rect l="l" t="t" r="r" b="b"/>
            <a:pathLst>
              <a:path w="56" h="63">
                <a:moveTo>
                  <a:pt x="56" y="63"/>
                </a:moveTo>
                <a:lnTo>
                  <a:pt x="0" y="33"/>
                </a:lnTo>
                <a:lnTo>
                  <a:pt x="15" y="29"/>
                </a:lnTo>
                <a:lnTo>
                  <a:pt x="27" y="21"/>
                </a:lnTo>
                <a:lnTo>
                  <a:pt x="38" y="12"/>
                </a:lnTo>
                <a:lnTo>
                  <a:pt x="47" y="0"/>
                </a:lnTo>
                <a:lnTo>
                  <a:pt x="56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720960" y="5364000"/>
            <a:ext cx="180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3675240" y="5708520"/>
            <a:ext cx="9036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9" y="58"/>
                </a:moveTo>
                <a:lnTo>
                  <a:pt x="0" y="0"/>
                </a:lnTo>
                <a:lnTo>
                  <a:pt x="14" y="5"/>
                </a:lnTo>
                <a:lnTo>
                  <a:pt x="29" y="7"/>
                </a:lnTo>
                <a:lnTo>
                  <a:pt x="44" y="5"/>
                </a:lnTo>
                <a:lnTo>
                  <a:pt x="57" y="0"/>
                </a:lnTo>
                <a:lnTo>
                  <a:pt x="29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665880" y="4398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311640" y="47941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773880" y="54468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433760" y="4398840"/>
            <a:ext cx="316080" cy="290520"/>
          </a:xfrm>
          <a:custGeom>
            <a:avLst/>
            <a:gdLst/>
            <a:ahLst/>
            <a:rect l="l" t="t" r="r" b="b"/>
            <a:pathLst>
              <a:path w="199" h="183">
                <a:moveTo>
                  <a:pt x="0" y="92"/>
                </a:moveTo>
                <a:lnTo>
                  <a:pt x="2" y="74"/>
                </a:lnTo>
                <a:lnTo>
                  <a:pt x="8" y="57"/>
                </a:lnTo>
                <a:lnTo>
                  <a:pt x="17" y="41"/>
                </a:lnTo>
                <a:lnTo>
                  <a:pt x="29" y="27"/>
                </a:lnTo>
                <a:lnTo>
                  <a:pt x="44" y="16"/>
                </a:lnTo>
                <a:lnTo>
                  <a:pt x="62" y="7"/>
                </a:lnTo>
                <a:lnTo>
                  <a:pt x="80" y="2"/>
                </a:lnTo>
                <a:lnTo>
                  <a:pt x="100" y="0"/>
                </a:lnTo>
                <a:lnTo>
                  <a:pt x="119" y="2"/>
                </a:lnTo>
                <a:lnTo>
                  <a:pt x="138" y="7"/>
                </a:lnTo>
                <a:lnTo>
                  <a:pt x="155" y="16"/>
                </a:lnTo>
                <a:lnTo>
                  <a:pt x="171" y="27"/>
                </a:lnTo>
                <a:lnTo>
                  <a:pt x="182" y="41"/>
                </a:lnTo>
                <a:lnTo>
                  <a:pt x="192" y="57"/>
                </a:lnTo>
                <a:lnTo>
                  <a:pt x="198" y="74"/>
                </a:lnTo>
                <a:lnTo>
                  <a:pt x="199" y="92"/>
                </a:lnTo>
                <a:lnTo>
                  <a:pt x="198" y="110"/>
                </a:lnTo>
                <a:lnTo>
                  <a:pt x="192" y="128"/>
                </a:lnTo>
                <a:lnTo>
                  <a:pt x="182" y="143"/>
                </a:lnTo>
                <a:lnTo>
                  <a:pt x="171" y="157"/>
                </a:lnTo>
                <a:lnTo>
                  <a:pt x="155" y="169"/>
                </a:lnTo>
                <a:lnTo>
                  <a:pt x="138" y="177"/>
                </a:lnTo>
                <a:lnTo>
                  <a:pt x="119" y="182"/>
                </a:lnTo>
                <a:lnTo>
                  <a:pt x="100" y="183"/>
                </a:lnTo>
                <a:lnTo>
                  <a:pt x="80" y="182"/>
                </a:lnTo>
                <a:lnTo>
                  <a:pt x="62" y="177"/>
                </a:lnTo>
                <a:lnTo>
                  <a:pt x="44" y="169"/>
                </a:lnTo>
                <a:lnTo>
                  <a:pt x="29" y="157"/>
                </a:lnTo>
                <a:lnTo>
                  <a:pt x="17" y="143"/>
                </a:lnTo>
                <a:lnTo>
                  <a:pt x="8" y="128"/>
                </a:lnTo>
                <a:lnTo>
                  <a:pt x="2" y="110"/>
                </a:lnTo>
                <a:lnTo>
                  <a:pt x="0" y="9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939200" y="5132520"/>
            <a:ext cx="10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5333040" y="4444920"/>
            <a:ext cx="10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226120" y="4398840"/>
            <a:ext cx="317520" cy="290520"/>
          </a:xfrm>
          <a:custGeom>
            <a:avLst/>
            <a:gdLst/>
            <a:ahLst/>
            <a:rect l="l" t="t" r="r" b="b"/>
            <a:pathLst>
              <a:path w="200" h="183">
                <a:moveTo>
                  <a:pt x="0" y="92"/>
                </a:moveTo>
                <a:lnTo>
                  <a:pt x="2" y="74"/>
                </a:lnTo>
                <a:lnTo>
                  <a:pt x="8" y="57"/>
                </a:lnTo>
                <a:lnTo>
                  <a:pt x="17" y="41"/>
                </a:lnTo>
                <a:lnTo>
                  <a:pt x="30" y="27"/>
                </a:lnTo>
                <a:lnTo>
                  <a:pt x="45" y="16"/>
                </a:lnTo>
                <a:lnTo>
                  <a:pt x="62" y="7"/>
                </a:lnTo>
                <a:lnTo>
                  <a:pt x="81" y="2"/>
                </a:lnTo>
                <a:lnTo>
                  <a:pt x="100" y="0"/>
                </a:lnTo>
                <a:lnTo>
                  <a:pt x="120" y="2"/>
                </a:lnTo>
                <a:lnTo>
                  <a:pt x="139" y="7"/>
                </a:lnTo>
                <a:lnTo>
                  <a:pt x="156" y="16"/>
                </a:lnTo>
                <a:lnTo>
                  <a:pt x="170" y="27"/>
                </a:lnTo>
                <a:lnTo>
                  <a:pt x="183" y="41"/>
                </a:lnTo>
                <a:lnTo>
                  <a:pt x="193" y="57"/>
                </a:lnTo>
                <a:lnTo>
                  <a:pt x="198" y="74"/>
                </a:lnTo>
                <a:lnTo>
                  <a:pt x="200" y="92"/>
                </a:lnTo>
                <a:lnTo>
                  <a:pt x="198" y="110"/>
                </a:lnTo>
                <a:lnTo>
                  <a:pt x="193" y="128"/>
                </a:lnTo>
                <a:lnTo>
                  <a:pt x="183" y="143"/>
                </a:lnTo>
                <a:lnTo>
                  <a:pt x="170" y="157"/>
                </a:lnTo>
                <a:lnTo>
                  <a:pt x="156" y="169"/>
                </a:lnTo>
                <a:lnTo>
                  <a:pt x="139" y="177"/>
                </a:lnTo>
                <a:lnTo>
                  <a:pt x="120" y="182"/>
                </a:lnTo>
                <a:lnTo>
                  <a:pt x="100" y="183"/>
                </a:lnTo>
                <a:lnTo>
                  <a:pt x="81" y="182"/>
                </a:lnTo>
                <a:lnTo>
                  <a:pt x="62" y="177"/>
                </a:lnTo>
                <a:lnTo>
                  <a:pt x="45" y="169"/>
                </a:lnTo>
                <a:lnTo>
                  <a:pt x="30" y="157"/>
                </a:lnTo>
                <a:lnTo>
                  <a:pt x="17" y="143"/>
                </a:lnTo>
                <a:lnTo>
                  <a:pt x="8" y="128"/>
                </a:lnTo>
                <a:lnTo>
                  <a:pt x="2" y="110"/>
                </a:lnTo>
                <a:lnTo>
                  <a:pt x="0" y="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830840" y="5784840"/>
            <a:ext cx="317520" cy="291960"/>
          </a:xfrm>
          <a:custGeom>
            <a:avLst/>
            <a:gdLst/>
            <a:ahLst/>
            <a:rect l="l" t="t" r="r" b="b"/>
            <a:pathLst>
              <a:path w="200" h="184">
                <a:moveTo>
                  <a:pt x="0" y="92"/>
                </a:moveTo>
                <a:lnTo>
                  <a:pt x="1" y="74"/>
                </a:lnTo>
                <a:lnTo>
                  <a:pt x="7" y="57"/>
                </a:lnTo>
                <a:lnTo>
                  <a:pt x="17" y="41"/>
                </a:lnTo>
                <a:lnTo>
                  <a:pt x="29" y="27"/>
                </a:lnTo>
                <a:lnTo>
                  <a:pt x="44" y="16"/>
                </a:lnTo>
                <a:lnTo>
                  <a:pt x="61" y="7"/>
                </a:lnTo>
                <a:lnTo>
                  <a:pt x="80" y="2"/>
                </a:lnTo>
                <a:lnTo>
                  <a:pt x="99" y="0"/>
                </a:lnTo>
                <a:lnTo>
                  <a:pt x="119" y="2"/>
                </a:lnTo>
                <a:lnTo>
                  <a:pt x="137" y="7"/>
                </a:lnTo>
                <a:lnTo>
                  <a:pt x="155" y="16"/>
                </a:lnTo>
                <a:lnTo>
                  <a:pt x="170" y="27"/>
                </a:lnTo>
                <a:lnTo>
                  <a:pt x="183" y="41"/>
                </a:lnTo>
                <a:lnTo>
                  <a:pt x="191" y="57"/>
                </a:lnTo>
                <a:lnTo>
                  <a:pt x="198" y="74"/>
                </a:lnTo>
                <a:lnTo>
                  <a:pt x="200" y="92"/>
                </a:lnTo>
                <a:lnTo>
                  <a:pt x="198" y="110"/>
                </a:lnTo>
                <a:lnTo>
                  <a:pt x="191" y="127"/>
                </a:lnTo>
                <a:lnTo>
                  <a:pt x="183" y="143"/>
                </a:lnTo>
                <a:lnTo>
                  <a:pt x="170" y="157"/>
                </a:lnTo>
                <a:lnTo>
                  <a:pt x="155" y="168"/>
                </a:lnTo>
                <a:lnTo>
                  <a:pt x="137" y="176"/>
                </a:lnTo>
                <a:lnTo>
                  <a:pt x="119" y="182"/>
                </a:lnTo>
                <a:lnTo>
                  <a:pt x="99" y="184"/>
                </a:lnTo>
                <a:lnTo>
                  <a:pt x="80" y="182"/>
                </a:lnTo>
                <a:lnTo>
                  <a:pt x="61" y="176"/>
                </a:lnTo>
                <a:lnTo>
                  <a:pt x="44" y="168"/>
                </a:lnTo>
                <a:lnTo>
                  <a:pt x="29" y="157"/>
                </a:lnTo>
                <a:lnTo>
                  <a:pt x="17" y="143"/>
                </a:lnTo>
                <a:lnTo>
                  <a:pt x="7" y="127"/>
                </a:lnTo>
                <a:lnTo>
                  <a:pt x="1" y="110"/>
                </a:lnTo>
                <a:lnTo>
                  <a:pt x="0" y="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4749840" y="4572000"/>
            <a:ext cx="407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135400" y="4525920"/>
            <a:ext cx="9072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57" y="29"/>
                </a:moveTo>
                <a:lnTo>
                  <a:pt x="0" y="57"/>
                </a:lnTo>
                <a:lnTo>
                  <a:pt x="6" y="43"/>
                </a:lnTo>
                <a:lnTo>
                  <a:pt x="7" y="29"/>
                </a:lnTo>
                <a:lnTo>
                  <a:pt x="6" y="14"/>
                </a:lnTo>
                <a:lnTo>
                  <a:pt x="0" y="0"/>
                </a:lnTo>
                <a:lnTo>
                  <a:pt x="5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672080" y="4746600"/>
            <a:ext cx="23796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632480" y="4689360"/>
            <a:ext cx="88920" cy="101880"/>
          </a:xfrm>
          <a:custGeom>
            <a:avLst/>
            <a:gdLst/>
            <a:ahLst/>
            <a:rect l="l" t="t" r="r" b="b"/>
            <a:pathLst>
              <a:path w="56" h="64">
                <a:moveTo>
                  <a:pt x="0" y="0"/>
                </a:moveTo>
                <a:lnTo>
                  <a:pt x="56" y="31"/>
                </a:lnTo>
                <a:lnTo>
                  <a:pt x="42" y="35"/>
                </a:lnTo>
                <a:lnTo>
                  <a:pt x="29" y="42"/>
                </a:lnTo>
                <a:lnTo>
                  <a:pt x="17" y="52"/>
                </a:lnTo>
                <a:lnTo>
                  <a:pt x="9" y="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542840" y="4457880"/>
            <a:ext cx="10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930920" y="5829480"/>
            <a:ext cx="12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830840" y="5086440"/>
            <a:ext cx="317520" cy="290520"/>
          </a:xfrm>
          <a:custGeom>
            <a:avLst/>
            <a:gdLst/>
            <a:ahLst/>
            <a:rect l="l" t="t" r="r" b="b"/>
            <a:pathLst>
              <a:path w="200" h="183">
                <a:moveTo>
                  <a:pt x="0" y="92"/>
                </a:moveTo>
                <a:lnTo>
                  <a:pt x="1" y="74"/>
                </a:lnTo>
                <a:lnTo>
                  <a:pt x="7" y="57"/>
                </a:lnTo>
                <a:lnTo>
                  <a:pt x="17" y="41"/>
                </a:lnTo>
                <a:lnTo>
                  <a:pt x="29" y="27"/>
                </a:lnTo>
                <a:lnTo>
                  <a:pt x="44" y="16"/>
                </a:lnTo>
                <a:lnTo>
                  <a:pt x="61" y="7"/>
                </a:lnTo>
                <a:lnTo>
                  <a:pt x="80" y="2"/>
                </a:lnTo>
                <a:lnTo>
                  <a:pt x="99" y="0"/>
                </a:lnTo>
                <a:lnTo>
                  <a:pt x="119" y="2"/>
                </a:lnTo>
                <a:lnTo>
                  <a:pt x="137" y="7"/>
                </a:lnTo>
                <a:lnTo>
                  <a:pt x="155" y="16"/>
                </a:lnTo>
                <a:lnTo>
                  <a:pt x="170" y="27"/>
                </a:lnTo>
                <a:lnTo>
                  <a:pt x="183" y="41"/>
                </a:lnTo>
                <a:lnTo>
                  <a:pt x="191" y="57"/>
                </a:lnTo>
                <a:lnTo>
                  <a:pt x="198" y="74"/>
                </a:lnTo>
                <a:lnTo>
                  <a:pt x="200" y="92"/>
                </a:lnTo>
                <a:lnTo>
                  <a:pt x="198" y="109"/>
                </a:lnTo>
                <a:lnTo>
                  <a:pt x="191" y="127"/>
                </a:lnTo>
                <a:lnTo>
                  <a:pt x="183" y="143"/>
                </a:lnTo>
                <a:lnTo>
                  <a:pt x="170" y="157"/>
                </a:lnTo>
                <a:lnTo>
                  <a:pt x="155" y="169"/>
                </a:lnTo>
                <a:lnTo>
                  <a:pt x="137" y="177"/>
                </a:lnTo>
                <a:lnTo>
                  <a:pt x="119" y="182"/>
                </a:lnTo>
                <a:lnTo>
                  <a:pt x="99" y="183"/>
                </a:lnTo>
                <a:lnTo>
                  <a:pt x="80" y="182"/>
                </a:lnTo>
                <a:lnTo>
                  <a:pt x="61" y="177"/>
                </a:lnTo>
                <a:lnTo>
                  <a:pt x="44" y="169"/>
                </a:lnTo>
                <a:lnTo>
                  <a:pt x="29" y="157"/>
                </a:lnTo>
                <a:lnTo>
                  <a:pt x="17" y="143"/>
                </a:lnTo>
                <a:lnTo>
                  <a:pt x="7" y="127"/>
                </a:lnTo>
                <a:lnTo>
                  <a:pt x="1" y="109"/>
                </a:lnTo>
                <a:lnTo>
                  <a:pt x="0" y="92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029200" y="5364000"/>
            <a:ext cx="144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4983120" y="5708520"/>
            <a:ext cx="9036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9" y="58"/>
                </a:moveTo>
                <a:lnTo>
                  <a:pt x="0" y="0"/>
                </a:lnTo>
                <a:lnTo>
                  <a:pt x="14" y="5"/>
                </a:lnTo>
                <a:lnTo>
                  <a:pt x="29" y="7"/>
                </a:lnTo>
                <a:lnTo>
                  <a:pt x="43" y="5"/>
                </a:lnTo>
                <a:lnTo>
                  <a:pt x="57" y="0"/>
                </a:lnTo>
                <a:lnTo>
                  <a:pt x="29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973760" y="4398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619880" y="47941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080320" y="54468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781600" y="4398840"/>
            <a:ext cx="317520" cy="290520"/>
          </a:xfrm>
          <a:custGeom>
            <a:avLst/>
            <a:gdLst/>
            <a:ahLst/>
            <a:rect l="l" t="t" r="r" b="b"/>
            <a:pathLst>
              <a:path w="200" h="183">
                <a:moveTo>
                  <a:pt x="0" y="92"/>
                </a:moveTo>
                <a:lnTo>
                  <a:pt x="1" y="74"/>
                </a:lnTo>
                <a:lnTo>
                  <a:pt x="7" y="57"/>
                </a:lnTo>
                <a:lnTo>
                  <a:pt x="17" y="41"/>
                </a:lnTo>
                <a:lnTo>
                  <a:pt x="28" y="27"/>
                </a:lnTo>
                <a:lnTo>
                  <a:pt x="44" y="16"/>
                </a:lnTo>
                <a:lnTo>
                  <a:pt x="61" y="7"/>
                </a:lnTo>
                <a:lnTo>
                  <a:pt x="80" y="2"/>
                </a:lnTo>
                <a:lnTo>
                  <a:pt x="99" y="0"/>
                </a:lnTo>
                <a:lnTo>
                  <a:pt x="119" y="2"/>
                </a:lnTo>
                <a:lnTo>
                  <a:pt x="137" y="7"/>
                </a:lnTo>
                <a:lnTo>
                  <a:pt x="155" y="16"/>
                </a:lnTo>
                <a:lnTo>
                  <a:pt x="170" y="27"/>
                </a:lnTo>
                <a:lnTo>
                  <a:pt x="183" y="41"/>
                </a:lnTo>
                <a:lnTo>
                  <a:pt x="191" y="57"/>
                </a:lnTo>
                <a:lnTo>
                  <a:pt x="197" y="74"/>
                </a:lnTo>
                <a:lnTo>
                  <a:pt x="200" y="92"/>
                </a:lnTo>
                <a:lnTo>
                  <a:pt x="197" y="110"/>
                </a:lnTo>
                <a:lnTo>
                  <a:pt x="191" y="128"/>
                </a:lnTo>
                <a:lnTo>
                  <a:pt x="183" y="143"/>
                </a:lnTo>
                <a:lnTo>
                  <a:pt x="170" y="157"/>
                </a:lnTo>
                <a:lnTo>
                  <a:pt x="155" y="169"/>
                </a:lnTo>
                <a:lnTo>
                  <a:pt x="137" y="177"/>
                </a:lnTo>
                <a:lnTo>
                  <a:pt x="119" y="182"/>
                </a:lnTo>
                <a:lnTo>
                  <a:pt x="99" y="183"/>
                </a:lnTo>
                <a:lnTo>
                  <a:pt x="80" y="182"/>
                </a:lnTo>
                <a:lnTo>
                  <a:pt x="61" y="177"/>
                </a:lnTo>
                <a:lnTo>
                  <a:pt x="44" y="169"/>
                </a:lnTo>
                <a:lnTo>
                  <a:pt x="28" y="157"/>
                </a:lnTo>
                <a:lnTo>
                  <a:pt x="17" y="143"/>
                </a:lnTo>
                <a:lnTo>
                  <a:pt x="7" y="128"/>
                </a:lnTo>
                <a:lnTo>
                  <a:pt x="1" y="110"/>
                </a:lnTo>
                <a:lnTo>
                  <a:pt x="0" y="9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285240" y="5132520"/>
            <a:ext cx="10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9" name=""/>
          <p:cNvGrpSpPr/>
          <p:nvPr/>
        </p:nvGrpSpPr>
        <p:grpSpPr>
          <a:xfrm>
            <a:off x="5889240" y="4444920"/>
            <a:ext cx="898560" cy="1582920"/>
            <a:chOff x="5889240" y="4444920"/>
            <a:chExt cx="898560" cy="1582920"/>
          </a:xfrm>
        </p:grpSpPr>
        <p:sp>
          <p:nvSpPr>
            <p:cNvPr id="2290" name=""/>
            <p:cNvSpPr/>
            <p:nvPr/>
          </p:nvSpPr>
          <p:spPr>
            <a:xfrm>
              <a:off x="5889240" y="4457880"/>
              <a:ext cx="105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276960" y="5829480"/>
              <a:ext cx="12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宋体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6680520" y="4444920"/>
              <a:ext cx="10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3" name=""/>
          <p:cNvSpPr/>
          <p:nvPr/>
        </p:nvSpPr>
        <p:spPr>
          <a:xfrm>
            <a:off x="6572160" y="4398840"/>
            <a:ext cx="317520" cy="290520"/>
          </a:xfrm>
          <a:custGeom>
            <a:avLst/>
            <a:gdLst/>
            <a:ahLst/>
            <a:rect l="l" t="t" r="r" b="b"/>
            <a:pathLst>
              <a:path w="200" h="183">
                <a:moveTo>
                  <a:pt x="0" y="92"/>
                </a:moveTo>
                <a:lnTo>
                  <a:pt x="3" y="74"/>
                </a:lnTo>
                <a:lnTo>
                  <a:pt x="8" y="57"/>
                </a:lnTo>
                <a:lnTo>
                  <a:pt x="17" y="41"/>
                </a:lnTo>
                <a:lnTo>
                  <a:pt x="30" y="27"/>
                </a:lnTo>
                <a:lnTo>
                  <a:pt x="45" y="16"/>
                </a:lnTo>
                <a:lnTo>
                  <a:pt x="62" y="7"/>
                </a:lnTo>
                <a:lnTo>
                  <a:pt x="81" y="2"/>
                </a:lnTo>
                <a:lnTo>
                  <a:pt x="101" y="0"/>
                </a:lnTo>
                <a:lnTo>
                  <a:pt x="120" y="2"/>
                </a:lnTo>
                <a:lnTo>
                  <a:pt x="139" y="7"/>
                </a:lnTo>
                <a:lnTo>
                  <a:pt x="156" y="16"/>
                </a:lnTo>
                <a:lnTo>
                  <a:pt x="170" y="27"/>
                </a:lnTo>
                <a:lnTo>
                  <a:pt x="183" y="41"/>
                </a:lnTo>
                <a:lnTo>
                  <a:pt x="193" y="57"/>
                </a:lnTo>
                <a:lnTo>
                  <a:pt x="198" y="74"/>
                </a:lnTo>
                <a:lnTo>
                  <a:pt x="200" y="92"/>
                </a:lnTo>
                <a:lnTo>
                  <a:pt x="198" y="110"/>
                </a:lnTo>
                <a:lnTo>
                  <a:pt x="193" y="128"/>
                </a:lnTo>
                <a:lnTo>
                  <a:pt x="183" y="143"/>
                </a:lnTo>
                <a:lnTo>
                  <a:pt x="170" y="157"/>
                </a:lnTo>
                <a:lnTo>
                  <a:pt x="156" y="169"/>
                </a:lnTo>
                <a:lnTo>
                  <a:pt x="139" y="177"/>
                </a:lnTo>
                <a:lnTo>
                  <a:pt x="120" y="182"/>
                </a:lnTo>
                <a:lnTo>
                  <a:pt x="101" y="183"/>
                </a:lnTo>
                <a:lnTo>
                  <a:pt x="81" y="182"/>
                </a:lnTo>
                <a:lnTo>
                  <a:pt x="62" y="177"/>
                </a:lnTo>
                <a:lnTo>
                  <a:pt x="45" y="169"/>
                </a:lnTo>
                <a:lnTo>
                  <a:pt x="30" y="157"/>
                </a:lnTo>
                <a:lnTo>
                  <a:pt x="17" y="143"/>
                </a:lnTo>
                <a:lnTo>
                  <a:pt x="8" y="128"/>
                </a:lnTo>
                <a:lnTo>
                  <a:pt x="3" y="110"/>
                </a:lnTo>
                <a:lnTo>
                  <a:pt x="0" y="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176880" y="5784840"/>
            <a:ext cx="317520" cy="291960"/>
          </a:xfrm>
          <a:custGeom>
            <a:avLst/>
            <a:gdLst/>
            <a:ahLst/>
            <a:rect l="l" t="t" r="r" b="b"/>
            <a:pathLst>
              <a:path w="200" h="184">
                <a:moveTo>
                  <a:pt x="0" y="92"/>
                </a:moveTo>
                <a:lnTo>
                  <a:pt x="2" y="74"/>
                </a:lnTo>
                <a:lnTo>
                  <a:pt x="8" y="57"/>
                </a:lnTo>
                <a:lnTo>
                  <a:pt x="17" y="41"/>
                </a:lnTo>
                <a:lnTo>
                  <a:pt x="29" y="27"/>
                </a:lnTo>
                <a:lnTo>
                  <a:pt x="45" y="16"/>
                </a:lnTo>
                <a:lnTo>
                  <a:pt x="61" y="7"/>
                </a:lnTo>
                <a:lnTo>
                  <a:pt x="80" y="2"/>
                </a:lnTo>
                <a:lnTo>
                  <a:pt x="99" y="0"/>
                </a:lnTo>
                <a:lnTo>
                  <a:pt x="120" y="2"/>
                </a:lnTo>
                <a:lnTo>
                  <a:pt x="137" y="7"/>
                </a:lnTo>
                <a:lnTo>
                  <a:pt x="155" y="16"/>
                </a:lnTo>
                <a:lnTo>
                  <a:pt x="170" y="27"/>
                </a:lnTo>
                <a:lnTo>
                  <a:pt x="183" y="41"/>
                </a:lnTo>
                <a:lnTo>
                  <a:pt x="192" y="57"/>
                </a:lnTo>
                <a:lnTo>
                  <a:pt x="198" y="74"/>
                </a:lnTo>
                <a:lnTo>
                  <a:pt x="200" y="92"/>
                </a:lnTo>
                <a:lnTo>
                  <a:pt x="198" y="110"/>
                </a:lnTo>
                <a:lnTo>
                  <a:pt x="192" y="127"/>
                </a:lnTo>
                <a:lnTo>
                  <a:pt x="183" y="143"/>
                </a:lnTo>
                <a:lnTo>
                  <a:pt x="170" y="157"/>
                </a:lnTo>
                <a:lnTo>
                  <a:pt x="155" y="168"/>
                </a:lnTo>
                <a:lnTo>
                  <a:pt x="137" y="176"/>
                </a:lnTo>
                <a:lnTo>
                  <a:pt x="120" y="182"/>
                </a:lnTo>
                <a:lnTo>
                  <a:pt x="99" y="184"/>
                </a:lnTo>
                <a:lnTo>
                  <a:pt x="80" y="182"/>
                </a:lnTo>
                <a:lnTo>
                  <a:pt x="61" y="176"/>
                </a:lnTo>
                <a:lnTo>
                  <a:pt x="45" y="168"/>
                </a:lnTo>
                <a:lnTo>
                  <a:pt x="29" y="157"/>
                </a:lnTo>
                <a:lnTo>
                  <a:pt x="17" y="143"/>
                </a:lnTo>
                <a:lnTo>
                  <a:pt x="8" y="127"/>
                </a:lnTo>
                <a:lnTo>
                  <a:pt x="2" y="110"/>
                </a:lnTo>
                <a:lnTo>
                  <a:pt x="0" y="92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176880" y="5086440"/>
            <a:ext cx="317520" cy="290520"/>
          </a:xfrm>
          <a:custGeom>
            <a:avLst/>
            <a:gdLst/>
            <a:ahLst/>
            <a:rect l="l" t="t" r="r" b="b"/>
            <a:pathLst>
              <a:path w="200" h="183">
                <a:moveTo>
                  <a:pt x="0" y="92"/>
                </a:moveTo>
                <a:lnTo>
                  <a:pt x="2" y="74"/>
                </a:lnTo>
                <a:lnTo>
                  <a:pt x="8" y="57"/>
                </a:lnTo>
                <a:lnTo>
                  <a:pt x="17" y="41"/>
                </a:lnTo>
                <a:lnTo>
                  <a:pt x="29" y="27"/>
                </a:lnTo>
                <a:lnTo>
                  <a:pt x="45" y="16"/>
                </a:lnTo>
                <a:lnTo>
                  <a:pt x="61" y="7"/>
                </a:lnTo>
                <a:lnTo>
                  <a:pt x="80" y="2"/>
                </a:lnTo>
                <a:lnTo>
                  <a:pt x="99" y="0"/>
                </a:lnTo>
                <a:lnTo>
                  <a:pt x="120" y="2"/>
                </a:lnTo>
                <a:lnTo>
                  <a:pt x="137" y="7"/>
                </a:lnTo>
                <a:lnTo>
                  <a:pt x="155" y="16"/>
                </a:lnTo>
                <a:lnTo>
                  <a:pt x="170" y="27"/>
                </a:lnTo>
                <a:lnTo>
                  <a:pt x="183" y="41"/>
                </a:lnTo>
                <a:lnTo>
                  <a:pt x="192" y="57"/>
                </a:lnTo>
                <a:lnTo>
                  <a:pt x="198" y="74"/>
                </a:lnTo>
                <a:lnTo>
                  <a:pt x="200" y="92"/>
                </a:lnTo>
                <a:lnTo>
                  <a:pt x="198" y="109"/>
                </a:lnTo>
                <a:lnTo>
                  <a:pt x="192" y="127"/>
                </a:lnTo>
                <a:lnTo>
                  <a:pt x="183" y="143"/>
                </a:lnTo>
                <a:lnTo>
                  <a:pt x="170" y="157"/>
                </a:lnTo>
                <a:lnTo>
                  <a:pt x="155" y="169"/>
                </a:lnTo>
                <a:lnTo>
                  <a:pt x="137" y="177"/>
                </a:lnTo>
                <a:lnTo>
                  <a:pt x="120" y="182"/>
                </a:lnTo>
                <a:lnTo>
                  <a:pt x="99" y="183"/>
                </a:lnTo>
                <a:lnTo>
                  <a:pt x="80" y="182"/>
                </a:lnTo>
                <a:lnTo>
                  <a:pt x="61" y="177"/>
                </a:lnTo>
                <a:lnTo>
                  <a:pt x="45" y="169"/>
                </a:lnTo>
                <a:lnTo>
                  <a:pt x="29" y="157"/>
                </a:lnTo>
                <a:lnTo>
                  <a:pt x="17" y="143"/>
                </a:lnTo>
                <a:lnTo>
                  <a:pt x="8" y="127"/>
                </a:lnTo>
                <a:lnTo>
                  <a:pt x="2" y="109"/>
                </a:lnTo>
                <a:lnTo>
                  <a:pt x="0" y="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099120" y="4572000"/>
            <a:ext cx="405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6481800" y="4525920"/>
            <a:ext cx="9036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57" y="29"/>
                </a:moveTo>
                <a:lnTo>
                  <a:pt x="0" y="57"/>
                </a:lnTo>
                <a:lnTo>
                  <a:pt x="6" y="43"/>
                </a:lnTo>
                <a:lnTo>
                  <a:pt x="7" y="29"/>
                </a:lnTo>
                <a:lnTo>
                  <a:pt x="6" y="14"/>
                </a:lnTo>
                <a:lnTo>
                  <a:pt x="0" y="0"/>
                </a:lnTo>
                <a:lnTo>
                  <a:pt x="5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018120" y="4746600"/>
            <a:ext cx="23832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5979960" y="4689360"/>
            <a:ext cx="88920" cy="101880"/>
          </a:xfrm>
          <a:custGeom>
            <a:avLst/>
            <a:gdLst/>
            <a:ahLst/>
            <a:rect l="l" t="t" r="r" b="b"/>
            <a:pathLst>
              <a:path w="56" h="64">
                <a:moveTo>
                  <a:pt x="0" y="0"/>
                </a:moveTo>
                <a:lnTo>
                  <a:pt x="56" y="31"/>
                </a:lnTo>
                <a:lnTo>
                  <a:pt x="41" y="35"/>
                </a:lnTo>
                <a:lnTo>
                  <a:pt x="28" y="42"/>
                </a:lnTo>
                <a:lnTo>
                  <a:pt x="17" y="52"/>
                </a:lnTo>
                <a:lnTo>
                  <a:pt x="9" y="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375240" y="5432400"/>
            <a:ext cx="180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6329520" y="5364000"/>
            <a:ext cx="90360" cy="90720"/>
          </a:xfrm>
          <a:custGeom>
            <a:avLst/>
            <a:gdLst/>
            <a:ahLst/>
            <a:rect l="l" t="t" r="r" b="b"/>
            <a:pathLst>
              <a:path w="57" h="57">
                <a:moveTo>
                  <a:pt x="29" y="0"/>
                </a:moveTo>
                <a:lnTo>
                  <a:pt x="57" y="57"/>
                </a:lnTo>
                <a:lnTo>
                  <a:pt x="44" y="52"/>
                </a:lnTo>
                <a:lnTo>
                  <a:pt x="29" y="50"/>
                </a:lnTo>
                <a:lnTo>
                  <a:pt x="14" y="52"/>
                </a:lnTo>
                <a:lnTo>
                  <a:pt x="0" y="57"/>
                </a:lnTo>
                <a:lnTo>
                  <a:pt x="2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320160" y="4398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965920" y="47941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428160" y="54468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127320" y="4422600"/>
            <a:ext cx="317520" cy="290520"/>
          </a:xfrm>
          <a:custGeom>
            <a:avLst/>
            <a:gdLst/>
            <a:ahLst/>
            <a:rect l="l" t="t" r="r" b="b"/>
            <a:pathLst>
              <a:path w="200" h="183">
                <a:moveTo>
                  <a:pt x="0" y="91"/>
                </a:moveTo>
                <a:lnTo>
                  <a:pt x="2" y="73"/>
                </a:lnTo>
                <a:lnTo>
                  <a:pt x="7" y="57"/>
                </a:lnTo>
                <a:lnTo>
                  <a:pt x="17" y="41"/>
                </a:lnTo>
                <a:lnTo>
                  <a:pt x="29" y="27"/>
                </a:lnTo>
                <a:lnTo>
                  <a:pt x="44" y="15"/>
                </a:lnTo>
                <a:lnTo>
                  <a:pt x="61" y="7"/>
                </a:lnTo>
                <a:lnTo>
                  <a:pt x="80" y="2"/>
                </a:lnTo>
                <a:lnTo>
                  <a:pt x="99" y="0"/>
                </a:lnTo>
                <a:lnTo>
                  <a:pt x="119" y="2"/>
                </a:lnTo>
                <a:lnTo>
                  <a:pt x="138" y="7"/>
                </a:lnTo>
                <a:lnTo>
                  <a:pt x="155" y="15"/>
                </a:lnTo>
                <a:lnTo>
                  <a:pt x="170" y="27"/>
                </a:lnTo>
                <a:lnTo>
                  <a:pt x="183" y="41"/>
                </a:lnTo>
                <a:lnTo>
                  <a:pt x="192" y="57"/>
                </a:lnTo>
                <a:lnTo>
                  <a:pt x="197" y="73"/>
                </a:lnTo>
                <a:lnTo>
                  <a:pt x="200" y="91"/>
                </a:lnTo>
                <a:lnTo>
                  <a:pt x="197" y="109"/>
                </a:lnTo>
                <a:lnTo>
                  <a:pt x="192" y="127"/>
                </a:lnTo>
                <a:lnTo>
                  <a:pt x="183" y="143"/>
                </a:lnTo>
                <a:lnTo>
                  <a:pt x="170" y="157"/>
                </a:lnTo>
                <a:lnTo>
                  <a:pt x="155" y="168"/>
                </a:lnTo>
                <a:lnTo>
                  <a:pt x="138" y="177"/>
                </a:lnTo>
                <a:lnTo>
                  <a:pt x="119" y="182"/>
                </a:lnTo>
                <a:lnTo>
                  <a:pt x="99" y="183"/>
                </a:lnTo>
                <a:lnTo>
                  <a:pt x="80" y="182"/>
                </a:lnTo>
                <a:lnTo>
                  <a:pt x="61" y="177"/>
                </a:lnTo>
                <a:lnTo>
                  <a:pt x="44" y="168"/>
                </a:lnTo>
                <a:lnTo>
                  <a:pt x="29" y="157"/>
                </a:lnTo>
                <a:lnTo>
                  <a:pt x="17" y="143"/>
                </a:lnTo>
                <a:lnTo>
                  <a:pt x="7" y="127"/>
                </a:lnTo>
                <a:lnTo>
                  <a:pt x="2" y="109"/>
                </a:lnTo>
                <a:lnTo>
                  <a:pt x="0" y="9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624120" y="5829480"/>
            <a:ext cx="12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3522600" y="5086440"/>
            <a:ext cx="317520" cy="290520"/>
          </a:xfrm>
          <a:custGeom>
            <a:avLst/>
            <a:gdLst/>
            <a:ahLst/>
            <a:rect l="l" t="t" r="r" b="b"/>
            <a:pathLst>
              <a:path w="200" h="183">
                <a:moveTo>
                  <a:pt x="0" y="92"/>
                </a:moveTo>
                <a:lnTo>
                  <a:pt x="2" y="74"/>
                </a:lnTo>
                <a:lnTo>
                  <a:pt x="8" y="57"/>
                </a:lnTo>
                <a:lnTo>
                  <a:pt x="17" y="41"/>
                </a:lnTo>
                <a:lnTo>
                  <a:pt x="30" y="27"/>
                </a:lnTo>
                <a:lnTo>
                  <a:pt x="45" y="16"/>
                </a:lnTo>
                <a:lnTo>
                  <a:pt x="61" y="7"/>
                </a:lnTo>
                <a:lnTo>
                  <a:pt x="80" y="2"/>
                </a:lnTo>
                <a:lnTo>
                  <a:pt x="100" y="0"/>
                </a:lnTo>
                <a:lnTo>
                  <a:pt x="120" y="2"/>
                </a:lnTo>
                <a:lnTo>
                  <a:pt x="139" y="7"/>
                </a:lnTo>
                <a:lnTo>
                  <a:pt x="155" y="16"/>
                </a:lnTo>
                <a:lnTo>
                  <a:pt x="170" y="27"/>
                </a:lnTo>
                <a:lnTo>
                  <a:pt x="183" y="41"/>
                </a:lnTo>
                <a:lnTo>
                  <a:pt x="192" y="57"/>
                </a:lnTo>
                <a:lnTo>
                  <a:pt x="198" y="74"/>
                </a:lnTo>
                <a:lnTo>
                  <a:pt x="200" y="92"/>
                </a:lnTo>
                <a:lnTo>
                  <a:pt x="198" y="109"/>
                </a:lnTo>
                <a:lnTo>
                  <a:pt x="192" y="127"/>
                </a:lnTo>
                <a:lnTo>
                  <a:pt x="183" y="143"/>
                </a:lnTo>
                <a:lnTo>
                  <a:pt x="170" y="157"/>
                </a:lnTo>
                <a:lnTo>
                  <a:pt x="155" y="169"/>
                </a:lnTo>
                <a:lnTo>
                  <a:pt x="139" y="177"/>
                </a:lnTo>
                <a:lnTo>
                  <a:pt x="120" y="182"/>
                </a:lnTo>
                <a:lnTo>
                  <a:pt x="100" y="183"/>
                </a:lnTo>
                <a:lnTo>
                  <a:pt x="80" y="182"/>
                </a:lnTo>
                <a:lnTo>
                  <a:pt x="61" y="177"/>
                </a:lnTo>
                <a:lnTo>
                  <a:pt x="45" y="169"/>
                </a:lnTo>
                <a:lnTo>
                  <a:pt x="30" y="157"/>
                </a:lnTo>
                <a:lnTo>
                  <a:pt x="17" y="143"/>
                </a:lnTo>
                <a:lnTo>
                  <a:pt x="8" y="127"/>
                </a:lnTo>
                <a:lnTo>
                  <a:pt x="2" y="109"/>
                </a:lnTo>
                <a:lnTo>
                  <a:pt x="0" y="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234960" y="4479840"/>
            <a:ext cx="10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759400" y="4444920"/>
            <a:ext cx="10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255760" y="5086440"/>
            <a:ext cx="316080" cy="290520"/>
          </a:xfrm>
          <a:custGeom>
            <a:avLst/>
            <a:gdLst/>
            <a:ahLst/>
            <a:rect l="l" t="t" r="r" b="b"/>
            <a:pathLst>
              <a:path w="199" h="183">
                <a:moveTo>
                  <a:pt x="0" y="92"/>
                </a:moveTo>
                <a:lnTo>
                  <a:pt x="2" y="74"/>
                </a:lnTo>
                <a:lnTo>
                  <a:pt x="7" y="57"/>
                </a:lnTo>
                <a:lnTo>
                  <a:pt x="17" y="41"/>
                </a:lnTo>
                <a:lnTo>
                  <a:pt x="29" y="27"/>
                </a:lnTo>
                <a:lnTo>
                  <a:pt x="44" y="16"/>
                </a:lnTo>
                <a:lnTo>
                  <a:pt x="62" y="7"/>
                </a:lnTo>
                <a:lnTo>
                  <a:pt x="80" y="2"/>
                </a:lnTo>
                <a:lnTo>
                  <a:pt x="100" y="0"/>
                </a:lnTo>
                <a:lnTo>
                  <a:pt x="119" y="2"/>
                </a:lnTo>
                <a:lnTo>
                  <a:pt x="138" y="7"/>
                </a:lnTo>
                <a:lnTo>
                  <a:pt x="155" y="16"/>
                </a:lnTo>
                <a:lnTo>
                  <a:pt x="171" y="27"/>
                </a:lnTo>
                <a:lnTo>
                  <a:pt x="182" y="41"/>
                </a:lnTo>
                <a:lnTo>
                  <a:pt x="192" y="57"/>
                </a:lnTo>
                <a:lnTo>
                  <a:pt x="197" y="74"/>
                </a:lnTo>
                <a:lnTo>
                  <a:pt x="199" y="92"/>
                </a:lnTo>
                <a:lnTo>
                  <a:pt x="197" y="109"/>
                </a:lnTo>
                <a:lnTo>
                  <a:pt x="192" y="127"/>
                </a:lnTo>
                <a:lnTo>
                  <a:pt x="182" y="143"/>
                </a:lnTo>
                <a:lnTo>
                  <a:pt x="171" y="157"/>
                </a:lnTo>
                <a:lnTo>
                  <a:pt x="155" y="169"/>
                </a:lnTo>
                <a:lnTo>
                  <a:pt x="138" y="177"/>
                </a:lnTo>
                <a:lnTo>
                  <a:pt x="119" y="182"/>
                </a:lnTo>
                <a:lnTo>
                  <a:pt x="100" y="183"/>
                </a:lnTo>
                <a:lnTo>
                  <a:pt x="80" y="182"/>
                </a:lnTo>
                <a:lnTo>
                  <a:pt x="62" y="177"/>
                </a:lnTo>
                <a:lnTo>
                  <a:pt x="44" y="169"/>
                </a:lnTo>
                <a:lnTo>
                  <a:pt x="29" y="157"/>
                </a:lnTo>
                <a:lnTo>
                  <a:pt x="17" y="143"/>
                </a:lnTo>
                <a:lnTo>
                  <a:pt x="7" y="127"/>
                </a:lnTo>
                <a:lnTo>
                  <a:pt x="2" y="109"/>
                </a:lnTo>
                <a:lnTo>
                  <a:pt x="0" y="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1819440" y="4422600"/>
            <a:ext cx="317160" cy="290520"/>
          </a:xfrm>
          <a:custGeom>
            <a:avLst/>
            <a:gdLst/>
            <a:ahLst/>
            <a:rect l="l" t="t" r="r" b="b"/>
            <a:pathLst>
              <a:path w="200" h="183">
                <a:moveTo>
                  <a:pt x="0" y="91"/>
                </a:moveTo>
                <a:lnTo>
                  <a:pt x="2" y="73"/>
                </a:lnTo>
                <a:lnTo>
                  <a:pt x="8" y="57"/>
                </a:lnTo>
                <a:lnTo>
                  <a:pt x="17" y="41"/>
                </a:lnTo>
                <a:lnTo>
                  <a:pt x="30" y="27"/>
                </a:lnTo>
                <a:lnTo>
                  <a:pt x="44" y="15"/>
                </a:lnTo>
                <a:lnTo>
                  <a:pt x="62" y="7"/>
                </a:lnTo>
                <a:lnTo>
                  <a:pt x="80" y="2"/>
                </a:lnTo>
                <a:lnTo>
                  <a:pt x="100" y="0"/>
                </a:lnTo>
                <a:lnTo>
                  <a:pt x="119" y="2"/>
                </a:lnTo>
                <a:lnTo>
                  <a:pt x="138" y="7"/>
                </a:lnTo>
                <a:lnTo>
                  <a:pt x="155" y="15"/>
                </a:lnTo>
                <a:lnTo>
                  <a:pt x="171" y="27"/>
                </a:lnTo>
                <a:lnTo>
                  <a:pt x="183" y="41"/>
                </a:lnTo>
                <a:lnTo>
                  <a:pt x="192" y="57"/>
                </a:lnTo>
                <a:lnTo>
                  <a:pt x="199" y="73"/>
                </a:lnTo>
                <a:lnTo>
                  <a:pt x="200" y="91"/>
                </a:lnTo>
                <a:lnTo>
                  <a:pt x="199" y="109"/>
                </a:lnTo>
                <a:lnTo>
                  <a:pt x="192" y="127"/>
                </a:lnTo>
                <a:lnTo>
                  <a:pt x="183" y="143"/>
                </a:lnTo>
                <a:lnTo>
                  <a:pt x="171" y="157"/>
                </a:lnTo>
                <a:lnTo>
                  <a:pt x="155" y="168"/>
                </a:lnTo>
                <a:lnTo>
                  <a:pt x="138" y="177"/>
                </a:lnTo>
                <a:lnTo>
                  <a:pt x="119" y="182"/>
                </a:lnTo>
                <a:lnTo>
                  <a:pt x="100" y="183"/>
                </a:lnTo>
                <a:lnTo>
                  <a:pt x="80" y="182"/>
                </a:lnTo>
                <a:lnTo>
                  <a:pt x="62" y="177"/>
                </a:lnTo>
                <a:lnTo>
                  <a:pt x="44" y="168"/>
                </a:lnTo>
                <a:lnTo>
                  <a:pt x="30" y="157"/>
                </a:lnTo>
                <a:lnTo>
                  <a:pt x="17" y="143"/>
                </a:lnTo>
                <a:lnTo>
                  <a:pt x="8" y="127"/>
                </a:lnTo>
                <a:lnTo>
                  <a:pt x="2" y="109"/>
                </a:lnTo>
                <a:lnTo>
                  <a:pt x="0" y="9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1920600" y="4468680"/>
            <a:ext cx="10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849320" y="3890880"/>
            <a:ext cx="876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网络的拓扑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194560" y="4091040"/>
            <a:ext cx="19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867120" y="3890880"/>
            <a:ext cx="1108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二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每台路由器的链路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179240" y="4091040"/>
            <a:ext cx="49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状态数据库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048120" y="3036960"/>
            <a:ext cx="3538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378240" y="2944800"/>
            <a:ext cx="183960" cy="1843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0" y="0"/>
                </a:moveTo>
                <a:lnTo>
                  <a:pt x="116" y="58"/>
                </a:lnTo>
                <a:lnTo>
                  <a:pt x="0" y="1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424480" y="3036960"/>
            <a:ext cx="3538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754600" y="2944800"/>
            <a:ext cx="184320" cy="1843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0" y="0"/>
                </a:moveTo>
                <a:lnTo>
                  <a:pt x="116" y="58"/>
                </a:lnTo>
                <a:lnTo>
                  <a:pt x="0" y="1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6016680" y="3890880"/>
            <a:ext cx="1108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三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由链路状态数据库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175800" y="4091040"/>
            <a:ext cx="79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得到的带权有向图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3167640" y="6249960"/>
            <a:ext cx="239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四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每台路由器分别以自己为根节点计算最小生成树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2649600" y="2147760"/>
            <a:ext cx="36972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2649600" y="2089080"/>
            <a:ext cx="369720" cy="123840"/>
          </a:xfrm>
          <a:custGeom>
            <a:avLst/>
            <a:gdLst/>
            <a:ahLst/>
            <a:rect l="l" t="t" r="r" b="b"/>
            <a:pathLst>
              <a:path w="233" h="78">
                <a:moveTo>
                  <a:pt x="0" y="37"/>
                </a:moveTo>
                <a:lnTo>
                  <a:pt x="9" y="25"/>
                </a:lnTo>
                <a:lnTo>
                  <a:pt x="29" y="12"/>
                </a:lnTo>
                <a:lnTo>
                  <a:pt x="58" y="4"/>
                </a:lnTo>
                <a:lnTo>
                  <a:pt x="94" y="0"/>
                </a:lnTo>
                <a:lnTo>
                  <a:pt x="135" y="0"/>
                </a:lnTo>
                <a:lnTo>
                  <a:pt x="172" y="4"/>
                </a:lnTo>
                <a:lnTo>
                  <a:pt x="205" y="12"/>
                </a:lnTo>
                <a:lnTo>
                  <a:pt x="225" y="25"/>
                </a:lnTo>
                <a:lnTo>
                  <a:pt x="233" y="37"/>
                </a:lnTo>
                <a:lnTo>
                  <a:pt x="225" y="53"/>
                </a:lnTo>
                <a:lnTo>
                  <a:pt x="205" y="66"/>
                </a:lnTo>
                <a:lnTo>
                  <a:pt x="172" y="74"/>
                </a:lnTo>
                <a:lnTo>
                  <a:pt x="135" y="78"/>
                </a:lnTo>
                <a:lnTo>
                  <a:pt x="94" y="78"/>
                </a:lnTo>
                <a:lnTo>
                  <a:pt x="58" y="74"/>
                </a:lnTo>
                <a:lnTo>
                  <a:pt x="29" y="66"/>
                </a:lnTo>
                <a:lnTo>
                  <a:pt x="9" y="53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2747880" y="2108160"/>
            <a:ext cx="6516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844720" y="2147760"/>
            <a:ext cx="77760" cy="32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V="1">
            <a:off x="2727360" y="2153880"/>
            <a:ext cx="79200" cy="1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870280" y="2154240"/>
            <a:ext cx="856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870280" y="2128680"/>
            <a:ext cx="2700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7" y="0"/>
                </a:moveTo>
                <a:lnTo>
                  <a:pt x="0" y="16"/>
                </a:lnTo>
                <a:lnTo>
                  <a:pt x="17" y="3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2708280" y="2154240"/>
            <a:ext cx="90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2773440" y="2128680"/>
            <a:ext cx="25200" cy="51120"/>
          </a:xfrm>
          <a:custGeom>
            <a:avLst/>
            <a:gdLst/>
            <a:ahLst/>
            <a:rect l="l" t="t" r="r" b="b"/>
            <a:pathLst>
              <a:path w="16" h="32">
                <a:moveTo>
                  <a:pt x="0" y="32"/>
                </a:moveTo>
                <a:lnTo>
                  <a:pt x="16" y="1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2832120" y="2101680"/>
            <a:ext cx="1440" cy="3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2806560" y="2101680"/>
            <a:ext cx="51120" cy="27000"/>
          </a:xfrm>
          <a:custGeom>
            <a:avLst/>
            <a:gdLst/>
            <a:ahLst/>
            <a:rect l="l" t="t" r="r" b="b"/>
            <a:pathLst>
              <a:path w="32" h="17">
                <a:moveTo>
                  <a:pt x="32" y="17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832120" y="2173320"/>
            <a:ext cx="1440" cy="39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806560" y="2187720"/>
            <a:ext cx="51120" cy="25200"/>
          </a:xfrm>
          <a:custGeom>
            <a:avLst/>
            <a:gdLst/>
            <a:ahLst/>
            <a:rect l="l" t="t" r="r" b="b"/>
            <a:pathLst>
              <a:path w="32" h="16">
                <a:moveTo>
                  <a:pt x="0" y="0"/>
                </a:moveTo>
                <a:lnTo>
                  <a:pt x="16" y="16"/>
                </a:lnTo>
                <a:lnTo>
                  <a:pt x="32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2173320" y="3476520"/>
            <a:ext cx="37152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173320" y="3541680"/>
            <a:ext cx="371520" cy="123840"/>
          </a:xfrm>
          <a:custGeom>
            <a:avLst/>
            <a:gdLst/>
            <a:ahLst/>
            <a:rect l="l" t="t" r="r" b="b"/>
            <a:pathLst>
              <a:path w="234" h="78">
                <a:moveTo>
                  <a:pt x="0" y="37"/>
                </a:moveTo>
                <a:lnTo>
                  <a:pt x="8" y="24"/>
                </a:lnTo>
                <a:lnTo>
                  <a:pt x="29" y="12"/>
                </a:lnTo>
                <a:lnTo>
                  <a:pt x="57" y="4"/>
                </a:lnTo>
                <a:lnTo>
                  <a:pt x="94" y="0"/>
                </a:lnTo>
                <a:lnTo>
                  <a:pt x="135" y="0"/>
                </a:lnTo>
                <a:lnTo>
                  <a:pt x="172" y="4"/>
                </a:lnTo>
                <a:lnTo>
                  <a:pt x="205" y="12"/>
                </a:lnTo>
                <a:lnTo>
                  <a:pt x="226" y="24"/>
                </a:lnTo>
                <a:lnTo>
                  <a:pt x="234" y="37"/>
                </a:lnTo>
                <a:lnTo>
                  <a:pt x="226" y="53"/>
                </a:lnTo>
                <a:lnTo>
                  <a:pt x="205" y="61"/>
                </a:lnTo>
                <a:lnTo>
                  <a:pt x="172" y="74"/>
                </a:lnTo>
                <a:lnTo>
                  <a:pt x="135" y="78"/>
                </a:lnTo>
                <a:lnTo>
                  <a:pt x="94" y="78"/>
                </a:lnTo>
                <a:lnTo>
                  <a:pt x="57" y="74"/>
                </a:lnTo>
                <a:lnTo>
                  <a:pt x="29" y="61"/>
                </a:lnTo>
                <a:lnTo>
                  <a:pt x="8" y="53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173320" y="3417840"/>
            <a:ext cx="371520" cy="123840"/>
          </a:xfrm>
          <a:custGeom>
            <a:avLst/>
            <a:gdLst/>
            <a:ahLst/>
            <a:rect l="l" t="t" r="r" b="b"/>
            <a:pathLst>
              <a:path w="234" h="78">
                <a:moveTo>
                  <a:pt x="0" y="37"/>
                </a:moveTo>
                <a:lnTo>
                  <a:pt x="8" y="24"/>
                </a:lnTo>
                <a:lnTo>
                  <a:pt x="29" y="12"/>
                </a:lnTo>
                <a:lnTo>
                  <a:pt x="57" y="4"/>
                </a:lnTo>
                <a:lnTo>
                  <a:pt x="94" y="0"/>
                </a:lnTo>
                <a:lnTo>
                  <a:pt x="135" y="0"/>
                </a:lnTo>
                <a:lnTo>
                  <a:pt x="172" y="4"/>
                </a:lnTo>
                <a:lnTo>
                  <a:pt x="205" y="12"/>
                </a:lnTo>
                <a:lnTo>
                  <a:pt x="226" y="24"/>
                </a:lnTo>
                <a:lnTo>
                  <a:pt x="234" y="37"/>
                </a:lnTo>
                <a:lnTo>
                  <a:pt x="226" y="53"/>
                </a:lnTo>
                <a:lnTo>
                  <a:pt x="205" y="65"/>
                </a:lnTo>
                <a:lnTo>
                  <a:pt x="172" y="74"/>
                </a:lnTo>
                <a:lnTo>
                  <a:pt x="135" y="78"/>
                </a:lnTo>
                <a:lnTo>
                  <a:pt x="94" y="78"/>
                </a:lnTo>
                <a:lnTo>
                  <a:pt x="57" y="74"/>
                </a:lnTo>
                <a:lnTo>
                  <a:pt x="29" y="65"/>
                </a:lnTo>
                <a:lnTo>
                  <a:pt x="8" y="53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2271600" y="3436920"/>
            <a:ext cx="6516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368440" y="3476520"/>
            <a:ext cx="77760" cy="31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 flipV="1">
            <a:off x="2251080" y="3482640"/>
            <a:ext cx="79200" cy="1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2395440" y="3483000"/>
            <a:ext cx="842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395440" y="3456000"/>
            <a:ext cx="25560" cy="52200"/>
          </a:xfrm>
          <a:custGeom>
            <a:avLst/>
            <a:gdLst/>
            <a:ahLst/>
            <a:rect l="l" t="t" r="r" b="b"/>
            <a:pathLst>
              <a:path w="16" h="33">
                <a:moveTo>
                  <a:pt x="16" y="0"/>
                </a:moveTo>
                <a:lnTo>
                  <a:pt x="0" y="17"/>
                </a:lnTo>
                <a:lnTo>
                  <a:pt x="16" y="33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232000" y="3483000"/>
            <a:ext cx="90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2297160" y="3456000"/>
            <a:ext cx="25200" cy="52200"/>
          </a:xfrm>
          <a:custGeom>
            <a:avLst/>
            <a:gdLst/>
            <a:ahLst/>
            <a:rect l="l" t="t" r="r" b="b"/>
            <a:pathLst>
              <a:path w="16" h="33">
                <a:moveTo>
                  <a:pt x="0" y="33"/>
                </a:moveTo>
                <a:lnTo>
                  <a:pt x="16" y="1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2355840" y="3430440"/>
            <a:ext cx="1440" cy="3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2330280" y="3430440"/>
            <a:ext cx="51120" cy="25560"/>
          </a:xfrm>
          <a:custGeom>
            <a:avLst/>
            <a:gdLst/>
            <a:ahLst/>
            <a:rect l="l" t="t" r="r" b="b"/>
            <a:pathLst>
              <a:path w="32" h="16">
                <a:moveTo>
                  <a:pt x="32" y="16"/>
                </a:moveTo>
                <a:lnTo>
                  <a:pt x="16" y="0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2355840" y="3502080"/>
            <a:ext cx="1440" cy="39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2330280" y="3514680"/>
            <a:ext cx="51120" cy="27000"/>
          </a:xfrm>
          <a:custGeom>
            <a:avLst/>
            <a:gdLst/>
            <a:ahLst/>
            <a:rect l="l" t="t" r="r" b="b"/>
            <a:pathLst>
              <a:path w="32" h="17">
                <a:moveTo>
                  <a:pt x="0" y="0"/>
                </a:moveTo>
                <a:lnTo>
                  <a:pt x="16" y="17"/>
                </a:lnTo>
                <a:lnTo>
                  <a:pt x="32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173320" y="2882880"/>
            <a:ext cx="37152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2173320" y="2948040"/>
            <a:ext cx="371520" cy="123840"/>
          </a:xfrm>
          <a:custGeom>
            <a:avLst/>
            <a:gdLst/>
            <a:ahLst/>
            <a:rect l="l" t="t" r="r" b="b"/>
            <a:pathLst>
              <a:path w="234" h="78">
                <a:moveTo>
                  <a:pt x="0" y="37"/>
                </a:moveTo>
                <a:lnTo>
                  <a:pt x="8" y="25"/>
                </a:lnTo>
                <a:lnTo>
                  <a:pt x="29" y="13"/>
                </a:lnTo>
                <a:lnTo>
                  <a:pt x="57" y="5"/>
                </a:lnTo>
                <a:lnTo>
                  <a:pt x="94" y="0"/>
                </a:lnTo>
                <a:lnTo>
                  <a:pt x="135" y="0"/>
                </a:lnTo>
                <a:lnTo>
                  <a:pt x="172" y="5"/>
                </a:lnTo>
                <a:lnTo>
                  <a:pt x="205" y="13"/>
                </a:lnTo>
                <a:lnTo>
                  <a:pt x="226" y="25"/>
                </a:lnTo>
                <a:lnTo>
                  <a:pt x="234" y="37"/>
                </a:lnTo>
                <a:lnTo>
                  <a:pt x="226" y="54"/>
                </a:lnTo>
                <a:lnTo>
                  <a:pt x="205" y="62"/>
                </a:lnTo>
                <a:lnTo>
                  <a:pt x="172" y="74"/>
                </a:lnTo>
                <a:lnTo>
                  <a:pt x="135" y="78"/>
                </a:lnTo>
                <a:lnTo>
                  <a:pt x="94" y="78"/>
                </a:lnTo>
                <a:lnTo>
                  <a:pt x="57" y="74"/>
                </a:lnTo>
                <a:lnTo>
                  <a:pt x="29" y="62"/>
                </a:lnTo>
                <a:lnTo>
                  <a:pt x="8" y="54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271600" y="2844720"/>
            <a:ext cx="65160" cy="2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2368440" y="2882880"/>
            <a:ext cx="77760" cy="33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flipV="1">
            <a:off x="2251080" y="2890440"/>
            <a:ext cx="79200" cy="1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395440" y="2890800"/>
            <a:ext cx="842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2395440" y="2863800"/>
            <a:ext cx="25560" cy="52560"/>
          </a:xfrm>
          <a:custGeom>
            <a:avLst/>
            <a:gdLst/>
            <a:ahLst/>
            <a:rect l="l" t="t" r="r" b="b"/>
            <a:pathLst>
              <a:path w="16" h="33">
                <a:moveTo>
                  <a:pt x="16" y="0"/>
                </a:moveTo>
                <a:lnTo>
                  <a:pt x="0" y="17"/>
                </a:lnTo>
                <a:lnTo>
                  <a:pt x="16" y="33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232000" y="2890800"/>
            <a:ext cx="903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297160" y="2863800"/>
            <a:ext cx="25200" cy="52560"/>
          </a:xfrm>
          <a:custGeom>
            <a:avLst/>
            <a:gdLst/>
            <a:ahLst/>
            <a:rect l="l" t="t" r="r" b="b"/>
            <a:pathLst>
              <a:path w="16" h="33">
                <a:moveTo>
                  <a:pt x="0" y="33"/>
                </a:moveTo>
                <a:lnTo>
                  <a:pt x="16" y="1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355840" y="2838600"/>
            <a:ext cx="1440" cy="37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30280" y="2838600"/>
            <a:ext cx="51120" cy="25200"/>
          </a:xfrm>
          <a:custGeom>
            <a:avLst/>
            <a:gdLst/>
            <a:ahLst/>
            <a:rect l="l" t="t" r="r" b="b"/>
            <a:pathLst>
              <a:path w="32" h="16">
                <a:moveTo>
                  <a:pt x="32" y="16"/>
                </a:moveTo>
                <a:lnTo>
                  <a:pt x="16" y="0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2355840" y="2909880"/>
            <a:ext cx="1440" cy="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330280" y="2922480"/>
            <a:ext cx="51120" cy="25560"/>
          </a:xfrm>
          <a:custGeom>
            <a:avLst/>
            <a:gdLst/>
            <a:ahLst/>
            <a:rect l="l" t="t" r="r" b="b"/>
            <a:pathLst>
              <a:path w="32" h="16">
                <a:moveTo>
                  <a:pt x="0" y="0"/>
                </a:moveTo>
                <a:lnTo>
                  <a:pt x="16" y="16"/>
                </a:lnTo>
                <a:lnTo>
                  <a:pt x="32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1781280" y="2147760"/>
            <a:ext cx="36972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5" name=""/>
          <p:cNvGrpSpPr/>
          <p:nvPr/>
        </p:nvGrpSpPr>
        <p:grpSpPr>
          <a:xfrm>
            <a:off x="1781280" y="2212920"/>
            <a:ext cx="1238040" cy="735120"/>
            <a:chOff x="1781280" y="2212920"/>
            <a:chExt cx="1238040" cy="735120"/>
          </a:xfrm>
        </p:grpSpPr>
        <p:sp>
          <p:nvSpPr>
            <p:cNvPr id="2366" name=""/>
            <p:cNvSpPr/>
            <p:nvPr/>
          </p:nvSpPr>
          <p:spPr>
            <a:xfrm>
              <a:off x="2649600" y="2212920"/>
              <a:ext cx="369720" cy="123840"/>
            </a:xfrm>
            <a:custGeom>
              <a:avLst/>
              <a:gdLst/>
              <a:ahLst/>
              <a:rect l="l" t="t" r="r" b="b"/>
              <a:pathLst>
                <a:path w="233" h="78">
                  <a:moveTo>
                    <a:pt x="0" y="37"/>
                  </a:moveTo>
                  <a:lnTo>
                    <a:pt x="9" y="25"/>
                  </a:lnTo>
                  <a:lnTo>
                    <a:pt x="29" y="12"/>
                  </a:lnTo>
                  <a:lnTo>
                    <a:pt x="58" y="4"/>
                  </a:lnTo>
                  <a:lnTo>
                    <a:pt x="94" y="0"/>
                  </a:lnTo>
                  <a:lnTo>
                    <a:pt x="135" y="0"/>
                  </a:lnTo>
                  <a:lnTo>
                    <a:pt x="172" y="4"/>
                  </a:lnTo>
                  <a:lnTo>
                    <a:pt x="205" y="12"/>
                  </a:lnTo>
                  <a:lnTo>
                    <a:pt x="225" y="25"/>
                  </a:lnTo>
                  <a:lnTo>
                    <a:pt x="233" y="37"/>
                  </a:lnTo>
                  <a:lnTo>
                    <a:pt x="225" y="53"/>
                  </a:lnTo>
                  <a:lnTo>
                    <a:pt x="205" y="62"/>
                  </a:lnTo>
                  <a:lnTo>
                    <a:pt x="172" y="74"/>
                  </a:lnTo>
                  <a:lnTo>
                    <a:pt x="135" y="78"/>
                  </a:lnTo>
                  <a:lnTo>
                    <a:pt x="94" y="78"/>
                  </a:lnTo>
                  <a:lnTo>
                    <a:pt x="58" y="74"/>
                  </a:lnTo>
                  <a:lnTo>
                    <a:pt x="29" y="62"/>
                  </a:lnTo>
                  <a:lnTo>
                    <a:pt x="9" y="5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173320" y="2825640"/>
              <a:ext cx="371520" cy="122400"/>
            </a:xfrm>
            <a:custGeom>
              <a:avLst/>
              <a:gdLst/>
              <a:ahLst/>
              <a:rect l="l" t="t" r="r" b="b"/>
              <a:pathLst>
                <a:path w="234" h="77">
                  <a:moveTo>
                    <a:pt x="0" y="36"/>
                  </a:moveTo>
                  <a:lnTo>
                    <a:pt x="8" y="24"/>
                  </a:lnTo>
                  <a:lnTo>
                    <a:pt x="29" y="12"/>
                  </a:lnTo>
                  <a:lnTo>
                    <a:pt x="57" y="4"/>
                  </a:lnTo>
                  <a:lnTo>
                    <a:pt x="94" y="0"/>
                  </a:lnTo>
                  <a:lnTo>
                    <a:pt x="135" y="0"/>
                  </a:lnTo>
                  <a:lnTo>
                    <a:pt x="172" y="4"/>
                  </a:lnTo>
                  <a:lnTo>
                    <a:pt x="205" y="12"/>
                  </a:lnTo>
                  <a:lnTo>
                    <a:pt x="226" y="24"/>
                  </a:lnTo>
                  <a:lnTo>
                    <a:pt x="234" y="36"/>
                  </a:lnTo>
                  <a:lnTo>
                    <a:pt x="226" y="53"/>
                  </a:lnTo>
                  <a:lnTo>
                    <a:pt x="205" y="65"/>
                  </a:lnTo>
                  <a:lnTo>
                    <a:pt x="172" y="73"/>
                  </a:lnTo>
                  <a:lnTo>
                    <a:pt x="135" y="77"/>
                  </a:lnTo>
                  <a:lnTo>
                    <a:pt x="94" y="77"/>
                  </a:lnTo>
                  <a:lnTo>
                    <a:pt x="57" y="73"/>
                  </a:lnTo>
                  <a:lnTo>
                    <a:pt x="29" y="65"/>
                  </a:lnTo>
                  <a:lnTo>
                    <a:pt x="8" y="5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781280" y="2212920"/>
              <a:ext cx="369720" cy="123840"/>
            </a:xfrm>
            <a:custGeom>
              <a:avLst/>
              <a:gdLst/>
              <a:ahLst/>
              <a:rect l="l" t="t" r="r" b="b"/>
              <a:pathLst>
                <a:path w="233" h="78">
                  <a:moveTo>
                    <a:pt x="0" y="37"/>
                  </a:moveTo>
                  <a:lnTo>
                    <a:pt x="8" y="25"/>
                  </a:lnTo>
                  <a:lnTo>
                    <a:pt x="28" y="12"/>
                  </a:lnTo>
                  <a:lnTo>
                    <a:pt x="57" y="4"/>
                  </a:lnTo>
                  <a:lnTo>
                    <a:pt x="94" y="0"/>
                  </a:lnTo>
                  <a:lnTo>
                    <a:pt x="134" y="0"/>
                  </a:lnTo>
                  <a:lnTo>
                    <a:pt x="171" y="4"/>
                  </a:lnTo>
                  <a:lnTo>
                    <a:pt x="204" y="12"/>
                  </a:lnTo>
                  <a:lnTo>
                    <a:pt x="224" y="25"/>
                  </a:lnTo>
                  <a:lnTo>
                    <a:pt x="233" y="37"/>
                  </a:lnTo>
                  <a:lnTo>
                    <a:pt x="224" y="53"/>
                  </a:lnTo>
                  <a:lnTo>
                    <a:pt x="204" y="62"/>
                  </a:lnTo>
                  <a:lnTo>
                    <a:pt x="171" y="74"/>
                  </a:lnTo>
                  <a:lnTo>
                    <a:pt x="134" y="78"/>
                  </a:lnTo>
                  <a:lnTo>
                    <a:pt x="94" y="78"/>
                  </a:lnTo>
                  <a:lnTo>
                    <a:pt x="57" y="74"/>
                  </a:lnTo>
                  <a:lnTo>
                    <a:pt x="28" y="62"/>
                  </a:lnTo>
                  <a:lnTo>
                    <a:pt x="8" y="5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9" name=""/>
          <p:cNvSpPr/>
          <p:nvPr/>
        </p:nvSpPr>
        <p:spPr>
          <a:xfrm>
            <a:off x="1781280" y="2089080"/>
            <a:ext cx="369720" cy="123840"/>
          </a:xfrm>
          <a:custGeom>
            <a:avLst/>
            <a:gdLst/>
            <a:ahLst/>
            <a:rect l="l" t="t" r="r" b="b"/>
            <a:pathLst>
              <a:path w="233" h="78">
                <a:moveTo>
                  <a:pt x="0" y="37"/>
                </a:moveTo>
                <a:lnTo>
                  <a:pt x="8" y="25"/>
                </a:lnTo>
                <a:lnTo>
                  <a:pt x="28" y="12"/>
                </a:lnTo>
                <a:lnTo>
                  <a:pt x="57" y="4"/>
                </a:lnTo>
                <a:lnTo>
                  <a:pt x="94" y="0"/>
                </a:lnTo>
                <a:lnTo>
                  <a:pt x="134" y="0"/>
                </a:lnTo>
                <a:lnTo>
                  <a:pt x="171" y="4"/>
                </a:lnTo>
                <a:lnTo>
                  <a:pt x="204" y="12"/>
                </a:lnTo>
                <a:lnTo>
                  <a:pt x="224" y="25"/>
                </a:lnTo>
                <a:lnTo>
                  <a:pt x="233" y="37"/>
                </a:lnTo>
                <a:lnTo>
                  <a:pt x="224" y="53"/>
                </a:lnTo>
                <a:lnTo>
                  <a:pt x="204" y="66"/>
                </a:lnTo>
                <a:lnTo>
                  <a:pt x="171" y="74"/>
                </a:lnTo>
                <a:lnTo>
                  <a:pt x="134" y="78"/>
                </a:lnTo>
                <a:lnTo>
                  <a:pt x="94" y="78"/>
                </a:lnTo>
                <a:lnTo>
                  <a:pt x="57" y="74"/>
                </a:lnTo>
                <a:lnTo>
                  <a:pt x="28" y="66"/>
                </a:lnTo>
                <a:lnTo>
                  <a:pt x="8" y="53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1878120" y="2108160"/>
            <a:ext cx="6516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1974960" y="2147760"/>
            <a:ext cx="77760" cy="32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 flipV="1">
            <a:off x="1859040" y="2153880"/>
            <a:ext cx="77760" cy="1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001960" y="2154240"/>
            <a:ext cx="838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2001960" y="2128680"/>
            <a:ext cx="25200" cy="51120"/>
          </a:xfrm>
          <a:custGeom>
            <a:avLst/>
            <a:gdLst/>
            <a:ahLst/>
            <a:rect l="l" t="t" r="r" b="b"/>
            <a:pathLst>
              <a:path w="16" h="32">
                <a:moveTo>
                  <a:pt x="16" y="0"/>
                </a:moveTo>
                <a:lnTo>
                  <a:pt x="0" y="16"/>
                </a:lnTo>
                <a:lnTo>
                  <a:pt x="16" y="3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838160" y="2154240"/>
            <a:ext cx="921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1903320" y="2128680"/>
            <a:ext cx="2700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32"/>
                </a:moveTo>
                <a:lnTo>
                  <a:pt x="17" y="1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1962000" y="2101680"/>
            <a:ext cx="1800" cy="3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936800" y="2101680"/>
            <a:ext cx="50760" cy="27000"/>
          </a:xfrm>
          <a:custGeom>
            <a:avLst/>
            <a:gdLst/>
            <a:ahLst/>
            <a:rect l="l" t="t" r="r" b="b"/>
            <a:pathLst>
              <a:path w="32" h="17">
                <a:moveTo>
                  <a:pt x="32" y="17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962000" y="2173320"/>
            <a:ext cx="1800" cy="39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1936800" y="2187720"/>
            <a:ext cx="50760" cy="25200"/>
          </a:xfrm>
          <a:custGeom>
            <a:avLst/>
            <a:gdLst/>
            <a:ahLst/>
            <a:rect l="l" t="t" r="r" b="b"/>
            <a:pathLst>
              <a:path w="32" h="16">
                <a:moveTo>
                  <a:pt x="0" y="0"/>
                </a:moveTo>
                <a:lnTo>
                  <a:pt x="16" y="16"/>
                </a:lnTo>
                <a:lnTo>
                  <a:pt x="32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855760" y="1981080"/>
            <a:ext cx="10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计算路由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收集信息，生成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L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发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L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根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LSA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生成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LSD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根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LSDB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以自己为根计算最小生成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计算出最好的路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D-V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算法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VS L-S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算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络开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收敛时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可靠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路由器硬件的要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asystem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自治系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IC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国际组织统一管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"/>
          <p:cNvSpPr/>
          <p:nvPr/>
        </p:nvSpPr>
        <p:spPr>
          <a:xfrm>
            <a:off x="4876920" y="2133720"/>
            <a:ext cx="3581280" cy="3124080"/>
          </a:xfrm>
          <a:custGeom>
            <a:avLst/>
            <a:gdLst/>
            <a:ahLst/>
            <a:rect l="l" t="t" r="r" b="b"/>
            <a:pathLst>
              <a:path w="2305" h="1492">
                <a:moveTo>
                  <a:pt x="366" y="354"/>
                </a:moveTo>
                <a:lnTo>
                  <a:pt x="384" y="313"/>
                </a:lnTo>
                <a:lnTo>
                  <a:pt x="414" y="271"/>
                </a:lnTo>
                <a:lnTo>
                  <a:pt x="457" y="237"/>
                </a:lnTo>
                <a:lnTo>
                  <a:pt x="517" y="209"/>
                </a:lnTo>
                <a:lnTo>
                  <a:pt x="563" y="194"/>
                </a:lnTo>
                <a:lnTo>
                  <a:pt x="622" y="180"/>
                </a:lnTo>
                <a:lnTo>
                  <a:pt x="711" y="173"/>
                </a:lnTo>
                <a:lnTo>
                  <a:pt x="797" y="180"/>
                </a:lnTo>
                <a:lnTo>
                  <a:pt x="878" y="197"/>
                </a:lnTo>
                <a:lnTo>
                  <a:pt x="937" y="218"/>
                </a:lnTo>
                <a:lnTo>
                  <a:pt x="972" y="149"/>
                </a:lnTo>
                <a:lnTo>
                  <a:pt x="1018" y="97"/>
                </a:lnTo>
                <a:lnTo>
                  <a:pt x="1077" y="54"/>
                </a:lnTo>
                <a:lnTo>
                  <a:pt x="1158" y="26"/>
                </a:lnTo>
                <a:lnTo>
                  <a:pt x="1256" y="2"/>
                </a:lnTo>
                <a:lnTo>
                  <a:pt x="1352" y="0"/>
                </a:lnTo>
                <a:lnTo>
                  <a:pt x="1439" y="11"/>
                </a:lnTo>
                <a:lnTo>
                  <a:pt x="1536" y="38"/>
                </a:lnTo>
                <a:lnTo>
                  <a:pt x="1608" y="85"/>
                </a:lnTo>
                <a:lnTo>
                  <a:pt x="1662" y="130"/>
                </a:lnTo>
                <a:lnTo>
                  <a:pt x="1694" y="175"/>
                </a:lnTo>
                <a:lnTo>
                  <a:pt x="1703" y="233"/>
                </a:lnTo>
                <a:lnTo>
                  <a:pt x="1770" y="214"/>
                </a:lnTo>
                <a:lnTo>
                  <a:pt x="1851" y="221"/>
                </a:lnTo>
                <a:lnTo>
                  <a:pt x="1915" y="237"/>
                </a:lnTo>
                <a:lnTo>
                  <a:pt x="1973" y="278"/>
                </a:lnTo>
                <a:lnTo>
                  <a:pt x="2015" y="330"/>
                </a:lnTo>
                <a:lnTo>
                  <a:pt x="2032" y="388"/>
                </a:lnTo>
                <a:lnTo>
                  <a:pt x="2029" y="429"/>
                </a:lnTo>
                <a:lnTo>
                  <a:pt x="2067" y="426"/>
                </a:lnTo>
                <a:lnTo>
                  <a:pt x="2115" y="436"/>
                </a:lnTo>
                <a:lnTo>
                  <a:pt x="2163" y="455"/>
                </a:lnTo>
                <a:lnTo>
                  <a:pt x="2201" y="479"/>
                </a:lnTo>
                <a:lnTo>
                  <a:pt x="2225" y="498"/>
                </a:lnTo>
                <a:lnTo>
                  <a:pt x="2250" y="524"/>
                </a:lnTo>
                <a:lnTo>
                  <a:pt x="2274" y="557"/>
                </a:lnTo>
                <a:lnTo>
                  <a:pt x="2288" y="598"/>
                </a:lnTo>
                <a:lnTo>
                  <a:pt x="2290" y="626"/>
                </a:lnTo>
                <a:lnTo>
                  <a:pt x="2282" y="659"/>
                </a:lnTo>
                <a:lnTo>
                  <a:pt x="2265" y="700"/>
                </a:lnTo>
                <a:lnTo>
                  <a:pt x="2288" y="740"/>
                </a:lnTo>
                <a:lnTo>
                  <a:pt x="2295" y="778"/>
                </a:lnTo>
                <a:lnTo>
                  <a:pt x="2300" y="819"/>
                </a:lnTo>
                <a:lnTo>
                  <a:pt x="2290" y="871"/>
                </a:lnTo>
                <a:lnTo>
                  <a:pt x="2282" y="900"/>
                </a:lnTo>
                <a:lnTo>
                  <a:pt x="2255" y="935"/>
                </a:lnTo>
                <a:lnTo>
                  <a:pt x="2290" y="988"/>
                </a:lnTo>
                <a:lnTo>
                  <a:pt x="2300" y="1018"/>
                </a:lnTo>
                <a:lnTo>
                  <a:pt x="2304" y="1066"/>
                </a:lnTo>
                <a:lnTo>
                  <a:pt x="2295" y="1111"/>
                </a:lnTo>
                <a:lnTo>
                  <a:pt x="2277" y="1162"/>
                </a:lnTo>
                <a:lnTo>
                  <a:pt x="2250" y="1198"/>
                </a:lnTo>
                <a:lnTo>
                  <a:pt x="2209" y="1234"/>
                </a:lnTo>
                <a:lnTo>
                  <a:pt x="2140" y="1267"/>
                </a:lnTo>
                <a:lnTo>
                  <a:pt x="2067" y="1279"/>
                </a:lnTo>
                <a:lnTo>
                  <a:pt x="2002" y="1269"/>
                </a:lnTo>
                <a:lnTo>
                  <a:pt x="1959" y="1250"/>
                </a:lnTo>
                <a:lnTo>
                  <a:pt x="1929" y="1286"/>
                </a:lnTo>
                <a:lnTo>
                  <a:pt x="1896" y="1315"/>
                </a:lnTo>
                <a:lnTo>
                  <a:pt x="1870" y="1334"/>
                </a:lnTo>
                <a:lnTo>
                  <a:pt x="1816" y="1357"/>
                </a:lnTo>
                <a:lnTo>
                  <a:pt x="1770" y="1374"/>
                </a:lnTo>
                <a:lnTo>
                  <a:pt x="1703" y="1386"/>
                </a:lnTo>
                <a:lnTo>
                  <a:pt x="1635" y="1383"/>
                </a:lnTo>
                <a:lnTo>
                  <a:pt x="1571" y="1367"/>
                </a:lnTo>
                <a:lnTo>
                  <a:pt x="1512" y="1338"/>
                </a:lnTo>
                <a:lnTo>
                  <a:pt x="1477" y="1388"/>
                </a:lnTo>
                <a:lnTo>
                  <a:pt x="1444" y="1417"/>
                </a:lnTo>
                <a:lnTo>
                  <a:pt x="1404" y="1441"/>
                </a:lnTo>
                <a:lnTo>
                  <a:pt x="1355" y="1460"/>
                </a:lnTo>
                <a:lnTo>
                  <a:pt x="1301" y="1469"/>
                </a:lnTo>
                <a:lnTo>
                  <a:pt x="1252" y="1469"/>
                </a:lnTo>
                <a:lnTo>
                  <a:pt x="1204" y="1460"/>
                </a:lnTo>
                <a:lnTo>
                  <a:pt x="1145" y="1433"/>
                </a:lnTo>
                <a:lnTo>
                  <a:pt x="1110" y="1410"/>
                </a:lnTo>
                <a:lnTo>
                  <a:pt x="1077" y="1441"/>
                </a:lnTo>
                <a:lnTo>
                  <a:pt x="1045" y="1460"/>
                </a:lnTo>
                <a:lnTo>
                  <a:pt x="1002" y="1476"/>
                </a:lnTo>
                <a:lnTo>
                  <a:pt x="943" y="1491"/>
                </a:lnTo>
                <a:lnTo>
                  <a:pt x="883" y="1486"/>
                </a:lnTo>
                <a:lnTo>
                  <a:pt x="819" y="1471"/>
                </a:lnTo>
                <a:lnTo>
                  <a:pt x="770" y="1448"/>
                </a:lnTo>
                <a:lnTo>
                  <a:pt x="725" y="1407"/>
                </a:lnTo>
                <a:lnTo>
                  <a:pt x="697" y="1367"/>
                </a:lnTo>
                <a:lnTo>
                  <a:pt x="649" y="1381"/>
                </a:lnTo>
                <a:lnTo>
                  <a:pt x="595" y="1391"/>
                </a:lnTo>
                <a:lnTo>
                  <a:pt x="530" y="1388"/>
                </a:lnTo>
                <a:lnTo>
                  <a:pt x="474" y="1369"/>
                </a:lnTo>
                <a:lnTo>
                  <a:pt x="428" y="1343"/>
                </a:lnTo>
                <a:lnTo>
                  <a:pt x="393" y="1315"/>
                </a:lnTo>
                <a:lnTo>
                  <a:pt x="363" y="1274"/>
                </a:lnTo>
                <a:lnTo>
                  <a:pt x="355" y="1234"/>
                </a:lnTo>
                <a:lnTo>
                  <a:pt x="325" y="1243"/>
                </a:lnTo>
                <a:lnTo>
                  <a:pt x="271" y="1246"/>
                </a:lnTo>
                <a:lnTo>
                  <a:pt x="212" y="1234"/>
                </a:lnTo>
                <a:lnTo>
                  <a:pt x="153" y="1205"/>
                </a:lnTo>
                <a:lnTo>
                  <a:pt x="113" y="1167"/>
                </a:lnTo>
                <a:lnTo>
                  <a:pt x="78" y="1118"/>
                </a:lnTo>
                <a:lnTo>
                  <a:pt x="59" y="1066"/>
                </a:lnTo>
                <a:lnTo>
                  <a:pt x="50" y="995"/>
                </a:lnTo>
                <a:lnTo>
                  <a:pt x="53" y="947"/>
                </a:lnTo>
                <a:lnTo>
                  <a:pt x="72" y="876"/>
                </a:lnTo>
                <a:lnTo>
                  <a:pt x="32" y="835"/>
                </a:lnTo>
                <a:lnTo>
                  <a:pt x="10" y="783"/>
                </a:lnTo>
                <a:lnTo>
                  <a:pt x="0" y="728"/>
                </a:lnTo>
                <a:lnTo>
                  <a:pt x="0" y="669"/>
                </a:lnTo>
                <a:lnTo>
                  <a:pt x="13" y="607"/>
                </a:lnTo>
                <a:lnTo>
                  <a:pt x="40" y="560"/>
                </a:lnTo>
                <a:lnTo>
                  <a:pt x="86" y="510"/>
                </a:lnTo>
                <a:lnTo>
                  <a:pt x="134" y="472"/>
                </a:lnTo>
                <a:lnTo>
                  <a:pt x="191" y="436"/>
                </a:lnTo>
                <a:lnTo>
                  <a:pt x="264" y="412"/>
                </a:lnTo>
                <a:lnTo>
                  <a:pt x="330" y="398"/>
                </a:lnTo>
                <a:lnTo>
                  <a:pt x="363" y="391"/>
                </a:lnTo>
                <a:lnTo>
                  <a:pt x="366" y="354"/>
                </a:lnTo>
              </a:path>
            </a:pathLst>
          </a:custGeom>
          <a:solidFill>
            <a:srgbClr val="ccffcc"/>
          </a:solidFill>
          <a:ln cap="rnd" w="25560">
            <a:solidFill>
              <a:srgbClr val="ff6600"/>
            </a:solidFill>
            <a:round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0" y="2286000"/>
            <a:ext cx="4419720" cy="3124080"/>
          </a:xfrm>
          <a:custGeom>
            <a:avLst/>
            <a:gdLst/>
            <a:ahLst/>
            <a:rect l="l" t="t" r="r" b="b"/>
            <a:pathLst>
              <a:path w="2305" h="1492">
                <a:moveTo>
                  <a:pt x="366" y="354"/>
                </a:moveTo>
                <a:lnTo>
                  <a:pt x="384" y="313"/>
                </a:lnTo>
                <a:lnTo>
                  <a:pt x="414" y="271"/>
                </a:lnTo>
                <a:lnTo>
                  <a:pt x="457" y="237"/>
                </a:lnTo>
                <a:lnTo>
                  <a:pt x="517" y="209"/>
                </a:lnTo>
                <a:lnTo>
                  <a:pt x="563" y="194"/>
                </a:lnTo>
                <a:lnTo>
                  <a:pt x="622" y="180"/>
                </a:lnTo>
                <a:lnTo>
                  <a:pt x="711" y="173"/>
                </a:lnTo>
                <a:lnTo>
                  <a:pt x="797" y="180"/>
                </a:lnTo>
                <a:lnTo>
                  <a:pt x="878" y="197"/>
                </a:lnTo>
                <a:lnTo>
                  <a:pt x="937" y="218"/>
                </a:lnTo>
                <a:lnTo>
                  <a:pt x="972" y="149"/>
                </a:lnTo>
                <a:lnTo>
                  <a:pt x="1018" y="97"/>
                </a:lnTo>
                <a:lnTo>
                  <a:pt x="1077" y="54"/>
                </a:lnTo>
                <a:lnTo>
                  <a:pt x="1158" y="26"/>
                </a:lnTo>
                <a:lnTo>
                  <a:pt x="1256" y="2"/>
                </a:lnTo>
                <a:lnTo>
                  <a:pt x="1352" y="0"/>
                </a:lnTo>
                <a:lnTo>
                  <a:pt x="1439" y="11"/>
                </a:lnTo>
                <a:lnTo>
                  <a:pt x="1536" y="38"/>
                </a:lnTo>
                <a:lnTo>
                  <a:pt x="1608" y="85"/>
                </a:lnTo>
                <a:lnTo>
                  <a:pt x="1662" y="130"/>
                </a:lnTo>
                <a:lnTo>
                  <a:pt x="1694" y="175"/>
                </a:lnTo>
                <a:lnTo>
                  <a:pt x="1703" y="233"/>
                </a:lnTo>
                <a:lnTo>
                  <a:pt x="1770" y="214"/>
                </a:lnTo>
                <a:lnTo>
                  <a:pt x="1851" y="221"/>
                </a:lnTo>
                <a:lnTo>
                  <a:pt x="1915" y="237"/>
                </a:lnTo>
                <a:lnTo>
                  <a:pt x="1973" y="278"/>
                </a:lnTo>
                <a:lnTo>
                  <a:pt x="2015" y="330"/>
                </a:lnTo>
                <a:lnTo>
                  <a:pt x="2032" y="388"/>
                </a:lnTo>
                <a:lnTo>
                  <a:pt x="2029" y="429"/>
                </a:lnTo>
                <a:lnTo>
                  <a:pt x="2067" y="426"/>
                </a:lnTo>
                <a:lnTo>
                  <a:pt x="2115" y="436"/>
                </a:lnTo>
                <a:lnTo>
                  <a:pt x="2163" y="455"/>
                </a:lnTo>
                <a:lnTo>
                  <a:pt x="2201" y="479"/>
                </a:lnTo>
                <a:lnTo>
                  <a:pt x="2225" y="498"/>
                </a:lnTo>
                <a:lnTo>
                  <a:pt x="2250" y="524"/>
                </a:lnTo>
                <a:lnTo>
                  <a:pt x="2274" y="557"/>
                </a:lnTo>
                <a:lnTo>
                  <a:pt x="2288" y="598"/>
                </a:lnTo>
                <a:lnTo>
                  <a:pt x="2290" y="626"/>
                </a:lnTo>
                <a:lnTo>
                  <a:pt x="2282" y="659"/>
                </a:lnTo>
                <a:lnTo>
                  <a:pt x="2265" y="700"/>
                </a:lnTo>
                <a:lnTo>
                  <a:pt x="2288" y="740"/>
                </a:lnTo>
                <a:lnTo>
                  <a:pt x="2295" y="778"/>
                </a:lnTo>
                <a:lnTo>
                  <a:pt x="2300" y="819"/>
                </a:lnTo>
                <a:lnTo>
                  <a:pt x="2290" y="871"/>
                </a:lnTo>
                <a:lnTo>
                  <a:pt x="2282" y="900"/>
                </a:lnTo>
                <a:lnTo>
                  <a:pt x="2255" y="935"/>
                </a:lnTo>
                <a:lnTo>
                  <a:pt x="2290" y="988"/>
                </a:lnTo>
                <a:lnTo>
                  <a:pt x="2300" y="1018"/>
                </a:lnTo>
                <a:lnTo>
                  <a:pt x="2304" y="1066"/>
                </a:lnTo>
                <a:lnTo>
                  <a:pt x="2295" y="1111"/>
                </a:lnTo>
                <a:lnTo>
                  <a:pt x="2277" y="1162"/>
                </a:lnTo>
                <a:lnTo>
                  <a:pt x="2250" y="1198"/>
                </a:lnTo>
                <a:lnTo>
                  <a:pt x="2209" y="1234"/>
                </a:lnTo>
                <a:lnTo>
                  <a:pt x="2140" y="1267"/>
                </a:lnTo>
                <a:lnTo>
                  <a:pt x="2067" y="1279"/>
                </a:lnTo>
                <a:lnTo>
                  <a:pt x="2002" y="1269"/>
                </a:lnTo>
                <a:lnTo>
                  <a:pt x="1959" y="1250"/>
                </a:lnTo>
                <a:lnTo>
                  <a:pt x="1929" y="1286"/>
                </a:lnTo>
                <a:lnTo>
                  <a:pt x="1896" y="1315"/>
                </a:lnTo>
                <a:lnTo>
                  <a:pt x="1870" y="1334"/>
                </a:lnTo>
                <a:lnTo>
                  <a:pt x="1816" y="1357"/>
                </a:lnTo>
                <a:lnTo>
                  <a:pt x="1770" y="1374"/>
                </a:lnTo>
                <a:lnTo>
                  <a:pt x="1703" y="1386"/>
                </a:lnTo>
                <a:lnTo>
                  <a:pt x="1635" y="1383"/>
                </a:lnTo>
                <a:lnTo>
                  <a:pt x="1571" y="1367"/>
                </a:lnTo>
                <a:lnTo>
                  <a:pt x="1512" y="1338"/>
                </a:lnTo>
                <a:lnTo>
                  <a:pt x="1477" y="1388"/>
                </a:lnTo>
                <a:lnTo>
                  <a:pt x="1444" y="1417"/>
                </a:lnTo>
                <a:lnTo>
                  <a:pt x="1404" y="1441"/>
                </a:lnTo>
                <a:lnTo>
                  <a:pt x="1355" y="1460"/>
                </a:lnTo>
                <a:lnTo>
                  <a:pt x="1301" y="1469"/>
                </a:lnTo>
                <a:lnTo>
                  <a:pt x="1252" y="1469"/>
                </a:lnTo>
                <a:lnTo>
                  <a:pt x="1204" y="1460"/>
                </a:lnTo>
                <a:lnTo>
                  <a:pt x="1145" y="1433"/>
                </a:lnTo>
                <a:lnTo>
                  <a:pt x="1110" y="1410"/>
                </a:lnTo>
                <a:lnTo>
                  <a:pt x="1077" y="1441"/>
                </a:lnTo>
                <a:lnTo>
                  <a:pt x="1045" y="1460"/>
                </a:lnTo>
                <a:lnTo>
                  <a:pt x="1002" y="1476"/>
                </a:lnTo>
                <a:lnTo>
                  <a:pt x="943" y="1491"/>
                </a:lnTo>
                <a:lnTo>
                  <a:pt x="883" y="1486"/>
                </a:lnTo>
                <a:lnTo>
                  <a:pt x="819" y="1471"/>
                </a:lnTo>
                <a:lnTo>
                  <a:pt x="770" y="1448"/>
                </a:lnTo>
                <a:lnTo>
                  <a:pt x="725" y="1407"/>
                </a:lnTo>
                <a:lnTo>
                  <a:pt x="697" y="1367"/>
                </a:lnTo>
                <a:lnTo>
                  <a:pt x="649" y="1381"/>
                </a:lnTo>
                <a:lnTo>
                  <a:pt x="595" y="1391"/>
                </a:lnTo>
                <a:lnTo>
                  <a:pt x="530" y="1388"/>
                </a:lnTo>
                <a:lnTo>
                  <a:pt x="474" y="1369"/>
                </a:lnTo>
                <a:lnTo>
                  <a:pt x="428" y="1343"/>
                </a:lnTo>
                <a:lnTo>
                  <a:pt x="393" y="1315"/>
                </a:lnTo>
                <a:lnTo>
                  <a:pt x="363" y="1274"/>
                </a:lnTo>
                <a:lnTo>
                  <a:pt x="355" y="1234"/>
                </a:lnTo>
                <a:lnTo>
                  <a:pt x="325" y="1243"/>
                </a:lnTo>
                <a:lnTo>
                  <a:pt x="271" y="1246"/>
                </a:lnTo>
                <a:lnTo>
                  <a:pt x="212" y="1234"/>
                </a:lnTo>
                <a:lnTo>
                  <a:pt x="153" y="1205"/>
                </a:lnTo>
                <a:lnTo>
                  <a:pt x="113" y="1167"/>
                </a:lnTo>
                <a:lnTo>
                  <a:pt x="78" y="1118"/>
                </a:lnTo>
                <a:lnTo>
                  <a:pt x="59" y="1066"/>
                </a:lnTo>
                <a:lnTo>
                  <a:pt x="50" y="995"/>
                </a:lnTo>
                <a:lnTo>
                  <a:pt x="53" y="947"/>
                </a:lnTo>
                <a:lnTo>
                  <a:pt x="72" y="876"/>
                </a:lnTo>
                <a:lnTo>
                  <a:pt x="32" y="835"/>
                </a:lnTo>
                <a:lnTo>
                  <a:pt x="10" y="783"/>
                </a:lnTo>
                <a:lnTo>
                  <a:pt x="0" y="728"/>
                </a:lnTo>
                <a:lnTo>
                  <a:pt x="0" y="669"/>
                </a:lnTo>
                <a:lnTo>
                  <a:pt x="13" y="607"/>
                </a:lnTo>
                <a:lnTo>
                  <a:pt x="40" y="560"/>
                </a:lnTo>
                <a:lnTo>
                  <a:pt x="86" y="510"/>
                </a:lnTo>
                <a:lnTo>
                  <a:pt x="134" y="472"/>
                </a:lnTo>
                <a:lnTo>
                  <a:pt x="191" y="436"/>
                </a:lnTo>
                <a:lnTo>
                  <a:pt x="264" y="412"/>
                </a:lnTo>
                <a:lnTo>
                  <a:pt x="330" y="398"/>
                </a:lnTo>
                <a:lnTo>
                  <a:pt x="363" y="391"/>
                </a:lnTo>
                <a:lnTo>
                  <a:pt x="366" y="354"/>
                </a:lnTo>
              </a:path>
            </a:pathLst>
          </a:custGeom>
          <a:solidFill>
            <a:srgbClr val="ccffcc"/>
          </a:solidFill>
          <a:ln cap="rnd" w="25560">
            <a:solidFill>
              <a:srgbClr val="ff6600"/>
            </a:solidFill>
            <a:round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flipV="1">
            <a:off x="5638680" y="30481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638680" y="35053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7086600" y="3048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914400" y="33526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590920" y="29718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 flipH="1">
            <a:off x="3047760" y="3505320"/>
            <a:ext cx="609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828800" y="42670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1752480" y="30477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V="1">
            <a:off x="990720" y="304776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自治系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1" name=""/>
          <p:cNvSpPr/>
          <p:nvPr/>
        </p:nvSpPr>
        <p:spPr>
          <a:xfrm>
            <a:off x="5556960" y="17524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5181480" y="3276720"/>
            <a:ext cx="781200" cy="438120"/>
            <a:chOff x="5181480" y="3276720"/>
            <a:chExt cx="781200" cy="438120"/>
          </a:xfrm>
        </p:grpSpPr>
        <p:sp>
          <p:nvSpPr>
            <p:cNvPr id="2403" name=""/>
            <p:cNvSpPr/>
            <p:nvPr/>
          </p:nvSpPr>
          <p:spPr>
            <a:xfrm>
              <a:off x="5181480" y="3398760"/>
              <a:ext cx="781200" cy="3160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181480" y="3276720"/>
              <a:ext cx="777960" cy="2404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5" name=""/>
            <p:cNvGrpSpPr/>
            <p:nvPr/>
          </p:nvGrpSpPr>
          <p:grpSpPr>
            <a:xfrm>
              <a:off x="5302800" y="3304800"/>
              <a:ext cx="536400" cy="182520"/>
              <a:chOff x="5302800" y="3304800"/>
              <a:chExt cx="536400" cy="182520"/>
            </a:xfrm>
          </p:grpSpPr>
          <p:sp>
            <p:nvSpPr>
              <p:cNvPr id="2406" name=""/>
              <p:cNvSpPr/>
              <p:nvPr/>
            </p:nvSpPr>
            <p:spPr>
              <a:xfrm>
                <a:off x="5580720" y="330948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580720" y="330948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02800" y="339696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02800" y="339696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15760" y="330480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15760" y="330480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571000" y="340668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571000" y="340668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586120" y="3314520"/>
                <a:ext cx="253080" cy="75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586120" y="3314520"/>
                <a:ext cx="253080" cy="75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307840" y="340200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307840" y="340200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320800" y="330948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320800" y="330948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576040" y="341172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576040" y="341172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22" name=""/>
          <p:cNvSpPr/>
          <p:nvPr/>
        </p:nvSpPr>
        <p:spPr>
          <a:xfrm>
            <a:off x="1586520" y="182880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3" name=""/>
          <p:cNvGrpSpPr/>
          <p:nvPr/>
        </p:nvGrpSpPr>
        <p:grpSpPr>
          <a:xfrm>
            <a:off x="1219320" y="4038480"/>
            <a:ext cx="780840" cy="438120"/>
            <a:chOff x="1219320" y="4038480"/>
            <a:chExt cx="780840" cy="438120"/>
          </a:xfrm>
        </p:grpSpPr>
        <p:sp>
          <p:nvSpPr>
            <p:cNvPr id="2424" name=""/>
            <p:cNvSpPr/>
            <p:nvPr/>
          </p:nvSpPr>
          <p:spPr>
            <a:xfrm>
              <a:off x="1219320" y="4160520"/>
              <a:ext cx="780840" cy="3160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219320" y="4038480"/>
              <a:ext cx="777600" cy="2404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6" name=""/>
            <p:cNvGrpSpPr/>
            <p:nvPr/>
          </p:nvGrpSpPr>
          <p:grpSpPr>
            <a:xfrm>
              <a:off x="1340640" y="4066560"/>
              <a:ext cx="536400" cy="182520"/>
              <a:chOff x="1340640" y="4066560"/>
              <a:chExt cx="536400" cy="182520"/>
            </a:xfrm>
          </p:grpSpPr>
          <p:sp>
            <p:nvSpPr>
              <p:cNvPr id="2427" name=""/>
              <p:cNvSpPr/>
              <p:nvPr/>
            </p:nvSpPr>
            <p:spPr>
              <a:xfrm>
                <a:off x="1618560" y="407124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618560" y="407124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340640" y="415872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340640" y="415872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353600" y="406656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1353600" y="406656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1608840" y="416844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1608840" y="416844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623960" y="4076280"/>
                <a:ext cx="253080" cy="75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623960" y="4076280"/>
                <a:ext cx="253080" cy="75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345680" y="416376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1345680" y="416376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1358640" y="407124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1358640" y="407124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613880" y="417348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613880" y="417348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3" name=""/>
          <p:cNvGrpSpPr/>
          <p:nvPr/>
        </p:nvGrpSpPr>
        <p:grpSpPr>
          <a:xfrm>
            <a:off x="1981080" y="2895480"/>
            <a:ext cx="781200" cy="438120"/>
            <a:chOff x="1981080" y="2895480"/>
            <a:chExt cx="781200" cy="438120"/>
          </a:xfrm>
        </p:grpSpPr>
        <p:sp>
          <p:nvSpPr>
            <p:cNvPr id="2444" name=""/>
            <p:cNvSpPr/>
            <p:nvPr/>
          </p:nvSpPr>
          <p:spPr>
            <a:xfrm>
              <a:off x="1981080" y="3017520"/>
              <a:ext cx="781200" cy="3160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1981080" y="2895480"/>
              <a:ext cx="777960" cy="2404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6" name=""/>
            <p:cNvGrpSpPr/>
            <p:nvPr/>
          </p:nvGrpSpPr>
          <p:grpSpPr>
            <a:xfrm>
              <a:off x="2102400" y="2923560"/>
              <a:ext cx="536400" cy="182520"/>
              <a:chOff x="2102400" y="2923560"/>
              <a:chExt cx="536400" cy="182520"/>
            </a:xfrm>
          </p:grpSpPr>
          <p:sp>
            <p:nvSpPr>
              <p:cNvPr id="2447" name=""/>
              <p:cNvSpPr/>
              <p:nvPr/>
            </p:nvSpPr>
            <p:spPr>
              <a:xfrm>
                <a:off x="2380320" y="292824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380320" y="292824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2102400" y="301572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2102400" y="301572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2115360" y="292356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2115360" y="292356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370600" y="302544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370600" y="302544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2385720" y="2933280"/>
                <a:ext cx="253080" cy="75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2385720" y="2933280"/>
                <a:ext cx="253080" cy="75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2107440" y="302076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2107440" y="302076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2120400" y="292824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120400" y="292824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2375640" y="303048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375640" y="303048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3" name=""/>
          <p:cNvGrpSpPr/>
          <p:nvPr/>
        </p:nvGrpSpPr>
        <p:grpSpPr>
          <a:xfrm>
            <a:off x="609480" y="3124080"/>
            <a:ext cx="781200" cy="438120"/>
            <a:chOff x="609480" y="3124080"/>
            <a:chExt cx="781200" cy="438120"/>
          </a:xfrm>
        </p:grpSpPr>
        <p:sp>
          <p:nvSpPr>
            <p:cNvPr id="2464" name=""/>
            <p:cNvSpPr/>
            <p:nvPr/>
          </p:nvSpPr>
          <p:spPr>
            <a:xfrm>
              <a:off x="609480" y="3246120"/>
              <a:ext cx="781200" cy="3160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09480" y="3124080"/>
              <a:ext cx="777960" cy="2404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6" name=""/>
            <p:cNvGrpSpPr/>
            <p:nvPr/>
          </p:nvGrpSpPr>
          <p:grpSpPr>
            <a:xfrm>
              <a:off x="730800" y="3152160"/>
              <a:ext cx="536400" cy="182520"/>
              <a:chOff x="730800" y="3152160"/>
              <a:chExt cx="536400" cy="182520"/>
            </a:xfrm>
          </p:grpSpPr>
          <p:sp>
            <p:nvSpPr>
              <p:cNvPr id="2467" name=""/>
              <p:cNvSpPr/>
              <p:nvPr/>
            </p:nvSpPr>
            <p:spPr>
              <a:xfrm>
                <a:off x="1008720" y="315684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1008720" y="315684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30800" y="324432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30800" y="324432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43760" y="315216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43760" y="315216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999000" y="325404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999000" y="325404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014120" y="3161880"/>
                <a:ext cx="253080" cy="75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014120" y="3161880"/>
                <a:ext cx="253080" cy="75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35840" y="324936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35840" y="324936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48800" y="315684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48800" y="315684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004040" y="325908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004040" y="325908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3" name=""/>
          <p:cNvGrpSpPr/>
          <p:nvPr/>
        </p:nvGrpSpPr>
        <p:grpSpPr>
          <a:xfrm>
            <a:off x="6705720" y="2819520"/>
            <a:ext cx="780840" cy="438120"/>
            <a:chOff x="6705720" y="2819520"/>
            <a:chExt cx="780840" cy="438120"/>
          </a:xfrm>
        </p:grpSpPr>
        <p:sp>
          <p:nvSpPr>
            <p:cNvPr id="2484" name=""/>
            <p:cNvSpPr/>
            <p:nvPr/>
          </p:nvSpPr>
          <p:spPr>
            <a:xfrm>
              <a:off x="6705720" y="2941560"/>
              <a:ext cx="780840" cy="3160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705720" y="2819520"/>
              <a:ext cx="777600" cy="2404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6" name=""/>
            <p:cNvGrpSpPr/>
            <p:nvPr/>
          </p:nvGrpSpPr>
          <p:grpSpPr>
            <a:xfrm>
              <a:off x="6827040" y="2847600"/>
              <a:ext cx="536400" cy="182520"/>
              <a:chOff x="6827040" y="2847600"/>
              <a:chExt cx="536400" cy="182520"/>
            </a:xfrm>
          </p:grpSpPr>
          <p:sp>
            <p:nvSpPr>
              <p:cNvPr id="2487" name=""/>
              <p:cNvSpPr/>
              <p:nvPr/>
            </p:nvSpPr>
            <p:spPr>
              <a:xfrm>
                <a:off x="7104960" y="285228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104960" y="285228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827040" y="293976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827040" y="293976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840000" y="284760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840000" y="284760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095240" y="294948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095240" y="294948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110360" y="2857320"/>
                <a:ext cx="253080" cy="75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110360" y="2857320"/>
                <a:ext cx="253080" cy="75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832080" y="294480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832080" y="294480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5040" y="285228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845040" y="285228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100280" y="295452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100280" y="295452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3" name=""/>
          <p:cNvGrpSpPr/>
          <p:nvPr/>
        </p:nvGrpSpPr>
        <p:grpSpPr>
          <a:xfrm>
            <a:off x="2666880" y="4648320"/>
            <a:ext cx="781200" cy="438120"/>
            <a:chOff x="2666880" y="4648320"/>
            <a:chExt cx="781200" cy="438120"/>
          </a:xfrm>
        </p:grpSpPr>
        <p:sp>
          <p:nvSpPr>
            <p:cNvPr id="2504" name=""/>
            <p:cNvSpPr/>
            <p:nvPr/>
          </p:nvSpPr>
          <p:spPr>
            <a:xfrm>
              <a:off x="2666880" y="4770360"/>
              <a:ext cx="781200" cy="3160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666880" y="4648320"/>
              <a:ext cx="777960" cy="2404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6" name=""/>
            <p:cNvGrpSpPr/>
            <p:nvPr/>
          </p:nvGrpSpPr>
          <p:grpSpPr>
            <a:xfrm>
              <a:off x="2788200" y="4676400"/>
              <a:ext cx="536400" cy="182520"/>
              <a:chOff x="2788200" y="4676400"/>
              <a:chExt cx="536400" cy="182520"/>
            </a:xfrm>
          </p:grpSpPr>
          <p:sp>
            <p:nvSpPr>
              <p:cNvPr id="2507" name=""/>
              <p:cNvSpPr/>
              <p:nvPr/>
            </p:nvSpPr>
            <p:spPr>
              <a:xfrm>
                <a:off x="3066120" y="468108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066120" y="468108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2788200" y="476856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2788200" y="476856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2801160" y="467640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2801160" y="467640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056400" y="477828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056400" y="477828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3071520" y="4686120"/>
                <a:ext cx="253080" cy="75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071520" y="4686120"/>
                <a:ext cx="253080" cy="75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2793240" y="477360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2793240" y="477360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2806200" y="468108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2806200" y="468108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3061440" y="478332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3061440" y="478332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3" name=""/>
          <p:cNvGrpSpPr/>
          <p:nvPr/>
        </p:nvGrpSpPr>
        <p:grpSpPr>
          <a:xfrm>
            <a:off x="3352680" y="3276720"/>
            <a:ext cx="781200" cy="438120"/>
            <a:chOff x="3352680" y="3276720"/>
            <a:chExt cx="781200" cy="438120"/>
          </a:xfrm>
        </p:grpSpPr>
        <p:sp>
          <p:nvSpPr>
            <p:cNvPr id="2524" name=""/>
            <p:cNvSpPr/>
            <p:nvPr/>
          </p:nvSpPr>
          <p:spPr>
            <a:xfrm>
              <a:off x="3352680" y="3398760"/>
              <a:ext cx="781200" cy="3160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3352680" y="3276720"/>
              <a:ext cx="777960" cy="2404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6" name=""/>
            <p:cNvGrpSpPr/>
            <p:nvPr/>
          </p:nvGrpSpPr>
          <p:grpSpPr>
            <a:xfrm>
              <a:off x="3474000" y="3304800"/>
              <a:ext cx="536400" cy="182520"/>
              <a:chOff x="3474000" y="3304800"/>
              <a:chExt cx="536400" cy="182520"/>
            </a:xfrm>
          </p:grpSpPr>
          <p:sp>
            <p:nvSpPr>
              <p:cNvPr id="2527" name=""/>
              <p:cNvSpPr/>
              <p:nvPr/>
            </p:nvSpPr>
            <p:spPr>
              <a:xfrm>
                <a:off x="3751920" y="330948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3751920" y="330948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474000" y="339696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474000" y="339696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486960" y="330480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486960" y="330480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742200" y="340668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742200" y="340668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757320" y="3314520"/>
                <a:ext cx="253080" cy="75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757320" y="3314520"/>
                <a:ext cx="253080" cy="75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479040" y="340200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479040" y="340200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492000" y="330948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492000" y="330948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747240" y="341172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747240" y="341172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3" name=""/>
          <p:cNvGrpSpPr/>
          <p:nvPr/>
        </p:nvGrpSpPr>
        <p:grpSpPr>
          <a:xfrm>
            <a:off x="6705720" y="4343400"/>
            <a:ext cx="780840" cy="438120"/>
            <a:chOff x="6705720" y="4343400"/>
            <a:chExt cx="780840" cy="438120"/>
          </a:xfrm>
        </p:grpSpPr>
        <p:sp>
          <p:nvSpPr>
            <p:cNvPr id="2544" name=""/>
            <p:cNvSpPr/>
            <p:nvPr/>
          </p:nvSpPr>
          <p:spPr>
            <a:xfrm>
              <a:off x="6705720" y="4465440"/>
              <a:ext cx="780840" cy="3160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705720" y="4343400"/>
              <a:ext cx="777600" cy="2404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6" name=""/>
            <p:cNvGrpSpPr/>
            <p:nvPr/>
          </p:nvGrpSpPr>
          <p:grpSpPr>
            <a:xfrm>
              <a:off x="6827040" y="4371480"/>
              <a:ext cx="536400" cy="182520"/>
              <a:chOff x="6827040" y="4371480"/>
              <a:chExt cx="536400" cy="182520"/>
            </a:xfrm>
          </p:grpSpPr>
          <p:sp>
            <p:nvSpPr>
              <p:cNvPr id="2547" name=""/>
              <p:cNvSpPr/>
              <p:nvPr/>
            </p:nvSpPr>
            <p:spPr>
              <a:xfrm>
                <a:off x="7104960" y="437616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7104960" y="437616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6827040" y="446364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6827040" y="446364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6840000" y="437148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840000" y="437148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095240" y="447336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7095240" y="447336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110360" y="4381200"/>
                <a:ext cx="253080" cy="75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7110360" y="4381200"/>
                <a:ext cx="253080" cy="75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832080" y="446868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832080" y="4468680"/>
                <a:ext cx="25488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845040" y="437616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845040" y="4376160"/>
                <a:ext cx="25524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100280" y="447840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100280" y="4478400"/>
                <a:ext cx="254880" cy="75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3" name=""/>
          <p:cNvSpPr/>
          <p:nvPr/>
        </p:nvSpPr>
        <p:spPr>
          <a:xfrm>
            <a:off x="432864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648320" y="2209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2046960" y="617220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 flipV="1">
            <a:off x="2362320" y="5562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GP&amp;EG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IGP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内部网关路由协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R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G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EIG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S-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EGP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外部网关路由协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休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70" name="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65088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R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Routing Information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-V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算法，适用于中小企业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仅一跳数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Ho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计算路由花费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最大跳数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无穷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网络不可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R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更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每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秒相邻路由器间更新路由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主要计数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8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水平分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R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两个版本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RIP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广播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UDP 52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端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带子网掩码更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RIP 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广播或组波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24.0.0.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带子网掩码更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静态路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ip route ip_address mask|masklen 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interface_name|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gateway_address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目标网络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10.3.0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子网掩码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下一跳地址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1.1.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Ip route 10.3.0.0 16 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1.1.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R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启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R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router R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Network 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查看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show r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show ip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ebug ip rip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80" name=""/>
          <p:cNvGrpSpPr/>
          <p:nvPr/>
        </p:nvGrpSpPr>
        <p:grpSpPr>
          <a:xfrm>
            <a:off x="380880" y="2514600"/>
            <a:ext cx="8458200" cy="2176560"/>
            <a:chOff x="380880" y="2514600"/>
            <a:chExt cx="8458200" cy="2176560"/>
          </a:xfrm>
        </p:grpSpPr>
        <p:grpSp>
          <p:nvGrpSpPr>
            <p:cNvPr id="2581" name=""/>
            <p:cNvGrpSpPr/>
            <p:nvPr/>
          </p:nvGrpSpPr>
          <p:grpSpPr>
            <a:xfrm>
              <a:off x="3657600" y="2743200"/>
              <a:ext cx="1973160" cy="885240"/>
              <a:chOff x="3657600" y="2743200"/>
              <a:chExt cx="1973160" cy="885240"/>
            </a:xfrm>
          </p:grpSpPr>
          <p:grpSp>
            <p:nvGrpSpPr>
              <p:cNvPr id="2582" name=""/>
              <p:cNvGrpSpPr/>
              <p:nvPr/>
            </p:nvGrpSpPr>
            <p:grpSpPr>
              <a:xfrm>
                <a:off x="3657600" y="2743200"/>
                <a:ext cx="1973160" cy="885240"/>
                <a:chOff x="3657600" y="2743200"/>
                <a:chExt cx="1973160" cy="885240"/>
              </a:xfrm>
            </p:grpSpPr>
            <p:sp>
              <p:nvSpPr>
                <p:cNvPr id="2583" name=""/>
                <p:cNvSpPr/>
                <p:nvPr/>
              </p:nvSpPr>
              <p:spPr>
                <a:xfrm>
                  <a:off x="3657600" y="2881440"/>
                  <a:ext cx="1973160" cy="74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9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5205960" y="2940120"/>
                  <a:ext cx="27000" cy="51840"/>
                </a:xfrm>
                <a:custGeom>
                  <a:avLst/>
                  <a:gdLst/>
                  <a:ahLst/>
                  <a:rect l="l" t="t" r="r" b="b"/>
                  <a:pathLst>
                    <a:path w="284" h="969">
                      <a:moveTo>
                        <a:pt x="284" y="0"/>
                      </a:moveTo>
                      <a:lnTo>
                        <a:pt x="70" y="780"/>
                      </a:lnTo>
                      <a:lnTo>
                        <a:pt x="55" y="828"/>
                      </a:lnTo>
                      <a:lnTo>
                        <a:pt x="39" y="875"/>
                      </a:lnTo>
                      <a:lnTo>
                        <a:pt x="21" y="922"/>
                      </a:lnTo>
                      <a:lnTo>
                        <a:pt x="0" y="969"/>
                      </a:lnTo>
                      <a:lnTo>
                        <a:pt x="212" y="194"/>
                      </a:lnTo>
                      <a:lnTo>
                        <a:pt x="234" y="147"/>
                      </a:lnTo>
                      <a:lnTo>
                        <a:pt x="252" y="99"/>
                      </a:lnTo>
                      <a:lnTo>
                        <a:pt x="270" y="50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5196240" y="2950200"/>
                  <a:ext cx="29880" cy="51840"/>
                </a:xfrm>
                <a:custGeom>
                  <a:avLst/>
                  <a:gdLst/>
                  <a:ahLst/>
                  <a:rect l="l" t="t" r="r" b="b"/>
                  <a:pathLst>
                    <a:path w="311" h="952">
                      <a:moveTo>
                        <a:pt x="311" y="0"/>
                      </a:moveTo>
                      <a:lnTo>
                        <a:pt x="99" y="775"/>
                      </a:lnTo>
                      <a:lnTo>
                        <a:pt x="78" y="819"/>
                      </a:lnTo>
                      <a:lnTo>
                        <a:pt x="53" y="864"/>
                      </a:lnTo>
                      <a:lnTo>
                        <a:pt x="27" y="908"/>
                      </a:lnTo>
                      <a:lnTo>
                        <a:pt x="0" y="952"/>
                      </a:lnTo>
                      <a:lnTo>
                        <a:pt x="210" y="181"/>
                      </a:lnTo>
                      <a:lnTo>
                        <a:pt x="238" y="137"/>
                      </a:lnTo>
                      <a:lnTo>
                        <a:pt x="264" y="92"/>
                      </a:lnTo>
                      <a:lnTo>
                        <a:pt x="289" y="47"/>
                      </a:lnTo>
                      <a:lnTo>
                        <a:pt x="311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5183640" y="2960640"/>
                  <a:ext cx="32760" cy="49320"/>
                </a:xfrm>
                <a:custGeom>
                  <a:avLst/>
                  <a:gdLst/>
                  <a:ahLst/>
                  <a:rect l="l" t="t" r="r" b="b"/>
                  <a:pathLst>
                    <a:path w="338" h="935">
                      <a:moveTo>
                        <a:pt x="338" y="0"/>
                      </a:moveTo>
                      <a:lnTo>
                        <a:pt x="128" y="771"/>
                      </a:lnTo>
                      <a:lnTo>
                        <a:pt x="99" y="813"/>
                      </a:lnTo>
                      <a:lnTo>
                        <a:pt x="68" y="855"/>
                      </a:lnTo>
                      <a:lnTo>
                        <a:pt x="35" y="896"/>
                      </a:lnTo>
                      <a:lnTo>
                        <a:pt x="0" y="935"/>
                      </a:lnTo>
                      <a:lnTo>
                        <a:pt x="207" y="170"/>
                      </a:lnTo>
                      <a:lnTo>
                        <a:pt x="242" y="128"/>
                      </a:lnTo>
                      <a:lnTo>
                        <a:pt x="275" y="86"/>
                      </a:lnTo>
                      <a:lnTo>
                        <a:pt x="307" y="44"/>
                      </a:lnTo>
                      <a:lnTo>
                        <a:pt x="338" y="0"/>
                      </a:lnTo>
                      <a:close/>
                    </a:path>
                  </a:pathLst>
                </a:custGeom>
                <a:solidFill>
                  <a:srgbClr val="cbe7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5172840" y="2969280"/>
                  <a:ext cx="29880" cy="47520"/>
                </a:xfrm>
                <a:custGeom>
                  <a:avLst/>
                  <a:gdLst/>
                  <a:ahLst/>
                  <a:rect l="l" t="t" r="r" b="b"/>
                  <a:pathLst>
                    <a:path w="318" h="881">
                      <a:moveTo>
                        <a:pt x="318" y="0"/>
                      </a:moveTo>
                      <a:lnTo>
                        <a:pt x="111" y="765"/>
                      </a:lnTo>
                      <a:lnTo>
                        <a:pt x="76" y="805"/>
                      </a:lnTo>
                      <a:lnTo>
                        <a:pt x="39" y="843"/>
                      </a:lnTo>
                      <a:lnTo>
                        <a:pt x="0" y="881"/>
                      </a:lnTo>
                      <a:lnTo>
                        <a:pt x="202" y="117"/>
                      </a:lnTo>
                      <a:lnTo>
                        <a:pt x="243" y="79"/>
                      </a:lnTo>
                      <a:lnTo>
                        <a:pt x="281" y="39"/>
                      </a:lnTo>
                      <a:lnTo>
                        <a:pt x="318" y="0"/>
                      </a:lnTo>
                      <a:close/>
                    </a:path>
                  </a:pathLst>
                </a:custGeom>
                <a:solidFill>
                  <a:srgbClr val="c0e2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5160600" y="2975040"/>
                  <a:ext cx="31680" cy="47520"/>
                </a:xfrm>
                <a:custGeom>
                  <a:avLst/>
                  <a:gdLst/>
                  <a:ahLst/>
                  <a:rect l="l" t="t" r="r" b="b"/>
                  <a:pathLst>
                    <a:path w="330" h="871">
                      <a:moveTo>
                        <a:pt x="330" y="0"/>
                      </a:moveTo>
                      <a:lnTo>
                        <a:pt x="128" y="764"/>
                      </a:lnTo>
                      <a:lnTo>
                        <a:pt x="87" y="800"/>
                      </a:lnTo>
                      <a:lnTo>
                        <a:pt x="45" y="836"/>
                      </a:lnTo>
                      <a:lnTo>
                        <a:pt x="0" y="871"/>
                      </a:lnTo>
                      <a:lnTo>
                        <a:pt x="200" y="111"/>
                      </a:lnTo>
                      <a:lnTo>
                        <a:pt x="245" y="74"/>
                      </a:lnTo>
                      <a:lnTo>
                        <a:pt x="289" y="38"/>
                      </a:lnTo>
                      <a:lnTo>
                        <a:pt x="330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5276880" y="3102480"/>
                  <a:ext cx="31320" cy="47160"/>
                </a:xfrm>
                <a:custGeom>
                  <a:avLst/>
                  <a:gdLst/>
                  <a:ahLst/>
                  <a:rect l="l" t="t" r="r" b="b"/>
                  <a:pathLst>
                    <a:path w="317" h="895">
                      <a:moveTo>
                        <a:pt x="317" y="0"/>
                      </a:moveTo>
                      <a:lnTo>
                        <a:pt x="79" y="703"/>
                      </a:lnTo>
                      <a:lnTo>
                        <a:pt x="42" y="800"/>
                      </a:lnTo>
                      <a:lnTo>
                        <a:pt x="0" y="895"/>
                      </a:lnTo>
                      <a:lnTo>
                        <a:pt x="236" y="197"/>
                      </a:lnTo>
                      <a:lnTo>
                        <a:pt x="279" y="100"/>
                      </a:lnTo>
                      <a:lnTo>
                        <a:pt x="317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5267520" y="3112560"/>
                  <a:ext cx="32760" cy="47520"/>
                </a:xfrm>
                <a:custGeom>
                  <a:avLst/>
                  <a:gdLst/>
                  <a:ahLst/>
                  <a:rect l="l" t="t" r="r" b="b"/>
                  <a:pathLst>
                    <a:path w="334" h="882">
                      <a:moveTo>
                        <a:pt x="334" y="0"/>
                      </a:moveTo>
                      <a:lnTo>
                        <a:pt x="98" y="698"/>
                      </a:lnTo>
                      <a:lnTo>
                        <a:pt x="51" y="791"/>
                      </a:lnTo>
                      <a:lnTo>
                        <a:pt x="0" y="882"/>
                      </a:lnTo>
                      <a:lnTo>
                        <a:pt x="234" y="188"/>
                      </a:lnTo>
                      <a:lnTo>
                        <a:pt x="286" y="96"/>
                      </a:lnTo>
                      <a:lnTo>
                        <a:pt x="334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5256360" y="3122640"/>
                  <a:ext cx="33840" cy="46080"/>
                </a:xfrm>
                <a:custGeom>
                  <a:avLst/>
                  <a:gdLst/>
                  <a:ahLst/>
                  <a:rect l="l" t="t" r="r" b="b"/>
                  <a:pathLst>
                    <a:path w="348" h="869">
                      <a:moveTo>
                        <a:pt x="348" y="0"/>
                      </a:moveTo>
                      <a:lnTo>
                        <a:pt x="114" y="694"/>
                      </a:lnTo>
                      <a:lnTo>
                        <a:pt x="60" y="783"/>
                      </a:lnTo>
                      <a:lnTo>
                        <a:pt x="0" y="869"/>
                      </a:lnTo>
                      <a:lnTo>
                        <a:pt x="230" y="181"/>
                      </a:lnTo>
                      <a:lnTo>
                        <a:pt x="291" y="92"/>
                      </a:lnTo>
                      <a:lnTo>
                        <a:pt x="348" y="0"/>
                      </a:lnTo>
                      <a:close/>
                    </a:path>
                  </a:pathLst>
                </a:custGeom>
                <a:solidFill>
                  <a:srgbClr val="cee9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5244120" y="3133080"/>
                  <a:ext cx="35640" cy="44640"/>
                </a:xfrm>
                <a:custGeom>
                  <a:avLst/>
                  <a:gdLst/>
                  <a:ahLst/>
                  <a:rect l="l" t="t" r="r" b="b"/>
                  <a:pathLst>
                    <a:path w="361" h="854">
                      <a:moveTo>
                        <a:pt x="361" y="0"/>
                      </a:moveTo>
                      <a:lnTo>
                        <a:pt x="131" y="688"/>
                      </a:lnTo>
                      <a:lnTo>
                        <a:pt x="67" y="771"/>
                      </a:lnTo>
                      <a:lnTo>
                        <a:pt x="0" y="854"/>
                      </a:lnTo>
                      <a:lnTo>
                        <a:pt x="226" y="169"/>
                      </a:lnTo>
                      <a:lnTo>
                        <a:pt x="296" y="85"/>
                      </a:lnTo>
                      <a:lnTo>
                        <a:pt x="361" y="0"/>
                      </a:lnTo>
                      <a:close/>
                    </a:path>
                  </a:pathLst>
                </a:custGeom>
                <a:solidFill>
                  <a:srgbClr val="c6e5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5230440" y="3142080"/>
                  <a:ext cx="35640" cy="44640"/>
                </a:xfrm>
                <a:custGeom>
                  <a:avLst/>
                  <a:gdLst/>
                  <a:ahLst/>
                  <a:rect l="l" t="t" r="r" b="b"/>
                  <a:pathLst>
                    <a:path w="371" h="841">
                      <a:moveTo>
                        <a:pt x="371" y="0"/>
                      </a:moveTo>
                      <a:lnTo>
                        <a:pt x="145" y="685"/>
                      </a:lnTo>
                      <a:lnTo>
                        <a:pt x="75" y="764"/>
                      </a:lnTo>
                      <a:lnTo>
                        <a:pt x="0" y="841"/>
                      </a:lnTo>
                      <a:lnTo>
                        <a:pt x="224" y="161"/>
                      </a:lnTo>
                      <a:lnTo>
                        <a:pt x="300" y="82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c0e2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5213880" y="3150000"/>
                  <a:ext cx="36720" cy="44640"/>
                </a:xfrm>
                <a:custGeom>
                  <a:avLst/>
                  <a:gdLst/>
                  <a:ahLst/>
                  <a:rect l="l" t="t" r="r" b="b"/>
                  <a:pathLst>
                    <a:path w="381" h="826">
                      <a:moveTo>
                        <a:pt x="381" y="0"/>
                      </a:moveTo>
                      <a:lnTo>
                        <a:pt x="157" y="680"/>
                      </a:lnTo>
                      <a:lnTo>
                        <a:pt x="80" y="754"/>
                      </a:lnTo>
                      <a:lnTo>
                        <a:pt x="0" y="826"/>
                      </a:lnTo>
                      <a:lnTo>
                        <a:pt x="219" y="150"/>
                      </a:lnTo>
                      <a:lnTo>
                        <a:pt x="301" y="76"/>
                      </a:lnTo>
                      <a:lnTo>
                        <a:pt x="381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5205960" y="3157920"/>
                  <a:ext cx="29880" cy="40320"/>
                </a:xfrm>
                <a:custGeom>
                  <a:avLst/>
                  <a:gdLst/>
                  <a:ahLst/>
                  <a:rect l="l" t="t" r="r" b="b"/>
                  <a:pathLst>
                    <a:path w="301" h="744">
                      <a:moveTo>
                        <a:pt x="301" y="0"/>
                      </a:moveTo>
                      <a:lnTo>
                        <a:pt x="82" y="676"/>
                      </a:lnTo>
                      <a:lnTo>
                        <a:pt x="0" y="744"/>
                      </a:lnTo>
                      <a:lnTo>
                        <a:pt x="216" y="71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5197320" y="3162240"/>
                  <a:ext cx="29880" cy="39600"/>
                </a:xfrm>
                <a:custGeom>
                  <a:avLst/>
                  <a:gdLst/>
                  <a:ahLst/>
                  <a:rect l="l" t="t" r="r" b="b"/>
                  <a:pathLst>
                    <a:path w="301" h="740">
                      <a:moveTo>
                        <a:pt x="301" y="0"/>
                      </a:moveTo>
                      <a:lnTo>
                        <a:pt x="85" y="673"/>
                      </a:lnTo>
                      <a:lnTo>
                        <a:pt x="0" y="740"/>
                      </a:lnTo>
                      <a:lnTo>
                        <a:pt x="213" y="68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b7d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5189400" y="3165840"/>
                  <a:ext cx="29880" cy="39240"/>
                </a:xfrm>
                <a:custGeom>
                  <a:avLst/>
                  <a:gdLst/>
                  <a:ahLst/>
                  <a:rect l="l" t="t" r="r" b="b"/>
                  <a:pathLst>
                    <a:path w="301" h="737">
                      <a:moveTo>
                        <a:pt x="301" y="0"/>
                      </a:moveTo>
                      <a:lnTo>
                        <a:pt x="88" y="672"/>
                      </a:lnTo>
                      <a:lnTo>
                        <a:pt x="0" y="737"/>
                      </a:lnTo>
                      <a:lnTo>
                        <a:pt x="211" y="66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b3dd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5181120" y="3169080"/>
                  <a:ext cx="28800" cy="39240"/>
                </a:xfrm>
                <a:custGeom>
                  <a:avLst/>
                  <a:gdLst/>
                  <a:ahLst/>
                  <a:rect l="l" t="t" r="r" b="b"/>
                  <a:pathLst>
                    <a:path w="300" h="731">
                      <a:moveTo>
                        <a:pt x="300" y="0"/>
                      </a:moveTo>
                      <a:lnTo>
                        <a:pt x="89" y="671"/>
                      </a:lnTo>
                      <a:lnTo>
                        <a:pt x="0" y="731"/>
                      </a:lnTo>
                      <a:lnTo>
                        <a:pt x="208" y="62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afdb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5171400" y="3172320"/>
                  <a:ext cx="29880" cy="39240"/>
                </a:xfrm>
                <a:custGeom>
                  <a:avLst/>
                  <a:gdLst/>
                  <a:ahLst/>
                  <a:rect l="l" t="t" r="r" b="b"/>
                  <a:pathLst>
                    <a:path w="300" h="728">
                      <a:moveTo>
                        <a:pt x="300" y="0"/>
                      </a:moveTo>
                      <a:lnTo>
                        <a:pt x="92" y="669"/>
                      </a:lnTo>
                      <a:lnTo>
                        <a:pt x="0" y="728"/>
                      </a:lnTo>
                      <a:lnTo>
                        <a:pt x="206" y="60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adda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5163120" y="3175560"/>
                  <a:ext cx="28800" cy="38160"/>
                </a:xfrm>
                <a:custGeom>
                  <a:avLst/>
                  <a:gdLst/>
                  <a:ahLst/>
                  <a:rect l="l" t="t" r="r" b="b"/>
                  <a:pathLst>
                    <a:path w="299" h="723">
                      <a:moveTo>
                        <a:pt x="299" y="0"/>
                      </a:moveTo>
                      <a:lnTo>
                        <a:pt x="93" y="668"/>
                      </a:lnTo>
                      <a:lnTo>
                        <a:pt x="0" y="723"/>
                      </a:lnTo>
                      <a:lnTo>
                        <a:pt x="203" y="57"/>
                      </a:lnTo>
                      <a:lnTo>
                        <a:pt x="299" y="0"/>
                      </a:lnTo>
                      <a:close/>
                    </a:path>
                  </a:pathLst>
                </a:custGeom>
                <a:solidFill>
                  <a:srgbClr val="a6d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5153760" y="3179160"/>
                  <a:ext cx="28800" cy="37800"/>
                </a:xfrm>
                <a:custGeom>
                  <a:avLst/>
                  <a:gdLst/>
                  <a:ahLst/>
                  <a:rect l="l" t="t" r="r" b="b"/>
                  <a:pathLst>
                    <a:path w="298" h="720">
                      <a:moveTo>
                        <a:pt x="298" y="0"/>
                      </a:moveTo>
                      <a:lnTo>
                        <a:pt x="95" y="666"/>
                      </a:lnTo>
                      <a:lnTo>
                        <a:pt x="0" y="720"/>
                      </a:lnTo>
                      <a:lnTo>
                        <a:pt x="200" y="54"/>
                      </a:lnTo>
                      <a:lnTo>
                        <a:pt x="298" y="0"/>
                      </a:lnTo>
                      <a:close/>
                    </a:path>
                  </a:pathLst>
                </a:custGeom>
                <a:solidFill>
                  <a:srgbClr val="a6d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5144040" y="3181320"/>
                  <a:ext cx="28800" cy="38160"/>
                </a:xfrm>
                <a:custGeom>
                  <a:avLst/>
                  <a:gdLst/>
                  <a:ahLst/>
                  <a:rect l="l" t="t" r="r" b="b"/>
                  <a:pathLst>
                    <a:path w="297" h="715">
                      <a:moveTo>
                        <a:pt x="297" y="0"/>
                      </a:moveTo>
                      <a:lnTo>
                        <a:pt x="97" y="666"/>
                      </a:lnTo>
                      <a:lnTo>
                        <a:pt x="0" y="715"/>
                      </a:lnTo>
                      <a:lnTo>
                        <a:pt x="198" y="51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a0d4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5134320" y="3184920"/>
                  <a:ext cx="28800" cy="38160"/>
                </a:xfrm>
                <a:custGeom>
                  <a:avLst/>
                  <a:gdLst/>
                  <a:ahLst/>
                  <a:rect l="l" t="t" r="r" b="b"/>
                  <a:pathLst>
                    <a:path w="295" h="711">
                      <a:moveTo>
                        <a:pt x="295" y="0"/>
                      </a:moveTo>
                      <a:lnTo>
                        <a:pt x="97" y="664"/>
                      </a:lnTo>
                      <a:lnTo>
                        <a:pt x="0" y="711"/>
                      </a:lnTo>
                      <a:lnTo>
                        <a:pt x="195" y="49"/>
                      </a:lnTo>
                      <a:lnTo>
                        <a:pt x="295" y="0"/>
                      </a:lnTo>
                      <a:close/>
                    </a:path>
                  </a:pathLst>
                </a:custGeom>
                <a:solidFill>
                  <a:srgbClr val="9ac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5124600" y="3186720"/>
                  <a:ext cx="28800" cy="38160"/>
                </a:xfrm>
                <a:custGeom>
                  <a:avLst/>
                  <a:gdLst/>
                  <a:ahLst/>
                  <a:rect l="l" t="t" r="r" b="b"/>
                  <a:pathLst>
                    <a:path w="292" h="706">
                      <a:moveTo>
                        <a:pt x="292" y="0"/>
                      </a:moveTo>
                      <a:lnTo>
                        <a:pt x="97" y="662"/>
                      </a:lnTo>
                      <a:lnTo>
                        <a:pt x="0" y="706"/>
                      </a:lnTo>
                      <a:lnTo>
                        <a:pt x="191" y="45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solidFill>
                  <a:srgbClr val="98c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5115240" y="318924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291" h="702">
                      <a:moveTo>
                        <a:pt x="291" y="0"/>
                      </a:moveTo>
                      <a:lnTo>
                        <a:pt x="100" y="661"/>
                      </a:lnTo>
                      <a:lnTo>
                        <a:pt x="0" y="702"/>
                      </a:lnTo>
                      <a:lnTo>
                        <a:pt x="189" y="42"/>
                      </a:lnTo>
                      <a:lnTo>
                        <a:pt x="291" y="0"/>
                      </a:lnTo>
                      <a:close/>
                    </a:path>
                  </a:pathLst>
                </a:custGeom>
                <a:solidFill>
                  <a:srgbClr val="9ac9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5096160" y="3191400"/>
                  <a:ext cx="36720" cy="39240"/>
                </a:xfrm>
                <a:custGeom>
                  <a:avLst/>
                  <a:gdLst/>
                  <a:ahLst/>
                  <a:rect l="l" t="t" r="r" b="b"/>
                  <a:pathLst>
                    <a:path w="388" h="732">
                      <a:moveTo>
                        <a:pt x="388" y="0"/>
                      </a:moveTo>
                      <a:lnTo>
                        <a:pt x="199" y="660"/>
                      </a:lnTo>
                      <a:lnTo>
                        <a:pt x="100" y="697"/>
                      </a:lnTo>
                      <a:lnTo>
                        <a:pt x="0" y="732"/>
                      </a:lnTo>
                      <a:lnTo>
                        <a:pt x="183" y="73"/>
                      </a:lnTo>
                      <a:lnTo>
                        <a:pt x="286" y="38"/>
                      </a:lnTo>
                      <a:lnTo>
                        <a:pt x="388" y="0"/>
                      </a:lnTo>
                      <a:close/>
                    </a:path>
                  </a:pathLst>
                </a:custGeom>
                <a:solidFill>
                  <a:srgbClr val="8eb7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5075640" y="3196080"/>
                  <a:ext cx="38160" cy="38160"/>
                </a:xfrm>
                <a:custGeom>
                  <a:avLst/>
                  <a:gdLst/>
                  <a:ahLst/>
                  <a:rect l="l" t="t" r="r" b="b"/>
                  <a:pathLst>
                    <a:path w="385" h="716">
                      <a:moveTo>
                        <a:pt x="385" y="0"/>
                      </a:moveTo>
                      <a:lnTo>
                        <a:pt x="202" y="659"/>
                      </a:lnTo>
                      <a:lnTo>
                        <a:pt x="168" y="669"/>
                      </a:lnTo>
                      <a:lnTo>
                        <a:pt x="134" y="679"/>
                      </a:lnTo>
                      <a:lnTo>
                        <a:pt x="102" y="689"/>
                      </a:lnTo>
                      <a:lnTo>
                        <a:pt x="68" y="698"/>
                      </a:lnTo>
                      <a:lnTo>
                        <a:pt x="34" y="708"/>
                      </a:lnTo>
                      <a:lnTo>
                        <a:pt x="0" y="716"/>
                      </a:lnTo>
                      <a:lnTo>
                        <a:pt x="177" y="60"/>
                      </a:lnTo>
                      <a:lnTo>
                        <a:pt x="212" y="50"/>
                      </a:lnTo>
                      <a:lnTo>
                        <a:pt x="247" y="41"/>
                      </a:lnTo>
                      <a:lnTo>
                        <a:pt x="281" y="32"/>
                      </a:lnTo>
                      <a:lnTo>
                        <a:pt x="316" y="21"/>
                      </a:lnTo>
                      <a:lnTo>
                        <a:pt x="351" y="1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84a8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5056200" y="3199320"/>
                  <a:ext cx="36720" cy="36720"/>
                </a:xfrm>
                <a:custGeom>
                  <a:avLst/>
                  <a:gdLst/>
                  <a:ahLst/>
                  <a:rect l="l" t="t" r="r" b="b"/>
                  <a:pathLst>
                    <a:path w="379" h="702">
                      <a:moveTo>
                        <a:pt x="379" y="0"/>
                      </a:moveTo>
                      <a:lnTo>
                        <a:pt x="202" y="656"/>
                      </a:lnTo>
                      <a:lnTo>
                        <a:pt x="169" y="664"/>
                      </a:lnTo>
                      <a:lnTo>
                        <a:pt x="135" y="673"/>
                      </a:lnTo>
                      <a:lnTo>
                        <a:pt x="102" y="680"/>
                      </a:lnTo>
                      <a:lnTo>
                        <a:pt x="68" y="688"/>
                      </a:lnTo>
                      <a:lnTo>
                        <a:pt x="34" y="694"/>
                      </a:lnTo>
                      <a:lnTo>
                        <a:pt x="0" y="702"/>
                      </a:lnTo>
                      <a:lnTo>
                        <a:pt x="172" y="46"/>
                      </a:lnTo>
                      <a:lnTo>
                        <a:pt x="207" y="39"/>
                      </a:lnTo>
                      <a:lnTo>
                        <a:pt x="241" y="32"/>
                      </a:lnTo>
                      <a:lnTo>
                        <a:pt x="276" y="24"/>
                      </a:lnTo>
                      <a:lnTo>
                        <a:pt x="311" y="17"/>
                      </a:lnTo>
                      <a:lnTo>
                        <a:pt x="346" y="8"/>
                      </a:lnTo>
                      <a:lnTo>
                        <a:pt x="379" y="0"/>
                      </a:lnTo>
                      <a:close/>
                    </a:path>
                  </a:pathLst>
                </a:custGeom>
                <a:solidFill>
                  <a:srgbClr val="7f9e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5036040" y="3201840"/>
                  <a:ext cx="36720" cy="36720"/>
                </a:xfrm>
                <a:custGeom>
                  <a:avLst/>
                  <a:gdLst/>
                  <a:ahLst/>
                  <a:rect l="l" t="t" r="r" b="b"/>
                  <a:pathLst>
                    <a:path w="375" h="689">
                      <a:moveTo>
                        <a:pt x="375" y="0"/>
                      </a:moveTo>
                      <a:lnTo>
                        <a:pt x="203" y="656"/>
                      </a:lnTo>
                      <a:lnTo>
                        <a:pt x="169" y="662"/>
                      </a:lnTo>
                      <a:lnTo>
                        <a:pt x="135" y="668"/>
                      </a:lnTo>
                      <a:lnTo>
                        <a:pt x="102" y="673"/>
                      </a:lnTo>
                      <a:lnTo>
                        <a:pt x="68" y="680"/>
                      </a:lnTo>
                      <a:lnTo>
                        <a:pt x="34" y="685"/>
                      </a:lnTo>
                      <a:lnTo>
                        <a:pt x="0" y="689"/>
                      </a:lnTo>
                      <a:lnTo>
                        <a:pt x="165" y="34"/>
                      </a:lnTo>
                      <a:lnTo>
                        <a:pt x="200" y="30"/>
                      </a:lnTo>
                      <a:lnTo>
                        <a:pt x="236" y="25"/>
                      </a:lnTo>
                      <a:lnTo>
                        <a:pt x="271" y="18"/>
                      </a:lnTo>
                      <a:lnTo>
                        <a:pt x="306" y="13"/>
                      </a:lnTo>
                      <a:lnTo>
                        <a:pt x="340" y="7"/>
                      </a:lnTo>
                      <a:lnTo>
                        <a:pt x="375" y="0"/>
                      </a:lnTo>
                      <a:close/>
                    </a:path>
                  </a:pathLst>
                </a:custGeom>
                <a:solidFill>
                  <a:srgbClr val="778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5015520" y="3202560"/>
                  <a:ext cx="36720" cy="37080"/>
                </a:xfrm>
                <a:custGeom>
                  <a:avLst/>
                  <a:gdLst/>
                  <a:ahLst/>
                  <a:rect l="l" t="t" r="r" b="b"/>
                  <a:pathLst>
                    <a:path w="371" h="677">
                      <a:moveTo>
                        <a:pt x="371" y="0"/>
                      </a:moveTo>
                      <a:lnTo>
                        <a:pt x="206" y="655"/>
                      </a:lnTo>
                      <a:lnTo>
                        <a:pt x="171" y="659"/>
                      </a:lnTo>
                      <a:lnTo>
                        <a:pt x="137" y="663"/>
                      </a:lnTo>
                      <a:lnTo>
                        <a:pt x="103" y="668"/>
                      </a:lnTo>
                      <a:lnTo>
                        <a:pt x="69" y="671"/>
                      </a:lnTo>
                      <a:lnTo>
                        <a:pt x="34" y="674"/>
                      </a:lnTo>
                      <a:lnTo>
                        <a:pt x="0" y="677"/>
                      </a:lnTo>
                      <a:lnTo>
                        <a:pt x="159" y="23"/>
                      </a:lnTo>
                      <a:lnTo>
                        <a:pt x="195" y="20"/>
                      </a:lnTo>
                      <a:lnTo>
                        <a:pt x="231" y="17"/>
                      </a:lnTo>
                      <a:lnTo>
                        <a:pt x="265" y="14"/>
                      </a:lnTo>
                      <a:lnTo>
                        <a:pt x="301" y="9"/>
                      </a:lnTo>
                      <a:lnTo>
                        <a:pt x="336" y="5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7386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4996080" y="3204000"/>
                  <a:ext cx="35640" cy="36000"/>
                </a:xfrm>
                <a:custGeom>
                  <a:avLst/>
                  <a:gdLst/>
                  <a:ahLst/>
                  <a:rect l="l" t="t" r="r" b="b"/>
                  <a:pathLst>
                    <a:path w="368" h="663">
                      <a:moveTo>
                        <a:pt x="368" y="0"/>
                      </a:moveTo>
                      <a:lnTo>
                        <a:pt x="209" y="654"/>
                      </a:lnTo>
                      <a:lnTo>
                        <a:pt x="174" y="656"/>
                      </a:lnTo>
                      <a:lnTo>
                        <a:pt x="139" y="658"/>
                      </a:lnTo>
                      <a:lnTo>
                        <a:pt x="104" y="660"/>
                      </a:lnTo>
                      <a:lnTo>
                        <a:pt x="69" y="661"/>
                      </a:lnTo>
                      <a:lnTo>
                        <a:pt x="35" y="662"/>
                      </a:lnTo>
                      <a:lnTo>
                        <a:pt x="0" y="663"/>
                      </a:lnTo>
                      <a:lnTo>
                        <a:pt x="152" y="9"/>
                      </a:lnTo>
                      <a:lnTo>
                        <a:pt x="189" y="8"/>
                      </a:lnTo>
                      <a:lnTo>
                        <a:pt x="225" y="7"/>
                      </a:lnTo>
                      <a:lnTo>
                        <a:pt x="261" y="6"/>
                      </a:lnTo>
                      <a:lnTo>
                        <a:pt x="297" y="4"/>
                      </a:lnTo>
                      <a:lnTo>
                        <a:pt x="333" y="2"/>
                      </a:lnTo>
                      <a:lnTo>
                        <a:pt x="368" y="0"/>
                      </a:lnTo>
                      <a:close/>
                    </a:path>
                  </a:pathLst>
                </a:custGeom>
                <a:solidFill>
                  <a:srgbClr val="6d7a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4988160" y="3205080"/>
                  <a:ext cx="21600" cy="34920"/>
                </a:xfrm>
                <a:custGeom>
                  <a:avLst/>
                  <a:gdLst/>
                  <a:ahLst/>
                  <a:rect l="l" t="t" r="r" b="b"/>
                  <a:pathLst>
                    <a:path w="223" h="654">
                      <a:moveTo>
                        <a:pt x="223" y="0"/>
                      </a:moveTo>
                      <a:lnTo>
                        <a:pt x="71" y="654"/>
                      </a:lnTo>
                      <a:lnTo>
                        <a:pt x="35" y="654"/>
                      </a:lnTo>
                      <a:lnTo>
                        <a:pt x="0" y="654"/>
                      </a:lnTo>
                      <a:lnTo>
                        <a:pt x="152" y="0"/>
                      </a:lnTo>
                      <a:lnTo>
                        <a:pt x="188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6872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4980960" y="3209760"/>
                  <a:ext cx="20520" cy="44640"/>
                </a:xfrm>
                <a:custGeom>
                  <a:avLst/>
                  <a:gdLst/>
                  <a:ahLst/>
                  <a:rect l="l" t="t" r="r" b="b"/>
                  <a:pathLst>
                    <a:path w="201" h="832">
                      <a:moveTo>
                        <a:pt x="201" y="0"/>
                      </a:moveTo>
                      <a:lnTo>
                        <a:pt x="50" y="652"/>
                      </a:lnTo>
                      <a:lnTo>
                        <a:pt x="27" y="743"/>
                      </a:lnTo>
                      <a:lnTo>
                        <a:pt x="0" y="832"/>
                      </a:lnTo>
                      <a:lnTo>
                        <a:pt x="150" y="185"/>
                      </a:lnTo>
                      <a:lnTo>
                        <a:pt x="177" y="9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4975560" y="3219480"/>
                  <a:ext cx="20160" cy="43920"/>
                </a:xfrm>
                <a:custGeom>
                  <a:avLst/>
                  <a:gdLst/>
                  <a:ahLst/>
                  <a:rect l="l" t="t" r="r" b="b"/>
                  <a:pathLst>
                    <a:path w="210" h="821">
                      <a:moveTo>
                        <a:pt x="210" y="0"/>
                      </a:moveTo>
                      <a:lnTo>
                        <a:pt x="60" y="647"/>
                      </a:lnTo>
                      <a:lnTo>
                        <a:pt x="31" y="735"/>
                      </a:lnTo>
                      <a:lnTo>
                        <a:pt x="0" y="821"/>
                      </a:lnTo>
                      <a:lnTo>
                        <a:pt x="147" y="179"/>
                      </a:lnTo>
                      <a:lnTo>
                        <a:pt x="180" y="90"/>
                      </a:lnTo>
                      <a:lnTo>
                        <a:pt x="210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4968720" y="3229920"/>
                  <a:ext cx="21600" cy="42840"/>
                </a:xfrm>
                <a:custGeom>
                  <a:avLst/>
                  <a:gdLst/>
                  <a:ahLst/>
                  <a:rect l="l" t="t" r="r" b="b"/>
                  <a:pathLst>
                    <a:path w="219" h="810">
                      <a:moveTo>
                        <a:pt x="219" y="0"/>
                      </a:moveTo>
                      <a:lnTo>
                        <a:pt x="72" y="642"/>
                      </a:lnTo>
                      <a:lnTo>
                        <a:pt x="37" y="726"/>
                      </a:lnTo>
                      <a:lnTo>
                        <a:pt x="0" y="810"/>
                      </a:lnTo>
                      <a:lnTo>
                        <a:pt x="146" y="172"/>
                      </a:lnTo>
                      <a:lnTo>
                        <a:pt x="183" y="87"/>
                      </a:lnTo>
                      <a:lnTo>
                        <a:pt x="219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4960440" y="3238920"/>
                  <a:ext cx="21960" cy="42840"/>
                </a:xfrm>
                <a:custGeom>
                  <a:avLst/>
                  <a:gdLst/>
                  <a:ahLst/>
                  <a:rect l="l" t="t" r="r" b="b"/>
                  <a:pathLst>
                    <a:path w="226" h="800">
                      <a:moveTo>
                        <a:pt x="226" y="0"/>
                      </a:moveTo>
                      <a:lnTo>
                        <a:pt x="80" y="638"/>
                      </a:lnTo>
                      <a:lnTo>
                        <a:pt x="41" y="720"/>
                      </a:lnTo>
                      <a:lnTo>
                        <a:pt x="0" y="800"/>
                      </a:lnTo>
                      <a:lnTo>
                        <a:pt x="143" y="167"/>
                      </a:lnTo>
                      <a:lnTo>
                        <a:pt x="185" y="84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4952160" y="3247920"/>
                  <a:ext cx="21600" cy="41400"/>
                </a:xfrm>
                <a:custGeom>
                  <a:avLst/>
                  <a:gdLst/>
                  <a:ahLst/>
                  <a:rect l="l" t="t" r="r" b="b"/>
                  <a:pathLst>
                    <a:path w="233" h="788">
                      <a:moveTo>
                        <a:pt x="233" y="0"/>
                      </a:moveTo>
                      <a:lnTo>
                        <a:pt x="90" y="633"/>
                      </a:lnTo>
                      <a:lnTo>
                        <a:pt x="46" y="711"/>
                      </a:lnTo>
                      <a:lnTo>
                        <a:pt x="0" y="788"/>
                      </a:lnTo>
                      <a:lnTo>
                        <a:pt x="140" y="159"/>
                      </a:lnTo>
                      <a:lnTo>
                        <a:pt x="187" y="80"/>
                      </a:lnTo>
                      <a:lnTo>
                        <a:pt x="233" y="0"/>
                      </a:lnTo>
                      <a:close/>
                    </a:path>
                  </a:pathLst>
                </a:custGeom>
                <a:solidFill>
                  <a:srgbClr val="cee9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4942800" y="3255480"/>
                  <a:ext cx="23040" cy="42840"/>
                </a:xfrm>
                <a:custGeom>
                  <a:avLst/>
                  <a:gdLst/>
                  <a:ahLst/>
                  <a:rect l="l" t="t" r="r" b="b"/>
                  <a:pathLst>
                    <a:path w="240" h="780">
                      <a:moveTo>
                        <a:pt x="240" y="0"/>
                      </a:moveTo>
                      <a:lnTo>
                        <a:pt x="100" y="629"/>
                      </a:lnTo>
                      <a:lnTo>
                        <a:pt x="51" y="705"/>
                      </a:lnTo>
                      <a:lnTo>
                        <a:pt x="0" y="780"/>
                      </a:lnTo>
                      <a:lnTo>
                        <a:pt x="139" y="154"/>
                      </a:lnTo>
                      <a:lnTo>
                        <a:pt x="191" y="78"/>
                      </a:lnTo>
                      <a:lnTo>
                        <a:pt x="240" y="0"/>
                      </a:lnTo>
                      <a:close/>
                    </a:path>
                  </a:pathLst>
                </a:custGeom>
                <a:solidFill>
                  <a:srgbClr val="cee9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4931640" y="3264840"/>
                  <a:ext cx="24480" cy="40320"/>
                </a:xfrm>
                <a:custGeom>
                  <a:avLst/>
                  <a:gdLst/>
                  <a:ahLst/>
                  <a:rect l="l" t="t" r="r" b="b"/>
                  <a:pathLst>
                    <a:path w="247" h="770">
                      <a:moveTo>
                        <a:pt x="247" y="0"/>
                      </a:moveTo>
                      <a:lnTo>
                        <a:pt x="108" y="626"/>
                      </a:lnTo>
                      <a:lnTo>
                        <a:pt x="56" y="698"/>
                      </a:lnTo>
                      <a:lnTo>
                        <a:pt x="0" y="770"/>
                      </a:lnTo>
                      <a:lnTo>
                        <a:pt x="136" y="148"/>
                      </a:lnTo>
                      <a:lnTo>
                        <a:pt x="192" y="75"/>
                      </a:lnTo>
                      <a:lnTo>
                        <a:pt x="247" y="0"/>
                      </a:lnTo>
                      <a:close/>
                    </a:path>
                  </a:pathLst>
                </a:custGeom>
                <a:solidFill>
                  <a:srgbClr val="c6e5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4920480" y="327276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250" h="761">
                      <a:moveTo>
                        <a:pt x="250" y="0"/>
                      </a:moveTo>
                      <a:lnTo>
                        <a:pt x="114" y="622"/>
                      </a:lnTo>
                      <a:lnTo>
                        <a:pt x="58" y="692"/>
                      </a:lnTo>
                      <a:lnTo>
                        <a:pt x="0" y="761"/>
                      </a:lnTo>
                      <a:lnTo>
                        <a:pt x="131" y="143"/>
                      </a:lnTo>
                      <a:lnTo>
                        <a:pt x="191" y="72"/>
                      </a:lnTo>
                      <a:lnTo>
                        <a:pt x="250" y="0"/>
                      </a:lnTo>
                      <a:close/>
                    </a:path>
                  </a:pathLst>
                </a:custGeom>
                <a:solidFill>
                  <a:srgbClr val="c6e5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4908600" y="3280320"/>
                  <a:ext cx="24480" cy="39600"/>
                </a:xfrm>
                <a:custGeom>
                  <a:avLst/>
                  <a:gdLst/>
                  <a:ahLst/>
                  <a:rect l="l" t="t" r="r" b="b"/>
                  <a:pathLst>
                    <a:path w="254" h="750">
                      <a:moveTo>
                        <a:pt x="254" y="0"/>
                      </a:moveTo>
                      <a:lnTo>
                        <a:pt x="123" y="618"/>
                      </a:lnTo>
                      <a:lnTo>
                        <a:pt x="62" y="684"/>
                      </a:lnTo>
                      <a:lnTo>
                        <a:pt x="0" y="750"/>
                      </a:lnTo>
                      <a:lnTo>
                        <a:pt x="128" y="136"/>
                      </a:lnTo>
                      <a:lnTo>
                        <a:pt x="191" y="69"/>
                      </a:lnTo>
                      <a:lnTo>
                        <a:pt x="254" y="0"/>
                      </a:lnTo>
                      <a:close/>
                    </a:path>
                  </a:pathLst>
                </a:custGeom>
                <a:solidFill>
                  <a:srgbClr val="c0e2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4896000" y="328716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259" h="741">
                      <a:moveTo>
                        <a:pt x="259" y="0"/>
                      </a:moveTo>
                      <a:lnTo>
                        <a:pt x="131" y="614"/>
                      </a:lnTo>
                      <a:lnTo>
                        <a:pt x="66" y="678"/>
                      </a:lnTo>
                      <a:lnTo>
                        <a:pt x="0" y="741"/>
                      </a:lnTo>
                      <a:lnTo>
                        <a:pt x="124" y="131"/>
                      </a:lnTo>
                      <a:lnTo>
                        <a:pt x="192" y="66"/>
                      </a:lnTo>
                      <a:lnTo>
                        <a:pt x="259" y="0"/>
                      </a:lnTo>
                      <a:close/>
                    </a:path>
                  </a:pathLst>
                </a:custGeom>
                <a:solidFill>
                  <a:srgbClr val="bde1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4882320" y="3294000"/>
                  <a:ext cx="25920" cy="39600"/>
                </a:xfrm>
                <a:custGeom>
                  <a:avLst/>
                  <a:gdLst/>
                  <a:ahLst/>
                  <a:rect l="l" t="t" r="r" b="b"/>
                  <a:pathLst>
                    <a:path w="261" h="731">
                      <a:moveTo>
                        <a:pt x="261" y="0"/>
                      </a:moveTo>
                      <a:lnTo>
                        <a:pt x="137" y="610"/>
                      </a:lnTo>
                      <a:lnTo>
                        <a:pt x="70" y="671"/>
                      </a:lnTo>
                      <a:lnTo>
                        <a:pt x="0" y="731"/>
                      </a:lnTo>
                      <a:lnTo>
                        <a:pt x="120" y="124"/>
                      </a:lnTo>
                      <a:lnTo>
                        <a:pt x="192" y="62"/>
                      </a:lnTo>
                      <a:lnTo>
                        <a:pt x="261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4868640" y="330084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264" h="722">
                      <a:moveTo>
                        <a:pt x="264" y="0"/>
                      </a:moveTo>
                      <a:lnTo>
                        <a:pt x="144" y="607"/>
                      </a:lnTo>
                      <a:lnTo>
                        <a:pt x="73" y="665"/>
                      </a:lnTo>
                      <a:lnTo>
                        <a:pt x="0" y="722"/>
                      </a:lnTo>
                      <a:lnTo>
                        <a:pt x="116" y="118"/>
                      </a:lnTo>
                      <a:lnTo>
                        <a:pt x="191" y="60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b7d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4853520" y="3307680"/>
                  <a:ext cx="25920" cy="38160"/>
                </a:xfrm>
                <a:custGeom>
                  <a:avLst/>
                  <a:gdLst/>
                  <a:ahLst/>
                  <a:rect l="l" t="t" r="r" b="b"/>
                  <a:pathLst>
                    <a:path w="265" h="715">
                      <a:moveTo>
                        <a:pt x="265" y="0"/>
                      </a:moveTo>
                      <a:lnTo>
                        <a:pt x="149" y="604"/>
                      </a:lnTo>
                      <a:lnTo>
                        <a:pt x="75" y="661"/>
                      </a:lnTo>
                      <a:lnTo>
                        <a:pt x="0" y="715"/>
                      </a:lnTo>
                      <a:lnTo>
                        <a:pt x="111" y="113"/>
                      </a:lnTo>
                      <a:lnTo>
                        <a:pt x="189" y="58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solidFill>
                  <a:srgbClr val="b3dd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4838400" y="3313080"/>
                  <a:ext cx="25920" cy="38160"/>
                </a:xfrm>
                <a:custGeom>
                  <a:avLst/>
                  <a:gdLst/>
                  <a:ahLst/>
                  <a:rect l="l" t="t" r="r" b="b"/>
                  <a:pathLst>
                    <a:path w="266" h="706">
                      <a:moveTo>
                        <a:pt x="266" y="0"/>
                      </a:moveTo>
                      <a:lnTo>
                        <a:pt x="155" y="602"/>
                      </a:lnTo>
                      <a:lnTo>
                        <a:pt x="78" y="654"/>
                      </a:lnTo>
                      <a:lnTo>
                        <a:pt x="0" y="706"/>
                      </a:lnTo>
                      <a:lnTo>
                        <a:pt x="107" y="107"/>
                      </a:lnTo>
                      <a:lnTo>
                        <a:pt x="187" y="54"/>
                      </a:lnTo>
                      <a:lnTo>
                        <a:pt x="266" y="0"/>
                      </a:lnTo>
                      <a:close/>
                    </a:path>
                  </a:pathLst>
                </a:custGeom>
                <a:solidFill>
                  <a:srgbClr val="adda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4822200" y="331884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267" h="698">
                      <a:moveTo>
                        <a:pt x="267" y="0"/>
                      </a:moveTo>
                      <a:lnTo>
                        <a:pt x="160" y="599"/>
                      </a:lnTo>
                      <a:lnTo>
                        <a:pt x="81" y="649"/>
                      </a:lnTo>
                      <a:lnTo>
                        <a:pt x="0" y="698"/>
                      </a:lnTo>
                      <a:lnTo>
                        <a:pt x="102" y="102"/>
                      </a:lnTo>
                      <a:lnTo>
                        <a:pt x="185" y="52"/>
                      </a:lnTo>
                      <a:lnTo>
                        <a:pt x="267" y="0"/>
                      </a:lnTo>
                      <a:close/>
                    </a:path>
                  </a:pathLst>
                </a:custGeom>
                <a:solidFill>
                  <a:srgbClr val="a9d8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4815360" y="3324240"/>
                  <a:ext cx="17640" cy="34920"/>
                </a:xfrm>
                <a:custGeom>
                  <a:avLst/>
                  <a:gdLst/>
                  <a:ahLst/>
                  <a:rect l="l" t="t" r="r" b="b"/>
                  <a:pathLst>
                    <a:path w="184" h="643">
                      <a:moveTo>
                        <a:pt x="184" y="0"/>
                      </a:moveTo>
                      <a:lnTo>
                        <a:pt x="82" y="596"/>
                      </a:lnTo>
                      <a:lnTo>
                        <a:pt x="0" y="643"/>
                      </a:lnTo>
                      <a:lnTo>
                        <a:pt x="100" y="48"/>
                      </a:lnTo>
                      <a:lnTo>
                        <a:pt x="184" y="0"/>
                      </a:lnTo>
                      <a:close/>
                    </a:path>
                  </a:pathLst>
                </a:custGeom>
                <a:solidFill>
                  <a:srgbClr val="a6d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4797360" y="3327840"/>
                  <a:ext cx="27000" cy="36000"/>
                </a:xfrm>
                <a:custGeom>
                  <a:avLst/>
                  <a:gdLst/>
                  <a:ahLst/>
                  <a:rect l="l" t="t" r="r" b="b"/>
                  <a:pathLst>
                    <a:path w="272" h="683">
                      <a:moveTo>
                        <a:pt x="272" y="0"/>
                      </a:moveTo>
                      <a:lnTo>
                        <a:pt x="172" y="595"/>
                      </a:lnTo>
                      <a:lnTo>
                        <a:pt x="144" y="610"/>
                      </a:lnTo>
                      <a:lnTo>
                        <a:pt x="115" y="625"/>
                      </a:lnTo>
                      <a:lnTo>
                        <a:pt x="87" y="639"/>
                      </a:lnTo>
                      <a:lnTo>
                        <a:pt x="58" y="654"/>
                      </a:lnTo>
                      <a:lnTo>
                        <a:pt x="29" y="669"/>
                      </a:lnTo>
                      <a:lnTo>
                        <a:pt x="0" y="683"/>
                      </a:lnTo>
                      <a:lnTo>
                        <a:pt x="96" y="91"/>
                      </a:lnTo>
                      <a:lnTo>
                        <a:pt x="125" y="76"/>
                      </a:lnTo>
                      <a:lnTo>
                        <a:pt x="154" y="61"/>
                      </a:lnTo>
                      <a:lnTo>
                        <a:pt x="184" y="47"/>
                      </a:lnTo>
                      <a:lnTo>
                        <a:pt x="214" y="31"/>
                      </a:lnTo>
                      <a:lnTo>
                        <a:pt x="242" y="16"/>
                      </a:lnTo>
                      <a:lnTo>
                        <a:pt x="272" y="0"/>
                      </a:lnTo>
                      <a:close/>
                    </a:path>
                  </a:pathLst>
                </a:custGeom>
                <a:solidFill>
                  <a:srgbClr val="a0d4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4781160" y="3332160"/>
                  <a:ext cx="25560" cy="36000"/>
                </a:xfrm>
                <a:custGeom>
                  <a:avLst/>
                  <a:gdLst/>
                  <a:ahLst/>
                  <a:rect l="l" t="t" r="r" b="b"/>
                  <a:pathLst>
                    <a:path w="270" h="674">
                      <a:moveTo>
                        <a:pt x="270" y="0"/>
                      </a:moveTo>
                      <a:lnTo>
                        <a:pt x="174" y="592"/>
                      </a:lnTo>
                      <a:lnTo>
                        <a:pt x="146" y="606"/>
                      </a:lnTo>
                      <a:lnTo>
                        <a:pt x="116" y="620"/>
                      </a:lnTo>
                      <a:lnTo>
                        <a:pt x="87" y="634"/>
                      </a:lnTo>
                      <a:lnTo>
                        <a:pt x="59" y="647"/>
                      </a:lnTo>
                      <a:lnTo>
                        <a:pt x="29" y="661"/>
                      </a:lnTo>
                      <a:lnTo>
                        <a:pt x="0" y="674"/>
                      </a:lnTo>
                      <a:lnTo>
                        <a:pt x="90" y="85"/>
                      </a:lnTo>
                      <a:lnTo>
                        <a:pt x="120" y="70"/>
                      </a:lnTo>
                      <a:lnTo>
                        <a:pt x="150" y="57"/>
                      </a:lnTo>
                      <a:lnTo>
                        <a:pt x="180" y="43"/>
                      </a:lnTo>
                      <a:lnTo>
                        <a:pt x="210" y="29"/>
                      </a:lnTo>
                      <a:lnTo>
                        <a:pt x="240" y="14"/>
                      </a:lnTo>
                      <a:lnTo>
                        <a:pt x="270" y="0"/>
                      </a:lnTo>
                      <a:close/>
                    </a:path>
                  </a:pathLst>
                </a:custGeom>
                <a:solidFill>
                  <a:srgbClr val="9ac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4768560" y="3336840"/>
                  <a:ext cx="20160" cy="34920"/>
                </a:xfrm>
                <a:custGeom>
                  <a:avLst/>
                  <a:gdLst/>
                  <a:ahLst/>
                  <a:rect l="l" t="t" r="r" b="b"/>
                  <a:pathLst>
                    <a:path w="208" h="643">
                      <a:moveTo>
                        <a:pt x="208" y="0"/>
                      </a:moveTo>
                      <a:lnTo>
                        <a:pt x="118" y="589"/>
                      </a:lnTo>
                      <a:lnTo>
                        <a:pt x="88" y="603"/>
                      </a:lnTo>
                      <a:lnTo>
                        <a:pt x="60" y="617"/>
                      </a:lnTo>
                      <a:lnTo>
                        <a:pt x="30" y="630"/>
                      </a:lnTo>
                      <a:lnTo>
                        <a:pt x="0" y="643"/>
                      </a:lnTo>
                      <a:lnTo>
                        <a:pt x="86" y="54"/>
                      </a:lnTo>
                      <a:lnTo>
                        <a:pt x="117" y="41"/>
                      </a:lnTo>
                      <a:lnTo>
                        <a:pt x="148" y="27"/>
                      </a:lnTo>
                      <a:lnTo>
                        <a:pt x="178" y="14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98c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4749480" y="3339360"/>
                  <a:ext cx="28800" cy="36000"/>
                </a:xfrm>
                <a:custGeom>
                  <a:avLst/>
                  <a:gdLst/>
                  <a:ahLst/>
                  <a:rect l="l" t="t" r="r" b="b"/>
                  <a:pathLst>
                    <a:path w="284" h="662">
                      <a:moveTo>
                        <a:pt x="284" y="0"/>
                      </a:moveTo>
                      <a:lnTo>
                        <a:pt x="198" y="589"/>
                      </a:lnTo>
                      <a:lnTo>
                        <a:pt x="132" y="615"/>
                      </a:lnTo>
                      <a:lnTo>
                        <a:pt x="66" y="639"/>
                      </a:lnTo>
                      <a:lnTo>
                        <a:pt x="0" y="662"/>
                      </a:lnTo>
                      <a:lnTo>
                        <a:pt x="80" y="76"/>
                      </a:lnTo>
                      <a:lnTo>
                        <a:pt x="149" y="52"/>
                      </a:lnTo>
                      <a:lnTo>
                        <a:pt x="217" y="26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91bb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4730040" y="3343680"/>
                  <a:ext cx="27360" cy="34920"/>
                </a:xfrm>
                <a:custGeom>
                  <a:avLst/>
                  <a:gdLst/>
                  <a:ahLst/>
                  <a:rect l="l" t="t" r="r" b="b"/>
                  <a:pathLst>
                    <a:path w="277" h="653">
                      <a:moveTo>
                        <a:pt x="277" y="0"/>
                      </a:moveTo>
                      <a:lnTo>
                        <a:pt x="197" y="586"/>
                      </a:lnTo>
                      <a:lnTo>
                        <a:pt x="132" y="609"/>
                      </a:lnTo>
                      <a:lnTo>
                        <a:pt x="66" y="631"/>
                      </a:lnTo>
                      <a:lnTo>
                        <a:pt x="0" y="653"/>
                      </a:lnTo>
                      <a:lnTo>
                        <a:pt x="75" y="68"/>
                      </a:lnTo>
                      <a:lnTo>
                        <a:pt x="142" y="46"/>
                      </a:lnTo>
                      <a:lnTo>
                        <a:pt x="210" y="24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8bb2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4711320" y="3347280"/>
                  <a:ext cx="27000" cy="34560"/>
                </a:xfrm>
                <a:custGeom>
                  <a:avLst/>
                  <a:gdLst/>
                  <a:ahLst/>
                  <a:rect l="l" t="t" r="r" b="b"/>
                  <a:pathLst>
                    <a:path w="272" h="642">
                      <a:moveTo>
                        <a:pt x="272" y="0"/>
                      </a:moveTo>
                      <a:lnTo>
                        <a:pt x="197" y="585"/>
                      </a:lnTo>
                      <a:lnTo>
                        <a:pt x="132" y="605"/>
                      </a:lnTo>
                      <a:lnTo>
                        <a:pt x="66" y="624"/>
                      </a:lnTo>
                      <a:lnTo>
                        <a:pt x="0" y="642"/>
                      </a:lnTo>
                      <a:lnTo>
                        <a:pt x="69" y="59"/>
                      </a:lnTo>
                      <a:lnTo>
                        <a:pt x="137" y="40"/>
                      </a:lnTo>
                      <a:lnTo>
                        <a:pt x="205" y="21"/>
                      </a:lnTo>
                      <a:lnTo>
                        <a:pt x="272" y="0"/>
                      </a:lnTo>
                      <a:close/>
                    </a:path>
                  </a:pathLst>
                </a:custGeom>
                <a:solidFill>
                  <a:srgbClr val="84a8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4691880" y="3350520"/>
                  <a:ext cx="25920" cy="33480"/>
                </a:xfrm>
                <a:custGeom>
                  <a:avLst/>
                  <a:gdLst/>
                  <a:ahLst/>
                  <a:rect l="l" t="t" r="r" b="b"/>
                  <a:pathLst>
                    <a:path w="265" h="633">
                      <a:moveTo>
                        <a:pt x="265" y="0"/>
                      </a:moveTo>
                      <a:lnTo>
                        <a:pt x="196" y="583"/>
                      </a:lnTo>
                      <a:lnTo>
                        <a:pt x="131" y="601"/>
                      </a:lnTo>
                      <a:lnTo>
                        <a:pt x="65" y="618"/>
                      </a:lnTo>
                      <a:lnTo>
                        <a:pt x="0" y="633"/>
                      </a:lnTo>
                      <a:lnTo>
                        <a:pt x="63" y="51"/>
                      </a:lnTo>
                      <a:lnTo>
                        <a:pt x="131" y="36"/>
                      </a:lnTo>
                      <a:lnTo>
                        <a:pt x="199" y="18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solidFill>
                  <a:srgbClr val="83a3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4672440" y="3353760"/>
                  <a:ext cx="25920" cy="32400"/>
                </a:xfrm>
                <a:custGeom>
                  <a:avLst/>
                  <a:gdLst/>
                  <a:ahLst/>
                  <a:rect l="l" t="t" r="r" b="b"/>
                  <a:pathLst>
                    <a:path w="260" h="625">
                      <a:moveTo>
                        <a:pt x="260" y="0"/>
                      </a:moveTo>
                      <a:lnTo>
                        <a:pt x="197" y="582"/>
                      </a:lnTo>
                      <a:lnTo>
                        <a:pt x="131" y="597"/>
                      </a:lnTo>
                      <a:lnTo>
                        <a:pt x="65" y="612"/>
                      </a:lnTo>
                      <a:lnTo>
                        <a:pt x="0" y="625"/>
                      </a:lnTo>
                      <a:lnTo>
                        <a:pt x="57" y="44"/>
                      </a:lnTo>
                      <a:lnTo>
                        <a:pt x="125" y="30"/>
                      </a:lnTo>
                      <a:lnTo>
                        <a:pt x="192" y="16"/>
                      </a:lnTo>
                      <a:lnTo>
                        <a:pt x="260" y="0"/>
                      </a:lnTo>
                      <a:close/>
                    </a:path>
                  </a:pathLst>
                </a:custGeom>
                <a:solidFill>
                  <a:srgbClr val="7d9a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4653720" y="3355920"/>
                  <a:ext cx="24480" cy="32400"/>
                </a:xfrm>
                <a:custGeom>
                  <a:avLst/>
                  <a:gdLst/>
                  <a:ahLst/>
                  <a:rect l="l" t="t" r="r" b="b"/>
                  <a:pathLst>
                    <a:path w="256" h="615">
                      <a:moveTo>
                        <a:pt x="256" y="0"/>
                      </a:moveTo>
                      <a:lnTo>
                        <a:pt x="199" y="581"/>
                      </a:lnTo>
                      <a:lnTo>
                        <a:pt x="132" y="593"/>
                      </a:lnTo>
                      <a:lnTo>
                        <a:pt x="66" y="604"/>
                      </a:lnTo>
                      <a:lnTo>
                        <a:pt x="0" y="615"/>
                      </a:lnTo>
                      <a:lnTo>
                        <a:pt x="51" y="35"/>
                      </a:lnTo>
                      <a:lnTo>
                        <a:pt x="120" y="24"/>
                      </a:lnTo>
                      <a:lnTo>
                        <a:pt x="187" y="12"/>
                      </a:lnTo>
                      <a:lnTo>
                        <a:pt x="256" y="0"/>
                      </a:lnTo>
                      <a:close/>
                    </a:path>
                  </a:pathLst>
                </a:custGeom>
                <a:solidFill>
                  <a:srgbClr val="799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4634280" y="3357000"/>
                  <a:ext cx="24480" cy="32400"/>
                </a:xfrm>
                <a:custGeom>
                  <a:avLst/>
                  <a:gdLst/>
                  <a:ahLst/>
                  <a:rect l="l" t="t" r="r" b="b"/>
                  <a:pathLst>
                    <a:path w="251" h="607">
                      <a:moveTo>
                        <a:pt x="251" y="0"/>
                      </a:moveTo>
                      <a:lnTo>
                        <a:pt x="200" y="580"/>
                      </a:lnTo>
                      <a:lnTo>
                        <a:pt x="133" y="590"/>
                      </a:lnTo>
                      <a:lnTo>
                        <a:pt x="66" y="599"/>
                      </a:lnTo>
                      <a:lnTo>
                        <a:pt x="0" y="607"/>
                      </a:lnTo>
                      <a:lnTo>
                        <a:pt x="45" y="27"/>
                      </a:lnTo>
                      <a:lnTo>
                        <a:pt x="114" y="19"/>
                      </a:lnTo>
                      <a:lnTo>
                        <a:pt x="182" y="10"/>
                      </a:lnTo>
                      <a:lnTo>
                        <a:pt x="251" y="0"/>
                      </a:lnTo>
                      <a:close/>
                    </a:path>
                  </a:pathLst>
                </a:custGeom>
                <a:solidFill>
                  <a:srgbClr val="758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4613760" y="3359520"/>
                  <a:ext cx="24480" cy="31680"/>
                </a:xfrm>
                <a:custGeom>
                  <a:avLst/>
                  <a:gdLst/>
                  <a:ahLst/>
                  <a:rect l="l" t="t" r="r" b="b"/>
                  <a:pathLst>
                    <a:path w="248" h="599">
                      <a:moveTo>
                        <a:pt x="248" y="0"/>
                      </a:moveTo>
                      <a:lnTo>
                        <a:pt x="203" y="580"/>
                      </a:lnTo>
                      <a:lnTo>
                        <a:pt x="135" y="588"/>
                      </a:lnTo>
                      <a:lnTo>
                        <a:pt x="67" y="594"/>
                      </a:lnTo>
                      <a:lnTo>
                        <a:pt x="0" y="599"/>
                      </a:lnTo>
                      <a:lnTo>
                        <a:pt x="39" y="20"/>
                      </a:lnTo>
                      <a:lnTo>
                        <a:pt x="108" y="15"/>
                      </a:lnTo>
                      <a:lnTo>
                        <a:pt x="178" y="8"/>
                      </a:lnTo>
                      <a:lnTo>
                        <a:pt x="248" y="0"/>
                      </a:lnTo>
                      <a:close/>
                    </a:path>
                  </a:pathLst>
                </a:custGeom>
                <a:solidFill>
                  <a:srgbClr val="7386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4593240" y="3360600"/>
                  <a:ext cx="24480" cy="31320"/>
                </a:xfrm>
                <a:custGeom>
                  <a:avLst/>
                  <a:gdLst/>
                  <a:ahLst/>
                  <a:rect l="l" t="t" r="r" b="b"/>
                  <a:pathLst>
                    <a:path w="245" h="592">
                      <a:moveTo>
                        <a:pt x="245" y="0"/>
                      </a:moveTo>
                      <a:lnTo>
                        <a:pt x="206" y="579"/>
                      </a:lnTo>
                      <a:lnTo>
                        <a:pt x="137" y="585"/>
                      </a:lnTo>
                      <a:lnTo>
                        <a:pt x="68" y="589"/>
                      </a:lnTo>
                      <a:lnTo>
                        <a:pt x="0" y="592"/>
                      </a:lnTo>
                      <a:lnTo>
                        <a:pt x="32" y="13"/>
                      </a:lnTo>
                      <a:lnTo>
                        <a:pt x="104" y="10"/>
                      </a:lnTo>
                      <a:lnTo>
                        <a:pt x="174" y="5"/>
                      </a:lnTo>
                      <a:lnTo>
                        <a:pt x="245" y="0"/>
                      </a:lnTo>
                      <a:close/>
                    </a:path>
                  </a:pathLst>
                </a:custGeom>
                <a:solidFill>
                  <a:srgbClr val="6f7f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4572720" y="3360600"/>
                  <a:ext cx="24840" cy="31320"/>
                </a:xfrm>
                <a:custGeom>
                  <a:avLst/>
                  <a:gdLst/>
                  <a:ahLst/>
                  <a:rect l="l" t="t" r="r" b="b"/>
                  <a:pathLst>
                    <a:path w="243" h="584">
                      <a:moveTo>
                        <a:pt x="243" y="0"/>
                      </a:moveTo>
                      <a:lnTo>
                        <a:pt x="211" y="579"/>
                      </a:lnTo>
                      <a:lnTo>
                        <a:pt x="141" y="581"/>
                      </a:lnTo>
                      <a:lnTo>
                        <a:pt x="71" y="583"/>
                      </a:lnTo>
                      <a:lnTo>
                        <a:pt x="0" y="584"/>
                      </a:lnTo>
                      <a:lnTo>
                        <a:pt x="28" y="5"/>
                      </a:lnTo>
                      <a:lnTo>
                        <a:pt x="100" y="5"/>
                      </a:lnTo>
                      <a:lnTo>
                        <a:pt x="172" y="3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6b78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4559040" y="3360600"/>
                  <a:ext cx="16200" cy="31320"/>
                </a:xfrm>
                <a:custGeom>
                  <a:avLst/>
                  <a:gdLst/>
                  <a:ahLst/>
                  <a:rect l="l" t="t" r="r" b="b"/>
                  <a:pathLst>
                    <a:path w="169" h="579">
                      <a:moveTo>
                        <a:pt x="169" y="0"/>
                      </a:moveTo>
                      <a:lnTo>
                        <a:pt x="141" y="579"/>
                      </a:lnTo>
                      <a:lnTo>
                        <a:pt x="71" y="579"/>
                      </a:lnTo>
                      <a:lnTo>
                        <a:pt x="0" y="578"/>
                      </a:lnTo>
                      <a:lnTo>
                        <a:pt x="22" y="0"/>
                      </a:lnTo>
                      <a:lnTo>
                        <a:pt x="96" y="1"/>
                      </a:lnTo>
                      <a:lnTo>
                        <a:pt x="169" y="0"/>
                      </a:lnTo>
                      <a:close/>
                    </a:path>
                  </a:pathLst>
                </a:custGeom>
                <a:solidFill>
                  <a:srgbClr val="6671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4520520" y="3359520"/>
                  <a:ext cx="40680" cy="32400"/>
                </a:xfrm>
                <a:custGeom>
                  <a:avLst/>
                  <a:gdLst/>
                  <a:ahLst/>
                  <a:rect l="l" t="t" r="r" b="b"/>
                  <a:pathLst>
                    <a:path w="412" h="607">
                      <a:moveTo>
                        <a:pt x="412" y="29"/>
                      </a:moveTo>
                      <a:lnTo>
                        <a:pt x="390" y="607"/>
                      </a:lnTo>
                      <a:lnTo>
                        <a:pt x="0" y="579"/>
                      </a:lnTo>
                      <a:lnTo>
                        <a:pt x="11" y="0"/>
                      </a:lnTo>
                      <a:lnTo>
                        <a:pt x="412" y="29"/>
                      </a:lnTo>
                      <a:close/>
                    </a:path>
                  </a:pathLst>
                </a:custGeom>
                <a:solidFill>
                  <a:srgbClr val="5c63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4501440" y="3358440"/>
                  <a:ext cx="20160" cy="32400"/>
                </a:xfrm>
                <a:custGeom>
                  <a:avLst/>
                  <a:gdLst/>
                  <a:ahLst/>
                  <a:rect l="l" t="t" r="r" b="b"/>
                  <a:pathLst>
                    <a:path w="208" h="609">
                      <a:moveTo>
                        <a:pt x="208" y="30"/>
                      </a:moveTo>
                      <a:lnTo>
                        <a:pt x="197" y="609"/>
                      </a:lnTo>
                      <a:lnTo>
                        <a:pt x="99" y="595"/>
                      </a:lnTo>
                      <a:lnTo>
                        <a:pt x="0" y="581"/>
                      </a:lnTo>
                      <a:lnTo>
                        <a:pt x="6" y="0"/>
                      </a:lnTo>
                      <a:lnTo>
                        <a:pt x="107" y="16"/>
                      </a:lnTo>
                      <a:lnTo>
                        <a:pt x="208" y="30"/>
                      </a:lnTo>
                      <a:close/>
                    </a:path>
                  </a:pathLst>
                </a:custGeom>
                <a:solidFill>
                  <a:srgbClr val="5052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4482000" y="3355920"/>
                  <a:ext cx="20160" cy="32400"/>
                </a:xfrm>
                <a:custGeom>
                  <a:avLst/>
                  <a:gdLst/>
                  <a:ahLst/>
                  <a:rect l="l" t="t" r="r" b="b"/>
                  <a:pathLst>
                    <a:path w="202" h="618">
                      <a:moveTo>
                        <a:pt x="202" y="37"/>
                      </a:moveTo>
                      <a:lnTo>
                        <a:pt x="196" y="618"/>
                      </a:lnTo>
                      <a:lnTo>
                        <a:pt x="99" y="600"/>
                      </a:lnTo>
                      <a:lnTo>
                        <a:pt x="0" y="581"/>
                      </a:lnTo>
                      <a:lnTo>
                        <a:pt x="0" y="0"/>
                      </a:lnTo>
                      <a:lnTo>
                        <a:pt x="101" y="19"/>
                      </a:lnTo>
                      <a:lnTo>
                        <a:pt x="202" y="37"/>
                      </a:lnTo>
                      <a:close/>
                    </a:path>
                  </a:pathLst>
                </a:custGeom>
                <a:solidFill>
                  <a:srgbClr val="4949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4463280" y="3353760"/>
                  <a:ext cx="18720" cy="33480"/>
                </a:xfrm>
                <a:custGeom>
                  <a:avLst/>
                  <a:gdLst/>
                  <a:ahLst/>
                  <a:rect l="l" t="t" r="r" b="b"/>
                  <a:pathLst>
                    <a:path w="201" h="626">
                      <a:moveTo>
                        <a:pt x="201" y="45"/>
                      </a:moveTo>
                      <a:lnTo>
                        <a:pt x="201" y="626"/>
                      </a:lnTo>
                      <a:lnTo>
                        <a:pt x="104" y="605"/>
                      </a:lnTo>
                      <a:lnTo>
                        <a:pt x="8" y="584"/>
                      </a:lnTo>
                      <a:lnTo>
                        <a:pt x="0" y="0"/>
                      </a:lnTo>
                      <a:lnTo>
                        <a:pt x="101" y="24"/>
                      </a:lnTo>
                      <a:lnTo>
                        <a:pt x="201" y="45"/>
                      </a:lnTo>
                      <a:close/>
                    </a:path>
                  </a:pathLst>
                </a:custGeom>
                <a:solidFill>
                  <a:srgbClr val="414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4443840" y="3350520"/>
                  <a:ext cx="19080" cy="34920"/>
                </a:xfrm>
                <a:custGeom>
                  <a:avLst/>
                  <a:gdLst/>
                  <a:ahLst/>
                  <a:rect l="l" t="t" r="r" b="b"/>
                  <a:pathLst>
                    <a:path w="206" h="635">
                      <a:moveTo>
                        <a:pt x="198" y="51"/>
                      </a:moveTo>
                      <a:lnTo>
                        <a:pt x="206" y="635"/>
                      </a:lnTo>
                      <a:lnTo>
                        <a:pt x="108" y="610"/>
                      </a:lnTo>
                      <a:lnTo>
                        <a:pt x="13" y="584"/>
                      </a:lnTo>
                      <a:lnTo>
                        <a:pt x="0" y="0"/>
                      </a:lnTo>
                      <a:lnTo>
                        <a:pt x="99" y="26"/>
                      </a:lnTo>
                      <a:lnTo>
                        <a:pt x="198" y="51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4424760" y="3347280"/>
                  <a:ext cx="20160" cy="34560"/>
                </a:xfrm>
                <a:custGeom>
                  <a:avLst/>
                  <a:gdLst/>
                  <a:ahLst/>
                  <a:rect l="l" t="t" r="r" b="b"/>
                  <a:pathLst>
                    <a:path w="207" h="644">
                      <a:moveTo>
                        <a:pt x="194" y="60"/>
                      </a:moveTo>
                      <a:lnTo>
                        <a:pt x="207" y="644"/>
                      </a:lnTo>
                      <a:lnTo>
                        <a:pt x="111" y="615"/>
                      </a:lnTo>
                      <a:lnTo>
                        <a:pt x="17" y="586"/>
                      </a:lnTo>
                      <a:lnTo>
                        <a:pt x="0" y="0"/>
                      </a:lnTo>
                      <a:lnTo>
                        <a:pt x="97" y="31"/>
                      </a:lnTo>
                      <a:lnTo>
                        <a:pt x="194" y="60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4405320" y="3343680"/>
                  <a:ext cx="20520" cy="34920"/>
                </a:xfrm>
                <a:custGeom>
                  <a:avLst/>
                  <a:gdLst/>
                  <a:ahLst/>
                  <a:rect l="l" t="t" r="r" b="b"/>
                  <a:pathLst>
                    <a:path w="210" h="654">
                      <a:moveTo>
                        <a:pt x="193" y="68"/>
                      </a:moveTo>
                      <a:lnTo>
                        <a:pt x="210" y="654"/>
                      </a:lnTo>
                      <a:lnTo>
                        <a:pt x="117" y="622"/>
                      </a:lnTo>
                      <a:lnTo>
                        <a:pt x="23" y="588"/>
                      </a:lnTo>
                      <a:lnTo>
                        <a:pt x="0" y="0"/>
                      </a:lnTo>
                      <a:lnTo>
                        <a:pt x="96" y="36"/>
                      </a:lnTo>
                      <a:lnTo>
                        <a:pt x="193" y="68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4387680" y="3340080"/>
                  <a:ext cx="20160" cy="34920"/>
                </a:xfrm>
                <a:custGeom>
                  <a:avLst/>
                  <a:gdLst/>
                  <a:ahLst/>
                  <a:rect l="l" t="t" r="r" b="b"/>
                  <a:pathLst>
                    <a:path w="211" h="664">
                      <a:moveTo>
                        <a:pt x="188" y="76"/>
                      </a:moveTo>
                      <a:lnTo>
                        <a:pt x="211" y="664"/>
                      </a:lnTo>
                      <a:lnTo>
                        <a:pt x="120" y="628"/>
                      </a:lnTo>
                      <a:lnTo>
                        <a:pt x="29" y="590"/>
                      </a:lnTo>
                      <a:lnTo>
                        <a:pt x="0" y="0"/>
                      </a:lnTo>
                      <a:lnTo>
                        <a:pt x="94" y="40"/>
                      </a:lnTo>
                      <a:lnTo>
                        <a:pt x="188" y="76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4370040" y="3335760"/>
                  <a:ext cx="20160" cy="36000"/>
                </a:xfrm>
                <a:custGeom>
                  <a:avLst/>
                  <a:gdLst/>
                  <a:ahLst/>
                  <a:rect l="l" t="t" r="r" b="b"/>
                  <a:pathLst>
                    <a:path w="212" h="674">
                      <a:moveTo>
                        <a:pt x="183" y="84"/>
                      </a:moveTo>
                      <a:lnTo>
                        <a:pt x="212" y="674"/>
                      </a:lnTo>
                      <a:lnTo>
                        <a:pt x="123" y="634"/>
                      </a:lnTo>
                      <a:lnTo>
                        <a:pt x="33" y="591"/>
                      </a:lnTo>
                      <a:lnTo>
                        <a:pt x="0" y="0"/>
                      </a:lnTo>
                      <a:lnTo>
                        <a:pt x="91" y="43"/>
                      </a:lnTo>
                      <a:lnTo>
                        <a:pt x="183" y="84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4352040" y="3330000"/>
                  <a:ext cx="20520" cy="37080"/>
                </a:xfrm>
                <a:custGeom>
                  <a:avLst/>
                  <a:gdLst/>
                  <a:ahLst/>
                  <a:rect l="l" t="t" r="r" b="b"/>
                  <a:pathLst>
                    <a:path w="212" h="686">
                      <a:moveTo>
                        <a:pt x="179" y="95"/>
                      </a:moveTo>
                      <a:lnTo>
                        <a:pt x="212" y="686"/>
                      </a:lnTo>
                      <a:lnTo>
                        <a:pt x="125" y="642"/>
                      </a:lnTo>
                      <a:lnTo>
                        <a:pt x="39" y="595"/>
                      </a:lnTo>
                      <a:lnTo>
                        <a:pt x="0" y="0"/>
                      </a:lnTo>
                      <a:lnTo>
                        <a:pt x="89" y="48"/>
                      </a:lnTo>
                      <a:lnTo>
                        <a:pt x="179" y="95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4335480" y="3324240"/>
                  <a:ext cx="20520" cy="37080"/>
                </a:xfrm>
                <a:custGeom>
                  <a:avLst/>
                  <a:gdLst/>
                  <a:ahLst/>
                  <a:rect l="l" t="t" r="r" b="b"/>
                  <a:pathLst>
                    <a:path w="211" h="698">
                      <a:moveTo>
                        <a:pt x="172" y="103"/>
                      </a:moveTo>
                      <a:lnTo>
                        <a:pt x="211" y="698"/>
                      </a:lnTo>
                      <a:lnTo>
                        <a:pt x="127" y="649"/>
                      </a:lnTo>
                      <a:lnTo>
                        <a:pt x="44" y="598"/>
                      </a:lnTo>
                      <a:lnTo>
                        <a:pt x="0" y="0"/>
                      </a:lnTo>
                      <a:lnTo>
                        <a:pt x="86" y="53"/>
                      </a:lnTo>
                      <a:lnTo>
                        <a:pt x="172" y="10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4319280" y="3318840"/>
                  <a:ext cx="20160" cy="38160"/>
                </a:xfrm>
                <a:custGeom>
                  <a:avLst/>
                  <a:gdLst/>
                  <a:ahLst/>
                  <a:rect l="l" t="t" r="r" b="b"/>
                  <a:pathLst>
                    <a:path w="210" h="710">
                      <a:moveTo>
                        <a:pt x="166" y="112"/>
                      </a:moveTo>
                      <a:lnTo>
                        <a:pt x="210" y="710"/>
                      </a:lnTo>
                      <a:lnTo>
                        <a:pt x="129" y="656"/>
                      </a:lnTo>
                      <a:lnTo>
                        <a:pt x="49" y="599"/>
                      </a:lnTo>
                      <a:lnTo>
                        <a:pt x="0" y="0"/>
                      </a:lnTo>
                      <a:lnTo>
                        <a:pt x="82" y="57"/>
                      </a:lnTo>
                      <a:lnTo>
                        <a:pt x="166" y="112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4302720" y="3312000"/>
                  <a:ext cx="20160" cy="38160"/>
                </a:xfrm>
                <a:custGeom>
                  <a:avLst/>
                  <a:gdLst/>
                  <a:ahLst/>
                  <a:rect l="l" t="t" r="r" b="b"/>
                  <a:pathLst>
                    <a:path w="208" h="722">
                      <a:moveTo>
                        <a:pt x="159" y="123"/>
                      </a:moveTo>
                      <a:lnTo>
                        <a:pt x="208" y="722"/>
                      </a:lnTo>
                      <a:lnTo>
                        <a:pt x="130" y="664"/>
                      </a:lnTo>
                      <a:lnTo>
                        <a:pt x="53" y="604"/>
                      </a:lnTo>
                      <a:lnTo>
                        <a:pt x="0" y="0"/>
                      </a:lnTo>
                      <a:lnTo>
                        <a:pt x="79" y="62"/>
                      </a:lnTo>
                      <a:lnTo>
                        <a:pt x="159" y="12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4289040" y="3305160"/>
                  <a:ext cx="18720" cy="39600"/>
                </a:xfrm>
                <a:custGeom>
                  <a:avLst/>
                  <a:gdLst/>
                  <a:ahLst/>
                  <a:rect l="l" t="t" r="r" b="b"/>
                  <a:pathLst>
                    <a:path w="205" h="737">
                      <a:moveTo>
                        <a:pt x="152" y="133"/>
                      </a:moveTo>
                      <a:lnTo>
                        <a:pt x="205" y="737"/>
                      </a:lnTo>
                      <a:lnTo>
                        <a:pt x="130" y="673"/>
                      </a:lnTo>
                      <a:lnTo>
                        <a:pt x="57" y="608"/>
                      </a:lnTo>
                      <a:lnTo>
                        <a:pt x="0" y="0"/>
                      </a:lnTo>
                      <a:lnTo>
                        <a:pt x="75" y="68"/>
                      </a:lnTo>
                      <a:lnTo>
                        <a:pt x="152" y="13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4273920" y="3297600"/>
                  <a:ext cx="20160" cy="40320"/>
                </a:xfrm>
                <a:custGeom>
                  <a:avLst/>
                  <a:gdLst/>
                  <a:ahLst/>
                  <a:rect l="l" t="t" r="r" b="b"/>
                  <a:pathLst>
                    <a:path w="201" h="751">
                      <a:moveTo>
                        <a:pt x="144" y="143"/>
                      </a:moveTo>
                      <a:lnTo>
                        <a:pt x="201" y="751"/>
                      </a:lnTo>
                      <a:lnTo>
                        <a:pt x="132" y="682"/>
                      </a:lnTo>
                      <a:lnTo>
                        <a:pt x="63" y="611"/>
                      </a:lnTo>
                      <a:lnTo>
                        <a:pt x="0" y="0"/>
                      </a:lnTo>
                      <a:lnTo>
                        <a:pt x="71" y="73"/>
                      </a:lnTo>
                      <a:lnTo>
                        <a:pt x="144" y="143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4261680" y="3289680"/>
                  <a:ext cx="19080" cy="40320"/>
                </a:xfrm>
                <a:custGeom>
                  <a:avLst/>
                  <a:gdLst/>
                  <a:ahLst/>
                  <a:rect l="l" t="t" r="r" b="b"/>
                  <a:pathLst>
                    <a:path w="197" h="764">
                      <a:moveTo>
                        <a:pt x="134" y="153"/>
                      </a:moveTo>
                      <a:lnTo>
                        <a:pt x="197" y="764"/>
                      </a:lnTo>
                      <a:lnTo>
                        <a:pt x="130" y="691"/>
                      </a:lnTo>
                      <a:lnTo>
                        <a:pt x="66" y="615"/>
                      </a:lnTo>
                      <a:lnTo>
                        <a:pt x="0" y="0"/>
                      </a:lnTo>
                      <a:lnTo>
                        <a:pt x="67" y="78"/>
                      </a:lnTo>
                      <a:lnTo>
                        <a:pt x="134" y="153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4249440" y="3280320"/>
                  <a:ext cx="17640" cy="41760"/>
                </a:xfrm>
                <a:custGeom>
                  <a:avLst/>
                  <a:gdLst/>
                  <a:ahLst/>
                  <a:rect l="l" t="t" r="r" b="b"/>
                  <a:pathLst>
                    <a:path w="191" h="780">
                      <a:moveTo>
                        <a:pt x="125" y="165"/>
                      </a:moveTo>
                      <a:lnTo>
                        <a:pt x="191" y="780"/>
                      </a:lnTo>
                      <a:lnTo>
                        <a:pt x="129" y="701"/>
                      </a:lnTo>
                      <a:lnTo>
                        <a:pt x="70" y="620"/>
                      </a:lnTo>
                      <a:lnTo>
                        <a:pt x="0" y="0"/>
                      </a:lnTo>
                      <a:lnTo>
                        <a:pt x="62" y="83"/>
                      </a:lnTo>
                      <a:lnTo>
                        <a:pt x="125" y="165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4231440" y="3279240"/>
                  <a:ext cx="24840" cy="33480"/>
                </a:xfrm>
                <a:custGeom>
                  <a:avLst/>
                  <a:gdLst/>
                  <a:ahLst/>
                  <a:rect l="l" t="t" r="r" b="b"/>
                  <a:pathLst>
                    <a:path w="250" h="643">
                      <a:moveTo>
                        <a:pt x="180" y="23"/>
                      </a:moveTo>
                      <a:lnTo>
                        <a:pt x="250" y="643"/>
                      </a:lnTo>
                      <a:lnTo>
                        <a:pt x="162" y="632"/>
                      </a:lnTo>
                      <a:lnTo>
                        <a:pt x="73" y="621"/>
                      </a:lnTo>
                      <a:lnTo>
                        <a:pt x="0" y="0"/>
                      </a:lnTo>
                      <a:lnTo>
                        <a:pt x="90" y="13"/>
                      </a:lnTo>
                      <a:lnTo>
                        <a:pt x="180" y="23"/>
                      </a:lnTo>
                      <a:close/>
                    </a:path>
                  </a:pathLst>
                </a:custGeom>
                <a:solidFill>
                  <a:srgbClr val="5356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4213800" y="3277080"/>
                  <a:ext cx="24480" cy="34920"/>
                </a:xfrm>
                <a:custGeom>
                  <a:avLst/>
                  <a:gdLst/>
                  <a:ahLst/>
                  <a:rect l="l" t="t" r="r" b="b"/>
                  <a:pathLst>
                    <a:path w="254" h="650">
                      <a:moveTo>
                        <a:pt x="181" y="29"/>
                      </a:moveTo>
                      <a:lnTo>
                        <a:pt x="254" y="650"/>
                      </a:lnTo>
                      <a:lnTo>
                        <a:pt x="167" y="636"/>
                      </a:lnTo>
                      <a:lnTo>
                        <a:pt x="80" y="621"/>
                      </a:lnTo>
                      <a:lnTo>
                        <a:pt x="0" y="0"/>
                      </a:lnTo>
                      <a:lnTo>
                        <a:pt x="90" y="16"/>
                      </a:lnTo>
                      <a:lnTo>
                        <a:pt x="181" y="29"/>
                      </a:lnTo>
                      <a:close/>
                    </a:path>
                  </a:pathLst>
                </a:custGeom>
                <a:solidFill>
                  <a:srgbClr val="4c4d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4195800" y="327600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258" h="656">
                      <a:moveTo>
                        <a:pt x="178" y="35"/>
                      </a:moveTo>
                      <a:lnTo>
                        <a:pt x="258" y="656"/>
                      </a:lnTo>
                      <a:lnTo>
                        <a:pt x="171" y="639"/>
                      </a:lnTo>
                      <a:lnTo>
                        <a:pt x="85" y="621"/>
                      </a:lnTo>
                      <a:lnTo>
                        <a:pt x="0" y="0"/>
                      </a:lnTo>
                      <a:lnTo>
                        <a:pt x="89" y="18"/>
                      </a:lnTo>
                      <a:lnTo>
                        <a:pt x="178" y="35"/>
                      </a:lnTo>
                      <a:close/>
                    </a:path>
                  </a:pathLst>
                </a:custGeom>
                <a:solidFill>
                  <a:srgbClr val="4544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4179600" y="3272760"/>
                  <a:ext cx="24480" cy="36000"/>
                </a:xfrm>
                <a:custGeom>
                  <a:avLst/>
                  <a:gdLst/>
                  <a:ahLst/>
                  <a:rect l="l" t="t" r="r" b="b"/>
                  <a:pathLst>
                    <a:path w="262" h="665">
                      <a:moveTo>
                        <a:pt x="177" y="44"/>
                      </a:moveTo>
                      <a:lnTo>
                        <a:pt x="262" y="665"/>
                      </a:lnTo>
                      <a:lnTo>
                        <a:pt x="176" y="646"/>
                      </a:lnTo>
                      <a:lnTo>
                        <a:pt x="89" y="624"/>
                      </a:lnTo>
                      <a:lnTo>
                        <a:pt x="0" y="0"/>
                      </a:lnTo>
                      <a:lnTo>
                        <a:pt x="88" y="23"/>
                      </a:lnTo>
                      <a:lnTo>
                        <a:pt x="177" y="44"/>
                      </a:lnTo>
                      <a:close/>
                    </a:path>
                  </a:pathLst>
                </a:custGeom>
                <a:solidFill>
                  <a:srgbClr val="3c39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4161600" y="3270600"/>
                  <a:ext cx="25920" cy="36000"/>
                </a:xfrm>
                <a:custGeom>
                  <a:avLst/>
                  <a:gdLst/>
                  <a:ahLst/>
                  <a:rect l="l" t="t" r="r" b="b"/>
                  <a:pathLst>
                    <a:path w="264" h="673">
                      <a:moveTo>
                        <a:pt x="175" y="49"/>
                      </a:moveTo>
                      <a:lnTo>
                        <a:pt x="264" y="673"/>
                      </a:lnTo>
                      <a:lnTo>
                        <a:pt x="179" y="649"/>
                      </a:lnTo>
                      <a:lnTo>
                        <a:pt x="95" y="624"/>
                      </a:lnTo>
                      <a:lnTo>
                        <a:pt x="0" y="0"/>
                      </a:lnTo>
                      <a:lnTo>
                        <a:pt x="87" y="25"/>
                      </a:lnTo>
                      <a:lnTo>
                        <a:pt x="175" y="4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4145400" y="3267000"/>
                  <a:ext cx="25560" cy="36720"/>
                </a:xfrm>
                <a:custGeom>
                  <a:avLst/>
                  <a:gdLst/>
                  <a:ahLst/>
                  <a:rect l="l" t="t" r="r" b="b"/>
                  <a:pathLst>
                    <a:path w="266" h="681">
                      <a:moveTo>
                        <a:pt x="171" y="57"/>
                      </a:moveTo>
                      <a:lnTo>
                        <a:pt x="266" y="681"/>
                      </a:lnTo>
                      <a:lnTo>
                        <a:pt x="182" y="654"/>
                      </a:lnTo>
                      <a:lnTo>
                        <a:pt x="99" y="625"/>
                      </a:lnTo>
                      <a:lnTo>
                        <a:pt x="0" y="0"/>
                      </a:lnTo>
                      <a:lnTo>
                        <a:pt x="85" y="29"/>
                      </a:lnTo>
                      <a:lnTo>
                        <a:pt x="171" y="57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4128840" y="3263400"/>
                  <a:ext cx="25560" cy="37080"/>
                </a:xfrm>
                <a:custGeom>
                  <a:avLst/>
                  <a:gdLst/>
                  <a:ahLst/>
                  <a:rect l="l" t="t" r="r" b="b"/>
                  <a:pathLst>
                    <a:path w="269" h="690">
                      <a:moveTo>
                        <a:pt x="170" y="65"/>
                      </a:moveTo>
                      <a:lnTo>
                        <a:pt x="269" y="690"/>
                      </a:lnTo>
                      <a:lnTo>
                        <a:pt x="187" y="660"/>
                      </a:lnTo>
                      <a:lnTo>
                        <a:pt x="105" y="628"/>
                      </a:lnTo>
                      <a:lnTo>
                        <a:pt x="0" y="0"/>
                      </a:lnTo>
                      <a:lnTo>
                        <a:pt x="84" y="33"/>
                      </a:lnTo>
                      <a:lnTo>
                        <a:pt x="170" y="65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4112280" y="3260160"/>
                  <a:ext cx="25560" cy="37080"/>
                </a:xfrm>
                <a:custGeom>
                  <a:avLst/>
                  <a:gdLst/>
                  <a:ahLst/>
                  <a:rect l="l" t="t" r="r" b="b"/>
                  <a:pathLst>
                    <a:path w="270" h="700">
                      <a:moveTo>
                        <a:pt x="165" y="72"/>
                      </a:moveTo>
                      <a:lnTo>
                        <a:pt x="270" y="700"/>
                      </a:lnTo>
                      <a:lnTo>
                        <a:pt x="190" y="666"/>
                      </a:lnTo>
                      <a:lnTo>
                        <a:pt x="110" y="629"/>
                      </a:lnTo>
                      <a:lnTo>
                        <a:pt x="0" y="0"/>
                      </a:lnTo>
                      <a:lnTo>
                        <a:pt x="82" y="37"/>
                      </a:lnTo>
                      <a:lnTo>
                        <a:pt x="165" y="72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4097160" y="3255480"/>
                  <a:ext cx="25920" cy="38160"/>
                </a:xfrm>
                <a:custGeom>
                  <a:avLst/>
                  <a:gdLst/>
                  <a:ahLst/>
                  <a:rect l="l" t="t" r="r" b="b"/>
                  <a:pathLst>
                    <a:path w="270" h="709">
                      <a:moveTo>
                        <a:pt x="160" y="80"/>
                      </a:moveTo>
                      <a:lnTo>
                        <a:pt x="270" y="709"/>
                      </a:lnTo>
                      <a:lnTo>
                        <a:pt x="191" y="672"/>
                      </a:lnTo>
                      <a:lnTo>
                        <a:pt x="114" y="632"/>
                      </a:lnTo>
                      <a:lnTo>
                        <a:pt x="0" y="0"/>
                      </a:lnTo>
                      <a:lnTo>
                        <a:pt x="80" y="41"/>
                      </a:lnTo>
                      <a:lnTo>
                        <a:pt x="160" y="80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4080600" y="325116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270" h="719">
                      <a:moveTo>
                        <a:pt x="156" y="87"/>
                      </a:moveTo>
                      <a:lnTo>
                        <a:pt x="270" y="719"/>
                      </a:lnTo>
                      <a:lnTo>
                        <a:pt x="193" y="677"/>
                      </a:lnTo>
                      <a:lnTo>
                        <a:pt x="118" y="634"/>
                      </a:lnTo>
                      <a:lnTo>
                        <a:pt x="0" y="0"/>
                      </a:lnTo>
                      <a:lnTo>
                        <a:pt x="77" y="44"/>
                      </a:lnTo>
                      <a:lnTo>
                        <a:pt x="156" y="87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4066920" y="3245760"/>
                  <a:ext cx="25920" cy="39240"/>
                </a:xfrm>
                <a:custGeom>
                  <a:avLst/>
                  <a:gdLst/>
                  <a:ahLst/>
                  <a:rect l="l" t="t" r="r" b="b"/>
                  <a:pathLst>
                    <a:path w="268" h="730">
                      <a:moveTo>
                        <a:pt x="150" y="96"/>
                      </a:moveTo>
                      <a:lnTo>
                        <a:pt x="268" y="730"/>
                      </a:lnTo>
                      <a:lnTo>
                        <a:pt x="195" y="684"/>
                      </a:lnTo>
                      <a:lnTo>
                        <a:pt x="122" y="636"/>
                      </a:lnTo>
                      <a:lnTo>
                        <a:pt x="0" y="0"/>
                      </a:lnTo>
                      <a:lnTo>
                        <a:pt x="75" y="49"/>
                      </a:lnTo>
                      <a:lnTo>
                        <a:pt x="150" y="96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4052160" y="3240000"/>
                  <a:ext cx="25560" cy="40320"/>
                </a:xfrm>
                <a:custGeom>
                  <a:avLst/>
                  <a:gdLst/>
                  <a:ahLst/>
                  <a:rect l="l" t="t" r="r" b="b"/>
                  <a:pathLst>
                    <a:path w="268" h="740">
                      <a:moveTo>
                        <a:pt x="146" y="104"/>
                      </a:moveTo>
                      <a:lnTo>
                        <a:pt x="268" y="740"/>
                      </a:lnTo>
                      <a:lnTo>
                        <a:pt x="197" y="691"/>
                      </a:lnTo>
                      <a:lnTo>
                        <a:pt x="127" y="639"/>
                      </a:lnTo>
                      <a:lnTo>
                        <a:pt x="0" y="0"/>
                      </a:lnTo>
                      <a:lnTo>
                        <a:pt x="72" y="53"/>
                      </a:lnTo>
                      <a:lnTo>
                        <a:pt x="146" y="104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4038480" y="3234600"/>
                  <a:ext cx="25560" cy="40320"/>
                </a:xfrm>
                <a:custGeom>
                  <a:avLst/>
                  <a:gdLst/>
                  <a:ahLst/>
                  <a:rect l="l" t="t" r="r" b="b"/>
                  <a:pathLst>
                    <a:path w="265" h="752">
                      <a:moveTo>
                        <a:pt x="138" y="113"/>
                      </a:moveTo>
                      <a:lnTo>
                        <a:pt x="265" y="752"/>
                      </a:lnTo>
                      <a:lnTo>
                        <a:pt x="198" y="699"/>
                      </a:lnTo>
                      <a:lnTo>
                        <a:pt x="131" y="643"/>
                      </a:lnTo>
                      <a:lnTo>
                        <a:pt x="0" y="0"/>
                      </a:lnTo>
                      <a:lnTo>
                        <a:pt x="68" y="57"/>
                      </a:lnTo>
                      <a:lnTo>
                        <a:pt x="138" y="11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4025880" y="3227400"/>
                  <a:ext cx="25920" cy="41400"/>
                </a:xfrm>
                <a:custGeom>
                  <a:avLst/>
                  <a:gdLst/>
                  <a:ahLst/>
                  <a:rect l="l" t="t" r="r" b="b"/>
                  <a:pathLst>
                    <a:path w="263" h="764">
                      <a:moveTo>
                        <a:pt x="132" y="121"/>
                      </a:moveTo>
                      <a:lnTo>
                        <a:pt x="263" y="764"/>
                      </a:lnTo>
                      <a:lnTo>
                        <a:pt x="197" y="706"/>
                      </a:lnTo>
                      <a:lnTo>
                        <a:pt x="135" y="646"/>
                      </a:lnTo>
                      <a:lnTo>
                        <a:pt x="0" y="0"/>
                      </a:lnTo>
                      <a:lnTo>
                        <a:pt x="65" y="62"/>
                      </a:lnTo>
                      <a:lnTo>
                        <a:pt x="132" y="121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4013640" y="3220920"/>
                  <a:ext cx="25920" cy="41400"/>
                </a:xfrm>
                <a:custGeom>
                  <a:avLst/>
                  <a:gdLst/>
                  <a:ahLst/>
                  <a:rect l="l" t="t" r="r" b="b"/>
                  <a:pathLst>
                    <a:path w="260" h="776">
                      <a:moveTo>
                        <a:pt x="125" y="130"/>
                      </a:moveTo>
                      <a:lnTo>
                        <a:pt x="260" y="776"/>
                      </a:lnTo>
                      <a:lnTo>
                        <a:pt x="198" y="713"/>
                      </a:lnTo>
                      <a:lnTo>
                        <a:pt x="139" y="650"/>
                      </a:lnTo>
                      <a:lnTo>
                        <a:pt x="0" y="0"/>
                      </a:lnTo>
                      <a:lnTo>
                        <a:pt x="62" y="67"/>
                      </a:lnTo>
                      <a:lnTo>
                        <a:pt x="125" y="130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4002480" y="3213000"/>
                  <a:ext cx="24480" cy="42480"/>
                </a:xfrm>
                <a:custGeom>
                  <a:avLst/>
                  <a:gdLst/>
                  <a:ahLst/>
                  <a:rect l="l" t="t" r="r" b="b"/>
                  <a:pathLst>
                    <a:path w="256" h="788">
                      <a:moveTo>
                        <a:pt x="117" y="138"/>
                      </a:moveTo>
                      <a:lnTo>
                        <a:pt x="256" y="788"/>
                      </a:lnTo>
                      <a:lnTo>
                        <a:pt x="197" y="721"/>
                      </a:lnTo>
                      <a:lnTo>
                        <a:pt x="142" y="653"/>
                      </a:lnTo>
                      <a:lnTo>
                        <a:pt x="0" y="0"/>
                      </a:lnTo>
                      <a:lnTo>
                        <a:pt x="58" y="70"/>
                      </a:lnTo>
                      <a:lnTo>
                        <a:pt x="117" y="138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3950280" y="3150720"/>
                  <a:ext cx="31680" cy="37080"/>
                </a:xfrm>
                <a:custGeom>
                  <a:avLst/>
                  <a:gdLst/>
                  <a:ahLst/>
                  <a:rect l="l" t="t" r="r" b="b"/>
                  <a:pathLst>
                    <a:path w="332" h="686">
                      <a:moveTo>
                        <a:pt x="182" y="0"/>
                      </a:moveTo>
                      <a:lnTo>
                        <a:pt x="332" y="684"/>
                      </a:lnTo>
                      <a:lnTo>
                        <a:pt x="244" y="686"/>
                      </a:lnTo>
                      <a:lnTo>
                        <a:pt x="156" y="685"/>
                      </a:lnTo>
                      <a:lnTo>
                        <a:pt x="0" y="0"/>
                      </a:lnTo>
                      <a:lnTo>
                        <a:pt x="91" y="1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6671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3932640" y="3150720"/>
                  <a:ext cx="32760" cy="37080"/>
                </a:xfrm>
                <a:custGeom>
                  <a:avLst/>
                  <a:gdLst/>
                  <a:ahLst/>
                  <a:rect l="l" t="t" r="r" b="b"/>
                  <a:pathLst>
                    <a:path w="336" h="694">
                      <a:moveTo>
                        <a:pt x="180" y="9"/>
                      </a:moveTo>
                      <a:lnTo>
                        <a:pt x="336" y="694"/>
                      </a:lnTo>
                      <a:lnTo>
                        <a:pt x="249" y="689"/>
                      </a:lnTo>
                      <a:lnTo>
                        <a:pt x="161" y="684"/>
                      </a:lnTo>
                      <a:lnTo>
                        <a:pt x="0" y="0"/>
                      </a:lnTo>
                      <a:lnTo>
                        <a:pt x="90" y="6"/>
                      </a:lnTo>
                      <a:lnTo>
                        <a:pt x="180" y="9"/>
                      </a:lnTo>
                      <a:close/>
                    </a:path>
                  </a:pathLst>
                </a:custGeom>
                <a:solidFill>
                  <a:srgbClr val="5f66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3915000" y="3150000"/>
                  <a:ext cx="32760" cy="36720"/>
                </a:xfrm>
                <a:custGeom>
                  <a:avLst/>
                  <a:gdLst/>
                  <a:ahLst/>
                  <a:rect l="l" t="t" r="r" b="b"/>
                  <a:pathLst>
                    <a:path w="341" h="704">
                      <a:moveTo>
                        <a:pt x="180" y="20"/>
                      </a:moveTo>
                      <a:lnTo>
                        <a:pt x="341" y="704"/>
                      </a:lnTo>
                      <a:lnTo>
                        <a:pt x="253" y="696"/>
                      </a:lnTo>
                      <a:lnTo>
                        <a:pt x="166" y="685"/>
                      </a:lnTo>
                      <a:lnTo>
                        <a:pt x="0" y="0"/>
                      </a:lnTo>
                      <a:lnTo>
                        <a:pt x="89" y="12"/>
                      </a:lnTo>
                      <a:lnTo>
                        <a:pt x="180" y="20"/>
                      </a:lnTo>
                      <a:close/>
                    </a:path>
                  </a:pathLst>
                </a:custGeom>
                <a:solidFill>
                  <a:srgbClr val="5559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3897000" y="3147480"/>
                  <a:ext cx="34200" cy="38160"/>
                </a:xfrm>
                <a:custGeom>
                  <a:avLst/>
                  <a:gdLst/>
                  <a:ahLst/>
                  <a:rect l="l" t="t" r="r" b="b"/>
                  <a:pathLst>
                    <a:path w="343" h="713">
                      <a:moveTo>
                        <a:pt x="177" y="28"/>
                      </a:moveTo>
                      <a:lnTo>
                        <a:pt x="343" y="713"/>
                      </a:lnTo>
                      <a:lnTo>
                        <a:pt x="257" y="700"/>
                      </a:lnTo>
                      <a:lnTo>
                        <a:pt x="171" y="685"/>
                      </a:lnTo>
                      <a:lnTo>
                        <a:pt x="0" y="0"/>
                      </a:lnTo>
                      <a:lnTo>
                        <a:pt x="88" y="16"/>
                      </a:lnTo>
                      <a:lnTo>
                        <a:pt x="177" y="28"/>
                      </a:lnTo>
                      <a:close/>
                    </a:path>
                  </a:pathLst>
                </a:custGeom>
                <a:solidFill>
                  <a:srgbClr val="4c4d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3880440" y="3146400"/>
                  <a:ext cx="32760" cy="38160"/>
                </a:xfrm>
                <a:custGeom>
                  <a:avLst/>
                  <a:gdLst/>
                  <a:ahLst/>
                  <a:rect l="l" t="t" r="r" b="b"/>
                  <a:pathLst>
                    <a:path w="345" h="724">
                      <a:moveTo>
                        <a:pt x="174" y="39"/>
                      </a:moveTo>
                      <a:lnTo>
                        <a:pt x="345" y="724"/>
                      </a:lnTo>
                      <a:lnTo>
                        <a:pt x="261" y="707"/>
                      </a:lnTo>
                      <a:lnTo>
                        <a:pt x="177" y="686"/>
                      </a:lnTo>
                      <a:lnTo>
                        <a:pt x="0" y="0"/>
                      </a:lnTo>
                      <a:lnTo>
                        <a:pt x="87" y="20"/>
                      </a:lnTo>
                      <a:lnTo>
                        <a:pt x="174" y="39"/>
                      </a:lnTo>
                      <a:close/>
                    </a:path>
                  </a:pathLst>
                </a:custGeom>
                <a:solidFill>
                  <a:srgbClr val="3f3e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3864240" y="3142800"/>
                  <a:ext cx="32400" cy="39600"/>
                </a:xfrm>
                <a:custGeom>
                  <a:avLst/>
                  <a:gdLst/>
                  <a:ahLst/>
                  <a:rect l="l" t="t" r="r" b="b"/>
                  <a:pathLst>
                    <a:path w="348" h="735">
                      <a:moveTo>
                        <a:pt x="171" y="49"/>
                      </a:moveTo>
                      <a:lnTo>
                        <a:pt x="348" y="735"/>
                      </a:lnTo>
                      <a:lnTo>
                        <a:pt x="264" y="712"/>
                      </a:lnTo>
                      <a:lnTo>
                        <a:pt x="182" y="687"/>
                      </a:lnTo>
                      <a:lnTo>
                        <a:pt x="0" y="0"/>
                      </a:lnTo>
                      <a:lnTo>
                        <a:pt x="85" y="26"/>
                      </a:lnTo>
                      <a:lnTo>
                        <a:pt x="171" y="4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3848040" y="3139560"/>
                  <a:ext cx="32400" cy="40320"/>
                </a:xfrm>
                <a:custGeom>
                  <a:avLst/>
                  <a:gdLst/>
                  <a:ahLst/>
                  <a:rect l="l" t="t" r="r" b="b"/>
                  <a:pathLst>
                    <a:path w="347" h="747">
                      <a:moveTo>
                        <a:pt x="165" y="60"/>
                      </a:moveTo>
                      <a:lnTo>
                        <a:pt x="347" y="747"/>
                      </a:lnTo>
                      <a:lnTo>
                        <a:pt x="266" y="720"/>
                      </a:lnTo>
                      <a:lnTo>
                        <a:pt x="186" y="690"/>
                      </a:lnTo>
                      <a:lnTo>
                        <a:pt x="0" y="0"/>
                      </a:lnTo>
                      <a:lnTo>
                        <a:pt x="82" y="31"/>
                      </a:lnTo>
                      <a:lnTo>
                        <a:pt x="165" y="60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3831480" y="3136320"/>
                  <a:ext cx="33840" cy="40320"/>
                </a:xfrm>
                <a:custGeom>
                  <a:avLst/>
                  <a:gdLst/>
                  <a:ahLst/>
                  <a:rect l="l" t="t" r="r" b="b"/>
                  <a:pathLst>
                    <a:path w="347" h="759">
                      <a:moveTo>
                        <a:pt x="161" y="69"/>
                      </a:moveTo>
                      <a:lnTo>
                        <a:pt x="347" y="759"/>
                      </a:lnTo>
                      <a:lnTo>
                        <a:pt x="268" y="726"/>
                      </a:lnTo>
                      <a:lnTo>
                        <a:pt x="190" y="692"/>
                      </a:lnTo>
                      <a:lnTo>
                        <a:pt x="0" y="0"/>
                      </a:lnTo>
                      <a:lnTo>
                        <a:pt x="80" y="36"/>
                      </a:lnTo>
                      <a:lnTo>
                        <a:pt x="161" y="6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3816360" y="3131640"/>
                  <a:ext cx="33840" cy="41760"/>
                </a:xfrm>
                <a:custGeom>
                  <a:avLst/>
                  <a:gdLst/>
                  <a:ahLst/>
                  <a:rect l="l" t="t" r="r" b="b"/>
                  <a:pathLst>
                    <a:path w="345" h="771">
                      <a:moveTo>
                        <a:pt x="155" y="79"/>
                      </a:moveTo>
                      <a:lnTo>
                        <a:pt x="345" y="771"/>
                      </a:lnTo>
                      <a:lnTo>
                        <a:pt x="269" y="734"/>
                      </a:lnTo>
                      <a:lnTo>
                        <a:pt x="195" y="693"/>
                      </a:lnTo>
                      <a:lnTo>
                        <a:pt x="0" y="0"/>
                      </a:lnTo>
                      <a:lnTo>
                        <a:pt x="76" y="41"/>
                      </a:lnTo>
                      <a:lnTo>
                        <a:pt x="155" y="7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3802680" y="3127320"/>
                  <a:ext cx="32760" cy="41400"/>
                </a:xfrm>
                <a:custGeom>
                  <a:avLst/>
                  <a:gdLst/>
                  <a:ahLst/>
                  <a:rect l="l" t="t" r="r" b="b"/>
                  <a:pathLst>
                    <a:path w="344" h="782">
                      <a:moveTo>
                        <a:pt x="149" y="89"/>
                      </a:moveTo>
                      <a:lnTo>
                        <a:pt x="344" y="782"/>
                      </a:lnTo>
                      <a:lnTo>
                        <a:pt x="270" y="740"/>
                      </a:lnTo>
                      <a:lnTo>
                        <a:pt x="199" y="695"/>
                      </a:lnTo>
                      <a:lnTo>
                        <a:pt x="0" y="0"/>
                      </a:lnTo>
                      <a:lnTo>
                        <a:pt x="73" y="46"/>
                      </a:lnTo>
                      <a:lnTo>
                        <a:pt x="149" y="89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3787560" y="3121560"/>
                  <a:ext cx="33840" cy="42480"/>
                </a:xfrm>
                <a:custGeom>
                  <a:avLst/>
                  <a:gdLst/>
                  <a:ahLst/>
                  <a:rect l="l" t="t" r="r" b="b"/>
                  <a:pathLst>
                    <a:path w="340" h="795">
                      <a:moveTo>
                        <a:pt x="141" y="100"/>
                      </a:moveTo>
                      <a:lnTo>
                        <a:pt x="340" y="795"/>
                      </a:lnTo>
                      <a:lnTo>
                        <a:pt x="271" y="748"/>
                      </a:lnTo>
                      <a:lnTo>
                        <a:pt x="203" y="698"/>
                      </a:lnTo>
                      <a:lnTo>
                        <a:pt x="0" y="0"/>
                      </a:lnTo>
                      <a:lnTo>
                        <a:pt x="70" y="51"/>
                      </a:lnTo>
                      <a:lnTo>
                        <a:pt x="141" y="100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3775320" y="3116160"/>
                  <a:ext cx="32760" cy="43920"/>
                </a:xfrm>
                <a:custGeom>
                  <a:avLst/>
                  <a:gdLst/>
                  <a:ahLst/>
                  <a:rect l="l" t="t" r="r" b="b"/>
                  <a:pathLst>
                    <a:path w="336" h="809">
                      <a:moveTo>
                        <a:pt x="133" y="111"/>
                      </a:moveTo>
                      <a:lnTo>
                        <a:pt x="336" y="809"/>
                      </a:lnTo>
                      <a:lnTo>
                        <a:pt x="270" y="756"/>
                      </a:lnTo>
                      <a:lnTo>
                        <a:pt x="207" y="701"/>
                      </a:lnTo>
                      <a:lnTo>
                        <a:pt x="0" y="0"/>
                      </a:lnTo>
                      <a:lnTo>
                        <a:pt x="65" y="57"/>
                      </a:lnTo>
                      <a:lnTo>
                        <a:pt x="133" y="111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3762720" y="3109320"/>
                  <a:ext cx="32760" cy="43920"/>
                </a:xfrm>
                <a:custGeom>
                  <a:avLst/>
                  <a:gdLst/>
                  <a:ahLst/>
                  <a:rect l="l" t="t" r="r" b="b"/>
                  <a:pathLst>
                    <a:path w="331" h="822">
                      <a:moveTo>
                        <a:pt x="124" y="121"/>
                      </a:moveTo>
                      <a:lnTo>
                        <a:pt x="331" y="822"/>
                      </a:lnTo>
                      <a:lnTo>
                        <a:pt x="269" y="764"/>
                      </a:lnTo>
                      <a:lnTo>
                        <a:pt x="210" y="705"/>
                      </a:lnTo>
                      <a:lnTo>
                        <a:pt x="0" y="0"/>
                      </a:lnTo>
                      <a:lnTo>
                        <a:pt x="60" y="62"/>
                      </a:lnTo>
                      <a:lnTo>
                        <a:pt x="124" y="121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3751920" y="310248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325" h="837">
                      <a:moveTo>
                        <a:pt x="115" y="132"/>
                      </a:moveTo>
                      <a:lnTo>
                        <a:pt x="325" y="837"/>
                      </a:lnTo>
                      <a:lnTo>
                        <a:pt x="267" y="773"/>
                      </a:lnTo>
                      <a:lnTo>
                        <a:pt x="213" y="709"/>
                      </a:lnTo>
                      <a:lnTo>
                        <a:pt x="0" y="0"/>
                      </a:lnTo>
                      <a:lnTo>
                        <a:pt x="56" y="68"/>
                      </a:lnTo>
                      <a:lnTo>
                        <a:pt x="115" y="132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3741120" y="3094560"/>
                  <a:ext cx="31320" cy="46080"/>
                </a:xfrm>
                <a:custGeom>
                  <a:avLst/>
                  <a:gdLst/>
                  <a:ahLst/>
                  <a:rect l="l" t="t" r="r" b="b"/>
                  <a:pathLst>
                    <a:path w="319" h="850">
                      <a:moveTo>
                        <a:pt x="106" y="141"/>
                      </a:moveTo>
                      <a:lnTo>
                        <a:pt x="319" y="850"/>
                      </a:lnTo>
                      <a:lnTo>
                        <a:pt x="267" y="781"/>
                      </a:lnTo>
                      <a:lnTo>
                        <a:pt x="216" y="711"/>
                      </a:lnTo>
                      <a:lnTo>
                        <a:pt x="0" y="0"/>
                      </a:lnTo>
                      <a:lnTo>
                        <a:pt x="51" y="72"/>
                      </a:lnTo>
                      <a:lnTo>
                        <a:pt x="106" y="141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3732480" y="3086640"/>
                  <a:ext cx="29880" cy="46080"/>
                </a:xfrm>
                <a:custGeom>
                  <a:avLst/>
                  <a:gdLst/>
                  <a:ahLst/>
                  <a:rect l="l" t="t" r="r" b="b"/>
                  <a:pathLst>
                    <a:path w="310" h="864">
                      <a:moveTo>
                        <a:pt x="94" y="153"/>
                      </a:moveTo>
                      <a:lnTo>
                        <a:pt x="310" y="864"/>
                      </a:lnTo>
                      <a:lnTo>
                        <a:pt x="263" y="791"/>
                      </a:lnTo>
                      <a:lnTo>
                        <a:pt x="219" y="715"/>
                      </a:lnTo>
                      <a:lnTo>
                        <a:pt x="0" y="0"/>
                      </a:lnTo>
                      <a:lnTo>
                        <a:pt x="46" y="78"/>
                      </a:lnTo>
                      <a:lnTo>
                        <a:pt x="94" y="153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3966840" y="315072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187" h="722">
                      <a:moveTo>
                        <a:pt x="38" y="40"/>
                      </a:moveTo>
                      <a:lnTo>
                        <a:pt x="187" y="722"/>
                      </a:lnTo>
                      <a:lnTo>
                        <a:pt x="182" y="718"/>
                      </a:lnTo>
                      <a:lnTo>
                        <a:pt x="178" y="713"/>
                      </a:lnTo>
                      <a:lnTo>
                        <a:pt x="173" y="708"/>
                      </a:lnTo>
                      <a:lnTo>
                        <a:pt x="169" y="703"/>
                      </a:lnTo>
                      <a:lnTo>
                        <a:pt x="165" y="698"/>
                      </a:lnTo>
                      <a:lnTo>
                        <a:pt x="160" y="694"/>
                      </a:lnTo>
                      <a:lnTo>
                        <a:pt x="155" y="689"/>
                      </a:lnTo>
                      <a:lnTo>
                        <a:pt x="150" y="684"/>
                      </a:lnTo>
                      <a:lnTo>
                        <a:pt x="0" y="0"/>
                      </a:lnTo>
                      <a:lnTo>
                        <a:pt x="5" y="6"/>
                      </a:lnTo>
                      <a:lnTo>
                        <a:pt x="9" y="11"/>
                      </a:lnTo>
                      <a:lnTo>
                        <a:pt x="14" y="15"/>
                      </a:lnTo>
                      <a:lnTo>
                        <a:pt x="18" y="20"/>
                      </a:lnTo>
                      <a:lnTo>
                        <a:pt x="23" y="25"/>
                      </a:lnTo>
                      <a:lnTo>
                        <a:pt x="28" y="31"/>
                      </a:lnTo>
                      <a:lnTo>
                        <a:pt x="32" y="35"/>
                      </a:lnTo>
                      <a:lnTo>
                        <a:pt x="38" y="40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3991680" y="3205080"/>
                  <a:ext cx="24480" cy="43920"/>
                </a:xfrm>
                <a:custGeom>
                  <a:avLst/>
                  <a:gdLst/>
                  <a:ahLst/>
                  <a:rect l="l" t="t" r="r" b="b"/>
                  <a:pathLst>
                    <a:path w="246" h="814">
                      <a:moveTo>
                        <a:pt x="104" y="161"/>
                      </a:moveTo>
                      <a:lnTo>
                        <a:pt x="246" y="814"/>
                      </a:lnTo>
                      <a:lnTo>
                        <a:pt x="224" y="783"/>
                      </a:lnTo>
                      <a:lnTo>
                        <a:pt x="203" y="752"/>
                      </a:lnTo>
                      <a:lnTo>
                        <a:pt x="182" y="721"/>
                      </a:lnTo>
                      <a:lnTo>
                        <a:pt x="163" y="690"/>
                      </a:lnTo>
                      <a:lnTo>
                        <a:pt x="143" y="657"/>
                      </a:lnTo>
                      <a:lnTo>
                        <a:pt x="0" y="0"/>
                      </a:lnTo>
                      <a:lnTo>
                        <a:pt x="19" y="33"/>
                      </a:lnTo>
                      <a:lnTo>
                        <a:pt x="40" y="65"/>
                      </a:lnTo>
                      <a:lnTo>
                        <a:pt x="60" y="97"/>
                      </a:lnTo>
                      <a:lnTo>
                        <a:pt x="82" y="129"/>
                      </a:lnTo>
                      <a:lnTo>
                        <a:pt x="104" y="161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3983400" y="3196080"/>
                  <a:ext cx="21960" cy="43920"/>
                </a:xfrm>
                <a:custGeom>
                  <a:avLst/>
                  <a:gdLst/>
                  <a:ahLst/>
                  <a:rect l="l" t="t" r="r" b="b"/>
                  <a:pathLst>
                    <a:path w="232" h="822">
                      <a:moveTo>
                        <a:pt x="89" y="165"/>
                      </a:moveTo>
                      <a:lnTo>
                        <a:pt x="232" y="822"/>
                      </a:lnTo>
                      <a:lnTo>
                        <a:pt x="214" y="791"/>
                      </a:lnTo>
                      <a:lnTo>
                        <a:pt x="196" y="759"/>
                      </a:lnTo>
                      <a:lnTo>
                        <a:pt x="179" y="727"/>
                      </a:lnTo>
                      <a:lnTo>
                        <a:pt x="163" y="694"/>
                      </a:lnTo>
                      <a:lnTo>
                        <a:pt x="146" y="661"/>
                      </a:lnTo>
                      <a:lnTo>
                        <a:pt x="0" y="0"/>
                      </a:lnTo>
                      <a:lnTo>
                        <a:pt x="16" y="33"/>
                      </a:lnTo>
                      <a:lnTo>
                        <a:pt x="33" y="66"/>
                      </a:lnTo>
                      <a:lnTo>
                        <a:pt x="51" y="100"/>
                      </a:lnTo>
                      <a:lnTo>
                        <a:pt x="69" y="133"/>
                      </a:lnTo>
                      <a:lnTo>
                        <a:pt x="89" y="165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3975480" y="3184920"/>
                  <a:ext cx="21600" cy="45720"/>
                </a:xfrm>
                <a:custGeom>
                  <a:avLst/>
                  <a:gdLst/>
                  <a:ahLst/>
                  <a:rect l="l" t="t" r="r" b="b"/>
                  <a:pathLst>
                    <a:path w="226" h="869">
                      <a:moveTo>
                        <a:pt x="80" y="208"/>
                      </a:moveTo>
                      <a:lnTo>
                        <a:pt x="226" y="869"/>
                      </a:lnTo>
                      <a:lnTo>
                        <a:pt x="212" y="836"/>
                      </a:lnTo>
                      <a:lnTo>
                        <a:pt x="197" y="802"/>
                      </a:lnTo>
                      <a:lnTo>
                        <a:pt x="184" y="769"/>
                      </a:lnTo>
                      <a:lnTo>
                        <a:pt x="171" y="736"/>
                      </a:lnTo>
                      <a:lnTo>
                        <a:pt x="160" y="702"/>
                      </a:lnTo>
                      <a:lnTo>
                        <a:pt x="148" y="668"/>
                      </a:lnTo>
                      <a:lnTo>
                        <a:pt x="0" y="0"/>
                      </a:lnTo>
                      <a:lnTo>
                        <a:pt x="11" y="36"/>
                      </a:lnTo>
                      <a:lnTo>
                        <a:pt x="23" y="70"/>
                      </a:lnTo>
                      <a:lnTo>
                        <a:pt x="35" y="105"/>
                      </a:lnTo>
                      <a:lnTo>
                        <a:pt x="50" y="139"/>
                      </a:lnTo>
                      <a:lnTo>
                        <a:pt x="64" y="173"/>
                      </a:lnTo>
                      <a:lnTo>
                        <a:pt x="80" y="208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3972600" y="3179160"/>
                  <a:ext cx="17640" cy="41400"/>
                </a:xfrm>
                <a:custGeom>
                  <a:avLst/>
                  <a:gdLst/>
                  <a:ahLst/>
                  <a:rect l="l" t="t" r="r" b="b"/>
                  <a:pathLst>
                    <a:path w="177" h="774">
                      <a:moveTo>
                        <a:pt x="29" y="106"/>
                      </a:moveTo>
                      <a:lnTo>
                        <a:pt x="177" y="774"/>
                      </a:lnTo>
                      <a:lnTo>
                        <a:pt x="167" y="740"/>
                      </a:lnTo>
                      <a:lnTo>
                        <a:pt x="158" y="705"/>
                      </a:lnTo>
                      <a:lnTo>
                        <a:pt x="150" y="670"/>
                      </a:lnTo>
                      <a:lnTo>
                        <a:pt x="0" y="0"/>
                      </a:lnTo>
                      <a:lnTo>
                        <a:pt x="8" y="36"/>
                      </a:lnTo>
                      <a:lnTo>
                        <a:pt x="18" y="71"/>
                      </a:lnTo>
                      <a:lnTo>
                        <a:pt x="29" y="106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3725640" y="3077640"/>
                  <a:ext cx="27000" cy="47160"/>
                </a:xfrm>
                <a:custGeom>
                  <a:avLst/>
                  <a:gdLst/>
                  <a:ahLst/>
                  <a:rect l="l" t="t" r="r" b="b"/>
                  <a:pathLst>
                    <a:path w="289" h="872">
                      <a:moveTo>
                        <a:pt x="70" y="157"/>
                      </a:moveTo>
                      <a:lnTo>
                        <a:pt x="289" y="872"/>
                      </a:lnTo>
                      <a:lnTo>
                        <a:pt x="265" y="821"/>
                      </a:lnTo>
                      <a:lnTo>
                        <a:pt x="242" y="771"/>
                      </a:lnTo>
                      <a:lnTo>
                        <a:pt x="221" y="720"/>
                      </a:lnTo>
                      <a:lnTo>
                        <a:pt x="0" y="0"/>
                      </a:lnTo>
                      <a:lnTo>
                        <a:pt x="22" y="53"/>
                      </a:lnTo>
                      <a:lnTo>
                        <a:pt x="45" y="105"/>
                      </a:lnTo>
                      <a:lnTo>
                        <a:pt x="70" y="157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3720600" y="3069720"/>
                  <a:ext cx="25560" cy="47160"/>
                </a:xfrm>
                <a:custGeom>
                  <a:avLst/>
                  <a:gdLst/>
                  <a:ahLst/>
                  <a:rect l="l" t="t" r="r" b="b"/>
                  <a:pathLst>
                    <a:path w="274" h="875">
                      <a:moveTo>
                        <a:pt x="53" y="155"/>
                      </a:moveTo>
                      <a:lnTo>
                        <a:pt x="274" y="875"/>
                      </a:lnTo>
                      <a:lnTo>
                        <a:pt x="255" y="824"/>
                      </a:lnTo>
                      <a:lnTo>
                        <a:pt x="238" y="774"/>
                      </a:lnTo>
                      <a:lnTo>
                        <a:pt x="221" y="724"/>
                      </a:lnTo>
                      <a:lnTo>
                        <a:pt x="0" y="0"/>
                      </a:lnTo>
                      <a:lnTo>
                        <a:pt x="16" y="52"/>
                      </a:lnTo>
                      <a:lnTo>
                        <a:pt x="33" y="103"/>
                      </a:lnTo>
                      <a:lnTo>
                        <a:pt x="53" y="155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3903840" y="2936880"/>
                  <a:ext cx="28800" cy="49680"/>
                </a:xfrm>
                <a:custGeom>
                  <a:avLst/>
                  <a:gdLst/>
                  <a:ahLst/>
                  <a:rect l="l" t="t" r="r" b="b"/>
                  <a:pathLst>
                    <a:path w="289" h="914">
                      <a:moveTo>
                        <a:pt x="125" y="132"/>
                      </a:moveTo>
                      <a:lnTo>
                        <a:pt x="289" y="914"/>
                      </a:lnTo>
                      <a:lnTo>
                        <a:pt x="256" y="883"/>
                      </a:lnTo>
                      <a:lnTo>
                        <a:pt x="225" y="851"/>
                      </a:lnTo>
                      <a:lnTo>
                        <a:pt x="195" y="818"/>
                      </a:lnTo>
                      <a:lnTo>
                        <a:pt x="168" y="785"/>
                      </a:lnTo>
                      <a:lnTo>
                        <a:pt x="0" y="0"/>
                      </a:lnTo>
                      <a:lnTo>
                        <a:pt x="29" y="33"/>
                      </a:lnTo>
                      <a:lnTo>
                        <a:pt x="60" y="67"/>
                      </a:lnTo>
                      <a:lnTo>
                        <a:pt x="92" y="100"/>
                      </a:lnTo>
                      <a:lnTo>
                        <a:pt x="125" y="132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3891600" y="2927880"/>
                  <a:ext cx="28440" cy="51840"/>
                </a:xfrm>
                <a:custGeom>
                  <a:avLst/>
                  <a:gdLst/>
                  <a:ahLst/>
                  <a:rect l="l" t="t" r="r" b="b"/>
                  <a:pathLst>
                    <a:path w="288" h="961">
                      <a:moveTo>
                        <a:pt x="120" y="176"/>
                      </a:moveTo>
                      <a:lnTo>
                        <a:pt x="288" y="961"/>
                      </a:lnTo>
                      <a:lnTo>
                        <a:pt x="261" y="928"/>
                      </a:lnTo>
                      <a:lnTo>
                        <a:pt x="236" y="894"/>
                      </a:lnTo>
                      <a:lnTo>
                        <a:pt x="213" y="860"/>
                      </a:lnTo>
                      <a:lnTo>
                        <a:pt x="191" y="826"/>
                      </a:lnTo>
                      <a:lnTo>
                        <a:pt x="171" y="790"/>
                      </a:lnTo>
                      <a:lnTo>
                        <a:pt x="0" y="0"/>
                      </a:lnTo>
                      <a:lnTo>
                        <a:pt x="21" y="36"/>
                      </a:lnTo>
                      <a:lnTo>
                        <a:pt x="43" y="72"/>
                      </a:lnTo>
                      <a:lnTo>
                        <a:pt x="68" y="107"/>
                      </a:lnTo>
                      <a:lnTo>
                        <a:pt x="94" y="141"/>
                      </a:lnTo>
                      <a:lnTo>
                        <a:pt x="120" y="176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3884760" y="2917800"/>
                  <a:ext cx="24480" cy="52560"/>
                </a:xfrm>
                <a:custGeom>
                  <a:avLst/>
                  <a:gdLst/>
                  <a:ahLst/>
                  <a:rect l="l" t="t" r="r" b="b"/>
                  <a:pathLst>
                    <a:path w="252" h="978">
                      <a:moveTo>
                        <a:pt x="81" y="188"/>
                      </a:moveTo>
                      <a:lnTo>
                        <a:pt x="252" y="978"/>
                      </a:lnTo>
                      <a:lnTo>
                        <a:pt x="232" y="942"/>
                      </a:lnTo>
                      <a:lnTo>
                        <a:pt x="216" y="906"/>
                      </a:lnTo>
                      <a:lnTo>
                        <a:pt x="199" y="870"/>
                      </a:lnTo>
                      <a:lnTo>
                        <a:pt x="186" y="833"/>
                      </a:lnTo>
                      <a:lnTo>
                        <a:pt x="173" y="795"/>
                      </a:lnTo>
                      <a:lnTo>
                        <a:pt x="0" y="0"/>
                      </a:lnTo>
                      <a:lnTo>
                        <a:pt x="14" y="39"/>
                      </a:lnTo>
                      <a:lnTo>
                        <a:pt x="28" y="76"/>
                      </a:lnTo>
                      <a:lnTo>
                        <a:pt x="43" y="114"/>
                      </a:lnTo>
                      <a:lnTo>
                        <a:pt x="62" y="151"/>
                      </a:lnTo>
                      <a:lnTo>
                        <a:pt x="81" y="188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3882240" y="2913120"/>
                  <a:ext cx="19080" cy="47160"/>
                </a:xfrm>
                <a:custGeom>
                  <a:avLst/>
                  <a:gdLst/>
                  <a:ahLst/>
                  <a:rect l="l" t="t" r="r" b="b"/>
                  <a:pathLst>
                    <a:path w="193" h="873">
                      <a:moveTo>
                        <a:pt x="20" y="78"/>
                      </a:moveTo>
                      <a:lnTo>
                        <a:pt x="193" y="873"/>
                      </a:lnTo>
                      <a:lnTo>
                        <a:pt x="182" y="836"/>
                      </a:lnTo>
                      <a:lnTo>
                        <a:pt x="173" y="798"/>
                      </a:lnTo>
                      <a:lnTo>
                        <a:pt x="0" y="0"/>
                      </a:lnTo>
                      <a:lnTo>
                        <a:pt x="9" y="40"/>
                      </a:lnTo>
                      <a:lnTo>
                        <a:pt x="20" y="78"/>
                      </a:lnTo>
                      <a:close/>
                    </a:path>
                  </a:pathLst>
                </a:custGeom>
                <a:solidFill>
                  <a:srgbClr val="2622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3713400" y="2743200"/>
                  <a:ext cx="1605960" cy="617400"/>
                </a:xfrm>
                <a:custGeom>
                  <a:avLst/>
                  <a:gdLst/>
                  <a:ahLst/>
                  <a:rect l="l" t="t" r="r" b="b"/>
                  <a:pathLst>
                    <a:path w="16408" h="11518">
                      <a:moveTo>
                        <a:pt x="12894" y="1455"/>
                      </a:moveTo>
                      <a:lnTo>
                        <a:pt x="12992" y="1452"/>
                      </a:lnTo>
                      <a:lnTo>
                        <a:pt x="13091" y="1453"/>
                      </a:lnTo>
                      <a:lnTo>
                        <a:pt x="13190" y="1456"/>
                      </a:lnTo>
                      <a:lnTo>
                        <a:pt x="13290" y="1463"/>
                      </a:lnTo>
                      <a:lnTo>
                        <a:pt x="13391" y="1473"/>
                      </a:lnTo>
                      <a:lnTo>
                        <a:pt x="13490" y="1485"/>
                      </a:lnTo>
                      <a:lnTo>
                        <a:pt x="13591" y="1501"/>
                      </a:lnTo>
                      <a:lnTo>
                        <a:pt x="13690" y="1519"/>
                      </a:lnTo>
                      <a:lnTo>
                        <a:pt x="13790" y="1541"/>
                      </a:lnTo>
                      <a:lnTo>
                        <a:pt x="13888" y="1566"/>
                      </a:lnTo>
                      <a:lnTo>
                        <a:pt x="13987" y="1594"/>
                      </a:lnTo>
                      <a:lnTo>
                        <a:pt x="14083" y="1626"/>
                      </a:lnTo>
                      <a:lnTo>
                        <a:pt x="14179" y="1659"/>
                      </a:lnTo>
                      <a:lnTo>
                        <a:pt x="14273" y="1696"/>
                      </a:lnTo>
                      <a:lnTo>
                        <a:pt x="14365" y="1737"/>
                      </a:lnTo>
                      <a:lnTo>
                        <a:pt x="14455" y="1781"/>
                      </a:lnTo>
                      <a:lnTo>
                        <a:pt x="14545" y="1828"/>
                      </a:lnTo>
                      <a:lnTo>
                        <a:pt x="14631" y="1878"/>
                      </a:lnTo>
                      <a:lnTo>
                        <a:pt x="14715" y="1931"/>
                      </a:lnTo>
                      <a:lnTo>
                        <a:pt x="14797" y="1987"/>
                      </a:lnTo>
                      <a:lnTo>
                        <a:pt x="14876" y="2046"/>
                      </a:lnTo>
                      <a:lnTo>
                        <a:pt x="14952" y="2109"/>
                      </a:lnTo>
                      <a:lnTo>
                        <a:pt x="15026" y="2174"/>
                      </a:lnTo>
                      <a:lnTo>
                        <a:pt x="15095" y="2244"/>
                      </a:lnTo>
                      <a:lnTo>
                        <a:pt x="15162" y="2316"/>
                      </a:lnTo>
                      <a:lnTo>
                        <a:pt x="15225" y="2392"/>
                      </a:lnTo>
                      <a:lnTo>
                        <a:pt x="15283" y="2471"/>
                      </a:lnTo>
                      <a:lnTo>
                        <a:pt x="15338" y="2554"/>
                      </a:lnTo>
                      <a:lnTo>
                        <a:pt x="15389" y="2639"/>
                      </a:lnTo>
                      <a:lnTo>
                        <a:pt x="15436" y="2727"/>
                      </a:lnTo>
                      <a:lnTo>
                        <a:pt x="15478" y="2820"/>
                      </a:lnTo>
                      <a:lnTo>
                        <a:pt x="15515" y="2915"/>
                      </a:lnTo>
                      <a:lnTo>
                        <a:pt x="15530" y="2973"/>
                      </a:lnTo>
                      <a:lnTo>
                        <a:pt x="15544" y="3031"/>
                      </a:lnTo>
                      <a:lnTo>
                        <a:pt x="15555" y="3088"/>
                      </a:lnTo>
                      <a:lnTo>
                        <a:pt x="15563" y="3144"/>
                      </a:lnTo>
                      <a:lnTo>
                        <a:pt x="15569" y="3199"/>
                      </a:lnTo>
                      <a:lnTo>
                        <a:pt x="15573" y="3255"/>
                      </a:lnTo>
                      <a:lnTo>
                        <a:pt x="15575" y="3310"/>
                      </a:lnTo>
                      <a:lnTo>
                        <a:pt x="15575" y="3364"/>
                      </a:lnTo>
                      <a:lnTo>
                        <a:pt x="15572" y="3417"/>
                      </a:lnTo>
                      <a:lnTo>
                        <a:pt x="15568" y="3470"/>
                      </a:lnTo>
                      <a:lnTo>
                        <a:pt x="15561" y="3522"/>
                      </a:lnTo>
                      <a:lnTo>
                        <a:pt x="15553" y="3573"/>
                      </a:lnTo>
                      <a:lnTo>
                        <a:pt x="15541" y="3624"/>
                      </a:lnTo>
                      <a:lnTo>
                        <a:pt x="15528" y="3674"/>
                      </a:lnTo>
                      <a:lnTo>
                        <a:pt x="15514" y="3724"/>
                      </a:lnTo>
                      <a:lnTo>
                        <a:pt x="15496" y="3773"/>
                      </a:lnTo>
                      <a:lnTo>
                        <a:pt x="15478" y="3821"/>
                      </a:lnTo>
                      <a:lnTo>
                        <a:pt x="15456" y="3868"/>
                      </a:lnTo>
                      <a:lnTo>
                        <a:pt x="15434" y="3915"/>
                      </a:lnTo>
                      <a:lnTo>
                        <a:pt x="15409" y="3960"/>
                      </a:lnTo>
                      <a:lnTo>
                        <a:pt x="15383" y="4005"/>
                      </a:lnTo>
                      <a:lnTo>
                        <a:pt x="15355" y="4049"/>
                      </a:lnTo>
                      <a:lnTo>
                        <a:pt x="15324" y="4093"/>
                      </a:lnTo>
                      <a:lnTo>
                        <a:pt x="15292" y="4135"/>
                      </a:lnTo>
                      <a:lnTo>
                        <a:pt x="15259" y="4177"/>
                      </a:lnTo>
                      <a:lnTo>
                        <a:pt x="15224" y="4219"/>
                      </a:lnTo>
                      <a:lnTo>
                        <a:pt x="15187" y="4258"/>
                      </a:lnTo>
                      <a:lnTo>
                        <a:pt x="15149" y="4298"/>
                      </a:lnTo>
                      <a:lnTo>
                        <a:pt x="15108" y="4336"/>
                      </a:lnTo>
                      <a:lnTo>
                        <a:pt x="15067" y="4374"/>
                      </a:lnTo>
                      <a:lnTo>
                        <a:pt x="15023" y="4410"/>
                      </a:lnTo>
                      <a:lnTo>
                        <a:pt x="14978" y="4447"/>
                      </a:lnTo>
                      <a:lnTo>
                        <a:pt x="15048" y="4466"/>
                      </a:lnTo>
                      <a:lnTo>
                        <a:pt x="15117" y="4487"/>
                      </a:lnTo>
                      <a:lnTo>
                        <a:pt x="15186" y="4510"/>
                      </a:lnTo>
                      <a:lnTo>
                        <a:pt x="15252" y="4534"/>
                      </a:lnTo>
                      <a:lnTo>
                        <a:pt x="15318" y="4561"/>
                      </a:lnTo>
                      <a:lnTo>
                        <a:pt x="15381" y="4588"/>
                      </a:lnTo>
                      <a:lnTo>
                        <a:pt x="15444" y="4619"/>
                      </a:lnTo>
                      <a:lnTo>
                        <a:pt x="15506" y="4650"/>
                      </a:lnTo>
                      <a:lnTo>
                        <a:pt x="15566" y="4683"/>
                      </a:lnTo>
                      <a:lnTo>
                        <a:pt x="15625" y="4718"/>
                      </a:lnTo>
                      <a:lnTo>
                        <a:pt x="15681" y="4755"/>
                      </a:lnTo>
                      <a:lnTo>
                        <a:pt x="15736" y="4793"/>
                      </a:lnTo>
                      <a:lnTo>
                        <a:pt x="15790" y="4833"/>
                      </a:lnTo>
                      <a:lnTo>
                        <a:pt x="15841" y="4875"/>
                      </a:lnTo>
                      <a:lnTo>
                        <a:pt x="15891" y="4919"/>
                      </a:lnTo>
                      <a:lnTo>
                        <a:pt x="15939" y="4964"/>
                      </a:lnTo>
                      <a:lnTo>
                        <a:pt x="15985" y="5011"/>
                      </a:lnTo>
                      <a:lnTo>
                        <a:pt x="16030" y="5060"/>
                      </a:lnTo>
                      <a:lnTo>
                        <a:pt x="16072" y="5111"/>
                      </a:lnTo>
                      <a:lnTo>
                        <a:pt x="16112" y="5164"/>
                      </a:lnTo>
                      <a:lnTo>
                        <a:pt x="16150" y="5219"/>
                      </a:lnTo>
                      <a:lnTo>
                        <a:pt x="16184" y="5275"/>
                      </a:lnTo>
                      <a:lnTo>
                        <a:pt x="16218" y="5333"/>
                      </a:lnTo>
                      <a:lnTo>
                        <a:pt x="16249" y="5392"/>
                      </a:lnTo>
                      <a:lnTo>
                        <a:pt x="16278" y="5455"/>
                      </a:lnTo>
                      <a:lnTo>
                        <a:pt x="16303" y="5518"/>
                      </a:lnTo>
                      <a:lnTo>
                        <a:pt x="16327" y="5584"/>
                      </a:lnTo>
                      <a:lnTo>
                        <a:pt x="16349" y="5651"/>
                      </a:lnTo>
                      <a:lnTo>
                        <a:pt x="16367" y="5720"/>
                      </a:lnTo>
                      <a:lnTo>
                        <a:pt x="16382" y="5791"/>
                      </a:lnTo>
                      <a:lnTo>
                        <a:pt x="16396" y="5864"/>
                      </a:lnTo>
                      <a:lnTo>
                        <a:pt x="16406" y="5939"/>
                      </a:lnTo>
                      <a:lnTo>
                        <a:pt x="16408" y="6053"/>
                      </a:lnTo>
                      <a:lnTo>
                        <a:pt x="16404" y="6164"/>
                      </a:lnTo>
                      <a:lnTo>
                        <a:pt x="16395" y="6273"/>
                      </a:lnTo>
                      <a:lnTo>
                        <a:pt x="16378" y="6381"/>
                      </a:lnTo>
                      <a:lnTo>
                        <a:pt x="16357" y="6487"/>
                      </a:lnTo>
                      <a:lnTo>
                        <a:pt x="16329" y="6591"/>
                      </a:lnTo>
                      <a:lnTo>
                        <a:pt x="16296" y="6692"/>
                      </a:lnTo>
                      <a:lnTo>
                        <a:pt x="16258" y="6792"/>
                      </a:lnTo>
                      <a:lnTo>
                        <a:pt x="16215" y="6889"/>
                      </a:lnTo>
                      <a:lnTo>
                        <a:pt x="16167" y="6985"/>
                      </a:lnTo>
                      <a:lnTo>
                        <a:pt x="16115" y="7077"/>
                      </a:lnTo>
                      <a:lnTo>
                        <a:pt x="16058" y="7169"/>
                      </a:lnTo>
                      <a:lnTo>
                        <a:pt x="15997" y="7258"/>
                      </a:lnTo>
                      <a:lnTo>
                        <a:pt x="15932" y="7343"/>
                      </a:lnTo>
                      <a:lnTo>
                        <a:pt x="15862" y="7427"/>
                      </a:lnTo>
                      <a:lnTo>
                        <a:pt x="15791" y="7509"/>
                      </a:lnTo>
                      <a:lnTo>
                        <a:pt x="15715" y="7588"/>
                      </a:lnTo>
                      <a:lnTo>
                        <a:pt x="15635" y="7664"/>
                      </a:lnTo>
                      <a:lnTo>
                        <a:pt x="15553" y="7738"/>
                      </a:lnTo>
                      <a:lnTo>
                        <a:pt x="15468" y="7809"/>
                      </a:lnTo>
                      <a:lnTo>
                        <a:pt x="15380" y="7877"/>
                      </a:lnTo>
                      <a:lnTo>
                        <a:pt x="15290" y="7943"/>
                      </a:lnTo>
                      <a:lnTo>
                        <a:pt x="15198" y="8005"/>
                      </a:lnTo>
                      <a:lnTo>
                        <a:pt x="15104" y="8065"/>
                      </a:lnTo>
                      <a:lnTo>
                        <a:pt x="15008" y="8122"/>
                      </a:lnTo>
                      <a:lnTo>
                        <a:pt x="14910" y="8176"/>
                      </a:lnTo>
                      <a:lnTo>
                        <a:pt x="14811" y="8227"/>
                      </a:lnTo>
                      <a:lnTo>
                        <a:pt x="14711" y="8276"/>
                      </a:lnTo>
                      <a:lnTo>
                        <a:pt x="14610" y="8321"/>
                      </a:lnTo>
                      <a:lnTo>
                        <a:pt x="14508" y="8363"/>
                      </a:lnTo>
                      <a:lnTo>
                        <a:pt x="14406" y="8401"/>
                      </a:lnTo>
                      <a:lnTo>
                        <a:pt x="14303" y="8436"/>
                      </a:lnTo>
                      <a:lnTo>
                        <a:pt x="14269" y="8448"/>
                      </a:lnTo>
                      <a:lnTo>
                        <a:pt x="14234" y="8457"/>
                      </a:lnTo>
                      <a:lnTo>
                        <a:pt x="14199" y="8468"/>
                      </a:lnTo>
                      <a:lnTo>
                        <a:pt x="14165" y="8477"/>
                      </a:lnTo>
                      <a:lnTo>
                        <a:pt x="14130" y="8486"/>
                      </a:lnTo>
                      <a:lnTo>
                        <a:pt x="14095" y="8496"/>
                      </a:lnTo>
                      <a:lnTo>
                        <a:pt x="14062" y="8504"/>
                      </a:lnTo>
                      <a:lnTo>
                        <a:pt x="14027" y="8513"/>
                      </a:lnTo>
                      <a:lnTo>
                        <a:pt x="13992" y="8520"/>
                      </a:lnTo>
                      <a:lnTo>
                        <a:pt x="13957" y="8528"/>
                      </a:lnTo>
                      <a:lnTo>
                        <a:pt x="13923" y="8535"/>
                      </a:lnTo>
                      <a:lnTo>
                        <a:pt x="13888" y="8542"/>
                      </a:lnTo>
                      <a:lnTo>
                        <a:pt x="13853" y="8549"/>
                      </a:lnTo>
                      <a:lnTo>
                        <a:pt x="13819" y="8555"/>
                      </a:lnTo>
                      <a:lnTo>
                        <a:pt x="13784" y="8560"/>
                      </a:lnTo>
                      <a:lnTo>
                        <a:pt x="13749" y="8567"/>
                      </a:lnTo>
                      <a:lnTo>
                        <a:pt x="13713" y="8572"/>
                      </a:lnTo>
                      <a:lnTo>
                        <a:pt x="13678" y="8576"/>
                      </a:lnTo>
                      <a:lnTo>
                        <a:pt x="13643" y="8581"/>
                      </a:lnTo>
                      <a:lnTo>
                        <a:pt x="13608" y="8585"/>
                      </a:lnTo>
                      <a:lnTo>
                        <a:pt x="13572" y="8590"/>
                      </a:lnTo>
                      <a:lnTo>
                        <a:pt x="13538" y="8593"/>
                      </a:lnTo>
                      <a:lnTo>
                        <a:pt x="13502" y="8596"/>
                      </a:lnTo>
                      <a:lnTo>
                        <a:pt x="13466" y="8599"/>
                      </a:lnTo>
                      <a:lnTo>
                        <a:pt x="13431" y="8601"/>
                      </a:lnTo>
                      <a:lnTo>
                        <a:pt x="13395" y="8603"/>
                      </a:lnTo>
                      <a:lnTo>
                        <a:pt x="13359" y="8605"/>
                      </a:lnTo>
                      <a:lnTo>
                        <a:pt x="13323" y="8606"/>
                      </a:lnTo>
                      <a:lnTo>
                        <a:pt x="13287" y="8607"/>
                      </a:lnTo>
                      <a:lnTo>
                        <a:pt x="13250" y="8608"/>
                      </a:lnTo>
                      <a:lnTo>
                        <a:pt x="13215" y="8608"/>
                      </a:lnTo>
                      <a:lnTo>
                        <a:pt x="13179" y="8608"/>
                      </a:lnTo>
                      <a:lnTo>
                        <a:pt x="13156" y="8703"/>
                      </a:lnTo>
                      <a:lnTo>
                        <a:pt x="13132" y="8797"/>
                      </a:lnTo>
                      <a:lnTo>
                        <a:pt x="13105" y="8888"/>
                      </a:lnTo>
                      <a:lnTo>
                        <a:pt x="13075" y="8978"/>
                      </a:lnTo>
                      <a:lnTo>
                        <a:pt x="13042" y="9067"/>
                      </a:lnTo>
                      <a:lnTo>
                        <a:pt x="13006" y="9154"/>
                      </a:lnTo>
                      <a:lnTo>
                        <a:pt x="12969" y="9239"/>
                      </a:lnTo>
                      <a:lnTo>
                        <a:pt x="12928" y="9323"/>
                      </a:lnTo>
                      <a:lnTo>
                        <a:pt x="12886" y="9406"/>
                      </a:lnTo>
                      <a:lnTo>
                        <a:pt x="12840" y="9486"/>
                      </a:lnTo>
                      <a:lnTo>
                        <a:pt x="12793" y="9565"/>
                      </a:lnTo>
                      <a:lnTo>
                        <a:pt x="12744" y="9643"/>
                      </a:lnTo>
                      <a:lnTo>
                        <a:pt x="12692" y="9719"/>
                      </a:lnTo>
                      <a:lnTo>
                        <a:pt x="12637" y="9794"/>
                      </a:lnTo>
                      <a:lnTo>
                        <a:pt x="12581" y="9867"/>
                      </a:lnTo>
                      <a:lnTo>
                        <a:pt x="12522" y="9939"/>
                      </a:lnTo>
                      <a:lnTo>
                        <a:pt x="12462" y="10010"/>
                      </a:lnTo>
                      <a:lnTo>
                        <a:pt x="12399" y="10079"/>
                      </a:lnTo>
                      <a:lnTo>
                        <a:pt x="12336" y="10146"/>
                      </a:lnTo>
                      <a:lnTo>
                        <a:pt x="12269" y="10212"/>
                      </a:lnTo>
                      <a:lnTo>
                        <a:pt x="12201" y="10277"/>
                      </a:lnTo>
                      <a:lnTo>
                        <a:pt x="12132" y="10339"/>
                      </a:lnTo>
                      <a:lnTo>
                        <a:pt x="12060" y="10401"/>
                      </a:lnTo>
                      <a:lnTo>
                        <a:pt x="11987" y="10461"/>
                      </a:lnTo>
                      <a:lnTo>
                        <a:pt x="11912" y="10519"/>
                      </a:lnTo>
                      <a:lnTo>
                        <a:pt x="11836" y="10577"/>
                      </a:lnTo>
                      <a:lnTo>
                        <a:pt x="11758" y="10632"/>
                      </a:lnTo>
                      <a:lnTo>
                        <a:pt x="11679" y="10686"/>
                      </a:lnTo>
                      <a:lnTo>
                        <a:pt x="11599" y="10739"/>
                      </a:lnTo>
                      <a:lnTo>
                        <a:pt x="11517" y="10791"/>
                      </a:lnTo>
                      <a:lnTo>
                        <a:pt x="11434" y="10841"/>
                      </a:lnTo>
                      <a:lnTo>
                        <a:pt x="11350" y="10889"/>
                      </a:lnTo>
                      <a:lnTo>
                        <a:pt x="11320" y="10905"/>
                      </a:lnTo>
                      <a:lnTo>
                        <a:pt x="11292" y="10920"/>
                      </a:lnTo>
                      <a:lnTo>
                        <a:pt x="11262" y="10936"/>
                      </a:lnTo>
                      <a:lnTo>
                        <a:pt x="11232" y="10950"/>
                      </a:lnTo>
                      <a:lnTo>
                        <a:pt x="11203" y="10965"/>
                      </a:lnTo>
                      <a:lnTo>
                        <a:pt x="11174" y="10980"/>
                      </a:lnTo>
                      <a:lnTo>
                        <a:pt x="11144" y="10994"/>
                      </a:lnTo>
                      <a:lnTo>
                        <a:pt x="11114" y="11009"/>
                      </a:lnTo>
                      <a:lnTo>
                        <a:pt x="11084" y="11023"/>
                      </a:lnTo>
                      <a:lnTo>
                        <a:pt x="11054" y="11037"/>
                      </a:lnTo>
                      <a:lnTo>
                        <a:pt x="11024" y="11050"/>
                      </a:lnTo>
                      <a:lnTo>
                        <a:pt x="10994" y="11065"/>
                      </a:lnTo>
                      <a:lnTo>
                        <a:pt x="10964" y="11079"/>
                      </a:lnTo>
                      <a:lnTo>
                        <a:pt x="10934" y="11092"/>
                      </a:lnTo>
                      <a:lnTo>
                        <a:pt x="10903" y="11106"/>
                      </a:lnTo>
                      <a:lnTo>
                        <a:pt x="10872" y="11119"/>
                      </a:lnTo>
                      <a:lnTo>
                        <a:pt x="10805" y="11145"/>
                      </a:lnTo>
                      <a:lnTo>
                        <a:pt x="10737" y="11171"/>
                      </a:lnTo>
                      <a:lnTo>
                        <a:pt x="10668" y="11195"/>
                      </a:lnTo>
                      <a:lnTo>
                        <a:pt x="10601" y="11219"/>
                      </a:lnTo>
                      <a:lnTo>
                        <a:pt x="10533" y="11241"/>
                      </a:lnTo>
                      <a:lnTo>
                        <a:pt x="10466" y="11263"/>
                      </a:lnTo>
                      <a:lnTo>
                        <a:pt x="10399" y="11284"/>
                      </a:lnTo>
                      <a:lnTo>
                        <a:pt x="10331" y="11303"/>
                      </a:lnTo>
                      <a:lnTo>
                        <a:pt x="10263" y="11322"/>
                      </a:lnTo>
                      <a:lnTo>
                        <a:pt x="10197" y="11340"/>
                      </a:lnTo>
                      <a:lnTo>
                        <a:pt x="10129" y="11358"/>
                      </a:lnTo>
                      <a:lnTo>
                        <a:pt x="10061" y="11373"/>
                      </a:lnTo>
                      <a:lnTo>
                        <a:pt x="9993" y="11389"/>
                      </a:lnTo>
                      <a:lnTo>
                        <a:pt x="9926" y="11403"/>
                      </a:lnTo>
                      <a:lnTo>
                        <a:pt x="9858" y="11417"/>
                      </a:lnTo>
                      <a:lnTo>
                        <a:pt x="9789" y="11429"/>
                      </a:lnTo>
                      <a:lnTo>
                        <a:pt x="9722" y="11441"/>
                      </a:lnTo>
                      <a:lnTo>
                        <a:pt x="9653" y="11452"/>
                      </a:lnTo>
                      <a:lnTo>
                        <a:pt x="9584" y="11462"/>
                      </a:lnTo>
                      <a:lnTo>
                        <a:pt x="9516" y="11471"/>
                      </a:lnTo>
                      <a:lnTo>
                        <a:pt x="9447" y="11479"/>
                      </a:lnTo>
                      <a:lnTo>
                        <a:pt x="9377" y="11487"/>
                      </a:lnTo>
                      <a:lnTo>
                        <a:pt x="9307" y="11494"/>
                      </a:lnTo>
                      <a:lnTo>
                        <a:pt x="9238" y="11499"/>
                      </a:lnTo>
                      <a:lnTo>
                        <a:pt x="9167" y="11504"/>
                      </a:lnTo>
                      <a:lnTo>
                        <a:pt x="9097" y="11509"/>
                      </a:lnTo>
                      <a:lnTo>
                        <a:pt x="9025" y="11512"/>
                      </a:lnTo>
                      <a:lnTo>
                        <a:pt x="8954" y="11515"/>
                      </a:lnTo>
                      <a:lnTo>
                        <a:pt x="8882" y="11517"/>
                      </a:lnTo>
                      <a:lnTo>
                        <a:pt x="8810" y="11517"/>
                      </a:lnTo>
                      <a:lnTo>
                        <a:pt x="8737" y="11518"/>
                      </a:lnTo>
                      <a:lnTo>
                        <a:pt x="8663" y="11517"/>
                      </a:lnTo>
                      <a:lnTo>
                        <a:pt x="8262" y="11488"/>
                      </a:lnTo>
                      <a:lnTo>
                        <a:pt x="8161" y="11474"/>
                      </a:lnTo>
                      <a:lnTo>
                        <a:pt x="8060" y="11458"/>
                      </a:lnTo>
                      <a:lnTo>
                        <a:pt x="7959" y="11440"/>
                      </a:lnTo>
                      <a:lnTo>
                        <a:pt x="7858" y="11421"/>
                      </a:lnTo>
                      <a:lnTo>
                        <a:pt x="7758" y="11400"/>
                      </a:lnTo>
                      <a:lnTo>
                        <a:pt x="7657" y="11376"/>
                      </a:lnTo>
                      <a:lnTo>
                        <a:pt x="7558" y="11351"/>
                      </a:lnTo>
                      <a:lnTo>
                        <a:pt x="7459" y="11325"/>
                      </a:lnTo>
                      <a:lnTo>
                        <a:pt x="7362" y="11296"/>
                      </a:lnTo>
                      <a:lnTo>
                        <a:pt x="7265" y="11265"/>
                      </a:lnTo>
                      <a:lnTo>
                        <a:pt x="7168" y="11233"/>
                      </a:lnTo>
                      <a:lnTo>
                        <a:pt x="7072" y="11197"/>
                      </a:lnTo>
                      <a:lnTo>
                        <a:pt x="6978" y="11161"/>
                      </a:lnTo>
                      <a:lnTo>
                        <a:pt x="6884" y="11121"/>
                      </a:lnTo>
                      <a:lnTo>
                        <a:pt x="6792" y="11080"/>
                      </a:lnTo>
                      <a:lnTo>
                        <a:pt x="6701" y="11037"/>
                      </a:lnTo>
                      <a:lnTo>
                        <a:pt x="6611" y="10990"/>
                      </a:lnTo>
                      <a:lnTo>
                        <a:pt x="6522" y="10942"/>
                      </a:lnTo>
                      <a:lnTo>
                        <a:pt x="6436" y="10892"/>
                      </a:lnTo>
                      <a:lnTo>
                        <a:pt x="6350" y="10839"/>
                      </a:lnTo>
                      <a:lnTo>
                        <a:pt x="6266" y="10784"/>
                      </a:lnTo>
                      <a:lnTo>
                        <a:pt x="6184" y="10727"/>
                      </a:lnTo>
                      <a:lnTo>
                        <a:pt x="6104" y="10666"/>
                      </a:lnTo>
                      <a:lnTo>
                        <a:pt x="6025" y="10604"/>
                      </a:lnTo>
                      <a:lnTo>
                        <a:pt x="5948" y="10539"/>
                      </a:lnTo>
                      <a:lnTo>
                        <a:pt x="5873" y="10471"/>
                      </a:lnTo>
                      <a:lnTo>
                        <a:pt x="5800" y="10401"/>
                      </a:lnTo>
                      <a:lnTo>
                        <a:pt x="5729" y="10328"/>
                      </a:lnTo>
                      <a:lnTo>
                        <a:pt x="5662" y="10253"/>
                      </a:lnTo>
                      <a:lnTo>
                        <a:pt x="5595" y="10175"/>
                      </a:lnTo>
                      <a:lnTo>
                        <a:pt x="5532" y="10093"/>
                      </a:lnTo>
                      <a:lnTo>
                        <a:pt x="5470" y="10010"/>
                      </a:lnTo>
                      <a:lnTo>
                        <a:pt x="5380" y="10000"/>
                      </a:lnTo>
                      <a:lnTo>
                        <a:pt x="5290" y="9987"/>
                      </a:lnTo>
                      <a:lnTo>
                        <a:pt x="5199" y="9974"/>
                      </a:lnTo>
                      <a:lnTo>
                        <a:pt x="5109" y="9958"/>
                      </a:lnTo>
                      <a:lnTo>
                        <a:pt x="5020" y="9941"/>
                      </a:lnTo>
                      <a:lnTo>
                        <a:pt x="4931" y="9923"/>
                      </a:lnTo>
                      <a:lnTo>
                        <a:pt x="4842" y="9902"/>
                      </a:lnTo>
                      <a:lnTo>
                        <a:pt x="4754" y="9879"/>
                      </a:lnTo>
                      <a:lnTo>
                        <a:pt x="4666" y="9855"/>
                      </a:lnTo>
                      <a:lnTo>
                        <a:pt x="4579" y="9830"/>
                      </a:lnTo>
                      <a:lnTo>
                        <a:pt x="4493" y="9802"/>
                      </a:lnTo>
                      <a:lnTo>
                        <a:pt x="4408" y="9773"/>
                      </a:lnTo>
                      <a:lnTo>
                        <a:pt x="4322" y="9741"/>
                      </a:lnTo>
                      <a:lnTo>
                        <a:pt x="4238" y="9708"/>
                      </a:lnTo>
                      <a:lnTo>
                        <a:pt x="4155" y="9673"/>
                      </a:lnTo>
                      <a:lnTo>
                        <a:pt x="4073" y="9636"/>
                      </a:lnTo>
                      <a:lnTo>
                        <a:pt x="3993" y="9597"/>
                      </a:lnTo>
                      <a:lnTo>
                        <a:pt x="3913" y="9556"/>
                      </a:lnTo>
                      <a:lnTo>
                        <a:pt x="3834" y="9513"/>
                      </a:lnTo>
                      <a:lnTo>
                        <a:pt x="3757" y="9469"/>
                      </a:lnTo>
                      <a:lnTo>
                        <a:pt x="3682" y="9422"/>
                      </a:lnTo>
                      <a:lnTo>
                        <a:pt x="3607" y="9373"/>
                      </a:lnTo>
                      <a:lnTo>
                        <a:pt x="3533" y="9322"/>
                      </a:lnTo>
                      <a:lnTo>
                        <a:pt x="3461" y="9269"/>
                      </a:lnTo>
                      <a:lnTo>
                        <a:pt x="3391" y="9213"/>
                      </a:lnTo>
                      <a:lnTo>
                        <a:pt x="3323" y="9156"/>
                      </a:lnTo>
                      <a:lnTo>
                        <a:pt x="3256" y="9097"/>
                      </a:lnTo>
                      <a:lnTo>
                        <a:pt x="3191" y="9035"/>
                      </a:lnTo>
                      <a:lnTo>
                        <a:pt x="3128" y="8972"/>
                      </a:lnTo>
                      <a:lnTo>
                        <a:pt x="3066" y="8905"/>
                      </a:lnTo>
                      <a:lnTo>
                        <a:pt x="3007" y="8837"/>
                      </a:lnTo>
                      <a:lnTo>
                        <a:pt x="2949" y="8767"/>
                      </a:lnTo>
                      <a:lnTo>
                        <a:pt x="2927" y="8735"/>
                      </a:lnTo>
                      <a:lnTo>
                        <a:pt x="2905" y="8703"/>
                      </a:lnTo>
                      <a:lnTo>
                        <a:pt x="2885" y="8671"/>
                      </a:lnTo>
                      <a:lnTo>
                        <a:pt x="2864" y="8639"/>
                      </a:lnTo>
                      <a:lnTo>
                        <a:pt x="2845" y="8606"/>
                      </a:lnTo>
                      <a:lnTo>
                        <a:pt x="2825" y="8574"/>
                      </a:lnTo>
                      <a:lnTo>
                        <a:pt x="2807" y="8541"/>
                      </a:lnTo>
                      <a:lnTo>
                        <a:pt x="2789" y="8507"/>
                      </a:lnTo>
                      <a:lnTo>
                        <a:pt x="2772" y="8474"/>
                      </a:lnTo>
                      <a:lnTo>
                        <a:pt x="2756" y="8441"/>
                      </a:lnTo>
                      <a:lnTo>
                        <a:pt x="2740" y="8406"/>
                      </a:lnTo>
                      <a:lnTo>
                        <a:pt x="2726" y="8372"/>
                      </a:lnTo>
                      <a:lnTo>
                        <a:pt x="2711" y="8338"/>
                      </a:lnTo>
                      <a:lnTo>
                        <a:pt x="2699" y="8303"/>
                      </a:lnTo>
                      <a:lnTo>
                        <a:pt x="2687" y="8269"/>
                      </a:lnTo>
                      <a:lnTo>
                        <a:pt x="2676" y="8233"/>
                      </a:lnTo>
                      <a:lnTo>
                        <a:pt x="2665" y="8198"/>
                      </a:lnTo>
                      <a:lnTo>
                        <a:pt x="2655" y="8163"/>
                      </a:lnTo>
                      <a:lnTo>
                        <a:pt x="2647" y="8127"/>
                      </a:lnTo>
                      <a:lnTo>
                        <a:pt x="2640" y="8092"/>
                      </a:lnTo>
                      <a:lnTo>
                        <a:pt x="2633" y="8055"/>
                      </a:lnTo>
                      <a:lnTo>
                        <a:pt x="2627" y="8019"/>
                      </a:lnTo>
                      <a:lnTo>
                        <a:pt x="2623" y="7982"/>
                      </a:lnTo>
                      <a:lnTo>
                        <a:pt x="2620" y="7946"/>
                      </a:lnTo>
                      <a:lnTo>
                        <a:pt x="2617" y="7908"/>
                      </a:lnTo>
                      <a:lnTo>
                        <a:pt x="2616" y="7872"/>
                      </a:lnTo>
                      <a:lnTo>
                        <a:pt x="2616" y="7835"/>
                      </a:lnTo>
                      <a:lnTo>
                        <a:pt x="2617" y="7797"/>
                      </a:lnTo>
                      <a:lnTo>
                        <a:pt x="2620" y="7759"/>
                      </a:lnTo>
                      <a:lnTo>
                        <a:pt x="2623" y="7721"/>
                      </a:lnTo>
                      <a:lnTo>
                        <a:pt x="2628" y="7682"/>
                      </a:lnTo>
                      <a:lnTo>
                        <a:pt x="2635" y="7644"/>
                      </a:lnTo>
                      <a:lnTo>
                        <a:pt x="2629" y="7639"/>
                      </a:lnTo>
                      <a:lnTo>
                        <a:pt x="2625" y="7635"/>
                      </a:lnTo>
                      <a:lnTo>
                        <a:pt x="2620" y="7629"/>
                      </a:lnTo>
                      <a:lnTo>
                        <a:pt x="2615" y="7624"/>
                      </a:lnTo>
                      <a:lnTo>
                        <a:pt x="2611" y="7619"/>
                      </a:lnTo>
                      <a:lnTo>
                        <a:pt x="2606" y="7615"/>
                      </a:lnTo>
                      <a:lnTo>
                        <a:pt x="2602" y="7610"/>
                      </a:lnTo>
                      <a:lnTo>
                        <a:pt x="2597" y="7604"/>
                      </a:lnTo>
                      <a:lnTo>
                        <a:pt x="2506" y="7605"/>
                      </a:lnTo>
                      <a:lnTo>
                        <a:pt x="2415" y="7604"/>
                      </a:lnTo>
                      <a:lnTo>
                        <a:pt x="2325" y="7601"/>
                      </a:lnTo>
                      <a:lnTo>
                        <a:pt x="2235" y="7595"/>
                      </a:lnTo>
                      <a:lnTo>
                        <a:pt x="2144" y="7587"/>
                      </a:lnTo>
                      <a:lnTo>
                        <a:pt x="2055" y="7575"/>
                      </a:lnTo>
                      <a:lnTo>
                        <a:pt x="1966" y="7563"/>
                      </a:lnTo>
                      <a:lnTo>
                        <a:pt x="1878" y="7547"/>
                      </a:lnTo>
                      <a:lnTo>
                        <a:pt x="1791" y="7528"/>
                      </a:lnTo>
                      <a:lnTo>
                        <a:pt x="1704" y="7508"/>
                      </a:lnTo>
                      <a:lnTo>
                        <a:pt x="1618" y="7485"/>
                      </a:lnTo>
                      <a:lnTo>
                        <a:pt x="1533" y="7459"/>
                      </a:lnTo>
                      <a:lnTo>
                        <a:pt x="1450" y="7430"/>
                      </a:lnTo>
                      <a:lnTo>
                        <a:pt x="1368" y="7399"/>
                      </a:lnTo>
                      <a:lnTo>
                        <a:pt x="1287" y="7366"/>
                      </a:lnTo>
                      <a:lnTo>
                        <a:pt x="1207" y="7330"/>
                      </a:lnTo>
                      <a:lnTo>
                        <a:pt x="1128" y="7292"/>
                      </a:lnTo>
                      <a:lnTo>
                        <a:pt x="1052" y="7251"/>
                      </a:lnTo>
                      <a:lnTo>
                        <a:pt x="976" y="7208"/>
                      </a:lnTo>
                      <a:lnTo>
                        <a:pt x="903" y="7162"/>
                      </a:lnTo>
                      <a:lnTo>
                        <a:pt x="832" y="7113"/>
                      </a:lnTo>
                      <a:lnTo>
                        <a:pt x="762" y="7062"/>
                      </a:lnTo>
                      <a:lnTo>
                        <a:pt x="694" y="7008"/>
                      </a:lnTo>
                      <a:lnTo>
                        <a:pt x="629" y="6951"/>
                      </a:lnTo>
                      <a:lnTo>
                        <a:pt x="565" y="6892"/>
                      </a:lnTo>
                      <a:lnTo>
                        <a:pt x="505" y="6830"/>
                      </a:lnTo>
                      <a:lnTo>
                        <a:pt x="446" y="6766"/>
                      </a:lnTo>
                      <a:lnTo>
                        <a:pt x="390" y="6698"/>
                      </a:lnTo>
                      <a:lnTo>
                        <a:pt x="335" y="6629"/>
                      </a:lnTo>
                      <a:lnTo>
                        <a:pt x="284" y="6557"/>
                      </a:lnTo>
                      <a:lnTo>
                        <a:pt x="236" y="6482"/>
                      </a:lnTo>
                      <a:lnTo>
                        <a:pt x="190" y="6404"/>
                      </a:lnTo>
                      <a:lnTo>
                        <a:pt x="165" y="6352"/>
                      </a:lnTo>
                      <a:lnTo>
                        <a:pt x="142" y="6300"/>
                      </a:lnTo>
                      <a:lnTo>
                        <a:pt x="120" y="6247"/>
                      </a:lnTo>
                      <a:lnTo>
                        <a:pt x="100" y="6195"/>
                      </a:lnTo>
                      <a:lnTo>
                        <a:pt x="83" y="6144"/>
                      </a:lnTo>
                      <a:lnTo>
                        <a:pt x="67" y="6092"/>
                      </a:lnTo>
                      <a:lnTo>
                        <a:pt x="52" y="6040"/>
                      </a:lnTo>
                      <a:lnTo>
                        <a:pt x="39" y="5989"/>
                      </a:lnTo>
                      <a:lnTo>
                        <a:pt x="29" y="5937"/>
                      </a:lnTo>
                      <a:lnTo>
                        <a:pt x="19" y="5886"/>
                      </a:lnTo>
                      <a:lnTo>
                        <a:pt x="11" y="5834"/>
                      </a:lnTo>
                      <a:lnTo>
                        <a:pt x="6" y="5783"/>
                      </a:lnTo>
                      <a:lnTo>
                        <a:pt x="2" y="5732"/>
                      </a:lnTo>
                      <a:lnTo>
                        <a:pt x="0" y="5680"/>
                      </a:lnTo>
                      <a:lnTo>
                        <a:pt x="0" y="5629"/>
                      </a:lnTo>
                      <a:lnTo>
                        <a:pt x="1" y="5578"/>
                      </a:lnTo>
                      <a:lnTo>
                        <a:pt x="5" y="5527"/>
                      </a:lnTo>
                      <a:lnTo>
                        <a:pt x="10" y="5476"/>
                      </a:lnTo>
                      <a:lnTo>
                        <a:pt x="16" y="5425"/>
                      </a:lnTo>
                      <a:lnTo>
                        <a:pt x="26" y="5374"/>
                      </a:lnTo>
                      <a:lnTo>
                        <a:pt x="36" y="5323"/>
                      </a:lnTo>
                      <a:lnTo>
                        <a:pt x="48" y="5272"/>
                      </a:lnTo>
                      <a:lnTo>
                        <a:pt x="62" y="5221"/>
                      </a:lnTo>
                      <a:lnTo>
                        <a:pt x="78" y="5171"/>
                      </a:lnTo>
                      <a:lnTo>
                        <a:pt x="95" y="5120"/>
                      </a:lnTo>
                      <a:lnTo>
                        <a:pt x="115" y="5069"/>
                      </a:lnTo>
                      <a:lnTo>
                        <a:pt x="135" y="5018"/>
                      </a:lnTo>
                      <a:lnTo>
                        <a:pt x="158" y="4968"/>
                      </a:lnTo>
                      <a:lnTo>
                        <a:pt x="183" y="4917"/>
                      </a:lnTo>
                      <a:lnTo>
                        <a:pt x="209" y="4867"/>
                      </a:lnTo>
                      <a:lnTo>
                        <a:pt x="238" y="4815"/>
                      </a:lnTo>
                      <a:lnTo>
                        <a:pt x="268" y="4764"/>
                      </a:lnTo>
                      <a:lnTo>
                        <a:pt x="308" y="4708"/>
                      </a:lnTo>
                      <a:lnTo>
                        <a:pt x="349" y="4654"/>
                      </a:lnTo>
                      <a:lnTo>
                        <a:pt x="392" y="4601"/>
                      </a:lnTo>
                      <a:lnTo>
                        <a:pt x="436" y="4550"/>
                      </a:lnTo>
                      <a:lnTo>
                        <a:pt x="481" y="4500"/>
                      </a:lnTo>
                      <a:lnTo>
                        <a:pt x="527" y="4452"/>
                      </a:lnTo>
                      <a:lnTo>
                        <a:pt x="575" y="4406"/>
                      </a:lnTo>
                      <a:lnTo>
                        <a:pt x="625" y="4361"/>
                      </a:lnTo>
                      <a:lnTo>
                        <a:pt x="675" y="4318"/>
                      </a:lnTo>
                      <a:lnTo>
                        <a:pt x="726" y="4276"/>
                      </a:lnTo>
                      <a:lnTo>
                        <a:pt x="778" y="4236"/>
                      </a:lnTo>
                      <a:lnTo>
                        <a:pt x="832" y="4198"/>
                      </a:lnTo>
                      <a:lnTo>
                        <a:pt x="886" y="4161"/>
                      </a:lnTo>
                      <a:lnTo>
                        <a:pt x="941" y="4126"/>
                      </a:lnTo>
                      <a:lnTo>
                        <a:pt x="999" y="4092"/>
                      </a:lnTo>
                      <a:lnTo>
                        <a:pt x="1055" y="4060"/>
                      </a:lnTo>
                      <a:lnTo>
                        <a:pt x="1114" y="4029"/>
                      </a:lnTo>
                      <a:lnTo>
                        <a:pt x="1173" y="4000"/>
                      </a:lnTo>
                      <a:lnTo>
                        <a:pt x="1233" y="3973"/>
                      </a:lnTo>
                      <a:lnTo>
                        <a:pt x="1293" y="3947"/>
                      </a:lnTo>
                      <a:lnTo>
                        <a:pt x="1355" y="3922"/>
                      </a:lnTo>
                      <a:lnTo>
                        <a:pt x="1417" y="3899"/>
                      </a:lnTo>
                      <a:lnTo>
                        <a:pt x="1480" y="3877"/>
                      </a:lnTo>
                      <a:lnTo>
                        <a:pt x="1543" y="3857"/>
                      </a:lnTo>
                      <a:lnTo>
                        <a:pt x="1608" y="3839"/>
                      </a:lnTo>
                      <a:lnTo>
                        <a:pt x="1673" y="3822"/>
                      </a:lnTo>
                      <a:lnTo>
                        <a:pt x="1737" y="3806"/>
                      </a:lnTo>
                      <a:lnTo>
                        <a:pt x="1803" y="3792"/>
                      </a:lnTo>
                      <a:lnTo>
                        <a:pt x="1869" y="3779"/>
                      </a:lnTo>
                      <a:lnTo>
                        <a:pt x="1936" y="3768"/>
                      </a:lnTo>
                      <a:lnTo>
                        <a:pt x="2003" y="3758"/>
                      </a:lnTo>
                      <a:lnTo>
                        <a:pt x="2070" y="3750"/>
                      </a:lnTo>
                      <a:lnTo>
                        <a:pt x="2037" y="3718"/>
                      </a:lnTo>
                      <a:lnTo>
                        <a:pt x="2005" y="3685"/>
                      </a:lnTo>
                      <a:lnTo>
                        <a:pt x="1974" y="3651"/>
                      </a:lnTo>
                      <a:lnTo>
                        <a:pt x="1945" y="3618"/>
                      </a:lnTo>
                      <a:lnTo>
                        <a:pt x="1919" y="3583"/>
                      </a:lnTo>
                      <a:lnTo>
                        <a:pt x="1893" y="3549"/>
                      </a:lnTo>
                      <a:lnTo>
                        <a:pt x="1868" y="3514"/>
                      </a:lnTo>
                      <a:lnTo>
                        <a:pt x="1846" y="3478"/>
                      </a:lnTo>
                      <a:lnTo>
                        <a:pt x="1825" y="3442"/>
                      </a:lnTo>
                      <a:lnTo>
                        <a:pt x="1806" y="3405"/>
                      </a:lnTo>
                      <a:lnTo>
                        <a:pt x="1787" y="3368"/>
                      </a:lnTo>
                      <a:lnTo>
                        <a:pt x="1772" y="3330"/>
                      </a:lnTo>
                      <a:lnTo>
                        <a:pt x="1758" y="3293"/>
                      </a:lnTo>
                      <a:lnTo>
                        <a:pt x="1744" y="3254"/>
                      </a:lnTo>
                      <a:lnTo>
                        <a:pt x="1733" y="3216"/>
                      </a:lnTo>
                      <a:lnTo>
                        <a:pt x="1724" y="3176"/>
                      </a:lnTo>
                      <a:lnTo>
                        <a:pt x="1717" y="3137"/>
                      </a:lnTo>
                      <a:lnTo>
                        <a:pt x="1711" y="3097"/>
                      </a:lnTo>
                      <a:lnTo>
                        <a:pt x="1706" y="3058"/>
                      </a:lnTo>
                      <a:lnTo>
                        <a:pt x="1703" y="3017"/>
                      </a:lnTo>
                      <a:lnTo>
                        <a:pt x="1702" y="2975"/>
                      </a:lnTo>
                      <a:lnTo>
                        <a:pt x="1703" y="2935"/>
                      </a:lnTo>
                      <a:lnTo>
                        <a:pt x="1706" y="2893"/>
                      </a:lnTo>
                      <a:lnTo>
                        <a:pt x="1712" y="2851"/>
                      </a:lnTo>
                      <a:lnTo>
                        <a:pt x="1718" y="2809"/>
                      </a:lnTo>
                      <a:lnTo>
                        <a:pt x="1726" y="2767"/>
                      </a:lnTo>
                      <a:lnTo>
                        <a:pt x="1736" y="2724"/>
                      </a:lnTo>
                      <a:lnTo>
                        <a:pt x="1747" y="2681"/>
                      </a:lnTo>
                      <a:lnTo>
                        <a:pt x="1761" y="2638"/>
                      </a:lnTo>
                      <a:lnTo>
                        <a:pt x="1777" y="2594"/>
                      </a:lnTo>
                      <a:lnTo>
                        <a:pt x="1795" y="2550"/>
                      </a:lnTo>
                      <a:lnTo>
                        <a:pt x="1813" y="2507"/>
                      </a:lnTo>
                      <a:lnTo>
                        <a:pt x="1843" y="2454"/>
                      </a:lnTo>
                      <a:lnTo>
                        <a:pt x="1874" y="2404"/>
                      </a:lnTo>
                      <a:lnTo>
                        <a:pt x="1906" y="2354"/>
                      </a:lnTo>
                      <a:lnTo>
                        <a:pt x="1940" y="2306"/>
                      </a:lnTo>
                      <a:lnTo>
                        <a:pt x="1976" y="2260"/>
                      </a:lnTo>
                      <a:lnTo>
                        <a:pt x="2013" y="2215"/>
                      </a:lnTo>
                      <a:lnTo>
                        <a:pt x="2052" y="2171"/>
                      </a:lnTo>
                      <a:lnTo>
                        <a:pt x="2092" y="2129"/>
                      </a:lnTo>
                      <a:lnTo>
                        <a:pt x="2133" y="2088"/>
                      </a:lnTo>
                      <a:lnTo>
                        <a:pt x="2175" y="2048"/>
                      </a:lnTo>
                      <a:lnTo>
                        <a:pt x="2219" y="2011"/>
                      </a:lnTo>
                      <a:lnTo>
                        <a:pt x="2264" y="1973"/>
                      </a:lnTo>
                      <a:lnTo>
                        <a:pt x="2310" y="1938"/>
                      </a:lnTo>
                      <a:lnTo>
                        <a:pt x="2358" y="1904"/>
                      </a:lnTo>
                      <a:lnTo>
                        <a:pt x="2405" y="1871"/>
                      </a:lnTo>
                      <a:lnTo>
                        <a:pt x="2454" y="1839"/>
                      </a:lnTo>
                      <a:lnTo>
                        <a:pt x="2504" y="1809"/>
                      </a:lnTo>
                      <a:lnTo>
                        <a:pt x="2555" y="1780"/>
                      </a:lnTo>
                      <a:lnTo>
                        <a:pt x="2607" y="1752"/>
                      </a:lnTo>
                      <a:lnTo>
                        <a:pt x="2659" y="1725"/>
                      </a:lnTo>
                      <a:lnTo>
                        <a:pt x="2712" y="1699"/>
                      </a:lnTo>
                      <a:lnTo>
                        <a:pt x="2766" y="1675"/>
                      </a:lnTo>
                      <a:lnTo>
                        <a:pt x="2820" y="1651"/>
                      </a:lnTo>
                      <a:lnTo>
                        <a:pt x="2876" y="1629"/>
                      </a:lnTo>
                      <a:lnTo>
                        <a:pt x="2931" y="1607"/>
                      </a:lnTo>
                      <a:lnTo>
                        <a:pt x="2986" y="1587"/>
                      </a:lnTo>
                      <a:lnTo>
                        <a:pt x="3043" y="1568"/>
                      </a:lnTo>
                      <a:lnTo>
                        <a:pt x="3099" y="1550"/>
                      </a:lnTo>
                      <a:lnTo>
                        <a:pt x="3155" y="1533"/>
                      </a:lnTo>
                      <a:lnTo>
                        <a:pt x="3213" y="1516"/>
                      </a:lnTo>
                      <a:lnTo>
                        <a:pt x="3270" y="1502"/>
                      </a:lnTo>
                      <a:lnTo>
                        <a:pt x="3328" y="1487"/>
                      </a:lnTo>
                      <a:lnTo>
                        <a:pt x="3378" y="1477"/>
                      </a:lnTo>
                      <a:lnTo>
                        <a:pt x="3427" y="1467"/>
                      </a:lnTo>
                      <a:lnTo>
                        <a:pt x="3477" y="1458"/>
                      </a:lnTo>
                      <a:lnTo>
                        <a:pt x="3528" y="1451"/>
                      </a:lnTo>
                      <a:lnTo>
                        <a:pt x="3577" y="1442"/>
                      </a:lnTo>
                      <a:lnTo>
                        <a:pt x="3627" y="1436"/>
                      </a:lnTo>
                      <a:lnTo>
                        <a:pt x="3677" y="1430"/>
                      </a:lnTo>
                      <a:lnTo>
                        <a:pt x="3727" y="1425"/>
                      </a:lnTo>
                      <a:lnTo>
                        <a:pt x="3777" y="1420"/>
                      </a:lnTo>
                      <a:lnTo>
                        <a:pt x="3827" y="1416"/>
                      </a:lnTo>
                      <a:lnTo>
                        <a:pt x="3876" y="1413"/>
                      </a:lnTo>
                      <a:lnTo>
                        <a:pt x="3927" y="1411"/>
                      </a:lnTo>
                      <a:lnTo>
                        <a:pt x="3977" y="1410"/>
                      </a:lnTo>
                      <a:lnTo>
                        <a:pt x="4026" y="1409"/>
                      </a:lnTo>
                      <a:lnTo>
                        <a:pt x="4076" y="1409"/>
                      </a:lnTo>
                      <a:lnTo>
                        <a:pt x="4126" y="1410"/>
                      </a:lnTo>
                      <a:lnTo>
                        <a:pt x="4176" y="1412"/>
                      </a:lnTo>
                      <a:lnTo>
                        <a:pt x="4225" y="1414"/>
                      </a:lnTo>
                      <a:lnTo>
                        <a:pt x="4275" y="1417"/>
                      </a:lnTo>
                      <a:lnTo>
                        <a:pt x="4325" y="1422"/>
                      </a:lnTo>
                      <a:lnTo>
                        <a:pt x="4374" y="1427"/>
                      </a:lnTo>
                      <a:lnTo>
                        <a:pt x="4423" y="1433"/>
                      </a:lnTo>
                      <a:lnTo>
                        <a:pt x="4472" y="1439"/>
                      </a:lnTo>
                      <a:lnTo>
                        <a:pt x="4521" y="1447"/>
                      </a:lnTo>
                      <a:lnTo>
                        <a:pt x="4571" y="1455"/>
                      </a:lnTo>
                      <a:lnTo>
                        <a:pt x="4620" y="1464"/>
                      </a:lnTo>
                      <a:lnTo>
                        <a:pt x="4669" y="1475"/>
                      </a:lnTo>
                      <a:lnTo>
                        <a:pt x="4718" y="1485"/>
                      </a:lnTo>
                      <a:lnTo>
                        <a:pt x="4767" y="1498"/>
                      </a:lnTo>
                      <a:lnTo>
                        <a:pt x="4816" y="1510"/>
                      </a:lnTo>
                      <a:lnTo>
                        <a:pt x="4864" y="1524"/>
                      </a:lnTo>
                      <a:lnTo>
                        <a:pt x="4912" y="1537"/>
                      </a:lnTo>
                      <a:lnTo>
                        <a:pt x="4927" y="1532"/>
                      </a:lnTo>
                      <a:lnTo>
                        <a:pt x="4940" y="1526"/>
                      </a:lnTo>
                      <a:lnTo>
                        <a:pt x="4953" y="1519"/>
                      </a:lnTo>
                      <a:lnTo>
                        <a:pt x="4968" y="1513"/>
                      </a:lnTo>
                      <a:lnTo>
                        <a:pt x="4981" y="1508"/>
                      </a:lnTo>
                      <a:lnTo>
                        <a:pt x="4995" y="1502"/>
                      </a:lnTo>
                      <a:lnTo>
                        <a:pt x="5009" y="1495"/>
                      </a:lnTo>
                      <a:lnTo>
                        <a:pt x="5023" y="1490"/>
                      </a:lnTo>
                      <a:lnTo>
                        <a:pt x="5070" y="1401"/>
                      </a:lnTo>
                      <a:lnTo>
                        <a:pt x="5121" y="1315"/>
                      </a:lnTo>
                      <a:lnTo>
                        <a:pt x="5177" y="1232"/>
                      </a:lnTo>
                      <a:lnTo>
                        <a:pt x="5237" y="1153"/>
                      </a:lnTo>
                      <a:lnTo>
                        <a:pt x="5301" y="1077"/>
                      </a:lnTo>
                      <a:lnTo>
                        <a:pt x="5367" y="1003"/>
                      </a:lnTo>
                      <a:lnTo>
                        <a:pt x="5438" y="932"/>
                      </a:lnTo>
                      <a:lnTo>
                        <a:pt x="5513" y="865"/>
                      </a:lnTo>
                      <a:lnTo>
                        <a:pt x="5590" y="801"/>
                      </a:lnTo>
                      <a:lnTo>
                        <a:pt x="5670" y="738"/>
                      </a:lnTo>
                      <a:lnTo>
                        <a:pt x="5752" y="680"/>
                      </a:lnTo>
                      <a:lnTo>
                        <a:pt x="5838" y="624"/>
                      </a:lnTo>
                      <a:lnTo>
                        <a:pt x="5925" y="571"/>
                      </a:lnTo>
                      <a:lnTo>
                        <a:pt x="6015" y="520"/>
                      </a:lnTo>
                      <a:lnTo>
                        <a:pt x="6107" y="472"/>
                      </a:lnTo>
                      <a:lnTo>
                        <a:pt x="6200" y="426"/>
                      </a:lnTo>
                      <a:lnTo>
                        <a:pt x="6295" y="383"/>
                      </a:lnTo>
                      <a:lnTo>
                        <a:pt x="6391" y="343"/>
                      </a:lnTo>
                      <a:lnTo>
                        <a:pt x="6488" y="305"/>
                      </a:lnTo>
                      <a:lnTo>
                        <a:pt x="6587" y="269"/>
                      </a:lnTo>
                      <a:lnTo>
                        <a:pt x="6686" y="235"/>
                      </a:lnTo>
                      <a:lnTo>
                        <a:pt x="6787" y="205"/>
                      </a:lnTo>
                      <a:lnTo>
                        <a:pt x="6886" y="176"/>
                      </a:lnTo>
                      <a:lnTo>
                        <a:pt x="6988" y="150"/>
                      </a:lnTo>
                      <a:lnTo>
                        <a:pt x="7088" y="126"/>
                      </a:lnTo>
                      <a:lnTo>
                        <a:pt x="7189" y="103"/>
                      </a:lnTo>
                      <a:lnTo>
                        <a:pt x="7289" y="83"/>
                      </a:lnTo>
                      <a:lnTo>
                        <a:pt x="7389" y="66"/>
                      </a:lnTo>
                      <a:lnTo>
                        <a:pt x="7488" y="50"/>
                      </a:lnTo>
                      <a:lnTo>
                        <a:pt x="7587" y="36"/>
                      </a:lnTo>
                      <a:lnTo>
                        <a:pt x="7683" y="24"/>
                      </a:lnTo>
                      <a:lnTo>
                        <a:pt x="7779" y="14"/>
                      </a:lnTo>
                      <a:lnTo>
                        <a:pt x="7866" y="8"/>
                      </a:lnTo>
                      <a:lnTo>
                        <a:pt x="7952" y="4"/>
                      </a:lnTo>
                      <a:lnTo>
                        <a:pt x="8038" y="2"/>
                      </a:lnTo>
                      <a:lnTo>
                        <a:pt x="8125" y="0"/>
                      </a:lnTo>
                      <a:lnTo>
                        <a:pt x="8212" y="0"/>
                      </a:lnTo>
                      <a:lnTo>
                        <a:pt x="8299" y="1"/>
                      </a:lnTo>
                      <a:lnTo>
                        <a:pt x="8387" y="4"/>
                      </a:lnTo>
                      <a:lnTo>
                        <a:pt x="8475" y="8"/>
                      </a:lnTo>
                      <a:lnTo>
                        <a:pt x="8562" y="15"/>
                      </a:lnTo>
                      <a:lnTo>
                        <a:pt x="8650" y="22"/>
                      </a:lnTo>
                      <a:lnTo>
                        <a:pt x="8737" y="31"/>
                      </a:lnTo>
                      <a:lnTo>
                        <a:pt x="8824" y="42"/>
                      </a:lnTo>
                      <a:lnTo>
                        <a:pt x="8912" y="55"/>
                      </a:lnTo>
                      <a:lnTo>
                        <a:pt x="8998" y="69"/>
                      </a:lnTo>
                      <a:lnTo>
                        <a:pt x="9084" y="85"/>
                      </a:lnTo>
                      <a:lnTo>
                        <a:pt x="9170" y="104"/>
                      </a:lnTo>
                      <a:lnTo>
                        <a:pt x="9255" y="124"/>
                      </a:lnTo>
                      <a:lnTo>
                        <a:pt x="9339" y="146"/>
                      </a:lnTo>
                      <a:lnTo>
                        <a:pt x="9422" y="171"/>
                      </a:lnTo>
                      <a:lnTo>
                        <a:pt x="9505" y="197"/>
                      </a:lnTo>
                      <a:lnTo>
                        <a:pt x="9587" y="225"/>
                      </a:lnTo>
                      <a:lnTo>
                        <a:pt x="9668" y="256"/>
                      </a:lnTo>
                      <a:lnTo>
                        <a:pt x="9748" y="290"/>
                      </a:lnTo>
                      <a:lnTo>
                        <a:pt x="9827" y="324"/>
                      </a:lnTo>
                      <a:lnTo>
                        <a:pt x="9904" y="361"/>
                      </a:lnTo>
                      <a:lnTo>
                        <a:pt x="9981" y="402"/>
                      </a:lnTo>
                      <a:lnTo>
                        <a:pt x="10056" y="445"/>
                      </a:lnTo>
                      <a:lnTo>
                        <a:pt x="10130" y="489"/>
                      </a:lnTo>
                      <a:lnTo>
                        <a:pt x="10202" y="536"/>
                      </a:lnTo>
                      <a:lnTo>
                        <a:pt x="10272" y="586"/>
                      </a:lnTo>
                      <a:lnTo>
                        <a:pt x="10341" y="639"/>
                      </a:lnTo>
                      <a:lnTo>
                        <a:pt x="10409" y="695"/>
                      </a:lnTo>
                      <a:lnTo>
                        <a:pt x="10490" y="661"/>
                      </a:lnTo>
                      <a:lnTo>
                        <a:pt x="10572" y="633"/>
                      </a:lnTo>
                      <a:lnTo>
                        <a:pt x="10655" y="609"/>
                      </a:lnTo>
                      <a:lnTo>
                        <a:pt x="10739" y="589"/>
                      </a:lnTo>
                      <a:lnTo>
                        <a:pt x="10824" y="575"/>
                      </a:lnTo>
                      <a:lnTo>
                        <a:pt x="10910" y="563"/>
                      </a:lnTo>
                      <a:lnTo>
                        <a:pt x="10996" y="557"/>
                      </a:lnTo>
                      <a:lnTo>
                        <a:pt x="11083" y="554"/>
                      </a:lnTo>
                      <a:lnTo>
                        <a:pt x="11170" y="555"/>
                      </a:lnTo>
                      <a:lnTo>
                        <a:pt x="11256" y="559"/>
                      </a:lnTo>
                      <a:lnTo>
                        <a:pt x="11343" y="569"/>
                      </a:lnTo>
                      <a:lnTo>
                        <a:pt x="11429" y="581"/>
                      </a:lnTo>
                      <a:lnTo>
                        <a:pt x="11515" y="597"/>
                      </a:lnTo>
                      <a:lnTo>
                        <a:pt x="11600" y="615"/>
                      </a:lnTo>
                      <a:lnTo>
                        <a:pt x="11686" y="638"/>
                      </a:lnTo>
                      <a:lnTo>
                        <a:pt x="11770" y="664"/>
                      </a:lnTo>
                      <a:lnTo>
                        <a:pt x="11853" y="694"/>
                      </a:lnTo>
                      <a:lnTo>
                        <a:pt x="11936" y="726"/>
                      </a:lnTo>
                      <a:lnTo>
                        <a:pt x="12016" y="761"/>
                      </a:lnTo>
                      <a:lnTo>
                        <a:pt x="12096" y="800"/>
                      </a:lnTo>
                      <a:lnTo>
                        <a:pt x="12174" y="840"/>
                      </a:lnTo>
                      <a:lnTo>
                        <a:pt x="12251" y="884"/>
                      </a:lnTo>
                      <a:lnTo>
                        <a:pt x="12325" y="931"/>
                      </a:lnTo>
                      <a:lnTo>
                        <a:pt x="12398" y="980"/>
                      </a:lnTo>
                      <a:lnTo>
                        <a:pt x="12469" y="1031"/>
                      </a:lnTo>
                      <a:lnTo>
                        <a:pt x="12537" y="1085"/>
                      </a:lnTo>
                      <a:lnTo>
                        <a:pt x="12603" y="1141"/>
                      </a:lnTo>
                      <a:lnTo>
                        <a:pt x="12667" y="1200"/>
                      </a:lnTo>
                      <a:lnTo>
                        <a:pt x="12727" y="1261"/>
                      </a:lnTo>
                      <a:lnTo>
                        <a:pt x="12786" y="1324"/>
                      </a:lnTo>
                      <a:lnTo>
                        <a:pt x="12841" y="1388"/>
                      </a:lnTo>
                      <a:lnTo>
                        <a:pt x="12894" y="1455"/>
                      </a:lnTo>
                      <a:close/>
                    </a:path>
                  </a:pathLst>
                </a:custGeom>
                <a:solidFill>
                  <a:srgbClr val="9ac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4" name=""/>
              <p:cNvSpPr/>
              <p:nvPr/>
            </p:nvSpPr>
            <p:spPr>
              <a:xfrm>
                <a:off x="4093920" y="2901960"/>
                <a:ext cx="898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400" rIns="77400" tIns="38880" bIns="38880" anchor="ctr">
                <a:noAutofit/>
              </a:bodyPr>
              <a:p>
                <a:pPr algn="ctr">
                  <a:tabLst>
                    <a:tab algn="l" pos="0"/>
                    <a:tab algn="l" pos="776160"/>
                    <a:tab algn="l" pos="1552680"/>
                    <a:tab algn="l" pos="2328840"/>
                    <a:tab algn="l" pos="3105000"/>
                    <a:tab algn="l" pos="3881520"/>
                    <a:tab algn="l" pos="4657680"/>
                    <a:tab algn="l" pos="5433840"/>
                    <a:tab algn="l" pos="6210360"/>
                    <a:tab algn="l" pos="6986520"/>
                    <a:tab algn="l" pos="7763040"/>
                    <a:tab algn="l" pos="8539200"/>
                    <a:tab algn="l" pos="9315360"/>
                    <a:tab algn="l" pos="10091880"/>
                    <a:tab algn="l" pos="1086804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P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76160"/>
                    <a:tab algn="l" pos="1552680"/>
                    <a:tab algn="l" pos="2328840"/>
                    <a:tab algn="l" pos="3105000"/>
                    <a:tab algn="l" pos="3881520"/>
                    <a:tab algn="l" pos="4657680"/>
                    <a:tab algn="l" pos="5433840"/>
                    <a:tab algn="l" pos="6210360"/>
                    <a:tab algn="l" pos="6986520"/>
                    <a:tab algn="l" pos="7763040"/>
                    <a:tab algn="l" pos="8539200"/>
                    <a:tab algn="l" pos="9315360"/>
                    <a:tab algn="l" pos="10091880"/>
                    <a:tab algn="l" pos="108680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5" name=""/>
            <p:cNvGrpSpPr/>
            <p:nvPr/>
          </p:nvGrpSpPr>
          <p:grpSpPr>
            <a:xfrm>
              <a:off x="7053120" y="3962520"/>
              <a:ext cx="1100160" cy="728640"/>
              <a:chOff x="7053120" y="3962520"/>
              <a:chExt cx="1100160" cy="728640"/>
            </a:xfrm>
          </p:grpSpPr>
          <p:sp>
            <p:nvSpPr>
              <p:cNvPr id="2706" name=""/>
              <p:cNvSpPr/>
              <p:nvPr/>
            </p:nvSpPr>
            <p:spPr>
              <a:xfrm>
                <a:off x="7053120" y="396252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281720" y="419112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8" name=""/>
            <p:cNvGrpSpPr/>
            <p:nvPr/>
          </p:nvGrpSpPr>
          <p:grpSpPr>
            <a:xfrm>
              <a:off x="1752120" y="3124080"/>
              <a:ext cx="5639400" cy="1067040"/>
              <a:chOff x="1752120" y="3124080"/>
              <a:chExt cx="5639400" cy="1067040"/>
            </a:xfrm>
          </p:grpSpPr>
          <p:sp>
            <p:nvSpPr>
              <p:cNvPr id="2709" name=""/>
              <p:cNvSpPr/>
              <p:nvPr/>
            </p:nvSpPr>
            <p:spPr>
              <a:xfrm flipH="1">
                <a:off x="1752120" y="3200400"/>
                <a:ext cx="38124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010280" y="3233880"/>
                <a:ext cx="38124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2819520" y="3124080"/>
                <a:ext cx="99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5257800" y="3124080"/>
                <a:ext cx="99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3" name=""/>
            <p:cNvSpPr/>
            <p:nvPr/>
          </p:nvSpPr>
          <p:spPr>
            <a:xfrm>
              <a:off x="380880" y="2971800"/>
              <a:ext cx="19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.3.3.1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438280" y="32608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.2.2.1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057400" y="25146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019920" y="25146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T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410080" y="32608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.2.2.2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8" name=""/>
            <p:cNvGrpSpPr/>
            <p:nvPr/>
          </p:nvGrpSpPr>
          <p:grpSpPr>
            <a:xfrm>
              <a:off x="6248520" y="2895480"/>
              <a:ext cx="761760" cy="456840"/>
              <a:chOff x="6248520" y="2895480"/>
              <a:chExt cx="761760" cy="456840"/>
            </a:xfrm>
          </p:grpSpPr>
          <p:sp>
            <p:nvSpPr>
              <p:cNvPr id="2719" name=""/>
              <p:cNvSpPr/>
              <p:nvPr/>
            </p:nvSpPr>
            <p:spPr>
              <a:xfrm>
                <a:off x="6248520" y="3022560"/>
                <a:ext cx="76176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248520" y="2895480"/>
                <a:ext cx="75852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1" name=""/>
              <p:cNvGrpSpPr/>
              <p:nvPr/>
            </p:nvGrpSpPr>
            <p:grpSpPr>
              <a:xfrm>
                <a:off x="6366600" y="2925000"/>
                <a:ext cx="523080" cy="190080"/>
                <a:chOff x="6366600" y="2925000"/>
                <a:chExt cx="523080" cy="19008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663768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663768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636660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636660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637920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637920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662796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662796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664272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664272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637164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637164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638424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638424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663336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663336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8" name=""/>
            <p:cNvGrpSpPr/>
            <p:nvPr/>
          </p:nvGrpSpPr>
          <p:grpSpPr>
            <a:xfrm>
              <a:off x="2057400" y="2895480"/>
              <a:ext cx="762120" cy="456840"/>
              <a:chOff x="2057400" y="2895480"/>
              <a:chExt cx="762120" cy="456840"/>
            </a:xfrm>
          </p:grpSpPr>
          <p:sp>
            <p:nvSpPr>
              <p:cNvPr id="2739" name=""/>
              <p:cNvSpPr/>
              <p:nvPr/>
            </p:nvSpPr>
            <p:spPr>
              <a:xfrm>
                <a:off x="2057400" y="3022560"/>
                <a:ext cx="76212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057400" y="2895480"/>
                <a:ext cx="75888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1" name=""/>
              <p:cNvGrpSpPr/>
              <p:nvPr/>
            </p:nvGrpSpPr>
            <p:grpSpPr>
              <a:xfrm>
                <a:off x="2175480" y="2925000"/>
                <a:ext cx="523440" cy="190080"/>
                <a:chOff x="2175480" y="2925000"/>
                <a:chExt cx="523440" cy="190080"/>
              </a:xfrm>
            </p:grpSpPr>
            <p:sp>
              <p:nvSpPr>
                <p:cNvPr id="2742" name=""/>
                <p:cNvSpPr/>
                <p:nvPr/>
              </p:nvSpPr>
              <p:spPr>
                <a:xfrm>
                  <a:off x="244656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244656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217548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217548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218808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218808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243720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243720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245196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245196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218052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218052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219312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219312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244224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244224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8" name=""/>
            <p:cNvSpPr/>
            <p:nvPr/>
          </p:nvSpPr>
          <p:spPr>
            <a:xfrm>
              <a:off x="7010280" y="29718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.5.5.1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9" name=""/>
            <p:cNvGrpSpPr/>
            <p:nvPr/>
          </p:nvGrpSpPr>
          <p:grpSpPr>
            <a:xfrm>
              <a:off x="957240" y="3962520"/>
              <a:ext cx="1100160" cy="728640"/>
              <a:chOff x="957240" y="3962520"/>
              <a:chExt cx="1100160" cy="728640"/>
            </a:xfrm>
          </p:grpSpPr>
          <p:sp>
            <p:nvSpPr>
              <p:cNvPr id="2760" name=""/>
              <p:cNvSpPr/>
              <p:nvPr/>
            </p:nvSpPr>
            <p:spPr>
              <a:xfrm>
                <a:off x="957240" y="396252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1185840" y="419112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R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协议版本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接口配置模式下配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p rip version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6564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广播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组播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ebug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查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RIP 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数据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RIP I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数据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67" name=""/>
          <p:cNvGrpSpPr/>
          <p:nvPr/>
        </p:nvGrpSpPr>
        <p:grpSpPr>
          <a:xfrm>
            <a:off x="380880" y="2514600"/>
            <a:ext cx="8458200" cy="2176560"/>
            <a:chOff x="380880" y="2514600"/>
            <a:chExt cx="8458200" cy="2176560"/>
          </a:xfrm>
        </p:grpSpPr>
        <p:grpSp>
          <p:nvGrpSpPr>
            <p:cNvPr id="2768" name=""/>
            <p:cNvGrpSpPr/>
            <p:nvPr/>
          </p:nvGrpSpPr>
          <p:grpSpPr>
            <a:xfrm>
              <a:off x="3657600" y="2743200"/>
              <a:ext cx="1973160" cy="885240"/>
              <a:chOff x="3657600" y="2743200"/>
              <a:chExt cx="1973160" cy="885240"/>
            </a:xfrm>
          </p:grpSpPr>
          <p:grpSp>
            <p:nvGrpSpPr>
              <p:cNvPr id="2769" name=""/>
              <p:cNvGrpSpPr/>
              <p:nvPr/>
            </p:nvGrpSpPr>
            <p:grpSpPr>
              <a:xfrm>
                <a:off x="3657600" y="2743200"/>
                <a:ext cx="1973160" cy="885240"/>
                <a:chOff x="3657600" y="2743200"/>
                <a:chExt cx="1973160" cy="885240"/>
              </a:xfrm>
            </p:grpSpPr>
            <p:sp>
              <p:nvSpPr>
                <p:cNvPr id="2770" name=""/>
                <p:cNvSpPr/>
                <p:nvPr/>
              </p:nvSpPr>
              <p:spPr>
                <a:xfrm>
                  <a:off x="3657600" y="2881440"/>
                  <a:ext cx="1973160" cy="74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9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5205960" y="2940120"/>
                  <a:ext cx="27000" cy="51840"/>
                </a:xfrm>
                <a:custGeom>
                  <a:avLst/>
                  <a:gdLst/>
                  <a:ahLst/>
                  <a:rect l="l" t="t" r="r" b="b"/>
                  <a:pathLst>
                    <a:path w="284" h="969">
                      <a:moveTo>
                        <a:pt x="284" y="0"/>
                      </a:moveTo>
                      <a:lnTo>
                        <a:pt x="70" y="780"/>
                      </a:lnTo>
                      <a:lnTo>
                        <a:pt x="55" y="828"/>
                      </a:lnTo>
                      <a:lnTo>
                        <a:pt x="39" y="875"/>
                      </a:lnTo>
                      <a:lnTo>
                        <a:pt x="21" y="922"/>
                      </a:lnTo>
                      <a:lnTo>
                        <a:pt x="0" y="969"/>
                      </a:lnTo>
                      <a:lnTo>
                        <a:pt x="212" y="194"/>
                      </a:lnTo>
                      <a:lnTo>
                        <a:pt x="234" y="147"/>
                      </a:lnTo>
                      <a:lnTo>
                        <a:pt x="252" y="99"/>
                      </a:lnTo>
                      <a:lnTo>
                        <a:pt x="270" y="50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5196240" y="2950200"/>
                  <a:ext cx="29880" cy="51840"/>
                </a:xfrm>
                <a:custGeom>
                  <a:avLst/>
                  <a:gdLst/>
                  <a:ahLst/>
                  <a:rect l="l" t="t" r="r" b="b"/>
                  <a:pathLst>
                    <a:path w="311" h="952">
                      <a:moveTo>
                        <a:pt x="311" y="0"/>
                      </a:moveTo>
                      <a:lnTo>
                        <a:pt x="99" y="775"/>
                      </a:lnTo>
                      <a:lnTo>
                        <a:pt x="78" y="819"/>
                      </a:lnTo>
                      <a:lnTo>
                        <a:pt x="53" y="864"/>
                      </a:lnTo>
                      <a:lnTo>
                        <a:pt x="27" y="908"/>
                      </a:lnTo>
                      <a:lnTo>
                        <a:pt x="0" y="952"/>
                      </a:lnTo>
                      <a:lnTo>
                        <a:pt x="210" y="181"/>
                      </a:lnTo>
                      <a:lnTo>
                        <a:pt x="238" y="137"/>
                      </a:lnTo>
                      <a:lnTo>
                        <a:pt x="264" y="92"/>
                      </a:lnTo>
                      <a:lnTo>
                        <a:pt x="289" y="47"/>
                      </a:lnTo>
                      <a:lnTo>
                        <a:pt x="311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5183640" y="2960640"/>
                  <a:ext cx="32760" cy="49320"/>
                </a:xfrm>
                <a:custGeom>
                  <a:avLst/>
                  <a:gdLst/>
                  <a:ahLst/>
                  <a:rect l="l" t="t" r="r" b="b"/>
                  <a:pathLst>
                    <a:path w="338" h="935">
                      <a:moveTo>
                        <a:pt x="338" y="0"/>
                      </a:moveTo>
                      <a:lnTo>
                        <a:pt x="128" y="771"/>
                      </a:lnTo>
                      <a:lnTo>
                        <a:pt x="99" y="813"/>
                      </a:lnTo>
                      <a:lnTo>
                        <a:pt x="68" y="855"/>
                      </a:lnTo>
                      <a:lnTo>
                        <a:pt x="35" y="896"/>
                      </a:lnTo>
                      <a:lnTo>
                        <a:pt x="0" y="935"/>
                      </a:lnTo>
                      <a:lnTo>
                        <a:pt x="207" y="170"/>
                      </a:lnTo>
                      <a:lnTo>
                        <a:pt x="242" y="128"/>
                      </a:lnTo>
                      <a:lnTo>
                        <a:pt x="275" y="86"/>
                      </a:lnTo>
                      <a:lnTo>
                        <a:pt x="307" y="44"/>
                      </a:lnTo>
                      <a:lnTo>
                        <a:pt x="338" y="0"/>
                      </a:lnTo>
                      <a:close/>
                    </a:path>
                  </a:pathLst>
                </a:custGeom>
                <a:solidFill>
                  <a:srgbClr val="cbe7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5172840" y="2969280"/>
                  <a:ext cx="29880" cy="47520"/>
                </a:xfrm>
                <a:custGeom>
                  <a:avLst/>
                  <a:gdLst/>
                  <a:ahLst/>
                  <a:rect l="l" t="t" r="r" b="b"/>
                  <a:pathLst>
                    <a:path w="318" h="881">
                      <a:moveTo>
                        <a:pt x="318" y="0"/>
                      </a:moveTo>
                      <a:lnTo>
                        <a:pt x="111" y="765"/>
                      </a:lnTo>
                      <a:lnTo>
                        <a:pt x="76" y="805"/>
                      </a:lnTo>
                      <a:lnTo>
                        <a:pt x="39" y="843"/>
                      </a:lnTo>
                      <a:lnTo>
                        <a:pt x="0" y="881"/>
                      </a:lnTo>
                      <a:lnTo>
                        <a:pt x="202" y="117"/>
                      </a:lnTo>
                      <a:lnTo>
                        <a:pt x="243" y="79"/>
                      </a:lnTo>
                      <a:lnTo>
                        <a:pt x="281" y="39"/>
                      </a:lnTo>
                      <a:lnTo>
                        <a:pt x="318" y="0"/>
                      </a:lnTo>
                      <a:close/>
                    </a:path>
                  </a:pathLst>
                </a:custGeom>
                <a:solidFill>
                  <a:srgbClr val="c0e2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5160600" y="2975040"/>
                  <a:ext cx="31680" cy="47520"/>
                </a:xfrm>
                <a:custGeom>
                  <a:avLst/>
                  <a:gdLst/>
                  <a:ahLst/>
                  <a:rect l="l" t="t" r="r" b="b"/>
                  <a:pathLst>
                    <a:path w="330" h="871">
                      <a:moveTo>
                        <a:pt x="330" y="0"/>
                      </a:moveTo>
                      <a:lnTo>
                        <a:pt x="128" y="764"/>
                      </a:lnTo>
                      <a:lnTo>
                        <a:pt x="87" y="800"/>
                      </a:lnTo>
                      <a:lnTo>
                        <a:pt x="45" y="836"/>
                      </a:lnTo>
                      <a:lnTo>
                        <a:pt x="0" y="871"/>
                      </a:lnTo>
                      <a:lnTo>
                        <a:pt x="200" y="111"/>
                      </a:lnTo>
                      <a:lnTo>
                        <a:pt x="245" y="74"/>
                      </a:lnTo>
                      <a:lnTo>
                        <a:pt x="289" y="38"/>
                      </a:lnTo>
                      <a:lnTo>
                        <a:pt x="330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5276880" y="3102480"/>
                  <a:ext cx="31320" cy="47160"/>
                </a:xfrm>
                <a:custGeom>
                  <a:avLst/>
                  <a:gdLst/>
                  <a:ahLst/>
                  <a:rect l="l" t="t" r="r" b="b"/>
                  <a:pathLst>
                    <a:path w="317" h="895">
                      <a:moveTo>
                        <a:pt x="317" y="0"/>
                      </a:moveTo>
                      <a:lnTo>
                        <a:pt x="79" y="703"/>
                      </a:lnTo>
                      <a:lnTo>
                        <a:pt x="42" y="800"/>
                      </a:lnTo>
                      <a:lnTo>
                        <a:pt x="0" y="895"/>
                      </a:lnTo>
                      <a:lnTo>
                        <a:pt x="236" y="197"/>
                      </a:lnTo>
                      <a:lnTo>
                        <a:pt x="279" y="100"/>
                      </a:lnTo>
                      <a:lnTo>
                        <a:pt x="317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5267520" y="3112560"/>
                  <a:ext cx="32760" cy="47520"/>
                </a:xfrm>
                <a:custGeom>
                  <a:avLst/>
                  <a:gdLst/>
                  <a:ahLst/>
                  <a:rect l="l" t="t" r="r" b="b"/>
                  <a:pathLst>
                    <a:path w="334" h="882">
                      <a:moveTo>
                        <a:pt x="334" y="0"/>
                      </a:moveTo>
                      <a:lnTo>
                        <a:pt x="98" y="698"/>
                      </a:lnTo>
                      <a:lnTo>
                        <a:pt x="51" y="791"/>
                      </a:lnTo>
                      <a:lnTo>
                        <a:pt x="0" y="882"/>
                      </a:lnTo>
                      <a:lnTo>
                        <a:pt x="234" y="188"/>
                      </a:lnTo>
                      <a:lnTo>
                        <a:pt x="286" y="96"/>
                      </a:lnTo>
                      <a:lnTo>
                        <a:pt x="334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5256360" y="3122640"/>
                  <a:ext cx="33840" cy="46080"/>
                </a:xfrm>
                <a:custGeom>
                  <a:avLst/>
                  <a:gdLst/>
                  <a:ahLst/>
                  <a:rect l="l" t="t" r="r" b="b"/>
                  <a:pathLst>
                    <a:path w="348" h="869">
                      <a:moveTo>
                        <a:pt x="348" y="0"/>
                      </a:moveTo>
                      <a:lnTo>
                        <a:pt x="114" y="694"/>
                      </a:lnTo>
                      <a:lnTo>
                        <a:pt x="60" y="783"/>
                      </a:lnTo>
                      <a:lnTo>
                        <a:pt x="0" y="869"/>
                      </a:lnTo>
                      <a:lnTo>
                        <a:pt x="230" y="181"/>
                      </a:lnTo>
                      <a:lnTo>
                        <a:pt x="291" y="92"/>
                      </a:lnTo>
                      <a:lnTo>
                        <a:pt x="348" y="0"/>
                      </a:lnTo>
                      <a:close/>
                    </a:path>
                  </a:pathLst>
                </a:custGeom>
                <a:solidFill>
                  <a:srgbClr val="cee9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5244120" y="3133080"/>
                  <a:ext cx="35640" cy="44640"/>
                </a:xfrm>
                <a:custGeom>
                  <a:avLst/>
                  <a:gdLst/>
                  <a:ahLst/>
                  <a:rect l="l" t="t" r="r" b="b"/>
                  <a:pathLst>
                    <a:path w="361" h="854">
                      <a:moveTo>
                        <a:pt x="361" y="0"/>
                      </a:moveTo>
                      <a:lnTo>
                        <a:pt x="131" y="688"/>
                      </a:lnTo>
                      <a:lnTo>
                        <a:pt x="67" y="771"/>
                      </a:lnTo>
                      <a:lnTo>
                        <a:pt x="0" y="854"/>
                      </a:lnTo>
                      <a:lnTo>
                        <a:pt x="226" y="169"/>
                      </a:lnTo>
                      <a:lnTo>
                        <a:pt x="296" y="85"/>
                      </a:lnTo>
                      <a:lnTo>
                        <a:pt x="361" y="0"/>
                      </a:lnTo>
                      <a:close/>
                    </a:path>
                  </a:pathLst>
                </a:custGeom>
                <a:solidFill>
                  <a:srgbClr val="c6e5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5230440" y="3142080"/>
                  <a:ext cx="35640" cy="44640"/>
                </a:xfrm>
                <a:custGeom>
                  <a:avLst/>
                  <a:gdLst/>
                  <a:ahLst/>
                  <a:rect l="l" t="t" r="r" b="b"/>
                  <a:pathLst>
                    <a:path w="371" h="841">
                      <a:moveTo>
                        <a:pt x="371" y="0"/>
                      </a:moveTo>
                      <a:lnTo>
                        <a:pt x="145" y="685"/>
                      </a:lnTo>
                      <a:lnTo>
                        <a:pt x="75" y="764"/>
                      </a:lnTo>
                      <a:lnTo>
                        <a:pt x="0" y="841"/>
                      </a:lnTo>
                      <a:lnTo>
                        <a:pt x="224" y="161"/>
                      </a:lnTo>
                      <a:lnTo>
                        <a:pt x="300" y="82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c0e2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5213880" y="3150000"/>
                  <a:ext cx="36720" cy="44640"/>
                </a:xfrm>
                <a:custGeom>
                  <a:avLst/>
                  <a:gdLst/>
                  <a:ahLst/>
                  <a:rect l="l" t="t" r="r" b="b"/>
                  <a:pathLst>
                    <a:path w="381" h="826">
                      <a:moveTo>
                        <a:pt x="381" y="0"/>
                      </a:moveTo>
                      <a:lnTo>
                        <a:pt x="157" y="680"/>
                      </a:lnTo>
                      <a:lnTo>
                        <a:pt x="80" y="754"/>
                      </a:lnTo>
                      <a:lnTo>
                        <a:pt x="0" y="826"/>
                      </a:lnTo>
                      <a:lnTo>
                        <a:pt x="219" y="150"/>
                      </a:lnTo>
                      <a:lnTo>
                        <a:pt x="301" y="76"/>
                      </a:lnTo>
                      <a:lnTo>
                        <a:pt x="381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5205960" y="3157920"/>
                  <a:ext cx="29880" cy="40320"/>
                </a:xfrm>
                <a:custGeom>
                  <a:avLst/>
                  <a:gdLst/>
                  <a:ahLst/>
                  <a:rect l="l" t="t" r="r" b="b"/>
                  <a:pathLst>
                    <a:path w="301" h="744">
                      <a:moveTo>
                        <a:pt x="301" y="0"/>
                      </a:moveTo>
                      <a:lnTo>
                        <a:pt x="82" y="676"/>
                      </a:lnTo>
                      <a:lnTo>
                        <a:pt x="0" y="744"/>
                      </a:lnTo>
                      <a:lnTo>
                        <a:pt x="216" y="71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5197320" y="3162240"/>
                  <a:ext cx="29880" cy="39600"/>
                </a:xfrm>
                <a:custGeom>
                  <a:avLst/>
                  <a:gdLst/>
                  <a:ahLst/>
                  <a:rect l="l" t="t" r="r" b="b"/>
                  <a:pathLst>
                    <a:path w="301" h="740">
                      <a:moveTo>
                        <a:pt x="301" y="0"/>
                      </a:moveTo>
                      <a:lnTo>
                        <a:pt x="85" y="673"/>
                      </a:lnTo>
                      <a:lnTo>
                        <a:pt x="0" y="740"/>
                      </a:lnTo>
                      <a:lnTo>
                        <a:pt x="213" y="68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b7d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5189400" y="3165840"/>
                  <a:ext cx="29880" cy="39240"/>
                </a:xfrm>
                <a:custGeom>
                  <a:avLst/>
                  <a:gdLst/>
                  <a:ahLst/>
                  <a:rect l="l" t="t" r="r" b="b"/>
                  <a:pathLst>
                    <a:path w="301" h="737">
                      <a:moveTo>
                        <a:pt x="301" y="0"/>
                      </a:moveTo>
                      <a:lnTo>
                        <a:pt x="88" y="672"/>
                      </a:lnTo>
                      <a:lnTo>
                        <a:pt x="0" y="737"/>
                      </a:lnTo>
                      <a:lnTo>
                        <a:pt x="211" y="66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b3dd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5181120" y="3169080"/>
                  <a:ext cx="28800" cy="39240"/>
                </a:xfrm>
                <a:custGeom>
                  <a:avLst/>
                  <a:gdLst/>
                  <a:ahLst/>
                  <a:rect l="l" t="t" r="r" b="b"/>
                  <a:pathLst>
                    <a:path w="300" h="731">
                      <a:moveTo>
                        <a:pt x="300" y="0"/>
                      </a:moveTo>
                      <a:lnTo>
                        <a:pt x="89" y="671"/>
                      </a:lnTo>
                      <a:lnTo>
                        <a:pt x="0" y="731"/>
                      </a:lnTo>
                      <a:lnTo>
                        <a:pt x="208" y="62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afdb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5171400" y="3172320"/>
                  <a:ext cx="29880" cy="39240"/>
                </a:xfrm>
                <a:custGeom>
                  <a:avLst/>
                  <a:gdLst/>
                  <a:ahLst/>
                  <a:rect l="l" t="t" r="r" b="b"/>
                  <a:pathLst>
                    <a:path w="300" h="728">
                      <a:moveTo>
                        <a:pt x="300" y="0"/>
                      </a:moveTo>
                      <a:lnTo>
                        <a:pt x="92" y="669"/>
                      </a:lnTo>
                      <a:lnTo>
                        <a:pt x="0" y="728"/>
                      </a:lnTo>
                      <a:lnTo>
                        <a:pt x="206" y="60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adda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5163120" y="3175560"/>
                  <a:ext cx="28800" cy="38160"/>
                </a:xfrm>
                <a:custGeom>
                  <a:avLst/>
                  <a:gdLst/>
                  <a:ahLst/>
                  <a:rect l="l" t="t" r="r" b="b"/>
                  <a:pathLst>
                    <a:path w="299" h="723">
                      <a:moveTo>
                        <a:pt x="299" y="0"/>
                      </a:moveTo>
                      <a:lnTo>
                        <a:pt x="93" y="668"/>
                      </a:lnTo>
                      <a:lnTo>
                        <a:pt x="0" y="723"/>
                      </a:lnTo>
                      <a:lnTo>
                        <a:pt x="203" y="57"/>
                      </a:lnTo>
                      <a:lnTo>
                        <a:pt x="299" y="0"/>
                      </a:lnTo>
                      <a:close/>
                    </a:path>
                  </a:pathLst>
                </a:custGeom>
                <a:solidFill>
                  <a:srgbClr val="a6d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5153760" y="3179160"/>
                  <a:ext cx="28800" cy="37800"/>
                </a:xfrm>
                <a:custGeom>
                  <a:avLst/>
                  <a:gdLst/>
                  <a:ahLst/>
                  <a:rect l="l" t="t" r="r" b="b"/>
                  <a:pathLst>
                    <a:path w="298" h="720">
                      <a:moveTo>
                        <a:pt x="298" y="0"/>
                      </a:moveTo>
                      <a:lnTo>
                        <a:pt x="95" y="666"/>
                      </a:lnTo>
                      <a:lnTo>
                        <a:pt x="0" y="720"/>
                      </a:lnTo>
                      <a:lnTo>
                        <a:pt x="200" y="54"/>
                      </a:lnTo>
                      <a:lnTo>
                        <a:pt x="298" y="0"/>
                      </a:lnTo>
                      <a:close/>
                    </a:path>
                  </a:pathLst>
                </a:custGeom>
                <a:solidFill>
                  <a:srgbClr val="a6d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5144040" y="3181320"/>
                  <a:ext cx="28800" cy="38160"/>
                </a:xfrm>
                <a:custGeom>
                  <a:avLst/>
                  <a:gdLst/>
                  <a:ahLst/>
                  <a:rect l="l" t="t" r="r" b="b"/>
                  <a:pathLst>
                    <a:path w="297" h="715">
                      <a:moveTo>
                        <a:pt x="297" y="0"/>
                      </a:moveTo>
                      <a:lnTo>
                        <a:pt x="97" y="666"/>
                      </a:lnTo>
                      <a:lnTo>
                        <a:pt x="0" y="715"/>
                      </a:lnTo>
                      <a:lnTo>
                        <a:pt x="198" y="51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a0d4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5134320" y="3184920"/>
                  <a:ext cx="28800" cy="38160"/>
                </a:xfrm>
                <a:custGeom>
                  <a:avLst/>
                  <a:gdLst/>
                  <a:ahLst/>
                  <a:rect l="l" t="t" r="r" b="b"/>
                  <a:pathLst>
                    <a:path w="295" h="711">
                      <a:moveTo>
                        <a:pt x="295" y="0"/>
                      </a:moveTo>
                      <a:lnTo>
                        <a:pt x="97" y="664"/>
                      </a:lnTo>
                      <a:lnTo>
                        <a:pt x="0" y="711"/>
                      </a:lnTo>
                      <a:lnTo>
                        <a:pt x="195" y="49"/>
                      </a:lnTo>
                      <a:lnTo>
                        <a:pt x="295" y="0"/>
                      </a:lnTo>
                      <a:close/>
                    </a:path>
                  </a:pathLst>
                </a:custGeom>
                <a:solidFill>
                  <a:srgbClr val="9ac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5124600" y="3186720"/>
                  <a:ext cx="28800" cy="38160"/>
                </a:xfrm>
                <a:custGeom>
                  <a:avLst/>
                  <a:gdLst/>
                  <a:ahLst/>
                  <a:rect l="l" t="t" r="r" b="b"/>
                  <a:pathLst>
                    <a:path w="292" h="706">
                      <a:moveTo>
                        <a:pt x="292" y="0"/>
                      </a:moveTo>
                      <a:lnTo>
                        <a:pt x="97" y="662"/>
                      </a:lnTo>
                      <a:lnTo>
                        <a:pt x="0" y="706"/>
                      </a:lnTo>
                      <a:lnTo>
                        <a:pt x="191" y="45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solidFill>
                  <a:srgbClr val="98c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5115240" y="318924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291" h="702">
                      <a:moveTo>
                        <a:pt x="291" y="0"/>
                      </a:moveTo>
                      <a:lnTo>
                        <a:pt x="100" y="661"/>
                      </a:lnTo>
                      <a:lnTo>
                        <a:pt x="0" y="702"/>
                      </a:lnTo>
                      <a:lnTo>
                        <a:pt x="189" y="42"/>
                      </a:lnTo>
                      <a:lnTo>
                        <a:pt x="291" y="0"/>
                      </a:lnTo>
                      <a:close/>
                    </a:path>
                  </a:pathLst>
                </a:custGeom>
                <a:solidFill>
                  <a:srgbClr val="9ac9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5096160" y="3191400"/>
                  <a:ext cx="36720" cy="39240"/>
                </a:xfrm>
                <a:custGeom>
                  <a:avLst/>
                  <a:gdLst/>
                  <a:ahLst/>
                  <a:rect l="l" t="t" r="r" b="b"/>
                  <a:pathLst>
                    <a:path w="388" h="732">
                      <a:moveTo>
                        <a:pt x="388" y="0"/>
                      </a:moveTo>
                      <a:lnTo>
                        <a:pt x="199" y="660"/>
                      </a:lnTo>
                      <a:lnTo>
                        <a:pt x="100" y="697"/>
                      </a:lnTo>
                      <a:lnTo>
                        <a:pt x="0" y="732"/>
                      </a:lnTo>
                      <a:lnTo>
                        <a:pt x="183" y="73"/>
                      </a:lnTo>
                      <a:lnTo>
                        <a:pt x="286" y="38"/>
                      </a:lnTo>
                      <a:lnTo>
                        <a:pt x="388" y="0"/>
                      </a:lnTo>
                      <a:close/>
                    </a:path>
                  </a:pathLst>
                </a:custGeom>
                <a:solidFill>
                  <a:srgbClr val="8eb7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5075640" y="3196080"/>
                  <a:ext cx="38160" cy="38160"/>
                </a:xfrm>
                <a:custGeom>
                  <a:avLst/>
                  <a:gdLst/>
                  <a:ahLst/>
                  <a:rect l="l" t="t" r="r" b="b"/>
                  <a:pathLst>
                    <a:path w="385" h="716">
                      <a:moveTo>
                        <a:pt x="385" y="0"/>
                      </a:moveTo>
                      <a:lnTo>
                        <a:pt x="202" y="659"/>
                      </a:lnTo>
                      <a:lnTo>
                        <a:pt x="168" y="669"/>
                      </a:lnTo>
                      <a:lnTo>
                        <a:pt x="134" y="679"/>
                      </a:lnTo>
                      <a:lnTo>
                        <a:pt x="102" y="689"/>
                      </a:lnTo>
                      <a:lnTo>
                        <a:pt x="68" y="698"/>
                      </a:lnTo>
                      <a:lnTo>
                        <a:pt x="34" y="708"/>
                      </a:lnTo>
                      <a:lnTo>
                        <a:pt x="0" y="716"/>
                      </a:lnTo>
                      <a:lnTo>
                        <a:pt x="177" y="60"/>
                      </a:lnTo>
                      <a:lnTo>
                        <a:pt x="212" y="50"/>
                      </a:lnTo>
                      <a:lnTo>
                        <a:pt x="247" y="41"/>
                      </a:lnTo>
                      <a:lnTo>
                        <a:pt x="281" y="32"/>
                      </a:lnTo>
                      <a:lnTo>
                        <a:pt x="316" y="21"/>
                      </a:lnTo>
                      <a:lnTo>
                        <a:pt x="351" y="1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84a8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5056200" y="3199320"/>
                  <a:ext cx="36720" cy="36720"/>
                </a:xfrm>
                <a:custGeom>
                  <a:avLst/>
                  <a:gdLst/>
                  <a:ahLst/>
                  <a:rect l="l" t="t" r="r" b="b"/>
                  <a:pathLst>
                    <a:path w="379" h="702">
                      <a:moveTo>
                        <a:pt x="379" y="0"/>
                      </a:moveTo>
                      <a:lnTo>
                        <a:pt x="202" y="656"/>
                      </a:lnTo>
                      <a:lnTo>
                        <a:pt x="169" y="664"/>
                      </a:lnTo>
                      <a:lnTo>
                        <a:pt x="135" y="673"/>
                      </a:lnTo>
                      <a:lnTo>
                        <a:pt x="102" y="680"/>
                      </a:lnTo>
                      <a:lnTo>
                        <a:pt x="68" y="688"/>
                      </a:lnTo>
                      <a:lnTo>
                        <a:pt x="34" y="694"/>
                      </a:lnTo>
                      <a:lnTo>
                        <a:pt x="0" y="702"/>
                      </a:lnTo>
                      <a:lnTo>
                        <a:pt x="172" y="46"/>
                      </a:lnTo>
                      <a:lnTo>
                        <a:pt x="207" y="39"/>
                      </a:lnTo>
                      <a:lnTo>
                        <a:pt x="241" y="32"/>
                      </a:lnTo>
                      <a:lnTo>
                        <a:pt x="276" y="24"/>
                      </a:lnTo>
                      <a:lnTo>
                        <a:pt x="311" y="17"/>
                      </a:lnTo>
                      <a:lnTo>
                        <a:pt x="346" y="8"/>
                      </a:lnTo>
                      <a:lnTo>
                        <a:pt x="379" y="0"/>
                      </a:lnTo>
                      <a:close/>
                    </a:path>
                  </a:pathLst>
                </a:custGeom>
                <a:solidFill>
                  <a:srgbClr val="7f9e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5036040" y="3201840"/>
                  <a:ext cx="36720" cy="36720"/>
                </a:xfrm>
                <a:custGeom>
                  <a:avLst/>
                  <a:gdLst/>
                  <a:ahLst/>
                  <a:rect l="l" t="t" r="r" b="b"/>
                  <a:pathLst>
                    <a:path w="375" h="689">
                      <a:moveTo>
                        <a:pt x="375" y="0"/>
                      </a:moveTo>
                      <a:lnTo>
                        <a:pt x="203" y="656"/>
                      </a:lnTo>
                      <a:lnTo>
                        <a:pt x="169" y="662"/>
                      </a:lnTo>
                      <a:lnTo>
                        <a:pt x="135" y="668"/>
                      </a:lnTo>
                      <a:lnTo>
                        <a:pt x="102" y="673"/>
                      </a:lnTo>
                      <a:lnTo>
                        <a:pt x="68" y="680"/>
                      </a:lnTo>
                      <a:lnTo>
                        <a:pt x="34" y="685"/>
                      </a:lnTo>
                      <a:lnTo>
                        <a:pt x="0" y="689"/>
                      </a:lnTo>
                      <a:lnTo>
                        <a:pt x="165" y="34"/>
                      </a:lnTo>
                      <a:lnTo>
                        <a:pt x="200" y="30"/>
                      </a:lnTo>
                      <a:lnTo>
                        <a:pt x="236" y="25"/>
                      </a:lnTo>
                      <a:lnTo>
                        <a:pt x="271" y="18"/>
                      </a:lnTo>
                      <a:lnTo>
                        <a:pt x="306" y="13"/>
                      </a:lnTo>
                      <a:lnTo>
                        <a:pt x="340" y="7"/>
                      </a:lnTo>
                      <a:lnTo>
                        <a:pt x="375" y="0"/>
                      </a:lnTo>
                      <a:close/>
                    </a:path>
                  </a:pathLst>
                </a:custGeom>
                <a:solidFill>
                  <a:srgbClr val="778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5015520" y="3202560"/>
                  <a:ext cx="36720" cy="37080"/>
                </a:xfrm>
                <a:custGeom>
                  <a:avLst/>
                  <a:gdLst/>
                  <a:ahLst/>
                  <a:rect l="l" t="t" r="r" b="b"/>
                  <a:pathLst>
                    <a:path w="371" h="677">
                      <a:moveTo>
                        <a:pt x="371" y="0"/>
                      </a:moveTo>
                      <a:lnTo>
                        <a:pt x="206" y="655"/>
                      </a:lnTo>
                      <a:lnTo>
                        <a:pt x="171" y="659"/>
                      </a:lnTo>
                      <a:lnTo>
                        <a:pt x="137" y="663"/>
                      </a:lnTo>
                      <a:lnTo>
                        <a:pt x="103" y="668"/>
                      </a:lnTo>
                      <a:lnTo>
                        <a:pt x="69" y="671"/>
                      </a:lnTo>
                      <a:lnTo>
                        <a:pt x="34" y="674"/>
                      </a:lnTo>
                      <a:lnTo>
                        <a:pt x="0" y="677"/>
                      </a:lnTo>
                      <a:lnTo>
                        <a:pt x="159" y="23"/>
                      </a:lnTo>
                      <a:lnTo>
                        <a:pt x="195" y="20"/>
                      </a:lnTo>
                      <a:lnTo>
                        <a:pt x="231" y="17"/>
                      </a:lnTo>
                      <a:lnTo>
                        <a:pt x="265" y="14"/>
                      </a:lnTo>
                      <a:lnTo>
                        <a:pt x="301" y="9"/>
                      </a:lnTo>
                      <a:lnTo>
                        <a:pt x="336" y="5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7386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4996080" y="3204000"/>
                  <a:ext cx="35640" cy="36000"/>
                </a:xfrm>
                <a:custGeom>
                  <a:avLst/>
                  <a:gdLst/>
                  <a:ahLst/>
                  <a:rect l="l" t="t" r="r" b="b"/>
                  <a:pathLst>
                    <a:path w="368" h="663">
                      <a:moveTo>
                        <a:pt x="368" y="0"/>
                      </a:moveTo>
                      <a:lnTo>
                        <a:pt x="209" y="654"/>
                      </a:lnTo>
                      <a:lnTo>
                        <a:pt x="174" y="656"/>
                      </a:lnTo>
                      <a:lnTo>
                        <a:pt x="139" y="658"/>
                      </a:lnTo>
                      <a:lnTo>
                        <a:pt x="104" y="660"/>
                      </a:lnTo>
                      <a:lnTo>
                        <a:pt x="69" y="661"/>
                      </a:lnTo>
                      <a:lnTo>
                        <a:pt x="35" y="662"/>
                      </a:lnTo>
                      <a:lnTo>
                        <a:pt x="0" y="663"/>
                      </a:lnTo>
                      <a:lnTo>
                        <a:pt x="152" y="9"/>
                      </a:lnTo>
                      <a:lnTo>
                        <a:pt x="189" y="8"/>
                      </a:lnTo>
                      <a:lnTo>
                        <a:pt x="225" y="7"/>
                      </a:lnTo>
                      <a:lnTo>
                        <a:pt x="261" y="6"/>
                      </a:lnTo>
                      <a:lnTo>
                        <a:pt x="297" y="4"/>
                      </a:lnTo>
                      <a:lnTo>
                        <a:pt x="333" y="2"/>
                      </a:lnTo>
                      <a:lnTo>
                        <a:pt x="368" y="0"/>
                      </a:lnTo>
                      <a:close/>
                    </a:path>
                  </a:pathLst>
                </a:custGeom>
                <a:solidFill>
                  <a:srgbClr val="6d7a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4988160" y="3205080"/>
                  <a:ext cx="21600" cy="34920"/>
                </a:xfrm>
                <a:custGeom>
                  <a:avLst/>
                  <a:gdLst/>
                  <a:ahLst/>
                  <a:rect l="l" t="t" r="r" b="b"/>
                  <a:pathLst>
                    <a:path w="223" h="654">
                      <a:moveTo>
                        <a:pt x="223" y="0"/>
                      </a:moveTo>
                      <a:lnTo>
                        <a:pt x="71" y="654"/>
                      </a:lnTo>
                      <a:lnTo>
                        <a:pt x="35" y="654"/>
                      </a:lnTo>
                      <a:lnTo>
                        <a:pt x="0" y="654"/>
                      </a:lnTo>
                      <a:lnTo>
                        <a:pt x="152" y="0"/>
                      </a:lnTo>
                      <a:lnTo>
                        <a:pt x="188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6872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4980960" y="3209760"/>
                  <a:ext cx="20520" cy="44640"/>
                </a:xfrm>
                <a:custGeom>
                  <a:avLst/>
                  <a:gdLst/>
                  <a:ahLst/>
                  <a:rect l="l" t="t" r="r" b="b"/>
                  <a:pathLst>
                    <a:path w="201" h="832">
                      <a:moveTo>
                        <a:pt x="201" y="0"/>
                      </a:moveTo>
                      <a:lnTo>
                        <a:pt x="50" y="652"/>
                      </a:lnTo>
                      <a:lnTo>
                        <a:pt x="27" y="743"/>
                      </a:lnTo>
                      <a:lnTo>
                        <a:pt x="0" y="832"/>
                      </a:lnTo>
                      <a:lnTo>
                        <a:pt x="150" y="185"/>
                      </a:lnTo>
                      <a:lnTo>
                        <a:pt x="177" y="9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4975560" y="3219480"/>
                  <a:ext cx="20160" cy="43920"/>
                </a:xfrm>
                <a:custGeom>
                  <a:avLst/>
                  <a:gdLst/>
                  <a:ahLst/>
                  <a:rect l="l" t="t" r="r" b="b"/>
                  <a:pathLst>
                    <a:path w="210" h="821">
                      <a:moveTo>
                        <a:pt x="210" y="0"/>
                      </a:moveTo>
                      <a:lnTo>
                        <a:pt x="60" y="647"/>
                      </a:lnTo>
                      <a:lnTo>
                        <a:pt x="31" y="735"/>
                      </a:lnTo>
                      <a:lnTo>
                        <a:pt x="0" y="821"/>
                      </a:lnTo>
                      <a:lnTo>
                        <a:pt x="147" y="179"/>
                      </a:lnTo>
                      <a:lnTo>
                        <a:pt x="180" y="90"/>
                      </a:lnTo>
                      <a:lnTo>
                        <a:pt x="210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4968720" y="3229920"/>
                  <a:ext cx="21600" cy="42840"/>
                </a:xfrm>
                <a:custGeom>
                  <a:avLst/>
                  <a:gdLst/>
                  <a:ahLst/>
                  <a:rect l="l" t="t" r="r" b="b"/>
                  <a:pathLst>
                    <a:path w="219" h="810">
                      <a:moveTo>
                        <a:pt x="219" y="0"/>
                      </a:moveTo>
                      <a:lnTo>
                        <a:pt x="72" y="642"/>
                      </a:lnTo>
                      <a:lnTo>
                        <a:pt x="37" y="726"/>
                      </a:lnTo>
                      <a:lnTo>
                        <a:pt x="0" y="810"/>
                      </a:lnTo>
                      <a:lnTo>
                        <a:pt x="146" y="172"/>
                      </a:lnTo>
                      <a:lnTo>
                        <a:pt x="183" y="87"/>
                      </a:lnTo>
                      <a:lnTo>
                        <a:pt x="219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4960440" y="3238920"/>
                  <a:ext cx="21960" cy="42840"/>
                </a:xfrm>
                <a:custGeom>
                  <a:avLst/>
                  <a:gdLst/>
                  <a:ahLst/>
                  <a:rect l="l" t="t" r="r" b="b"/>
                  <a:pathLst>
                    <a:path w="226" h="800">
                      <a:moveTo>
                        <a:pt x="226" y="0"/>
                      </a:moveTo>
                      <a:lnTo>
                        <a:pt x="80" y="638"/>
                      </a:lnTo>
                      <a:lnTo>
                        <a:pt x="41" y="720"/>
                      </a:lnTo>
                      <a:lnTo>
                        <a:pt x="0" y="800"/>
                      </a:lnTo>
                      <a:lnTo>
                        <a:pt x="143" y="167"/>
                      </a:lnTo>
                      <a:lnTo>
                        <a:pt x="185" y="84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4952160" y="3247920"/>
                  <a:ext cx="21600" cy="41400"/>
                </a:xfrm>
                <a:custGeom>
                  <a:avLst/>
                  <a:gdLst/>
                  <a:ahLst/>
                  <a:rect l="l" t="t" r="r" b="b"/>
                  <a:pathLst>
                    <a:path w="233" h="788">
                      <a:moveTo>
                        <a:pt x="233" y="0"/>
                      </a:moveTo>
                      <a:lnTo>
                        <a:pt x="90" y="633"/>
                      </a:lnTo>
                      <a:lnTo>
                        <a:pt x="46" y="711"/>
                      </a:lnTo>
                      <a:lnTo>
                        <a:pt x="0" y="788"/>
                      </a:lnTo>
                      <a:lnTo>
                        <a:pt x="140" y="159"/>
                      </a:lnTo>
                      <a:lnTo>
                        <a:pt x="187" y="80"/>
                      </a:lnTo>
                      <a:lnTo>
                        <a:pt x="233" y="0"/>
                      </a:lnTo>
                      <a:close/>
                    </a:path>
                  </a:pathLst>
                </a:custGeom>
                <a:solidFill>
                  <a:srgbClr val="cee9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4942800" y="3255480"/>
                  <a:ext cx="23040" cy="42840"/>
                </a:xfrm>
                <a:custGeom>
                  <a:avLst/>
                  <a:gdLst/>
                  <a:ahLst/>
                  <a:rect l="l" t="t" r="r" b="b"/>
                  <a:pathLst>
                    <a:path w="240" h="780">
                      <a:moveTo>
                        <a:pt x="240" y="0"/>
                      </a:moveTo>
                      <a:lnTo>
                        <a:pt x="100" y="629"/>
                      </a:lnTo>
                      <a:lnTo>
                        <a:pt x="51" y="705"/>
                      </a:lnTo>
                      <a:lnTo>
                        <a:pt x="0" y="780"/>
                      </a:lnTo>
                      <a:lnTo>
                        <a:pt x="139" y="154"/>
                      </a:lnTo>
                      <a:lnTo>
                        <a:pt x="191" y="78"/>
                      </a:lnTo>
                      <a:lnTo>
                        <a:pt x="240" y="0"/>
                      </a:lnTo>
                      <a:close/>
                    </a:path>
                  </a:pathLst>
                </a:custGeom>
                <a:solidFill>
                  <a:srgbClr val="cee9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4931640" y="3264840"/>
                  <a:ext cx="24480" cy="40320"/>
                </a:xfrm>
                <a:custGeom>
                  <a:avLst/>
                  <a:gdLst/>
                  <a:ahLst/>
                  <a:rect l="l" t="t" r="r" b="b"/>
                  <a:pathLst>
                    <a:path w="247" h="770">
                      <a:moveTo>
                        <a:pt x="247" y="0"/>
                      </a:moveTo>
                      <a:lnTo>
                        <a:pt x="108" y="626"/>
                      </a:lnTo>
                      <a:lnTo>
                        <a:pt x="56" y="698"/>
                      </a:lnTo>
                      <a:lnTo>
                        <a:pt x="0" y="770"/>
                      </a:lnTo>
                      <a:lnTo>
                        <a:pt x="136" y="148"/>
                      </a:lnTo>
                      <a:lnTo>
                        <a:pt x="192" y="75"/>
                      </a:lnTo>
                      <a:lnTo>
                        <a:pt x="247" y="0"/>
                      </a:lnTo>
                      <a:close/>
                    </a:path>
                  </a:pathLst>
                </a:custGeom>
                <a:solidFill>
                  <a:srgbClr val="c6e5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4920480" y="327276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250" h="761">
                      <a:moveTo>
                        <a:pt x="250" y="0"/>
                      </a:moveTo>
                      <a:lnTo>
                        <a:pt x="114" y="622"/>
                      </a:lnTo>
                      <a:lnTo>
                        <a:pt x="58" y="692"/>
                      </a:lnTo>
                      <a:lnTo>
                        <a:pt x="0" y="761"/>
                      </a:lnTo>
                      <a:lnTo>
                        <a:pt x="131" y="143"/>
                      </a:lnTo>
                      <a:lnTo>
                        <a:pt x="191" y="72"/>
                      </a:lnTo>
                      <a:lnTo>
                        <a:pt x="250" y="0"/>
                      </a:lnTo>
                      <a:close/>
                    </a:path>
                  </a:pathLst>
                </a:custGeom>
                <a:solidFill>
                  <a:srgbClr val="c6e5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4908600" y="3280320"/>
                  <a:ext cx="24480" cy="39600"/>
                </a:xfrm>
                <a:custGeom>
                  <a:avLst/>
                  <a:gdLst/>
                  <a:ahLst/>
                  <a:rect l="l" t="t" r="r" b="b"/>
                  <a:pathLst>
                    <a:path w="254" h="750">
                      <a:moveTo>
                        <a:pt x="254" y="0"/>
                      </a:moveTo>
                      <a:lnTo>
                        <a:pt x="123" y="618"/>
                      </a:lnTo>
                      <a:lnTo>
                        <a:pt x="62" y="684"/>
                      </a:lnTo>
                      <a:lnTo>
                        <a:pt x="0" y="750"/>
                      </a:lnTo>
                      <a:lnTo>
                        <a:pt x="128" y="136"/>
                      </a:lnTo>
                      <a:lnTo>
                        <a:pt x="191" y="69"/>
                      </a:lnTo>
                      <a:lnTo>
                        <a:pt x="254" y="0"/>
                      </a:lnTo>
                      <a:close/>
                    </a:path>
                  </a:pathLst>
                </a:custGeom>
                <a:solidFill>
                  <a:srgbClr val="c0e2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4896000" y="328716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259" h="741">
                      <a:moveTo>
                        <a:pt x="259" y="0"/>
                      </a:moveTo>
                      <a:lnTo>
                        <a:pt x="131" y="614"/>
                      </a:lnTo>
                      <a:lnTo>
                        <a:pt x="66" y="678"/>
                      </a:lnTo>
                      <a:lnTo>
                        <a:pt x="0" y="741"/>
                      </a:lnTo>
                      <a:lnTo>
                        <a:pt x="124" y="131"/>
                      </a:lnTo>
                      <a:lnTo>
                        <a:pt x="192" y="66"/>
                      </a:lnTo>
                      <a:lnTo>
                        <a:pt x="259" y="0"/>
                      </a:lnTo>
                      <a:close/>
                    </a:path>
                  </a:pathLst>
                </a:custGeom>
                <a:solidFill>
                  <a:srgbClr val="bde1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4882320" y="3294000"/>
                  <a:ext cx="25920" cy="39600"/>
                </a:xfrm>
                <a:custGeom>
                  <a:avLst/>
                  <a:gdLst/>
                  <a:ahLst/>
                  <a:rect l="l" t="t" r="r" b="b"/>
                  <a:pathLst>
                    <a:path w="261" h="731">
                      <a:moveTo>
                        <a:pt x="261" y="0"/>
                      </a:moveTo>
                      <a:lnTo>
                        <a:pt x="137" y="610"/>
                      </a:lnTo>
                      <a:lnTo>
                        <a:pt x="70" y="671"/>
                      </a:lnTo>
                      <a:lnTo>
                        <a:pt x="0" y="731"/>
                      </a:lnTo>
                      <a:lnTo>
                        <a:pt x="120" y="124"/>
                      </a:lnTo>
                      <a:lnTo>
                        <a:pt x="192" y="62"/>
                      </a:lnTo>
                      <a:lnTo>
                        <a:pt x="261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4868640" y="330084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264" h="722">
                      <a:moveTo>
                        <a:pt x="264" y="0"/>
                      </a:moveTo>
                      <a:lnTo>
                        <a:pt x="144" y="607"/>
                      </a:lnTo>
                      <a:lnTo>
                        <a:pt x="73" y="665"/>
                      </a:lnTo>
                      <a:lnTo>
                        <a:pt x="0" y="722"/>
                      </a:lnTo>
                      <a:lnTo>
                        <a:pt x="116" y="118"/>
                      </a:lnTo>
                      <a:lnTo>
                        <a:pt x="191" y="60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b7d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4853520" y="3307680"/>
                  <a:ext cx="25920" cy="38160"/>
                </a:xfrm>
                <a:custGeom>
                  <a:avLst/>
                  <a:gdLst/>
                  <a:ahLst/>
                  <a:rect l="l" t="t" r="r" b="b"/>
                  <a:pathLst>
                    <a:path w="265" h="715">
                      <a:moveTo>
                        <a:pt x="265" y="0"/>
                      </a:moveTo>
                      <a:lnTo>
                        <a:pt x="149" y="604"/>
                      </a:lnTo>
                      <a:lnTo>
                        <a:pt x="75" y="661"/>
                      </a:lnTo>
                      <a:lnTo>
                        <a:pt x="0" y="715"/>
                      </a:lnTo>
                      <a:lnTo>
                        <a:pt x="111" y="113"/>
                      </a:lnTo>
                      <a:lnTo>
                        <a:pt x="189" y="58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solidFill>
                  <a:srgbClr val="b3dd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4838400" y="3313080"/>
                  <a:ext cx="25920" cy="38160"/>
                </a:xfrm>
                <a:custGeom>
                  <a:avLst/>
                  <a:gdLst/>
                  <a:ahLst/>
                  <a:rect l="l" t="t" r="r" b="b"/>
                  <a:pathLst>
                    <a:path w="266" h="706">
                      <a:moveTo>
                        <a:pt x="266" y="0"/>
                      </a:moveTo>
                      <a:lnTo>
                        <a:pt x="155" y="602"/>
                      </a:lnTo>
                      <a:lnTo>
                        <a:pt x="78" y="654"/>
                      </a:lnTo>
                      <a:lnTo>
                        <a:pt x="0" y="706"/>
                      </a:lnTo>
                      <a:lnTo>
                        <a:pt x="107" y="107"/>
                      </a:lnTo>
                      <a:lnTo>
                        <a:pt x="187" y="54"/>
                      </a:lnTo>
                      <a:lnTo>
                        <a:pt x="266" y="0"/>
                      </a:lnTo>
                      <a:close/>
                    </a:path>
                  </a:pathLst>
                </a:custGeom>
                <a:solidFill>
                  <a:srgbClr val="adda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4822200" y="331884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267" h="698">
                      <a:moveTo>
                        <a:pt x="267" y="0"/>
                      </a:moveTo>
                      <a:lnTo>
                        <a:pt x="160" y="599"/>
                      </a:lnTo>
                      <a:lnTo>
                        <a:pt x="81" y="649"/>
                      </a:lnTo>
                      <a:lnTo>
                        <a:pt x="0" y="698"/>
                      </a:lnTo>
                      <a:lnTo>
                        <a:pt x="102" y="102"/>
                      </a:lnTo>
                      <a:lnTo>
                        <a:pt x="185" y="52"/>
                      </a:lnTo>
                      <a:lnTo>
                        <a:pt x="267" y="0"/>
                      </a:lnTo>
                      <a:close/>
                    </a:path>
                  </a:pathLst>
                </a:custGeom>
                <a:solidFill>
                  <a:srgbClr val="a9d8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4815360" y="3324240"/>
                  <a:ext cx="17640" cy="34920"/>
                </a:xfrm>
                <a:custGeom>
                  <a:avLst/>
                  <a:gdLst/>
                  <a:ahLst/>
                  <a:rect l="l" t="t" r="r" b="b"/>
                  <a:pathLst>
                    <a:path w="184" h="643">
                      <a:moveTo>
                        <a:pt x="184" y="0"/>
                      </a:moveTo>
                      <a:lnTo>
                        <a:pt x="82" y="596"/>
                      </a:lnTo>
                      <a:lnTo>
                        <a:pt x="0" y="643"/>
                      </a:lnTo>
                      <a:lnTo>
                        <a:pt x="100" y="48"/>
                      </a:lnTo>
                      <a:lnTo>
                        <a:pt x="184" y="0"/>
                      </a:lnTo>
                      <a:close/>
                    </a:path>
                  </a:pathLst>
                </a:custGeom>
                <a:solidFill>
                  <a:srgbClr val="a6d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4797360" y="3327840"/>
                  <a:ext cx="27000" cy="36000"/>
                </a:xfrm>
                <a:custGeom>
                  <a:avLst/>
                  <a:gdLst/>
                  <a:ahLst/>
                  <a:rect l="l" t="t" r="r" b="b"/>
                  <a:pathLst>
                    <a:path w="272" h="683">
                      <a:moveTo>
                        <a:pt x="272" y="0"/>
                      </a:moveTo>
                      <a:lnTo>
                        <a:pt x="172" y="595"/>
                      </a:lnTo>
                      <a:lnTo>
                        <a:pt x="144" y="610"/>
                      </a:lnTo>
                      <a:lnTo>
                        <a:pt x="115" y="625"/>
                      </a:lnTo>
                      <a:lnTo>
                        <a:pt x="87" y="639"/>
                      </a:lnTo>
                      <a:lnTo>
                        <a:pt x="58" y="654"/>
                      </a:lnTo>
                      <a:lnTo>
                        <a:pt x="29" y="669"/>
                      </a:lnTo>
                      <a:lnTo>
                        <a:pt x="0" y="683"/>
                      </a:lnTo>
                      <a:lnTo>
                        <a:pt x="96" y="91"/>
                      </a:lnTo>
                      <a:lnTo>
                        <a:pt x="125" y="76"/>
                      </a:lnTo>
                      <a:lnTo>
                        <a:pt x="154" y="61"/>
                      </a:lnTo>
                      <a:lnTo>
                        <a:pt x="184" y="47"/>
                      </a:lnTo>
                      <a:lnTo>
                        <a:pt x="214" y="31"/>
                      </a:lnTo>
                      <a:lnTo>
                        <a:pt x="242" y="16"/>
                      </a:lnTo>
                      <a:lnTo>
                        <a:pt x="272" y="0"/>
                      </a:lnTo>
                      <a:close/>
                    </a:path>
                  </a:pathLst>
                </a:custGeom>
                <a:solidFill>
                  <a:srgbClr val="a0d4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4781160" y="3332160"/>
                  <a:ext cx="25560" cy="36000"/>
                </a:xfrm>
                <a:custGeom>
                  <a:avLst/>
                  <a:gdLst/>
                  <a:ahLst/>
                  <a:rect l="l" t="t" r="r" b="b"/>
                  <a:pathLst>
                    <a:path w="270" h="674">
                      <a:moveTo>
                        <a:pt x="270" y="0"/>
                      </a:moveTo>
                      <a:lnTo>
                        <a:pt x="174" y="592"/>
                      </a:lnTo>
                      <a:lnTo>
                        <a:pt x="146" y="606"/>
                      </a:lnTo>
                      <a:lnTo>
                        <a:pt x="116" y="620"/>
                      </a:lnTo>
                      <a:lnTo>
                        <a:pt x="87" y="634"/>
                      </a:lnTo>
                      <a:lnTo>
                        <a:pt x="59" y="647"/>
                      </a:lnTo>
                      <a:lnTo>
                        <a:pt x="29" y="661"/>
                      </a:lnTo>
                      <a:lnTo>
                        <a:pt x="0" y="674"/>
                      </a:lnTo>
                      <a:lnTo>
                        <a:pt x="90" y="85"/>
                      </a:lnTo>
                      <a:lnTo>
                        <a:pt x="120" y="70"/>
                      </a:lnTo>
                      <a:lnTo>
                        <a:pt x="150" y="57"/>
                      </a:lnTo>
                      <a:lnTo>
                        <a:pt x="180" y="43"/>
                      </a:lnTo>
                      <a:lnTo>
                        <a:pt x="210" y="29"/>
                      </a:lnTo>
                      <a:lnTo>
                        <a:pt x="240" y="14"/>
                      </a:lnTo>
                      <a:lnTo>
                        <a:pt x="270" y="0"/>
                      </a:lnTo>
                      <a:close/>
                    </a:path>
                  </a:pathLst>
                </a:custGeom>
                <a:solidFill>
                  <a:srgbClr val="9ac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4768560" y="3336840"/>
                  <a:ext cx="20160" cy="34920"/>
                </a:xfrm>
                <a:custGeom>
                  <a:avLst/>
                  <a:gdLst/>
                  <a:ahLst/>
                  <a:rect l="l" t="t" r="r" b="b"/>
                  <a:pathLst>
                    <a:path w="208" h="643">
                      <a:moveTo>
                        <a:pt x="208" y="0"/>
                      </a:moveTo>
                      <a:lnTo>
                        <a:pt x="118" y="589"/>
                      </a:lnTo>
                      <a:lnTo>
                        <a:pt x="88" y="603"/>
                      </a:lnTo>
                      <a:lnTo>
                        <a:pt x="60" y="617"/>
                      </a:lnTo>
                      <a:lnTo>
                        <a:pt x="30" y="630"/>
                      </a:lnTo>
                      <a:lnTo>
                        <a:pt x="0" y="643"/>
                      </a:lnTo>
                      <a:lnTo>
                        <a:pt x="86" y="54"/>
                      </a:lnTo>
                      <a:lnTo>
                        <a:pt x="117" y="41"/>
                      </a:lnTo>
                      <a:lnTo>
                        <a:pt x="148" y="27"/>
                      </a:lnTo>
                      <a:lnTo>
                        <a:pt x="178" y="14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98c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4749480" y="3339360"/>
                  <a:ext cx="28800" cy="36000"/>
                </a:xfrm>
                <a:custGeom>
                  <a:avLst/>
                  <a:gdLst/>
                  <a:ahLst/>
                  <a:rect l="l" t="t" r="r" b="b"/>
                  <a:pathLst>
                    <a:path w="284" h="662">
                      <a:moveTo>
                        <a:pt x="284" y="0"/>
                      </a:moveTo>
                      <a:lnTo>
                        <a:pt x="198" y="589"/>
                      </a:lnTo>
                      <a:lnTo>
                        <a:pt x="132" y="615"/>
                      </a:lnTo>
                      <a:lnTo>
                        <a:pt x="66" y="639"/>
                      </a:lnTo>
                      <a:lnTo>
                        <a:pt x="0" y="662"/>
                      </a:lnTo>
                      <a:lnTo>
                        <a:pt x="80" y="76"/>
                      </a:lnTo>
                      <a:lnTo>
                        <a:pt x="149" y="52"/>
                      </a:lnTo>
                      <a:lnTo>
                        <a:pt x="217" y="26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91bb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4730040" y="3343680"/>
                  <a:ext cx="27360" cy="34920"/>
                </a:xfrm>
                <a:custGeom>
                  <a:avLst/>
                  <a:gdLst/>
                  <a:ahLst/>
                  <a:rect l="l" t="t" r="r" b="b"/>
                  <a:pathLst>
                    <a:path w="277" h="653">
                      <a:moveTo>
                        <a:pt x="277" y="0"/>
                      </a:moveTo>
                      <a:lnTo>
                        <a:pt x="197" y="586"/>
                      </a:lnTo>
                      <a:lnTo>
                        <a:pt x="132" y="609"/>
                      </a:lnTo>
                      <a:lnTo>
                        <a:pt x="66" y="631"/>
                      </a:lnTo>
                      <a:lnTo>
                        <a:pt x="0" y="653"/>
                      </a:lnTo>
                      <a:lnTo>
                        <a:pt x="75" y="68"/>
                      </a:lnTo>
                      <a:lnTo>
                        <a:pt x="142" y="46"/>
                      </a:lnTo>
                      <a:lnTo>
                        <a:pt x="210" y="24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8bb2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4711320" y="3347280"/>
                  <a:ext cx="27000" cy="34560"/>
                </a:xfrm>
                <a:custGeom>
                  <a:avLst/>
                  <a:gdLst/>
                  <a:ahLst/>
                  <a:rect l="l" t="t" r="r" b="b"/>
                  <a:pathLst>
                    <a:path w="272" h="642">
                      <a:moveTo>
                        <a:pt x="272" y="0"/>
                      </a:moveTo>
                      <a:lnTo>
                        <a:pt x="197" y="585"/>
                      </a:lnTo>
                      <a:lnTo>
                        <a:pt x="132" y="605"/>
                      </a:lnTo>
                      <a:lnTo>
                        <a:pt x="66" y="624"/>
                      </a:lnTo>
                      <a:lnTo>
                        <a:pt x="0" y="642"/>
                      </a:lnTo>
                      <a:lnTo>
                        <a:pt x="69" y="59"/>
                      </a:lnTo>
                      <a:lnTo>
                        <a:pt x="137" y="40"/>
                      </a:lnTo>
                      <a:lnTo>
                        <a:pt x="205" y="21"/>
                      </a:lnTo>
                      <a:lnTo>
                        <a:pt x="272" y="0"/>
                      </a:lnTo>
                      <a:close/>
                    </a:path>
                  </a:pathLst>
                </a:custGeom>
                <a:solidFill>
                  <a:srgbClr val="84a8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4691880" y="3350520"/>
                  <a:ext cx="25920" cy="33480"/>
                </a:xfrm>
                <a:custGeom>
                  <a:avLst/>
                  <a:gdLst/>
                  <a:ahLst/>
                  <a:rect l="l" t="t" r="r" b="b"/>
                  <a:pathLst>
                    <a:path w="265" h="633">
                      <a:moveTo>
                        <a:pt x="265" y="0"/>
                      </a:moveTo>
                      <a:lnTo>
                        <a:pt x="196" y="583"/>
                      </a:lnTo>
                      <a:lnTo>
                        <a:pt x="131" y="601"/>
                      </a:lnTo>
                      <a:lnTo>
                        <a:pt x="65" y="618"/>
                      </a:lnTo>
                      <a:lnTo>
                        <a:pt x="0" y="633"/>
                      </a:lnTo>
                      <a:lnTo>
                        <a:pt x="63" y="51"/>
                      </a:lnTo>
                      <a:lnTo>
                        <a:pt x="131" y="36"/>
                      </a:lnTo>
                      <a:lnTo>
                        <a:pt x="199" y="18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solidFill>
                  <a:srgbClr val="83a3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4672440" y="3353760"/>
                  <a:ext cx="25920" cy="32400"/>
                </a:xfrm>
                <a:custGeom>
                  <a:avLst/>
                  <a:gdLst/>
                  <a:ahLst/>
                  <a:rect l="l" t="t" r="r" b="b"/>
                  <a:pathLst>
                    <a:path w="260" h="625">
                      <a:moveTo>
                        <a:pt x="260" y="0"/>
                      </a:moveTo>
                      <a:lnTo>
                        <a:pt x="197" y="582"/>
                      </a:lnTo>
                      <a:lnTo>
                        <a:pt x="131" y="597"/>
                      </a:lnTo>
                      <a:lnTo>
                        <a:pt x="65" y="612"/>
                      </a:lnTo>
                      <a:lnTo>
                        <a:pt x="0" y="625"/>
                      </a:lnTo>
                      <a:lnTo>
                        <a:pt x="57" y="44"/>
                      </a:lnTo>
                      <a:lnTo>
                        <a:pt x="125" y="30"/>
                      </a:lnTo>
                      <a:lnTo>
                        <a:pt x="192" y="16"/>
                      </a:lnTo>
                      <a:lnTo>
                        <a:pt x="260" y="0"/>
                      </a:lnTo>
                      <a:close/>
                    </a:path>
                  </a:pathLst>
                </a:custGeom>
                <a:solidFill>
                  <a:srgbClr val="7d9a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4653720" y="3355920"/>
                  <a:ext cx="24480" cy="32400"/>
                </a:xfrm>
                <a:custGeom>
                  <a:avLst/>
                  <a:gdLst/>
                  <a:ahLst/>
                  <a:rect l="l" t="t" r="r" b="b"/>
                  <a:pathLst>
                    <a:path w="256" h="615">
                      <a:moveTo>
                        <a:pt x="256" y="0"/>
                      </a:moveTo>
                      <a:lnTo>
                        <a:pt x="199" y="581"/>
                      </a:lnTo>
                      <a:lnTo>
                        <a:pt x="132" y="593"/>
                      </a:lnTo>
                      <a:lnTo>
                        <a:pt x="66" y="604"/>
                      </a:lnTo>
                      <a:lnTo>
                        <a:pt x="0" y="615"/>
                      </a:lnTo>
                      <a:lnTo>
                        <a:pt x="51" y="35"/>
                      </a:lnTo>
                      <a:lnTo>
                        <a:pt x="120" y="24"/>
                      </a:lnTo>
                      <a:lnTo>
                        <a:pt x="187" y="12"/>
                      </a:lnTo>
                      <a:lnTo>
                        <a:pt x="256" y="0"/>
                      </a:lnTo>
                      <a:close/>
                    </a:path>
                  </a:pathLst>
                </a:custGeom>
                <a:solidFill>
                  <a:srgbClr val="799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4634280" y="3357000"/>
                  <a:ext cx="24480" cy="32400"/>
                </a:xfrm>
                <a:custGeom>
                  <a:avLst/>
                  <a:gdLst/>
                  <a:ahLst/>
                  <a:rect l="l" t="t" r="r" b="b"/>
                  <a:pathLst>
                    <a:path w="251" h="607">
                      <a:moveTo>
                        <a:pt x="251" y="0"/>
                      </a:moveTo>
                      <a:lnTo>
                        <a:pt x="200" y="580"/>
                      </a:lnTo>
                      <a:lnTo>
                        <a:pt x="133" y="590"/>
                      </a:lnTo>
                      <a:lnTo>
                        <a:pt x="66" y="599"/>
                      </a:lnTo>
                      <a:lnTo>
                        <a:pt x="0" y="607"/>
                      </a:lnTo>
                      <a:lnTo>
                        <a:pt x="45" y="27"/>
                      </a:lnTo>
                      <a:lnTo>
                        <a:pt x="114" y="19"/>
                      </a:lnTo>
                      <a:lnTo>
                        <a:pt x="182" y="10"/>
                      </a:lnTo>
                      <a:lnTo>
                        <a:pt x="251" y="0"/>
                      </a:lnTo>
                      <a:close/>
                    </a:path>
                  </a:pathLst>
                </a:custGeom>
                <a:solidFill>
                  <a:srgbClr val="758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4613760" y="3359520"/>
                  <a:ext cx="24480" cy="31680"/>
                </a:xfrm>
                <a:custGeom>
                  <a:avLst/>
                  <a:gdLst/>
                  <a:ahLst/>
                  <a:rect l="l" t="t" r="r" b="b"/>
                  <a:pathLst>
                    <a:path w="248" h="599">
                      <a:moveTo>
                        <a:pt x="248" y="0"/>
                      </a:moveTo>
                      <a:lnTo>
                        <a:pt x="203" y="580"/>
                      </a:lnTo>
                      <a:lnTo>
                        <a:pt x="135" y="588"/>
                      </a:lnTo>
                      <a:lnTo>
                        <a:pt x="67" y="594"/>
                      </a:lnTo>
                      <a:lnTo>
                        <a:pt x="0" y="599"/>
                      </a:lnTo>
                      <a:lnTo>
                        <a:pt x="39" y="20"/>
                      </a:lnTo>
                      <a:lnTo>
                        <a:pt x="108" y="15"/>
                      </a:lnTo>
                      <a:lnTo>
                        <a:pt x="178" y="8"/>
                      </a:lnTo>
                      <a:lnTo>
                        <a:pt x="248" y="0"/>
                      </a:lnTo>
                      <a:close/>
                    </a:path>
                  </a:pathLst>
                </a:custGeom>
                <a:solidFill>
                  <a:srgbClr val="7386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4593240" y="3360600"/>
                  <a:ext cx="24480" cy="31320"/>
                </a:xfrm>
                <a:custGeom>
                  <a:avLst/>
                  <a:gdLst/>
                  <a:ahLst/>
                  <a:rect l="l" t="t" r="r" b="b"/>
                  <a:pathLst>
                    <a:path w="245" h="592">
                      <a:moveTo>
                        <a:pt x="245" y="0"/>
                      </a:moveTo>
                      <a:lnTo>
                        <a:pt x="206" y="579"/>
                      </a:lnTo>
                      <a:lnTo>
                        <a:pt x="137" y="585"/>
                      </a:lnTo>
                      <a:lnTo>
                        <a:pt x="68" y="589"/>
                      </a:lnTo>
                      <a:lnTo>
                        <a:pt x="0" y="592"/>
                      </a:lnTo>
                      <a:lnTo>
                        <a:pt x="32" y="13"/>
                      </a:lnTo>
                      <a:lnTo>
                        <a:pt x="104" y="10"/>
                      </a:lnTo>
                      <a:lnTo>
                        <a:pt x="174" y="5"/>
                      </a:lnTo>
                      <a:lnTo>
                        <a:pt x="245" y="0"/>
                      </a:lnTo>
                      <a:close/>
                    </a:path>
                  </a:pathLst>
                </a:custGeom>
                <a:solidFill>
                  <a:srgbClr val="6f7f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4572720" y="3360600"/>
                  <a:ext cx="24840" cy="31320"/>
                </a:xfrm>
                <a:custGeom>
                  <a:avLst/>
                  <a:gdLst/>
                  <a:ahLst/>
                  <a:rect l="l" t="t" r="r" b="b"/>
                  <a:pathLst>
                    <a:path w="243" h="584">
                      <a:moveTo>
                        <a:pt x="243" y="0"/>
                      </a:moveTo>
                      <a:lnTo>
                        <a:pt x="211" y="579"/>
                      </a:lnTo>
                      <a:lnTo>
                        <a:pt x="141" y="581"/>
                      </a:lnTo>
                      <a:lnTo>
                        <a:pt x="71" y="583"/>
                      </a:lnTo>
                      <a:lnTo>
                        <a:pt x="0" y="584"/>
                      </a:lnTo>
                      <a:lnTo>
                        <a:pt x="28" y="5"/>
                      </a:lnTo>
                      <a:lnTo>
                        <a:pt x="100" y="5"/>
                      </a:lnTo>
                      <a:lnTo>
                        <a:pt x="172" y="3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6b78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4559040" y="3360600"/>
                  <a:ext cx="16200" cy="31320"/>
                </a:xfrm>
                <a:custGeom>
                  <a:avLst/>
                  <a:gdLst/>
                  <a:ahLst/>
                  <a:rect l="l" t="t" r="r" b="b"/>
                  <a:pathLst>
                    <a:path w="169" h="579">
                      <a:moveTo>
                        <a:pt x="169" y="0"/>
                      </a:moveTo>
                      <a:lnTo>
                        <a:pt x="141" y="579"/>
                      </a:lnTo>
                      <a:lnTo>
                        <a:pt x="71" y="579"/>
                      </a:lnTo>
                      <a:lnTo>
                        <a:pt x="0" y="578"/>
                      </a:lnTo>
                      <a:lnTo>
                        <a:pt x="22" y="0"/>
                      </a:lnTo>
                      <a:lnTo>
                        <a:pt x="96" y="1"/>
                      </a:lnTo>
                      <a:lnTo>
                        <a:pt x="169" y="0"/>
                      </a:lnTo>
                      <a:close/>
                    </a:path>
                  </a:pathLst>
                </a:custGeom>
                <a:solidFill>
                  <a:srgbClr val="6671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4520520" y="3359520"/>
                  <a:ext cx="40680" cy="32400"/>
                </a:xfrm>
                <a:custGeom>
                  <a:avLst/>
                  <a:gdLst/>
                  <a:ahLst/>
                  <a:rect l="l" t="t" r="r" b="b"/>
                  <a:pathLst>
                    <a:path w="412" h="607">
                      <a:moveTo>
                        <a:pt x="412" y="29"/>
                      </a:moveTo>
                      <a:lnTo>
                        <a:pt x="390" y="607"/>
                      </a:lnTo>
                      <a:lnTo>
                        <a:pt x="0" y="579"/>
                      </a:lnTo>
                      <a:lnTo>
                        <a:pt x="11" y="0"/>
                      </a:lnTo>
                      <a:lnTo>
                        <a:pt x="412" y="29"/>
                      </a:lnTo>
                      <a:close/>
                    </a:path>
                  </a:pathLst>
                </a:custGeom>
                <a:solidFill>
                  <a:srgbClr val="5c63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4501440" y="3358440"/>
                  <a:ext cx="20160" cy="32400"/>
                </a:xfrm>
                <a:custGeom>
                  <a:avLst/>
                  <a:gdLst/>
                  <a:ahLst/>
                  <a:rect l="l" t="t" r="r" b="b"/>
                  <a:pathLst>
                    <a:path w="208" h="609">
                      <a:moveTo>
                        <a:pt x="208" y="30"/>
                      </a:moveTo>
                      <a:lnTo>
                        <a:pt x="197" y="609"/>
                      </a:lnTo>
                      <a:lnTo>
                        <a:pt x="99" y="595"/>
                      </a:lnTo>
                      <a:lnTo>
                        <a:pt x="0" y="581"/>
                      </a:lnTo>
                      <a:lnTo>
                        <a:pt x="6" y="0"/>
                      </a:lnTo>
                      <a:lnTo>
                        <a:pt x="107" y="16"/>
                      </a:lnTo>
                      <a:lnTo>
                        <a:pt x="208" y="30"/>
                      </a:lnTo>
                      <a:close/>
                    </a:path>
                  </a:pathLst>
                </a:custGeom>
                <a:solidFill>
                  <a:srgbClr val="5052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4482000" y="3355920"/>
                  <a:ext cx="20160" cy="32400"/>
                </a:xfrm>
                <a:custGeom>
                  <a:avLst/>
                  <a:gdLst/>
                  <a:ahLst/>
                  <a:rect l="l" t="t" r="r" b="b"/>
                  <a:pathLst>
                    <a:path w="202" h="618">
                      <a:moveTo>
                        <a:pt x="202" y="37"/>
                      </a:moveTo>
                      <a:lnTo>
                        <a:pt x="196" y="618"/>
                      </a:lnTo>
                      <a:lnTo>
                        <a:pt x="99" y="600"/>
                      </a:lnTo>
                      <a:lnTo>
                        <a:pt x="0" y="581"/>
                      </a:lnTo>
                      <a:lnTo>
                        <a:pt x="0" y="0"/>
                      </a:lnTo>
                      <a:lnTo>
                        <a:pt x="101" y="19"/>
                      </a:lnTo>
                      <a:lnTo>
                        <a:pt x="202" y="37"/>
                      </a:lnTo>
                      <a:close/>
                    </a:path>
                  </a:pathLst>
                </a:custGeom>
                <a:solidFill>
                  <a:srgbClr val="4949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4463280" y="3353760"/>
                  <a:ext cx="18720" cy="33480"/>
                </a:xfrm>
                <a:custGeom>
                  <a:avLst/>
                  <a:gdLst/>
                  <a:ahLst/>
                  <a:rect l="l" t="t" r="r" b="b"/>
                  <a:pathLst>
                    <a:path w="201" h="626">
                      <a:moveTo>
                        <a:pt x="201" y="45"/>
                      </a:moveTo>
                      <a:lnTo>
                        <a:pt x="201" y="626"/>
                      </a:lnTo>
                      <a:lnTo>
                        <a:pt x="104" y="605"/>
                      </a:lnTo>
                      <a:lnTo>
                        <a:pt x="8" y="584"/>
                      </a:lnTo>
                      <a:lnTo>
                        <a:pt x="0" y="0"/>
                      </a:lnTo>
                      <a:lnTo>
                        <a:pt x="101" y="24"/>
                      </a:lnTo>
                      <a:lnTo>
                        <a:pt x="201" y="45"/>
                      </a:lnTo>
                      <a:close/>
                    </a:path>
                  </a:pathLst>
                </a:custGeom>
                <a:solidFill>
                  <a:srgbClr val="414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4443840" y="3350520"/>
                  <a:ext cx="19080" cy="34920"/>
                </a:xfrm>
                <a:custGeom>
                  <a:avLst/>
                  <a:gdLst/>
                  <a:ahLst/>
                  <a:rect l="l" t="t" r="r" b="b"/>
                  <a:pathLst>
                    <a:path w="206" h="635">
                      <a:moveTo>
                        <a:pt x="198" y="51"/>
                      </a:moveTo>
                      <a:lnTo>
                        <a:pt x="206" y="635"/>
                      </a:lnTo>
                      <a:lnTo>
                        <a:pt x="108" y="610"/>
                      </a:lnTo>
                      <a:lnTo>
                        <a:pt x="13" y="584"/>
                      </a:lnTo>
                      <a:lnTo>
                        <a:pt x="0" y="0"/>
                      </a:lnTo>
                      <a:lnTo>
                        <a:pt x="99" y="26"/>
                      </a:lnTo>
                      <a:lnTo>
                        <a:pt x="198" y="51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4424760" y="3347280"/>
                  <a:ext cx="20160" cy="34560"/>
                </a:xfrm>
                <a:custGeom>
                  <a:avLst/>
                  <a:gdLst/>
                  <a:ahLst/>
                  <a:rect l="l" t="t" r="r" b="b"/>
                  <a:pathLst>
                    <a:path w="207" h="644">
                      <a:moveTo>
                        <a:pt x="194" y="60"/>
                      </a:moveTo>
                      <a:lnTo>
                        <a:pt x="207" y="644"/>
                      </a:lnTo>
                      <a:lnTo>
                        <a:pt x="111" y="615"/>
                      </a:lnTo>
                      <a:lnTo>
                        <a:pt x="17" y="586"/>
                      </a:lnTo>
                      <a:lnTo>
                        <a:pt x="0" y="0"/>
                      </a:lnTo>
                      <a:lnTo>
                        <a:pt x="97" y="31"/>
                      </a:lnTo>
                      <a:lnTo>
                        <a:pt x="194" y="60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4405320" y="3343680"/>
                  <a:ext cx="20520" cy="34920"/>
                </a:xfrm>
                <a:custGeom>
                  <a:avLst/>
                  <a:gdLst/>
                  <a:ahLst/>
                  <a:rect l="l" t="t" r="r" b="b"/>
                  <a:pathLst>
                    <a:path w="210" h="654">
                      <a:moveTo>
                        <a:pt x="193" y="68"/>
                      </a:moveTo>
                      <a:lnTo>
                        <a:pt x="210" y="654"/>
                      </a:lnTo>
                      <a:lnTo>
                        <a:pt x="117" y="622"/>
                      </a:lnTo>
                      <a:lnTo>
                        <a:pt x="23" y="588"/>
                      </a:lnTo>
                      <a:lnTo>
                        <a:pt x="0" y="0"/>
                      </a:lnTo>
                      <a:lnTo>
                        <a:pt x="96" y="36"/>
                      </a:lnTo>
                      <a:lnTo>
                        <a:pt x="193" y="68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4387680" y="3340080"/>
                  <a:ext cx="20160" cy="34920"/>
                </a:xfrm>
                <a:custGeom>
                  <a:avLst/>
                  <a:gdLst/>
                  <a:ahLst/>
                  <a:rect l="l" t="t" r="r" b="b"/>
                  <a:pathLst>
                    <a:path w="211" h="664">
                      <a:moveTo>
                        <a:pt x="188" y="76"/>
                      </a:moveTo>
                      <a:lnTo>
                        <a:pt x="211" y="664"/>
                      </a:lnTo>
                      <a:lnTo>
                        <a:pt x="120" y="628"/>
                      </a:lnTo>
                      <a:lnTo>
                        <a:pt x="29" y="590"/>
                      </a:lnTo>
                      <a:lnTo>
                        <a:pt x="0" y="0"/>
                      </a:lnTo>
                      <a:lnTo>
                        <a:pt x="94" y="40"/>
                      </a:lnTo>
                      <a:lnTo>
                        <a:pt x="188" y="76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4370040" y="3335760"/>
                  <a:ext cx="20160" cy="36000"/>
                </a:xfrm>
                <a:custGeom>
                  <a:avLst/>
                  <a:gdLst/>
                  <a:ahLst/>
                  <a:rect l="l" t="t" r="r" b="b"/>
                  <a:pathLst>
                    <a:path w="212" h="674">
                      <a:moveTo>
                        <a:pt x="183" y="84"/>
                      </a:moveTo>
                      <a:lnTo>
                        <a:pt x="212" y="674"/>
                      </a:lnTo>
                      <a:lnTo>
                        <a:pt x="123" y="634"/>
                      </a:lnTo>
                      <a:lnTo>
                        <a:pt x="33" y="591"/>
                      </a:lnTo>
                      <a:lnTo>
                        <a:pt x="0" y="0"/>
                      </a:lnTo>
                      <a:lnTo>
                        <a:pt x="91" y="43"/>
                      </a:lnTo>
                      <a:lnTo>
                        <a:pt x="183" y="84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4352040" y="3330000"/>
                  <a:ext cx="20520" cy="37080"/>
                </a:xfrm>
                <a:custGeom>
                  <a:avLst/>
                  <a:gdLst/>
                  <a:ahLst/>
                  <a:rect l="l" t="t" r="r" b="b"/>
                  <a:pathLst>
                    <a:path w="212" h="686">
                      <a:moveTo>
                        <a:pt x="179" y="95"/>
                      </a:moveTo>
                      <a:lnTo>
                        <a:pt x="212" y="686"/>
                      </a:lnTo>
                      <a:lnTo>
                        <a:pt x="125" y="642"/>
                      </a:lnTo>
                      <a:lnTo>
                        <a:pt x="39" y="595"/>
                      </a:lnTo>
                      <a:lnTo>
                        <a:pt x="0" y="0"/>
                      </a:lnTo>
                      <a:lnTo>
                        <a:pt x="89" y="48"/>
                      </a:lnTo>
                      <a:lnTo>
                        <a:pt x="179" y="95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4335480" y="3324240"/>
                  <a:ext cx="20520" cy="37080"/>
                </a:xfrm>
                <a:custGeom>
                  <a:avLst/>
                  <a:gdLst/>
                  <a:ahLst/>
                  <a:rect l="l" t="t" r="r" b="b"/>
                  <a:pathLst>
                    <a:path w="211" h="698">
                      <a:moveTo>
                        <a:pt x="172" y="103"/>
                      </a:moveTo>
                      <a:lnTo>
                        <a:pt x="211" y="698"/>
                      </a:lnTo>
                      <a:lnTo>
                        <a:pt x="127" y="649"/>
                      </a:lnTo>
                      <a:lnTo>
                        <a:pt x="44" y="598"/>
                      </a:lnTo>
                      <a:lnTo>
                        <a:pt x="0" y="0"/>
                      </a:lnTo>
                      <a:lnTo>
                        <a:pt x="86" y="53"/>
                      </a:lnTo>
                      <a:lnTo>
                        <a:pt x="172" y="10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4319280" y="3318840"/>
                  <a:ext cx="20160" cy="38160"/>
                </a:xfrm>
                <a:custGeom>
                  <a:avLst/>
                  <a:gdLst/>
                  <a:ahLst/>
                  <a:rect l="l" t="t" r="r" b="b"/>
                  <a:pathLst>
                    <a:path w="210" h="710">
                      <a:moveTo>
                        <a:pt x="166" y="112"/>
                      </a:moveTo>
                      <a:lnTo>
                        <a:pt x="210" y="710"/>
                      </a:lnTo>
                      <a:lnTo>
                        <a:pt x="129" y="656"/>
                      </a:lnTo>
                      <a:lnTo>
                        <a:pt x="49" y="599"/>
                      </a:lnTo>
                      <a:lnTo>
                        <a:pt x="0" y="0"/>
                      </a:lnTo>
                      <a:lnTo>
                        <a:pt x="82" y="57"/>
                      </a:lnTo>
                      <a:lnTo>
                        <a:pt x="166" y="112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4302720" y="3312000"/>
                  <a:ext cx="20160" cy="38160"/>
                </a:xfrm>
                <a:custGeom>
                  <a:avLst/>
                  <a:gdLst/>
                  <a:ahLst/>
                  <a:rect l="l" t="t" r="r" b="b"/>
                  <a:pathLst>
                    <a:path w="208" h="722">
                      <a:moveTo>
                        <a:pt x="159" y="123"/>
                      </a:moveTo>
                      <a:lnTo>
                        <a:pt x="208" y="722"/>
                      </a:lnTo>
                      <a:lnTo>
                        <a:pt x="130" y="664"/>
                      </a:lnTo>
                      <a:lnTo>
                        <a:pt x="53" y="604"/>
                      </a:lnTo>
                      <a:lnTo>
                        <a:pt x="0" y="0"/>
                      </a:lnTo>
                      <a:lnTo>
                        <a:pt x="79" y="62"/>
                      </a:lnTo>
                      <a:lnTo>
                        <a:pt x="159" y="12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4289040" y="3305160"/>
                  <a:ext cx="18720" cy="39600"/>
                </a:xfrm>
                <a:custGeom>
                  <a:avLst/>
                  <a:gdLst/>
                  <a:ahLst/>
                  <a:rect l="l" t="t" r="r" b="b"/>
                  <a:pathLst>
                    <a:path w="205" h="737">
                      <a:moveTo>
                        <a:pt x="152" y="133"/>
                      </a:moveTo>
                      <a:lnTo>
                        <a:pt x="205" y="737"/>
                      </a:lnTo>
                      <a:lnTo>
                        <a:pt x="130" y="673"/>
                      </a:lnTo>
                      <a:lnTo>
                        <a:pt x="57" y="608"/>
                      </a:lnTo>
                      <a:lnTo>
                        <a:pt x="0" y="0"/>
                      </a:lnTo>
                      <a:lnTo>
                        <a:pt x="75" y="68"/>
                      </a:lnTo>
                      <a:lnTo>
                        <a:pt x="152" y="13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4273920" y="3297600"/>
                  <a:ext cx="20160" cy="40320"/>
                </a:xfrm>
                <a:custGeom>
                  <a:avLst/>
                  <a:gdLst/>
                  <a:ahLst/>
                  <a:rect l="l" t="t" r="r" b="b"/>
                  <a:pathLst>
                    <a:path w="201" h="751">
                      <a:moveTo>
                        <a:pt x="144" y="143"/>
                      </a:moveTo>
                      <a:lnTo>
                        <a:pt x="201" y="751"/>
                      </a:lnTo>
                      <a:lnTo>
                        <a:pt x="132" y="682"/>
                      </a:lnTo>
                      <a:lnTo>
                        <a:pt x="63" y="611"/>
                      </a:lnTo>
                      <a:lnTo>
                        <a:pt x="0" y="0"/>
                      </a:lnTo>
                      <a:lnTo>
                        <a:pt x="71" y="73"/>
                      </a:lnTo>
                      <a:lnTo>
                        <a:pt x="144" y="143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4261680" y="3289680"/>
                  <a:ext cx="19080" cy="40320"/>
                </a:xfrm>
                <a:custGeom>
                  <a:avLst/>
                  <a:gdLst/>
                  <a:ahLst/>
                  <a:rect l="l" t="t" r="r" b="b"/>
                  <a:pathLst>
                    <a:path w="197" h="764">
                      <a:moveTo>
                        <a:pt x="134" y="153"/>
                      </a:moveTo>
                      <a:lnTo>
                        <a:pt x="197" y="764"/>
                      </a:lnTo>
                      <a:lnTo>
                        <a:pt x="130" y="691"/>
                      </a:lnTo>
                      <a:lnTo>
                        <a:pt x="66" y="615"/>
                      </a:lnTo>
                      <a:lnTo>
                        <a:pt x="0" y="0"/>
                      </a:lnTo>
                      <a:lnTo>
                        <a:pt x="67" y="78"/>
                      </a:lnTo>
                      <a:lnTo>
                        <a:pt x="134" y="153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4249440" y="3280320"/>
                  <a:ext cx="17640" cy="41760"/>
                </a:xfrm>
                <a:custGeom>
                  <a:avLst/>
                  <a:gdLst/>
                  <a:ahLst/>
                  <a:rect l="l" t="t" r="r" b="b"/>
                  <a:pathLst>
                    <a:path w="191" h="780">
                      <a:moveTo>
                        <a:pt x="125" y="165"/>
                      </a:moveTo>
                      <a:lnTo>
                        <a:pt x="191" y="780"/>
                      </a:lnTo>
                      <a:lnTo>
                        <a:pt x="129" y="701"/>
                      </a:lnTo>
                      <a:lnTo>
                        <a:pt x="70" y="620"/>
                      </a:lnTo>
                      <a:lnTo>
                        <a:pt x="0" y="0"/>
                      </a:lnTo>
                      <a:lnTo>
                        <a:pt x="62" y="83"/>
                      </a:lnTo>
                      <a:lnTo>
                        <a:pt x="125" y="165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4231440" y="3279240"/>
                  <a:ext cx="24840" cy="33480"/>
                </a:xfrm>
                <a:custGeom>
                  <a:avLst/>
                  <a:gdLst/>
                  <a:ahLst/>
                  <a:rect l="l" t="t" r="r" b="b"/>
                  <a:pathLst>
                    <a:path w="250" h="643">
                      <a:moveTo>
                        <a:pt x="180" y="23"/>
                      </a:moveTo>
                      <a:lnTo>
                        <a:pt x="250" y="643"/>
                      </a:lnTo>
                      <a:lnTo>
                        <a:pt x="162" y="632"/>
                      </a:lnTo>
                      <a:lnTo>
                        <a:pt x="73" y="621"/>
                      </a:lnTo>
                      <a:lnTo>
                        <a:pt x="0" y="0"/>
                      </a:lnTo>
                      <a:lnTo>
                        <a:pt x="90" y="13"/>
                      </a:lnTo>
                      <a:lnTo>
                        <a:pt x="180" y="23"/>
                      </a:lnTo>
                      <a:close/>
                    </a:path>
                  </a:pathLst>
                </a:custGeom>
                <a:solidFill>
                  <a:srgbClr val="5356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4213800" y="3277080"/>
                  <a:ext cx="24480" cy="34920"/>
                </a:xfrm>
                <a:custGeom>
                  <a:avLst/>
                  <a:gdLst/>
                  <a:ahLst/>
                  <a:rect l="l" t="t" r="r" b="b"/>
                  <a:pathLst>
                    <a:path w="254" h="650">
                      <a:moveTo>
                        <a:pt x="181" y="29"/>
                      </a:moveTo>
                      <a:lnTo>
                        <a:pt x="254" y="650"/>
                      </a:lnTo>
                      <a:lnTo>
                        <a:pt x="167" y="636"/>
                      </a:lnTo>
                      <a:lnTo>
                        <a:pt x="80" y="621"/>
                      </a:lnTo>
                      <a:lnTo>
                        <a:pt x="0" y="0"/>
                      </a:lnTo>
                      <a:lnTo>
                        <a:pt x="90" y="16"/>
                      </a:lnTo>
                      <a:lnTo>
                        <a:pt x="181" y="29"/>
                      </a:lnTo>
                      <a:close/>
                    </a:path>
                  </a:pathLst>
                </a:custGeom>
                <a:solidFill>
                  <a:srgbClr val="4c4d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4195800" y="327600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258" h="656">
                      <a:moveTo>
                        <a:pt x="178" y="35"/>
                      </a:moveTo>
                      <a:lnTo>
                        <a:pt x="258" y="656"/>
                      </a:lnTo>
                      <a:lnTo>
                        <a:pt x="171" y="639"/>
                      </a:lnTo>
                      <a:lnTo>
                        <a:pt x="85" y="621"/>
                      </a:lnTo>
                      <a:lnTo>
                        <a:pt x="0" y="0"/>
                      </a:lnTo>
                      <a:lnTo>
                        <a:pt x="89" y="18"/>
                      </a:lnTo>
                      <a:lnTo>
                        <a:pt x="178" y="35"/>
                      </a:lnTo>
                      <a:close/>
                    </a:path>
                  </a:pathLst>
                </a:custGeom>
                <a:solidFill>
                  <a:srgbClr val="4544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4179600" y="3272760"/>
                  <a:ext cx="24480" cy="36000"/>
                </a:xfrm>
                <a:custGeom>
                  <a:avLst/>
                  <a:gdLst/>
                  <a:ahLst/>
                  <a:rect l="l" t="t" r="r" b="b"/>
                  <a:pathLst>
                    <a:path w="262" h="665">
                      <a:moveTo>
                        <a:pt x="177" y="44"/>
                      </a:moveTo>
                      <a:lnTo>
                        <a:pt x="262" y="665"/>
                      </a:lnTo>
                      <a:lnTo>
                        <a:pt x="176" y="646"/>
                      </a:lnTo>
                      <a:lnTo>
                        <a:pt x="89" y="624"/>
                      </a:lnTo>
                      <a:lnTo>
                        <a:pt x="0" y="0"/>
                      </a:lnTo>
                      <a:lnTo>
                        <a:pt x="88" y="23"/>
                      </a:lnTo>
                      <a:lnTo>
                        <a:pt x="177" y="44"/>
                      </a:lnTo>
                      <a:close/>
                    </a:path>
                  </a:pathLst>
                </a:custGeom>
                <a:solidFill>
                  <a:srgbClr val="3c39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4161600" y="3270600"/>
                  <a:ext cx="25920" cy="36000"/>
                </a:xfrm>
                <a:custGeom>
                  <a:avLst/>
                  <a:gdLst/>
                  <a:ahLst/>
                  <a:rect l="l" t="t" r="r" b="b"/>
                  <a:pathLst>
                    <a:path w="264" h="673">
                      <a:moveTo>
                        <a:pt x="175" y="49"/>
                      </a:moveTo>
                      <a:lnTo>
                        <a:pt x="264" y="673"/>
                      </a:lnTo>
                      <a:lnTo>
                        <a:pt x="179" y="649"/>
                      </a:lnTo>
                      <a:lnTo>
                        <a:pt x="95" y="624"/>
                      </a:lnTo>
                      <a:lnTo>
                        <a:pt x="0" y="0"/>
                      </a:lnTo>
                      <a:lnTo>
                        <a:pt x="87" y="25"/>
                      </a:lnTo>
                      <a:lnTo>
                        <a:pt x="175" y="4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4145400" y="3267000"/>
                  <a:ext cx="25560" cy="36720"/>
                </a:xfrm>
                <a:custGeom>
                  <a:avLst/>
                  <a:gdLst/>
                  <a:ahLst/>
                  <a:rect l="l" t="t" r="r" b="b"/>
                  <a:pathLst>
                    <a:path w="266" h="681">
                      <a:moveTo>
                        <a:pt x="171" y="57"/>
                      </a:moveTo>
                      <a:lnTo>
                        <a:pt x="266" y="681"/>
                      </a:lnTo>
                      <a:lnTo>
                        <a:pt x="182" y="654"/>
                      </a:lnTo>
                      <a:lnTo>
                        <a:pt x="99" y="625"/>
                      </a:lnTo>
                      <a:lnTo>
                        <a:pt x="0" y="0"/>
                      </a:lnTo>
                      <a:lnTo>
                        <a:pt x="85" y="29"/>
                      </a:lnTo>
                      <a:lnTo>
                        <a:pt x="171" y="57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4128840" y="3263400"/>
                  <a:ext cx="25560" cy="37080"/>
                </a:xfrm>
                <a:custGeom>
                  <a:avLst/>
                  <a:gdLst/>
                  <a:ahLst/>
                  <a:rect l="l" t="t" r="r" b="b"/>
                  <a:pathLst>
                    <a:path w="269" h="690">
                      <a:moveTo>
                        <a:pt x="170" y="65"/>
                      </a:moveTo>
                      <a:lnTo>
                        <a:pt x="269" y="690"/>
                      </a:lnTo>
                      <a:lnTo>
                        <a:pt x="187" y="660"/>
                      </a:lnTo>
                      <a:lnTo>
                        <a:pt x="105" y="628"/>
                      </a:lnTo>
                      <a:lnTo>
                        <a:pt x="0" y="0"/>
                      </a:lnTo>
                      <a:lnTo>
                        <a:pt x="84" y="33"/>
                      </a:lnTo>
                      <a:lnTo>
                        <a:pt x="170" y="65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4112280" y="3260160"/>
                  <a:ext cx="25560" cy="37080"/>
                </a:xfrm>
                <a:custGeom>
                  <a:avLst/>
                  <a:gdLst/>
                  <a:ahLst/>
                  <a:rect l="l" t="t" r="r" b="b"/>
                  <a:pathLst>
                    <a:path w="270" h="700">
                      <a:moveTo>
                        <a:pt x="165" y="72"/>
                      </a:moveTo>
                      <a:lnTo>
                        <a:pt x="270" y="700"/>
                      </a:lnTo>
                      <a:lnTo>
                        <a:pt x="190" y="666"/>
                      </a:lnTo>
                      <a:lnTo>
                        <a:pt x="110" y="629"/>
                      </a:lnTo>
                      <a:lnTo>
                        <a:pt x="0" y="0"/>
                      </a:lnTo>
                      <a:lnTo>
                        <a:pt x="82" y="37"/>
                      </a:lnTo>
                      <a:lnTo>
                        <a:pt x="165" y="72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4097160" y="3255480"/>
                  <a:ext cx="25920" cy="38160"/>
                </a:xfrm>
                <a:custGeom>
                  <a:avLst/>
                  <a:gdLst/>
                  <a:ahLst/>
                  <a:rect l="l" t="t" r="r" b="b"/>
                  <a:pathLst>
                    <a:path w="270" h="709">
                      <a:moveTo>
                        <a:pt x="160" y="80"/>
                      </a:moveTo>
                      <a:lnTo>
                        <a:pt x="270" y="709"/>
                      </a:lnTo>
                      <a:lnTo>
                        <a:pt x="191" y="672"/>
                      </a:lnTo>
                      <a:lnTo>
                        <a:pt x="114" y="632"/>
                      </a:lnTo>
                      <a:lnTo>
                        <a:pt x="0" y="0"/>
                      </a:lnTo>
                      <a:lnTo>
                        <a:pt x="80" y="41"/>
                      </a:lnTo>
                      <a:lnTo>
                        <a:pt x="160" y="80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4080600" y="325116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270" h="719">
                      <a:moveTo>
                        <a:pt x="156" y="87"/>
                      </a:moveTo>
                      <a:lnTo>
                        <a:pt x="270" y="719"/>
                      </a:lnTo>
                      <a:lnTo>
                        <a:pt x="193" y="677"/>
                      </a:lnTo>
                      <a:lnTo>
                        <a:pt x="118" y="634"/>
                      </a:lnTo>
                      <a:lnTo>
                        <a:pt x="0" y="0"/>
                      </a:lnTo>
                      <a:lnTo>
                        <a:pt x="77" y="44"/>
                      </a:lnTo>
                      <a:lnTo>
                        <a:pt x="156" y="87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4066920" y="3245760"/>
                  <a:ext cx="25920" cy="39240"/>
                </a:xfrm>
                <a:custGeom>
                  <a:avLst/>
                  <a:gdLst/>
                  <a:ahLst/>
                  <a:rect l="l" t="t" r="r" b="b"/>
                  <a:pathLst>
                    <a:path w="268" h="730">
                      <a:moveTo>
                        <a:pt x="150" y="96"/>
                      </a:moveTo>
                      <a:lnTo>
                        <a:pt x="268" y="730"/>
                      </a:lnTo>
                      <a:lnTo>
                        <a:pt x="195" y="684"/>
                      </a:lnTo>
                      <a:lnTo>
                        <a:pt x="122" y="636"/>
                      </a:lnTo>
                      <a:lnTo>
                        <a:pt x="0" y="0"/>
                      </a:lnTo>
                      <a:lnTo>
                        <a:pt x="75" y="49"/>
                      </a:lnTo>
                      <a:lnTo>
                        <a:pt x="150" y="96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4052160" y="3240000"/>
                  <a:ext cx="25560" cy="40320"/>
                </a:xfrm>
                <a:custGeom>
                  <a:avLst/>
                  <a:gdLst/>
                  <a:ahLst/>
                  <a:rect l="l" t="t" r="r" b="b"/>
                  <a:pathLst>
                    <a:path w="268" h="740">
                      <a:moveTo>
                        <a:pt x="146" y="104"/>
                      </a:moveTo>
                      <a:lnTo>
                        <a:pt x="268" y="740"/>
                      </a:lnTo>
                      <a:lnTo>
                        <a:pt x="197" y="691"/>
                      </a:lnTo>
                      <a:lnTo>
                        <a:pt x="127" y="639"/>
                      </a:lnTo>
                      <a:lnTo>
                        <a:pt x="0" y="0"/>
                      </a:lnTo>
                      <a:lnTo>
                        <a:pt x="72" y="53"/>
                      </a:lnTo>
                      <a:lnTo>
                        <a:pt x="146" y="104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4038480" y="3234600"/>
                  <a:ext cx="25560" cy="40320"/>
                </a:xfrm>
                <a:custGeom>
                  <a:avLst/>
                  <a:gdLst/>
                  <a:ahLst/>
                  <a:rect l="l" t="t" r="r" b="b"/>
                  <a:pathLst>
                    <a:path w="265" h="752">
                      <a:moveTo>
                        <a:pt x="138" y="113"/>
                      </a:moveTo>
                      <a:lnTo>
                        <a:pt x="265" y="752"/>
                      </a:lnTo>
                      <a:lnTo>
                        <a:pt x="198" y="699"/>
                      </a:lnTo>
                      <a:lnTo>
                        <a:pt x="131" y="643"/>
                      </a:lnTo>
                      <a:lnTo>
                        <a:pt x="0" y="0"/>
                      </a:lnTo>
                      <a:lnTo>
                        <a:pt x="68" y="57"/>
                      </a:lnTo>
                      <a:lnTo>
                        <a:pt x="138" y="11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4025880" y="3227400"/>
                  <a:ext cx="25920" cy="41400"/>
                </a:xfrm>
                <a:custGeom>
                  <a:avLst/>
                  <a:gdLst/>
                  <a:ahLst/>
                  <a:rect l="l" t="t" r="r" b="b"/>
                  <a:pathLst>
                    <a:path w="263" h="764">
                      <a:moveTo>
                        <a:pt x="132" y="121"/>
                      </a:moveTo>
                      <a:lnTo>
                        <a:pt x="263" y="764"/>
                      </a:lnTo>
                      <a:lnTo>
                        <a:pt x="197" y="706"/>
                      </a:lnTo>
                      <a:lnTo>
                        <a:pt x="135" y="646"/>
                      </a:lnTo>
                      <a:lnTo>
                        <a:pt x="0" y="0"/>
                      </a:lnTo>
                      <a:lnTo>
                        <a:pt x="65" y="62"/>
                      </a:lnTo>
                      <a:lnTo>
                        <a:pt x="132" y="121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4013640" y="3220920"/>
                  <a:ext cx="25920" cy="41400"/>
                </a:xfrm>
                <a:custGeom>
                  <a:avLst/>
                  <a:gdLst/>
                  <a:ahLst/>
                  <a:rect l="l" t="t" r="r" b="b"/>
                  <a:pathLst>
                    <a:path w="260" h="776">
                      <a:moveTo>
                        <a:pt x="125" y="130"/>
                      </a:moveTo>
                      <a:lnTo>
                        <a:pt x="260" y="776"/>
                      </a:lnTo>
                      <a:lnTo>
                        <a:pt x="198" y="713"/>
                      </a:lnTo>
                      <a:lnTo>
                        <a:pt x="139" y="650"/>
                      </a:lnTo>
                      <a:lnTo>
                        <a:pt x="0" y="0"/>
                      </a:lnTo>
                      <a:lnTo>
                        <a:pt x="62" y="67"/>
                      </a:lnTo>
                      <a:lnTo>
                        <a:pt x="125" y="130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4002480" y="3213000"/>
                  <a:ext cx="24480" cy="42480"/>
                </a:xfrm>
                <a:custGeom>
                  <a:avLst/>
                  <a:gdLst/>
                  <a:ahLst/>
                  <a:rect l="l" t="t" r="r" b="b"/>
                  <a:pathLst>
                    <a:path w="256" h="788">
                      <a:moveTo>
                        <a:pt x="117" y="138"/>
                      </a:moveTo>
                      <a:lnTo>
                        <a:pt x="256" y="788"/>
                      </a:lnTo>
                      <a:lnTo>
                        <a:pt x="197" y="721"/>
                      </a:lnTo>
                      <a:lnTo>
                        <a:pt x="142" y="653"/>
                      </a:lnTo>
                      <a:lnTo>
                        <a:pt x="0" y="0"/>
                      </a:lnTo>
                      <a:lnTo>
                        <a:pt x="58" y="70"/>
                      </a:lnTo>
                      <a:lnTo>
                        <a:pt x="117" y="138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3950280" y="3150720"/>
                  <a:ext cx="31680" cy="37080"/>
                </a:xfrm>
                <a:custGeom>
                  <a:avLst/>
                  <a:gdLst/>
                  <a:ahLst/>
                  <a:rect l="l" t="t" r="r" b="b"/>
                  <a:pathLst>
                    <a:path w="332" h="686">
                      <a:moveTo>
                        <a:pt x="182" y="0"/>
                      </a:moveTo>
                      <a:lnTo>
                        <a:pt x="332" y="684"/>
                      </a:lnTo>
                      <a:lnTo>
                        <a:pt x="244" y="686"/>
                      </a:lnTo>
                      <a:lnTo>
                        <a:pt x="156" y="685"/>
                      </a:lnTo>
                      <a:lnTo>
                        <a:pt x="0" y="0"/>
                      </a:lnTo>
                      <a:lnTo>
                        <a:pt x="91" y="1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6671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3932640" y="3150720"/>
                  <a:ext cx="32760" cy="37080"/>
                </a:xfrm>
                <a:custGeom>
                  <a:avLst/>
                  <a:gdLst/>
                  <a:ahLst/>
                  <a:rect l="l" t="t" r="r" b="b"/>
                  <a:pathLst>
                    <a:path w="336" h="694">
                      <a:moveTo>
                        <a:pt x="180" y="9"/>
                      </a:moveTo>
                      <a:lnTo>
                        <a:pt x="336" y="694"/>
                      </a:lnTo>
                      <a:lnTo>
                        <a:pt x="249" y="689"/>
                      </a:lnTo>
                      <a:lnTo>
                        <a:pt x="161" y="684"/>
                      </a:lnTo>
                      <a:lnTo>
                        <a:pt x="0" y="0"/>
                      </a:lnTo>
                      <a:lnTo>
                        <a:pt x="90" y="6"/>
                      </a:lnTo>
                      <a:lnTo>
                        <a:pt x="180" y="9"/>
                      </a:lnTo>
                      <a:close/>
                    </a:path>
                  </a:pathLst>
                </a:custGeom>
                <a:solidFill>
                  <a:srgbClr val="5f66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3915000" y="3150000"/>
                  <a:ext cx="32760" cy="36720"/>
                </a:xfrm>
                <a:custGeom>
                  <a:avLst/>
                  <a:gdLst/>
                  <a:ahLst/>
                  <a:rect l="l" t="t" r="r" b="b"/>
                  <a:pathLst>
                    <a:path w="341" h="704">
                      <a:moveTo>
                        <a:pt x="180" y="20"/>
                      </a:moveTo>
                      <a:lnTo>
                        <a:pt x="341" y="704"/>
                      </a:lnTo>
                      <a:lnTo>
                        <a:pt x="253" y="696"/>
                      </a:lnTo>
                      <a:lnTo>
                        <a:pt x="166" y="685"/>
                      </a:lnTo>
                      <a:lnTo>
                        <a:pt x="0" y="0"/>
                      </a:lnTo>
                      <a:lnTo>
                        <a:pt x="89" y="12"/>
                      </a:lnTo>
                      <a:lnTo>
                        <a:pt x="180" y="20"/>
                      </a:lnTo>
                      <a:close/>
                    </a:path>
                  </a:pathLst>
                </a:custGeom>
                <a:solidFill>
                  <a:srgbClr val="5559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3897000" y="3147480"/>
                  <a:ext cx="34200" cy="38160"/>
                </a:xfrm>
                <a:custGeom>
                  <a:avLst/>
                  <a:gdLst/>
                  <a:ahLst/>
                  <a:rect l="l" t="t" r="r" b="b"/>
                  <a:pathLst>
                    <a:path w="343" h="713">
                      <a:moveTo>
                        <a:pt x="177" y="28"/>
                      </a:moveTo>
                      <a:lnTo>
                        <a:pt x="343" y="713"/>
                      </a:lnTo>
                      <a:lnTo>
                        <a:pt x="257" y="700"/>
                      </a:lnTo>
                      <a:lnTo>
                        <a:pt x="171" y="685"/>
                      </a:lnTo>
                      <a:lnTo>
                        <a:pt x="0" y="0"/>
                      </a:lnTo>
                      <a:lnTo>
                        <a:pt x="88" y="16"/>
                      </a:lnTo>
                      <a:lnTo>
                        <a:pt x="177" y="28"/>
                      </a:lnTo>
                      <a:close/>
                    </a:path>
                  </a:pathLst>
                </a:custGeom>
                <a:solidFill>
                  <a:srgbClr val="4c4d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3880440" y="3146400"/>
                  <a:ext cx="32760" cy="38160"/>
                </a:xfrm>
                <a:custGeom>
                  <a:avLst/>
                  <a:gdLst/>
                  <a:ahLst/>
                  <a:rect l="l" t="t" r="r" b="b"/>
                  <a:pathLst>
                    <a:path w="345" h="724">
                      <a:moveTo>
                        <a:pt x="174" y="39"/>
                      </a:moveTo>
                      <a:lnTo>
                        <a:pt x="345" y="724"/>
                      </a:lnTo>
                      <a:lnTo>
                        <a:pt x="261" y="707"/>
                      </a:lnTo>
                      <a:lnTo>
                        <a:pt x="177" y="686"/>
                      </a:lnTo>
                      <a:lnTo>
                        <a:pt x="0" y="0"/>
                      </a:lnTo>
                      <a:lnTo>
                        <a:pt x="87" y="20"/>
                      </a:lnTo>
                      <a:lnTo>
                        <a:pt x="174" y="39"/>
                      </a:lnTo>
                      <a:close/>
                    </a:path>
                  </a:pathLst>
                </a:custGeom>
                <a:solidFill>
                  <a:srgbClr val="3f3e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3864240" y="3142800"/>
                  <a:ext cx="32400" cy="39600"/>
                </a:xfrm>
                <a:custGeom>
                  <a:avLst/>
                  <a:gdLst/>
                  <a:ahLst/>
                  <a:rect l="l" t="t" r="r" b="b"/>
                  <a:pathLst>
                    <a:path w="348" h="735">
                      <a:moveTo>
                        <a:pt x="171" y="49"/>
                      </a:moveTo>
                      <a:lnTo>
                        <a:pt x="348" y="735"/>
                      </a:lnTo>
                      <a:lnTo>
                        <a:pt x="264" y="712"/>
                      </a:lnTo>
                      <a:lnTo>
                        <a:pt x="182" y="687"/>
                      </a:lnTo>
                      <a:lnTo>
                        <a:pt x="0" y="0"/>
                      </a:lnTo>
                      <a:lnTo>
                        <a:pt x="85" y="26"/>
                      </a:lnTo>
                      <a:lnTo>
                        <a:pt x="171" y="4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3848040" y="3139560"/>
                  <a:ext cx="32400" cy="40320"/>
                </a:xfrm>
                <a:custGeom>
                  <a:avLst/>
                  <a:gdLst/>
                  <a:ahLst/>
                  <a:rect l="l" t="t" r="r" b="b"/>
                  <a:pathLst>
                    <a:path w="347" h="747">
                      <a:moveTo>
                        <a:pt x="165" y="60"/>
                      </a:moveTo>
                      <a:lnTo>
                        <a:pt x="347" y="747"/>
                      </a:lnTo>
                      <a:lnTo>
                        <a:pt x="266" y="720"/>
                      </a:lnTo>
                      <a:lnTo>
                        <a:pt x="186" y="690"/>
                      </a:lnTo>
                      <a:lnTo>
                        <a:pt x="0" y="0"/>
                      </a:lnTo>
                      <a:lnTo>
                        <a:pt x="82" y="31"/>
                      </a:lnTo>
                      <a:lnTo>
                        <a:pt x="165" y="60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3831480" y="3136320"/>
                  <a:ext cx="33840" cy="40320"/>
                </a:xfrm>
                <a:custGeom>
                  <a:avLst/>
                  <a:gdLst/>
                  <a:ahLst/>
                  <a:rect l="l" t="t" r="r" b="b"/>
                  <a:pathLst>
                    <a:path w="347" h="759">
                      <a:moveTo>
                        <a:pt x="161" y="69"/>
                      </a:moveTo>
                      <a:lnTo>
                        <a:pt x="347" y="759"/>
                      </a:lnTo>
                      <a:lnTo>
                        <a:pt x="268" y="726"/>
                      </a:lnTo>
                      <a:lnTo>
                        <a:pt x="190" y="692"/>
                      </a:lnTo>
                      <a:lnTo>
                        <a:pt x="0" y="0"/>
                      </a:lnTo>
                      <a:lnTo>
                        <a:pt x="80" y="36"/>
                      </a:lnTo>
                      <a:lnTo>
                        <a:pt x="161" y="6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3816360" y="3131640"/>
                  <a:ext cx="33840" cy="41760"/>
                </a:xfrm>
                <a:custGeom>
                  <a:avLst/>
                  <a:gdLst/>
                  <a:ahLst/>
                  <a:rect l="l" t="t" r="r" b="b"/>
                  <a:pathLst>
                    <a:path w="345" h="771">
                      <a:moveTo>
                        <a:pt x="155" y="79"/>
                      </a:moveTo>
                      <a:lnTo>
                        <a:pt x="345" y="771"/>
                      </a:lnTo>
                      <a:lnTo>
                        <a:pt x="269" y="734"/>
                      </a:lnTo>
                      <a:lnTo>
                        <a:pt x="195" y="693"/>
                      </a:lnTo>
                      <a:lnTo>
                        <a:pt x="0" y="0"/>
                      </a:lnTo>
                      <a:lnTo>
                        <a:pt x="76" y="41"/>
                      </a:lnTo>
                      <a:lnTo>
                        <a:pt x="155" y="7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3802680" y="3127320"/>
                  <a:ext cx="32760" cy="41400"/>
                </a:xfrm>
                <a:custGeom>
                  <a:avLst/>
                  <a:gdLst/>
                  <a:ahLst/>
                  <a:rect l="l" t="t" r="r" b="b"/>
                  <a:pathLst>
                    <a:path w="344" h="782">
                      <a:moveTo>
                        <a:pt x="149" y="89"/>
                      </a:moveTo>
                      <a:lnTo>
                        <a:pt x="344" y="782"/>
                      </a:lnTo>
                      <a:lnTo>
                        <a:pt x="270" y="740"/>
                      </a:lnTo>
                      <a:lnTo>
                        <a:pt x="199" y="695"/>
                      </a:lnTo>
                      <a:lnTo>
                        <a:pt x="0" y="0"/>
                      </a:lnTo>
                      <a:lnTo>
                        <a:pt x="73" y="46"/>
                      </a:lnTo>
                      <a:lnTo>
                        <a:pt x="149" y="89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3787560" y="3121560"/>
                  <a:ext cx="33840" cy="42480"/>
                </a:xfrm>
                <a:custGeom>
                  <a:avLst/>
                  <a:gdLst/>
                  <a:ahLst/>
                  <a:rect l="l" t="t" r="r" b="b"/>
                  <a:pathLst>
                    <a:path w="340" h="795">
                      <a:moveTo>
                        <a:pt x="141" y="100"/>
                      </a:moveTo>
                      <a:lnTo>
                        <a:pt x="340" y="795"/>
                      </a:lnTo>
                      <a:lnTo>
                        <a:pt x="271" y="748"/>
                      </a:lnTo>
                      <a:lnTo>
                        <a:pt x="203" y="698"/>
                      </a:lnTo>
                      <a:lnTo>
                        <a:pt x="0" y="0"/>
                      </a:lnTo>
                      <a:lnTo>
                        <a:pt x="70" y="51"/>
                      </a:lnTo>
                      <a:lnTo>
                        <a:pt x="141" y="100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3775320" y="3116160"/>
                  <a:ext cx="32760" cy="43920"/>
                </a:xfrm>
                <a:custGeom>
                  <a:avLst/>
                  <a:gdLst/>
                  <a:ahLst/>
                  <a:rect l="l" t="t" r="r" b="b"/>
                  <a:pathLst>
                    <a:path w="336" h="809">
                      <a:moveTo>
                        <a:pt x="133" y="111"/>
                      </a:moveTo>
                      <a:lnTo>
                        <a:pt x="336" y="809"/>
                      </a:lnTo>
                      <a:lnTo>
                        <a:pt x="270" y="756"/>
                      </a:lnTo>
                      <a:lnTo>
                        <a:pt x="207" y="701"/>
                      </a:lnTo>
                      <a:lnTo>
                        <a:pt x="0" y="0"/>
                      </a:lnTo>
                      <a:lnTo>
                        <a:pt x="65" y="57"/>
                      </a:lnTo>
                      <a:lnTo>
                        <a:pt x="133" y="111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3762720" y="3109320"/>
                  <a:ext cx="32760" cy="43920"/>
                </a:xfrm>
                <a:custGeom>
                  <a:avLst/>
                  <a:gdLst/>
                  <a:ahLst/>
                  <a:rect l="l" t="t" r="r" b="b"/>
                  <a:pathLst>
                    <a:path w="331" h="822">
                      <a:moveTo>
                        <a:pt x="124" y="121"/>
                      </a:moveTo>
                      <a:lnTo>
                        <a:pt x="331" y="822"/>
                      </a:lnTo>
                      <a:lnTo>
                        <a:pt x="269" y="764"/>
                      </a:lnTo>
                      <a:lnTo>
                        <a:pt x="210" y="705"/>
                      </a:lnTo>
                      <a:lnTo>
                        <a:pt x="0" y="0"/>
                      </a:lnTo>
                      <a:lnTo>
                        <a:pt x="60" y="62"/>
                      </a:lnTo>
                      <a:lnTo>
                        <a:pt x="124" y="121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3751920" y="310248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325" h="837">
                      <a:moveTo>
                        <a:pt x="115" y="132"/>
                      </a:moveTo>
                      <a:lnTo>
                        <a:pt x="325" y="837"/>
                      </a:lnTo>
                      <a:lnTo>
                        <a:pt x="267" y="773"/>
                      </a:lnTo>
                      <a:lnTo>
                        <a:pt x="213" y="709"/>
                      </a:lnTo>
                      <a:lnTo>
                        <a:pt x="0" y="0"/>
                      </a:lnTo>
                      <a:lnTo>
                        <a:pt x="56" y="68"/>
                      </a:lnTo>
                      <a:lnTo>
                        <a:pt x="115" y="132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3741120" y="3094560"/>
                  <a:ext cx="31320" cy="46080"/>
                </a:xfrm>
                <a:custGeom>
                  <a:avLst/>
                  <a:gdLst/>
                  <a:ahLst/>
                  <a:rect l="l" t="t" r="r" b="b"/>
                  <a:pathLst>
                    <a:path w="319" h="850">
                      <a:moveTo>
                        <a:pt x="106" y="141"/>
                      </a:moveTo>
                      <a:lnTo>
                        <a:pt x="319" y="850"/>
                      </a:lnTo>
                      <a:lnTo>
                        <a:pt x="267" y="781"/>
                      </a:lnTo>
                      <a:lnTo>
                        <a:pt x="216" y="711"/>
                      </a:lnTo>
                      <a:lnTo>
                        <a:pt x="0" y="0"/>
                      </a:lnTo>
                      <a:lnTo>
                        <a:pt x="51" y="72"/>
                      </a:lnTo>
                      <a:lnTo>
                        <a:pt x="106" y="141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3732480" y="3086640"/>
                  <a:ext cx="29880" cy="46080"/>
                </a:xfrm>
                <a:custGeom>
                  <a:avLst/>
                  <a:gdLst/>
                  <a:ahLst/>
                  <a:rect l="l" t="t" r="r" b="b"/>
                  <a:pathLst>
                    <a:path w="310" h="864">
                      <a:moveTo>
                        <a:pt x="94" y="153"/>
                      </a:moveTo>
                      <a:lnTo>
                        <a:pt x="310" y="864"/>
                      </a:lnTo>
                      <a:lnTo>
                        <a:pt x="263" y="791"/>
                      </a:lnTo>
                      <a:lnTo>
                        <a:pt x="219" y="715"/>
                      </a:lnTo>
                      <a:lnTo>
                        <a:pt x="0" y="0"/>
                      </a:lnTo>
                      <a:lnTo>
                        <a:pt x="46" y="78"/>
                      </a:lnTo>
                      <a:lnTo>
                        <a:pt x="94" y="153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3966840" y="315072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187" h="722">
                      <a:moveTo>
                        <a:pt x="38" y="40"/>
                      </a:moveTo>
                      <a:lnTo>
                        <a:pt x="187" y="722"/>
                      </a:lnTo>
                      <a:lnTo>
                        <a:pt x="182" y="718"/>
                      </a:lnTo>
                      <a:lnTo>
                        <a:pt x="178" y="713"/>
                      </a:lnTo>
                      <a:lnTo>
                        <a:pt x="173" y="708"/>
                      </a:lnTo>
                      <a:lnTo>
                        <a:pt x="169" y="703"/>
                      </a:lnTo>
                      <a:lnTo>
                        <a:pt x="165" y="698"/>
                      </a:lnTo>
                      <a:lnTo>
                        <a:pt x="160" y="694"/>
                      </a:lnTo>
                      <a:lnTo>
                        <a:pt x="155" y="689"/>
                      </a:lnTo>
                      <a:lnTo>
                        <a:pt x="150" y="684"/>
                      </a:lnTo>
                      <a:lnTo>
                        <a:pt x="0" y="0"/>
                      </a:lnTo>
                      <a:lnTo>
                        <a:pt x="5" y="6"/>
                      </a:lnTo>
                      <a:lnTo>
                        <a:pt x="9" y="11"/>
                      </a:lnTo>
                      <a:lnTo>
                        <a:pt x="14" y="15"/>
                      </a:lnTo>
                      <a:lnTo>
                        <a:pt x="18" y="20"/>
                      </a:lnTo>
                      <a:lnTo>
                        <a:pt x="23" y="25"/>
                      </a:lnTo>
                      <a:lnTo>
                        <a:pt x="28" y="31"/>
                      </a:lnTo>
                      <a:lnTo>
                        <a:pt x="32" y="35"/>
                      </a:lnTo>
                      <a:lnTo>
                        <a:pt x="38" y="40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3991680" y="3205080"/>
                  <a:ext cx="24480" cy="43920"/>
                </a:xfrm>
                <a:custGeom>
                  <a:avLst/>
                  <a:gdLst/>
                  <a:ahLst/>
                  <a:rect l="l" t="t" r="r" b="b"/>
                  <a:pathLst>
                    <a:path w="246" h="814">
                      <a:moveTo>
                        <a:pt x="104" y="161"/>
                      </a:moveTo>
                      <a:lnTo>
                        <a:pt x="246" y="814"/>
                      </a:lnTo>
                      <a:lnTo>
                        <a:pt x="224" y="783"/>
                      </a:lnTo>
                      <a:lnTo>
                        <a:pt x="203" y="752"/>
                      </a:lnTo>
                      <a:lnTo>
                        <a:pt x="182" y="721"/>
                      </a:lnTo>
                      <a:lnTo>
                        <a:pt x="163" y="690"/>
                      </a:lnTo>
                      <a:lnTo>
                        <a:pt x="143" y="657"/>
                      </a:lnTo>
                      <a:lnTo>
                        <a:pt x="0" y="0"/>
                      </a:lnTo>
                      <a:lnTo>
                        <a:pt x="19" y="33"/>
                      </a:lnTo>
                      <a:lnTo>
                        <a:pt x="40" y="65"/>
                      </a:lnTo>
                      <a:lnTo>
                        <a:pt x="60" y="97"/>
                      </a:lnTo>
                      <a:lnTo>
                        <a:pt x="82" y="129"/>
                      </a:lnTo>
                      <a:lnTo>
                        <a:pt x="104" y="161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3983400" y="3196080"/>
                  <a:ext cx="21960" cy="43920"/>
                </a:xfrm>
                <a:custGeom>
                  <a:avLst/>
                  <a:gdLst/>
                  <a:ahLst/>
                  <a:rect l="l" t="t" r="r" b="b"/>
                  <a:pathLst>
                    <a:path w="232" h="822">
                      <a:moveTo>
                        <a:pt x="89" y="165"/>
                      </a:moveTo>
                      <a:lnTo>
                        <a:pt x="232" y="822"/>
                      </a:lnTo>
                      <a:lnTo>
                        <a:pt x="214" y="791"/>
                      </a:lnTo>
                      <a:lnTo>
                        <a:pt x="196" y="759"/>
                      </a:lnTo>
                      <a:lnTo>
                        <a:pt x="179" y="727"/>
                      </a:lnTo>
                      <a:lnTo>
                        <a:pt x="163" y="694"/>
                      </a:lnTo>
                      <a:lnTo>
                        <a:pt x="146" y="661"/>
                      </a:lnTo>
                      <a:lnTo>
                        <a:pt x="0" y="0"/>
                      </a:lnTo>
                      <a:lnTo>
                        <a:pt x="16" y="33"/>
                      </a:lnTo>
                      <a:lnTo>
                        <a:pt x="33" y="66"/>
                      </a:lnTo>
                      <a:lnTo>
                        <a:pt x="51" y="100"/>
                      </a:lnTo>
                      <a:lnTo>
                        <a:pt x="69" y="133"/>
                      </a:lnTo>
                      <a:lnTo>
                        <a:pt x="89" y="165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3975480" y="3184920"/>
                  <a:ext cx="21600" cy="45720"/>
                </a:xfrm>
                <a:custGeom>
                  <a:avLst/>
                  <a:gdLst/>
                  <a:ahLst/>
                  <a:rect l="l" t="t" r="r" b="b"/>
                  <a:pathLst>
                    <a:path w="226" h="869">
                      <a:moveTo>
                        <a:pt x="80" y="208"/>
                      </a:moveTo>
                      <a:lnTo>
                        <a:pt x="226" y="869"/>
                      </a:lnTo>
                      <a:lnTo>
                        <a:pt x="212" y="836"/>
                      </a:lnTo>
                      <a:lnTo>
                        <a:pt x="197" y="802"/>
                      </a:lnTo>
                      <a:lnTo>
                        <a:pt x="184" y="769"/>
                      </a:lnTo>
                      <a:lnTo>
                        <a:pt x="171" y="736"/>
                      </a:lnTo>
                      <a:lnTo>
                        <a:pt x="160" y="702"/>
                      </a:lnTo>
                      <a:lnTo>
                        <a:pt x="148" y="668"/>
                      </a:lnTo>
                      <a:lnTo>
                        <a:pt x="0" y="0"/>
                      </a:lnTo>
                      <a:lnTo>
                        <a:pt x="11" y="36"/>
                      </a:lnTo>
                      <a:lnTo>
                        <a:pt x="23" y="70"/>
                      </a:lnTo>
                      <a:lnTo>
                        <a:pt x="35" y="105"/>
                      </a:lnTo>
                      <a:lnTo>
                        <a:pt x="50" y="139"/>
                      </a:lnTo>
                      <a:lnTo>
                        <a:pt x="64" y="173"/>
                      </a:lnTo>
                      <a:lnTo>
                        <a:pt x="80" y="208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3972600" y="3179160"/>
                  <a:ext cx="17640" cy="41400"/>
                </a:xfrm>
                <a:custGeom>
                  <a:avLst/>
                  <a:gdLst/>
                  <a:ahLst/>
                  <a:rect l="l" t="t" r="r" b="b"/>
                  <a:pathLst>
                    <a:path w="177" h="774">
                      <a:moveTo>
                        <a:pt x="29" y="106"/>
                      </a:moveTo>
                      <a:lnTo>
                        <a:pt x="177" y="774"/>
                      </a:lnTo>
                      <a:lnTo>
                        <a:pt x="167" y="740"/>
                      </a:lnTo>
                      <a:lnTo>
                        <a:pt x="158" y="705"/>
                      </a:lnTo>
                      <a:lnTo>
                        <a:pt x="150" y="670"/>
                      </a:lnTo>
                      <a:lnTo>
                        <a:pt x="0" y="0"/>
                      </a:lnTo>
                      <a:lnTo>
                        <a:pt x="8" y="36"/>
                      </a:lnTo>
                      <a:lnTo>
                        <a:pt x="18" y="71"/>
                      </a:lnTo>
                      <a:lnTo>
                        <a:pt x="29" y="106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3725640" y="3077640"/>
                  <a:ext cx="27000" cy="47160"/>
                </a:xfrm>
                <a:custGeom>
                  <a:avLst/>
                  <a:gdLst/>
                  <a:ahLst/>
                  <a:rect l="l" t="t" r="r" b="b"/>
                  <a:pathLst>
                    <a:path w="289" h="872">
                      <a:moveTo>
                        <a:pt x="70" y="157"/>
                      </a:moveTo>
                      <a:lnTo>
                        <a:pt x="289" y="872"/>
                      </a:lnTo>
                      <a:lnTo>
                        <a:pt x="265" y="821"/>
                      </a:lnTo>
                      <a:lnTo>
                        <a:pt x="242" y="771"/>
                      </a:lnTo>
                      <a:lnTo>
                        <a:pt x="221" y="720"/>
                      </a:lnTo>
                      <a:lnTo>
                        <a:pt x="0" y="0"/>
                      </a:lnTo>
                      <a:lnTo>
                        <a:pt x="22" y="53"/>
                      </a:lnTo>
                      <a:lnTo>
                        <a:pt x="45" y="105"/>
                      </a:lnTo>
                      <a:lnTo>
                        <a:pt x="70" y="157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3720600" y="3069720"/>
                  <a:ext cx="25560" cy="47160"/>
                </a:xfrm>
                <a:custGeom>
                  <a:avLst/>
                  <a:gdLst/>
                  <a:ahLst/>
                  <a:rect l="l" t="t" r="r" b="b"/>
                  <a:pathLst>
                    <a:path w="274" h="875">
                      <a:moveTo>
                        <a:pt x="53" y="155"/>
                      </a:moveTo>
                      <a:lnTo>
                        <a:pt x="274" y="875"/>
                      </a:lnTo>
                      <a:lnTo>
                        <a:pt x="255" y="824"/>
                      </a:lnTo>
                      <a:lnTo>
                        <a:pt x="238" y="774"/>
                      </a:lnTo>
                      <a:lnTo>
                        <a:pt x="221" y="724"/>
                      </a:lnTo>
                      <a:lnTo>
                        <a:pt x="0" y="0"/>
                      </a:lnTo>
                      <a:lnTo>
                        <a:pt x="16" y="52"/>
                      </a:lnTo>
                      <a:lnTo>
                        <a:pt x="33" y="103"/>
                      </a:lnTo>
                      <a:lnTo>
                        <a:pt x="53" y="155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3903840" y="2936880"/>
                  <a:ext cx="28800" cy="49680"/>
                </a:xfrm>
                <a:custGeom>
                  <a:avLst/>
                  <a:gdLst/>
                  <a:ahLst/>
                  <a:rect l="l" t="t" r="r" b="b"/>
                  <a:pathLst>
                    <a:path w="289" h="914">
                      <a:moveTo>
                        <a:pt x="125" y="132"/>
                      </a:moveTo>
                      <a:lnTo>
                        <a:pt x="289" y="914"/>
                      </a:lnTo>
                      <a:lnTo>
                        <a:pt x="256" y="883"/>
                      </a:lnTo>
                      <a:lnTo>
                        <a:pt x="225" y="851"/>
                      </a:lnTo>
                      <a:lnTo>
                        <a:pt x="195" y="818"/>
                      </a:lnTo>
                      <a:lnTo>
                        <a:pt x="168" y="785"/>
                      </a:lnTo>
                      <a:lnTo>
                        <a:pt x="0" y="0"/>
                      </a:lnTo>
                      <a:lnTo>
                        <a:pt x="29" y="33"/>
                      </a:lnTo>
                      <a:lnTo>
                        <a:pt x="60" y="67"/>
                      </a:lnTo>
                      <a:lnTo>
                        <a:pt x="92" y="100"/>
                      </a:lnTo>
                      <a:lnTo>
                        <a:pt x="125" y="132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3891600" y="2927880"/>
                  <a:ext cx="28440" cy="51840"/>
                </a:xfrm>
                <a:custGeom>
                  <a:avLst/>
                  <a:gdLst/>
                  <a:ahLst/>
                  <a:rect l="l" t="t" r="r" b="b"/>
                  <a:pathLst>
                    <a:path w="288" h="961">
                      <a:moveTo>
                        <a:pt x="120" y="176"/>
                      </a:moveTo>
                      <a:lnTo>
                        <a:pt x="288" y="961"/>
                      </a:lnTo>
                      <a:lnTo>
                        <a:pt x="261" y="928"/>
                      </a:lnTo>
                      <a:lnTo>
                        <a:pt x="236" y="894"/>
                      </a:lnTo>
                      <a:lnTo>
                        <a:pt x="213" y="860"/>
                      </a:lnTo>
                      <a:lnTo>
                        <a:pt x="191" y="826"/>
                      </a:lnTo>
                      <a:lnTo>
                        <a:pt x="171" y="790"/>
                      </a:lnTo>
                      <a:lnTo>
                        <a:pt x="0" y="0"/>
                      </a:lnTo>
                      <a:lnTo>
                        <a:pt x="21" y="36"/>
                      </a:lnTo>
                      <a:lnTo>
                        <a:pt x="43" y="72"/>
                      </a:lnTo>
                      <a:lnTo>
                        <a:pt x="68" y="107"/>
                      </a:lnTo>
                      <a:lnTo>
                        <a:pt x="94" y="141"/>
                      </a:lnTo>
                      <a:lnTo>
                        <a:pt x="120" y="176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3884760" y="2917800"/>
                  <a:ext cx="24480" cy="52560"/>
                </a:xfrm>
                <a:custGeom>
                  <a:avLst/>
                  <a:gdLst/>
                  <a:ahLst/>
                  <a:rect l="l" t="t" r="r" b="b"/>
                  <a:pathLst>
                    <a:path w="252" h="978">
                      <a:moveTo>
                        <a:pt x="81" y="188"/>
                      </a:moveTo>
                      <a:lnTo>
                        <a:pt x="252" y="978"/>
                      </a:lnTo>
                      <a:lnTo>
                        <a:pt x="232" y="942"/>
                      </a:lnTo>
                      <a:lnTo>
                        <a:pt x="216" y="906"/>
                      </a:lnTo>
                      <a:lnTo>
                        <a:pt x="199" y="870"/>
                      </a:lnTo>
                      <a:lnTo>
                        <a:pt x="186" y="833"/>
                      </a:lnTo>
                      <a:lnTo>
                        <a:pt x="173" y="795"/>
                      </a:lnTo>
                      <a:lnTo>
                        <a:pt x="0" y="0"/>
                      </a:lnTo>
                      <a:lnTo>
                        <a:pt x="14" y="39"/>
                      </a:lnTo>
                      <a:lnTo>
                        <a:pt x="28" y="76"/>
                      </a:lnTo>
                      <a:lnTo>
                        <a:pt x="43" y="114"/>
                      </a:lnTo>
                      <a:lnTo>
                        <a:pt x="62" y="151"/>
                      </a:lnTo>
                      <a:lnTo>
                        <a:pt x="81" y="188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3882240" y="2913120"/>
                  <a:ext cx="19080" cy="47160"/>
                </a:xfrm>
                <a:custGeom>
                  <a:avLst/>
                  <a:gdLst/>
                  <a:ahLst/>
                  <a:rect l="l" t="t" r="r" b="b"/>
                  <a:pathLst>
                    <a:path w="193" h="873">
                      <a:moveTo>
                        <a:pt x="20" y="78"/>
                      </a:moveTo>
                      <a:lnTo>
                        <a:pt x="193" y="873"/>
                      </a:lnTo>
                      <a:lnTo>
                        <a:pt x="182" y="836"/>
                      </a:lnTo>
                      <a:lnTo>
                        <a:pt x="173" y="798"/>
                      </a:lnTo>
                      <a:lnTo>
                        <a:pt x="0" y="0"/>
                      </a:lnTo>
                      <a:lnTo>
                        <a:pt x="9" y="40"/>
                      </a:lnTo>
                      <a:lnTo>
                        <a:pt x="20" y="78"/>
                      </a:lnTo>
                      <a:close/>
                    </a:path>
                  </a:pathLst>
                </a:custGeom>
                <a:solidFill>
                  <a:srgbClr val="2622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3713400" y="2743200"/>
                  <a:ext cx="1605960" cy="617400"/>
                </a:xfrm>
                <a:custGeom>
                  <a:avLst/>
                  <a:gdLst/>
                  <a:ahLst/>
                  <a:rect l="l" t="t" r="r" b="b"/>
                  <a:pathLst>
                    <a:path w="16408" h="11518">
                      <a:moveTo>
                        <a:pt x="12894" y="1455"/>
                      </a:moveTo>
                      <a:lnTo>
                        <a:pt x="12992" y="1452"/>
                      </a:lnTo>
                      <a:lnTo>
                        <a:pt x="13091" y="1453"/>
                      </a:lnTo>
                      <a:lnTo>
                        <a:pt x="13190" y="1456"/>
                      </a:lnTo>
                      <a:lnTo>
                        <a:pt x="13290" y="1463"/>
                      </a:lnTo>
                      <a:lnTo>
                        <a:pt x="13391" y="1473"/>
                      </a:lnTo>
                      <a:lnTo>
                        <a:pt x="13490" y="1485"/>
                      </a:lnTo>
                      <a:lnTo>
                        <a:pt x="13591" y="1501"/>
                      </a:lnTo>
                      <a:lnTo>
                        <a:pt x="13690" y="1519"/>
                      </a:lnTo>
                      <a:lnTo>
                        <a:pt x="13790" y="1541"/>
                      </a:lnTo>
                      <a:lnTo>
                        <a:pt x="13888" y="1566"/>
                      </a:lnTo>
                      <a:lnTo>
                        <a:pt x="13987" y="1594"/>
                      </a:lnTo>
                      <a:lnTo>
                        <a:pt x="14083" y="1626"/>
                      </a:lnTo>
                      <a:lnTo>
                        <a:pt x="14179" y="1659"/>
                      </a:lnTo>
                      <a:lnTo>
                        <a:pt x="14273" y="1696"/>
                      </a:lnTo>
                      <a:lnTo>
                        <a:pt x="14365" y="1737"/>
                      </a:lnTo>
                      <a:lnTo>
                        <a:pt x="14455" y="1781"/>
                      </a:lnTo>
                      <a:lnTo>
                        <a:pt x="14545" y="1828"/>
                      </a:lnTo>
                      <a:lnTo>
                        <a:pt x="14631" y="1878"/>
                      </a:lnTo>
                      <a:lnTo>
                        <a:pt x="14715" y="1931"/>
                      </a:lnTo>
                      <a:lnTo>
                        <a:pt x="14797" y="1987"/>
                      </a:lnTo>
                      <a:lnTo>
                        <a:pt x="14876" y="2046"/>
                      </a:lnTo>
                      <a:lnTo>
                        <a:pt x="14952" y="2109"/>
                      </a:lnTo>
                      <a:lnTo>
                        <a:pt x="15026" y="2174"/>
                      </a:lnTo>
                      <a:lnTo>
                        <a:pt x="15095" y="2244"/>
                      </a:lnTo>
                      <a:lnTo>
                        <a:pt x="15162" y="2316"/>
                      </a:lnTo>
                      <a:lnTo>
                        <a:pt x="15225" y="2392"/>
                      </a:lnTo>
                      <a:lnTo>
                        <a:pt x="15283" y="2471"/>
                      </a:lnTo>
                      <a:lnTo>
                        <a:pt x="15338" y="2554"/>
                      </a:lnTo>
                      <a:lnTo>
                        <a:pt x="15389" y="2639"/>
                      </a:lnTo>
                      <a:lnTo>
                        <a:pt x="15436" y="2727"/>
                      </a:lnTo>
                      <a:lnTo>
                        <a:pt x="15478" y="2820"/>
                      </a:lnTo>
                      <a:lnTo>
                        <a:pt x="15515" y="2915"/>
                      </a:lnTo>
                      <a:lnTo>
                        <a:pt x="15530" y="2973"/>
                      </a:lnTo>
                      <a:lnTo>
                        <a:pt x="15544" y="3031"/>
                      </a:lnTo>
                      <a:lnTo>
                        <a:pt x="15555" y="3088"/>
                      </a:lnTo>
                      <a:lnTo>
                        <a:pt x="15563" y="3144"/>
                      </a:lnTo>
                      <a:lnTo>
                        <a:pt x="15569" y="3199"/>
                      </a:lnTo>
                      <a:lnTo>
                        <a:pt x="15573" y="3255"/>
                      </a:lnTo>
                      <a:lnTo>
                        <a:pt x="15575" y="3310"/>
                      </a:lnTo>
                      <a:lnTo>
                        <a:pt x="15575" y="3364"/>
                      </a:lnTo>
                      <a:lnTo>
                        <a:pt x="15572" y="3417"/>
                      </a:lnTo>
                      <a:lnTo>
                        <a:pt x="15568" y="3470"/>
                      </a:lnTo>
                      <a:lnTo>
                        <a:pt x="15561" y="3522"/>
                      </a:lnTo>
                      <a:lnTo>
                        <a:pt x="15553" y="3573"/>
                      </a:lnTo>
                      <a:lnTo>
                        <a:pt x="15541" y="3624"/>
                      </a:lnTo>
                      <a:lnTo>
                        <a:pt x="15528" y="3674"/>
                      </a:lnTo>
                      <a:lnTo>
                        <a:pt x="15514" y="3724"/>
                      </a:lnTo>
                      <a:lnTo>
                        <a:pt x="15496" y="3773"/>
                      </a:lnTo>
                      <a:lnTo>
                        <a:pt x="15478" y="3821"/>
                      </a:lnTo>
                      <a:lnTo>
                        <a:pt x="15456" y="3868"/>
                      </a:lnTo>
                      <a:lnTo>
                        <a:pt x="15434" y="3915"/>
                      </a:lnTo>
                      <a:lnTo>
                        <a:pt x="15409" y="3960"/>
                      </a:lnTo>
                      <a:lnTo>
                        <a:pt x="15383" y="4005"/>
                      </a:lnTo>
                      <a:lnTo>
                        <a:pt x="15355" y="4049"/>
                      </a:lnTo>
                      <a:lnTo>
                        <a:pt x="15324" y="4093"/>
                      </a:lnTo>
                      <a:lnTo>
                        <a:pt x="15292" y="4135"/>
                      </a:lnTo>
                      <a:lnTo>
                        <a:pt x="15259" y="4177"/>
                      </a:lnTo>
                      <a:lnTo>
                        <a:pt x="15224" y="4219"/>
                      </a:lnTo>
                      <a:lnTo>
                        <a:pt x="15187" y="4258"/>
                      </a:lnTo>
                      <a:lnTo>
                        <a:pt x="15149" y="4298"/>
                      </a:lnTo>
                      <a:lnTo>
                        <a:pt x="15108" y="4336"/>
                      </a:lnTo>
                      <a:lnTo>
                        <a:pt x="15067" y="4374"/>
                      </a:lnTo>
                      <a:lnTo>
                        <a:pt x="15023" y="4410"/>
                      </a:lnTo>
                      <a:lnTo>
                        <a:pt x="14978" y="4447"/>
                      </a:lnTo>
                      <a:lnTo>
                        <a:pt x="15048" y="4466"/>
                      </a:lnTo>
                      <a:lnTo>
                        <a:pt x="15117" y="4487"/>
                      </a:lnTo>
                      <a:lnTo>
                        <a:pt x="15186" y="4510"/>
                      </a:lnTo>
                      <a:lnTo>
                        <a:pt x="15252" y="4534"/>
                      </a:lnTo>
                      <a:lnTo>
                        <a:pt x="15318" y="4561"/>
                      </a:lnTo>
                      <a:lnTo>
                        <a:pt x="15381" y="4588"/>
                      </a:lnTo>
                      <a:lnTo>
                        <a:pt x="15444" y="4619"/>
                      </a:lnTo>
                      <a:lnTo>
                        <a:pt x="15506" y="4650"/>
                      </a:lnTo>
                      <a:lnTo>
                        <a:pt x="15566" y="4683"/>
                      </a:lnTo>
                      <a:lnTo>
                        <a:pt x="15625" y="4718"/>
                      </a:lnTo>
                      <a:lnTo>
                        <a:pt x="15681" y="4755"/>
                      </a:lnTo>
                      <a:lnTo>
                        <a:pt x="15736" y="4793"/>
                      </a:lnTo>
                      <a:lnTo>
                        <a:pt x="15790" y="4833"/>
                      </a:lnTo>
                      <a:lnTo>
                        <a:pt x="15841" y="4875"/>
                      </a:lnTo>
                      <a:lnTo>
                        <a:pt x="15891" y="4919"/>
                      </a:lnTo>
                      <a:lnTo>
                        <a:pt x="15939" y="4964"/>
                      </a:lnTo>
                      <a:lnTo>
                        <a:pt x="15985" y="5011"/>
                      </a:lnTo>
                      <a:lnTo>
                        <a:pt x="16030" y="5060"/>
                      </a:lnTo>
                      <a:lnTo>
                        <a:pt x="16072" y="5111"/>
                      </a:lnTo>
                      <a:lnTo>
                        <a:pt x="16112" y="5164"/>
                      </a:lnTo>
                      <a:lnTo>
                        <a:pt x="16150" y="5219"/>
                      </a:lnTo>
                      <a:lnTo>
                        <a:pt x="16184" y="5275"/>
                      </a:lnTo>
                      <a:lnTo>
                        <a:pt x="16218" y="5333"/>
                      </a:lnTo>
                      <a:lnTo>
                        <a:pt x="16249" y="5392"/>
                      </a:lnTo>
                      <a:lnTo>
                        <a:pt x="16278" y="5455"/>
                      </a:lnTo>
                      <a:lnTo>
                        <a:pt x="16303" y="5518"/>
                      </a:lnTo>
                      <a:lnTo>
                        <a:pt x="16327" y="5584"/>
                      </a:lnTo>
                      <a:lnTo>
                        <a:pt x="16349" y="5651"/>
                      </a:lnTo>
                      <a:lnTo>
                        <a:pt x="16367" y="5720"/>
                      </a:lnTo>
                      <a:lnTo>
                        <a:pt x="16382" y="5791"/>
                      </a:lnTo>
                      <a:lnTo>
                        <a:pt x="16396" y="5864"/>
                      </a:lnTo>
                      <a:lnTo>
                        <a:pt x="16406" y="5939"/>
                      </a:lnTo>
                      <a:lnTo>
                        <a:pt x="16408" y="6053"/>
                      </a:lnTo>
                      <a:lnTo>
                        <a:pt x="16404" y="6164"/>
                      </a:lnTo>
                      <a:lnTo>
                        <a:pt x="16395" y="6273"/>
                      </a:lnTo>
                      <a:lnTo>
                        <a:pt x="16378" y="6381"/>
                      </a:lnTo>
                      <a:lnTo>
                        <a:pt x="16357" y="6487"/>
                      </a:lnTo>
                      <a:lnTo>
                        <a:pt x="16329" y="6591"/>
                      </a:lnTo>
                      <a:lnTo>
                        <a:pt x="16296" y="6692"/>
                      </a:lnTo>
                      <a:lnTo>
                        <a:pt x="16258" y="6792"/>
                      </a:lnTo>
                      <a:lnTo>
                        <a:pt x="16215" y="6889"/>
                      </a:lnTo>
                      <a:lnTo>
                        <a:pt x="16167" y="6985"/>
                      </a:lnTo>
                      <a:lnTo>
                        <a:pt x="16115" y="7077"/>
                      </a:lnTo>
                      <a:lnTo>
                        <a:pt x="16058" y="7169"/>
                      </a:lnTo>
                      <a:lnTo>
                        <a:pt x="15997" y="7258"/>
                      </a:lnTo>
                      <a:lnTo>
                        <a:pt x="15932" y="7343"/>
                      </a:lnTo>
                      <a:lnTo>
                        <a:pt x="15862" y="7427"/>
                      </a:lnTo>
                      <a:lnTo>
                        <a:pt x="15791" y="7509"/>
                      </a:lnTo>
                      <a:lnTo>
                        <a:pt x="15715" y="7588"/>
                      </a:lnTo>
                      <a:lnTo>
                        <a:pt x="15635" y="7664"/>
                      </a:lnTo>
                      <a:lnTo>
                        <a:pt x="15553" y="7738"/>
                      </a:lnTo>
                      <a:lnTo>
                        <a:pt x="15468" y="7809"/>
                      </a:lnTo>
                      <a:lnTo>
                        <a:pt x="15380" y="7877"/>
                      </a:lnTo>
                      <a:lnTo>
                        <a:pt x="15290" y="7943"/>
                      </a:lnTo>
                      <a:lnTo>
                        <a:pt x="15198" y="8005"/>
                      </a:lnTo>
                      <a:lnTo>
                        <a:pt x="15104" y="8065"/>
                      </a:lnTo>
                      <a:lnTo>
                        <a:pt x="15008" y="8122"/>
                      </a:lnTo>
                      <a:lnTo>
                        <a:pt x="14910" y="8176"/>
                      </a:lnTo>
                      <a:lnTo>
                        <a:pt x="14811" y="8227"/>
                      </a:lnTo>
                      <a:lnTo>
                        <a:pt x="14711" y="8276"/>
                      </a:lnTo>
                      <a:lnTo>
                        <a:pt x="14610" y="8321"/>
                      </a:lnTo>
                      <a:lnTo>
                        <a:pt x="14508" y="8363"/>
                      </a:lnTo>
                      <a:lnTo>
                        <a:pt x="14406" y="8401"/>
                      </a:lnTo>
                      <a:lnTo>
                        <a:pt x="14303" y="8436"/>
                      </a:lnTo>
                      <a:lnTo>
                        <a:pt x="14269" y="8448"/>
                      </a:lnTo>
                      <a:lnTo>
                        <a:pt x="14234" y="8457"/>
                      </a:lnTo>
                      <a:lnTo>
                        <a:pt x="14199" y="8468"/>
                      </a:lnTo>
                      <a:lnTo>
                        <a:pt x="14165" y="8477"/>
                      </a:lnTo>
                      <a:lnTo>
                        <a:pt x="14130" y="8486"/>
                      </a:lnTo>
                      <a:lnTo>
                        <a:pt x="14095" y="8496"/>
                      </a:lnTo>
                      <a:lnTo>
                        <a:pt x="14062" y="8504"/>
                      </a:lnTo>
                      <a:lnTo>
                        <a:pt x="14027" y="8513"/>
                      </a:lnTo>
                      <a:lnTo>
                        <a:pt x="13992" y="8520"/>
                      </a:lnTo>
                      <a:lnTo>
                        <a:pt x="13957" y="8528"/>
                      </a:lnTo>
                      <a:lnTo>
                        <a:pt x="13923" y="8535"/>
                      </a:lnTo>
                      <a:lnTo>
                        <a:pt x="13888" y="8542"/>
                      </a:lnTo>
                      <a:lnTo>
                        <a:pt x="13853" y="8549"/>
                      </a:lnTo>
                      <a:lnTo>
                        <a:pt x="13819" y="8555"/>
                      </a:lnTo>
                      <a:lnTo>
                        <a:pt x="13784" y="8560"/>
                      </a:lnTo>
                      <a:lnTo>
                        <a:pt x="13749" y="8567"/>
                      </a:lnTo>
                      <a:lnTo>
                        <a:pt x="13713" y="8572"/>
                      </a:lnTo>
                      <a:lnTo>
                        <a:pt x="13678" y="8576"/>
                      </a:lnTo>
                      <a:lnTo>
                        <a:pt x="13643" y="8581"/>
                      </a:lnTo>
                      <a:lnTo>
                        <a:pt x="13608" y="8585"/>
                      </a:lnTo>
                      <a:lnTo>
                        <a:pt x="13572" y="8590"/>
                      </a:lnTo>
                      <a:lnTo>
                        <a:pt x="13538" y="8593"/>
                      </a:lnTo>
                      <a:lnTo>
                        <a:pt x="13502" y="8596"/>
                      </a:lnTo>
                      <a:lnTo>
                        <a:pt x="13466" y="8599"/>
                      </a:lnTo>
                      <a:lnTo>
                        <a:pt x="13431" y="8601"/>
                      </a:lnTo>
                      <a:lnTo>
                        <a:pt x="13395" y="8603"/>
                      </a:lnTo>
                      <a:lnTo>
                        <a:pt x="13359" y="8605"/>
                      </a:lnTo>
                      <a:lnTo>
                        <a:pt x="13323" y="8606"/>
                      </a:lnTo>
                      <a:lnTo>
                        <a:pt x="13287" y="8607"/>
                      </a:lnTo>
                      <a:lnTo>
                        <a:pt x="13250" y="8608"/>
                      </a:lnTo>
                      <a:lnTo>
                        <a:pt x="13215" y="8608"/>
                      </a:lnTo>
                      <a:lnTo>
                        <a:pt x="13179" y="8608"/>
                      </a:lnTo>
                      <a:lnTo>
                        <a:pt x="13156" y="8703"/>
                      </a:lnTo>
                      <a:lnTo>
                        <a:pt x="13132" y="8797"/>
                      </a:lnTo>
                      <a:lnTo>
                        <a:pt x="13105" y="8888"/>
                      </a:lnTo>
                      <a:lnTo>
                        <a:pt x="13075" y="8978"/>
                      </a:lnTo>
                      <a:lnTo>
                        <a:pt x="13042" y="9067"/>
                      </a:lnTo>
                      <a:lnTo>
                        <a:pt x="13006" y="9154"/>
                      </a:lnTo>
                      <a:lnTo>
                        <a:pt x="12969" y="9239"/>
                      </a:lnTo>
                      <a:lnTo>
                        <a:pt x="12928" y="9323"/>
                      </a:lnTo>
                      <a:lnTo>
                        <a:pt x="12886" y="9406"/>
                      </a:lnTo>
                      <a:lnTo>
                        <a:pt x="12840" y="9486"/>
                      </a:lnTo>
                      <a:lnTo>
                        <a:pt x="12793" y="9565"/>
                      </a:lnTo>
                      <a:lnTo>
                        <a:pt x="12744" y="9643"/>
                      </a:lnTo>
                      <a:lnTo>
                        <a:pt x="12692" y="9719"/>
                      </a:lnTo>
                      <a:lnTo>
                        <a:pt x="12637" y="9794"/>
                      </a:lnTo>
                      <a:lnTo>
                        <a:pt x="12581" y="9867"/>
                      </a:lnTo>
                      <a:lnTo>
                        <a:pt x="12522" y="9939"/>
                      </a:lnTo>
                      <a:lnTo>
                        <a:pt x="12462" y="10010"/>
                      </a:lnTo>
                      <a:lnTo>
                        <a:pt x="12399" y="10079"/>
                      </a:lnTo>
                      <a:lnTo>
                        <a:pt x="12336" y="10146"/>
                      </a:lnTo>
                      <a:lnTo>
                        <a:pt x="12269" y="10212"/>
                      </a:lnTo>
                      <a:lnTo>
                        <a:pt x="12201" y="10277"/>
                      </a:lnTo>
                      <a:lnTo>
                        <a:pt x="12132" y="10339"/>
                      </a:lnTo>
                      <a:lnTo>
                        <a:pt x="12060" y="10401"/>
                      </a:lnTo>
                      <a:lnTo>
                        <a:pt x="11987" y="10461"/>
                      </a:lnTo>
                      <a:lnTo>
                        <a:pt x="11912" y="10519"/>
                      </a:lnTo>
                      <a:lnTo>
                        <a:pt x="11836" y="10577"/>
                      </a:lnTo>
                      <a:lnTo>
                        <a:pt x="11758" y="10632"/>
                      </a:lnTo>
                      <a:lnTo>
                        <a:pt x="11679" y="10686"/>
                      </a:lnTo>
                      <a:lnTo>
                        <a:pt x="11599" y="10739"/>
                      </a:lnTo>
                      <a:lnTo>
                        <a:pt x="11517" y="10791"/>
                      </a:lnTo>
                      <a:lnTo>
                        <a:pt x="11434" y="10841"/>
                      </a:lnTo>
                      <a:lnTo>
                        <a:pt x="11350" y="10889"/>
                      </a:lnTo>
                      <a:lnTo>
                        <a:pt x="11320" y="10905"/>
                      </a:lnTo>
                      <a:lnTo>
                        <a:pt x="11292" y="10920"/>
                      </a:lnTo>
                      <a:lnTo>
                        <a:pt x="11262" y="10936"/>
                      </a:lnTo>
                      <a:lnTo>
                        <a:pt x="11232" y="10950"/>
                      </a:lnTo>
                      <a:lnTo>
                        <a:pt x="11203" y="10965"/>
                      </a:lnTo>
                      <a:lnTo>
                        <a:pt x="11174" y="10980"/>
                      </a:lnTo>
                      <a:lnTo>
                        <a:pt x="11144" y="10994"/>
                      </a:lnTo>
                      <a:lnTo>
                        <a:pt x="11114" y="11009"/>
                      </a:lnTo>
                      <a:lnTo>
                        <a:pt x="11084" y="11023"/>
                      </a:lnTo>
                      <a:lnTo>
                        <a:pt x="11054" y="11037"/>
                      </a:lnTo>
                      <a:lnTo>
                        <a:pt x="11024" y="11050"/>
                      </a:lnTo>
                      <a:lnTo>
                        <a:pt x="10994" y="11065"/>
                      </a:lnTo>
                      <a:lnTo>
                        <a:pt x="10964" y="11079"/>
                      </a:lnTo>
                      <a:lnTo>
                        <a:pt x="10934" y="11092"/>
                      </a:lnTo>
                      <a:lnTo>
                        <a:pt x="10903" y="11106"/>
                      </a:lnTo>
                      <a:lnTo>
                        <a:pt x="10872" y="11119"/>
                      </a:lnTo>
                      <a:lnTo>
                        <a:pt x="10805" y="11145"/>
                      </a:lnTo>
                      <a:lnTo>
                        <a:pt x="10737" y="11171"/>
                      </a:lnTo>
                      <a:lnTo>
                        <a:pt x="10668" y="11195"/>
                      </a:lnTo>
                      <a:lnTo>
                        <a:pt x="10601" y="11219"/>
                      </a:lnTo>
                      <a:lnTo>
                        <a:pt x="10533" y="11241"/>
                      </a:lnTo>
                      <a:lnTo>
                        <a:pt x="10466" y="11263"/>
                      </a:lnTo>
                      <a:lnTo>
                        <a:pt x="10399" y="11284"/>
                      </a:lnTo>
                      <a:lnTo>
                        <a:pt x="10331" y="11303"/>
                      </a:lnTo>
                      <a:lnTo>
                        <a:pt x="10263" y="11322"/>
                      </a:lnTo>
                      <a:lnTo>
                        <a:pt x="10197" y="11340"/>
                      </a:lnTo>
                      <a:lnTo>
                        <a:pt x="10129" y="11358"/>
                      </a:lnTo>
                      <a:lnTo>
                        <a:pt x="10061" y="11373"/>
                      </a:lnTo>
                      <a:lnTo>
                        <a:pt x="9993" y="11389"/>
                      </a:lnTo>
                      <a:lnTo>
                        <a:pt x="9926" y="11403"/>
                      </a:lnTo>
                      <a:lnTo>
                        <a:pt x="9858" y="11417"/>
                      </a:lnTo>
                      <a:lnTo>
                        <a:pt x="9789" y="11429"/>
                      </a:lnTo>
                      <a:lnTo>
                        <a:pt x="9722" y="11441"/>
                      </a:lnTo>
                      <a:lnTo>
                        <a:pt x="9653" y="11452"/>
                      </a:lnTo>
                      <a:lnTo>
                        <a:pt x="9584" y="11462"/>
                      </a:lnTo>
                      <a:lnTo>
                        <a:pt x="9516" y="11471"/>
                      </a:lnTo>
                      <a:lnTo>
                        <a:pt x="9447" y="11479"/>
                      </a:lnTo>
                      <a:lnTo>
                        <a:pt x="9377" y="11487"/>
                      </a:lnTo>
                      <a:lnTo>
                        <a:pt x="9307" y="11494"/>
                      </a:lnTo>
                      <a:lnTo>
                        <a:pt x="9238" y="11499"/>
                      </a:lnTo>
                      <a:lnTo>
                        <a:pt x="9167" y="11504"/>
                      </a:lnTo>
                      <a:lnTo>
                        <a:pt x="9097" y="11509"/>
                      </a:lnTo>
                      <a:lnTo>
                        <a:pt x="9025" y="11512"/>
                      </a:lnTo>
                      <a:lnTo>
                        <a:pt x="8954" y="11515"/>
                      </a:lnTo>
                      <a:lnTo>
                        <a:pt x="8882" y="11517"/>
                      </a:lnTo>
                      <a:lnTo>
                        <a:pt x="8810" y="11517"/>
                      </a:lnTo>
                      <a:lnTo>
                        <a:pt x="8737" y="11518"/>
                      </a:lnTo>
                      <a:lnTo>
                        <a:pt x="8663" y="11517"/>
                      </a:lnTo>
                      <a:lnTo>
                        <a:pt x="8262" y="11488"/>
                      </a:lnTo>
                      <a:lnTo>
                        <a:pt x="8161" y="11474"/>
                      </a:lnTo>
                      <a:lnTo>
                        <a:pt x="8060" y="11458"/>
                      </a:lnTo>
                      <a:lnTo>
                        <a:pt x="7959" y="11440"/>
                      </a:lnTo>
                      <a:lnTo>
                        <a:pt x="7858" y="11421"/>
                      </a:lnTo>
                      <a:lnTo>
                        <a:pt x="7758" y="11400"/>
                      </a:lnTo>
                      <a:lnTo>
                        <a:pt x="7657" y="11376"/>
                      </a:lnTo>
                      <a:lnTo>
                        <a:pt x="7558" y="11351"/>
                      </a:lnTo>
                      <a:lnTo>
                        <a:pt x="7459" y="11325"/>
                      </a:lnTo>
                      <a:lnTo>
                        <a:pt x="7362" y="11296"/>
                      </a:lnTo>
                      <a:lnTo>
                        <a:pt x="7265" y="11265"/>
                      </a:lnTo>
                      <a:lnTo>
                        <a:pt x="7168" y="11233"/>
                      </a:lnTo>
                      <a:lnTo>
                        <a:pt x="7072" y="11197"/>
                      </a:lnTo>
                      <a:lnTo>
                        <a:pt x="6978" y="11161"/>
                      </a:lnTo>
                      <a:lnTo>
                        <a:pt x="6884" y="11121"/>
                      </a:lnTo>
                      <a:lnTo>
                        <a:pt x="6792" y="11080"/>
                      </a:lnTo>
                      <a:lnTo>
                        <a:pt x="6701" y="11037"/>
                      </a:lnTo>
                      <a:lnTo>
                        <a:pt x="6611" y="10990"/>
                      </a:lnTo>
                      <a:lnTo>
                        <a:pt x="6522" y="10942"/>
                      </a:lnTo>
                      <a:lnTo>
                        <a:pt x="6436" y="10892"/>
                      </a:lnTo>
                      <a:lnTo>
                        <a:pt x="6350" y="10839"/>
                      </a:lnTo>
                      <a:lnTo>
                        <a:pt x="6266" y="10784"/>
                      </a:lnTo>
                      <a:lnTo>
                        <a:pt x="6184" y="10727"/>
                      </a:lnTo>
                      <a:lnTo>
                        <a:pt x="6104" y="10666"/>
                      </a:lnTo>
                      <a:lnTo>
                        <a:pt x="6025" y="10604"/>
                      </a:lnTo>
                      <a:lnTo>
                        <a:pt x="5948" y="10539"/>
                      </a:lnTo>
                      <a:lnTo>
                        <a:pt x="5873" y="10471"/>
                      </a:lnTo>
                      <a:lnTo>
                        <a:pt x="5800" y="10401"/>
                      </a:lnTo>
                      <a:lnTo>
                        <a:pt x="5729" y="10328"/>
                      </a:lnTo>
                      <a:lnTo>
                        <a:pt x="5662" y="10253"/>
                      </a:lnTo>
                      <a:lnTo>
                        <a:pt x="5595" y="10175"/>
                      </a:lnTo>
                      <a:lnTo>
                        <a:pt x="5532" y="10093"/>
                      </a:lnTo>
                      <a:lnTo>
                        <a:pt x="5470" y="10010"/>
                      </a:lnTo>
                      <a:lnTo>
                        <a:pt x="5380" y="10000"/>
                      </a:lnTo>
                      <a:lnTo>
                        <a:pt x="5290" y="9987"/>
                      </a:lnTo>
                      <a:lnTo>
                        <a:pt x="5199" y="9974"/>
                      </a:lnTo>
                      <a:lnTo>
                        <a:pt x="5109" y="9958"/>
                      </a:lnTo>
                      <a:lnTo>
                        <a:pt x="5020" y="9941"/>
                      </a:lnTo>
                      <a:lnTo>
                        <a:pt x="4931" y="9923"/>
                      </a:lnTo>
                      <a:lnTo>
                        <a:pt x="4842" y="9902"/>
                      </a:lnTo>
                      <a:lnTo>
                        <a:pt x="4754" y="9879"/>
                      </a:lnTo>
                      <a:lnTo>
                        <a:pt x="4666" y="9855"/>
                      </a:lnTo>
                      <a:lnTo>
                        <a:pt x="4579" y="9830"/>
                      </a:lnTo>
                      <a:lnTo>
                        <a:pt x="4493" y="9802"/>
                      </a:lnTo>
                      <a:lnTo>
                        <a:pt x="4408" y="9773"/>
                      </a:lnTo>
                      <a:lnTo>
                        <a:pt x="4322" y="9741"/>
                      </a:lnTo>
                      <a:lnTo>
                        <a:pt x="4238" y="9708"/>
                      </a:lnTo>
                      <a:lnTo>
                        <a:pt x="4155" y="9673"/>
                      </a:lnTo>
                      <a:lnTo>
                        <a:pt x="4073" y="9636"/>
                      </a:lnTo>
                      <a:lnTo>
                        <a:pt x="3993" y="9597"/>
                      </a:lnTo>
                      <a:lnTo>
                        <a:pt x="3913" y="9556"/>
                      </a:lnTo>
                      <a:lnTo>
                        <a:pt x="3834" y="9513"/>
                      </a:lnTo>
                      <a:lnTo>
                        <a:pt x="3757" y="9469"/>
                      </a:lnTo>
                      <a:lnTo>
                        <a:pt x="3682" y="9422"/>
                      </a:lnTo>
                      <a:lnTo>
                        <a:pt x="3607" y="9373"/>
                      </a:lnTo>
                      <a:lnTo>
                        <a:pt x="3533" y="9322"/>
                      </a:lnTo>
                      <a:lnTo>
                        <a:pt x="3461" y="9269"/>
                      </a:lnTo>
                      <a:lnTo>
                        <a:pt x="3391" y="9213"/>
                      </a:lnTo>
                      <a:lnTo>
                        <a:pt x="3323" y="9156"/>
                      </a:lnTo>
                      <a:lnTo>
                        <a:pt x="3256" y="9097"/>
                      </a:lnTo>
                      <a:lnTo>
                        <a:pt x="3191" y="9035"/>
                      </a:lnTo>
                      <a:lnTo>
                        <a:pt x="3128" y="8972"/>
                      </a:lnTo>
                      <a:lnTo>
                        <a:pt x="3066" y="8905"/>
                      </a:lnTo>
                      <a:lnTo>
                        <a:pt x="3007" y="8837"/>
                      </a:lnTo>
                      <a:lnTo>
                        <a:pt x="2949" y="8767"/>
                      </a:lnTo>
                      <a:lnTo>
                        <a:pt x="2927" y="8735"/>
                      </a:lnTo>
                      <a:lnTo>
                        <a:pt x="2905" y="8703"/>
                      </a:lnTo>
                      <a:lnTo>
                        <a:pt x="2885" y="8671"/>
                      </a:lnTo>
                      <a:lnTo>
                        <a:pt x="2864" y="8639"/>
                      </a:lnTo>
                      <a:lnTo>
                        <a:pt x="2845" y="8606"/>
                      </a:lnTo>
                      <a:lnTo>
                        <a:pt x="2825" y="8574"/>
                      </a:lnTo>
                      <a:lnTo>
                        <a:pt x="2807" y="8541"/>
                      </a:lnTo>
                      <a:lnTo>
                        <a:pt x="2789" y="8507"/>
                      </a:lnTo>
                      <a:lnTo>
                        <a:pt x="2772" y="8474"/>
                      </a:lnTo>
                      <a:lnTo>
                        <a:pt x="2756" y="8441"/>
                      </a:lnTo>
                      <a:lnTo>
                        <a:pt x="2740" y="8406"/>
                      </a:lnTo>
                      <a:lnTo>
                        <a:pt x="2726" y="8372"/>
                      </a:lnTo>
                      <a:lnTo>
                        <a:pt x="2711" y="8338"/>
                      </a:lnTo>
                      <a:lnTo>
                        <a:pt x="2699" y="8303"/>
                      </a:lnTo>
                      <a:lnTo>
                        <a:pt x="2687" y="8269"/>
                      </a:lnTo>
                      <a:lnTo>
                        <a:pt x="2676" y="8233"/>
                      </a:lnTo>
                      <a:lnTo>
                        <a:pt x="2665" y="8198"/>
                      </a:lnTo>
                      <a:lnTo>
                        <a:pt x="2655" y="8163"/>
                      </a:lnTo>
                      <a:lnTo>
                        <a:pt x="2647" y="8127"/>
                      </a:lnTo>
                      <a:lnTo>
                        <a:pt x="2640" y="8092"/>
                      </a:lnTo>
                      <a:lnTo>
                        <a:pt x="2633" y="8055"/>
                      </a:lnTo>
                      <a:lnTo>
                        <a:pt x="2627" y="8019"/>
                      </a:lnTo>
                      <a:lnTo>
                        <a:pt x="2623" y="7982"/>
                      </a:lnTo>
                      <a:lnTo>
                        <a:pt x="2620" y="7946"/>
                      </a:lnTo>
                      <a:lnTo>
                        <a:pt x="2617" y="7908"/>
                      </a:lnTo>
                      <a:lnTo>
                        <a:pt x="2616" y="7872"/>
                      </a:lnTo>
                      <a:lnTo>
                        <a:pt x="2616" y="7835"/>
                      </a:lnTo>
                      <a:lnTo>
                        <a:pt x="2617" y="7797"/>
                      </a:lnTo>
                      <a:lnTo>
                        <a:pt x="2620" y="7759"/>
                      </a:lnTo>
                      <a:lnTo>
                        <a:pt x="2623" y="7721"/>
                      </a:lnTo>
                      <a:lnTo>
                        <a:pt x="2628" y="7682"/>
                      </a:lnTo>
                      <a:lnTo>
                        <a:pt x="2635" y="7644"/>
                      </a:lnTo>
                      <a:lnTo>
                        <a:pt x="2629" y="7639"/>
                      </a:lnTo>
                      <a:lnTo>
                        <a:pt x="2625" y="7635"/>
                      </a:lnTo>
                      <a:lnTo>
                        <a:pt x="2620" y="7629"/>
                      </a:lnTo>
                      <a:lnTo>
                        <a:pt x="2615" y="7624"/>
                      </a:lnTo>
                      <a:lnTo>
                        <a:pt x="2611" y="7619"/>
                      </a:lnTo>
                      <a:lnTo>
                        <a:pt x="2606" y="7615"/>
                      </a:lnTo>
                      <a:lnTo>
                        <a:pt x="2602" y="7610"/>
                      </a:lnTo>
                      <a:lnTo>
                        <a:pt x="2597" y="7604"/>
                      </a:lnTo>
                      <a:lnTo>
                        <a:pt x="2506" y="7605"/>
                      </a:lnTo>
                      <a:lnTo>
                        <a:pt x="2415" y="7604"/>
                      </a:lnTo>
                      <a:lnTo>
                        <a:pt x="2325" y="7601"/>
                      </a:lnTo>
                      <a:lnTo>
                        <a:pt x="2235" y="7595"/>
                      </a:lnTo>
                      <a:lnTo>
                        <a:pt x="2144" y="7587"/>
                      </a:lnTo>
                      <a:lnTo>
                        <a:pt x="2055" y="7575"/>
                      </a:lnTo>
                      <a:lnTo>
                        <a:pt x="1966" y="7563"/>
                      </a:lnTo>
                      <a:lnTo>
                        <a:pt x="1878" y="7547"/>
                      </a:lnTo>
                      <a:lnTo>
                        <a:pt x="1791" y="7528"/>
                      </a:lnTo>
                      <a:lnTo>
                        <a:pt x="1704" y="7508"/>
                      </a:lnTo>
                      <a:lnTo>
                        <a:pt x="1618" y="7485"/>
                      </a:lnTo>
                      <a:lnTo>
                        <a:pt x="1533" y="7459"/>
                      </a:lnTo>
                      <a:lnTo>
                        <a:pt x="1450" y="7430"/>
                      </a:lnTo>
                      <a:lnTo>
                        <a:pt x="1368" y="7399"/>
                      </a:lnTo>
                      <a:lnTo>
                        <a:pt x="1287" y="7366"/>
                      </a:lnTo>
                      <a:lnTo>
                        <a:pt x="1207" y="7330"/>
                      </a:lnTo>
                      <a:lnTo>
                        <a:pt x="1128" y="7292"/>
                      </a:lnTo>
                      <a:lnTo>
                        <a:pt x="1052" y="7251"/>
                      </a:lnTo>
                      <a:lnTo>
                        <a:pt x="976" y="7208"/>
                      </a:lnTo>
                      <a:lnTo>
                        <a:pt x="903" y="7162"/>
                      </a:lnTo>
                      <a:lnTo>
                        <a:pt x="832" y="7113"/>
                      </a:lnTo>
                      <a:lnTo>
                        <a:pt x="762" y="7062"/>
                      </a:lnTo>
                      <a:lnTo>
                        <a:pt x="694" y="7008"/>
                      </a:lnTo>
                      <a:lnTo>
                        <a:pt x="629" y="6951"/>
                      </a:lnTo>
                      <a:lnTo>
                        <a:pt x="565" y="6892"/>
                      </a:lnTo>
                      <a:lnTo>
                        <a:pt x="505" y="6830"/>
                      </a:lnTo>
                      <a:lnTo>
                        <a:pt x="446" y="6766"/>
                      </a:lnTo>
                      <a:lnTo>
                        <a:pt x="390" y="6698"/>
                      </a:lnTo>
                      <a:lnTo>
                        <a:pt x="335" y="6629"/>
                      </a:lnTo>
                      <a:lnTo>
                        <a:pt x="284" y="6557"/>
                      </a:lnTo>
                      <a:lnTo>
                        <a:pt x="236" y="6482"/>
                      </a:lnTo>
                      <a:lnTo>
                        <a:pt x="190" y="6404"/>
                      </a:lnTo>
                      <a:lnTo>
                        <a:pt x="165" y="6352"/>
                      </a:lnTo>
                      <a:lnTo>
                        <a:pt x="142" y="6300"/>
                      </a:lnTo>
                      <a:lnTo>
                        <a:pt x="120" y="6247"/>
                      </a:lnTo>
                      <a:lnTo>
                        <a:pt x="100" y="6195"/>
                      </a:lnTo>
                      <a:lnTo>
                        <a:pt x="83" y="6144"/>
                      </a:lnTo>
                      <a:lnTo>
                        <a:pt x="67" y="6092"/>
                      </a:lnTo>
                      <a:lnTo>
                        <a:pt x="52" y="6040"/>
                      </a:lnTo>
                      <a:lnTo>
                        <a:pt x="39" y="5989"/>
                      </a:lnTo>
                      <a:lnTo>
                        <a:pt x="29" y="5937"/>
                      </a:lnTo>
                      <a:lnTo>
                        <a:pt x="19" y="5886"/>
                      </a:lnTo>
                      <a:lnTo>
                        <a:pt x="11" y="5834"/>
                      </a:lnTo>
                      <a:lnTo>
                        <a:pt x="6" y="5783"/>
                      </a:lnTo>
                      <a:lnTo>
                        <a:pt x="2" y="5732"/>
                      </a:lnTo>
                      <a:lnTo>
                        <a:pt x="0" y="5680"/>
                      </a:lnTo>
                      <a:lnTo>
                        <a:pt x="0" y="5629"/>
                      </a:lnTo>
                      <a:lnTo>
                        <a:pt x="1" y="5578"/>
                      </a:lnTo>
                      <a:lnTo>
                        <a:pt x="5" y="5527"/>
                      </a:lnTo>
                      <a:lnTo>
                        <a:pt x="10" y="5476"/>
                      </a:lnTo>
                      <a:lnTo>
                        <a:pt x="16" y="5425"/>
                      </a:lnTo>
                      <a:lnTo>
                        <a:pt x="26" y="5374"/>
                      </a:lnTo>
                      <a:lnTo>
                        <a:pt x="36" y="5323"/>
                      </a:lnTo>
                      <a:lnTo>
                        <a:pt x="48" y="5272"/>
                      </a:lnTo>
                      <a:lnTo>
                        <a:pt x="62" y="5221"/>
                      </a:lnTo>
                      <a:lnTo>
                        <a:pt x="78" y="5171"/>
                      </a:lnTo>
                      <a:lnTo>
                        <a:pt x="95" y="5120"/>
                      </a:lnTo>
                      <a:lnTo>
                        <a:pt x="115" y="5069"/>
                      </a:lnTo>
                      <a:lnTo>
                        <a:pt x="135" y="5018"/>
                      </a:lnTo>
                      <a:lnTo>
                        <a:pt x="158" y="4968"/>
                      </a:lnTo>
                      <a:lnTo>
                        <a:pt x="183" y="4917"/>
                      </a:lnTo>
                      <a:lnTo>
                        <a:pt x="209" y="4867"/>
                      </a:lnTo>
                      <a:lnTo>
                        <a:pt x="238" y="4815"/>
                      </a:lnTo>
                      <a:lnTo>
                        <a:pt x="268" y="4764"/>
                      </a:lnTo>
                      <a:lnTo>
                        <a:pt x="308" y="4708"/>
                      </a:lnTo>
                      <a:lnTo>
                        <a:pt x="349" y="4654"/>
                      </a:lnTo>
                      <a:lnTo>
                        <a:pt x="392" y="4601"/>
                      </a:lnTo>
                      <a:lnTo>
                        <a:pt x="436" y="4550"/>
                      </a:lnTo>
                      <a:lnTo>
                        <a:pt x="481" y="4500"/>
                      </a:lnTo>
                      <a:lnTo>
                        <a:pt x="527" y="4452"/>
                      </a:lnTo>
                      <a:lnTo>
                        <a:pt x="575" y="4406"/>
                      </a:lnTo>
                      <a:lnTo>
                        <a:pt x="625" y="4361"/>
                      </a:lnTo>
                      <a:lnTo>
                        <a:pt x="675" y="4318"/>
                      </a:lnTo>
                      <a:lnTo>
                        <a:pt x="726" y="4276"/>
                      </a:lnTo>
                      <a:lnTo>
                        <a:pt x="778" y="4236"/>
                      </a:lnTo>
                      <a:lnTo>
                        <a:pt x="832" y="4198"/>
                      </a:lnTo>
                      <a:lnTo>
                        <a:pt x="886" y="4161"/>
                      </a:lnTo>
                      <a:lnTo>
                        <a:pt x="941" y="4126"/>
                      </a:lnTo>
                      <a:lnTo>
                        <a:pt x="999" y="4092"/>
                      </a:lnTo>
                      <a:lnTo>
                        <a:pt x="1055" y="4060"/>
                      </a:lnTo>
                      <a:lnTo>
                        <a:pt x="1114" y="4029"/>
                      </a:lnTo>
                      <a:lnTo>
                        <a:pt x="1173" y="4000"/>
                      </a:lnTo>
                      <a:lnTo>
                        <a:pt x="1233" y="3973"/>
                      </a:lnTo>
                      <a:lnTo>
                        <a:pt x="1293" y="3947"/>
                      </a:lnTo>
                      <a:lnTo>
                        <a:pt x="1355" y="3922"/>
                      </a:lnTo>
                      <a:lnTo>
                        <a:pt x="1417" y="3899"/>
                      </a:lnTo>
                      <a:lnTo>
                        <a:pt x="1480" y="3877"/>
                      </a:lnTo>
                      <a:lnTo>
                        <a:pt x="1543" y="3857"/>
                      </a:lnTo>
                      <a:lnTo>
                        <a:pt x="1608" y="3839"/>
                      </a:lnTo>
                      <a:lnTo>
                        <a:pt x="1673" y="3822"/>
                      </a:lnTo>
                      <a:lnTo>
                        <a:pt x="1737" y="3806"/>
                      </a:lnTo>
                      <a:lnTo>
                        <a:pt x="1803" y="3792"/>
                      </a:lnTo>
                      <a:lnTo>
                        <a:pt x="1869" y="3779"/>
                      </a:lnTo>
                      <a:lnTo>
                        <a:pt x="1936" y="3768"/>
                      </a:lnTo>
                      <a:lnTo>
                        <a:pt x="2003" y="3758"/>
                      </a:lnTo>
                      <a:lnTo>
                        <a:pt x="2070" y="3750"/>
                      </a:lnTo>
                      <a:lnTo>
                        <a:pt x="2037" y="3718"/>
                      </a:lnTo>
                      <a:lnTo>
                        <a:pt x="2005" y="3685"/>
                      </a:lnTo>
                      <a:lnTo>
                        <a:pt x="1974" y="3651"/>
                      </a:lnTo>
                      <a:lnTo>
                        <a:pt x="1945" y="3618"/>
                      </a:lnTo>
                      <a:lnTo>
                        <a:pt x="1919" y="3583"/>
                      </a:lnTo>
                      <a:lnTo>
                        <a:pt x="1893" y="3549"/>
                      </a:lnTo>
                      <a:lnTo>
                        <a:pt x="1868" y="3514"/>
                      </a:lnTo>
                      <a:lnTo>
                        <a:pt x="1846" y="3478"/>
                      </a:lnTo>
                      <a:lnTo>
                        <a:pt x="1825" y="3442"/>
                      </a:lnTo>
                      <a:lnTo>
                        <a:pt x="1806" y="3405"/>
                      </a:lnTo>
                      <a:lnTo>
                        <a:pt x="1787" y="3368"/>
                      </a:lnTo>
                      <a:lnTo>
                        <a:pt x="1772" y="3330"/>
                      </a:lnTo>
                      <a:lnTo>
                        <a:pt x="1758" y="3293"/>
                      </a:lnTo>
                      <a:lnTo>
                        <a:pt x="1744" y="3254"/>
                      </a:lnTo>
                      <a:lnTo>
                        <a:pt x="1733" y="3216"/>
                      </a:lnTo>
                      <a:lnTo>
                        <a:pt x="1724" y="3176"/>
                      </a:lnTo>
                      <a:lnTo>
                        <a:pt x="1717" y="3137"/>
                      </a:lnTo>
                      <a:lnTo>
                        <a:pt x="1711" y="3097"/>
                      </a:lnTo>
                      <a:lnTo>
                        <a:pt x="1706" y="3058"/>
                      </a:lnTo>
                      <a:lnTo>
                        <a:pt x="1703" y="3017"/>
                      </a:lnTo>
                      <a:lnTo>
                        <a:pt x="1702" y="2975"/>
                      </a:lnTo>
                      <a:lnTo>
                        <a:pt x="1703" y="2935"/>
                      </a:lnTo>
                      <a:lnTo>
                        <a:pt x="1706" y="2893"/>
                      </a:lnTo>
                      <a:lnTo>
                        <a:pt x="1712" y="2851"/>
                      </a:lnTo>
                      <a:lnTo>
                        <a:pt x="1718" y="2809"/>
                      </a:lnTo>
                      <a:lnTo>
                        <a:pt x="1726" y="2767"/>
                      </a:lnTo>
                      <a:lnTo>
                        <a:pt x="1736" y="2724"/>
                      </a:lnTo>
                      <a:lnTo>
                        <a:pt x="1747" y="2681"/>
                      </a:lnTo>
                      <a:lnTo>
                        <a:pt x="1761" y="2638"/>
                      </a:lnTo>
                      <a:lnTo>
                        <a:pt x="1777" y="2594"/>
                      </a:lnTo>
                      <a:lnTo>
                        <a:pt x="1795" y="2550"/>
                      </a:lnTo>
                      <a:lnTo>
                        <a:pt x="1813" y="2507"/>
                      </a:lnTo>
                      <a:lnTo>
                        <a:pt x="1843" y="2454"/>
                      </a:lnTo>
                      <a:lnTo>
                        <a:pt x="1874" y="2404"/>
                      </a:lnTo>
                      <a:lnTo>
                        <a:pt x="1906" y="2354"/>
                      </a:lnTo>
                      <a:lnTo>
                        <a:pt x="1940" y="2306"/>
                      </a:lnTo>
                      <a:lnTo>
                        <a:pt x="1976" y="2260"/>
                      </a:lnTo>
                      <a:lnTo>
                        <a:pt x="2013" y="2215"/>
                      </a:lnTo>
                      <a:lnTo>
                        <a:pt x="2052" y="2171"/>
                      </a:lnTo>
                      <a:lnTo>
                        <a:pt x="2092" y="2129"/>
                      </a:lnTo>
                      <a:lnTo>
                        <a:pt x="2133" y="2088"/>
                      </a:lnTo>
                      <a:lnTo>
                        <a:pt x="2175" y="2048"/>
                      </a:lnTo>
                      <a:lnTo>
                        <a:pt x="2219" y="2011"/>
                      </a:lnTo>
                      <a:lnTo>
                        <a:pt x="2264" y="1973"/>
                      </a:lnTo>
                      <a:lnTo>
                        <a:pt x="2310" y="1938"/>
                      </a:lnTo>
                      <a:lnTo>
                        <a:pt x="2358" y="1904"/>
                      </a:lnTo>
                      <a:lnTo>
                        <a:pt x="2405" y="1871"/>
                      </a:lnTo>
                      <a:lnTo>
                        <a:pt x="2454" y="1839"/>
                      </a:lnTo>
                      <a:lnTo>
                        <a:pt x="2504" y="1809"/>
                      </a:lnTo>
                      <a:lnTo>
                        <a:pt x="2555" y="1780"/>
                      </a:lnTo>
                      <a:lnTo>
                        <a:pt x="2607" y="1752"/>
                      </a:lnTo>
                      <a:lnTo>
                        <a:pt x="2659" y="1725"/>
                      </a:lnTo>
                      <a:lnTo>
                        <a:pt x="2712" y="1699"/>
                      </a:lnTo>
                      <a:lnTo>
                        <a:pt x="2766" y="1675"/>
                      </a:lnTo>
                      <a:lnTo>
                        <a:pt x="2820" y="1651"/>
                      </a:lnTo>
                      <a:lnTo>
                        <a:pt x="2876" y="1629"/>
                      </a:lnTo>
                      <a:lnTo>
                        <a:pt x="2931" y="1607"/>
                      </a:lnTo>
                      <a:lnTo>
                        <a:pt x="2986" y="1587"/>
                      </a:lnTo>
                      <a:lnTo>
                        <a:pt x="3043" y="1568"/>
                      </a:lnTo>
                      <a:lnTo>
                        <a:pt x="3099" y="1550"/>
                      </a:lnTo>
                      <a:lnTo>
                        <a:pt x="3155" y="1533"/>
                      </a:lnTo>
                      <a:lnTo>
                        <a:pt x="3213" y="1516"/>
                      </a:lnTo>
                      <a:lnTo>
                        <a:pt x="3270" y="1502"/>
                      </a:lnTo>
                      <a:lnTo>
                        <a:pt x="3328" y="1487"/>
                      </a:lnTo>
                      <a:lnTo>
                        <a:pt x="3378" y="1477"/>
                      </a:lnTo>
                      <a:lnTo>
                        <a:pt x="3427" y="1467"/>
                      </a:lnTo>
                      <a:lnTo>
                        <a:pt x="3477" y="1458"/>
                      </a:lnTo>
                      <a:lnTo>
                        <a:pt x="3528" y="1451"/>
                      </a:lnTo>
                      <a:lnTo>
                        <a:pt x="3577" y="1442"/>
                      </a:lnTo>
                      <a:lnTo>
                        <a:pt x="3627" y="1436"/>
                      </a:lnTo>
                      <a:lnTo>
                        <a:pt x="3677" y="1430"/>
                      </a:lnTo>
                      <a:lnTo>
                        <a:pt x="3727" y="1425"/>
                      </a:lnTo>
                      <a:lnTo>
                        <a:pt x="3777" y="1420"/>
                      </a:lnTo>
                      <a:lnTo>
                        <a:pt x="3827" y="1416"/>
                      </a:lnTo>
                      <a:lnTo>
                        <a:pt x="3876" y="1413"/>
                      </a:lnTo>
                      <a:lnTo>
                        <a:pt x="3927" y="1411"/>
                      </a:lnTo>
                      <a:lnTo>
                        <a:pt x="3977" y="1410"/>
                      </a:lnTo>
                      <a:lnTo>
                        <a:pt x="4026" y="1409"/>
                      </a:lnTo>
                      <a:lnTo>
                        <a:pt x="4076" y="1409"/>
                      </a:lnTo>
                      <a:lnTo>
                        <a:pt x="4126" y="1410"/>
                      </a:lnTo>
                      <a:lnTo>
                        <a:pt x="4176" y="1412"/>
                      </a:lnTo>
                      <a:lnTo>
                        <a:pt x="4225" y="1414"/>
                      </a:lnTo>
                      <a:lnTo>
                        <a:pt x="4275" y="1417"/>
                      </a:lnTo>
                      <a:lnTo>
                        <a:pt x="4325" y="1422"/>
                      </a:lnTo>
                      <a:lnTo>
                        <a:pt x="4374" y="1427"/>
                      </a:lnTo>
                      <a:lnTo>
                        <a:pt x="4423" y="1433"/>
                      </a:lnTo>
                      <a:lnTo>
                        <a:pt x="4472" y="1439"/>
                      </a:lnTo>
                      <a:lnTo>
                        <a:pt x="4521" y="1447"/>
                      </a:lnTo>
                      <a:lnTo>
                        <a:pt x="4571" y="1455"/>
                      </a:lnTo>
                      <a:lnTo>
                        <a:pt x="4620" y="1464"/>
                      </a:lnTo>
                      <a:lnTo>
                        <a:pt x="4669" y="1475"/>
                      </a:lnTo>
                      <a:lnTo>
                        <a:pt x="4718" y="1485"/>
                      </a:lnTo>
                      <a:lnTo>
                        <a:pt x="4767" y="1498"/>
                      </a:lnTo>
                      <a:lnTo>
                        <a:pt x="4816" y="1510"/>
                      </a:lnTo>
                      <a:lnTo>
                        <a:pt x="4864" y="1524"/>
                      </a:lnTo>
                      <a:lnTo>
                        <a:pt x="4912" y="1537"/>
                      </a:lnTo>
                      <a:lnTo>
                        <a:pt x="4927" y="1532"/>
                      </a:lnTo>
                      <a:lnTo>
                        <a:pt x="4940" y="1526"/>
                      </a:lnTo>
                      <a:lnTo>
                        <a:pt x="4953" y="1519"/>
                      </a:lnTo>
                      <a:lnTo>
                        <a:pt x="4968" y="1513"/>
                      </a:lnTo>
                      <a:lnTo>
                        <a:pt x="4981" y="1508"/>
                      </a:lnTo>
                      <a:lnTo>
                        <a:pt x="4995" y="1502"/>
                      </a:lnTo>
                      <a:lnTo>
                        <a:pt x="5009" y="1495"/>
                      </a:lnTo>
                      <a:lnTo>
                        <a:pt x="5023" y="1490"/>
                      </a:lnTo>
                      <a:lnTo>
                        <a:pt x="5070" y="1401"/>
                      </a:lnTo>
                      <a:lnTo>
                        <a:pt x="5121" y="1315"/>
                      </a:lnTo>
                      <a:lnTo>
                        <a:pt x="5177" y="1232"/>
                      </a:lnTo>
                      <a:lnTo>
                        <a:pt x="5237" y="1153"/>
                      </a:lnTo>
                      <a:lnTo>
                        <a:pt x="5301" y="1077"/>
                      </a:lnTo>
                      <a:lnTo>
                        <a:pt x="5367" y="1003"/>
                      </a:lnTo>
                      <a:lnTo>
                        <a:pt x="5438" y="932"/>
                      </a:lnTo>
                      <a:lnTo>
                        <a:pt x="5513" y="865"/>
                      </a:lnTo>
                      <a:lnTo>
                        <a:pt x="5590" y="801"/>
                      </a:lnTo>
                      <a:lnTo>
                        <a:pt x="5670" y="738"/>
                      </a:lnTo>
                      <a:lnTo>
                        <a:pt x="5752" y="680"/>
                      </a:lnTo>
                      <a:lnTo>
                        <a:pt x="5838" y="624"/>
                      </a:lnTo>
                      <a:lnTo>
                        <a:pt x="5925" y="571"/>
                      </a:lnTo>
                      <a:lnTo>
                        <a:pt x="6015" y="520"/>
                      </a:lnTo>
                      <a:lnTo>
                        <a:pt x="6107" y="472"/>
                      </a:lnTo>
                      <a:lnTo>
                        <a:pt x="6200" y="426"/>
                      </a:lnTo>
                      <a:lnTo>
                        <a:pt x="6295" y="383"/>
                      </a:lnTo>
                      <a:lnTo>
                        <a:pt x="6391" y="343"/>
                      </a:lnTo>
                      <a:lnTo>
                        <a:pt x="6488" y="305"/>
                      </a:lnTo>
                      <a:lnTo>
                        <a:pt x="6587" y="269"/>
                      </a:lnTo>
                      <a:lnTo>
                        <a:pt x="6686" y="235"/>
                      </a:lnTo>
                      <a:lnTo>
                        <a:pt x="6787" y="205"/>
                      </a:lnTo>
                      <a:lnTo>
                        <a:pt x="6886" y="176"/>
                      </a:lnTo>
                      <a:lnTo>
                        <a:pt x="6988" y="150"/>
                      </a:lnTo>
                      <a:lnTo>
                        <a:pt x="7088" y="126"/>
                      </a:lnTo>
                      <a:lnTo>
                        <a:pt x="7189" y="103"/>
                      </a:lnTo>
                      <a:lnTo>
                        <a:pt x="7289" y="83"/>
                      </a:lnTo>
                      <a:lnTo>
                        <a:pt x="7389" y="66"/>
                      </a:lnTo>
                      <a:lnTo>
                        <a:pt x="7488" y="50"/>
                      </a:lnTo>
                      <a:lnTo>
                        <a:pt x="7587" y="36"/>
                      </a:lnTo>
                      <a:lnTo>
                        <a:pt x="7683" y="24"/>
                      </a:lnTo>
                      <a:lnTo>
                        <a:pt x="7779" y="14"/>
                      </a:lnTo>
                      <a:lnTo>
                        <a:pt x="7866" y="8"/>
                      </a:lnTo>
                      <a:lnTo>
                        <a:pt x="7952" y="4"/>
                      </a:lnTo>
                      <a:lnTo>
                        <a:pt x="8038" y="2"/>
                      </a:lnTo>
                      <a:lnTo>
                        <a:pt x="8125" y="0"/>
                      </a:lnTo>
                      <a:lnTo>
                        <a:pt x="8212" y="0"/>
                      </a:lnTo>
                      <a:lnTo>
                        <a:pt x="8299" y="1"/>
                      </a:lnTo>
                      <a:lnTo>
                        <a:pt x="8387" y="4"/>
                      </a:lnTo>
                      <a:lnTo>
                        <a:pt x="8475" y="8"/>
                      </a:lnTo>
                      <a:lnTo>
                        <a:pt x="8562" y="15"/>
                      </a:lnTo>
                      <a:lnTo>
                        <a:pt x="8650" y="22"/>
                      </a:lnTo>
                      <a:lnTo>
                        <a:pt x="8737" y="31"/>
                      </a:lnTo>
                      <a:lnTo>
                        <a:pt x="8824" y="42"/>
                      </a:lnTo>
                      <a:lnTo>
                        <a:pt x="8912" y="55"/>
                      </a:lnTo>
                      <a:lnTo>
                        <a:pt x="8998" y="69"/>
                      </a:lnTo>
                      <a:lnTo>
                        <a:pt x="9084" y="85"/>
                      </a:lnTo>
                      <a:lnTo>
                        <a:pt x="9170" y="104"/>
                      </a:lnTo>
                      <a:lnTo>
                        <a:pt x="9255" y="124"/>
                      </a:lnTo>
                      <a:lnTo>
                        <a:pt x="9339" y="146"/>
                      </a:lnTo>
                      <a:lnTo>
                        <a:pt x="9422" y="171"/>
                      </a:lnTo>
                      <a:lnTo>
                        <a:pt x="9505" y="197"/>
                      </a:lnTo>
                      <a:lnTo>
                        <a:pt x="9587" y="225"/>
                      </a:lnTo>
                      <a:lnTo>
                        <a:pt x="9668" y="256"/>
                      </a:lnTo>
                      <a:lnTo>
                        <a:pt x="9748" y="290"/>
                      </a:lnTo>
                      <a:lnTo>
                        <a:pt x="9827" y="324"/>
                      </a:lnTo>
                      <a:lnTo>
                        <a:pt x="9904" y="361"/>
                      </a:lnTo>
                      <a:lnTo>
                        <a:pt x="9981" y="402"/>
                      </a:lnTo>
                      <a:lnTo>
                        <a:pt x="10056" y="445"/>
                      </a:lnTo>
                      <a:lnTo>
                        <a:pt x="10130" y="489"/>
                      </a:lnTo>
                      <a:lnTo>
                        <a:pt x="10202" y="536"/>
                      </a:lnTo>
                      <a:lnTo>
                        <a:pt x="10272" y="586"/>
                      </a:lnTo>
                      <a:lnTo>
                        <a:pt x="10341" y="639"/>
                      </a:lnTo>
                      <a:lnTo>
                        <a:pt x="10409" y="695"/>
                      </a:lnTo>
                      <a:lnTo>
                        <a:pt x="10490" y="661"/>
                      </a:lnTo>
                      <a:lnTo>
                        <a:pt x="10572" y="633"/>
                      </a:lnTo>
                      <a:lnTo>
                        <a:pt x="10655" y="609"/>
                      </a:lnTo>
                      <a:lnTo>
                        <a:pt x="10739" y="589"/>
                      </a:lnTo>
                      <a:lnTo>
                        <a:pt x="10824" y="575"/>
                      </a:lnTo>
                      <a:lnTo>
                        <a:pt x="10910" y="563"/>
                      </a:lnTo>
                      <a:lnTo>
                        <a:pt x="10996" y="557"/>
                      </a:lnTo>
                      <a:lnTo>
                        <a:pt x="11083" y="554"/>
                      </a:lnTo>
                      <a:lnTo>
                        <a:pt x="11170" y="555"/>
                      </a:lnTo>
                      <a:lnTo>
                        <a:pt x="11256" y="559"/>
                      </a:lnTo>
                      <a:lnTo>
                        <a:pt x="11343" y="569"/>
                      </a:lnTo>
                      <a:lnTo>
                        <a:pt x="11429" y="581"/>
                      </a:lnTo>
                      <a:lnTo>
                        <a:pt x="11515" y="597"/>
                      </a:lnTo>
                      <a:lnTo>
                        <a:pt x="11600" y="615"/>
                      </a:lnTo>
                      <a:lnTo>
                        <a:pt x="11686" y="638"/>
                      </a:lnTo>
                      <a:lnTo>
                        <a:pt x="11770" y="664"/>
                      </a:lnTo>
                      <a:lnTo>
                        <a:pt x="11853" y="694"/>
                      </a:lnTo>
                      <a:lnTo>
                        <a:pt x="11936" y="726"/>
                      </a:lnTo>
                      <a:lnTo>
                        <a:pt x="12016" y="761"/>
                      </a:lnTo>
                      <a:lnTo>
                        <a:pt x="12096" y="800"/>
                      </a:lnTo>
                      <a:lnTo>
                        <a:pt x="12174" y="840"/>
                      </a:lnTo>
                      <a:lnTo>
                        <a:pt x="12251" y="884"/>
                      </a:lnTo>
                      <a:lnTo>
                        <a:pt x="12325" y="931"/>
                      </a:lnTo>
                      <a:lnTo>
                        <a:pt x="12398" y="980"/>
                      </a:lnTo>
                      <a:lnTo>
                        <a:pt x="12469" y="1031"/>
                      </a:lnTo>
                      <a:lnTo>
                        <a:pt x="12537" y="1085"/>
                      </a:lnTo>
                      <a:lnTo>
                        <a:pt x="12603" y="1141"/>
                      </a:lnTo>
                      <a:lnTo>
                        <a:pt x="12667" y="1200"/>
                      </a:lnTo>
                      <a:lnTo>
                        <a:pt x="12727" y="1261"/>
                      </a:lnTo>
                      <a:lnTo>
                        <a:pt x="12786" y="1324"/>
                      </a:lnTo>
                      <a:lnTo>
                        <a:pt x="12841" y="1388"/>
                      </a:lnTo>
                      <a:lnTo>
                        <a:pt x="12894" y="1455"/>
                      </a:lnTo>
                      <a:close/>
                    </a:path>
                  </a:pathLst>
                </a:custGeom>
                <a:solidFill>
                  <a:srgbClr val="9ac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1" name=""/>
              <p:cNvSpPr/>
              <p:nvPr/>
            </p:nvSpPr>
            <p:spPr>
              <a:xfrm>
                <a:off x="4093920" y="2901960"/>
                <a:ext cx="898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400" rIns="77400" tIns="38880" bIns="38880" anchor="ctr">
                <a:noAutofit/>
              </a:bodyPr>
              <a:p>
                <a:pPr algn="ctr">
                  <a:tabLst>
                    <a:tab algn="l" pos="0"/>
                    <a:tab algn="l" pos="776160"/>
                    <a:tab algn="l" pos="1552680"/>
                    <a:tab algn="l" pos="2328840"/>
                    <a:tab algn="l" pos="3105000"/>
                    <a:tab algn="l" pos="3881520"/>
                    <a:tab algn="l" pos="4657680"/>
                    <a:tab algn="l" pos="5433840"/>
                    <a:tab algn="l" pos="6210360"/>
                    <a:tab algn="l" pos="6986520"/>
                    <a:tab algn="l" pos="7763040"/>
                    <a:tab algn="l" pos="8539200"/>
                    <a:tab algn="l" pos="9315360"/>
                    <a:tab algn="l" pos="10091880"/>
                    <a:tab algn="l" pos="1086804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P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76160"/>
                    <a:tab algn="l" pos="1552680"/>
                    <a:tab algn="l" pos="2328840"/>
                    <a:tab algn="l" pos="3105000"/>
                    <a:tab algn="l" pos="3881520"/>
                    <a:tab algn="l" pos="4657680"/>
                    <a:tab algn="l" pos="5433840"/>
                    <a:tab algn="l" pos="6210360"/>
                    <a:tab algn="l" pos="6986520"/>
                    <a:tab algn="l" pos="7763040"/>
                    <a:tab algn="l" pos="8539200"/>
                    <a:tab algn="l" pos="9315360"/>
                    <a:tab algn="l" pos="10091880"/>
                    <a:tab algn="l" pos="108680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2" name=""/>
            <p:cNvGrpSpPr/>
            <p:nvPr/>
          </p:nvGrpSpPr>
          <p:grpSpPr>
            <a:xfrm>
              <a:off x="7053120" y="3962520"/>
              <a:ext cx="1100160" cy="728640"/>
              <a:chOff x="7053120" y="3962520"/>
              <a:chExt cx="1100160" cy="728640"/>
            </a:xfrm>
          </p:grpSpPr>
          <p:sp>
            <p:nvSpPr>
              <p:cNvPr id="2893" name=""/>
              <p:cNvSpPr/>
              <p:nvPr/>
            </p:nvSpPr>
            <p:spPr>
              <a:xfrm>
                <a:off x="7053120" y="396252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281720" y="419112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5" name=""/>
            <p:cNvGrpSpPr/>
            <p:nvPr/>
          </p:nvGrpSpPr>
          <p:grpSpPr>
            <a:xfrm>
              <a:off x="1752120" y="3124080"/>
              <a:ext cx="5639400" cy="1067040"/>
              <a:chOff x="1752120" y="3124080"/>
              <a:chExt cx="5639400" cy="1067040"/>
            </a:xfrm>
          </p:grpSpPr>
          <p:sp>
            <p:nvSpPr>
              <p:cNvPr id="2896" name=""/>
              <p:cNvSpPr/>
              <p:nvPr/>
            </p:nvSpPr>
            <p:spPr>
              <a:xfrm flipH="1">
                <a:off x="1752120" y="3200400"/>
                <a:ext cx="38124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010280" y="3233880"/>
                <a:ext cx="38124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2819520" y="3124080"/>
                <a:ext cx="99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57800" y="3124080"/>
                <a:ext cx="99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0" name=""/>
            <p:cNvSpPr/>
            <p:nvPr/>
          </p:nvSpPr>
          <p:spPr>
            <a:xfrm>
              <a:off x="380880" y="2971800"/>
              <a:ext cx="19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.0.1.1/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2438280" y="32608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.2.2.1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2057400" y="25146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019920" y="25146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T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410080" y="32608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.2.2.2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5" name=""/>
            <p:cNvGrpSpPr/>
            <p:nvPr/>
          </p:nvGrpSpPr>
          <p:grpSpPr>
            <a:xfrm>
              <a:off x="6248520" y="2895480"/>
              <a:ext cx="761760" cy="456840"/>
              <a:chOff x="6248520" y="2895480"/>
              <a:chExt cx="761760" cy="456840"/>
            </a:xfrm>
          </p:grpSpPr>
          <p:sp>
            <p:nvSpPr>
              <p:cNvPr id="2906" name=""/>
              <p:cNvSpPr/>
              <p:nvPr/>
            </p:nvSpPr>
            <p:spPr>
              <a:xfrm>
                <a:off x="6248520" y="3022560"/>
                <a:ext cx="76176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6248520" y="2895480"/>
                <a:ext cx="75852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8" name=""/>
              <p:cNvGrpSpPr/>
              <p:nvPr/>
            </p:nvGrpSpPr>
            <p:grpSpPr>
              <a:xfrm>
                <a:off x="6366600" y="2925000"/>
                <a:ext cx="523080" cy="190080"/>
                <a:chOff x="6366600" y="2925000"/>
                <a:chExt cx="523080" cy="190080"/>
              </a:xfrm>
            </p:grpSpPr>
            <p:sp>
              <p:nvSpPr>
                <p:cNvPr id="2909" name=""/>
                <p:cNvSpPr/>
                <p:nvPr/>
              </p:nvSpPr>
              <p:spPr>
                <a:xfrm>
                  <a:off x="663768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663768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636660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636660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637920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637920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662796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662796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664272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664272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637164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637164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638424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638424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663336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663336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25" name=""/>
            <p:cNvGrpSpPr/>
            <p:nvPr/>
          </p:nvGrpSpPr>
          <p:grpSpPr>
            <a:xfrm>
              <a:off x="2057400" y="2895480"/>
              <a:ext cx="762120" cy="456840"/>
              <a:chOff x="2057400" y="2895480"/>
              <a:chExt cx="762120" cy="456840"/>
            </a:xfrm>
          </p:grpSpPr>
          <p:sp>
            <p:nvSpPr>
              <p:cNvPr id="2926" name=""/>
              <p:cNvSpPr/>
              <p:nvPr/>
            </p:nvSpPr>
            <p:spPr>
              <a:xfrm>
                <a:off x="2057400" y="3022560"/>
                <a:ext cx="76212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2057400" y="2895480"/>
                <a:ext cx="75888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8" name=""/>
              <p:cNvGrpSpPr/>
              <p:nvPr/>
            </p:nvGrpSpPr>
            <p:grpSpPr>
              <a:xfrm>
                <a:off x="2175480" y="2925000"/>
                <a:ext cx="523440" cy="190080"/>
                <a:chOff x="2175480" y="2925000"/>
                <a:chExt cx="523440" cy="19008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244656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244656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217548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217548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218808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218808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243720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243720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245196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245196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218052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218052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219312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219312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244224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244224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45" name=""/>
            <p:cNvSpPr/>
            <p:nvPr/>
          </p:nvSpPr>
          <p:spPr>
            <a:xfrm>
              <a:off x="7010280" y="29718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.0.2.1/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6" name=""/>
            <p:cNvGrpSpPr/>
            <p:nvPr/>
          </p:nvGrpSpPr>
          <p:grpSpPr>
            <a:xfrm>
              <a:off x="957240" y="3962520"/>
              <a:ext cx="1100160" cy="728640"/>
              <a:chOff x="957240" y="3962520"/>
              <a:chExt cx="1100160" cy="728640"/>
            </a:xfrm>
          </p:grpSpPr>
          <p:sp>
            <p:nvSpPr>
              <p:cNvPr id="2947" name=""/>
              <p:cNvSpPr/>
              <p:nvPr/>
            </p:nvSpPr>
            <p:spPr>
              <a:xfrm>
                <a:off x="957240" y="396252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1185840" y="419112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uto-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RI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协议的自动聚合功能就是聚合子网信息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no auto-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GRP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适应更大的网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更短的收敛时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综合路由权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路由权值的计算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延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带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占有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可信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跳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最大传输单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稳定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水平分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毒性逆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触发更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路由保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GR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主要缺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只以广播报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不支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VL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静态路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ip route ip_address mask|masklen 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interface_name|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gateway_address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目标网络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10.3.0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子网掩码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下一跳地址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1.1.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Ip route 10.3.0.0 16 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serial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60" name=""/>
          <p:cNvGrpSpPr/>
          <p:nvPr/>
        </p:nvGrpSpPr>
        <p:grpSpPr>
          <a:xfrm>
            <a:off x="380880" y="2514600"/>
            <a:ext cx="8458200" cy="2176560"/>
            <a:chOff x="380880" y="2514600"/>
            <a:chExt cx="8458200" cy="2176560"/>
          </a:xfrm>
        </p:grpSpPr>
        <p:grpSp>
          <p:nvGrpSpPr>
            <p:cNvPr id="2961" name=""/>
            <p:cNvGrpSpPr/>
            <p:nvPr/>
          </p:nvGrpSpPr>
          <p:grpSpPr>
            <a:xfrm>
              <a:off x="3657600" y="2743200"/>
              <a:ext cx="1973160" cy="885240"/>
              <a:chOff x="3657600" y="2743200"/>
              <a:chExt cx="1973160" cy="885240"/>
            </a:xfrm>
          </p:grpSpPr>
          <p:grpSp>
            <p:nvGrpSpPr>
              <p:cNvPr id="2962" name=""/>
              <p:cNvGrpSpPr/>
              <p:nvPr/>
            </p:nvGrpSpPr>
            <p:grpSpPr>
              <a:xfrm>
                <a:off x="3657600" y="2743200"/>
                <a:ext cx="1973160" cy="885240"/>
                <a:chOff x="3657600" y="2743200"/>
                <a:chExt cx="1973160" cy="885240"/>
              </a:xfrm>
            </p:grpSpPr>
            <p:sp>
              <p:nvSpPr>
                <p:cNvPr id="2963" name=""/>
                <p:cNvSpPr/>
                <p:nvPr/>
              </p:nvSpPr>
              <p:spPr>
                <a:xfrm>
                  <a:off x="3657600" y="2881440"/>
                  <a:ext cx="1973160" cy="74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9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5205960" y="2940120"/>
                  <a:ext cx="27000" cy="51840"/>
                </a:xfrm>
                <a:custGeom>
                  <a:avLst/>
                  <a:gdLst/>
                  <a:ahLst/>
                  <a:rect l="l" t="t" r="r" b="b"/>
                  <a:pathLst>
                    <a:path w="284" h="969">
                      <a:moveTo>
                        <a:pt x="284" y="0"/>
                      </a:moveTo>
                      <a:lnTo>
                        <a:pt x="70" y="780"/>
                      </a:lnTo>
                      <a:lnTo>
                        <a:pt x="55" y="828"/>
                      </a:lnTo>
                      <a:lnTo>
                        <a:pt x="39" y="875"/>
                      </a:lnTo>
                      <a:lnTo>
                        <a:pt x="21" y="922"/>
                      </a:lnTo>
                      <a:lnTo>
                        <a:pt x="0" y="969"/>
                      </a:lnTo>
                      <a:lnTo>
                        <a:pt x="212" y="194"/>
                      </a:lnTo>
                      <a:lnTo>
                        <a:pt x="234" y="147"/>
                      </a:lnTo>
                      <a:lnTo>
                        <a:pt x="252" y="99"/>
                      </a:lnTo>
                      <a:lnTo>
                        <a:pt x="270" y="50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5196240" y="2950200"/>
                  <a:ext cx="29880" cy="51840"/>
                </a:xfrm>
                <a:custGeom>
                  <a:avLst/>
                  <a:gdLst/>
                  <a:ahLst/>
                  <a:rect l="l" t="t" r="r" b="b"/>
                  <a:pathLst>
                    <a:path w="311" h="952">
                      <a:moveTo>
                        <a:pt x="311" y="0"/>
                      </a:moveTo>
                      <a:lnTo>
                        <a:pt x="99" y="775"/>
                      </a:lnTo>
                      <a:lnTo>
                        <a:pt x="78" y="819"/>
                      </a:lnTo>
                      <a:lnTo>
                        <a:pt x="53" y="864"/>
                      </a:lnTo>
                      <a:lnTo>
                        <a:pt x="27" y="908"/>
                      </a:lnTo>
                      <a:lnTo>
                        <a:pt x="0" y="952"/>
                      </a:lnTo>
                      <a:lnTo>
                        <a:pt x="210" y="181"/>
                      </a:lnTo>
                      <a:lnTo>
                        <a:pt x="238" y="137"/>
                      </a:lnTo>
                      <a:lnTo>
                        <a:pt x="264" y="92"/>
                      </a:lnTo>
                      <a:lnTo>
                        <a:pt x="289" y="47"/>
                      </a:lnTo>
                      <a:lnTo>
                        <a:pt x="311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5183640" y="2960640"/>
                  <a:ext cx="32760" cy="49320"/>
                </a:xfrm>
                <a:custGeom>
                  <a:avLst/>
                  <a:gdLst/>
                  <a:ahLst/>
                  <a:rect l="l" t="t" r="r" b="b"/>
                  <a:pathLst>
                    <a:path w="338" h="935">
                      <a:moveTo>
                        <a:pt x="338" y="0"/>
                      </a:moveTo>
                      <a:lnTo>
                        <a:pt x="128" y="771"/>
                      </a:lnTo>
                      <a:lnTo>
                        <a:pt x="99" y="813"/>
                      </a:lnTo>
                      <a:lnTo>
                        <a:pt x="68" y="855"/>
                      </a:lnTo>
                      <a:lnTo>
                        <a:pt x="35" y="896"/>
                      </a:lnTo>
                      <a:lnTo>
                        <a:pt x="0" y="935"/>
                      </a:lnTo>
                      <a:lnTo>
                        <a:pt x="207" y="170"/>
                      </a:lnTo>
                      <a:lnTo>
                        <a:pt x="242" y="128"/>
                      </a:lnTo>
                      <a:lnTo>
                        <a:pt x="275" y="86"/>
                      </a:lnTo>
                      <a:lnTo>
                        <a:pt x="307" y="44"/>
                      </a:lnTo>
                      <a:lnTo>
                        <a:pt x="338" y="0"/>
                      </a:lnTo>
                      <a:close/>
                    </a:path>
                  </a:pathLst>
                </a:custGeom>
                <a:solidFill>
                  <a:srgbClr val="cbe7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5172840" y="2969280"/>
                  <a:ext cx="29880" cy="47520"/>
                </a:xfrm>
                <a:custGeom>
                  <a:avLst/>
                  <a:gdLst/>
                  <a:ahLst/>
                  <a:rect l="l" t="t" r="r" b="b"/>
                  <a:pathLst>
                    <a:path w="318" h="881">
                      <a:moveTo>
                        <a:pt x="318" y="0"/>
                      </a:moveTo>
                      <a:lnTo>
                        <a:pt x="111" y="765"/>
                      </a:lnTo>
                      <a:lnTo>
                        <a:pt x="76" y="805"/>
                      </a:lnTo>
                      <a:lnTo>
                        <a:pt x="39" y="843"/>
                      </a:lnTo>
                      <a:lnTo>
                        <a:pt x="0" y="881"/>
                      </a:lnTo>
                      <a:lnTo>
                        <a:pt x="202" y="117"/>
                      </a:lnTo>
                      <a:lnTo>
                        <a:pt x="243" y="79"/>
                      </a:lnTo>
                      <a:lnTo>
                        <a:pt x="281" y="39"/>
                      </a:lnTo>
                      <a:lnTo>
                        <a:pt x="318" y="0"/>
                      </a:lnTo>
                      <a:close/>
                    </a:path>
                  </a:pathLst>
                </a:custGeom>
                <a:solidFill>
                  <a:srgbClr val="c0e2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5160600" y="2975040"/>
                  <a:ext cx="31680" cy="47520"/>
                </a:xfrm>
                <a:custGeom>
                  <a:avLst/>
                  <a:gdLst/>
                  <a:ahLst/>
                  <a:rect l="l" t="t" r="r" b="b"/>
                  <a:pathLst>
                    <a:path w="330" h="871">
                      <a:moveTo>
                        <a:pt x="330" y="0"/>
                      </a:moveTo>
                      <a:lnTo>
                        <a:pt x="128" y="764"/>
                      </a:lnTo>
                      <a:lnTo>
                        <a:pt x="87" y="800"/>
                      </a:lnTo>
                      <a:lnTo>
                        <a:pt x="45" y="836"/>
                      </a:lnTo>
                      <a:lnTo>
                        <a:pt x="0" y="871"/>
                      </a:lnTo>
                      <a:lnTo>
                        <a:pt x="200" y="111"/>
                      </a:lnTo>
                      <a:lnTo>
                        <a:pt x="245" y="74"/>
                      </a:lnTo>
                      <a:lnTo>
                        <a:pt x="289" y="38"/>
                      </a:lnTo>
                      <a:lnTo>
                        <a:pt x="330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5276880" y="3102480"/>
                  <a:ext cx="31320" cy="47160"/>
                </a:xfrm>
                <a:custGeom>
                  <a:avLst/>
                  <a:gdLst/>
                  <a:ahLst/>
                  <a:rect l="l" t="t" r="r" b="b"/>
                  <a:pathLst>
                    <a:path w="317" h="895">
                      <a:moveTo>
                        <a:pt x="317" y="0"/>
                      </a:moveTo>
                      <a:lnTo>
                        <a:pt x="79" y="703"/>
                      </a:lnTo>
                      <a:lnTo>
                        <a:pt x="42" y="800"/>
                      </a:lnTo>
                      <a:lnTo>
                        <a:pt x="0" y="895"/>
                      </a:lnTo>
                      <a:lnTo>
                        <a:pt x="236" y="197"/>
                      </a:lnTo>
                      <a:lnTo>
                        <a:pt x="279" y="100"/>
                      </a:lnTo>
                      <a:lnTo>
                        <a:pt x="317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5267520" y="3112560"/>
                  <a:ext cx="32760" cy="47520"/>
                </a:xfrm>
                <a:custGeom>
                  <a:avLst/>
                  <a:gdLst/>
                  <a:ahLst/>
                  <a:rect l="l" t="t" r="r" b="b"/>
                  <a:pathLst>
                    <a:path w="334" h="882">
                      <a:moveTo>
                        <a:pt x="334" y="0"/>
                      </a:moveTo>
                      <a:lnTo>
                        <a:pt x="98" y="698"/>
                      </a:lnTo>
                      <a:lnTo>
                        <a:pt x="51" y="791"/>
                      </a:lnTo>
                      <a:lnTo>
                        <a:pt x="0" y="882"/>
                      </a:lnTo>
                      <a:lnTo>
                        <a:pt x="234" y="188"/>
                      </a:lnTo>
                      <a:lnTo>
                        <a:pt x="286" y="96"/>
                      </a:lnTo>
                      <a:lnTo>
                        <a:pt x="334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5256360" y="3122640"/>
                  <a:ext cx="33840" cy="46080"/>
                </a:xfrm>
                <a:custGeom>
                  <a:avLst/>
                  <a:gdLst/>
                  <a:ahLst/>
                  <a:rect l="l" t="t" r="r" b="b"/>
                  <a:pathLst>
                    <a:path w="348" h="869">
                      <a:moveTo>
                        <a:pt x="348" y="0"/>
                      </a:moveTo>
                      <a:lnTo>
                        <a:pt x="114" y="694"/>
                      </a:lnTo>
                      <a:lnTo>
                        <a:pt x="60" y="783"/>
                      </a:lnTo>
                      <a:lnTo>
                        <a:pt x="0" y="869"/>
                      </a:lnTo>
                      <a:lnTo>
                        <a:pt x="230" y="181"/>
                      </a:lnTo>
                      <a:lnTo>
                        <a:pt x="291" y="92"/>
                      </a:lnTo>
                      <a:lnTo>
                        <a:pt x="348" y="0"/>
                      </a:lnTo>
                      <a:close/>
                    </a:path>
                  </a:pathLst>
                </a:custGeom>
                <a:solidFill>
                  <a:srgbClr val="cee9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5244120" y="3133080"/>
                  <a:ext cx="35640" cy="44640"/>
                </a:xfrm>
                <a:custGeom>
                  <a:avLst/>
                  <a:gdLst/>
                  <a:ahLst/>
                  <a:rect l="l" t="t" r="r" b="b"/>
                  <a:pathLst>
                    <a:path w="361" h="854">
                      <a:moveTo>
                        <a:pt x="361" y="0"/>
                      </a:moveTo>
                      <a:lnTo>
                        <a:pt x="131" y="688"/>
                      </a:lnTo>
                      <a:lnTo>
                        <a:pt x="67" y="771"/>
                      </a:lnTo>
                      <a:lnTo>
                        <a:pt x="0" y="854"/>
                      </a:lnTo>
                      <a:lnTo>
                        <a:pt x="226" y="169"/>
                      </a:lnTo>
                      <a:lnTo>
                        <a:pt x="296" y="85"/>
                      </a:lnTo>
                      <a:lnTo>
                        <a:pt x="361" y="0"/>
                      </a:lnTo>
                      <a:close/>
                    </a:path>
                  </a:pathLst>
                </a:custGeom>
                <a:solidFill>
                  <a:srgbClr val="c6e5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5230440" y="3142080"/>
                  <a:ext cx="35640" cy="44640"/>
                </a:xfrm>
                <a:custGeom>
                  <a:avLst/>
                  <a:gdLst/>
                  <a:ahLst/>
                  <a:rect l="l" t="t" r="r" b="b"/>
                  <a:pathLst>
                    <a:path w="371" h="841">
                      <a:moveTo>
                        <a:pt x="371" y="0"/>
                      </a:moveTo>
                      <a:lnTo>
                        <a:pt x="145" y="685"/>
                      </a:lnTo>
                      <a:lnTo>
                        <a:pt x="75" y="764"/>
                      </a:lnTo>
                      <a:lnTo>
                        <a:pt x="0" y="841"/>
                      </a:lnTo>
                      <a:lnTo>
                        <a:pt x="224" y="161"/>
                      </a:lnTo>
                      <a:lnTo>
                        <a:pt x="300" y="82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c0e2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5213880" y="3150000"/>
                  <a:ext cx="36720" cy="44640"/>
                </a:xfrm>
                <a:custGeom>
                  <a:avLst/>
                  <a:gdLst/>
                  <a:ahLst/>
                  <a:rect l="l" t="t" r="r" b="b"/>
                  <a:pathLst>
                    <a:path w="381" h="826">
                      <a:moveTo>
                        <a:pt x="381" y="0"/>
                      </a:moveTo>
                      <a:lnTo>
                        <a:pt x="157" y="680"/>
                      </a:lnTo>
                      <a:lnTo>
                        <a:pt x="80" y="754"/>
                      </a:lnTo>
                      <a:lnTo>
                        <a:pt x="0" y="826"/>
                      </a:lnTo>
                      <a:lnTo>
                        <a:pt x="219" y="150"/>
                      </a:lnTo>
                      <a:lnTo>
                        <a:pt x="301" y="76"/>
                      </a:lnTo>
                      <a:lnTo>
                        <a:pt x="381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5205960" y="3157920"/>
                  <a:ext cx="29880" cy="40320"/>
                </a:xfrm>
                <a:custGeom>
                  <a:avLst/>
                  <a:gdLst/>
                  <a:ahLst/>
                  <a:rect l="l" t="t" r="r" b="b"/>
                  <a:pathLst>
                    <a:path w="301" h="744">
                      <a:moveTo>
                        <a:pt x="301" y="0"/>
                      </a:moveTo>
                      <a:lnTo>
                        <a:pt x="82" y="676"/>
                      </a:lnTo>
                      <a:lnTo>
                        <a:pt x="0" y="744"/>
                      </a:lnTo>
                      <a:lnTo>
                        <a:pt x="216" y="71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5197320" y="3162240"/>
                  <a:ext cx="29880" cy="39600"/>
                </a:xfrm>
                <a:custGeom>
                  <a:avLst/>
                  <a:gdLst/>
                  <a:ahLst/>
                  <a:rect l="l" t="t" r="r" b="b"/>
                  <a:pathLst>
                    <a:path w="301" h="740">
                      <a:moveTo>
                        <a:pt x="301" y="0"/>
                      </a:moveTo>
                      <a:lnTo>
                        <a:pt x="85" y="673"/>
                      </a:lnTo>
                      <a:lnTo>
                        <a:pt x="0" y="740"/>
                      </a:lnTo>
                      <a:lnTo>
                        <a:pt x="213" y="68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b7d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5189400" y="3165840"/>
                  <a:ext cx="29880" cy="39240"/>
                </a:xfrm>
                <a:custGeom>
                  <a:avLst/>
                  <a:gdLst/>
                  <a:ahLst/>
                  <a:rect l="l" t="t" r="r" b="b"/>
                  <a:pathLst>
                    <a:path w="301" h="737">
                      <a:moveTo>
                        <a:pt x="301" y="0"/>
                      </a:moveTo>
                      <a:lnTo>
                        <a:pt x="88" y="672"/>
                      </a:lnTo>
                      <a:lnTo>
                        <a:pt x="0" y="737"/>
                      </a:lnTo>
                      <a:lnTo>
                        <a:pt x="211" y="66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b3dd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5181120" y="3169080"/>
                  <a:ext cx="28800" cy="39240"/>
                </a:xfrm>
                <a:custGeom>
                  <a:avLst/>
                  <a:gdLst/>
                  <a:ahLst/>
                  <a:rect l="l" t="t" r="r" b="b"/>
                  <a:pathLst>
                    <a:path w="300" h="731">
                      <a:moveTo>
                        <a:pt x="300" y="0"/>
                      </a:moveTo>
                      <a:lnTo>
                        <a:pt x="89" y="671"/>
                      </a:lnTo>
                      <a:lnTo>
                        <a:pt x="0" y="731"/>
                      </a:lnTo>
                      <a:lnTo>
                        <a:pt x="208" y="62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afdb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5171400" y="3172320"/>
                  <a:ext cx="29880" cy="39240"/>
                </a:xfrm>
                <a:custGeom>
                  <a:avLst/>
                  <a:gdLst/>
                  <a:ahLst/>
                  <a:rect l="l" t="t" r="r" b="b"/>
                  <a:pathLst>
                    <a:path w="300" h="728">
                      <a:moveTo>
                        <a:pt x="300" y="0"/>
                      </a:moveTo>
                      <a:lnTo>
                        <a:pt x="92" y="669"/>
                      </a:lnTo>
                      <a:lnTo>
                        <a:pt x="0" y="728"/>
                      </a:lnTo>
                      <a:lnTo>
                        <a:pt x="206" y="60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adda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5163120" y="3175560"/>
                  <a:ext cx="28800" cy="38160"/>
                </a:xfrm>
                <a:custGeom>
                  <a:avLst/>
                  <a:gdLst/>
                  <a:ahLst/>
                  <a:rect l="l" t="t" r="r" b="b"/>
                  <a:pathLst>
                    <a:path w="299" h="723">
                      <a:moveTo>
                        <a:pt x="299" y="0"/>
                      </a:moveTo>
                      <a:lnTo>
                        <a:pt x="93" y="668"/>
                      </a:lnTo>
                      <a:lnTo>
                        <a:pt x="0" y="723"/>
                      </a:lnTo>
                      <a:lnTo>
                        <a:pt x="203" y="57"/>
                      </a:lnTo>
                      <a:lnTo>
                        <a:pt x="299" y="0"/>
                      </a:lnTo>
                      <a:close/>
                    </a:path>
                  </a:pathLst>
                </a:custGeom>
                <a:solidFill>
                  <a:srgbClr val="a6d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5153760" y="3179160"/>
                  <a:ext cx="28800" cy="37800"/>
                </a:xfrm>
                <a:custGeom>
                  <a:avLst/>
                  <a:gdLst/>
                  <a:ahLst/>
                  <a:rect l="l" t="t" r="r" b="b"/>
                  <a:pathLst>
                    <a:path w="298" h="720">
                      <a:moveTo>
                        <a:pt x="298" y="0"/>
                      </a:moveTo>
                      <a:lnTo>
                        <a:pt x="95" y="666"/>
                      </a:lnTo>
                      <a:lnTo>
                        <a:pt x="0" y="720"/>
                      </a:lnTo>
                      <a:lnTo>
                        <a:pt x="200" y="54"/>
                      </a:lnTo>
                      <a:lnTo>
                        <a:pt x="298" y="0"/>
                      </a:lnTo>
                      <a:close/>
                    </a:path>
                  </a:pathLst>
                </a:custGeom>
                <a:solidFill>
                  <a:srgbClr val="a6d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5144040" y="3181320"/>
                  <a:ext cx="28800" cy="38160"/>
                </a:xfrm>
                <a:custGeom>
                  <a:avLst/>
                  <a:gdLst/>
                  <a:ahLst/>
                  <a:rect l="l" t="t" r="r" b="b"/>
                  <a:pathLst>
                    <a:path w="297" h="715">
                      <a:moveTo>
                        <a:pt x="297" y="0"/>
                      </a:moveTo>
                      <a:lnTo>
                        <a:pt x="97" y="666"/>
                      </a:lnTo>
                      <a:lnTo>
                        <a:pt x="0" y="715"/>
                      </a:lnTo>
                      <a:lnTo>
                        <a:pt x="198" y="51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a0d4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5134320" y="3184920"/>
                  <a:ext cx="28800" cy="38160"/>
                </a:xfrm>
                <a:custGeom>
                  <a:avLst/>
                  <a:gdLst/>
                  <a:ahLst/>
                  <a:rect l="l" t="t" r="r" b="b"/>
                  <a:pathLst>
                    <a:path w="295" h="711">
                      <a:moveTo>
                        <a:pt x="295" y="0"/>
                      </a:moveTo>
                      <a:lnTo>
                        <a:pt x="97" y="664"/>
                      </a:lnTo>
                      <a:lnTo>
                        <a:pt x="0" y="711"/>
                      </a:lnTo>
                      <a:lnTo>
                        <a:pt x="195" y="49"/>
                      </a:lnTo>
                      <a:lnTo>
                        <a:pt x="295" y="0"/>
                      </a:lnTo>
                      <a:close/>
                    </a:path>
                  </a:pathLst>
                </a:custGeom>
                <a:solidFill>
                  <a:srgbClr val="9ac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5124600" y="3186720"/>
                  <a:ext cx="28800" cy="38160"/>
                </a:xfrm>
                <a:custGeom>
                  <a:avLst/>
                  <a:gdLst/>
                  <a:ahLst/>
                  <a:rect l="l" t="t" r="r" b="b"/>
                  <a:pathLst>
                    <a:path w="292" h="706">
                      <a:moveTo>
                        <a:pt x="292" y="0"/>
                      </a:moveTo>
                      <a:lnTo>
                        <a:pt x="97" y="662"/>
                      </a:lnTo>
                      <a:lnTo>
                        <a:pt x="0" y="706"/>
                      </a:lnTo>
                      <a:lnTo>
                        <a:pt x="191" y="45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solidFill>
                  <a:srgbClr val="98c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5115240" y="318924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291" h="702">
                      <a:moveTo>
                        <a:pt x="291" y="0"/>
                      </a:moveTo>
                      <a:lnTo>
                        <a:pt x="100" y="661"/>
                      </a:lnTo>
                      <a:lnTo>
                        <a:pt x="0" y="702"/>
                      </a:lnTo>
                      <a:lnTo>
                        <a:pt x="189" y="42"/>
                      </a:lnTo>
                      <a:lnTo>
                        <a:pt x="291" y="0"/>
                      </a:lnTo>
                      <a:close/>
                    </a:path>
                  </a:pathLst>
                </a:custGeom>
                <a:solidFill>
                  <a:srgbClr val="9ac9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5096160" y="3191400"/>
                  <a:ext cx="36720" cy="39240"/>
                </a:xfrm>
                <a:custGeom>
                  <a:avLst/>
                  <a:gdLst/>
                  <a:ahLst/>
                  <a:rect l="l" t="t" r="r" b="b"/>
                  <a:pathLst>
                    <a:path w="388" h="732">
                      <a:moveTo>
                        <a:pt x="388" y="0"/>
                      </a:moveTo>
                      <a:lnTo>
                        <a:pt x="199" y="660"/>
                      </a:lnTo>
                      <a:lnTo>
                        <a:pt x="100" y="697"/>
                      </a:lnTo>
                      <a:lnTo>
                        <a:pt x="0" y="732"/>
                      </a:lnTo>
                      <a:lnTo>
                        <a:pt x="183" y="73"/>
                      </a:lnTo>
                      <a:lnTo>
                        <a:pt x="286" y="38"/>
                      </a:lnTo>
                      <a:lnTo>
                        <a:pt x="388" y="0"/>
                      </a:lnTo>
                      <a:close/>
                    </a:path>
                  </a:pathLst>
                </a:custGeom>
                <a:solidFill>
                  <a:srgbClr val="8eb7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5075640" y="3196080"/>
                  <a:ext cx="38160" cy="38160"/>
                </a:xfrm>
                <a:custGeom>
                  <a:avLst/>
                  <a:gdLst/>
                  <a:ahLst/>
                  <a:rect l="l" t="t" r="r" b="b"/>
                  <a:pathLst>
                    <a:path w="385" h="716">
                      <a:moveTo>
                        <a:pt x="385" y="0"/>
                      </a:moveTo>
                      <a:lnTo>
                        <a:pt x="202" y="659"/>
                      </a:lnTo>
                      <a:lnTo>
                        <a:pt x="168" y="669"/>
                      </a:lnTo>
                      <a:lnTo>
                        <a:pt x="134" y="679"/>
                      </a:lnTo>
                      <a:lnTo>
                        <a:pt x="102" y="689"/>
                      </a:lnTo>
                      <a:lnTo>
                        <a:pt x="68" y="698"/>
                      </a:lnTo>
                      <a:lnTo>
                        <a:pt x="34" y="708"/>
                      </a:lnTo>
                      <a:lnTo>
                        <a:pt x="0" y="716"/>
                      </a:lnTo>
                      <a:lnTo>
                        <a:pt x="177" y="60"/>
                      </a:lnTo>
                      <a:lnTo>
                        <a:pt x="212" y="50"/>
                      </a:lnTo>
                      <a:lnTo>
                        <a:pt x="247" y="41"/>
                      </a:lnTo>
                      <a:lnTo>
                        <a:pt x="281" y="32"/>
                      </a:lnTo>
                      <a:lnTo>
                        <a:pt x="316" y="21"/>
                      </a:lnTo>
                      <a:lnTo>
                        <a:pt x="351" y="1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84a8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5056200" y="3199320"/>
                  <a:ext cx="36720" cy="36720"/>
                </a:xfrm>
                <a:custGeom>
                  <a:avLst/>
                  <a:gdLst/>
                  <a:ahLst/>
                  <a:rect l="l" t="t" r="r" b="b"/>
                  <a:pathLst>
                    <a:path w="379" h="702">
                      <a:moveTo>
                        <a:pt x="379" y="0"/>
                      </a:moveTo>
                      <a:lnTo>
                        <a:pt x="202" y="656"/>
                      </a:lnTo>
                      <a:lnTo>
                        <a:pt x="169" y="664"/>
                      </a:lnTo>
                      <a:lnTo>
                        <a:pt x="135" y="673"/>
                      </a:lnTo>
                      <a:lnTo>
                        <a:pt x="102" y="680"/>
                      </a:lnTo>
                      <a:lnTo>
                        <a:pt x="68" y="688"/>
                      </a:lnTo>
                      <a:lnTo>
                        <a:pt x="34" y="694"/>
                      </a:lnTo>
                      <a:lnTo>
                        <a:pt x="0" y="702"/>
                      </a:lnTo>
                      <a:lnTo>
                        <a:pt x="172" y="46"/>
                      </a:lnTo>
                      <a:lnTo>
                        <a:pt x="207" y="39"/>
                      </a:lnTo>
                      <a:lnTo>
                        <a:pt x="241" y="32"/>
                      </a:lnTo>
                      <a:lnTo>
                        <a:pt x="276" y="24"/>
                      </a:lnTo>
                      <a:lnTo>
                        <a:pt x="311" y="17"/>
                      </a:lnTo>
                      <a:lnTo>
                        <a:pt x="346" y="8"/>
                      </a:lnTo>
                      <a:lnTo>
                        <a:pt x="379" y="0"/>
                      </a:lnTo>
                      <a:close/>
                    </a:path>
                  </a:pathLst>
                </a:custGeom>
                <a:solidFill>
                  <a:srgbClr val="7f9e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5036040" y="3201840"/>
                  <a:ext cx="36720" cy="36720"/>
                </a:xfrm>
                <a:custGeom>
                  <a:avLst/>
                  <a:gdLst/>
                  <a:ahLst/>
                  <a:rect l="l" t="t" r="r" b="b"/>
                  <a:pathLst>
                    <a:path w="375" h="689">
                      <a:moveTo>
                        <a:pt x="375" y="0"/>
                      </a:moveTo>
                      <a:lnTo>
                        <a:pt x="203" y="656"/>
                      </a:lnTo>
                      <a:lnTo>
                        <a:pt x="169" y="662"/>
                      </a:lnTo>
                      <a:lnTo>
                        <a:pt x="135" y="668"/>
                      </a:lnTo>
                      <a:lnTo>
                        <a:pt x="102" y="673"/>
                      </a:lnTo>
                      <a:lnTo>
                        <a:pt x="68" y="680"/>
                      </a:lnTo>
                      <a:lnTo>
                        <a:pt x="34" y="685"/>
                      </a:lnTo>
                      <a:lnTo>
                        <a:pt x="0" y="689"/>
                      </a:lnTo>
                      <a:lnTo>
                        <a:pt x="165" y="34"/>
                      </a:lnTo>
                      <a:lnTo>
                        <a:pt x="200" y="30"/>
                      </a:lnTo>
                      <a:lnTo>
                        <a:pt x="236" y="25"/>
                      </a:lnTo>
                      <a:lnTo>
                        <a:pt x="271" y="18"/>
                      </a:lnTo>
                      <a:lnTo>
                        <a:pt x="306" y="13"/>
                      </a:lnTo>
                      <a:lnTo>
                        <a:pt x="340" y="7"/>
                      </a:lnTo>
                      <a:lnTo>
                        <a:pt x="375" y="0"/>
                      </a:lnTo>
                      <a:close/>
                    </a:path>
                  </a:pathLst>
                </a:custGeom>
                <a:solidFill>
                  <a:srgbClr val="778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5015520" y="3202560"/>
                  <a:ext cx="36720" cy="37080"/>
                </a:xfrm>
                <a:custGeom>
                  <a:avLst/>
                  <a:gdLst/>
                  <a:ahLst/>
                  <a:rect l="l" t="t" r="r" b="b"/>
                  <a:pathLst>
                    <a:path w="371" h="677">
                      <a:moveTo>
                        <a:pt x="371" y="0"/>
                      </a:moveTo>
                      <a:lnTo>
                        <a:pt x="206" y="655"/>
                      </a:lnTo>
                      <a:lnTo>
                        <a:pt x="171" y="659"/>
                      </a:lnTo>
                      <a:lnTo>
                        <a:pt x="137" y="663"/>
                      </a:lnTo>
                      <a:lnTo>
                        <a:pt x="103" y="668"/>
                      </a:lnTo>
                      <a:lnTo>
                        <a:pt x="69" y="671"/>
                      </a:lnTo>
                      <a:lnTo>
                        <a:pt x="34" y="674"/>
                      </a:lnTo>
                      <a:lnTo>
                        <a:pt x="0" y="677"/>
                      </a:lnTo>
                      <a:lnTo>
                        <a:pt x="159" y="23"/>
                      </a:lnTo>
                      <a:lnTo>
                        <a:pt x="195" y="20"/>
                      </a:lnTo>
                      <a:lnTo>
                        <a:pt x="231" y="17"/>
                      </a:lnTo>
                      <a:lnTo>
                        <a:pt x="265" y="14"/>
                      </a:lnTo>
                      <a:lnTo>
                        <a:pt x="301" y="9"/>
                      </a:lnTo>
                      <a:lnTo>
                        <a:pt x="336" y="5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7386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4996080" y="3204000"/>
                  <a:ext cx="35640" cy="36000"/>
                </a:xfrm>
                <a:custGeom>
                  <a:avLst/>
                  <a:gdLst/>
                  <a:ahLst/>
                  <a:rect l="l" t="t" r="r" b="b"/>
                  <a:pathLst>
                    <a:path w="368" h="663">
                      <a:moveTo>
                        <a:pt x="368" y="0"/>
                      </a:moveTo>
                      <a:lnTo>
                        <a:pt x="209" y="654"/>
                      </a:lnTo>
                      <a:lnTo>
                        <a:pt x="174" y="656"/>
                      </a:lnTo>
                      <a:lnTo>
                        <a:pt x="139" y="658"/>
                      </a:lnTo>
                      <a:lnTo>
                        <a:pt x="104" y="660"/>
                      </a:lnTo>
                      <a:lnTo>
                        <a:pt x="69" y="661"/>
                      </a:lnTo>
                      <a:lnTo>
                        <a:pt x="35" y="662"/>
                      </a:lnTo>
                      <a:lnTo>
                        <a:pt x="0" y="663"/>
                      </a:lnTo>
                      <a:lnTo>
                        <a:pt x="152" y="9"/>
                      </a:lnTo>
                      <a:lnTo>
                        <a:pt x="189" y="8"/>
                      </a:lnTo>
                      <a:lnTo>
                        <a:pt x="225" y="7"/>
                      </a:lnTo>
                      <a:lnTo>
                        <a:pt x="261" y="6"/>
                      </a:lnTo>
                      <a:lnTo>
                        <a:pt x="297" y="4"/>
                      </a:lnTo>
                      <a:lnTo>
                        <a:pt x="333" y="2"/>
                      </a:lnTo>
                      <a:lnTo>
                        <a:pt x="368" y="0"/>
                      </a:lnTo>
                      <a:close/>
                    </a:path>
                  </a:pathLst>
                </a:custGeom>
                <a:solidFill>
                  <a:srgbClr val="6d7a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4988160" y="3205080"/>
                  <a:ext cx="21600" cy="34920"/>
                </a:xfrm>
                <a:custGeom>
                  <a:avLst/>
                  <a:gdLst/>
                  <a:ahLst/>
                  <a:rect l="l" t="t" r="r" b="b"/>
                  <a:pathLst>
                    <a:path w="223" h="654">
                      <a:moveTo>
                        <a:pt x="223" y="0"/>
                      </a:moveTo>
                      <a:lnTo>
                        <a:pt x="71" y="654"/>
                      </a:lnTo>
                      <a:lnTo>
                        <a:pt x="35" y="654"/>
                      </a:lnTo>
                      <a:lnTo>
                        <a:pt x="0" y="654"/>
                      </a:lnTo>
                      <a:lnTo>
                        <a:pt x="152" y="0"/>
                      </a:lnTo>
                      <a:lnTo>
                        <a:pt x="188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6872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4980960" y="3209760"/>
                  <a:ext cx="20520" cy="44640"/>
                </a:xfrm>
                <a:custGeom>
                  <a:avLst/>
                  <a:gdLst/>
                  <a:ahLst/>
                  <a:rect l="l" t="t" r="r" b="b"/>
                  <a:pathLst>
                    <a:path w="201" h="832">
                      <a:moveTo>
                        <a:pt x="201" y="0"/>
                      </a:moveTo>
                      <a:lnTo>
                        <a:pt x="50" y="652"/>
                      </a:lnTo>
                      <a:lnTo>
                        <a:pt x="27" y="743"/>
                      </a:lnTo>
                      <a:lnTo>
                        <a:pt x="0" y="832"/>
                      </a:lnTo>
                      <a:lnTo>
                        <a:pt x="150" y="185"/>
                      </a:lnTo>
                      <a:lnTo>
                        <a:pt x="177" y="9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4975560" y="3219480"/>
                  <a:ext cx="20160" cy="43920"/>
                </a:xfrm>
                <a:custGeom>
                  <a:avLst/>
                  <a:gdLst/>
                  <a:ahLst/>
                  <a:rect l="l" t="t" r="r" b="b"/>
                  <a:pathLst>
                    <a:path w="210" h="821">
                      <a:moveTo>
                        <a:pt x="210" y="0"/>
                      </a:moveTo>
                      <a:lnTo>
                        <a:pt x="60" y="647"/>
                      </a:lnTo>
                      <a:lnTo>
                        <a:pt x="31" y="735"/>
                      </a:lnTo>
                      <a:lnTo>
                        <a:pt x="0" y="821"/>
                      </a:lnTo>
                      <a:lnTo>
                        <a:pt x="147" y="179"/>
                      </a:lnTo>
                      <a:lnTo>
                        <a:pt x="180" y="90"/>
                      </a:lnTo>
                      <a:lnTo>
                        <a:pt x="210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4968720" y="3229920"/>
                  <a:ext cx="21600" cy="42840"/>
                </a:xfrm>
                <a:custGeom>
                  <a:avLst/>
                  <a:gdLst/>
                  <a:ahLst/>
                  <a:rect l="l" t="t" r="r" b="b"/>
                  <a:pathLst>
                    <a:path w="219" h="810">
                      <a:moveTo>
                        <a:pt x="219" y="0"/>
                      </a:moveTo>
                      <a:lnTo>
                        <a:pt x="72" y="642"/>
                      </a:lnTo>
                      <a:lnTo>
                        <a:pt x="37" y="726"/>
                      </a:lnTo>
                      <a:lnTo>
                        <a:pt x="0" y="810"/>
                      </a:lnTo>
                      <a:lnTo>
                        <a:pt x="146" y="172"/>
                      </a:lnTo>
                      <a:lnTo>
                        <a:pt x="183" y="87"/>
                      </a:lnTo>
                      <a:lnTo>
                        <a:pt x="219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4960440" y="3238920"/>
                  <a:ext cx="21960" cy="42840"/>
                </a:xfrm>
                <a:custGeom>
                  <a:avLst/>
                  <a:gdLst/>
                  <a:ahLst/>
                  <a:rect l="l" t="t" r="r" b="b"/>
                  <a:pathLst>
                    <a:path w="226" h="800">
                      <a:moveTo>
                        <a:pt x="226" y="0"/>
                      </a:moveTo>
                      <a:lnTo>
                        <a:pt x="80" y="638"/>
                      </a:lnTo>
                      <a:lnTo>
                        <a:pt x="41" y="720"/>
                      </a:lnTo>
                      <a:lnTo>
                        <a:pt x="0" y="800"/>
                      </a:lnTo>
                      <a:lnTo>
                        <a:pt x="143" y="167"/>
                      </a:lnTo>
                      <a:lnTo>
                        <a:pt x="185" y="84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4952160" y="3247920"/>
                  <a:ext cx="21600" cy="41400"/>
                </a:xfrm>
                <a:custGeom>
                  <a:avLst/>
                  <a:gdLst/>
                  <a:ahLst/>
                  <a:rect l="l" t="t" r="r" b="b"/>
                  <a:pathLst>
                    <a:path w="233" h="788">
                      <a:moveTo>
                        <a:pt x="233" y="0"/>
                      </a:moveTo>
                      <a:lnTo>
                        <a:pt x="90" y="633"/>
                      </a:lnTo>
                      <a:lnTo>
                        <a:pt x="46" y="711"/>
                      </a:lnTo>
                      <a:lnTo>
                        <a:pt x="0" y="788"/>
                      </a:lnTo>
                      <a:lnTo>
                        <a:pt x="140" y="159"/>
                      </a:lnTo>
                      <a:lnTo>
                        <a:pt x="187" y="80"/>
                      </a:lnTo>
                      <a:lnTo>
                        <a:pt x="233" y="0"/>
                      </a:lnTo>
                      <a:close/>
                    </a:path>
                  </a:pathLst>
                </a:custGeom>
                <a:solidFill>
                  <a:srgbClr val="cee9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4942800" y="3255480"/>
                  <a:ext cx="23040" cy="42840"/>
                </a:xfrm>
                <a:custGeom>
                  <a:avLst/>
                  <a:gdLst/>
                  <a:ahLst/>
                  <a:rect l="l" t="t" r="r" b="b"/>
                  <a:pathLst>
                    <a:path w="240" h="780">
                      <a:moveTo>
                        <a:pt x="240" y="0"/>
                      </a:moveTo>
                      <a:lnTo>
                        <a:pt x="100" y="629"/>
                      </a:lnTo>
                      <a:lnTo>
                        <a:pt x="51" y="705"/>
                      </a:lnTo>
                      <a:lnTo>
                        <a:pt x="0" y="780"/>
                      </a:lnTo>
                      <a:lnTo>
                        <a:pt x="139" y="154"/>
                      </a:lnTo>
                      <a:lnTo>
                        <a:pt x="191" y="78"/>
                      </a:lnTo>
                      <a:lnTo>
                        <a:pt x="240" y="0"/>
                      </a:lnTo>
                      <a:close/>
                    </a:path>
                  </a:pathLst>
                </a:custGeom>
                <a:solidFill>
                  <a:srgbClr val="cee9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4931640" y="3264840"/>
                  <a:ext cx="24480" cy="40320"/>
                </a:xfrm>
                <a:custGeom>
                  <a:avLst/>
                  <a:gdLst/>
                  <a:ahLst/>
                  <a:rect l="l" t="t" r="r" b="b"/>
                  <a:pathLst>
                    <a:path w="247" h="770">
                      <a:moveTo>
                        <a:pt x="247" y="0"/>
                      </a:moveTo>
                      <a:lnTo>
                        <a:pt x="108" y="626"/>
                      </a:lnTo>
                      <a:lnTo>
                        <a:pt x="56" y="698"/>
                      </a:lnTo>
                      <a:lnTo>
                        <a:pt x="0" y="770"/>
                      </a:lnTo>
                      <a:lnTo>
                        <a:pt x="136" y="148"/>
                      </a:lnTo>
                      <a:lnTo>
                        <a:pt x="192" y="75"/>
                      </a:lnTo>
                      <a:lnTo>
                        <a:pt x="247" y="0"/>
                      </a:lnTo>
                      <a:close/>
                    </a:path>
                  </a:pathLst>
                </a:custGeom>
                <a:solidFill>
                  <a:srgbClr val="c6e5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4920480" y="327276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250" h="761">
                      <a:moveTo>
                        <a:pt x="250" y="0"/>
                      </a:moveTo>
                      <a:lnTo>
                        <a:pt x="114" y="622"/>
                      </a:lnTo>
                      <a:lnTo>
                        <a:pt x="58" y="692"/>
                      </a:lnTo>
                      <a:lnTo>
                        <a:pt x="0" y="761"/>
                      </a:lnTo>
                      <a:lnTo>
                        <a:pt x="131" y="143"/>
                      </a:lnTo>
                      <a:lnTo>
                        <a:pt x="191" y="72"/>
                      </a:lnTo>
                      <a:lnTo>
                        <a:pt x="250" y="0"/>
                      </a:lnTo>
                      <a:close/>
                    </a:path>
                  </a:pathLst>
                </a:custGeom>
                <a:solidFill>
                  <a:srgbClr val="c6e5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4908600" y="3280320"/>
                  <a:ext cx="24480" cy="39600"/>
                </a:xfrm>
                <a:custGeom>
                  <a:avLst/>
                  <a:gdLst/>
                  <a:ahLst/>
                  <a:rect l="l" t="t" r="r" b="b"/>
                  <a:pathLst>
                    <a:path w="254" h="750">
                      <a:moveTo>
                        <a:pt x="254" y="0"/>
                      </a:moveTo>
                      <a:lnTo>
                        <a:pt x="123" y="618"/>
                      </a:lnTo>
                      <a:lnTo>
                        <a:pt x="62" y="684"/>
                      </a:lnTo>
                      <a:lnTo>
                        <a:pt x="0" y="750"/>
                      </a:lnTo>
                      <a:lnTo>
                        <a:pt x="128" y="136"/>
                      </a:lnTo>
                      <a:lnTo>
                        <a:pt x="191" y="69"/>
                      </a:lnTo>
                      <a:lnTo>
                        <a:pt x="254" y="0"/>
                      </a:lnTo>
                      <a:close/>
                    </a:path>
                  </a:pathLst>
                </a:custGeom>
                <a:solidFill>
                  <a:srgbClr val="c0e2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4896000" y="328716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259" h="741">
                      <a:moveTo>
                        <a:pt x="259" y="0"/>
                      </a:moveTo>
                      <a:lnTo>
                        <a:pt x="131" y="614"/>
                      </a:lnTo>
                      <a:lnTo>
                        <a:pt x="66" y="678"/>
                      </a:lnTo>
                      <a:lnTo>
                        <a:pt x="0" y="741"/>
                      </a:lnTo>
                      <a:lnTo>
                        <a:pt x="124" y="131"/>
                      </a:lnTo>
                      <a:lnTo>
                        <a:pt x="192" y="66"/>
                      </a:lnTo>
                      <a:lnTo>
                        <a:pt x="259" y="0"/>
                      </a:lnTo>
                      <a:close/>
                    </a:path>
                  </a:pathLst>
                </a:custGeom>
                <a:solidFill>
                  <a:srgbClr val="bde1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4882320" y="3294000"/>
                  <a:ext cx="25920" cy="39600"/>
                </a:xfrm>
                <a:custGeom>
                  <a:avLst/>
                  <a:gdLst/>
                  <a:ahLst/>
                  <a:rect l="l" t="t" r="r" b="b"/>
                  <a:pathLst>
                    <a:path w="261" h="731">
                      <a:moveTo>
                        <a:pt x="261" y="0"/>
                      </a:moveTo>
                      <a:lnTo>
                        <a:pt x="137" y="610"/>
                      </a:lnTo>
                      <a:lnTo>
                        <a:pt x="70" y="671"/>
                      </a:lnTo>
                      <a:lnTo>
                        <a:pt x="0" y="731"/>
                      </a:lnTo>
                      <a:lnTo>
                        <a:pt x="120" y="124"/>
                      </a:lnTo>
                      <a:lnTo>
                        <a:pt x="192" y="62"/>
                      </a:lnTo>
                      <a:lnTo>
                        <a:pt x="261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4868640" y="330084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264" h="722">
                      <a:moveTo>
                        <a:pt x="264" y="0"/>
                      </a:moveTo>
                      <a:lnTo>
                        <a:pt x="144" y="607"/>
                      </a:lnTo>
                      <a:lnTo>
                        <a:pt x="73" y="665"/>
                      </a:lnTo>
                      <a:lnTo>
                        <a:pt x="0" y="722"/>
                      </a:lnTo>
                      <a:lnTo>
                        <a:pt x="116" y="118"/>
                      </a:lnTo>
                      <a:lnTo>
                        <a:pt x="191" y="60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b7d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4853520" y="3307680"/>
                  <a:ext cx="25920" cy="38160"/>
                </a:xfrm>
                <a:custGeom>
                  <a:avLst/>
                  <a:gdLst/>
                  <a:ahLst/>
                  <a:rect l="l" t="t" r="r" b="b"/>
                  <a:pathLst>
                    <a:path w="265" h="715">
                      <a:moveTo>
                        <a:pt x="265" y="0"/>
                      </a:moveTo>
                      <a:lnTo>
                        <a:pt x="149" y="604"/>
                      </a:lnTo>
                      <a:lnTo>
                        <a:pt x="75" y="661"/>
                      </a:lnTo>
                      <a:lnTo>
                        <a:pt x="0" y="715"/>
                      </a:lnTo>
                      <a:lnTo>
                        <a:pt x="111" y="113"/>
                      </a:lnTo>
                      <a:lnTo>
                        <a:pt x="189" y="58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solidFill>
                  <a:srgbClr val="b3dd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4838400" y="3313080"/>
                  <a:ext cx="25920" cy="38160"/>
                </a:xfrm>
                <a:custGeom>
                  <a:avLst/>
                  <a:gdLst/>
                  <a:ahLst/>
                  <a:rect l="l" t="t" r="r" b="b"/>
                  <a:pathLst>
                    <a:path w="266" h="706">
                      <a:moveTo>
                        <a:pt x="266" y="0"/>
                      </a:moveTo>
                      <a:lnTo>
                        <a:pt x="155" y="602"/>
                      </a:lnTo>
                      <a:lnTo>
                        <a:pt x="78" y="654"/>
                      </a:lnTo>
                      <a:lnTo>
                        <a:pt x="0" y="706"/>
                      </a:lnTo>
                      <a:lnTo>
                        <a:pt x="107" y="107"/>
                      </a:lnTo>
                      <a:lnTo>
                        <a:pt x="187" y="54"/>
                      </a:lnTo>
                      <a:lnTo>
                        <a:pt x="266" y="0"/>
                      </a:lnTo>
                      <a:close/>
                    </a:path>
                  </a:pathLst>
                </a:custGeom>
                <a:solidFill>
                  <a:srgbClr val="adda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4822200" y="331884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267" h="698">
                      <a:moveTo>
                        <a:pt x="267" y="0"/>
                      </a:moveTo>
                      <a:lnTo>
                        <a:pt x="160" y="599"/>
                      </a:lnTo>
                      <a:lnTo>
                        <a:pt x="81" y="649"/>
                      </a:lnTo>
                      <a:lnTo>
                        <a:pt x="0" y="698"/>
                      </a:lnTo>
                      <a:lnTo>
                        <a:pt x="102" y="102"/>
                      </a:lnTo>
                      <a:lnTo>
                        <a:pt x="185" y="52"/>
                      </a:lnTo>
                      <a:lnTo>
                        <a:pt x="267" y="0"/>
                      </a:lnTo>
                      <a:close/>
                    </a:path>
                  </a:pathLst>
                </a:custGeom>
                <a:solidFill>
                  <a:srgbClr val="a9d8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4815360" y="3324240"/>
                  <a:ext cx="17640" cy="34920"/>
                </a:xfrm>
                <a:custGeom>
                  <a:avLst/>
                  <a:gdLst/>
                  <a:ahLst/>
                  <a:rect l="l" t="t" r="r" b="b"/>
                  <a:pathLst>
                    <a:path w="184" h="643">
                      <a:moveTo>
                        <a:pt x="184" y="0"/>
                      </a:moveTo>
                      <a:lnTo>
                        <a:pt x="82" y="596"/>
                      </a:lnTo>
                      <a:lnTo>
                        <a:pt x="0" y="643"/>
                      </a:lnTo>
                      <a:lnTo>
                        <a:pt x="100" y="48"/>
                      </a:lnTo>
                      <a:lnTo>
                        <a:pt x="184" y="0"/>
                      </a:lnTo>
                      <a:close/>
                    </a:path>
                  </a:pathLst>
                </a:custGeom>
                <a:solidFill>
                  <a:srgbClr val="a6d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4797360" y="3327840"/>
                  <a:ext cx="27000" cy="36000"/>
                </a:xfrm>
                <a:custGeom>
                  <a:avLst/>
                  <a:gdLst/>
                  <a:ahLst/>
                  <a:rect l="l" t="t" r="r" b="b"/>
                  <a:pathLst>
                    <a:path w="272" h="683">
                      <a:moveTo>
                        <a:pt x="272" y="0"/>
                      </a:moveTo>
                      <a:lnTo>
                        <a:pt x="172" y="595"/>
                      </a:lnTo>
                      <a:lnTo>
                        <a:pt x="144" y="610"/>
                      </a:lnTo>
                      <a:lnTo>
                        <a:pt x="115" y="625"/>
                      </a:lnTo>
                      <a:lnTo>
                        <a:pt x="87" y="639"/>
                      </a:lnTo>
                      <a:lnTo>
                        <a:pt x="58" y="654"/>
                      </a:lnTo>
                      <a:lnTo>
                        <a:pt x="29" y="669"/>
                      </a:lnTo>
                      <a:lnTo>
                        <a:pt x="0" y="683"/>
                      </a:lnTo>
                      <a:lnTo>
                        <a:pt x="96" y="91"/>
                      </a:lnTo>
                      <a:lnTo>
                        <a:pt x="125" y="76"/>
                      </a:lnTo>
                      <a:lnTo>
                        <a:pt x="154" y="61"/>
                      </a:lnTo>
                      <a:lnTo>
                        <a:pt x="184" y="47"/>
                      </a:lnTo>
                      <a:lnTo>
                        <a:pt x="214" y="31"/>
                      </a:lnTo>
                      <a:lnTo>
                        <a:pt x="242" y="16"/>
                      </a:lnTo>
                      <a:lnTo>
                        <a:pt x="272" y="0"/>
                      </a:lnTo>
                      <a:close/>
                    </a:path>
                  </a:pathLst>
                </a:custGeom>
                <a:solidFill>
                  <a:srgbClr val="a0d4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4781160" y="3332160"/>
                  <a:ext cx="25560" cy="36000"/>
                </a:xfrm>
                <a:custGeom>
                  <a:avLst/>
                  <a:gdLst/>
                  <a:ahLst/>
                  <a:rect l="l" t="t" r="r" b="b"/>
                  <a:pathLst>
                    <a:path w="270" h="674">
                      <a:moveTo>
                        <a:pt x="270" y="0"/>
                      </a:moveTo>
                      <a:lnTo>
                        <a:pt x="174" y="592"/>
                      </a:lnTo>
                      <a:lnTo>
                        <a:pt x="146" y="606"/>
                      </a:lnTo>
                      <a:lnTo>
                        <a:pt x="116" y="620"/>
                      </a:lnTo>
                      <a:lnTo>
                        <a:pt x="87" y="634"/>
                      </a:lnTo>
                      <a:lnTo>
                        <a:pt x="59" y="647"/>
                      </a:lnTo>
                      <a:lnTo>
                        <a:pt x="29" y="661"/>
                      </a:lnTo>
                      <a:lnTo>
                        <a:pt x="0" y="674"/>
                      </a:lnTo>
                      <a:lnTo>
                        <a:pt x="90" y="85"/>
                      </a:lnTo>
                      <a:lnTo>
                        <a:pt x="120" y="70"/>
                      </a:lnTo>
                      <a:lnTo>
                        <a:pt x="150" y="57"/>
                      </a:lnTo>
                      <a:lnTo>
                        <a:pt x="180" y="43"/>
                      </a:lnTo>
                      <a:lnTo>
                        <a:pt x="210" y="29"/>
                      </a:lnTo>
                      <a:lnTo>
                        <a:pt x="240" y="14"/>
                      </a:lnTo>
                      <a:lnTo>
                        <a:pt x="270" y="0"/>
                      </a:lnTo>
                      <a:close/>
                    </a:path>
                  </a:pathLst>
                </a:custGeom>
                <a:solidFill>
                  <a:srgbClr val="9ac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4768560" y="3336840"/>
                  <a:ext cx="20160" cy="34920"/>
                </a:xfrm>
                <a:custGeom>
                  <a:avLst/>
                  <a:gdLst/>
                  <a:ahLst/>
                  <a:rect l="l" t="t" r="r" b="b"/>
                  <a:pathLst>
                    <a:path w="208" h="643">
                      <a:moveTo>
                        <a:pt x="208" y="0"/>
                      </a:moveTo>
                      <a:lnTo>
                        <a:pt x="118" y="589"/>
                      </a:lnTo>
                      <a:lnTo>
                        <a:pt x="88" y="603"/>
                      </a:lnTo>
                      <a:lnTo>
                        <a:pt x="60" y="617"/>
                      </a:lnTo>
                      <a:lnTo>
                        <a:pt x="30" y="630"/>
                      </a:lnTo>
                      <a:lnTo>
                        <a:pt x="0" y="643"/>
                      </a:lnTo>
                      <a:lnTo>
                        <a:pt x="86" y="54"/>
                      </a:lnTo>
                      <a:lnTo>
                        <a:pt x="117" y="41"/>
                      </a:lnTo>
                      <a:lnTo>
                        <a:pt x="148" y="27"/>
                      </a:lnTo>
                      <a:lnTo>
                        <a:pt x="178" y="14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98c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4749480" y="3339360"/>
                  <a:ext cx="28800" cy="36000"/>
                </a:xfrm>
                <a:custGeom>
                  <a:avLst/>
                  <a:gdLst/>
                  <a:ahLst/>
                  <a:rect l="l" t="t" r="r" b="b"/>
                  <a:pathLst>
                    <a:path w="284" h="662">
                      <a:moveTo>
                        <a:pt x="284" y="0"/>
                      </a:moveTo>
                      <a:lnTo>
                        <a:pt x="198" y="589"/>
                      </a:lnTo>
                      <a:lnTo>
                        <a:pt x="132" y="615"/>
                      </a:lnTo>
                      <a:lnTo>
                        <a:pt x="66" y="639"/>
                      </a:lnTo>
                      <a:lnTo>
                        <a:pt x="0" y="662"/>
                      </a:lnTo>
                      <a:lnTo>
                        <a:pt x="80" y="76"/>
                      </a:lnTo>
                      <a:lnTo>
                        <a:pt x="149" y="52"/>
                      </a:lnTo>
                      <a:lnTo>
                        <a:pt x="217" y="26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91bb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4730040" y="3343680"/>
                  <a:ext cx="27360" cy="34920"/>
                </a:xfrm>
                <a:custGeom>
                  <a:avLst/>
                  <a:gdLst/>
                  <a:ahLst/>
                  <a:rect l="l" t="t" r="r" b="b"/>
                  <a:pathLst>
                    <a:path w="277" h="653">
                      <a:moveTo>
                        <a:pt x="277" y="0"/>
                      </a:moveTo>
                      <a:lnTo>
                        <a:pt x="197" y="586"/>
                      </a:lnTo>
                      <a:lnTo>
                        <a:pt x="132" y="609"/>
                      </a:lnTo>
                      <a:lnTo>
                        <a:pt x="66" y="631"/>
                      </a:lnTo>
                      <a:lnTo>
                        <a:pt x="0" y="653"/>
                      </a:lnTo>
                      <a:lnTo>
                        <a:pt x="75" y="68"/>
                      </a:lnTo>
                      <a:lnTo>
                        <a:pt x="142" y="46"/>
                      </a:lnTo>
                      <a:lnTo>
                        <a:pt x="210" y="24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8bb2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4711320" y="3347280"/>
                  <a:ext cx="27000" cy="34560"/>
                </a:xfrm>
                <a:custGeom>
                  <a:avLst/>
                  <a:gdLst/>
                  <a:ahLst/>
                  <a:rect l="l" t="t" r="r" b="b"/>
                  <a:pathLst>
                    <a:path w="272" h="642">
                      <a:moveTo>
                        <a:pt x="272" y="0"/>
                      </a:moveTo>
                      <a:lnTo>
                        <a:pt x="197" y="585"/>
                      </a:lnTo>
                      <a:lnTo>
                        <a:pt x="132" y="605"/>
                      </a:lnTo>
                      <a:lnTo>
                        <a:pt x="66" y="624"/>
                      </a:lnTo>
                      <a:lnTo>
                        <a:pt x="0" y="642"/>
                      </a:lnTo>
                      <a:lnTo>
                        <a:pt x="69" y="59"/>
                      </a:lnTo>
                      <a:lnTo>
                        <a:pt x="137" y="40"/>
                      </a:lnTo>
                      <a:lnTo>
                        <a:pt x="205" y="21"/>
                      </a:lnTo>
                      <a:lnTo>
                        <a:pt x="272" y="0"/>
                      </a:lnTo>
                      <a:close/>
                    </a:path>
                  </a:pathLst>
                </a:custGeom>
                <a:solidFill>
                  <a:srgbClr val="84a8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4691880" y="3350520"/>
                  <a:ext cx="25920" cy="33480"/>
                </a:xfrm>
                <a:custGeom>
                  <a:avLst/>
                  <a:gdLst/>
                  <a:ahLst/>
                  <a:rect l="l" t="t" r="r" b="b"/>
                  <a:pathLst>
                    <a:path w="265" h="633">
                      <a:moveTo>
                        <a:pt x="265" y="0"/>
                      </a:moveTo>
                      <a:lnTo>
                        <a:pt x="196" y="583"/>
                      </a:lnTo>
                      <a:lnTo>
                        <a:pt x="131" y="601"/>
                      </a:lnTo>
                      <a:lnTo>
                        <a:pt x="65" y="618"/>
                      </a:lnTo>
                      <a:lnTo>
                        <a:pt x="0" y="633"/>
                      </a:lnTo>
                      <a:lnTo>
                        <a:pt x="63" y="51"/>
                      </a:lnTo>
                      <a:lnTo>
                        <a:pt x="131" y="36"/>
                      </a:lnTo>
                      <a:lnTo>
                        <a:pt x="199" y="18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solidFill>
                  <a:srgbClr val="83a3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4672440" y="3353760"/>
                  <a:ext cx="25920" cy="32400"/>
                </a:xfrm>
                <a:custGeom>
                  <a:avLst/>
                  <a:gdLst/>
                  <a:ahLst/>
                  <a:rect l="l" t="t" r="r" b="b"/>
                  <a:pathLst>
                    <a:path w="260" h="625">
                      <a:moveTo>
                        <a:pt x="260" y="0"/>
                      </a:moveTo>
                      <a:lnTo>
                        <a:pt x="197" y="582"/>
                      </a:lnTo>
                      <a:lnTo>
                        <a:pt x="131" y="597"/>
                      </a:lnTo>
                      <a:lnTo>
                        <a:pt x="65" y="612"/>
                      </a:lnTo>
                      <a:lnTo>
                        <a:pt x="0" y="625"/>
                      </a:lnTo>
                      <a:lnTo>
                        <a:pt x="57" y="44"/>
                      </a:lnTo>
                      <a:lnTo>
                        <a:pt x="125" y="30"/>
                      </a:lnTo>
                      <a:lnTo>
                        <a:pt x="192" y="16"/>
                      </a:lnTo>
                      <a:lnTo>
                        <a:pt x="260" y="0"/>
                      </a:lnTo>
                      <a:close/>
                    </a:path>
                  </a:pathLst>
                </a:custGeom>
                <a:solidFill>
                  <a:srgbClr val="7d9a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4653720" y="3355920"/>
                  <a:ext cx="24480" cy="32400"/>
                </a:xfrm>
                <a:custGeom>
                  <a:avLst/>
                  <a:gdLst/>
                  <a:ahLst/>
                  <a:rect l="l" t="t" r="r" b="b"/>
                  <a:pathLst>
                    <a:path w="256" h="615">
                      <a:moveTo>
                        <a:pt x="256" y="0"/>
                      </a:moveTo>
                      <a:lnTo>
                        <a:pt x="199" y="581"/>
                      </a:lnTo>
                      <a:lnTo>
                        <a:pt x="132" y="593"/>
                      </a:lnTo>
                      <a:lnTo>
                        <a:pt x="66" y="604"/>
                      </a:lnTo>
                      <a:lnTo>
                        <a:pt x="0" y="615"/>
                      </a:lnTo>
                      <a:lnTo>
                        <a:pt x="51" y="35"/>
                      </a:lnTo>
                      <a:lnTo>
                        <a:pt x="120" y="24"/>
                      </a:lnTo>
                      <a:lnTo>
                        <a:pt x="187" y="12"/>
                      </a:lnTo>
                      <a:lnTo>
                        <a:pt x="256" y="0"/>
                      </a:lnTo>
                      <a:close/>
                    </a:path>
                  </a:pathLst>
                </a:custGeom>
                <a:solidFill>
                  <a:srgbClr val="799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4634280" y="3357000"/>
                  <a:ext cx="24480" cy="32400"/>
                </a:xfrm>
                <a:custGeom>
                  <a:avLst/>
                  <a:gdLst/>
                  <a:ahLst/>
                  <a:rect l="l" t="t" r="r" b="b"/>
                  <a:pathLst>
                    <a:path w="251" h="607">
                      <a:moveTo>
                        <a:pt x="251" y="0"/>
                      </a:moveTo>
                      <a:lnTo>
                        <a:pt x="200" y="580"/>
                      </a:lnTo>
                      <a:lnTo>
                        <a:pt x="133" y="590"/>
                      </a:lnTo>
                      <a:lnTo>
                        <a:pt x="66" y="599"/>
                      </a:lnTo>
                      <a:lnTo>
                        <a:pt x="0" y="607"/>
                      </a:lnTo>
                      <a:lnTo>
                        <a:pt x="45" y="27"/>
                      </a:lnTo>
                      <a:lnTo>
                        <a:pt x="114" y="19"/>
                      </a:lnTo>
                      <a:lnTo>
                        <a:pt x="182" y="10"/>
                      </a:lnTo>
                      <a:lnTo>
                        <a:pt x="251" y="0"/>
                      </a:lnTo>
                      <a:close/>
                    </a:path>
                  </a:pathLst>
                </a:custGeom>
                <a:solidFill>
                  <a:srgbClr val="758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4613760" y="3359520"/>
                  <a:ext cx="24480" cy="31680"/>
                </a:xfrm>
                <a:custGeom>
                  <a:avLst/>
                  <a:gdLst/>
                  <a:ahLst/>
                  <a:rect l="l" t="t" r="r" b="b"/>
                  <a:pathLst>
                    <a:path w="248" h="599">
                      <a:moveTo>
                        <a:pt x="248" y="0"/>
                      </a:moveTo>
                      <a:lnTo>
                        <a:pt x="203" y="580"/>
                      </a:lnTo>
                      <a:lnTo>
                        <a:pt x="135" y="588"/>
                      </a:lnTo>
                      <a:lnTo>
                        <a:pt x="67" y="594"/>
                      </a:lnTo>
                      <a:lnTo>
                        <a:pt x="0" y="599"/>
                      </a:lnTo>
                      <a:lnTo>
                        <a:pt x="39" y="20"/>
                      </a:lnTo>
                      <a:lnTo>
                        <a:pt x="108" y="15"/>
                      </a:lnTo>
                      <a:lnTo>
                        <a:pt x="178" y="8"/>
                      </a:lnTo>
                      <a:lnTo>
                        <a:pt x="248" y="0"/>
                      </a:lnTo>
                      <a:close/>
                    </a:path>
                  </a:pathLst>
                </a:custGeom>
                <a:solidFill>
                  <a:srgbClr val="7386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4593240" y="3360600"/>
                  <a:ext cx="24480" cy="31320"/>
                </a:xfrm>
                <a:custGeom>
                  <a:avLst/>
                  <a:gdLst/>
                  <a:ahLst/>
                  <a:rect l="l" t="t" r="r" b="b"/>
                  <a:pathLst>
                    <a:path w="245" h="592">
                      <a:moveTo>
                        <a:pt x="245" y="0"/>
                      </a:moveTo>
                      <a:lnTo>
                        <a:pt x="206" y="579"/>
                      </a:lnTo>
                      <a:lnTo>
                        <a:pt x="137" y="585"/>
                      </a:lnTo>
                      <a:lnTo>
                        <a:pt x="68" y="589"/>
                      </a:lnTo>
                      <a:lnTo>
                        <a:pt x="0" y="592"/>
                      </a:lnTo>
                      <a:lnTo>
                        <a:pt x="32" y="13"/>
                      </a:lnTo>
                      <a:lnTo>
                        <a:pt x="104" y="10"/>
                      </a:lnTo>
                      <a:lnTo>
                        <a:pt x="174" y="5"/>
                      </a:lnTo>
                      <a:lnTo>
                        <a:pt x="245" y="0"/>
                      </a:lnTo>
                      <a:close/>
                    </a:path>
                  </a:pathLst>
                </a:custGeom>
                <a:solidFill>
                  <a:srgbClr val="6f7f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4572720" y="3360600"/>
                  <a:ext cx="24840" cy="31320"/>
                </a:xfrm>
                <a:custGeom>
                  <a:avLst/>
                  <a:gdLst/>
                  <a:ahLst/>
                  <a:rect l="l" t="t" r="r" b="b"/>
                  <a:pathLst>
                    <a:path w="243" h="584">
                      <a:moveTo>
                        <a:pt x="243" y="0"/>
                      </a:moveTo>
                      <a:lnTo>
                        <a:pt x="211" y="579"/>
                      </a:lnTo>
                      <a:lnTo>
                        <a:pt x="141" y="581"/>
                      </a:lnTo>
                      <a:lnTo>
                        <a:pt x="71" y="583"/>
                      </a:lnTo>
                      <a:lnTo>
                        <a:pt x="0" y="584"/>
                      </a:lnTo>
                      <a:lnTo>
                        <a:pt x="28" y="5"/>
                      </a:lnTo>
                      <a:lnTo>
                        <a:pt x="100" y="5"/>
                      </a:lnTo>
                      <a:lnTo>
                        <a:pt x="172" y="3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6b78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4559040" y="3360600"/>
                  <a:ext cx="16200" cy="31320"/>
                </a:xfrm>
                <a:custGeom>
                  <a:avLst/>
                  <a:gdLst/>
                  <a:ahLst/>
                  <a:rect l="l" t="t" r="r" b="b"/>
                  <a:pathLst>
                    <a:path w="169" h="579">
                      <a:moveTo>
                        <a:pt x="169" y="0"/>
                      </a:moveTo>
                      <a:lnTo>
                        <a:pt x="141" y="579"/>
                      </a:lnTo>
                      <a:lnTo>
                        <a:pt x="71" y="579"/>
                      </a:lnTo>
                      <a:lnTo>
                        <a:pt x="0" y="578"/>
                      </a:lnTo>
                      <a:lnTo>
                        <a:pt x="22" y="0"/>
                      </a:lnTo>
                      <a:lnTo>
                        <a:pt x="96" y="1"/>
                      </a:lnTo>
                      <a:lnTo>
                        <a:pt x="169" y="0"/>
                      </a:lnTo>
                      <a:close/>
                    </a:path>
                  </a:pathLst>
                </a:custGeom>
                <a:solidFill>
                  <a:srgbClr val="6671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4520520" y="3359520"/>
                  <a:ext cx="40680" cy="32400"/>
                </a:xfrm>
                <a:custGeom>
                  <a:avLst/>
                  <a:gdLst/>
                  <a:ahLst/>
                  <a:rect l="l" t="t" r="r" b="b"/>
                  <a:pathLst>
                    <a:path w="412" h="607">
                      <a:moveTo>
                        <a:pt x="412" y="29"/>
                      </a:moveTo>
                      <a:lnTo>
                        <a:pt x="390" y="607"/>
                      </a:lnTo>
                      <a:lnTo>
                        <a:pt x="0" y="579"/>
                      </a:lnTo>
                      <a:lnTo>
                        <a:pt x="11" y="0"/>
                      </a:lnTo>
                      <a:lnTo>
                        <a:pt x="412" y="29"/>
                      </a:lnTo>
                      <a:close/>
                    </a:path>
                  </a:pathLst>
                </a:custGeom>
                <a:solidFill>
                  <a:srgbClr val="5c63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4501440" y="3358440"/>
                  <a:ext cx="20160" cy="32400"/>
                </a:xfrm>
                <a:custGeom>
                  <a:avLst/>
                  <a:gdLst/>
                  <a:ahLst/>
                  <a:rect l="l" t="t" r="r" b="b"/>
                  <a:pathLst>
                    <a:path w="208" h="609">
                      <a:moveTo>
                        <a:pt x="208" y="30"/>
                      </a:moveTo>
                      <a:lnTo>
                        <a:pt x="197" y="609"/>
                      </a:lnTo>
                      <a:lnTo>
                        <a:pt x="99" y="595"/>
                      </a:lnTo>
                      <a:lnTo>
                        <a:pt x="0" y="581"/>
                      </a:lnTo>
                      <a:lnTo>
                        <a:pt x="6" y="0"/>
                      </a:lnTo>
                      <a:lnTo>
                        <a:pt x="107" y="16"/>
                      </a:lnTo>
                      <a:lnTo>
                        <a:pt x="208" y="30"/>
                      </a:lnTo>
                      <a:close/>
                    </a:path>
                  </a:pathLst>
                </a:custGeom>
                <a:solidFill>
                  <a:srgbClr val="5052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4482000" y="3355920"/>
                  <a:ext cx="20160" cy="32400"/>
                </a:xfrm>
                <a:custGeom>
                  <a:avLst/>
                  <a:gdLst/>
                  <a:ahLst/>
                  <a:rect l="l" t="t" r="r" b="b"/>
                  <a:pathLst>
                    <a:path w="202" h="618">
                      <a:moveTo>
                        <a:pt x="202" y="37"/>
                      </a:moveTo>
                      <a:lnTo>
                        <a:pt x="196" y="618"/>
                      </a:lnTo>
                      <a:lnTo>
                        <a:pt x="99" y="600"/>
                      </a:lnTo>
                      <a:lnTo>
                        <a:pt x="0" y="581"/>
                      </a:lnTo>
                      <a:lnTo>
                        <a:pt x="0" y="0"/>
                      </a:lnTo>
                      <a:lnTo>
                        <a:pt x="101" y="19"/>
                      </a:lnTo>
                      <a:lnTo>
                        <a:pt x="202" y="37"/>
                      </a:lnTo>
                      <a:close/>
                    </a:path>
                  </a:pathLst>
                </a:custGeom>
                <a:solidFill>
                  <a:srgbClr val="4949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4463280" y="3353760"/>
                  <a:ext cx="18720" cy="33480"/>
                </a:xfrm>
                <a:custGeom>
                  <a:avLst/>
                  <a:gdLst/>
                  <a:ahLst/>
                  <a:rect l="l" t="t" r="r" b="b"/>
                  <a:pathLst>
                    <a:path w="201" h="626">
                      <a:moveTo>
                        <a:pt x="201" y="45"/>
                      </a:moveTo>
                      <a:lnTo>
                        <a:pt x="201" y="626"/>
                      </a:lnTo>
                      <a:lnTo>
                        <a:pt x="104" y="605"/>
                      </a:lnTo>
                      <a:lnTo>
                        <a:pt x="8" y="584"/>
                      </a:lnTo>
                      <a:lnTo>
                        <a:pt x="0" y="0"/>
                      </a:lnTo>
                      <a:lnTo>
                        <a:pt x="101" y="24"/>
                      </a:lnTo>
                      <a:lnTo>
                        <a:pt x="201" y="45"/>
                      </a:lnTo>
                      <a:close/>
                    </a:path>
                  </a:pathLst>
                </a:custGeom>
                <a:solidFill>
                  <a:srgbClr val="414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4443840" y="3350520"/>
                  <a:ext cx="19080" cy="34920"/>
                </a:xfrm>
                <a:custGeom>
                  <a:avLst/>
                  <a:gdLst/>
                  <a:ahLst/>
                  <a:rect l="l" t="t" r="r" b="b"/>
                  <a:pathLst>
                    <a:path w="206" h="635">
                      <a:moveTo>
                        <a:pt x="198" y="51"/>
                      </a:moveTo>
                      <a:lnTo>
                        <a:pt x="206" y="635"/>
                      </a:lnTo>
                      <a:lnTo>
                        <a:pt x="108" y="610"/>
                      </a:lnTo>
                      <a:lnTo>
                        <a:pt x="13" y="584"/>
                      </a:lnTo>
                      <a:lnTo>
                        <a:pt x="0" y="0"/>
                      </a:lnTo>
                      <a:lnTo>
                        <a:pt x="99" y="26"/>
                      </a:lnTo>
                      <a:lnTo>
                        <a:pt x="198" y="51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4424760" y="3347280"/>
                  <a:ext cx="20160" cy="34560"/>
                </a:xfrm>
                <a:custGeom>
                  <a:avLst/>
                  <a:gdLst/>
                  <a:ahLst/>
                  <a:rect l="l" t="t" r="r" b="b"/>
                  <a:pathLst>
                    <a:path w="207" h="644">
                      <a:moveTo>
                        <a:pt x="194" y="60"/>
                      </a:moveTo>
                      <a:lnTo>
                        <a:pt x="207" y="644"/>
                      </a:lnTo>
                      <a:lnTo>
                        <a:pt x="111" y="615"/>
                      </a:lnTo>
                      <a:lnTo>
                        <a:pt x="17" y="586"/>
                      </a:lnTo>
                      <a:lnTo>
                        <a:pt x="0" y="0"/>
                      </a:lnTo>
                      <a:lnTo>
                        <a:pt x="97" y="31"/>
                      </a:lnTo>
                      <a:lnTo>
                        <a:pt x="194" y="60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4405320" y="3343680"/>
                  <a:ext cx="20520" cy="34920"/>
                </a:xfrm>
                <a:custGeom>
                  <a:avLst/>
                  <a:gdLst/>
                  <a:ahLst/>
                  <a:rect l="l" t="t" r="r" b="b"/>
                  <a:pathLst>
                    <a:path w="210" h="654">
                      <a:moveTo>
                        <a:pt x="193" y="68"/>
                      </a:moveTo>
                      <a:lnTo>
                        <a:pt x="210" y="654"/>
                      </a:lnTo>
                      <a:lnTo>
                        <a:pt x="117" y="622"/>
                      </a:lnTo>
                      <a:lnTo>
                        <a:pt x="23" y="588"/>
                      </a:lnTo>
                      <a:lnTo>
                        <a:pt x="0" y="0"/>
                      </a:lnTo>
                      <a:lnTo>
                        <a:pt x="96" y="36"/>
                      </a:lnTo>
                      <a:lnTo>
                        <a:pt x="193" y="68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4387680" y="3340080"/>
                  <a:ext cx="20160" cy="34920"/>
                </a:xfrm>
                <a:custGeom>
                  <a:avLst/>
                  <a:gdLst/>
                  <a:ahLst/>
                  <a:rect l="l" t="t" r="r" b="b"/>
                  <a:pathLst>
                    <a:path w="211" h="664">
                      <a:moveTo>
                        <a:pt x="188" y="76"/>
                      </a:moveTo>
                      <a:lnTo>
                        <a:pt x="211" y="664"/>
                      </a:lnTo>
                      <a:lnTo>
                        <a:pt x="120" y="628"/>
                      </a:lnTo>
                      <a:lnTo>
                        <a:pt x="29" y="590"/>
                      </a:lnTo>
                      <a:lnTo>
                        <a:pt x="0" y="0"/>
                      </a:lnTo>
                      <a:lnTo>
                        <a:pt x="94" y="40"/>
                      </a:lnTo>
                      <a:lnTo>
                        <a:pt x="188" y="76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4370040" y="3335760"/>
                  <a:ext cx="20160" cy="36000"/>
                </a:xfrm>
                <a:custGeom>
                  <a:avLst/>
                  <a:gdLst/>
                  <a:ahLst/>
                  <a:rect l="l" t="t" r="r" b="b"/>
                  <a:pathLst>
                    <a:path w="212" h="674">
                      <a:moveTo>
                        <a:pt x="183" y="84"/>
                      </a:moveTo>
                      <a:lnTo>
                        <a:pt x="212" y="674"/>
                      </a:lnTo>
                      <a:lnTo>
                        <a:pt x="123" y="634"/>
                      </a:lnTo>
                      <a:lnTo>
                        <a:pt x="33" y="591"/>
                      </a:lnTo>
                      <a:lnTo>
                        <a:pt x="0" y="0"/>
                      </a:lnTo>
                      <a:lnTo>
                        <a:pt x="91" y="43"/>
                      </a:lnTo>
                      <a:lnTo>
                        <a:pt x="183" y="84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4352040" y="3330000"/>
                  <a:ext cx="20520" cy="37080"/>
                </a:xfrm>
                <a:custGeom>
                  <a:avLst/>
                  <a:gdLst/>
                  <a:ahLst/>
                  <a:rect l="l" t="t" r="r" b="b"/>
                  <a:pathLst>
                    <a:path w="212" h="686">
                      <a:moveTo>
                        <a:pt x="179" y="95"/>
                      </a:moveTo>
                      <a:lnTo>
                        <a:pt x="212" y="686"/>
                      </a:lnTo>
                      <a:lnTo>
                        <a:pt x="125" y="642"/>
                      </a:lnTo>
                      <a:lnTo>
                        <a:pt x="39" y="595"/>
                      </a:lnTo>
                      <a:lnTo>
                        <a:pt x="0" y="0"/>
                      </a:lnTo>
                      <a:lnTo>
                        <a:pt x="89" y="48"/>
                      </a:lnTo>
                      <a:lnTo>
                        <a:pt x="179" y="95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4335480" y="3324240"/>
                  <a:ext cx="20520" cy="37080"/>
                </a:xfrm>
                <a:custGeom>
                  <a:avLst/>
                  <a:gdLst/>
                  <a:ahLst/>
                  <a:rect l="l" t="t" r="r" b="b"/>
                  <a:pathLst>
                    <a:path w="211" h="698">
                      <a:moveTo>
                        <a:pt x="172" y="103"/>
                      </a:moveTo>
                      <a:lnTo>
                        <a:pt x="211" y="698"/>
                      </a:lnTo>
                      <a:lnTo>
                        <a:pt x="127" y="649"/>
                      </a:lnTo>
                      <a:lnTo>
                        <a:pt x="44" y="598"/>
                      </a:lnTo>
                      <a:lnTo>
                        <a:pt x="0" y="0"/>
                      </a:lnTo>
                      <a:lnTo>
                        <a:pt x="86" y="53"/>
                      </a:lnTo>
                      <a:lnTo>
                        <a:pt x="172" y="10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4319280" y="3318840"/>
                  <a:ext cx="20160" cy="38160"/>
                </a:xfrm>
                <a:custGeom>
                  <a:avLst/>
                  <a:gdLst/>
                  <a:ahLst/>
                  <a:rect l="l" t="t" r="r" b="b"/>
                  <a:pathLst>
                    <a:path w="210" h="710">
                      <a:moveTo>
                        <a:pt x="166" y="112"/>
                      </a:moveTo>
                      <a:lnTo>
                        <a:pt x="210" y="710"/>
                      </a:lnTo>
                      <a:lnTo>
                        <a:pt x="129" y="656"/>
                      </a:lnTo>
                      <a:lnTo>
                        <a:pt x="49" y="599"/>
                      </a:lnTo>
                      <a:lnTo>
                        <a:pt x="0" y="0"/>
                      </a:lnTo>
                      <a:lnTo>
                        <a:pt x="82" y="57"/>
                      </a:lnTo>
                      <a:lnTo>
                        <a:pt x="166" y="112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4302720" y="3312000"/>
                  <a:ext cx="20160" cy="38160"/>
                </a:xfrm>
                <a:custGeom>
                  <a:avLst/>
                  <a:gdLst/>
                  <a:ahLst/>
                  <a:rect l="l" t="t" r="r" b="b"/>
                  <a:pathLst>
                    <a:path w="208" h="722">
                      <a:moveTo>
                        <a:pt x="159" y="123"/>
                      </a:moveTo>
                      <a:lnTo>
                        <a:pt x="208" y="722"/>
                      </a:lnTo>
                      <a:lnTo>
                        <a:pt x="130" y="664"/>
                      </a:lnTo>
                      <a:lnTo>
                        <a:pt x="53" y="604"/>
                      </a:lnTo>
                      <a:lnTo>
                        <a:pt x="0" y="0"/>
                      </a:lnTo>
                      <a:lnTo>
                        <a:pt x="79" y="62"/>
                      </a:lnTo>
                      <a:lnTo>
                        <a:pt x="159" y="12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4289040" y="3305160"/>
                  <a:ext cx="18720" cy="39600"/>
                </a:xfrm>
                <a:custGeom>
                  <a:avLst/>
                  <a:gdLst/>
                  <a:ahLst/>
                  <a:rect l="l" t="t" r="r" b="b"/>
                  <a:pathLst>
                    <a:path w="205" h="737">
                      <a:moveTo>
                        <a:pt x="152" y="133"/>
                      </a:moveTo>
                      <a:lnTo>
                        <a:pt x="205" y="737"/>
                      </a:lnTo>
                      <a:lnTo>
                        <a:pt x="130" y="673"/>
                      </a:lnTo>
                      <a:lnTo>
                        <a:pt x="57" y="608"/>
                      </a:lnTo>
                      <a:lnTo>
                        <a:pt x="0" y="0"/>
                      </a:lnTo>
                      <a:lnTo>
                        <a:pt x="75" y="68"/>
                      </a:lnTo>
                      <a:lnTo>
                        <a:pt x="152" y="13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4273920" y="3297600"/>
                  <a:ext cx="20160" cy="40320"/>
                </a:xfrm>
                <a:custGeom>
                  <a:avLst/>
                  <a:gdLst/>
                  <a:ahLst/>
                  <a:rect l="l" t="t" r="r" b="b"/>
                  <a:pathLst>
                    <a:path w="201" h="751">
                      <a:moveTo>
                        <a:pt x="144" y="143"/>
                      </a:moveTo>
                      <a:lnTo>
                        <a:pt x="201" y="751"/>
                      </a:lnTo>
                      <a:lnTo>
                        <a:pt x="132" y="682"/>
                      </a:lnTo>
                      <a:lnTo>
                        <a:pt x="63" y="611"/>
                      </a:lnTo>
                      <a:lnTo>
                        <a:pt x="0" y="0"/>
                      </a:lnTo>
                      <a:lnTo>
                        <a:pt x="71" y="73"/>
                      </a:lnTo>
                      <a:lnTo>
                        <a:pt x="144" y="143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4261680" y="3289680"/>
                  <a:ext cx="19080" cy="40320"/>
                </a:xfrm>
                <a:custGeom>
                  <a:avLst/>
                  <a:gdLst/>
                  <a:ahLst/>
                  <a:rect l="l" t="t" r="r" b="b"/>
                  <a:pathLst>
                    <a:path w="197" h="764">
                      <a:moveTo>
                        <a:pt x="134" y="153"/>
                      </a:moveTo>
                      <a:lnTo>
                        <a:pt x="197" y="764"/>
                      </a:lnTo>
                      <a:lnTo>
                        <a:pt x="130" y="691"/>
                      </a:lnTo>
                      <a:lnTo>
                        <a:pt x="66" y="615"/>
                      </a:lnTo>
                      <a:lnTo>
                        <a:pt x="0" y="0"/>
                      </a:lnTo>
                      <a:lnTo>
                        <a:pt x="67" y="78"/>
                      </a:lnTo>
                      <a:lnTo>
                        <a:pt x="134" y="153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4249440" y="3280320"/>
                  <a:ext cx="17640" cy="41760"/>
                </a:xfrm>
                <a:custGeom>
                  <a:avLst/>
                  <a:gdLst/>
                  <a:ahLst/>
                  <a:rect l="l" t="t" r="r" b="b"/>
                  <a:pathLst>
                    <a:path w="191" h="780">
                      <a:moveTo>
                        <a:pt x="125" y="165"/>
                      </a:moveTo>
                      <a:lnTo>
                        <a:pt x="191" y="780"/>
                      </a:lnTo>
                      <a:lnTo>
                        <a:pt x="129" y="701"/>
                      </a:lnTo>
                      <a:lnTo>
                        <a:pt x="70" y="620"/>
                      </a:lnTo>
                      <a:lnTo>
                        <a:pt x="0" y="0"/>
                      </a:lnTo>
                      <a:lnTo>
                        <a:pt x="62" y="83"/>
                      </a:lnTo>
                      <a:lnTo>
                        <a:pt x="125" y="165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4231440" y="3279240"/>
                  <a:ext cx="24840" cy="33480"/>
                </a:xfrm>
                <a:custGeom>
                  <a:avLst/>
                  <a:gdLst/>
                  <a:ahLst/>
                  <a:rect l="l" t="t" r="r" b="b"/>
                  <a:pathLst>
                    <a:path w="250" h="643">
                      <a:moveTo>
                        <a:pt x="180" y="23"/>
                      </a:moveTo>
                      <a:lnTo>
                        <a:pt x="250" y="643"/>
                      </a:lnTo>
                      <a:lnTo>
                        <a:pt x="162" y="632"/>
                      </a:lnTo>
                      <a:lnTo>
                        <a:pt x="73" y="621"/>
                      </a:lnTo>
                      <a:lnTo>
                        <a:pt x="0" y="0"/>
                      </a:lnTo>
                      <a:lnTo>
                        <a:pt x="90" y="13"/>
                      </a:lnTo>
                      <a:lnTo>
                        <a:pt x="180" y="23"/>
                      </a:lnTo>
                      <a:close/>
                    </a:path>
                  </a:pathLst>
                </a:custGeom>
                <a:solidFill>
                  <a:srgbClr val="5356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4213800" y="3277080"/>
                  <a:ext cx="24480" cy="34920"/>
                </a:xfrm>
                <a:custGeom>
                  <a:avLst/>
                  <a:gdLst/>
                  <a:ahLst/>
                  <a:rect l="l" t="t" r="r" b="b"/>
                  <a:pathLst>
                    <a:path w="254" h="650">
                      <a:moveTo>
                        <a:pt x="181" y="29"/>
                      </a:moveTo>
                      <a:lnTo>
                        <a:pt x="254" y="650"/>
                      </a:lnTo>
                      <a:lnTo>
                        <a:pt x="167" y="636"/>
                      </a:lnTo>
                      <a:lnTo>
                        <a:pt x="80" y="621"/>
                      </a:lnTo>
                      <a:lnTo>
                        <a:pt x="0" y="0"/>
                      </a:lnTo>
                      <a:lnTo>
                        <a:pt x="90" y="16"/>
                      </a:lnTo>
                      <a:lnTo>
                        <a:pt x="181" y="29"/>
                      </a:lnTo>
                      <a:close/>
                    </a:path>
                  </a:pathLst>
                </a:custGeom>
                <a:solidFill>
                  <a:srgbClr val="4c4d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4195800" y="327600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258" h="656">
                      <a:moveTo>
                        <a:pt x="178" y="35"/>
                      </a:moveTo>
                      <a:lnTo>
                        <a:pt x="258" y="656"/>
                      </a:lnTo>
                      <a:lnTo>
                        <a:pt x="171" y="639"/>
                      </a:lnTo>
                      <a:lnTo>
                        <a:pt x="85" y="621"/>
                      </a:lnTo>
                      <a:lnTo>
                        <a:pt x="0" y="0"/>
                      </a:lnTo>
                      <a:lnTo>
                        <a:pt x="89" y="18"/>
                      </a:lnTo>
                      <a:lnTo>
                        <a:pt x="178" y="35"/>
                      </a:lnTo>
                      <a:close/>
                    </a:path>
                  </a:pathLst>
                </a:custGeom>
                <a:solidFill>
                  <a:srgbClr val="4544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4179600" y="3272760"/>
                  <a:ext cx="24480" cy="36000"/>
                </a:xfrm>
                <a:custGeom>
                  <a:avLst/>
                  <a:gdLst/>
                  <a:ahLst/>
                  <a:rect l="l" t="t" r="r" b="b"/>
                  <a:pathLst>
                    <a:path w="262" h="665">
                      <a:moveTo>
                        <a:pt x="177" y="44"/>
                      </a:moveTo>
                      <a:lnTo>
                        <a:pt x="262" y="665"/>
                      </a:lnTo>
                      <a:lnTo>
                        <a:pt x="176" y="646"/>
                      </a:lnTo>
                      <a:lnTo>
                        <a:pt x="89" y="624"/>
                      </a:lnTo>
                      <a:lnTo>
                        <a:pt x="0" y="0"/>
                      </a:lnTo>
                      <a:lnTo>
                        <a:pt x="88" y="23"/>
                      </a:lnTo>
                      <a:lnTo>
                        <a:pt x="177" y="44"/>
                      </a:lnTo>
                      <a:close/>
                    </a:path>
                  </a:pathLst>
                </a:custGeom>
                <a:solidFill>
                  <a:srgbClr val="3c39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4161600" y="3270600"/>
                  <a:ext cx="25920" cy="36000"/>
                </a:xfrm>
                <a:custGeom>
                  <a:avLst/>
                  <a:gdLst/>
                  <a:ahLst/>
                  <a:rect l="l" t="t" r="r" b="b"/>
                  <a:pathLst>
                    <a:path w="264" h="673">
                      <a:moveTo>
                        <a:pt x="175" y="49"/>
                      </a:moveTo>
                      <a:lnTo>
                        <a:pt x="264" y="673"/>
                      </a:lnTo>
                      <a:lnTo>
                        <a:pt x="179" y="649"/>
                      </a:lnTo>
                      <a:lnTo>
                        <a:pt x="95" y="624"/>
                      </a:lnTo>
                      <a:lnTo>
                        <a:pt x="0" y="0"/>
                      </a:lnTo>
                      <a:lnTo>
                        <a:pt x="87" y="25"/>
                      </a:lnTo>
                      <a:lnTo>
                        <a:pt x="175" y="4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4145400" y="3267000"/>
                  <a:ext cx="25560" cy="36720"/>
                </a:xfrm>
                <a:custGeom>
                  <a:avLst/>
                  <a:gdLst/>
                  <a:ahLst/>
                  <a:rect l="l" t="t" r="r" b="b"/>
                  <a:pathLst>
                    <a:path w="266" h="681">
                      <a:moveTo>
                        <a:pt x="171" y="57"/>
                      </a:moveTo>
                      <a:lnTo>
                        <a:pt x="266" y="681"/>
                      </a:lnTo>
                      <a:lnTo>
                        <a:pt x="182" y="654"/>
                      </a:lnTo>
                      <a:lnTo>
                        <a:pt x="99" y="625"/>
                      </a:lnTo>
                      <a:lnTo>
                        <a:pt x="0" y="0"/>
                      </a:lnTo>
                      <a:lnTo>
                        <a:pt x="85" y="29"/>
                      </a:lnTo>
                      <a:lnTo>
                        <a:pt x="171" y="57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4128840" y="3263400"/>
                  <a:ext cx="25560" cy="37080"/>
                </a:xfrm>
                <a:custGeom>
                  <a:avLst/>
                  <a:gdLst/>
                  <a:ahLst/>
                  <a:rect l="l" t="t" r="r" b="b"/>
                  <a:pathLst>
                    <a:path w="269" h="690">
                      <a:moveTo>
                        <a:pt x="170" y="65"/>
                      </a:moveTo>
                      <a:lnTo>
                        <a:pt x="269" y="690"/>
                      </a:lnTo>
                      <a:lnTo>
                        <a:pt x="187" y="660"/>
                      </a:lnTo>
                      <a:lnTo>
                        <a:pt x="105" y="628"/>
                      </a:lnTo>
                      <a:lnTo>
                        <a:pt x="0" y="0"/>
                      </a:lnTo>
                      <a:lnTo>
                        <a:pt x="84" y="33"/>
                      </a:lnTo>
                      <a:lnTo>
                        <a:pt x="170" y="65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4112280" y="3260160"/>
                  <a:ext cx="25560" cy="37080"/>
                </a:xfrm>
                <a:custGeom>
                  <a:avLst/>
                  <a:gdLst/>
                  <a:ahLst/>
                  <a:rect l="l" t="t" r="r" b="b"/>
                  <a:pathLst>
                    <a:path w="270" h="700">
                      <a:moveTo>
                        <a:pt x="165" y="72"/>
                      </a:moveTo>
                      <a:lnTo>
                        <a:pt x="270" y="700"/>
                      </a:lnTo>
                      <a:lnTo>
                        <a:pt x="190" y="666"/>
                      </a:lnTo>
                      <a:lnTo>
                        <a:pt x="110" y="629"/>
                      </a:lnTo>
                      <a:lnTo>
                        <a:pt x="0" y="0"/>
                      </a:lnTo>
                      <a:lnTo>
                        <a:pt x="82" y="37"/>
                      </a:lnTo>
                      <a:lnTo>
                        <a:pt x="165" y="72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4097160" y="3255480"/>
                  <a:ext cx="25920" cy="38160"/>
                </a:xfrm>
                <a:custGeom>
                  <a:avLst/>
                  <a:gdLst/>
                  <a:ahLst/>
                  <a:rect l="l" t="t" r="r" b="b"/>
                  <a:pathLst>
                    <a:path w="270" h="709">
                      <a:moveTo>
                        <a:pt x="160" y="80"/>
                      </a:moveTo>
                      <a:lnTo>
                        <a:pt x="270" y="709"/>
                      </a:lnTo>
                      <a:lnTo>
                        <a:pt x="191" y="672"/>
                      </a:lnTo>
                      <a:lnTo>
                        <a:pt x="114" y="632"/>
                      </a:lnTo>
                      <a:lnTo>
                        <a:pt x="0" y="0"/>
                      </a:lnTo>
                      <a:lnTo>
                        <a:pt x="80" y="41"/>
                      </a:lnTo>
                      <a:lnTo>
                        <a:pt x="160" y="80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4080600" y="325116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270" h="719">
                      <a:moveTo>
                        <a:pt x="156" y="87"/>
                      </a:moveTo>
                      <a:lnTo>
                        <a:pt x="270" y="719"/>
                      </a:lnTo>
                      <a:lnTo>
                        <a:pt x="193" y="677"/>
                      </a:lnTo>
                      <a:lnTo>
                        <a:pt x="118" y="634"/>
                      </a:lnTo>
                      <a:lnTo>
                        <a:pt x="0" y="0"/>
                      </a:lnTo>
                      <a:lnTo>
                        <a:pt x="77" y="44"/>
                      </a:lnTo>
                      <a:lnTo>
                        <a:pt x="156" y="87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4066920" y="3245760"/>
                  <a:ext cx="25920" cy="39240"/>
                </a:xfrm>
                <a:custGeom>
                  <a:avLst/>
                  <a:gdLst/>
                  <a:ahLst/>
                  <a:rect l="l" t="t" r="r" b="b"/>
                  <a:pathLst>
                    <a:path w="268" h="730">
                      <a:moveTo>
                        <a:pt x="150" y="96"/>
                      </a:moveTo>
                      <a:lnTo>
                        <a:pt x="268" y="730"/>
                      </a:lnTo>
                      <a:lnTo>
                        <a:pt x="195" y="684"/>
                      </a:lnTo>
                      <a:lnTo>
                        <a:pt x="122" y="636"/>
                      </a:lnTo>
                      <a:lnTo>
                        <a:pt x="0" y="0"/>
                      </a:lnTo>
                      <a:lnTo>
                        <a:pt x="75" y="49"/>
                      </a:lnTo>
                      <a:lnTo>
                        <a:pt x="150" y="96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4052160" y="3240000"/>
                  <a:ext cx="25560" cy="40320"/>
                </a:xfrm>
                <a:custGeom>
                  <a:avLst/>
                  <a:gdLst/>
                  <a:ahLst/>
                  <a:rect l="l" t="t" r="r" b="b"/>
                  <a:pathLst>
                    <a:path w="268" h="740">
                      <a:moveTo>
                        <a:pt x="146" y="104"/>
                      </a:moveTo>
                      <a:lnTo>
                        <a:pt x="268" y="740"/>
                      </a:lnTo>
                      <a:lnTo>
                        <a:pt x="197" y="691"/>
                      </a:lnTo>
                      <a:lnTo>
                        <a:pt x="127" y="639"/>
                      </a:lnTo>
                      <a:lnTo>
                        <a:pt x="0" y="0"/>
                      </a:lnTo>
                      <a:lnTo>
                        <a:pt x="72" y="53"/>
                      </a:lnTo>
                      <a:lnTo>
                        <a:pt x="146" y="104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4038480" y="3234600"/>
                  <a:ext cx="25560" cy="40320"/>
                </a:xfrm>
                <a:custGeom>
                  <a:avLst/>
                  <a:gdLst/>
                  <a:ahLst/>
                  <a:rect l="l" t="t" r="r" b="b"/>
                  <a:pathLst>
                    <a:path w="265" h="752">
                      <a:moveTo>
                        <a:pt x="138" y="113"/>
                      </a:moveTo>
                      <a:lnTo>
                        <a:pt x="265" y="752"/>
                      </a:lnTo>
                      <a:lnTo>
                        <a:pt x="198" y="699"/>
                      </a:lnTo>
                      <a:lnTo>
                        <a:pt x="131" y="643"/>
                      </a:lnTo>
                      <a:lnTo>
                        <a:pt x="0" y="0"/>
                      </a:lnTo>
                      <a:lnTo>
                        <a:pt x="68" y="57"/>
                      </a:lnTo>
                      <a:lnTo>
                        <a:pt x="138" y="11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4025880" y="3227400"/>
                  <a:ext cx="25920" cy="41400"/>
                </a:xfrm>
                <a:custGeom>
                  <a:avLst/>
                  <a:gdLst/>
                  <a:ahLst/>
                  <a:rect l="l" t="t" r="r" b="b"/>
                  <a:pathLst>
                    <a:path w="263" h="764">
                      <a:moveTo>
                        <a:pt x="132" y="121"/>
                      </a:moveTo>
                      <a:lnTo>
                        <a:pt x="263" y="764"/>
                      </a:lnTo>
                      <a:lnTo>
                        <a:pt x="197" y="706"/>
                      </a:lnTo>
                      <a:lnTo>
                        <a:pt x="135" y="646"/>
                      </a:lnTo>
                      <a:lnTo>
                        <a:pt x="0" y="0"/>
                      </a:lnTo>
                      <a:lnTo>
                        <a:pt x="65" y="62"/>
                      </a:lnTo>
                      <a:lnTo>
                        <a:pt x="132" y="121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4013640" y="3220920"/>
                  <a:ext cx="25920" cy="41400"/>
                </a:xfrm>
                <a:custGeom>
                  <a:avLst/>
                  <a:gdLst/>
                  <a:ahLst/>
                  <a:rect l="l" t="t" r="r" b="b"/>
                  <a:pathLst>
                    <a:path w="260" h="776">
                      <a:moveTo>
                        <a:pt x="125" y="130"/>
                      </a:moveTo>
                      <a:lnTo>
                        <a:pt x="260" y="776"/>
                      </a:lnTo>
                      <a:lnTo>
                        <a:pt x="198" y="713"/>
                      </a:lnTo>
                      <a:lnTo>
                        <a:pt x="139" y="650"/>
                      </a:lnTo>
                      <a:lnTo>
                        <a:pt x="0" y="0"/>
                      </a:lnTo>
                      <a:lnTo>
                        <a:pt x="62" y="67"/>
                      </a:lnTo>
                      <a:lnTo>
                        <a:pt x="125" y="130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4002480" y="3213000"/>
                  <a:ext cx="24480" cy="42480"/>
                </a:xfrm>
                <a:custGeom>
                  <a:avLst/>
                  <a:gdLst/>
                  <a:ahLst/>
                  <a:rect l="l" t="t" r="r" b="b"/>
                  <a:pathLst>
                    <a:path w="256" h="788">
                      <a:moveTo>
                        <a:pt x="117" y="138"/>
                      </a:moveTo>
                      <a:lnTo>
                        <a:pt x="256" y="788"/>
                      </a:lnTo>
                      <a:lnTo>
                        <a:pt x="197" y="721"/>
                      </a:lnTo>
                      <a:lnTo>
                        <a:pt x="142" y="653"/>
                      </a:lnTo>
                      <a:lnTo>
                        <a:pt x="0" y="0"/>
                      </a:lnTo>
                      <a:lnTo>
                        <a:pt x="58" y="70"/>
                      </a:lnTo>
                      <a:lnTo>
                        <a:pt x="117" y="138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3950280" y="3150720"/>
                  <a:ext cx="31680" cy="37080"/>
                </a:xfrm>
                <a:custGeom>
                  <a:avLst/>
                  <a:gdLst/>
                  <a:ahLst/>
                  <a:rect l="l" t="t" r="r" b="b"/>
                  <a:pathLst>
                    <a:path w="332" h="686">
                      <a:moveTo>
                        <a:pt x="182" y="0"/>
                      </a:moveTo>
                      <a:lnTo>
                        <a:pt x="332" y="684"/>
                      </a:lnTo>
                      <a:lnTo>
                        <a:pt x="244" y="686"/>
                      </a:lnTo>
                      <a:lnTo>
                        <a:pt x="156" y="685"/>
                      </a:lnTo>
                      <a:lnTo>
                        <a:pt x="0" y="0"/>
                      </a:lnTo>
                      <a:lnTo>
                        <a:pt x="91" y="1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6671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3932640" y="3150720"/>
                  <a:ext cx="32760" cy="37080"/>
                </a:xfrm>
                <a:custGeom>
                  <a:avLst/>
                  <a:gdLst/>
                  <a:ahLst/>
                  <a:rect l="l" t="t" r="r" b="b"/>
                  <a:pathLst>
                    <a:path w="336" h="694">
                      <a:moveTo>
                        <a:pt x="180" y="9"/>
                      </a:moveTo>
                      <a:lnTo>
                        <a:pt x="336" y="694"/>
                      </a:lnTo>
                      <a:lnTo>
                        <a:pt x="249" y="689"/>
                      </a:lnTo>
                      <a:lnTo>
                        <a:pt x="161" y="684"/>
                      </a:lnTo>
                      <a:lnTo>
                        <a:pt x="0" y="0"/>
                      </a:lnTo>
                      <a:lnTo>
                        <a:pt x="90" y="6"/>
                      </a:lnTo>
                      <a:lnTo>
                        <a:pt x="180" y="9"/>
                      </a:lnTo>
                      <a:close/>
                    </a:path>
                  </a:pathLst>
                </a:custGeom>
                <a:solidFill>
                  <a:srgbClr val="5f66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3915000" y="3150000"/>
                  <a:ext cx="32760" cy="36720"/>
                </a:xfrm>
                <a:custGeom>
                  <a:avLst/>
                  <a:gdLst/>
                  <a:ahLst/>
                  <a:rect l="l" t="t" r="r" b="b"/>
                  <a:pathLst>
                    <a:path w="341" h="704">
                      <a:moveTo>
                        <a:pt x="180" y="20"/>
                      </a:moveTo>
                      <a:lnTo>
                        <a:pt x="341" y="704"/>
                      </a:lnTo>
                      <a:lnTo>
                        <a:pt x="253" y="696"/>
                      </a:lnTo>
                      <a:lnTo>
                        <a:pt x="166" y="685"/>
                      </a:lnTo>
                      <a:lnTo>
                        <a:pt x="0" y="0"/>
                      </a:lnTo>
                      <a:lnTo>
                        <a:pt x="89" y="12"/>
                      </a:lnTo>
                      <a:lnTo>
                        <a:pt x="180" y="20"/>
                      </a:lnTo>
                      <a:close/>
                    </a:path>
                  </a:pathLst>
                </a:custGeom>
                <a:solidFill>
                  <a:srgbClr val="5559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3897000" y="3147480"/>
                  <a:ext cx="34200" cy="38160"/>
                </a:xfrm>
                <a:custGeom>
                  <a:avLst/>
                  <a:gdLst/>
                  <a:ahLst/>
                  <a:rect l="l" t="t" r="r" b="b"/>
                  <a:pathLst>
                    <a:path w="343" h="713">
                      <a:moveTo>
                        <a:pt x="177" y="28"/>
                      </a:moveTo>
                      <a:lnTo>
                        <a:pt x="343" y="713"/>
                      </a:lnTo>
                      <a:lnTo>
                        <a:pt x="257" y="700"/>
                      </a:lnTo>
                      <a:lnTo>
                        <a:pt x="171" y="685"/>
                      </a:lnTo>
                      <a:lnTo>
                        <a:pt x="0" y="0"/>
                      </a:lnTo>
                      <a:lnTo>
                        <a:pt x="88" y="16"/>
                      </a:lnTo>
                      <a:lnTo>
                        <a:pt x="177" y="28"/>
                      </a:lnTo>
                      <a:close/>
                    </a:path>
                  </a:pathLst>
                </a:custGeom>
                <a:solidFill>
                  <a:srgbClr val="4c4d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3880440" y="3146400"/>
                  <a:ext cx="32760" cy="38160"/>
                </a:xfrm>
                <a:custGeom>
                  <a:avLst/>
                  <a:gdLst/>
                  <a:ahLst/>
                  <a:rect l="l" t="t" r="r" b="b"/>
                  <a:pathLst>
                    <a:path w="345" h="724">
                      <a:moveTo>
                        <a:pt x="174" y="39"/>
                      </a:moveTo>
                      <a:lnTo>
                        <a:pt x="345" y="724"/>
                      </a:lnTo>
                      <a:lnTo>
                        <a:pt x="261" y="707"/>
                      </a:lnTo>
                      <a:lnTo>
                        <a:pt x="177" y="686"/>
                      </a:lnTo>
                      <a:lnTo>
                        <a:pt x="0" y="0"/>
                      </a:lnTo>
                      <a:lnTo>
                        <a:pt x="87" y="20"/>
                      </a:lnTo>
                      <a:lnTo>
                        <a:pt x="174" y="39"/>
                      </a:lnTo>
                      <a:close/>
                    </a:path>
                  </a:pathLst>
                </a:custGeom>
                <a:solidFill>
                  <a:srgbClr val="3f3e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3864240" y="3142800"/>
                  <a:ext cx="32400" cy="39600"/>
                </a:xfrm>
                <a:custGeom>
                  <a:avLst/>
                  <a:gdLst/>
                  <a:ahLst/>
                  <a:rect l="l" t="t" r="r" b="b"/>
                  <a:pathLst>
                    <a:path w="348" h="735">
                      <a:moveTo>
                        <a:pt x="171" y="49"/>
                      </a:moveTo>
                      <a:lnTo>
                        <a:pt x="348" y="735"/>
                      </a:lnTo>
                      <a:lnTo>
                        <a:pt x="264" y="712"/>
                      </a:lnTo>
                      <a:lnTo>
                        <a:pt x="182" y="687"/>
                      </a:lnTo>
                      <a:lnTo>
                        <a:pt x="0" y="0"/>
                      </a:lnTo>
                      <a:lnTo>
                        <a:pt x="85" y="26"/>
                      </a:lnTo>
                      <a:lnTo>
                        <a:pt x="171" y="4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3848040" y="3139560"/>
                  <a:ext cx="32400" cy="40320"/>
                </a:xfrm>
                <a:custGeom>
                  <a:avLst/>
                  <a:gdLst/>
                  <a:ahLst/>
                  <a:rect l="l" t="t" r="r" b="b"/>
                  <a:pathLst>
                    <a:path w="347" h="747">
                      <a:moveTo>
                        <a:pt x="165" y="60"/>
                      </a:moveTo>
                      <a:lnTo>
                        <a:pt x="347" y="747"/>
                      </a:lnTo>
                      <a:lnTo>
                        <a:pt x="266" y="720"/>
                      </a:lnTo>
                      <a:lnTo>
                        <a:pt x="186" y="690"/>
                      </a:lnTo>
                      <a:lnTo>
                        <a:pt x="0" y="0"/>
                      </a:lnTo>
                      <a:lnTo>
                        <a:pt x="82" y="31"/>
                      </a:lnTo>
                      <a:lnTo>
                        <a:pt x="165" y="60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3831480" y="3136320"/>
                  <a:ext cx="33840" cy="40320"/>
                </a:xfrm>
                <a:custGeom>
                  <a:avLst/>
                  <a:gdLst/>
                  <a:ahLst/>
                  <a:rect l="l" t="t" r="r" b="b"/>
                  <a:pathLst>
                    <a:path w="347" h="759">
                      <a:moveTo>
                        <a:pt x="161" y="69"/>
                      </a:moveTo>
                      <a:lnTo>
                        <a:pt x="347" y="759"/>
                      </a:lnTo>
                      <a:lnTo>
                        <a:pt x="268" y="726"/>
                      </a:lnTo>
                      <a:lnTo>
                        <a:pt x="190" y="692"/>
                      </a:lnTo>
                      <a:lnTo>
                        <a:pt x="0" y="0"/>
                      </a:lnTo>
                      <a:lnTo>
                        <a:pt x="80" y="36"/>
                      </a:lnTo>
                      <a:lnTo>
                        <a:pt x="161" y="6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3816360" y="3131640"/>
                  <a:ext cx="33840" cy="41760"/>
                </a:xfrm>
                <a:custGeom>
                  <a:avLst/>
                  <a:gdLst/>
                  <a:ahLst/>
                  <a:rect l="l" t="t" r="r" b="b"/>
                  <a:pathLst>
                    <a:path w="345" h="771">
                      <a:moveTo>
                        <a:pt x="155" y="79"/>
                      </a:moveTo>
                      <a:lnTo>
                        <a:pt x="345" y="771"/>
                      </a:lnTo>
                      <a:lnTo>
                        <a:pt x="269" y="734"/>
                      </a:lnTo>
                      <a:lnTo>
                        <a:pt x="195" y="693"/>
                      </a:lnTo>
                      <a:lnTo>
                        <a:pt x="0" y="0"/>
                      </a:lnTo>
                      <a:lnTo>
                        <a:pt x="76" y="41"/>
                      </a:lnTo>
                      <a:lnTo>
                        <a:pt x="155" y="7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3802680" y="3127320"/>
                  <a:ext cx="32760" cy="41400"/>
                </a:xfrm>
                <a:custGeom>
                  <a:avLst/>
                  <a:gdLst/>
                  <a:ahLst/>
                  <a:rect l="l" t="t" r="r" b="b"/>
                  <a:pathLst>
                    <a:path w="344" h="782">
                      <a:moveTo>
                        <a:pt x="149" y="89"/>
                      </a:moveTo>
                      <a:lnTo>
                        <a:pt x="344" y="782"/>
                      </a:lnTo>
                      <a:lnTo>
                        <a:pt x="270" y="740"/>
                      </a:lnTo>
                      <a:lnTo>
                        <a:pt x="199" y="695"/>
                      </a:lnTo>
                      <a:lnTo>
                        <a:pt x="0" y="0"/>
                      </a:lnTo>
                      <a:lnTo>
                        <a:pt x="73" y="46"/>
                      </a:lnTo>
                      <a:lnTo>
                        <a:pt x="149" y="89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3787560" y="3121560"/>
                  <a:ext cx="33840" cy="42480"/>
                </a:xfrm>
                <a:custGeom>
                  <a:avLst/>
                  <a:gdLst/>
                  <a:ahLst/>
                  <a:rect l="l" t="t" r="r" b="b"/>
                  <a:pathLst>
                    <a:path w="340" h="795">
                      <a:moveTo>
                        <a:pt x="141" y="100"/>
                      </a:moveTo>
                      <a:lnTo>
                        <a:pt x="340" y="795"/>
                      </a:lnTo>
                      <a:lnTo>
                        <a:pt x="271" y="748"/>
                      </a:lnTo>
                      <a:lnTo>
                        <a:pt x="203" y="698"/>
                      </a:lnTo>
                      <a:lnTo>
                        <a:pt x="0" y="0"/>
                      </a:lnTo>
                      <a:lnTo>
                        <a:pt x="70" y="51"/>
                      </a:lnTo>
                      <a:lnTo>
                        <a:pt x="141" y="100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3775320" y="3116160"/>
                  <a:ext cx="32760" cy="43920"/>
                </a:xfrm>
                <a:custGeom>
                  <a:avLst/>
                  <a:gdLst/>
                  <a:ahLst/>
                  <a:rect l="l" t="t" r="r" b="b"/>
                  <a:pathLst>
                    <a:path w="336" h="809">
                      <a:moveTo>
                        <a:pt x="133" y="111"/>
                      </a:moveTo>
                      <a:lnTo>
                        <a:pt x="336" y="809"/>
                      </a:lnTo>
                      <a:lnTo>
                        <a:pt x="270" y="756"/>
                      </a:lnTo>
                      <a:lnTo>
                        <a:pt x="207" y="701"/>
                      </a:lnTo>
                      <a:lnTo>
                        <a:pt x="0" y="0"/>
                      </a:lnTo>
                      <a:lnTo>
                        <a:pt x="65" y="57"/>
                      </a:lnTo>
                      <a:lnTo>
                        <a:pt x="133" y="111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3762720" y="3109320"/>
                  <a:ext cx="32760" cy="43920"/>
                </a:xfrm>
                <a:custGeom>
                  <a:avLst/>
                  <a:gdLst/>
                  <a:ahLst/>
                  <a:rect l="l" t="t" r="r" b="b"/>
                  <a:pathLst>
                    <a:path w="331" h="822">
                      <a:moveTo>
                        <a:pt x="124" y="121"/>
                      </a:moveTo>
                      <a:lnTo>
                        <a:pt x="331" y="822"/>
                      </a:lnTo>
                      <a:lnTo>
                        <a:pt x="269" y="764"/>
                      </a:lnTo>
                      <a:lnTo>
                        <a:pt x="210" y="705"/>
                      </a:lnTo>
                      <a:lnTo>
                        <a:pt x="0" y="0"/>
                      </a:lnTo>
                      <a:lnTo>
                        <a:pt x="60" y="62"/>
                      </a:lnTo>
                      <a:lnTo>
                        <a:pt x="124" y="121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3751920" y="310248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325" h="837">
                      <a:moveTo>
                        <a:pt x="115" y="132"/>
                      </a:moveTo>
                      <a:lnTo>
                        <a:pt x="325" y="837"/>
                      </a:lnTo>
                      <a:lnTo>
                        <a:pt x="267" y="773"/>
                      </a:lnTo>
                      <a:lnTo>
                        <a:pt x="213" y="709"/>
                      </a:lnTo>
                      <a:lnTo>
                        <a:pt x="0" y="0"/>
                      </a:lnTo>
                      <a:lnTo>
                        <a:pt x="56" y="68"/>
                      </a:lnTo>
                      <a:lnTo>
                        <a:pt x="115" y="132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3741120" y="3094560"/>
                  <a:ext cx="31320" cy="46080"/>
                </a:xfrm>
                <a:custGeom>
                  <a:avLst/>
                  <a:gdLst/>
                  <a:ahLst/>
                  <a:rect l="l" t="t" r="r" b="b"/>
                  <a:pathLst>
                    <a:path w="319" h="850">
                      <a:moveTo>
                        <a:pt x="106" y="141"/>
                      </a:moveTo>
                      <a:lnTo>
                        <a:pt x="319" y="850"/>
                      </a:lnTo>
                      <a:lnTo>
                        <a:pt x="267" y="781"/>
                      </a:lnTo>
                      <a:lnTo>
                        <a:pt x="216" y="711"/>
                      </a:lnTo>
                      <a:lnTo>
                        <a:pt x="0" y="0"/>
                      </a:lnTo>
                      <a:lnTo>
                        <a:pt x="51" y="72"/>
                      </a:lnTo>
                      <a:lnTo>
                        <a:pt x="106" y="141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3732480" y="3086640"/>
                  <a:ext cx="29880" cy="46080"/>
                </a:xfrm>
                <a:custGeom>
                  <a:avLst/>
                  <a:gdLst/>
                  <a:ahLst/>
                  <a:rect l="l" t="t" r="r" b="b"/>
                  <a:pathLst>
                    <a:path w="310" h="864">
                      <a:moveTo>
                        <a:pt x="94" y="153"/>
                      </a:moveTo>
                      <a:lnTo>
                        <a:pt x="310" y="864"/>
                      </a:lnTo>
                      <a:lnTo>
                        <a:pt x="263" y="791"/>
                      </a:lnTo>
                      <a:lnTo>
                        <a:pt x="219" y="715"/>
                      </a:lnTo>
                      <a:lnTo>
                        <a:pt x="0" y="0"/>
                      </a:lnTo>
                      <a:lnTo>
                        <a:pt x="46" y="78"/>
                      </a:lnTo>
                      <a:lnTo>
                        <a:pt x="94" y="153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3966840" y="315072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187" h="722">
                      <a:moveTo>
                        <a:pt x="38" y="40"/>
                      </a:moveTo>
                      <a:lnTo>
                        <a:pt x="187" y="722"/>
                      </a:lnTo>
                      <a:lnTo>
                        <a:pt x="182" y="718"/>
                      </a:lnTo>
                      <a:lnTo>
                        <a:pt x="178" y="713"/>
                      </a:lnTo>
                      <a:lnTo>
                        <a:pt x="173" y="708"/>
                      </a:lnTo>
                      <a:lnTo>
                        <a:pt x="169" y="703"/>
                      </a:lnTo>
                      <a:lnTo>
                        <a:pt x="165" y="698"/>
                      </a:lnTo>
                      <a:lnTo>
                        <a:pt x="160" y="694"/>
                      </a:lnTo>
                      <a:lnTo>
                        <a:pt x="155" y="689"/>
                      </a:lnTo>
                      <a:lnTo>
                        <a:pt x="150" y="684"/>
                      </a:lnTo>
                      <a:lnTo>
                        <a:pt x="0" y="0"/>
                      </a:lnTo>
                      <a:lnTo>
                        <a:pt x="5" y="6"/>
                      </a:lnTo>
                      <a:lnTo>
                        <a:pt x="9" y="11"/>
                      </a:lnTo>
                      <a:lnTo>
                        <a:pt x="14" y="15"/>
                      </a:lnTo>
                      <a:lnTo>
                        <a:pt x="18" y="20"/>
                      </a:lnTo>
                      <a:lnTo>
                        <a:pt x="23" y="25"/>
                      </a:lnTo>
                      <a:lnTo>
                        <a:pt x="28" y="31"/>
                      </a:lnTo>
                      <a:lnTo>
                        <a:pt x="32" y="35"/>
                      </a:lnTo>
                      <a:lnTo>
                        <a:pt x="38" y="40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3991680" y="3205080"/>
                  <a:ext cx="24480" cy="43920"/>
                </a:xfrm>
                <a:custGeom>
                  <a:avLst/>
                  <a:gdLst/>
                  <a:ahLst/>
                  <a:rect l="l" t="t" r="r" b="b"/>
                  <a:pathLst>
                    <a:path w="246" h="814">
                      <a:moveTo>
                        <a:pt x="104" y="161"/>
                      </a:moveTo>
                      <a:lnTo>
                        <a:pt x="246" y="814"/>
                      </a:lnTo>
                      <a:lnTo>
                        <a:pt x="224" y="783"/>
                      </a:lnTo>
                      <a:lnTo>
                        <a:pt x="203" y="752"/>
                      </a:lnTo>
                      <a:lnTo>
                        <a:pt x="182" y="721"/>
                      </a:lnTo>
                      <a:lnTo>
                        <a:pt x="163" y="690"/>
                      </a:lnTo>
                      <a:lnTo>
                        <a:pt x="143" y="657"/>
                      </a:lnTo>
                      <a:lnTo>
                        <a:pt x="0" y="0"/>
                      </a:lnTo>
                      <a:lnTo>
                        <a:pt x="19" y="33"/>
                      </a:lnTo>
                      <a:lnTo>
                        <a:pt x="40" y="65"/>
                      </a:lnTo>
                      <a:lnTo>
                        <a:pt x="60" y="97"/>
                      </a:lnTo>
                      <a:lnTo>
                        <a:pt x="82" y="129"/>
                      </a:lnTo>
                      <a:lnTo>
                        <a:pt x="104" y="161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3983400" y="3196080"/>
                  <a:ext cx="21960" cy="43920"/>
                </a:xfrm>
                <a:custGeom>
                  <a:avLst/>
                  <a:gdLst/>
                  <a:ahLst/>
                  <a:rect l="l" t="t" r="r" b="b"/>
                  <a:pathLst>
                    <a:path w="232" h="822">
                      <a:moveTo>
                        <a:pt x="89" y="165"/>
                      </a:moveTo>
                      <a:lnTo>
                        <a:pt x="232" y="822"/>
                      </a:lnTo>
                      <a:lnTo>
                        <a:pt x="214" y="791"/>
                      </a:lnTo>
                      <a:lnTo>
                        <a:pt x="196" y="759"/>
                      </a:lnTo>
                      <a:lnTo>
                        <a:pt x="179" y="727"/>
                      </a:lnTo>
                      <a:lnTo>
                        <a:pt x="163" y="694"/>
                      </a:lnTo>
                      <a:lnTo>
                        <a:pt x="146" y="661"/>
                      </a:lnTo>
                      <a:lnTo>
                        <a:pt x="0" y="0"/>
                      </a:lnTo>
                      <a:lnTo>
                        <a:pt x="16" y="33"/>
                      </a:lnTo>
                      <a:lnTo>
                        <a:pt x="33" y="66"/>
                      </a:lnTo>
                      <a:lnTo>
                        <a:pt x="51" y="100"/>
                      </a:lnTo>
                      <a:lnTo>
                        <a:pt x="69" y="133"/>
                      </a:lnTo>
                      <a:lnTo>
                        <a:pt x="89" y="165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3975480" y="3184920"/>
                  <a:ext cx="21600" cy="45720"/>
                </a:xfrm>
                <a:custGeom>
                  <a:avLst/>
                  <a:gdLst/>
                  <a:ahLst/>
                  <a:rect l="l" t="t" r="r" b="b"/>
                  <a:pathLst>
                    <a:path w="226" h="869">
                      <a:moveTo>
                        <a:pt x="80" y="208"/>
                      </a:moveTo>
                      <a:lnTo>
                        <a:pt x="226" y="869"/>
                      </a:lnTo>
                      <a:lnTo>
                        <a:pt x="212" y="836"/>
                      </a:lnTo>
                      <a:lnTo>
                        <a:pt x="197" y="802"/>
                      </a:lnTo>
                      <a:lnTo>
                        <a:pt x="184" y="769"/>
                      </a:lnTo>
                      <a:lnTo>
                        <a:pt x="171" y="736"/>
                      </a:lnTo>
                      <a:lnTo>
                        <a:pt x="160" y="702"/>
                      </a:lnTo>
                      <a:lnTo>
                        <a:pt x="148" y="668"/>
                      </a:lnTo>
                      <a:lnTo>
                        <a:pt x="0" y="0"/>
                      </a:lnTo>
                      <a:lnTo>
                        <a:pt x="11" y="36"/>
                      </a:lnTo>
                      <a:lnTo>
                        <a:pt x="23" y="70"/>
                      </a:lnTo>
                      <a:lnTo>
                        <a:pt x="35" y="105"/>
                      </a:lnTo>
                      <a:lnTo>
                        <a:pt x="50" y="139"/>
                      </a:lnTo>
                      <a:lnTo>
                        <a:pt x="64" y="173"/>
                      </a:lnTo>
                      <a:lnTo>
                        <a:pt x="80" y="208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3972600" y="3179160"/>
                  <a:ext cx="17640" cy="41400"/>
                </a:xfrm>
                <a:custGeom>
                  <a:avLst/>
                  <a:gdLst/>
                  <a:ahLst/>
                  <a:rect l="l" t="t" r="r" b="b"/>
                  <a:pathLst>
                    <a:path w="177" h="774">
                      <a:moveTo>
                        <a:pt x="29" y="106"/>
                      </a:moveTo>
                      <a:lnTo>
                        <a:pt x="177" y="774"/>
                      </a:lnTo>
                      <a:lnTo>
                        <a:pt x="167" y="740"/>
                      </a:lnTo>
                      <a:lnTo>
                        <a:pt x="158" y="705"/>
                      </a:lnTo>
                      <a:lnTo>
                        <a:pt x="150" y="670"/>
                      </a:lnTo>
                      <a:lnTo>
                        <a:pt x="0" y="0"/>
                      </a:lnTo>
                      <a:lnTo>
                        <a:pt x="8" y="36"/>
                      </a:lnTo>
                      <a:lnTo>
                        <a:pt x="18" y="71"/>
                      </a:lnTo>
                      <a:lnTo>
                        <a:pt x="29" y="106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3725640" y="3077640"/>
                  <a:ext cx="27000" cy="47160"/>
                </a:xfrm>
                <a:custGeom>
                  <a:avLst/>
                  <a:gdLst/>
                  <a:ahLst/>
                  <a:rect l="l" t="t" r="r" b="b"/>
                  <a:pathLst>
                    <a:path w="289" h="872">
                      <a:moveTo>
                        <a:pt x="70" y="157"/>
                      </a:moveTo>
                      <a:lnTo>
                        <a:pt x="289" y="872"/>
                      </a:lnTo>
                      <a:lnTo>
                        <a:pt x="265" y="821"/>
                      </a:lnTo>
                      <a:lnTo>
                        <a:pt x="242" y="771"/>
                      </a:lnTo>
                      <a:lnTo>
                        <a:pt x="221" y="720"/>
                      </a:lnTo>
                      <a:lnTo>
                        <a:pt x="0" y="0"/>
                      </a:lnTo>
                      <a:lnTo>
                        <a:pt x="22" y="53"/>
                      </a:lnTo>
                      <a:lnTo>
                        <a:pt x="45" y="105"/>
                      </a:lnTo>
                      <a:lnTo>
                        <a:pt x="70" y="157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3720600" y="3069720"/>
                  <a:ext cx="25560" cy="47160"/>
                </a:xfrm>
                <a:custGeom>
                  <a:avLst/>
                  <a:gdLst/>
                  <a:ahLst/>
                  <a:rect l="l" t="t" r="r" b="b"/>
                  <a:pathLst>
                    <a:path w="274" h="875">
                      <a:moveTo>
                        <a:pt x="53" y="155"/>
                      </a:moveTo>
                      <a:lnTo>
                        <a:pt x="274" y="875"/>
                      </a:lnTo>
                      <a:lnTo>
                        <a:pt x="255" y="824"/>
                      </a:lnTo>
                      <a:lnTo>
                        <a:pt x="238" y="774"/>
                      </a:lnTo>
                      <a:lnTo>
                        <a:pt x="221" y="724"/>
                      </a:lnTo>
                      <a:lnTo>
                        <a:pt x="0" y="0"/>
                      </a:lnTo>
                      <a:lnTo>
                        <a:pt x="16" y="52"/>
                      </a:lnTo>
                      <a:lnTo>
                        <a:pt x="33" y="103"/>
                      </a:lnTo>
                      <a:lnTo>
                        <a:pt x="53" y="155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3903840" y="2936880"/>
                  <a:ext cx="28800" cy="49680"/>
                </a:xfrm>
                <a:custGeom>
                  <a:avLst/>
                  <a:gdLst/>
                  <a:ahLst/>
                  <a:rect l="l" t="t" r="r" b="b"/>
                  <a:pathLst>
                    <a:path w="289" h="914">
                      <a:moveTo>
                        <a:pt x="125" y="132"/>
                      </a:moveTo>
                      <a:lnTo>
                        <a:pt x="289" y="914"/>
                      </a:lnTo>
                      <a:lnTo>
                        <a:pt x="256" y="883"/>
                      </a:lnTo>
                      <a:lnTo>
                        <a:pt x="225" y="851"/>
                      </a:lnTo>
                      <a:lnTo>
                        <a:pt x="195" y="818"/>
                      </a:lnTo>
                      <a:lnTo>
                        <a:pt x="168" y="785"/>
                      </a:lnTo>
                      <a:lnTo>
                        <a:pt x="0" y="0"/>
                      </a:lnTo>
                      <a:lnTo>
                        <a:pt x="29" y="33"/>
                      </a:lnTo>
                      <a:lnTo>
                        <a:pt x="60" y="67"/>
                      </a:lnTo>
                      <a:lnTo>
                        <a:pt x="92" y="100"/>
                      </a:lnTo>
                      <a:lnTo>
                        <a:pt x="125" y="132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3891600" y="2927880"/>
                  <a:ext cx="28440" cy="51840"/>
                </a:xfrm>
                <a:custGeom>
                  <a:avLst/>
                  <a:gdLst/>
                  <a:ahLst/>
                  <a:rect l="l" t="t" r="r" b="b"/>
                  <a:pathLst>
                    <a:path w="288" h="961">
                      <a:moveTo>
                        <a:pt x="120" y="176"/>
                      </a:moveTo>
                      <a:lnTo>
                        <a:pt x="288" y="961"/>
                      </a:lnTo>
                      <a:lnTo>
                        <a:pt x="261" y="928"/>
                      </a:lnTo>
                      <a:lnTo>
                        <a:pt x="236" y="894"/>
                      </a:lnTo>
                      <a:lnTo>
                        <a:pt x="213" y="860"/>
                      </a:lnTo>
                      <a:lnTo>
                        <a:pt x="191" y="826"/>
                      </a:lnTo>
                      <a:lnTo>
                        <a:pt x="171" y="790"/>
                      </a:lnTo>
                      <a:lnTo>
                        <a:pt x="0" y="0"/>
                      </a:lnTo>
                      <a:lnTo>
                        <a:pt x="21" y="36"/>
                      </a:lnTo>
                      <a:lnTo>
                        <a:pt x="43" y="72"/>
                      </a:lnTo>
                      <a:lnTo>
                        <a:pt x="68" y="107"/>
                      </a:lnTo>
                      <a:lnTo>
                        <a:pt x="94" y="141"/>
                      </a:lnTo>
                      <a:lnTo>
                        <a:pt x="120" y="176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3884760" y="2917800"/>
                  <a:ext cx="24480" cy="52560"/>
                </a:xfrm>
                <a:custGeom>
                  <a:avLst/>
                  <a:gdLst/>
                  <a:ahLst/>
                  <a:rect l="l" t="t" r="r" b="b"/>
                  <a:pathLst>
                    <a:path w="252" h="978">
                      <a:moveTo>
                        <a:pt x="81" y="188"/>
                      </a:moveTo>
                      <a:lnTo>
                        <a:pt x="252" y="978"/>
                      </a:lnTo>
                      <a:lnTo>
                        <a:pt x="232" y="942"/>
                      </a:lnTo>
                      <a:lnTo>
                        <a:pt x="216" y="906"/>
                      </a:lnTo>
                      <a:lnTo>
                        <a:pt x="199" y="870"/>
                      </a:lnTo>
                      <a:lnTo>
                        <a:pt x="186" y="833"/>
                      </a:lnTo>
                      <a:lnTo>
                        <a:pt x="173" y="795"/>
                      </a:lnTo>
                      <a:lnTo>
                        <a:pt x="0" y="0"/>
                      </a:lnTo>
                      <a:lnTo>
                        <a:pt x="14" y="39"/>
                      </a:lnTo>
                      <a:lnTo>
                        <a:pt x="28" y="76"/>
                      </a:lnTo>
                      <a:lnTo>
                        <a:pt x="43" y="114"/>
                      </a:lnTo>
                      <a:lnTo>
                        <a:pt x="62" y="151"/>
                      </a:lnTo>
                      <a:lnTo>
                        <a:pt x="81" y="188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3882240" y="2913120"/>
                  <a:ext cx="19080" cy="47160"/>
                </a:xfrm>
                <a:custGeom>
                  <a:avLst/>
                  <a:gdLst/>
                  <a:ahLst/>
                  <a:rect l="l" t="t" r="r" b="b"/>
                  <a:pathLst>
                    <a:path w="193" h="873">
                      <a:moveTo>
                        <a:pt x="20" y="78"/>
                      </a:moveTo>
                      <a:lnTo>
                        <a:pt x="193" y="873"/>
                      </a:lnTo>
                      <a:lnTo>
                        <a:pt x="182" y="836"/>
                      </a:lnTo>
                      <a:lnTo>
                        <a:pt x="173" y="798"/>
                      </a:lnTo>
                      <a:lnTo>
                        <a:pt x="0" y="0"/>
                      </a:lnTo>
                      <a:lnTo>
                        <a:pt x="9" y="40"/>
                      </a:lnTo>
                      <a:lnTo>
                        <a:pt x="20" y="78"/>
                      </a:lnTo>
                      <a:close/>
                    </a:path>
                  </a:pathLst>
                </a:custGeom>
                <a:solidFill>
                  <a:srgbClr val="2622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3713400" y="2743200"/>
                  <a:ext cx="1605960" cy="617400"/>
                </a:xfrm>
                <a:custGeom>
                  <a:avLst/>
                  <a:gdLst/>
                  <a:ahLst/>
                  <a:rect l="l" t="t" r="r" b="b"/>
                  <a:pathLst>
                    <a:path w="16408" h="11518">
                      <a:moveTo>
                        <a:pt x="12894" y="1455"/>
                      </a:moveTo>
                      <a:lnTo>
                        <a:pt x="12992" y="1452"/>
                      </a:lnTo>
                      <a:lnTo>
                        <a:pt x="13091" y="1453"/>
                      </a:lnTo>
                      <a:lnTo>
                        <a:pt x="13190" y="1456"/>
                      </a:lnTo>
                      <a:lnTo>
                        <a:pt x="13290" y="1463"/>
                      </a:lnTo>
                      <a:lnTo>
                        <a:pt x="13391" y="1473"/>
                      </a:lnTo>
                      <a:lnTo>
                        <a:pt x="13490" y="1485"/>
                      </a:lnTo>
                      <a:lnTo>
                        <a:pt x="13591" y="1501"/>
                      </a:lnTo>
                      <a:lnTo>
                        <a:pt x="13690" y="1519"/>
                      </a:lnTo>
                      <a:lnTo>
                        <a:pt x="13790" y="1541"/>
                      </a:lnTo>
                      <a:lnTo>
                        <a:pt x="13888" y="1566"/>
                      </a:lnTo>
                      <a:lnTo>
                        <a:pt x="13987" y="1594"/>
                      </a:lnTo>
                      <a:lnTo>
                        <a:pt x="14083" y="1626"/>
                      </a:lnTo>
                      <a:lnTo>
                        <a:pt x="14179" y="1659"/>
                      </a:lnTo>
                      <a:lnTo>
                        <a:pt x="14273" y="1696"/>
                      </a:lnTo>
                      <a:lnTo>
                        <a:pt x="14365" y="1737"/>
                      </a:lnTo>
                      <a:lnTo>
                        <a:pt x="14455" y="1781"/>
                      </a:lnTo>
                      <a:lnTo>
                        <a:pt x="14545" y="1828"/>
                      </a:lnTo>
                      <a:lnTo>
                        <a:pt x="14631" y="1878"/>
                      </a:lnTo>
                      <a:lnTo>
                        <a:pt x="14715" y="1931"/>
                      </a:lnTo>
                      <a:lnTo>
                        <a:pt x="14797" y="1987"/>
                      </a:lnTo>
                      <a:lnTo>
                        <a:pt x="14876" y="2046"/>
                      </a:lnTo>
                      <a:lnTo>
                        <a:pt x="14952" y="2109"/>
                      </a:lnTo>
                      <a:lnTo>
                        <a:pt x="15026" y="2174"/>
                      </a:lnTo>
                      <a:lnTo>
                        <a:pt x="15095" y="2244"/>
                      </a:lnTo>
                      <a:lnTo>
                        <a:pt x="15162" y="2316"/>
                      </a:lnTo>
                      <a:lnTo>
                        <a:pt x="15225" y="2392"/>
                      </a:lnTo>
                      <a:lnTo>
                        <a:pt x="15283" y="2471"/>
                      </a:lnTo>
                      <a:lnTo>
                        <a:pt x="15338" y="2554"/>
                      </a:lnTo>
                      <a:lnTo>
                        <a:pt x="15389" y="2639"/>
                      </a:lnTo>
                      <a:lnTo>
                        <a:pt x="15436" y="2727"/>
                      </a:lnTo>
                      <a:lnTo>
                        <a:pt x="15478" y="2820"/>
                      </a:lnTo>
                      <a:lnTo>
                        <a:pt x="15515" y="2915"/>
                      </a:lnTo>
                      <a:lnTo>
                        <a:pt x="15530" y="2973"/>
                      </a:lnTo>
                      <a:lnTo>
                        <a:pt x="15544" y="3031"/>
                      </a:lnTo>
                      <a:lnTo>
                        <a:pt x="15555" y="3088"/>
                      </a:lnTo>
                      <a:lnTo>
                        <a:pt x="15563" y="3144"/>
                      </a:lnTo>
                      <a:lnTo>
                        <a:pt x="15569" y="3199"/>
                      </a:lnTo>
                      <a:lnTo>
                        <a:pt x="15573" y="3255"/>
                      </a:lnTo>
                      <a:lnTo>
                        <a:pt x="15575" y="3310"/>
                      </a:lnTo>
                      <a:lnTo>
                        <a:pt x="15575" y="3364"/>
                      </a:lnTo>
                      <a:lnTo>
                        <a:pt x="15572" y="3417"/>
                      </a:lnTo>
                      <a:lnTo>
                        <a:pt x="15568" y="3470"/>
                      </a:lnTo>
                      <a:lnTo>
                        <a:pt x="15561" y="3522"/>
                      </a:lnTo>
                      <a:lnTo>
                        <a:pt x="15553" y="3573"/>
                      </a:lnTo>
                      <a:lnTo>
                        <a:pt x="15541" y="3624"/>
                      </a:lnTo>
                      <a:lnTo>
                        <a:pt x="15528" y="3674"/>
                      </a:lnTo>
                      <a:lnTo>
                        <a:pt x="15514" y="3724"/>
                      </a:lnTo>
                      <a:lnTo>
                        <a:pt x="15496" y="3773"/>
                      </a:lnTo>
                      <a:lnTo>
                        <a:pt x="15478" y="3821"/>
                      </a:lnTo>
                      <a:lnTo>
                        <a:pt x="15456" y="3868"/>
                      </a:lnTo>
                      <a:lnTo>
                        <a:pt x="15434" y="3915"/>
                      </a:lnTo>
                      <a:lnTo>
                        <a:pt x="15409" y="3960"/>
                      </a:lnTo>
                      <a:lnTo>
                        <a:pt x="15383" y="4005"/>
                      </a:lnTo>
                      <a:lnTo>
                        <a:pt x="15355" y="4049"/>
                      </a:lnTo>
                      <a:lnTo>
                        <a:pt x="15324" y="4093"/>
                      </a:lnTo>
                      <a:lnTo>
                        <a:pt x="15292" y="4135"/>
                      </a:lnTo>
                      <a:lnTo>
                        <a:pt x="15259" y="4177"/>
                      </a:lnTo>
                      <a:lnTo>
                        <a:pt x="15224" y="4219"/>
                      </a:lnTo>
                      <a:lnTo>
                        <a:pt x="15187" y="4258"/>
                      </a:lnTo>
                      <a:lnTo>
                        <a:pt x="15149" y="4298"/>
                      </a:lnTo>
                      <a:lnTo>
                        <a:pt x="15108" y="4336"/>
                      </a:lnTo>
                      <a:lnTo>
                        <a:pt x="15067" y="4374"/>
                      </a:lnTo>
                      <a:lnTo>
                        <a:pt x="15023" y="4410"/>
                      </a:lnTo>
                      <a:lnTo>
                        <a:pt x="14978" y="4447"/>
                      </a:lnTo>
                      <a:lnTo>
                        <a:pt x="15048" y="4466"/>
                      </a:lnTo>
                      <a:lnTo>
                        <a:pt x="15117" y="4487"/>
                      </a:lnTo>
                      <a:lnTo>
                        <a:pt x="15186" y="4510"/>
                      </a:lnTo>
                      <a:lnTo>
                        <a:pt x="15252" y="4534"/>
                      </a:lnTo>
                      <a:lnTo>
                        <a:pt x="15318" y="4561"/>
                      </a:lnTo>
                      <a:lnTo>
                        <a:pt x="15381" y="4588"/>
                      </a:lnTo>
                      <a:lnTo>
                        <a:pt x="15444" y="4619"/>
                      </a:lnTo>
                      <a:lnTo>
                        <a:pt x="15506" y="4650"/>
                      </a:lnTo>
                      <a:lnTo>
                        <a:pt x="15566" y="4683"/>
                      </a:lnTo>
                      <a:lnTo>
                        <a:pt x="15625" y="4718"/>
                      </a:lnTo>
                      <a:lnTo>
                        <a:pt x="15681" y="4755"/>
                      </a:lnTo>
                      <a:lnTo>
                        <a:pt x="15736" y="4793"/>
                      </a:lnTo>
                      <a:lnTo>
                        <a:pt x="15790" y="4833"/>
                      </a:lnTo>
                      <a:lnTo>
                        <a:pt x="15841" y="4875"/>
                      </a:lnTo>
                      <a:lnTo>
                        <a:pt x="15891" y="4919"/>
                      </a:lnTo>
                      <a:lnTo>
                        <a:pt x="15939" y="4964"/>
                      </a:lnTo>
                      <a:lnTo>
                        <a:pt x="15985" y="5011"/>
                      </a:lnTo>
                      <a:lnTo>
                        <a:pt x="16030" y="5060"/>
                      </a:lnTo>
                      <a:lnTo>
                        <a:pt x="16072" y="5111"/>
                      </a:lnTo>
                      <a:lnTo>
                        <a:pt x="16112" y="5164"/>
                      </a:lnTo>
                      <a:lnTo>
                        <a:pt x="16150" y="5219"/>
                      </a:lnTo>
                      <a:lnTo>
                        <a:pt x="16184" y="5275"/>
                      </a:lnTo>
                      <a:lnTo>
                        <a:pt x="16218" y="5333"/>
                      </a:lnTo>
                      <a:lnTo>
                        <a:pt x="16249" y="5392"/>
                      </a:lnTo>
                      <a:lnTo>
                        <a:pt x="16278" y="5455"/>
                      </a:lnTo>
                      <a:lnTo>
                        <a:pt x="16303" y="5518"/>
                      </a:lnTo>
                      <a:lnTo>
                        <a:pt x="16327" y="5584"/>
                      </a:lnTo>
                      <a:lnTo>
                        <a:pt x="16349" y="5651"/>
                      </a:lnTo>
                      <a:lnTo>
                        <a:pt x="16367" y="5720"/>
                      </a:lnTo>
                      <a:lnTo>
                        <a:pt x="16382" y="5791"/>
                      </a:lnTo>
                      <a:lnTo>
                        <a:pt x="16396" y="5864"/>
                      </a:lnTo>
                      <a:lnTo>
                        <a:pt x="16406" y="5939"/>
                      </a:lnTo>
                      <a:lnTo>
                        <a:pt x="16408" y="6053"/>
                      </a:lnTo>
                      <a:lnTo>
                        <a:pt x="16404" y="6164"/>
                      </a:lnTo>
                      <a:lnTo>
                        <a:pt x="16395" y="6273"/>
                      </a:lnTo>
                      <a:lnTo>
                        <a:pt x="16378" y="6381"/>
                      </a:lnTo>
                      <a:lnTo>
                        <a:pt x="16357" y="6487"/>
                      </a:lnTo>
                      <a:lnTo>
                        <a:pt x="16329" y="6591"/>
                      </a:lnTo>
                      <a:lnTo>
                        <a:pt x="16296" y="6692"/>
                      </a:lnTo>
                      <a:lnTo>
                        <a:pt x="16258" y="6792"/>
                      </a:lnTo>
                      <a:lnTo>
                        <a:pt x="16215" y="6889"/>
                      </a:lnTo>
                      <a:lnTo>
                        <a:pt x="16167" y="6985"/>
                      </a:lnTo>
                      <a:lnTo>
                        <a:pt x="16115" y="7077"/>
                      </a:lnTo>
                      <a:lnTo>
                        <a:pt x="16058" y="7169"/>
                      </a:lnTo>
                      <a:lnTo>
                        <a:pt x="15997" y="7258"/>
                      </a:lnTo>
                      <a:lnTo>
                        <a:pt x="15932" y="7343"/>
                      </a:lnTo>
                      <a:lnTo>
                        <a:pt x="15862" y="7427"/>
                      </a:lnTo>
                      <a:lnTo>
                        <a:pt x="15791" y="7509"/>
                      </a:lnTo>
                      <a:lnTo>
                        <a:pt x="15715" y="7588"/>
                      </a:lnTo>
                      <a:lnTo>
                        <a:pt x="15635" y="7664"/>
                      </a:lnTo>
                      <a:lnTo>
                        <a:pt x="15553" y="7738"/>
                      </a:lnTo>
                      <a:lnTo>
                        <a:pt x="15468" y="7809"/>
                      </a:lnTo>
                      <a:lnTo>
                        <a:pt x="15380" y="7877"/>
                      </a:lnTo>
                      <a:lnTo>
                        <a:pt x="15290" y="7943"/>
                      </a:lnTo>
                      <a:lnTo>
                        <a:pt x="15198" y="8005"/>
                      </a:lnTo>
                      <a:lnTo>
                        <a:pt x="15104" y="8065"/>
                      </a:lnTo>
                      <a:lnTo>
                        <a:pt x="15008" y="8122"/>
                      </a:lnTo>
                      <a:lnTo>
                        <a:pt x="14910" y="8176"/>
                      </a:lnTo>
                      <a:lnTo>
                        <a:pt x="14811" y="8227"/>
                      </a:lnTo>
                      <a:lnTo>
                        <a:pt x="14711" y="8276"/>
                      </a:lnTo>
                      <a:lnTo>
                        <a:pt x="14610" y="8321"/>
                      </a:lnTo>
                      <a:lnTo>
                        <a:pt x="14508" y="8363"/>
                      </a:lnTo>
                      <a:lnTo>
                        <a:pt x="14406" y="8401"/>
                      </a:lnTo>
                      <a:lnTo>
                        <a:pt x="14303" y="8436"/>
                      </a:lnTo>
                      <a:lnTo>
                        <a:pt x="14269" y="8448"/>
                      </a:lnTo>
                      <a:lnTo>
                        <a:pt x="14234" y="8457"/>
                      </a:lnTo>
                      <a:lnTo>
                        <a:pt x="14199" y="8468"/>
                      </a:lnTo>
                      <a:lnTo>
                        <a:pt x="14165" y="8477"/>
                      </a:lnTo>
                      <a:lnTo>
                        <a:pt x="14130" y="8486"/>
                      </a:lnTo>
                      <a:lnTo>
                        <a:pt x="14095" y="8496"/>
                      </a:lnTo>
                      <a:lnTo>
                        <a:pt x="14062" y="8504"/>
                      </a:lnTo>
                      <a:lnTo>
                        <a:pt x="14027" y="8513"/>
                      </a:lnTo>
                      <a:lnTo>
                        <a:pt x="13992" y="8520"/>
                      </a:lnTo>
                      <a:lnTo>
                        <a:pt x="13957" y="8528"/>
                      </a:lnTo>
                      <a:lnTo>
                        <a:pt x="13923" y="8535"/>
                      </a:lnTo>
                      <a:lnTo>
                        <a:pt x="13888" y="8542"/>
                      </a:lnTo>
                      <a:lnTo>
                        <a:pt x="13853" y="8549"/>
                      </a:lnTo>
                      <a:lnTo>
                        <a:pt x="13819" y="8555"/>
                      </a:lnTo>
                      <a:lnTo>
                        <a:pt x="13784" y="8560"/>
                      </a:lnTo>
                      <a:lnTo>
                        <a:pt x="13749" y="8567"/>
                      </a:lnTo>
                      <a:lnTo>
                        <a:pt x="13713" y="8572"/>
                      </a:lnTo>
                      <a:lnTo>
                        <a:pt x="13678" y="8576"/>
                      </a:lnTo>
                      <a:lnTo>
                        <a:pt x="13643" y="8581"/>
                      </a:lnTo>
                      <a:lnTo>
                        <a:pt x="13608" y="8585"/>
                      </a:lnTo>
                      <a:lnTo>
                        <a:pt x="13572" y="8590"/>
                      </a:lnTo>
                      <a:lnTo>
                        <a:pt x="13538" y="8593"/>
                      </a:lnTo>
                      <a:lnTo>
                        <a:pt x="13502" y="8596"/>
                      </a:lnTo>
                      <a:lnTo>
                        <a:pt x="13466" y="8599"/>
                      </a:lnTo>
                      <a:lnTo>
                        <a:pt x="13431" y="8601"/>
                      </a:lnTo>
                      <a:lnTo>
                        <a:pt x="13395" y="8603"/>
                      </a:lnTo>
                      <a:lnTo>
                        <a:pt x="13359" y="8605"/>
                      </a:lnTo>
                      <a:lnTo>
                        <a:pt x="13323" y="8606"/>
                      </a:lnTo>
                      <a:lnTo>
                        <a:pt x="13287" y="8607"/>
                      </a:lnTo>
                      <a:lnTo>
                        <a:pt x="13250" y="8608"/>
                      </a:lnTo>
                      <a:lnTo>
                        <a:pt x="13215" y="8608"/>
                      </a:lnTo>
                      <a:lnTo>
                        <a:pt x="13179" y="8608"/>
                      </a:lnTo>
                      <a:lnTo>
                        <a:pt x="13156" y="8703"/>
                      </a:lnTo>
                      <a:lnTo>
                        <a:pt x="13132" y="8797"/>
                      </a:lnTo>
                      <a:lnTo>
                        <a:pt x="13105" y="8888"/>
                      </a:lnTo>
                      <a:lnTo>
                        <a:pt x="13075" y="8978"/>
                      </a:lnTo>
                      <a:lnTo>
                        <a:pt x="13042" y="9067"/>
                      </a:lnTo>
                      <a:lnTo>
                        <a:pt x="13006" y="9154"/>
                      </a:lnTo>
                      <a:lnTo>
                        <a:pt x="12969" y="9239"/>
                      </a:lnTo>
                      <a:lnTo>
                        <a:pt x="12928" y="9323"/>
                      </a:lnTo>
                      <a:lnTo>
                        <a:pt x="12886" y="9406"/>
                      </a:lnTo>
                      <a:lnTo>
                        <a:pt x="12840" y="9486"/>
                      </a:lnTo>
                      <a:lnTo>
                        <a:pt x="12793" y="9565"/>
                      </a:lnTo>
                      <a:lnTo>
                        <a:pt x="12744" y="9643"/>
                      </a:lnTo>
                      <a:lnTo>
                        <a:pt x="12692" y="9719"/>
                      </a:lnTo>
                      <a:lnTo>
                        <a:pt x="12637" y="9794"/>
                      </a:lnTo>
                      <a:lnTo>
                        <a:pt x="12581" y="9867"/>
                      </a:lnTo>
                      <a:lnTo>
                        <a:pt x="12522" y="9939"/>
                      </a:lnTo>
                      <a:lnTo>
                        <a:pt x="12462" y="10010"/>
                      </a:lnTo>
                      <a:lnTo>
                        <a:pt x="12399" y="10079"/>
                      </a:lnTo>
                      <a:lnTo>
                        <a:pt x="12336" y="10146"/>
                      </a:lnTo>
                      <a:lnTo>
                        <a:pt x="12269" y="10212"/>
                      </a:lnTo>
                      <a:lnTo>
                        <a:pt x="12201" y="10277"/>
                      </a:lnTo>
                      <a:lnTo>
                        <a:pt x="12132" y="10339"/>
                      </a:lnTo>
                      <a:lnTo>
                        <a:pt x="12060" y="10401"/>
                      </a:lnTo>
                      <a:lnTo>
                        <a:pt x="11987" y="10461"/>
                      </a:lnTo>
                      <a:lnTo>
                        <a:pt x="11912" y="10519"/>
                      </a:lnTo>
                      <a:lnTo>
                        <a:pt x="11836" y="10577"/>
                      </a:lnTo>
                      <a:lnTo>
                        <a:pt x="11758" y="10632"/>
                      </a:lnTo>
                      <a:lnTo>
                        <a:pt x="11679" y="10686"/>
                      </a:lnTo>
                      <a:lnTo>
                        <a:pt x="11599" y="10739"/>
                      </a:lnTo>
                      <a:lnTo>
                        <a:pt x="11517" y="10791"/>
                      </a:lnTo>
                      <a:lnTo>
                        <a:pt x="11434" y="10841"/>
                      </a:lnTo>
                      <a:lnTo>
                        <a:pt x="11350" y="10889"/>
                      </a:lnTo>
                      <a:lnTo>
                        <a:pt x="11320" y="10905"/>
                      </a:lnTo>
                      <a:lnTo>
                        <a:pt x="11292" y="10920"/>
                      </a:lnTo>
                      <a:lnTo>
                        <a:pt x="11262" y="10936"/>
                      </a:lnTo>
                      <a:lnTo>
                        <a:pt x="11232" y="10950"/>
                      </a:lnTo>
                      <a:lnTo>
                        <a:pt x="11203" y="10965"/>
                      </a:lnTo>
                      <a:lnTo>
                        <a:pt x="11174" y="10980"/>
                      </a:lnTo>
                      <a:lnTo>
                        <a:pt x="11144" y="10994"/>
                      </a:lnTo>
                      <a:lnTo>
                        <a:pt x="11114" y="11009"/>
                      </a:lnTo>
                      <a:lnTo>
                        <a:pt x="11084" y="11023"/>
                      </a:lnTo>
                      <a:lnTo>
                        <a:pt x="11054" y="11037"/>
                      </a:lnTo>
                      <a:lnTo>
                        <a:pt x="11024" y="11050"/>
                      </a:lnTo>
                      <a:lnTo>
                        <a:pt x="10994" y="11065"/>
                      </a:lnTo>
                      <a:lnTo>
                        <a:pt x="10964" y="11079"/>
                      </a:lnTo>
                      <a:lnTo>
                        <a:pt x="10934" y="11092"/>
                      </a:lnTo>
                      <a:lnTo>
                        <a:pt x="10903" y="11106"/>
                      </a:lnTo>
                      <a:lnTo>
                        <a:pt x="10872" y="11119"/>
                      </a:lnTo>
                      <a:lnTo>
                        <a:pt x="10805" y="11145"/>
                      </a:lnTo>
                      <a:lnTo>
                        <a:pt x="10737" y="11171"/>
                      </a:lnTo>
                      <a:lnTo>
                        <a:pt x="10668" y="11195"/>
                      </a:lnTo>
                      <a:lnTo>
                        <a:pt x="10601" y="11219"/>
                      </a:lnTo>
                      <a:lnTo>
                        <a:pt x="10533" y="11241"/>
                      </a:lnTo>
                      <a:lnTo>
                        <a:pt x="10466" y="11263"/>
                      </a:lnTo>
                      <a:lnTo>
                        <a:pt x="10399" y="11284"/>
                      </a:lnTo>
                      <a:lnTo>
                        <a:pt x="10331" y="11303"/>
                      </a:lnTo>
                      <a:lnTo>
                        <a:pt x="10263" y="11322"/>
                      </a:lnTo>
                      <a:lnTo>
                        <a:pt x="10197" y="11340"/>
                      </a:lnTo>
                      <a:lnTo>
                        <a:pt x="10129" y="11358"/>
                      </a:lnTo>
                      <a:lnTo>
                        <a:pt x="10061" y="11373"/>
                      </a:lnTo>
                      <a:lnTo>
                        <a:pt x="9993" y="11389"/>
                      </a:lnTo>
                      <a:lnTo>
                        <a:pt x="9926" y="11403"/>
                      </a:lnTo>
                      <a:lnTo>
                        <a:pt x="9858" y="11417"/>
                      </a:lnTo>
                      <a:lnTo>
                        <a:pt x="9789" y="11429"/>
                      </a:lnTo>
                      <a:lnTo>
                        <a:pt x="9722" y="11441"/>
                      </a:lnTo>
                      <a:lnTo>
                        <a:pt x="9653" y="11452"/>
                      </a:lnTo>
                      <a:lnTo>
                        <a:pt x="9584" y="11462"/>
                      </a:lnTo>
                      <a:lnTo>
                        <a:pt x="9516" y="11471"/>
                      </a:lnTo>
                      <a:lnTo>
                        <a:pt x="9447" y="11479"/>
                      </a:lnTo>
                      <a:lnTo>
                        <a:pt x="9377" y="11487"/>
                      </a:lnTo>
                      <a:lnTo>
                        <a:pt x="9307" y="11494"/>
                      </a:lnTo>
                      <a:lnTo>
                        <a:pt x="9238" y="11499"/>
                      </a:lnTo>
                      <a:lnTo>
                        <a:pt x="9167" y="11504"/>
                      </a:lnTo>
                      <a:lnTo>
                        <a:pt x="9097" y="11509"/>
                      </a:lnTo>
                      <a:lnTo>
                        <a:pt x="9025" y="11512"/>
                      </a:lnTo>
                      <a:lnTo>
                        <a:pt x="8954" y="11515"/>
                      </a:lnTo>
                      <a:lnTo>
                        <a:pt x="8882" y="11517"/>
                      </a:lnTo>
                      <a:lnTo>
                        <a:pt x="8810" y="11517"/>
                      </a:lnTo>
                      <a:lnTo>
                        <a:pt x="8737" y="11518"/>
                      </a:lnTo>
                      <a:lnTo>
                        <a:pt x="8663" y="11517"/>
                      </a:lnTo>
                      <a:lnTo>
                        <a:pt x="8262" y="11488"/>
                      </a:lnTo>
                      <a:lnTo>
                        <a:pt x="8161" y="11474"/>
                      </a:lnTo>
                      <a:lnTo>
                        <a:pt x="8060" y="11458"/>
                      </a:lnTo>
                      <a:lnTo>
                        <a:pt x="7959" y="11440"/>
                      </a:lnTo>
                      <a:lnTo>
                        <a:pt x="7858" y="11421"/>
                      </a:lnTo>
                      <a:lnTo>
                        <a:pt x="7758" y="11400"/>
                      </a:lnTo>
                      <a:lnTo>
                        <a:pt x="7657" y="11376"/>
                      </a:lnTo>
                      <a:lnTo>
                        <a:pt x="7558" y="11351"/>
                      </a:lnTo>
                      <a:lnTo>
                        <a:pt x="7459" y="11325"/>
                      </a:lnTo>
                      <a:lnTo>
                        <a:pt x="7362" y="11296"/>
                      </a:lnTo>
                      <a:lnTo>
                        <a:pt x="7265" y="11265"/>
                      </a:lnTo>
                      <a:lnTo>
                        <a:pt x="7168" y="11233"/>
                      </a:lnTo>
                      <a:lnTo>
                        <a:pt x="7072" y="11197"/>
                      </a:lnTo>
                      <a:lnTo>
                        <a:pt x="6978" y="11161"/>
                      </a:lnTo>
                      <a:lnTo>
                        <a:pt x="6884" y="11121"/>
                      </a:lnTo>
                      <a:lnTo>
                        <a:pt x="6792" y="11080"/>
                      </a:lnTo>
                      <a:lnTo>
                        <a:pt x="6701" y="11037"/>
                      </a:lnTo>
                      <a:lnTo>
                        <a:pt x="6611" y="10990"/>
                      </a:lnTo>
                      <a:lnTo>
                        <a:pt x="6522" y="10942"/>
                      </a:lnTo>
                      <a:lnTo>
                        <a:pt x="6436" y="10892"/>
                      </a:lnTo>
                      <a:lnTo>
                        <a:pt x="6350" y="10839"/>
                      </a:lnTo>
                      <a:lnTo>
                        <a:pt x="6266" y="10784"/>
                      </a:lnTo>
                      <a:lnTo>
                        <a:pt x="6184" y="10727"/>
                      </a:lnTo>
                      <a:lnTo>
                        <a:pt x="6104" y="10666"/>
                      </a:lnTo>
                      <a:lnTo>
                        <a:pt x="6025" y="10604"/>
                      </a:lnTo>
                      <a:lnTo>
                        <a:pt x="5948" y="10539"/>
                      </a:lnTo>
                      <a:lnTo>
                        <a:pt x="5873" y="10471"/>
                      </a:lnTo>
                      <a:lnTo>
                        <a:pt x="5800" y="10401"/>
                      </a:lnTo>
                      <a:lnTo>
                        <a:pt x="5729" y="10328"/>
                      </a:lnTo>
                      <a:lnTo>
                        <a:pt x="5662" y="10253"/>
                      </a:lnTo>
                      <a:lnTo>
                        <a:pt x="5595" y="10175"/>
                      </a:lnTo>
                      <a:lnTo>
                        <a:pt x="5532" y="10093"/>
                      </a:lnTo>
                      <a:lnTo>
                        <a:pt x="5470" y="10010"/>
                      </a:lnTo>
                      <a:lnTo>
                        <a:pt x="5380" y="10000"/>
                      </a:lnTo>
                      <a:lnTo>
                        <a:pt x="5290" y="9987"/>
                      </a:lnTo>
                      <a:lnTo>
                        <a:pt x="5199" y="9974"/>
                      </a:lnTo>
                      <a:lnTo>
                        <a:pt x="5109" y="9958"/>
                      </a:lnTo>
                      <a:lnTo>
                        <a:pt x="5020" y="9941"/>
                      </a:lnTo>
                      <a:lnTo>
                        <a:pt x="4931" y="9923"/>
                      </a:lnTo>
                      <a:lnTo>
                        <a:pt x="4842" y="9902"/>
                      </a:lnTo>
                      <a:lnTo>
                        <a:pt x="4754" y="9879"/>
                      </a:lnTo>
                      <a:lnTo>
                        <a:pt x="4666" y="9855"/>
                      </a:lnTo>
                      <a:lnTo>
                        <a:pt x="4579" y="9830"/>
                      </a:lnTo>
                      <a:lnTo>
                        <a:pt x="4493" y="9802"/>
                      </a:lnTo>
                      <a:lnTo>
                        <a:pt x="4408" y="9773"/>
                      </a:lnTo>
                      <a:lnTo>
                        <a:pt x="4322" y="9741"/>
                      </a:lnTo>
                      <a:lnTo>
                        <a:pt x="4238" y="9708"/>
                      </a:lnTo>
                      <a:lnTo>
                        <a:pt x="4155" y="9673"/>
                      </a:lnTo>
                      <a:lnTo>
                        <a:pt x="4073" y="9636"/>
                      </a:lnTo>
                      <a:lnTo>
                        <a:pt x="3993" y="9597"/>
                      </a:lnTo>
                      <a:lnTo>
                        <a:pt x="3913" y="9556"/>
                      </a:lnTo>
                      <a:lnTo>
                        <a:pt x="3834" y="9513"/>
                      </a:lnTo>
                      <a:lnTo>
                        <a:pt x="3757" y="9469"/>
                      </a:lnTo>
                      <a:lnTo>
                        <a:pt x="3682" y="9422"/>
                      </a:lnTo>
                      <a:lnTo>
                        <a:pt x="3607" y="9373"/>
                      </a:lnTo>
                      <a:lnTo>
                        <a:pt x="3533" y="9322"/>
                      </a:lnTo>
                      <a:lnTo>
                        <a:pt x="3461" y="9269"/>
                      </a:lnTo>
                      <a:lnTo>
                        <a:pt x="3391" y="9213"/>
                      </a:lnTo>
                      <a:lnTo>
                        <a:pt x="3323" y="9156"/>
                      </a:lnTo>
                      <a:lnTo>
                        <a:pt x="3256" y="9097"/>
                      </a:lnTo>
                      <a:lnTo>
                        <a:pt x="3191" y="9035"/>
                      </a:lnTo>
                      <a:lnTo>
                        <a:pt x="3128" y="8972"/>
                      </a:lnTo>
                      <a:lnTo>
                        <a:pt x="3066" y="8905"/>
                      </a:lnTo>
                      <a:lnTo>
                        <a:pt x="3007" y="8837"/>
                      </a:lnTo>
                      <a:lnTo>
                        <a:pt x="2949" y="8767"/>
                      </a:lnTo>
                      <a:lnTo>
                        <a:pt x="2927" y="8735"/>
                      </a:lnTo>
                      <a:lnTo>
                        <a:pt x="2905" y="8703"/>
                      </a:lnTo>
                      <a:lnTo>
                        <a:pt x="2885" y="8671"/>
                      </a:lnTo>
                      <a:lnTo>
                        <a:pt x="2864" y="8639"/>
                      </a:lnTo>
                      <a:lnTo>
                        <a:pt x="2845" y="8606"/>
                      </a:lnTo>
                      <a:lnTo>
                        <a:pt x="2825" y="8574"/>
                      </a:lnTo>
                      <a:lnTo>
                        <a:pt x="2807" y="8541"/>
                      </a:lnTo>
                      <a:lnTo>
                        <a:pt x="2789" y="8507"/>
                      </a:lnTo>
                      <a:lnTo>
                        <a:pt x="2772" y="8474"/>
                      </a:lnTo>
                      <a:lnTo>
                        <a:pt x="2756" y="8441"/>
                      </a:lnTo>
                      <a:lnTo>
                        <a:pt x="2740" y="8406"/>
                      </a:lnTo>
                      <a:lnTo>
                        <a:pt x="2726" y="8372"/>
                      </a:lnTo>
                      <a:lnTo>
                        <a:pt x="2711" y="8338"/>
                      </a:lnTo>
                      <a:lnTo>
                        <a:pt x="2699" y="8303"/>
                      </a:lnTo>
                      <a:lnTo>
                        <a:pt x="2687" y="8269"/>
                      </a:lnTo>
                      <a:lnTo>
                        <a:pt x="2676" y="8233"/>
                      </a:lnTo>
                      <a:lnTo>
                        <a:pt x="2665" y="8198"/>
                      </a:lnTo>
                      <a:lnTo>
                        <a:pt x="2655" y="8163"/>
                      </a:lnTo>
                      <a:lnTo>
                        <a:pt x="2647" y="8127"/>
                      </a:lnTo>
                      <a:lnTo>
                        <a:pt x="2640" y="8092"/>
                      </a:lnTo>
                      <a:lnTo>
                        <a:pt x="2633" y="8055"/>
                      </a:lnTo>
                      <a:lnTo>
                        <a:pt x="2627" y="8019"/>
                      </a:lnTo>
                      <a:lnTo>
                        <a:pt x="2623" y="7982"/>
                      </a:lnTo>
                      <a:lnTo>
                        <a:pt x="2620" y="7946"/>
                      </a:lnTo>
                      <a:lnTo>
                        <a:pt x="2617" y="7908"/>
                      </a:lnTo>
                      <a:lnTo>
                        <a:pt x="2616" y="7872"/>
                      </a:lnTo>
                      <a:lnTo>
                        <a:pt x="2616" y="7835"/>
                      </a:lnTo>
                      <a:lnTo>
                        <a:pt x="2617" y="7797"/>
                      </a:lnTo>
                      <a:lnTo>
                        <a:pt x="2620" y="7759"/>
                      </a:lnTo>
                      <a:lnTo>
                        <a:pt x="2623" y="7721"/>
                      </a:lnTo>
                      <a:lnTo>
                        <a:pt x="2628" y="7682"/>
                      </a:lnTo>
                      <a:lnTo>
                        <a:pt x="2635" y="7644"/>
                      </a:lnTo>
                      <a:lnTo>
                        <a:pt x="2629" y="7639"/>
                      </a:lnTo>
                      <a:lnTo>
                        <a:pt x="2625" y="7635"/>
                      </a:lnTo>
                      <a:lnTo>
                        <a:pt x="2620" y="7629"/>
                      </a:lnTo>
                      <a:lnTo>
                        <a:pt x="2615" y="7624"/>
                      </a:lnTo>
                      <a:lnTo>
                        <a:pt x="2611" y="7619"/>
                      </a:lnTo>
                      <a:lnTo>
                        <a:pt x="2606" y="7615"/>
                      </a:lnTo>
                      <a:lnTo>
                        <a:pt x="2602" y="7610"/>
                      </a:lnTo>
                      <a:lnTo>
                        <a:pt x="2597" y="7604"/>
                      </a:lnTo>
                      <a:lnTo>
                        <a:pt x="2506" y="7605"/>
                      </a:lnTo>
                      <a:lnTo>
                        <a:pt x="2415" y="7604"/>
                      </a:lnTo>
                      <a:lnTo>
                        <a:pt x="2325" y="7601"/>
                      </a:lnTo>
                      <a:lnTo>
                        <a:pt x="2235" y="7595"/>
                      </a:lnTo>
                      <a:lnTo>
                        <a:pt x="2144" y="7587"/>
                      </a:lnTo>
                      <a:lnTo>
                        <a:pt x="2055" y="7575"/>
                      </a:lnTo>
                      <a:lnTo>
                        <a:pt x="1966" y="7563"/>
                      </a:lnTo>
                      <a:lnTo>
                        <a:pt x="1878" y="7547"/>
                      </a:lnTo>
                      <a:lnTo>
                        <a:pt x="1791" y="7528"/>
                      </a:lnTo>
                      <a:lnTo>
                        <a:pt x="1704" y="7508"/>
                      </a:lnTo>
                      <a:lnTo>
                        <a:pt x="1618" y="7485"/>
                      </a:lnTo>
                      <a:lnTo>
                        <a:pt x="1533" y="7459"/>
                      </a:lnTo>
                      <a:lnTo>
                        <a:pt x="1450" y="7430"/>
                      </a:lnTo>
                      <a:lnTo>
                        <a:pt x="1368" y="7399"/>
                      </a:lnTo>
                      <a:lnTo>
                        <a:pt x="1287" y="7366"/>
                      </a:lnTo>
                      <a:lnTo>
                        <a:pt x="1207" y="7330"/>
                      </a:lnTo>
                      <a:lnTo>
                        <a:pt x="1128" y="7292"/>
                      </a:lnTo>
                      <a:lnTo>
                        <a:pt x="1052" y="7251"/>
                      </a:lnTo>
                      <a:lnTo>
                        <a:pt x="976" y="7208"/>
                      </a:lnTo>
                      <a:lnTo>
                        <a:pt x="903" y="7162"/>
                      </a:lnTo>
                      <a:lnTo>
                        <a:pt x="832" y="7113"/>
                      </a:lnTo>
                      <a:lnTo>
                        <a:pt x="762" y="7062"/>
                      </a:lnTo>
                      <a:lnTo>
                        <a:pt x="694" y="7008"/>
                      </a:lnTo>
                      <a:lnTo>
                        <a:pt x="629" y="6951"/>
                      </a:lnTo>
                      <a:lnTo>
                        <a:pt x="565" y="6892"/>
                      </a:lnTo>
                      <a:lnTo>
                        <a:pt x="505" y="6830"/>
                      </a:lnTo>
                      <a:lnTo>
                        <a:pt x="446" y="6766"/>
                      </a:lnTo>
                      <a:lnTo>
                        <a:pt x="390" y="6698"/>
                      </a:lnTo>
                      <a:lnTo>
                        <a:pt x="335" y="6629"/>
                      </a:lnTo>
                      <a:lnTo>
                        <a:pt x="284" y="6557"/>
                      </a:lnTo>
                      <a:lnTo>
                        <a:pt x="236" y="6482"/>
                      </a:lnTo>
                      <a:lnTo>
                        <a:pt x="190" y="6404"/>
                      </a:lnTo>
                      <a:lnTo>
                        <a:pt x="165" y="6352"/>
                      </a:lnTo>
                      <a:lnTo>
                        <a:pt x="142" y="6300"/>
                      </a:lnTo>
                      <a:lnTo>
                        <a:pt x="120" y="6247"/>
                      </a:lnTo>
                      <a:lnTo>
                        <a:pt x="100" y="6195"/>
                      </a:lnTo>
                      <a:lnTo>
                        <a:pt x="83" y="6144"/>
                      </a:lnTo>
                      <a:lnTo>
                        <a:pt x="67" y="6092"/>
                      </a:lnTo>
                      <a:lnTo>
                        <a:pt x="52" y="6040"/>
                      </a:lnTo>
                      <a:lnTo>
                        <a:pt x="39" y="5989"/>
                      </a:lnTo>
                      <a:lnTo>
                        <a:pt x="29" y="5937"/>
                      </a:lnTo>
                      <a:lnTo>
                        <a:pt x="19" y="5886"/>
                      </a:lnTo>
                      <a:lnTo>
                        <a:pt x="11" y="5834"/>
                      </a:lnTo>
                      <a:lnTo>
                        <a:pt x="6" y="5783"/>
                      </a:lnTo>
                      <a:lnTo>
                        <a:pt x="2" y="5732"/>
                      </a:lnTo>
                      <a:lnTo>
                        <a:pt x="0" y="5680"/>
                      </a:lnTo>
                      <a:lnTo>
                        <a:pt x="0" y="5629"/>
                      </a:lnTo>
                      <a:lnTo>
                        <a:pt x="1" y="5578"/>
                      </a:lnTo>
                      <a:lnTo>
                        <a:pt x="5" y="5527"/>
                      </a:lnTo>
                      <a:lnTo>
                        <a:pt x="10" y="5476"/>
                      </a:lnTo>
                      <a:lnTo>
                        <a:pt x="16" y="5425"/>
                      </a:lnTo>
                      <a:lnTo>
                        <a:pt x="26" y="5374"/>
                      </a:lnTo>
                      <a:lnTo>
                        <a:pt x="36" y="5323"/>
                      </a:lnTo>
                      <a:lnTo>
                        <a:pt x="48" y="5272"/>
                      </a:lnTo>
                      <a:lnTo>
                        <a:pt x="62" y="5221"/>
                      </a:lnTo>
                      <a:lnTo>
                        <a:pt x="78" y="5171"/>
                      </a:lnTo>
                      <a:lnTo>
                        <a:pt x="95" y="5120"/>
                      </a:lnTo>
                      <a:lnTo>
                        <a:pt x="115" y="5069"/>
                      </a:lnTo>
                      <a:lnTo>
                        <a:pt x="135" y="5018"/>
                      </a:lnTo>
                      <a:lnTo>
                        <a:pt x="158" y="4968"/>
                      </a:lnTo>
                      <a:lnTo>
                        <a:pt x="183" y="4917"/>
                      </a:lnTo>
                      <a:lnTo>
                        <a:pt x="209" y="4867"/>
                      </a:lnTo>
                      <a:lnTo>
                        <a:pt x="238" y="4815"/>
                      </a:lnTo>
                      <a:lnTo>
                        <a:pt x="268" y="4764"/>
                      </a:lnTo>
                      <a:lnTo>
                        <a:pt x="308" y="4708"/>
                      </a:lnTo>
                      <a:lnTo>
                        <a:pt x="349" y="4654"/>
                      </a:lnTo>
                      <a:lnTo>
                        <a:pt x="392" y="4601"/>
                      </a:lnTo>
                      <a:lnTo>
                        <a:pt x="436" y="4550"/>
                      </a:lnTo>
                      <a:lnTo>
                        <a:pt x="481" y="4500"/>
                      </a:lnTo>
                      <a:lnTo>
                        <a:pt x="527" y="4452"/>
                      </a:lnTo>
                      <a:lnTo>
                        <a:pt x="575" y="4406"/>
                      </a:lnTo>
                      <a:lnTo>
                        <a:pt x="625" y="4361"/>
                      </a:lnTo>
                      <a:lnTo>
                        <a:pt x="675" y="4318"/>
                      </a:lnTo>
                      <a:lnTo>
                        <a:pt x="726" y="4276"/>
                      </a:lnTo>
                      <a:lnTo>
                        <a:pt x="778" y="4236"/>
                      </a:lnTo>
                      <a:lnTo>
                        <a:pt x="832" y="4198"/>
                      </a:lnTo>
                      <a:lnTo>
                        <a:pt x="886" y="4161"/>
                      </a:lnTo>
                      <a:lnTo>
                        <a:pt x="941" y="4126"/>
                      </a:lnTo>
                      <a:lnTo>
                        <a:pt x="999" y="4092"/>
                      </a:lnTo>
                      <a:lnTo>
                        <a:pt x="1055" y="4060"/>
                      </a:lnTo>
                      <a:lnTo>
                        <a:pt x="1114" y="4029"/>
                      </a:lnTo>
                      <a:lnTo>
                        <a:pt x="1173" y="4000"/>
                      </a:lnTo>
                      <a:lnTo>
                        <a:pt x="1233" y="3973"/>
                      </a:lnTo>
                      <a:lnTo>
                        <a:pt x="1293" y="3947"/>
                      </a:lnTo>
                      <a:lnTo>
                        <a:pt x="1355" y="3922"/>
                      </a:lnTo>
                      <a:lnTo>
                        <a:pt x="1417" y="3899"/>
                      </a:lnTo>
                      <a:lnTo>
                        <a:pt x="1480" y="3877"/>
                      </a:lnTo>
                      <a:lnTo>
                        <a:pt x="1543" y="3857"/>
                      </a:lnTo>
                      <a:lnTo>
                        <a:pt x="1608" y="3839"/>
                      </a:lnTo>
                      <a:lnTo>
                        <a:pt x="1673" y="3822"/>
                      </a:lnTo>
                      <a:lnTo>
                        <a:pt x="1737" y="3806"/>
                      </a:lnTo>
                      <a:lnTo>
                        <a:pt x="1803" y="3792"/>
                      </a:lnTo>
                      <a:lnTo>
                        <a:pt x="1869" y="3779"/>
                      </a:lnTo>
                      <a:lnTo>
                        <a:pt x="1936" y="3768"/>
                      </a:lnTo>
                      <a:lnTo>
                        <a:pt x="2003" y="3758"/>
                      </a:lnTo>
                      <a:lnTo>
                        <a:pt x="2070" y="3750"/>
                      </a:lnTo>
                      <a:lnTo>
                        <a:pt x="2037" y="3718"/>
                      </a:lnTo>
                      <a:lnTo>
                        <a:pt x="2005" y="3685"/>
                      </a:lnTo>
                      <a:lnTo>
                        <a:pt x="1974" y="3651"/>
                      </a:lnTo>
                      <a:lnTo>
                        <a:pt x="1945" y="3618"/>
                      </a:lnTo>
                      <a:lnTo>
                        <a:pt x="1919" y="3583"/>
                      </a:lnTo>
                      <a:lnTo>
                        <a:pt x="1893" y="3549"/>
                      </a:lnTo>
                      <a:lnTo>
                        <a:pt x="1868" y="3514"/>
                      </a:lnTo>
                      <a:lnTo>
                        <a:pt x="1846" y="3478"/>
                      </a:lnTo>
                      <a:lnTo>
                        <a:pt x="1825" y="3442"/>
                      </a:lnTo>
                      <a:lnTo>
                        <a:pt x="1806" y="3405"/>
                      </a:lnTo>
                      <a:lnTo>
                        <a:pt x="1787" y="3368"/>
                      </a:lnTo>
                      <a:lnTo>
                        <a:pt x="1772" y="3330"/>
                      </a:lnTo>
                      <a:lnTo>
                        <a:pt x="1758" y="3293"/>
                      </a:lnTo>
                      <a:lnTo>
                        <a:pt x="1744" y="3254"/>
                      </a:lnTo>
                      <a:lnTo>
                        <a:pt x="1733" y="3216"/>
                      </a:lnTo>
                      <a:lnTo>
                        <a:pt x="1724" y="3176"/>
                      </a:lnTo>
                      <a:lnTo>
                        <a:pt x="1717" y="3137"/>
                      </a:lnTo>
                      <a:lnTo>
                        <a:pt x="1711" y="3097"/>
                      </a:lnTo>
                      <a:lnTo>
                        <a:pt x="1706" y="3058"/>
                      </a:lnTo>
                      <a:lnTo>
                        <a:pt x="1703" y="3017"/>
                      </a:lnTo>
                      <a:lnTo>
                        <a:pt x="1702" y="2975"/>
                      </a:lnTo>
                      <a:lnTo>
                        <a:pt x="1703" y="2935"/>
                      </a:lnTo>
                      <a:lnTo>
                        <a:pt x="1706" y="2893"/>
                      </a:lnTo>
                      <a:lnTo>
                        <a:pt x="1712" y="2851"/>
                      </a:lnTo>
                      <a:lnTo>
                        <a:pt x="1718" y="2809"/>
                      </a:lnTo>
                      <a:lnTo>
                        <a:pt x="1726" y="2767"/>
                      </a:lnTo>
                      <a:lnTo>
                        <a:pt x="1736" y="2724"/>
                      </a:lnTo>
                      <a:lnTo>
                        <a:pt x="1747" y="2681"/>
                      </a:lnTo>
                      <a:lnTo>
                        <a:pt x="1761" y="2638"/>
                      </a:lnTo>
                      <a:lnTo>
                        <a:pt x="1777" y="2594"/>
                      </a:lnTo>
                      <a:lnTo>
                        <a:pt x="1795" y="2550"/>
                      </a:lnTo>
                      <a:lnTo>
                        <a:pt x="1813" y="2507"/>
                      </a:lnTo>
                      <a:lnTo>
                        <a:pt x="1843" y="2454"/>
                      </a:lnTo>
                      <a:lnTo>
                        <a:pt x="1874" y="2404"/>
                      </a:lnTo>
                      <a:lnTo>
                        <a:pt x="1906" y="2354"/>
                      </a:lnTo>
                      <a:lnTo>
                        <a:pt x="1940" y="2306"/>
                      </a:lnTo>
                      <a:lnTo>
                        <a:pt x="1976" y="2260"/>
                      </a:lnTo>
                      <a:lnTo>
                        <a:pt x="2013" y="2215"/>
                      </a:lnTo>
                      <a:lnTo>
                        <a:pt x="2052" y="2171"/>
                      </a:lnTo>
                      <a:lnTo>
                        <a:pt x="2092" y="2129"/>
                      </a:lnTo>
                      <a:lnTo>
                        <a:pt x="2133" y="2088"/>
                      </a:lnTo>
                      <a:lnTo>
                        <a:pt x="2175" y="2048"/>
                      </a:lnTo>
                      <a:lnTo>
                        <a:pt x="2219" y="2011"/>
                      </a:lnTo>
                      <a:lnTo>
                        <a:pt x="2264" y="1973"/>
                      </a:lnTo>
                      <a:lnTo>
                        <a:pt x="2310" y="1938"/>
                      </a:lnTo>
                      <a:lnTo>
                        <a:pt x="2358" y="1904"/>
                      </a:lnTo>
                      <a:lnTo>
                        <a:pt x="2405" y="1871"/>
                      </a:lnTo>
                      <a:lnTo>
                        <a:pt x="2454" y="1839"/>
                      </a:lnTo>
                      <a:lnTo>
                        <a:pt x="2504" y="1809"/>
                      </a:lnTo>
                      <a:lnTo>
                        <a:pt x="2555" y="1780"/>
                      </a:lnTo>
                      <a:lnTo>
                        <a:pt x="2607" y="1752"/>
                      </a:lnTo>
                      <a:lnTo>
                        <a:pt x="2659" y="1725"/>
                      </a:lnTo>
                      <a:lnTo>
                        <a:pt x="2712" y="1699"/>
                      </a:lnTo>
                      <a:lnTo>
                        <a:pt x="2766" y="1675"/>
                      </a:lnTo>
                      <a:lnTo>
                        <a:pt x="2820" y="1651"/>
                      </a:lnTo>
                      <a:lnTo>
                        <a:pt x="2876" y="1629"/>
                      </a:lnTo>
                      <a:lnTo>
                        <a:pt x="2931" y="1607"/>
                      </a:lnTo>
                      <a:lnTo>
                        <a:pt x="2986" y="1587"/>
                      </a:lnTo>
                      <a:lnTo>
                        <a:pt x="3043" y="1568"/>
                      </a:lnTo>
                      <a:lnTo>
                        <a:pt x="3099" y="1550"/>
                      </a:lnTo>
                      <a:lnTo>
                        <a:pt x="3155" y="1533"/>
                      </a:lnTo>
                      <a:lnTo>
                        <a:pt x="3213" y="1516"/>
                      </a:lnTo>
                      <a:lnTo>
                        <a:pt x="3270" y="1502"/>
                      </a:lnTo>
                      <a:lnTo>
                        <a:pt x="3328" y="1487"/>
                      </a:lnTo>
                      <a:lnTo>
                        <a:pt x="3378" y="1477"/>
                      </a:lnTo>
                      <a:lnTo>
                        <a:pt x="3427" y="1467"/>
                      </a:lnTo>
                      <a:lnTo>
                        <a:pt x="3477" y="1458"/>
                      </a:lnTo>
                      <a:lnTo>
                        <a:pt x="3528" y="1451"/>
                      </a:lnTo>
                      <a:lnTo>
                        <a:pt x="3577" y="1442"/>
                      </a:lnTo>
                      <a:lnTo>
                        <a:pt x="3627" y="1436"/>
                      </a:lnTo>
                      <a:lnTo>
                        <a:pt x="3677" y="1430"/>
                      </a:lnTo>
                      <a:lnTo>
                        <a:pt x="3727" y="1425"/>
                      </a:lnTo>
                      <a:lnTo>
                        <a:pt x="3777" y="1420"/>
                      </a:lnTo>
                      <a:lnTo>
                        <a:pt x="3827" y="1416"/>
                      </a:lnTo>
                      <a:lnTo>
                        <a:pt x="3876" y="1413"/>
                      </a:lnTo>
                      <a:lnTo>
                        <a:pt x="3927" y="1411"/>
                      </a:lnTo>
                      <a:lnTo>
                        <a:pt x="3977" y="1410"/>
                      </a:lnTo>
                      <a:lnTo>
                        <a:pt x="4026" y="1409"/>
                      </a:lnTo>
                      <a:lnTo>
                        <a:pt x="4076" y="1409"/>
                      </a:lnTo>
                      <a:lnTo>
                        <a:pt x="4126" y="1410"/>
                      </a:lnTo>
                      <a:lnTo>
                        <a:pt x="4176" y="1412"/>
                      </a:lnTo>
                      <a:lnTo>
                        <a:pt x="4225" y="1414"/>
                      </a:lnTo>
                      <a:lnTo>
                        <a:pt x="4275" y="1417"/>
                      </a:lnTo>
                      <a:lnTo>
                        <a:pt x="4325" y="1422"/>
                      </a:lnTo>
                      <a:lnTo>
                        <a:pt x="4374" y="1427"/>
                      </a:lnTo>
                      <a:lnTo>
                        <a:pt x="4423" y="1433"/>
                      </a:lnTo>
                      <a:lnTo>
                        <a:pt x="4472" y="1439"/>
                      </a:lnTo>
                      <a:lnTo>
                        <a:pt x="4521" y="1447"/>
                      </a:lnTo>
                      <a:lnTo>
                        <a:pt x="4571" y="1455"/>
                      </a:lnTo>
                      <a:lnTo>
                        <a:pt x="4620" y="1464"/>
                      </a:lnTo>
                      <a:lnTo>
                        <a:pt x="4669" y="1475"/>
                      </a:lnTo>
                      <a:lnTo>
                        <a:pt x="4718" y="1485"/>
                      </a:lnTo>
                      <a:lnTo>
                        <a:pt x="4767" y="1498"/>
                      </a:lnTo>
                      <a:lnTo>
                        <a:pt x="4816" y="1510"/>
                      </a:lnTo>
                      <a:lnTo>
                        <a:pt x="4864" y="1524"/>
                      </a:lnTo>
                      <a:lnTo>
                        <a:pt x="4912" y="1537"/>
                      </a:lnTo>
                      <a:lnTo>
                        <a:pt x="4927" y="1532"/>
                      </a:lnTo>
                      <a:lnTo>
                        <a:pt x="4940" y="1526"/>
                      </a:lnTo>
                      <a:lnTo>
                        <a:pt x="4953" y="1519"/>
                      </a:lnTo>
                      <a:lnTo>
                        <a:pt x="4968" y="1513"/>
                      </a:lnTo>
                      <a:lnTo>
                        <a:pt x="4981" y="1508"/>
                      </a:lnTo>
                      <a:lnTo>
                        <a:pt x="4995" y="1502"/>
                      </a:lnTo>
                      <a:lnTo>
                        <a:pt x="5009" y="1495"/>
                      </a:lnTo>
                      <a:lnTo>
                        <a:pt x="5023" y="1490"/>
                      </a:lnTo>
                      <a:lnTo>
                        <a:pt x="5070" y="1401"/>
                      </a:lnTo>
                      <a:lnTo>
                        <a:pt x="5121" y="1315"/>
                      </a:lnTo>
                      <a:lnTo>
                        <a:pt x="5177" y="1232"/>
                      </a:lnTo>
                      <a:lnTo>
                        <a:pt x="5237" y="1153"/>
                      </a:lnTo>
                      <a:lnTo>
                        <a:pt x="5301" y="1077"/>
                      </a:lnTo>
                      <a:lnTo>
                        <a:pt x="5367" y="1003"/>
                      </a:lnTo>
                      <a:lnTo>
                        <a:pt x="5438" y="932"/>
                      </a:lnTo>
                      <a:lnTo>
                        <a:pt x="5513" y="865"/>
                      </a:lnTo>
                      <a:lnTo>
                        <a:pt x="5590" y="801"/>
                      </a:lnTo>
                      <a:lnTo>
                        <a:pt x="5670" y="738"/>
                      </a:lnTo>
                      <a:lnTo>
                        <a:pt x="5752" y="680"/>
                      </a:lnTo>
                      <a:lnTo>
                        <a:pt x="5838" y="624"/>
                      </a:lnTo>
                      <a:lnTo>
                        <a:pt x="5925" y="571"/>
                      </a:lnTo>
                      <a:lnTo>
                        <a:pt x="6015" y="520"/>
                      </a:lnTo>
                      <a:lnTo>
                        <a:pt x="6107" y="472"/>
                      </a:lnTo>
                      <a:lnTo>
                        <a:pt x="6200" y="426"/>
                      </a:lnTo>
                      <a:lnTo>
                        <a:pt x="6295" y="383"/>
                      </a:lnTo>
                      <a:lnTo>
                        <a:pt x="6391" y="343"/>
                      </a:lnTo>
                      <a:lnTo>
                        <a:pt x="6488" y="305"/>
                      </a:lnTo>
                      <a:lnTo>
                        <a:pt x="6587" y="269"/>
                      </a:lnTo>
                      <a:lnTo>
                        <a:pt x="6686" y="235"/>
                      </a:lnTo>
                      <a:lnTo>
                        <a:pt x="6787" y="205"/>
                      </a:lnTo>
                      <a:lnTo>
                        <a:pt x="6886" y="176"/>
                      </a:lnTo>
                      <a:lnTo>
                        <a:pt x="6988" y="150"/>
                      </a:lnTo>
                      <a:lnTo>
                        <a:pt x="7088" y="126"/>
                      </a:lnTo>
                      <a:lnTo>
                        <a:pt x="7189" y="103"/>
                      </a:lnTo>
                      <a:lnTo>
                        <a:pt x="7289" y="83"/>
                      </a:lnTo>
                      <a:lnTo>
                        <a:pt x="7389" y="66"/>
                      </a:lnTo>
                      <a:lnTo>
                        <a:pt x="7488" y="50"/>
                      </a:lnTo>
                      <a:lnTo>
                        <a:pt x="7587" y="36"/>
                      </a:lnTo>
                      <a:lnTo>
                        <a:pt x="7683" y="24"/>
                      </a:lnTo>
                      <a:lnTo>
                        <a:pt x="7779" y="14"/>
                      </a:lnTo>
                      <a:lnTo>
                        <a:pt x="7866" y="8"/>
                      </a:lnTo>
                      <a:lnTo>
                        <a:pt x="7952" y="4"/>
                      </a:lnTo>
                      <a:lnTo>
                        <a:pt x="8038" y="2"/>
                      </a:lnTo>
                      <a:lnTo>
                        <a:pt x="8125" y="0"/>
                      </a:lnTo>
                      <a:lnTo>
                        <a:pt x="8212" y="0"/>
                      </a:lnTo>
                      <a:lnTo>
                        <a:pt x="8299" y="1"/>
                      </a:lnTo>
                      <a:lnTo>
                        <a:pt x="8387" y="4"/>
                      </a:lnTo>
                      <a:lnTo>
                        <a:pt x="8475" y="8"/>
                      </a:lnTo>
                      <a:lnTo>
                        <a:pt x="8562" y="15"/>
                      </a:lnTo>
                      <a:lnTo>
                        <a:pt x="8650" y="22"/>
                      </a:lnTo>
                      <a:lnTo>
                        <a:pt x="8737" y="31"/>
                      </a:lnTo>
                      <a:lnTo>
                        <a:pt x="8824" y="42"/>
                      </a:lnTo>
                      <a:lnTo>
                        <a:pt x="8912" y="55"/>
                      </a:lnTo>
                      <a:lnTo>
                        <a:pt x="8998" y="69"/>
                      </a:lnTo>
                      <a:lnTo>
                        <a:pt x="9084" y="85"/>
                      </a:lnTo>
                      <a:lnTo>
                        <a:pt x="9170" y="104"/>
                      </a:lnTo>
                      <a:lnTo>
                        <a:pt x="9255" y="124"/>
                      </a:lnTo>
                      <a:lnTo>
                        <a:pt x="9339" y="146"/>
                      </a:lnTo>
                      <a:lnTo>
                        <a:pt x="9422" y="171"/>
                      </a:lnTo>
                      <a:lnTo>
                        <a:pt x="9505" y="197"/>
                      </a:lnTo>
                      <a:lnTo>
                        <a:pt x="9587" y="225"/>
                      </a:lnTo>
                      <a:lnTo>
                        <a:pt x="9668" y="256"/>
                      </a:lnTo>
                      <a:lnTo>
                        <a:pt x="9748" y="290"/>
                      </a:lnTo>
                      <a:lnTo>
                        <a:pt x="9827" y="324"/>
                      </a:lnTo>
                      <a:lnTo>
                        <a:pt x="9904" y="361"/>
                      </a:lnTo>
                      <a:lnTo>
                        <a:pt x="9981" y="402"/>
                      </a:lnTo>
                      <a:lnTo>
                        <a:pt x="10056" y="445"/>
                      </a:lnTo>
                      <a:lnTo>
                        <a:pt x="10130" y="489"/>
                      </a:lnTo>
                      <a:lnTo>
                        <a:pt x="10202" y="536"/>
                      </a:lnTo>
                      <a:lnTo>
                        <a:pt x="10272" y="586"/>
                      </a:lnTo>
                      <a:lnTo>
                        <a:pt x="10341" y="639"/>
                      </a:lnTo>
                      <a:lnTo>
                        <a:pt x="10409" y="695"/>
                      </a:lnTo>
                      <a:lnTo>
                        <a:pt x="10490" y="661"/>
                      </a:lnTo>
                      <a:lnTo>
                        <a:pt x="10572" y="633"/>
                      </a:lnTo>
                      <a:lnTo>
                        <a:pt x="10655" y="609"/>
                      </a:lnTo>
                      <a:lnTo>
                        <a:pt x="10739" y="589"/>
                      </a:lnTo>
                      <a:lnTo>
                        <a:pt x="10824" y="575"/>
                      </a:lnTo>
                      <a:lnTo>
                        <a:pt x="10910" y="563"/>
                      </a:lnTo>
                      <a:lnTo>
                        <a:pt x="10996" y="557"/>
                      </a:lnTo>
                      <a:lnTo>
                        <a:pt x="11083" y="554"/>
                      </a:lnTo>
                      <a:lnTo>
                        <a:pt x="11170" y="555"/>
                      </a:lnTo>
                      <a:lnTo>
                        <a:pt x="11256" y="559"/>
                      </a:lnTo>
                      <a:lnTo>
                        <a:pt x="11343" y="569"/>
                      </a:lnTo>
                      <a:lnTo>
                        <a:pt x="11429" y="581"/>
                      </a:lnTo>
                      <a:lnTo>
                        <a:pt x="11515" y="597"/>
                      </a:lnTo>
                      <a:lnTo>
                        <a:pt x="11600" y="615"/>
                      </a:lnTo>
                      <a:lnTo>
                        <a:pt x="11686" y="638"/>
                      </a:lnTo>
                      <a:lnTo>
                        <a:pt x="11770" y="664"/>
                      </a:lnTo>
                      <a:lnTo>
                        <a:pt x="11853" y="694"/>
                      </a:lnTo>
                      <a:lnTo>
                        <a:pt x="11936" y="726"/>
                      </a:lnTo>
                      <a:lnTo>
                        <a:pt x="12016" y="761"/>
                      </a:lnTo>
                      <a:lnTo>
                        <a:pt x="12096" y="800"/>
                      </a:lnTo>
                      <a:lnTo>
                        <a:pt x="12174" y="840"/>
                      </a:lnTo>
                      <a:lnTo>
                        <a:pt x="12251" y="884"/>
                      </a:lnTo>
                      <a:lnTo>
                        <a:pt x="12325" y="931"/>
                      </a:lnTo>
                      <a:lnTo>
                        <a:pt x="12398" y="980"/>
                      </a:lnTo>
                      <a:lnTo>
                        <a:pt x="12469" y="1031"/>
                      </a:lnTo>
                      <a:lnTo>
                        <a:pt x="12537" y="1085"/>
                      </a:lnTo>
                      <a:lnTo>
                        <a:pt x="12603" y="1141"/>
                      </a:lnTo>
                      <a:lnTo>
                        <a:pt x="12667" y="1200"/>
                      </a:lnTo>
                      <a:lnTo>
                        <a:pt x="12727" y="1261"/>
                      </a:lnTo>
                      <a:lnTo>
                        <a:pt x="12786" y="1324"/>
                      </a:lnTo>
                      <a:lnTo>
                        <a:pt x="12841" y="1388"/>
                      </a:lnTo>
                      <a:lnTo>
                        <a:pt x="12894" y="1455"/>
                      </a:lnTo>
                      <a:close/>
                    </a:path>
                  </a:pathLst>
                </a:custGeom>
                <a:solidFill>
                  <a:srgbClr val="9ac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4" name=""/>
              <p:cNvSpPr/>
              <p:nvPr/>
            </p:nvSpPr>
            <p:spPr>
              <a:xfrm>
                <a:off x="4093920" y="2901960"/>
                <a:ext cx="898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400" rIns="77400" tIns="38880" bIns="38880" anchor="ctr">
                <a:noAutofit/>
              </a:bodyPr>
              <a:p>
                <a:pPr algn="ctr">
                  <a:tabLst>
                    <a:tab algn="l" pos="0"/>
                    <a:tab algn="l" pos="776160"/>
                    <a:tab algn="l" pos="1552680"/>
                    <a:tab algn="l" pos="2328840"/>
                    <a:tab algn="l" pos="3105000"/>
                    <a:tab algn="l" pos="3881520"/>
                    <a:tab algn="l" pos="4657680"/>
                    <a:tab algn="l" pos="5433840"/>
                    <a:tab algn="l" pos="6210360"/>
                    <a:tab algn="l" pos="6986520"/>
                    <a:tab algn="l" pos="7763040"/>
                    <a:tab algn="l" pos="8539200"/>
                    <a:tab algn="l" pos="9315360"/>
                    <a:tab algn="l" pos="10091880"/>
                    <a:tab algn="l" pos="1086804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PP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76160"/>
                    <a:tab algn="l" pos="1552680"/>
                    <a:tab algn="l" pos="2328840"/>
                    <a:tab algn="l" pos="3105000"/>
                    <a:tab algn="l" pos="3881520"/>
                    <a:tab algn="l" pos="4657680"/>
                    <a:tab algn="l" pos="5433840"/>
                    <a:tab algn="l" pos="6210360"/>
                    <a:tab algn="l" pos="6986520"/>
                    <a:tab algn="l" pos="7763040"/>
                    <a:tab algn="l" pos="8539200"/>
                    <a:tab algn="l" pos="9315360"/>
                    <a:tab algn="l" pos="10091880"/>
                    <a:tab algn="l" pos="1086804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5" name=""/>
            <p:cNvGrpSpPr/>
            <p:nvPr/>
          </p:nvGrpSpPr>
          <p:grpSpPr>
            <a:xfrm>
              <a:off x="7053120" y="3962520"/>
              <a:ext cx="1100160" cy="728640"/>
              <a:chOff x="7053120" y="3962520"/>
              <a:chExt cx="1100160" cy="728640"/>
            </a:xfrm>
          </p:grpSpPr>
          <p:sp>
            <p:nvSpPr>
              <p:cNvPr id="3086" name=""/>
              <p:cNvSpPr/>
              <p:nvPr/>
            </p:nvSpPr>
            <p:spPr>
              <a:xfrm>
                <a:off x="7053120" y="396252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7281720" y="419112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8" name=""/>
            <p:cNvGrpSpPr/>
            <p:nvPr/>
          </p:nvGrpSpPr>
          <p:grpSpPr>
            <a:xfrm>
              <a:off x="1752120" y="3124080"/>
              <a:ext cx="5639400" cy="1067040"/>
              <a:chOff x="1752120" y="3124080"/>
              <a:chExt cx="5639400" cy="1067040"/>
            </a:xfrm>
          </p:grpSpPr>
          <p:sp>
            <p:nvSpPr>
              <p:cNvPr id="3089" name=""/>
              <p:cNvSpPr/>
              <p:nvPr/>
            </p:nvSpPr>
            <p:spPr>
              <a:xfrm flipH="1">
                <a:off x="1752120" y="3200400"/>
                <a:ext cx="38124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010280" y="3233880"/>
                <a:ext cx="38124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2819520" y="3124080"/>
                <a:ext cx="99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257800" y="3124080"/>
                <a:ext cx="99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3" name=""/>
            <p:cNvSpPr/>
            <p:nvPr/>
          </p:nvSpPr>
          <p:spPr>
            <a:xfrm>
              <a:off x="380880" y="2971800"/>
              <a:ext cx="19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.1.1.1/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438280" y="32608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.2.2.1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057400" y="25146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019920" y="25146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T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410080" y="32608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.2.2.2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8" name=""/>
            <p:cNvGrpSpPr/>
            <p:nvPr/>
          </p:nvGrpSpPr>
          <p:grpSpPr>
            <a:xfrm>
              <a:off x="6248520" y="2895480"/>
              <a:ext cx="761760" cy="456840"/>
              <a:chOff x="6248520" y="2895480"/>
              <a:chExt cx="761760" cy="456840"/>
            </a:xfrm>
          </p:grpSpPr>
          <p:sp>
            <p:nvSpPr>
              <p:cNvPr id="3099" name=""/>
              <p:cNvSpPr/>
              <p:nvPr/>
            </p:nvSpPr>
            <p:spPr>
              <a:xfrm>
                <a:off x="6248520" y="3022560"/>
                <a:ext cx="76176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248520" y="2895480"/>
                <a:ext cx="75852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1" name=""/>
              <p:cNvGrpSpPr/>
              <p:nvPr/>
            </p:nvGrpSpPr>
            <p:grpSpPr>
              <a:xfrm>
                <a:off x="6366600" y="2925000"/>
                <a:ext cx="523080" cy="190080"/>
                <a:chOff x="6366600" y="2925000"/>
                <a:chExt cx="523080" cy="190080"/>
              </a:xfrm>
            </p:grpSpPr>
            <p:sp>
              <p:nvSpPr>
                <p:cNvPr id="3102" name=""/>
                <p:cNvSpPr/>
                <p:nvPr/>
              </p:nvSpPr>
              <p:spPr>
                <a:xfrm>
                  <a:off x="663768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663768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636660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636660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637920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637920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662796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662796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664272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664272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637164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637164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638424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638424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663336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663336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18" name=""/>
            <p:cNvGrpSpPr/>
            <p:nvPr/>
          </p:nvGrpSpPr>
          <p:grpSpPr>
            <a:xfrm>
              <a:off x="2057400" y="2895480"/>
              <a:ext cx="762120" cy="456840"/>
              <a:chOff x="2057400" y="2895480"/>
              <a:chExt cx="762120" cy="456840"/>
            </a:xfrm>
          </p:grpSpPr>
          <p:sp>
            <p:nvSpPr>
              <p:cNvPr id="3119" name=""/>
              <p:cNvSpPr/>
              <p:nvPr/>
            </p:nvSpPr>
            <p:spPr>
              <a:xfrm>
                <a:off x="2057400" y="3022560"/>
                <a:ext cx="76212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057400" y="2895480"/>
                <a:ext cx="75888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1" name=""/>
              <p:cNvGrpSpPr/>
              <p:nvPr/>
            </p:nvGrpSpPr>
            <p:grpSpPr>
              <a:xfrm>
                <a:off x="2175480" y="2925000"/>
                <a:ext cx="523440" cy="190080"/>
                <a:chOff x="2175480" y="2925000"/>
                <a:chExt cx="523440" cy="190080"/>
              </a:xfrm>
            </p:grpSpPr>
            <p:sp>
              <p:nvSpPr>
                <p:cNvPr id="3122" name=""/>
                <p:cNvSpPr/>
                <p:nvPr/>
              </p:nvSpPr>
              <p:spPr>
                <a:xfrm>
                  <a:off x="244656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244656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217548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217548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218808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218808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243720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243720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245196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245196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218052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218052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219312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219312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244224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244224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38" name=""/>
            <p:cNvSpPr/>
            <p:nvPr/>
          </p:nvSpPr>
          <p:spPr>
            <a:xfrm>
              <a:off x="7010280" y="29718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.3.3.1/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9" name=""/>
            <p:cNvGrpSpPr/>
            <p:nvPr/>
          </p:nvGrpSpPr>
          <p:grpSpPr>
            <a:xfrm>
              <a:off x="957240" y="3962520"/>
              <a:ext cx="1100160" cy="728640"/>
              <a:chOff x="957240" y="3962520"/>
              <a:chExt cx="1100160" cy="728640"/>
            </a:xfrm>
          </p:grpSpPr>
          <p:sp>
            <p:nvSpPr>
              <p:cNvPr id="3140" name=""/>
              <p:cNvSpPr/>
              <p:nvPr/>
            </p:nvSpPr>
            <p:spPr>
              <a:xfrm>
                <a:off x="957240" y="396252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1185840" y="419112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P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SPF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pen Shortest Path Firs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开放最短路径优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链路状态算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P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适应更大规模的网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收敛速度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无路由环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支持等值路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划分区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支持验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46" name=""/>
          <p:cNvGrpSpPr/>
          <p:nvPr/>
        </p:nvGrpSpPr>
        <p:grpSpPr>
          <a:xfrm>
            <a:off x="4267080" y="4267080"/>
            <a:ext cx="1981440" cy="1599840"/>
            <a:chOff x="4267080" y="4267080"/>
            <a:chExt cx="1981440" cy="1599840"/>
          </a:xfrm>
        </p:grpSpPr>
        <p:grpSp>
          <p:nvGrpSpPr>
            <p:cNvPr id="3147" name=""/>
            <p:cNvGrpSpPr/>
            <p:nvPr/>
          </p:nvGrpSpPr>
          <p:grpSpPr>
            <a:xfrm>
              <a:off x="4267080" y="4367160"/>
              <a:ext cx="1981440" cy="1371960"/>
              <a:chOff x="4267080" y="4367160"/>
              <a:chExt cx="1981440" cy="1371960"/>
            </a:xfrm>
          </p:grpSpPr>
          <p:sp>
            <p:nvSpPr>
              <p:cNvPr id="3148" name=""/>
              <p:cNvSpPr/>
              <p:nvPr/>
            </p:nvSpPr>
            <p:spPr>
              <a:xfrm>
                <a:off x="4267080" y="4367160"/>
                <a:ext cx="1981440" cy="1371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820400" y="4842720"/>
                <a:ext cx="109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rea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0" name=""/>
            <p:cNvGrpSpPr/>
            <p:nvPr/>
          </p:nvGrpSpPr>
          <p:grpSpPr>
            <a:xfrm>
              <a:off x="4446720" y="4267080"/>
              <a:ext cx="643320" cy="383760"/>
              <a:chOff x="4446720" y="4267080"/>
              <a:chExt cx="643320" cy="383760"/>
            </a:xfrm>
          </p:grpSpPr>
          <p:sp>
            <p:nvSpPr>
              <p:cNvPr id="3151" name=""/>
              <p:cNvSpPr/>
              <p:nvPr/>
            </p:nvSpPr>
            <p:spPr>
              <a:xfrm>
                <a:off x="4446720" y="4374000"/>
                <a:ext cx="643320" cy="27684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446720" y="4267080"/>
                <a:ext cx="640800" cy="21060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3" name=""/>
              <p:cNvGrpSpPr/>
              <p:nvPr/>
            </p:nvGrpSpPr>
            <p:grpSpPr>
              <a:xfrm>
                <a:off x="4546440" y="4291560"/>
                <a:ext cx="441720" cy="159840"/>
                <a:chOff x="4546440" y="4291560"/>
                <a:chExt cx="441720" cy="159840"/>
              </a:xfrm>
            </p:grpSpPr>
            <p:sp>
              <p:nvSpPr>
                <p:cNvPr id="3154" name=""/>
                <p:cNvSpPr/>
                <p:nvPr/>
              </p:nvSpPr>
              <p:spPr>
                <a:xfrm>
                  <a:off x="4775400" y="4295520"/>
                  <a:ext cx="21024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4775400" y="4295520"/>
                  <a:ext cx="21024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4546440" y="4372200"/>
                  <a:ext cx="209880" cy="7056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4546440" y="4372200"/>
                  <a:ext cx="209880" cy="7056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4556880" y="4291560"/>
                  <a:ext cx="20988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4556880" y="4291560"/>
                  <a:ext cx="20988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4767120" y="4380840"/>
                  <a:ext cx="20988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4767120" y="4380840"/>
                  <a:ext cx="20988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4779720" y="4299840"/>
                  <a:ext cx="208440" cy="662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4779720" y="4299840"/>
                  <a:ext cx="208440" cy="662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4550400" y="4376520"/>
                  <a:ext cx="209880" cy="7056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4550400" y="4376520"/>
                  <a:ext cx="209880" cy="7056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4561200" y="4295520"/>
                  <a:ext cx="21024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4561200" y="4295520"/>
                  <a:ext cx="21024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4771440" y="4385160"/>
                  <a:ext cx="20988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4771440" y="4385160"/>
                  <a:ext cx="20988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70" name=""/>
            <p:cNvGrpSpPr/>
            <p:nvPr/>
          </p:nvGrpSpPr>
          <p:grpSpPr>
            <a:xfrm>
              <a:off x="4511160" y="5483160"/>
              <a:ext cx="642960" cy="383760"/>
              <a:chOff x="4511160" y="5483160"/>
              <a:chExt cx="642960" cy="383760"/>
            </a:xfrm>
          </p:grpSpPr>
          <p:sp>
            <p:nvSpPr>
              <p:cNvPr id="3171" name=""/>
              <p:cNvSpPr/>
              <p:nvPr/>
            </p:nvSpPr>
            <p:spPr>
              <a:xfrm>
                <a:off x="4511160" y="5590080"/>
                <a:ext cx="642960" cy="27684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511160" y="5483160"/>
                <a:ext cx="640440" cy="21060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3" name=""/>
              <p:cNvGrpSpPr/>
              <p:nvPr/>
            </p:nvGrpSpPr>
            <p:grpSpPr>
              <a:xfrm>
                <a:off x="4610880" y="5507640"/>
                <a:ext cx="441720" cy="159840"/>
                <a:chOff x="4610880" y="5507640"/>
                <a:chExt cx="441720" cy="159840"/>
              </a:xfrm>
            </p:grpSpPr>
            <p:sp>
              <p:nvSpPr>
                <p:cNvPr id="3174" name=""/>
                <p:cNvSpPr/>
                <p:nvPr/>
              </p:nvSpPr>
              <p:spPr>
                <a:xfrm>
                  <a:off x="4839840" y="5511600"/>
                  <a:ext cx="21024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4839840" y="5511600"/>
                  <a:ext cx="21024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4610880" y="5588280"/>
                  <a:ext cx="209880" cy="7056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4610880" y="5588280"/>
                  <a:ext cx="209880" cy="7056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4621320" y="5507640"/>
                  <a:ext cx="20988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4621320" y="5507640"/>
                  <a:ext cx="20988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4831560" y="5596920"/>
                  <a:ext cx="20988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4831560" y="5596920"/>
                  <a:ext cx="20988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4844160" y="5515920"/>
                  <a:ext cx="208440" cy="662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4844160" y="5515920"/>
                  <a:ext cx="208440" cy="662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4614840" y="5592600"/>
                  <a:ext cx="209880" cy="7056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4614840" y="5592600"/>
                  <a:ext cx="209880" cy="7056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4625640" y="5511600"/>
                  <a:ext cx="21024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4625640" y="5511600"/>
                  <a:ext cx="21024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4835880" y="5601240"/>
                  <a:ext cx="20988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4835880" y="5601240"/>
                  <a:ext cx="209880" cy="66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90" name=""/>
          <p:cNvGrpSpPr/>
          <p:nvPr/>
        </p:nvGrpSpPr>
        <p:grpSpPr>
          <a:xfrm>
            <a:off x="6416640" y="4191120"/>
            <a:ext cx="1965240" cy="1675800"/>
            <a:chOff x="6416640" y="4191120"/>
            <a:chExt cx="1965240" cy="1675800"/>
          </a:xfrm>
        </p:grpSpPr>
        <p:grpSp>
          <p:nvGrpSpPr>
            <p:cNvPr id="3191" name=""/>
            <p:cNvGrpSpPr/>
            <p:nvPr/>
          </p:nvGrpSpPr>
          <p:grpSpPr>
            <a:xfrm>
              <a:off x="6416640" y="4356000"/>
              <a:ext cx="1965240" cy="1382040"/>
              <a:chOff x="6416640" y="4356000"/>
              <a:chExt cx="1965240" cy="1382040"/>
            </a:xfrm>
          </p:grpSpPr>
          <p:sp>
            <p:nvSpPr>
              <p:cNvPr id="3192" name=""/>
              <p:cNvSpPr/>
              <p:nvPr/>
            </p:nvSpPr>
            <p:spPr>
              <a:xfrm>
                <a:off x="6416640" y="4356000"/>
                <a:ext cx="1965240" cy="138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6965280" y="4835160"/>
                <a:ext cx="109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rea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4" name=""/>
            <p:cNvGrpSpPr/>
            <p:nvPr/>
          </p:nvGrpSpPr>
          <p:grpSpPr>
            <a:xfrm>
              <a:off x="7552080" y="4191120"/>
              <a:ext cx="638280" cy="386640"/>
              <a:chOff x="7552080" y="4191120"/>
              <a:chExt cx="638280" cy="386640"/>
            </a:xfrm>
          </p:grpSpPr>
          <p:sp>
            <p:nvSpPr>
              <p:cNvPr id="3195" name=""/>
              <p:cNvSpPr/>
              <p:nvPr/>
            </p:nvSpPr>
            <p:spPr>
              <a:xfrm>
                <a:off x="7552080" y="4298760"/>
                <a:ext cx="638280" cy="27900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552080" y="4191120"/>
                <a:ext cx="635760" cy="21240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7" name=""/>
              <p:cNvGrpSpPr/>
              <p:nvPr/>
            </p:nvGrpSpPr>
            <p:grpSpPr>
              <a:xfrm>
                <a:off x="7651080" y="4215960"/>
                <a:ext cx="438480" cy="160920"/>
                <a:chOff x="7651080" y="4215960"/>
                <a:chExt cx="438480" cy="160920"/>
              </a:xfrm>
            </p:grpSpPr>
            <p:sp>
              <p:nvSpPr>
                <p:cNvPr id="3198" name=""/>
                <p:cNvSpPr/>
                <p:nvPr/>
              </p:nvSpPr>
              <p:spPr>
                <a:xfrm>
                  <a:off x="7878240" y="421992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>
                  <a:off x="7878240" y="421992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>
                  <a:off x="7651080" y="4297320"/>
                  <a:ext cx="208440" cy="7092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7651080" y="4297320"/>
                  <a:ext cx="208440" cy="7092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7661520" y="421596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7661520" y="421596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7870320" y="430596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>
                  <a:off x="7870320" y="430596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7882560" y="4224240"/>
                  <a:ext cx="207000" cy="6660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7882560" y="4224240"/>
                  <a:ext cx="207000" cy="6660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7655040" y="4301640"/>
                  <a:ext cx="208440" cy="7092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7655040" y="4301640"/>
                  <a:ext cx="208440" cy="7092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7665840" y="421992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1" name=""/>
                <p:cNvSpPr/>
                <p:nvPr/>
              </p:nvSpPr>
              <p:spPr>
                <a:xfrm>
                  <a:off x="7665840" y="421992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7874640" y="431028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7874640" y="431028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4" name=""/>
            <p:cNvGrpSpPr/>
            <p:nvPr/>
          </p:nvGrpSpPr>
          <p:grpSpPr>
            <a:xfrm>
              <a:off x="7360560" y="5480280"/>
              <a:ext cx="638280" cy="386640"/>
              <a:chOff x="7360560" y="5480280"/>
              <a:chExt cx="638280" cy="386640"/>
            </a:xfrm>
          </p:grpSpPr>
          <p:sp>
            <p:nvSpPr>
              <p:cNvPr id="3215" name=""/>
              <p:cNvSpPr/>
              <p:nvPr/>
            </p:nvSpPr>
            <p:spPr>
              <a:xfrm>
                <a:off x="7360560" y="5587920"/>
                <a:ext cx="638280" cy="27900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360560" y="5480280"/>
                <a:ext cx="635760" cy="21240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7" name=""/>
              <p:cNvGrpSpPr/>
              <p:nvPr/>
            </p:nvGrpSpPr>
            <p:grpSpPr>
              <a:xfrm>
                <a:off x="7459560" y="5505120"/>
                <a:ext cx="438480" cy="160920"/>
                <a:chOff x="7459560" y="5505120"/>
                <a:chExt cx="438480" cy="160920"/>
              </a:xfrm>
            </p:grpSpPr>
            <p:sp>
              <p:nvSpPr>
                <p:cNvPr id="3218" name=""/>
                <p:cNvSpPr/>
                <p:nvPr/>
              </p:nvSpPr>
              <p:spPr>
                <a:xfrm>
                  <a:off x="7686720" y="550908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7686720" y="550908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>
                  <a:off x="7459560" y="5586480"/>
                  <a:ext cx="208440" cy="7092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7459560" y="5586480"/>
                  <a:ext cx="208440" cy="7092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7470000" y="550512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>
                  <a:off x="7470000" y="550512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7678800" y="559512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>
                  <a:off x="7678800" y="559512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>
                  <a:off x="7691040" y="5513400"/>
                  <a:ext cx="207000" cy="6660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>
                  <a:off x="7691040" y="5513400"/>
                  <a:ext cx="207000" cy="6660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>
                  <a:off x="7463520" y="5590800"/>
                  <a:ext cx="208440" cy="7092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>
                  <a:off x="7463520" y="5590800"/>
                  <a:ext cx="208440" cy="7092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>
                  <a:off x="7474320" y="550908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>
                  <a:off x="7474320" y="550908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>
                  <a:off x="7683120" y="559944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7683120" y="5599440"/>
                  <a:ext cx="20844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34" name=""/>
          <p:cNvSpPr/>
          <p:nvPr/>
        </p:nvSpPr>
        <p:spPr>
          <a:xfrm>
            <a:off x="3962520" y="3657600"/>
            <a:ext cx="4800600" cy="263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5868720" y="380988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6" name=""/>
          <p:cNvGrpSpPr/>
          <p:nvPr/>
        </p:nvGrpSpPr>
        <p:grpSpPr>
          <a:xfrm>
            <a:off x="5943600" y="4800600"/>
            <a:ext cx="762120" cy="456840"/>
            <a:chOff x="5943600" y="4800600"/>
            <a:chExt cx="762120" cy="456840"/>
          </a:xfrm>
        </p:grpSpPr>
        <p:sp>
          <p:nvSpPr>
            <p:cNvPr id="3237" name=""/>
            <p:cNvSpPr/>
            <p:nvPr/>
          </p:nvSpPr>
          <p:spPr>
            <a:xfrm>
              <a:off x="5943600" y="4927680"/>
              <a:ext cx="762120" cy="3297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943600" y="4800600"/>
              <a:ext cx="758880" cy="250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9" name=""/>
            <p:cNvGrpSpPr/>
            <p:nvPr/>
          </p:nvGrpSpPr>
          <p:grpSpPr>
            <a:xfrm>
              <a:off x="6061680" y="4830120"/>
              <a:ext cx="523440" cy="190080"/>
              <a:chOff x="6061680" y="4830120"/>
              <a:chExt cx="523440" cy="190080"/>
            </a:xfrm>
          </p:grpSpPr>
          <p:sp>
            <p:nvSpPr>
              <p:cNvPr id="3240" name=""/>
              <p:cNvSpPr/>
              <p:nvPr/>
            </p:nvSpPr>
            <p:spPr>
              <a:xfrm>
                <a:off x="6332760" y="483516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6332760" y="483516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6061680" y="492624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6061680" y="492624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6074280" y="483012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6074280" y="483012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6323400" y="493632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6323400" y="493632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6338160" y="484020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6338160" y="484020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6066720" y="493128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6066720" y="493128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6079320" y="483516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6079320" y="483516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6328440" y="494136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6328440" y="494136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P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257" name=""/>
          <p:cNvGrpSpPr/>
          <p:nvPr/>
        </p:nvGrpSpPr>
        <p:grpSpPr>
          <a:xfrm>
            <a:off x="1162440" y="1849320"/>
            <a:ext cx="6287400" cy="4629240"/>
            <a:chOff x="1162440" y="1849320"/>
            <a:chExt cx="6287400" cy="4629240"/>
          </a:xfrm>
        </p:grpSpPr>
        <p:sp>
          <p:nvSpPr>
            <p:cNvPr id="3258" name=""/>
            <p:cNvSpPr/>
            <p:nvPr/>
          </p:nvSpPr>
          <p:spPr>
            <a:xfrm>
              <a:off x="3697200" y="1849320"/>
              <a:ext cx="1509840" cy="395280"/>
            </a:xfrm>
            <a:custGeom>
              <a:avLst/>
              <a:gdLst/>
              <a:ahLst/>
              <a:rect l="l" t="t" r="r" b="b"/>
              <a:pathLst>
                <a:path w="874" h="249">
                  <a:moveTo>
                    <a:pt x="0" y="124"/>
                  </a:moveTo>
                  <a:lnTo>
                    <a:pt x="2" y="113"/>
                  </a:lnTo>
                  <a:lnTo>
                    <a:pt x="9" y="100"/>
                  </a:lnTo>
                  <a:lnTo>
                    <a:pt x="19" y="88"/>
                  </a:lnTo>
                  <a:lnTo>
                    <a:pt x="33" y="77"/>
                  </a:lnTo>
                  <a:lnTo>
                    <a:pt x="52" y="65"/>
                  </a:lnTo>
                  <a:lnTo>
                    <a:pt x="74" y="55"/>
                  </a:lnTo>
                  <a:lnTo>
                    <a:pt x="99" y="45"/>
                  </a:lnTo>
                  <a:lnTo>
                    <a:pt x="128" y="37"/>
                  </a:lnTo>
                  <a:lnTo>
                    <a:pt x="160" y="28"/>
                  </a:lnTo>
                  <a:lnTo>
                    <a:pt x="194" y="21"/>
                  </a:lnTo>
                  <a:lnTo>
                    <a:pt x="230" y="14"/>
                  </a:lnTo>
                  <a:lnTo>
                    <a:pt x="269" y="9"/>
                  </a:lnTo>
                  <a:lnTo>
                    <a:pt x="310" y="5"/>
                  </a:lnTo>
                  <a:lnTo>
                    <a:pt x="352" y="2"/>
                  </a:lnTo>
                  <a:lnTo>
                    <a:pt x="394" y="1"/>
                  </a:lnTo>
                  <a:lnTo>
                    <a:pt x="436" y="0"/>
                  </a:lnTo>
                  <a:lnTo>
                    <a:pt x="480" y="1"/>
                  </a:lnTo>
                  <a:lnTo>
                    <a:pt x="522" y="2"/>
                  </a:lnTo>
                  <a:lnTo>
                    <a:pt x="563" y="5"/>
                  </a:lnTo>
                  <a:lnTo>
                    <a:pt x="603" y="9"/>
                  </a:lnTo>
                  <a:lnTo>
                    <a:pt x="642" y="14"/>
                  </a:lnTo>
                  <a:lnTo>
                    <a:pt x="679" y="21"/>
                  </a:lnTo>
                  <a:lnTo>
                    <a:pt x="713" y="28"/>
                  </a:lnTo>
                  <a:lnTo>
                    <a:pt x="746" y="37"/>
                  </a:lnTo>
                  <a:lnTo>
                    <a:pt x="774" y="45"/>
                  </a:lnTo>
                  <a:lnTo>
                    <a:pt x="800" y="55"/>
                  </a:lnTo>
                  <a:lnTo>
                    <a:pt x="822" y="65"/>
                  </a:lnTo>
                  <a:lnTo>
                    <a:pt x="840" y="77"/>
                  </a:lnTo>
                  <a:lnTo>
                    <a:pt x="855" y="88"/>
                  </a:lnTo>
                  <a:lnTo>
                    <a:pt x="865" y="100"/>
                  </a:lnTo>
                  <a:lnTo>
                    <a:pt x="872" y="113"/>
                  </a:lnTo>
                  <a:lnTo>
                    <a:pt x="874" y="124"/>
                  </a:lnTo>
                  <a:lnTo>
                    <a:pt x="872" y="137"/>
                  </a:lnTo>
                  <a:lnTo>
                    <a:pt x="865" y="149"/>
                  </a:lnTo>
                  <a:lnTo>
                    <a:pt x="855" y="160"/>
                  </a:lnTo>
                  <a:lnTo>
                    <a:pt x="840" y="172"/>
                  </a:lnTo>
                  <a:lnTo>
                    <a:pt x="822" y="183"/>
                  </a:lnTo>
                  <a:lnTo>
                    <a:pt x="800" y="194"/>
                  </a:lnTo>
                  <a:lnTo>
                    <a:pt x="774" y="203"/>
                  </a:lnTo>
                  <a:lnTo>
                    <a:pt x="746" y="213"/>
                  </a:lnTo>
                  <a:lnTo>
                    <a:pt x="713" y="220"/>
                  </a:lnTo>
                  <a:lnTo>
                    <a:pt x="679" y="228"/>
                  </a:lnTo>
                  <a:lnTo>
                    <a:pt x="642" y="234"/>
                  </a:lnTo>
                  <a:lnTo>
                    <a:pt x="603" y="239"/>
                  </a:lnTo>
                  <a:lnTo>
                    <a:pt x="563" y="244"/>
                  </a:lnTo>
                  <a:lnTo>
                    <a:pt x="522" y="247"/>
                  </a:lnTo>
                  <a:lnTo>
                    <a:pt x="480" y="249"/>
                  </a:lnTo>
                  <a:lnTo>
                    <a:pt x="436" y="249"/>
                  </a:lnTo>
                  <a:lnTo>
                    <a:pt x="394" y="249"/>
                  </a:lnTo>
                  <a:lnTo>
                    <a:pt x="352" y="247"/>
                  </a:lnTo>
                  <a:lnTo>
                    <a:pt x="310" y="244"/>
                  </a:lnTo>
                  <a:lnTo>
                    <a:pt x="269" y="239"/>
                  </a:lnTo>
                  <a:lnTo>
                    <a:pt x="230" y="234"/>
                  </a:lnTo>
                  <a:lnTo>
                    <a:pt x="194" y="228"/>
                  </a:lnTo>
                  <a:lnTo>
                    <a:pt x="160" y="220"/>
                  </a:lnTo>
                  <a:lnTo>
                    <a:pt x="128" y="213"/>
                  </a:lnTo>
                  <a:lnTo>
                    <a:pt x="99" y="203"/>
                  </a:lnTo>
                  <a:lnTo>
                    <a:pt x="74" y="194"/>
                  </a:lnTo>
                  <a:lnTo>
                    <a:pt x="52" y="183"/>
                  </a:lnTo>
                  <a:lnTo>
                    <a:pt x="33" y="172"/>
                  </a:lnTo>
                  <a:lnTo>
                    <a:pt x="19" y="160"/>
                  </a:lnTo>
                  <a:lnTo>
                    <a:pt x="9" y="149"/>
                  </a:lnTo>
                  <a:lnTo>
                    <a:pt x="2" y="137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4224600" y="1952640"/>
              <a:ext cx="46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LSD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3697200" y="2441520"/>
              <a:ext cx="1509840" cy="200160"/>
            </a:xfrm>
            <a:custGeom>
              <a:avLst/>
              <a:gdLst/>
              <a:ahLst/>
              <a:rect l="l" t="t" r="r" b="b"/>
              <a:pathLst>
                <a:path w="874" h="126">
                  <a:moveTo>
                    <a:pt x="0" y="0"/>
                  </a:moveTo>
                  <a:lnTo>
                    <a:pt x="50" y="29"/>
                  </a:lnTo>
                  <a:lnTo>
                    <a:pt x="102" y="54"/>
                  </a:lnTo>
                  <a:lnTo>
                    <a:pt x="154" y="76"/>
                  </a:lnTo>
                  <a:lnTo>
                    <a:pt x="209" y="93"/>
                  </a:lnTo>
                  <a:lnTo>
                    <a:pt x="265" y="108"/>
                  </a:lnTo>
                  <a:lnTo>
                    <a:pt x="322" y="118"/>
                  </a:lnTo>
                  <a:lnTo>
                    <a:pt x="379" y="124"/>
                  </a:lnTo>
                  <a:lnTo>
                    <a:pt x="436" y="126"/>
                  </a:lnTo>
                  <a:lnTo>
                    <a:pt x="494" y="124"/>
                  </a:lnTo>
                  <a:lnTo>
                    <a:pt x="551" y="118"/>
                  </a:lnTo>
                  <a:lnTo>
                    <a:pt x="607" y="108"/>
                  </a:lnTo>
                  <a:lnTo>
                    <a:pt x="663" y="93"/>
                  </a:lnTo>
                  <a:lnTo>
                    <a:pt x="718" y="76"/>
                  </a:lnTo>
                  <a:lnTo>
                    <a:pt x="771" y="54"/>
                  </a:lnTo>
                  <a:lnTo>
                    <a:pt x="823" y="29"/>
                  </a:lnTo>
                  <a:lnTo>
                    <a:pt x="87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697200" y="2046240"/>
              <a:ext cx="144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207400" y="2046240"/>
              <a:ext cx="144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697200" y="2840040"/>
              <a:ext cx="1509840" cy="196920"/>
            </a:xfrm>
            <a:custGeom>
              <a:avLst/>
              <a:gdLst/>
              <a:ahLst/>
              <a:rect l="l" t="t" r="r" b="b"/>
              <a:pathLst>
                <a:path w="874" h="124">
                  <a:moveTo>
                    <a:pt x="0" y="0"/>
                  </a:moveTo>
                  <a:lnTo>
                    <a:pt x="50" y="28"/>
                  </a:lnTo>
                  <a:lnTo>
                    <a:pt x="102" y="54"/>
                  </a:lnTo>
                  <a:lnTo>
                    <a:pt x="154" y="75"/>
                  </a:lnTo>
                  <a:lnTo>
                    <a:pt x="209" y="93"/>
                  </a:lnTo>
                  <a:lnTo>
                    <a:pt x="265" y="106"/>
                  </a:lnTo>
                  <a:lnTo>
                    <a:pt x="322" y="116"/>
                  </a:lnTo>
                  <a:lnTo>
                    <a:pt x="379" y="122"/>
                  </a:lnTo>
                  <a:lnTo>
                    <a:pt x="436" y="124"/>
                  </a:lnTo>
                  <a:lnTo>
                    <a:pt x="494" y="122"/>
                  </a:lnTo>
                  <a:lnTo>
                    <a:pt x="551" y="116"/>
                  </a:lnTo>
                  <a:lnTo>
                    <a:pt x="607" y="106"/>
                  </a:lnTo>
                  <a:lnTo>
                    <a:pt x="663" y="93"/>
                  </a:lnTo>
                  <a:lnTo>
                    <a:pt x="718" y="75"/>
                  </a:lnTo>
                  <a:lnTo>
                    <a:pt x="771" y="54"/>
                  </a:lnTo>
                  <a:lnTo>
                    <a:pt x="823" y="28"/>
                  </a:lnTo>
                  <a:lnTo>
                    <a:pt x="87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697200" y="3235320"/>
              <a:ext cx="1509840" cy="198360"/>
            </a:xfrm>
            <a:custGeom>
              <a:avLst/>
              <a:gdLst/>
              <a:ahLst/>
              <a:rect l="l" t="t" r="r" b="b"/>
              <a:pathLst>
                <a:path w="874" h="125">
                  <a:moveTo>
                    <a:pt x="0" y="0"/>
                  </a:moveTo>
                  <a:lnTo>
                    <a:pt x="50" y="28"/>
                  </a:lnTo>
                  <a:lnTo>
                    <a:pt x="102" y="54"/>
                  </a:lnTo>
                  <a:lnTo>
                    <a:pt x="154" y="75"/>
                  </a:lnTo>
                  <a:lnTo>
                    <a:pt x="209" y="93"/>
                  </a:lnTo>
                  <a:lnTo>
                    <a:pt x="265" y="107"/>
                  </a:lnTo>
                  <a:lnTo>
                    <a:pt x="322" y="116"/>
                  </a:lnTo>
                  <a:lnTo>
                    <a:pt x="379" y="122"/>
                  </a:lnTo>
                  <a:lnTo>
                    <a:pt x="436" y="125"/>
                  </a:lnTo>
                  <a:lnTo>
                    <a:pt x="494" y="122"/>
                  </a:lnTo>
                  <a:lnTo>
                    <a:pt x="551" y="116"/>
                  </a:lnTo>
                  <a:lnTo>
                    <a:pt x="607" y="107"/>
                  </a:lnTo>
                  <a:lnTo>
                    <a:pt x="663" y="93"/>
                  </a:lnTo>
                  <a:lnTo>
                    <a:pt x="718" y="75"/>
                  </a:lnTo>
                  <a:lnTo>
                    <a:pt x="771" y="54"/>
                  </a:lnTo>
                  <a:lnTo>
                    <a:pt x="823" y="28"/>
                  </a:lnTo>
                  <a:lnTo>
                    <a:pt x="87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697200" y="3630600"/>
              <a:ext cx="1509840" cy="198360"/>
            </a:xfrm>
            <a:custGeom>
              <a:avLst/>
              <a:gdLst/>
              <a:ahLst/>
              <a:rect l="l" t="t" r="r" b="b"/>
              <a:pathLst>
                <a:path w="874" h="125">
                  <a:moveTo>
                    <a:pt x="0" y="0"/>
                  </a:moveTo>
                  <a:lnTo>
                    <a:pt x="50" y="29"/>
                  </a:lnTo>
                  <a:lnTo>
                    <a:pt x="102" y="54"/>
                  </a:lnTo>
                  <a:lnTo>
                    <a:pt x="154" y="75"/>
                  </a:lnTo>
                  <a:lnTo>
                    <a:pt x="209" y="93"/>
                  </a:lnTo>
                  <a:lnTo>
                    <a:pt x="265" y="107"/>
                  </a:lnTo>
                  <a:lnTo>
                    <a:pt x="322" y="117"/>
                  </a:lnTo>
                  <a:lnTo>
                    <a:pt x="379" y="123"/>
                  </a:lnTo>
                  <a:lnTo>
                    <a:pt x="436" y="125"/>
                  </a:lnTo>
                  <a:lnTo>
                    <a:pt x="494" y="123"/>
                  </a:lnTo>
                  <a:lnTo>
                    <a:pt x="551" y="117"/>
                  </a:lnTo>
                  <a:lnTo>
                    <a:pt x="607" y="107"/>
                  </a:lnTo>
                  <a:lnTo>
                    <a:pt x="663" y="93"/>
                  </a:lnTo>
                  <a:lnTo>
                    <a:pt x="718" y="75"/>
                  </a:lnTo>
                  <a:lnTo>
                    <a:pt x="771" y="54"/>
                  </a:lnTo>
                  <a:lnTo>
                    <a:pt x="823" y="29"/>
                  </a:lnTo>
                  <a:lnTo>
                    <a:pt x="87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055760" y="2347920"/>
              <a:ext cx="88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RTA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LS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055040" y="2744640"/>
              <a:ext cx="882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RTB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LS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047480" y="3537000"/>
              <a:ext cx="89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RTD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LS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056480" y="3141720"/>
              <a:ext cx="87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RTC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LS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972800" y="2244600"/>
              <a:ext cx="55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757160" y="2363760"/>
              <a:ext cx="215640" cy="5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2402640" y="2363760"/>
              <a:ext cx="34524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188800" y="3036960"/>
              <a:ext cx="14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214720" y="20923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1742040" y="25462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694240" y="25462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244960" y="31417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1162440" y="2151000"/>
              <a:ext cx="34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R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961720" y="2151000"/>
              <a:ext cx="34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RT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455200" y="2801880"/>
              <a:ext cx="34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RT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445840" y="3537000"/>
              <a:ext cx="36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RT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853600" y="1952640"/>
              <a:ext cx="343800" cy="29196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0" y="92"/>
                  </a:moveTo>
                  <a:lnTo>
                    <a:pt x="2" y="74"/>
                  </a:lnTo>
                  <a:lnTo>
                    <a:pt x="7" y="57"/>
                  </a:lnTo>
                  <a:lnTo>
                    <a:pt x="16" y="41"/>
                  </a:lnTo>
                  <a:lnTo>
                    <a:pt x="29" y="28"/>
                  </a:lnTo>
                  <a:lnTo>
                    <a:pt x="44" y="16"/>
                  </a:lnTo>
                  <a:lnTo>
                    <a:pt x="61" y="8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2"/>
                  </a:lnTo>
                  <a:lnTo>
                    <a:pt x="138" y="8"/>
                  </a:lnTo>
                  <a:lnTo>
                    <a:pt x="155" y="16"/>
                  </a:lnTo>
                  <a:lnTo>
                    <a:pt x="170" y="28"/>
                  </a:lnTo>
                  <a:lnTo>
                    <a:pt x="182" y="41"/>
                  </a:lnTo>
                  <a:lnTo>
                    <a:pt x="192" y="57"/>
                  </a:lnTo>
                  <a:lnTo>
                    <a:pt x="197" y="74"/>
                  </a:lnTo>
                  <a:lnTo>
                    <a:pt x="199" y="92"/>
                  </a:lnTo>
                  <a:lnTo>
                    <a:pt x="197" y="110"/>
                  </a:lnTo>
                  <a:lnTo>
                    <a:pt x="192" y="128"/>
                  </a:lnTo>
                  <a:lnTo>
                    <a:pt x="182" y="144"/>
                  </a:lnTo>
                  <a:lnTo>
                    <a:pt x="170" y="157"/>
                  </a:lnTo>
                  <a:lnTo>
                    <a:pt x="155" y="169"/>
                  </a:lnTo>
                  <a:lnTo>
                    <a:pt x="138" y="178"/>
                  </a:lnTo>
                  <a:lnTo>
                    <a:pt x="119" y="183"/>
                  </a:lnTo>
                  <a:lnTo>
                    <a:pt x="99" y="184"/>
                  </a:lnTo>
                  <a:lnTo>
                    <a:pt x="80" y="183"/>
                  </a:lnTo>
                  <a:lnTo>
                    <a:pt x="61" y="178"/>
                  </a:lnTo>
                  <a:lnTo>
                    <a:pt x="44" y="169"/>
                  </a:lnTo>
                  <a:lnTo>
                    <a:pt x="29" y="157"/>
                  </a:lnTo>
                  <a:lnTo>
                    <a:pt x="16" y="144"/>
                  </a:lnTo>
                  <a:lnTo>
                    <a:pt x="7" y="128"/>
                  </a:lnTo>
                  <a:lnTo>
                    <a:pt x="2" y="11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5971320" y="2011320"/>
              <a:ext cx="12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6393240" y="3384720"/>
              <a:ext cx="1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6402240" y="268596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6831000" y="2000160"/>
              <a:ext cx="12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6714000" y="1952640"/>
              <a:ext cx="345240" cy="291960"/>
            </a:xfrm>
            <a:custGeom>
              <a:avLst/>
              <a:gdLst/>
              <a:ahLst/>
              <a:rect l="l" t="t" r="r" b="b"/>
              <a:pathLst>
                <a:path w="200" h="184">
                  <a:moveTo>
                    <a:pt x="0" y="92"/>
                  </a:moveTo>
                  <a:lnTo>
                    <a:pt x="2" y="74"/>
                  </a:lnTo>
                  <a:lnTo>
                    <a:pt x="9" y="57"/>
                  </a:lnTo>
                  <a:lnTo>
                    <a:pt x="17" y="41"/>
                  </a:lnTo>
                  <a:lnTo>
                    <a:pt x="30" y="28"/>
                  </a:lnTo>
                  <a:lnTo>
                    <a:pt x="44" y="16"/>
                  </a:lnTo>
                  <a:lnTo>
                    <a:pt x="62" y="8"/>
                  </a:lnTo>
                  <a:lnTo>
                    <a:pt x="80" y="2"/>
                  </a:lnTo>
                  <a:lnTo>
                    <a:pt x="100" y="0"/>
                  </a:lnTo>
                  <a:lnTo>
                    <a:pt x="119" y="2"/>
                  </a:lnTo>
                  <a:lnTo>
                    <a:pt x="138" y="8"/>
                  </a:lnTo>
                  <a:lnTo>
                    <a:pt x="155" y="16"/>
                  </a:lnTo>
                  <a:lnTo>
                    <a:pt x="171" y="28"/>
                  </a:lnTo>
                  <a:lnTo>
                    <a:pt x="183" y="41"/>
                  </a:lnTo>
                  <a:lnTo>
                    <a:pt x="192" y="57"/>
                  </a:lnTo>
                  <a:lnTo>
                    <a:pt x="199" y="74"/>
                  </a:lnTo>
                  <a:lnTo>
                    <a:pt x="200" y="92"/>
                  </a:lnTo>
                  <a:lnTo>
                    <a:pt x="199" y="110"/>
                  </a:lnTo>
                  <a:lnTo>
                    <a:pt x="192" y="128"/>
                  </a:lnTo>
                  <a:lnTo>
                    <a:pt x="183" y="144"/>
                  </a:lnTo>
                  <a:lnTo>
                    <a:pt x="171" y="157"/>
                  </a:lnTo>
                  <a:lnTo>
                    <a:pt x="155" y="169"/>
                  </a:lnTo>
                  <a:lnTo>
                    <a:pt x="138" y="178"/>
                  </a:lnTo>
                  <a:lnTo>
                    <a:pt x="119" y="183"/>
                  </a:lnTo>
                  <a:lnTo>
                    <a:pt x="100" y="184"/>
                  </a:lnTo>
                  <a:lnTo>
                    <a:pt x="80" y="183"/>
                  </a:lnTo>
                  <a:lnTo>
                    <a:pt x="62" y="178"/>
                  </a:lnTo>
                  <a:lnTo>
                    <a:pt x="44" y="169"/>
                  </a:lnTo>
                  <a:lnTo>
                    <a:pt x="30" y="157"/>
                  </a:lnTo>
                  <a:lnTo>
                    <a:pt x="17" y="144"/>
                  </a:lnTo>
                  <a:lnTo>
                    <a:pt x="9" y="128"/>
                  </a:lnTo>
                  <a:lnTo>
                    <a:pt x="2" y="110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6283800" y="3338640"/>
              <a:ext cx="343800" cy="29196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0" y="92"/>
                  </a:moveTo>
                  <a:lnTo>
                    <a:pt x="2" y="74"/>
                  </a:lnTo>
                  <a:lnTo>
                    <a:pt x="7" y="57"/>
                  </a:lnTo>
                  <a:lnTo>
                    <a:pt x="17" y="42"/>
                  </a:lnTo>
                  <a:lnTo>
                    <a:pt x="29" y="28"/>
                  </a:lnTo>
                  <a:lnTo>
                    <a:pt x="44" y="16"/>
                  </a:lnTo>
                  <a:lnTo>
                    <a:pt x="62" y="8"/>
                  </a:lnTo>
                  <a:lnTo>
                    <a:pt x="80" y="3"/>
                  </a:lnTo>
                  <a:lnTo>
                    <a:pt x="100" y="0"/>
                  </a:lnTo>
                  <a:lnTo>
                    <a:pt x="119" y="3"/>
                  </a:lnTo>
                  <a:lnTo>
                    <a:pt x="138" y="8"/>
                  </a:lnTo>
                  <a:lnTo>
                    <a:pt x="155" y="16"/>
                  </a:lnTo>
                  <a:lnTo>
                    <a:pt x="170" y="28"/>
                  </a:lnTo>
                  <a:lnTo>
                    <a:pt x="183" y="42"/>
                  </a:lnTo>
                  <a:lnTo>
                    <a:pt x="192" y="57"/>
                  </a:lnTo>
                  <a:lnTo>
                    <a:pt x="197" y="74"/>
                  </a:lnTo>
                  <a:lnTo>
                    <a:pt x="199" y="92"/>
                  </a:lnTo>
                  <a:lnTo>
                    <a:pt x="197" y="110"/>
                  </a:lnTo>
                  <a:lnTo>
                    <a:pt x="192" y="127"/>
                  </a:lnTo>
                  <a:lnTo>
                    <a:pt x="183" y="143"/>
                  </a:lnTo>
                  <a:lnTo>
                    <a:pt x="170" y="158"/>
                  </a:lnTo>
                  <a:lnTo>
                    <a:pt x="155" y="168"/>
                  </a:lnTo>
                  <a:lnTo>
                    <a:pt x="138" y="177"/>
                  </a:lnTo>
                  <a:lnTo>
                    <a:pt x="119" y="182"/>
                  </a:lnTo>
                  <a:lnTo>
                    <a:pt x="100" y="184"/>
                  </a:lnTo>
                  <a:lnTo>
                    <a:pt x="80" y="182"/>
                  </a:lnTo>
                  <a:lnTo>
                    <a:pt x="62" y="177"/>
                  </a:lnTo>
                  <a:lnTo>
                    <a:pt x="44" y="168"/>
                  </a:lnTo>
                  <a:lnTo>
                    <a:pt x="29" y="158"/>
                  </a:lnTo>
                  <a:lnTo>
                    <a:pt x="17" y="143"/>
                  </a:lnTo>
                  <a:lnTo>
                    <a:pt x="7" y="127"/>
                  </a:lnTo>
                  <a:lnTo>
                    <a:pt x="2" y="110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6283800" y="2639880"/>
              <a:ext cx="343800" cy="29232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0" y="92"/>
                  </a:moveTo>
                  <a:lnTo>
                    <a:pt x="2" y="74"/>
                  </a:lnTo>
                  <a:lnTo>
                    <a:pt x="7" y="57"/>
                  </a:lnTo>
                  <a:lnTo>
                    <a:pt x="17" y="41"/>
                  </a:lnTo>
                  <a:lnTo>
                    <a:pt x="29" y="28"/>
                  </a:lnTo>
                  <a:lnTo>
                    <a:pt x="44" y="16"/>
                  </a:lnTo>
                  <a:lnTo>
                    <a:pt x="62" y="7"/>
                  </a:lnTo>
                  <a:lnTo>
                    <a:pt x="80" y="2"/>
                  </a:lnTo>
                  <a:lnTo>
                    <a:pt x="100" y="0"/>
                  </a:lnTo>
                  <a:lnTo>
                    <a:pt x="119" y="2"/>
                  </a:lnTo>
                  <a:lnTo>
                    <a:pt x="138" y="7"/>
                  </a:lnTo>
                  <a:lnTo>
                    <a:pt x="155" y="16"/>
                  </a:lnTo>
                  <a:lnTo>
                    <a:pt x="170" y="28"/>
                  </a:lnTo>
                  <a:lnTo>
                    <a:pt x="183" y="41"/>
                  </a:lnTo>
                  <a:lnTo>
                    <a:pt x="192" y="57"/>
                  </a:lnTo>
                  <a:lnTo>
                    <a:pt x="197" y="74"/>
                  </a:lnTo>
                  <a:lnTo>
                    <a:pt x="199" y="92"/>
                  </a:lnTo>
                  <a:lnTo>
                    <a:pt x="197" y="110"/>
                  </a:lnTo>
                  <a:lnTo>
                    <a:pt x="192" y="128"/>
                  </a:lnTo>
                  <a:lnTo>
                    <a:pt x="183" y="144"/>
                  </a:lnTo>
                  <a:lnTo>
                    <a:pt x="170" y="157"/>
                  </a:lnTo>
                  <a:lnTo>
                    <a:pt x="155" y="169"/>
                  </a:lnTo>
                  <a:lnTo>
                    <a:pt x="138" y="177"/>
                  </a:lnTo>
                  <a:lnTo>
                    <a:pt x="119" y="183"/>
                  </a:lnTo>
                  <a:lnTo>
                    <a:pt x="100" y="184"/>
                  </a:lnTo>
                  <a:lnTo>
                    <a:pt x="80" y="183"/>
                  </a:lnTo>
                  <a:lnTo>
                    <a:pt x="62" y="177"/>
                  </a:lnTo>
                  <a:lnTo>
                    <a:pt x="44" y="169"/>
                  </a:lnTo>
                  <a:lnTo>
                    <a:pt x="29" y="157"/>
                  </a:lnTo>
                  <a:lnTo>
                    <a:pt x="17" y="144"/>
                  </a:lnTo>
                  <a:lnTo>
                    <a:pt x="7" y="128"/>
                  </a:lnTo>
                  <a:lnTo>
                    <a:pt x="2" y="110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6271560" y="212580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197760" y="2079720"/>
              <a:ext cx="9828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0" y="29"/>
                  </a:moveTo>
                  <a:lnTo>
                    <a:pt x="57" y="0"/>
                  </a:lnTo>
                  <a:lnTo>
                    <a:pt x="52" y="14"/>
                  </a:lnTo>
                  <a:lnTo>
                    <a:pt x="51" y="29"/>
                  </a:lnTo>
                  <a:lnTo>
                    <a:pt x="52" y="44"/>
                  </a:lnTo>
                  <a:lnTo>
                    <a:pt x="57" y="5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615720" y="2079720"/>
              <a:ext cx="9828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9"/>
                  </a:moveTo>
                  <a:lnTo>
                    <a:pt x="0" y="57"/>
                  </a:lnTo>
                  <a:lnTo>
                    <a:pt x="5" y="44"/>
                  </a:lnTo>
                  <a:lnTo>
                    <a:pt x="7" y="29"/>
                  </a:lnTo>
                  <a:lnTo>
                    <a:pt x="5" y="14"/>
                  </a:lnTo>
                  <a:lnTo>
                    <a:pt x="0" y="0"/>
                  </a:lnTo>
                  <a:lnTo>
                    <a:pt x="5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112440" y="2301840"/>
              <a:ext cx="2142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6067800" y="2244600"/>
              <a:ext cx="96480" cy="100080"/>
            </a:xfrm>
            <a:custGeom>
              <a:avLst/>
              <a:gdLst/>
              <a:ahLst/>
              <a:rect l="l" t="t" r="r" b="b"/>
              <a:pathLst>
                <a:path w="56" h="63">
                  <a:moveTo>
                    <a:pt x="0" y="0"/>
                  </a:moveTo>
                  <a:lnTo>
                    <a:pt x="56" y="30"/>
                  </a:lnTo>
                  <a:lnTo>
                    <a:pt x="42" y="35"/>
                  </a:lnTo>
                  <a:lnTo>
                    <a:pt x="29" y="41"/>
                  </a:lnTo>
                  <a:lnTo>
                    <a:pt x="18" y="52"/>
                  </a:lnTo>
                  <a:lnTo>
                    <a:pt x="10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6271560" y="2541600"/>
              <a:ext cx="96480" cy="9828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56" y="62"/>
                  </a:moveTo>
                  <a:lnTo>
                    <a:pt x="0" y="33"/>
                  </a:lnTo>
                  <a:lnTo>
                    <a:pt x="15" y="28"/>
                  </a:lnTo>
                  <a:lnTo>
                    <a:pt x="28" y="21"/>
                  </a:lnTo>
                  <a:lnTo>
                    <a:pt x="40" y="11"/>
                  </a:lnTo>
                  <a:lnTo>
                    <a:pt x="48" y="0"/>
                  </a:lnTo>
                  <a:lnTo>
                    <a:pt x="5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H="1">
              <a:off x="6620400" y="2305080"/>
              <a:ext cx="18828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6753600" y="2244600"/>
              <a:ext cx="90000" cy="101880"/>
            </a:xfrm>
            <a:custGeom>
              <a:avLst/>
              <a:gdLst/>
              <a:ahLst/>
              <a:rect l="l" t="t" r="r" b="b"/>
              <a:pathLst>
                <a:path w="52" h="64">
                  <a:moveTo>
                    <a:pt x="52" y="0"/>
                  </a:moveTo>
                  <a:lnTo>
                    <a:pt x="50" y="64"/>
                  </a:lnTo>
                  <a:lnTo>
                    <a:pt x="40" y="53"/>
                  </a:lnTo>
                  <a:lnTo>
                    <a:pt x="28" y="44"/>
                  </a:lnTo>
                  <a:lnTo>
                    <a:pt x="15" y="39"/>
                  </a:lnTo>
                  <a:lnTo>
                    <a:pt x="0" y="3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6586200" y="2579760"/>
              <a:ext cx="89640" cy="100080"/>
            </a:xfrm>
            <a:custGeom>
              <a:avLst/>
              <a:gdLst/>
              <a:ahLst/>
              <a:rect l="l" t="t" r="r" b="b"/>
              <a:pathLst>
                <a:path w="52" h="63">
                  <a:moveTo>
                    <a:pt x="0" y="63"/>
                  </a:moveTo>
                  <a:lnTo>
                    <a:pt x="2" y="0"/>
                  </a:lnTo>
                  <a:lnTo>
                    <a:pt x="12" y="11"/>
                  </a:lnTo>
                  <a:lnTo>
                    <a:pt x="23" y="19"/>
                  </a:lnTo>
                  <a:lnTo>
                    <a:pt x="37" y="24"/>
                  </a:lnTo>
                  <a:lnTo>
                    <a:pt x="52" y="28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6498000" y="2987640"/>
              <a:ext cx="144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6449400" y="2917800"/>
              <a:ext cx="9864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8" y="0"/>
                  </a:moveTo>
                  <a:lnTo>
                    <a:pt x="57" y="57"/>
                  </a:lnTo>
                  <a:lnTo>
                    <a:pt x="43" y="52"/>
                  </a:lnTo>
                  <a:lnTo>
                    <a:pt x="28" y="50"/>
                  </a:lnTo>
                  <a:lnTo>
                    <a:pt x="14" y="52"/>
                  </a:lnTo>
                  <a:lnTo>
                    <a:pt x="0" y="5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6449400" y="3263760"/>
              <a:ext cx="9864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8" y="57"/>
                  </a:moveTo>
                  <a:lnTo>
                    <a:pt x="0" y="0"/>
                  </a:lnTo>
                  <a:lnTo>
                    <a:pt x="14" y="4"/>
                  </a:lnTo>
                  <a:lnTo>
                    <a:pt x="28" y="6"/>
                  </a:lnTo>
                  <a:lnTo>
                    <a:pt x="43" y="4"/>
                  </a:lnTo>
                  <a:lnTo>
                    <a:pt x="57" y="0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438600" y="19526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6053400" y="2347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6855120" y="2347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6555240" y="30002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168280" y="5829480"/>
              <a:ext cx="1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177280" y="5132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606400" y="4444920"/>
              <a:ext cx="12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489400" y="4398840"/>
              <a:ext cx="345240" cy="290520"/>
            </a:xfrm>
            <a:custGeom>
              <a:avLst/>
              <a:gdLst/>
              <a:ahLst/>
              <a:rect l="l" t="t" r="r" b="b"/>
              <a:pathLst>
                <a:path w="200" h="183">
                  <a:moveTo>
                    <a:pt x="0" y="92"/>
                  </a:moveTo>
                  <a:lnTo>
                    <a:pt x="2" y="74"/>
                  </a:lnTo>
                  <a:lnTo>
                    <a:pt x="8" y="57"/>
                  </a:lnTo>
                  <a:lnTo>
                    <a:pt x="17" y="41"/>
                  </a:lnTo>
                  <a:lnTo>
                    <a:pt x="29" y="27"/>
                  </a:lnTo>
                  <a:lnTo>
                    <a:pt x="44" y="16"/>
                  </a:lnTo>
                  <a:lnTo>
                    <a:pt x="62" y="7"/>
                  </a:lnTo>
                  <a:lnTo>
                    <a:pt x="80" y="2"/>
                  </a:lnTo>
                  <a:lnTo>
                    <a:pt x="100" y="0"/>
                  </a:lnTo>
                  <a:lnTo>
                    <a:pt x="119" y="2"/>
                  </a:lnTo>
                  <a:lnTo>
                    <a:pt x="138" y="7"/>
                  </a:lnTo>
                  <a:lnTo>
                    <a:pt x="155" y="16"/>
                  </a:lnTo>
                  <a:lnTo>
                    <a:pt x="171" y="27"/>
                  </a:lnTo>
                  <a:lnTo>
                    <a:pt x="183" y="41"/>
                  </a:lnTo>
                  <a:lnTo>
                    <a:pt x="192" y="57"/>
                  </a:lnTo>
                  <a:lnTo>
                    <a:pt x="198" y="74"/>
                  </a:lnTo>
                  <a:lnTo>
                    <a:pt x="200" y="92"/>
                  </a:lnTo>
                  <a:lnTo>
                    <a:pt x="198" y="110"/>
                  </a:lnTo>
                  <a:lnTo>
                    <a:pt x="192" y="128"/>
                  </a:lnTo>
                  <a:lnTo>
                    <a:pt x="183" y="143"/>
                  </a:lnTo>
                  <a:lnTo>
                    <a:pt x="171" y="157"/>
                  </a:lnTo>
                  <a:lnTo>
                    <a:pt x="155" y="169"/>
                  </a:lnTo>
                  <a:lnTo>
                    <a:pt x="138" y="177"/>
                  </a:lnTo>
                  <a:lnTo>
                    <a:pt x="119" y="182"/>
                  </a:lnTo>
                  <a:lnTo>
                    <a:pt x="100" y="183"/>
                  </a:lnTo>
                  <a:lnTo>
                    <a:pt x="80" y="182"/>
                  </a:lnTo>
                  <a:lnTo>
                    <a:pt x="62" y="177"/>
                  </a:lnTo>
                  <a:lnTo>
                    <a:pt x="44" y="169"/>
                  </a:lnTo>
                  <a:lnTo>
                    <a:pt x="29" y="157"/>
                  </a:lnTo>
                  <a:lnTo>
                    <a:pt x="17" y="143"/>
                  </a:lnTo>
                  <a:lnTo>
                    <a:pt x="8" y="128"/>
                  </a:lnTo>
                  <a:lnTo>
                    <a:pt x="2" y="110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2059200" y="5784840"/>
              <a:ext cx="343800" cy="29196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0" y="92"/>
                  </a:moveTo>
                  <a:lnTo>
                    <a:pt x="2" y="74"/>
                  </a:lnTo>
                  <a:lnTo>
                    <a:pt x="7" y="57"/>
                  </a:lnTo>
                  <a:lnTo>
                    <a:pt x="17" y="41"/>
                  </a:lnTo>
                  <a:lnTo>
                    <a:pt x="29" y="27"/>
                  </a:lnTo>
                  <a:lnTo>
                    <a:pt x="44" y="16"/>
                  </a:lnTo>
                  <a:lnTo>
                    <a:pt x="62" y="7"/>
                  </a:lnTo>
                  <a:lnTo>
                    <a:pt x="80" y="2"/>
                  </a:lnTo>
                  <a:lnTo>
                    <a:pt x="100" y="0"/>
                  </a:lnTo>
                  <a:lnTo>
                    <a:pt x="119" y="2"/>
                  </a:lnTo>
                  <a:lnTo>
                    <a:pt x="138" y="7"/>
                  </a:lnTo>
                  <a:lnTo>
                    <a:pt x="155" y="16"/>
                  </a:lnTo>
                  <a:lnTo>
                    <a:pt x="171" y="27"/>
                  </a:lnTo>
                  <a:lnTo>
                    <a:pt x="182" y="41"/>
                  </a:lnTo>
                  <a:lnTo>
                    <a:pt x="192" y="57"/>
                  </a:lnTo>
                  <a:lnTo>
                    <a:pt x="197" y="74"/>
                  </a:lnTo>
                  <a:lnTo>
                    <a:pt x="199" y="92"/>
                  </a:lnTo>
                  <a:lnTo>
                    <a:pt x="197" y="110"/>
                  </a:lnTo>
                  <a:lnTo>
                    <a:pt x="192" y="127"/>
                  </a:lnTo>
                  <a:lnTo>
                    <a:pt x="182" y="143"/>
                  </a:lnTo>
                  <a:lnTo>
                    <a:pt x="171" y="157"/>
                  </a:lnTo>
                  <a:lnTo>
                    <a:pt x="155" y="168"/>
                  </a:lnTo>
                  <a:lnTo>
                    <a:pt x="138" y="176"/>
                  </a:lnTo>
                  <a:lnTo>
                    <a:pt x="119" y="182"/>
                  </a:lnTo>
                  <a:lnTo>
                    <a:pt x="100" y="184"/>
                  </a:lnTo>
                  <a:lnTo>
                    <a:pt x="80" y="182"/>
                  </a:lnTo>
                  <a:lnTo>
                    <a:pt x="62" y="176"/>
                  </a:lnTo>
                  <a:lnTo>
                    <a:pt x="44" y="168"/>
                  </a:lnTo>
                  <a:lnTo>
                    <a:pt x="29" y="157"/>
                  </a:lnTo>
                  <a:lnTo>
                    <a:pt x="17" y="143"/>
                  </a:lnTo>
                  <a:lnTo>
                    <a:pt x="7" y="127"/>
                  </a:lnTo>
                  <a:lnTo>
                    <a:pt x="2" y="110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059200" y="5086440"/>
              <a:ext cx="343800" cy="290520"/>
            </a:xfrm>
            <a:custGeom>
              <a:avLst/>
              <a:gdLst/>
              <a:ahLst/>
              <a:rect l="l" t="t" r="r" b="b"/>
              <a:pathLst>
                <a:path w="199" h="183">
                  <a:moveTo>
                    <a:pt x="0" y="92"/>
                  </a:moveTo>
                  <a:lnTo>
                    <a:pt x="2" y="74"/>
                  </a:lnTo>
                  <a:lnTo>
                    <a:pt x="7" y="57"/>
                  </a:lnTo>
                  <a:lnTo>
                    <a:pt x="17" y="41"/>
                  </a:lnTo>
                  <a:lnTo>
                    <a:pt x="29" y="27"/>
                  </a:lnTo>
                  <a:lnTo>
                    <a:pt x="44" y="16"/>
                  </a:lnTo>
                  <a:lnTo>
                    <a:pt x="62" y="7"/>
                  </a:lnTo>
                  <a:lnTo>
                    <a:pt x="80" y="2"/>
                  </a:lnTo>
                  <a:lnTo>
                    <a:pt x="100" y="0"/>
                  </a:lnTo>
                  <a:lnTo>
                    <a:pt x="119" y="2"/>
                  </a:lnTo>
                  <a:lnTo>
                    <a:pt x="138" y="7"/>
                  </a:lnTo>
                  <a:lnTo>
                    <a:pt x="155" y="16"/>
                  </a:lnTo>
                  <a:lnTo>
                    <a:pt x="171" y="27"/>
                  </a:lnTo>
                  <a:lnTo>
                    <a:pt x="182" y="41"/>
                  </a:lnTo>
                  <a:lnTo>
                    <a:pt x="192" y="57"/>
                  </a:lnTo>
                  <a:lnTo>
                    <a:pt x="197" y="74"/>
                  </a:lnTo>
                  <a:lnTo>
                    <a:pt x="199" y="92"/>
                  </a:lnTo>
                  <a:lnTo>
                    <a:pt x="197" y="109"/>
                  </a:lnTo>
                  <a:lnTo>
                    <a:pt x="192" y="127"/>
                  </a:lnTo>
                  <a:lnTo>
                    <a:pt x="182" y="143"/>
                  </a:lnTo>
                  <a:lnTo>
                    <a:pt x="171" y="157"/>
                  </a:lnTo>
                  <a:lnTo>
                    <a:pt x="155" y="169"/>
                  </a:lnTo>
                  <a:lnTo>
                    <a:pt x="138" y="177"/>
                  </a:lnTo>
                  <a:lnTo>
                    <a:pt x="119" y="182"/>
                  </a:lnTo>
                  <a:lnTo>
                    <a:pt x="100" y="183"/>
                  </a:lnTo>
                  <a:lnTo>
                    <a:pt x="80" y="182"/>
                  </a:lnTo>
                  <a:lnTo>
                    <a:pt x="62" y="177"/>
                  </a:lnTo>
                  <a:lnTo>
                    <a:pt x="44" y="169"/>
                  </a:lnTo>
                  <a:lnTo>
                    <a:pt x="29" y="157"/>
                  </a:lnTo>
                  <a:lnTo>
                    <a:pt x="17" y="143"/>
                  </a:lnTo>
                  <a:lnTo>
                    <a:pt x="7" y="127"/>
                  </a:lnTo>
                  <a:lnTo>
                    <a:pt x="2" y="109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1972800" y="4572000"/>
              <a:ext cx="443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391120" y="4525920"/>
              <a:ext cx="9828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9"/>
                  </a:moveTo>
                  <a:lnTo>
                    <a:pt x="0" y="57"/>
                  </a:lnTo>
                  <a:lnTo>
                    <a:pt x="5" y="43"/>
                  </a:lnTo>
                  <a:lnTo>
                    <a:pt x="7" y="29"/>
                  </a:lnTo>
                  <a:lnTo>
                    <a:pt x="5" y="14"/>
                  </a:lnTo>
                  <a:lnTo>
                    <a:pt x="0" y="0"/>
                  </a:lnTo>
                  <a:lnTo>
                    <a:pt x="5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1843200" y="4689360"/>
              <a:ext cx="25884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046960" y="4986360"/>
              <a:ext cx="96480" cy="100080"/>
            </a:xfrm>
            <a:custGeom>
              <a:avLst/>
              <a:gdLst/>
              <a:ahLst/>
              <a:rect l="l" t="t" r="r" b="b"/>
              <a:pathLst>
                <a:path w="56" h="63">
                  <a:moveTo>
                    <a:pt x="56" y="63"/>
                  </a:moveTo>
                  <a:lnTo>
                    <a:pt x="0" y="33"/>
                  </a:lnTo>
                  <a:lnTo>
                    <a:pt x="15" y="29"/>
                  </a:lnTo>
                  <a:lnTo>
                    <a:pt x="28" y="21"/>
                  </a:lnTo>
                  <a:lnTo>
                    <a:pt x="39" y="12"/>
                  </a:lnTo>
                  <a:lnTo>
                    <a:pt x="48" y="0"/>
                  </a:lnTo>
                  <a:lnTo>
                    <a:pt x="5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273400" y="5364000"/>
              <a:ext cx="144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225160" y="5708520"/>
              <a:ext cx="9828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8" y="58"/>
                  </a:moveTo>
                  <a:lnTo>
                    <a:pt x="0" y="0"/>
                  </a:lnTo>
                  <a:lnTo>
                    <a:pt x="13" y="5"/>
                  </a:lnTo>
                  <a:lnTo>
                    <a:pt x="28" y="7"/>
                  </a:lnTo>
                  <a:lnTo>
                    <a:pt x="43" y="5"/>
                  </a:lnTo>
                  <a:lnTo>
                    <a:pt x="57" y="0"/>
                  </a:lnTo>
                  <a:lnTo>
                    <a:pt x="2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214720" y="43988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1828440" y="47941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330640" y="544680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3548160" y="5829480"/>
              <a:ext cx="1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3557160" y="5132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3985920" y="4444920"/>
              <a:ext cx="12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宋体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3868200" y="4398840"/>
              <a:ext cx="345240" cy="290520"/>
            </a:xfrm>
            <a:custGeom>
              <a:avLst/>
              <a:gdLst/>
              <a:ahLst/>
              <a:rect l="l" t="t" r="r" b="b"/>
              <a:pathLst>
                <a:path w="200" h="183">
                  <a:moveTo>
                    <a:pt x="0" y="92"/>
                  </a:moveTo>
                  <a:lnTo>
                    <a:pt x="3" y="74"/>
                  </a:lnTo>
                  <a:lnTo>
                    <a:pt x="9" y="57"/>
                  </a:lnTo>
                  <a:lnTo>
                    <a:pt x="17" y="41"/>
                  </a:lnTo>
                  <a:lnTo>
                    <a:pt x="30" y="27"/>
                  </a:lnTo>
                  <a:lnTo>
                    <a:pt x="45" y="16"/>
                  </a:lnTo>
                  <a:lnTo>
                    <a:pt x="63" y="7"/>
                  </a:lnTo>
                  <a:lnTo>
                    <a:pt x="81" y="2"/>
                  </a:lnTo>
                  <a:lnTo>
                    <a:pt x="101" y="0"/>
                  </a:lnTo>
                  <a:lnTo>
                    <a:pt x="120" y="2"/>
                  </a:lnTo>
                  <a:lnTo>
                    <a:pt x="139" y="7"/>
                  </a:lnTo>
                  <a:lnTo>
                    <a:pt x="156" y="16"/>
                  </a:lnTo>
                  <a:lnTo>
                    <a:pt x="172" y="27"/>
                  </a:lnTo>
                  <a:lnTo>
                    <a:pt x="183" y="41"/>
                  </a:lnTo>
                  <a:lnTo>
                    <a:pt x="193" y="57"/>
                  </a:lnTo>
                  <a:lnTo>
                    <a:pt x="199" y="74"/>
                  </a:lnTo>
                  <a:lnTo>
                    <a:pt x="200" y="92"/>
                  </a:lnTo>
                  <a:lnTo>
                    <a:pt x="199" y="110"/>
                  </a:lnTo>
                  <a:lnTo>
                    <a:pt x="193" y="128"/>
                  </a:lnTo>
                  <a:lnTo>
                    <a:pt x="183" y="143"/>
                  </a:lnTo>
                  <a:lnTo>
                    <a:pt x="172" y="157"/>
                  </a:lnTo>
                  <a:lnTo>
                    <a:pt x="156" y="169"/>
                  </a:lnTo>
                  <a:lnTo>
                    <a:pt x="139" y="177"/>
                  </a:lnTo>
                  <a:lnTo>
                    <a:pt x="120" y="182"/>
                  </a:lnTo>
                  <a:lnTo>
                    <a:pt x="101" y="183"/>
                  </a:lnTo>
                  <a:lnTo>
                    <a:pt x="81" y="182"/>
                  </a:lnTo>
                  <a:lnTo>
                    <a:pt x="63" y="177"/>
                  </a:lnTo>
                  <a:lnTo>
                    <a:pt x="45" y="169"/>
                  </a:lnTo>
                  <a:lnTo>
                    <a:pt x="30" y="157"/>
                  </a:lnTo>
                  <a:lnTo>
                    <a:pt x="17" y="143"/>
                  </a:lnTo>
                  <a:lnTo>
                    <a:pt x="9" y="128"/>
                  </a:lnTo>
                  <a:lnTo>
                    <a:pt x="3" y="110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438000" y="5784840"/>
              <a:ext cx="345240" cy="291960"/>
            </a:xfrm>
            <a:custGeom>
              <a:avLst/>
              <a:gdLst/>
              <a:ahLst/>
              <a:rect l="l" t="t" r="r" b="b"/>
              <a:pathLst>
                <a:path w="200" h="184">
                  <a:moveTo>
                    <a:pt x="0" y="92"/>
                  </a:moveTo>
                  <a:lnTo>
                    <a:pt x="2" y="74"/>
                  </a:lnTo>
                  <a:lnTo>
                    <a:pt x="8" y="57"/>
                  </a:lnTo>
                  <a:lnTo>
                    <a:pt x="17" y="41"/>
                  </a:lnTo>
                  <a:lnTo>
                    <a:pt x="30" y="27"/>
                  </a:lnTo>
                  <a:lnTo>
                    <a:pt x="45" y="16"/>
                  </a:lnTo>
                  <a:lnTo>
                    <a:pt x="61" y="7"/>
                  </a:lnTo>
                  <a:lnTo>
                    <a:pt x="80" y="2"/>
                  </a:lnTo>
                  <a:lnTo>
                    <a:pt x="100" y="0"/>
                  </a:lnTo>
                  <a:lnTo>
                    <a:pt x="120" y="2"/>
                  </a:lnTo>
                  <a:lnTo>
                    <a:pt x="139" y="7"/>
                  </a:lnTo>
                  <a:lnTo>
                    <a:pt x="155" y="16"/>
                  </a:lnTo>
                  <a:lnTo>
                    <a:pt x="170" y="27"/>
                  </a:lnTo>
                  <a:lnTo>
                    <a:pt x="183" y="41"/>
                  </a:lnTo>
                  <a:lnTo>
                    <a:pt x="192" y="57"/>
                  </a:lnTo>
                  <a:lnTo>
                    <a:pt x="198" y="74"/>
                  </a:lnTo>
                  <a:lnTo>
                    <a:pt x="200" y="92"/>
                  </a:lnTo>
                  <a:lnTo>
                    <a:pt x="198" y="110"/>
                  </a:lnTo>
                  <a:lnTo>
                    <a:pt x="192" y="127"/>
                  </a:lnTo>
                  <a:lnTo>
                    <a:pt x="183" y="143"/>
                  </a:lnTo>
                  <a:lnTo>
                    <a:pt x="170" y="157"/>
                  </a:lnTo>
                  <a:lnTo>
                    <a:pt x="155" y="168"/>
                  </a:lnTo>
                  <a:lnTo>
                    <a:pt x="139" y="176"/>
                  </a:lnTo>
                  <a:lnTo>
                    <a:pt x="120" y="182"/>
                  </a:lnTo>
                  <a:lnTo>
                    <a:pt x="100" y="184"/>
                  </a:lnTo>
                  <a:lnTo>
                    <a:pt x="80" y="182"/>
                  </a:lnTo>
                  <a:lnTo>
                    <a:pt x="61" y="176"/>
                  </a:lnTo>
                  <a:lnTo>
                    <a:pt x="45" y="168"/>
                  </a:lnTo>
                  <a:lnTo>
                    <a:pt x="30" y="157"/>
                  </a:lnTo>
                  <a:lnTo>
                    <a:pt x="17" y="143"/>
                  </a:lnTo>
                  <a:lnTo>
                    <a:pt x="8" y="127"/>
                  </a:lnTo>
                  <a:lnTo>
                    <a:pt x="2" y="110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438000" y="5086440"/>
              <a:ext cx="345240" cy="290520"/>
            </a:xfrm>
            <a:custGeom>
              <a:avLst/>
              <a:gdLst/>
              <a:ahLst/>
              <a:rect l="l" t="t" r="r" b="b"/>
              <a:pathLst>
                <a:path w="200" h="183">
                  <a:moveTo>
                    <a:pt x="0" y="92"/>
                  </a:moveTo>
                  <a:lnTo>
                    <a:pt x="2" y="74"/>
                  </a:lnTo>
                  <a:lnTo>
                    <a:pt x="8" y="57"/>
                  </a:lnTo>
                  <a:lnTo>
                    <a:pt x="17" y="41"/>
                  </a:lnTo>
                  <a:lnTo>
                    <a:pt x="30" y="27"/>
                  </a:lnTo>
                  <a:lnTo>
                    <a:pt x="45" y="16"/>
                  </a:lnTo>
                  <a:lnTo>
                    <a:pt x="61" y="7"/>
                  </a:lnTo>
                  <a:lnTo>
                    <a:pt x="80" y="2"/>
                  </a:lnTo>
                  <a:lnTo>
                    <a:pt x="100" y="0"/>
                  </a:lnTo>
                  <a:lnTo>
                    <a:pt x="120" y="2"/>
                  </a:lnTo>
                  <a:lnTo>
                    <a:pt x="139" y="7"/>
                  </a:lnTo>
                  <a:lnTo>
                    <a:pt x="155" y="16"/>
                  </a:lnTo>
                  <a:lnTo>
                    <a:pt x="170" y="27"/>
                  </a:lnTo>
                  <a:lnTo>
                    <a:pt x="183" y="41"/>
                  </a:lnTo>
                  <a:lnTo>
                    <a:pt x="192" y="57"/>
                  </a:lnTo>
                  <a:lnTo>
                    <a:pt x="198" y="74"/>
                  </a:lnTo>
                  <a:lnTo>
                    <a:pt x="200" y="92"/>
                  </a:lnTo>
                  <a:lnTo>
                    <a:pt x="198" y="109"/>
                  </a:lnTo>
                  <a:lnTo>
                    <a:pt x="192" y="127"/>
                  </a:lnTo>
                  <a:lnTo>
                    <a:pt x="183" y="143"/>
                  </a:lnTo>
                  <a:lnTo>
                    <a:pt x="170" y="157"/>
                  </a:lnTo>
                  <a:lnTo>
                    <a:pt x="155" y="169"/>
                  </a:lnTo>
                  <a:lnTo>
                    <a:pt x="139" y="177"/>
                  </a:lnTo>
                  <a:lnTo>
                    <a:pt x="120" y="182"/>
                  </a:lnTo>
                  <a:lnTo>
                    <a:pt x="100" y="183"/>
                  </a:lnTo>
                  <a:lnTo>
                    <a:pt x="80" y="182"/>
                  </a:lnTo>
                  <a:lnTo>
                    <a:pt x="61" y="177"/>
                  </a:lnTo>
                  <a:lnTo>
                    <a:pt x="45" y="169"/>
                  </a:lnTo>
                  <a:lnTo>
                    <a:pt x="30" y="157"/>
                  </a:lnTo>
                  <a:lnTo>
                    <a:pt x="17" y="143"/>
                  </a:lnTo>
                  <a:lnTo>
                    <a:pt x="8" y="127"/>
                  </a:lnTo>
                  <a:lnTo>
                    <a:pt x="2" y="109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427920" y="4572000"/>
              <a:ext cx="44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353400" y="4525920"/>
              <a:ext cx="9828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0" y="29"/>
                  </a:moveTo>
                  <a:lnTo>
                    <a:pt x="57" y="0"/>
                  </a:lnTo>
                  <a:lnTo>
                    <a:pt x="51" y="14"/>
                  </a:lnTo>
                  <a:lnTo>
                    <a:pt x="50" y="29"/>
                  </a:lnTo>
                  <a:lnTo>
                    <a:pt x="51" y="43"/>
                  </a:lnTo>
                  <a:lnTo>
                    <a:pt x="57" y="5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223800" y="4689360"/>
              <a:ext cx="25740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427920" y="4986360"/>
              <a:ext cx="96480" cy="100080"/>
            </a:xfrm>
            <a:custGeom>
              <a:avLst/>
              <a:gdLst/>
              <a:ahLst/>
              <a:rect l="l" t="t" r="r" b="b"/>
              <a:pathLst>
                <a:path w="56" h="63">
                  <a:moveTo>
                    <a:pt x="56" y="63"/>
                  </a:moveTo>
                  <a:lnTo>
                    <a:pt x="0" y="33"/>
                  </a:lnTo>
                  <a:lnTo>
                    <a:pt x="15" y="29"/>
                  </a:lnTo>
                  <a:lnTo>
                    <a:pt x="27" y="21"/>
                  </a:lnTo>
                  <a:lnTo>
                    <a:pt x="38" y="12"/>
                  </a:lnTo>
                  <a:lnTo>
                    <a:pt x="47" y="0"/>
                  </a:lnTo>
                  <a:lnTo>
                    <a:pt x="5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654000" y="5364000"/>
              <a:ext cx="180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603960" y="5708520"/>
              <a:ext cx="9828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9" y="58"/>
                  </a:moveTo>
                  <a:lnTo>
                    <a:pt x="0" y="0"/>
                  </a:lnTo>
                  <a:lnTo>
                    <a:pt x="14" y="5"/>
                  </a:lnTo>
                  <a:lnTo>
                    <a:pt x="29" y="7"/>
                  </a:lnTo>
                  <a:lnTo>
                    <a:pt x="44" y="5"/>
                  </a:lnTo>
                  <a:lnTo>
                    <a:pt x="57" y="0"/>
                  </a:lnTo>
                  <a:lnTo>
                    <a:pt x="2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592800" y="43988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207600" y="47941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710160" y="544680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4429800" y="4398840"/>
              <a:ext cx="343800" cy="290520"/>
            </a:xfrm>
            <a:custGeom>
              <a:avLst/>
              <a:gdLst/>
              <a:ahLst/>
              <a:rect l="l" t="t" r="r" b="b"/>
              <a:pathLst>
                <a:path w="199" h="183">
                  <a:moveTo>
                    <a:pt x="0" y="92"/>
                  </a:moveTo>
                  <a:lnTo>
                    <a:pt x="2" y="74"/>
                  </a:lnTo>
                  <a:lnTo>
                    <a:pt x="8" y="57"/>
                  </a:lnTo>
                  <a:lnTo>
                    <a:pt x="17" y="41"/>
                  </a:lnTo>
                  <a:lnTo>
                    <a:pt x="29" y="27"/>
                  </a:lnTo>
                  <a:lnTo>
                    <a:pt x="44" y="16"/>
                  </a:lnTo>
                  <a:lnTo>
                    <a:pt x="62" y="7"/>
                  </a:lnTo>
                  <a:lnTo>
                    <a:pt x="80" y="2"/>
                  </a:lnTo>
                  <a:lnTo>
                    <a:pt x="100" y="0"/>
                  </a:lnTo>
                  <a:lnTo>
                    <a:pt x="119" y="2"/>
                  </a:lnTo>
                  <a:lnTo>
                    <a:pt x="138" y="7"/>
                  </a:lnTo>
                  <a:lnTo>
                    <a:pt x="155" y="16"/>
                  </a:lnTo>
                  <a:lnTo>
                    <a:pt x="171" y="27"/>
                  </a:lnTo>
                  <a:lnTo>
                    <a:pt x="182" y="41"/>
                  </a:lnTo>
                  <a:lnTo>
                    <a:pt x="192" y="57"/>
                  </a:lnTo>
                  <a:lnTo>
                    <a:pt x="198" y="74"/>
                  </a:lnTo>
                  <a:lnTo>
                    <a:pt x="199" y="92"/>
                  </a:lnTo>
                  <a:lnTo>
                    <a:pt x="198" y="110"/>
                  </a:lnTo>
                  <a:lnTo>
                    <a:pt x="192" y="128"/>
                  </a:lnTo>
                  <a:lnTo>
                    <a:pt x="182" y="143"/>
                  </a:lnTo>
                  <a:lnTo>
                    <a:pt x="171" y="157"/>
                  </a:lnTo>
                  <a:lnTo>
                    <a:pt x="155" y="169"/>
                  </a:lnTo>
                  <a:lnTo>
                    <a:pt x="138" y="177"/>
                  </a:lnTo>
                  <a:lnTo>
                    <a:pt x="119" y="182"/>
                  </a:lnTo>
                  <a:lnTo>
                    <a:pt x="100" y="183"/>
                  </a:lnTo>
                  <a:lnTo>
                    <a:pt x="80" y="182"/>
                  </a:lnTo>
                  <a:lnTo>
                    <a:pt x="62" y="177"/>
                  </a:lnTo>
                  <a:lnTo>
                    <a:pt x="44" y="169"/>
                  </a:lnTo>
                  <a:lnTo>
                    <a:pt x="29" y="157"/>
                  </a:lnTo>
                  <a:lnTo>
                    <a:pt x="17" y="143"/>
                  </a:lnTo>
                  <a:lnTo>
                    <a:pt x="8" y="128"/>
                  </a:lnTo>
                  <a:lnTo>
                    <a:pt x="2" y="11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547160" y="4457880"/>
              <a:ext cx="12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969080" y="5829480"/>
              <a:ext cx="1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978440" y="5132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宋体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407200" y="4444920"/>
              <a:ext cx="12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292000" y="4398840"/>
              <a:ext cx="345240" cy="290520"/>
            </a:xfrm>
            <a:custGeom>
              <a:avLst/>
              <a:gdLst/>
              <a:ahLst/>
              <a:rect l="l" t="t" r="r" b="b"/>
              <a:pathLst>
                <a:path w="200" h="183">
                  <a:moveTo>
                    <a:pt x="0" y="92"/>
                  </a:moveTo>
                  <a:lnTo>
                    <a:pt x="2" y="74"/>
                  </a:lnTo>
                  <a:lnTo>
                    <a:pt x="8" y="57"/>
                  </a:lnTo>
                  <a:lnTo>
                    <a:pt x="17" y="41"/>
                  </a:lnTo>
                  <a:lnTo>
                    <a:pt x="30" y="27"/>
                  </a:lnTo>
                  <a:lnTo>
                    <a:pt x="45" y="16"/>
                  </a:lnTo>
                  <a:lnTo>
                    <a:pt x="62" y="7"/>
                  </a:lnTo>
                  <a:lnTo>
                    <a:pt x="81" y="2"/>
                  </a:lnTo>
                  <a:lnTo>
                    <a:pt x="100" y="0"/>
                  </a:lnTo>
                  <a:lnTo>
                    <a:pt x="120" y="2"/>
                  </a:lnTo>
                  <a:lnTo>
                    <a:pt x="139" y="7"/>
                  </a:lnTo>
                  <a:lnTo>
                    <a:pt x="156" y="16"/>
                  </a:lnTo>
                  <a:lnTo>
                    <a:pt x="170" y="27"/>
                  </a:lnTo>
                  <a:lnTo>
                    <a:pt x="183" y="41"/>
                  </a:lnTo>
                  <a:lnTo>
                    <a:pt x="193" y="57"/>
                  </a:lnTo>
                  <a:lnTo>
                    <a:pt x="198" y="74"/>
                  </a:lnTo>
                  <a:lnTo>
                    <a:pt x="200" y="92"/>
                  </a:lnTo>
                  <a:lnTo>
                    <a:pt x="198" y="110"/>
                  </a:lnTo>
                  <a:lnTo>
                    <a:pt x="193" y="128"/>
                  </a:lnTo>
                  <a:lnTo>
                    <a:pt x="183" y="143"/>
                  </a:lnTo>
                  <a:lnTo>
                    <a:pt x="170" y="157"/>
                  </a:lnTo>
                  <a:lnTo>
                    <a:pt x="156" y="169"/>
                  </a:lnTo>
                  <a:lnTo>
                    <a:pt x="139" y="177"/>
                  </a:lnTo>
                  <a:lnTo>
                    <a:pt x="120" y="182"/>
                  </a:lnTo>
                  <a:lnTo>
                    <a:pt x="100" y="183"/>
                  </a:lnTo>
                  <a:lnTo>
                    <a:pt x="81" y="182"/>
                  </a:lnTo>
                  <a:lnTo>
                    <a:pt x="62" y="177"/>
                  </a:lnTo>
                  <a:lnTo>
                    <a:pt x="45" y="169"/>
                  </a:lnTo>
                  <a:lnTo>
                    <a:pt x="30" y="157"/>
                  </a:lnTo>
                  <a:lnTo>
                    <a:pt x="17" y="143"/>
                  </a:lnTo>
                  <a:lnTo>
                    <a:pt x="8" y="128"/>
                  </a:lnTo>
                  <a:lnTo>
                    <a:pt x="2" y="110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4861800" y="5784840"/>
              <a:ext cx="345240" cy="291960"/>
            </a:xfrm>
            <a:custGeom>
              <a:avLst/>
              <a:gdLst/>
              <a:ahLst/>
              <a:rect l="l" t="t" r="r" b="b"/>
              <a:pathLst>
                <a:path w="200" h="184">
                  <a:moveTo>
                    <a:pt x="0" y="92"/>
                  </a:moveTo>
                  <a:lnTo>
                    <a:pt x="1" y="74"/>
                  </a:lnTo>
                  <a:lnTo>
                    <a:pt x="7" y="57"/>
                  </a:lnTo>
                  <a:lnTo>
                    <a:pt x="17" y="41"/>
                  </a:lnTo>
                  <a:lnTo>
                    <a:pt x="29" y="27"/>
                  </a:lnTo>
                  <a:lnTo>
                    <a:pt x="44" y="16"/>
                  </a:lnTo>
                  <a:lnTo>
                    <a:pt x="61" y="7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2"/>
                  </a:lnTo>
                  <a:lnTo>
                    <a:pt x="137" y="7"/>
                  </a:lnTo>
                  <a:lnTo>
                    <a:pt x="155" y="16"/>
                  </a:lnTo>
                  <a:lnTo>
                    <a:pt x="170" y="27"/>
                  </a:lnTo>
                  <a:lnTo>
                    <a:pt x="183" y="41"/>
                  </a:lnTo>
                  <a:lnTo>
                    <a:pt x="191" y="57"/>
                  </a:lnTo>
                  <a:lnTo>
                    <a:pt x="198" y="74"/>
                  </a:lnTo>
                  <a:lnTo>
                    <a:pt x="200" y="92"/>
                  </a:lnTo>
                  <a:lnTo>
                    <a:pt x="198" y="110"/>
                  </a:lnTo>
                  <a:lnTo>
                    <a:pt x="191" y="127"/>
                  </a:lnTo>
                  <a:lnTo>
                    <a:pt x="183" y="143"/>
                  </a:lnTo>
                  <a:lnTo>
                    <a:pt x="170" y="157"/>
                  </a:lnTo>
                  <a:lnTo>
                    <a:pt x="155" y="168"/>
                  </a:lnTo>
                  <a:lnTo>
                    <a:pt x="137" y="176"/>
                  </a:lnTo>
                  <a:lnTo>
                    <a:pt x="119" y="182"/>
                  </a:lnTo>
                  <a:lnTo>
                    <a:pt x="99" y="184"/>
                  </a:lnTo>
                  <a:lnTo>
                    <a:pt x="80" y="182"/>
                  </a:lnTo>
                  <a:lnTo>
                    <a:pt x="61" y="176"/>
                  </a:lnTo>
                  <a:lnTo>
                    <a:pt x="44" y="168"/>
                  </a:lnTo>
                  <a:lnTo>
                    <a:pt x="29" y="157"/>
                  </a:lnTo>
                  <a:lnTo>
                    <a:pt x="17" y="143"/>
                  </a:lnTo>
                  <a:lnTo>
                    <a:pt x="7" y="127"/>
                  </a:lnTo>
                  <a:lnTo>
                    <a:pt x="1" y="110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4861800" y="5086440"/>
              <a:ext cx="345240" cy="290520"/>
            </a:xfrm>
            <a:custGeom>
              <a:avLst/>
              <a:gdLst/>
              <a:ahLst/>
              <a:rect l="l" t="t" r="r" b="b"/>
              <a:pathLst>
                <a:path w="200" h="183">
                  <a:moveTo>
                    <a:pt x="0" y="92"/>
                  </a:moveTo>
                  <a:lnTo>
                    <a:pt x="1" y="74"/>
                  </a:lnTo>
                  <a:lnTo>
                    <a:pt x="7" y="57"/>
                  </a:lnTo>
                  <a:lnTo>
                    <a:pt x="17" y="41"/>
                  </a:lnTo>
                  <a:lnTo>
                    <a:pt x="29" y="27"/>
                  </a:lnTo>
                  <a:lnTo>
                    <a:pt x="44" y="16"/>
                  </a:lnTo>
                  <a:lnTo>
                    <a:pt x="61" y="7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2"/>
                  </a:lnTo>
                  <a:lnTo>
                    <a:pt x="137" y="7"/>
                  </a:lnTo>
                  <a:lnTo>
                    <a:pt x="155" y="16"/>
                  </a:lnTo>
                  <a:lnTo>
                    <a:pt x="170" y="27"/>
                  </a:lnTo>
                  <a:lnTo>
                    <a:pt x="183" y="41"/>
                  </a:lnTo>
                  <a:lnTo>
                    <a:pt x="191" y="57"/>
                  </a:lnTo>
                  <a:lnTo>
                    <a:pt x="198" y="74"/>
                  </a:lnTo>
                  <a:lnTo>
                    <a:pt x="200" y="92"/>
                  </a:lnTo>
                  <a:lnTo>
                    <a:pt x="198" y="109"/>
                  </a:lnTo>
                  <a:lnTo>
                    <a:pt x="191" y="127"/>
                  </a:lnTo>
                  <a:lnTo>
                    <a:pt x="183" y="143"/>
                  </a:lnTo>
                  <a:lnTo>
                    <a:pt x="170" y="157"/>
                  </a:lnTo>
                  <a:lnTo>
                    <a:pt x="155" y="169"/>
                  </a:lnTo>
                  <a:lnTo>
                    <a:pt x="137" y="177"/>
                  </a:lnTo>
                  <a:lnTo>
                    <a:pt x="119" y="182"/>
                  </a:lnTo>
                  <a:lnTo>
                    <a:pt x="99" y="183"/>
                  </a:lnTo>
                  <a:lnTo>
                    <a:pt x="80" y="182"/>
                  </a:lnTo>
                  <a:lnTo>
                    <a:pt x="61" y="177"/>
                  </a:lnTo>
                  <a:lnTo>
                    <a:pt x="44" y="169"/>
                  </a:lnTo>
                  <a:lnTo>
                    <a:pt x="29" y="157"/>
                  </a:lnTo>
                  <a:lnTo>
                    <a:pt x="17" y="143"/>
                  </a:lnTo>
                  <a:lnTo>
                    <a:pt x="7" y="127"/>
                  </a:lnTo>
                  <a:lnTo>
                    <a:pt x="1" y="109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4773600" y="4572000"/>
              <a:ext cx="443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193360" y="4525920"/>
              <a:ext cx="9864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9"/>
                  </a:moveTo>
                  <a:lnTo>
                    <a:pt x="0" y="57"/>
                  </a:lnTo>
                  <a:lnTo>
                    <a:pt x="6" y="43"/>
                  </a:lnTo>
                  <a:lnTo>
                    <a:pt x="7" y="29"/>
                  </a:lnTo>
                  <a:lnTo>
                    <a:pt x="6" y="14"/>
                  </a:lnTo>
                  <a:lnTo>
                    <a:pt x="0" y="0"/>
                  </a:lnTo>
                  <a:lnTo>
                    <a:pt x="5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689000" y="4746600"/>
              <a:ext cx="25884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646160" y="4689360"/>
              <a:ext cx="96480" cy="10188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0" y="0"/>
                  </a:moveTo>
                  <a:lnTo>
                    <a:pt x="56" y="31"/>
                  </a:lnTo>
                  <a:lnTo>
                    <a:pt x="42" y="35"/>
                  </a:lnTo>
                  <a:lnTo>
                    <a:pt x="29" y="42"/>
                  </a:lnTo>
                  <a:lnTo>
                    <a:pt x="17" y="52"/>
                  </a:lnTo>
                  <a:lnTo>
                    <a:pt x="9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077800" y="5364000"/>
              <a:ext cx="144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5027760" y="5708520"/>
              <a:ext cx="9828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9" y="58"/>
                  </a:moveTo>
                  <a:lnTo>
                    <a:pt x="0" y="0"/>
                  </a:lnTo>
                  <a:lnTo>
                    <a:pt x="14" y="5"/>
                  </a:lnTo>
                  <a:lnTo>
                    <a:pt x="29" y="7"/>
                  </a:lnTo>
                  <a:lnTo>
                    <a:pt x="43" y="5"/>
                  </a:lnTo>
                  <a:lnTo>
                    <a:pt x="57" y="0"/>
                  </a:lnTo>
                  <a:lnTo>
                    <a:pt x="2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5016600" y="43988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631040" y="47941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5132160" y="544680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5896800" y="4398840"/>
              <a:ext cx="345240" cy="290520"/>
            </a:xfrm>
            <a:custGeom>
              <a:avLst/>
              <a:gdLst/>
              <a:ahLst/>
              <a:rect l="l" t="t" r="r" b="b"/>
              <a:pathLst>
                <a:path w="200" h="183">
                  <a:moveTo>
                    <a:pt x="0" y="92"/>
                  </a:moveTo>
                  <a:lnTo>
                    <a:pt x="1" y="74"/>
                  </a:lnTo>
                  <a:lnTo>
                    <a:pt x="7" y="57"/>
                  </a:lnTo>
                  <a:lnTo>
                    <a:pt x="17" y="41"/>
                  </a:lnTo>
                  <a:lnTo>
                    <a:pt x="28" y="27"/>
                  </a:lnTo>
                  <a:lnTo>
                    <a:pt x="44" y="16"/>
                  </a:lnTo>
                  <a:lnTo>
                    <a:pt x="61" y="7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2"/>
                  </a:lnTo>
                  <a:lnTo>
                    <a:pt x="137" y="7"/>
                  </a:lnTo>
                  <a:lnTo>
                    <a:pt x="155" y="16"/>
                  </a:lnTo>
                  <a:lnTo>
                    <a:pt x="170" y="27"/>
                  </a:lnTo>
                  <a:lnTo>
                    <a:pt x="183" y="41"/>
                  </a:lnTo>
                  <a:lnTo>
                    <a:pt x="191" y="57"/>
                  </a:lnTo>
                  <a:lnTo>
                    <a:pt x="197" y="74"/>
                  </a:lnTo>
                  <a:lnTo>
                    <a:pt x="200" y="92"/>
                  </a:lnTo>
                  <a:lnTo>
                    <a:pt x="197" y="110"/>
                  </a:lnTo>
                  <a:lnTo>
                    <a:pt x="191" y="128"/>
                  </a:lnTo>
                  <a:lnTo>
                    <a:pt x="183" y="143"/>
                  </a:lnTo>
                  <a:lnTo>
                    <a:pt x="170" y="157"/>
                  </a:lnTo>
                  <a:lnTo>
                    <a:pt x="155" y="169"/>
                  </a:lnTo>
                  <a:lnTo>
                    <a:pt x="137" y="177"/>
                  </a:lnTo>
                  <a:lnTo>
                    <a:pt x="119" y="182"/>
                  </a:lnTo>
                  <a:lnTo>
                    <a:pt x="99" y="183"/>
                  </a:lnTo>
                  <a:lnTo>
                    <a:pt x="80" y="182"/>
                  </a:lnTo>
                  <a:lnTo>
                    <a:pt x="61" y="177"/>
                  </a:lnTo>
                  <a:lnTo>
                    <a:pt x="44" y="169"/>
                  </a:lnTo>
                  <a:lnTo>
                    <a:pt x="28" y="157"/>
                  </a:lnTo>
                  <a:lnTo>
                    <a:pt x="17" y="143"/>
                  </a:lnTo>
                  <a:lnTo>
                    <a:pt x="7" y="128"/>
                  </a:lnTo>
                  <a:lnTo>
                    <a:pt x="1" y="11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6012360" y="4457880"/>
              <a:ext cx="12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6434280" y="5829480"/>
              <a:ext cx="1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宋体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6443640" y="5132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874200" y="4444920"/>
              <a:ext cx="12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6757200" y="4398840"/>
              <a:ext cx="345240" cy="290520"/>
            </a:xfrm>
            <a:custGeom>
              <a:avLst/>
              <a:gdLst/>
              <a:ahLst/>
              <a:rect l="l" t="t" r="r" b="b"/>
              <a:pathLst>
                <a:path w="200" h="183">
                  <a:moveTo>
                    <a:pt x="0" y="92"/>
                  </a:moveTo>
                  <a:lnTo>
                    <a:pt x="3" y="74"/>
                  </a:lnTo>
                  <a:lnTo>
                    <a:pt x="8" y="57"/>
                  </a:lnTo>
                  <a:lnTo>
                    <a:pt x="17" y="41"/>
                  </a:lnTo>
                  <a:lnTo>
                    <a:pt x="30" y="27"/>
                  </a:lnTo>
                  <a:lnTo>
                    <a:pt x="45" y="16"/>
                  </a:lnTo>
                  <a:lnTo>
                    <a:pt x="62" y="7"/>
                  </a:lnTo>
                  <a:lnTo>
                    <a:pt x="81" y="2"/>
                  </a:lnTo>
                  <a:lnTo>
                    <a:pt x="101" y="0"/>
                  </a:lnTo>
                  <a:lnTo>
                    <a:pt x="120" y="2"/>
                  </a:lnTo>
                  <a:lnTo>
                    <a:pt x="139" y="7"/>
                  </a:lnTo>
                  <a:lnTo>
                    <a:pt x="156" y="16"/>
                  </a:lnTo>
                  <a:lnTo>
                    <a:pt x="170" y="27"/>
                  </a:lnTo>
                  <a:lnTo>
                    <a:pt x="183" y="41"/>
                  </a:lnTo>
                  <a:lnTo>
                    <a:pt x="193" y="57"/>
                  </a:lnTo>
                  <a:lnTo>
                    <a:pt x="198" y="74"/>
                  </a:lnTo>
                  <a:lnTo>
                    <a:pt x="200" y="92"/>
                  </a:lnTo>
                  <a:lnTo>
                    <a:pt x="198" y="110"/>
                  </a:lnTo>
                  <a:lnTo>
                    <a:pt x="193" y="128"/>
                  </a:lnTo>
                  <a:lnTo>
                    <a:pt x="183" y="143"/>
                  </a:lnTo>
                  <a:lnTo>
                    <a:pt x="170" y="157"/>
                  </a:lnTo>
                  <a:lnTo>
                    <a:pt x="156" y="169"/>
                  </a:lnTo>
                  <a:lnTo>
                    <a:pt x="139" y="177"/>
                  </a:lnTo>
                  <a:lnTo>
                    <a:pt x="120" y="182"/>
                  </a:lnTo>
                  <a:lnTo>
                    <a:pt x="101" y="183"/>
                  </a:lnTo>
                  <a:lnTo>
                    <a:pt x="81" y="182"/>
                  </a:lnTo>
                  <a:lnTo>
                    <a:pt x="62" y="177"/>
                  </a:lnTo>
                  <a:lnTo>
                    <a:pt x="45" y="169"/>
                  </a:lnTo>
                  <a:lnTo>
                    <a:pt x="30" y="157"/>
                  </a:lnTo>
                  <a:lnTo>
                    <a:pt x="17" y="143"/>
                  </a:lnTo>
                  <a:lnTo>
                    <a:pt x="8" y="128"/>
                  </a:lnTo>
                  <a:lnTo>
                    <a:pt x="3" y="110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327000" y="5784840"/>
              <a:ext cx="345240" cy="291960"/>
            </a:xfrm>
            <a:custGeom>
              <a:avLst/>
              <a:gdLst/>
              <a:ahLst/>
              <a:rect l="l" t="t" r="r" b="b"/>
              <a:pathLst>
                <a:path w="200" h="184">
                  <a:moveTo>
                    <a:pt x="0" y="92"/>
                  </a:moveTo>
                  <a:lnTo>
                    <a:pt x="2" y="74"/>
                  </a:lnTo>
                  <a:lnTo>
                    <a:pt x="8" y="57"/>
                  </a:lnTo>
                  <a:lnTo>
                    <a:pt x="17" y="41"/>
                  </a:lnTo>
                  <a:lnTo>
                    <a:pt x="29" y="27"/>
                  </a:lnTo>
                  <a:lnTo>
                    <a:pt x="45" y="16"/>
                  </a:lnTo>
                  <a:lnTo>
                    <a:pt x="61" y="7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20" y="2"/>
                  </a:lnTo>
                  <a:lnTo>
                    <a:pt x="137" y="7"/>
                  </a:lnTo>
                  <a:lnTo>
                    <a:pt x="155" y="16"/>
                  </a:lnTo>
                  <a:lnTo>
                    <a:pt x="170" y="27"/>
                  </a:lnTo>
                  <a:lnTo>
                    <a:pt x="183" y="41"/>
                  </a:lnTo>
                  <a:lnTo>
                    <a:pt x="192" y="57"/>
                  </a:lnTo>
                  <a:lnTo>
                    <a:pt x="198" y="74"/>
                  </a:lnTo>
                  <a:lnTo>
                    <a:pt x="200" y="92"/>
                  </a:lnTo>
                  <a:lnTo>
                    <a:pt x="198" y="110"/>
                  </a:lnTo>
                  <a:lnTo>
                    <a:pt x="192" y="127"/>
                  </a:lnTo>
                  <a:lnTo>
                    <a:pt x="183" y="143"/>
                  </a:lnTo>
                  <a:lnTo>
                    <a:pt x="170" y="157"/>
                  </a:lnTo>
                  <a:lnTo>
                    <a:pt x="155" y="168"/>
                  </a:lnTo>
                  <a:lnTo>
                    <a:pt x="137" y="176"/>
                  </a:lnTo>
                  <a:lnTo>
                    <a:pt x="120" y="182"/>
                  </a:lnTo>
                  <a:lnTo>
                    <a:pt x="99" y="184"/>
                  </a:lnTo>
                  <a:lnTo>
                    <a:pt x="80" y="182"/>
                  </a:lnTo>
                  <a:lnTo>
                    <a:pt x="61" y="176"/>
                  </a:lnTo>
                  <a:lnTo>
                    <a:pt x="45" y="168"/>
                  </a:lnTo>
                  <a:lnTo>
                    <a:pt x="29" y="157"/>
                  </a:lnTo>
                  <a:lnTo>
                    <a:pt x="17" y="143"/>
                  </a:lnTo>
                  <a:lnTo>
                    <a:pt x="8" y="127"/>
                  </a:lnTo>
                  <a:lnTo>
                    <a:pt x="2" y="110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6327000" y="5086440"/>
              <a:ext cx="345240" cy="290520"/>
            </a:xfrm>
            <a:custGeom>
              <a:avLst/>
              <a:gdLst/>
              <a:ahLst/>
              <a:rect l="l" t="t" r="r" b="b"/>
              <a:pathLst>
                <a:path w="200" h="183">
                  <a:moveTo>
                    <a:pt x="0" y="92"/>
                  </a:moveTo>
                  <a:lnTo>
                    <a:pt x="2" y="74"/>
                  </a:lnTo>
                  <a:lnTo>
                    <a:pt x="8" y="57"/>
                  </a:lnTo>
                  <a:lnTo>
                    <a:pt x="17" y="41"/>
                  </a:lnTo>
                  <a:lnTo>
                    <a:pt x="29" y="27"/>
                  </a:lnTo>
                  <a:lnTo>
                    <a:pt x="45" y="16"/>
                  </a:lnTo>
                  <a:lnTo>
                    <a:pt x="61" y="7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20" y="2"/>
                  </a:lnTo>
                  <a:lnTo>
                    <a:pt x="137" y="7"/>
                  </a:lnTo>
                  <a:lnTo>
                    <a:pt x="155" y="16"/>
                  </a:lnTo>
                  <a:lnTo>
                    <a:pt x="170" y="27"/>
                  </a:lnTo>
                  <a:lnTo>
                    <a:pt x="183" y="41"/>
                  </a:lnTo>
                  <a:lnTo>
                    <a:pt x="192" y="57"/>
                  </a:lnTo>
                  <a:lnTo>
                    <a:pt x="198" y="74"/>
                  </a:lnTo>
                  <a:lnTo>
                    <a:pt x="200" y="92"/>
                  </a:lnTo>
                  <a:lnTo>
                    <a:pt x="198" y="109"/>
                  </a:lnTo>
                  <a:lnTo>
                    <a:pt x="192" y="127"/>
                  </a:lnTo>
                  <a:lnTo>
                    <a:pt x="183" y="143"/>
                  </a:lnTo>
                  <a:lnTo>
                    <a:pt x="170" y="157"/>
                  </a:lnTo>
                  <a:lnTo>
                    <a:pt x="155" y="169"/>
                  </a:lnTo>
                  <a:lnTo>
                    <a:pt x="137" y="177"/>
                  </a:lnTo>
                  <a:lnTo>
                    <a:pt x="120" y="182"/>
                  </a:lnTo>
                  <a:lnTo>
                    <a:pt x="99" y="183"/>
                  </a:lnTo>
                  <a:lnTo>
                    <a:pt x="80" y="182"/>
                  </a:lnTo>
                  <a:lnTo>
                    <a:pt x="61" y="177"/>
                  </a:lnTo>
                  <a:lnTo>
                    <a:pt x="45" y="169"/>
                  </a:lnTo>
                  <a:lnTo>
                    <a:pt x="29" y="157"/>
                  </a:lnTo>
                  <a:lnTo>
                    <a:pt x="17" y="143"/>
                  </a:lnTo>
                  <a:lnTo>
                    <a:pt x="8" y="127"/>
                  </a:lnTo>
                  <a:lnTo>
                    <a:pt x="2" y="109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6242400" y="4572000"/>
              <a:ext cx="440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6658920" y="4525920"/>
              <a:ext cx="9828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9"/>
                  </a:moveTo>
                  <a:lnTo>
                    <a:pt x="0" y="57"/>
                  </a:lnTo>
                  <a:lnTo>
                    <a:pt x="6" y="43"/>
                  </a:lnTo>
                  <a:lnTo>
                    <a:pt x="7" y="29"/>
                  </a:lnTo>
                  <a:lnTo>
                    <a:pt x="6" y="14"/>
                  </a:lnTo>
                  <a:lnTo>
                    <a:pt x="0" y="0"/>
                  </a:lnTo>
                  <a:lnTo>
                    <a:pt x="5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6154200" y="4746600"/>
              <a:ext cx="25920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112440" y="4689360"/>
              <a:ext cx="96480" cy="10188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0" y="0"/>
                  </a:moveTo>
                  <a:lnTo>
                    <a:pt x="56" y="31"/>
                  </a:lnTo>
                  <a:lnTo>
                    <a:pt x="41" y="35"/>
                  </a:lnTo>
                  <a:lnTo>
                    <a:pt x="28" y="42"/>
                  </a:lnTo>
                  <a:lnTo>
                    <a:pt x="17" y="52"/>
                  </a:lnTo>
                  <a:lnTo>
                    <a:pt x="9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543000" y="5432400"/>
              <a:ext cx="1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492960" y="5364000"/>
              <a:ext cx="9828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0"/>
                  </a:moveTo>
                  <a:lnTo>
                    <a:pt x="57" y="57"/>
                  </a:lnTo>
                  <a:lnTo>
                    <a:pt x="44" y="52"/>
                  </a:lnTo>
                  <a:lnTo>
                    <a:pt x="29" y="50"/>
                  </a:lnTo>
                  <a:lnTo>
                    <a:pt x="14" y="52"/>
                  </a:lnTo>
                  <a:lnTo>
                    <a:pt x="0" y="5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481800" y="43988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096600" y="47941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599160" y="544680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007800" y="4422600"/>
              <a:ext cx="345240" cy="290520"/>
            </a:xfrm>
            <a:custGeom>
              <a:avLst/>
              <a:gdLst/>
              <a:ahLst/>
              <a:rect l="l" t="t" r="r" b="b"/>
              <a:pathLst>
                <a:path w="200" h="183">
                  <a:moveTo>
                    <a:pt x="0" y="91"/>
                  </a:moveTo>
                  <a:lnTo>
                    <a:pt x="2" y="73"/>
                  </a:lnTo>
                  <a:lnTo>
                    <a:pt x="7" y="57"/>
                  </a:lnTo>
                  <a:lnTo>
                    <a:pt x="17" y="41"/>
                  </a:lnTo>
                  <a:lnTo>
                    <a:pt x="29" y="27"/>
                  </a:lnTo>
                  <a:lnTo>
                    <a:pt x="44" y="15"/>
                  </a:lnTo>
                  <a:lnTo>
                    <a:pt x="61" y="7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2"/>
                  </a:lnTo>
                  <a:lnTo>
                    <a:pt x="138" y="7"/>
                  </a:lnTo>
                  <a:lnTo>
                    <a:pt x="155" y="15"/>
                  </a:lnTo>
                  <a:lnTo>
                    <a:pt x="170" y="27"/>
                  </a:lnTo>
                  <a:lnTo>
                    <a:pt x="183" y="41"/>
                  </a:lnTo>
                  <a:lnTo>
                    <a:pt x="192" y="57"/>
                  </a:lnTo>
                  <a:lnTo>
                    <a:pt x="197" y="73"/>
                  </a:lnTo>
                  <a:lnTo>
                    <a:pt x="200" y="91"/>
                  </a:lnTo>
                  <a:lnTo>
                    <a:pt x="197" y="109"/>
                  </a:lnTo>
                  <a:lnTo>
                    <a:pt x="192" y="127"/>
                  </a:lnTo>
                  <a:lnTo>
                    <a:pt x="183" y="143"/>
                  </a:lnTo>
                  <a:lnTo>
                    <a:pt x="170" y="157"/>
                  </a:lnTo>
                  <a:lnTo>
                    <a:pt x="155" y="168"/>
                  </a:lnTo>
                  <a:lnTo>
                    <a:pt x="138" y="177"/>
                  </a:lnTo>
                  <a:lnTo>
                    <a:pt x="119" y="182"/>
                  </a:lnTo>
                  <a:lnTo>
                    <a:pt x="99" y="183"/>
                  </a:lnTo>
                  <a:lnTo>
                    <a:pt x="80" y="182"/>
                  </a:lnTo>
                  <a:lnTo>
                    <a:pt x="61" y="177"/>
                  </a:lnTo>
                  <a:lnTo>
                    <a:pt x="44" y="168"/>
                  </a:lnTo>
                  <a:lnTo>
                    <a:pt x="29" y="157"/>
                  </a:lnTo>
                  <a:lnTo>
                    <a:pt x="17" y="143"/>
                  </a:lnTo>
                  <a:lnTo>
                    <a:pt x="7" y="127"/>
                  </a:lnTo>
                  <a:lnTo>
                    <a:pt x="2" y="109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123360" y="4479840"/>
              <a:ext cx="12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1584360" y="4422600"/>
              <a:ext cx="344880" cy="290520"/>
            </a:xfrm>
            <a:custGeom>
              <a:avLst/>
              <a:gdLst/>
              <a:ahLst/>
              <a:rect l="l" t="t" r="r" b="b"/>
              <a:pathLst>
                <a:path w="200" h="183">
                  <a:moveTo>
                    <a:pt x="0" y="91"/>
                  </a:moveTo>
                  <a:lnTo>
                    <a:pt x="2" y="73"/>
                  </a:lnTo>
                  <a:lnTo>
                    <a:pt x="8" y="57"/>
                  </a:lnTo>
                  <a:lnTo>
                    <a:pt x="17" y="41"/>
                  </a:lnTo>
                  <a:lnTo>
                    <a:pt x="30" y="27"/>
                  </a:lnTo>
                  <a:lnTo>
                    <a:pt x="44" y="15"/>
                  </a:lnTo>
                  <a:lnTo>
                    <a:pt x="62" y="7"/>
                  </a:lnTo>
                  <a:lnTo>
                    <a:pt x="80" y="2"/>
                  </a:lnTo>
                  <a:lnTo>
                    <a:pt x="100" y="0"/>
                  </a:lnTo>
                  <a:lnTo>
                    <a:pt x="119" y="2"/>
                  </a:lnTo>
                  <a:lnTo>
                    <a:pt x="138" y="7"/>
                  </a:lnTo>
                  <a:lnTo>
                    <a:pt x="155" y="15"/>
                  </a:lnTo>
                  <a:lnTo>
                    <a:pt x="171" y="27"/>
                  </a:lnTo>
                  <a:lnTo>
                    <a:pt x="183" y="41"/>
                  </a:lnTo>
                  <a:lnTo>
                    <a:pt x="192" y="57"/>
                  </a:lnTo>
                  <a:lnTo>
                    <a:pt x="199" y="73"/>
                  </a:lnTo>
                  <a:lnTo>
                    <a:pt x="200" y="91"/>
                  </a:lnTo>
                  <a:lnTo>
                    <a:pt x="199" y="109"/>
                  </a:lnTo>
                  <a:lnTo>
                    <a:pt x="192" y="127"/>
                  </a:lnTo>
                  <a:lnTo>
                    <a:pt x="183" y="143"/>
                  </a:lnTo>
                  <a:lnTo>
                    <a:pt x="171" y="157"/>
                  </a:lnTo>
                  <a:lnTo>
                    <a:pt x="155" y="168"/>
                  </a:lnTo>
                  <a:lnTo>
                    <a:pt x="138" y="177"/>
                  </a:lnTo>
                  <a:lnTo>
                    <a:pt x="119" y="182"/>
                  </a:lnTo>
                  <a:lnTo>
                    <a:pt x="100" y="183"/>
                  </a:lnTo>
                  <a:lnTo>
                    <a:pt x="80" y="182"/>
                  </a:lnTo>
                  <a:lnTo>
                    <a:pt x="62" y="177"/>
                  </a:lnTo>
                  <a:lnTo>
                    <a:pt x="44" y="168"/>
                  </a:lnTo>
                  <a:lnTo>
                    <a:pt x="30" y="157"/>
                  </a:lnTo>
                  <a:lnTo>
                    <a:pt x="17" y="143"/>
                  </a:lnTo>
                  <a:lnTo>
                    <a:pt x="8" y="127"/>
                  </a:lnTo>
                  <a:lnTo>
                    <a:pt x="2" y="109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1692720" y="4468680"/>
              <a:ext cx="12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宋体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1624320" y="3890880"/>
              <a:ext cx="101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一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网络的拓扑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1996200" y="409104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结构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3829680" y="3890880"/>
              <a:ext cx="128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二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每台路由器的链路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163400" y="4091040"/>
              <a:ext cx="5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状态数据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2921400" y="3036960"/>
              <a:ext cx="3848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280680" y="2944800"/>
              <a:ext cx="200160" cy="1843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116" y="5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508000" y="3036960"/>
              <a:ext cx="3848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5867280" y="2944800"/>
              <a:ext cx="200520" cy="1843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116" y="5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6168240" y="3890880"/>
              <a:ext cx="128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三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由链路状态数据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6340680" y="4091040"/>
              <a:ext cx="91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得到的带权有向图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3096000" y="6249960"/>
              <a:ext cx="276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四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0" lang="zh-CN" sz="1500" spc="-1" strike="noStrike">
                  <a:solidFill>
                    <a:srgbClr val="000000"/>
                  </a:solidFill>
                  <a:latin typeface="宋体"/>
                </a:rPr>
                <a:t>每台路由器分别以自己为根节点计算最小生成树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2487960" y="2147760"/>
              <a:ext cx="402120" cy="1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2487960" y="2212920"/>
              <a:ext cx="402120" cy="123840"/>
            </a:xfrm>
            <a:custGeom>
              <a:avLst/>
              <a:gdLst/>
              <a:ahLst/>
              <a:rect l="l" t="t" r="r" b="b"/>
              <a:pathLst>
                <a:path w="233" h="78">
                  <a:moveTo>
                    <a:pt x="0" y="37"/>
                  </a:moveTo>
                  <a:lnTo>
                    <a:pt x="9" y="25"/>
                  </a:lnTo>
                  <a:lnTo>
                    <a:pt x="29" y="12"/>
                  </a:lnTo>
                  <a:lnTo>
                    <a:pt x="58" y="4"/>
                  </a:lnTo>
                  <a:lnTo>
                    <a:pt x="94" y="0"/>
                  </a:lnTo>
                  <a:lnTo>
                    <a:pt x="135" y="0"/>
                  </a:lnTo>
                  <a:lnTo>
                    <a:pt x="172" y="4"/>
                  </a:lnTo>
                  <a:lnTo>
                    <a:pt x="205" y="12"/>
                  </a:lnTo>
                  <a:lnTo>
                    <a:pt x="225" y="25"/>
                  </a:lnTo>
                  <a:lnTo>
                    <a:pt x="233" y="37"/>
                  </a:lnTo>
                  <a:lnTo>
                    <a:pt x="225" y="53"/>
                  </a:lnTo>
                  <a:lnTo>
                    <a:pt x="205" y="62"/>
                  </a:lnTo>
                  <a:lnTo>
                    <a:pt x="172" y="74"/>
                  </a:lnTo>
                  <a:lnTo>
                    <a:pt x="135" y="78"/>
                  </a:lnTo>
                  <a:lnTo>
                    <a:pt x="94" y="78"/>
                  </a:lnTo>
                  <a:lnTo>
                    <a:pt x="58" y="74"/>
                  </a:lnTo>
                  <a:lnTo>
                    <a:pt x="29" y="62"/>
                  </a:lnTo>
                  <a:lnTo>
                    <a:pt x="9" y="5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2487960" y="2089080"/>
              <a:ext cx="402120" cy="123840"/>
            </a:xfrm>
            <a:custGeom>
              <a:avLst/>
              <a:gdLst/>
              <a:ahLst/>
              <a:rect l="l" t="t" r="r" b="b"/>
              <a:pathLst>
                <a:path w="233" h="78">
                  <a:moveTo>
                    <a:pt x="0" y="37"/>
                  </a:moveTo>
                  <a:lnTo>
                    <a:pt x="9" y="25"/>
                  </a:lnTo>
                  <a:lnTo>
                    <a:pt x="29" y="12"/>
                  </a:lnTo>
                  <a:lnTo>
                    <a:pt x="58" y="4"/>
                  </a:lnTo>
                  <a:lnTo>
                    <a:pt x="94" y="0"/>
                  </a:lnTo>
                  <a:lnTo>
                    <a:pt x="135" y="0"/>
                  </a:lnTo>
                  <a:lnTo>
                    <a:pt x="172" y="4"/>
                  </a:lnTo>
                  <a:lnTo>
                    <a:pt x="205" y="12"/>
                  </a:lnTo>
                  <a:lnTo>
                    <a:pt x="225" y="25"/>
                  </a:lnTo>
                  <a:lnTo>
                    <a:pt x="233" y="37"/>
                  </a:lnTo>
                  <a:lnTo>
                    <a:pt x="225" y="53"/>
                  </a:lnTo>
                  <a:lnTo>
                    <a:pt x="205" y="66"/>
                  </a:lnTo>
                  <a:lnTo>
                    <a:pt x="172" y="74"/>
                  </a:lnTo>
                  <a:lnTo>
                    <a:pt x="135" y="78"/>
                  </a:lnTo>
                  <a:lnTo>
                    <a:pt x="94" y="78"/>
                  </a:lnTo>
                  <a:lnTo>
                    <a:pt x="58" y="74"/>
                  </a:lnTo>
                  <a:lnTo>
                    <a:pt x="29" y="66"/>
                  </a:lnTo>
                  <a:lnTo>
                    <a:pt x="9" y="5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2594880" y="2108160"/>
              <a:ext cx="7092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2700000" y="2147760"/>
              <a:ext cx="84600" cy="32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V="1">
              <a:off x="2572560" y="2153880"/>
              <a:ext cx="860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2728080" y="2154240"/>
              <a:ext cx="9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2728080" y="2128680"/>
              <a:ext cx="29160" cy="5112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7" y="0"/>
                  </a:moveTo>
                  <a:lnTo>
                    <a:pt x="0" y="16"/>
                  </a:lnTo>
                  <a:lnTo>
                    <a:pt x="17" y="32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2551680" y="2154240"/>
              <a:ext cx="98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2622600" y="2128680"/>
              <a:ext cx="27360" cy="511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0" y="32"/>
                  </a:move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2686320" y="2101680"/>
              <a:ext cx="14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2658600" y="2101680"/>
              <a:ext cx="5544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32" y="17"/>
                  </a:moveTo>
                  <a:lnTo>
                    <a:pt x="16" y="0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2686320" y="2173320"/>
              <a:ext cx="14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2658600" y="2187720"/>
              <a:ext cx="5544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16" y="16"/>
                  </a:lnTo>
                  <a:lnTo>
                    <a:pt x="32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1969560" y="3476520"/>
              <a:ext cx="404280" cy="1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1969560" y="3541680"/>
              <a:ext cx="404280" cy="123840"/>
            </a:xfrm>
            <a:custGeom>
              <a:avLst/>
              <a:gdLst/>
              <a:ahLst/>
              <a:rect l="l" t="t" r="r" b="b"/>
              <a:pathLst>
                <a:path w="234" h="78">
                  <a:moveTo>
                    <a:pt x="0" y="37"/>
                  </a:moveTo>
                  <a:lnTo>
                    <a:pt x="8" y="24"/>
                  </a:lnTo>
                  <a:lnTo>
                    <a:pt x="29" y="12"/>
                  </a:lnTo>
                  <a:lnTo>
                    <a:pt x="57" y="4"/>
                  </a:lnTo>
                  <a:lnTo>
                    <a:pt x="94" y="0"/>
                  </a:lnTo>
                  <a:lnTo>
                    <a:pt x="135" y="0"/>
                  </a:lnTo>
                  <a:lnTo>
                    <a:pt x="172" y="4"/>
                  </a:lnTo>
                  <a:lnTo>
                    <a:pt x="205" y="12"/>
                  </a:lnTo>
                  <a:lnTo>
                    <a:pt x="226" y="24"/>
                  </a:lnTo>
                  <a:lnTo>
                    <a:pt x="234" y="37"/>
                  </a:lnTo>
                  <a:lnTo>
                    <a:pt x="226" y="53"/>
                  </a:lnTo>
                  <a:lnTo>
                    <a:pt x="205" y="61"/>
                  </a:lnTo>
                  <a:lnTo>
                    <a:pt x="172" y="74"/>
                  </a:lnTo>
                  <a:lnTo>
                    <a:pt x="135" y="78"/>
                  </a:lnTo>
                  <a:lnTo>
                    <a:pt x="94" y="78"/>
                  </a:lnTo>
                  <a:lnTo>
                    <a:pt x="57" y="74"/>
                  </a:lnTo>
                  <a:lnTo>
                    <a:pt x="29" y="61"/>
                  </a:lnTo>
                  <a:lnTo>
                    <a:pt x="8" y="5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1969560" y="3417840"/>
              <a:ext cx="404280" cy="123840"/>
            </a:xfrm>
            <a:custGeom>
              <a:avLst/>
              <a:gdLst/>
              <a:ahLst/>
              <a:rect l="l" t="t" r="r" b="b"/>
              <a:pathLst>
                <a:path w="234" h="78">
                  <a:moveTo>
                    <a:pt x="0" y="37"/>
                  </a:moveTo>
                  <a:lnTo>
                    <a:pt x="8" y="24"/>
                  </a:lnTo>
                  <a:lnTo>
                    <a:pt x="29" y="12"/>
                  </a:lnTo>
                  <a:lnTo>
                    <a:pt x="57" y="4"/>
                  </a:lnTo>
                  <a:lnTo>
                    <a:pt x="94" y="0"/>
                  </a:lnTo>
                  <a:lnTo>
                    <a:pt x="135" y="0"/>
                  </a:lnTo>
                  <a:lnTo>
                    <a:pt x="172" y="4"/>
                  </a:lnTo>
                  <a:lnTo>
                    <a:pt x="205" y="12"/>
                  </a:lnTo>
                  <a:lnTo>
                    <a:pt x="226" y="24"/>
                  </a:lnTo>
                  <a:lnTo>
                    <a:pt x="234" y="37"/>
                  </a:lnTo>
                  <a:lnTo>
                    <a:pt x="226" y="53"/>
                  </a:lnTo>
                  <a:lnTo>
                    <a:pt x="205" y="65"/>
                  </a:lnTo>
                  <a:lnTo>
                    <a:pt x="172" y="74"/>
                  </a:lnTo>
                  <a:lnTo>
                    <a:pt x="135" y="78"/>
                  </a:lnTo>
                  <a:lnTo>
                    <a:pt x="94" y="78"/>
                  </a:lnTo>
                  <a:lnTo>
                    <a:pt x="57" y="74"/>
                  </a:lnTo>
                  <a:lnTo>
                    <a:pt x="29" y="65"/>
                  </a:lnTo>
                  <a:lnTo>
                    <a:pt x="8" y="5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2076480" y="3436920"/>
              <a:ext cx="7092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181600" y="3476520"/>
              <a:ext cx="84600" cy="3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V="1">
              <a:off x="2054160" y="3482640"/>
              <a:ext cx="860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2211120" y="3483000"/>
              <a:ext cx="9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2211120" y="3456000"/>
              <a:ext cx="2772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6" y="0"/>
                  </a:moveTo>
                  <a:lnTo>
                    <a:pt x="0" y="17"/>
                  </a:lnTo>
                  <a:lnTo>
                    <a:pt x="16" y="3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2033280" y="3483000"/>
              <a:ext cx="98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2104200" y="3456000"/>
              <a:ext cx="2736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33"/>
                  </a:moveTo>
                  <a:lnTo>
                    <a:pt x="16" y="1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2167920" y="3430440"/>
              <a:ext cx="14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2140200" y="3430440"/>
              <a:ext cx="5544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32" y="16"/>
                  </a:move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2167920" y="3502080"/>
              <a:ext cx="14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2140200" y="3514680"/>
              <a:ext cx="5544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0"/>
                  </a:moveTo>
                  <a:lnTo>
                    <a:pt x="16" y="17"/>
                  </a:lnTo>
                  <a:lnTo>
                    <a:pt x="32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1969560" y="2882880"/>
              <a:ext cx="404280" cy="1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1969560" y="2948040"/>
              <a:ext cx="404280" cy="123840"/>
            </a:xfrm>
            <a:custGeom>
              <a:avLst/>
              <a:gdLst/>
              <a:ahLst/>
              <a:rect l="l" t="t" r="r" b="b"/>
              <a:pathLst>
                <a:path w="234" h="78">
                  <a:moveTo>
                    <a:pt x="0" y="37"/>
                  </a:moveTo>
                  <a:lnTo>
                    <a:pt x="8" y="25"/>
                  </a:lnTo>
                  <a:lnTo>
                    <a:pt x="29" y="13"/>
                  </a:lnTo>
                  <a:lnTo>
                    <a:pt x="57" y="5"/>
                  </a:lnTo>
                  <a:lnTo>
                    <a:pt x="94" y="0"/>
                  </a:lnTo>
                  <a:lnTo>
                    <a:pt x="135" y="0"/>
                  </a:lnTo>
                  <a:lnTo>
                    <a:pt x="172" y="5"/>
                  </a:lnTo>
                  <a:lnTo>
                    <a:pt x="205" y="13"/>
                  </a:lnTo>
                  <a:lnTo>
                    <a:pt x="226" y="25"/>
                  </a:lnTo>
                  <a:lnTo>
                    <a:pt x="234" y="37"/>
                  </a:lnTo>
                  <a:lnTo>
                    <a:pt x="226" y="54"/>
                  </a:lnTo>
                  <a:lnTo>
                    <a:pt x="205" y="62"/>
                  </a:lnTo>
                  <a:lnTo>
                    <a:pt x="172" y="74"/>
                  </a:lnTo>
                  <a:lnTo>
                    <a:pt x="135" y="78"/>
                  </a:lnTo>
                  <a:lnTo>
                    <a:pt x="94" y="78"/>
                  </a:lnTo>
                  <a:lnTo>
                    <a:pt x="57" y="74"/>
                  </a:lnTo>
                  <a:lnTo>
                    <a:pt x="29" y="62"/>
                  </a:lnTo>
                  <a:lnTo>
                    <a:pt x="8" y="54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1969560" y="2825640"/>
              <a:ext cx="404280" cy="122400"/>
            </a:xfrm>
            <a:custGeom>
              <a:avLst/>
              <a:gdLst/>
              <a:ahLst/>
              <a:rect l="l" t="t" r="r" b="b"/>
              <a:pathLst>
                <a:path w="234" h="77">
                  <a:moveTo>
                    <a:pt x="0" y="36"/>
                  </a:moveTo>
                  <a:lnTo>
                    <a:pt x="8" y="24"/>
                  </a:lnTo>
                  <a:lnTo>
                    <a:pt x="29" y="12"/>
                  </a:lnTo>
                  <a:lnTo>
                    <a:pt x="57" y="4"/>
                  </a:lnTo>
                  <a:lnTo>
                    <a:pt x="94" y="0"/>
                  </a:lnTo>
                  <a:lnTo>
                    <a:pt x="135" y="0"/>
                  </a:lnTo>
                  <a:lnTo>
                    <a:pt x="172" y="4"/>
                  </a:lnTo>
                  <a:lnTo>
                    <a:pt x="205" y="12"/>
                  </a:lnTo>
                  <a:lnTo>
                    <a:pt x="226" y="24"/>
                  </a:lnTo>
                  <a:lnTo>
                    <a:pt x="234" y="36"/>
                  </a:lnTo>
                  <a:lnTo>
                    <a:pt x="226" y="53"/>
                  </a:lnTo>
                  <a:lnTo>
                    <a:pt x="205" y="65"/>
                  </a:lnTo>
                  <a:lnTo>
                    <a:pt x="172" y="73"/>
                  </a:lnTo>
                  <a:lnTo>
                    <a:pt x="135" y="77"/>
                  </a:lnTo>
                  <a:lnTo>
                    <a:pt x="94" y="77"/>
                  </a:lnTo>
                  <a:lnTo>
                    <a:pt x="57" y="73"/>
                  </a:lnTo>
                  <a:lnTo>
                    <a:pt x="29" y="65"/>
                  </a:lnTo>
                  <a:lnTo>
                    <a:pt x="8" y="5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2076480" y="2844720"/>
              <a:ext cx="70920" cy="2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2181600" y="2882880"/>
              <a:ext cx="84600" cy="3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V="1">
              <a:off x="2054160" y="2890440"/>
              <a:ext cx="860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2211120" y="2890800"/>
              <a:ext cx="9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2211120" y="2863800"/>
              <a:ext cx="2772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6" y="0"/>
                  </a:moveTo>
                  <a:lnTo>
                    <a:pt x="0" y="17"/>
                  </a:lnTo>
                  <a:lnTo>
                    <a:pt x="16" y="3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2033280" y="2890800"/>
              <a:ext cx="982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2104200" y="2863800"/>
              <a:ext cx="273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33"/>
                  </a:moveTo>
                  <a:lnTo>
                    <a:pt x="16" y="1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2167920" y="2838600"/>
              <a:ext cx="144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2140200" y="2838600"/>
              <a:ext cx="5544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32" y="16"/>
                  </a:move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2167920" y="2909880"/>
              <a:ext cx="14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2140200" y="2922480"/>
              <a:ext cx="5544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16" y="16"/>
                  </a:lnTo>
                  <a:lnTo>
                    <a:pt x="32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1542600" y="2147760"/>
              <a:ext cx="402120" cy="1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1542600" y="2212920"/>
              <a:ext cx="402120" cy="123840"/>
            </a:xfrm>
            <a:custGeom>
              <a:avLst/>
              <a:gdLst/>
              <a:ahLst/>
              <a:rect l="l" t="t" r="r" b="b"/>
              <a:pathLst>
                <a:path w="233" h="78">
                  <a:moveTo>
                    <a:pt x="0" y="37"/>
                  </a:moveTo>
                  <a:lnTo>
                    <a:pt x="8" y="25"/>
                  </a:lnTo>
                  <a:lnTo>
                    <a:pt x="28" y="12"/>
                  </a:lnTo>
                  <a:lnTo>
                    <a:pt x="57" y="4"/>
                  </a:lnTo>
                  <a:lnTo>
                    <a:pt x="94" y="0"/>
                  </a:lnTo>
                  <a:lnTo>
                    <a:pt x="134" y="0"/>
                  </a:lnTo>
                  <a:lnTo>
                    <a:pt x="171" y="4"/>
                  </a:lnTo>
                  <a:lnTo>
                    <a:pt x="204" y="12"/>
                  </a:lnTo>
                  <a:lnTo>
                    <a:pt x="224" y="25"/>
                  </a:lnTo>
                  <a:lnTo>
                    <a:pt x="233" y="37"/>
                  </a:lnTo>
                  <a:lnTo>
                    <a:pt x="224" y="53"/>
                  </a:lnTo>
                  <a:lnTo>
                    <a:pt x="204" y="62"/>
                  </a:lnTo>
                  <a:lnTo>
                    <a:pt x="171" y="74"/>
                  </a:lnTo>
                  <a:lnTo>
                    <a:pt x="134" y="78"/>
                  </a:lnTo>
                  <a:lnTo>
                    <a:pt x="94" y="78"/>
                  </a:lnTo>
                  <a:lnTo>
                    <a:pt x="57" y="74"/>
                  </a:lnTo>
                  <a:lnTo>
                    <a:pt x="28" y="62"/>
                  </a:lnTo>
                  <a:lnTo>
                    <a:pt x="8" y="5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1542600" y="2089080"/>
              <a:ext cx="402120" cy="123840"/>
            </a:xfrm>
            <a:custGeom>
              <a:avLst/>
              <a:gdLst/>
              <a:ahLst/>
              <a:rect l="l" t="t" r="r" b="b"/>
              <a:pathLst>
                <a:path w="233" h="78">
                  <a:moveTo>
                    <a:pt x="0" y="37"/>
                  </a:moveTo>
                  <a:lnTo>
                    <a:pt x="8" y="25"/>
                  </a:lnTo>
                  <a:lnTo>
                    <a:pt x="28" y="12"/>
                  </a:lnTo>
                  <a:lnTo>
                    <a:pt x="57" y="4"/>
                  </a:lnTo>
                  <a:lnTo>
                    <a:pt x="94" y="0"/>
                  </a:lnTo>
                  <a:lnTo>
                    <a:pt x="134" y="0"/>
                  </a:lnTo>
                  <a:lnTo>
                    <a:pt x="171" y="4"/>
                  </a:lnTo>
                  <a:lnTo>
                    <a:pt x="204" y="12"/>
                  </a:lnTo>
                  <a:lnTo>
                    <a:pt x="224" y="25"/>
                  </a:lnTo>
                  <a:lnTo>
                    <a:pt x="233" y="37"/>
                  </a:lnTo>
                  <a:lnTo>
                    <a:pt x="224" y="53"/>
                  </a:lnTo>
                  <a:lnTo>
                    <a:pt x="204" y="66"/>
                  </a:lnTo>
                  <a:lnTo>
                    <a:pt x="171" y="74"/>
                  </a:lnTo>
                  <a:lnTo>
                    <a:pt x="134" y="78"/>
                  </a:lnTo>
                  <a:lnTo>
                    <a:pt x="94" y="78"/>
                  </a:lnTo>
                  <a:lnTo>
                    <a:pt x="57" y="74"/>
                  </a:lnTo>
                  <a:lnTo>
                    <a:pt x="28" y="66"/>
                  </a:lnTo>
                  <a:lnTo>
                    <a:pt x="8" y="5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1648080" y="2108160"/>
              <a:ext cx="7092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1753560" y="2147760"/>
              <a:ext cx="84600" cy="32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 flipV="1">
              <a:off x="1627200" y="2153880"/>
              <a:ext cx="846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1782720" y="2154240"/>
              <a:ext cx="910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1782720" y="2128680"/>
              <a:ext cx="27360" cy="511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0"/>
                  </a:moveTo>
                  <a:lnTo>
                    <a:pt x="0" y="16"/>
                  </a:lnTo>
                  <a:lnTo>
                    <a:pt x="16" y="32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1604520" y="2154240"/>
              <a:ext cx="1000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1675440" y="2128680"/>
              <a:ext cx="29160" cy="5112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32"/>
                  </a:moveTo>
                  <a:lnTo>
                    <a:pt x="17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1739520" y="2101680"/>
              <a:ext cx="18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711800" y="2101680"/>
              <a:ext cx="5508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32" y="17"/>
                  </a:moveTo>
                  <a:lnTo>
                    <a:pt x="16" y="0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1739520" y="2173320"/>
              <a:ext cx="180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711800" y="2187720"/>
              <a:ext cx="5508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16" y="16"/>
                  </a:lnTo>
                  <a:lnTo>
                    <a:pt x="32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区域内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P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区域间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-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rea 0.0.0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43" name=""/>
          <p:cNvGrpSpPr/>
          <p:nvPr/>
        </p:nvGrpSpPr>
        <p:grpSpPr>
          <a:xfrm>
            <a:off x="1447920" y="4419720"/>
            <a:ext cx="6324480" cy="1679040"/>
            <a:chOff x="1447920" y="4419720"/>
            <a:chExt cx="6324480" cy="1679040"/>
          </a:xfrm>
        </p:grpSpPr>
        <p:grpSp>
          <p:nvGrpSpPr>
            <p:cNvPr id="3444" name=""/>
            <p:cNvGrpSpPr/>
            <p:nvPr/>
          </p:nvGrpSpPr>
          <p:grpSpPr>
            <a:xfrm>
              <a:off x="3657600" y="4587840"/>
              <a:ext cx="1981080" cy="1311840"/>
              <a:chOff x="3657600" y="4587840"/>
              <a:chExt cx="1981080" cy="1311840"/>
            </a:xfrm>
          </p:grpSpPr>
          <p:sp>
            <p:nvSpPr>
              <p:cNvPr id="3445" name=""/>
              <p:cNvSpPr/>
              <p:nvPr/>
            </p:nvSpPr>
            <p:spPr>
              <a:xfrm>
                <a:off x="3657600" y="4587840"/>
                <a:ext cx="1981080" cy="1311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4210920" y="5042520"/>
                <a:ext cx="109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rea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7" name=""/>
            <p:cNvGrpSpPr/>
            <p:nvPr/>
          </p:nvGrpSpPr>
          <p:grpSpPr>
            <a:xfrm>
              <a:off x="4343400" y="4419720"/>
              <a:ext cx="642960" cy="367200"/>
              <a:chOff x="4343400" y="4419720"/>
              <a:chExt cx="642960" cy="367200"/>
            </a:xfrm>
          </p:grpSpPr>
          <p:sp>
            <p:nvSpPr>
              <p:cNvPr id="3448" name=""/>
              <p:cNvSpPr/>
              <p:nvPr/>
            </p:nvSpPr>
            <p:spPr>
              <a:xfrm>
                <a:off x="4343400" y="4521960"/>
                <a:ext cx="642960" cy="2649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343400" y="4419720"/>
                <a:ext cx="640440" cy="20160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0" name=""/>
              <p:cNvGrpSpPr/>
              <p:nvPr/>
            </p:nvGrpSpPr>
            <p:grpSpPr>
              <a:xfrm>
                <a:off x="4443120" y="4443120"/>
                <a:ext cx="441720" cy="153000"/>
                <a:chOff x="4443120" y="4443120"/>
                <a:chExt cx="441720" cy="153000"/>
              </a:xfrm>
            </p:grpSpPr>
            <p:sp>
              <p:nvSpPr>
                <p:cNvPr id="3451" name=""/>
                <p:cNvSpPr/>
                <p:nvPr/>
              </p:nvSpPr>
              <p:spPr>
                <a:xfrm>
                  <a:off x="4672080" y="4447080"/>
                  <a:ext cx="21024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4672080" y="4447080"/>
                  <a:ext cx="21024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4443120" y="4520520"/>
                  <a:ext cx="209880" cy="6732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4443120" y="4520520"/>
                  <a:ext cx="209880" cy="6732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4453560" y="4443120"/>
                  <a:ext cx="20988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4453560" y="4443120"/>
                  <a:ext cx="20988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4663800" y="4528440"/>
                  <a:ext cx="20988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4663800" y="4528440"/>
                  <a:ext cx="20988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4676400" y="4451040"/>
                  <a:ext cx="208440" cy="6336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4676400" y="4451040"/>
                  <a:ext cx="208440" cy="6336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4447080" y="4524480"/>
                  <a:ext cx="209880" cy="6732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4447080" y="4524480"/>
                  <a:ext cx="209880" cy="6732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4457880" y="4447080"/>
                  <a:ext cx="21024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4457880" y="4447080"/>
                  <a:ext cx="21024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4668120" y="4532760"/>
                  <a:ext cx="20988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4668120" y="4532760"/>
                  <a:ext cx="20988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67" name=""/>
            <p:cNvGrpSpPr/>
            <p:nvPr/>
          </p:nvGrpSpPr>
          <p:grpSpPr>
            <a:xfrm>
              <a:off x="4343400" y="5731560"/>
              <a:ext cx="642960" cy="367200"/>
              <a:chOff x="4343400" y="5731560"/>
              <a:chExt cx="642960" cy="367200"/>
            </a:xfrm>
          </p:grpSpPr>
          <p:sp>
            <p:nvSpPr>
              <p:cNvPr id="3468" name=""/>
              <p:cNvSpPr/>
              <p:nvPr/>
            </p:nvSpPr>
            <p:spPr>
              <a:xfrm>
                <a:off x="4343400" y="5833800"/>
                <a:ext cx="642960" cy="2649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4343400" y="5731560"/>
                <a:ext cx="640440" cy="20160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0" name=""/>
              <p:cNvGrpSpPr/>
              <p:nvPr/>
            </p:nvGrpSpPr>
            <p:grpSpPr>
              <a:xfrm>
                <a:off x="4443120" y="5754960"/>
                <a:ext cx="441720" cy="153000"/>
                <a:chOff x="4443120" y="5754960"/>
                <a:chExt cx="441720" cy="153000"/>
              </a:xfrm>
            </p:grpSpPr>
            <p:sp>
              <p:nvSpPr>
                <p:cNvPr id="3471" name=""/>
                <p:cNvSpPr/>
                <p:nvPr/>
              </p:nvSpPr>
              <p:spPr>
                <a:xfrm>
                  <a:off x="4672080" y="5758920"/>
                  <a:ext cx="21024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>
                  <a:off x="4672080" y="5758920"/>
                  <a:ext cx="21024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4443120" y="5832360"/>
                  <a:ext cx="209880" cy="6732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4443120" y="5832360"/>
                  <a:ext cx="209880" cy="6732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4453560" y="5754960"/>
                  <a:ext cx="20988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4453560" y="5754960"/>
                  <a:ext cx="20988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4663800" y="5840280"/>
                  <a:ext cx="20988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4663800" y="5840280"/>
                  <a:ext cx="20988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4676400" y="5762880"/>
                  <a:ext cx="208440" cy="6336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4676400" y="5762880"/>
                  <a:ext cx="208440" cy="6336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4447080" y="5836320"/>
                  <a:ext cx="209880" cy="6732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4447080" y="5836320"/>
                  <a:ext cx="209880" cy="6732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4457880" y="5758920"/>
                  <a:ext cx="21024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4457880" y="5758920"/>
                  <a:ext cx="21024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4668120" y="5844600"/>
                  <a:ext cx="20988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4668120" y="5844600"/>
                  <a:ext cx="209880" cy="6336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87" name=""/>
            <p:cNvGrpSpPr/>
            <p:nvPr/>
          </p:nvGrpSpPr>
          <p:grpSpPr>
            <a:xfrm>
              <a:off x="5807160" y="4419720"/>
              <a:ext cx="1965240" cy="1603080"/>
              <a:chOff x="5807160" y="4419720"/>
              <a:chExt cx="1965240" cy="1603080"/>
            </a:xfrm>
          </p:grpSpPr>
          <p:grpSp>
            <p:nvGrpSpPr>
              <p:cNvPr id="3488" name=""/>
              <p:cNvGrpSpPr/>
              <p:nvPr/>
            </p:nvGrpSpPr>
            <p:grpSpPr>
              <a:xfrm>
                <a:off x="5807160" y="4577400"/>
                <a:ext cx="1965240" cy="1322280"/>
                <a:chOff x="5807160" y="4577400"/>
                <a:chExt cx="1965240" cy="1322280"/>
              </a:xfrm>
            </p:grpSpPr>
            <p:sp>
              <p:nvSpPr>
                <p:cNvPr id="3489" name=""/>
                <p:cNvSpPr/>
                <p:nvPr/>
              </p:nvSpPr>
              <p:spPr>
                <a:xfrm>
                  <a:off x="5807160" y="4577400"/>
                  <a:ext cx="1965240" cy="1322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6355800" y="5037480"/>
                  <a:ext cx="109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rea 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1" name=""/>
              <p:cNvGrpSpPr/>
              <p:nvPr/>
            </p:nvGrpSpPr>
            <p:grpSpPr>
              <a:xfrm>
                <a:off x="6942600" y="4419720"/>
                <a:ext cx="638280" cy="369720"/>
                <a:chOff x="6942600" y="4419720"/>
                <a:chExt cx="638280" cy="369720"/>
              </a:xfrm>
            </p:grpSpPr>
            <p:sp>
              <p:nvSpPr>
                <p:cNvPr id="3492" name=""/>
                <p:cNvSpPr/>
                <p:nvPr/>
              </p:nvSpPr>
              <p:spPr>
                <a:xfrm>
                  <a:off x="6942600" y="4522680"/>
                  <a:ext cx="638280" cy="266760"/>
                </a:xfrm>
                <a:custGeom>
                  <a:avLst/>
                  <a:gdLst/>
                  <a:ahLst/>
                  <a:rect l="l" t="t" r="r" b="b"/>
                  <a:pathLst>
                    <a:path w="303" h="137">
                      <a:moveTo>
                        <a:pt x="302" y="80"/>
                      </a:moveTo>
                      <a:cubicBezTo>
                        <a:pt x="302" y="81"/>
                        <a:pt x="302" y="81"/>
                        <a:pt x="301" y="82"/>
                      </a:cubicBezTo>
                      <a:cubicBezTo>
                        <a:pt x="302" y="83"/>
                        <a:pt x="302" y="85"/>
                        <a:pt x="302" y="86"/>
                      </a:cubicBezTo>
                      <a:cubicBezTo>
                        <a:pt x="302" y="114"/>
                        <a:pt x="234" y="137"/>
                        <a:pt x="152" y="137"/>
                      </a:cubicBezTo>
                      <a:cubicBezTo>
                        <a:pt x="68" y="137"/>
                        <a:pt x="0" y="114"/>
                        <a:pt x="0" y="86"/>
                      </a:cubicBezTo>
                      <a:cubicBezTo>
                        <a:pt x="0" y="85"/>
                        <a:pt x="0" y="83"/>
                        <a:pt x="1" y="82"/>
                      </a:cubicBezTo>
                      <a:cubicBezTo>
                        <a:pt x="0" y="81"/>
                        <a:pt x="0" y="81"/>
                        <a:pt x="0" y="80"/>
                      </a:cubicBezTo>
                      <a:lnTo>
                        <a:pt x="0" y="0"/>
                      </a:lnTo>
                      <a:lnTo>
                        <a:pt x="302" y="0"/>
                      </a:lnTo>
                      <a:lnTo>
                        <a:pt x="302" y="77"/>
                      </a:lnTo>
                      <a:cubicBezTo>
                        <a:pt x="303" y="78"/>
                        <a:pt x="302" y="79"/>
                        <a:pt x="302" y="80"/>
                      </a:cubicBezTo>
                    </a:path>
                  </a:pathLst>
                </a:custGeom>
                <a:solidFill>
                  <a:srgbClr val="9182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>
                  <a:off x="6942600" y="4419720"/>
                  <a:ext cx="635760" cy="203040"/>
                </a:xfrm>
                <a:custGeom>
                  <a:avLst/>
                  <a:gdLst/>
                  <a:ahLst/>
                  <a:rect l="l" t="t" r="r" b="b"/>
                  <a:pathLst>
                    <a:path w="302" h="104">
                      <a:moveTo>
                        <a:pt x="302" y="53"/>
                      </a:moveTo>
                      <a:cubicBezTo>
                        <a:pt x="302" y="81"/>
                        <a:pt x="234" y="104"/>
                        <a:pt x="152" y="104"/>
                      </a:cubicBezTo>
                      <a:cubicBezTo>
                        <a:pt x="68" y="104"/>
                        <a:pt x="0" y="81"/>
                        <a:pt x="0" y="53"/>
                      </a:cubicBezTo>
                      <a:cubicBezTo>
                        <a:pt x="0" y="24"/>
                        <a:pt x="68" y="0"/>
                        <a:pt x="152" y="0"/>
                      </a:cubicBezTo>
                      <a:cubicBezTo>
                        <a:pt x="234" y="0"/>
                        <a:pt x="302" y="24"/>
                        <a:pt x="302" y="53"/>
                      </a:cubicBezTo>
                    </a:path>
                  </a:pathLst>
                </a:custGeom>
                <a:solidFill>
                  <a:srgbClr val="bcb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4" name=""/>
                <p:cNvGrpSpPr/>
                <p:nvPr/>
              </p:nvGrpSpPr>
              <p:grpSpPr>
                <a:xfrm>
                  <a:off x="7041600" y="4443480"/>
                  <a:ext cx="438480" cy="153720"/>
                  <a:chOff x="7041600" y="4443480"/>
                  <a:chExt cx="438480" cy="153720"/>
                </a:xfrm>
              </p:grpSpPr>
              <p:sp>
                <p:nvSpPr>
                  <p:cNvPr id="3495" name=""/>
                  <p:cNvSpPr/>
                  <p:nvPr/>
                </p:nvSpPr>
                <p:spPr>
                  <a:xfrm>
                    <a:off x="7268760" y="444744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6" name=""/>
                  <p:cNvSpPr/>
                  <p:nvPr/>
                </p:nvSpPr>
                <p:spPr>
                  <a:xfrm>
                    <a:off x="7268760" y="444744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7" name=""/>
                  <p:cNvSpPr/>
                  <p:nvPr/>
                </p:nvSpPr>
                <p:spPr>
                  <a:xfrm>
                    <a:off x="7041600" y="4521240"/>
                    <a:ext cx="20844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8" name=""/>
                  <p:cNvSpPr/>
                  <p:nvPr/>
                </p:nvSpPr>
                <p:spPr>
                  <a:xfrm>
                    <a:off x="7041600" y="4521240"/>
                    <a:ext cx="20844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9" name=""/>
                  <p:cNvSpPr/>
                  <p:nvPr/>
                </p:nvSpPr>
                <p:spPr>
                  <a:xfrm>
                    <a:off x="7052040" y="444348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0" name=""/>
                  <p:cNvSpPr/>
                  <p:nvPr/>
                </p:nvSpPr>
                <p:spPr>
                  <a:xfrm>
                    <a:off x="7052040" y="444348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1" name=""/>
                  <p:cNvSpPr/>
                  <p:nvPr/>
                </p:nvSpPr>
                <p:spPr>
                  <a:xfrm>
                    <a:off x="7260840" y="452916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2" name=""/>
                  <p:cNvSpPr/>
                  <p:nvPr/>
                </p:nvSpPr>
                <p:spPr>
                  <a:xfrm>
                    <a:off x="7260840" y="452916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3" name=""/>
                  <p:cNvSpPr/>
                  <p:nvPr/>
                </p:nvSpPr>
                <p:spPr>
                  <a:xfrm>
                    <a:off x="7273080" y="4451400"/>
                    <a:ext cx="2070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4" name=""/>
                  <p:cNvSpPr/>
                  <p:nvPr/>
                </p:nvSpPr>
                <p:spPr>
                  <a:xfrm>
                    <a:off x="7273080" y="4451400"/>
                    <a:ext cx="2070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5" name=""/>
                  <p:cNvSpPr/>
                  <p:nvPr/>
                </p:nvSpPr>
                <p:spPr>
                  <a:xfrm>
                    <a:off x="7045560" y="4525200"/>
                    <a:ext cx="20844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6" name=""/>
                  <p:cNvSpPr/>
                  <p:nvPr/>
                </p:nvSpPr>
                <p:spPr>
                  <a:xfrm>
                    <a:off x="7045560" y="4525200"/>
                    <a:ext cx="20844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7" name=""/>
                  <p:cNvSpPr/>
                  <p:nvPr/>
                </p:nvSpPr>
                <p:spPr>
                  <a:xfrm>
                    <a:off x="7056360" y="444744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8" name=""/>
                  <p:cNvSpPr/>
                  <p:nvPr/>
                </p:nvSpPr>
                <p:spPr>
                  <a:xfrm>
                    <a:off x="7056360" y="444744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9" name=""/>
                  <p:cNvSpPr/>
                  <p:nvPr/>
                </p:nvSpPr>
                <p:spPr>
                  <a:xfrm>
                    <a:off x="7265160" y="453348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0" name=""/>
                  <p:cNvSpPr/>
                  <p:nvPr/>
                </p:nvSpPr>
                <p:spPr>
                  <a:xfrm>
                    <a:off x="7265160" y="453348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11" name=""/>
              <p:cNvGrpSpPr/>
              <p:nvPr/>
            </p:nvGrpSpPr>
            <p:grpSpPr>
              <a:xfrm>
                <a:off x="6751080" y="5653080"/>
                <a:ext cx="638280" cy="369720"/>
                <a:chOff x="6751080" y="5653080"/>
                <a:chExt cx="638280" cy="369720"/>
              </a:xfrm>
            </p:grpSpPr>
            <p:sp>
              <p:nvSpPr>
                <p:cNvPr id="3512" name=""/>
                <p:cNvSpPr/>
                <p:nvPr/>
              </p:nvSpPr>
              <p:spPr>
                <a:xfrm>
                  <a:off x="6751080" y="5756040"/>
                  <a:ext cx="638280" cy="266760"/>
                </a:xfrm>
                <a:custGeom>
                  <a:avLst/>
                  <a:gdLst/>
                  <a:ahLst/>
                  <a:rect l="l" t="t" r="r" b="b"/>
                  <a:pathLst>
                    <a:path w="303" h="137">
                      <a:moveTo>
                        <a:pt x="302" y="80"/>
                      </a:moveTo>
                      <a:cubicBezTo>
                        <a:pt x="302" y="81"/>
                        <a:pt x="302" y="81"/>
                        <a:pt x="301" y="82"/>
                      </a:cubicBezTo>
                      <a:cubicBezTo>
                        <a:pt x="302" y="83"/>
                        <a:pt x="302" y="85"/>
                        <a:pt x="302" y="86"/>
                      </a:cubicBezTo>
                      <a:cubicBezTo>
                        <a:pt x="302" y="114"/>
                        <a:pt x="234" y="137"/>
                        <a:pt x="152" y="137"/>
                      </a:cubicBezTo>
                      <a:cubicBezTo>
                        <a:pt x="68" y="137"/>
                        <a:pt x="0" y="114"/>
                        <a:pt x="0" y="86"/>
                      </a:cubicBezTo>
                      <a:cubicBezTo>
                        <a:pt x="0" y="85"/>
                        <a:pt x="0" y="83"/>
                        <a:pt x="1" y="82"/>
                      </a:cubicBezTo>
                      <a:cubicBezTo>
                        <a:pt x="0" y="81"/>
                        <a:pt x="0" y="81"/>
                        <a:pt x="0" y="80"/>
                      </a:cubicBezTo>
                      <a:lnTo>
                        <a:pt x="0" y="0"/>
                      </a:lnTo>
                      <a:lnTo>
                        <a:pt x="302" y="0"/>
                      </a:lnTo>
                      <a:lnTo>
                        <a:pt x="302" y="77"/>
                      </a:lnTo>
                      <a:cubicBezTo>
                        <a:pt x="303" y="78"/>
                        <a:pt x="302" y="79"/>
                        <a:pt x="302" y="80"/>
                      </a:cubicBezTo>
                    </a:path>
                  </a:pathLst>
                </a:custGeom>
                <a:solidFill>
                  <a:srgbClr val="9182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"/>
                <p:cNvSpPr/>
                <p:nvPr/>
              </p:nvSpPr>
              <p:spPr>
                <a:xfrm>
                  <a:off x="6751080" y="5653080"/>
                  <a:ext cx="635760" cy="203040"/>
                </a:xfrm>
                <a:custGeom>
                  <a:avLst/>
                  <a:gdLst/>
                  <a:ahLst/>
                  <a:rect l="l" t="t" r="r" b="b"/>
                  <a:pathLst>
                    <a:path w="302" h="104">
                      <a:moveTo>
                        <a:pt x="302" y="53"/>
                      </a:moveTo>
                      <a:cubicBezTo>
                        <a:pt x="302" y="81"/>
                        <a:pt x="234" y="104"/>
                        <a:pt x="152" y="104"/>
                      </a:cubicBezTo>
                      <a:cubicBezTo>
                        <a:pt x="68" y="104"/>
                        <a:pt x="0" y="81"/>
                        <a:pt x="0" y="53"/>
                      </a:cubicBezTo>
                      <a:cubicBezTo>
                        <a:pt x="0" y="24"/>
                        <a:pt x="68" y="0"/>
                        <a:pt x="152" y="0"/>
                      </a:cubicBezTo>
                      <a:cubicBezTo>
                        <a:pt x="234" y="0"/>
                        <a:pt x="302" y="24"/>
                        <a:pt x="302" y="53"/>
                      </a:cubicBezTo>
                    </a:path>
                  </a:pathLst>
                </a:custGeom>
                <a:solidFill>
                  <a:srgbClr val="bcb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4" name=""/>
                <p:cNvGrpSpPr/>
                <p:nvPr/>
              </p:nvGrpSpPr>
              <p:grpSpPr>
                <a:xfrm>
                  <a:off x="6850080" y="5676840"/>
                  <a:ext cx="438480" cy="153720"/>
                  <a:chOff x="6850080" y="5676840"/>
                  <a:chExt cx="438480" cy="153720"/>
                </a:xfrm>
              </p:grpSpPr>
              <p:sp>
                <p:nvSpPr>
                  <p:cNvPr id="3515" name=""/>
                  <p:cNvSpPr/>
                  <p:nvPr/>
                </p:nvSpPr>
                <p:spPr>
                  <a:xfrm>
                    <a:off x="7077240" y="568080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>
                    <a:off x="7077240" y="568080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7" name=""/>
                  <p:cNvSpPr/>
                  <p:nvPr/>
                </p:nvSpPr>
                <p:spPr>
                  <a:xfrm>
                    <a:off x="6850080" y="5754600"/>
                    <a:ext cx="20844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8" name=""/>
                  <p:cNvSpPr/>
                  <p:nvPr/>
                </p:nvSpPr>
                <p:spPr>
                  <a:xfrm>
                    <a:off x="6850080" y="5754600"/>
                    <a:ext cx="20844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9" name=""/>
                  <p:cNvSpPr/>
                  <p:nvPr/>
                </p:nvSpPr>
                <p:spPr>
                  <a:xfrm>
                    <a:off x="6860520" y="567684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0" name=""/>
                  <p:cNvSpPr/>
                  <p:nvPr/>
                </p:nvSpPr>
                <p:spPr>
                  <a:xfrm>
                    <a:off x="6860520" y="567684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1" name=""/>
                  <p:cNvSpPr/>
                  <p:nvPr/>
                </p:nvSpPr>
                <p:spPr>
                  <a:xfrm>
                    <a:off x="7069320" y="576252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2" name=""/>
                  <p:cNvSpPr/>
                  <p:nvPr/>
                </p:nvSpPr>
                <p:spPr>
                  <a:xfrm>
                    <a:off x="7069320" y="576252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3" name=""/>
                  <p:cNvSpPr/>
                  <p:nvPr/>
                </p:nvSpPr>
                <p:spPr>
                  <a:xfrm>
                    <a:off x="7081560" y="5684760"/>
                    <a:ext cx="2070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4" name=""/>
                  <p:cNvSpPr/>
                  <p:nvPr/>
                </p:nvSpPr>
                <p:spPr>
                  <a:xfrm>
                    <a:off x="7081560" y="5684760"/>
                    <a:ext cx="2070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5" name=""/>
                  <p:cNvSpPr/>
                  <p:nvPr/>
                </p:nvSpPr>
                <p:spPr>
                  <a:xfrm>
                    <a:off x="6854040" y="5758560"/>
                    <a:ext cx="20844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6" name=""/>
                  <p:cNvSpPr/>
                  <p:nvPr/>
                </p:nvSpPr>
                <p:spPr>
                  <a:xfrm>
                    <a:off x="6854040" y="5758560"/>
                    <a:ext cx="20844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7" name=""/>
                  <p:cNvSpPr/>
                  <p:nvPr/>
                </p:nvSpPr>
                <p:spPr>
                  <a:xfrm>
                    <a:off x="6864840" y="568080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8" name=""/>
                  <p:cNvSpPr/>
                  <p:nvPr/>
                </p:nvSpPr>
                <p:spPr>
                  <a:xfrm>
                    <a:off x="6864840" y="568080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9" name=""/>
                  <p:cNvSpPr/>
                  <p:nvPr/>
                </p:nvSpPr>
                <p:spPr>
                  <a:xfrm>
                    <a:off x="7073640" y="576684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0" name=""/>
                  <p:cNvSpPr/>
                  <p:nvPr/>
                </p:nvSpPr>
                <p:spPr>
                  <a:xfrm>
                    <a:off x="7073640" y="5766840"/>
                    <a:ext cx="2084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31" name=""/>
            <p:cNvGrpSpPr/>
            <p:nvPr/>
          </p:nvGrpSpPr>
          <p:grpSpPr>
            <a:xfrm>
              <a:off x="5334120" y="5002560"/>
              <a:ext cx="761760" cy="437040"/>
              <a:chOff x="5334120" y="5002560"/>
              <a:chExt cx="761760" cy="437040"/>
            </a:xfrm>
          </p:grpSpPr>
          <p:sp>
            <p:nvSpPr>
              <p:cNvPr id="3532" name=""/>
              <p:cNvSpPr/>
              <p:nvPr/>
            </p:nvSpPr>
            <p:spPr>
              <a:xfrm>
                <a:off x="5334120" y="5124240"/>
                <a:ext cx="761760" cy="3153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5334120" y="5002560"/>
                <a:ext cx="758520" cy="23976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4" name=""/>
              <p:cNvGrpSpPr/>
              <p:nvPr/>
            </p:nvGrpSpPr>
            <p:grpSpPr>
              <a:xfrm>
                <a:off x="5452200" y="5030640"/>
                <a:ext cx="523080" cy="181440"/>
                <a:chOff x="5452200" y="5030640"/>
                <a:chExt cx="523080" cy="181440"/>
              </a:xfrm>
            </p:grpSpPr>
            <p:sp>
              <p:nvSpPr>
                <p:cNvPr id="3535" name=""/>
                <p:cNvSpPr/>
                <p:nvPr/>
              </p:nvSpPr>
              <p:spPr>
                <a:xfrm>
                  <a:off x="5723280" y="5035320"/>
                  <a:ext cx="24876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>
                  <a:off x="5723280" y="5035320"/>
                  <a:ext cx="24876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>
                  <a:off x="5452200" y="5122440"/>
                  <a:ext cx="248760" cy="802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5452200" y="5122440"/>
                  <a:ext cx="248760" cy="802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9" name=""/>
                <p:cNvSpPr/>
                <p:nvPr/>
              </p:nvSpPr>
              <p:spPr>
                <a:xfrm>
                  <a:off x="5464800" y="5030640"/>
                  <a:ext cx="24876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>
                  <a:off x="5464800" y="5030640"/>
                  <a:ext cx="24876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>
                  <a:off x="5713560" y="5132160"/>
                  <a:ext cx="24876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2" name=""/>
                <p:cNvSpPr/>
                <p:nvPr/>
              </p:nvSpPr>
              <p:spPr>
                <a:xfrm>
                  <a:off x="5713560" y="5132160"/>
                  <a:ext cx="24876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3" name=""/>
                <p:cNvSpPr/>
                <p:nvPr/>
              </p:nvSpPr>
              <p:spPr>
                <a:xfrm>
                  <a:off x="5728320" y="5040000"/>
                  <a:ext cx="246960" cy="752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5728320" y="5040000"/>
                  <a:ext cx="246960" cy="752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5457240" y="5127120"/>
                  <a:ext cx="248760" cy="802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>
                  <a:off x="5457240" y="5127120"/>
                  <a:ext cx="248760" cy="802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>
                  <a:off x="5469840" y="5035320"/>
                  <a:ext cx="24876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>
                  <a:off x="5469840" y="5035320"/>
                  <a:ext cx="24876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>
                  <a:off x="5718960" y="5136840"/>
                  <a:ext cx="24876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5718960" y="5136840"/>
                  <a:ext cx="24876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51" name=""/>
            <p:cNvGrpSpPr/>
            <p:nvPr/>
          </p:nvGrpSpPr>
          <p:grpSpPr>
            <a:xfrm>
              <a:off x="1447920" y="4577760"/>
              <a:ext cx="1965240" cy="1322280"/>
              <a:chOff x="1447920" y="4577760"/>
              <a:chExt cx="1965240" cy="1322280"/>
            </a:xfrm>
          </p:grpSpPr>
          <p:sp>
            <p:nvSpPr>
              <p:cNvPr id="3552" name=""/>
              <p:cNvSpPr/>
              <p:nvPr/>
            </p:nvSpPr>
            <p:spPr>
              <a:xfrm>
                <a:off x="1447920" y="4577760"/>
                <a:ext cx="1965240" cy="132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1996560" y="5036400"/>
                <a:ext cx="109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rea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4" name=""/>
            <p:cNvGrpSpPr/>
            <p:nvPr/>
          </p:nvGrpSpPr>
          <p:grpSpPr>
            <a:xfrm>
              <a:off x="1676520" y="4419720"/>
              <a:ext cx="637920" cy="370080"/>
              <a:chOff x="1676520" y="4419720"/>
              <a:chExt cx="637920" cy="370080"/>
            </a:xfrm>
          </p:grpSpPr>
          <p:sp>
            <p:nvSpPr>
              <p:cNvPr id="3555" name=""/>
              <p:cNvSpPr/>
              <p:nvPr/>
            </p:nvSpPr>
            <p:spPr>
              <a:xfrm>
                <a:off x="1676520" y="4522680"/>
                <a:ext cx="637920" cy="26712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1676520" y="4419720"/>
                <a:ext cx="635400" cy="20340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7" name=""/>
              <p:cNvGrpSpPr/>
              <p:nvPr/>
            </p:nvGrpSpPr>
            <p:grpSpPr>
              <a:xfrm>
                <a:off x="1775520" y="4443480"/>
                <a:ext cx="437760" cy="153720"/>
                <a:chOff x="1775520" y="4443480"/>
                <a:chExt cx="437760" cy="153720"/>
              </a:xfrm>
            </p:grpSpPr>
            <p:sp>
              <p:nvSpPr>
                <p:cNvPr id="3558" name=""/>
                <p:cNvSpPr/>
                <p:nvPr/>
              </p:nvSpPr>
              <p:spPr>
                <a:xfrm>
                  <a:off x="2002320" y="444744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>
                  <a:off x="2002320" y="444744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>
                  <a:off x="1775520" y="4521240"/>
                  <a:ext cx="208440" cy="6804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1" name=""/>
                <p:cNvSpPr/>
                <p:nvPr/>
              </p:nvSpPr>
              <p:spPr>
                <a:xfrm>
                  <a:off x="1775520" y="4521240"/>
                  <a:ext cx="208440" cy="6804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2" name=""/>
                <p:cNvSpPr/>
                <p:nvPr/>
              </p:nvSpPr>
              <p:spPr>
                <a:xfrm>
                  <a:off x="1785960" y="444348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>
                  <a:off x="1785960" y="444348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"/>
                <p:cNvSpPr/>
                <p:nvPr/>
              </p:nvSpPr>
              <p:spPr>
                <a:xfrm>
                  <a:off x="1994400" y="452952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>
                  <a:off x="1994400" y="452952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>
                  <a:off x="2006640" y="4451400"/>
                  <a:ext cx="206640" cy="6372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7" name=""/>
                <p:cNvSpPr/>
                <p:nvPr/>
              </p:nvSpPr>
              <p:spPr>
                <a:xfrm>
                  <a:off x="2006640" y="4451400"/>
                  <a:ext cx="206640" cy="6372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8" name=""/>
                <p:cNvSpPr/>
                <p:nvPr/>
              </p:nvSpPr>
              <p:spPr>
                <a:xfrm>
                  <a:off x="1779480" y="4525560"/>
                  <a:ext cx="208440" cy="6804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9" name=""/>
                <p:cNvSpPr/>
                <p:nvPr/>
              </p:nvSpPr>
              <p:spPr>
                <a:xfrm>
                  <a:off x="1779480" y="4525560"/>
                  <a:ext cx="208440" cy="6804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>
                  <a:off x="1790280" y="444744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1" name=""/>
                <p:cNvSpPr/>
                <p:nvPr/>
              </p:nvSpPr>
              <p:spPr>
                <a:xfrm>
                  <a:off x="1790280" y="444744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>
                  <a:off x="1998720" y="453348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>
                  <a:off x="1998720" y="453348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74" name=""/>
            <p:cNvGrpSpPr/>
            <p:nvPr/>
          </p:nvGrpSpPr>
          <p:grpSpPr>
            <a:xfrm>
              <a:off x="1828800" y="5658480"/>
              <a:ext cx="638280" cy="370080"/>
              <a:chOff x="1828800" y="5658480"/>
              <a:chExt cx="638280" cy="370080"/>
            </a:xfrm>
          </p:grpSpPr>
          <p:sp>
            <p:nvSpPr>
              <p:cNvPr id="3575" name=""/>
              <p:cNvSpPr/>
              <p:nvPr/>
            </p:nvSpPr>
            <p:spPr>
              <a:xfrm>
                <a:off x="1828800" y="5761440"/>
                <a:ext cx="638280" cy="26712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1828800" y="5658480"/>
                <a:ext cx="635760" cy="20340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7" name=""/>
              <p:cNvGrpSpPr/>
              <p:nvPr/>
            </p:nvGrpSpPr>
            <p:grpSpPr>
              <a:xfrm>
                <a:off x="1927800" y="5682240"/>
                <a:ext cx="438480" cy="153720"/>
                <a:chOff x="1927800" y="5682240"/>
                <a:chExt cx="438480" cy="153720"/>
              </a:xfrm>
            </p:grpSpPr>
            <p:sp>
              <p:nvSpPr>
                <p:cNvPr id="3578" name=""/>
                <p:cNvSpPr/>
                <p:nvPr/>
              </p:nvSpPr>
              <p:spPr>
                <a:xfrm>
                  <a:off x="2154960" y="568620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>
                  <a:off x="2154960" y="568620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0" name=""/>
                <p:cNvSpPr/>
                <p:nvPr/>
              </p:nvSpPr>
              <p:spPr>
                <a:xfrm>
                  <a:off x="1927800" y="5760000"/>
                  <a:ext cx="208440" cy="6804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"/>
                <p:cNvSpPr/>
                <p:nvPr/>
              </p:nvSpPr>
              <p:spPr>
                <a:xfrm>
                  <a:off x="1927800" y="5760000"/>
                  <a:ext cx="208440" cy="6804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>
                  <a:off x="1938240" y="568224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1938240" y="568224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>
                  <a:off x="2147040" y="576828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>
                  <a:off x="2147040" y="576828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>
                  <a:off x="2159280" y="5690160"/>
                  <a:ext cx="207000" cy="6372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>
                  <a:off x="2159280" y="5690160"/>
                  <a:ext cx="207000" cy="6372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>
                  <a:off x="1931760" y="5764320"/>
                  <a:ext cx="208440" cy="6804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>
                  <a:off x="1931760" y="5764320"/>
                  <a:ext cx="208440" cy="6804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0" name=""/>
                <p:cNvSpPr/>
                <p:nvPr/>
              </p:nvSpPr>
              <p:spPr>
                <a:xfrm>
                  <a:off x="1942560" y="568620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>
                  <a:off x="1942560" y="568620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>
                  <a:off x="2151360" y="577224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>
                  <a:off x="2151360" y="5772240"/>
                  <a:ext cx="208440" cy="637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94" name=""/>
            <p:cNvGrpSpPr/>
            <p:nvPr/>
          </p:nvGrpSpPr>
          <p:grpSpPr>
            <a:xfrm>
              <a:off x="3124080" y="5002560"/>
              <a:ext cx="762120" cy="437040"/>
              <a:chOff x="3124080" y="5002560"/>
              <a:chExt cx="762120" cy="437040"/>
            </a:xfrm>
          </p:grpSpPr>
          <p:sp>
            <p:nvSpPr>
              <p:cNvPr id="3595" name=""/>
              <p:cNvSpPr/>
              <p:nvPr/>
            </p:nvSpPr>
            <p:spPr>
              <a:xfrm>
                <a:off x="3124080" y="5124240"/>
                <a:ext cx="762120" cy="3153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3124080" y="5002560"/>
                <a:ext cx="758880" cy="23976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7" name=""/>
              <p:cNvGrpSpPr/>
              <p:nvPr/>
            </p:nvGrpSpPr>
            <p:grpSpPr>
              <a:xfrm>
                <a:off x="3242160" y="5030640"/>
                <a:ext cx="523440" cy="181440"/>
                <a:chOff x="3242160" y="5030640"/>
                <a:chExt cx="523440" cy="181440"/>
              </a:xfrm>
            </p:grpSpPr>
            <p:sp>
              <p:nvSpPr>
                <p:cNvPr id="3598" name=""/>
                <p:cNvSpPr/>
                <p:nvPr/>
              </p:nvSpPr>
              <p:spPr>
                <a:xfrm>
                  <a:off x="3513240" y="5035320"/>
                  <a:ext cx="24912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>
                  <a:off x="3513240" y="5035320"/>
                  <a:ext cx="24912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>
                  <a:off x="3242160" y="5122440"/>
                  <a:ext cx="248760" cy="802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1" name=""/>
                <p:cNvSpPr/>
                <p:nvPr/>
              </p:nvSpPr>
              <p:spPr>
                <a:xfrm>
                  <a:off x="3242160" y="5122440"/>
                  <a:ext cx="248760" cy="802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2" name=""/>
                <p:cNvSpPr/>
                <p:nvPr/>
              </p:nvSpPr>
              <p:spPr>
                <a:xfrm>
                  <a:off x="3254760" y="5030640"/>
                  <a:ext cx="24876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>
                  <a:off x="3254760" y="5030640"/>
                  <a:ext cx="24876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4" name=""/>
                <p:cNvSpPr/>
                <p:nvPr/>
              </p:nvSpPr>
              <p:spPr>
                <a:xfrm>
                  <a:off x="3503880" y="5132160"/>
                  <a:ext cx="24876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5" name=""/>
                <p:cNvSpPr/>
                <p:nvPr/>
              </p:nvSpPr>
              <p:spPr>
                <a:xfrm>
                  <a:off x="3503880" y="5132160"/>
                  <a:ext cx="24876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6" name=""/>
                <p:cNvSpPr/>
                <p:nvPr/>
              </p:nvSpPr>
              <p:spPr>
                <a:xfrm>
                  <a:off x="3518640" y="5040000"/>
                  <a:ext cx="246960" cy="752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"/>
                <p:cNvSpPr/>
                <p:nvPr/>
              </p:nvSpPr>
              <p:spPr>
                <a:xfrm>
                  <a:off x="3518640" y="5040000"/>
                  <a:ext cx="246960" cy="752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8" name=""/>
                <p:cNvSpPr/>
                <p:nvPr/>
              </p:nvSpPr>
              <p:spPr>
                <a:xfrm>
                  <a:off x="3247200" y="5127120"/>
                  <a:ext cx="248760" cy="802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>
                  <a:off x="3247200" y="5127120"/>
                  <a:ext cx="248760" cy="802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0" name=""/>
                <p:cNvSpPr/>
                <p:nvPr/>
              </p:nvSpPr>
              <p:spPr>
                <a:xfrm>
                  <a:off x="3259800" y="5035320"/>
                  <a:ext cx="24912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1" name=""/>
                <p:cNvSpPr/>
                <p:nvPr/>
              </p:nvSpPr>
              <p:spPr>
                <a:xfrm>
                  <a:off x="3259800" y="5035320"/>
                  <a:ext cx="24912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3508920" y="5136840"/>
                  <a:ext cx="24876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>
                  <a:off x="3508920" y="5136840"/>
                  <a:ext cx="248760" cy="752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配置命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r ospf en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ospf enable area area-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17" name=""/>
          <p:cNvGrpSpPr/>
          <p:nvPr/>
        </p:nvGrpSpPr>
        <p:grpSpPr>
          <a:xfrm>
            <a:off x="1447920" y="2409840"/>
            <a:ext cx="6476760" cy="1324080"/>
            <a:chOff x="1447920" y="2409840"/>
            <a:chExt cx="6476760" cy="1324080"/>
          </a:xfrm>
        </p:grpSpPr>
        <p:grpSp>
          <p:nvGrpSpPr>
            <p:cNvPr id="3618" name=""/>
            <p:cNvGrpSpPr/>
            <p:nvPr/>
          </p:nvGrpSpPr>
          <p:grpSpPr>
            <a:xfrm>
              <a:off x="3711600" y="2421000"/>
              <a:ext cx="2028960" cy="1312920"/>
              <a:chOff x="3711600" y="2421000"/>
              <a:chExt cx="2028960" cy="1312920"/>
            </a:xfrm>
          </p:grpSpPr>
          <p:sp>
            <p:nvSpPr>
              <p:cNvPr id="3619" name=""/>
              <p:cNvSpPr/>
              <p:nvPr/>
            </p:nvSpPr>
            <p:spPr>
              <a:xfrm>
                <a:off x="3711600" y="2421000"/>
                <a:ext cx="2028960" cy="1312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4280760" y="2876400"/>
                <a:ext cx="109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rea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1" name=""/>
            <p:cNvGrpSpPr/>
            <p:nvPr/>
          </p:nvGrpSpPr>
          <p:grpSpPr>
            <a:xfrm>
              <a:off x="5911920" y="2411640"/>
              <a:ext cx="2012760" cy="1320840"/>
              <a:chOff x="5911920" y="2411640"/>
              <a:chExt cx="2012760" cy="1320840"/>
            </a:xfrm>
          </p:grpSpPr>
          <p:sp>
            <p:nvSpPr>
              <p:cNvPr id="3622" name=""/>
              <p:cNvSpPr/>
              <p:nvPr/>
            </p:nvSpPr>
            <p:spPr>
              <a:xfrm>
                <a:off x="5911920" y="2411640"/>
                <a:ext cx="2012760" cy="1320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6471360" y="2871000"/>
                <a:ext cx="109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rea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4" name=""/>
            <p:cNvGrpSpPr/>
            <p:nvPr/>
          </p:nvGrpSpPr>
          <p:grpSpPr>
            <a:xfrm>
              <a:off x="5427720" y="2835360"/>
              <a:ext cx="780840" cy="438120"/>
              <a:chOff x="5427720" y="2835360"/>
              <a:chExt cx="780840" cy="438120"/>
            </a:xfrm>
          </p:grpSpPr>
          <p:sp>
            <p:nvSpPr>
              <p:cNvPr id="3625" name=""/>
              <p:cNvSpPr/>
              <p:nvPr/>
            </p:nvSpPr>
            <p:spPr>
              <a:xfrm>
                <a:off x="5427720" y="2957400"/>
                <a:ext cx="780840" cy="31608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5427720" y="2835360"/>
                <a:ext cx="777600" cy="24048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7" name=""/>
              <p:cNvGrpSpPr/>
              <p:nvPr/>
            </p:nvGrpSpPr>
            <p:grpSpPr>
              <a:xfrm>
                <a:off x="5549040" y="2863440"/>
                <a:ext cx="536400" cy="182520"/>
                <a:chOff x="5549040" y="2863440"/>
                <a:chExt cx="536400" cy="182520"/>
              </a:xfrm>
            </p:grpSpPr>
            <p:sp>
              <p:nvSpPr>
                <p:cNvPr id="3628" name=""/>
                <p:cNvSpPr/>
                <p:nvPr/>
              </p:nvSpPr>
              <p:spPr>
                <a:xfrm>
                  <a:off x="5826960" y="2868120"/>
                  <a:ext cx="25524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9" name=""/>
                <p:cNvSpPr/>
                <p:nvPr/>
              </p:nvSpPr>
              <p:spPr>
                <a:xfrm>
                  <a:off x="5826960" y="2868120"/>
                  <a:ext cx="25524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0" name=""/>
                <p:cNvSpPr/>
                <p:nvPr/>
              </p:nvSpPr>
              <p:spPr>
                <a:xfrm>
                  <a:off x="5549040" y="2955600"/>
                  <a:ext cx="254880" cy="8064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1" name=""/>
                <p:cNvSpPr/>
                <p:nvPr/>
              </p:nvSpPr>
              <p:spPr>
                <a:xfrm>
                  <a:off x="5549040" y="2955600"/>
                  <a:ext cx="254880" cy="8064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2" name=""/>
                <p:cNvSpPr/>
                <p:nvPr/>
              </p:nvSpPr>
              <p:spPr>
                <a:xfrm>
                  <a:off x="5562000" y="2863440"/>
                  <a:ext cx="25488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3" name=""/>
                <p:cNvSpPr/>
                <p:nvPr/>
              </p:nvSpPr>
              <p:spPr>
                <a:xfrm>
                  <a:off x="5562000" y="2863440"/>
                  <a:ext cx="25488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4" name=""/>
                <p:cNvSpPr/>
                <p:nvPr/>
              </p:nvSpPr>
              <p:spPr>
                <a:xfrm>
                  <a:off x="5817240" y="2965320"/>
                  <a:ext cx="25488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5" name=""/>
                <p:cNvSpPr/>
                <p:nvPr/>
              </p:nvSpPr>
              <p:spPr>
                <a:xfrm>
                  <a:off x="5817240" y="2965320"/>
                  <a:ext cx="25488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6" name=""/>
                <p:cNvSpPr/>
                <p:nvPr/>
              </p:nvSpPr>
              <p:spPr>
                <a:xfrm>
                  <a:off x="5832360" y="2873160"/>
                  <a:ext cx="253080" cy="7560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7" name=""/>
                <p:cNvSpPr/>
                <p:nvPr/>
              </p:nvSpPr>
              <p:spPr>
                <a:xfrm>
                  <a:off x="5832360" y="2873160"/>
                  <a:ext cx="253080" cy="7560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8" name=""/>
                <p:cNvSpPr/>
                <p:nvPr/>
              </p:nvSpPr>
              <p:spPr>
                <a:xfrm>
                  <a:off x="5554080" y="2960640"/>
                  <a:ext cx="254880" cy="8064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9" name=""/>
                <p:cNvSpPr/>
                <p:nvPr/>
              </p:nvSpPr>
              <p:spPr>
                <a:xfrm>
                  <a:off x="5554080" y="2960640"/>
                  <a:ext cx="254880" cy="8064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0" name=""/>
                <p:cNvSpPr/>
                <p:nvPr/>
              </p:nvSpPr>
              <p:spPr>
                <a:xfrm>
                  <a:off x="5567040" y="2868120"/>
                  <a:ext cx="25524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1" name=""/>
                <p:cNvSpPr/>
                <p:nvPr/>
              </p:nvSpPr>
              <p:spPr>
                <a:xfrm>
                  <a:off x="5567040" y="2868120"/>
                  <a:ext cx="25524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2" name=""/>
                <p:cNvSpPr/>
                <p:nvPr/>
              </p:nvSpPr>
              <p:spPr>
                <a:xfrm>
                  <a:off x="5822280" y="2970360"/>
                  <a:ext cx="25488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3" name=""/>
                <p:cNvSpPr/>
                <p:nvPr/>
              </p:nvSpPr>
              <p:spPr>
                <a:xfrm>
                  <a:off x="5822280" y="2970360"/>
                  <a:ext cx="25488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4" name=""/>
            <p:cNvGrpSpPr/>
            <p:nvPr/>
          </p:nvGrpSpPr>
          <p:grpSpPr>
            <a:xfrm>
              <a:off x="1447920" y="2409840"/>
              <a:ext cx="2012760" cy="1324080"/>
              <a:chOff x="1447920" y="2409840"/>
              <a:chExt cx="2012760" cy="1324080"/>
            </a:xfrm>
          </p:grpSpPr>
          <p:sp>
            <p:nvSpPr>
              <p:cNvPr id="3645" name=""/>
              <p:cNvSpPr/>
              <p:nvPr/>
            </p:nvSpPr>
            <p:spPr>
              <a:xfrm>
                <a:off x="1447920" y="2409840"/>
                <a:ext cx="2012760" cy="1324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007360" y="2868840"/>
                <a:ext cx="109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rea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7" name=""/>
            <p:cNvGrpSpPr/>
            <p:nvPr/>
          </p:nvGrpSpPr>
          <p:grpSpPr>
            <a:xfrm>
              <a:off x="3164040" y="2835360"/>
              <a:ext cx="780840" cy="438120"/>
              <a:chOff x="3164040" y="2835360"/>
              <a:chExt cx="780840" cy="438120"/>
            </a:xfrm>
          </p:grpSpPr>
          <p:sp>
            <p:nvSpPr>
              <p:cNvPr id="3648" name=""/>
              <p:cNvSpPr/>
              <p:nvPr/>
            </p:nvSpPr>
            <p:spPr>
              <a:xfrm>
                <a:off x="3164040" y="2957400"/>
                <a:ext cx="780840" cy="31608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3164040" y="2835360"/>
                <a:ext cx="777600" cy="24048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0" name=""/>
              <p:cNvGrpSpPr/>
              <p:nvPr/>
            </p:nvGrpSpPr>
            <p:grpSpPr>
              <a:xfrm>
                <a:off x="3285360" y="2863440"/>
                <a:ext cx="536400" cy="182520"/>
                <a:chOff x="3285360" y="2863440"/>
                <a:chExt cx="536400" cy="182520"/>
              </a:xfrm>
            </p:grpSpPr>
            <p:sp>
              <p:nvSpPr>
                <p:cNvPr id="3651" name=""/>
                <p:cNvSpPr/>
                <p:nvPr/>
              </p:nvSpPr>
              <p:spPr>
                <a:xfrm>
                  <a:off x="3563280" y="2868120"/>
                  <a:ext cx="25524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2" name=""/>
                <p:cNvSpPr/>
                <p:nvPr/>
              </p:nvSpPr>
              <p:spPr>
                <a:xfrm>
                  <a:off x="3563280" y="2868120"/>
                  <a:ext cx="25524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3" name=""/>
                <p:cNvSpPr/>
                <p:nvPr/>
              </p:nvSpPr>
              <p:spPr>
                <a:xfrm>
                  <a:off x="3285360" y="2955600"/>
                  <a:ext cx="254880" cy="8064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>
                  <a:off x="3285360" y="2955600"/>
                  <a:ext cx="254880" cy="8064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5" name=""/>
                <p:cNvSpPr/>
                <p:nvPr/>
              </p:nvSpPr>
              <p:spPr>
                <a:xfrm>
                  <a:off x="3298320" y="2863440"/>
                  <a:ext cx="25488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6" name=""/>
                <p:cNvSpPr/>
                <p:nvPr/>
              </p:nvSpPr>
              <p:spPr>
                <a:xfrm>
                  <a:off x="3298320" y="2863440"/>
                  <a:ext cx="25488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7" name=""/>
                <p:cNvSpPr/>
                <p:nvPr/>
              </p:nvSpPr>
              <p:spPr>
                <a:xfrm>
                  <a:off x="3553560" y="2965320"/>
                  <a:ext cx="25488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8" name=""/>
                <p:cNvSpPr/>
                <p:nvPr/>
              </p:nvSpPr>
              <p:spPr>
                <a:xfrm>
                  <a:off x="3553560" y="2965320"/>
                  <a:ext cx="25488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"/>
                <p:cNvSpPr/>
                <p:nvPr/>
              </p:nvSpPr>
              <p:spPr>
                <a:xfrm>
                  <a:off x="3568680" y="2873160"/>
                  <a:ext cx="253080" cy="7560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"/>
                <p:cNvSpPr/>
                <p:nvPr/>
              </p:nvSpPr>
              <p:spPr>
                <a:xfrm>
                  <a:off x="3568680" y="2873160"/>
                  <a:ext cx="253080" cy="7560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1" name=""/>
                <p:cNvSpPr/>
                <p:nvPr/>
              </p:nvSpPr>
              <p:spPr>
                <a:xfrm>
                  <a:off x="3290400" y="2960640"/>
                  <a:ext cx="254880" cy="8064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"/>
                <p:cNvSpPr/>
                <p:nvPr/>
              </p:nvSpPr>
              <p:spPr>
                <a:xfrm>
                  <a:off x="3290400" y="2960640"/>
                  <a:ext cx="254880" cy="8064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3" name=""/>
                <p:cNvSpPr/>
                <p:nvPr/>
              </p:nvSpPr>
              <p:spPr>
                <a:xfrm>
                  <a:off x="3303360" y="2868120"/>
                  <a:ext cx="25524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4" name=""/>
                <p:cNvSpPr/>
                <p:nvPr/>
              </p:nvSpPr>
              <p:spPr>
                <a:xfrm>
                  <a:off x="3303360" y="2868120"/>
                  <a:ext cx="25524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"/>
                <p:cNvSpPr/>
                <p:nvPr/>
              </p:nvSpPr>
              <p:spPr>
                <a:xfrm>
                  <a:off x="3558600" y="2970360"/>
                  <a:ext cx="25488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"/>
                <p:cNvSpPr/>
                <p:nvPr/>
              </p:nvSpPr>
              <p:spPr>
                <a:xfrm>
                  <a:off x="3558600" y="2970360"/>
                  <a:ext cx="254880" cy="75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67" name=""/>
          <p:cNvSpPr/>
          <p:nvPr/>
        </p:nvSpPr>
        <p:spPr>
          <a:xfrm>
            <a:off x="806400" y="4164120"/>
            <a:ext cx="361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ospf e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Ethernet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spf enable 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Serial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spf enable area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路由优先级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Pre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urier New"/>
              </a:rPr>
              <a:t>用于在内容相同的路由记录间进行选择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OSPF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GR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R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使用场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2895480"/>
            <a:ext cx="8839080" cy="2252880"/>
            <a:chOff x="0" y="2895480"/>
            <a:chExt cx="8839080" cy="2252880"/>
          </a:xfrm>
        </p:grpSpPr>
        <p:sp>
          <p:nvSpPr>
            <p:cNvPr id="119" name=""/>
            <p:cNvSpPr/>
            <p:nvPr/>
          </p:nvSpPr>
          <p:spPr>
            <a:xfrm>
              <a:off x="1676520" y="350532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3505320"/>
              <a:ext cx="83808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914400" y="358128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3733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.1.1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14600" y="3733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.2.2.2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228600" y="4419720"/>
              <a:ext cx="1100160" cy="728640"/>
              <a:chOff x="228600" y="4419720"/>
              <a:chExt cx="1100160" cy="728640"/>
            </a:xfrm>
          </p:grpSpPr>
          <p:sp>
            <p:nvSpPr>
              <p:cNvPr id="125" name=""/>
              <p:cNvSpPr/>
              <p:nvPr/>
            </p:nvSpPr>
            <p:spPr>
              <a:xfrm>
                <a:off x="228600" y="441972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7200" y="464832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1371600" y="373392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.2.2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43400" y="28954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3.3.2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289548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3.3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15200" y="3733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5.5.5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219320" y="3276720"/>
              <a:ext cx="761760" cy="456840"/>
              <a:chOff x="1219320" y="3276720"/>
              <a:chExt cx="761760" cy="456840"/>
            </a:xfrm>
          </p:grpSpPr>
          <p:sp>
            <p:nvSpPr>
              <p:cNvPr id="132" name=""/>
              <p:cNvSpPr/>
              <p:nvPr/>
            </p:nvSpPr>
            <p:spPr>
              <a:xfrm>
                <a:off x="1219320" y="3403800"/>
                <a:ext cx="76176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219320" y="3276720"/>
                <a:ext cx="75852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1337400" y="3306240"/>
                <a:ext cx="523080" cy="190080"/>
                <a:chOff x="1337400" y="3306240"/>
                <a:chExt cx="523080" cy="1900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60848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60848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33740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33740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35000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35000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59876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59876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61352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61352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34244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34244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35504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5504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60416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0416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" name=""/>
            <p:cNvGrpSpPr/>
            <p:nvPr/>
          </p:nvGrpSpPr>
          <p:grpSpPr>
            <a:xfrm>
              <a:off x="4800600" y="3276720"/>
              <a:ext cx="762120" cy="456840"/>
              <a:chOff x="4800600" y="3276720"/>
              <a:chExt cx="762120" cy="456840"/>
            </a:xfrm>
          </p:grpSpPr>
          <p:sp>
            <p:nvSpPr>
              <p:cNvPr id="152" name=""/>
              <p:cNvSpPr/>
              <p:nvPr/>
            </p:nvSpPr>
            <p:spPr>
              <a:xfrm>
                <a:off x="4800600" y="3403800"/>
                <a:ext cx="76212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00600" y="3276720"/>
                <a:ext cx="75888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4918680" y="3306240"/>
                <a:ext cx="523440" cy="190080"/>
                <a:chOff x="4918680" y="3306240"/>
                <a:chExt cx="523440" cy="1900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18976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976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91868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91868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93128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93128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8040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18040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19516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19516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92372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92372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93632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3632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18544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18544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" name=""/>
            <p:cNvGrpSpPr/>
            <p:nvPr/>
          </p:nvGrpSpPr>
          <p:grpSpPr>
            <a:xfrm>
              <a:off x="6477120" y="3276720"/>
              <a:ext cx="761760" cy="456840"/>
              <a:chOff x="6477120" y="3276720"/>
              <a:chExt cx="761760" cy="456840"/>
            </a:xfrm>
          </p:grpSpPr>
          <p:sp>
            <p:nvSpPr>
              <p:cNvPr id="172" name=""/>
              <p:cNvSpPr/>
              <p:nvPr/>
            </p:nvSpPr>
            <p:spPr>
              <a:xfrm>
                <a:off x="6477120" y="3403800"/>
                <a:ext cx="76176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7120" y="3276720"/>
                <a:ext cx="75852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6595200" y="3306240"/>
                <a:ext cx="523080" cy="190080"/>
                <a:chOff x="6595200" y="3306240"/>
                <a:chExt cx="523080" cy="1900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86628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86628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59520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9520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60780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60780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85656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85656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87132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87132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60024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60024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61284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612840" y="33112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86196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86196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7086600" y="4419720"/>
              <a:ext cx="1100160" cy="728640"/>
              <a:chOff x="7086600" y="4419720"/>
              <a:chExt cx="1100160" cy="728640"/>
            </a:xfrm>
          </p:grpSpPr>
          <p:sp>
            <p:nvSpPr>
              <p:cNvPr id="192" name=""/>
              <p:cNvSpPr/>
              <p:nvPr/>
            </p:nvSpPr>
            <p:spPr>
              <a:xfrm>
                <a:off x="7086600" y="441972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315200" y="464832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2971800" y="3276720"/>
              <a:ext cx="762120" cy="456840"/>
              <a:chOff x="2971800" y="3276720"/>
              <a:chExt cx="762120" cy="456840"/>
            </a:xfrm>
          </p:grpSpPr>
          <p:sp>
            <p:nvSpPr>
              <p:cNvPr id="195" name=""/>
              <p:cNvSpPr/>
              <p:nvPr/>
            </p:nvSpPr>
            <p:spPr>
              <a:xfrm>
                <a:off x="2971800" y="3403800"/>
                <a:ext cx="76212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71800" y="3276720"/>
                <a:ext cx="75888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3089880" y="3306240"/>
                <a:ext cx="523440" cy="190080"/>
                <a:chOff x="3089880" y="3306240"/>
                <a:chExt cx="523440" cy="1900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36096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36096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08988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089880" y="34023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10248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102480" y="330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35160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351600" y="3412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36636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366360" y="331632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09492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94920" y="340740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10752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107520" y="331128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35664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356640" y="341748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>
              <a:off x="4724280" y="37339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4.4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3600" y="3733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4.4.2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命令参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ip route ip_address mask|masklen interface_name|gateway_address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[ preference  &lt;preference_value&gt; | reject | blackhole 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urier New"/>
              </a:rPr>
              <a:t>优先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拒绝路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黑洞路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06:38:35Z</dcterms:created>
  <dc:creator>ccn</dc:creator>
  <dc:description/>
  <dc:language>en-US</dc:language>
  <cp:lastModifiedBy>软件仓库</cp:lastModifiedBy>
  <dcterms:modified xsi:type="dcterms:W3CDTF">2005-05-17T02:34:58Z</dcterms:modified>
  <cp:revision>132</cp:revision>
  <dc:subject/>
  <dc:title>第六章 路由的基本原理</dc:title>
</cp:coreProperties>
</file>