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55B2-A3A4-4C37-A009-40CA85DF1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32F1-2E57-4DBE-84EF-BFE16DFD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5327-8196-4D86-BD56-8A6AA6408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B51C-9052-438C-9E20-0675A87FC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A182-82F5-48B9-BF8F-D927643F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54CA-94CA-4D6F-ABB8-1EAEB3C4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2634-3D22-49E1-BBC5-BD579743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F43B-2132-412A-A227-CA80FCBA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FE3F-1237-4ABA-A8D9-40BF6B0F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1DA9-9D50-4206-844A-0EDE4A12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FA8C-0EE1-48B4-BC6E-9BFB531C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5175-88FE-483B-A65D-97B50334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DAE9-0E01-409E-864C-719C7D2E1F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6084720" cy="616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356000" y="0"/>
            <a:ext cx="4788000" cy="2421000"/>
          </a:xfrm>
          <a:prstGeom prst="wedgeRoundRectCallout">
            <a:avLst>
              <a:gd name="adj1" fmla="val -44861"/>
              <a:gd name="adj2" fmla="val 55180"/>
              <a:gd name="adj3" fmla="val 1666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84720" y="0"/>
            <a:ext cx="518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欢迎光临，二（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）班的小朋友们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88508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4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132000" y="306864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79640" y="1413000"/>
            <a:ext cx="3889440" cy="825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好吃的鸭蛋放在嘴里，但不能吃，这滋味太难受了，狐狸只能用舌头轻轻舔着鸭蛋，解解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他把舌头卷起来，让鸭蛋在上面慢慢地滚来滚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67280" y="2852640"/>
            <a:ext cx="2735280" cy="11912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狐狸玩得高兴，肚子好像也不饿了，他还发明了很多用舌头玩鸭蛋的游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03280" y="450864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5210b"/>
                </a:solidFill>
                <a:latin typeface="Arial"/>
              </a:rPr>
              <a:t>他用舌头</a:t>
            </a:r>
            <a:r>
              <a:rPr b="1" lang="zh-CN" sz="5400" spc="-1" strike="noStrike">
                <a:solidFill>
                  <a:srgbClr val="f5210b"/>
                </a:solidFill>
                <a:latin typeface="Arial"/>
              </a:rPr>
              <a:t>,</a:t>
            </a:r>
            <a:r>
              <a:rPr b="1" lang="zh-CN" sz="5400" spc="-1" strike="noStrike">
                <a:solidFill>
                  <a:srgbClr val="f5210b"/>
                </a:solidFill>
                <a:latin typeface="Arial"/>
              </a:rPr>
              <a:t>（          ）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211640" y="2749680"/>
            <a:ext cx="4932360" cy="459720"/>
          </a:xfrm>
          <a:prstGeom prst="rect">
            <a:avLst/>
          </a:prstGeom>
          <a:solidFill>
            <a:srgbClr val="abd9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有一天，狐狸突然被一个声音惊醒，他连忙把鸭蛋吐出来，蛋上竟然有了裂痕！没多久，一只湿漉漉的小鸭子从里面钻出来。狐狸的美梦成真了！他激动得连话都说不出来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604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50920" y="2708280"/>
            <a:ext cx="856908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他终于可以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059280" y="1628640"/>
            <a:ext cx="5040000" cy="100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没想到，小鸭子忽然朝着狐狸的鼻尖冲过来，叫着：“妈妈，妈妈！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狐狸吓呆了，结结巴巴地说：“我，我不是你的妈妈，我，我，我是男的，只能做爸爸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5300640"/>
            <a:ext cx="4464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爸爸！爸爸！”小鸭子爬上狐狸的鼻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6920" y="2276640"/>
            <a:ext cx="223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56000" y="3429000"/>
            <a:ext cx="38880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爸爸！爸爸！”小鸭子爬上狐狸的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56000" y="4221000"/>
            <a:ext cx="41036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爸爸！爸爸！”小鸭子咬住狐狸的耳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24360" y="6021360"/>
            <a:ext cx="41036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狐狸闭上眼睛，真不知道该怎么办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492360" y="1916280"/>
            <a:ext cx="3095640" cy="30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5210b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？</a:t>
            </a:r>
            <a:endParaRPr b="0" lang="en-US" sz="1800" spc="1" strike="noStrike">
              <a:ln w="0">
                <a:noFill/>
              </a:ln>
              <a:solidFill>
                <a:srgbClr val="f5210b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148360" y="2637000"/>
            <a:ext cx="377964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爸爸，我饿。”小鸭子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我也饿。”狐狸用爪子一把将小鸭子扫进自己的大嘴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35640" y="4575240"/>
            <a:ext cx="460836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鸭子啄着狐狸的舌头，狐狸疼得张大了嘴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鸭子说：“爸爸，以前我在蛋壳里的时候，你天天就是用它摇着我睡觉的，对不对？好舒服哦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4968720" cy="82548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鸭子从狐狸嘴里爬出来，“爸爸，我饿了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狐狸叹着气，从旁边摘了一些野莓给小鸭子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60436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0"/>
            <a:ext cx="471636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鸭子吃得肚皮圆滚滚的，把头钻到狐狸的爪子底下，睡眼朦胧地说：“谢谢你，爸爸，我好爱你，爸爸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6720" y="0"/>
            <a:ext cx="40672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看着小鸭子可爱的睡相，狐狸一边吃着剩下的野莓，一边自言自语：“其实，野莓也挺好吃的，吃久了，感觉比肉还好吃呢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56360" y="2565360"/>
            <a:ext cx="38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野莓怎么会比肉还好吃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244000" y="6237360"/>
            <a:ext cx="664920" cy="431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219640" y="0"/>
            <a:ext cx="3924360" cy="13737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会游泳的狐狸用绳子帮着自己，手拿树叶，陪小鸭子游泳，他们还张嘴大笑，真是滑稽极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他们还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_______       </a:t>
            </a:r>
            <a:br>
              <a:rPr sz="4800"/>
            </a:b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他们还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_______</a:t>
            </a:r>
            <a:br>
              <a:rPr sz="4800"/>
            </a:b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他们还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_______</a:t>
            </a:r>
            <a:br>
              <a:rPr sz="4800"/>
            </a:b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他们还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_______       </a:t>
            </a:r>
            <a:br>
              <a:rPr sz="4800"/>
            </a:b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他们还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_______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700280"/>
            <a:ext cx="91440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可是，本来狐狸是要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____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可现在却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______,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是因为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____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356000" y="1125360"/>
            <a:ext cx="4788000" cy="4597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狐狸想：“少了顿大餐，多了一个儿子，我这只聪明的狐狸怎么干了一件糊涂的事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000" y="2420640"/>
            <a:ext cx="382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你看我多善良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356000" y="790560"/>
            <a:ext cx="428652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因为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74872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梦中，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你把小手伸出来，让它透透气。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梦中，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你把小脚踢出来，让它散散步。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梦中，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你把小屁股钻出来，让它乘乘凉。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梦中，你一个喷嚏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吓得爸爸跳了起来 惊醒了。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看着你的睡相，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爸爸心疼得把你的小手、小脚、小屁股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一个一个藏进暖融融的被窝，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于是，香甜的梦又开始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3.0)">
                                      <p:cBhvr>
                                        <p:cTn id="220" dur="9535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41200" y="259920"/>
            <a:ext cx="620244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爸爸是一棵参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(c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ā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n)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天大树，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我就是他身旁的小树苗。</a:t>
            </a:r>
            <a:br>
              <a:rPr sz="2800"/>
            </a:b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爸爸是广阔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(ku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ò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的天空，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我就是他洒下的雨滴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(d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ī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。</a:t>
            </a:r>
            <a:br>
              <a:rPr sz="2800"/>
            </a:b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爸爸是温暖的太阳，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我就是他身上的光芒。</a:t>
            </a:r>
            <a:br>
              <a:rPr sz="2800"/>
            </a:b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爸爸是蔚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(w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è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i)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蓝的大海，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我是海上漂泊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(b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ó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的小船，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永远在他的心中飘荡。</a:t>
            </a:r>
            <a:br>
              <a:rPr sz="2800"/>
            </a:b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在我生病的时候，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他就是一只啄木鸟，</a:t>
            </a:r>
            <a:br>
              <a:rPr sz="2800"/>
            </a:b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把树洞里的小虫全部吃掉，</a:t>
            </a:r>
            <a:br>
              <a:rPr sz="2800"/>
            </a:br>
            <a:r>
              <a:rPr b="0" lang="zh-CN" sz="2800" spc="-1" strike="noStrike">
                <a:solidFill>
                  <a:srgbClr val="ffff00"/>
                </a:solidFill>
                <a:latin typeface="Arial"/>
              </a:rPr>
              <a:t>他就是我那美好的回忆，</a:t>
            </a:r>
            <a:br>
              <a:rPr sz="2800"/>
            </a:b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我想对他说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爸爸，我爱您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55600" y="549360"/>
            <a:ext cx="180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280" y="1197000"/>
            <a:ext cx="3529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写给爸爸的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53272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3789360"/>
            <a:ext cx="32036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6" dur="197884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900000" y="404640"/>
            <a:ext cx="7417080" cy="180036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会游泳的狐狸用绳子帮着自己，手拿树叶，陪小鸭子游泳，他们还张嘴大笑，真是滑稽极了！这幅画小孩子看了会陪陪笑，可是爸爸，妈妈看了会滚泪——只有他们知道，付出本身即是快乐，这点只有父母对孩子才能无怨无悔地做到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同学们让我们爱我们的爸爸，妈妈吧！是他们抚养我们长大，是他们陪我们玩耍，是他们在我们摔倒的时候安慰我们！让我们像鸭儿子一样甜甜的叫一声爸爸，妈妈吧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53272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1.0)">
                                      <p:cBhvr>
                                        <p:cTn id="240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489564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作业：</a:t>
            </a:r>
            <a:br>
              <a:rPr sz="4400"/>
            </a:b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画一画，写一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76000" y="2204640"/>
            <a:ext cx="45464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《狐狸爸爸的幸福生活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《 鸭儿子的幸福生活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《我的幸福生活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（三选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1557360"/>
            <a:ext cx="47163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我请你们吃大餐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356000" y="0"/>
            <a:ext cx="4788000" cy="5373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9280" y="3716280"/>
            <a:ext cx="36529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788000" y="0"/>
            <a:ext cx="435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狐狸肚子饿了，就到处找东西吃。他来到河边的草丛里，东翻翻，西找找，竟然发现了一个大鸭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0" y="2997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4643280" cy="581400"/>
          </a:xfrm>
          <a:prstGeom prst="rect">
            <a:avLst/>
          </a:prstGeom>
          <a:solidFill>
            <a:srgbClr val="abd9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狐狸一个箭步跑上去抱住鸭蛋，迫不及待地把它放进嘴里，刚要一口咬下去，脑袋里却有个声音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08720" y="404640"/>
            <a:ext cx="3024000" cy="82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你是想吃鸭蛋呢，还是想吃肥嘟嘟的小鸭子呢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627280" y="2637000"/>
            <a:ext cx="46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怎么选择呢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627280" y="333360"/>
            <a:ext cx="532944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于是，狐狸决定把鸭子孵出来，大吃一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他刚一屁股坐到鸭蛋上，就立刻跳起来，“这样会不会把蛋压破了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狐狸灵机一动，想出一个好主意。他在地上挖出一个洞，在洞里铺上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851280" y="0"/>
            <a:ext cx="529272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狐狸把鸭蛋放进塞满草的洞口，前爪和后爪紧紧趴在洞的前，后方，只有软软的肚子轻轻的压在鸭蛋上。这个主意看起来不错——既能给鸭蛋保暖，又不会把它压破。可是，这个姿势就像受苦刑，还不到五分钟，狐狸的四肢就酸的受不了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0"/>
            <a:ext cx="478800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狐狸又想出一个好主意，他捡了一条长长的树皮当绳子，用它把鸭蛋紧紧的绑在肚皮上，狐狸为自己的小聪明感觉得意洋洋的，可没想到，在追兔子的时候，树皮绳子一松，差点把宝贝蛋给摔破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64000" y="189000"/>
            <a:ext cx="3240360" cy="251928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0"/>
            <a:ext cx="4500720" cy="785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狐狸气坏了，他把鸭蛋放进嘴里，心想：“干脆一口吃掉算了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忽然，又一个好主意冒了出来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0"/>
            <a:ext cx="4572000" cy="100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狐狸先用草给自己铺了一个巢，然后学鸭妈妈那样坐在巢里，又开始努力孵蛋，只是这回他没有用自己的肚子，而是把鸭蛋含在了嘴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为嘴里含着鸭蛋，狐狸没法儿追捕小动物，只能摘些身边的野果，野莓来充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他自言自语的说：“唉，我怎么成了一只吃素的狐狸了？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50920" y="2492280"/>
            <a:ext cx="433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419640" y="1341360"/>
            <a:ext cx="906120" cy="138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?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06:50:24Z</dcterms:created>
  <dc:creator>SUN</dc:creator>
  <dc:description/>
  <dc:language>en-US</dc:language>
  <cp:lastModifiedBy>User</cp:lastModifiedBy>
  <dcterms:modified xsi:type="dcterms:W3CDTF">2013-09-13T01:45:18Z</dcterms:modified>
  <cp:revision>16</cp:revision>
  <dc:subject/>
  <dc:title>幻灯片 1</dc:title>
</cp:coreProperties>
</file>