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.png" ContentType="image/png"/>
  <Override PartName="/ppt/media/image71.wmf" ContentType="image/x-wmf"/>
  <Override PartName="/ppt/media/image29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77.wmf" ContentType="image/x-wmf"/>
  <Override PartName="/ppt/media/image65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274175" cy="6173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D56-DC9F-4F22-95CE-F624B554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781344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27200" y="3402000"/>
            <a:ext cx="781344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E89-EB6D-4A1C-B843-3DA43F93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112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7200" y="340200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31120" y="340200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22C-6402-4767-BF2C-6E06C9DD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8880" y="143172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0920" y="143172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27200" y="340200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8880" y="340200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0920" y="3402000"/>
            <a:ext cx="251568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8FC-94DC-4B41-9F82-C2D19CBD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27200" y="1431720"/>
            <a:ext cx="78134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BCD-C2D0-4A49-A964-962EF168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781344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51F-9874-4BE8-977B-2B86B0D9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381276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1120" y="1431720"/>
            <a:ext cx="381276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FEC-659A-4AEE-A03D-4E045FF8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293-0091-40EA-820B-C0AE94C9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18800" y="198360"/>
            <a:ext cx="773748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6FA-F326-4B45-BF03-3FD5AC1E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120" y="1431720"/>
            <a:ext cx="381276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27200" y="340200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237-B991-42EF-9A9F-1C6AA36D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381276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112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31120" y="340200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3E8-B9ED-4AD5-A411-73C8DAC6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720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1120" y="1431720"/>
            <a:ext cx="381276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27200" y="3402000"/>
            <a:ext cx="7813440" cy="179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667-7703-4998-A072-F147CC18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72840" y="560088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87440" y="5600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616440" y="560088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1E87-1C49-43EB-91B8-5978D69AE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27200" y="1431720"/>
            <a:ext cx="7813440" cy="3771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85000"/>
          </a:bodyPr>
          <a:p>
            <a:pPr marL="248040" indent="-248040">
              <a:lnSpc>
                <a:spcPct val="90000"/>
              </a:lnSpc>
              <a:spcBef>
                <a:spcPts val="1874"/>
              </a:spcBef>
              <a:buClr>
                <a:srgbClr val="ff555d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564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3404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9712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196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196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196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04200" y="5956200"/>
            <a:ext cx="1281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ide Reference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0160" y="5956200"/>
            <a:ext cx="6289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fld id="{37A023D6-8453-473A-ACF6-27C050A8F07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53880" y="291960"/>
            <a:ext cx="623880" cy="636840"/>
            <a:chOff x="353880" y="291960"/>
            <a:chExt cx="623880" cy="636840"/>
          </a:xfrm>
        </p:grpSpPr>
        <p:sp>
          <p:nvSpPr>
            <p:cNvPr id="8" name=""/>
            <p:cNvSpPr/>
            <p:nvPr/>
          </p:nvSpPr>
          <p:spPr>
            <a:xfrm>
              <a:off x="379440" y="317520"/>
              <a:ext cx="598320" cy="611280"/>
            </a:xfrm>
            <a:custGeom>
              <a:avLst/>
              <a:gdLst/>
              <a:ahLst/>
              <a:rect l="l" t="t" r="r" b="b"/>
              <a:pathLst>
                <a:path w="377" h="385">
                  <a:moveTo>
                    <a:pt x="0" y="0"/>
                  </a:moveTo>
                  <a:lnTo>
                    <a:pt x="0" y="384"/>
                  </a:lnTo>
                  <a:lnTo>
                    <a:pt x="376" y="20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3880" y="291960"/>
              <a:ext cx="598680" cy="611280"/>
            </a:xfrm>
            <a:custGeom>
              <a:avLst/>
              <a:gdLst/>
              <a:ahLst/>
              <a:rect l="l" t="t" r="r" b="b"/>
              <a:pathLst>
                <a:path w="377" h="385">
                  <a:moveTo>
                    <a:pt x="0" y="0"/>
                  </a:moveTo>
                  <a:lnTo>
                    <a:pt x="0" y="384"/>
                  </a:lnTo>
                  <a:lnTo>
                    <a:pt x="376" y="208"/>
                  </a:lnTo>
                  <a:lnTo>
                    <a:pt x="0" y="0"/>
                  </a:lnTo>
                </a:path>
              </a:pathLst>
            </a:cu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7832880" y="5194440"/>
            <a:ext cx="10792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image" Target="../media/image43.wmf"/><Relationship Id="rId13" Type="http://schemas.openxmlformats.org/officeDocument/2006/relationships/image" Target="../media/image44.wmf"/><Relationship Id="rId14" Type="http://schemas.openxmlformats.org/officeDocument/2006/relationships/image" Target="../media/image45.wmf"/><Relationship Id="rId15" Type="http://schemas.openxmlformats.org/officeDocument/2006/relationships/image" Target="../media/image46.wmf"/><Relationship Id="rId1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image" Target="../media/image62.wmf"/><Relationship Id="rId9" Type="http://schemas.openxmlformats.org/officeDocument/2006/relationships/image" Target="../media/image63.wmf"/><Relationship Id="rId10" Type="http://schemas.openxmlformats.org/officeDocument/2006/relationships/image" Target="../media/image64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Product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0680" y="1935000"/>
            <a:ext cx="8179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0680" y="2860560"/>
            <a:ext cx="807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3200" y="3854520"/>
            <a:ext cx="16941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1040" y="5072040"/>
            <a:ext cx="1099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4480" y="1463760"/>
            <a:ext cx="558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75200" y="3871800"/>
            <a:ext cx="81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76640" y="5089680"/>
            <a:ext cx="1842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 wit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licon 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0320" y="1611360"/>
            <a:ext cx="1305000" cy="81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3800" y="48751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400640" y="4937040"/>
            <a:ext cx="1305000" cy="80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456080" y="3746520"/>
            <a:ext cx="1041480" cy="102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811080" y="2552760"/>
            <a:ext cx="1168560" cy="81288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4308480" y="1103040"/>
            <a:ext cx="1407960" cy="1006920"/>
            <a:chOff x="4308480" y="1103040"/>
            <a:chExt cx="1407960" cy="1006920"/>
          </a:xfrm>
        </p:grpSpPr>
        <p:grpSp>
          <p:nvGrpSpPr>
            <p:cNvPr id="61" name=""/>
            <p:cNvGrpSpPr/>
            <p:nvPr/>
          </p:nvGrpSpPr>
          <p:grpSpPr>
            <a:xfrm>
              <a:off x="4308480" y="1103040"/>
              <a:ext cx="1407960" cy="1006920"/>
              <a:chOff x="4308480" y="1103040"/>
              <a:chExt cx="1407960" cy="1006920"/>
            </a:xfrm>
          </p:grpSpPr>
          <p:sp>
            <p:nvSpPr>
              <p:cNvPr id="62" name=""/>
              <p:cNvSpPr/>
              <p:nvPr/>
            </p:nvSpPr>
            <p:spPr>
              <a:xfrm>
                <a:off x="4502160" y="110952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29240" y="1109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743360" y="11095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881600" y="110952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06880" y="1109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1109520"/>
                <a:ext cx="6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259240" y="11095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84880" y="110952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511960" y="110952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637240" y="1109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502160" y="191124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629240" y="1911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743360" y="191124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881600" y="191124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06880" y="1911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32520" y="1911240"/>
                <a:ext cx="6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259240" y="19112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384880" y="191124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511960" y="191124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37240" y="1911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508640" y="110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508640" y="122868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508640" y="1353960"/>
                <a:ext cx="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508640" y="146988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508640" y="159552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08640" y="172080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508640" y="184788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711760" y="110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711760" y="122868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11760" y="1353960"/>
                <a:ext cx="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11760" y="146988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11760" y="159552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711760" y="172080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711760" y="184788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08480" y="13161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33760" y="13161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548240" y="1316160"/>
                <a:ext cx="7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5320" y="13161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800600" y="13161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927680" y="13161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052960" y="13161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91200" y="131616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16480" y="1316160"/>
                <a:ext cx="4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30960" y="1316160"/>
                <a:ext cx="6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08480" y="21049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433760" y="21049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48240" y="2104920"/>
                <a:ext cx="7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75320" y="21049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800600" y="21049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27680" y="21049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52960" y="21049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191200" y="210492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16480" y="2104920"/>
                <a:ext cx="4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30960" y="2104920"/>
                <a:ext cx="6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14960" y="130968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14960" y="142416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14960" y="154944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14960" y="1674720"/>
                <a:ext cx="0" cy="6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314960" y="180180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14960" y="191628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314960" y="204156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6920" y="130968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06920" y="142416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06920" y="154944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506920" y="1674720"/>
                <a:ext cx="0" cy="6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506920" y="180180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06920" y="191628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506920" y="204156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5500800" y="1263240"/>
                <a:ext cx="554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5580000" y="1193760"/>
                <a:ext cx="4608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5661000" y="1103040"/>
                <a:ext cx="554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4308480" y="2065320"/>
                <a:ext cx="4428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376880" y="1973160"/>
                <a:ext cx="68040" cy="6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468680" y="1904760"/>
                <a:ext cx="4464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308480" y="1263240"/>
                <a:ext cx="572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4387680" y="1193760"/>
                <a:ext cx="4608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4468680" y="1103040"/>
                <a:ext cx="5724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5500800" y="2065320"/>
                <a:ext cx="4428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5568840" y="1973160"/>
                <a:ext cx="68400" cy="6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661000" y="1904760"/>
                <a:ext cx="4464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558320" y="1365120"/>
              <a:ext cx="8542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329000" y="2260440"/>
            <a:ext cx="1511280" cy="1168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861840" y="3556080"/>
            <a:ext cx="1117800" cy="1104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74840" y="2878200"/>
            <a:ext cx="1337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isco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6673680" y="1249200"/>
            <a:ext cx="1546560" cy="7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91240" y="275760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st 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835520" y="3772080"/>
            <a:ext cx="2238480" cy="1136520"/>
            <a:chOff x="4835520" y="3772080"/>
            <a:chExt cx="2238480" cy="1136520"/>
          </a:xfrm>
        </p:grpSpPr>
        <p:sp>
          <p:nvSpPr>
            <p:cNvPr id="324" name=""/>
            <p:cNvSpPr/>
            <p:nvPr/>
          </p:nvSpPr>
          <p:spPr>
            <a:xfrm>
              <a:off x="4842000" y="4106880"/>
              <a:ext cx="1857240" cy="801720"/>
            </a:xfrm>
            <a:prstGeom prst="rect">
              <a:avLst/>
            </a:prstGeom>
            <a:solidFill>
              <a:srgbClr val="49493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35520" y="3772080"/>
              <a:ext cx="2238480" cy="330120"/>
            </a:xfrm>
            <a:custGeom>
              <a:avLst/>
              <a:gdLst/>
              <a:ahLst/>
              <a:rect l="l" t="t" r="r" b="b"/>
              <a:pathLst>
                <a:path w="1410" h="208">
                  <a:moveTo>
                    <a:pt x="0" y="207"/>
                  </a:moveTo>
                  <a:lnTo>
                    <a:pt x="1163" y="207"/>
                  </a:lnTo>
                  <a:lnTo>
                    <a:pt x="1409" y="0"/>
                  </a:lnTo>
                  <a:lnTo>
                    <a:pt x="271" y="0"/>
                  </a:lnTo>
                  <a:lnTo>
                    <a:pt x="0" y="197"/>
                  </a:lnTo>
                </a:path>
              </a:pathLst>
            </a:custGeom>
            <a:solidFill>
              <a:srgbClr val="62624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84840" y="3772080"/>
              <a:ext cx="389160" cy="1126800"/>
            </a:xfrm>
            <a:custGeom>
              <a:avLst/>
              <a:gdLst/>
              <a:ahLst/>
              <a:rect l="l" t="t" r="r" b="b"/>
              <a:pathLst>
                <a:path w="245" h="710">
                  <a:moveTo>
                    <a:pt x="0" y="209"/>
                  </a:moveTo>
                  <a:lnTo>
                    <a:pt x="0" y="709"/>
                  </a:lnTo>
                  <a:lnTo>
                    <a:pt x="244" y="417"/>
                  </a:lnTo>
                  <a:lnTo>
                    <a:pt x="244" y="0"/>
                  </a:lnTo>
                  <a:lnTo>
                    <a:pt x="0" y="209"/>
                  </a:lnTo>
                </a:path>
              </a:pathLst>
            </a:custGeom>
            <a:solidFill>
              <a:srgbClr val="31312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38720" y="4772160"/>
              <a:ext cx="28800" cy="102960"/>
            </a:xfrm>
            <a:prstGeom prst="ellipse">
              <a:avLst/>
            </a:prstGeom>
            <a:solidFill>
              <a:srgbClr val="00ff78"/>
            </a:solidFill>
            <a:ln w="12600">
              <a:solidFill>
                <a:srgbClr val="00f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18280" y="4772160"/>
              <a:ext cx="49320" cy="102960"/>
            </a:xfrm>
            <a:prstGeom prst="ellipse">
              <a:avLst/>
            </a:prstGeom>
            <a:solidFill>
              <a:srgbClr val="00ff78"/>
            </a:solidFill>
            <a:ln w="12600">
              <a:solidFill>
                <a:srgbClr val="00f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59680" y="4772160"/>
              <a:ext cx="48960" cy="102960"/>
            </a:xfrm>
            <a:prstGeom prst="ellipse">
              <a:avLst/>
            </a:prstGeom>
            <a:solidFill>
              <a:srgbClr val="00ff78"/>
            </a:solidFill>
            <a:ln w="12600">
              <a:solidFill>
                <a:srgbClr val="00f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42000" y="4176720"/>
              <a:ext cx="1731960" cy="69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00880" y="4170240"/>
              <a:ext cx="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8480" y="4170240"/>
              <a:ext cx="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6920" y="4170240"/>
              <a:ext cx="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4835520" y="4765680"/>
              <a:ext cx="16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68720" y="4638600"/>
              <a:ext cx="4788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08680" y="4638600"/>
              <a:ext cx="2844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13440" y="4638600"/>
              <a:ext cx="2844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33960" y="4638600"/>
              <a:ext cx="2700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73560" y="4638600"/>
              <a:ext cx="11268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76880" y="4638600"/>
              <a:ext cx="3024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19720" y="4638600"/>
              <a:ext cx="6660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76960" y="4638600"/>
              <a:ext cx="5220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42120" y="4638600"/>
              <a:ext cx="12672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60920" y="4638600"/>
              <a:ext cx="3168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46600" y="4638600"/>
              <a:ext cx="4608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4760" y="4638600"/>
              <a:ext cx="28800" cy="8892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62600" y="4614840"/>
              <a:ext cx="3960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02200" y="4614840"/>
              <a:ext cx="2052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06960" y="4614840"/>
              <a:ext cx="20520" cy="17640"/>
            </a:xfrm>
            <a:prstGeom prst="ellips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27480" y="4614840"/>
              <a:ext cx="2088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67440" y="4614840"/>
              <a:ext cx="10296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70400" y="4614840"/>
              <a:ext cx="4284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13240" y="4614840"/>
              <a:ext cx="5724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70480" y="4614840"/>
              <a:ext cx="4464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35720" y="4614840"/>
              <a:ext cx="1908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54800" y="4614840"/>
              <a:ext cx="2052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78640" y="4614840"/>
              <a:ext cx="2052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78640" y="4614840"/>
              <a:ext cx="20520" cy="176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35520" y="4548240"/>
              <a:ext cx="16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4968720" y="4440240"/>
              <a:ext cx="744840" cy="54000"/>
              <a:chOff x="4968720" y="4440240"/>
              <a:chExt cx="744840" cy="54000"/>
            </a:xfrm>
          </p:grpSpPr>
          <p:sp>
            <p:nvSpPr>
              <p:cNvPr id="361" name=""/>
              <p:cNvSpPr/>
              <p:nvPr/>
            </p:nvSpPr>
            <p:spPr>
              <a:xfrm>
                <a:off x="4968720" y="4440240"/>
                <a:ext cx="4788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08680" y="4440240"/>
                <a:ext cx="2844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13440" y="4440240"/>
                <a:ext cx="2844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133960" y="4440240"/>
                <a:ext cx="2700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173560" y="4440240"/>
                <a:ext cx="11268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276880" y="4440240"/>
                <a:ext cx="3024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19720" y="4440240"/>
                <a:ext cx="6660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376960" y="4440240"/>
                <a:ext cx="5220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442120" y="4440240"/>
                <a:ext cx="12672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560920" y="4440240"/>
                <a:ext cx="3168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646600" y="4440240"/>
                <a:ext cx="4608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684760" y="4440240"/>
                <a:ext cx="28800" cy="5400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4962600" y="4387680"/>
              <a:ext cx="3960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02200" y="4387680"/>
              <a:ext cx="2052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06960" y="4387680"/>
              <a:ext cx="2052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27480" y="4387680"/>
              <a:ext cx="2088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7440" y="4387680"/>
              <a:ext cx="102960" cy="28800"/>
            </a:xfrm>
            <a:prstGeom prst="ellips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70400" y="4387680"/>
              <a:ext cx="42840" cy="28800"/>
            </a:xfrm>
            <a:prstGeom prst="ellips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13240" y="4387680"/>
              <a:ext cx="57240" cy="28800"/>
            </a:xfrm>
            <a:prstGeom prst="ellips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70480" y="4387680"/>
              <a:ext cx="4464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35720" y="4387680"/>
              <a:ext cx="1908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54800" y="4387680"/>
              <a:ext cx="2052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78640" y="4387680"/>
              <a:ext cx="2052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78640" y="4387680"/>
              <a:ext cx="20520" cy="2880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35520" y="4387680"/>
              <a:ext cx="16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968720" y="4287960"/>
              <a:ext cx="744840" cy="42840"/>
              <a:chOff x="4968720" y="4287960"/>
              <a:chExt cx="744840" cy="42840"/>
            </a:xfrm>
          </p:grpSpPr>
          <p:sp>
            <p:nvSpPr>
              <p:cNvPr id="387" name=""/>
              <p:cNvSpPr/>
              <p:nvPr/>
            </p:nvSpPr>
            <p:spPr>
              <a:xfrm>
                <a:off x="4968720" y="4287960"/>
                <a:ext cx="4788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008680" y="4287960"/>
                <a:ext cx="2844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113440" y="4287960"/>
                <a:ext cx="2844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133960" y="4287960"/>
                <a:ext cx="2700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173560" y="4287960"/>
                <a:ext cx="11268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276880" y="4287960"/>
                <a:ext cx="3024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19720" y="4287960"/>
                <a:ext cx="6660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76960" y="4287960"/>
                <a:ext cx="5220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442120" y="4287960"/>
                <a:ext cx="12672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60920" y="4287960"/>
                <a:ext cx="3168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46600" y="4287960"/>
                <a:ext cx="4608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84760" y="4287960"/>
                <a:ext cx="28800" cy="42840"/>
              </a:xfrm>
              <a:prstGeom prst="rect">
                <a:avLst/>
              </a:prstGeom>
              <a:solidFill>
                <a:srgbClr val="a5a5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4962600" y="4170240"/>
              <a:ext cx="3960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02200" y="4170240"/>
              <a:ext cx="2052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06960" y="4170240"/>
              <a:ext cx="2052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27480" y="4170240"/>
              <a:ext cx="2088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67440" y="4170240"/>
              <a:ext cx="10296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70400" y="4170240"/>
              <a:ext cx="4284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13240" y="4170240"/>
              <a:ext cx="57240" cy="96840"/>
            </a:xfrm>
            <a:prstGeom prst="ellipse">
              <a:avLst/>
            </a:pr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70480" y="4170240"/>
              <a:ext cx="4464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35720" y="4170240"/>
              <a:ext cx="1908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54800" y="4170240"/>
              <a:ext cx="2052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78640" y="4170240"/>
              <a:ext cx="2052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78640" y="4170240"/>
              <a:ext cx="20520" cy="9684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35520" y="4170240"/>
              <a:ext cx="166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84960" y="4210200"/>
              <a:ext cx="88920" cy="12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84960" y="4394160"/>
              <a:ext cx="8892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84960" y="4638600"/>
              <a:ext cx="8892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83040" y="4210200"/>
              <a:ext cx="73080" cy="120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83040" y="4394160"/>
              <a:ext cx="73080" cy="100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83040" y="4638600"/>
              <a:ext cx="7308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08680" y="4772160"/>
              <a:ext cx="28440" cy="10296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34040" y="4772160"/>
              <a:ext cx="52200" cy="102960"/>
            </a:xfrm>
            <a:prstGeom prst="rect">
              <a:avLst/>
            </a:prstGeom>
            <a:solidFill>
              <a:srgbClr val="a5a5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06960" y="4765680"/>
              <a:ext cx="20520" cy="9828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0400" y="4765680"/>
              <a:ext cx="42840" cy="98280"/>
            </a:xfrm>
            <a:prstGeom prst="ellipse">
              <a:avLst/>
            </a:prstGeom>
            <a:solidFill>
              <a:srgbClr val="00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5306040" y="496728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st 5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128600" y="2019240"/>
            <a:ext cx="1981440" cy="685800"/>
            <a:chOff x="1128600" y="2019240"/>
            <a:chExt cx="1981440" cy="685800"/>
          </a:xfrm>
        </p:grpSpPr>
        <p:grpSp>
          <p:nvGrpSpPr>
            <p:cNvPr id="424" name=""/>
            <p:cNvGrpSpPr/>
            <p:nvPr/>
          </p:nvGrpSpPr>
          <p:grpSpPr>
            <a:xfrm>
              <a:off x="1128600" y="2019240"/>
              <a:ext cx="1981440" cy="685800"/>
              <a:chOff x="1128600" y="2019240"/>
              <a:chExt cx="1981440" cy="685800"/>
            </a:xfrm>
          </p:grpSpPr>
          <p:pic>
            <p:nvPicPr>
              <p:cNvPr id="42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8600" y="2019240"/>
                <a:ext cx="198144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>
                <a:off x="1260360" y="2247840"/>
                <a:ext cx="66672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27" name="" descr=""/>
            <p:cNvPicPr/>
            <p:nvPr/>
          </p:nvPicPr>
          <p:blipFill>
            <a:blip r:embed="rId2"/>
            <a:stretch/>
          </p:blipFill>
          <p:spPr>
            <a:xfrm>
              <a:off x="1165320" y="2230560"/>
              <a:ext cx="374400" cy="1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137240" y="2406600"/>
              <a:ext cx="9226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5240"/>
                  <a:tab algn="l" pos="330120"/>
                  <a:tab algn="l" pos="495360"/>
                  <a:tab algn="l" pos="660240"/>
                  <a:tab algn="l" pos="825480"/>
                  <a:tab algn="l" pos="990720"/>
                  <a:tab algn="l" pos="1155600"/>
                  <a:tab algn="l" pos="1320840"/>
                  <a:tab algn="l" pos="1486080"/>
                  <a:tab algn="l" pos="1650960"/>
                  <a:tab algn="l" pos="1816200"/>
                  <a:tab algn="l" pos="1981080"/>
                  <a:tab algn="l" pos="2146320"/>
                  <a:tab algn="l" pos="2311560"/>
                  <a:tab algn="l" pos="2476440"/>
                  <a:tab algn="l" pos="2641680"/>
                  <a:tab algn="l" pos="2806560"/>
                  <a:tab algn="l" pos="2971800"/>
                  <a:tab algn="l" pos="3137040"/>
                  <a:tab algn="l" pos="330192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talyst  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353960" y="3787920"/>
            <a:ext cx="1673280" cy="511200"/>
            <a:chOff x="1353960" y="3787920"/>
            <a:chExt cx="1673280" cy="511200"/>
          </a:xfrm>
        </p:grpSpPr>
        <p:grpSp>
          <p:nvGrpSpPr>
            <p:cNvPr id="430" name=""/>
            <p:cNvGrpSpPr/>
            <p:nvPr/>
          </p:nvGrpSpPr>
          <p:grpSpPr>
            <a:xfrm>
              <a:off x="1353960" y="3787920"/>
              <a:ext cx="1673280" cy="511200"/>
              <a:chOff x="1353960" y="3787920"/>
              <a:chExt cx="1673280" cy="511200"/>
            </a:xfrm>
          </p:grpSpPr>
          <p:sp>
            <p:nvSpPr>
              <p:cNvPr id="431" name=""/>
              <p:cNvSpPr/>
              <p:nvPr/>
            </p:nvSpPr>
            <p:spPr>
              <a:xfrm>
                <a:off x="1360440" y="3794040"/>
                <a:ext cx="1666800" cy="505080"/>
              </a:xfrm>
              <a:prstGeom prst="rect">
                <a:avLst/>
              </a:prstGeom>
              <a:solidFill>
                <a:srgbClr val="485f62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079720" y="3787920"/>
                <a:ext cx="0" cy="49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353960" y="4059360"/>
                <a:ext cx="725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79720" y="386064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079720" y="391968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79720" y="399096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79720" y="405936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79720" y="412416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079720" y="418320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79720" y="423216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392120" y="3860640"/>
                <a:ext cx="141480" cy="66960"/>
              </a:xfrm>
              <a:custGeom>
                <a:avLst/>
                <a:gdLst/>
                <a:ahLst/>
                <a:rect l="l" t="t" r="r" b="b"/>
                <a:pathLst>
                  <a:path w="89" h="42">
                    <a:moveTo>
                      <a:pt x="0" y="41"/>
                    </a:moveTo>
                    <a:lnTo>
                      <a:pt x="88" y="41"/>
                    </a:lnTo>
                    <a:lnTo>
                      <a:pt x="66" y="0"/>
                    </a:lnTo>
                    <a:lnTo>
                      <a:pt x="66" y="27"/>
                    </a:lnTo>
                    <a:lnTo>
                      <a:pt x="33" y="27"/>
                    </a:lnTo>
                    <a:lnTo>
                      <a:pt x="22" y="14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2a35"/>
              </a:solidFill>
              <a:ln cap="rnd" w="12600">
                <a:solidFill>
                  <a:srgbClr val="ff2a3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538280" y="413064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611360" y="413064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646280" y="4130640"/>
                <a:ext cx="4140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700280" y="4130640"/>
                <a:ext cx="5868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71560" y="4130640"/>
                <a:ext cx="3816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822320" y="4130640"/>
                <a:ext cx="3816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911240" y="413064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963800" y="413064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998720" y="4130640"/>
                <a:ext cx="5724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38280" y="422280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611360" y="422280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646280" y="4222800"/>
                <a:ext cx="4140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700280" y="4222800"/>
                <a:ext cx="5868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771560" y="4222800"/>
                <a:ext cx="3816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822320" y="4222800"/>
                <a:ext cx="3816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911240" y="422280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63800" y="4222800"/>
                <a:ext cx="2232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998720" y="4222800"/>
                <a:ext cx="57240" cy="30240"/>
              </a:xfrm>
              <a:prstGeom prst="rect">
                <a:avLst/>
              </a:prstGeom>
              <a:solidFill>
                <a:srgbClr val="ffffd5"/>
              </a:solidFill>
              <a:ln w="12600">
                <a:solidFill>
                  <a:srgbClr val="00ff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1447560" y="3798720"/>
              <a:ext cx="834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Catalyst 1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419840" y="4433760"/>
            <a:ext cx="164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st 1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890720" y="952560"/>
            <a:ext cx="685800" cy="342360"/>
            <a:chOff x="1890720" y="952560"/>
            <a:chExt cx="685800" cy="342360"/>
          </a:xfrm>
        </p:grpSpPr>
        <p:grpSp>
          <p:nvGrpSpPr>
            <p:cNvPr id="463" name=""/>
            <p:cNvGrpSpPr/>
            <p:nvPr/>
          </p:nvGrpSpPr>
          <p:grpSpPr>
            <a:xfrm>
              <a:off x="1890720" y="952560"/>
              <a:ext cx="685800" cy="304920"/>
              <a:chOff x="1890720" y="952560"/>
              <a:chExt cx="685800" cy="304920"/>
            </a:xfrm>
          </p:grpSpPr>
          <p:sp>
            <p:nvSpPr>
              <p:cNvPr id="464" name=""/>
              <p:cNvSpPr/>
              <p:nvPr/>
            </p:nvSpPr>
            <p:spPr>
              <a:xfrm>
                <a:off x="1986120" y="95400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046240" y="9540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103480" y="954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71880" y="95400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230560" y="95400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292480" y="95400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352600" y="95400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416320" y="95400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476440" y="95400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536920" y="95400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986120" y="119700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046240" y="11970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103480" y="1197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171880" y="119700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230560" y="119700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92480" y="119700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352600" y="119700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416320" y="119700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476440" y="119700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536920" y="119700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987560" y="952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87560" y="99072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87560" y="102888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87560" y="1063800"/>
                <a:ext cx="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87560" y="110160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87560" y="113832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987560" y="1177920"/>
                <a:ext cx="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575080" y="952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575080" y="99072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575080" y="102888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575080" y="1063800"/>
                <a:ext cx="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575080" y="110160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575080" y="113832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575080" y="1177920"/>
                <a:ext cx="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90720" y="101772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951200" y="101772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08080" y="1017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0000" y="101772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30480" y="101772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192400" y="101772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252520" y="101772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320920" y="101772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379600" y="101772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436840" y="101772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890720" y="125568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51200" y="125568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008080" y="1255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070000" y="125568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130480" y="125568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192400" y="1255680"/>
                <a:ext cx="3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252520" y="125568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320920" y="125568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379600" y="125568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436840" y="1255680"/>
                <a:ext cx="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893960" y="101448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893960" y="104940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893960" y="108756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93960" y="112536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893960" y="1163520"/>
                <a:ext cx="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893960" y="119844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3960" y="123660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475000" y="101448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75000" y="104940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475000" y="108756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475000" y="112536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475000" y="1163520"/>
                <a:ext cx="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475000" y="119844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475000" y="123660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2471760" y="999720"/>
                <a:ext cx="2700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2509920" y="979200"/>
                <a:ext cx="22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549520" y="952560"/>
                <a:ext cx="2700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1890720" y="1244520"/>
                <a:ext cx="22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1922400" y="1215720"/>
                <a:ext cx="3492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1969920" y="1195200"/>
                <a:ext cx="208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1890720" y="999720"/>
                <a:ext cx="2844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1930320" y="979200"/>
                <a:ext cx="20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1969920" y="952560"/>
                <a:ext cx="2556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2471760" y="1244520"/>
                <a:ext cx="2232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2505240" y="1215720"/>
                <a:ext cx="3168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2549520" y="1195200"/>
                <a:ext cx="2232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1973520" y="968400"/>
              <a:ext cx="5374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5427720" y="1730520"/>
            <a:ext cx="1120680" cy="11858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648320" y="1982880"/>
            <a:ext cx="78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75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o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04040" y="2222640"/>
            <a:ext cx="2799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lyst Workgroup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03680" y="3289320"/>
            <a:ext cx="2517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DI/FDDI Concen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02600" y="4643280"/>
            <a:ext cx="2079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group 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45440" y="2489040"/>
            <a:ext cx="12351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Rout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3600" y="4184640"/>
            <a:ext cx="1489320" cy="1074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900760" y="2116080"/>
            <a:ext cx="1430280" cy="1428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345440" y="3708360"/>
            <a:ext cx="147960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Exten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isco 1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849240" y="2120760"/>
            <a:ext cx="1765440" cy="863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811080" y="3073320"/>
            <a:ext cx="1841760" cy="927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838840" y="3621240"/>
            <a:ext cx="1222200" cy="1190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5472000" y="4965840"/>
            <a:ext cx="1892520" cy="723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345440" y="5156280"/>
            <a:ext cx="1479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sce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671400" y="5346720"/>
            <a:ext cx="1968480" cy="660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801160" y="5557680"/>
            <a:ext cx="898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5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45440" y="1346040"/>
            <a:ext cx="123516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licon Switch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1179360" y="990720"/>
            <a:ext cx="1257480" cy="977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02240" y="1308240"/>
            <a:ext cx="20584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6183360" y="787320"/>
            <a:ext cx="749160" cy="381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351560" y="736560"/>
            <a:ext cx="16257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04200" y="5956200"/>
            <a:ext cx="1281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ide Reference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731080" y="5956200"/>
            <a:ext cx="222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53880" y="291960"/>
            <a:ext cx="623880" cy="636840"/>
            <a:chOff x="353880" y="291960"/>
            <a:chExt cx="623880" cy="636840"/>
          </a:xfrm>
        </p:grpSpPr>
        <p:sp>
          <p:nvSpPr>
            <p:cNvPr id="170" name=""/>
            <p:cNvSpPr/>
            <p:nvPr/>
          </p:nvSpPr>
          <p:spPr>
            <a:xfrm>
              <a:off x="379440" y="317520"/>
              <a:ext cx="598320" cy="611280"/>
            </a:xfrm>
            <a:custGeom>
              <a:avLst/>
              <a:gdLst/>
              <a:ahLst/>
              <a:rect l="l" t="t" r="r" b="b"/>
              <a:pathLst>
                <a:path w="377" h="385">
                  <a:moveTo>
                    <a:pt x="0" y="0"/>
                  </a:moveTo>
                  <a:lnTo>
                    <a:pt x="0" y="384"/>
                  </a:lnTo>
                  <a:lnTo>
                    <a:pt x="376" y="20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3880" y="291960"/>
              <a:ext cx="598680" cy="611280"/>
            </a:xfrm>
            <a:custGeom>
              <a:avLst/>
              <a:gdLst/>
              <a:ahLst/>
              <a:rect l="l" t="t" r="r" b="b"/>
              <a:pathLst>
                <a:path w="377" h="385">
                  <a:moveTo>
                    <a:pt x="0" y="0"/>
                  </a:moveTo>
                  <a:lnTo>
                    <a:pt x="0" y="384"/>
                  </a:lnTo>
                  <a:lnTo>
                    <a:pt x="376" y="208"/>
                  </a:lnTo>
                  <a:lnTo>
                    <a:pt x="0" y="0"/>
                  </a:lnTo>
                </a:path>
              </a:pathLst>
            </a:cu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6132600" y="1319040"/>
            <a:ext cx="7873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BM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68680" y="3247920"/>
            <a:ext cx="133812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nt End Processor (FE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73800" y="4896000"/>
            <a:ext cx="1549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 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65880" y="2041560"/>
            <a:ext cx="117792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uster controller/31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91920" y="2620800"/>
            <a:ext cx="1179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47640" y="4729320"/>
            <a:ext cx="1179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fra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F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43040" y="1743120"/>
            <a:ext cx="2884320" cy="1406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49280" y="3246480"/>
            <a:ext cx="1052640" cy="960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121360" y="3336840"/>
            <a:ext cx="2884320" cy="1395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1415880" y="4622760"/>
            <a:ext cx="930600" cy="984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075360" y="2079720"/>
            <a:ext cx="9018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N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8280" y="3489480"/>
            <a:ext cx="141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 clo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5720" y="3357720"/>
            <a:ext cx="14367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en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81600" y="1814400"/>
            <a:ext cx="6166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84360" y="1521000"/>
            <a:ext cx="1166760" cy="571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709640" y="2394000"/>
            <a:ext cx="790560" cy="584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092240" y="3160800"/>
            <a:ext cx="2025720" cy="1245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281240" y="4503600"/>
            <a:ext cx="1670040" cy="1474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5143680" y="4503600"/>
            <a:ext cx="1682640" cy="1474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5292720" y="1508040"/>
            <a:ext cx="1305000" cy="1074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5345280" y="3200400"/>
            <a:ext cx="1143000" cy="74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iscellanceous Icons/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32560" y="1290600"/>
            <a:ext cx="11944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33640" y="2214720"/>
            <a:ext cx="1290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57320" y="3378240"/>
            <a:ext cx="10450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into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32200" y="4519440"/>
            <a:ext cx="909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0120" y="2363760"/>
            <a:ext cx="1256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er pri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99400" y="1609560"/>
            <a:ext cx="1060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02280" y="5205240"/>
            <a:ext cx="1190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 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2280" y="3222720"/>
            <a:ext cx="11462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iona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2280" y="4519440"/>
            <a:ext cx="787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1920" y="4021200"/>
            <a:ext cx="11530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m 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20080" y="3187800"/>
            <a:ext cx="10126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inal 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205160" y="1422360"/>
            <a:ext cx="606600" cy="731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130640" y="3178080"/>
            <a:ext cx="790560" cy="547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948120" y="3971880"/>
            <a:ext cx="1144440" cy="434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119480" y="4435560"/>
            <a:ext cx="870120" cy="501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4010040" y="5006880"/>
            <a:ext cx="1065240" cy="9478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874800" y="1895400"/>
            <a:ext cx="1041480" cy="1050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919080" y="932040"/>
            <a:ext cx="1123920" cy="947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901800" y="3030480"/>
            <a:ext cx="1085760" cy="1028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835200" y="4172040"/>
            <a:ext cx="1085760" cy="868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3957480" y="2279520"/>
            <a:ext cx="1159200" cy="711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1"/>
          <a:stretch/>
        </p:blipFill>
        <p:spPr>
          <a:xfrm>
            <a:off x="7116840" y="19494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7232760" y="2606760"/>
            <a:ext cx="50472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3"/>
          <a:stretch/>
        </p:blipFill>
        <p:spPr>
          <a:xfrm>
            <a:off x="7221600" y="3429000"/>
            <a:ext cx="51588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4"/>
          <a:stretch/>
        </p:blipFill>
        <p:spPr>
          <a:xfrm>
            <a:off x="7221600" y="4327560"/>
            <a:ext cx="755640" cy="552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5"/>
          <a:stretch/>
        </p:blipFill>
        <p:spPr>
          <a:xfrm>
            <a:off x="874800" y="5194440"/>
            <a:ext cx="1028520" cy="8888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033640" y="5281560"/>
            <a:ext cx="7570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cellaneous Icons/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53480" y="4992840"/>
            <a:ext cx="740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Alliant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(48-9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89120" y="3822840"/>
            <a:ext cx="1089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vex (55-7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22600" y="2809800"/>
            <a:ext cx="1074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jitsu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38800" y="1805040"/>
            <a:ext cx="759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tac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47760" y="1906560"/>
            <a:ext cx="987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C SX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52480" y="5027760"/>
            <a:ext cx="898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Siemens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S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7760" y="3278160"/>
            <a:ext cx="36068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nking machines?connection 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49960" y="4805280"/>
            <a:ext cx="8636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Ultra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抯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281240" y="1560600"/>
            <a:ext cx="1326960" cy="743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71440" y="2611440"/>
            <a:ext cx="1373400" cy="903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239840" y="3686040"/>
            <a:ext cx="1236600" cy="8683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027320" y="1565280"/>
            <a:ext cx="1683000" cy="9604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4187880" y="2846520"/>
            <a:ext cx="1225440" cy="1290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4010040" y="4840200"/>
            <a:ext cx="1328760" cy="892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6477120" y="4411800"/>
            <a:ext cx="687240" cy="1314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1268280" y="4759200"/>
            <a:ext cx="1067040" cy="8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cellaneous Icons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61760" y="2735280"/>
            <a:ext cx="11912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V 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61400" y="1809720"/>
            <a:ext cx="784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38280" y="2257560"/>
            <a:ext cx="964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61400" y="3843360"/>
            <a:ext cx="9428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61400" y="5111640"/>
            <a:ext cx="6379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549440" y="1635120"/>
            <a:ext cx="893880" cy="615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601640" y="2503440"/>
            <a:ext cx="835200" cy="936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884760" y="2874960"/>
            <a:ext cx="1671480" cy="1050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681200" y="4629240"/>
            <a:ext cx="617400" cy="10285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3981600" y="1312920"/>
            <a:ext cx="1476360" cy="895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1417680" y="3589200"/>
            <a:ext cx="1098360" cy="78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3630600" y="4762440"/>
            <a:ext cx="774720" cy="901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250520" y="5013360"/>
            <a:ext cx="1549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comm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155000" y="898560"/>
            <a:ext cx="1063440" cy="1466640"/>
            <a:chOff x="7155000" y="898560"/>
            <a:chExt cx="1063440" cy="1466640"/>
          </a:xfrm>
        </p:grpSpPr>
        <p:pic>
          <p:nvPicPr>
            <p:cNvPr id="255" name="" descr=""/>
            <p:cNvPicPr/>
            <p:nvPr/>
          </p:nvPicPr>
          <p:blipFill>
            <a:blip r:embed="rId8"/>
            <a:stretch/>
          </p:blipFill>
          <p:spPr>
            <a:xfrm>
              <a:off x="7564320" y="1049400"/>
              <a:ext cx="6541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9"/>
            <a:stretch/>
          </p:blipFill>
          <p:spPr>
            <a:xfrm>
              <a:off x="7155000" y="898560"/>
              <a:ext cx="876240" cy="14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/>
          <p:cNvSpPr/>
          <p:nvPr/>
        </p:nvSpPr>
        <p:spPr>
          <a:xfrm>
            <a:off x="7220520" y="2486160"/>
            <a:ext cx="10555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6665760" y="3276720"/>
            <a:ext cx="1206720" cy="1803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843320" y="4010040"/>
            <a:ext cx="920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a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887480" y="3784680"/>
            <a:ext cx="1555920" cy="709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62" name=""/>
          <p:cNvGrpSpPr/>
          <p:nvPr/>
        </p:nvGrpSpPr>
        <p:grpSpPr>
          <a:xfrm>
            <a:off x="1905120" y="4669920"/>
            <a:ext cx="1498320" cy="834120"/>
            <a:chOff x="1905120" y="4669920"/>
            <a:chExt cx="1498320" cy="834120"/>
          </a:xfrm>
        </p:grpSpPr>
        <p:sp>
          <p:nvSpPr>
            <p:cNvPr id="263" name=""/>
            <p:cNvSpPr/>
            <p:nvPr/>
          </p:nvSpPr>
          <p:spPr>
            <a:xfrm>
              <a:off x="1905120" y="4935600"/>
              <a:ext cx="1428480" cy="568440"/>
            </a:xfrm>
            <a:prstGeom prst="ellipse">
              <a:avLst/>
            </a:prstGeom>
            <a:solidFill>
              <a:srgbClr val="ffffaa"/>
            </a:solidFill>
            <a:ln w="25560">
              <a:solidFill>
                <a:srgbClr val="ff2a35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73160" y="4992840"/>
              <a:ext cx="1303560" cy="453960"/>
            </a:xfrm>
            <a:prstGeom prst="ellipse">
              <a:avLst/>
            </a:prstGeom>
            <a:noFill/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94560" y="5003640"/>
              <a:ext cx="93384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DDI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ual 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117960" y="4716360"/>
              <a:ext cx="285480" cy="30960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025800" y="4669920"/>
              <a:ext cx="342720" cy="36684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332240" y="4010040"/>
            <a:ext cx="575640" cy="1425600"/>
            <a:chOff x="4332240" y="4010040"/>
            <a:chExt cx="575640" cy="1425600"/>
          </a:xfrm>
        </p:grpSpPr>
        <p:sp>
          <p:nvSpPr>
            <p:cNvPr id="269" name=""/>
            <p:cNvSpPr/>
            <p:nvPr/>
          </p:nvSpPr>
          <p:spPr>
            <a:xfrm>
              <a:off x="4332240" y="4010040"/>
              <a:ext cx="569880" cy="1425600"/>
            </a:xfrm>
            <a:prstGeom prst="ellipse">
              <a:avLst/>
            </a:prstGeom>
            <a:solidFill>
              <a:srgbClr val="ffffaa"/>
            </a:solidFill>
            <a:ln w="25560">
              <a:solidFill>
                <a:srgbClr val="ff2a35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89480" y="4067280"/>
              <a:ext cx="455400" cy="1299960"/>
            </a:xfrm>
            <a:prstGeom prst="ellipse">
              <a:avLst/>
            </a:prstGeom>
            <a:noFill/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58160" y="4451400"/>
              <a:ext cx="5497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DDI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u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294160" y="3780000"/>
            <a:ext cx="754200" cy="1677960"/>
            <a:chOff x="5294160" y="3780000"/>
            <a:chExt cx="754200" cy="1677960"/>
          </a:xfrm>
        </p:grpSpPr>
        <p:grpSp>
          <p:nvGrpSpPr>
            <p:cNvPr id="273" name=""/>
            <p:cNvGrpSpPr/>
            <p:nvPr/>
          </p:nvGrpSpPr>
          <p:grpSpPr>
            <a:xfrm>
              <a:off x="5294160" y="4032360"/>
              <a:ext cx="570240" cy="1425600"/>
              <a:chOff x="5294160" y="4032360"/>
              <a:chExt cx="570240" cy="1425600"/>
            </a:xfrm>
          </p:grpSpPr>
          <p:sp>
            <p:nvSpPr>
              <p:cNvPr id="274" name=""/>
              <p:cNvSpPr/>
              <p:nvPr/>
            </p:nvSpPr>
            <p:spPr>
              <a:xfrm>
                <a:off x="5294160" y="4032360"/>
                <a:ext cx="570240" cy="1425600"/>
              </a:xfrm>
              <a:prstGeom prst="ellipse">
                <a:avLst/>
              </a:prstGeom>
              <a:solidFill>
                <a:srgbClr val="ffffaa"/>
              </a:solidFill>
              <a:ln w="25560">
                <a:solidFill>
                  <a:srgbClr val="ff2a35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51400" y="4089240"/>
                <a:ext cx="455760" cy="1300320"/>
              </a:xfrm>
              <a:prstGeom prst="ellipse">
                <a:avLst/>
              </a:prstGeom>
              <a:noFill/>
              <a:ln w="25560">
                <a:solidFill>
                  <a:srgbClr val="ff2a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18280" y="4475160"/>
                <a:ext cx="531360" cy="67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DD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ual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Rin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V="1">
              <a:off x="5738760" y="3825720"/>
              <a:ext cx="309600" cy="33048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670720" y="3780000"/>
              <a:ext cx="342720" cy="36504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365720" y="2825640"/>
            <a:ext cx="2139840" cy="90720"/>
            <a:chOff x="4365720" y="2825640"/>
            <a:chExt cx="2139840" cy="90720"/>
          </a:xfrm>
        </p:grpSpPr>
        <p:sp>
          <p:nvSpPr>
            <p:cNvPr id="280" name=""/>
            <p:cNvSpPr/>
            <p:nvPr/>
          </p:nvSpPr>
          <p:spPr>
            <a:xfrm>
              <a:off x="4365720" y="2836800"/>
              <a:ext cx="10296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2000" y="283680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76840" y="2836800"/>
              <a:ext cx="10296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83120" y="283680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89400" y="283680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96040" y="2836800"/>
              <a:ext cx="10296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72280" y="2916360"/>
              <a:ext cx="10296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78560" y="2916360"/>
              <a:ext cx="10296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84840" y="291636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91120" y="291636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97760" y="2916360"/>
              <a:ext cx="1015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02240" y="2916360"/>
              <a:ext cx="103320" cy="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371920" y="2825640"/>
              <a:ext cx="137880" cy="9072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4354560" y="2241720"/>
            <a:ext cx="2301840" cy="71280"/>
          </a:xfrm>
          <a:custGeom>
            <a:avLst/>
            <a:gdLst/>
            <a:ahLst/>
            <a:rect l="l" t="t" r="r" b="b"/>
            <a:pathLst>
              <a:path w="1450" h="45">
                <a:moveTo>
                  <a:pt x="0" y="0"/>
                </a:moveTo>
                <a:lnTo>
                  <a:pt x="743" y="0"/>
                </a:lnTo>
                <a:lnTo>
                  <a:pt x="663" y="44"/>
                </a:lnTo>
                <a:lnTo>
                  <a:pt x="1449" y="44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19640" y="1670040"/>
            <a:ext cx="2357280" cy="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5640" y="1285920"/>
            <a:ext cx="1459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erne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18480" y="1925640"/>
            <a:ext cx="11912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ial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14200" y="2657520"/>
            <a:ext cx="22352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uit-Switched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05400" y="3613320"/>
            <a:ext cx="12567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DDI 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973160" y="1562040"/>
            <a:ext cx="858960" cy="846360"/>
          </a:xfrm>
          <a:prstGeom prst="rect">
            <a:avLst/>
          </a:prstGeom>
          <a:ln w="0">
            <a:noFill/>
          </a:ln>
        </p:spPr>
      </p:pic>
      <p:grpSp>
        <p:nvGrpSpPr>
          <p:cNvPr id="300" name=""/>
          <p:cNvGrpSpPr/>
          <p:nvPr/>
        </p:nvGrpSpPr>
        <p:grpSpPr>
          <a:xfrm>
            <a:off x="5091120" y="3780000"/>
            <a:ext cx="990720" cy="1677960"/>
            <a:chOff x="5091120" y="3780000"/>
            <a:chExt cx="990720" cy="1677960"/>
          </a:xfrm>
        </p:grpSpPr>
        <p:grpSp>
          <p:nvGrpSpPr>
            <p:cNvPr id="301" name=""/>
            <p:cNvGrpSpPr/>
            <p:nvPr/>
          </p:nvGrpSpPr>
          <p:grpSpPr>
            <a:xfrm>
              <a:off x="5294160" y="4032360"/>
              <a:ext cx="570240" cy="1425600"/>
              <a:chOff x="5294160" y="4032360"/>
              <a:chExt cx="570240" cy="1425600"/>
            </a:xfrm>
          </p:grpSpPr>
          <p:sp>
            <p:nvSpPr>
              <p:cNvPr id="302" name=""/>
              <p:cNvSpPr/>
              <p:nvPr/>
            </p:nvSpPr>
            <p:spPr>
              <a:xfrm>
                <a:off x="5294160" y="4032360"/>
                <a:ext cx="570240" cy="1425600"/>
              </a:xfrm>
              <a:prstGeom prst="ellipse">
                <a:avLst/>
              </a:prstGeom>
              <a:solidFill>
                <a:srgbClr val="ffffaa"/>
              </a:solidFill>
              <a:ln w="25560">
                <a:solidFill>
                  <a:srgbClr val="ff2a35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351400" y="4089240"/>
                <a:ext cx="455760" cy="1300320"/>
              </a:xfrm>
              <a:prstGeom prst="ellipse">
                <a:avLst/>
              </a:prstGeom>
              <a:noFill/>
              <a:ln w="25560">
                <a:solidFill>
                  <a:srgbClr val="ff2a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091120" y="4475160"/>
              <a:ext cx="9907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DDI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u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738760" y="3825720"/>
              <a:ext cx="309600" cy="33048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670720" y="3780000"/>
              <a:ext cx="342720" cy="365040"/>
            </a:xfrm>
            <a:prstGeom prst="line">
              <a:avLst/>
            </a:prstGeom>
            <a:ln w="25560">
              <a:solidFill>
                <a:srgbClr val="ff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188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ilding Ic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35800" y="2813040"/>
            <a:ext cx="13572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50840" y="2832120"/>
            <a:ext cx="1898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ic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84480" y="5311800"/>
            <a:ext cx="11455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544760" y="1387440"/>
            <a:ext cx="2425680" cy="14288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700520" y="1200240"/>
            <a:ext cx="1122480" cy="1577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4789440" y="3851280"/>
            <a:ext cx="2852640" cy="14428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6043680" y="1533600"/>
            <a:ext cx="1117440" cy="12445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7427880" y="1952640"/>
            <a:ext cx="787320" cy="825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938160" y="3365640"/>
            <a:ext cx="1193760" cy="838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120040" y="3670200"/>
            <a:ext cx="784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21480" y="4508640"/>
            <a:ext cx="1549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comm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7"/>
          <a:stretch/>
        </p:blipFill>
        <p:spPr>
          <a:xfrm>
            <a:off x="976320" y="5092560"/>
            <a:ext cx="1193760" cy="838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123640" y="5346720"/>
            <a:ext cx="2177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e with High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8"/>
          <a:stretch/>
        </p:blipFill>
        <p:spPr>
          <a:xfrm>
            <a:off x="1128600" y="4356000"/>
            <a:ext cx="889200" cy="63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7T10:25:30Z</dcterms:created>
  <dc:creator/>
  <dc:description/>
  <dc:language>en-US</dc:language>
  <cp:lastModifiedBy>张磊杰</cp:lastModifiedBy>
  <dcterms:modified xsi:type="dcterms:W3CDTF">1999-07-12T00:38:54Z</dcterms:modified>
  <cp:revision>6</cp:revision>
  <dc:subject>PowerPoint Template</dc:subject>
  <dc:title>Presentation Reference Guide</dc:title>
</cp:coreProperties>
</file>