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whoosh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361-F92C-4EA1-9E8D-36925B3C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B71-1EC5-40C6-A53F-20838410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9CC-089F-4F8C-B43A-D1EC2D51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5B41-77E3-47B8-A360-67D6298E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1E9E-71A2-4142-8CAB-90206190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74E9-46AC-41E2-94DE-05BDC1D1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7F2C-5B3D-4824-968F-133924D4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15A6-5618-4FA4-8B7B-04187A6B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6A13-D804-4C81-B845-15432751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C083-51B6-4BEC-A5DA-EAC8A961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C407-98CC-47EE-8ECB-F02673DC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204-81D7-4C2C-A3F3-ACE90AB1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31FB-F912-47F1-9AD9-21B10BF0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2D1C-BBCB-41B6-8CF8-863C3E0A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4D39-4B79-4C27-9F83-9BB0BE37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1001-EA40-46AD-ADF3-3893B79F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061C-53D1-489F-92A6-EAA70CF6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A12-CB95-4009-A933-7ECA6758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7B0-FF25-426D-8577-A56F7888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A25-539B-489B-86DF-ECBF00A8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C05-5796-472A-8B23-D7CD5F77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6B9-95D3-4989-98FC-E22C749A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DF1-9D99-44B8-9972-C5E28851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A3A-8ED9-4AD5-AEE5-54E044B5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3D8E-E536-4EFF-82DE-CB95D52A3DE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A28F-C57B-4CCD-B0B5-0BF4A34C61E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990720"/>
            <a:ext cx="487656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珍爱生命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3200400"/>
            <a:ext cx="2438280" cy="20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拒绝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257800" y="33526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EF6-E4C2-42D2-AAB1-CCC1645E9D2A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23880" y="252360"/>
            <a:ext cx="662940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496-B6DE-4E40-B458-49598B042FB8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252360"/>
            <a:ext cx="571500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698-BA96-4D8B-A24B-4CB327672497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334120" cy="533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DFE-85B2-4BBD-9589-272BA4E649DA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343400" cy="46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791-F7E9-4768-98AD-BCAB8874C27C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502920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E20-B4E5-475A-811D-73C6001D9A00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05120" y="762120"/>
            <a:ext cx="487656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DE5-4EC6-49D2-A6C2-EB465BE0F333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27880" y="701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抢答题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0680" y="176832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我们班主任在班会之初所朗读的诗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题目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71400" y="30700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是：《拒绝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72000" y="35481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青少年要拒绝毒品，首先要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44040" y="42274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拒绝抽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25480" y="42274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拒绝交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56280" y="41911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拒绝用精神科药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26640" y="4876920"/>
            <a:ext cx="292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国内外的调查显示，吸毒人员绝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多数集中会么年龄之间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82200" y="60562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青少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11000" y="603396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中壮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1880" y="6019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老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67B-C6AB-4F92-966A-5FB3C75A4C28}" type="slidenum">
              <a:t>16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169880" y="88092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东南亚的毒品主要产地是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4000" y="15238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香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14200" y="15606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越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8560" y="15606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金三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23360" y="2557440"/>
            <a:ext cx="35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一旦吸毒，等于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5080" y="34290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坐上了东方快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1080" y="34434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坐上了死亡列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89360" y="3429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坐上了网际快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95200" y="4005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下面的那种药物不是麻醉药品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77560" y="49132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吗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79480" y="487692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咖啡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26040" y="4876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感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28B-EB49-441B-B41C-DE73E8312A0D}" type="slidenum">
              <a:t>17</a:t>
            </a:fld>
          </a:p>
        </p:txBody>
      </p: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28480" y="1109520"/>
            <a:ext cx="64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专家认为：一次吸毒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51840" y="2093760"/>
            <a:ext cx="8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十月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戒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26040" y="2170080"/>
            <a:ext cx="11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十年戒 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3160" y="2170080"/>
            <a:ext cx="11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 终身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戒 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57480" y="2666880"/>
            <a:ext cx="487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毒品的毒瘾分生理上和心理上的两种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从理论上讲，多长时间可以脱离生理毒瘾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39480" y="40752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周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9160" y="40528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年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64120" y="405288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一生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84040" y="4614840"/>
            <a:ext cx="437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多长时间可以脱离心理毒瘾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83920" y="54864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周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65000" y="533412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年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55920" y="53481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一生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27D-794A-4707-B48F-A1EDC799390D}" type="slidenum">
              <a:t>18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79960" y="1220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请班主任总结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4920" y="26971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Arial"/>
                <a:ea typeface="隶书"/>
              </a:rPr>
              <a:t>珍爱生命，拒绝毒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A19-8D5D-443E-AA63-1EA1401D23E1}" type="slidenum">
              <a:t>19</a:t>
            </a:fld>
          </a:p>
        </p:txBody>
      </p:sp>
    </p:spTree>
  </p:cSld>
  <p:transition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480" y="8604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你是否听见远方的死亡的喧嚣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31360" y="131760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你是否听见从火海和毒云中传来的呼叫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18800" y="2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拒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16760" y="217008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仿佛还听到鸦片战争的枪声还在耳边回响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2920" y="251460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依稀看到，从虎门海滩上升起的缕缕白烟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15320" y="320040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世界上所有白色的无知正在潜滋味暗长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69600" y="35193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世界上所有黑色的邪恶已经泛滥成灾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14560" y="4052880"/>
            <a:ext cx="39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每天遇到罪孽，遇见死亡；它们象云块掠过我们的世界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83760" y="44197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一倏忽即逝的闪电狂笑来对我们嘲弄。人们必须站在它们面前，说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35320" y="49528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不怕你，嗨，魔鬼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B7D-34ED-4176-8AB3-F61535BB0A3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26800" y="124776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谢谢各位领导、老师来我们班指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我们上课！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E76-9C6F-4456-97CC-7C5DAA43F51C}" type="slidenum">
              <a:t>20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98760" y="10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1720" y="7984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全凭信念征服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45120" y="125568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活过了一天又一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9960" y="182880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即使暂时失败，也抱着坚定的信念；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360" y="239868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和平是真实的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360" y="316080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和平是真实的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50080" y="39988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的未来是真实的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386-5C5C-4BF4-BD58-4CC3E10D8E5C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17320" y="12351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学发言：我们所认识的毒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575-4811-45AE-956A-CC338775DC9C}" type="slidenum">
              <a:t>4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65960" y="10825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学发言：毒品离我们有多远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182-CCF5-4FA1-B846-99118B6E092D}" type="slidenum">
              <a:t>5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77840" y="1492200"/>
            <a:ext cx="52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学发言：</a:t>
            </a:r>
            <a:r>
              <a:rPr b="0" lang="zh-CN" sz="3600" spc="-1" strike="noStrike">
                <a:solidFill>
                  <a:srgbClr val="ffffff"/>
                </a:solidFill>
                <a:latin typeface="_x000b__x000c_"/>
              </a:rPr>
              <a:t>让我们坚决地对毒品说声“不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27E-C3F9-45C6-A171-E0E2A35C0B18}" type="slidenum">
              <a:t>6</a:t>
            </a:fld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27040" y="1447920"/>
            <a:ext cx="80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命如此可贵，请我们同学高奏一曲生命之最强音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6320" y="306396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渔洲唱晚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18040" y="40543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演奏者：关盼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878-E2F6-4D96-B0F0-12B170CF35F3}" type="slidenum">
              <a:t>7</a:t>
            </a:fld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99720" y="1371600"/>
            <a:ext cx="540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聪明的朋友，你能理解下面的图片所蕴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意思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CE9-5812-4686-9023-DF94139C4F03}" type="slidenum">
              <a:t>8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76520" y="399960"/>
            <a:ext cx="556236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3FB-F6D6-41E9-AF2D-91A9ADF44C8E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07:36:10Z</dcterms:created>
  <dc:creator>lszjks - www.k12zy.com</dc:creator>
  <dc:description>中小学教育资源交流中心  www.k12zy.com  免费教案、课件、试题、论文、素材等教育资源下载。</dc:description>
  <cp:keywords>中小学教育资源交流中心/www.k12zy.com/教案/课件/试题/论文/素材/教育资源/下载</cp:keywords>
  <dc:language>en-US</dc:language>
  <cp:lastModifiedBy>Sky123.Org</cp:lastModifiedBy>
  <dcterms:modified xsi:type="dcterms:W3CDTF">2015-10-26T05:55:26Z</dcterms:modified>
  <cp:revision>21</cp:revision>
  <dc:subject/>
  <dc:title>中小学心理健康教育活动课  - www.k12zy.com 中小学教育资源 提供</dc:title>
</cp:coreProperties>
</file>