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whoosh.wav" ContentType="audio/x-wav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B1C6-5B95-4FE4-BFC3-6D0601E80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9CCB-59EE-4F83-BCFB-4E420011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8286-40AE-4715-86A7-5FC181ABD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AFF7-8ABF-49C2-9F28-5C3780C31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7C40-DC67-426F-8D41-07C977002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8BF5-F5D2-4CEC-8AA0-B2D07AB4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A49D-C588-4CF2-AC57-E0C53FB0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A820-1178-414D-8B61-D2BA8570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BCDC-4CF7-4072-B43F-BD630762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4FB6-1F4A-4FB5-9A58-4C96813C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8097-A51D-4EEC-AFF7-2693C009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9E1F-554F-43AE-B41F-631A547C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E1D49-DF69-4189-9215-AADF217B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13D6-FA9B-4319-B462-8642E0A9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C96E-5E9F-454F-9A0D-BF5EDB1F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CF06-EBE4-4D0D-87FE-F654F6382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42C5-E0C9-4A3D-B79C-721F5441C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DF4F-8F5C-49B2-AADC-B2FD46A7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F2B9-2F8E-4A90-8A60-7B451520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3331-DA66-4EF6-B35B-CD41FD97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EA02-9B24-4227-A091-8B4AB010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701D-AE99-4DD7-9568-C1E42100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D93F-4591-4490-81D9-3814D54A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45F5-87D0-4754-93FF-B64A548D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3DBD-7539-4930-922C-890A8220600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764D-955B-4168-821F-C57ABF97E5F7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990720" y="990720"/>
            <a:ext cx="4876560" cy="18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珍爱生命</a:t>
            </a:r>
            <a:endParaRPr b="0" lang="en-US" sz="9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514600" y="3200400"/>
            <a:ext cx="2438280" cy="20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拒绝</a:t>
            </a:r>
            <a:endParaRPr b="0" lang="en-US" sz="9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5257800" y="3352680"/>
            <a:ext cx="2743200" cy="182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01F2-4612-4709-AEB1-14ED289794FF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523880" y="252360"/>
            <a:ext cx="6629400" cy="635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CE10-5D08-49E7-9033-08ED535D04CD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752480" y="252360"/>
            <a:ext cx="5715000" cy="635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9D45-CD2C-46A7-B30E-1F7E602EB2F6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286000" y="533520"/>
            <a:ext cx="5334120" cy="5333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D76B-F581-4C97-87F6-11F2FFF3F0EC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362320" y="914400"/>
            <a:ext cx="4343400" cy="464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9202-6167-4EC5-9DAE-FCE8814C73B2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286000" y="685800"/>
            <a:ext cx="5029200" cy="541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25CF-57DA-4385-ACE2-41D764CC0791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905120" y="762120"/>
            <a:ext cx="4876560" cy="5029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138D-0153-49B8-8C8D-AB49D42AB1C7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027880" y="701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抢答题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70680" y="1768320"/>
            <a:ext cx="164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我们班主任在班会之初所朗读的诗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题目是什么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71400" y="307008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答案是：《拒绝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72000" y="354816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青少年要拒绝毒品，首先要…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44040" y="4227480"/>
            <a:ext cx="4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拒绝抽烟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25480" y="4227480"/>
            <a:ext cx="4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拒绝交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56280" y="41911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拒绝用精神科药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26640" y="4876920"/>
            <a:ext cx="292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国内外的调查显示，吸毒人员绝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多数集中会么年龄之间？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82200" y="6056280"/>
            <a:ext cx="4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青少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11000" y="6033960"/>
            <a:ext cx="4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中壮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41880" y="60199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老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1040-AFFF-41F6-92A0-8EB904213050}" type="slidenum">
              <a:t>16</a:t>
            </a:fld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75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169880" y="880920"/>
            <a:ext cx="7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东南亚的毒品主要产地是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14000" y="1523880"/>
            <a:ext cx="4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香港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14200" y="1560600"/>
            <a:ext cx="4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越南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68560" y="15606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金三角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23360" y="2557440"/>
            <a:ext cx="357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一旦吸毒，等于…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5080" y="3429000"/>
            <a:ext cx="4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坐上了东方快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51080" y="3443400"/>
            <a:ext cx="4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坐上了死亡列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389360" y="3429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坐上了网际快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95200" y="4005360"/>
            <a:ext cx="7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下面的那种药物不是麻醉药品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77560" y="4913280"/>
            <a:ext cx="4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吗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79480" y="4876920"/>
            <a:ext cx="4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咖啡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26040" y="48769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感康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BC87-1428-4506-80DC-5C6B0195FE4E}" type="slidenum">
              <a:t>17</a:t>
            </a:fld>
          </a:p>
        </p:txBody>
      </p:sp>
    </p:spTree>
  </p:cSld>
  <p:transition>
    <p:random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428480" y="1109520"/>
            <a:ext cx="647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专家认为：一次吸毒，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___________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51840" y="2093760"/>
            <a:ext cx="82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十月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戒毒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26040" y="2170080"/>
            <a:ext cx="11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十年戒 毒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43160" y="2170080"/>
            <a:ext cx="11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 终身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戒 毒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57480" y="2666880"/>
            <a:ext cx="487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毒品的毒瘾分生理上和心理上的两种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从理论上讲，多长时间可以脱离生理毒瘾？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39480" y="4075200"/>
            <a:ext cx="4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二周时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49160" y="4052880"/>
            <a:ext cx="4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二年时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64120" y="4052880"/>
            <a:ext cx="10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一生时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84040" y="4614840"/>
            <a:ext cx="437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多长时间可以脱离心理毒瘾？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83920" y="5486400"/>
            <a:ext cx="4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二周时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65000" y="5334120"/>
            <a:ext cx="4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二年时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55920" y="5348160"/>
            <a:ext cx="10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一生时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BB42-4E01-4FF3-849A-0CF17419D3BF}" type="slidenum">
              <a:t>18</a:t>
            </a:fld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479960" y="1220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请班主任总结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04920" y="269712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66"/>
                </a:solidFill>
                <a:latin typeface="Arial"/>
                <a:ea typeface="隶书"/>
              </a:rPr>
              <a:t>珍爱生命，拒绝毒品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3979-C223-47AE-8D53-69F7617EC562}" type="slidenum">
              <a:t>19</a:t>
            </a:fld>
          </a:p>
        </p:txBody>
      </p:sp>
    </p:spTree>
  </p:cSld>
  <p:transition>
    <p:random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75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8480" y="86040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你是否听见远方的死亡的喧嚣？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31360" y="131760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你是否听见从火海和毒云中传来的呼叫？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18800" y="250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拒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16760" y="217008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我仿佛还听到鸦片战争的枪声还在耳边回响！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32920" y="2514600"/>
            <a:ext cx="3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我依稀看到，从虎门海滩上升起的缕缕白烟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15320" y="320040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世界上所有白色的无知正在潜滋味暗长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69600" y="351936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世界上所有黑色的邪恶已经泛滥成灾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14560" y="4052880"/>
            <a:ext cx="39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我们每天遇到罪孽，遇见死亡；它们象云块掠过我们的世界！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83760" y="441972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一倏忽即逝的闪电狂笑来对我们嘲弄。人们必须站在它们面前，说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35320" y="4952880"/>
            <a:ext cx="17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我们不怕你，嗨，魔鬼！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2C1C-553B-44E7-95AF-7645A7DA71D2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26800" y="124776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谢谢各位领导、老师来我们班指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我们上课！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41C5-D5C8-4D2B-9A16-F87EABBFF560}" type="slidenum">
              <a:t>20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498760" y="1089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51720" y="79848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我们全凭信念征服你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45120" y="1255680"/>
            <a:ext cx="9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活过了一天又一天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59960" y="1828800"/>
            <a:ext cx="270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我们即使暂时失败，也抱着坚定的信念；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3360" y="239868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和平是真实的，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3360" y="316080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和平是真实的，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50080" y="399888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我们的未来是真实的！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DAB1-FAE7-4682-813B-3DBE820267D7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317320" y="123516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同学发言：我们所认识的毒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1617-00CD-44C6-9A1A-98BE3C9D168F}" type="slidenum">
              <a:t>4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865960" y="108252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同学发言：毒品离我们有多远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2BBF-AF21-410D-9877-CFAB9C008D64}" type="slidenum">
              <a:t>5</a:t>
            </a:fld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977840" y="1492200"/>
            <a:ext cx="523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同学发言：</a:t>
            </a:r>
            <a:r>
              <a:rPr b="0" lang="zh-CN" sz="3600" spc="-1" strike="noStrike">
                <a:solidFill>
                  <a:srgbClr val="ffffff"/>
                </a:solidFill>
                <a:latin typeface="_x000b__x000c_"/>
              </a:rPr>
              <a:t>让我们坚决地对毒品说声“不”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5785-53D9-459A-A96B-1E5BC892C645}" type="slidenum">
              <a:t>6</a:t>
            </a:fld>
          </a:p>
        </p:txBody>
      </p:sp>
    </p:spTree>
  </p:cSld>
  <p:transition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27040" y="1447920"/>
            <a:ext cx="808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生命如此可贵，请我们同学高奏一曲生命之最强音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96320" y="3063960"/>
            <a:ext cx="59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《渔洲唱晚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18040" y="40543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演奏者：关盼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3EB4-A334-4436-BA49-810DCFFA8D9C}" type="slidenum">
              <a:t>7</a:t>
            </a:fld>
          </a:p>
        </p:txBody>
      </p:sp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899720" y="1371600"/>
            <a:ext cx="540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聪明的朋友，你能理解下面的图片所蕴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意思吗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2EA7-CB00-4CE7-AA75-F64FBF45F751}" type="slidenum">
              <a:t>8</a:t>
            </a:fld>
          </a:p>
        </p:txBody>
      </p:sp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676520" y="399960"/>
            <a:ext cx="5562360" cy="6058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BE7B-CAF8-40D1-BE3B-1F4C8FEEC90A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4T07:36:10Z</dcterms:created>
  <dc:creator>lszjks - www.k12zy.com</dc:creator>
  <dc:description>中小学教育资源交流中心  www.k12zy.com  免费教案、课件、试题、论文、素材等教育资源下载。</dc:description>
  <cp:keywords>中小学教育资源交流中心/www.k12zy.com/教案/课件/试题/论文/素材/教育资源/下载</cp:keywords>
  <dc:language>en-US</dc:language>
  <cp:lastModifiedBy>Sky123.Org</cp:lastModifiedBy>
  <dcterms:modified xsi:type="dcterms:W3CDTF">2015-10-26T05:55:26Z</dcterms:modified>
  <cp:revision>21</cp:revision>
  <dc:subject/>
  <dc:title>中小学心理健康教育活动课  - www.k12zy.com 中小学教育资源 提供</dc:title>
</cp:coreProperties>
</file>