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134C5-3C89-4973-87AF-ED75DB1D2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F3BE3-14A2-4612-952E-A7DD624E8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DD485-0886-4A9B-9698-9BB76F2F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952E-8114-44E8-A4AD-78DCCBD8D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36FC-DD19-4049-A141-58FB5F11B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AABFCC-3FA8-4CD3-A846-2DDB96A42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2055E-3944-462A-8AFD-3F3B35906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E004D1-CB5B-4F3F-8293-769301E19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8BEF8-1A25-4243-8D3F-E66887698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58336-3DC9-4DBD-B87B-34EC6F3D4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37736-AE63-47CF-8C02-B393F6601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7B866-481A-4714-9E7D-DD816AAA3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696B6-D796-4FC3-8B46-5C5205B3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6B7BC-8953-47C8-ADC4-875938FD3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2F302-221A-43AE-AE85-1B78BAA2F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4E177-9E61-46E9-A18F-254808D52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50EC06-7595-4E5A-B2BF-4A9795C886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8B698-90F4-4D8A-BC0A-CD008A9B2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A3B45-0E40-449A-8AAE-3D079B486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88FC-CF97-42F5-A0F3-83CBDF6EB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73500-70BB-412E-BC20-36D56A3AB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A6C7-CD30-47BA-8C8F-60CEA8D8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85EB-BEF2-40D0-B25E-EACA5DD21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1A123-90DF-42C6-B111-C656375C8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16D1A-D3C5-437A-B778-199985E49CE0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6C01-1983-4E90-AD8F-8B48A7B3F71E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04920"/>
            <a:ext cx="8763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击杀器是一款绿色免费软件，解压之后，即可运行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windows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操作系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软件有以下两大功能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一、</a:t>
            </a:r>
            <a:r>
              <a:rPr b="1" lang="zh-CN" sz="1600" spc="-1" strike="noStrike">
                <a:solidFill>
                  <a:srgbClr val="ffffcc"/>
                </a:solidFill>
                <a:latin typeface="Verdana"/>
              </a:rPr>
              <a:t>瞬间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自动关闭指定类型的网页，如弹出广告、病毒网页等任何你讨厌的网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二、类似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裁图的功能，比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更方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关于关闭网页功能：本软件支持所有基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的浏览器，如：微软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360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，对搜狗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、世界之窗三款浏览器，需在地址栏切换成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才有效，如下图所示（带图形字母‘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E’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的地方点一下便能切换浏览器内核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195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42800" y="6019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Verdana"/>
              </a:rPr>
              <a:t>软件的具体操作，在下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一、从你讨厌的网址截取一部分，比如从“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http://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www.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/2010/20100923123.ht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复制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</a:t>
            </a:r>
            <a:r>
              <a:rPr b="1" lang="en-US" sz="1600" spc="-1" strike="noStrike">
                <a:solidFill>
                  <a:srgbClr val="ffcc66"/>
                </a:solidFill>
                <a:latin typeface="宋体"/>
              </a:rPr>
              <a:t>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然后粘贴到击杀框里，以后只要浏览器的地址栏包含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字眼的网址，便会瞬间自动关闭。有多个关键字，以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|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隔开，输入过程中系统会实时自动保存，示例如下图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876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点右上角的最小化，网址击杀器就会缩到桌面右下角（下图左边第一个图标），把鼠标放上去，双击或者单击右键，就可以对软件进行打开主界面或退出的操作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8862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宋体"/>
              </a:rPr>
              <a:t>操作流程：运行本软件，编辑击杀框里的字符（没有新增、删除、修改则不用动它），最小化窗口，结束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26708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二、运行击杀器之后，按下键盘上的“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creen print”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键，也就是屏幕打印键，鼠标会变成十字架，拖动鼠标，选择你看中的区域，松开鼠标，就会有提示“复制”“保存”“取消”三项功能处理你选择的这块区域形成的图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按下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screen print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之后，若你不想裁图了，单击鼠标右键即可退出裁图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4864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所有的操作都有非常明显的提示，根据提示一步步做下去即可，速度超快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0720" y="3581280"/>
            <a:ext cx="380880" cy="3049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579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1T16:04:3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