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9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clap.wav" ContentType="audio/x-wav"/>
  <Override PartName="/ppt/media/image16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C8AD-B509-43B3-B301-6A8D20DC3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9F6-0386-4B46-9A00-A94E0BB4FDA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ED39-BA0D-49B2-9AC4-6173E4E942A4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0C4C-FD38-4E57-958E-09FCA73AAEE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0D55-4419-4771-B46B-92D9F0B43A5C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AB20-8264-4DBA-BA5D-049F1DBE3F5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769-0885-41AC-941E-302FFAF0BB2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93B-3E15-4C0D-AD1C-B592DF13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C5B-4F63-46E2-8F53-0F5C698C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E2C-C0B0-4236-8AF6-1E9C0349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6F8-F5B5-4B49-9C85-70609B12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F532-03C8-4653-83C5-07CE8075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05BA-E673-47F8-9456-C8FE8D5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1AD5-3B8F-4396-B4C7-3FA6D69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5858-CB08-48B7-9F11-0A1B5166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B912-D771-4AE1-AB0A-48426EF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A705-0A0F-47AB-8A5B-6220B6F5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4144-F392-4284-914C-C7A553AD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7E8-CA51-4E04-BD57-8A20CDF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D5F-2C0F-4129-A523-DB2BDF5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0059-5E99-4D24-8944-E0EF2BEF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3031-8DE0-451B-97DE-BA73752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0193-CEF5-4563-9C15-921A7D04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12C-DD89-45E1-8BD9-DFBB61BC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2E86-C585-438F-B83F-DCD0572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067B-5D5D-4F30-9DE9-114EA4D3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00920-A874-4DEC-8D7F-1937BB52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F9D8-DCEC-46AF-9EE5-23D2FC36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788A-CC36-4A10-B775-9B87CE6B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884-5C13-49C4-9976-FABFA805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AB4B-88B0-488C-93CC-D1AAA810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4ADA-8769-4242-BCBE-613A787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6671-3CF8-4386-B372-FAA25C9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BF88-B1E4-4ED9-AF2C-071CA63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A915-0EB8-46FD-889D-2E1C4E7A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9343-43B6-4BFD-935C-A6D0BA16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7BAA-7621-43BB-B2D6-26A8BA6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479D-CDD3-4356-93E0-B244C828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8F00-6297-4EBA-9D9B-883C7631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E70A-3309-4469-A902-6714BF81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072-E528-4786-845F-57CDBD1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DE27-66D8-46F8-939A-C508C549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3B25-F5FA-4380-B3D0-8C3E72D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D33A-B772-4B8C-A1AA-E2B45245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17B1-FD57-451D-92CD-9050BE6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F539-8EF7-44AD-98D1-2F2A06F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07882-C191-4CEF-8D7D-2D1DEB3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7B9E1-C68A-467E-B632-6875D82B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59D0-BE19-46CA-B6E1-DE84DE03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54B2-04A9-4C2D-80E9-C812EC41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099-891E-4B87-AC61-2AF37AC0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A4C-ED30-4AB3-A52A-97729CF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1D8-94F3-4B60-BF23-8A9B11D2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4FB-87E6-45AE-A3C9-2082259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301-E9A1-4611-8737-129BF31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C98-6F4D-406C-840E-938A0B05781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55C2-086F-406E-A836-2583DFD8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010240" y="245880"/>
            <a:ext cx="6896880" cy="5451840"/>
            <a:chOff x="2010240" y="245880"/>
            <a:chExt cx="6896880" cy="5451840"/>
          </a:xfrm>
        </p:grpSpPr>
        <p:grpSp>
          <p:nvGrpSpPr>
            <p:cNvPr id="222" name="Group 3"/>
            <p:cNvGrpSpPr/>
            <p:nvPr/>
          </p:nvGrpSpPr>
          <p:grpSpPr>
            <a:xfrm>
              <a:off x="3483000" y="954720"/>
              <a:ext cx="946080" cy="708480"/>
              <a:chOff x="3483000" y="954720"/>
              <a:chExt cx="946080" cy="708480"/>
            </a:xfrm>
          </p:grpSpPr>
          <p:sp>
            <p:nvSpPr>
              <p:cNvPr id="223" name="Oval 4"/>
              <p:cNvSpPr/>
              <p:nvPr/>
            </p:nvSpPr>
            <p:spPr>
              <a:xfrm>
                <a:off x="3483000" y="954720"/>
                <a:ext cx="946080" cy="708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4" name="Oval 5"/>
              <p:cNvSpPr/>
              <p:nvPr/>
            </p:nvSpPr>
            <p:spPr>
              <a:xfrm>
                <a:off x="3822840" y="1265760"/>
                <a:ext cx="2304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6"/>
            <p:cNvGrpSpPr/>
            <p:nvPr/>
          </p:nvGrpSpPr>
          <p:grpSpPr>
            <a:xfrm>
              <a:off x="2010240" y="245880"/>
              <a:ext cx="6896880" cy="5451840"/>
              <a:chOff x="2010240" y="245880"/>
              <a:chExt cx="6896880" cy="5451840"/>
            </a:xfrm>
          </p:grpSpPr>
          <p:grpSp>
            <p:nvGrpSpPr>
              <p:cNvPr id="226" name="Group 7"/>
              <p:cNvGrpSpPr/>
              <p:nvPr/>
            </p:nvGrpSpPr>
            <p:grpSpPr>
              <a:xfrm>
                <a:off x="2010240" y="245880"/>
                <a:ext cx="6891840" cy="5451840"/>
                <a:chOff x="2010240" y="245880"/>
                <a:chExt cx="6891840" cy="5451840"/>
              </a:xfrm>
            </p:grpSpPr>
            <p:grpSp>
              <p:nvGrpSpPr>
                <p:cNvPr id="227" name="Group 8"/>
                <p:cNvGrpSpPr/>
                <p:nvPr/>
              </p:nvGrpSpPr>
              <p:grpSpPr>
                <a:xfrm>
                  <a:off x="3735720" y="1263600"/>
                  <a:ext cx="3601800" cy="2651760"/>
                  <a:chOff x="3735720" y="1263600"/>
                  <a:chExt cx="3601800" cy="2651760"/>
                </a:xfrm>
              </p:grpSpPr>
              <p:sp>
                <p:nvSpPr>
                  <p:cNvPr id="228" name="Oval 9"/>
                  <p:cNvSpPr/>
                  <p:nvPr/>
                </p:nvSpPr>
                <p:spPr>
                  <a:xfrm>
                    <a:off x="3735720" y="1263600"/>
                    <a:ext cx="36018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10"/>
                  <p:cNvSpPr/>
                  <p:nvPr/>
                </p:nvSpPr>
                <p:spPr>
                  <a:xfrm>
                    <a:off x="5110560" y="2235240"/>
                    <a:ext cx="71388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1"/>
                <p:cNvGrpSpPr/>
                <p:nvPr/>
              </p:nvGrpSpPr>
              <p:grpSpPr>
                <a:xfrm>
                  <a:off x="2010240" y="245880"/>
                  <a:ext cx="6891840" cy="5451840"/>
                  <a:chOff x="2010240" y="245880"/>
                  <a:chExt cx="6891840" cy="5451840"/>
                </a:xfrm>
              </p:grpSpPr>
              <p:grpSp>
                <p:nvGrpSpPr>
                  <p:cNvPr id="231" name="Group 12"/>
                  <p:cNvGrpSpPr/>
                  <p:nvPr/>
                </p:nvGrpSpPr>
                <p:grpSpPr>
                  <a:xfrm>
                    <a:off x="5762880" y="2320560"/>
                    <a:ext cx="2557800" cy="2736000"/>
                    <a:chOff x="5762880" y="2320560"/>
                    <a:chExt cx="2557800" cy="2736000"/>
                  </a:xfrm>
                </p:grpSpPr>
                <p:sp>
                  <p:nvSpPr>
                    <p:cNvPr id="232" name="Freeform 13"/>
                    <p:cNvSpPr/>
                    <p:nvPr/>
                  </p:nvSpPr>
                  <p:spPr>
                    <a:xfrm rot="2711400">
                      <a:off x="5585040" y="3018240"/>
                      <a:ext cx="21276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14"/>
                    <p:cNvSpPr/>
                    <p:nvPr/>
                  </p:nvSpPr>
                  <p:spPr>
                    <a:xfrm rot="2711400">
                      <a:off x="7135920" y="413748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5"/>
                  <p:cNvGrpSpPr/>
                  <p:nvPr/>
                </p:nvGrpSpPr>
                <p:grpSpPr>
                  <a:xfrm>
                    <a:off x="5788080" y="2148840"/>
                    <a:ext cx="3040560" cy="2528640"/>
                    <a:chOff x="5788080" y="2148840"/>
                    <a:chExt cx="3040560" cy="2528640"/>
                  </a:xfrm>
                </p:grpSpPr>
                <p:sp>
                  <p:nvSpPr>
                    <p:cNvPr id="235" name="Freeform 16"/>
                    <p:cNvSpPr/>
                    <p:nvPr/>
                  </p:nvSpPr>
                  <p:spPr>
                    <a:xfrm rot="2103600">
                      <a:off x="5707080" y="275256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17"/>
                    <p:cNvSpPr/>
                    <p:nvPr/>
                  </p:nvSpPr>
                  <p:spPr>
                    <a:xfrm rot="2103600">
                      <a:off x="7542000" y="371916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18"/>
                  <p:cNvGrpSpPr/>
                  <p:nvPr/>
                </p:nvGrpSpPr>
                <p:grpSpPr>
                  <a:xfrm>
                    <a:off x="5775480" y="2064960"/>
                    <a:ext cx="3097080" cy="1992240"/>
                    <a:chOff x="5775480" y="2064960"/>
                    <a:chExt cx="3097080" cy="1992240"/>
                  </a:xfrm>
                </p:grpSpPr>
                <p:sp>
                  <p:nvSpPr>
                    <p:cNvPr id="238" name="Freeform 19"/>
                    <p:cNvSpPr/>
                    <p:nvPr/>
                  </p:nvSpPr>
                  <p:spPr>
                    <a:xfrm rot="1582800">
                      <a:off x="5747400" y="2520360"/>
                      <a:ext cx="213948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1"/>
                  <p:cNvGrpSpPr/>
                  <p:nvPr/>
                </p:nvGrpSpPr>
                <p:grpSpPr>
                  <a:xfrm>
                    <a:off x="5767920" y="1968480"/>
                    <a:ext cx="3134160" cy="1607040"/>
                    <a:chOff x="5767920" y="1968480"/>
                    <a:chExt cx="3134160" cy="1607040"/>
                  </a:xfrm>
                </p:grpSpPr>
                <p:sp>
                  <p:nvSpPr>
                    <p:cNvPr id="241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23"/>
                    <p:cNvSpPr/>
                    <p:nvPr/>
                  </p:nvSpPr>
                  <p:spPr>
                    <a:xfrm rot="1080000">
                      <a:off x="7718400" y="277092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24"/>
                  <p:cNvGrpSpPr/>
                  <p:nvPr/>
                </p:nvGrpSpPr>
                <p:grpSpPr>
                  <a:xfrm>
                    <a:off x="5805720" y="1878840"/>
                    <a:ext cx="2937960" cy="997920"/>
                    <a:chOff x="5805720" y="1878840"/>
                    <a:chExt cx="2937960" cy="997920"/>
                  </a:xfrm>
                </p:grpSpPr>
                <p:sp>
                  <p:nvSpPr>
                    <p:cNvPr id="244" name="Freeform 25"/>
                    <p:cNvSpPr/>
                    <p:nvPr/>
                  </p:nvSpPr>
                  <p:spPr>
                    <a:xfrm rot="463200">
                      <a:off x="5822640" y="2004840"/>
                      <a:ext cx="1904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26"/>
                    <p:cNvSpPr/>
                    <p:nvPr/>
                  </p:nvSpPr>
                  <p:spPr>
                    <a:xfrm rot="463200">
                      <a:off x="7686000" y="2210400"/>
                      <a:ext cx="1022040" cy="60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27"/>
                  <p:cNvGrpSpPr/>
                  <p:nvPr/>
                </p:nvGrpSpPr>
                <p:grpSpPr>
                  <a:xfrm>
                    <a:off x="5851080" y="1812240"/>
                    <a:ext cx="2658960" cy="444600"/>
                    <a:chOff x="5851080" y="1812240"/>
                    <a:chExt cx="2658960" cy="444600"/>
                  </a:xfrm>
                </p:grpSpPr>
                <p:sp>
                  <p:nvSpPr>
                    <p:cNvPr id="247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29"/>
                    <p:cNvSpPr/>
                    <p:nvPr/>
                  </p:nvSpPr>
                  <p:spPr>
                    <a:xfrm rot="21515400">
                      <a:off x="7575480" y="1823760"/>
                      <a:ext cx="929520" cy="42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30"/>
                  <p:cNvGrpSpPr/>
                  <p:nvPr/>
                </p:nvGrpSpPr>
                <p:grpSpPr>
                  <a:xfrm>
                    <a:off x="5788440" y="1304280"/>
                    <a:ext cx="2364120" cy="786960"/>
                    <a:chOff x="5788440" y="1304280"/>
                    <a:chExt cx="2364120" cy="786960"/>
                  </a:xfrm>
                </p:grpSpPr>
                <p:sp>
                  <p:nvSpPr>
                    <p:cNvPr id="250" name="Freeform 31"/>
                    <p:cNvSpPr/>
                    <p:nvPr/>
                  </p:nvSpPr>
                  <p:spPr>
                    <a:xfrm rot="20797200">
                      <a:off x="579816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32"/>
                    <p:cNvSpPr/>
                    <p:nvPr/>
                  </p:nvSpPr>
                  <p:spPr>
                    <a:xfrm rot="20797200">
                      <a:off x="7299000" y="139284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Group 33"/>
                  <p:cNvGrpSpPr/>
                  <p:nvPr/>
                </p:nvGrpSpPr>
                <p:grpSpPr>
                  <a:xfrm>
                    <a:off x="2646000" y="2475000"/>
                    <a:ext cx="2557080" cy="2739240"/>
                    <a:chOff x="2646000" y="2475000"/>
                    <a:chExt cx="2557080" cy="2739240"/>
                  </a:xfrm>
                </p:grpSpPr>
                <p:sp>
                  <p:nvSpPr>
                    <p:cNvPr id="253" name="Freeform 34"/>
                    <p:cNvSpPr/>
                    <p:nvPr/>
                  </p:nvSpPr>
                  <p:spPr>
                    <a:xfrm flipH="1" rot="18888600">
                      <a:off x="3254760" y="3171600"/>
                      <a:ext cx="21250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35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Group 36"/>
                  <p:cNvGrpSpPr/>
                  <p:nvPr/>
                </p:nvGrpSpPr>
                <p:grpSpPr>
                  <a:xfrm>
                    <a:off x="2086920" y="2364840"/>
                    <a:ext cx="3040560" cy="2533320"/>
                    <a:chOff x="2086920" y="2364840"/>
                    <a:chExt cx="3040560" cy="2533320"/>
                  </a:xfrm>
                </p:grpSpPr>
                <p:sp>
                  <p:nvSpPr>
                    <p:cNvPr id="256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6680" cy="43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8"/>
                    <p:cNvSpPr/>
                    <p:nvPr/>
                  </p:nvSpPr>
                  <p:spPr>
                    <a:xfrm flipH="1" rot="19496400">
                      <a:off x="2171160" y="393984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39"/>
                  <p:cNvGrpSpPr/>
                  <p:nvPr/>
                </p:nvGrpSpPr>
                <p:grpSpPr>
                  <a:xfrm>
                    <a:off x="2040480" y="2282040"/>
                    <a:ext cx="3093480" cy="1991520"/>
                    <a:chOff x="2040480" y="2282040"/>
                    <a:chExt cx="3093480" cy="1991520"/>
                  </a:xfrm>
                </p:grpSpPr>
                <p:sp>
                  <p:nvSpPr>
                    <p:cNvPr id="259" name="Freeform 40"/>
                    <p:cNvSpPr/>
                    <p:nvPr/>
                  </p:nvSpPr>
                  <p:spPr>
                    <a:xfrm flipH="1" rot="20017200">
                      <a:off x="3023640" y="2737440"/>
                      <a:ext cx="21380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42"/>
                  <p:cNvGrpSpPr/>
                  <p:nvPr/>
                </p:nvGrpSpPr>
                <p:grpSpPr>
                  <a:xfrm>
                    <a:off x="2010240" y="2189160"/>
                    <a:ext cx="3132720" cy="1610640"/>
                    <a:chOff x="2010240" y="2189160"/>
                    <a:chExt cx="3132720" cy="1610640"/>
                  </a:xfrm>
                </p:grpSpPr>
                <p:sp>
                  <p:nvSpPr>
                    <p:cNvPr id="262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640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Freeform 44"/>
                    <p:cNvSpPr/>
                    <p:nvPr/>
                  </p:nvSpPr>
                  <p:spPr>
                    <a:xfrm flipH="1" rot="20520000">
                      <a:off x="2083680" y="2990520"/>
                      <a:ext cx="11106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Group 45"/>
                  <p:cNvGrpSpPr/>
                  <p:nvPr/>
                </p:nvGrpSpPr>
                <p:grpSpPr>
                  <a:xfrm>
                    <a:off x="2169000" y="2094840"/>
                    <a:ext cx="2937960" cy="999000"/>
                    <a:chOff x="2169000" y="2094840"/>
                    <a:chExt cx="2937960" cy="999000"/>
                  </a:xfrm>
                </p:grpSpPr>
                <p:sp>
                  <p:nvSpPr>
                    <p:cNvPr id="265" name="Freeform 46"/>
                    <p:cNvSpPr/>
                    <p:nvPr/>
                  </p:nvSpPr>
                  <p:spPr>
                    <a:xfrm flipH="1" rot="21136800">
                      <a:off x="3184560" y="222084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47"/>
                    <p:cNvSpPr/>
                    <p:nvPr/>
                  </p:nvSpPr>
                  <p:spPr>
                    <a:xfrm flipH="1" rot="21136800">
                      <a:off x="2204280" y="2427480"/>
                      <a:ext cx="1022040" cy="60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48"/>
                  <p:cNvGrpSpPr/>
                  <p:nvPr/>
                </p:nvGrpSpPr>
                <p:grpSpPr>
                  <a:xfrm>
                    <a:off x="2403720" y="2030760"/>
                    <a:ext cx="2656800" cy="448200"/>
                    <a:chOff x="2403720" y="2030760"/>
                    <a:chExt cx="2656800" cy="448200"/>
                  </a:xfrm>
                </p:grpSpPr>
                <p:sp>
                  <p:nvSpPr>
                    <p:cNvPr id="268" name="Freeform 49"/>
                    <p:cNvSpPr/>
                    <p:nvPr/>
                  </p:nvSpPr>
                  <p:spPr>
                    <a:xfrm flipH="1" rot="84600">
                      <a:off x="3327480" y="2067840"/>
                      <a:ext cx="17298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71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Group 54"/>
                  <p:cNvGrpSpPr/>
                  <p:nvPr/>
                </p:nvGrpSpPr>
                <p:grpSpPr>
                  <a:xfrm>
                    <a:off x="2887560" y="1236960"/>
                    <a:ext cx="2324880" cy="1082880"/>
                    <a:chOff x="2887560" y="1236960"/>
                    <a:chExt cx="2324880" cy="1082880"/>
                  </a:xfrm>
                </p:grpSpPr>
                <p:sp>
                  <p:nvSpPr>
                    <p:cNvPr id="274" name="Freeform 55"/>
                    <p:cNvSpPr/>
                    <p:nvPr/>
                  </p:nvSpPr>
                  <p:spPr>
                    <a:xfrm flipH="1" rot="1278000">
                      <a:off x="3695760" y="17874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57"/>
                  <p:cNvGrpSpPr/>
                  <p:nvPr/>
                </p:nvGrpSpPr>
                <p:grpSpPr>
                  <a:xfrm>
                    <a:off x="3161520" y="830160"/>
                    <a:ext cx="2169360" cy="1508040"/>
                    <a:chOff x="3161520" y="830160"/>
                    <a:chExt cx="2169360" cy="1508040"/>
                  </a:xfrm>
                </p:grpSpPr>
                <p:sp>
                  <p:nvSpPr>
                    <p:cNvPr id="277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Freeform 59"/>
                    <p:cNvSpPr/>
                    <p:nvPr/>
                  </p:nvSpPr>
                  <p:spPr>
                    <a:xfrm flipH="1" rot="2028600">
                      <a:off x="3207600" y="102204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Group 60"/>
                  <p:cNvGrpSpPr/>
                  <p:nvPr/>
                </p:nvGrpSpPr>
                <p:grpSpPr>
                  <a:xfrm>
                    <a:off x="3437640" y="432720"/>
                    <a:ext cx="1987200" cy="1832400"/>
                    <a:chOff x="3437640" y="432720"/>
                    <a:chExt cx="1987200" cy="1832400"/>
                  </a:xfrm>
                </p:grpSpPr>
                <p:sp>
                  <p:nvSpPr>
                    <p:cNvPr id="280" name="Freeform 61"/>
                    <p:cNvSpPr/>
                    <p:nvPr/>
                  </p:nvSpPr>
                  <p:spPr>
                    <a:xfrm flipH="1" rot="2664600">
                      <a:off x="4009680" y="149832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62"/>
                    <p:cNvSpPr/>
                    <p:nvPr/>
                  </p:nvSpPr>
                  <p:spPr>
                    <a:xfrm flipH="1" rot="2664600">
                      <a:off x="3464280" y="6631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63"/>
                  <p:cNvGrpSpPr/>
                  <p:nvPr/>
                </p:nvGrpSpPr>
                <p:grpSpPr>
                  <a:xfrm>
                    <a:off x="4026240" y="332280"/>
                    <a:ext cx="1460520" cy="1890360"/>
                    <a:chOff x="4026240" y="332280"/>
                    <a:chExt cx="1460520" cy="1890360"/>
                  </a:xfrm>
                </p:grpSpPr>
                <p:sp>
                  <p:nvSpPr>
                    <p:cNvPr id="283" name="Freeform 64"/>
                    <p:cNvSpPr/>
                    <p:nvPr/>
                  </p:nvSpPr>
                  <p:spPr>
                    <a:xfrm flipH="1" rot="3474000">
                      <a:off x="4335840" y="1445400"/>
                      <a:ext cx="13561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Freeform 65"/>
                    <p:cNvSpPr/>
                    <p:nvPr/>
                  </p:nvSpPr>
                  <p:spPr>
                    <a:xfrm flipH="1" rot="3474000">
                      <a:off x="4030560" y="544320"/>
                      <a:ext cx="7300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66"/>
                  <p:cNvGrpSpPr/>
                  <p:nvPr/>
                </p:nvGrpSpPr>
                <p:grpSpPr>
                  <a:xfrm>
                    <a:off x="4449600" y="245880"/>
                    <a:ext cx="1117800" cy="1948320"/>
                    <a:chOff x="4449600" y="245880"/>
                    <a:chExt cx="1117800" cy="1948320"/>
                  </a:xfrm>
                </p:grpSpPr>
                <p:sp>
                  <p:nvSpPr>
                    <p:cNvPr id="286" name="Freeform 67"/>
                    <p:cNvSpPr/>
                    <p:nvPr/>
                  </p:nvSpPr>
                  <p:spPr>
                    <a:xfrm flipH="1" rot="4126800">
                      <a:off x="4551840" y="1403280"/>
                      <a:ext cx="130896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68"/>
                    <p:cNvSpPr/>
                    <p:nvPr/>
                  </p:nvSpPr>
                  <p:spPr>
                    <a:xfrm flipH="1" rot="4126800">
                      <a:off x="4417920" y="441360"/>
                      <a:ext cx="7027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89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Group 72"/>
                  <p:cNvGrpSpPr/>
                  <p:nvPr/>
                </p:nvGrpSpPr>
                <p:grpSpPr>
                  <a:xfrm>
                    <a:off x="5529600" y="623880"/>
                    <a:ext cx="2198880" cy="1450800"/>
                    <a:chOff x="5529600" y="623880"/>
                    <a:chExt cx="2198880" cy="1450800"/>
                  </a:xfrm>
                </p:grpSpPr>
                <p:sp>
                  <p:nvSpPr>
                    <p:cNvPr id="292" name="Freeform 73"/>
                    <p:cNvSpPr/>
                    <p:nvPr/>
                  </p:nvSpPr>
                  <p:spPr>
                    <a:xfrm rot="19678800">
                      <a:off x="5484240" y="142704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Freeform 74"/>
                    <p:cNvSpPr/>
                    <p:nvPr/>
                  </p:nvSpPr>
                  <p:spPr>
                    <a:xfrm rot="19678800">
                      <a:off x="6863760" y="80820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4" name="Freeform 75"/>
                  <p:cNvSpPr/>
                  <p:nvPr/>
                </p:nvSpPr>
                <p:spPr>
                  <a:xfrm flipH="1" rot="4578600">
                    <a:off x="4765680" y="1466640"/>
                    <a:ext cx="12628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76"/>
                  <p:cNvSpPr/>
                  <p:nvPr/>
                </p:nvSpPr>
                <p:spPr>
                  <a:xfrm flipH="1" rot="4578600">
                    <a:off x="4792680" y="536760"/>
                    <a:ext cx="67860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7"/>
                  <p:cNvGrpSpPr/>
                  <p:nvPr/>
                </p:nvGrpSpPr>
                <p:grpSpPr>
                  <a:xfrm>
                    <a:off x="5355360" y="268560"/>
                    <a:ext cx="1197000" cy="1901520"/>
                    <a:chOff x="5355360" y="268560"/>
                    <a:chExt cx="1197000" cy="1901520"/>
                  </a:xfrm>
                </p:grpSpPr>
                <p:sp>
                  <p:nvSpPr>
                    <p:cNvPr id="297" name="Freeform 78"/>
                    <p:cNvSpPr/>
                    <p:nvPr/>
                  </p:nvSpPr>
                  <p:spPr>
                    <a:xfrm rot="17742000">
                      <a:off x="5085720" y="1416240"/>
                      <a:ext cx="13118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9"/>
                    <p:cNvSpPr/>
                    <p:nvPr/>
                  </p:nvSpPr>
                  <p:spPr>
                    <a:xfrm rot="17742000">
                      <a:off x="5885640" y="484200"/>
                      <a:ext cx="70416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80"/>
                  <p:cNvGrpSpPr/>
                  <p:nvPr/>
                </p:nvGrpSpPr>
                <p:grpSpPr>
                  <a:xfrm>
                    <a:off x="5352120" y="385560"/>
                    <a:ext cx="1887120" cy="1796760"/>
                    <a:chOff x="5352120" y="385560"/>
                    <a:chExt cx="1887120" cy="1796760"/>
                  </a:xfrm>
                </p:grpSpPr>
                <p:sp>
                  <p:nvSpPr>
                    <p:cNvPr id="300" name="Freeform 81"/>
                    <p:cNvSpPr/>
                    <p:nvPr/>
                  </p:nvSpPr>
                  <p:spPr>
                    <a:xfrm rot="18822600">
                      <a:off x="5252040" y="1386000"/>
                      <a:ext cx="14256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82"/>
                    <p:cNvSpPr/>
                    <p:nvPr/>
                  </p:nvSpPr>
                  <p:spPr>
                    <a:xfrm rot="18822600">
                      <a:off x="6400800" y="581400"/>
                      <a:ext cx="767160" cy="52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83"/>
                  <p:cNvGrpSpPr/>
                  <p:nvPr/>
                </p:nvGrpSpPr>
                <p:grpSpPr>
                  <a:xfrm>
                    <a:off x="5459040" y="290160"/>
                    <a:ext cx="424440" cy="1796760"/>
                    <a:chOff x="5459040" y="290160"/>
                    <a:chExt cx="424440" cy="1796760"/>
                  </a:xfrm>
                </p:grpSpPr>
                <p:sp>
                  <p:nvSpPr>
                    <p:cNvPr id="303" name="Freeform 84"/>
                    <p:cNvSpPr/>
                    <p:nvPr/>
                  </p:nvSpPr>
                  <p:spPr>
                    <a:xfrm rot="16696200">
                      <a:off x="5006520" y="1443240"/>
                      <a:ext cx="11786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85"/>
                    <p:cNvSpPr/>
                    <p:nvPr/>
                  </p:nvSpPr>
                  <p:spPr>
                    <a:xfrm rot="16696200">
                      <a:off x="5440680" y="530280"/>
                      <a:ext cx="6296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86"/>
                  <p:cNvGrpSpPr/>
                  <p:nvPr/>
                </p:nvGrpSpPr>
                <p:grpSpPr>
                  <a:xfrm>
                    <a:off x="3067560" y="2529360"/>
                    <a:ext cx="2192040" cy="2994480"/>
                    <a:chOff x="3067560" y="2529360"/>
                    <a:chExt cx="2192040" cy="2994480"/>
                  </a:xfrm>
                </p:grpSpPr>
                <p:sp>
                  <p:nvSpPr>
                    <p:cNvPr id="306" name="Freeform 87"/>
                    <p:cNvSpPr/>
                    <p:nvPr/>
                  </p:nvSpPr>
                  <p:spPr>
                    <a:xfrm flipH="1" rot="18336000">
                      <a:off x="3421440" y="3312360"/>
                      <a:ext cx="2124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88"/>
                    <p:cNvSpPr/>
                    <p:nvPr/>
                  </p:nvSpPr>
                  <p:spPr>
                    <a:xfrm flipH="1" rot="18336000">
                      <a:off x="3075120" y="4583160"/>
                      <a:ext cx="11379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89"/>
                  <p:cNvGrpSpPr/>
                  <p:nvPr/>
                </p:nvGrpSpPr>
                <p:grpSpPr>
                  <a:xfrm>
                    <a:off x="3791160" y="2648520"/>
                    <a:ext cx="1483560" cy="2998800"/>
                    <a:chOff x="3791160" y="2648520"/>
                    <a:chExt cx="1483560" cy="2998800"/>
                  </a:xfrm>
                </p:grpSpPr>
                <p:sp>
                  <p:nvSpPr>
                    <p:cNvPr id="309" name="Freeform 90"/>
                    <p:cNvSpPr/>
                    <p:nvPr/>
                  </p:nvSpPr>
                  <p:spPr>
                    <a:xfrm flipH="1" rot="17543400">
                      <a:off x="3737520" y="3438720"/>
                      <a:ext cx="19681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91"/>
                    <p:cNvSpPr/>
                    <p:nvPr/>
                  </p:nvSpPr>
                  <p:spPr>
                    <a:xfrm flipH="1" rot="17543400">
                      <a:off x="3742200" y="4744080"/>
                      <a:ext cx="10555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92"/>
                  <p:cNvGrpSpPr/>
                  <p:nvPr/>
                </p:nvGrpSpPr>
                <p:grpSpPr>
                  <a:xfrm>
                    <a:off x="4505400" y="2694240"/>
                    <a:ext cx="869040" cy="2925720"/>
                    <a:chOff x="4505400" y="2694240"/>
                    <a:chExt cx="869040" cy="2925720"/>
                  </a:xfrm>
                </p:grpSpPr>
                <p:sp>
                  <p:nvSpPr>
                    <p:cNvPr id="312" name="Freeform 93"/>
                    <p:cNvSpPr/>
                    <p:nvPr/>
                  </p:nvSpPr>
                  <p:spPr>
                    <a:xfrm flipH="1" rot="16870800">
                      <a:off x="4080240" y="3479040"/>
                      <a:ext cx="1884240" cy="34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94"/>
                    <p:cNvSpPr/>
                    <p:nvPr/>
                  </p:nvSpPr>
                  <p:spPr>
                    <a:xfrm flipH="1" rot="16870800">
                      <a:off x="4362120" y="4800240"/>
                      <a:ext cx="1011960" cy="54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95"/>
                  <p:cNvGrpSpPr/>
                  <p:nvPr/>
                </p:nvGrpSpPr>
                <p:grpSpPr>
                  <a:xfrm>
                    <a:off x="5675760" y="2484360"/>
                    <a:ext cx="2280240" cy="2948040"/>
                    <a:chOff x="5675760" y="2484360"/>
                    <a:chExt cx="2280240" cy="2948040"/>
                  </a:xfrm>
                </p:grpSpPr>
                <p:sp>
                  <p:nvSpPr>
                    <p:cNvPr id="315" name="Freeform 96"/>
                    <p:cNvSpPr/>
                    <p:nvPr/>
                  </p:nvSpPr>
                  <p:spPr>
                    <a:xfrm rot="3144000">
                      <a:off x="5414400" y="325080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97"/>
                    <p:cNvSpPr/>
                    <p:nvPr/>
                  </p:nvSpPr>
                  <p:spPr>
                    <a:xfrm rot="3144000">
                      <a:off x="6800760" y="4496040"/>
                      <a:ext cx="11383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98"/>
                  <p:cNvGrpSpPr/>
                  <p:nvPr/>
                </p:nvGrpSpPr>
                <p:grpSpPr>
                  <a:xfrm>
                    <a:off x="5646960" y="2594880"/>
                    <a:ext cx="1758240" cy="3030120"/>
                    <a:chOff x="5646960" y="2594880"/>
                    <a:chExt cx="1758240" cy="3030120"/>
                  </a:xfrm>
                </p:grpSpPr>
                <p:sp>
                  <p:nvSpPr>
                    <p:cNvPr id="318" name="Freeform 99"/>
                    <p:cNvSpPr/>
                    <p:nvPr/>
                  </p:nvSpPr>
                  <p:spPr>
                    <a:xfrm rot="3745200">
                      <a:off x="5265000" y="3395520"/>
                      <a:ext cx="203112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100"/>
                    <p:cNvSpPr/>
                    <p:nvPr/>
                  </p:nvSpPr>
                  <p:spPr>
                    <a:xfrm rot="3745200">
                      <a:off x="6352200" y="4719240"/>
                      <a:ext cx="108900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101"/>
                  <p:cNvGrpSpPr/>
                  <p:nvPr/>
                </p:nvGrpSpPr>
                <p:grpSpPr>
                  <a:xfrm>
                    <a:off x="5576040" y="2710080"/>
                    <a:ext cx="1223640" cy="2987640"/>
                    <a:chOff x="5576040" y="2710080"/>
                    <a:chExt cx="1223640" cy="2987640"/>
                  </a:xfrm>
                </p:grpSpPr>
                <p:sp>
                  <p:nvSpPr>
                    <p:cNvPr id="321" name="Freeform 102"/>
                    <p:cNvSpPr/>
                    <p:nvPr/>
                  </p:nvSpPr>
                  <p:spPr>
                    <a:xfrm rot="4286400">
                      <a:off x="5047200" y="3541320"/>
                      <a:ext cx="197208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103"/>
                    <p:cNvSpPr/>
                    <p:nvPr/>
                  </p:nvSpPr>
                  <p:spPr>
                    <a:xfrm rot="4286400">
                      <a:off x="5877360" y="4883040"/>
                      <a:ext cx="105804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04"/>
                  <p:cNvGrpSpPr/>
                  <p:nvPr/>
                </p:nvGrpSpPr>
                <p:grpSpPr>
                  <a:xfrm>
                    <a:off x="5518800" y="2838600"/>
                    <a:ext cx="701640" cy="2778840"/>
                    <a:chOff x="5518800" y="2838600"/>
                    <a:chExt cx="701640" cy="2778840"/>
                  </a:xfrm>
                </p:grpSpPr>
                <p:sp>
                  <p:nvSpPr>
                    <p:cNvPr id="324" name="Freeform 105"/>
                    <p:cNvSpPr/>
                    <p:nvPr/>
                  </p:nvSpPr>
                  <p:spPr>
                    <a:xfrm rot="4898400">
                      <a:off x="4894560" y="3605400"/>
                      <a:ext cx="1812960" cy="30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106"/>
                    <p:cNvSpPr/>
                    <p:nvPr/>
                  </p:nvSpPr>
                  <p:spPr>
                    <a:xfrm rot="4898400">
                      <a:off x="5425920" y="4861440"/>
                      <a:ext cx="97560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107"/>
                  <p:cNvGrpSpPr/>
                  <p:nvPr/>
                </p:nvGrpSpPr>
                <p:grpSpPr>
                  <a:xfrm>
                    <a:off x="4961520" y="2885760"/>
                    <a:ext cx="661680" cy="2719080"/>
                    <a:chOff x="4961520" y="2885760"/>
                    <a:chExt cx="661680" cy="2719080"/>
                  </a:xfrm>
                </p:grpSpPr>
                <p:sp>
                  <p:nvSpPr>
                    <p:cNvPr id="327" name="Freeform 108"/>
                    <p:cNvSpPr/>
                    <p:nvPr/>
                  </p:nvSpPr>
                  <p:spPr>
                    <a:xfrm rot="5755200">
                      <a:off x="4531320" y="3662280"/>
                      <a:ext cx="17708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09"/>
                    <p:cNvSpPr/>
                    <p:nvPr/>
                  </p:nvSpPr>
                  <p:spPr>
                    <a:xfrm rot="5755200">
                      <a:off x="4715280" y="4930560"/>
                      <a:ext cx="95184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330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331" name="Arc 112"/>
                  <p:cNvSpPr/>
                  <p:nvPr/>
                </p:nvSpPr>
                <p:spPr>
                  <a:xfrm flipV="1">
                    <a:off x="5741640" y="855720"/>
                    <a:ext cx="3165480" cy="2524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Arc 114"/>
                  <p:cNvSpPr/>
                  <p:nvPr/>
                </p:nvSpPr>
                <p:spPr>
                  <a:xfrm>
                    <a:off x="5819400" y="1751040"/>
                    <a:ext cx="17582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Arc 115"/>
                  <p:cNvSpPr/>
                  <p:nvPr/>
                </p:nvSpPr>
                <p:spPr>
                  <a:xfrm flipH="1">
                    <a:off x="2173320" y="129708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Arc 116"/>
                  <p:cNvSpPr/>
                  <p:nvPr/>
                </p:nvSpPr>
                <p:spPr>
                  <a:xfrm flipH="1">
                    <a:off x="3056040" y="680400"/>
                    <a:ext cx="228240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rc 117"/>
                  <p:cNvSpPr/>
                  <p:nvPr/>
                </p:nvSpPr>
                <p:spPr>
                  <a:xfrm>
                    <a:off x="5491440" y="1875240"/>
                    <a:ext cx="94464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18"/>
                  <p:cNvSpPr/>
                  <p:nvPr/>
                </p:nvSpPr>
                <p:spPr>
                  <a:xfrm flipH="1">
                    <a:off x="4303440" y="83304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Freeform 119"/>
                <p:cNvSpPr/>
                <p:nvPr/>
              </p:nvSpPr>
              <p:spPr>
                <a:xfrm rot="20253000">
                  <a:off x="6128640" y="2178360"/>
                  <a:ext cx="54468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20"/>
            <p:cNvGrpSpPr/>
            <p:nvPr/>
          </p:nvGrpSpPr>
          <p:grpSpPr>
            <a:xfrm>
              <a:off x="2342880" y="729720"/>
              <a:ext cx="6413400" cy="4702320"/>
              <a:chOff x="2342880" y="729720"/>
              <a:chExt cx="6413400" cy="4702320"/>
            </a:xfrm>
          </p:grpSpPr>
          <p:sp>
            <p:nvSpPr>
              <p:cNvPr id="340" name="Freeform 121"/>
              <p:cNvSpPr/>
              <p:nvPr/>
            </p:nvSpPr>
            <p:spPr>
              <a:xfrm flipH="1">
                <a:off x="4470120" y="324864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1" name="Arc 122"/>
              <p:cNvSpPr/>
              <p:nvPr/>
            </p:nvSpPr>
            <p:spPr>
              <a:xfrm flipH="1">
                <a:off x="3383640" y="2594160"/>
                <a:ext cx="2615400" cy="2837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2" name="Arc 123"/>
              <p:cNvSpPr/>
              <p:nvPr/>
            </p:nvSpPr>
            <p:spPr>
              <a:xfrm flipH="1">
                <a:off x="3645360" y="2137320"/>
                <a:ext cx="153468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3" name="Arc 124"/>
              <p:cNvSpPr/>
              <p:nvPr/>
            </p:nvSpPr>
            <p:spPr>
              <a:xfrm flipH="1">
                <a:off x="2342520" y="1754280"/>
                <a:ext cx="2931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4" name="Arc 125"/>
              <p:cNvSpPr/>
              <p:nvPr/>
            </p:nvSpPr>
            <p:spPr>
              <a:xfrm>
                <a:off x="5589360" y="2165760"/>
                <a:ext cx="46980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5" name="Arc 126"/>
              <p:cNvSpPr/>
              <p:nvPr/>
            </p:nvSpPr>
            <p:spPr>
              <a:xfrm>
                <a:off x="5711400" y="2152080"/>
                <a:ext cx="1239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Freeform 127"/>
              <p:cNvSpPr/>
              <p:nvPr/>
            </p:nvSpPr>
            <p:spPr>
              <a:xfrm>
                <a:off x="6155640" y="356040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Freeform 128"/>
              <p:cNvSpPr/>
              <p:nvPr/>
            </p:nvSpPr>
            <p:spPr>
              <a:xfrm flipV="1" rot="19660800">
                <a:off x="5226120" y="2961000"/>
                <a:ext cx="54360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Freeform 129"/>
              <p:cNvSpPr/>
              <p:nvPr/>
            </p:nvSpPr>
            <p:spPr>
              <a:xfrm flipH="1">
                <a:off x="2686320" y="3397680"/>
                <a:ext cx="13359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Freeform 130"/>
              <p:cNvSpPr/>
              <p:nvPr/>
            </p:nvSpPr>
            <p:spPr>
              <a:xfrm flipH="1">
                <a:off x="3317040" y="1414440"/>
                <a:ext cx="8571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Freeform 131"/>
              <p:cNvSpPr/>
              <p:nvPr/>
            </p:nvSpPr>
            <p:spPr>
              <a:xfrm>
                <a:off x="7513920" y="3121560"/>
                <a:ext cx="1242360" cy="19706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32"/>
              <p:cNvSpPr/>
              <p:nvPr/>
            </p:nvSpPr>
            <p:spPr>
              <a:xfrm>
                <a:off x="6867360" y="2125080"/>
                <a:ext cx="1875240" cy="131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33"/>
              <p:cNvSpPr/>
              <p:nvPr/>
            </p:nvSpPr>
            <p:spPr>
              <a:xfrm>
                <a:off x="6937920" y="729720"/>
                <a:ext cx="819000" cy="176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34"/>
              <p:cNvSpPr/>
              <p:nvPr/>
            </p:nvSpPr>
            <p:spPr>
              <a:xfrm flipH="1" rot="1347000">
                <a:off x="4183200" y="2169000"/>
                <a:ext cx="542880" cy="1030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DE57-D1A9-4482-B5E3-68A478D79A2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7980-CA07-4893-AA8B-E32400CF2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4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57120" y="45720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观义中学九年级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家长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3" name="sax.mp3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428840" y="1000080"/>
            <a:ext cx="619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过去的大半个学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期中考试成绩情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优秀典型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耀：年级第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冬梅：年级第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第二十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刘   洋：年级第二十六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第三十八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   潼：年级第四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10287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0070c0"/>
                </a:solidFill>
                <a:latin typeface="隶书"/>
                <a:ea typeface="隶书"/>
              </a:rPr>
              <a:t>期中考试进步较快的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5640" y="1285560"/>
            <a:ext cx="61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胡   杰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91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永坤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2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佳岚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浩东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高清木纹质感图片"/>
          <p:cNvPicPr/>
          <p:nvPr/>
        </p:nvPicPr>
        <p:blipFill>
          <a:blip r:embed="rId1"/>
          <a:stretch/>
        </p:blipFill>
        <p:spPr>
          <a:xfrm>
            <a:off x="179280" y="-17136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半期来需要特别关注需与老师配合教育的学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7640" y="1857240"/>
            <a:ext cx="92170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卿蒲锞、胡杰、胡雯、张亚鑫、何舒鹏、罗鑫等这些学生，学习很有潜力，但习惯不好，爱跳爱闹；杨冬琴、梁宵、潼粒峰等学生经常星期天返校迟到，学习目的不明确，贪玩好耍；胡雯、武飞、李志洋等曾有过没按时回家的行为；何鑫、武飞、杨永坤等曾有过玩手机、游戏的行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…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在这次考试后，我们发现很多同学的总分高不了，究其原因，偏科太厉害！尤其要引起重视的是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语文、政治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反复强调的知识点没落实到位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部分同学态度不端正，上课不够专心，出现开小差、玩手机，自己做自己的事情，完全不关注老师所讲的内容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一些学生作业马虎、差错多，选择题答题随意，计算题只写一个答案；学生没有养成提前预习和适时复习的好习惯，导致效果不太满意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学习不扎实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不能落实到实处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不能合理安排时间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个别同学没有明确的目标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基础太差，学习习惯不好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学生自觉性差，个别同学有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8" name="Picture 6" descr="边框05"/>
          <p:cNvPicPr/>
          <p:nvPr/>
        </p:nvPicPr>
        <p:blipFill>
          <a:blip r:embed="rId2"/>
          <a:stretch/>
        </p:blipFill>
        <p:spPr>
          <a:xfrm>
            <a:off x="0" y="1214280"/>
            <a:ext cx="9286920" cy="5643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271600" y="1357200"/>
            <a:ext cx="38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一、重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、了解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三、关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四、鼓励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五、督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六、配合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0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            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357840" cy="6858000"/>
            <a:chOff x="0" y="0"/>
            <a:chExt cx="9357840" cy="6858000"/>
          </a:xfrm>
        </p:grpSpPr>
        <p:pic>
          <p:nvPicPr>
            <p:cNvPr id="533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4"/>
            <p:cNvSpPr/>
            <p:nvPr/>
          </p:nvSpPr>
          <p:spPr>
            <a:xfrm>
              <a:off x="0" y="0"/>
              <a:ext cx="257328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5302800" y="3886200"/>
              <a:ext cx="319752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68360" y="1362960"/>
            <a:ext cx="881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尤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喜欢涂鸦校服、改动校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357200" y="38088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80880" y="1428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晚上外出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品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不良刊物、药物、香烟酒类，甚至不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业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成绩一落千丈，经常迟到早退、逃学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交友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社会人士的朋友、电话，有朋友也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习惯：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68360" y="1700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最好能经常与学校、老师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7440" y="446724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63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家长们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     </a:t>
            </a: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交流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1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3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4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3766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89536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4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WordArt 6"/>
          <p:cNvSpPr txBox="1"/>
          <p:nvPr/>
        </p:nvSpPr>
        <p:spPr>
          <a:xfrm>
            <a:off x="35712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热烈欢迎各位家长</a:t>
            </a:r>
            <a:endParaRPr b="0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cover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4" descr="BJ3009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Text Box 7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Text Box 9">
            <a:hlinkClick r:id="rId3" action="ppaction://hlinksldjump"/>
          </p:cNvPr>
          <p:cNvSpPr/>
          <p:nvPr/>
        </p:nvSpPr>
        <p:spPr>
          <a:xfrm>
            <a:off x="1332000" y="37148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332000" y="4857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87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90720" y="152280"/>
            <a:ext cx="7153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本学期班级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38080" y="213372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506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的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学生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Administrator</cp:lastModifiedBy>
  <dcterms:modified xsi:type="dcterms:W3CDTF">2012-11-21T08:37:24Z</dcterms:modified>
  <cp:revision>308</cp:revision>
  <dc:subject/>
  <dc:title>热烈欢迎各位家长</dc:title>
</cp:coreProperties>
</file>