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F43E-C432-4189-8CFA-9F7E064D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0DA1-DEE8-43FA-940B-114A0D60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51AF-7AB5-4059-B07B-9810549D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B777-179B-4D7C-913F-1C000D28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E9B7-B0FA-4E53-9DF1-F0901438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0357-1F62-4A10-BAD0-0EA32795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E578-B481-43B8-8DBE-C668CEAB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7E61-2C31-4D98-8067-CB9CD450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34E0-6D20-4D25-A4E2-F67F6E2E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2766-A407-49A3-BDBD-D93E9D43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CA61-0873-4FA2-974D-5A53129F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812F-0935-4C30-AAFA-2057E617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6BAF91-DE72-4CE4-8311-64E1852AED6C}" type="datetime">
              <a:rPr b="0" lang="nb-N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B8F1CD-7516-48E7-9332-B3FA61019C8B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1766880"/>
            <a:ext cx="9144000" cy="2195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92240" y="1144440"/>
            <a:ext cx="8434080" cy="3351240"/>
            <a:chOff x="192240" y="1144440"/>
            <a:chExt cx="8434080" cy="3351240"/>
          </a:xfrm>
        </p:grpSpPr>
        <p:grpSp>
          <p:nvGrpSpPr>
            <p:cNvPr id="43" name=""/>
            <p:cNvGrpSpPr/>
            <p:nvPr/>
          </p:nvGrpSpPr>
          <p:grpSpPr>
            <a:xfrm>
              <a:off x="6552360" y="2364120"/>
              <a:ext cx="2061000" cy="322560"/>
              <a:chOff x="6552360" y="2364120"/>
              <a:chExt cx="2061000" cy="322560"/>
            </a:xfrm>
          </p:grpSpPr>
          <p:pic>
            <p:nvPicPr>
              <p:cNvPr id="44" name="Ellipse 98" descr=""/>
              <p:cNvPicPr/>
              <p:nvPr/>
            </p:nvPicPr>
            <p:blipFill>
              <a:blip r:embed="rId1"/>
              <a:stretch/>
            </p:blipFill>
            <p:spPr>
              <a:xfrm>
                <a:off x="6552360" y="2364120"/>
                <a:ext cx="20610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6852600" y="2410200"/>
                <a:ext cx="14565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" name="Bent Arrow 40"/>
            <p:cNvSpPr/>
            <p:nvPr/>
          </p:nvSpPr>
          <p:spPr>
            <a:xfrm rot="5400000">
              <a:off x="2022840" y="1910520"/>
              <a:ext cx="1037160" cy="1109880"/>
            </a:xfrm>
            <a:custGeom>
              <a:avLst/>
              <a:gdLst>
                <a:gd name="textAreaLeft" fmla="*/ 0 w 1037160"/>
                <a:gd name="textAreaRight" fmla="*/ 1037520 w 10371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1038600" h="1108618">
                  <a:moveTo>
                    <a:pt x="0" y="1108618"/>
                  </a:moveTo>
                  <a:lnTo>
                    <a:pt x="0" y="584213"/>
                  </a:lnTo>
                  <a:cubicBezTo>
                    <a:pt x="0" y="333261"/>
                    <a:pt x="203436" y="129825"/>
                    <a:pt x="454387" y="129825"/>
                  </a:cubicBezTo>
                  <a:lnTo>
                    <a:pt x="778950" y="129825"/>
                  </a:lnTo>
                  <a:lnTo>
                    <a:pt x="778950" y="0"/>
                  </a:lnTo>
                  <a:lnTo>
                    <a:pt x="1038600" y="259650"/>
                  </a:lnTo>
                  <a:lnTo>
                    <a:pt x="778950" y="519300"/>
                  </a:lnTo>
                  <a:lnTo>
                    <a:pt x="778950" y="389475"/>
                  </a:lnTo>
                  <a:lnTo>
                    <a:pt x="454388" y="389475"/>
                  </a:lnTo>
                  <a:lnTo>
                    <a:pt x="454387" y="389475"/>
                  </a:lnTo>
                  <a:cubicBezTo>
                    <a:pt x="346837" y="389475"/>
                    <a:pt x="259650" y="476662"/>
                    <a:pt x="259650" y="584212"/>
                  </a:cubicBezTo>
                  <a:lnTo>
                    <a:pt x="259650" y="1108618"/>
                  </a:lnTo>
                  <a:lnTo>
                    <a:pt x="0" y="1108618"/>
                  </a:lnTo>
                  <a:close/>
                </a:path>
              </a:pathLst>
            </a:custGeom>
            <a:solidFill>
              <a:srgbClr val="9cc43b"/>
            </a:solidFill>
            <a:ln w="0">
              <a:noFill/>
            </a:ln>
            <a:effectLst>
              <a:outerShdw dist="22881" dir="1448732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Rounded Rectangle 6"/>
            <p:cNvSpPr/>
            <p:nvPr/>
          </p:nvSpPr>
          <p:spPr>
            <a:xfrm>
              <a:off x="385920" y="1163160"/>
              <a:ext cx="1600560" cy="9896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63360">
              <a:solidFill>
                <a:srgbClr val="9cc43b"/>
              </a:solidFill>
              <a:miter/>
            </a:ln>
            <a:effectLst>
              <a:outerShdw dist="23040" dir="5400000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Rounded Rectangle 8"/>
            <p:cNvSpPr/>
            <p:nvPr/>
          </p:nvSpPr>
          <p:spPr>
            <a:xfrm>
              <a:off x="1986840" y="2970000"/>
              <a:ext cx="1600560" cy="9896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63360">
              <a:solidFill>
                <a:srgbClr val="9cc43b"/>
              </a:solidFill>
              <a:miter/>
            </a:ln>
            <a:effectLst>
              <a:outerShdw dist="23040" dir="5400000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Rounded Rectangle 10"/>
            <p:cNvSpPr/>
            <p:nvPr/>
          </p:nvSpPr>
          <p:spPr>
            <a:xfrm>
              <a:off x="3578040" y="1144440"/>
              <a:ext cx="1600560" cy="9896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63360">
              <a:solidFill>
                <a:srgbClr val="9cc43b"/>
              </a:solidFill>
              <a:miter/>
            </a:ln>
            <a:effectLst>
              <a:outerShdw dist="23040" dir="5400000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ktangel 76"/>
            <p:cNvSpPr/>
            <p:nvPr/>
          </p:nvSpPr>
          <p:spPr>
            <a:xfrm>
              <a:off x="567000" y="1315440"/>
              <a:ext cx="121932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eplace with your own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is is an example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ktangel 76"/>
            <p:cNvSpPr/>
            <p:nvPr/>
          </p:nvSpPr>
          <p:spPr>
            <a:xfrm>
              <a:off x="2139120" y="3126960"/>
              <a:ext cx="121932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eplace with your own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is is an example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ktangel 76"/>
            <p:cNvSpPr/>
            <p:nvPr/>
          </p:nvSpPr>
          <p:spPr>
            <a:xfrm>
              <a:off x="3751200" y="1301400"/>
              <a:ext cx="121932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eplace with your own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is is an example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3350880" y="2364120"/>
              <a:ext cx="2054880" cy="322560"/>
              <a:chOff x="3350880" y="2364120"/>
              <a:chExt cx="2054880" cy="322560"/>
            </a:xfrm>
          </p:grpSpPr>
          <p:pic>
            <p:nvPicPr>
              <p:cNvPr id="54" name="Ellipse 98" descr=""/>
              <p:cNvPicPr/>
              <p:nvPr/>
            </p:nvPicPr>
            <p:blipFill>
              <a:blip r:embed="rId2"/>
              <a:stretch/>
            </p:blipFill>
            <p:spPr>
              <a:xfrm>
                <a:off x="3350880" y="2364120"/>
                <a:ext cx="205488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3650400" y="2410200"/>
                <a:ext cx="14565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1747080" y="4167000"/>
              <a:ext cx="2061000" cy="328680"/>
              <a:chOff x="1747080" y="4167000"/>
              <a:chExt cx="2061000" cy="328680"/>
            </a:xfrm>
          </p:grpSpPr>
          <p:pic>
            <p:nvPicPr>
              <p:cNvPr id="57" name="Ellipse 98" descr=""/>
              <p:cNvPicPr/>
              <p:nvPr/>
            </p:nvPicPr>
            <p:blipFill>
              <a:blip r:embed="rId3"/>
              <a:stretch/>
            </p:blipFill>
            <p:spPr>
              <a:xfrm>
                <a:off x="1747080" y="4167000"/>
                <a:ext cx="206100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2049480" y="4216320"/>
                <a:ext cx="14565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192240" y="2364120"/>
              <a:ext cx="2054880" cy="322560"/>
              <a:chOff x="192240" y="2364120"/>
              <a:chExt cx="2054880" cy="322560"/>
            </a:xfrm>
          </p:grpSpPr>
          <p:pic>
            <p:nvPicPr>
              <p:cNvPr id="60" name="Ellipse 98" descr=""/>
              <p:cNvPicPr/>
              <p:nvPr/>
            </p:nvPicPr>
            <p:blipFill>
              <a:blip r:embed="rId4"/>
              <a:stretch/>
            </p:blipFill>
            <p:spPr>
              <a:xfrm>
                <a:off x="192240" y="2364120"/>
                <a:ext cx="205488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490680" y="2410200"/>
                <a:ext cx="14565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1748160" y="1827720"/>
              <a:ext cx="416880" cy="459720"/>
              <a:chOff x="1748160" y="1827720"/>
              <a:chExt cx="416880" cy="459720"/>
            </a:xfrm>
          </p:grpSpPr>
          <p:sp>
            <p:nvSpPr>
              <p:cNvPr id="63" name="Ellipse 53"/>
              <p:cNvSpPr/>
              <p:nvPr/>
            </p:nvSpPr>
            <p:spPr>
              <a:xfrm>
                <a:off x="1748160" y="1867320"/>
                <a:ext cx="416880" cy="417240"/>
              </a:xfrm>
              <a:prstGeom prst="ellipse">
                <a:avLst/>
              </a:prstGeom>
              <a:solidFill>
                <a:srgbClr val="ffffff">
                  <a:alpha val="62000"/>
                </a:srgbClr>
              </a:solidFill>
              <a:ln w="9360">
                <a:solidFill>
                  <a:srgbClr val="ffffff"/>
                </a:solidFill>
                <a:miter/>
              </a:ln>
              <a:effectLst>
                <a:outerShdw dist="38183" dir="27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Tekstboks 54"/>
              <p:cNvSpPr/>
              <p:nvPr/>
            </p:nvSpPr>
            <p:spPr>
              <a:xfrm>
                <a:off x="1794960" y="182772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da-DK" sz="24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359520" y="3633840"/>
              <a:ext cx="416880" cy="459720"/>
              <a:chOff x="3359520" y="3633840"/>
              <a:chExt cx="416880" cy="459720"/>
            </a:xfrm>
          </p:grpSpPr>
          <p:sp>
            <p:nvSpPr>
              <p:cNvPr id="66" name="Ellipse 53"/>
              <p:cNvSpPr/>
              <p:nvPr/>
            </p:nvSpPr>
            <p:spPr>
              <a:xfrm>
                <a:off x="3359520" y="3674160"/>
                <a:ext cx="416880" cy="415440"/>
              </a:xfrm>
              <a:prstGeom prst="ellipse">
                <a:avLst/>
              </a:prstGeom>
              <a:solidFill>
                <a:srgbClr val="ffffff">
                  <a:alpha val="62000"/>
                </a:srgbClr>
              </a:solidFill>
              <a:ln w="9360">
                <a:solidFill>
                  <a:srgbClr val="ffffff"/>
                </a:solidFill>
                <a:miter/>
              </a:ln>
              <a:effectLst>
                <a:outerShdw dist="38183" dir="27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Tekstboks 54"/>
              <p:cNvSpPr/>
              <p:nvPr/>
            </p:nvSpPr>
            <p:spPr>
              <a:xfrm>
                <a:off x="3420360" y="363384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da-DK" sz="24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" name="Bent Arrow 41"/>
            <p:cNvSpPr/>
            <p:nvPr/>
          </p:nvSpPr>
          <p:spPr>
            <a:xfrm flipV="1" rot="16200000">
              <a:off x="3623400" y="2130480"/>
              <a:ext cx="1037160" cy="1109880"/>
            </a:xfrm>
            <a:custGeom>
              <a:avLst/>
              <a:gdLst>
                <a:gd name="textAreaLeft" fmla="*/ 0 w 1037160"/>
                <a:gd name="textAreaRight" fmla="*/ 1037520 w 1037160"/>
                <a:gd name="textAreaTop" fmla="*/ -360 h 1109880"/>
                <a:gd name="textAreaBottom" fmla="*/ 1109880 h 1109880"/>
              </a:gdLst>
              <a:ahLst/>
              <a:rect l="textAreaLeft" t="textAreaTop" r="textAreaRight" b="textAreaBottom"/>
              <a:pathLst>
                <a:path w="1038600" h="1108618">
                  <a:moveTo>
                    <a:pt x="0" y="1108618"/>
                  </a:moveTo>
                  <a:lnTo>
                    <a:pt x="0" y="584213"/>
                  </a:lnTo>
                  <a:cubicBezTo>
                    <a:pt x="0" y="333261"/>
                    <a:pt x="203436" y="129825"/>
                    <a:pt x="454387" y="129825"/>
                  </a:cubicBezTo>
                  <a:lnTo>
                    <a:pt x="778950" y="129825"/>
                  </a:lnTo>
                  <a:lnTo>
                    <a:pt x="778950" y="0"/>
                  </a:lnTo>
                  <a:lnTo>
                    <a:pt x="1038600" y="259650"/>
                  </a:lnTo>
                  <a:lnTo>
                    <a:pt x="778950" y="519300"/>
                  </a:lnTo>
                  <a:lnTo>
                    <a:pt x="778950" y="389475"/>
                  </a:lnTo>
                  <a:lnTo>
                    <a:pt x="454388" y="389475"/>
                  </a:lnTo>
                  <a:lnTo>
                    <a:pt x="454387" y="389475"/>
                  </a:lnTo>
                  <a:cubicBezTo>
                    <a:pt x="346837" y="389475"/>
                    <a:pt x="259650" y="476662"/>
                    <a:pt x="259650" y="584212"/>
                  </a:cubicBezTo>
                  <a:lnTo>
                    <a:pt x="259650" y="1108618"/>
                  </a:lnTo>
                  <a:lnTo>
                    <a:pt x="0" y="1108618"/>
                  </a:lnTo>
                  <a:close/>
                </a:path>
              </a:pathLst>
            </a:custGeom>
            <a:solidFill>
              <a:srgbClr val="9cc43b"/>
            </a:solidFill>
            <a:ln w="0">
              <a:noFill/>
            </a:ln>
            <a:effectLst>
              <a:outerShdw dist="22881" dir="1448732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Bent Arrow 42"/>
            <p:cNvSpPr/>
            <p:nvPr/>
          </p:nvSpPr>
          <p:spPr>
            <a:xfrm rot="5400000">
              <a:off x="5214960" y="1867680"/>
              <a:ext cx="1037160" cy="1109880"/>
            </a:xfrm>
            <a:custGeom>
              <a:avLst/>
              <a:gdLst>
                <a:gd name="textAreaLeft" fmla="*/ 0 w 1037160"/>
                <a:gd name="textAreaRight" fmla="*/ 1037520 w 10371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1038600" h="1108618">
                  <a:moveTo>
                    <a:pt x="0" y="1108618"/>
                  </a:moveTo>
                  <a:lnTo>
                    <a:pt x="0" y="584213"/>
                  </a:lnTo>
                  <a:cubicBezTo>
                    <a:pt x="0" y="333261"/>
                    <a:pt x="203436" y="129825"/>
                    <a:pt x="454387" y="129825"/>
                  </a:cubicBezTo>
                  <a:lnTo>
                    <a:pt x="778950" y="129825"/>
                  </a:lnTo>
                  <a:lnTo>
                    <a:pt x="778950" y="0"/>
                  </a:lnTo>
                  <a:lnTo>
                    <a:pt x="1038600" y="259650"/>
                  </a:lnTo>
                  <a:lnTo>
                    <a:pt x="778950" y="519300"/>
                  </a:lnTo>
                  <a:lnTo>
                    <a:pt x="778950" y="389475"/>
                  </a:lnTo>
                  <a:lnTo>
                    <a:pt x="454388" y="389475"/>
                  </a:lnTo>
                  <a:lnTo>
                    <a:pt x="454387" y="389475"/>
                  </a:lnTo>
                  <a:cubicBezTo>
                    <a:pt x="346837" y="389475"/>
                    <a:pt x="259650" y="476662"/>
                    <a:pt x="259650" y="584212"/>
                  </a:cubicBezTo>
                  <a:lnTo>
                    <a:pt x="259650" y="1108618"/>
                  </a:lnTo>
                  <a:lnTo>
                    <a:pt x="0" y="1108618"/>
                  </a:lnTo>
                  <a:close/>
                </a:path>
              </a:pathLst>
            </a:custGeom>
            <a:solidFill>
              <a:srgbClr val="9cc43b"/>
            </a:solidFill>
            <a:ln w="0">
              <a:noFill/>
            </a:ln>
            <a:effectLst>
              <a:outerShdw dist="22881" dir="1448732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ounded Rectangle 43"/>
            <p:cNvSpPr/>
            <p:nvPr/>
          </p:nvSpPr>
          <p:spPr>
            <a:xfrm>
              <a:off x="5178960" y="2970000"/>
              <a:ext cx="1600560" cy="9896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63360">
              <a:solidFill>
                <a:srgbClr val="9cc43b"/>
              </a:solidFill>
              <a:miter/>
            </a:ln>
            <a:effectLst>
              <a:outerShdw dist="23040" dir="5400000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ktangel 76"/>
            <p:cNvSpPr/>
            <p:nvPr/>
          </p:nvSpPr>
          <p:spPr>
            <a:xfrm>
              <a:off x="5331240" y="3126960"/>
              <a:ext cx="121932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eplace with your own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is is an example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6551280" y="3633840"/>
              <a:ext cx="416880" cy="459720"/>
              <a:chOff x="6551280" y="3633840"/>
              <a:chExt cx="416880" cy="459720"/>
            </a:xfrm>
          </p:grpSpPr>
          <p:sp>
            <p:nvSpPr>
              <p:cNvPr id="73" name="Ellipse 53"/>
              <p:cNvSpPr/>
              <p:nvPr/>
            </p:nvSpPr>
            <p:spPr>
              <a:xfrm>
                <a:off x="6551280" y="3674160"/>
                <a:ext cx="416880" cy="415440"/>
              </a:xfrm>
              <a:prstGeom prst="ellipse">
                <a:avLst/>
              </a:prstGeom>
              <a:solidFill>
                <a:srgbClr val="ffffff">
                  <a:alpha val="62000"/>
                </a:srgbClr>
              </a:solidFill>
              <a:ln w="9360">
                <a:solidFill>
                  <a:srgbClr val="ffffff"/>
                </a:solidFill>
                <a:miter/>
              </a:ln>
              <a:effectLst>
                <a:outerShdw dist="38183" dir="27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Tekstboks 54"/>
              <p:cNvSpPr/>
              <p:nvPr/>
            </p:nvSpPr>
            <p:spPr>
              <a:xfrm>
                <a:off x="6611760" y="363384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da-DK" sz="24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4991400" y="1715760"/>
              <a:ext cx="416880" cy="459720"/>
              <a:chOff x="4991400" y="1715760"/>
              <a:chExt cx="416880" cy="459720"/>
            </a:xfrm>
          </p:grpSpPr>
          <p:sp>
            <p:nvSpPr>
              <p:cNvPr id="76" name="Ellipse 53"/>
              <p:cNvSpPr/>
              <p:nvPr/>
            </p:nvSpPr>
            <p:spPr>
              <a:xfrm>
                <a:off x="4991400" y="1754640"/>
                <a:ext cx="416880" cy="417240"/>
              </a:xfrm>
              <a:prstGeom prst="ellipse">
                <a:avLst/>
              </a:prstGeom>
              <a:solidFill>
                <a:srgbClr val="ffffff">
                  <a:alpha val="62000"/>
                </a:srgbClr>
              </a:solidFill>
              <a:ln w="9360">
                <a:solidFill>
                  <a:srgbClr val="ffffff"/>
                </a:solidFill>
                <a:miter/>
              </a:ln>
              <a:effectLst>
                <a:outerShdw dist="38183" dir="27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Tekstboks 54"/>
              <p:cNvSpPr/>
              <p:nvPr/>
            </p:nvSpPr>
            <p:spPr>
              <a:xfrm>
                <a:off x="5051520" y="171576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da-DK" sz="24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5180400" y="4167000"/>
              <a:ext cx="2061000" cy="328680"/>
              <a:chOff x="5180400" y="4167000"/>
              <a:chExt cx="2061000" cy="328680"/>
            </a:xfrm>
          </p:grpSpPr>
          <p:pic>
            <p:nvPicPr>
              <p:cNvPr id="79" name="Ellipse 9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80400" y="4167000"/>
                <a:ext cx="206100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>
                <a:off x="5480640" y="4216320"/>
                <a:ext cx="14565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" name="Bent Arrow 52"/>
            <p:cNvSpPr/>
            <p:nvPr/>
          </p:nvSpPr>
          <p:spPr>
            <a:xfrm flipV="1" rot="16200000">
              <a:off x="6815520" y="2130480"/>
              <a:ext cx="1037160" cy="1109880"/>
            </a:xfrm>
            <a:custGeom>
              <a:avLst/>
              <a:gdLst>
                <a:gd name="textAreaLeft" fmla="*/ 0 w 1037160"/>
                <a:gd name="textAreaRight" fmla="*/ 1037520 w 1037160"/>
                <a:gd name="textAreaTop" fmla="*/ -360 h 1109880"/>
                <a:gd name="textAreaBottom" fmla="*/ 1109880 h 1109880"/>
              </a:gdLst>
              <a:ahLst/>
              <a:rect l="textAreaLeft" t="textAreaTop" r="textAreaRight" b="textAreaBottom"/>
              <a:pathLst>
                <a:path w="1038600" h="1108618">
                  <a:moveTo>
                    <a:pt x="0" y="1108618"/>
                  </a:moveTo>
                  <a:lnTo>
                    <a:pt x="0" y="584213"/>
                  </a:lnTo>
                  <a:cubicBezTo>
                    <a:pt x="0" y="333261"/>
                    <a:pt x="203436" y="129825"/>
                    <a:pt x="454387" y="129825"/>
                  </a:cubicBezTo>
                  <a:lnTo>
                    <a:pt x="778950" y="129825"/>
                  </a:lnTo>
                  <a:lnTo>
                    <a:pt x="778950" y="0"/>
                  </a:lnTo>
                  <a:lnTo>
                    <a:pt x="1038600" y="259650"/>
                  </a:lnTo>
                  <a:lnTo>
                    <a:pt x="778950" y="519300"/>
                  </a:lnTo>
                  <a:lnTo>
                    <a:pt x="778950" y="389475"/>
                  </a:lnTo>
                  <a:lnTo>
                    <a:pt x="454388" y="389475"/>
                  </a:lnTo>
                  <a:lnTo>
                    <a:pt x="454387" y="389475"/>
                  </a:lnTo>
                  <a:cubicBezTo>
                    <a:pt x="346837" y="389475"/>
                    <a:pt x="259650" y="476662"/>
                    <a:pt x="259650" y="584212"/>
                  </a:cubicBezTo>
                  <a:lnTo>
                    <a:pt x="259650" y="1108618"/>
                  </a:lnTo>
                  <a:lnTo>
                    <a:pt x="0" y="1108618"/>
                  </a:lnTo>
                  <a:close/>
                </a:path>
              </a:pathLst>
            </a:custGeom>
            <a:solidFill>
              <a:srgbClr val="9cc43b"/>
            </a:solidFill>
            <a:ln w="0">
              <a:noFill/>
            </a:ln>
            <a:effectLst>
              <a:outerShdw dist="22881" dir="1448732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ounded Rectangle 53"/>
            <p:cNvSpPr/>
            <p:nvPr/>
          </p:nvSpPr>
          <p:spPr>
            <a:xfrm>
              <a:off x="6795360" y="1144440"/>
              <a:ext cx="1600560" cy="9896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63360">
              <a:solidFill>
                <a:srgbClr val="9cc43b"/>
              </a:solidFill>
              <a:miter/>
            </a:ln>
            <a:effectLst>
              <a:outerShdw dist="23040" dir="5400000" blurRad="0" rotWithShape="0">
                <a:srgbClr val="80808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ktangel 76"/>
            <p:cNvSpPr/>
            <p:nvPr/>
          </p:nvSpPr>
          <p:spPr>
            <a:xfrm>
              <a:off x="6968520" y="1301400"/>
              <a:ext cx="121932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eplace with your own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is is an example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8209440" y="1715760"/>
              <a:ext cx="416880" cy="459720"/>
              <a:chOff x="8209440" y="1715760"/>
              <a:chExt cx="416880" cy="459720"/>
            </a:xfrm>
          </p:grpSpPr>
          <p:sp>
            <p:nvSpPr>
              <p:cNvPr id="85" name="Ellipse 53"/>
              <p:cNvSpPr/>
              <p:nvPr/>
            </p:nvSpPr>
            <p:spPr>
              <a:xfrm>
                <a:off x="8209440" y="1754640"/>
                <a:ext cx="416880" cy="417240"/>
              </a:xfrm>
              <a:prstGeom prst="ellipse">
                <a:avLst/>
              </a:prstGeom>
              <a:solidFill>
                <a:srgbClr val="ffffff">
                  <a:alpha val="62000"/>
                </a:srgbClr>
              </a:solidFill>
              <a:ln w="9360">
                <a:solidFill>
                  <a:srgbClr val="ffffff"/>
                </a:solidFill>
                <a:miter/>
              </a:ln>
              <a:effectLst>
                <a:outerShdw dist="38183" dir="27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Tekstboks 54"/>
              <p:cNvSpPr/>
              <p:nvPr/>
            </p:nvSpPr>
            <p:spPr>
              <a:xfrm>
                <a:off x="8269920" y="171576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da-DK" sz="2400" spc="-1" strike="noStrike">
                    <a:solidFill>
                      <a:srgbClr val="000000"/>
                    </a:solidFill>
                    <a:latin typeface="Calibri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7" name="Rectangle 93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ktangel 76"/>
          <p:cNvSpPr/>
          <p:nvPr/>
        </p:nvSpPr>
        <p:spPr>
          <a:xfrm>
            <a:off x="1112760" y="5473800"/>
            <a:ext cx="221004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1300" spc="-1" strike="noStrike">
                <a:solidFill>
                  <a:srgbClr val="ffffff"/>
                </a:solidFill>
                <a:latin typeface="Calibri"/>
                <a:ea typeface="Arial"/>
              </a:rPr>
              <a:t>Example tex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100" spc="-1" strike="noStrike">
                <a:solidFill>
                  <a:srgbClr val="ffffff"/>
                </a:solidFill>
                <a:latin typeface="Calibri"/>
                <a:ea typeface="Arial"/>
              </a:rPr>
              <a:t>Go ahead and replace it with your own text. This is an example tex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08200" y="5562720"/>
            <a:ext cx="250560" cy="250560"/>
            <a:chOff x="808200" y="5562720"/>
            <a:chExt cx="250560" cy="250560"/>
          </a:xfrm>
        </p:grpSpPr>
        <p:sp>
          <p:nvSpPr>
            <p:cNvPr id="90" name="Oval 96"/>
            <p:cNvSpPr/>
            <p:nvPr/>
          </p:nvSpPr>
          <p:spPr>
            <a:xfrm>
              <a:off x="808200" y="5562720"/>
              <a:ext cx="250560" cy="2505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Isosceles Triangle 97"/>
            <p:cNvSpPr/>
            <p:nvPr/>
          </p:nvSpPr>
          <p:spPr>
            <a:xfrm rot="5400000">
              <a:off x="874080" y="5622840"/>
              <a:ext cx="149040" cy="129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Rektangel 76"/>
          <p:cNvSpPr/>
          <p:nvPr/>
        </p:nvSpPr>
        <p:spPr>
          <a:xfrm>
            <a:off x="3805200" y="5473800"/>
            <a:ext cx="220968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1300" spc="-1" strike="noStrike">
                <a:solidFill>
                  <a:srgbClr val="ffffff"/>
                </a:solidFill>
                <a:latin typeface="Calibri"/>
                <a:ea typeface="Arial"/>
              </a:rPr>
              <a:t>Example tex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100" spc="-1" strike="noStrike">
                <a:solidFill>
                  <a:srgbClr val="ffffff"/>
                </a:solidFill>
                <a:latin typeface="Calibri"/>
                <a:ea typeface="Arial"/>
              </a:rPr>
              <a:t>Go ahead and replace it with your own text. This is an example tex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500280" y="5562720"/>
            <a:ext cx="250920" cy="250560"/>
            <a:chOff x="3500280" y="5562720"/>
            <a:chExt cx="250920" cy="250560"/>
          </a:xfrm>
        </p:grpSpPr>
        <p:sp>
          <p:nvSpPr>
            <p:cNvPr id="94" name="Oval 100"/>
            <p:cNvSpPr/>
            <p:nvPr/>
          </p:nvSpPr>
          <p:spPr>
            <a:xfrm>
              <a:off x="3500280" y="5562720"/>
              <a:ext cx="250920" cy="2505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Isosceles Triangle 101"/>
            <p:cNvSpPr/>
            <p:nvPr/>
          </p:nvSpPr>
          <p:spPr>
            <a:xfrm rot="5400000">
              <a:off x="3567240" y="5622840"/>
              <a:ext cx="149040" cy="130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Rektangel 76"/>
          <p:cNvSpPr/>
          <p:nvPr/>
        </p:nvSpPr>
        <p:spPr>
          <a:xfrm>
            <a:off x="6345360" y="5473800"/>
            <a:ext cx="220968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1300" spc="-1" strike="noStrike">
                <a:solidFill>
                  <a:srgbClr val="ffffff"/>
                </a:solidFill>
                <a:latin typeface="Calibri"/>
                <a:ea typeface="Arial"/>
              </a:rPr>
              <a:t>Example tex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100" spc="-1" strike="noStrike">
                <a:solidFill>
                  <a:srgbClr val="ffffff"/>
                </a:solidFill>
                <a:latin typeface="Calibri"/>
                <a:ea typeface="Arial"/>
              </a:rPr>
              <a:t>Go ahead and replace it with your own text. This is an example tex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040440" y="5562720"/>
            <a:ext cx="250920" cy="250560"/>
            <a:chOff x="6040440" y="5562720"/>
            <a:chExt cx="250920" cy="250560"/>
          </a:xfrm>
        </p:grpSpPr>
        <p:sp>
          <p:nvSpPr>
            <p:cNvPr id="98" name="Oval 104"/>
            <p:cNvSpPr/>
            <p:nvPr/>
          </p:nvSpPr>
          <p:spPr>
            <a:xfrm>
              <a:off x="6040440" y="5562720"/>
              <a:ext cx="250920" cy="2505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Isosceles Triangle 105"/>
            <p:cNvSpPr/>
            <p:nvPr/>
          </p:nvSpPr>
          <p:spPr>
            <a:xfrm rot="5400000">
              <a:off x="6107400" y="5622840"/>
              <a:ext cx="149040" cy="130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Rectangle 4"/>
          <p:cNvSpPr/>
          <p:nvPr/>
        </p:nvSpPr>
        <p:spPr>
          <a:xfrm>
            <a:off x="874800" y="6264360"/>
            <a:ext cx="1538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Your own foot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767640" y="6264360"/>
            <a:ext cx="1538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Your Log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54"/>
          <p:cNvSpPr/>
          <p:nvPr/>
        </p:nvSpPr>
        <p:spPr>
          <a:xfrm>
            <a:off x="314280" y="378000"/>
            <a:ext cx="287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b-NO" sz="1500" spc="-1" strike="noStrike">
                <a:solidFill>
                  <a:srgbClr val="262626"/>
                </a:solidFill>
                <a:latin typeface="Calibri"/>
              </a:rPr>
              <a:t>ARROWS AND BOX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8:28:24Z</dcterms:created>
  <dc:creator/>
  <dc:description/>
  <cp:keywords/>
  <dc:language>en-US</dc:language>
  <cp:lastModifiedBy>GZB</cp:lastModifiedBy>
  <cp:lastPrinted>1899-12-30T00:00:00Z</cp:lastPrinted>
  <dcterms:modified xsi:type="dcterms:W3CDTF">2012-09-09T03:52:4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