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44F-929C-44AB-8DD1-430B6C44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1CE-1A07-4184-862E-A095B63E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4D121-7F3C-4E92-BE7F-25422001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20947-CE57-462B-9ABA-0EE62BBA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EB009-A861-48A6-BF7F-4687CF31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6C742-C3EE-4691-A415-B4E56037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026F2-2260-491A-8D0C-B66E58AC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9AAEF-079C-446D-B55C-F295A94D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9FC8B-4976-4BC0-9BEC-B1951CF6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0E9B2-B2BA-4945-ABDA-19087C0B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52D80-364B-40BC-827E-DF3D8177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ECE2E-63B0-4361-B866-BEB04EFC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DB4-988A-4F3C-993F-92C93BA1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7DE7C-58EA-4A2E-A239-F7F1E5B1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374AE-9C39-4171-9DE6-58FBF323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7938D-03E6-4443-A47C-6BEB64AE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823AC-DD23-4022-ADFA-13846881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7D867-DAD4-46FD-8EE9-C343819C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3148F-307E-4D63-A536-91C45A9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553C5-C1E4-4317-9B0F-6B7D1091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4ED76-2428-442E-9395-E94D9FDF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90B9A-F30C-4EA3-97CE-BBABF8E9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862C0-186D-4A2C-814D-102E6AAB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637-2954-4ADE-B833-361AD642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290B4-AF51-4CD7-807F-9174F68C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279D8-96D8-484D-BAA8-F0606683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A6420-E4DA-4D77-B414-43DE8C4B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3DE35-ECA3-4831-B12A-1A9C5BE1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3444D-4611-4BDE-814A-2D4817CA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89033-D2DD-4168-AFA9-CAB28815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AFE3E-B92E-4F0C-8EBF-7B045524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971A4-8BFC-4432-A6DB-1CC721FE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64F9D-150E-4D1F-8D80-F5CF2012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B8631-393E-4C02-B95D-C9E58A3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AC74-82C8-4D9F-9B8C-E82B7D04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C338B-D684-4FB4-8B69-8DB82AF8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7B800-40A1-4664-82B2-70DFE7B8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AB60C-2A90-4540-9911-DFCB3346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B1D1C-A68C-4EEC-B90E-2EBA36FF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C1343-D8D5-40E6-A093-BF0C7611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D85EE-0F26-4FB2-9C57-683D3345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F0A36-6412-44EA-B09B-635138D0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317E6-231F-424A-93EC-E1FEBF2B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F958D-8523-495F-A9A4-50D7139B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DD134-0D4A-4CFE-BA5F-ED1A2DD5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E536-B28A-4394-A15A-5521C6E1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7E4D0-2245-4D27-83D3-6F8DD555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72C97-55A4-4222-A346-DF33CEFE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1B231-DF69-4E6F-9871-D9618089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DB8DD-D2C7-4F2C-89D5-6FFCE981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F4C17-4891-46B2-A933-3B97EFEA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50A11-5E32-40D8-A239-9DC80C96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082A8-5E0B-4505-9D31-7125A694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3FF8A-7895-41CB-BA41-C81E2AE9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D8793-4CAA-46A6-81E1-93540259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3FADA-CA3F-42C9-AB72-5B75ABF0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FD86-43B5-42DA-A5F9-4A1C14B1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00E17-40C7-4FD4-AFCE-0B5D0987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24F2B-9D58-4C5A-8926-327A676F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E57F2-2C6B-4234-947C-D548579D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B0C77-C324-4FA1-91D5-9C0D932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BAE41-6053-4BBF-BA70-5446AC77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3E863-8B4B-4432-B69E-7C6E0214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F735A-5C02-4F89-9EA5-70D1685F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4B5A-D041-4DC8-9C7E-C443AD33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B2C0-B67D-4565-8895-F8067390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65C6-1E99-49EF-B091-A730C0AA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17B7-125F-449D-B673-9196618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67A-5944-458F-A3A7-CD5006F2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DD01-1FE2-4251-9AED-8AFD791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38AE-972F-4BD7-A756-8C3BFFBD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1D44-0BD7-47DE-893C-7DF9B3C6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868D-5F9C-49AE-B0ED-7CA09F7F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618A-139E-47E2-AAB4-955E7EA8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4C3DC-A196-40A2-8174-22CB23A8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C79AB-D4CD-4DFF-8B5D-C1F4A1C7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F1B8-80AD-40D4-92E7-9522CC17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81C5-FD46-4218-99E2-65FCAF2A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C7D6-ACA2-40ED-971C-B1246BE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820-BECC-4D18-8AA9-2E6A8A04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1453-12B3-477C-9BEA-F799C25C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A43F-C700-48ED-B272-04BAACB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6AEA-F540-4616-999D-A34F1C23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CDAC-B1E4-40A9-8103-D543A6D9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C312-5171-4A08-9041-93356EBD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3062-7AC0-4D94-91EA-A7B469E7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ED4B5-A20B-4637-A95B-A8F75BD3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D9DC6-ADA4-422A-8987-573E0DD9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72F8-12BB-4C31-99B6-F92F25E2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420F8-D6BB-4EA0-A7A8-40E63BA4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8AB-1B0C-47E3-8CEF-2F0C061C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1E1C-B302-4081-8ACF-23E923F9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06B7F-13B8-4C0E-9C39-FC30CA6D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C3CC5-03AE-44DF-BA44-5521EA11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9253D-A3BF-4F9B-B020-0E0789F6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9E9A-EFE3-4C5B-93AD-69A8038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EB1BF-9199-47E2-A385-8A92A3BD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9A1C-2618-428A-9446-80B3316A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0A26-5263-4B9E-A033-708613A9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CE46-8912-4F95-ACA9-3E6898D4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C1006-02B3-4DB9-A464-D6380573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A17-C4BD-495A-A418-CDB012CC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32B5D-639C-411E-A3E7-9A9662A5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FAE08-EEB9-4090-8356-FFB94C94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9F865-149F-43FA-9099-F8E5A618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28946-1C4E-464C-8D32-15A48A0D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5395-E5E6-496F-ABA9-5D2B63B5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20BFF-7617-4D5B-A49A-46EA6EF2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C7F47-C223-4CC8-A142-5110D7C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02805-FEA2-443B-89E7-58CE3900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F2087-9C2B-4EE4-B54C-8442D865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6FF39-6B83-4056-A897-764E2378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4FD-862C-402F-8FB8-84D3DBDD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EAB78-66D2-413C-9836-F55FBA70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3B3FC-C2C3-48DD-927C-195497FD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DD292-B748-44F3-BD8F-89CDA343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9AD6C-DEBF-41BC-A6BD-D70880B3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28D95-67D1-44F4-9203-30698804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B36AD-AEC7-4F56-9E39-7C8700EC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FD64D-6400-46B8-8100-B44D5286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4E858-C6A4-4A9C-B29B-5E22255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5D23C-EE4C-497A-AC8B-3FB45E7E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03F91-6F4E-470D-B262-1B05596D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902-C486-443D-82B6-91BB8031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59935-ACB3-44C5-9093-9D013C7E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A6D2-D0E8-4C65-9980-D1AFECD2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F8871-FA99-478C-8FE8-33A80CB8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0480-9B83-4D65-9159-5DA1435A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B897C-EF40-4E66-9A40-C2133F79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C389D-C621-4382-9D3E-E2B3CC9C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2463E-1F38-4EA0-B027-5943ED83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E4D37-688A-4FA4-AC11-2C075CB9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F900E-2D3E-42C5-A46D-0307839A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C8A78-A00A-4667-841C-0C29BED3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6AC-6AE8-424A-A36B-476D11FD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18213-25A0-4715-AD9E-A08243BA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43873-3FE6-442F-B07E-421E59E4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EB22-0972-48A4-8908-A01D7104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86C3E-D5E6-4409-8B7E-1071B382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4532E-57A1-4149-8888-E7ABD4D8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E8567-EEDD-4476-A312-C2349B46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5504F-7CB5-4C13-A03B-48C7F616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1E3C5-DFF5-4841-95FD-06CCCC95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F0E6A-EED1-4205-A6E6-ED27551A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149D0-0A6B-4BFC-AC57-D49AFA24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4BD-0BB2-4113-A3CF-28808A55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DE2C1-4B8D-4D06-BBA8-E1FE3E4D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C1080-A4FE-4CC6-8FF7-198F882A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9C5F0-E27D-4FAF-BE81-E22F3E09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0DCE4-A485-4CE4-846C-AF5C9A5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245CB-DA9D-4BEC-969A-95CDD693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F50BF-7DAC-4879-B23E-3D417E43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BD63F-9103-4EDC-ADC4-C7F95AFF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34CD4-95BB-490B-B0F1-B743C2EC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00EE0-0A3C-4848-95A3-295E404B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10CFB-F720-4F7E-9904-BABE58E8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3CE1-BF17-42C7-A828-AE89868630E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3A7D-B420-43F8-BFF1-2728A3FCA8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391A-E87B-45C2-BDA7-B72FB19867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B783-D8D2-4958-9609-688303DE49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A3AF-3E68-4D67-87F2-BC02DA22B8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B0EA-E1E4-4088-BD85-3F91C21A66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7304-E36C-4106-958A-1170290E0E0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1778-69B4-4DD9-BF38-1CB18CB0EE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4AFF-6A86-46FA-8B1E-F043FF2A4F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D7A9-B6E9-490C-A585-102C895DAD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9FA2-4E97-4CFC-A84F-78FB223B4D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8DF2-26F5-4861-B34F-BB61074ABB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BB40-DF54-441D-B6BE-3783DA85916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1F71-EEE7-4E9D-8A51-314C8186D3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9F78-10D7-472C-BAE5-3997B2233DC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F150-C61B-44FE-9424-D8780C7DC2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1349-7433-403E-AA8C-1FC99AC3AB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43D9-B083-40B5-9ABB-2B573F7DCF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FC94-3ADD-4417-9E26-FEFF5B4718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CC56-A48A-4C86-988F-25555C7CEE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B28C-3433-444A-A41D-582DE910D29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555B-7C24-4A7D-884B-5F85093F9C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793B-ABD9-4488-AF28-A3E56971968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91FD-7B4F-4B18-9D25-EB2EF200DA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5141-21A0-4E38-89B0-359AA38FD43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7C16-8D63-404A-A085-61BA1B5CDE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造字工房悦黑体验版纤细体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造字工房悦黑体验版纤细体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3997080"/>
                <a:gd name="textAreaBottom" fmla="*/ 3997440 h 3997080"/>
              </a:gdLst>
              <a:ahLst/>
              <a:rect l="textAreaLeft" t="textAreaTop" r="textAreaRight" b="textAreaBottom"/>
              <a:pathLst>
                <a:path w="936104" h="3996384">
                  <a:moveTo>
                    <a:pt x="468052" y="0"/>
                  </a:moveTo>
                  <a:cubicBezTo>
                    <a:pt x="617451" y="0"/>
                    <a:pt x="738562" y="120883"/>
                    <a:pt x="738562" y="270000"/>
                  </a:cubicBezTo>
                  <a:lnTo>
                    <a:pt x="733111" y="323976"/>
                  </a:lnTo>
                  <a:lnTo>
                    <a:pt x="738562" y="323976"/>
                  </a:lnTo>
                  <a:lnTo>
                    <a:pt x="738562" y="3114787"/>
                  </a:lnTo>
                  <a:lnTo>
                    <a:pt x="799015" y="3166587"/>
                  </a:lnTo>
                  <a:cubicBezTo>
                    <a:pt x="883716" y="3254551"/>
                    <a:pt x="936104" y="3376072"/>
                    <a:pt x="936104" y="3510300"/>
                  </a:cubicBezTo>
                  <a:cubicBezTo>
                    <a:pt x="936104" y="3778757"/>
                    <a:pt x="726550" y="3996384"/>
                    <a:pt x="468052" y="3996384"/>
                  </a:cubicBezTo>
                  <a:cubicBezTo>
                    <a:pt x="209554" y="3996384"/>
                    <a:pt x="0" y="3778757"/>
                    <a:pt x="0" y="3510300"/>
                  </a:cubicBezTo>
                  <a:cubicBezTo>
                    <a:pt x="0" y="3376072"/>
                    <a:pt x="52388" y="3254551"/>
                    <a:pt x="137089" y="3166587"/>
                  </a:cubicBezTo>
                  <a:lnTo>
                    <a:pt x="198562" y="3113913"/>
                  </a:lnTo>
                  <a:lnTo>
                    <a:pt x="198562" y="323976"/>
                  </a:lnTo>
                  <a:lnTo>
                    <a:pt x="202994" y="323976"/>
                  </a:lnTo>
                  <a:lnTo>
                    <a:pt x="197542" y="270000"/>
                  </a:lnTo>
                  <a:cubicBezTo>
                    <a:pt x="197542" y="120883"/>
                    <a:pt x="318653" y="0"/>
                    <a:pt x="468052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223720"/>
                <a:gd name="textAreaBottom" fmla="*/ 2224080 h 2223720"/>
              </a:gdLst>
              <a:ahLst/>
              <a:rect l="textAreaLeft" t="textAreaTop" r="textAreaRight" b="textAreaBottom"/>
              <a:pathLst>
                <a:path w="720000" h="2223180">
                  <a:moveTo>
                    <a:pt x="360000" y="0"/>
                  </a:moveTo>
                  <a:cubicBezTo>
                    <a:pt x="449470" y="0"/>
                    <a:pt x="522000" y="72530"/>
                    <a:pt x="522000" y="162000"/>
                  </a:cubicBezTo>
                  <a:lnTo>
                    <a:pt x="522000" y="1543342"/>
                  </a:lnTo>
                  <a:lnTo>
                    <a:pt x="561280" y="1564662"/>
                  </a:lnTo>
                  <a:cubicBezTo>
                    <a:pt x="657040" y="1629357"/>
                    <a:pt x="720000" y="1738916"/>
                    <a:pt x="720000" y="1863180"/>
                  </a:cubicBezTo>
                  <a:cubicBezTo>
                    <a:pt x="720000" y="2062003"/>
                    <a:pt x="558823" y="2223180"/>
                    <a:pt x="360000" y="2223180"/>
                  </a:cubicBezTo>
                  <a:cubicBezTo>
                    <a:pt x="161177" y="2223180"/>
                    <a:pt x="0" y="2062003"/>
                    <a:pt x="0" y="1863180"/>
                  </a:cubicBezTo>
                  <a:cubicBezTo>
                    <a:pt x="0" y="1738916"/>
                    <a:pt x="62960" y="1629357"/>
                    <a:pt x="158720" y="1564662"/>
                  </a:cubicBezTo>
                  <a:lnTo>
                    <a:pt x="198000" y="1543342"/>
                  </a:lnTo>
                  <a:lnTo>
                    <a:pt x="198000" y="162000"/>
                  </a:lnTo>
                  <a:cubicBezTo>
                    <a:pt x="198000" y="72530"/>
                    <a:pt x="270530" y="0"/>
                    <a:pt x="36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custGeom>
            <a:avLst/>
            <a:gdLst>
              <a:gd name="textAreaLeft" fmla="*/ 0 w 936360"/>
              <a:gd name="textAreaRight" fmla="*/ 936720 w 93636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936104" h="3996384">
                <a:moveTo>
                  <a:pt x="468052" y="0"/>
                </a:moveTo>
                <a:cubicBezTo>
                  <a:pt x="617451" y="0"/>
                  <a:pt x="738562" y="120883"/>
                  <a:pt x="738562" y="270000"/>
                </a:cubicBezTo>
                <a:lnTo>
                  <a:pt x="733111" y="323976"/>
                </a:lnTo>
                <a:lnTo>
                  <a:pt x="738562" y="323976"/>
                </a:lnTo>
                <a:lnTo>
                  <a:pt x="738562" y="3114787"/>
                </a:lnTo>
                <a:lnTo>
                  <a:pt x="799015" y="3166587"/>
                </a:lnTo>
                <a:cubicBezTo>
                  <a:pt x="883716" y="3254551"/>
                  <a:pt x="936104" y="3376072"/>
                  <a:pt x="936104" y="3510300"/>
                </a:cubicBezTo>
                <a:cubicBezTo>
                  <a:pt x="936104" y="3778757"/>
                  <a:pt x="726550" y="3996384"/>
                  <a:pt x="468052" y="3996384"/>
                </a:cubicBezTo>
                <a:cubicBezTo>
                  <a:pt x="209554" y="3996384"/>
                  <a:pt x="0" y="3778757"/>
                  <a:pt x="0" y="3510300"/>
                </a:cubicBezTo>
                <a:cubicBezTo>
                  <a:pt x="0" y="3376072"/>
                  <a:pt x="52388" y="3254551"/>
                  <a:pt x="137089" y="3166587"/>
                </a:cubicBezTo>
                <a:lnTo>
                  <a:pt x="198562" y="3113913"/>
                </a:lnTo>
                <a:lnTo>
                  <a:pt x="198562" y="323976"/>
                </a:lnTo>
                <a:lnTo>
                  <a:pt x="202994" y="323976"/>
                </a:lnTo>
                <a:lnTo>
                  <a:pt x="197542" y="270000"/>
                </a:lnTo>
                <a:cubicBezTo>
                  <a:pt x="197542" y="120883"/>
                  <a:pt x="318653" y="0"/>
                  <a:pt x="468052" y="0"/>
                </a:cubicBezTo>
                <a:close/>
              </a:path>
            </a:pathLst>
          </a:cu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custGeom>
            <a:avLst/>
            <a:gdLst>
              <a:gd name="textAreaLeft" fmla="*/ 0 w 720720"/>
              <a:gd name="textAreaRight" fmla="*/ 721080 w 720720"/>
              <a:gd name="textAreaTop" fmla="*/ 0 h 2955600"/>
              <a:gd name="textAreaBottom" fmla="*/ 2955960 h 2955600"/>
            </a:gdLst>
            <a:ahLst/>
            <a:rect l="textAreaLeft" t="textAreaTop" r="textAreaRight" b="textAreaBottom"/>
            <a:pathLst>
              <a:path w="720000" h="2955756">
                <a:moveTo>
                  <a:pt x="360000" y="0"/>
                </a:moveTo>
                <a:cubicBezTo>
                  <a:pt x="427110" y="0"/>
                  <a:pt x="484690" y="42329"/>
                  <a:pt x="509286" y="102654"/>
                </a:cubicBezTo>
                <a:lnTo>
                  <a:pt x="517336" y="144016"/>
                </a:lnTo>
                <a:lnTo>
                  <a:pt x="522018" y="144016"/>
                </a:lnTo>
                <a:lnTo>
                  <a:pt x="522018" y="168078"/>
                </a:lnTo>
                <a:lnTo>
                  <a:pt x="522018" y="2272616"/>
                </a:lnTo>
                <a:lnTo>
                  <a:pt x="561280" y="2294030"/>
                </a:lnTo>
                <a:cubicBezTo>
                  <a:pt x="657040" y="2359040"/>
                  <a:pt x="720000" y="2469133"/>
                  <a:pt x="720000" y="2594002"/>
                </a:cubicBezTo>
                <a:cubicBezTo>
                  <a:pt x="720000" y="2793793"/>
                  <a:pt x="558823" y="2955756"/>
                  <a:pt x="360000" y="2955756"/>
                </a:cubicBezTo>
                <a:cubicBezTo>
                  <a:pt x="161177" y="2955756"/>
                  <a:pt x="0" y="2793793"/>
                  <a:pt x="0" y="2594002"/>
                </a:cubicBezTo>
                <a:cubicBezTo>
                  <a:pt x="0" y="2469133"/>
                  <a:pt x="62960" y="2359040"/>
                  <a:pt x="158720" y="2294030"/>
                </a:cubicBezTo>
                <a:lnTo>
                  <a:pt x="198018" y="2272596"/>
                </a:lnTo>
                <a:lnTo>
                  <a:pt x="198018" y="168263"/>
                </a:lnTo>
                <a:lnTo>
                  <a:pt x="197982" y="168078"/>
                </a:lnTo>
                <a:lnTo>
                  <a:pt x="198018" y="167893"/>
                </a:lnTo>
                <a:lnTo>
                  <a:pt x="198018" y="144016"/>
                </a:lnTo>
                <a:lnTo>
                  <a:pt x="202665" y="144016"/>
                </a:lnTo>
                <a:lnTo>
                  <a:pt x="210714" y="102654"/>
                </a:lnTo>
                <a:cubicBezTo>
                  <a:pt x="235310" y="42329"/>
                  <a:pt x="292890" y="0"/>
                  <a:pt x="3600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custGeom>
            <a:avLst/>
            <a:gdLst>
              <a:gd name="textAreaLeft" fmla="*/ 0 w 9245520"/>
              <a:gd name="textAreaRight" fmla="*/ 9245880 w 924552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9245080" h="4397330">
                <a:moveTo>
                  <a:pt x="4536504" y="0"/>
                </a:moveTo>
                <a:cubicBezTo>
                  <a:pt x="5113089" y="0"/>
                  <a:pt x="5580504" y="467415"/>
                  <a:pt x="5580504" y="1044000"/>
                </a:cubicBezTo>
                <a:lnTo>
                  <a:pt x="5579928" y="1050102"/>
                </a:lnTo>
                <a:lnTo>
                  <a:pt x="5597171" y="1021918"/>
                </a:lnTo>
                <a:cubicBezTo>
                  <a:pt x="5955551" y="495176"/>
                  <a:pt x="6562462" y="148858"/>
                  <a:pt x="7250832" y="148858"/>
                </a:cubicBezTo>
                <a:cubicBezTo>
                  <a:pt x="8352225" y="148858"/>
                  <a:pt x="9245080" y="1035433"/>
                  <a:pt x="9245080" y="2129078"/>
                </a:cubicBezTo>
                <a:cubicBezTo>
                  <a:pt x="9245080" y="3222723"/>
                  <a:pt x="8352225" y="4109298"/>
                  <a:pt x="7250832" y="4109298"/>
                </a:cubicBezTo>
                <a:cubicBezTo>
                  <a:pt x="6149439" y="4109298"/>
                  <a:pt x="5256584" y="3222723"/>
                  <a:pt x="5256584" y="2129078"/>
                </a:cubicBezTo>
                <a:cubicBezTo>
                  <a:pt x="5256584" y="2060725"/>
                  <a:pt x="5260072" y="1993181"/>
                  <a:pt x="5266880" y="1926612"/>
                </a:cubicBezTo>
                <a:lnTo>
                  <a:pt x="5292235" y="1761650"/>
                </a:lnTo>
                <a:lnTo>
                  <a:pt x="5171148" y="1873020"/>
                </a:lnTo>
                <a:cubicBezTo>
                  <a:pt x="5021819" y="1987509"/>
                  <a:pt x="4840663" y="2062561"/>
                  <a:pt x="4643247" y="2082610"/>
                </a:cubicBezTo>
                <a:lnTo>
                  <a:pt x="4549906" y="2087323"/>
                </a:lnTo>
                <a:lnTo>
                  <a:pt x="4611207" y="2133163"/>
                </a:lnTo>
                <a:cubicBezTo>
                  <a:pt x="4895239" y="2367567"/>
                  <a:pt x="5076280" y="2722306"/>
                  <a:pt x="5076280" y="3119330"/>
                </a:cubicBezTo>
                <a:cubicBezTo>
                  <a:pt x="5076280" y="3825150"/>
                  <a:pt x="4504100" y="4397330"/>
                  <a:pt x="3798280" y="4397330"/>
                </a:cubicBezTo>
                <a:cubicBezTo>
                  <a:pt x="3092460" y="4397330"/>
                  <a:pt x="2520280" y="3825150"/>
                  <a:pt x="2520280" y="3119330"/>
                </a:cubicBezTo>
                <a:cubicBezTo>
                  <a:pt x="2520280" y="3075217"/>
                  <a:pt x="2522516" y="3031625"/>
                  <a:pt x="2526878" y="2988662"/>
                </a:cubicBezTo>
                <a:lnTo>
                  <a:pt x="2533624" y="2944463"/>
                </a:lnTo>
                <a:lnTo>
                  <a:pt x="2469630" y="2992317"/>
                </a:lnTo>
                <a:cubicBezTo>
                  <a:pt x="2216822" y="3163111"/>
                  <a:pt x="1912057" y="3262839"/>
                  <a:pt x="1584000" y="3262839"/>
                </a:cubicBezTo>
                <a:cubicBezTo>
                  <a:pt x="709181" y="3262839"/>
                  <a:pt x="0" y="2553658"/>
                  <a:pt x="0" y="1678839"/>
                </a:cubicBezTo>
                <a:cubicBezTo>
                  <a:pt x="0" y="804020"/>
                  <a:pt x="709181" y="94839"/>
                  <a:pt x="1584000" y="94839"/>
                </a:cubicBezTo>
                <a:cubicBezTo>
                  <a:pt x="2458819" y="94839"/>
                  <a:pt x="3168000" y="804020"/>
                  <a:pt x="3168000" y="1678839"/>
                </a:cubicBezTo>
                <a:cubicBezTo>
                  <a:pt x="3168000" y="1788192"/>
                  <a:pt x="3156919" y="1894956"/>
                  <a:pt x="3135819" y="1998070"/>
                </a:cubicBezTo>
                <a:lnTo>
                  <a:pt x="3126713" y="2033485"/>
                </a:lnTo>
                <a:lnTo>
                  <a:pt x="3189110" y="1995578"/>
                </a:lnTo>
                <a:cubicBezTo>
                  <a:pt x="3370194" y="1897207"/>
                  <a:pt x="3577712" y="1841330"/>
                  <a:pt x="3798280" y="1841330"/>
                </a:cubicBezTo>
                <a:lnTo>
                  <a:pt x="3867149" y="1844808"/>
                </a:lnTo>
                <a:lnTo>
                  <a:pt x="3798285" y="1782220"/>
                </a:lnTo>
                <a:cubicBezTo>
                  <a:pt x="3609358" y="1593293"/>
                  <a:pt x="3492504" y="1332293"/>
                  <a:pt x="3492504" y="1044000"/>
                </a:cubicBezTo>
                <a:cubicBezTo>
                  <a:pt x="3492504" y="467415"/>
                  <a:pt x="3959919" y="0"/>
                  <a:pt x="4536504" y="0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custGeom>
              <a:avLst/>
              <a:gdLst>
                <a:gd name="textAreaLeft" fmla="*/ 144720 w 1662120"/>
                <a:gd name="textAreaRight" fmla="*/ 1517400 w 1662120"/>
                <a:gd name="textAreaTop" fmla="*/ 4320 h 50040"/>
                <a:gd name="textAreaBottom" fmla="*/ 45720 h 5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custGeom>
              <a:avLst/>
              <a:gdLst>
                <a:gd name="textAreaLeft" fmla="*/ 18720 w 186840"/>
                <a:gd name="textAreaRight" fmla="*/ 168120 w 186840"/>
                <a:gd name="textAreaTop" fmla="*/ 2520 h 24840"/>
                <a:gd name="textAreaBottom" fmla="*/ 22320 h 2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27" y="21600"/>
                  </a:lnTo>
                  <a:lnTo>
                    <a:pt x="2087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5-03-02T03:16:05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