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0E5-C8ED-468E-A2A1-A3FBA4FF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D2D-EB96-4DF1-A565-F31CADF0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66EFB-29C7-4E3E-8221-7DD12261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5BC44-7BC3-4124-93C5-BBE681F5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C9368-77F2-4BC2-8CA5-A1D897AB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4D529-4AD1-4CDE-911E-B61D895D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A8218-AF5B-427E-988D-99502DFC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3063F-1A88-4F98-826C-FCE9904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C09C1-7D3E-4BC7-ACD0-5AC44728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05323-1A4E-4A49-9AB7-2168E7E1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479ED-FEF1-4C96-A511-5CBF3F2E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AAFF3-2479-4E35-93AF-95162BD5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730-FFE4-43B6-9A07-FB245CBE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A0BD9-BB1E-498F-91E5-7E1DA8DE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082C4-4DCB-472E-9D80-EBB63FDE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A6702-ED5D-4CE0-A0BC-7DC26F27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E1602-01EF-4305-90D2-641217BD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3005B-FE9C-4CB9-86BE-D5580219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356D4-AA49-48CE-8AD2-39FFC16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B4F74-2FA9-415C-B372-81066A85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F68B9-06CA-48AE-987B-B879920C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B153F-2F25-45ED-A277-B167B2AE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971F6-77B4-46A1-9F44-AA27D46E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AE6-96F3-483A-9323-A667BE2D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2F66E-20A5-43E6-8DC0-EA569517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BA9C0-9F1A-4093-9066-59DAF2D8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A8B60-E9C1-4EA8-AF58-1FAFE99F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94AF4-D953-45AE-BF8D-61123B4B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0E075-4B03-4961-905A-6DF8200C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88041-FB10-49CA-BE75-1647C857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4CE94-8DF5-462C-BCC0-113FF9BE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61283-9369-478C-9123-368B5A0F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774F7-20CF-40E6-A9C2-14566B2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5B4E5-5822-44D1-9898-113617B0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9E38-D4DF-4D6A-B848-5B38885A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76384-2995-43FA-8B60-85B032D4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DBDDF-00CA-4D19-B62F-AF61EF27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F1255-ACD7-452D-A4F4-944BCC8B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6D9B0-5C40-4950-A661-F14233F4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E3ABD-4FA8-4C4B-BDED-9E0BBF63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A247B-153E-414A-A051-5A98CBB4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14896-2223-465E-B4C1-BA7E609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FB8A7-EF21-4DD3-A7B3-582382A6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5A536-8C45-415A-AABF-3CC6C8B0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C2A53-5379-4447-AB44-18A0F5E4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E80E-32AD-4A5E-BBC2-35F9B5D7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77D75-6D0C-4B94-9D6E-B0EA597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5B4BE-A6E2-4974-9F83-59067C4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D23EB-7E61-468D-8203-09910BD4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12DF9-C456-413E-A1F4-767CE8CC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89F23-B91C-4FDF-8D04-CF1CEC3A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D242F-E99B-49D2-8D4E-BC766A8A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EE5BA-4736-4FDD-99B6-892D62F1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22FB8-A2D5-47C4-87C0-F1FA51B0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B3CA4-2D35-4C05-B2BF-FC2F0C25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BF6C6-D7D0-4EC3-9573-5DE4AB09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4F4F-BB72-488B-819D-E8C30FCC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DD5A7-EFE9-4734-B3EC-E1609429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F2D10-3880-40F1-97DE-4AECB25F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DAF74-BF0C-4472-9FFC-ED98CA95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234D0-AC24-46E8-88C7-7051673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5AEAC-8A27-40E0-B1A0-09AC6C05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BA19A-2D2A-410B-83D2-E5415083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1A84A-C8F8-4F43-85D1-326075D6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1922-369D-4B04-B0E7-A699A8FB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C95E-B415-49E1-B7E9-7A50A248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2F63-315B-4E50-9AB7-9F16D783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4A70-E3EF-4C96-9C2E-B91E98B6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FC2-5DB7-4FA1-9A75-1EE9C5DD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A8A2-7A30-4038-9400-6D3F9D98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A1CA-2406-453D-BADF-A368730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CD13-E86F-4785-B699-85F3A060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5CC6-4CFC-49CC-B112-42A4EF44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0021-786F-45DE-9B03-46DBE5C6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97B6-2665-4A2D-BBAF-FEF0FA01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D5BAF-DB7F-4A2D-A970-137D13C0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3E52C-5AEA-4211-B55E-91D69796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224A-2061-4DCB-B9BE-EFF8E6DF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6106-5AB0-447D-8B21-661B4587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FC4-7806-488A-882B-3257D3E4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C813-9AB5-45A6-A680-35993045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CB9E-F3AD-4164-BAFB-EFF2B3B5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8695-48D9-4107-ABF5-3C665092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54BF-7744-4F18-835A-685CFA79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43AF-0624-469D-8B10-6DAC2485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F4A7-96E2-424C-9359-966ECBC8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14F3-8A8D-4A84-818A-25E84F45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97F8-A1D1-4EE8-A788-78ED9244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DBF3A-59A5-4441-A1E5-216A15F4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38C6E-D362-4A3A-8286-876BFDF1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2A6-EBD3-4856-917A-90D43F0F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04F63-BF30-4F01-B4AC-D0A8D90A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BD410-6B77-4602-A7F5-7EBC6F03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2700D-07EF-4083-B8E9-E33B07B2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CE9F-EE2B-461A-B3EB-5AFFD52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F23D-EC2D-46C7-9767-B185AA0C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4F3B1-6192-4F6D-B1C0-BF43945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ECCE-0DA8-47D4-BFFF-4B490BBA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2EB6C-EE61-4802-A50F-0F0E62A8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86309-E5EB-4D57-8A77-7BB1929A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BFCC2-3180-4B5C-860F-DAC2D265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F8D-E3C5-48F9-A620-37E5F5C1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2A74-B653-4403-B2E0-732A18D2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378D5-31A0-4AE9-A490-A19BBBB9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E5FED-9A3E-480D-95CA-232A1A9F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7684-647F-4D16-A9DD-17A41428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09360-026A-4BD3-A5DE-DC00949F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6AFC5-95C9-4119-A143-06717ABC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F894E-6A30-4D8E-95AC-327E4D46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83028-4E47-4BEE-9B4F-67FC5767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5D9AD-A5BF-4986-94AB-5DA6B548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E9847-15A2-4A37-AC8D-AB56BB5C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773-D880-48BB-B794-C3C1BD03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7D528-F234-4900-B579-CA9E594E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101C3-7DC1-4385-BA55-97647E64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601DF-5E5B-48B5-B155-AB5BDA14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CE3D-4B58-4DC2-8F85-4D5D304C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7BB6F-0295-4A7B-8662-0D596D3F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0301A-DA92-49F7-BAFC-DB250A82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366BA-ABE9-469C-9E71-E5C5FB39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43D82-060F-4690-B0B4-C5F8438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365DB-7974-46CC-A861-1CA57E1F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572D3-5FFE-45B3-B6A2-3FADE59A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A98-FD52-4E60-9A89-39D88034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9AE2F-30D3-41AD-9B8A-3AD553F1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F66B1-2FBC-4346-9B30-CBD04D53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B978-8330-4DFE-91C6-B21BAD5D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5C0FC-7CC6-479D-83EA-DC95D036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8729F-AE78-41F9-B705-9B4BBC26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BAF05-DA48-472A-B875-E31833E7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147F-B883-4E81-98E6-34900CD7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1EE19-B9A2-4F91-8DFB-B90A0E06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C8C2F-9F57-43A7-B61B-F75EFC04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06E01-49E2-40EC-8C21-79E66A45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A74-6527-4383-B367-61A0501C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9FBF1-DFCB-4692-9688-8B573C83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C3CF5-D378-456B-A48C-033AFD03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3C75-AD3F-4001-9E91-07E0CB34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CC5F2-D1C2-4164-9273-CAA9816B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882A6-CF83-4511-B46F-80E4A8A1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BF0D2-41EA-4E27-9FA5-B6F565F5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2BDE2-667D-4134-B029-2E534BDF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97B67-3412-458E-918C-805B0AB7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5FD47-E2F6-4876-8F3F-DBBB73B3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9C3F9-FF7C-42D6-8894-C8EFD380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3D9-C4F3-4ACB-9F04-2FB6C24E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326A2-152E-4D4F-9965-797EB341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1F3CC-2BBF-49DA-A9DB-9B7FE2B8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90123-3ED5-48DA-89B6-EE482315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B5867-0C4D-4A64-93EB-B35478FC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03CEF-FFE0-49C5-9802-A551A54C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A0D3F-4D65-4015-9204-0689F2E1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95F5F-A78D-401D-832B-FD716553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3AE82-F6CF-4069-B793-9D485B4D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51271-9A56-42AC-833D-967444B7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593B4-B802-4DD3-B86A-5C1F2B81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F65F-EFBF-4A3E-BB40-E7C1FE09E2C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D2BF-D54C-41B7-B7AD-9B9E532079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67F2-4705-4D2C-A79D-06371F3801A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5394-451D-4DC3-B25C-3CB0E9600B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0F07-5BB8-4DFB-966A-A540F2B9B1E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C921-64F5-415F-82A5-63F3F6C2CB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ED40-F103-4D18-B74A-F523C2EB0A7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CB65-864F-4C55-A2F9-DD409823D5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2D14-E873-4FF6-BACF-A59EBB6D52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131D-165D-45C5-A45A-0BC15BCF7C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9818-4189-4CA0-BEA8-26C63A8B4F9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44BC-BA3F-4ADB-8DEA-CFCAD20296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BF6D-C82D-48C3-AC28-3FBB762EC5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DA89-5497-4361-B84F-3721E622793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7437-3C73-4C8D-ACCF-6C6C0355D98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473A-4FFE-4426-AF9D-FF15981676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364A-F3BC-40F9-A16A-35CA95B9BF2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03C8-1D49-44B1-A516-4D635F51F5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1AAB-665D-4756-B255-05A38B8DACE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9139-C24D-466C-8F10-5D5BC3AD12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3660-2527-4E8A-A97D-1AD2E1AA1F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5C82-6B93-42C6-8016-79B6EEC227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321D-A1AF-4B5E-B90C-7778AB6056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F5E9-23C0-49D0-966E-75F62C1BF8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1122-6D78-46CC-BC89-6A7411712D9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6650-6D85-4D4B-BF11-B114EFEA64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695160" y="0"/>
            <a:ext cx="2448000" cy="43657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4"/>
          <p:cNvSpPr/>
          <p:nvPr/>
        </p:nvSpPr>
        <p:spPr>
          <a:xfrm>
            <a:off x="1019160" y="2182680"/>
            <a:ext cx="1800360" cy="1800360"/>
          </a:xfrm>
          <a:prstGeom prst="ellipse">
            <a:avLst/>
          </a:prstGeom>
          <a:solidFill>
            <a:srgbClr val="5db3b0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3880" y="2708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6"/>
          <p:cNvSpPr/>
          <p:nvPr/>
        </p:nvSpPr>
        <p:spPr>
          <a:xfrm>
            <a:off x="3863880" y="2349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73"/>
                </a:solidFill>
                <a:latin typeface="造字工房悦黑体验版纤细体"/>
                <a:ea typeface="造字工房悦黑体验版纤细体"/>
              </a:rPr>
              <a:t>The 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7"/>
          <p:cNvSpPr/>
          <p:nvPr/>
        </p:nvSpPr>
        <p:spPr>
          <a:xfrm>
            <a:off x="3935520" y="36162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a5a5"/>
                </a:solidFill>
                <a:latin typeface="造字工房悦黑体验版纤细体"/>
                <a:ea typeface="造字工房悦黑体验版纤细体"/>
              </a:rPr>
              <a:t>Presenter: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http://pic19.nipic.com/20120227/5183444_155554647000_2.jpg"/>
          <p:cNvPicPr/>
          <p:nvPr/>
        </p:nvPicPr>
        <p:blipFill>
          <a:blip r:embed="rId1"/>
          <a:srcRect l="0" t="29266" r="0" b="29390"/>
          <a:stretch/>
        </p:blipFill>
        <p:spPr>
          <a:xfrm>
            <a:off x="0" y="0"/>
            <a:ext cx="12173040" cy="3357720"/>
          </a:xfrm>
          <a:prstGeom prst="rect">
            <a:avLst/>
          </a:prstGeom>
          <a:ln w="0">
            <a:noFill/>
          </a:ln>
        </p:spPr>
      </p:pic>
      <p:sp>
        <p:nvSpPr>
          <p:cNvPr id="743" name="椭圆 1"/>
          <p:cNvSpPr/>
          <p:nvPr/>
        </p:nvSpPr>
        <p:spPr>
          <a:xfrm>
            <a:off x="984240" y="1557360"/>
            <a:ext cx="3598920" cy="3598920"/>
          </a:xfrm>
          <a:prstGeom prst="ellipse">
            <a:avLst/>
          </a:prstGeom>
          <a:solidFill>
            <a:srgbClr val="5db3b0"/>
          </a:solidFill>
          <a:ln w="76320">
            <a:solidFill>
              <a:srgbClr val="4797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"/>
          <p:cNvSpPr/>
          <p:nvPr/>
        </p:nvSpPr>
        <p:spPr>
          <a:xfrm>
            <a:off x="1262520" y="2695680"/>
            <a:ext cx="304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ungsuh"/>
                <a:ea typeface="Gungsuh"/>
              </a:rPr>
              <a:t>LO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3" descr=""/>
          <p:cNvPicPr/>
          <p:nvPr/>
        </p:nvPicPr>
        <p:blipFill>
          <a:blip r:embed="rId2"/>
          <a:stretch/>
        </p:blipFill>
        <p:spPr>
          <a:xfrm>
            <a:off x="595152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4" descr=""/>
          <p:cNvPicPr/>
          <p:nvPr/>
        </p:nvPicPr>
        <p:blipFill>
          <a:blip r:embed="rId3"/>
          <a:stretch/>
        </p:blipFill>
        <p:spPr>
          <a:xfrm>
            <a:off x="5951520" y="47322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5" descr=""/>
          <p:cNvPicPr/>
          <p:nvPr/>
        </p:nvPicPr>
        <p:blipFill>
          <a:blip r:embed="rId4"/>
          <a:stretch/>
        </p:blipFill>
        <p:spPr>
          <a:xfrm>
            <a:off x="5951520" y="5746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6" descr=""/>
          <p:cNvPicPr/>
          <p:nvPr/>
        </p:nvPicPr>
        <p:blipFill>
          <a:blip r:embed="rId5"/>
          <a:stretch/>
        </p:blipFill>
        <p:spPr>
          <a:xfrm>
            <a:off x="8975880" y="371808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7" descr=""/>
          <p:cNvPicPr/>
          <p:nvPr/>
        </p:nvPicPr>
        <p:blipFill>
          <a:blip r:embed="rId6"/>
          <a:stretch/>
        </p:blipFill>
        <p:spPr>
          <a:xfrm>
            <a:off x="8975880" y="4732200"/>
            <a:ext cx="720720" cy="719280"/>
          </a:xfrm>
          <a:prstGeom prst="rect">
            <a:avLst/>
          </a:prstGeom>
          <a:ln w="0">
            <a:noFill/>
          </a:ln>
        </p:spPr>
      </p:pic>
      <p:sp>
        <p:nvSpPr>
          <p:cNvPr id="750" name="文本框 8"/>
          <p:cNvSpPr/>
          <p:nvPr/>
        </p:nvSpPr>
        <p:spPr>
          <a:xfrm>
            <a:off x="6672240" y="38466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0"/>
          <p:cNvSpPr/>
          <p:nvPr/>
        </p:nvSpPr>
        <p:spPr>
          <a:xfrm>
            <a:off x="6672240" y="49258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1"/>
          <p:cNvSpPr/>
          <p:nvPr/>
        </p:nvSpPr>
        <p:spPr>
          <a:xfrm>
            <a:off x="6672240" y="5940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2"/>
          <p:cNvSpPr/>
          <p:nvPr/>
        </p:nvSpPr>
        <p:spPr>
          <a:xfrm>
            <a:off x="9696600" y="3795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3"/>
          <p:cNvSpPr/>
          <p:nvPr/>
        </p:nvSpPr>
        <p:spPr>
          <a:xfrm>
            <a:off x="9696600" y="491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4"/>
          <p:cNvGrpSpPr/>
          <p:nvPr/>
        </p:nvGrpSpPr>
        <p:grpSpPr>
          <a:xfrm>
            <a:off x="4656240" y="1700280"/>
            <a:ext cx="934920" cy="3997080"/>
            <a:chOff x="4656240" y="1700280"/>
            <a:chExt cx="934920" cy="3997080"/>
          </a:xfrm>
        </p:grpSpPr>
        <p:sp>
          <p:nvSpPr>
            <p:cNvPr id="543" name="任意多边形 9"/>
            <p:cNvSpPr/>
            <p:nvPr/>
          </p:nvSpPr>
          <p:spPr>
            <a:xfrm>
              <a:off x="4656240" y="1700280"/>
              <a:ext cx="934920" cy="39970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3997080"/>
                <a:gd name="textAreaBottom" fmla="*/ 3997440 h 3997080"/>
              </a:gdLst>
              <a:ahLst/>
              <a:rect l="textAreaLeft" t="textAreaTop" r="textAreaRight" b="textAreaBottom"/>
              <a:pathLst>
                <a:path w="936104" h="3996384">
                  <a:moveTo>
                    <a:pt x="468052" y="0"/>
                  </a:moveTo>
                  <a:cubicBezTo>
                    <a:pt x="617451" y="0"/>
                    <a:pt x="738562" y="120883"/>
                    <a:pt x="738562" y="270000"/>
                  </a:cubicBezTo>
                  <a:lnTo>
                    <a:pt x="733111" y="323976"/>
                  </a:lnTo>
                  <a:lnTo>
                    <a:pt x="738562" y="323976"/>
                  </a:lnTo>
                  <a:lnTo>
                    <a:pt x="738562" y="3114787"/>
                  </a:lnTo>
                  <a:lnTo>
                    <a:pt x="799015" y="3166587"/>
                  </a:lnTo>
                  <a:cubicBezTo>
                    <a:pt x="883716" y="3254551"/>
                    <a:pt x="936104" y="3376072"/>
                    <a:pt x="936104" y="3510300"/>
                  </a:cubicBezTo>
                  <a:cubicBezTo>
                    <a:pt x="936104" y="3778757"/>
                    <a:pt x="726550" y="3996384"/>
                    <a:pt x="468052" y="3996384"/>
                  </a:cubicBezTo>
                  <a:cubicBezTo>
                    <a:pt x="209554" y="3996384"/>
                    <a:pt x="0" y="3778757"/>
                    <a:pt x="0" y="3510300"/>
                  </a:cubicBezTo>
                  <a:cubicBezTo>
                    <a:pt x="0" y="3376072"/>
                    <a:pt x="52388" y="3254551"/>
                    <a:pt x="137089" y="3166587"/>
                  </a:cubicBezTo>
                  <a:lnTo>
                    <a:pt x="198562" y="3113913"/>
                  </a:lnTo>
                  <a:lnTo>
                    <a:pt x="198562" y="323976"/>
                  </a:lnTo>
                  <a:lnTo>
                    <a:pt x="202994" y="323976"/>
                  </a:lnTo>
                  <a:lnTo>
                    <a:pt x="197542" y="270000"/>
                  </a:lnTo>
                  <a:cubicBezTo>
                    <a:pt x="197542" y="120883"/>
                    <a:pt x="318653" y="0"/>
                    <a:pt x="468052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1"/>
            <p:cNvSpPr/>
            <p:nvPr/>
          </p:nvSpPr>
          <p:spPr>
            <a:xfrm>
              <a:off x="4763880" y="3369240"/>
              <a:ext cx="719280" cy="22237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223720"/>
                <a:gd name="textAreaBottom" fmla="*/ 2224080 h 2223720"/>
              </a:gdLst>
              <a:ahLst/>
              <a:rect l="textAreaLeft" t="textAreaTop" r="textAreaRight" b="textAreaBottom"/>
              <a:pathLst>
                <a:path w="720000" h="2223180">
                  <a:moveTo>
                    <a:pt x="360000" y="0"/>
                  </a:moveTo>
                  <a:cubicBezTo>
                    <a:pt x="449470" y="0"/>
                    <a:pt x="522000" y="72530"/>
                    <a:pt x="522000" y="162000"/>
                  </a:cubicBezTo>
                  <a:lnTo>
                    <a:pt x="522000" y="1543342"/>
                  </a:lnTo>
                  <a:lnTo>
                    <a:pt x="561280" y="1564662"/>
                  </a:lnTo>
                  <a:cubicBezTo>
                    <a:pt x="657040" y="1629357"/>
                    <a:pt x="720000" y="1738916"/>
                    <a:pt x="720000" y="1863180"/>
                  </a:cubicBezTo>
                  <a:cubicBezTo>
                    <a:pt x="720000" y="2062003"/>
                    <a:pt x="558823" y="2223180"/>
                    <a:pt x="360000" y="2223180"/>
                  </a:cubicBezTo>
                  <a:cubicBezTo>
                    <a:pt x="161177" y="2223180"/>
                    <a:pt x="0" y="2062003"/>
                    <a:pt x="0" y="1863180"/>
                  </a:cubicBezTo>
                  <a:cubicBezTo>
                    <a:pt x="0" y="1738916"/>
                    <a:pt x="62960" y="1629357"/>
                    <a:pt x="158720" y="1564662"/>
                  </a:cubicBezTo>
                  <a:lnTo>
                    <a:pt x="198000" y="1543342"/>
                  </a:lnTo>
                  <a:lnTo>
                    <a:pt x="198000" y="162000"/>
                  </a:lnTo>
                  <a:cubicBezTo>
                    <a:pt x="198000" y="72530"/>
                    <a:pt x="270530" y="0"/>
                    <a:pt x="360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任意多边形 16"/>
          <p:cNvSpPr/>
          <p:nvPr/>
        </p:nvSpPr>
        <p:spPr>
          <a:xfrm>
            <a:off x="6743880" y="1700280"/>
            <a:ext cx="936360" cy="3997080"/>
          </a:xfrm>
          <a:custGeom>
            <a:avLst/>
            <a:gdLst>
              <a:gd name="textAreaLeft" fmla="*/ 0 w 936360"/>
              <a:gd name="textAreaRight" fmla="*/ 936720 w 93636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936104" h="3996384">
                <a:moveTo>
                  <a:pt x="468052" y="0"/>
                </a:moveTo>
                <a:cubicBezTo>
                  <a:pt x="617451" y="0"/>
                  <a:pt x="738562" y="120883"/>
                  <a:pt x="738562" y="270000"/>
                </a:cubicBezTo>
                <a:lnTo>
                  <a:pt x="733111" y="323976"/>
                </a:lnTo>
                <a:lnTo>
                  <a:pt x="738562" y="323976"/>
                </a:lnTo>
                <a:lnTo>
                  <a:pt x="738562" y="3114787"/>
                </a:lnTo>
                <a:lnTo>
                  <a:pt x="799015" y="3166587"/>
                </a:lnTo>
                <a:cubicBezTo>
                  <a:pt x="883716" y="3254551"/>
                  <a:pt x="936104" y="3376072"/>
                  <a:pt x="936104" y="3510300"/>
                </a:cubicBezTo>
                <a:cubicBezTo>
                  <a:pt x="936104" y="3778757"/>
                  <a:pt x="726550" y="3996384"/>
                  <a:pt x="468052" y="3996384"/>
                </a:cubicBezTo>
                <a:cubicBezTo>
                  <a:pt x="209554" y="3996384"/>
                  <a:pt x="0" y="3778757"/>
                  <a:pt x="0" y="3510300"/>
                </a:cubicBezTo>
                <a:cubicBezTo>
                  <a:pt x="0" y="3376072"/>
                  <a:pt x="52388" y="3254551"/>
                  <a:pt x="137089" y="3166587"/>
                </a:cubicBezTo>
                <a:lnTo>
                  <a:pt x="198562" y="3113913"/>
                </a:lnTo>
                <a:lnTo>
                  <a:pt x="198562" y="323976"/>
                </a:lnTo>
                <a:lnTo>
                  <a:pt x="202994" y="323976"/>
                </a:lnTo>
                <a:lnTo>
                  <a:pt x="197542" y="270000"/>
                </a:lnTo>
                <a:cubicBezTo>
                  <a:pt x="197542" y="120883"/>
                  <a:pt x="318653" y="0"/>
                  <a:pt x="468052" y="0"/>
                </a:cubicBezTo>
                <a:close/>
              </a:path>
            </a:pathLst>
          </a:custGeom>
          <a:solidFill>
            <a:srgbClr val="5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任意多边形 22"/>
          <p:cNvSpPr/>
          <p:nvPr/>
        </p:nvSpPr>
        <p:spPr>
          <a:xfrm>
            <a:off x="6851520" y="2637000"/>
            <a:ext cx="720720" cy="2955600"/>
          </a:xfrm>
          <a:custGeom>
            <a:avLst/>
            <a:gdLst>
              <a:gd name="textAreaLeft" fmla="*/ 0 w 720720"/>
              <a:gd name="textAreaRight" fmla="*/ 721080 w 720720"/>
              <a:gd name="textAreaTop" fmla="*/ 0 h 2955600"/>
              <a:gd name="textAreaBottom" fmla="*/ 2955960 h 2955600"/>
            </a:gdLst>
            <a:ahLst/>
            <a:rect l="textAreaLeft" t="textAreaTop" r="textAreaRight" b="textAreaBottom"/>
            <a:pathLst>
              <a:path w="720000" h="2955756">
                <a:moveTo>
                  <a:pt x="360000" y="0"/>
                </a:moveTo>
                <a:cubicBezTo>
                  <a:pt x="427110" y="0"/>
                  <a:pt x="484690" y="42329"/>
                  <a:pt x="509286" y="102654"/>
                </a:cubicBezTo>
                <a:lnTo>
                  <a:pt x="517336" y="144016"/>
                </a:lnTo>
                <a:lnTo>
                  <a:pt x="522018" y="144016"/>
                </a:lnTo>
                <a:lnTo>
                  <a:pt x="522018" y="168078"/>
                </a:lnTo>
                <a:lnTo>
                  <a:pt x="522018" y="2272616"/>
                </a:lnTo>
                <a:lnTo>
                  <a:pt x="561280" y="2294030"/>
                </a:lnTo>
                <a:cubicBezTo>
                  <a:pt x="657040" y="2359040"/>
                  <a:pt x="720000" y="2469133"/>
                  <a:pt x="720000" y="2594002"/>
                </a:cubicBezTo>
                <a:cubicBezTo>
                  <a:pt x="720000" y="2793793"/>
                  <a:pt x="558823" y="2955756"/>
                  <a:pt x="360000" y="2955756"/>
                </a:cubicBezTo>
                <a:cubicBezTo>
                  <a:pt x="161177" y="2955756"/>
                  <a:pt x="0" y="2793793"/>
                  <a:pt x="0" y="2594002"/>
                </a:cubicBezTo>
                <a:cubicBezTo>
                  <a:pt x="0" y="2469133"/>
                  <a:pt x="62960" y="2359040"/>
                  <a:pt x="158720" y="2294030"/>
                </a:cubicBezTo>
                <a:lnTo>
                  <a:pt x="198018" y="2272596"/>
                </a:lnTo>
                <a:lnTo>
                  <a:pt x="198018" y="168263"/>
                </a:lnTo>
                <a:lnTo>
                  <a:pt x="197982" y="168078"/>
                </a:lnTo>
                <a:lnTo>
                  <a:pt x="198018" y="167893"/>
                </a:lnTo>
                <a:lnTo>
                  <a:pt x="198018" y="144016"/>
                </a:lnTo>
                <a:lnTo>
                  <a:pt x="202665" y="144016"/>
                </a:lnTo>
                <a:lnTo>
                  <a:pt x="210714" y="102654"/>
                </a:lnTo>
                <a:cubicBezTo>
                  <a:pt x="235310" y="42329"/>
                  <a:pt x="292890" y="0"/>
                  <a:pt x="3600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24"/>
          <p:cNvSpPr/>
          <p:nvPr/>
        </p:nvSpPr>
        <p:spPr>
          <a:xfrm>
            <a:off x="1401840" y="3368520"/>
            <a:ext cx="3598920" cy="180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6"/>
          <p:cNvSpPr/>
          <p:nvPr/>
        </p:nvSpPr>
        <p:spPr>
          <a:xfrm>
            <a:off x="7464600" y="2668680"/>
            <a:ext cx="3600360" cy="1440"/>
          </a:xfrm>
          <a:prstGeom prst="line">
            <a:avLst/>
          </a:prstGeom>
          <a:ln w="1260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7"/>
          <p:cNvSpPr/>
          <p:nvPr/>
        </p:nvSpPr>
        <p:spPr>
          <a:xfrm>
            <a:off x="1774800" y="26496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8"/>
          <p:cNvSpPr/>
          <p:nvPr/>
        </p:nvSpPr>
        <p:spPr>
          <a:xfrm>
            <a:off x="7751880" y="19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9"/>
          <p:cNvSpPr/>
          <p:nvPr/>
        </p:nvSpPr>
        <p:spPr>
          <a:xfrm>
            <a:off x="1271520" y="3471840"/>
            <a:ext cx="3598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0"/>
          <p:cNvSpPr/>
          <p:nvPr/>
        </p:nvSpPr>
        <p:spPr>
          <a:xfrm>
            <a:off x="7607160" y="2762280"/>
            <a:ext cx="360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任意多边形 18"/>
          <p:cNvSpPr/>
          <p:nvPr/>
        </p:nvSpPr>
        <p:spPr>
          <a:xfrm>
            <a:off x="1703520" y="1623960"/>
            <a:ext cx="9245520" cy="4397400"/>
          </a:xfrm>
          <a:custGeom>
            <a:avLst/>
            <a:gdLst>
              <a:gd name="textAreaLeft" fmla="*/ 0 w 9245520"/>
              <a:gd name="textAreaRight" fmla="*/ 9245880 w 924552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9245080" h="4397330">
                <a:moveTo>
                  <a:pt x="4536504" y="0"/>
                </a:moveTo>
                <a:cubicBezTo>
                  <a:pt x="5113089" y="0"/>
                  <a:pt x="5580504" y="467415"/>
                  <a:pt x="5580504" y="1044000"/>
                </a:cubicBezTo>
                <a:lnTo>
                  <a:pt x="5579928" y="1050102"/>
                </a:lnTo>
                <a:lnTo>
                  <a:pt x="5597171" y="1021918"/>
                </a:lnTo>
                <a:cubicBezTo>
                  <a:pt x="5955551" y="495176"/>
                  <a:pt x="6562462" y="148858"/>
                  <a:pt x="7250832" y="148858"/>
                </a:cubicBezTo>
                <a:cubicBezTo>
                  <a:pt x="8352225" y="148858"/>
                  <a:pt x="9245080" y="1035433"/>
                  <a:pt x="9245080" y="2129078"/>
                </a:cubicBezTo>
                <a:cubicBezTo>
                  <a:pt x="9245080" y="3222723"/>
                  <a:pt x="8352225" y="4109298"/>
                  <a:pt x="7250832" y="4109298"/>
                </a:cubicBezTo>
                <a:cubicBezTo>
                  <a:pt x="6149439" y="4109298"/>
                  <a:pt x="5256584" y="3222723"/>
                  <a:pt x="5256584" y="2129078"/>
                </a:cubicBezTo>
                <a:cubicBezTo>
                  <a:pt x="5256584" y="2060725"/>
                  <a:pt x="5260072" y="1993181"/>
                  <a:pt x="5266880" y="1926612"/>
                </a:cubicBezTo>
                <a:lnTo>
                  <a:pt x="5292235" y="1761650"/>
                </a:lnTo>
                <a:lnTo>
                  <a:pt x="5171148" y="1873020"/>
                </a:lnTo>
                <a:cubicBezTo>
                  <a:pt x="5021819" y="1987509"/>
                  <a:pt x="4840663" y="2062561"/>
                  <a:pt x="4643247" y="2082610"/>
                </a:cubicBezTo>
                <a:lnTo>
                  <a:pt x="4549906" y="2087323"/>
                </a:lnTo>
                <a:lnTo>
                  <a:pt x="4611207" y="2133163"/>
                </a:lnTo>
                <a:cubicBezTo>
                  <a:pt x="4895239" y="2367567"/>
                  <a:pt x="5076280" y="2722306"/>
                  <a:pt x="5076280" y="3119330"/>
                </a:cubicBezTo>
                <a:cubicBezTo>
                  <a:pt x="5076280" y="3825150"/>
                  <a:pt x="4504100" y="4397330"/>
                  <a:pt x="3798280" y="4397330"/>
                </a:cubicBezTo>
                <a:cubicBezTo>
                  <a:pt x="3092460" y="4397330"/>
                  <a:pt x="2520280" y="3825150"/>
                  <a:pt x="2520280" y="3119330"/>
                </a:cubicBezTo>
                <a:cubicBezTo>
                  <a:pt x="2520280" y="3075217"/>
                  <a:pt x="2522516" y="3031625"/>
                  <a:pt x="2526878" y="2988662"/>
                </a:cubicBezTo>
                <a:lnTo>
                  <a:pt x="2533624" y="2944463"/>
                </a:lnTo>
                <a:lnTo>
                  <a:pt x="2469630" y="2992317"/>
                </a:lnTo>
                <a:cubicBezTo>
                  <a:pt x="2216822" y="3163111"/>
                  <a:pt x="1912057" y="3262839"/>
                  <a:pt x="1584000" y="3262839"/>
                </a:cubicBezTo>
                <a:cubicBezTo>
                  <a:pt x="709181" y="3262839"/>
                  <a:pt x="0" y="2553658"/>
                  <a:pt x="0" y="1678839"/>
                </a:cubicBezTo>
                <a:cubicBezTo>
                  <a:pt x="0" y="804020"/>
                  <a:pt x="709181" y="94839"/>
                  <a:pt x="1584000" y="94839"/>
                </a:cubicBezTo>
                <a:cubicBezTo>
                  <a:pt x="2458819" y="94839"/>
                  <a:pt x="3168000" y="804020"/>
                  <a:pt x="3168000" y="1678839"/>
                </a:cubicBezTo>
                <a:cubicBezTo>
                  <a:pt x="3168000" y="1788192"/>
                  <a:pt x="3156919" y="1894956"/>
                  <a:pt x="3135819" y="1998070"/>
                </a:cubicBezTo>
                <a:lnTo>
                  <a:pt x="3126713" y="2033485"/>
                </a:lnTo>
                <a:lnTo>
                  <a:pt x="3189110" y="1995578"/>
                </a:lnTo>
                <a:cubicBezTo>
                  <a:pt x="3370194" y="1897207"/>
                  <a:pt x="3577712" y="1841330"/>
                  <a:pt x="3798280" y="1841330"/>
                </a:cubicBezTo>
                <a:lnTo>
                  <a:pt x="3867149" y="1844808"/>
                </a:lnTo>
                <a:lnTo>
                  <a:pt x="3798285" y="1782220"/>
                </a:lnTo>
                <a:cubicBezTo>
                  <a:pt x="3609358" y="1593293"/>
                  <a:pt x="3492504" y="1332293"/>
                  <a:pt x="3492504" y="1044000"/>
                </a:cubicBezTo>
                <a:cubicBezTo>
                  <a:pt x="3492504" y="467415"/>
                  <a:pt x="3959919" y="0"/>
                  <a:pt x="4536504" y="0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9"/>
          <p:cNvSpPr/>
          <p:nvPr/>
        </p:nvSpPr>
        <p:spPr>
          <a:xfrm>
            <a:off x="2206800" y="191772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20"/>
          <p:cNvSpPr/>
          <p:nvPr/>
        </p:nvSpPr>
        <p:spPr>
          <a:xfrm>
            <a:off x="7756560" y="21351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4%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21"/>
          <p:cNvSpPr/>
          <p:nvPr/>
        </p:nvSpPr>
        <p:spPr>
          <a:xfrm>
            <a:off x="5530680" y="179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78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3"/>
          <p:cNvSpPr/>
          <p:nvPr/>
        </p:nvSpPr>
        <p:spPr>
          <a:xfrm>
            <a:off x="4743360" y="375768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5"/>
          <p:cNvSpPr/>
          <p:nvPr/>
        </p:nvSpPr>
        <p:spPr>
          <a:xfrm>
            <a:off x="2162160" y="2852640"/>
            <a:ext cx="2390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31"/>
          <p:cNvSpPr/>
          <p:nvPr/>
        </p:nvSpPr>
        <p:spPr>
          <a:xfrm>
            <a:off x="7543800" y="3213000"/>
            <a:ext cx="2800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 society. 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375160" y="2259000"/>
            <a:ext cx="17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4653000" y="4532400"/>
            <a:ext cx="180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表 19" descr=""/>
          <p:cNvPicPr/>
          <p:nvPr/>
        </p:nvPicPr>
        <p:blipFill>
          <a:blip r:embed="rId1"/>
          <a:stretch/>
        </p:blipFill>
        <p:spPr>
          <a:xfrm>
            <a:off x="3287880" y="2278080"/>
            <a:ext cx="5327640" cy="3384360"/>
          </a:xfrm>
          <a:prstGeom prst="rect">
            <a:avLst/>
          </a:prstGeom>
          <a:ln w="0">
            <a:noFill/>
          </a:ln>
        </p:spPr>
      </p:pic>
      <p:grpSp>
        <p:nvGrpSpPr>
          <p:cNvPr id="567" name="组合 71"/>
          <p:cNvGrpSpPr/>
          <p:nvPr/>
        </p:nvGrpSpPr>
        <p:grpSpPr>
          <a:xfrm>
            <a:off x="3562200" y="4486320"/>
            <a:ext cx="1036800" cy="315720"/>
            <a:chOff x="3562200" y="4486320"/>
            <a:chExt cx="1036800" cy="315720"/>
          </a:xfrm>
        </p:grpSpPr>
        <p:sp>
          <p:nvSpPr>
            <p:cNvPr id="568" name="直接连接符 72"/>
            <p:cNvSpPr/>
            <p:nvPr/>
          </p:nvSpPr>
          <p:spPr>
            <a:xfrm flipH="1">
              <a:off x="4414680" y="4486320"/>
              <a:ext cx="184320" cy="31572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73"/>
            <p:cNvSpPr/>
            <p:nvPr/>
          </p:nvSpPr>
          <p:spPr>
            <a:xfrm flipH="1">
              <a:off x="3562200" y="4801680"/>
              <a:ext cx="852480" cy="0"/>
            </a:xfrm>
            <a:prstGeom prst="line">
              <a:avLst/>
            </a:prstGeom>
            <a:ln w="12600">
              <a:solidFill>
                <a:srgbClr val="83bec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68"/>
          <p:cNvGrpSpPr/>
          <p:nvPr/>
        </p:nvGrpSpPr>
        <p:grpSpPr>
          <a:xfrm>
            <a:off x="3866760" y="2205000"/>
            <a:ext cx="1274760" cy="504720"/>
            <a:chOff x="3866760" y="2205000"/>
            <a:chExt cx="1274760" cy="504720"/>
          </a:xfrm>
        </p:grpSpPr>
        <p:sp>
          <p:nvSpPr>
            <p:cNvPr id="571" name="直接连接符 69"/>
            <p:cNvSpPr/>
            <p:nvPr/>
          </p:nvSpPr>
          <p:spPr>
            <a:xfrm flipH="1" flipV="1">
              <a:off x="4915080" y="2205000"/>
              <a:ext cx="226440" cy="50472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70"/>
            <p:cNvSpPr/>
            <p:nvPr/>
          </p:nvSpPr>
          <p:spPr>
            <a:xfrm flipH="1">
              <a:off x="3866760" y="2205000"/>
              <a:ext cx="1048320" cy="0"/>
            </a:xfrm>
            <a:prstGeom prst="line">
              <a:avLst/>
            </a:prstGeom>
            <a:ln w="12600">
              <a:solidFill>
                <a:srgbClr val="b5d8d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28"/>
          <p:cNvGrpSpPr/>
          <p:nvPr/>
        </p:nvGrpSpPr>
        <p:grpSpPr>
          <a:xfrm>
            <a:off x="6743880" y="2206440"/>
            <a:ext cx="1618920" cy="502920"/>
            <a:chOff x="6743880" y="2206440"/>
            <a:chExt cx="1618920" cy="502920"/>
          </a:xfrm>
        </p:grpSpPr>
        <p:sp>
          <p:nvSpPr>
            <p:cNvPr id="574" name="直接连接符 25"/>
            <p:cNvSpPr/>
            <p:nvPr/>
          </p:nvSpPr>
          <p:spPr>
            <a:xfrm flipV="1">
              <a:off x="6743880" y="2206440"/>
              <a:ext cx="287640" cy="50292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 27"/>
            <p:cNvSpPr/>
            <p:nvPr/>
          </p:nvSpPr>
          <p:spPr>
            <a:xfrm>
              <a:off x="7031520" y="2206800"/>
              <a:ext cx="1331280" cy="0"/>
            </a:xfrm>
            <a:prstGeom prst="line">
              <a:avLst/>
            </a:prstGeom>
            <a:ln w="12600">
              <a:solidFill>
                <a:srgbClr val="4797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组合 47"/>
          <p:cNvGrpSpPr/>
          <p:nvPr/>
        </p:nvGrpSpPr>
        <p:grpSpPr>
          <a:xfrm>
            <a:off x="8413920" y="1526040"/>
            <a:ext cx="1492200" cy="1255320"/>
            <a:chOff x="8413920" y="1526040"/>
            <a:chExt cx="1492200" cy="1255320"/>
          </a:xfrm>
        </p:grpSpPr>
        <p:grpSp>
          <p:nvGrpSpPr>
            <p:cNvPr id="581" name="组合 46"/>
            <p:cNvGrpSpPr/>
            <p:nvPr/>
          </p:nvGrpSpPr>
          <p:grpSpPr>
            <a:xfrm>
              <a:off x="8413920" y="1825200"/>
              <a:ext cx="1492200" cy="956160"/>
              <a:chOff x="8413920" y="1825200"/>
              <a:chExt cx="1492200" cy="956160"/>
            </a:xfrm>
          </p:grpSpPr>
          <p:sp>
            <p:nvSpPr>
              <p:cNvPr id="582" name="矩形 29"/>
              <p:cNvSpPr/>
              <p:nvPr/>
            </p:nvSpPr>
            <p:spPr>
              <a:xfrm>
                <a:off x="8413920" y="1825200"/>
                <a:ext cx="1492200" cy="956160"/>
              </a:xfrm>
              <a:prstGeom prst="rect">
                <a:avLst/>
              </a:prstGeom>
              <a:noFill/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34"/>
              <p:cNvSpPr/>
              <p:nvPr/>
            </p:nvSpPr>
            <p:spPr>
              <a:xfrm>
                <a:off x="8413920" y="2622240"/>
                <a:ext cx="1492200" cy="15912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直接连接符 36"/>
              <p:cNvSpPr/>
              <p:nvPr/>
            </p:nvSpPr>
            <p:spPr>
              <a:xfrm>
                <a:off x="9004320" y="2728440"/>
                <a:ext cx="264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组合 42"/>
            <p:cNvGrpSpPr/>
            <p:nvPr/>
          </p:nvGrpSpPr>
          <p:grpSpPr>
            <a:xfrm>
              <a:off x="8820360" y="1559520"/>
              <a:ext cx="316800" cy="265680"/>
              <a:chOff x="8820360" y="1559520"/>
              <a:chExt cx="316800" cy="265680"/>
            </a:xfrm>
          </p:grpSpPr>
          <p:sp>
            <p:nvSpPr>
              <p:cNvPr id="586" name="直接连接符 38"/>
              <p:cNvSpPr/>
              <p:nvPr/>
            </p:nvSpPr>
            <p:spPr>
              <a:xfrm>
                <a:off x="8871840" y="1612440"/>
                <a:ext cx="265320" cy="21276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9"/>
              <p:cNvSpPr/>
              <p:nvPr/>
            </p:nvSpPr>
            <p:spPr>
              <a:xfrm>
                <a:off x="8820360" y="1559520"/>
                <a:ext cx="105840" cy="10620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组合 43"/>
            <p:cNvGrpSpPr/>
            <p:nvPr/>
          </p:nvGrpSpPr>
          <p:grpSpPr>
            <a:xfrm>
              <a:off x="9188640" y="1526040"/>
              <a:ext cx="305280" cy="293040"/>
              <a:chOff x="9188640" y="1526040"/>
              <a:chExt cx="305280" cy="293040"/>
            </a:xfrm>
          </p:grpSpPr>
          <p:sp>
            <p:nvSpPr>
              <p:cNvPr id="589" name="直接连接符 44"/>
              <p:cNvSpPr/>
              <p:nvPr/>
            </p:nvSpPr>
            <p:spPr>
              <a:xfrm flipH="1">
                <a:off x="9188640" y="1584000"/>
                <a:ext cx="245880" cy="235080"/>
              </a:xfrm>
              <a:prstGeom prst="line">
                <a:avLst/>
              </a:prstGeom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45"/>
              <p:cNvSpPr/>
              <p:nvPr/>
            </p:nvSpPr>
            <p:spPr>
              <a:xfrm rot="5861400">
                <a:off x="9381240" y="1532520"/>
                <a:ext cx="106200" cy="1058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组合 54"/>
          <p:cNvGrpSpPr/>
          <p:nvPr/>
        </p:nvGrpSpPr>
        <p:grpSpPr>
          <a:xfrm>
            <a:off x="8413920" y="4216320"/>
            <a:ext cx="790560" cy="1368360"/>
            <a:chOff x="8413920" y="4216320"/>
            <a:chExt cx="790560" cy="1368360"/>
          </a:xfrm>
        </p:grpSpPr>
        <p:grpSp>
          <p:nvGrpSpPr>
            <p:cNvPr id="592" name="组合 51"/>
            <p:cNvGrpSpPr/>
            <p:nvPr/>
          </p:nvGrpSpPr>
          <p:grpSpPr>
            <a:xfrm>
              <a:off x="8413920" y="4216320"/>
              <a:ext cx="790560" cy="1368360"/>
              <a:chOff x="8413920" y="4216320"/>
              <a:chExt cx="790560" cy="1368360"/>
            </a:xfrm>
          </p:grpSpPr>
          <p:sp>
            <p:nvSpPr>
              <p:cNvPr id="593" name="矩形 48"/>
              <p:cNvSpPr/>
              <p:nvPr/>
            </p:nvSpPr>
            <p:spPr>
              <a:xfrm>
                <a:off x="8413920" y="4216320"/>
                <a:ext cx="790560" cy="1368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49"/>
              <p:cNvSpPr/>
              <p:nvPr/>
            </p:nvSpPr>
            <p:spPr>
              <a:xfrm>
                <a:off x="8413920" y="5368680"/>
                <a:ext cx="790560" cy="216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50"/>
              <p:cNvSpPr/>
              <p:nvPr/>
            </p:nvSpPr>
            <p:spPr>
              <a:xfrm>
                <a:off x="8737200" y="5440680"/>
                <a:ext cx="143640" cy="144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52"/>
            <p:cNvSpPr/>
            <p:nvPr/>
          </p:nvSpPr>
          <p:spPr>
            <a:xfrm>
              <a:off x="8413920" y="4216320"/>
              <a:ext cx="790560" cy="1296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53"/>
            <p:cNvSpPr/>
            <p:nvPr/>
          </p:nvSpPr>
          <p:spPr>
            <a:xfrm>
              <a:off x="8737200" y="4288320"/>
              <a:ext cx="143640" cy="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58"/>
          <p:cNvGrpSpPr/>
          <p:nvPr/>
        </p:nvGrpSpPr>
        <p:grpSpPr>
          <a:xfrm>
            <a:off x="2239560" y="4403880"/>
            <a:ext cx="1662120" cy="824760"/>
            <a:chOff x="2239560" y="4403880"/>
            <a:chExt cx="1662120" cy="824760"/>
          </a:xfrm>
        </p:grpSpPr>
        <p:sp>
          <p:nvSpPr>
            <p:cNvPr id="599" name="矩形 55"/>
            <p:cNvSpPr/>
            <p:nvPr/>
          </p:nvSpPr>
          <p:spPr>
            <a:xfrm>
              <a:off x="2462400" y="4403880"/>
              <a:ext cx="1187640" cy="704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梯形 56"/>
            <p:cNvSpPr/>
            <p:nvPr/>
          </p:nvSpPr>
          <p:spPr>
            <a:xfrm flipV="1" rot="10800000">
              <a:off x="2239560" y="5178240"/>
              <a:ext cx="1662120" cy="50040"/>
            </a:xfrm>
            <a:custGeom>
              <a:avLst/>
              <a:gdLst>
                <a:gd name="textAreaLeft" fmla="*/ 144720 w 1662120"/>
                <a:gd name="textAreaRight" fmla="*/ 1517400 w 1662120"/>
                <a:gd name="textAreaTop" fmla="*/ 4320 h 50040"/>
                <a:gd name="textAreaBottom" fmla="*/ 45720 h 5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3" y="21600"/>
                  </a:lnTo>
                  <a:lnTo>
                    <a:pt x="214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梯形 57"/>
            <p:cNvSpPr/>
            <p:nvPr/>
          </p:nvSpPr>
          <p:spPr>
            <a:xfrm flipV="1" rot="10800000">
              <a:off x="2944800" y="5182200"/>
              <a:ext cx="186840" cy="24840"/>
            </a:xfrm>
            <a:custGeom>
              <a:avLst/>
              <a:gdLst>
                <a:gd name="textAreaLeft" fmla="*/ 18720 w 186840"/>
                <a:gd name="textAreaRight" fmla="*/ 168120 w 186840"/>
                <a:gd name="textAreaTop" fmla="*/ 2520 h 24840"/>
                <a:gd name="textAreaBottom" fmla="*/ 22320 h 2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27" y="21600"/>
                  </a:lnTo>
                  <a:lnTo>
                    <a:pt x="2087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7"/>
          <p:cNvGrpSpPr/>
          <p:nvPr/>
        </p:nvGrpSpPr>
        <p:grpSpPr>
          <a:xfrm>
            <a:off x="2908440" y="1795320"/>
            <a:ext cx="993600" cy="979560"/>
            <a:chOff x="2908440" y="1795320"/>
            <a:chExt cx="993600" cy="979560"/>
          </a:xfrm>
        </p:grpSpPr>
        <p:grpSp>
          <p:nvGrpSpPr>
            <p:cNvPr id="603" name="组合 60"/>
            <p:cNvGrpSpPr/>
            <p:nvPr/>
          </p:nvGrpSpPr>
          <p:grpSpPr>
            <a:xfrm>
              <a:off x="2908440" y="1795320"/>
              <a:ext cx="921960" cy="979560"/>
              <a:chOff x="2908440" y="1795320"/>
              <a:chExt cx="921960" cy="979560"/>
            </a:xfrm>
          </p:grpSpPr>
          <p:sp>
            <p:nvSpPr>
              <p:cNvPr id="604" name="矩形 63"/>
              <p:cNvSpPr/>
              <p:nvPr/>
            </p:nvSpPr>
            <p:spPr>
              <a:xfrm>
                <a:off x="2908440" y="1795320"/>
                <a:ext cx="921960" cy="9795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64"/>
              <p:cNvSpPr/>
              <p:nvPr/>
            </p:nvSpPr>
            <p:spPr>
              <a:xfrm>
                <a:off x="2908440" y="2620440"/>
                <a:ext cx="921960" cy="1544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65"/>
              <p:cNvSpPr/>
              <p:nvPr/>
            </p:nvSpPr>
            <p:spPr>
              <a:xfrm>
                <a:off x="3285720" y="2671920"/>
                <a:ext cx="167400" cy="10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矩形 66"/>
            <p:cNvSpPr/>
            <p:nvPr/>
          </p:nvSpPr>
          <p:spPr>
            <a:xfrm>
              <a:off x="3830400" y="1939320"/>
              <a:ext cx="71640" cy="216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75"/>
          <p:cNvGrpSpPr/>
          <p:nvPr/>
        </p:nvGrpSpPr>
        <p:grpSpPr>
          <a:xfrm>
            <a:off x="7175520" y="4626000"/>
            <a:ext cx="1238400" cy="420840"/>
            <a:chOff x="7175520" y="4626000"/>
            <a:chExt cx="1238400" cy="420840"/>
          </a:xfrm>
        </p:grpSpPr>
        <p:sp>
          <p:nvSpPr>
            <p:cNvPr id="609" name="直接连接符 76"/>
            <p:cNvSpPr/>
            <p:nvPr/>
          </p:nvSpPr>
          <p:spPr>
            <a:xfrm>
              <a:off x="7175520" y="4626000"/>
              <a:ext cx="219960" cy="42084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77"/>
            <p:cNvSpPr/>
            <p:nvPr/>
          </p:nvSpPr>
          <p:spPr>
            <a:xfrm>
              <a:off x="7395480" y="5046480"/>
              <a:ext cx="1018440" cy="0"/>
            </a:xfrm>
            <a:prstGeom prst="line">
              <a:avLst/>
            </a:prstGeom>
            <a:ln w="1260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78"/>
          <p:cNvSpPr/>
          <p:nvPr/>
        </p:nvSpPr>
        <p:spPr>
          <a:xfrm>
            <a:off x="1004580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46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79"/>
          <p:cNvSpPr/>
          <p:nvPr/>
        </p:nvSpPr>
        <p:spPr>
          <a:xfrm>
            <a:off x="9244080" y="429084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8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80"/>
          <p:cNvSpPr/>
          <p:nvPr/>
        </p:nvSpPr>
        <p:spPr>
          <a:xfrm>
            <a:off x="1011240" y="170028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27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1"/>
          <p:cNvSpPr/>
          <p:nvPr/>
        </p:nvSpPr>
        <p:spPr>
          <a:xfrm>
            <a:off x="539640" y="4221000"/>
            <a:ext cx="1739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图表 14" descr=""/>
          <p:cNvPicPr/>
          <p:nvPr/>
        </p:nvPicPr>
        <p:blipFill>
          <a:blip r:embed="rId1"/>
          <a:stretch/>
        </p:blipFill>
        <p:spPr>
          <a:xfrm>
            <a:off x="1919160" y="1700280"/>
            <a:ext cx="8929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4440240" y="2041560"/>
            <a:ext cx="1247760" cy="35481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6707160" y="2041560"/>
            <a:ext cx="1620720" cy="3548160"/>
          </a:xfrm>
          <a:prstGeom prst="rect">
            <a:avLst/>
          </a:prstGeom>
          <a:ln w="0">
            <a:noFill/>
          </a:ln>
        </p:spPr>
      </p:pic>
      <p:grpSp>
        <p:nvGrpSpPr>
          <p:cNvPr id="626" name="组合 33"/>
          <p:cNvGrpSpPr/>
          <p:nvPr/>
        </p:nvGrpSpPr>
        <p:grpSpPr>
          <a:xfrm>
            <a:off x="1968480" y="1628640"/>
            <a:ext cx="3156120" cy="1459080"/>
            <a:chOff x="1968480" y="1628640"/>
            <a:chExt cx="3156120" cy="1459080"/>
          </a:xfrm>
        </p:grpSpPr>
        <p:grpSp>
          <p:nvGrpSpPr>
            <p:cNvPr id="627" name="组合 20"/>
            <p:cNvGrpSpPr/>
            <p:nvPr/>
          </p:nvGrpSpPr>
          <p:grpSpPr>
            <a:xfrm>
              <a:off x="1968480" y="1628640"/>
              <a:ext cx="1608840" cy="1440000"/>
              <a:chOff x="1968480" y="1628640"/>
              <a:chExt cx="1608840" cy="1440000"/>
            </a:xfrm>
          </p:grpSpPr>
          <p:sp>
            <p:nvSpPr>
              <p:cNvPr id="628" name="椭圆 18"/>
              <p:cNvSpPr/>
              <p:nvPr/>
            </p:nvSpPr>
            <p:spPr>
              <a:xfrm>
                <a:off x="2052360" y="1628640"/>
                <a:ext cx="144108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32"/>
              <p:cNvSpPr/>
              <p:nvPr/>
            </p:nvSpPr>
            <p:spPr>
              <a:xfrm>
                <a:off x="1968480" y="220644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文本框 19"/>
              <p:cNvSpPr/>
              <p:nvPr/>
            </p:nvSpPr>
            <p:spPr>
              <a:xfrm>
                <a:off x="2124360" y="176688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46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直接连接符 23"/>
            <p:cNvSpPr/>
            <p:nvPr/>
          </p:nvSpPr>
          <p:spPr>
            <a:xfrm>
              <a:off x="3421440" y="2708640"/>
              <a:ext cx="1523160" cy="2577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25"/>
            <p:cNvSpPr/>
            <p:nvPr/>
          </p:nvSpPr>
          <p:spPr>
            <a:xfrm>
              <a:off x="4944600" y="29077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36"/>
          <p:cNvGrpSpPr/>
          <p:nvPr/>
        </p:nvGrpSpPr>
        <p:grpSpPr>
          <a:xfrm>
            <a:off x="1023840" y="3144960"/>
            <a:ext cx="4023000" cy="1439640"/>
            <a:chOff x="1023840" y="3144960"/>
            <a:chExt cx="4023000" cy="1439640"/>
          </a:xfrm>
        </p:grpSpPr>
        <p:grpSp>
          <p:nvGrpSpPr>
            <p:cNvPr id="634" name="组合 37"/>
            <p:cNvGrpSpPr/>
            <p:nvPr/>
          </p:nvGrpSpPr>
          <p:grpSpPr>
            <a:xfrm>
              <a:off x="1023840" y="3144960"/>
              <a:ext cx="1608120" cy="1439640"/>
              <a:chOff x="1023840" y="3144960"/>
              <a:chExt cx="1608120" cy="1439640"/>
            </a:xfrm>
          </p:grpSpPr>
          <p:sp>
            <p:nvSpPr>
              <p:cNvPr id="635" name="椭圆 40"/>
              <p:cNvSpPr/>
              <p:nvPr/>
            </p:nvSpPr>
            <p:spPr>
              <a:xfrm>
                <a:off x="1107720" y="3144960"/>
                <a:ext cx="1440360" cy="143964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41"/>
              <p:cNvSpPr/>
              <p:nvPr/>
            </p:nvSpPr>
            <p:spPr>
              <a:xfrm>
                <a:off x="1023840" y="3718440"/>
                <a:ext cx="160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文本框 42"/>
              <p:cNvSpPr/>
              <p:nvPr/>
            </p:nvSpPr>
            <p:spPr>
              <a:xfrm>
                <a:off x="1179720" y="3265560"/>
                <a:ext cx="129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94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直接连接符 38"/>
            <p:cNvSpPr/>
            <p:nvPr/>
          </p:nvSpPr>
          <p:spPr>
            <a:xfrm flipV="1">
              <a:off x="2548080" y="3672360"/>
              <a:ext cx="2396520" cy="19224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39"/>
            <p:cNvSpPr/>
            <p:nvPr/>
          </p:nvSpPr>
          <p:spPr>
            <a:xfrm>
              <a:off x="4866840" y="3572640"/>
              <a:ext cx="180000" cy="17964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组合 52"/>
          <p:cNvGrpSpPr/>
          <p:nvPr/>
        </p:nvGrpSpPr>
        <p:grpSpPr>
          <a:xfrm>
            <a:off x="2343240" y="4502160"/>
            <a:ext cx="2631960" cy="1587600"/>
            <a:chOff x="2343240" y="4502160"/>
            <a:chExt cx="2631960" cy="1587600"/>
          </a:xfrm>
        </p:grpSpPr>
        <p:grpSp>
          <p:nvGrpSpPr>
            <p:cNvPr id="641" name="组合 53"/>
            <p:cNvGrpSpPr/>
            <p:nvPr/>
          </p:nvGrpSpPr>
          <p:grpSpPr>
            <a:xfrm>
              <a:off x="2343240" y="4649400"/>
              <a:ext cx="1607400" cy="1440360"/>
              <a:chOff x="2343240" y="4649400"/>
              <a:chExt cx="1607400" cy="1440360"/>
            </a:xfrm>
          </p:grpSpPr>
          <p:sp>
            <p:nvSpPr>
              <p:cNvPr id="642" name="椭圆 56"/>
              <p:cNvSpPr/>
              <p:nvPr/>
            </p:nvSpPr>
            <p:spPr>
              <a:xfrm>
                <a:off x="2427120" y="4649400"/>
                <a:ext cx="143964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57"/>
              <p:cNvSpPr/>
              <p:nvPr/>
            </p:nvSpPr>
            <p:spPr>
              <a:xfrm>
                <a:off x="2343240" y="5227200"/>
                <a:ext cx="160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8"/>
              <p:cNvSpPr/>
              <p:nvPr/>
            </p:nvSpPr>
            <p:spPr>
              <a:xfrm>
                <a:off x="2499120" y="4787640"/>
                <a:ext cx="12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3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直接连接符 54"/>
            <p:cNvSpPr/>
            <p:nvPr/>
          </p:nvSpPr>
          <p:spPr>
            <a:xfrm flipV="1">
              <a:off x="3866760" y="4584960"/>
              <a:ext cx="998640" cy="5860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5"/>
            <p:cNvSpPr/>
            <p:nvPr/>
          </p:nvSpPr>
          <p:spPr>
            <a:xfrm>
              <a:off x="4795560" y="4502160"/>
              <a:ext cx="17964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62"/>
          <p:cNvGrpSpPr/>
          <p:nvPr/>
        </p:nvGrpSpPr>
        <p:grpSpPr>
          <a:xfrm>
            <a:off x="7416720" y="1773360"/>
            <a:ext cx="2855880" cy="1555560"/>
            <a:chOff x="7416720" y="1773360"/>
            <a:chExt cx="2855880" cy="1555560"/>
          </a:xfrm>
        </p:grpSpPr>
        <p:grpSp>
          <p:nvGrpSpPr>
            <p:cNvPr id="648" name="组合 63"/>
            <p:cNvGrpSpPr/>
            <p:nvPr/>
          </p:nvGrpSpPr>
          <p:grpSpPr>
            <a:xfrm>
              <a:off x="8664120" y="1773360"/>
              <a:ext cx="1608480" cy="1440000"/>
              <a:chOff x="8664120" y="1773360"/>
              <a:chExt cx="1608480" cy="1440000"/>
            </a:xfrm>
          </p:grpSpPr>
          <p:sp>
            <p:nvSpPr>
              <p:cNvPr id="649" name="椭圆 66"/>
              <p:cNvSpPr/>
              <p:nvPr/>
            </p:nvSpPr>
            <p:spPr>
              <a:xfrm>
                <a:off x="8748000" y="177336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67"/>
              <p:cNvSpPr/>
              <p:nvPr/>
            </p:nvSpPr>
            <p:spPr>
              <a:xfrm>
                <a:off x="8664120" y="235116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68"/>
              <p:cNvSpPr/>
              <p:nvPr/>
            </p:nvSpPr>
            <p:spPr>
              <a:xfrm>
                <a:off x="8820000" y="191160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23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直接连接符 64"/>
            <p:cNvSpPr/>
            <p:nvPr/>
          </p:nvSpPr>
          <p:spPr>
            <a:xfrm flipV="1">
              <a:off x="7506720" y="2811240"/>
              <a:ext cx="1313280" cy="4276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65"/>
            <p:cNvSpPr/>
            <p:nvPr/>
          </p:nvSpPr>
          <p:spPr>
            <a:xfrm>
              <a:off x="7416720" y="314892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71"/>
          <p:cNvGrpSpPr/>
          <p:nvPr/>
        </p:nvGrpSpPr>
        <p:grpSpPr>
          <a:xfrm>
            <a:off x="7496280" y="3517920"/>
            <a:ext cx="4076640" cy="1440000"/>
            <a:chOff x="7496280" y="3517920"/>
            <a:chExt cx="4076640" cy="1440000"/>
          </a:xfrm>
        </p:grpSpPr>
        <p:grpSp>
          <p:nvGrpSpPr>
            <p:cNvPr id="655" name="组合 72"/>
            <p:cNvGrpSpPr/>
            <p:nvPr/>
          </p:nvGrpSpPr>
          <p:grpSpPr>
            <a:xfrm>
              <a:off x="9964440" y="3517920"/>
              <a:ext cx="1608480" cy="1440000"/>
              <a:chOff x="9964440" y="3517920"/>
              <a:chExt cx="1608480" cy="1440000"/>
            </a:xfrm>
          </p:grpSpPr>
          <p:sp>
            <p:nvSpPr>
              <p:cNvPr id="656" name="椭圆 75"/>
              <p:cNvSpPr/>
              <p:nvPr/>
            </p:nvSpPr>
            <p:spPr>
              <a:xfrm>
                <a:off x="10048320" y="3517920"/>
                <a:ext cx="1440720" cy="144000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矩形 76"/>
              <p:cNvSpPr/>
              <p:nvPr/>
            </p:nvSpPr>
            <p:spPr>
              <a:xfrm>
                <a:off x="9964440" y="4095720"/>
                <a:ext cx="160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文本框 77"/>
              <p:cNvSpPr/>
              <p:nvPr/>
            </p:nvSpPr>
            <p:spPr>
              <a:xfrm>
                <a:off x="10120320" y="3656160"/>
                <a:ext cx="12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82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直接连接符 73"/>
            <p:cNvSpPr/>
            <p:nvPr/>
          </p:nvSpPr>
          <p:spPr>
            <a:xfrm>
              <a:off x="7650000" y="3971880"/>
              <a:ext cx="2387880" cy="26496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椭圆 74"/>
            <p:cNvSpPr/>
            <p:nvPr/>
          </p:nvSpPr>
          <p:spPr>
            <a:xfrm>
              <a:off x="7496280" y="386244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82"/>
          <p:cNvGrpSpPr/>
          <p:nvPr/>
        </p:nvGrpSpPr>
        <p:grpSpPr>
          <a:xfrm>
            <a:off x="7661160" y="4672080"/>
            <a:ext cx="2635200" cy="1511280"/>
            <a:chOff x="7661160" y="4672080"/>
            <a:chExt cx="2635200" cy="1511280"/>
          </a:xfrm>
        </p:grpSpPr>
        <p:grpSp>
          <p:nvGrpSpPr>
            <p:cNvPr id="662" name="组合 83"/>
            <p:cNvGrpSpPr/>
            <p:nvPr/>
          </p:nvGrpSpPr>
          <p:grpSpPr>
            <a:xfrm>
              <a:off x="8687520" y="4743000"/>
              <a:ext cx="1608840" cy="1440360"/>
              <a:chOff x="8687520" y="4743000"/>
              <a:chExt cx="1608840" cy="1440360"/>
            </a:xfrm>
          </p:grpSpPr>
          <p:sp>
            <p:nvSpPr>
              <p:cNvPr id="663" name="椭圆 86"/>
              <p:cNvSpPr/>
              <p:nvPr/>
            </p:nvSpPr>
            <p:spPr>
              <a:xfrm>
                <a:off x="8771400" y="4743000"/>
                <a:ext cx="1441080" cy="1440360"/>
              </a:xfrm>
              <a:prstGeom prst="ellipse">
                <a:avLst/>
              </a:prstGeom>
              <a:noFill/>
              <a:ln w="57240">
                <a:solidFill>
                  <a:srgbClr val="5db3b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87"/>
              <p:cNvSpPr/>
              <p:nvPr/>
            </p:nvSpPr>
            <p:spPr>
              <a:xfrm>
                <a:off x="8687520" y="5320800"/>
                <a:ext cx="1608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It is no mea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文本框 88"/>
              <p:cNvSpPr/>
              <p:nvPr/>
            </p:nvSpPr>
            <p:spPr>
              <a:xfrm>
                <a:off x="8843400" y="488124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造字工房悦黑体验版纤细体"/>
                    <a:ea typeface="造字工房悦黑体验版纤细体"/>
                  </a:rPr>
                  <a:t>67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直接连接符 84"/>
            <p:cNvSpPr/>
            <p:nvPr/>
          </p:nvSpPr>
          <p:spPr>
            <a:xfrm>
              <a:off x="7751160" y="4762080"/>
              <a:ext cx="1020600" cy="701280"/>
            </a:xfrm>
            <a:prstGeom prst="line">
              <a:avLst/>
            </a:prstGeom>
            <a:ln w="28440">
              <a:solidFill>
                <a:srgbClr val="5db3b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85"/>
            <p:cNvSpPr/>
            <p:nvPr/>
          </p:nvSpPr>
          <p:spPr>
            <a:xfrm>
              <a:off x="7661160" y="4672080"/>
              <a:ext cx="180000" cy="180000"/>
            </a:xfrm>
            <a:prstGeom prst="ellipse">
              <a:avLst/>
            </a:pr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" descr="http://image.zcool.com.cn/img3/56/55/1370567145327.jpg"/>
          <p:cNvPicPr/>
          <p:nvPr/>
        </p:nvPicPr>
        <p:blipFill>
          <a:blip r:embed="rId1"/>
          <a:stretch/>
        </p:blipFill>
        <p:spPr>
          <a:xfrm>
            <a:off x="232092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http://image.zcool.com.cn/img3/56/55/1370567145327.jpg"/>
          <p:cNvPicPr/>
          <p:nvPr/>
        </p:nvPicPr>
        <p:blipFill>
          <a:blip r:embed="rId2"/>
          <a:stretch/>
        </p:blipFill>
        <p:spPr>
          <a:xfrm>
            <a:off x="23223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http://image.zcool.com.cn/img3/56/55/1370567145327.jpg"/>
          <p:cNvPicPr/>
          <p:nvPr/>
        </p:nvPicPr>
        <p:blipFill>
          <a:blip r:embed="rId3"/>
          <a:stretch/>
        </p:blipFill>
        <p:spPr>
          <a:xfrm>
            <a:off x="298944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http://image.zcool.com.cn/img3/56/55/1370567145327.jpg"/>
          <p:cNvPicPr/>
          <p:nvPr/>
        </p:nvPicPr>
        <p:blipFill>
          <a:blip r:embed="rId4"/>
          <a:stretch/>
        </p:blipFill>
        <p:spPr>
          <a:xfrm>
            <a:off x="365616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http://image.zcool.com.cn/img3/56/55/1370567145327.jpg"/>
          <p:cNvPicPr/>
          <p:nvPr/>
        </p:nvPicPr>
        <p:blipFill>
          <a:blip r:embed="rId5"/>
          <a:stretch/>
        </p:blipFill>
        <p:spPr>
          <a:xfrm>
            <a:off x="43228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image.zcool.com.cn/img3/56/55/1370567145327.jpg"/>
          <p:cNvPicPr/>
          <p:nvPr/>
        </p:nvPicPr>
        <p:blipFill>
          <a:blip r:embed="rId6"/>
          <a:stretch/>
        </p:blipFill>
        <p:spPr>
          <a:xfrm>
            <a:off x="498960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http://image.zcool.com.cn/img3/56/55/1370567145327.jpg"/>
          <p:cNvPicPr/>
          <p:nvPr/>
        </p:nvPicPr>
        <p:blipFill>
          <a:blip r:embed="rId7"/>
          <a:stretch/>
        </p:blipFill>
        <p:spPr>
          <a:xfrm>
            <a:off x="565776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http://image.zcool.com.cn/img3/56/55/1370567145327.jpg"/>
          <p:cNvPicPr/>
          <p:nvPr/>
        </p:nvPicPr>
        <p:blipFill>
          <a:blip r:embed="rId8"/>
          <a:stretch/>
        </p:blipFill>
        <p:spPr>
          <a:xfrm>
            <a:off x="632448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image.zcool.com.cn/img3/56/55/1370567145327.jpg"/>
          <p:cNvPicPr/>
          <p:nvPr/>
        </p:nvPicPr>
        <p:blipFill>
          <a:blip r:embed="rId9"/>
          <a:stretch/>
        </p:blipFill>
        <p:spPr>
          <a:xfrm>
            <a:off x="8325000" y="2212920"/>
            <a:ext cx="507960" cy="14414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http://image.zcool.com.cn/img3/56/55/1370567145327.jpg"/>
          <p:cNvPicPr/>
          <p:nvPr/>
        </p:nvPicPr>
        <p:blipFill>
          <a:blip r:embed="rId10"/>
          <a:stretch/>
        </p:blipFill>
        <p:spPr>
          <a:xfrm>
            <a:off x="6991200" y="2212920"/>
            <a:ext cx="506520" cy="1441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http://image.zcool.com.cn/img3/56/55/1370567145327.jpg"/>
          <p:cNvPicPr/>
          <p:nvPr/>
        </p:nvPicPr>
        <p:blipFill>
          <a:blip r:embed="rId11"/>
          <a:stretch/>
        </p:blipFill>
        <p:spPr>
          <a:xfrm>
            <a:off x="7658280" y="2212920"/>
            <a:ext cx="506160" cy="14414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" descr="http://image.zcool.com.cn/img3/56/55/1370567145327.jpg"/>
          <p:cNvPicPr/>
          <p:nvPr/>
        </p:nvPicPr>
        <p:blipFill>
          <a:blip r:embed="rId12"/>
          <a:stretch/>
        </p:blipFill>
        <p:spPr>
          <a:xfrm>
            <a:off x="29732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http://image.zcool.com.cn/img3/56/55/1370567145327.jpg"/>
          <p:cNvPicPr/>
          <p:nvPr/>
        </p:nvPicPr>
        <p:blipFill>
          <a:blip r:embed="rId13"/>
          <a:stretch/>
        </p:blipFill>
        <p:spPr>
          <a:xfrm>
            <a:off x="362268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http://image.zcool.com.cn/img3/56/55/1370567145327.jpg"/>
          <p:cNvPicPr/>
          <p:nvPr/>
        </p:nvPicPr>
        <p:blipFill>
          <a:blip r:embed="rId14"/>
          <a:stretch/>
        </p:blipFill>
        <p:spPr>
          <a:xfrm>
            <a:off x="427356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image.zcool.com.cn/img3/56/55/1370567145327.jpg"/>
          <p:cNvPicPr/>
          <p:nvPr/>
        </p:nvPicPr>
        <p:blipFill>
          <a:blip r:embed="rId15"/>
          <a:stretch/>
        </p:blipFill>
        <p:spPr>
          <a:xfrm>
            <a:off x="49244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http://image.zcool.com.cn/img3/56/55/1370567145327.jpg"/>
          <p:cNvPicPr/>
          <p:nvPr/>
        </p:nvPicPr>
        <p:blipFill>
          <a:blip r:embed="rId16"/>
          <a:stretch/>
        </p:blipFill>
        <p:spPr>
          <a:xfrm>
            <a:off x="5573880" y="4005360"/>
            <a:ext cx="657000" cy="14396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http://image.zcool.com.cn/img3/56/55/1370567145327.jpg"/>
          <p:cNvPicPr/>
          <p:nvPr/>
        </p:nvPicPr>
        <p:blipFill>
          <a:blip r:embed="rId17"/>
          <a:stretch/>
        </p:blipFill>
        <p:spPr>
          <a:xfrm>
            <a:off x="6222960" y="4005360"/>
            <a:ext cx="658800" cy="14396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http://image.zcool.com.cn/img3/56/55/1370567145327.jpg"/>
          <p:cNvPicPr/>
          <p:nvPr/>
        </p:nvPicPr>
        <p:blipFill>
          <a:blip r:embed="rId18"/>
          <a:stretch/>
        </p:blipFill>
        <p:spPr>
          <a:xfrm>
            <a:off x="687384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image.zcool.com.cn/img3/56/55/1370567145327.jpg"/>
          <p:cNvPicPr/>
          <p:nvPr/>
        </p:nvPicPr>
        <p:blipFill>
          <a:blip r:embed="rId19"/>
          <a:stretch/>
        </p:blipFill>
        <p:spPr>
          <a:xfrm>
            <a:off x="7524720" y="4005360"/>
            <a:ext cx="657360" cy="1439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image.zcool.com.cn/img3/56/55/1370567145327.jpg"/>
          <p:cNvPicPr/>
          <p:nvPr/>
        </p:nvPicPr>
        <p:blipFill>
          <a:blip r:embed="rId20"/>
          <a:stretch/>
        </p:blipFill>
        <p:spPr>
          <a:xfrm>
            <a:off x="8174160" y="4005360"/>
            <a:ext cx="658800" cy="1439640"/>
          </a:xfrm>
          <a:prstGeom prst="rect">
            <a:avLst/>
          </a:prstGeom>
          <a:ln w="0">
            <a:noFill/>
          </a:ln>
        </p:spPr>
      </p:pic>
      <p:sp>
        <p:nvSpPr>
          <p:cNvPr id="692" name="直接连接符 6"/>
          <p:cNvSpPr/>
          <p:nvPr/>
        </p:nvSpPr>
        <p:spPr>
          <a:xfrm>
            <a:off x="2063880" y="3797280"/>
            <a:ext cx="9145440" cy="0"/>
          </a:xfrm>
          <a:prstGeom prst="line">
            <a:avLst/>
          </a:prstGeom>
          <a:ln w="19080">
            <a:solidFill>
              <a:srgbClr val="5db3b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95"/>
          <p:cNvSpPr/>
          <p:nvPr/>
        </p:nvSpPr>
        <p:spPr>
          <a:xfrm>
            <a:off x="2320920" y="1725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96"/>
          <p:cNvSpPr/>
          <p:nvPr/>
        </p:nvSpPr>
        <p:spPr>
          <a:xfrm>
            <a:off x="2320920" y="5464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9"/>
          <p:cNvSpPr/>
          <p:nvPr/>
        </p:nvSpPr>
        <p:spPr>
          <a:xfrm>
            <a:off x="9264600" y="2130480"/>
            <a:ext cx="223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7"/>
          <p:cNvSpPr/>
          <p:nvPr/>
        </p:nvSpPr>
        <p:spPr>
          <a:xfrm>
            <a:off x="9264600" y="3909960"/>
            <a:ext cx="252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Of Wo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10"/>
          <p:cNvGrpSpPr/>
          <p:nvPr/>
        </p:nvGrpSpPr>
        <p:grpSpPr>
          <a:xfrm>
            <a:off x="2784600" y="1844640"/>
            <a:ext cx="1452600" cy="3505320"/>
            <a:chOff x="2784600" y="1844640"/>
            <a:chExt cx="1452600" cy="3505320"/>
          </a:xfrm>
        </p:grpSpPr>
        <p:sp>
          <p:nvSpPr>
            <p:cNvPr id="702" name="任意多边形 40"/>
            <p:cNvSpPr/>
            <p:nvPr/>
          </p:nvSpPr>
          <p:spPr>
            <a:xfrm>
              <a:off x="2784600" y="5051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43"/>
            <p:cNvSpPr/>
            <p:nvPr/>
          </p:nvSpPr>
          <p:spPr>
            <a:xfrm>
              <a:off x="2784600" y="4695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44"/>
            <p:cNvSpPr/>
            <p:nvPr/>
          </p:nvSpPr>
          <p:spPr>
            <a:xfrm>
              <a:off x="2784600" y="43390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 45"/>
            <p:cNvSpPr/>
            <p:nvPr/>
          </p:nvSpPr>
          <p:spPr>
            <a:xfrm>
              <a:off x="2784600" y="39826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46"/>
            <p:cNvSpPr/>
            <p:nvPr/>
          </p:nvSpPr>
          <p:spPr>
            <a:xfrm>
              <a:off x="2784600" y="36262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47"/>
            <p:cNvSpPr/>
            <p:nvPr/>
          </p:nvSpPr>
          <p:spPr>
            <a:xfrm>
              <a:off x="2784600" y="3269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48"/>
            <p:cNvSpPr/>
            <p:nvPr/>
          </p:nvSpPr>
          <p:spPr>
            <a:xfrm>
              <a:off x="2784600" y="2913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52"/>
            <p:cNvSpPr/>
            <p:nvPr/>
          </p:nvSpPr>
          <p:spPr>
            <a:xfrm>
              <a:off x="2784600" y="25570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53"/>
            <p:cNvSpPr/>
            <p:nvPr/>
          </p:nvSpPr>
          <p:spPr>
            <a:xfrm>
              <a:off x="2784600" y="22006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54"/>
            <p:cNvSpPr/>
            <p:nvPr/>
          </p:nvSpPr>
          <p:spPr>
            <a:xfrm>
              <a:off x="2784600" y="18446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组合 11"/>
          <p:cNvGrpSpPr/>
          <p:nvPr/>
        </p:nvGrpSpPr>
        <p:grpSpPr>
          <a:xfrm>
            <a:off x="4656240" y="2914560"/>
            <a:ext cx="1452600" cy="2435400"/>
            <a:chOff x="4656240" y="2914560"/>
            <a:chExt cx="1452600" cy="2435400"/>
          </a:xfrm>
        </p:grpSpPr>
        <p:sp>
          <p:nvSpPr>
            <p:cNvPr id="713" name="任意多边形 56"/>
            <p:cNvSpPr/>
            <p:nvPr/>
          </p:nvSpPr>
          <p:spPr>
            <a:xfrm>
              <a:off x="4656240" y="50518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57"/>
            <p:cNvSpPr/>
            <p:nvPr/>
          </p:nvSpPr>
          <p:spPr>
            <a:xfrm>
              <a:off x="4656240" y="469548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58"/>
            <p:cNvSpPr/>
            <p:nvPr/>
          </p:nvSpPr>
          <p:spPr>
            <a:xfrm>
              <a:off x="4656240" y="43394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62"/>
            <p:cNvSpPr/>
            <p:nvPr/>
          </p:nvSpPr>
          <p:spPr>
            <a:xfrm>
              <a:off x="4656240" y="398304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63"/>
            <p:cNvSpPr/>
            <p:nvPr/>
          </p:nvSpPr>
          <p:spPr>
            <a:xfrm>
              <a:off x="4656240" y="362700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64"/>
            <p:cNvSpPr/>
            <p:nvPr/>
          </p:nvSpPr>
          <p:spPr>
            <a:xfrm>
              <a:off x="4656240" y="327060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65"/>
            <p:cNvSpPr/>
            <p:nvPr/>
          </p:nvSpPr>
          <p:spPr>
            <a:xfrm>
              <a:off x="4656240" y="2914560"/>
              <a:ext cx="1452600" cy="298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12"/>
          <p:cNvGrpSpPr/>
          <p:nvPr/>
        </p:nvGrpSpPr>
        <p:grpSpPr>
          <a:xfrm>
            <a:off x="6527880" y="3625920"/>
            <a:ext cx="1454040" cy="1724040"/>
            <a:chOff x="6527880" y="3625920"/>
            <a:chExt cx="1454040" cy="1724040"/>
          </a:xfrm>
        </p:grpSpPr>
        <p:sp>
          <p:nvSpPr>
            <p:cNvPr id="721" name="任意多边形 66"/>
            <p:cNvSpPr/>
            <p:nvPr/>
          </p:nvSpPr>
          <p:spPr>
            <a:xfrm>
              <a:off x="6527880" y="50515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67"/>
            <p:cNvSpPr/>
            <p:nvPr/>
          </p:nvSpPr>
          <p:spPr>
            <a:xfrm>
              <a:off x="6527880" y="46951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68"/>
            <p:cNvSpPr/>
            <p:nvPr/>
          </p:nvSpPr>
          <p:spPr>
            <a:xfrm>
              <a:off x="6527880" y="43387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6527880" y="39823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6527880" y="3625920"/>
              <a:ext cx="1454040" cy="298440"/>
            </a:xfrm>
            <a:custGeom>
              <a:avLst/>
              <a:gdLst>
                <a:gd name="textAreaLeft" fmla="*/ 0 w 1454040"/>
                <a:gd name="textAreaRight" fmla="*/ 1454040 w 14540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137265" h="216000">
                  <a:moveTo>
                    <a:pt x="108000" y="0"/>
                  </a:moveTo>
                  <a:lnTo>
                    <a:pt x="116774" y="1772"/>
                  </a:lnTo>
                  <a:lnTo>
                    <a:pt x="121050" y="0"/>
                  </a:lnTo>
                  <a:lnTo>
                    <a:pt x="1993264" y="0"/>
                  </a:lnTo>
                  <a:lnTo>
                    <a:pt x="2005061" y="4887"/>
                  </a:lnTo>
                  <a:lnTo>
                    <a:pt x="2029265" y="0"/>
                  </a:lnTo>
                  <a:cubicBezTo>
                    <a:pt x="2088912" y="0"/>
                    <a:pt x="2137265" y="48353"/>
                    <a:pt x="2137265" y="108000"/>
                  </a:cubicBezTo>
                  <a:cubicBezTo>
                    <a:pt x="2137265" y="167647"/>
                    <a:pt x="2088912" y="216000"/>
                    <a:pt x="2029265" y="216000"/>
                  </a:cubicBezTo>
                  <a:lnTo>
                    <a:pt x="2005061" y="211114"/>
                  </a:lnTo>
                  <a:lnTo>
                    <a:pt x="1993264" y="216000"/>
                  </a:lnTo>
                  <a:lnTo>
                    <a:pt x="121050" y="216000"/>
                  </a:lnTo>
                  <a:lnTo>
                    <a:pt x="116774" y="214229"/>
                  </a:lnTo>
                  <a:lnTo>
                    <a:pt x="108000" y="216000"/>
                  </a:lnTo>
                  <a:cubicBezTo>
                    <a:pt x="48353" y="216000"/>
                    <a:pt x="0" y="167647"/>
                    <a:pt x="0" y="108000"/>
                  </a:cubicBezTo>
                  <a:cubicBezTo>
                    <a:pt x="0" y="48353"/>
                    <a:pt x="48353" y="0"/>
                    <a:pt x="108000" y="0"/>
                  </a:cubicBezTo>
                  <a:close/>
                </a:path>
              </a:pathLst>
            </a:custGeom>
            <a:solidFill>
              <a:srgbClr val="5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919160" y="1844640"/>
            <a:ext cx="11937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15"/>
          <p:cNvSpPr/>
          <p:nvPr/>
        </p:nvSpPr>
        <p:spPr>
          <a:xfrm>
            <a:off x="264636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73"/>
          <p:cNvSpPr/>
          <p:nvPr/>
        </p:nvSpPr>
        <p:spPr>
          <a:xfrm>
            <a:off x="4518000" y="5518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4"/>
          <p:cNvSpPr/>
          <p:nvPr/>
        </p:nvSpPr>
        <p:spPr>
          <a:xfrm>
            <a:off x="6391440" y="5518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st</a:t>
            </a:r>
            <a:r>
              <a:rPr b="1" lang="zh-CN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75"/>
          <p:cNvSpPr/>
          <p:nvPr/>
        </p:nvSpPr>
        <p:spPr>
          <a:xfrm>
            <a:off x="8256600" y="3495600"/>
            <a:ext cx="316872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35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t is no measure of health to be well adjusted to a profoundly s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矩形 1"/>
          <p:cNvSpPr/>
          <p:nvPr/>
        </p:nvSpPr>
        <p:spPr>
          <a:xfrm>
            <a:off x="911160" y="0"/>
            <a:ext cx="1008000" cy="133992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"/>
          <p:cNvSpPr/>
          <p:nvPr/>
        </p:nvSpPr>
        <p:spPr>
          <a:xfrm>
            <a:off x="941400" y="2937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ungsuh"/>
                <a:ea typeface="Gungsuh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"/>
          <p:cNvSpPr/>
          <p:nvPr/>
        </p:nvSpPr>
        <p:spPr>
          <a:xfrm>
            <a:off x="2351160" y="539640"/>
            <a:ext cx="63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4"/>
          <p:cNvSpPr/>
          <p:nvPr/>
        </p:nvSpPr>
        <p:spPr>
          <a:xfrm>
            <a:off x="0" y="6524640"/>
            <a:ext cx="12192120" cy="333360"/>
          </a:xfrm>
          <a:prstGeom prst="rect">
            <a:avLst/>
          </a:prstGeom>
          <a:solidFill>
            <a:srgbClr val="4797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表 7" descr=""/>
          <p:cNvPicPr/>
          <p:nvPr/>
        </p:nvPicPr>
        <p:blipFill>
          <a:blip r:embed="rId1"/>
          <a:stretch/>
        </p:blipFill>
        <p:spPr>
          <a:xfrm>
            <a:off x="2031840" y="1440000"/>
            <a:ext cx="8128080" cy="4797360"/>
          </a:xfrm>
          <a:prstGeom prst="rect">
            <a:avLst/>
          </a:prstGeom>
          <a:ln w="0">
            <a:noFill/>
          </a:ln>
        </p:spPr>
      </p:pic>
      <p:sp>
        <p:nvSpPr>
          <p:cNvPr id="736" name="直接连接符 9"/>
          <p:cNvSpPr/>
          <p:nvPr/>
        </p:nvSpPr>
        <p:spPr>
          <a:xfrm>
            <a:off x="3755880" y="2808360"/>
            <a:ext cx="9003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下箭头 16"/>
          <p:cNvSpPr/>
          <p:nvPr/>
        </p:nvSpPr>
        <p:spPr>
          <a:xfrm>
            <a:off x="3765600" y="2808360"/>
            <a:ext cx="898560" cy="165564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55"/>
          <p:cNvSpPr/>
          <p:nvPr/>
        </p:nvSpPr>
        <p:spPr>
          <a:xfrm>
            <a:off x="6276960" y="3551400"/>
            <a:ext cx="89856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59"/>
          <p:cNvSpPr/>
          <p:nvPr/>
        </p:nvSpPr>
        <p:spPr>
          <a:xfrm>
            <a:off x="8796240" y="2492280"/>
            <a:ext cx="900360" cy="180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下箭头 60"/>
          <p:cNvSpPr/>
          <p:nvPr/>
        </p:nvSpPr>
        <p:spPr>
          <a:xfrm>
            <a:off x="6289560" y="3551400"/>
            <a:ext cx="900360" cy="1563480"/>
          </a:xfrm>
          <a:prstGeom prst="downArrow">
            <a:avLst>
              <a:gd name="adj1" fmla="val 50000"/>
              <a:gd name="adj2" fmla="val 49948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下箭头 61"/>
          <p:cNvSpPr/>
          <p:nvPr/>
        </p:nvSpPr>
        <p:spPr>
          <a:xfrm>
            <a:off x="8796240" y="2492280"/>
            <a:ext cx="900360" cy="1800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262626"/>
          </a:solidFill>
          <a:ln w="255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8T01:07:00Z</dcterms:created>
  <dc:creator>Administrator</dc:creator>
  <dc:description/>
  <cp:keywords/>
  <dc:language>en-US</dc:language>
  <cp:lastModifiedBy>Administrator</cp:lastModifiedBy>
  <dcterms:modified xsi:type="dcterms:W3CDTF">2015-03-02T03:16:05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