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C3C-183C-47EA-AC14-E668F6C9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004B-1E41-441B-98D1-25C565B3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076-5A41-4D78-8FBF-D19BCE4E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393-25E6-463A-A894-DB50CB28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67F-10E6-4142-8EF2-0C357B9D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C40-BD74-4DD2-8446-7CF86EBF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954-109D-42C6-A991-65A73D0F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627-E44F-4663-A918-6736AD1D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7F1-9F6D-4536-8E72-C004870B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364-C8D7-4944-B043-26E95A34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C7B-D8CD-4A6B-A65B-427EAB75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4B6-BB5C-4885-990D-DD16DDC8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B9AC-8E46-449F-8BD1-ABF07A9E2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4582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课堂提问系统软件简介</a:t>
            </a:r>
            <a:br>
              <a:rPr sz="4400"/>
            </a:br>
            <a:br>
              <a:rPr sz="44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作者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QQ:  869321632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微信：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udianxiaoshuo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官网：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ww.gudianxiaoshuo.com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1680" y="1071360"/>
            <a:ext cx="85406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该学生未旷课，则点击未旷课按钮，跳出如下对话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4"/>
          <p:cNvPicPr/>
          <p:nvPr/>
        </p:nvPicPr>
        <p:blipFill>
          <a:blip r:embed="rId1"/>
          <a:stretch/>
        </p:blipFill>
        <p:spPr>
          <a:xfrm>
            <a:off x="1908000" y="2357280"/>
            <a:ext cx="4810320" cy="4025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428920"/>
            <a:ext cx="85406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其他操作类似，每次操作完成后，都会有魔法表情跳出，以吸引学生关注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1680" y="1500120"/>
            <a:ext cx="85406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课后，按保存成绩并退出软件按钮，以保存学生的成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1680" y="1142640"/>
            <a:ext cx="85406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生名册保存路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未注册版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支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班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名册保存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名称为：课堂成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存在安装目录下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成绩”文件夹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生名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7929720" cy="292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785880" y="3357720"/>
            <a:ext cx="1947960" cy="3214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3571920" y="371484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学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571920" y="428616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是初始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务必要设置，表示记录几次课堂分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3571920" y="485784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面的依次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学生名单，一个学生一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1680" y="40428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xt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设置格式：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路丹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王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吕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中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代表本班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位同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表记录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课堂成绩，路丹丹等为学生名字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每人一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此处，一定要注意 将班级人数写正确，否则可能会出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记录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571760" y="1557360"/>
            <a:ext cx="5219640" cy="422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设置功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85840" y="1213920"/>
            <a:ext cx="854064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击设置后，会跳出如下对话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4300560" cy="471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14200"/>
            <a:ext cx="85406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注册功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1680" y="1071720"/>
            <a:ext cx="8540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未注册版本只能使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改背景图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册版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设置多门课程，可设置合堂班级（最多可设置六个班合堂），可设置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盘下新建一个文件夹“语文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“语文”文件夹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建课堂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课堂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t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注册功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1680" y="1785600"/>
            <a:ext cx="85406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载课程存放路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载后就可以使用此文件夹下的学生名册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714240" y="2643120"/>
            <a:ext cx="7286760" cy="1714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14200" y="1989000"/>
            <a:ext cx="87156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软件旨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通过在课堂上随机提问学生，并记录课堂成绩，跳出拟人化魔法表情，从而提高学生积极回答问题的兴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此成绩 可以作为平时成绩考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714240" y="6429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Q:  8693216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欢迎大家使用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另有两款不同的课堂软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界面的快乐课堂、教案问题学生信息集合的课堂助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多软件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gudianxiaoshu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快乐课堂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内容占位符 3" descr=""/>
          <p:cNvPicPr/>
          <p:nvPr/>
        </p:nvPicPr>
        <p:blipFill>
          <a:blip r:embed="rId1"/>
          <a:stretch/>
        </p:blipFill>
        <p:spPr>
          <a:xfrm>
            <a:off x="1104840" y="1600200"/>
            <a:ext cx="693432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" name="内容占位符 3" descr=""/>
          <p:cNvPicPr/>
          <p:nvPr/>
        </p:nvPicPr>
        <p:blipFill>
          <a:blip r:embed="rId1"/>
          <a:stretch/>
        </p:blipFill>
        <p:spPr>
          <a:xfrm>
            <a:off x="345960" y="1600200"/>
            <a:ext cx="845208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3" name="内容占位符 3" descr=""/>
          <p:cNvPicPr/>
          <p:nvPr/>
        </p:nvPicPr>
        <p:blipFill>
          <a:blip r:embed="rId1"/>
          <a:stretch/>
        </p:blipFill>
        <p:spPr>
          <a:xfrm>
            <a:off x="725400" y="1600200"/>
            <a:ext cx="769320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5" name="内容占位符 3" descr=""/>
          <p:cNvPicPr/>
          <p:nvPr/>
        </p:nvPicPr>
        <p:blipFill>
          <a:blip r:embed="rId1"/>
          <a:stretch/>
        </p:blipFill>
        <p:spPr>
          <a:xfrm>
            <a:off x="3360600" y="1600200"/>
            <a:ext cx="242280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带数据库的课堂助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"/>
          <p:cNvPicPr/>
          <p:nvPr/>
        </p:nvPicPr>
        <p:blipFill>
          <a:blip r:embed="rId2"/>
          <a:stretch/>
        </p:blipFill>
        <p:spPr>
          <a:xfrm>
            <a:off x="1935000" y="3252960"/>
            <a:ext cx="5274000" cy="352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" descr=""/>
          <p:cNvPicPr/>
          <p:nvPr/>
        </p:nvPicPr>
        <p:blipFill>
          <a:blip r:embed="rId2"/>
          <a:stretch/>
        </p:blipFill>
        <p:spPr>
          <a:xfrm>
            <a:off x="611280" y="1362240"/>
            <a:ext cx="7532640" cy="4703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" descr=""/>
          <p:cNvPicPr/>
          <p:nvPr/>
        </p:nvPicPr>
        <p:blipFill>
          <a:blip r:embed="rId2"/>
          <a:stretch/>
        </p:blipFill>
        <p:spPr>
          <a:xfrm>
            <a:off x="301680" y="404640"/>
            <a:ext cx="8540640" cy="5694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" descr=""/>
          <p:cNvPicPr/>
          <p:nvPr/>
        </p:nvPicPr>
        <p:blipFill>
          <a:blip r:embed="rId2"/>
          <a:stretch/>
        </p:blipFill>
        <p:spPr>
          <a:xfrm>
            <a:off x="0" y="228600"/>
            <a:ext cx="8842320" cy="5870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1680" y="1214280"/>
            <a:ext cx="85406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软件功能介绍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 随机挑选一位同学回答问题，使每位同学都有可能被提问到，减少了主观因素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对指定的某位同学进行抽查   以便实现根据具体情况  有所重点检查的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85840" y="1571760"/>
            <a:ext cx="8540640" cy="35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数设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旷课，则将此节课的成绩置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未旷课，则根据三种回答情况（回答错误、基本正确、完全正确）分别给予不同的分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1680" y="1785600"/>
            <a:ext cx="85406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绩保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成绩记录保存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本文件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1680" y="1071360"/>
            <a:ext cx="85406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软件界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6760" y="1714680"/>
            <a:ext cx="8610480" cy="4929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143000"/>
            <a:ext cx="8540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介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机挑选同学回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此按钮后，系统生成一个随机数，此数范围在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~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人数），并显示其姓名及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绩分为两项：一是这节课的成绩，一是所有次课的总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285920" y="4500720"/>
            <a:ext cx="6296040" cy="1409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1680" y="1071360"/>
            <a:ext cx="85406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该学生旷课了，则点击旷课按钮，跳出如下对话框，选择确定，则确认其旷课，本节课成绩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2"/>
          <p:cNvPicPr/>
          <p:nvPr/>
        </p:nvPicPr>
        <p:blipFill>
          <a:blip r:embed="rId1"/>
          <a:stretch/>
        </p:blipFill>
        <p:spPr>
          <a:xfrm>
            <a:off x="755640" y="2637000"/>
            <a:ext cx="7448400" cy="3419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跳出魔法表情，以提高学生关注的兴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3"/>
          <p:cNvPicPr/>
          <p:nvPr/>
        </p:nvPicPr>
        <p:blipFill>
          <a:blip r:embed="rId1"/>
          <a:stretch/>
        </p:blipFill>
        <p:spPr>
          <a:xfrm>
            <a:off x="971640" y="2205000"/>
            <a:ext cx="6696000" cy="4340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1:08:14Z</dcterms:created>
  <dc:creator>in9</dc:creator>
  <dc:description/>
  <dc:language>en-US</dc:language>
  <cp:lastModifiedBy>shuilan shuilan</cp:lastModifiedBy>
  <dcterms:modified xsi:type="dcterms:W3CDTF">2016-09-13T04:25:22Z</dcterms:modified>
  <cp:revision>42</cp:revision>
  <dc:subject/>
  <dc:title>课堂提问系统软件简介  作者QQ:  86932163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