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33B-61C1-4A47-B0C9-E48A23B1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7AC-A907-464E-B7A5-7E9F558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1C9-5D11-4F74-B44C-67CE395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2FB-7919-4AC3-A4AE-9A0A9F09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9E3-53C8-44FB-94C7-294195F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5E7-4E38-4FEA-A38F-4A05B9F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9C9-AC46-4496-9005-25F1D0A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DAC-2638-434C-B456-8E46C3BB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DDD-3C89-4F9A-B852-74BBCF1D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CA0-0807-4F15-B074-FC49D600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3B5-0E3E-4691-B755-86EC288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CFD-824E-4603-B0B4-B227E2C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295-34C0-4A32-A2DB-F6CB0527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堂提问系统软件简介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QQ:  869321632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udianxiaoshuo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官网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未旷课，则点击未旷课按钮，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908000" y="2357280"/>
            <a:ext cx="4810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428920"/>
            <a:ext cx="8540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其他操作类似，每次操作完成后，都会有魔法表情跳出，以吸引学生关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500120"/>
            <a:ext cx="8540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课后，按保存成绩并退出软件按钮，以保存学生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名册保存路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注册版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支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班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册保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称为：课堂成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在安装目录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成绩”文件夹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名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792972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85880" y="3357720"/>
            <a:ext cx="1947960" cy="3214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5719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71920" y="4286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初始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务必要设置，表示记录几次课堂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571920" y="4857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的依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名单，一个学生一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格式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丹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本班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记录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课堂成绩，路丹丹等为学生名字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人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此处，一定要注意 将班级人数写正确，否则可能会出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记录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71760" y="1557360"/>
            <a:ext cx="5219640" cy="42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设置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840" y="1213920"/>
            <a:ext cx="854064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设置后，会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30056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1420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0717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注册版本只能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改背景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册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设置多门课程，可设置合堂班级（最多可设置六个班合堂），可设置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下新建一个文件夹“语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“语文”文件夹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课程存放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后就可以使用此文件夹下的学生名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728676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1989000"/>
            <a:ext cx="8715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软件旨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过在课堂上随机提问学生，并记录课堂成绩，跳出拟人化魔法表情，从而提高学生积极回答问题的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成绩 可以作为平时成绩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14240" y="6429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:  8693216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欢迎大家使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有两款不同的课堂软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快乐课堂、教案问题学生信息集合的课堂助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软件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快乐课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693432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内容占位符 3" descr=""/>
          <p:cNvPicPr/>
          <p:nvPr/>
        </p:nvPicPr>
        <p:blipFill>
          <a:blip r:embed="rId1"/>
          <a:stretch/>
        </p:blipFill>
        <p:spPr>
          <a:xfrm>
            <a:off x="345960" y="1600200"/>
            <a:ext cx="845208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725400" y="1600200"/>
            <a:ext cx="76932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内容占位符 3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24228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带数据库的课堂助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1935000" y="3252960"/>
            <a:ext cx="5274000" cy="35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611280" y="1362240"/>
            <a:ext cx="7532640" cy="470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01680" y="404640"/>
            <a:ext cx="8540640" cy="569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0" y="228600"/>
            <a:ext cx="8842320" cy="587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1214280"/>
            <a:ext cx="854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软件功能介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随机挑选一位同学回答问题，使每位同学都有可能被提问到，减少了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对指定的某位同学进行抽查   以便实现根据具体情况  有所重点检查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设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旷课，则将此节课的成绩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未旷课，则根据三种回答情况（回答错误、基本正确、完全正确）分别给予不同的分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记录保存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文件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界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6760" y="1714680"/>
            <a:ext cx="861048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挑选同学回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此按钮后，系统生成一个随机数，此数范围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人数），并显示其姓名及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绩分为两项：一是这节课的成绩，一是所有次课的总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285920" y="4500720"/>
            <a:ext cx="6296040" cy="1409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旷课了，则点击旷课按钮，跳出如下对话框，选择确定，则确认其旷课，本节课成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755640" y="2637000"/>
            <a:ext cx="7448400" cy="341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跳出魔法表情，以提高学生关注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971640" y="2205000"/>
            <a:ext cx="6696000" cy="4340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1:08:14Z</dcterms:created>
  <dc:creator>in9</dc:creator>
  <dc:description/>
  <dc:language>en-US</dc:language>
  <cp:lastModifiedBy>shuilan shuilan</cp:lastModifiedBy>
  <dcterms:modified xsi:type="dcterms:W3CDTF">2016-09-13T04:25:22Z</dcterms:modified>
  <cp:revision>42</cp:revision>
  <dc:subject/>
  <dc:title>课堂提问系统软件简介  作者QQ:  8693216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