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E8A1-8D57-47C2-A7F1-39F52763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74C0-FC1F-4C45-A3E8-5FB948AB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7029-C41B-41E0-8EBD-8A0F9068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384B-5BC7-4151-9F5A-620A8266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4728-1308-4180-8C24-7116A11C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1930-2692-42E6-A395-680A2AA5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0C2F-CB3F-4B44-9ABC-BD03DFC1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5B5E-D9ED-4C11-8F33-230C372D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6542-2F0C-414F-B1B9-678DF754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C1C-9EA0-49D3-AC29-36891F30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71F0-0FFC-4472-81DD-3F72BFAC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397D-B0EB-4F77-980E-08479DB1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84AA-EB0B-4F39-B784-988D6C43F4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90360"/>
            <a:ext cx="9144000" cy="6966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788000" y="907920"/>
            <a:ext cx="331308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励   志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45" name="许嵩 - 千百度" descr=""/>
          <p:cNvPicPr/>
          <p:nvPr/>
        </p:nvPicPr>
        <p:blipFill>
          <a:blip r:embed="rId2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253440" cy="6930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549360"/>
            <a:ext cx="748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wind blows against a tree, its roots grow stronger. Just like you as the tree, and problems as the wind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当风刮过，树根却更加坚固，把自己比作树，困难当成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4000" y="5229360"/>
            <a:ext cx="84960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宋体"/>
              </a:rPr>
              <a:t>我可以接受失败，但决不能接受自己都未曾奋斗过。—乔丹</a:t>
            </a:r>
            <a:endParaRPr b="0" lang="en-US" sz="1800" spc="-1" strike="noStrike">
              <a:ln w="9360">
                <a:solidFill>
                  <a:srgbClr val="00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advTm="14000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72880" y="390600"/>
            <a:ext cx="43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不必为昨夜的泪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去弄湿今天的阳光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917720"/>
            <a:ext cx="45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前面的路还很远，你可能会哭，但是一定要走下去，一定不能停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3573360"/>
            <a:ext cx="812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多数的错与失，是因为不努力，不坚持，不挽留。然后告诉自己一切都是命运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20720" y="5086440"/>
            <a:ext cx="5327640" cy="10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一些道理想通了是天堂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想不通就是地狱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 advTm="22000">
    <p:wheel spokes="2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350"/>
                            </p:stCondLst>
                            <p:childTnLst>
                              <p:par>
                                <p:cTn id="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350"/>
                            </p:stCondLst>
                            <p:childTnLst>
                              <p:par>
                                <p:cTn id="2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77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77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116000" y="5086440"/>
            <a:ext cx="68580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没有人能束缚我们，除了我们自己</a:t>
            </a:r>
            <a:endParaRPr b="0" i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 spd="med" advTm="9000"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27000" y="0"/>
            <a:ext cx="9209160" cy="6886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692360" y="3718080"/>
            <a:ext cx="4114800" cy="15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你将如何选择未来？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努力？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失败？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advTm="11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30240" y="0"/>
            <a:ext cx="9205920" cy="6892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755640" y="4365720"/>
            <a:ext cx="182880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End</a:t>
            </a:r>
            <a:endParaRPr b="0" lang="en-US" sz="9600" spc="-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p:transition advTm="7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贪婪是最真实的贫穷，满足是最真实的财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可以用爱得到全世界，你也可以用恨失去全世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00080" y="-19080"/>
            <a:ext cx="9745560" cy="7307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71640" y="2997360"/>
            <a:ext cx="6356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贪婪是最真实的贫穷，满足是最真实的财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你可以用爱得到全世界，你也可以用恨失去全世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403280" y="1341360"/>
            <a:ext cx="209556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楷体"/>
              </a:rPr>
              <a:t>满足 </a:t>
            </a:r>
            <a:endParaRPr b="1" lang="en-US" sz="66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楷体"/>
              <a:ea typeface="楷体"/>
            </a:endParaRPr>
          </a:p>
        </p:txBody>
      </p:sp>
    </p:spTree>
  </p:cSld>
  <p:transition advTm="14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过去不等于未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28440" y="-19080"/>
            <a:ext cx="9745560" cy="7307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35000" y="249876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771640" y="549360"/>
            <a:ext cx="32004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过去不等于未来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486080"/>
            <a:ext cx="8818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Arial"/>
              </a:rPr>
              <a:t>在新泽西州市郊的一座小镇上，一个由</a:t>
            </a:r>
            <a:r>
              <a:rPr b="0" lang="zh-CN" sz="2800" spc="-1" strike="noStrike">
                <a:solidFill>
                  <a:srgbClr val="3333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333300"/>
                </a:solidFill>
                <a:latin typeface="Arial"/>
              </a:rPr>
              <a:t>个孩子组成的班级被安排在教学楼最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Arial"/>
              </a:rPr>
              <a:t>面一间光线昏暗的教室里。他们中所有的人都有过不光彩的历史；基本上所有人都进过管教所</a:t>
            </a:r>
            <a:r>
              <a:rPr b="0" lang="zh-CN" sz="2800" spc="-1" strike="noStrike">
                <a:solidFill>
                  <a:srgbClr val="33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Arial"/>
              </a:rPr>
              <a:t>家长拿他们没办法，老师和学校也几乎放弃了他们。就在这个时候，一个叫菲拉的女教师担任了这个班的辅导老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Arial"/>
              </a:rPr>
              <a:t>新学年开始的第一天，菲拉没有像以前的老师那样，首先对这些孩子进行一顿训斥，给他们一个下马威，而是为大家出了一道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5997600" y="1844640"/>
            <a:ext cx="67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767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4000" y="40644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有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个候选人，他们分别是─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：笃信巫医，有多年的吸烟史，而且嗜酒如命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：曾经两次被赶出办公室，每天要到中午才起床，每晚都要喝大约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公升的白兰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：曾是国家的战斗英雄，一直保持素食习惯，热爱艺术，偶尔喝点酒，年轻时从未做过违法的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8000">
    <p:cover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1800"/>
                            </p:stCondLst>
                            <p:childTnLst>
                              <p:par>
                                <p:cTn id="5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2360" y="2204640"/>
            <a:ext cx="83012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531720" y="-19080"/>
            <a:ext cx="9744120" cy="7307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76500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菲拉给孩子们的问题是：</a:t>
            </a:r>
            <a:br>
              <a:rPr sz="2800"/>
            </a:b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　　如果我告诉你们，在这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个人中，有一位会成为众人敬仰的伟人，你们认为会是谁？猜想一下，这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个人将来各自会有什么样的命运？</a:t>
            </a:r>
            <a:br>
              <a:rPr sz="2800"/>
            </a:b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　　对于第一个问题，毋庸置疑，孩子们都选择了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；对于第二个问题，大家的推论也几乎一致：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的命运肯定不妙，要么成为罪犯，要么就是需要社会照顾的废物。而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呢，一定是一个品德高尚的人，注定会成为精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5000">
    <p:wheel spokes="8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9080" y="0"/>
            <a:ext cx="9164520" cy="6902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9640" y="692280"/>
            <a:ext cx="80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然而，菲拉的答案却让人大吃一惊。“孩子们，你们的结论也许符合一般的判断，但事实是，你们都错了。这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个人大家都很熟悉，他们是二战时期的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个著名人物─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是富兰克林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罗斯福，他身残志坚，连任四届美国总统；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是温斯顿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丘吉尔，英国历史上最著名的首相；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名字大家也很熟悉，他叫阿道夫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希特勒，一个夺去了几千万无辜生命的法西斯元首。”学生们都呆呆地瞅着菲拉，他们简直不相信自己的耳朵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“孩子们，”菲拉接着说，“你们的人生才刚刚开始，以往的过错和耻辱只能代表过去，真正能代表一个人一生的，是他现在和将来的所作所为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plus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40384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2360" y="909720"/>
            <a:ext cx="86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217080" cy="6906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5280" y="141300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每个人都不是完人，连伟人也有过错。从过去的阴影里走出来吧，从现在开始，努力做自己最想做的事情，你们都将成为了不起的优秀的人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…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菲拉的这番话，改变了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个孩子一生的命运。如今这些孩子都已长大成人，他们中有的做了心理医生、有的做了法官、有的做了飞机驾驶员。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值得一提的是，当年班里那个个子最矮也最爱捣乱的学生罗伯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哈里森，后来成了华尔街上最年轻的基金经理人。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“原来我们都觉得自己已经无可救药，因为所有的人都这么认为。是菲拉老师第一次让我们觉醒：过去并不重要，我们还有可以把握的现在和将来。”孩子们长大后这样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1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72720" cy="7642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11280" y="692280"/>
            <a:ext cx="79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8b5e3"/>
                </a:solidFill>
                <a:latin typeface="Arial"/>
              </a:rPr>
              <a:t>我们总是提到我们的过去，自豪，遗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8b5e3"/>
                </a:solidFill>
                <a:latin typeface="Arial"/>
              </a:rPr>
              <a:t>但是这不代表你以后会怎么发展，你自己已经放弃了自己，放任自己，不加以约束。认为自己不行。你就不行。现在的你不代表未来的你。但是奇迹只会出在勤奋者身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8b5e3"/>
                </a:solidFill>
                <a:latin typeface="Arial"/>
              </a:rPr>
              <a:t>今天你进步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8b5e3"/>
                </a:solidFill>
                <a:latin typeface="Arial"/>
              </a:rPr>
              <a:t>还是无所事事的度过了一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8b5e3"/>
                </a:solidFill>
                <a:latin typeface="Arial"/>
              </a:rPr>
              <a:t>看看那些值得你学习的人。</a:t>
            </a:r>
            <a:r>
              <a:rPr b="1" lang="zh-CN" sz="2800" spc="-1" strike="noStrike">
                <a:solidFill>
                  <a:srgbClr val="b8b5e3"/>
                </a:solidFill>
                <a:latin typeface="Arial"/>
              </a:rPr>
              <a:t>TA</a:t>
            </a:r>
            <a:r>
              <a:rPr b="1" lang="zh-CN" sz="2800" spc="-1" strike="noStrike">
                <a:solidFill>
                  <a:srgbClr val="b8b5e3"/>
                </a:solidFill>
                <a:latin typeface="Arial"/>
              </a:rPr>
              <a:t>与你的差距。世界上没有懒惰的天才，只有勤奋的天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4000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16080" y="-379440"/>
            <a:ext cx="9529920" cy="7481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06400" y="798480"/>
            <a:ext cx="7221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昨天并不代表什么，关键的是现在，是未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一个人满足与以前，或失落与昨天。遗忘了今天。那么明天的今天你会叹息，然后日复一日，年复一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日子匆匆闪过，不留痕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73160" y="3132000"/>
            <a:ext cx="68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人生的一半掌握在上帝手中，另一半掌握在自己手中，真正的成功就是拿自己手中的一半去赢上帝手中的另一半</a:t>
            </a:r>
            <a:r>
              <a:rPr b="0" lang="zh-CN" sz="3600" spc="-1" strike="noStrike">
                <a:solidFill>
                  <a:srgbClr val="ffffcc"/>
                </a:solidFill>
                <a:latin typeface="Arial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blinds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2T12:25:34Z</dcterms:created>
  <dc:creator>Administrator</dc:creator>
  <dc:description/>
  <cp:keywords/>
  <dc:language>en-US</dc:language>
  <cp:lastModifiedBy>GZB</cp:lastModifiedBy>
  <cp:lastPrinted>1899-12-30T00:00:00Z</cp:lastPrinted>
  <dcterms:modified xsi:type="dcterms:W3CDTF">2012-09-09T03:18:33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45</vt:lpwstr>
  </property>
  <property fmtid="{D5CDD505-2E9C-101B-9397-08002B2CF9AE}" pid="3" name="NXTAG2">
    <vt:lpwstr>0008009a0d000000000001024140</vt:lpwstr>
  </property>
</Properties>
</file>