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breeze.wav" ContentType="audio/x-wav"/>
  <Override PartName="/ppt/media/image4.jpeg" ContentType="image/jpeg"/>
  <Override PartName="/ppt/media/image3.jpeg" ContentType="image/jpeg"/>
  <Override PartName="/ppt/media/image2.jpeg" ContentType="image/jpeg"/>
  <Override PartName="/ppt/media/%E6%8C%89%E9%92%AE%E9%9F%B3%E6%95%88.wav" ContentType="audio/x-wav"/>
  <Override PartName="/ppt/media/camera.wav" ContentType="audio/x-wav"/>
  <Override PartName="/ppt/media/laser.wav" ContentType="audio/x-wav"/>
  <Override PartName="/ppt/media/click.wav" ContentType="audio/x-wav"/>
  <Override PartName="/ppt/media/image21.png" ContentType="image/png"/>
  <Override PartName="/ppt/media/image19.png" ContentType="image/png"/>
  <Override PartName="/ppt/media/image17.png" ContentType="image/png"/>
  <Override PartName="/ppt/media/type.wav" ContentType="audio/x-wav"/>
  <Override PartName="/ppt/media/image15.jpeg" ContentType="image/jpeg"/>
  <Override PartName="/ppt/media/chimes.wav" ContentType="audio/x-wav"/>
  <Override PartName="/ppt/media/image16.jpeg" ContentType="image/jpeg"/>
  <Override PartName="/ppt/media/image14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D5B-9442-4674-99BB-62FAF983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CE1-BCF9-40BB-A712-69AA33B6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2B3-DD8E-443D-BE79-06A33439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8A9-BD9E-4A47-8A6A-5376F6D5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E86-4566-4F54-B43F-D6567592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0D5-C058-4BB4-ADBE-3457CB98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6E6-9A92-41A8-9C2F-E81764E2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6D8-2E36-4543-8E77-3CBAFCB3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0B9-1CC0-45A0-AC1F-49A5B84B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EA7-BC6C-4915-B4F4-6BE737B3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5B5-E2D0-4CE8-B7C7-139E75DC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AFF-D435-4EA8-9EAD-9C4424CF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B61A-A75F-409E-83C3-96023F47B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../../../Users/Administrator/Desktop/&#23380;&#23376;.ppt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1ydt.com/video/n_show/Nav_15/9BF31C7F_1.htm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15/9BF31C7F_1.htm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www.1ydt.com/video/n_show/Nav_15/9BF31C7F_1.htm" TargetMode="External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&#25353;&#38062;&#38899;&#25928;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&#25353;&#38062;&#38899;&#25928;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52"/>
          <p:cNvSpPr/>
          <p:nvPr/>
        </p:nvSpPr>
        <p:spPr>
          <a:xfrm>
            <a:off x="3924360" y="0"/>
            <a:ext cx="14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053" descr="孔子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056" descr="孔府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060"/>
          <p:cNvSpPr/>
          <p:nvPr/>
        </p:nvSpPr>
        <p:spPr>
          <a:xfrm>
            <a:off x="2482920" y="0"/>
            <a:ext cx="2374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00"/>
                </a:solidFill>
                <a:latin typeface="Times New Roman"/>
                <a:ea typeface="黑体"/>
              </a:rPr>
              <a:t>《</a:t>
            </a:r>
            <a:r>
              <a:rPr b="0" lang="zh-CN" sz="7200" spc="-1" strike="noStrike">
                <a:solidFill>
                  <a:srgbClr val="99cc00"/>
                </a:solidFill>
                <a:latin typeface="Times New Roman"/>
                <a:ea typeface="黑体"/>
              </a:rPr>
              <a:t>论语</a:t>
            </a:r>
            <a:r>
              <a:rPr b="0" lang="en-US" sz="7200" spc="-1" strike="noStrike">
                <a:solidFill>
                  <a:srgbClr val="99cc00"/>
                </a:solidFill>
                <a:latin typeface="Times New Roman"/>
                <a:ea typeface="黑体"/>
              </a:rPr>
              <a:t>》</a:t>
            </a:r>
            <a:r>
              <a:rPr b="0" lang="zh-CN" sz="7200" spc="-1" strike="noStrike">
                <a:solidFill>
                  <a:srgbClr val="99cc00"/>
                </a:solidFill>
                <a:latin typeface="Times New Roman"/>
                <a:ea typeface="黑体"/>
              </a:rPr>
              <a:t>十二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416720" y="15228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4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819520" y="236232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一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581280" y="43434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96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曰：“学  而  时习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不 亦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乎 ？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朋自远方来，不 亦 乐 乎？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人不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不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亦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君 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乎 ？ ”                  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994200" y="1413000"/>
            <a:ext cx="79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286000" y="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按一定的时间复习时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作状语 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333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先生，指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429240" y="549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u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929200" y="150012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通“悦”，愉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234200" y="292896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生气，发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62080" y="42148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指道德上有修养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1278000" y="4143240"/>
            <a:ext cx="86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564000" y="1773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代指学习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5072040" y="1484280"/>
            <a:ext cx="142920" cy="289080"/>
          </a:xfrm>
          <a:prstGeom prst="downArrow">
            <a:avLst>
              <a:gd name="adj1" fmla="val 50000"/>
              <a:gd name="adj2" fmla="val 505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5357880" y="0"/>
            <a:ext cx="2089080" cy="647640"/>
          </a:xfrm>
          <a:prstGeom prst="wedgeRoundRectCallout">
            <a:avLst>
              <a:gd name="adj1" fmla="val -3115"/>
              <a:gd name="adj2" fmla="val 89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也、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5776920" y="2786040"/>
            <a:ext cx="1295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4764240" y="27860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人家不了解（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0" y="4786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孔子说：“学习了（知识），然后按一定的时间间温习它，不也是很高兴吗？有志同道合的人从远处（到这里）来，不也是很快乐吗？别人不了解我，我却不怨恨，不也是君子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7923240" y="2857680"/>
            <a:ext cx="79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6786720" y="1428840"/>
            <a:ext cx="79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子曰：“学而时习之，不亦说乎？有朋自远方来，不亦乐乎？人不知而不愠，不亦君子乎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278160" y="198108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3581280" y="1066680"/>
            <a:ext cx="41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7621560" y="182880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9880" y="2666880"/>
            <a:ext cx="3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4674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7850160" y="100476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886200" y="457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343400" y="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038480" y="3429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819520" y="1600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81952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学习的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819520" y="3886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人修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二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4000" y="1143000"/>
            <a:ext cx="860580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曾子曰：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吾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谋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乎？与朋友交而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乎？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137040" y="21430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676520" y="638280"/>
            <a:ext cx="3809880" cy="718920"/>
          </a:xfrm>
          <a:prstGeom prst="wedgeEllipseCallout">
            <a:avLst>
              <a:gd name="adj1" fmla="val -5083"/>
              <a:gd name="adj2" fmla="val 90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4429080" y="2205000"/>
            <a:ext cx="142920" cy="289080"/>
          </a:xfrm>
          <a:prstGeom prst="downArrow">
            <a:avLst>
              <a:gd name="adj1" fmla="val 50000"/>
              <a:gd name="adj2" fmla="val 505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773520" y="2624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泛指多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784760" y="428760"/>
            <a:ext cx="3002040" cy="769680"/>
          </a:xfrm>
          <a:prstGeom prst="wedgeRoundRectCallout">
            <a:avLst>
              <a:gd name="adj1" fmla="val -63574"/>
              <a:gd name="adj2" fmla="val 921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自我检查，反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205240" y="21430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850000" y="12859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14200" y="3695760"/>
            <a:ext cx="20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忠心，尽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197240" y="3716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真诚，诚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6215040" y="2495520"/>
            <a:ext cx="3168720" cy="576360"/>
          </a:xfrm>
          <a:prstGeom prst="wedgeRoundRectCallout">
            <a:avLst>
              <a:gd name="adj1" fmla="val -41231"/>
              <a:gd name="adj2" fmla="val 623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7022"/>
                </a:solidFill>
                <a:latin typeface="Arial"/>
              </a:rPr>
              <a:t>老师传授的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062840" y="3786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7022"/>
                </a:solidFill>
                <a:latin typeface="Arial"/>
              </a:rPr>
              <a:t>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571680" y="126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142920" y="505620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曾子说：“我每天多次地反省自己：替别人办事是不是尽心竭力呢？跟朋友交往是不是诚实呢？老师传授的知识是不是复习过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6418440" y="2143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644400" y="432432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04920" y="1143000"/>
            <a:ext cx="8076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曾子曰：“吾日三省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身：为人谋而不忠乎？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朋友交而不信乎？传不习乎？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439720" y="426708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573800" y="1143000"/>
            <a:ext cx="41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6402240" y="46483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659400" y="2666880"/>
            <a:ext cx="41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590920" y="4267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038480" y="243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613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、曾子曰：“吾日三省吾身：为人谋而不忠乎？与朋友交而不信乎？传不习乎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64800"/>
            <a:ext cx="8229600" cy="9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曾子每天从哪三个方面反省自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04920" y="30481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别人办事  与朋友交往  温习知识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920" y="3962520"/>
            <a:ext cx="693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曾子对自己有什么要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04920" y="4876920"/>
            <a:ext cx="579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忠（尽心力）信（诚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习（温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强调治学的人重视品德修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80880" y="20718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这句中所包含的成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80880" y="28576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3300"/>
                </a:solidFill>
                <a:latin typeface="Arial"/>
                <a:ea typeface="楷体_GB2312"/>
              </a:rPr>
              <a:t>三省吾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三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52280" y="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10414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积累文言知识，掌握古今异义词及词类活用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了解课文的特点，理解孔子的政治主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背诵短文，积累成语、名言警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1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613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吾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五而志于学，三十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四十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五十而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天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六十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耳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七十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从心所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逾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为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40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：同“又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：站立，站得住，这里可理解为独立做事情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惑：迷惑，疑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命：指不能为人力所支配的事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耳顺：对此有多种解释。通常的解释是，能听得进不同意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逾，越过，超过；矩，规矩，规范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国画（工笔） (12) 拷贝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828800"/>
            <a:ext cx="571500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1360" y="350640"/>
            <a:ext cx="7913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6600"/>
                </a:solidFill>
                <a:latin typeface="Arial"/>
                <a:ea typeface="隶书"/>
              </a:rPr>
              <a:t>译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十五岁就有志于做学问；三十岁能够自立于世；四十岁能通达事理，不被物所迷惑；五十岁的时候我知道哪些是不能为人力所支配的事情；六十岁时能听得进各种意见；七十岁能随心所欲，而不会越出规矩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80880" y="4419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0880" y="1295280"/>
            <a:ext cx="8534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曰：“吾十有五而志于学，三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而立，四十而不惑，五十而知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命，六十而耳顺，七十而从心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欲，不逾矩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3800" y="12034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867280" y="419112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8535960" y="13716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3125880" y="25750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2514600" y="3962520"/>
            <a:ext cx="35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402600" y="25750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4419720" y="838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0" y="2362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429000" y="2286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781680" y="2362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2743200" y="36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6019920" y="3581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是孔子自述他学习和提高修养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来看，学习和修养的过程可分为几个阶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五岁到四十岁：学习领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五十、六十岁：安心立命，不受外界左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七十：主观意识和做人规则融合为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道德修养的最高境界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思想与言行融合，自觉遵守道德规范，而不是勉强去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我们从这一章中可以得到什么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道德修养并非一朝一夕可以完成，要经过长时间的学习，循序渐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613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子曰：“温故而知新，可以为师矣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08520" y="3819240"/>
            <a:ext cx="345096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独立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chema"/>
          <p:cNvPicPr/>
          <p:nvPr/>
        </p:nvPicPr>
        <p:blipFill>
          <a:blip r:embed="rId1"/>
          <a:stretch/>
        </p:blipFill>
        <p:spPr>
          <a:xfrm>
            <a:off x="6095880" y="4419720"/>
            <a:ext cx="2581560" cy="18777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80880" y="320040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有所发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133720" y="18288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获取新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990720" y="4876920"/>
            <a:ext cx="464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将旧知识融会贯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648320" y="2819520"/>
            <a:ext cx="426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温习学过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3358440" y="4314960"/>
            <a:ext cx="12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4120560" y="3247920"/>
            <a:ext cx="12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914400" y="411480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967920" y="2409840"/>
            <a:ext cx="12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301040" y="2486160"/>
            <a:ext cx="12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1523880" y="190512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四、五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故而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为师矣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2843280" y="177336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191120" y="1752480"/>
            <a:ext cx="609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6012000" y="177336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562720" y="838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之）代词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733920" y="762120"/>
            <a:ext cx="12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得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071800" y="2133720"/>
            <a:ext cx="20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旧的知识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dj---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84360" y="2924280"/>
            <a:ext cx="792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子曰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学而不思则罔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思而不学则殆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80000" y="52275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为政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5796000" y="463716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5796000" y="370044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565440" y="472428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5214960" y="4724280"/>
            <a:ext cx="216000" cy="649440"/>
          </a:xfrm>
          <a:prstGeom prst="downArrow">
            <a:avLst>
              <a:gd name="adj1" fmla="val 50000"/>
              <a:gd name="adj2" fmla="val 75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484360" y="53737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却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表示转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000760" y="537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191280" y="257184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迷惑，意思是感到迷茫而无所适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6156360" y="458136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有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49568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新的领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形容词作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257800" y="167652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257800" y="1752480"/>
            <a:ext cx="5335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653080" y="2287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凭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6324480" y="1752480"/>
            <a:ext cx="60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553080" y="18288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28600" y="1447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曰：“温故而知新，可以为师矣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973240" y="14479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021360" y="13716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819520" y="10666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380880" y="243828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曰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思则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思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学则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3887640" y="32004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6783120" y="3276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5410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666880" y="2895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533520" y="44956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611280" y="105264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温故而知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为师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孔子说：“温习旧的知识，能有新体会、新发现，就可以凭借这一点当老师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611280" y="3645000"/>
            <a:ext cx="75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而不思则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而不学则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孔子说：“只读书却不思考就会迷惑而无所得，只是空想却不读书就会有害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8"/>
          <p:cNvSpPr txBox="1"/>
          <p:nvPr/>
        </p:nvSpPr>
        <p:spPr>
          <a:xfrm>
            <a:off x="539640" y="26028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试试自己来翻译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孔子像"/>
          <p:cNvPicPr/>
          <p:nvPr/>
        </p:nvPicPr>
        <p:blipFill>
          <a:blip r:embed="rId2"/>
          <a:stretch/>
        </p:blipFill>
        <p:spPr>
          <a:xfrm>
            <a:off x="5329080" y="0"/>
            <a:ext cx="3814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0"/>
            <a:ext cx="5410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孔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51-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79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名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仲尼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春秋末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鲁国陬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山东曲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市东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是我国古代著名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想家、政治家、教育家、儒家学派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创始人。相传有弟子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贤弟子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七十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，孔子曾带领弟子周游列国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。孔子还是一位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古文献整理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曾修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书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礼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周易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春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他正直、乐观向上、积极进取，一生都在追求真、善、美，一生都在追求理想的社会。孔子被后世统治者尊为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圣人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，战国时期儒家代表人物孟子与孔子并称“孔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613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、子曰：“学而不思则罔，思而不学则殆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64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重点字词：罔、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hema"/>
          <p:cNvPicPr/>
          <p:nvPr/>
        </p:nvPicPr>
        <p:blipFill>
          <a:blip r:embed="rId1"/>
          <a:stretch/>
        </p:blipFill>
        <p:spPr>
          <a:xfrm>
            <a:off x="6095880" y="4419720"/>
            <a:ext cx="2581560" cy="18777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533520" y="3197160"/>
            <a:ext cx="199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  <a:ea typeface="楷体_GB2312"/>
              </a:rPr>
              <a:t>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590920" y="3124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辨正统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410000" y="4906800"/>
            <a:ext cx="16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停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609480" y="4906800"/>
            <a:ext cx="17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迷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257720" y="3197160"/>
            <a:ext cx="23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  <a:ea typeface="楷体_GB2312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 rot="5400000">
            <a:off x="1485720" y="42289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 rot="5400000">
            <a:off x="4533480" y="422892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2824200" y="3505320"/>
            <a:ext cx="1214280" cy="380880"/>
          </a:xfrm>
          <a:prstGeom prst="leftRightArrow">
            <a:avLst>
              <a:gd name="adj1" fmla="val 50000"/>
              <a:gd name="adj2" fmla="val 63466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章谈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685800" y="2637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五章讲学习方法，阐述学习与思考的辩证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六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曰：“贤哉，回也！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，一瓢饮，在陋巷，人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忧，回也不改其乐。贤哉，回也！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雍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376200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∶“多么有贤德啊，颜回！一竹篮饭， 一瓢水，住在简陋的小巷子里，别人都受不了那穷困的忧愁，颜回却依然自得其乐。多么有贤德啊，颜回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118944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4438440" y="20718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古代盛饭用的圆形竹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189440" y="2857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2246760" y="2857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忍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514600" y="762120"/>
            <a:ext cx="380880" cy="15228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6934320" y="137160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51460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品质高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238880" y="609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乐于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609480" y="1981080"/>
            <a:ext cx="68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曰：“ 贤哉，回也！一箪食，一瓢饮，在陋巷，人不堪其忧，回也不改其乐。贤哉，回也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7088040" y="25480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573800" y="31845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赞扬了颜回乐于学习、安于贫困的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七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曰：“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如好之者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者不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者。”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雍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71680" y="4357440"/>
            <a:ext cx="77724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孔子说：“对于学习，知道怎么学习的人，不如爱好学习的人；爱好学习的人，不如以学习为乐的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903600" y="1428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2268360" y="2143080"/>
            <a:ext cx="23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词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955440" y="2143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4461840" y="142884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词，它。这里指学问和事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1026720" y="2857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2990880" y="2895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喜欢，爱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955440" y="3571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0"/>
          <p:cNvSpPr/>
          <p:nvPr/>
        </p:nvSpPr>
        <p:spPr>
          <a:xfrm>
            <a:off x="2253960" y="3571920"/>
            <a:ext cx="19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2209680" y="533520"/>
            <a:ext cx="360360" cy="2286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2666880" y="60948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名词意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9810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曰：“知之者不如好之者，好之者不如乐之者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677960" y="25480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4268520" y="2014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阐述了学习态度：以学习为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段运用了什么修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顶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讲学习的三个层次：知、好、乐，层层推进，使说理更加透彻，令人信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2634"/>
          <p:cNvPicPr/>
          <p:nvPr/>
        </p:nvPicPr>
        <p:blipFill>
          <a:blip r:embed="rId2"/>
          <a:stretch/>
        </p:blipFill>
        <p:spPr>
          <a:xfrm>
            <a:off x="4648320" y="762120"/>
            <a:ext cx="449568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048120" y="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论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1143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儒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经典著作之一，由孔子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弟子及再传弟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编撰而成。它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语录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主，记录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孔子及其弟子言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并称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共二十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304920" y="142920"/>
            <a:ext cx="8613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   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7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、子曰：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三人行，必有我师焉。择其善者而从之，其不善者改之。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述而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192888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两句话告诉我们应该有什么样的学习态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228600" y="340992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随时随地向任何人学习，学习别人的长处，借鉴别人的短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518148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这句话中包含的成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3429000" y="59436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三人行，必有我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八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613720" cy="24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子曰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饭疏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饮水，曲肱而枕之，乐亦在其中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矣。不义而富且贵，于我如浮云。”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述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24000" y="1484280"/>
            <a:ext cx="8613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17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152280" y="396252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孔子说：“吃粗粮，喝冷水，弯着胳膊当枕头，乐趣也就在中间了。用不正当的手段得来的富贵，对于我来讲就像是天上的浮云一样。”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1752480" y="53352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6781680" y="45720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4038480" y="198108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3657600" y="38088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"/>
          <p:cNvSpPr/>
          <p:nvPr/>
        </p:nvSpPr>
        <p:spPr>
          <a:xfrm>
            <a:off x="2590920" y="5335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0" y="6858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吃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名词作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2133720" y="914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粗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200400" y="914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冷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4343400" y="609480"/>
            <a:ext cx="609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4267080" y="7621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弯着胳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6324480" y="9144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1523880" y="213372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1295280" y="2286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正当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2"/>
          <p:cNvSpPr/>
          <p:nvPr/>
        </p:nvSpPr>
        <p:spPr>
          <a:xfrm>
            <a:off x="3886200" y="2362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对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609480" y="20574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曰：“饭疏食饮水，曲肱而枕之，乐亦在其中矣。不义而富且贵，于我如浮云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7240320" y="19382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7640" y="26240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8001000" y="2819520"/>
            <a:ext cx="2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820960" y="25750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7316640" y="26240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886200" y="358128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421160" y="2014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人的道德修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九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8"/>
          <p:cNvSpPr/>
          <p:nvPr/>
        </p:nvSpPr>
        <p:spPr>
          <a:xfrm>
            <a:off x="324000" y="1082520"/>
            <a:ext cx="835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曰： “三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我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择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4400" spc="-1" strike="noStrike">
                <a:solidFill>
                  <a:srgbClr val="72bfc5"/>
                </a:solidFill>
                <a:latin typeface="Arial"/>
              </a:rPr>
              <a:t>善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，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善者而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。”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述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278240" y="5000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5278320" y="42876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7000920" y="428760"/>
            <a:ext cx="21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在其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922320" y="24289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1714680" y="185724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好的方面，优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3071880" y="235728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4929120" y="2357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"/>
          <p:cNvSpPr/>
          <p:nvPr/>
        </p:nvSpPr>
        <p:spPr>
          <a:xfrm>
            <a:off x="533520" y="1523880"/>
            <a:ext cx="8001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子曰：“三人行，必有我师焉。择其善者而从之，其不善者而改之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7240320" y="14810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5259240" y="23954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3278160" y="3157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5"/>
          <p:cNvSpPr txBox="1"/>
          <p:nvPr/>
        </p:nvSpPr>
        <p:spPr>
          <a:xfrm>
            <a:off x="539640" y="26028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试试自己来翻译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642960" y="1560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子曰： “三人行，必有我师焉。择其善者而从之，其不善者而改之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孔子说：“几个人一同走路，其中必定有我的老师。我要选择他们的长处来学习，（看到自己也有）他们那些短处就要改正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8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学习态度：向一切人学习。不但要学习别人的长处，还要借鉴别人的短处，反省自己有没有类似的毛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395280" y="4428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属语录体散文，是孔子弟子及其再传弟子关于孔子言行的记录，共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篇。内容有孔子谈话，答弟子问及弟子间的相互讨论。它是研究孔子思想的主要依据。南宋时，朱熹把它列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孟子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中庸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大学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一，成为儒家的重要经典。宋朝宰相赵普曾赞颂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部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天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本文十二章是儒家修身之言，讲的是做人之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十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曰：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夫，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昼夜。”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28760" y="4571640"/>
            <a:ext cx="82864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子在河边说：“时光就像这流去的河水一样， 日夜不停呀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903600" y="1857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2354040" y="18572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905040" y="2500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2514600" y="2500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905040" y="3143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137400" y="3143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，指河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903600" y="3786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0"/>
          <p:cNvSpPr/>
          <p:nvPr/>
        </p:nvSpPr>
        <p:spPr>
          <a:xfrm>
            <a:off x="2211840" y="3782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舍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析文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在川上曰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逝者如斯夫，不舍昼夜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在河边感叹道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去不复返的时光就像这河水一样，日夜不停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时光易逝，应珍惜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运用了什么修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流水日夜不停、一去不返比喻时间的飞逝，指明时间的宝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3"/>
          <p:cNvSpPr/>
          <p:nvPr/>
        </p:nvSpPr>
        <p:spPr>
          <a:xfrm>
            <a:off x="1981080" y="198108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十一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曰：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夺帅也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匹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可夺志也。”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400" y="3857400"/>
            <a:ext cx="835812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子说：“军队可以被夺去主帅，男子汉却不可被夺去志气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888480" y="1857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4521960" y="1916280"/>
            <a:ext cx="17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军队的通称。古制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为一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997560" y="2714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匹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3749760" y="27734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普通的人，男子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066680" y="18288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子曰：“三军可夺帅也，匹夫不可夺志也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4573800" y="173664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209680" y="2743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一个人应当坚定信念、矢志不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8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1981080" y="198108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十二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夏曰：“博学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志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切问而近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其中矣。” 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42960" y="414324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夏说：“博览群书广泛学习而且能坚守自己的志向，恳切的提问，多考虑当前的事，仁德就在其中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832320" y="1854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2923200" y="18572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忠实，坚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1140120" y="2643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切问而近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5918400" y="27147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恳切的提问，多考虑当前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795960" y="3357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1619640" y="3357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152280"/>
            <a:ext cx="899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现在通行的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论语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篇，内容以伦理、教育为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论语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名称的来由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班固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汉书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·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艺文志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说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:“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论语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者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孔子应答弟子时人及弟子相与言而接闻于夫子之语也。当时弟子各有所记。夫子既卒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门人相与辑而论纂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故谓之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论语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。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685800" y="1523880"/>
            <a:ext cx="83059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子夏曰：“博学而笃志，切问而近思，仁在其中矣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6479280" y="160020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4726440" y="24382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坚定信念、广泛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5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同悦，喜悦、愉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而志于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：同又，放在整数与零数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0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君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道德上有修养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泛指品德高尚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师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可以、凭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可能、许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2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2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疏食饮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粗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疏通、疏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饭疏食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冷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无色无味无臭的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9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匹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夺志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普通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无学识、无智谋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吾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多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数词，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1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6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1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6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1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习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：名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状语，按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省吾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：名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状语，每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故、新：形容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词，旧的知识、新的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3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8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3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8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习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：动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词，传授的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疏食饮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饭：名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，吃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好之者不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：名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动。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0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0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5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师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谋而不忠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不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故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5181480" y="19051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当、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51814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5334120" y="4267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5334120" y="5029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懂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7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7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2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095166_135304634184_2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19300001232039131514085268974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52280" y="460152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德配天地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道冠古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删述六经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垂宪万世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257800" y="15228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向美国赠送和平孔子像"/>
          <p:cNvPicPr/>
          <p:nvPr/>
        </p:nvPicPr>
        <p:blipFill>
          <a:blip r:embed="rId3"/>
          <a:stretch/>
        </p:blipFill>
        <p:spPr>
          <a:xfrm>
            <a:off x="0" y="-838080"/>
            <a:ext cx="9906120" cy="7696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1447920" y="25146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永远的孔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6858000" y="129528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4"/>
              </a:rPr>
              <a:t>点此播放孔子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不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博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笃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仁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善者而改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5181480" y="19051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5181480" y="2514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5181480" y="3124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并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5181480" y="4724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5181480" y="5410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他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4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4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9" dur="5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4" dur="500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略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为师矣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面省略代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不善者而改之。句首省略动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贤哉，回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军可夺帅也，匹夫不可夺志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6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1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、名言警句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学习态度： 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三人行必有我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学习方法：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学而时习之 温故而知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思想修养：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人不知而不愠 三人行必有我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思想方法：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学而不思则罔，思而不学则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日常生活：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有朋自远方来，不亦乐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以致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复习的好处可以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来表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与思考应紧密结合，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别人总有自己学习的地方，孔子说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个人总有被误解的时候，正确的态度应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348000" y="1916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温故而知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318680" y="285264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而不思则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而不学则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053440" y="38084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人行必有我师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527040" y="478620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不知而不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快步上前，伸出双臂，拥抱来自青岛的朋友，二千多年前的孔夫子不是说过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1349280" y="164304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朋自远方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亦乐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讲课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3" dur="indefinite" restart="never" nodeType="tmRoot">
          <p:childTnLst>
            <p:seq>
              <p:cTn id="1944" dur="indefinite" nodeType="mainSeq">
                <p:childTnLst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AutoShape 3"/>
          <p:cNvSpPr/>
          <p:nvPr/>
        </p:nvSpPr>
        <p:spPr>
          <a:xfrm>
            <a:off x="838080" y="457200"/>
            <a:ext cx="777240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3429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1600200" y="25448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表示顺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1447920" y="5334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表示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3657600" y="21477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表示修饰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3657600" y="3200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表示并列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23"/>
          <p:cNvSpPr/>
          <p:nvPr/>
        </p:nvSpPr>
        <p:spPr>
          <a:xfrm>
            <a:off x="3581280" y="2362320"/>
            <a:ext cx="76320" cy="2133360"/>
          </a:xfrm>
          <a:custGeom>
            <a:avLst/>
            <a:gdLst>
              <a:gd name="textAreaLeft" fmla="*/ 48960 w 76320"/>
              <a:gd name="textAreaRight" fmla="*/ 76320 w 7632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4"/>
          <p:cNvSpPr/>
          <p:nvPr/>
        </p:nvSpPr>
        <p:spPr>
          <a:xfrm>
            <a:off x="1828800" y="12193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008000"/>
                </a:solidFill>
                <a:latin typeface="隶书"/>
                <a:ea typeface="隶书"/>
              </a:rPr>
              <a:t>而</a:t>
            </a: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”</a:t>
            </a:r>
            <a:r>
              <a:rPr b="0" lang="zh-CN" sz="4000" spc="-1" strike="noStrike">
                <a:solidFill>
                  <a:srgbClr val="008000"/>
                </a:solidFill>
                <a:latin typeface="隶书"/>
                <a:ea typeface="隶书"/>
              </a:rPr>
              <a:t>的基本用法有两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5"/>
          <p:cNvSpPr/>
          <p:nvPr/>
        </p:nvSpPr>
        <p:spPr>
          <a:xfrm>
            <a:off x="3733920" y="4114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表示承接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6"/>
          <p:cNvSpPr/>
          <p:nvPr/>
        </p:nvSpPr>
        <p:spPr>
          <a:xfrm>
            <a:off x="365760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学而不思则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7"/>
          <p:cNvSpPr/>
          <p:nvPr/>
        </p:nvSpPr>
        <p:spPr>
          <a:xfrm>
            <a:off x="632448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默而识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6095880" y="2895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敏而好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9"/>
          <p:cNvSpPr/>
          <p:nvPr/>
        </p:nvSpPr>
        <p:spPr>
          <a:xfrm>
            <a:off x="6172200" y="4114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学而时习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0"/>
          <p:cNvSpPr/>
          <p:nvPr/>
        </p:nvSpPr>
        <p:spPr>
          <a:xfrm>
            <a:off x="3581280" y="55627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人不知而不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1"/>
          <p:cNvSpPr/>
          <p:nvPr/>
        </p:nvSpPr>
        <p:spPr>
          <a:xfrm>
            <a:off x="6248520" y="33526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学而不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2"/>
          <p:cNvSpPr/>
          <p:nvPr/>
        </p:nvSpPr>
        <p:spPr>
          <a:xfrm>
            <a:off x="6095880" y="30481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3"/>
          <p:cNvSpPr/>
          <p:nvPr/>
        </p:nvSpPr>
        <p:spPr>
          <a:xfrm>
            <a:off x="3276720" y="50292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1066680" y="38088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学习方法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1603440" y="2819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细黑"/>
              </a:rPr>
              <a:t>温故而知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143000" y="4038480"/>
            <a:ext cx="778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细黑"/>
              </a:rPr>
              <a:t>学而不思则罔，思而不学则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1701720" y="1676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细黑"/>
              </a:rPr>
              <a:t>学而时习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%E9%9F%B3%E6%95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685800" y="3049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学习态度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295280" y="2309760"/>
            <a:ext cx="548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三人行，必有我师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1219320" y="12193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有朋自远方来，不亦乐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C%89%E9%92%AE%E9%9F%B3%E6%95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838080" y="990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人尊称孔子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圣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762120" y="2209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把到曲阜去看孔庙叫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朝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68580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传，宋朝名相赵普死后，人们在他人书籍中发现只有半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所以世有“半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治天下”之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7200" y="22860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7a-1"/>
          <p:cNvPicPr/>
          <p:nvPr/>
        </p:nvPicPr>
        <p:blipFill>
          <a:blip r:embed="rId1"/>
          <a:stretch/>
        </p:blipFill>
        <p:spPr>
          <a:xfrm>
            <a:off x="-144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965240" y="60087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75080" y="5805360"/>
            <a:ext cx="56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相传孔子出生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山东曲阜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尼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全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孔府大成殿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4724280" y="3049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孔府大成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曲阜孔庙大成殿孔子像"/>
          <p:cNvPicPr/>
          <p:nvPr/>
        </p:nvPicPr>
        <p:blipFill>
          <a:blip r:embed="rId3"/>
          <a:stretch/>
        </p:blipFill>
        <p:spPr>
          <a:xfrm>
            <a:off x="228600" y="0"/>
            <a:ext cx="3898800" cy="5486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52280" y="563868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大成殿孔子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孔府"/>
          <p:cNvPicPr/>
          <p:nvPr/>
        </p:nvPicPr>
        <p:blipFill>
          <a:blip r:embed="rId4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1447920" y="2286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山东曲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三孔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2514600" y="457200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孔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孔子嫡系子孙居住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孔庙"/>
          <p:cNvPicPr/>
          <p:nvPr/>
        </p:nvPicPr>
        <p:blipFill>
          <a:blip r:embed="rId5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3429000" y="579132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孔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祭祀孔子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931200" y="56674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孔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孔子墓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孔林"/>
          <p:cNvPicPr/>
          <p:nvPr/>
        </p:nvPicPr>
        <p:blipFill>
          <a:blip r:embed="rId1"/>
          <a:stretch/>
        </p:blipFill>
        <p:spPr>
          <a:xfrm>
            <a:off x="0" y="0"/>
            <a:ext cx="4932360" cy="573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孔子墓地"/>
          <p:cNvPicPr/>
          <p:nvPr/>
        </p:nvPicPr>
        <p:blipFill>
          <a:blip r:embed="rId2"/>
          <a:stretch/>
        </p:blipFill>
        <p:spPr>
          <a:xfrm>
            <a:off x="4957920" y="0"/>
            <a:ext cx="4186080" cy="57340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/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9232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7387" y="3794"/>
                </a:lnTo>
                <a:lnTo>
                  <a:pt x="7387" y="17806"/>
                </a:lnTo>
                <a:lnTo>
                  <a:pt x="57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400800" y="563868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02:00:50Z</dcterms:created>
  <dc:creator>Administrator</dc:creator>
  <dc:description/>
  <dc:language>en-US</dc:language>
  <cp:lastModifiedBy>clf2015</cp:lastModifiedBy>
  <dcterms:modified xsi:type="dcterms:W3CDTF">2015-09-06T06:59:1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