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7" end="4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D07-64A9-4413-AEE6-AB35F958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8B6-0B7C-4B99-AB4E-6F8F1A3A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E64-53F9-4CF4-831B-A3F602EC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F93-8675-41E3-84D8-91279BC2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B81E-4522-4E8D-B058-07B83F93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DF2E-AC87-4D07-8B1E-4683F7A3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11FB-02D6-43DF-8143-1F6BEC46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1AC3-F021-48A7-80FE-329BCC1D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941E-16D7-4B56-93FD-4CA986F6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BBD3-A275-4597-AD33-5AD18808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3599-620E-473D-803C-FFD7B2D2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4CB-F45B-4C47-A356-D1590D69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D030-BB28-423C-9B2C-E931DE34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FCC2-4960-480A-AE26-87659C98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8491-D378-4F7E-9F1F-485CEB1C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1FC0-EA65-41DC-81BC-DD3A48C0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4DE8-8A90-4B1C-AF70-3AC9C045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AE5-E00F-4D90-87D2-EF011D24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3E9-E341-4779-8CFC-09A38234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CAC-0342-4FDD-B26F-C2B7432E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F46-CAF6-465B-822D-A97FB113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13B-CD16-4D51-A529-7C43670F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89A-D637-49B8-B239-86D9AC0E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2E9-7B50-47C2-A7BA-B4583BB3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0C50-48B9-49F2-B93A-73AA5901040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4C14-AB91-4302-A6BE-EC49A30A5EF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2282760"/>
            <a:ext cx="662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CHAPTER 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华文新魏"/>
              </a:rPr>
              <a:t>2   vhdl 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Tahoma"/>
              </a:rPr>
              <a:t>language el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、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VARI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Valuation of variable is effective immediately and it is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poetical data transmission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variable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is declared in process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procedure or funct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58960" y="0"/>
            <a:ext cx="7391160" cy="6616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IBRARY IEE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USE IEEE.STD_LOGIC_1164.AL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USE IEEE.STD_LOGIC_UNSIGNED.AL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TITY exampl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ORT(cl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: I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TD_LOGI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:  OU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TD_LOGIC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D examp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RCHITECTURE a OF exampl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IGNAL temp : STD_LOGIC_VECTOR(0 TO 2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nt: PROCESS (cl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VARIABLE counter: STD_LOGIC_VECTOR(0 TO 2):="000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IF (clk'EVENT AND clk='1')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nter:=counter+'1'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temp&lt;=count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43280" y="0"/>
            <a:ext cx="1779480" cy="5493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xample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304920"/>
            <a:ext cx="5333760" cy="33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: PROCESS (tem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F(temp="111") 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&lt;='1'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&lt;='0'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D IF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D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D a;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35120" y="3855960"/>
          <a:ext cx="7772400" cy="27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5120" y="3855960"/>
                    <a:ext cx="777240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443640" y="0"/>
            <a:ext cx="1779480" cy="5493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xample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Ⅱ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ATA TYPE OF VHD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3400" y="157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Every object only can have  single data type, and only can possess the value of the data type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Operational type must match the type of object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VHDL does not allow direct operations (arithmetic,logical,etc.)between data of different types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when the data types are same whereas bit lengths are  different, direct operations are not allowed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（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Ⅱ</a:t>
            </a: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）</a:t>
            </a: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DATA TYPE OF VHD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INTEGER:32-b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integers(from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-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,147,483,647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,147,483,64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CONSTANT max :INTEGER :=128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SIGNAL num:INTEGER  RANGE 0 TO 10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VARIABLE f:INTEGER  RANGE 6 TO 9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REAL</a:t>
            </a: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Real numbers ranging fro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-1.0E38~+1.0E38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CONSTANT max :REAL :=128.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SIGNAL num: REAL  RANGE 0.0 TO 1.0E2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VARIABLE f:REAL  RANGE 6.0 TO 9.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9246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BIT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0920" y="1980720"/>
            <a:ext cx="857412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BIT :2-levellogic(‘0’,‘1’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SIGNAL tmp:BIT:=’0’;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07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GNAL x : BI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 x is declared as a one-digit signal of type B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0200" y="503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BIT_VECTOR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2664000"/>
            <a:ext cx="857412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tmp:BIT_VECTOR(0 TO1):=“01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SIGNAL s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BIT_VECTOR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5 DOWNTO 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773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BIT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_VECTOR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:2-level logic (‘0’,‘1’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436572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GNAL w : BIT_VECTOR (0TO7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573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BOOLE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TRUE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40920" y="692280"/>
            <a:ext cx="85741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CHARACTER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Character literals: Single ASCII character of such characters. Not synthesiz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952560" y="3357720"/>
            <a:ext cx="39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CHARACTER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‘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’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2058480"/>
            <a:ext cx="74613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Ⅰ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Object in VHD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Ⅱ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Data type in VHD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Ⅲ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Operation actor in VHD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69520" y="476280"/>
            <a:ext cx="85741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STRING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string literals: ASCII characters of such characters. Not synthesiz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VATIABLE string_1 : STRING (0 TO 3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string_1:= “a b c d”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8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、 </a:t>
            </a:r>
            <a:r>
              <a:rPr b="0" lang="zh-CN" sz="4000" spc="-1" strike="noStrike">
                <a:solidFill>
                  <a:srgbClr val="ff3300"/>
                </a:solidFill>
                <a:latin typeface="Tahoma"/>
              </a:rPr>
              <a:t>Physical literal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3500280"/>
            <a:ext cx="826128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20 μs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00 ns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3 sec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6286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sed to inform physical quantities,like time , voltage, etc .  Useful In simulations .  Not  synthesiz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87440" y="692280"/>
            <a:ext cx="82598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SEVERITY LEVEL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note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arning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error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fail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87440" y="1335240"/>
            <a:ext cx="825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NATU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206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on-negative integers (from 0 to +2,147,483,64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5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TD_LOGIC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TD_LOGIC_VECTOR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405080"/>
            <a:ext cx="867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valued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ed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EE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64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U’ initial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ing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(synthesizab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ing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(synthesizab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1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ing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(synthesizab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0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edance(synthesizab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-stat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f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k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k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k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–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x:STD_LOGIC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x is declared as a one-digit (scalar) signal of type STD_LOG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y: STD_LOGIC_VECTOR (3 DOWNTO 0):= "0001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y is declared  as a 4-bit vector, with the left most bit being the MSB. The initial value (optional)of y is "0001".Notice that the ":=“ operator is used to establish the initial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Such data type defnitions can be found in the following packages/librari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Package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standard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of library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i="1" lang="zh-CN" sz="2400" spc="-1" strike="noStrike">
                <a:solidFill>
                  <a:srgbClr val="ff3300"/>
                </a:solidFill>
                <a:latin typeface="Tahoma"/>
              </a:rPr>
              <a:t>std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Defines BIT,BOOLEAN,INTEGER,andREAL datat yp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Package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std_logic_1164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of library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ieee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Defines STD_LOGIC and STD_ULOGIC data typ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Package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std_logic_arith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of library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ieee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Defines SIGNED and UNSIGNED data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Packages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std_logic_signed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std_logic_unsig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of library 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ie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ahoma"/>
              </a:rPr>
              <a:t>User-Defined Data Typ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VHDL also allows the user to define his/her own data ty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TYPE integer IS RANGE -2147483647 TO +2147483647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 This is indeed the pre-defined type INTEG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TYPE natural IS RANGE 0 TO +2147483647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 This is indeed the pre-defined type NA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TYPE my_integer IS RANGE -32 TO 32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 A user-defined subset of integ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TYPE bit IS ('0', '1'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 This is indeed the pre-defined type B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TYPE my_logic IS ('0', '1', 'Z'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 A user-defined subset of std_log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Subtyp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523520"/>
            <a:ext cx="84978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main reason for using a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btype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ather than specifying a new type is that, though operations between data of di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ff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rent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ypes are not allowed, they are allowed between a subtype and its corresponding base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yp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ffff"/>
                </a:solidFill>
                <a:latin typeface="Tahoma"/>
              </a:rPr>
              <a:t>（Ⅰ）</a:t>
            </a:r>
            <a:r>
              <a:rPr b="1" lang="zh-CN" sz="4000" spc="-1" strike="noStrike">
                <a:solidFill>
                  <a:srgbClr val="e5ffff"/>
                </a:solidFill>
                <a:latin typeface="Tahoma"/>
              </a:rPr>
              <a:t>Object in VHD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Object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be used to keep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CON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SIG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VAR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UBTYPE my_logic IS STD_LOGIC RANGE '0' TO 'Z';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Recall that STD_LOGIC=('X','0','1','Z','W','L','H','-')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Therefore, my_logic=('0','1','Z')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UBTYPE small_integer IS INTEGER RANGE -32 TO 32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 A subtype of INTEG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692280"/>
            <a:ext cx="831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Examp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Legal and illegal operations between types and sub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SUBTYPE my_logic IS STD_LOGIC RANGE '0' TO '1'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SIGNAL a: B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SIGNAL b: STD_LOGI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SIGNAL c: my_logi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b &lt;= a;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--illegal (type mismatch: BIT versus STD_LOG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ahoma"/>
              </a:rPr>
              <a:t>b &lt;= c;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--legal (same "base" type: STD_LOG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Data Conversion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19700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HDL does not allow direct operations (arithmetic, logical, etc.) between data of different types. Therefore, it is often necessary to convert data from one type to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can be done in basically two ways: or we write a piece of VHDL code for that, or we invoke a FUNCTION from a pre-defined PACKAGE which is capable of doing it for 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85760" y="987480"/>
            <a:ext cx="8735400" cy="5863320"/>
            <a:chOff x="185760" y="987480"/>
            <a:chExt cx="8735400" cy="5863320"/>
          </a:xfrm>
        </p:grpSpPr>
        <p:grpSp>
          <p:nvGrpSpPr>
            <p:cNvPr id="145" name=""/>
            <p:cNvGrpSpPr/>
            <p:nvPr/>
          </p:nvGrpSpPr>
          <p:grpSpPr>
            <a:xfrm>
              <a:off x="185760" y="987480"/>
              <a:ext cx="4536360" cy="837000"/>
              <a:chOff x="185760" y="987480"/>
              <a:chExt cx="4536360" cy="837000"/>
            </a:xfrm>
          </p:grpSpPr>
          <p:sp>
            <p:nvSpPr>
              <p:cNvPr id="146" name=""/>
              <p:cNvSpPr/>
              <p:nvPr/>
            </p:nvSpPr>
            <p:spPr>
              <a:xfrm>
                <a:off x="270720" y="987480"/>
                <a:ext cx="4366440" cy="83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functio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5760" y="987480"/>
                <a:ext cx="4536360" cy="83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722480" y="987480"/>
              <a:ext cx="4198680" cy="837000"/>
              <a:chOff x="4722480" y="987480"/>
              <a:chExt cx="4198680" cy="837000"/>
            </a:xfrm>
          </p:grpSpPr>
          <p:sp>
            <p:nvSpPr>
              <p:cNvPr id="149" name=""/>
              <p:cNvSpPr/>
              <p:nvPr/>
            </p:nvSpPr>
            <p:spPr>
              <a:xfrm>
                <a:off x="4807440" y="987480"/>
                <a:ext cx="4028760" cy="83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2480" y="987480"/>
                <a:ext cx="4198680" cy="83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85760" y="1824840"/>
              <a:ext cx="4536360" cy="2233440"/>
              <a:chOff x="185760" y="1824840"/>
              <a:chExt cx="4536360" cy="2233440"/>
            </a:xfrm>
          </p:grpSpPr>
          <p:sp>
            <p:nvSpPr>
              <p:cNvPr id="152" name=""/>
              <p:cNvSpPr/>
              <p:nvPr/>
            </p:nvSpPr>
            <p:spPr>
              <a:xfrm>
                <a:off x="270720" y="1824840"/>
                <a:ext cx="4366440" cy="22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STD_LOGIC_116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TO_STD_LOGIC_VECTOR(A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TO_BIT_VECTOR(A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TO_STD_LOGIC (A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TO_BIT(A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5760" y="1824840"/>
                <a:ext cx="4536360" cy="2233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722480" y="1824840"/>
              <a:ext cx="4198680" cy="2233440"/>
              <a:chOff x="4722480" y="1824840"/>
              <a:chExt cx="4198680" cy="2233440"/>
            </a:xfrm>
          </p:grpSpPr>
          <p:sp>
            <p:nvSpPr>
              <p:cNvPr id="155" name=""/>
              <p:cNvSpPr/>
              <p:nvPr/>
            </p:nvSpPr>
            <p:spPr>
              <a:xfrm>
                <a:off x="4807440" y="1824840"/>
                <a:ext cx="4028760" cy="22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onvert BIT_VECTOR to STD_LOGIC_VECT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Convert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TD_LOGIC_VECTOR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to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IT_VECT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Convert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IT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to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TD_LOGI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Convert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TD_LOGIC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to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I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22480" y="1824840"/>
                <a:ext cx="4198680" cy="2233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85760" y="4059000"/>
              <a:ext cx="4536360" cy="1674720"/>
              <a:chOff x="185760" y="4059000"/>
              <a:chExt cx="4536360" cy="1674720"/>
            </a:xfrm>
          </p:grpSpPr>
          <p:sp>
            <p:nvSpPr>
              <p:cNvPr id="158" name=""/>
              <p:cNvSpPr/>
              <p:nvPr/>
            </p:nvSpPr>
            <p:spPr>
              <a:xfrm>
                <a:off x="270720" y="4059000"/>
                <a:ext cx="4366440" cy="167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STD_LOGIC_ARIT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ONV_STD_LOGIC_VECTOR(A,bit length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ONV_INTEGER(A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5760" y="4059000"/>
                <a:ext cx="4536360" cy="167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722480" y="4059000"/>
              <a:ext cx="4198680" cy="1674720"/>
              <a:chOff x="4722480" y="4059000"/>
              <a:chExt cx="4198680" cy="1674720"/>
            </a:xfrm>
          </p:grpSpPr>
          <p:sp>
            <p:nvSpPr>
              <p:cNvPr id="161" name=""/>
              <p:cNvSpPr/>
              <p:nvPr/>
            </p:nvSpPr>
            <p:spPr>
              <a:xfrm>
                <a:off x="4807440" y="4059000"/>
                <a:ext cx="4028760" cy="167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Convert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INTEGER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、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UNSIGNED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、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IGNED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to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TD_LOGIC_VECT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Convert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UNSIGNED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、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IGNED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to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INTEG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22480" y="4059000"/>
                <a:ext cx="4198680" cy="1674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85760" y="5734440"/>
              <a:ext cx="4536360" cy="1116360"/>
              <a:chOff x="185760" y="5734440"/>
              <a:chExt cx="4536360" cy="1116360"/>
            </a:xfrm>
          </p:grpSpPr>
          <p:sp>
            <p:nvSpPr>
              <p:cNvPr id="164" name=""/>
              <p:cNvSpPr/>
              <p:nvPr/>
            </p:nvSpPr>
            <p:spPr>
              <a:xfrm>
                <a:off x="270720" y="5734440"/>
                <a:ext cx="4366440" cy="11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Times New Roman"/>
                  </a:rPr>
                  <a:t>STD_LOGIC_UNSIGN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ONV_INTEGER(A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5760" y="5734440"/>
                <a:ext cx="4536360" cy="111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722480" y="5734440"/>
              <a:ext cx="4198680" cy="1116360"/>
              <a:chOff x="4722480" y="5734440"/>
              <a:chExt cx="4198680" cy="1116360"/>
            </a:xfrm>
          </p:grpSpPr>
          <p:sp>
            <p:nvSpPr>
              <p:cNvPr id="167" name=""/>
              <p:cNvSpPr/>
              <p:nvPr/>
            </p:nvSpPr>
            <p:spPr>
              <a:xfrm>
                <a:off x="4807440" y="5734440"/>
                <a:ext cx="4028760" cy="11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Convert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TD_LOGIC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Tahoma"/>
                  </a:rPr>
                  <a:t>to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INTEG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2480" y="5734440"/>
                <a:ext cx="4198680" cy="111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179280" y="981000"/>
            <a:ext cx="8748720" cy="5877000"/>
          </a:xfrm>
          <a:prstGeom prst="rect">
            <a:avLst/>
          </a:prstGeom>
          <a:noFill/>
          <a:ln w="111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67564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Example: Data conversion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LIBRARY ieee;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USE ieee.std_logic_1164.all; USE ieee.std_logic_arith.all;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.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a: IN UNSIGNED (7 DOWNTO 0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b: IN UNSIGNED (7 DOWNTO 0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y: OUT STD_LOGIC_VECTOR (7 DOWNTO 0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.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y&lt;= CONV_STD_LOGIC_VECTOR ((a+b), 8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Legal operation: a+b is converted from UNSIGNED --8-bit STD_LOGIC_VECTOR value, then assigned to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to y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1219320"/>
            <a:ext cx="7238880" cy="484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IBRARY iee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USE ieee.std_logic_1164.AL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USE ieee.std_logic_unsigned.AL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TITY sel1in4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ORT(a: I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TD_LOGIC_VECTOR(1 downto 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d: I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TD_LOGIC_VECTOR(3 downto 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f: OU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TD_LOGIC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D sel1in4;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RCHITECTURE  sel  OF  sel1in4 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f&lt;=d(conv_integer(a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ND  se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4000" y="476280"/>
            <a:ext cx="8820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Synthesizable data types.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Data types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Synthesizable values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BIT, BIT_VECTOR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‘0’, ‘1’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STD_LOGIC, STD_LOGIC_VECTOR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‘X’, ‘0’, ‘1’, ‘Z’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STD_ULOGIC, STD_ULOGIC_VECTOR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‘X’, ‘0’, ‘1’, ‘Z’ BOOLEAN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                        True, False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NATURAL                                  From 0 to 2, 147, 483, 64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INTEGER                    From -2,147,483,647 to +2,147,483,64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SIGNED                      From -2,147,483,647 to +2,147,483,647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UNSIGNED                                From 0 to 2, 147, 483, 647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User-defined integer ty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SUBTYPE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Subset of any type (pre-or user-defined)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（Ⅲ）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Operato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24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Assignment Op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re used to assign values to signals, variables, and constants. They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&lt;=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sed to assign a value to a SIG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:=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sed to assign a value to a VARIABLE, CONSTANT, or GENERIC.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so for establishing initial val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=&gt;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sed to assign values to individual vector elements or with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476280"/>
            <a:ext cx="849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sider the following signal and variable declar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IGNAL x : STD_LOGI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VARIABLE y : STD_LOGIC_VECTOR(3 DOWNTO 0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IGNAL w: STD_LOGIC_VECTOR(0 TO 7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the following assignments are leg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x &lt;= '1'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- '1' is assigned to SIGNAL x using "&lt;=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y := "0000"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- "0000" is assigned to VARIABLE y using ":=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w &lt;= "10000000"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- LSB is '1', the others are '0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w &lt;= (0 =&gt;'1', OTHERS =&gt;'0')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- LSB is '1', the others are '0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（Ⅲ）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Operato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88930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Logical Op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Used to perform logical operations. The data must be of type BIT, STD_LOGIC,or STD_ULOGIC (BIT_VECTOR, STD_LOGIC_VECTOR, or STD_ULOGIC_VECTOR)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logical operators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AN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O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NAN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NO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XO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X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Notes: The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NOT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operator has precedence over the others. The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XNOR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operator 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introduced in VHDL9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Object’ active zon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zh-CN" sz="3600" spc="-1" strike="noStrike">
                <a:solidFill>
                  <a:srgbClr val="ff3300"/>
                </a:solidFill>
                <a:latin typeface="Tahoma"/>
              </a:rPr>
              <a:t>lobal in obj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Object is declared in package or entity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Partial </a:t>
            </a:r>
            <a:r>
              <a:rPr b="0" lang="zh-CN" sz="3600" spc="-1" strike="noStrike">
                <a:solidFill>
                  <a:srgbClr val="ff3300"/>
                </a:solidFill>
                <a:latin typeface="Tahoma"/>
              </a:rPr>
              <a:t>in obj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Object is declared in architecture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Examples:</a:t>
            </a:r>
            <a:br>
              <a:rPr sz="3200"/>
            </a:br>
            <a:r>
              <a:rPr b="0" lang="zh-CN" sz="3200" spc="-1" strike="noStrike">
                <a:solidFill>
                  <a:srgbClr val="e5ffff"/>
                </a:solidFill>
                <a:latin typeface="Tahoma"/>
              </a:rPr>
              <a:t>y &lt;= NOT a AND b; -- (a'.b)</a:t>
            </a:r>
            <a:br>
              <a:rPr sz="3200"/>
            </a:br>
            <a:r>
              <a:rPr b="0" lang="zh-CN" sz="3200" spc="-1" strike="noStrike">
                <a:solidFill>
                  <a:srgbClr val="e5ffff"/>
                </a:solidFill>
                <a:latin typeface="Tahoma"/>
              </a:rPr>
              <a:t>y &lt;= NOT (a AND b); -- (a.b)'</a:t>
            </a:r>
            <a:br>
              <a:rPr sz="3200"/>
            </a:br>
            <a:r>
              <a:rPr b="0" lang="zh-CN" sz="3200" spc="-1" strike="noStrike">
                <a:solidFill>
                  <a:srgbClr val="e5ffff"/>
                </a:solidFill>
                <a:latin typeface="Tahoma"/>
              </a:rPr>
              <a:t>y &lt;= a NAND b; -- (a.b)'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1267920"/>
            <a:ext cx="817236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(3)Arithmetic Operators</a:t>
            </a:r>
            <a:br>
              <a:rPr sz="4000"/>
            </a:br>
            <a:r>
              <a:rPr b="0" lang="zh-CN" sz="2800" spc="-1" strike="noStrike">
                <a:solidFill>
                  <a:srgbClr val="e5ffff"/>
                </a:solidFill>
                <a:latin typeface="Tahoma"/>
              </a:rPr>
              <a:t>Used to perform arithmetic operations. The data can be of type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INTEGER, SIGNED, UNSIGNED, or REAL</a:t>
            </a:r>
            <a:r>
              <a:rPr b="0" lang="zh-CN" sz="2800" spc="-1" strike="noStrike">
                <a:solidFill>
                  <a:srgbClr val="e5ffff"/>
                </a:solidFill>
                <a:latin typeface="Tahoma"/>
              </a:rPr>
              <a:t>.  Also, if the std_logic_signed or the std_logic_unsigned package of the ieee</a:t>
            </a:r>
            <a:br>
              <a:rPr sz="2800"/>
            </a:br>
            <a:r>
              <a:rPr b="0" lang="zh-CN" sz="2800" spc="-1" strike="noStrike">
                <a:solidFill>
                  <a:srgbClr val="e5ffff"/>
                </a:solidFill>
                <a:latin typeface="Tahoma"/>
              </a:rPr>
              <a:t>library is used, then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TD_LOGIC_VECTOR</a:t>
            </a:r>
            <a:r>
              <a:rPr b="0" lang="zh-CN" sz="2800" spc="-1" strike="noStrike">
                <a:solidFill>
                  <a:srgbClr val="e5ffff"/>
                </a:solidFill>
                <a:latin typeface="Tahoma"/>
              </a:rPr>
              <a:t> can also be employed directly in addition and subtraction operations</a:t>
            </a:r>
            <a:r>
              <a:rPr b="0" lang="zh-CN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00000" y="4724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+       —        *     /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MOD     REM      **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A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Comparison Operators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Used for making comparisons. The data can be of any of the types listed above. The  relational (comparison) operators a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=Equal 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/=Not equal 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&lt; Less t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&gt; Greater t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&lt;=Less than or equal 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&gt;=Greater than or equal 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hift Operators</a:t>
            </a: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sll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Shift left logic – positions on the right are filled with ‘0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srl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Shift right logic – positions on the left are filled with ‘0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&amp;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989000"/>
            <a:ext cx="820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IGNAL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D_LOGI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IGNAL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D_LOGIC _VECTOR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 TO 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 &lt;=  i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&amp;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NOT h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 &lt;=  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&amp;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The pre-defined, synthesizable data attributes are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LOW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Returns lower array ind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HIGH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upper array ind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LEFT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leftmost array ind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RIGHT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Returns rightmost array ind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LENGTH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vector s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RANG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vector r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d’REVERSE_RANG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vector range in reverse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976040" y="333360"/>
            <a:ext cx="509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Ⅳ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Data Attribu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11280" y="1125360"/>
            <a:ext cx="8064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Examp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Consider the following sign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d : STD_LOGIC_VECTOR (7 DOWNTO 0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Th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d'LOW=0, d'HIGH=7, d'LEFT=7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d'RIGHT=0, d'LENGTH=8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d'RANGE=(7 downto 0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d'REVERSE_RANGE=(0 to 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765000"/>
            <a:ext cx="828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Example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Consider the following sign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SIGNAL x: STD_LOGIC_VECTOR (0 TO 7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Then all four LOOP statements below are synthesizable and equival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FOR i IN RANGE (0 TO 7) LOOP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FOR i IN x'RANGE LOOP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FOR i IN RANGE (x'LOW TO x'HIGH) LOOP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FOR i IN RANGE (0 TO x'LENGTH-1) LOOP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Let us consider a signal s. Th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EVENT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Returns true when an event occurs on 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STABL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true if no event has occurred on 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ACTIV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true if s =‘1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QUIET &lt;time&gt;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true if no event has occurred during the time specif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LAST_EVENT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the time elapsed since last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LAST_ACTIV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the time elapsed since last s =‘1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s’LAST_VALU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: Returns the value of s before the last event;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041920" y="333360"/>
            <a:ext cx="526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Ⅴ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）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Signal Attribu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95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Example: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All four assignments shown below are synthesizable and equivalent. They return TRUE when an event (a change) occurs on clk, AND if such event is upward(in other words, when a rising edge occurs on clk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IF (clk'EVENT AND clk='1')..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-- EVENT attribut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 with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IF (NOT clk'STABLE AND clk='1')..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-- STABL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attribut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- with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WAIT UNTIL (clk'EVENT AND clk='1') ..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-- EV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attribut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- with W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IF RISING_EDGE(clk)..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-- call to a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、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CONSTANT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3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CONSTANT: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value in projet don‘t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Forma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CONSTANT 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name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data type[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expression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CONSTANT pi : REAL :=3.14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CONSTANT Fbus : BIT_VECTOR := “1011”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Constant can be evaluated one time and the value should  be accord with the defined data type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Evaluate symbol is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、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CONSTA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48428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ng one constant is  primarily in order  to make  some volume easy to  read AND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2205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nstant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’ active 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068640"/>
            <a:ext cx="84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nstant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is declared in package or entity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nstan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zh-CN" sz="3600" spc="-1" strike="noStrike">
                <a:solidFill>
                  <a:srgbClr val="ff3300"/>
                </a:solidFill>
                <a:latin typeface="Tahoma"/>
              </a:rPr>
              <a:t>lob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nstant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is declared in  architecture or process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nstan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partial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signal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4160" y="1371240"/>
            <a:ext cx="8259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Signal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can be abstracted as  hardware connection in circuit, correspond one connecting wire of hardware design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华文楷体"/>
              </a:rPr>
              <a:t>Format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SIGNAL</a:t>
            </a: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name</a:t>
            </a: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 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data type[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expression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SIGNAL reset : = STD_LOGIC : =’1’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SIGNAL data </a:t>
            </a: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STD_LOGIC_VECTOR (7 DOWNTO 0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Signal can be seriesly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evaluated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 and the value should  be accord with the defined data type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Evaluate symbol is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“&lt;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sig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Valuation of signal is not effective immediately, there are a certain time delay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signal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is declared in package or entity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signal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zh-CN" sz="3600" spc="-1" strike="noStrike">
                <a:solidFill>
                  <a:srgbClr val="ff3300"/>
                </a:solidFill>
                <a:latin typeface="Tahoma"/>
              </a:rPr>
              <a:t>loba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signal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is declared in  architecture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signal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is 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partial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、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VARIABLE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89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Variable is mostly used in  local storage for the present dat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it is a partial volume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only in process statement, procedure statement and function statement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Forma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VARIABLE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name</a:t>
            </a:r>
            <a:r>
              <a:rPr b="1" lang="zh-CN" sz="24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 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data type[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expression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]</a:t>
            </a:r>
            <a:r>
              <a:rPr b="1" lang="zh-CN" sz="2800" spc="-1" strike="noStrike">
                <a:solidFill>
                  <a:srgbClr val="ff0066"/>
                </a:solidFill>
                <a:latin typeface="华文楷体"/>
                <a:ea typeface="华文楷体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VARIABLE enable := STD_LOGIC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Variable can be seriesly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evaluated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 and the value should  be accord with the defined data type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Evaluate symbol is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“: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13:09:24Z</dcterms:created>
  <dc:creator>IBM</dc:creator>
  <dc:description/>
  <dc:language>en-US</dc:language>
  <cp:lastModifiedBy>Admin</cp:lastModifiedBy>
  <dcterms:modified xsi:type="dcterms:W3CDTF">2006-03-10T08:42:05Z</dcterms:modified>
  <cp:revision>12</cp:revision>
  <dc:subject/>
  <dc:title>第三章、VHDL语言要素</dc:title>
</cp:coreProperties>
</file>