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39C-8790-485B-AC75-75E21083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18A-3D20-4A09-978B-97B8BB7E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368-3D20-4022-8B55-3D5E3620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022-8F5A-48CA-B96B-340BF6E1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4020-47CC-4E55-8785-2A871958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13B2-B45D-49C7-B2D7-95050007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9669-BC18-407D-9F2A-54790FF4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F2E2-ED2D-4BED-889D-2F52BEFA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12BA-7948-4F61-8423-112EA8B5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C6A4-459C-47F6-ACBF-6D5B9391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ECE0-BDAF-4EAD-B66D-579D9136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330-D675-431C-B62B-3ACC5316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BE7A-5068-4C14-879F-F24C6C6F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83A9-BF40-42D8-B4D5-4B0E8681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9631-F3C8-4386-962D-CD738075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427F-09BF-4BDF-9B98-F7E3CCC2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8476-F7CD-4472-8F93-B5C63134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BB6-7D59-4E95-B70D-6956B59D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D93-3DA4-412C-AC3E-523EF0C7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E11-9B83-4396-B776-2F6D1B14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A87-7365-46D0-9ADC-AD60162C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979-DEA9-4EC5-A12A-11A296B6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3D4-1BA7-4342-AF12-25174636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928-7569-4C42-A068-4279775C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1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5B47-F097-4A49-8379-44F68A3FAAC9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46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69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C8B3-2298-4AB0-883C-8C8549221356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16765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177336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0b05"/>
                </a:solidFill>
                <a:latin typeface="Times New Roman"/>
              </a:rPr>
              <a:t>Chapter 4   </a:t>
            </a:r>
            <a:r>
              <a:rPr b="1" lang="en-US" sz="4000" spc="-1" strike="noStrike">
                <a:solidFill>
                  <a:srgbClr val="fd0b05"/>
                </a:solidFill>
                <a:latin typeface="Times New Roman"/>
              </a:rPr>
              <a:t>Combinational logic circuit DESign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3520" y="1371600"/>
            <a:ext cx="80769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2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4 OR I5 OR I6 OR I7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1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2 OR I3 OR I6 OR I7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0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1 OR I3 OR I5 OR I7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895480"/>
            <a:ext cx="7315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92" name="8-3编码器波形" descr=""/>
          <p:cNvPicPr/>
          <p:nvPr/>
        </p:nvPicPr>
        <p:blipFill>
          <a:blip r:embed="rId1"/>
          <a:stretch/>
        </p:blipFill>
        <p:spPr>
          <a:xfrm>
            <a:off x="87480" y="380880"/>
            <a:ext cx="8839080" cy="55594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0020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61657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der83_v2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219320"/>
            <a:ext cx="80010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der83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IN STD_LOGIC_VECTOR(7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OUT STD_LOGIC_VECTOR(2 DOWNTO 0)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der83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der83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ROCESS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533520"/>
            <a:ext cx="76964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I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N "10000000"=&gt; A &lt;="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N "01000000"=&gt; A &lt;="11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N "00100000"=&gt; A &lt;="10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N "00010000"=&gt; A &lt;="10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N "00001000"=&gt; A &lt;="0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N "00000100"=&gt; A &lt;="01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N "00000010"=&gt; A &lt;="00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HEN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OTHERS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&gt; A &lt;="00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01" name="8-3编码器波形ZX" descr=""/>
          <p:cNvPicPr/>
          <p:nvPr/>
        </p:nvPicPr>
        <p:blipFill>
          <a:blip r:embed="rId1"/>
          <a:stretch/>
        </p:blipFill>
        <p:spPr>
          <a:xfrm>
            <a:off x="95400" y="380880"/>
            <a:ext cx="8762760" cy="4648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23880" y="685800"/>
            <a:ext cx="59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b05"/>
                </a:solidFill>
                <a:latin typeface="Times New Roman"/>
              </a:rPr>
              <a:t>4.3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iority encod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78520" y="2021040"/>
            <a:ext cx="4575960" cy="4174920"/>
            <a:chOff x="2378520" y="2021040"/>
            <a:chExt cx="4575960" cy="4174920"/>
          </a:xfrm>
        </p:grpSpPr>
        <p:sp>
          <p:nvSpPr>
            <p:cNvPr id="205" name=""/>
            <p:cNvSpPr/>
            <p:nvPr/>
          </p:nvSpPr>
          <p:spPr>
            <a:xfrm flipH="1">
              <a:off x="2717640" y="4097160"/>
              <a:ext cx="9223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717640" y="2251080"/>
              <a:ext cx="9223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717640" y="5019840"/>
              <a:ext cx="9223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717640" y="4557600"/>
              <a:ext cx="9223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717640" y="3173400"/>
              <a:ext cx="9223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717640" y="2712960"/>
              <a:ext cx="9223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717640" y="3635280"/>
              <a:ext cx="9223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717640" y="5481720"/>
              <a:ext cx="9223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717640" y="5942160"/>
              <a:ext cx="9223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533920" y="4557600"/>
              <a:ext cx="9223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533920" y="5019840"/>
              <a:ext cx="9223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509800" y="2943360"/>
              <a:ext cx="9241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509800" y="3865680"/>
              <a:ext cx="9241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509800" y="3405240"/>
              <a:ext cx="9241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39960" y="2021040"/>
              <a:ext cx="1846440" cy="4174920"/>
            </a:xfrm>
            <a:prstGeom prst="rect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86160" y="2620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2320" y="4281480"/>
              <a:ext cx="1483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Priority encoder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82840" y="52736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82840" y="34275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86160" y="5411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82840" y="20667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86160" y="4950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82840" y="48117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82840" y="39117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86160" y="21589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82840" y="296712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82840" y="43736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82840" y="252720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50080" y="3797280"/>
              <a:ext cx="111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8line-3line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86160" y="40053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86160" y="356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86160" y="3105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86160" y="44658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47280" y="3381480"/>
              <a:ext cx="701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74148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280" y="4373640"/>
              <a:ext cx="35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81880" y="4835520"/>
              <a:ext cx="372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EO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40840" y="31971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40840" y="273528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32720" y="3727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32720" y="33354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40840" y="363528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32720" y="2873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78520" y="5781600"/>
              <a:ext cx="26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EI</a:t>
              </a:r>
              <a:endParaRPr b="0" lang="en-US" sz="22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838080"/>
            <a:ext cx="701028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EI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3     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5    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6    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1900" spc="-1" strike="noStrike" baseline="-30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GS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EO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  1     1     1     1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 1     1     1     1     1     1     1     1          1     1     1     1     0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0          0     0     0     0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0     1          0     0     1     0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0     1     1          0     1     0     0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0     1     1     1          0     1     1     0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0     1     1     1     1          1     0     0     0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0     1     1     1     1     1          1     0     1     0     1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0    1     1     1     1     1     1            1     1     0     0     1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    0     1    1     1     1     1     1     1            1     1     1     0     1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12193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58039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83808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43344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572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45720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60958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61722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th tabl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838080" y="614520"/>
                <a:ext cx="723924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62120" y="2606760"/>
                <a:ext cx="739116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ba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85800" y="4572000"/>
                <a:ext cx="662940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ba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1371600" y="228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logical express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62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066680" y="457200"/>
                <a:ext cx="624852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</m:ba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6338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914400" y="1981080"/>
                <a:ext cx="54864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228600"/>
            <a:ext cx="838224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prioritycoder83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I7,I6,I5,I4,I3,I2,I1,I0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: 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EI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2,A1,A0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OUT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GS,EO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OUT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prioritycoder83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prioritycoder83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2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EI OR (I7 AND I6 AND I5 AND I4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1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EI OR (I7 AND I6 AND I3 AND I2)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OR (I7 AND I6 AND NOT I5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OR (I7 AND I6 AND NOT I4) 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6560" y="18900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d0b05"/>
                </a:solidFill>
                <a:latin typeface="Times New Roman"/>
              </a:rPr>
              <a:t>prioritycoder83_v1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5640" y="62064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b05"/>
                </a:solidFill>
                <a:latin typeface="Times New Roman"/>
              </a:rPr>
              <a:t>4.1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d0b05"/>
                </a:solidFill>
                <a:latin typeface="Times New Roman"/>
              </a:rPr>
              <a:t>Gate Circui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3360" y="130644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0b05"/>
                </a:solidFill>
                <a:latin typeface="Times New Roman"/>
              </a:rPr>
              <a:t>two feed nonequality gat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822320" y="2449440"/>
                <a:ext cx="25909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74760" y="34401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ogical symbo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24000" y="4221000"/>
            <a:ext cx="27432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2895480"/>
            <a:ext cx="7315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83808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0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EI OR (I7 AND NOT I6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R (I7 AND I5 AND NOT I4)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R (I7 AND I5 AND I3 AND I1)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R (I7 AND I5 AND I3 AND NOT I2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S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EI OR (I7 AND I6 AND I5 AND I4 AND I3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D I2 AND I1 AND I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O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EI OR NOT(I7 AND I6 AND I5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D I4 AND I3 AND I2 AND I1 AND I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8-3优先编码器波形" descr=""/>
          <p:cNvPicPr/>
          <p:nvPr/>
        </p:nvPicPr>
        <p:blipFill>
          <a:blip r:embed="rId1"/>
          <a:stretch/>
        </p:blipFill>
        <p:spPr>
          <a:xfrm>
            <a:off x="152280" y="19080"/>
            <a:ext cx="8763120" cy="62485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26920" y="61657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11280" y="765000"/>
            <a:ext cx="80769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t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is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llegal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0XXXXXXX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=&gt;A&lt;=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000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2133720"/>
            <a:ext cx="8153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ioritycoder83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 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IN STD_LOGIC_VECTOR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 DOWNTO 0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I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OUT STD_LOGIC_VECTOR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 DOWNTO 0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S,EO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OUT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ioritycoder83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04920"/>
            <a:ext cx="807732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ioritycoder83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ROCESS(EI,I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I='1'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"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="11111111"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304920"/>
            <a:ext cx="80010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(7)='0'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00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(6)='0'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00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(5)='0'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01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457200"/>
            <a:ext cx="79250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(4)='0'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0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(3)='0'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10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(2)='0'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10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14400" y="609480"/>
            <a:ext cx="7086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(1)='0'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11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LS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I(0)='0' AND EI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 &lt;= "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GS &lt;= 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O &lt;= 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84" name="8-3优先编码器波形ZX" descr=""/>
          <p:cNvPicPr/>
          <p:nvPr/>
        </p:nvPicPr>
        <p:blipFill>
          <a:blip r:embed="rId1"/>
          <a:stretch/>
        </p:blipFill>
        <p:spPr>
          <a:xfrm>
            <a:off x="95400" y="380880"/>
            <a:ext cx="8915400" cy="4724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219320" y="55627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62120" y="304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b05"/>
                </a:solidFill>
                <a:latin typeface="Times New Roman"/>
              </a:rPr>
              <a:t>5.4    </a:t>
            </a:r>
            <a:r>
              <a:rPr b="0" lang="en-US" sz="2400" spc="-1" strike="noStrike">
                <a:solidFill>
                  <a:srgbClr val="fd0b05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d0b05"/>
                </a:solidFill>
                <a:latin typeface="Times New Roman"/>
              </a:rPr>
              <a:t>ecod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590200" y="1519200"/>
            <a:ext cx="4339800" cy="3868920"/>
            <a:chOff x="2590200" y="1519200"/>
            <a:chExt cx="4339800" cy="3868920"/>
          </a:xfrm>
        </p:grpSpPr>
        <p:sp>
          <p:nvSpPr>
            <p:cNvPr id="289" name=""/>
            <p:cNvSpPr/>
            <p:nvPr/>
          </p:nvSpPr>
          <p:spPr>
            <a:xfrm flipH="1">
              <a:off x="3103200" y="3913200"/>
              <a:ext cx="855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3103200" y="4340160"/>
              <a:ext cx="855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103200" y="2203560"/>
              <a:ext cx="855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3103200" y="4767120"/>
              <a:ext cx="855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103200" y="3057480"/>
              <a:ext cx="855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3103200" y="2630520"/>
              <a:ext cx="855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666760" y="4554720"/>
              <a:ext cx="855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666760" y="1989000"/>
              <a:ext cx="855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666760" y="4127400"/>
              <a:ext cx="855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666760" y="3271680"/>
              <a:ext cx="855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666760" y="2417760"/>
              <a:ext cx="855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666760" y="3699000"/>
              <a:ext cx="855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5666760" y="4981680"/>
              <a:ext cx="8557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666760" y="2844720"/>
              <a:ext cx="8557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59280" y="1519200"/>
              <a:ext cx="1707840" cy="386892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70120" y="3807000"/>
              <a:ext cx="104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decoder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42680" y="3400560"/>
              <a:ext cx="932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3-8LINE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69040" y="2951280"/>
              <a:ext cx="64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4138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90440" y="2139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98200" y="20113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98200" y="2438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90440" y="2567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98200" y="2844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90440" y="2930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33400" y="37638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04760" y="3849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12520" y="41688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90200" y="4575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81720" y="4254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A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61560" y="466092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B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78080" y="28018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00400" y="4938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71880" y="39765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00400" y="3635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00400" y="19256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71880" y="1839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78080" y="23526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71880" y="35496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71880" y="4809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71880" y="43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1880" y="31003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71880" y="26733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71880" y="22669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20920" y="44895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080" y="40622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78080" y="3228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609480"/>
            <a:ext cx="739116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2A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2B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1900" spc="-1" strike="noStrike" baseline="-30000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1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1      1       1       1       1       1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1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1      1       1       1       1       1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1      1       1       1       1       1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0     0       0     0    0       0      1       1       1       1       1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0     0       0     0    1       1      0       1       1       1       1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0     0       0     1    0       1      1       0       1       1       1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0     0       0     1    1       1      1       1       0       1       1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0     0       1     0    0       1      1       1       1       0       1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0     0       1     0    1       1      1       1       1       1       0       1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0     0       1     1    0       1      1       1       1       1       1       0      1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0     0       1     1    1       1      1       1       1       1       1       1      0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10666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6094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21096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81080" y="6094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22860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760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PU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PU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61722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62611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th table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505320" y="609480"/>
            <a:ext cx="5257800" cy="53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d0b05"/>
                </a:solidFill>
                <a:latin typeface="Times New Roman"/>
              </a:rPr>
              <a:t>xor2_v1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xor2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a,b: 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: OUT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xor2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xor2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y &lt;= a XOR b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23920" y="2133720"/>
            <a:ext cx="2076480" cy="2895480"/>
            <a:chOff x="1123920" y="2133720"/>
            <a:chExt cx="2076480" cy="2895480"/>
          </a:xfrm>
        </p:grpSpPr>
        <p:sp>
          <p:nvSpPr>
            <p:cNvPr id="124" name=""/>
            <p:cNvSpPr/>
            <p:nvPr/>
          </p:nvSpPr>
          <p:spPr>
            <a:xfrm>
              <a:off x="1371600" y="2666880"/>
              <a:ext cx="1760400" cy="23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      b       y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0       0         0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0       1         1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       0         1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       1         0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123920" y="2133720"/>
              <a:ext cx="2076480" cy="2895480"/>
              <a:chOff x="1123920" y="2133720"/>
              <a:chExt cx="2076480" cy="2895480"/>
            </a:xfrm>
          </p:grpSpPr>
          <p:sp>
            <p:nvSpPr>
              <p:cNvPr id="126" name=""/>
              <p:cNvSpPr/>
              <p:nvPr/>
            </p:nvSpPr>
            <p:spPr>
              <a:xfrm>
                <a:off x="1123920" y="3124080"/>
                <a:ext cx="20574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19320" y="5029200"/>
                <a:ext cx="19047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3000" y="2743200"/>
                <a:ext cx="20574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38280" y="2743200"/>
                <a:ext cx="0" cy="22860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28800" y="2743200"/>
                <a:ext cx="0" cy="22860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04000" y="2133720"/>
                <a:ext cx="15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truth table</a:t>
                </a:r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304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flow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coder138_v2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990720"/>
            <a:ext cx="74674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ecoder138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1,G2A,G2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IN STD_LOGIC_VECTOR(2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OUT STD_LOGIC_VECTOR(7 DOWNTO 0)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ecoder138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ecoder138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ROCESS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1,G2A,G2B,A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(G1='1' AND G2A='0' AND G2B='0'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152280"/>
            <a:ext cx="792468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CASE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00" =&gt; Y &lt;="11111110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01" =&gt; Y &lt;="1111110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10" =&gt; Y &lt;="111110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11" =&gt; Y &lt;="11110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100" =&gt; Y &lt;="11101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101" =&gt; Y &lt;="11011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110" =&gt; Y &lt;="10111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OTHERS =&gt; Y &lt;="01111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CAS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E               Y &lt;="11111111"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PROCESS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7188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354" name="138译码器波形ZX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54864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26920" y="5661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380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b05"/>
                </a:solidFill>
                <a:latin typeface="Times New Roman"/>
              </a:rPr>
              <a:t>5.5   </a:t>
            </a:r>
            <a:r>
              <a:rPr b="1" lang="en-US" sz="2400" spc="-1" strike="noStrike">
                <a:solidFill>
                  <a:srgbClr val="fd0b05"/>
                </a:solidFill>
                <a:latin typeface="Times New Roman"/>
              </a:rPr>
              <a:t>Multichannel data selecto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100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354400" y="1325520"/>
            <a:ext cx="4392000" cy="5045040"/>
            <a:chOff x="2354400" y="1325520"/>
            <a:chExt cx="4392000" cy="5045040"/>
          </a:xfrm>
        </p:grpSpPr>
        <p:sp>
          <p:nvSpPr>
            <p:cNvPr id="361" name=""/>
            <p:cNvSpPr/>
            <p:nvPr/>
          </p:nvSpPr>
          <p:spPr>
            <a:xfrm flipH="1">
              <a:off x="2622240" y="4944960"/>
              <a:ext cx="824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5613480" y="3433680"/>
              <a:ext cx="823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746440" y="1963800"/>
              <a:ext cx="823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746440" y="4092480"/>
              <a:ext cx="823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746440" y="3241800"/>
              <a:ext cx="823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746440" y="1538280"/>
              <a:ext cx="823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746440" y="3666960"/>
              <a:ext cx="823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46440" y="2389320"/>
              <a:ext cx="823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2746440" y="2816280"/>
              <a:ext cx="823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746440" y="4518000"/>
              <a:ext cx="823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5592240" y="4092480"/>
              <a:ext cx="824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746440" y="5775480"/>
              <a:ext cx="8236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746440" y="6200640"/>
              <a:ext cx="823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746440" y="5348160"/>
              <a:ext cx="823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19960" y="3965400"/>
              <a:ext cx="185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91000" y="1325520"/>
              <a:ext cx="1981080" cy="50450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64840" y="39020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54400" y="47959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36920" y="14526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4840" y="17938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4840" y="13683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36920" y="18795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61360" y="3348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14840" y="396540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4840" y="26240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53840" y="3305160"/>
              <a:ext cx="64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4151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36920" y="27511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64840" y="34974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64840" y="21985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61360" y="39654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36920" y="3581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64840" y="30718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36920" y="31561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36920" y="23256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36920" y="44546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36920" y="40291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4840" y="43275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98840" y="56894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98840" y="5264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37200" y="59659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37200" y="51354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98840" y="60516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7200" y="55609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25760" y="4859280"/>
              <a:ext cx="165240" cy="16992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09480" y="914400"/>
            <a:ext cx="792504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able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dress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Y      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0 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0       1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          0      0       0            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0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          0      0       1            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1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          0      1       0            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2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           0      1      1            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3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           1      0       0            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4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           1      0      1            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5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5   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           1      1      0            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6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               1      1      1            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7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1900" spc="-1" strike="noStrike" baseline="-25000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19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29200" y="24382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297180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33526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29200" y="388620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29200" y="434340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80060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29200" y="525780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29200" y="571500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9144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18288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142416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295280" y="60958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23880" y="4856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outpu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95280" y="45720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9144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4572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9144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47920" y="62485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th tabl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x8_v2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1066680"/>
            <a:ext cx="75438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ux8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IN STD_LOGIC_VECTOR (2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D0,D1,D2,D3,D4,D5,D6,D7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OUT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Y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OUT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mux8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ux8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ROCESS (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,D0,D1,D2,D3,D4,D5,D6,D7,G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104760"/>
            <a:ext cx="77724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G ='1')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'1'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G='0'AND A="000")THEN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0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D0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G='0'AND A="001")THEN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1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OT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D1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G='0'AND A="010")THEN                      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2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D2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14400" y="380880"/>
            <a:ext cx="74674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G='0'AND A="011")THEN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3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D3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G='0'AND A="100")THEN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4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D4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G='0'AND A="101")THEN                      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5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5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G='0'AND A="110")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6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D6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380880"/>
            <a:ext cx="70866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LS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7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D7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PROCESS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213840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37" name="8选1数据选择器波形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7560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826920" y="61657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228600"/>
            <a:ext cx="7924680" cy="63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or2_v2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or2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,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OUT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or2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or2_v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PROCESS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,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VARIABLE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om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: STD_LOGIC_VECTOR(1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omb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:=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&amp;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228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atemen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838080"/>
            <a:ext cx="7162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mux8_v3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2,A1,A0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D0,D1,D2,D3,D4,D5,D6,D7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OUT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Y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OUT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mux8_v3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mux8_v3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SIGNAL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om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STD_LOGIC_VECTOR(3 DOWNTO 0);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304920"/>
            <a:ext cx="792504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om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&lt;=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&amp;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2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&amp;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&amp;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0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ROCESS (comb,D0,D1,D2,D3,D4,D5,D6,D7,G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CASE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om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000" =&gt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0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0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001" =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1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1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010" =&gt;                     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2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2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457200"/>
            <a:ext cx="80010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011" =&gt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3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3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100" =&gt;                      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4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4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101" =&gt;                      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5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5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110" =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6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6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38080" y="533520"/>
            <a:ext cx="7239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"0111" =&gt;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 D7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 NOT D7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WHEN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OTHERS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=&gt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 &lt;=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AS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PROCESS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384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54" name="8选1数据选择器波形3" descr=""/>
          <p:cNvPicPr/>
          <p:nvPr/>
        </p:nvPicPr>
        <p:blipFill>
          <a:blip r:embed="rId1"/>
          <a:stretch/>
        </p:blipFill>
        <p:spPr>
          <a:xfrm>
            <a:off x="133200" y="304920"/>
            <a:ext cx="8839440" cy="53337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76212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b05"/>
                </a:solidFill>
                <a:latin typeface="Times New Roman"/>
              </a:rPr>
              <a:t>5.6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umeric comparato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523880"/>
            <a:ext cx="77724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xample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are two 4_bit(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）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f A&gt;B  then YA=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A&lt;B then YB=1,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f A=B  then YC=1,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49320"/>
            <a:ext cx="7696440" cy="68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comp4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_VECTOR(3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_VECTOR(3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YA,YB,YC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OUT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comp4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comp4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ROCESS (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,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(A &gt; B) THE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A &lt;=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'0'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C &lt;=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380880"/>
            <a:ext cx="7696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LSIF(A &lt; B) THEN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A &lt;=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'1'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C &lt;=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LS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A &lt;='0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B &lt;='0'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YC &lt;='1'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PROCESS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8380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67" name="数值比较器波形" descr=""/>
          <p:cNvPicPr/>
          <p:nvPr/>
        </p:nvPicPr>
        <p:blipFill>
          <a:blip r:embed="rId1"/>
          <a:stretch/>
        </p:blipFill>
        <p:spPr>
          <a:xfrm>
            <a:off x="171360" y="171360"/>
            <a:ext cx="8763120" cy="47815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362320" y="8380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0b05"/>
                </a:solidFill>
                <a:latin typeface="Times New Roman"/>
              </a:rPr>
              <a:t>5.7   </a:t>
            </a:r>
            <a:r>
              <a:rPr b="1" lang="en-US" sz="4000" spc="-1" strike="noStrike">
                <a:solidFill>
                  <a:srgbClr val="fd0b05"/>
                </a:solidFill>
                <a:latin typeface="Arial"/>
              </a:rPr>
              <a:t>Adder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9640" y="1413000"/>
            <a:ext cx="8001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Cin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690480" y="2565360"/>
          <a:ext cx="2979720" cy="17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2565360"/>
                    <a:ext cx="297972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6155640" y="22939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th tabl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4859280" y="2781360"/>
          <a:ext cx="3456000" cy="3832200"/>
        </p:xfrm>
        <a:graphic>
          <a:graphicData uri="http://schemas.openxmlformats.org/drawingml/2006/table">
            <a:tbl>
              <a:tblPr/>
              <a:tblGrid>
                <a:gridCol w="2433600"/>
                <a:gridCol w="1022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     B     CI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O    F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     0      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     0      1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     1      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     1      1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    0      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    0      1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    1      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    1      1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      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      1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      1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     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      1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     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     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     1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1066680"/>
            <a:ext cx="7848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CASE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omb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WHEN "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"=&gt; y &lt;='0'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WHEN "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01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"=&gt; y &lt;='1'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WHEN "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"=&gt; y &lt;='1'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WHEN "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"=&gt; y &lt;='0'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WHEN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THERS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=&gt; y &lt;='X'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CASE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ROCESS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flow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80880" y="380880"/>
            <a:ext cx="83822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UNSIGNED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dder8_v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:IN STD_LOGIC_VECTOR(7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:IN STD_LOGIC_VECTOR(7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in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: OUT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:OUT STD_LOGIC_VECTOR(7 DOWNTO 0)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dder8_v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dder8_v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SIGNAL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Sint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: STD_LOGIC_VECTOR(8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SIGNAL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AA,BB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: STD_LOGIC_VECTOR(8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       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914400"/>
            <a:ext cx="9144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A &lt;='0'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A(7 DOWNTO 0);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B &lt;='0'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B(7 DOWNTO 0);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int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AA + BB + Cin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(7 DOWNTO 0) &lt;= Sint(7 DOWNTO 0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d0b05"/>
                </a:solidFill>
                <a:latin typeface="Times New Roman"/>
              </a:rPr>
              <a:t>&lt;=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Sint(8);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8位加法器波形" descr=""/>
          <p:cNvPicPr/>
          <p:nvPr/>
        </p:nvPicPr>
        <p:blipFill>
          <a:blip r:embed="rId1"/>
          <a:stretch/>
        </p:blipFill>
        <p:spPr>
          <a:xfrm>
            <a:off x="133200" y="380880"/>
            <a:ext cx="8763120" cy="4648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336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5" name="异或门波形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15400" cy="4953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38080" y="5638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tion  wave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2057400"/>
            <a:ext cx="8077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3808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b05"/>
                </a:solidFill>
                <a:latin typeface="Times New Roman"/>
              </a:rPr>
              <a:t>4.2    </a:t>
            </a:r>
            <a:r>
              <a:rPr b="0" lang="en-US" sz="2400" spc="-1" strike="noStrike">
                <a:solidFill>
                  <a:srgbClr val="fd0b05"/>
                </a:solidFill>
                <a:latin typeface="Times New Roman"/>
              </a:rPr>
              <a:t>Encoder</a:t>
            </a:r>
            <a:r>
              <a:rPr b="1" lang="en-US" sz="3200" spc="-1" strike="noStrike">
                <a:solidFill>
                  <a:srgbClr val="fd0b0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9568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872360" y="1517760"/>
            <a:ext cx="4254480" cy="3371760"/>
            <a:chOff x="1872360" y="1517760"/>
            <a:chExt cx="4254480" cy="3371760"/>
          </a:xfrm>
        </p:grpSpPr>
        <p:sp>
          <p:nvSpPr>
            <p:cNvPr id="141" name=""/>
            <p:cNvSpPr/>
            <p:nvPr/>
          </p:nvSpPr>
          <p:spPr>
            <a:xfrm flipH="1">
              <a:off x="2245680" y="1727280"/>
              <a:ext cx="8780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45680" y="2146320"/>
              <a:ext cx="8780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245680" y="2565360"/>
              <a:ext cx="8780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245680" y="2982960"/>
              <a:ext cx="8780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245680" y="3402000"/>
              <a:ext cx="8780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245680" y="3821040"/>
              <a:ext cx="8780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45680" y="4240080"/>
              <a:ext cx="8780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245680" y="4659480"/>
              <a:ext cx="8780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898880" y="2774880"/>
              <a:ext cx="8776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98880" y="3192480"/>
              <a:ext cx="8776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98880" y="3611520"/>
              <a:ext cx="8776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1517760"/>
              <a:ext cx="1754280" cy="33717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72360" y="155880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72360" y="197820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72360" y="23763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72360" y="27957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2360" y="323532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72360" y="44704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72360" y="40514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2360" y="36543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82160" y="16430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2160" y="20620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2160" y="29210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82160" y="25020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82160" y="33195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2160" y="37368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2160" y="41767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2160" y="45957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20840" y="25858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20840" y="3005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20840" y="3402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7760" y="2711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17760" y="31305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17760" y="34862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32400" y="2774880"/>
              <a:ext cx="111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8line-3line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03600" y="3192480"/>
              <a:ext cx="966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coder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533520"/>
            <a:ext cx="601956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3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5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6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   0     0    0    0     0    0             0    0     0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0     0    0    0     0    0             0    0     1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    0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0    0    0     0    0             0    1     0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    0    0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0    0     0    0             0    1     1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    0    0     0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0     0    0             1    0     0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    0    0     0    0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0    0             1    0     1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    0    0     0    0    0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0             1    1     0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    0    0     0    0    0     0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1     1    1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609480"/>
            <a:ext cx="60962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066680"/>
            <a:ext cx="60962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5410080"/>
            <a:ext cx="60962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152280"/>
            <a:ext cx="0" cy="5257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5791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uth table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52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141120"/>
            <a:ext cx="60962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228600"/>
            <a:ext cx="6248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logical expre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19051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der83_v1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2819520"/>
            <a:ext cx="71625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LIBRARY IEE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USE IEEE.STD_LOGIC_1164.ALL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TIT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der83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PORT(I0,I1,I2,I3,I4,I5,I6,I7: IN STD_LOGIC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0,A1,A2: OUT STD_LOGIC)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E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der83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RCHITECTU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der83_v1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I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EGIN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09:02:01Z</dcterms:created>
  <dc:creator>fap</dc:creator>
  <dc:description/>
  <dc:language>en-US</dc:language>
  <cp:lastModifiedBy>Admin</cp:lastModifiedBy>
  <dcterms:modified xsi:type="dcterms:W3CDTF">2006-03-24T10:03:45Z</dcterms:modified>
  <cp:revision>270</cp:revision>
  <dc:subject/>
  <dc:title>  第一章  数字电路基础 </dc:title>
</cp:coreProperties>
</file>