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538-48AC-4DAB-9D11-E9D441A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35E-3A31-45FF-BD5C-46446DDA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6D4-C36B-4DC0-8041-4D511D9D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9DE-150C-4CA3-AECA-84D66065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479-0A06-47B7-808E-4E52972B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42BB-AC86-42BE-945E-9D9067C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F275-5596-421D-919B-DC0EC28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103E-BB21-43AF-B4F1-BA5DF49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2967-56FD-4C8F-A5BD-E17F14A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29A-337B-4650-B9B5-F905CBD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18FF-DABC-4F6E-BC73-4F18DD2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E9F-E371-4E33-9C32-37BBF1C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B057-800D-44B0-871A-1B598E6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617-B65E-478C-8C3C-0227787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487-11FB-490D-9BBE-0C607D41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169-4C92-4947-8189-7454C9B7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22A-A7A0-47E4-849B-21A55C24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628-4229-4878-89DC-5A07FE58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10E-9951-4531-B6E3-0591A07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F3D-3A46-410D-802F-4DB6755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F71-7998-46E6-B33E-E851DAB0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3A8-C42D-41E9-8185-9D19680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D2F-50F3-4340-BCCD-6146B80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360-7A9D-49A8-B95F-8B566911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058-F2BC-40C3-A290-3B1880B30DA2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6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9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54F-9105-422F-83DB-C2D1C56D4B3A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540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b05"/>
                </a:solidFill>
                <a:latin typeface="Tahoma"/>
              </a:rPr>
              <a:t>Chapter 5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Sequential circuit 'vhdl description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egis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REG with asynchronous set / reset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90720" y="2895480"/>
            <a:ext cx="6242040" cy="3208320"/>
            <a:chOff x="990720" y="2895480"/>
            <a:chExt cx="6242040" cy="3208320"/>
          </a:xfrm>
        </p:grpSpPr>
        <p:grpSp>
          <p:nvGrpSpPr>
            <p:cNvPr id="384" name=""/>
            <p:cNvGrpSpPr/>
            <p:nvPr/>
          </p:nvGrpSpPr>
          <p:grpSpPr>
            <a:xfrm>
              <a:off x="995400" y="2900160"/>
              <a:ext cx="6232680" cy="3198960"/>
              <a:chOff x="995400" y="2900160"/>
              <a:chExt cx="6232680" cy="319896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995400" y="2900160"/>
                <a:ext cx="1041480" cy="639720"/>
                <a:chOff x="995400" y="2900160"/>
                <a:chExt cx="104148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063800" y="290016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en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995400" y="290016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036880" y="2900160"/>
                <a:ext cx="1042920" cy="639720"/>
                <a:chOff x="2036880" y="2900160"/>
                <a:chExt cx="104292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104920" y="290016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036880" y="290016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079800" y="2900160"/>
                <a:ext cx="1069920" cy="639720"/>
                <a:chOff x="3079800" y="2900160"/>
                <a:chExt cx="106992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148200" y="290016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e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079800" y="290016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149720" y="2900160"/>
                <a:ext cx="1022400" cy="639720"/>
                <a:chOff x="4149720" y="2900160"/>
                <a:chExt cx="102240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218120" y="290016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(n)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149720" y="290016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172120" y="2900160"/>
                <a:ext cx="1046160" cy="639720"/>
                <a:chOff x="5172120" y="2900160"/>
                <a:chExt cx="104616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240520" y="290016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lk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172120" y="290016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218280" y="2900160"/>
                <a:ext cx="1009800" cy="639720"/>
                <a:chOff x="6218280" y="2900160"/>
                <a:chExt cx="100980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286680" y="290016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(n)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218280" y="290016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995400" y="3539880"/>
                <a:ext cx="1041480" cy="639720"/>
                <a:chOff x="995400" y="3539880"/>
                <a:chExt cx="104148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063800" y="353988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95400" y="353988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036880" y="3539880"/>
                <a:ext cx="1042920" cy="639720"/>
                <a:chOff x="2036880" y="3539880"/>
                <a:chExt cx="104292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104920" y="353988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36880" y="353988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079800" y="3539880"/>
                <a:ext cx="1069920" cy="639720"/>
                <a:chOff x="3079800" y="3539880"/>
                <a:chExt cx="106992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148200" y="353988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079800" y="353988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49720" y="3539880"/>
                <a:ext cx="1022400" cy="639720"/>
                <a:chOff x="4149720" y="3539880"/>
                <a:chExt cx="102240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18120" y="353988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49720" y="353988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5172120" y="3539880"/>
                <a:ext cx="1046160" cy="639720"/>
                <a:chOff x="5172120" y="3539880"/>
                <a:chExt cx="104616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240520" y="353988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172120" y="353988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218280" y="3539880"/>
                <a:ext cx="1009800" cy="639720"/>
                <a:chOff x="6218280" y="3539880"/>
                <a:chExt cx="100980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286680" y="353988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18280" y="353988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995400" y="4179600"/>
                <a:ext cx="1041480" cy="639720"/>
                <a:chOff x="995400" y="4179600"/>
                <a:chExt cx="104148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063800" y="417960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995400" y="417960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2036880" y="4179600"/>
                <a:ext cx="1042920" cy="639720"/>
                <a:chOff x="2036880" y="4179600"/>
                <a:chExt cx="104292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104920" y="417960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036880" y="417960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079800" y="4179600"/>
                <a:ext cx="1069920" cy="639720"/>
                <a:chOff x="3079800" y="4179600"/>
                <a:chExt cx="106992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148200" y="417960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079800" y="417960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149720" y="4179600"/>
                <a:ext cx="1022400" cy="639720"/>
                <a:chOff x="4149720" y="4179600"/>
                <a:chExt cx="102240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18120" y="417960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149720" y="417960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172120" y="4179600"/>
                <a:ext cx="1046160" cy="639720"/>
                <a:chOff x="5172120" y="4179600"/>
                <a:chExt cx="104616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240520" y="417960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172120" y="417960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218280" y="4179600"/>
                <a:ext cx="1009800" cy="639720"/>
                <a:chOff x="6218280" y="4179600"/>
                <a:chExt cx="10098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286680" y="417960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18280" y="417960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995400" y="4819320"/>
                <a:ext cx="1041480" cy="639720"/>
                <a:chOff x="995400" y="4819320"/>
                <a:chExt cx="104148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063800" y="4819320"/>
                  <a:ext cx="904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995400" y="4819320"/>
                  <a:ext cx="1041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2036880" y="4819320"/>
                <a:ext cx="1042920" cy="639720"/>
                <a:chOff x="2036880" y="4819320"/>
                <a:chExt cx="104292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104920" y="4819320"/>
                  <a:ext cx="906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036880" y="4819320"/>
                  <a:ext cx="1042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079800" y="4819320"/>
                <a:ext cx="1069920" cy="639720"/>
                <a:chOff x="3079800" y="4819320"/>
                <a:chExt cx="1069920" cy="6397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148200" y="4819320"/>
                  <a:ext cx="9334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79800" y="4819320"/>
                  <a:ext cx="1069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149720" y="4819320"/>
                <a:ext cx="1022400" cy="639720"/>
                <a:chOff x="4149720" y="4819320"/>
                <a:chExt cx="1022400" cy="6397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218120" y="4819320"/>
                  <a:ext cx="885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149720" y="4819320"/>
                  <a:ext cx="1022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172120" y="4819320"/>
                <a:ext cx="1046160" cy="639720"/>
                <a:chOff x="5172120" y="4819320"/>
                <a:chExt cx="1046160" cy="6397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240520" y="4819320"/>
                  <a:ext cx="909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172120" y="4819320"/>
                  <a:ext cx="104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218280" y="4819320"/>
                <a:ext cx="1009800" cy="639720"/>
                <a:chOff x="6218280" y="4819320"/>
                <a:chExt cx="1009800" cy="6397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286680" y="4819320"/>
                  <a:ext cx="873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(n)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218280" y="4819320"/>
                  <a:ext cx="100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995400" y="5459040"/>
                <a:ext cx="1041480" cy="640080"/>
                <a:chOff x="995400" y="5459040"/>
                <a:chExt cx="1041480" cy="6400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063800" y="5459040"/>
                  <a:ext cx="904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995400" y="5459040"/>
                  <a:ext cx="10414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036880" y="5459040"/>
                <a:ext cx="1042920" cy="640080"/>
                <a:chOff x="2036880" y="5459040"/>
                <a:chExt cx="1042920" cy="6400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104920" y="5459040"/>
                  <a:ext cx="9064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036880" y="5459040"/>
                  <a:ext cx="1042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79800" y="5459040"/>
                <a:ext cx="1069920" cy="640080"/>
                <a:chOff x="3079800" y="5459040"/>
                <a:chExt cx="1069920" cy="6400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148200" y="5459040"/>
                  <a:ext cx="9334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079800" y="5459040"/>
                  <a:ext cx="1069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149720" y="5459040"/>
                <a:ext cx="1022400" cy="640080"/>
                <a:chOff x="4149720" y="5459040"/>
                <a:chExt cx="1022400" cy="6400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218120" y="5459040"/>
                  <a:ext cx="885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149720" y="5459040"/>
                  <a:ext cx="10224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172120" y="5459040"/>
                <a:ext cx="1046160" cy="640080"/>
                <a:chOff x="5172120" y="5459040"/>
                <a:chExt cx="1046160" cy="6400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240520" y="5459040"/>
                  <a:ext cx="9093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172120" y="5459040"/>
                  <a:ext cx="1046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218280" y="5459040"/>
                <a:ext cx="1009800" cy="640080"/>
                <a:chOff x="6218280" y="5459040"/>
                <a:chExt cx="1009800" cy="6400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286680" y="5459040"/>
                  <a:ext cx="873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保持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218280" y="5459040"/>
                  <a:ext cx="100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990720" y="2895480"/>
              <a:ext cx="6242040" cy="320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362320" y="0"/>
            <a:ext cx="6781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register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GENERIC (n:INTEGER:=1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 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_VECTOR(n DOWNTO 0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en,set,reset 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: BUFFER STD_LOGIC_VECTOR(n DOWNTO 0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 registern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 register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 (clk,set,reset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set='0' AND reset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q&lt;=(OTHERS=&gt;'1')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set='1' AND reset='0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q&lt;=(OTHERS=&gt;'0'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en='1' 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q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 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rcRect l="2953" t="12795" r="2215" b="62008"/>
          <a:stretch/>
        </p:blipFill>
        <p:spPr>
          <a:xfrm>
            <a:off x="0" y="13716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94328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764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1600200"/>
            <a:ext cx="0" cy="259092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16765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16765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1600200"/>
            <a:ext cx="0" cy="259092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56272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00800" y="16765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1676520"/>
            <a:ext cx="0" cy="266688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48720" y="1676520"/>
            <a:ext cx="0" cy="266688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16765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763120" y="16765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764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rcRect l="2953" t="12795" r="2215" b="62008"/>
          <a:stretch/>
        </p:blipFill>
        <p:spPr>
          <a:xfrm>
            <a:off x="0" y="441972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826920" y="4762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hift regis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80880" y="2743200"/>
          <a:ext cx="8458200" cy="32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4582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COMPONENT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tatement 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COMPONENT &lt;name&gt;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[GENERIC&lt;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parameter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&gt;;]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ORT &lt;  &gt;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END COMPONENT;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4267080"/>
            <a:ext cx="7086600" cy="21283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COMPONENT d_f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PORT( clk, d :  IN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STD_LOGIC;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q : OUT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END COMPONENT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onent instantiation statement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4880" y="3505320"/>
            <a:ext cx="7340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&lt;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abel name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&gt;:&lt; COMPONENT name &gt;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[GENERIC MAP (  ) ]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ORT MAP ( );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apping method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610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0b05"/>
                </a:solidFill>
                <a:latin typeface="Tahoma"/>
              </a:rPr>
              <a:t>Position ma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749880" y="2708280"/>
            <a:ext cx="61714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ffx:d_ff PORT MAP(clk,d,qq(i))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5120" y="5715000"/>
            <a:ext cx="8306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ffx:d_ff PORT MAP(clk=&gt;clk,d=&gt;d,q=&gt;q(i))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43434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华文隶书"/>
              </a:rPr>
              <a:t>Name map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b05"/>
                </a:solidFill>
                <a:latin typeface="华文楷体"/>
                <a:ea typeface="华文楷体"/>
              </a:rPr>
              <a:t>GENERAT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[Lable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：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] &lt; &gt; GENER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&lt;  &gt;</a:t>
            </a: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楷体"/>
                <a:ea typeface="华文楷体"/>
              </a:rPr>
              <a:t>END GENERATE;</a:t>
            </a: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04920" y="1066680"/>
            <a:ext cx="8229600" cy="1434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[lable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] FOR i IN rang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&lt;  &gt;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END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[lable]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；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2590920"/>
            <a:ext cx="7696080" cy="1556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[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lable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：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] IF 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〈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condition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〉 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GENERA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〈〉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END 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GENERATE[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lable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fd0b05"/>
                </a:solidFill>
                <a:latin typeface="华文楷体"/>
                <a:ea typeface="华文楷体"/>
              </a:rPr>
              <a:t>;</a:t>
            </a:r>
            <a:r>
              <a:rPr b="0" lang="en-US" sz="3200" spc="-1" strike="noStrike">
                <a:solidFill>
                  <a:srgbClr val="fd0b0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828800"/>
            <a:ext cx="1981080" cy="533520"/>
          </a:xfrm>
          <a:prstGeom prst="wedgeRoundRectCallout">
            <a:avLst>
              <a:gd name="adj1" fmla="val -130208"/>
              <a:gd name="adj2" fmla="val -75296"/>
              <a:gd name="adj3" fmla="val 16667"/>
            </a:avLst>
          </a:prstGeom>
          <a:solidFill>
            <a:srgbClr val="ff0000"/>
          </a:solidFill>
          <a:ln cap="sq" w="1260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77120" y="3809880"/>
            <a:ext cx="1752480" cy="533520"/>
          </a:xfrm>
          <a:prstGeom prst="wedgeRoundRectCallout">
            <a:avLst>
              <a:gd name="adj1" fmla="val -70472"/>
              <a:gd name="adj2" fmla="val -160120"/>
              <a:gd name="adj3" fmla="val 16667"/>
            </a:avLst>
          </a:prstGeom>
          <a:solidFill>
            <a:srgbClr val="ff9900"/>
          </a:solidFill>
          <a:ln cap="sq" w="1260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97b7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4495680"/>
            <a:ext cx="7238880" cy="206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g1: IF(i=0) GENERA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dffx:d_ff PORT MAP(clk,d,qq(i))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END GENERATE g1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14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0"/>
            <a:ext cx="5029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ITY shift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IC (n:INTEGER:=2)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,clk: 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: 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shiftn;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CHITECTURE a OF shiftn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ONENT d_f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( clk, d :  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 : OU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COMPONENT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AL qq : STD_LOGIC_VECTOR(0 TO n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&lt;=qq(n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bel1: FOR i IN 0 TO n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1: IF(i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ffx:d_ff PORT MAP(clk,d,q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GENERATE g1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2: IF(i/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ffx:d_ff PORT MAP(clk,qq(i-1),q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GENERATE g2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GENERATE label1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 a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0" y="0"/>
          <a:ext cx="403848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03848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92360" y="4266720"/>
            <a:ext cx="360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）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 flip-flop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9880"/>
            <a:ext cx="647712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d_ff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 clk,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IN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OUT  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d_f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d_ff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,d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559" t="16378" r="76539" b="70557"/>
          <a:stretch/>
        </p:blipFill>
        <p:spPr>
          <a:xfrm>
            <a:off x="6095880" y="762120"/>
            <a:ext cx="2286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362320" y="0"/>
            <a:ext cx="6781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ITECTURE aa OF shiftn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GNAL tmp : STD_LOGIC_VECTOR(0 TO n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&lt;=tmp(n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(clk'EVENT AND clk='1')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mp(0)&lt;=d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R i IN 1 TO n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mp(i)&lt;=tmp(i-1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LOOP 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aa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066680" y="5410080"/>
          <a:ext cx="51818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410080"/>
                    <a:ext cx="51818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943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8584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rcRect l="3779" t="16378" r="1890" b="52913"/>
          <a:stretch/>
        </p:blipFill>
        <p:spPr>
          <a:xfrm>
            <a:off x="0" y="1752480"/>
            <a:ext cx="9144000" cy="2797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05740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0532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038480" y="21337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304920" y="1828800"/>
          <a:ext cx="853416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53416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0" y="228600"/>
            <a:ext cx="6477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shiftb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ENERIC (n:INTEGER:=2)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,clk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: BUFFER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_VECTOR(0 TO n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shiftb;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shiftb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PONENT d_f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 d: IN  STD_LOGIC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 : OUT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COMPONENT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abel1: FOR i IN 0 TO n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1: IF(i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ffx:d_ff PORT MAP(clk=&gt;clk,d=&gt;d,q=&gt;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2: IF(i/=0)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ffx:d_ff PORT MAP(clk=&gt;clk,d=&gt;q(i-1),q=&gt;q(i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 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4920" y="228600"/>
            <a:ext cx="67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ITECTURE aa OF shiftb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(clk'EVENT AND clk='1')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(0)&lt;=d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R i IN 1 TO n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(i)&lt;=q(i-1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LOOP 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a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4906800"/>
          <a:ext cx="51814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06800"/>
                    <a:ext cx="51814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07648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rcRect l="4252" t="17638" r="23622" b="56699"/>
          <a:stretch/>
        </p:blipFill>
        <p:spPr>
          <a:xfrm>
            <a:off x="0" y="2209680"/>
            <a:ext cx="9144000" cy="24256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52388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6232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0040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24382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entrant shift regis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12193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TITY shiftx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T(  clk,load : I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STD_LOGIC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 : IN  STD_LOGIC_VECTOR(3 DOWNTO 0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 : OUT  STD_LOGIC_VECTOR(3 DOWNTO 0)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shiftx;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685800" y="3844800"/>
          <a:ext cx="640080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44800"/>
                    <a:ext cx="64008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8380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a OF shiftx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GNAL tmp : 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tmp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(clk'EVENT AND clk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(load='0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mp&lt;=d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     tmp(0)&lt;=tmp(3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mp(3 downto 1)&lt;=tmp(2 downto 0)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a;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rcRect l="2953" t="12795" r="20670" b="57087"/>
          <a:stretch/>
        </p:blipFill>
        <p:spPr>
          <a:xfrm>
            <a:off x="0" y="2133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943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049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049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05740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1460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764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23623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28720" y="1022400"/>
            <a:ext cx="7340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OUNTER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769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ynchronous up_down counter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3124080"/>
            <a:ext cx="8915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USE IEEE.STD_LOGIC_UNSIGNED.ALL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TITY updowncounter I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RT( clk, updow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 I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:OUT STD_LOGIC_VECTOR(2 DOWNTO 0))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D updowncounter;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rcRect l="7559" t="15118" r="70870" b="71817"/>
          <a:stretch/>
        </p:blipFill>
        <p:spPr>
          <a:xfrm>
            <a:off x="5867280" y="1600200"/>
            <a:ext cx="3048120" cy="13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3779" t="16378" r="4724" b="60479"/>
          <a:stretch/>
        </p:blipFill>
        <p:spPr>
          <a:xfrm>
            <a:off x="0" y="19810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24382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80880" y="1295280"/>
            <a:ext cx="8305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ITECTURE a OF updowncounter I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GNAL counter : STD_LOGIC_VECTOR(2 DOWNTO 0)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&lt;=counter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(updown='1') THE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unter&lt;=counter-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rcRect l="7559" t="15118" r="70870" b="71817"/>
          <a:stretch/>
        </p:blipFill>
        <p:spPr>
          <a:xfrm>
            <a:off x="6095880" y="5511960"/>
            <a:ext cx="3048120" cy="13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943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rcRect l="4252" t="17638" r="23622" b="44094"/>
          <a:stretch/>
        </p:blipFill>
        <p:spPr>
          <a:xfrm>
            <a:off x="0" y="2259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5562720" y="2514600"/>
            <a:ext cx="75960" cy="3657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26920" y="60213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Asynchronous count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42920" y="765000"/>
            <a:ext cx="7086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d_ffr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d,clr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OUT  STD_LOGIC  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d_ffr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d_ffr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,clr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r='0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'0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94328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955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rcRect l="2953" t="12795" r="2953" b="66442"/>
          <a:stretch/>
        </p:blipFill>
        <p:spPr>
          <a:xfrm>
            <a:off x="0" y="144792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29528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7652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09680" y="1752480"/>
            <a:ext cx="0" cy="243864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1752480"/>
            <a:ext cx="0" cy="243864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1752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352680" y="182880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19051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19810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2334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533520" y="2057400"/>
          <a:ext cx="822960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895480" y="0"/>
            <a:ext cx="6248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acounter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reset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 : OUT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_VECTOR(2 DOWNTO 0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counter;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acounter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PONENT d_ffr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, d,clr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OUT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COMPONENT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IGNAL tmp : STD_LOGIC_VECTOR(3 DOWNTO 0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mp(0)&lt;=clk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abel1: FOR i IN 0 TO 2 GENER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ffrx : d_ffr PORT MAP(   clk=&gt;tmp(i)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=&gt;tmp(i+1)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r=&gt;reset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=&gt;q(i),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=&gt; tmp(i+1)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GENERATE label1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72160"/>
          <a:ext cx="45720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72160"/>
                    <a:ext cx="45720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rcRect l="4252" t="17638" r="4724" b="62998"/>
          <a:stretch/>
        </p:blipFill>
        <p:spPr>
          <a:xfrm>
            <a:off x="0" y="1676520"/>
            <a:ext cx="9144000" cy="1838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rcRect l="3779" t="17638" r="40629" b="64258"/>
          <a:stretch/>
        </p:blipFill>
        <p:spPr>
          <a:xfrm>
            <a:off x="0" y="3962520"/>
            <a:ext cx="9144000" cy="22190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692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52720" y="304560"/>
            <a:ext cx="2590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Frequency Divid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74674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UNSIGNED.ALL; 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clk_div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clk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UFFER 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clk_div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clk_div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GNAL counter : STD_LOGIC_VECTOR(1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(counter="10"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unter&lt;="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NOT q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rcRect l="4252" t="17638" r="9449" b="56699"/>
          <a:stretch/>
        </p:blipFill>
        <p:spPr>
          <a:xfrm>
            <a:off x="0" y="2419200"/>
            <a:ext cx="9144000" cy="20196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657600" y="2362320"/>
            <a:ext cx="0" cy="2209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67480" y="2514600"/>
            <a:ext cx="0" cy="2209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6400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UNSIGNED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clk_div8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k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UFFER  STD_LOGIC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clk_div8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clk_div8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IGNAL counter : STD_LOGIC_VECTOR(2 DOWNTO 0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(counter="010")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NOT q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(counter="111")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er&lt;="000"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NOT q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E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ter&lt;=counter+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바탕"/>
                <a:ea typeface="바탕"/>
              </a:rPr>
              <a:t>DFF with asynchronous set / reset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903400" y="3695760"/>
            <a:ext cx="6012000" cy="2933640"/>
            <a:chOff x="2903400" y="3695760"/>
            <a:chExt cx="6012000" cy="2933640"/>
          </a:xfrm>
        </p:grpSpPr>
        <p:grpSp>
          <p:nvGrpSpPr>
            <p:cNvPr id="129" name=""/>
            <p:cNvGrpSpPr/>
            <p:nvPr/>
          </p:nvGrpSpPr>
          <p:grpSpPr>
            <a:xfrm>
              <a:off x="2907720" y="3699000"/>
              <a:ext cx="6002280" cy="2926080"/>
              <a:chOff x="2907720" y="3699000"/>
              <a:chExt cx="6002280" cy="29260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907720" y="3699000"/>
                <a:ext cx="1009080" cy="487440"/>
                <a:chOff x="2907720" y="3699000"/>
                <a:chExt cx="1009080" cy="4874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973600" y="369900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907720" y="369900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16800" y="3699000"/>
                <a:ext cx="1035360" cy="487440"/>
                <a:chOff x="3916800" y="3699000"/>
                <a:chExt cx="1035360" cy="487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82680" y="369900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e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16800" y="369900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952520" y="3699000"/>
                <a:ext cx="989280" cy="487440"/>
                <a:chOff x="4952520" y="3699000"/>
                <a:chExt cx="989280" cy="487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018040" y="369900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52520" y="369900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941800" y="3699000"/>
                <a:ext cx="1013760" cy="487440"/>
                <a:chOff x="5941800" y="3699000"/>
                <a:chExt cx="1013760" cy="487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007320" y="369900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lk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941800" y="369900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955920" y="3699000"/>
                <a:ext cx="976680" cy="487440"/>
                <a:chOff x="6955920" y="3699000"/>
                <a:chExt cx="976680" cy="487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021440" y="369900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55920" y="369900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932960" y="3699000"/>
                <a:ext cx="977040" cy="487440"/>
                <a:chOff x="7932960" y="3699000"/>
                <a:chExt cx="977040" cy="487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98480" y="369900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32960" y="369900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907720" y="4186440"/>
                <a:ext cx="1009080" cy="487440"/>
                <a:chOff x="2907720" y="4186440"/>
                <a:chExt cx="1009080" cy="487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973600" y="41864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07720" y="41864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16800" y="4186440"/>
                <a:ext cx="1035360" cy="487440"/>
                <a:chOff x="3916800" y="4186440"/>
                <a:chExt cx="1035360" cy="4874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82680" y="41864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16800" y="41864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52520" y="4186440"/>
                <a:ext cx="989280" cy="487440"/>
                <a:chOff x="4952520" y="4186440"/>
                <a:chExt cx="989280" cy="4874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018040" y="41864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52520" y="41864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41800" y="4186440"/>
                <a:ext cx="1013760" cy="487440"/>
                <a:chOff x="5941800" y="4186440"/>
                <a:chExt cx="1013760" cy="4874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07320" y="41864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41800" y="41864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955920" y="4186440"/>
                <a:ext cx="976680" cy="487440"/>
                <a:chOff x="6955920" y="4186440"/>
                <a:chExt cx="976680" cy="4874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021440" y="41864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55920" y="41864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932960" y="4186440"/>
                <a:ext cx="977040" cy="487440"/>
                <a:chOff x="7932960" y="4186440"/>
                <a:chExt cx="977040" cy="487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998480" y="41864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32960" y="41864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07720" y="4674240"/>
                <a:ext cx="1009080" cy="487440"/>
                <a:chOff x="2907720" y="4674240"/>
                <a:chExt cx="1009080" cy="4874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973600" y="46742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07720" y="46742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16800" y="4674240"/>
                <a:ext cx="1035360" cy="487440"/>
                <a:chOff x="3916800" y="4674240"/>
                <a:chExt cx="1035360" cy="487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82680" y="46742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6800" y="46742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952520" y="4674240"/>
                <a:ext cx="989280" cy="487440"/>
                <a:chOff x="4952520" y="4674240"/>
                <a:chExt cx="989280" cy="487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018040" y="46742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520" y="46742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941800" y="4674240"/>
                <a:ext cx="1013760" cy="487440"/>
                <a:chOff x="5941800" y="4674240"/>
                <a:chExt cx="1013760" cy="487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007320" y="46742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941800" y="46742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955920" y="4674240"/>
                <a:ext cx="976680" cy="487440"/>
                <a:chOff x="6955920" y="4674240"/>
                <a:chExt cx="976680" cy="487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021440" y="46742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955920" y="46742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932960" y="4674240"/>
                <a:ext cx="977040" cy="487440"/>
                <a:chOff x="7932960" y="4674240"/>
                <a:chExt cx="977040" cy="487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998480" y="46742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32960" y="46742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907720" y="5162040"/>
                <a:ext cx="1009080" cy="487440"/>
                <a:chOff x="2907720" y="5162040"/>
                <a:chExt cx="1009080" cy="487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973600" y="51620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907720" y="51620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916800" y="5162040"/>
                <a:ext cx="1035360" cy="487440"/>
                <a:chOff x="3916800" y="5162040"/>
                <a:chExt cx="1035360" cy="487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982680" y="51620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16800" y="51620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2520" y="5162040"/>
                <a:ext cx="989280" cy="487440"/>
                <a:chOff x="4952520" y="5162040"/>
                <a:chExt cx="989280" cy="487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18040" y="51620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2520" y="51620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941800" y="5162040"/>
                <a:ext cx="1013760" cy="487440"/>
                <a:chOff x="5941800" y="5162040"/>
                <a:chExt cx="1013760" cy="487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07320" y="51620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941800" y="51620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955920" y="5162040"/>
                <a:ext cx="976680" cy="487440"/>
                <a:chOff x="6955920" y="5162040"/>
                <a:chExt cx="976680" cy="487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021440" y="51620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955920" y="51620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932960" y="5162040"/>
                <a:ext cx="977040" cy="487440"/>
                <a:chOff x="7932960" y="5162040"/>
                <a:chExt cx="977040" cy="48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8480" y="51620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932960" y="51620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907720" y="5649480"/>
                <a:ext cx="1009080" cy="487800"/>
                <a:chOff x="2907720" y="5649480"/>
                <a:chExt cx="1009080" cy="4878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973600" y="5649480"/>
                  <a:ext cx="8773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07720" y="5649480"/>
                  <a:ext cx="100908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916800" y="5649480"/>
                <a:ext cx="1035360" cy="487800"/>
                <a:chOff x="3916800" y="5649480"/>
                <a:chExt cx="1035360" cy="487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982680" y="5649480"/>
                  <a:ext cx="9036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916800" y="5649480"/>
                  <a:ext cx="103536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952520" y="5649480"/>
                <a:ext cx="989280" cy="487800"/>
                <a:chOff x="4952520" y="5649480"/>
                <a:chExt cx="989280" cy="4878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018040" y="5649480"/>
                  <a:ext cx="857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52520" y="5649480"/>
                  <a:ext cx="98928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941800" y="5649480"/>
                <a:ext cx="1013760" cy="487800"/>
                <a:chOff x="5941800" y="5649480"/>
                <a:chExt cx="1013760" cy="487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007320" y="5649480"/>
                  <a:ext cx="8820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41800" y="5649480"/>
                  <a:ext cx="101376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955920" y="5649480"/>
                <a:ext cx="976680" cy="487800"/>
                <a:chOff x="6955920" y="5649480"/>
                <a:chExt cx="976680" cy="487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021440" y="5649480"/>
                  <a:ext cx="8452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955920" y="5649480"/>
                  <a:ext cx="97668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932960" y="5649480"/>
                <a:ext cx="977040" cy="487800"/>
                <a:chOff x="7932960" y="5649480"/>
                <a:chExt cx="977040" cy="487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998480" y="5649480"/>
                  <a:ext cx="8456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932960" y="5649480"/>
                  <a:ext cx="977040" cy="48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907720" y="6137640"/>
                <a:ext cx="1009080" cy="487440"/>
                <a:chOff x="2907720" y="6137640"/>
                <a:chExt cx="1009080" cy="4874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973600" y="6137640"/>
                  <a:ext cx="8773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7720" y="6137640"/>
                  <a:ext cx="10090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16800" y="6137640"/>
                <a:ext cx="1035360" cy="487440"/>
                <a:chOff x="3916800" y="6137640"/>
                <a:chExt cx="1035360" cy="4874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82680" y="6137640"/>
                  <a:ext cx="9036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6800" y="6137640"/>
                  <a:ext cx="10353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2520" y="6137640"/>
                <a:ext cx="989280" cy="487440"/>
                <a:chOff x="4952520" y="6137640"/>
                <a:chExt cx="989280" cy="4874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18040" y="6137640"/>
                  <a:ext cx="85752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2520" y="6137640"/>
                  <a:ext cx="9892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941800" y="6137640"/>
                <a:ext cx="1013760" cy="487440"/>
                <a:chOff x="5941800" y="6137640"/>
                <a:chExt cx="1013760" cy="4874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007320" y="6137640"/>
                  <a:ext cx="8820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41800" y="6137640"/>
                  <a:ext cx="101376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6955920" y="6137640"/>
                <a:ext cx="976680" cy="487440"/>
                <a:chOff x="6955920" y="6137640"/>
                <a:chExt cx="976680" cy="4874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21440" y="6137640"/>
                  <a:ext cx="8452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955920" y="6137640"/>
                  <a:ext cx="97668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932960" y="6137640"/>
                <a:ext cx="977040" cy="487440"/>
                <a:chOff x="7932960" y="6137640"/>
                <a:chExt cx="977040" cy="487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998480" y="6137640"/>
                  <a:ext cx="8456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932960" y="6137640"/>
                  <a:ext cx="97704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" name=""/>
            <p:cNvSpPr/>
            <p:nvPr/>
          </p:nvSpPr>
          <p:spPr>
            <a:xfrm>
              <a:off x="2903400" y="3695760"/>
              <a:ext cx="6012000" cy="2933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/>
          <a:srcRect l="5669" t="13858" r="76539" b="65518"/>
          <a:stretch/>
        </p:blipFill>
        <p:spPr>
          <a:xfrm>
            <a:off x="228600" y="1724040"/>
            <a:ext cx="2514600" cy="22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94328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4252" t="17638" r="2362" b="49134"/>
          <a:stretch/>
        </p:blipFill>
        <p:spPr>
          <a:xfrm>
            <a:off x="0" y="2666880"/>
            <a:ext cx="9144000" cy="24512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743200" y="28195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28195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05520" y="2819520"/>
            <a:ext cx="0" cy="2438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6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ristate gate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1295280"/>
            <a:ext cx="6095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tri_gate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n,e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OUT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tri_gat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tri_gate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en,din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en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din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'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rcRect l="7559" t="15748" r="76539" b="69298"/>
          <a:stretch/>
        </p:blipFill>
        <p:spPr>
          <a:xfrm>
            <a:off x="0" y="5032440"/>
            <a:ext cx="259092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rcRect l="4252" t="17638" r="9449" b="62998"/>
          <a:stretch/>
        </p:blipFill>
        <p:spPr>
          <a:xfrm>
            <a:off x="380880" y="2697120"/>
            <a:ext cx="8534520" cy="14382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276720" y="4572000"/>
            <a:ext cx="1600200" cy="914400"/>
          </a:xfrm>
          <a:prstGeom prst="wedgeRoundRectCallout">
            <a:avLst>
              <a:gd name="adj1" fmla="val -39486"/>
              <a:gd name="adj2" fmla="val -142884"/>
              <a:gd name="adj3" fmla="val 16667"/>
            </a:avLst>
          </a:prstGeom>
          <a:solidFill>
            <a:srgbClr val="ff99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0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） 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ristate  Buffer</a:t>
            </a:r>
            <a:endParaRPr b="0" lang="en-US" sz="4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066680"/>
            <a:ext cx="7162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tri_buff4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 : 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n : I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 : OUT STD_LOGIC_VECTOR(3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tri_buff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tri_buff4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en,din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en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din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out&lt;="ZZZZ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rcRect l="9449" t="16378" r="63311" b="69298"/>
          <a:stretch/>
        </p:blipFill>
        <p:spPr>
          <a:xfrm>
            <a:off x="5715000" y="5518080"/>
            <a:ext cx="342900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rcRect l="4252" t="17638" r="9449" b="62998"/>
          <a:stretch/>
        </p:blipFill>
        <p:spPr>
          <a:xfrm>
            <a:off x="0" y="2666880"/>
            <a:ext cx="9144000" cy="15242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629400" y="4876920"/>
            <a:ext cx="1219320" cy="533160"/>
          </a:xfrm>
          <a:prstGeom prst="wedgeRoundRectCallout">
            <a:avLst>
              <a:gd name="adj1" fmla="val 75652"/>
              <a:gd name="adj2" fmla="val -262500"/>
              <a:gd name="adj3" fmla="val 16667"/>
            </a:avLst>
          </a:prstGeom>
          <a:solidFill>
            <a:srgbClr val="ccff66"/>
          </a:solidFill>
          <a:ln cap="sq" w="1260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43200" y="0"/>
            <a:ext cx="64008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TITY d_ffy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ORT( clk,d,set,rese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IN  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OUT  STD_LOGIC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d_ffy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CHITECTURE a OF d_ffy I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CESS(clk,set,reset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F (set='0' AND reset='1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d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IF (set='1' AND reset='0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d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LSIF (clk'EVENT AND clk='1') 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D a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54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953" t="11319" r="2215" b="62997"/>
          <a:stretch/>
        </p:blipFill>
        <p:spPr>
          <a:xfrm>
            <a:off x="0" y="1752480"/>
            <a:ext cx="9144000" cy="3124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432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362320"/>
            <a:ext cx="0" cy="259056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2286000"/>
            <a:ext cx="0" cy="2666880"/>
          </a:xfrm>
          <a:prstGeom prst="line">
            <a:avLst/>
          </a:prstGeom>
          <a:ln w="3816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28600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2286000"/>
            <a:ext cx="0" cy="2743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666880" y="3009960"/>
            <a:ext cx="6240240" cy="3848040"/>
            <a:chOff x="2666880" y="3009960"/>
            <a:chExt cx="6240240" cy="3848040"/>
          </a:xfrm>
        </p:grpSpPr>
        <p:grpSp>
          <p:nvGrpSpPr>
            <p:cNvPr id="255" name=""/>
            <p:cNvGrpSpPr/>
            <p:nvPr/>
          </p:nvGrpSpPr>
          <p:grpSpPr>
            <a:xfrm>
              <a:off x="2671560" y="3014640"/>
              <a:ext cx="6230880" cy="3838680"/>
              <a:chOff x="2671560" y="3014640"/>
              <a:chExt cx="6230880" cy="38386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2671560" y="3014640"/>
                <a:ext cx="1047600" cy="639720"/>
                <a:chOff x="2671560" y="3014640"/>
                <a:chExt cx="104760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739960" y="301464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671560" y="301464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719160" y="3014640"/>
                <a:ext cx="1074960" cy="639720"/>
                <a:chOff x="3719160" y="3014640"/>
                <a:chExt cx="107496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787560" y="301464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reset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19160" y="301464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94120" y="3014640"/>
                <a:ext cx="1027080" cy="639720"/>
                <a:chOff x="4794120" y="3014640"/>
                <a:chExt cx="102708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62160" y="301464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94120" y="301464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821200" y="3014640"/>
                <a:ext cx="1052640" cy="639720"/>
                <a:chOff x="5821200" y="3014640"/>
                <a:chExt cx="1052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889600" y="301464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clk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1200" y="301464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873840" y="3014640"/>
                <a:ext cx="1014120" cy="639720"/>
                <a:chOff x="6873840" y="3014640"/>
                <a:chExt cx="10141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941880" y="301464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73840" y="301464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887960" y="3014640"/>
                <a:ext cx="1014480" cy="639720"/>
                <a:chOff x="7887960" y="3014640"/>
                <a:chExt cx="101448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7956360" y="301464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q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887960" y="301464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2671560" y="3654360"/>
                <a:ext cx="1047600" cy="639720"/>
                <a:chOff x="2671560" y="3654360"/>
                <a:chExt cx="10476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739960" y="365436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71560" y="365436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719160" y="3654360"/>
                <a:ext cx="1074960" cy="639720"/>
                <a:chOff x="3719160" y="3654360"/>
                <a:chExt cx="10749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787560" y="365436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719160" y="365436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794120" y="3654360"/>
                <a:ext cx="1027080" cy="639720"/>
                <a:chOff x="4794120" y="3654360"/>
                <a:chExt cx="102708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862160" y="365436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794120" y="365436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821200" y="3654360"/>
                <a:ext cx="1052640" cy="639720"/>
                <a:chOff x="5821200" y="3654360"/>
                <a:chExt cx="105264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89600" y="365436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821200" y="365436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873840" y="3654360"/>
                <a:ext cx="1014120" cy="639720"/>
                <a:chOff x="6873840" y="3654360"/>
                <a:chExt cx="101412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941880" y="365436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873840" y="365436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887960" y="3654360"/>
                <a:ext cx="1014480" cy="639720"/>
                <a:chOff x="7887960" y="3654360"/>
                <a:chExt cx="101448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956360" y="365436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87960" y="365436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671560" y="4294080"/>
                <a:ext cx="1047600" cy="639720"/>
                <a:chOff x="2671560" y="4294080"/>
                <a:chExt cx="104760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739960" y="429408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71560" y="429408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719160" y="4294080"/>
                <a:ext cx="1074960" cy="639720"/>
                <a:chOff x="3719160" y="4294080"/>
                <a:chExt cx="107496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787560" y="429408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719160" y="429408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794120" y="4294080"/>
                <a:ext cx="1027080" cy="639720"/>
                <a:chOff x="4794120" y="4294080"/>
                <a:chExt cx="102708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862160" y="429408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794120" y="429408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821200" y="4294080"/>
                <a:ext cx="1052640" cy="639720"/>
                <a:chOff x="5821200" y="4294080"/>
                <a:chExt cx="105264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889600" y="429408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821200" y="429408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873840" y="4294080"/>
                <a:ext cx="1014120" cy="639720"/>
                <a:chOff x="6873840" y="4294080"/>
                <a:chExt cx="101412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941880" y="429408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73840" y="429408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87960" y="4294080"/>
                <a:ext cx="1014480" cy="639720"/>
                <a:chOff x="7887960" y="4294080"/>
                <a:chExt cx="101448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956360" y="429408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87960" y="429408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71560" y="4933800"/>
                <a:ext cx="1047600" cy="639720"/>
                <a:chOff x="2671560" y="4933800"/>
                <a:chExt cx="104760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739960" y="493380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71560" y="493380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719160" y="4933800"/>
                <a:ext cx="1074960" cy="639720"/>
                <a:chOff x="3719160" y="4933800"/>
                <a:chExt cx="107496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787560" y="493380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719160" y="493380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794120" y="4933800"/>
                <a:ext cx="1027080" cy="639720"/>
                <a:chOff x="4794120" y="4933800"/>
                <a:chExt cx="102708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62160" y="493380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794120" y="493380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821200" y="4933800"/>
                <a:ext cx="1052640" cy="639720"/>
                <a:chOff x="5821200" y="4933800"/>
                <a:chExt cx="1052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89600" y="493380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821200" y="493380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6873840" y="4933800"/>
                <a:ext cx="1014120" cy="639720"/>
                <a:chOff x="6873840" y="4933800"/>
                <a:chExt cx="10141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941880" y="49338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873840" y="493380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7887960" y="4933800"/>
                <a:ext cx="1014480" cy="639720"/>
                <a:chOff x="7887960" y="4933800"/>
                <a:chExt cx="101448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956360" y="49338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</a:rPr>
                    <a:t>stable</a:t>
                  </a:r>
                  <a:endParaRPr b="0" lang="en-US" sz="2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887960" y="493380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671560" y="5573520"/>
                <a:ext cx="1047600" cy="640080"/>
                <a:chOff x="2671560" y="5573520"/>
                <a:chExt cx="1047600" cy="6400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739960" y="5573520"/>
                  <a:ext cx="911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671560" y="5573520"/>
                  <a:ext cx="10476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719160" y="5573520"/>
                <a:ext cx="1074960" cy="640080"/>
                <a:chOff x="3719160" y="5573520"/>
                <a:chExt cx="1074960" cy="6400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787560" y="5573520"/>
                  <a:ext cx="9381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19160" y="5573520"/>
                  <a:ext cx="10749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794120" y="5573520"/>
                <a:ext cx="1027080" cy="640080"/>
                <a:chOff x="4794120" y="5573520"/>
                <a:chExt cx="1027080" cy="6400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862160" y="5573520"/>
                  <a:ext cx="89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794120" y="5573520"/>
                  <a:ext cx="10270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821200" y="5573520"/>
                <a:ext cx="1052640" cy="640080"/>
                <a:chOff x="5821200" y="5573520"/>
                <a:chExt cx="1052640" cy="6400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889600" y="5573520"/>
                  <a:ext cx="9158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821200" y="5573520"/>
                  <a:ext cx="10526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873840" y="5573520"/>
                <a:ext cx="1014120" cy="640080"/>
                <a:chOff x="6873840" y="5573520"/>
                <a:chExt cx="1014120" cy="6400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41880" y="5573520"/>
                  <a:ext cx="8780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873840" y="5573520"/>
                  <a:ext cx="1014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887960" y="5573520"/>
                <a:ext cx="1014480" cy="640080"/>
                <a:chOff x="7887960" y="5573520"/>
                <a:chExt cx="1014480" cy="6400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956360" y="5573520"/>
                  <a:ext cx="8780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887960" y="5573520"/>
                  <a:ext cx="10144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671560" y="6213600"/>
                <a:ext cx="1047600" cy="639720"/>
                <a:chOff x="2671560" y="6213600"/>
                <a:chExt cx="104760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739960" y="6213600"/>
                  <a:ext cx="911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71560" y="6213600"/>
                  <a:ext cx="1047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719160" y="6213600"/>
                <a:ext cx="1074960" cy="639720"/>
                <a:chOff x="3719160" y="6213600"/>
                <a:chExt cx="107496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787560" y="6213600"/>
                  <a:ext cx="9381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719160" y="6213600"/>
                  <a:ext cx="1074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794120" y="6213600"/>
                <a:ext cx="1027080" cy="639720"/>
                <a:chOff x="4794120" y="6213600"/>
                <a:chExt cx="102708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862160" y="6213600"/>
                  <a:ext cx="89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794120" y="6213600"/>
                  <a:ext cx="1027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821200" y="6213600"/>
                <a:ext cx="1052640" cy="639720"/>
                <a:chOff x="5821200" y="6213600"/>
                <a:chExt cx="105264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889600" y="6213600"/>
                  <a:ext cx="915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宋体"/>
                    </a:rPr>
                    <a:t>↑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821200" y="6213600"/>
                  <a:ext cx="105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873840" y="6213600"/>
                <a:ext cx="1014120" cy="639720"/>
                <a:chOff x="6873840" y="6213600"/>
                <a:chExt cx="101412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941880" y="62136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873840" y="6213600"/>
                  <a:ext cx="1014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87960" y="6213600"/>
                <a:ext cx="1014480" cy="639720"/>
                <a:chOff x="7887960" y="6213600"/>
                <a:chExt cx="101448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956360" y="6213600"/>
                  <a:ext cx="87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87960" y="6213600"/>
                  <a:ext cx="101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2666880" y="3009960"/>
              <a:ext cx="6240240" cy="3848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365" name="" descr=""/>
          <p:cNvPicPr/>
          <p:nvPr/>
        </p:nvPicPr>
        <p:blipFill>
          <a:blip r:embed="rId1"/>
          <a:srcRect l="6614" t="13858" r="77484" b="65518"/>
          <a:stretch/>
        </p:blipFill>
        <p:spPr>
          <a:xfrm>
            <a:off x="228600" y="1600200"/>
            <a:ext cx="2209680" cy="21589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바탕"/>
                <a:ea typeface="바탕"/>
              </a:rPr>
              <a:t>DFF with synchronized set / rese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514600" y="0"/>
            <a:ext cx="66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IBRARY IEEE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E IEEE.STD_LOGIC_1164.ALL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ITY d_fft I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RT(clk,d,set,reset : IN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STD_LOGIC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,qd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: OUT  STD_LOGIC )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d_fft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CHITECTURE a OF d_fft IS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CESS(clk,set,reset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clk'EVENT AND clk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F (set='0' AND reset='1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'0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IF (set='1' AND reset='0')  THE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'0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'1'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&lt;=d;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qd&lt;=NOT d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IF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PROCESS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D a;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rcRect l="2953" t="12795" r="2953" b="62997"/>
          <a:stretch/>
        </p:blipFill>
        <p:spPr>
          <a:xfrm>
            <a:off x="0" y="1981080"/>
            <a:ext cx="9144000" cy="2895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52388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438280"/>
            <a:ext cx="0" cy="259092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38680" y="2362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362320"/>
            <a:ext cx="0" cy="25905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23623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2362320"/>
            <a:ext cx="0" cy="266688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8880" y="2438280"/>
            <a:ext cx="0" cy="2667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09:02:01Z</dcterms:created>
  <dc:creator>fap</dc:creator>
  <dc:description/>
  <dc:language>en-US</dc:language>
  <cp:lastModifiedBy>Admin</cp:lastModifiedBy>
  <dcterms:modified xsi:type="dcterms:W3CDTF">2006-03-24T10:40:34Z</dcterms:modified>
  <cp:revision>272</cp:revision>
  <dc:subject/>
  <dc:title>  第一章  数字电路基础 </dc:title>
</cp:coreProperties>
</file>