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28D-D23C-4FAC-855B-078BA408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AE6-38B2-4B8E-B748-04C80BC1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F2A-85E0-4230-A82A-31A5D9C8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9D3-EE4D-47D8-A2AD-63699197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B8FD-E39E-49C1-8895-C92D44A2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8A89-350A-4C36-86B4-C256FADD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62F4-2474-4448-978A-E4BCDA10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2673-4520-4AB3-A4E7-AC2D1572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6274-2BB6-4309-A921-725A81B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542D-E55A-429A-8E17-68E9C30A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9C0C-C540-4CB4-A35B-D12F4FD1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521-3373-49F8-ABDF-C9B80180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BAA1-4E89-436E-8C1E-E64C2648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9486-B13E-4CE3-BDC8-7902A9E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3EC6-E028-40DD-BBD8-9216FC5B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4442-7F7A-47DA-A8A3-A659F883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546E-7315-4677-8C55-A1BC3A53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10F-C2AB-4A07-A758-1401DC09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729-6C15-42C2-B533-6D7E56D2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313-7152-48E5-97AC-972F9265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5D2-8307-48D9-86A3-EDCE873B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89D-6A2E-492D-87B2-D139592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77E-F564-4396-8EDC-201DD861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7A9-C296-4CD9-8121-968BA3FF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FEC5-D831-4AF4-98C1-1AE1C1EC6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42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43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10D4-EFF3-4D7B-8412-F8E3C96FFC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入门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简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程序的基本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体的四种描述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、结构体的三种子结构描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象、数据类型及运算操作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（一）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相关语句说明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类属参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来为设计实体指定参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定义端口宽度、器件延时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端口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述端口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名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模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数据类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端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体的每一个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输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输出信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端口，对应于硬件电路图或芯片的一个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引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端口说明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端口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端口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模式 数据类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端口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端口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模式 数据类型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038480"/>
            <a:ext cx="8305920" cy="1323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端口名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端口的命名，是端口的标识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端口模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明端口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信号的流动方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端口的五种模式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4952880" cy="3276720"/>
          </a:xfrm>
          <a:prstGeom prst="rect">
            <a:avLst/>
          </a:prstGeom>
          <a:solidFill>
            <a:srgbClr val="f7cf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输入模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输出模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向模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缓冲模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BUF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191120" y="1219320"/>
          <a:ext cx="472428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219320"/>
                    <a:ext cx="472428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数据类型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明经过端口的信号的数据类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种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强类型语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标准的数据类型，还可以由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用户自定义数据类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位，可取值为‘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‘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’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类型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VH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预定义类型，使用此类型时无需特别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当使用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非预定义的数据类型时，必须用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库和程序包调用语句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来为程序的编译指明所使用的数据类型的定义在哪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库和程序包的调用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3353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LIBRARY IE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USE IEEE.STD_LOGIC_1164.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NTITY adde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ORT( a, b,cin  : 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STD_LOG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 ,co    : OUT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STD_LOG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ND add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结构体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619760" cy="281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RCHITECTURE &lt;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构体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&gt; OF &lt;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实体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&gt;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构体说明部分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&lt;</a:t>
            </a:r>
            <a:r>
              <a:rPr b="1" lang="zh-CN" sz="2800" spc="-1" strike="noStrike">
                <a:solidFill>
                  <a:srgbClr val="ff3399"/>
                </a:solidFill>
                <a:latin typeface="华文楷体"/>
                <a:ea typeface="华文楷体"/>
              </a:rPr>
              <a:t>并行处理语句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N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构体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038480"/>
            <a:ext cx="5715000" cy="2684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RCHITECTURE a OF add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&lt;=a XOR b XOR ci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&lt;=((a XOR b) AND cin) OR (a AND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结构体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924680" cy="304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体名：对本结构体的命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体说明部分：对结构体内部所使用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信号、常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数据类型和函数进行定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行处理语句：具体描述了结构体的行为和结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724280"/>
            <a:ext cx="1143000" cy="533520"/>
          </a:xfrm>
          <a:prstGeom prst="wedgeRoundRectCallout">
            <a:avLst>
              <a:gd name="adj1" fmla="val 127083"/>
              <a:gd name="adj2" fmla="val -352083"/>
              <a:gd name="adj3" fmla="val 1666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648320"/>
            <a:ext cx="6705360" cy="19227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RCHITECTURE example OF add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&lt;=a XOR b XOR ci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&lt;=((a XOR b) AND cin)    OR (a AND b) 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example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设计实体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14400" y="1447920"/>
          <a:ext cx="8229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229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程序的五个组成部分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 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实体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(Entity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述所设计的系统的外部接口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 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结构体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(Architecture Body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述系统内部的结构和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程序包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(Pack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放各个设计模块都能共享的数据类型、信号和常数的定义以及函数和过程的定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程序的五个组成部分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库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(Libr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放已经编译的实体、结构体、程序包和配置的定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配置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(Configu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述实体与结构体之间的连接关系，或者在分层设计中描述层与层之间的连接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48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MAXPLUSII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自动选择几何位置排列在最后的结构体作为当前结构体进行编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一、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简介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什么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DL—Hardware Description Language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描述语言—描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硬件电路的功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信号连接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定时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HDL—Very High Speed Integrated Circuit Hardware Description Language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超高速集成电路硬件描述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三、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结构体的四种描述方式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599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体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为描述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体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据流描述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体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描述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结构体的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行为描述方式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描述方式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位全加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905120"/>
            <a:ext cx="6172200" cy="4353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TITY add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RT( a, b,cin  : 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B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 ,c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: OUT  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add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RCHITECTURE behavior OF add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GNAL i : BIT_VECTOR(2 DOWNTO 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&lt;=a&amp;b&amp;c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3505320"/>
            <a:ext cx="1981080" cy="533160"/>
          </a:xfrm>
          <a:prstGeom prst="wedgeRoundRectCallout">
            <a:avLst>
              <a:gd name="adj1" fmla="val -78847"/>
              <a:gd name="adj2" fmla="val 204763"/>
              <a:gd name="adj3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部信号定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31920" y="2027160"/>
            <a:ext cx="287280" cy="2670120"/>
          </a:xfrm>
          <a:custGeom>
            <a:avLst/>
            <a:gdLst/>
            <a:ahLst/>
            <a:rect l="l" t="t" r="r" b="b"/>
            <a:pathLst>
              <a:path w="795" h="7417">
                <a:moveTo>
                  <a:pt x="4217" y="5631"/>
                </a:moveTo>
                <a:cubicBezTo>
                  <a:pt x="4204" y="5734"/>
                  <a:pt x="4177" y="5803"/>
                  <a:pt x="4142" y="5904"/>
                </a:cubicBezTo>
                <a:cubicBezTo>
                  <a:pt x="4110" y="5996"/>
                  <a:pt x="4075" y="6085"/>
                  <a:pt x="4043" y="6176"/>
                </a:cubicBezTo>
                <a:cubicBezTo>
                  <a:pt x="4013" y="6262"/>
                  <a:pt x="3980" y="6359"/>
                  <a:pt x="3969" y="6449"/>
                </a:cubicBezTo>
                <a:cubicBezTo>
                  <a:pt x="3957" y="6548"/>
                  <a:pt x="3928" y="6649"/>
                  <a:pt x="3919" y="6747"/>
                </a:cubicBezTo>
                <a:cubicBezTo>
                  <a:pt x="3891" y="7040"/>
                  <a:pt x="3924" y="7356"/>
                  <a:pt x="3944" y="7640"/>
                </a:cubicBezTo>
                <a:cubicBezTo>
                  <a:pt x="3954" y="7779"/>
                  <a:pt x="3967" y="7958"/>
                  <a:pt x="3919" y="8086"/>
                </a:cubicBezTo>
                <a:cubicBezTo>
                  <a:pt x="3881" y="8186"/>
                  <a:pt x="3890" y="8117"/>
                  <a:pt x="3845" y="8161"/>
                </a:cubicBezTo>
                <a:cubicBezTo>
                  <a:pt x="3757" y="8246"/>
                  <a:pt x="3780" y="8194"/>
                  <a:pt x="3671" y="8260"/>
                </a:cubicBezTo>
                <a:cubicBezTo>
                  <a:pt x="3608" y="8298"/>
                  <a:pt x="3431" y="8409"/>
                  <a:pt x="3423" y="8483"/>
                </a:cubicBezTo>
                <a:cubicBezTo>
                  <a:pt x="3417" y="8541"/>
                  <a:pt x="3493" y="8658"/>
                  <a:pt x="3522" y="8706"/>
                </a:cubicBezTo>
                <a:cubicBezTo>
                  <a:pt x="3564" y="8776"/>
                  <a:pt x="3633" y="8864"/>
                  <a:pt x="3671" y="8954"/>
                </a:cubicBezTo>
                <a:cubicBezTo>
                  <a:pt x="3711" y="9049"/>
                  <a:pt x="3741" y="9152"/>
                  <a:pt x="3770" y="9252"/>
                </a:cubicBezTo>
                <a:cubicBezTo>
                  <a:pt x="3801" y="9361"/>
                  <a:pt x="3795" y="9463"/>
                  <a:pt x="3795" y="9575"/>
                </a:cubicBezTo>
                <a:cubicBezTo>
                  <a:pt x="3795" y="9721"/>
                  <a:pt x="3794" y="9853"/>
                  <a:pt x="3770" y="9996"/>
                </a:cubicBezTo>
                <a:cubicBezTo>
                  <a:pt x="3753" y="10095"/>
                  <a:pt x="3711" y="10198"/>
                  <a:pt x="3696" y="10294"/>
                </a:cubicBezTo>
                <a:cubicBezTo>
                  <a:pt x="3684" y="10370"/>
                  <a:pt x="3676" y="10466"/>
                  <a:pt x="3671" y="10542"/>
                </a:cubicBezTo>
                <a:cubicBezTo>
                  <a:pt x="3663" y="10661"/>
                  <a:pt x="3613" y="11020"/>
                  <a:pt x="3696" y="11112"/>
                </a:cubicBezTo>
                <a:cubicBezTo>
                  <a:pt x="3743" y="11164"/>
                  <a:pt x="3819" y="11160"/>
                  <a:pt x="3870" y="11187"/>
                </a:cubicBezTo>
                <a:cubicBezTo>
                  <a:pt x="3926" y="11216"/>
                  <a:pt x="3872" y="11229"/>
                  <a:pt x="3944" y="11237"/>
                </a:cubicBezTo>
                <a:cubicBezTo>
                  <a:pt x="3969" y="11237"/>
                  <a:pt x="3977" y="11237"/>
                  <a:pt x="3969" y="11212"/>
                </a:cubicBezTo>
              </a:path>
              <a:path w="795" h="7417">
                <a:moveTo>
                  <a:pt x="4093" y="12105"/>
                </a:moveTo>
                <a:cubicBezTo>
                  <a:pt x="4093" y="12113"/>
                  <a:pt x="4093" y="12121"/>
                  <a:pt x="4093" y="12129"/>
                </a:cubicBezTo>
                <a:cubicBezTo>
                  <a:pt x="4052" y="12129"/>
                  <a:pt x="4010" y="12129"/>
                  <a:pt x="3969" y="12129"/>
                </a:cubicBezTo>
                <a:cubicBezTo>
                  <a:pt x="3957" y="12164"/>
                  <a:pt x="3931" y="12156"/>
                  <a:pt x="3919" y="12204"/>
                </a:cubicBezTo>
                <a:cubicBezTo>
                  <a:pt x="3880" y="12217"/>
                  <a:pt x="3909" y="12216"/>
                  <a:pt x="3870" y="12229"/>
                </a:cubicBezTo>
                <a:cubicBezTo>
                  <a:pt x="3860" y="12298"/>
                  <a:pt x="3845" y="12349"/>
                  <a:pt x="3845" y="12427"/>
                </a:cubicBezTo>
                <a:cubicBezTo>
                  <a:pt x="3845" y="12519"/>
                  <a:pt x="3844" y="12597"/>
                  <a:pt x="3870" y="12675"/>
                </a:cubicBezTo>
                <a:cubicBezTo>
                  <a:pt x="3903" y="12774"/>
                  <a:pt x="3870" y="12941"/>
                  <a:pt x="3870" y="13047"/>
                </a:cubicBezTo>
                <a:cubicBezTo>
                  <a:pt x="3870" y="13022"/>
                  <a:pt x="3870" y="13014"/>
                  <a:pt x="3870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8120" y="4653000"/>
            <a:ext cx="5803920" cy="606240"/>
          </a:xfrm>
          <a:custGeom>
            <a:avLst/>
            <a:gdLst/>
            <a:ahLst/>
            <a:rect l="l" t="t" r="r" b="b"/>
            <a:pathLst>
              <a:path w="16124" h="1688">
                <a:moveTo>
                  <a:pt x="4614" y="14263"/>
                </a:moveTo>
                <a:cubicBezTo>
                  <a:pt x="4646" y="14255"/>
                  <a:pt x="4655" y="14241"/>
                  <a:pt x="4688" y="14238"/>
                </a:cubicBezTo>
                <a:cubicBezTo>
                  <a:pt x="4746" y="14232"/>
                  <a:pt x="4754" y="14240"/>
                  <a:pt x="4812" y="14238"/>
                </a:cubicBezTo>
                <a:cubicBezTo>
                  <a:pt x="4865" y="14236"/>
                  <a:pt x="4922" y="14217"/>
                  <a:pt x="4961" y="14213"/>
                </a:cubicBezTo>
                <a:cubicBezTo>
                  <a:pt x="5972" y="14123"/>
                  <a:pt x="7057" y="14200"/>
                  <a:pt x="8062" y="14263"/>
                </a:cubicBezTo>
                <a:cubicBezTo>
                  <a:pt x="8359" y="14282"/>
                  <a:pt x="8657" y="14321"/>
                  <a:pt x="8954" y="14337"/>
                </a:cubicBezTo>
                <a:cubicBezTo>
                  <a:pt x="9121" y="14346"/>
                  <a:pt x="9283" y="14359"/>
                  <a:pt x="9451" y="14362"/>
                </a:cubicBezTo>
                <a:cubicBezTo>
                  <a:pt x="9732" y="14368"/>
                  <a:pt x="10013" y="14362"/>
                  <a:pt x="10294" y="14362"/>
                </a:cubicBezTo>
              </a:path>
              <a:path w="16124" h="1688">
                <a:moveTo>
                  <a:pt x="4465" y="14039"/>
                </a:moveTo>
                <a:cubicBezTo>
                  <a:pt x="4515" y="14094"/>
                  <a:pt x="4597" y="14233"/>
                  <a:pt x="4663" y="14288"/>
                </a:cubicBezTo>
                <a:cubicBezTo>
                  <a:pt x="4739" y="14352"/>
                  <a:pt x="4845" y="14439"/>
                  <a:pt x="4936" y="14486"/>
                </a:cubicBezTo>
                <a:cubicBezTo>
                  <a:pt x="4971" y="14504"/>
                  <a:pt x="5018" y="14523"/>
                  <a:pt x="5060" y="14511"/>
                </a:cubicBezTo>
                <a:cubicBezTo>
                  <a:pt x="5074" y="14507"/>
                  <a:pt x="5137" y="14425"/>
                  <a:pt x="5159" y="14412"/>
                </a:cubicBezTo>
                <a:cubicBezTo>
                  <a:pt x="5268" y="14349"/>
                  <a:pt x="5376" y="14276"/>
                  <a:pt x="5482" y="14213"/>
                </a:cubicBezTo>
                <a:cubicBezTo>
                  <a:pt x="5529" y="14185"/>
                  <a:pt x="5583" y="14182"/>
                  <a:pt x="5631" y="14163"/>
                </a:cubicBezTo>
                <a:cubicBezTo>
                  <a:pt x="5647" y="14156"/>
                  <a:pt x="5656" y="14134"/>
                  <a:pt x="5705" y="14139"/>
                </a:cubicBezTo>
                <a:cubicBezTo>
                  <a:pt x="5779" y="14147"/>
                  <a:pt x="5777" y="14171"/>
                  <a:pt x="5854" y="14213"/>
                </a:cubicBezTo>
                <a:cubicBezTo>
                  <a:pt x="5965" y="14274"/>
                  <a:pt x="6085" y="14366"/>
                  <a:pt x="6201" y="14412"/>
                </a:cubicBezTo>
                <a:cubicBezTo>
                  <a:pt x="6257" y="14434"/>
                  <a:pt x="6316" y="14453"/>
                  <a:pt x="6375" y="14461"/>
                </a:cubicBezTo>
                <a:cubicBezTo>
                  <a:pt x="6441" y="14470"/>
                  <a:pt x="6496" y="14459"/>
                  <a:pt x="6548" y="14436"/>
                </a:cubicBezTo>
                <a:cubicBezTo>
                  <a:pt x="6628" y="14401"/>
                  <a:pt x="6699" y="14348"/>
                  <a:pt x="6772" y="14312"/>
                </a:cubicBezTo>
                <a:cubicBezTo>
                  <a:pt x="6814" y="14291"/>
                  <a:pt x="6827" y="14253"/>
                  <a:pt x="6871" y="14238"/>
                </a:cubicBezTo>
                <a:cubicBezTo>
                  <a:pt x="6902" y="14228"/>
                  <a:pt x="6913" y="14220"/>
                  <a:pt x="6945" y="14213"/>
                </a:cubicBezTo>
                <a:cubicBezTo>
                  <a:pt x="6999" y="14201"/>
                  <a:pt x="7024" y="14227"/>
                  <a:pt x="7045" y="14238"/>
                </a:cubicBezTo>
                <a:cubicBezTo>
                  <a:pt x="7090" y="14262"/>
                  <a:pt x="7123" y="14302"/>
                  <a:pt x="7169" y="14312"/>
                </a:cubicBezTo>
                <a:cubicBezTo>
                  <a:pt x="7221" y="14323"/>
                  <a:pt x="7249" y="14296"/>
                  <a:pt x="7268" y="14288"/>
                </a:cubicBezTo>
                <a:cubicBezTo>
                  <a:pt x="7296" y="14276"/>
                  <a:pt x="7330" y="14253"/>
                  <a:pt x="7342" y="14238"/>
                </a:cubicBezTo>
                <a:cubicBezTo>
                  <a:pt x="7360" y="14214"/>
                  <a:pt x="7380" y="14170"/>
                  <a:pt x="7392" y="14163"/>
                </a:cubicBezTo>
                <a:cubicBezTo>
                  <a:pt x="7413" y="14151"/>
                  <a:pt x="7467" y="14147"/>
                  <a:pt x="7491" y="14139"/>
                </a:cubicBezTo>
                <a:cubicBezTo>
                  <a:pt x="7546" y="14121"/>
                  <a:pt x="7605" y="14116"/>
                  <a:pt x="7665" y="14114"/>
                </a:cubicBezTo>
                <a:cubicBezTo>
                  <a:pt x="7698" y="14113"/>
                  <a:pt x="7731" y="14114"/>
                  <a:pt x="7764" y="14114"/>
                </a:cubicBezTo>
              </a:path>
              <a:path w="16124" h="1688">
                <a:moveTo>
                  <a:pt x="8086" y="13990"/>
                </a:moveTo>
                <a:cubicBezTo>
                  <a:pt x="8092" y="14031"/>
                  <a:pt x="8105" y="14051"/>
                  <a:pt x="8111" y="14089"/>
                </a:cubicBezTo>
                <a:cubicBezTo>
                  <a:pt x="8119" y="14139"/>
                  <a:pt x="8149" y="14147"/>
                  <a:pt x="8161" y="14188"/>
                </a:cubicBezTo>
                <a:cubicBezTo>
                  <a:pt x="8180" y="14253"/>
                  <a:pt x="8137" y="14231"/>
                  <a:pt x="8186" y="14163"/>
                </a:cubicBezTo>
                <a:cubicBezTo>
                  <a:pt x="8217" y="14121"/>
                  <a:pt x="8208" y="14084"/>
                  <a:pt x="8235" y="14039"/>
                </a:cubicBezTo>
                <a:cubicBezTo>
                  <a:pt x="8244" y="14048"/>
                  <a:pt x="8273" y="14117"/>
                  <a:pt x="8310" y="14089"/>
                </a:cubicBezTo>
                <a:cubicBezTo>
                  <a:pt x="8349" y="14060"/>
                  <a:pt x="8374" y="14037"/>
                  <a:pt x="8384" y="13990"/>
                </a:cubicBezTo>
                <a:cubicBezTo>
                  <a:pt x="8395" y="13940"/>
                  <a:pt x="8403" y="13922"/>
                  <a:pt x="8409" y="13891"/>
                </a:cubicBezTo>
                <a:cubicBezTo>
                  <a:pt x="8456" y="13658"/>
                  <a:pt x="8422" y="13324"/>
                  <a:pt x="8384" y="13097"/>
                </a:cubicBezTo>
                <a:cubicBezTo>
                  <a:pt x="8377" y="13053"/>
                  <a:pt x="8381" y="13048"/>
                  <a:pt x="8359" y="13022"/>
                </a:cubicBezTo>
                <a:cubicBezTo>
                  <a:pt x="8337" y="12995"/>
                  <a:pt x="8352" y="12985"/>
                  <a:pt x="8334" y="12948"/>
                </a:cubicBezTo>
                <a:cubicBezTo>
                  <a:pt x="8325" y="12929"/>
                  <a:pt x="8292" y="12925"/>
                  <a:pt x="8260" y="12923"/>
                </a:cubicBezTo>
                <a:cubicBezTo>
                  <a:pt x="8205" y="12920"/>
                  <a:pt x="8178" y="12940"/>
                  <a:pt x="8136" y="12948"/>
                </a:cubicBezTo>
                <a:cubicBezTo>
                  <a:pt x="8104" y="12954"/>
                  <a:pt x="8094" y="12966"/>
                  <a:pt x="8062" y="12973"/>
                </a:cubicBezTo>
                <a:cubicBezTo>
                  <a:pt x="7988" y="12988"/>
                  <a:pt x="8007" y="13005"/>
                  <a:pt x="7962" y="13072"/>
                </a:cubicBezTo>
                <a:cubicBezTo>
                  <a:pt x="7931" y="13118"/>
                  <a:pt x="7920" y="13157"/>
                  <a:pt x="7888" y="13196"/>
                </a:cubicBezTo>
                <a:cubicBezTo>
                  <a:pt x="7874" y="13213"/>
                  <a:pt x="7814" y="13292"/>
                  <a:pt x="7813" y="13295"/>
                </a:cubicBezTo>
                <a:cubicBezTo>
                  <a:pt x="7799" y="13329"/>
                  <a:pt x="7791" y="13383"/>
                  <a:pt x="7789" y="13419"/>
                </a:cubicBezTo>
                <a:cubicBezTo>
                  <a:pt x="7781" y="13599"/>
                  <a:pt x="7781" y="13800"/>
                  <a:pt x="7813" y="13965"/>
                </a:cubicBezTo>
                <a:cubicBezTo>
                  <a:pt x="7820" y="14003"/>
                  <a:pt x="7813" y="14050"/>
                  <a:pt x="7813" y="14089"/>
                </a:cubicBezTo>
              </a:path>
              <a:path w="16124" h="1688">
                <a:moveTo>
                  <a:pt x="8930" y="14064"/>
                </a:moveTo>
                <a:cubicBezTo>
                  <a:pt x="8942" y="14071"/>
                  <a:pt x="8978" y="14099"/>
                  <a:pt x="9004" y="14114"/>
                </a:cubicBezTo>
                <a:cubicBezTo>
                  <a:pt x="9074" y="14152"/>
                  <a:pt x="9048" y="14151"/>
                  <a:pt x="9128" y="14163"/>
                </a:cubicBezTo>
                <a:cubicBezTo>
                  <a:pt x="9874" y="14274"/>
                  <a:pt x="10763" y="14188"/>
                  <a:pt x="11509" y="14188"/>
                </a:cubicBezTo>
                <a:cubicBezTo>
                  <a:pt x="11735" y="14188"/>
                  <a:pt x="11955" y="14208"/>
                  <a:pt x="12179" y="14213"/>
                </a:cubicBezTo>
                <a:cubicBezTo>
                  <a:pt x="12955" y="14230"/>
                  <a:pt x="13734" y="14213"/>
                  <a:pt x="14511" y="14213"/>
                </a:cubicBezTo>
              </a:path>
              <a:path w="16124" h="1688">
                <a:moveTo>
                  <a:pt x="14833" y="14362"/>
                </a:moveTo>
                <a:cubicBezTo>
                  <a:pt x="14866" y="14389"/>
                  <a:pt x="14933" y="14454"/>
                  <a:pt x="14982" y="14486"/>
                </a:cubicBezTo>
                <a:cubicBezTo>
                  <a:pt x="15042" y="14526"/>
                  <a:pt x="15113" y="14594"/>
                  <a:pt x="15180" y="14610"/>
                </a:cubicBezTo>
                <a:cubicBezTo>
                  <a:pt x="15273" y="14632"/>
                  <a:pt x="15391" y="14602"/>
                  <a:pt x="15478" y="14585"/>
                </a:cubicBezTo>
                <a:cubicBezTo>
                  <a:pt x="15653" y="14551"/>
                  <a:pt x="15785" y="14478"/>
                  <a:pt x="15949" y="14412"/>
                </a:cubicBezTo>
                <a:cubicBezTo>
                  <a:pt x="16065" y="14366"/>
                  <a:pt x="16182" y="14320"/>
                  <a:pt x="16297" y="14288"/>
                </a:cubicBezTo>
                <a:cubicBezTo>
                  <a:pt x="16378" y="14265"/>
                  <a:pt x="16486" y="14244"/>
                  <a:pt x="16570" y="14238"/>
                </a:cubicBezTo>
                <a:cubicBezTo>
                  <a:pt x="16729" y="14227"/>
                  <a:pt x="16887" y="14250"/>
                  <a:pt x="17041" y="14288"/>
                </a:cubicBezTo>
                <a:cubicBezTo>
                  <a:pt x="17124" y="14309"/>
                  <a:pt x="17213" y="14326"/>
                  <a:pt x="17289" y="14362"/>
                </a:cubicBezTo>
                <a:cubicBezTo>
                  <a:pt x="17325" y="14379"/>
                  <a:pt x="17411" y="14419"/>
                  <a:pt x="17438" y="14436"/>
                </a:cubicBezTo>
                <a:cubicBezTo>
                  <a:pt x="17530" y="14495"/>
                  <a:pt x="17580" y="14562"/>
                  <a:pt x="17686" y="14585"/>
                </a:cubicBezTo>
                <a:cubicBezTo>
                  <a:pt x="17792" y="14609"/>
                  <a:pt x="17959" y="14594"/>
                  <a:pt x="18058" y="14560"/>
                </a:cubicBezTo>
                <a:cubicBezTo>
                  <a:pt x="18200" y="14512"/>
                  <a:pt x="18335" y="14411"/>
                  <a:pt x="18479" y="14362"/>
                </a:cubicBezTo>
                <a:cubicBezTo>
                  <a:pt x="18635" y="14309"/>
                  <a:pt x="18836" y="14279"/>
                  <a:pt x="19000" y="14263"/>
                </a:cubicBezTo>
                <a:cubicBezTo>
                  <a:pt x="19257" y="14239"/>
                  <a:pt x="19542" y="14260"/>
                  <a:pt x="19794" y="14288"/>
                </a:cubicBezTo>
                <a:cubicBezTo>
                  <a:pt x="19870" y="14297"/>
                  <a:pt x="19904" y="14319"/>
                  <a:pt x="19968" y="14337"/>
                </a:cubicBezTo>
                <a:cubicBezTo>
                  <a:pt x="20002" y="14347"/>
                  <a:pt x="20034" y="14357"/>
                  <a:pt x="20067" y="14362"/>
                </a:cubicBezTo>
                <a:cubicBezTo>
                  <a:pt x="20130" y="14372"/>
                  <a:pt x="20096" y="14361"/>
                  <a:pt x="20141" y="14362"/>
                </a:cubicBezTo>
                <a:cubicBezTo>
                  <a:pt x="20257" y="14366"/>
                  <a:pt x="20529" y="14362"/>
                  <a:pt x="20563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87680" y="5680080"/>
            <a:ext cx="1625400" cy="490680"/>
          </a:xfrm>
          <a:custGeom>
            <a:avLst/>
            <a:gdLst/>
            <a:ahLst/>
            <a:rect l="l" t="t" r="r" b="b"/>
            <a:pathLst>
              <a:path w="4516" h="1365">
                <a:moveTo>
                  <a:pt x="4688" y="15801"/>
                </a:moveTo>
                <a:cubicBezTo>
                  <a:pt x="5723" y="15801"/>
                  <a:pt x="6786" y="15870"/>
                  <a:pt x="7813" y="15776"/>
                </a:cubicBezTo>
                <a:cubicBezTo>
                  <a:pt x="7871" y="15776"/>
                  <a:pt x="7880" y="15776"/>
                  <a:pt x="7913" y="15776"/>
                </a:cubicBezTo>
              </a:path>
              <a:path w="4516" h="1365">
                <a:moveTo>
                  <a:pt x="5680" y="17140"/>
                </a:moveTo>
                <a:cubicBezTo>
                  <a:pt x="5887" y="17140"/>
                  <a:pt x="6093" y="17140"/>
                  <a:pt x="6300" y="17140"/>
                </a:cubicBezTo>
              </a:path>
              <a:path w="4516" h="1365">
                <a:moveTo>
                  <a:pt x="6796" y="17115"/>
                </a:moveTo>
                <a:cubicBezTo>
                  <a:pt x="7127" y="17115"/>
                  <a:pt x="7458" y="17115"/>
                  <a:pt x="7789" y="17115"/>
                </a:cubicBezTo>
              </a:path>
              <a:path w="4516" h="1365">
                <a:moveTo>
                  <a:pt x="8235" y="17066"/>
                </a:moveTo>
                <a:lnTo>
                  <a:pt x="8235" y="17066"/>
                </a:lnTo>
              </a:path>
              <a:path w="4516" h="1365">
                <a:moveTo>
                  <a:pt x="6052" y="17140"/>
                </a:moveTo>
                <a:cubicBezTo>
                  <a:pt x="6857" y="17140"/>
                  <a:pt x="7685" y="17193"/>
                  <a:pt x="8483" y="17115"/>
                </a:cubicBezTo>
                <a:cubicBezTo>
                  <a:pt x="8718" y="17092"/>
                  <a:pt x="8966" y="17115"/>
                  <a:pt x="9203" y="17115"/>
                </a:cubicBezTo>
              </a:path>
              <a:path w="4516" h="1365">
                <a:moveTo>
                  <a:pt x="4762" y="17090"/>
                </a:moveTo>
                <a:cubicBezTo>
                  <a:pt x="5144" y="17090"/>
                  <a:pt x="5524" y="17094"/>
                  <a:pt x="5904" y="17115"/>
                </a:cubicBezTo>
                <a:cubicBezTo>
                  <a:pt x="6003" y="17115"/>
                  <a:pt x="6019" y="17115"/>
                  <a:pt x="6077" y="17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06880" y="4054320"/>
            <a:ext cx="1332000" cy="517680"/>
          </a:xfrm>
          <a:custGeom>
            <a:avLst/>
            <a:gdLst/>
            <a:ahLst/>
            <a:rect l="l" t="t" r="r" b="b"/>
            <a:pathLst>
              <a:path w="3697" h="1440">
                <a:moveTo>
                  <a:pt x="11733" y="12551"/>
                </a:moveTo>
                <a:cubicBezTo>
                  <a:pt x="12609" y="12551"/>
                  <a:pt x="13490" y="12526"/>
                  <a:pt x="14362" y="12576"/>
                </a:cubicBezTo>
                <a:cubicBezTo>
                  <a:pt x="14567" y="12588"/>
                  <a:pt x="14776" y="12576"/>
                  <a:pt x="14982" y="12576"/>
                </a:cubicBezTo>
                <a:cubicBezTo>
                  <a:pt x="14990" y="12516"/>
                  <a:pt x="14988" y="12478"/>
                  <a:pt x="15007" y="12427"/>
                </a:cubicBezTo>
                <a:cubicBezTo>
                  <a:pt x="15037" y="12347"/>
                  <a:pt x="15094" y="12263"/>
                  <a:pt x="15106" y="12179"/>
                </a:cubicBezTo>
                <a:cubicBezTo>
                  <a:pt x="15136" y="11964"/>
                  <a:pt x="15129" y="11641"/>
                  <a:pt x="15081" y="11435"/>
                </a:cubicBezTo>
                <a:cubicBezTo>
                  <a:pt x="15078" y="11422"/>
                  <a:pt x="15068" y="11270"/>
                  <a:pt x="15056" y="11261"/>
                </a:cubicBezTo>
                <a:cubicBezTo>
                  <a:pt x="14864" y="11116"/>
                  <a:pt x="14153" y="11288"/>
                  <a:pt x="13940" y="11311"/>
                </a:cubicBezTo>
                <a:cubicBezTo>
                  <a:pt x="13261" y="11383"/>
                  <a:pt x="12490" y="11340"/>
                  <a:pt x="11807" y="11286"/>
                </a:cubicBezTo>
                <a:cubicBezTo>
                  <a:pt x="11699" y="11277"/>
                  <a:pt x="11555" y="11291"/>
                  <a:pt x="11485" y="11311"/>
                </a:cubicBezTo>
                <a:cubicBezTo>
                  <a:pt x="11397" y="11336"/>
                  <a:pt x="11435" y="11285"/>
                  <a:pt x="11410" y="11361"/>
                </a:cubicBezTo>
                <a:cubicBezTo>
                  <a:pt x="11291" y="11726"/>
                  <a:pt x="11410" y="12308"/>
                  <a:pt x="11410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结构体的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行为描述方式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1371600"/>
            <a:ext cx="7543800" cy="52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CESS(a,b,c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SE 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"000" =&gt;s&lt;='0'; co&lt;='0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"001" =&gt;s&lt;='1'; co&lt;='0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"010" =&gt;s&lt;='1'; co&lt;='0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"011" =&gt;s&lt;='0'; co&lt;='1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"100" =&gt;s&lt;='1'; co&lt;='0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"101" =&gt;s&lt;='0'; co&lt;='1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"110" =&gt;s&lt;='0'; co&lt;='1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OTHERS =&gt; s&lt;='1'; co&lt;='1'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C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PROCES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behavior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1795320"/>
            <a:ext cx="2384280" cy="669960"/>
          </a:xfrm>
          <a:custGeom>
            <a:avLst/>
            <a:gdLst/>
            <a:ahLst/>
            <a:rect l="l" t="t" r="r" b="b"/>
            <a:pathLst>
              <a:path w="6623" h="1861">
                <a:moveTo>
                  <a:pt x="3845" y="5085"/>
                </a:moveTo>
                <a:cubicBezTo>
                  <a:pt x="4280" y="5085"/>
                  <a:pt x="4708" y="5084"/>
                  <a:pt x="5135" y="5035"/>
                </a:cubicBezTo>
                <a:cubicBezTo>
                  <a:pt x="5524" y="4991"/>
                  <a:pt x="5918" y="5044"/>
                  <a:pt x="6300" y="4986"/>
                </a:cubicBezTo>
                <a:cubicBezTo>
                  <a:pt x="6695" y="4926"/>
                  <a:pt x="7160" y="4986"/>
                  <a:pt x="7565" y="4986"/>
                </a:cubicBezTo>
              </a:path>
              <a:path w="6623" h="1861">
                <a:moveTo>
                  <a:pt x="1414" y="6276"/>
                </a:moveTo>
                <a:cubicBezTo>
                  <a:pt x="1414" y="6234"/>
                  <a:pt x="1408" y="6223"/>
                  <a:pt x="1389" y="6201"/>
                </a:cubicBezTo>
                <a:cubicBezTo>
                  <a:pt x="1348" y="6154"/>
                  <a:pt x="1333" y="6121"/>
                  <a:pt x="1290" y="6077"/>
                </a:cubicBezTo>
                <a:cubicBezTo>
                  <a:pt x="1264" y="6051"/>
                  <a:pt x="1240" y="6031"/>
                  <a:pt x="1215" y="6028"/>
                </a:cubicBezTo>
                <a:cubicBezTo>
                  <a:pt x="1151" y="6020"/>
                  <a:pt x="1128" y="6096"/>
                  <a:pt x="1116" y="6127"/>
                </a:cubicBezTo>
                <a:cubicBezTo>
                  <a:pt x="1108" y="6148"/>
                  <a:pt x="1049" y="6268"/>
                  <a:pt x="1042" y="6276"/>
                </a:cubicBezTo>
                <a:cubicBezTo>
                  <a:pt x="1027" y="6293"/>
                  <a:pt x="978" y="6332"/>
                  <a:pt x="967" y="6375"/>
                </a:cubicBezTo>
                <a:cubicBezTo>
                  <a:pt x="956" y="6419"/>
                  <a:pt x="943" y="6452"/>
                  <a:pt x="943" y="6499"/>
                </a:cubicBezTo>
                <a:cubicBezTo>
                  <a:pt x="943" y="6524"/>
                  <a:pt x="943" y="6532"/>
                  <a:pt x="943" y="6548"/>
                </a:cubicBezTo>
                <a:cubicBezTo>
                  <a:pt x="1000" y="6548"/>
                  <a:pt x="1015" y="6544"/>
                  <a:pt x="1042" y="6524"/>
                </a:cubicBezTo>
                <a:cubicBezTo>
                  <a:pt x="1061" y="6510"/>
                  <a:pt x="1132" y="6463"/>
                  <a:pt x="1141" y="6449"/>
                </a:cubicBezTo>
                <a:cubicBezTo>
                  <a:pt x="1168" y="6408"/>
                  <a:pt x="1144" y="6407"/>
                  <a:pt x="1191" y="6375"/>
                </a:cubicBezTo>
                <a:cubicBezTo>
                  <a:pt x="1209" y="6363"/>
                  <a:pt x="1264" y="6302"/>
                  <a:pt x="1265" y="6300"/>
                </a:cubicBezTo>
                <a:cubicBezTo>
                  <a:pt x="1269" y="6293"/>
                  <a:pt x="1265" y="6181"/>
                  <a:pt x="1265" y="6251"/>
                </a:cubicBezTo>
                <a:cubicBezTo>
                  <a:pt x="1265" y="6302"/>
                  <a:pt x="1266" y="6309"/>
                  <a:pt x="1290" y="6350"/>
                </a:cubicBezTo>
                <a:cubicBezTo>
                  <a:pt x="1318" y="6399"/>
                  <a:pt x="1344" y="6453"/>
                  <a:pt x="1364" y="6499"/>
                </a:cubicBezTo>
                <a:cubicBezTo>
                  <a:pt x="1370" y="6513"/>
                  <a:pt x="1425" y="6591"/>
                  <a:pt x="1439" y="6573"/>
                </a:cubicBezTo>
                <a:cubicBezTo>
                  <a:pt x="1455" y="6552"/>
                  <a:pt x="1454" y="6550"/>
                  <a:pt x="1463" y="6524"/>
                </a:cubicBezTo>
              </a:path>
              <a:path w="6623" h="1861">
                <a:moveTo>
                  <a:pt x="2133" y="6102"/>
                </a:moveTo>
                <a:cubicBezTo>
                  <a:pt x="2133" y="6266"/>
                  <a:pt x="2139" y="6474"/>
                  <a:pt x="2108" y="6598"/>
                </a:cubicBezTo>
                <a:cubicBezTo>
                  <a:pt x="2108" y="6615"/>
                  <a:pt x="2108" y="6631"/>
                  <a:pt x="2108" y="6648"/>
                </a:cubicBezTo>
                <a:cubicBezTo>
                  <a:pt x="2108" y="6712"/>
                  <a:pt x="2108" y="6609"/>
                  <a:pt x="2108" y="6598"/>
                </a:cubicBezTo>
                <a:cubicBezTo>
                  <a:pt x="2108" y="6552"/>
                  <a:pt x="2102" y="6534"/>
                  <a:pt x="2133" y="6499"/>
                </a:cubicBezTo>
                <a:cubicBezTo>
                  <a:pt x="2178" y="6449"/>
                  <a:pt x="2233" y="6420"/>
                  <a:pt x="2282" y="6375"/>
                </a:cubicBezTo>
                <a:cubicBezTo>
                  <a:pt x="2294" y="6364"/>
                  <a:pt x="2361" y="6325"/>
                  <a:pt x="2381" y="6350"/>
                </a:cubicBezTo>
                <a:cubicBezTo>
                  <a:pt x="2400" y="6373"/>
                  <a:pt x="2406" y="6382"/>
                  <a:pt x="2406" y="6424"/>
                </a:cubicBezTo>
                <a:cubicBezTo>
                  <a:pt x="2406" y="6457"/>
                  <a:pt x="2406" y="6491"/>
                  <a:pt x="2406" y="6524"/>
                </a:cubicBezTo>
                <a:cubicBezTo>
                  <a:pt x="2357" y="6524"/>
                  <a:pt x="2347" y="6535"/>
                  <a:pt x="2307" y="6548"/>
                </a:cubicBezTo>
                <a:cubicBezTo>
                  <a:pt x="2247" y="6567"/>
                  <a:pt x="2205" y="6535"/>
                  <a:pt x="2183" y="6524"/>
                </a:cubicBezTo>
                <a:cubicBezTo>
                  <a:pt x="2139" y="6503"/>
                  <a:pt x="2151" y="6451"/>
                  <a:pt x="2183" y="6400"/>
                </a:cubicBezTo>
                <a:cubicBezTo>
                  <a:pt x="2191" y="6392"/>
                  <a:pt x="2200" y="6383"/>
                  <a:pt x="2208" y="6375"/>
                </a:cubicBezTo>
              </a:path>
              <a:path w="6623" h="1861">
                <a:moveTo>
                  <a:pt x="2927" y="6300"/>
                </a:moveTo>
                <a:cubicBezTo>
                  <a:pt x="2927" y="6251"/>
                  <a:pt x="2927" y="6201"/>
                  <a:pt x="2927" y="6152"/>
                </a:cubicBezTo>
                <a:cubicBezTo>
                  <a:pt x="2870" y="6152"/>
                  <a:pt x="2859" y="6164"/>
                  <a:pt x="2853" y="6226"/>
                </a:cubicBezTo>
                <a:cubicBezTo>
                  <a:pt x="2840" y="6356"/>
                  <a:pt x="2853" y="6493"/>
                  <a:pt x="2853" y="6623"/>
                </a:cubicBezTo>
                <a:cubicBezTo>
                  <a:pt x="2909" y="6623"/>
                  <a:pt x="2932" y="6624"/>
                  <a:pt x="2977" y="6598"/>
                </a:cubicBezTo>
                <a:cubicBezTo>
                  <a:pt x="3033" y="6565"/>
                  <a:pt x="3103" y="6532"/>
                  <a:pt x="3150" y="6499"/>
                </a:cubicBezTo>
                <a:cubicBezTo>
                  <a:pt x="3186" y="6474"/>
                  <a:pt x="3175" y="6439"/>
                  <a:pt x="3175" y="6400"/>
                </a:cubicBezTo>
                <a:cubicBezTo>
                  <a:pt x="3175" y="6375"/>
                  <a:pt x="3175" y="6367"/>
                  <a:pt x="3175" y="6350"/>
                </a:cubicBezTo>
              </a:path>
              <a:path w="6623" h="1861">
                <a:moveTo>
                  <a:pt x="3175" y="6350"/>
                </a:moveTo>
                <a:cubicBezTo>
                  <a:pt x="3175" y="6415"/>
                  <a:pt x="3175" y="6619"/>
                  <a:pt x="3175" y="6598"/>
                </a:cubicBezTo>
                <a:cubicBezTo>
                  <a:pt x="3175" y="6573"/>
                  <a:pt x="3175" y="6565"/>
                  <a:pt x="3175" y="6548"/>
                </a:cubicBezTo>
              </a:path>
              <a:path w="6623" h="1861">
                <a:moveTo>
                  <a:pt x="3225" y="6102"/>
                </a:moveTo>
                <a:cubicBezTo>
                  <a:pt x="3225" y="6127"/>
                  <a:pt x="3225" y="6135"/>
                  <a:pt x="3225" y="6152"/>
                </a:cubicBezTo>
                <a:cubicBezTo>
                  <a:pt x="3274" y="6164"/>
                  <a:pt x="3274" y="6176"/>
                  <a:pt x="3274" y="6226"/>
                </a:cubicBezTo>
              </a:path>
              <a:path w="6623" h="1861">
                <a:moveTo>
                  <a:pt x="3448" y="6251"/>
                </a:moveTo>
                <a:cubicBezTo>
                  <a:pt x="3448" y="6342"/>
                  <a:pt x="3448" y="6433"/>
                  <a:pt x="3448" y="6524"/>
                </a:cubicBezTo>
                <a:cubicBezTo>
                  <a:pt x="3425" y="6516"/>
                  <a:pt x="3409" y="6481"/>
                  <a:pt x="3398" y="6449"/>
                </a:cubicBezTo>
                <a:cubicBezTo>
                  <a:pt x="3387" y="6415"/>
                  <a:pt x="3398" y="6360"/>
                  <a:pt x="3398" y="6325"/>
                </a:cubicBezTo>
                <a:cubicBezTo>
                  <a:pt x="3426" y="6320"/>
                  <a:pt x="3481" y="6301"/>
                  <a:pt x="3497" y="6276"/>
                </a:cubicBezTo>
                <a:cubicBezTo>
                  <a:pt x="3507" y="6260"/>
                  <a:pt x="3532" y="6229"/>
                  <a:pt x="3572" y="6251"/>
                </a:cubicBezTo>
                <a:cubicBezTo>
                  <a:pt x="3586" y="6259"/>
                  <a:pt x="3639" y="6334"/>
                  <a:pt x="3646" y="6350"/>
                </a:cubicBezTo>
                <a:cubicBezTo>
                  <a:pt x="3669" y="6403"/>
                  <a:pt x="3633" y="6441"/>
                  <a:pt x="3671" y="6499"/>
                </a:cubicBezTo>
                <a:cubicBezTo>
                  <a:pt x="3709" y="6556"/>
                  <a:pt x="3721" y="6577"/>
                  <a:pt x="3721" y="6648"/>
                </a:cubicBezTo>
                <a:cubicBezTo>
                  <a:pt x="3721" y="6672"/>
                  <a:pt x="3721" y="6681"/>
                  <a:pt x="3721" y="6697"/>
                </a:cubicBezTo>
                <a:cubicBezTo>
                  <a:pt x="3650" y="6697"/>
                  <a:pt x="3686" y="6683"/>
                  <a:pt x="3646" y="6623"/>
                </a:cubicBezTo>
                <a:cubicBezTo>
                  <a:pt x="3638" y="6615"/>
                  <a:pt x="3629" y="6606"/>
                  <a:pt x="3621" y="6598"/>
                </a:cubicBezTo>
              </a:path>
              <a:path w="6623" h="1861">
                <a:moveTo>
                  <a:pt x="4986" y="6300"/>
                </a:moveTo>
                <a:cubicBezTo>
                  <a:pt x="4943" y="6300"/>
                  <a:pt x="4926" y="6305"/>
                  <a:pt x="4911" y="6350"/>
                </a:cubicBezTo>
                <a:cubicBezTo>
                  <a:pt x="4893" y="6404"/>
                  <a:pt x="4912" y="6483"/>
                  <a:pt x="4936" y="6524"/>
                </a:cubicBezTo>
                <a:cubicBezTo>
                  <a:pt x="4973" y="6588"/>
                  <a:pt x="4982" y="6644"/>
                  <a:pt x="5035" y="6697"/>
                </a:cubicBezTo>
                <a:cubicBezTo>
                  <a:pt x="5073" y="6735"/>
                  <a:pt x="5085" y="6743"/>
                  <a:pt x="5085" y="6796"/>
                </a:cubicBezTo>
                <a:cubicBezTo>
                  <a:pt x="5085" y="6821"/>
                  <a:pt x="5085" y="6829"/>
                  <a:pt x="5085" y="6846"/>
                </a:cubicBezTo>
                <a:cubicBezTo>
                  <a:pt x="5029" y="6846"/>
                  <a:pt x="5011" y="6833"/>
                  <a:pt x="4986" y="6821"/>
                </a:cubicBezTo>
                <a:cubicBezTo>
                  <a:pt x="4959" y="6807"/>
                  <a:pt x="4951" y="6785"/>
                  <a:pt x="4911" y="6772"/>
                </a:cubicBezTo>
                <a:cubicBezTo>
                  <a:pt x="4880" y="6762"/>
                  <a:pt x="4872" y="6753"/>
                  <a:pt x="4862" y="6722"/>
                </a:cubicBezTo>
              </a:path>
              <a:path w="6623" h="1861">
                <a:moveTo>
                  <a:pt x="5556" y="6499"/>
                </a:moveTo>
                <a:cubicBezTo>
                  <a:pt x="5556" y="6565"/>
                  <a:pt x="5556" y="6631"/>
                  <a:pt x="5556" y="6697"/>
                </a:cubicBezTo>
                <a:cubicBezTo>
                  <a:pt x="5614" y="6697"/>
                  <a:pt x="5595" y="6689"/>
                  <a:pt x="5631" y="6648"/>
                </a:cubicBezTo>
                <a:cubicBezTo>
                  <a:pt x="5681" y="6592"/>
                  <a:pt x="5760" y="6590"/>
                  <a:pt x="5804" y="6524"/>
                </a:cubicBezTo>
                <a:cubicBezTo>
                  <a:pt x="5829" y="6486"/>
                  <a:pt x="5854" y="6480"/>
                  <a:pt x="5854" y="6424"/>
                </a:cubicBezTo>
                <a:cubicBezTo>
                  <a:pt x="5854" y="6416"/>
                  <a:pt x="5854" y="6408"/>
                  <a:pt x="5854" y="6400"/>
                </a:cubicBezTo>
              </a:path>
              <a:path w="6623" h="1861">
                <a:moveTo>
                  <a:pt x="5904" y="6400"/>
                </a:moveTo>
                <a:cubicBezTo>
                  <a:pt x="5904" y="6454"/>
                  <a:pt x="5883" y="6494"/>
                  <a:pt x="5879" y="6548"/>
                </a:cubicBezTo>
                <a:cubicBezTo>
                  <a:pt x="5875" y="6605"/>
                  <a:pt x="5879" y="6665"/>
                  <a:pt x="5879" y="6722"/>
                </a:cubicBezTo>
                <a:cubicBezTo>
                  <a:pt x="5937" y="6722"/>
                  <a:pt x="5932" y="6701"/>
                  <a:pt x="5978" y="6672"/>
                </a:cubicBezTo>
                <a:cubicBezTo>
                  <a:pt x="6007" y="6654"/>
                  <a:pt x="6087" y="6628"/>
                  <a:pt x="6102" y="6598"/>
                </a:cubicBezTo>
                <a:cubicBezTo>
                  <a:pt x="6131" y="6540"/>
                  <a:pt x="6088" y="6423"/>
                  <a:pt x="6077" y="6400"/>
                </a:cubicBezTo>
                <a:cubicBezTo>
                  <a:pt x="6062" y="6371"/>
                  <a:pt x="6058" y="6360"/>
                  <a:pt x="6028" y="6325"/>
                </a:cubicBezTo>
                <a:cubicBezTo>
                  <a:pt x="6006" y="6299"/>
                  <a:pt x="5976" y="6279"/>
                  <a:pt x="5953" y="6276"/>
                </a:cubicBezTo>
                <a:cubicBezTo>
                  <a:pt x="5903" y="6270"/>
                  <a:pt x="5870" y="6279"/>
                  <a:pt x="5829" y="6300"/>
                </a:cubicBezTo>
                <a:cubicBezTo>
                  <a:pt x="5779" y="6325"/>
                  <a:pt x="5763" y="6333"/>
                  <a:pt x="5730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52880" y="2500200"/>
            <a:ext cx="1490400" cy="366840"/>
          </a:xfrm>
          <a:custGeom>
            <a:avLst/>
            <a:gdLst/>
            <a:ahLst/>
            <a:rect l="l" t="t" r="r" b="b"/>
            <a:pathLst>
              <a:path w="4143" h="1018">
                <a:moveTo>
                  <a:pt x="8756" y="6945"/>
                </a:moveTo>
                <a:cubicBezTo>
                  <a:pt x="9072" y="6945"/>
                  <a:pt x="9385" y="6965"/>
                  <a:pt x="9699" y="6970"/>
                </a:cubicBezTo>
                <a:cubicBezTo>
                  <a:pt x="9900" y="6974"/>
                  <a:pt x="10095" y="6981"/>
                  <a:pt x="10294" y="6995"/>
                </a:cubicBezTo>
                <a:cubicBezTo>
                  <a:pt x="10426" y="7004"/>
                  <a:pt x="10559" y="7016"/>
                  <a:pt x="10691" y="7020"/>
                </a:cubicBezTo>
                <a:cubicBezTo>
                  <a:pt x="10856" y="7025"/>
                  <a:pt x="11022" y="7020"/>
                  <a:pt x="11187" y="7020"/>
                </a:cubicBezTo>
              </a:path>
              <a:path w="4143" h="1018">
                <a:moveTo>
                  <a:pt x="11782" y="7962"/>
                </a:moveTo>
                <a:cubicBezTo>
                  <a:pt x="11879" y="7962"/>
                  <a:pt x="11964" y="7952"/>
                  <a:pt x="12055" y="7938"/>
                </a:cubicBezTo>
                <a:cubicBezTo>
                  <a:pt x="12164" y="7921"/>
                  <a:pt x="12870" y="8000"/>
                  <a:pt x="12898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49920" y="2840040"/>
            <a:ext cx="179280" cy="9360"/>
          </a:xfrm>
          <a:custGeom>
            <a:avLst/>
            <a:gdLst/>
            <a:ahLst/>
            <a:rect l="l" t="t" r="r" b="b"/>
            <a:pathLst>
              <a:path w="497" h="26">
                <a:moveTo>
                  <a:pt x="15974" y="7913"/>
                </a:moveTo>
                <a:cubicBezTo>
                  <a:pt x="16007" y="7913"/>
                  <a:pt x="16040" y="7913"/>
                  <a:pt x="16073" y="7913"/>
                </a:cubicBezTo>
                <a:cubicBezTo>
                  <a:pt x="16087" y="7871"/>
                  <a:pt x="16122" y="7888"/>
                  <a:pt x="16173" y="7888"/>
                </a:cubicBezTo>
                <a:cubicBezTo>
                  <a:pt x="16272" y="7888"/>
                  <a:pt x="16371" y="7888"/>
                  <a:pt x="16470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8280" y="2035080"/>
            <a:ext cx="2374920" cy="2840040"/>
          </a:xfrm>
          <a:custGeom>
            <a:avLst/>
            <a:gdLst/>
            <a:ahLst/>
            <a:rect l="l" t="t" r="r" b="b"/>
            <a:pathLst>
              <a:path w="6599" h="7889">
                <a:moveTo>
                  <a:pt x="6449" y="9426"/>
                </a:moveTo>
                <a:cubicBezTo>
                  <a:pt x="6499" y="9426"/>
                  <a:pt x="6548" y="9426"/>
                  <a:pt x="6598" y="9426"/>
                </a:cubicBezTo>
              </a:path>
              <a:path w="6599" h="7889">
                <a:moveTo>
                  <a:pt x="4366" y="5655"/>
                </a:moveTo>
                <a:cubicBezTo>
                  <a:pt x="4366" y="6057"/>
                  <a:pt x="4422" y="6424"/>
                  <a:pt x="4490" y="6821"/>
                </a:cubicBezTo>
                <a:cubicBezTo>
                  <a:pt x="4556" y="7206"/>
                  <a:pt x="4657" y="7583"/>
                  <a:pt x="4738" y="7962"/>
                </a:cubicBezTo>
                <a:cubicBezTo>
                  <a:pt x="4807" y="8284"/>
                  <a:pt x="4838" y="8578"/>
                  <a:pt x="4862" y="8905"/>
                </a:cubicBezTo>
                <a:cubicBezTo>
                  <a:pt x="4885" y="9210"/>
                  <a:pt x="4885" y="9519"/>
                  <a:pt x="4911" y="9823"/>
                </a:cubicBezTo>
                <a:cubicBezTo>
                  <a:pt x="4932" y="10070"/>
                  <a:pt x="4951" y="10320"/>
                  <a:pt x="4961" y="10567"/>
                </a:cubicBezTo>
                <a:cubicBezTo>
                  <a:pt x="4972" y="10849"/>
                  <a:pt x="4950" y="11132"/>
                  <a:pt x="4936" y="11410"/>
                </a:cubicBezTo>
                <a:cubicBezTo>
                  <a:pt x="4931" y="11507"/>
                  <a:pt x="4924" y="11589"/>
                  <a:pt x="4911" y="11683"/>
                </a:cubicBezTo>
                <a:cubicBezTo>
                  <a:pt x="4895" y="11798"/>
                  <a:pt x="4879" y="11914"/>
                  <a:pt x="4862" y="12030"/>
                </a:cubicBezTo>
                <a:cubicBezTo>
                  <a:pt x="4849" y="12121"/>
                  <a:pt x="4842" y="12210"/>
                  <a:pt x="4837" y="12303"/>
                </a:cubicBezTo>
                <a:cubicBezTo>
                  <a:pt x="4832" y="12400"/>
                  <a:pt x="4818" y="12483"/>
                  <a:pt x="4812" y="12576"/>
                </a:cubicBezTo>
                <a:cubicBezTo>
                  <a:pt x="4807" y="12665"/>
                  <a:pt x="4791" y="12775"/>
                  <a:pt x="4787" y="12849"/>
                </a:cubicBezTo>
                <a:cubicBezTo>
                  <a:pt x="4779" y="13003"/>
                  <a:pt x="4769" y="13182"/>
                  <a:pt x="4762" y="13320"/>
                </a:cubicBezTo>
                <a:cubicBezTo>
                  <a:pt x="4758" y="13395"/>
                  <a:pt x="4746" y="13504"/>
                  <a:pt x="4738" y="13543"/>
                </a:cubicBezTo>
                <a:cubicBezTo>
                  <a:pt x="4725" y="13510"/>
                  <a:pt x="4728" y="13511"/>
                  <a:pt x="4713" y="13469"/>
                </a:cubicBezTo>
                <a:cubicBezTo>
                  <a:pt x="4705" y="13452"/>
                  <a:pt x="4696" y="13436"/>
                  <a:pt x="4688" y="13419"/>
                </a:cubicBezTo>
              </a:path>
              <a:path w="6599" h="7889">
                <a:moveTo>
                  <a:pt x="273" y="7268"/>
                </a:moveTo>
                <a:cubicBezTo>
                  <a:pt x="439" y="7292"/>
                  <a:pt x="574" y="7351"/>
                  <a:pt x="744" y="7392"/>
                </a:cubicBezTo>
                <a:cubicBezTo>
                  <a:pt x="1318" y="7530"/>
                  <a:pt x="1900" y="7586"/>
                  <a:pt x="2480" y="7689"/>
                </a:cubicBezTo>
                <a:cubicBezTo>
                  <a:pt x="3232" y="7822"/>
                  <a:pt x="3978" y="7882"/>
                  <a:pt x="4738" y="7938"/>
                </a:cubicBezTo>
                <a:cubicBezTo>
                  <a:pt x="5159" y="7969"/>
                  <a:pt x="5582" y="7987"/>
                  <a:pt x="6003" y="8012"/>
                </a:cubicBezTo>
                <a:cubicBezTo>
                  <a:pt x="6206" y="8024"/>
                  <a:pt x="6435" y="8021"/>
                  <a:pt x="6623" y="7987"/>
                </a:cubicBezTo>
                <a:cubicBezTo>
                  <a:pt x="6663" y="7980"/>
                  <a:pt x="6686" y="7976"/>
                  <a:pt x="6722" y="7962"/>
                </a:cubicBezTo>
                <a:cubicBezTo>
                  <a:pt x="6749" y="7951"/>
                  <a:pt x="6790" y="7916"/>
                  <a:pt x="6796" y="7913"/>
                </a:cubicBezTo>
                <a:cubicBezTo>
                  <a:pt x="6821" y="7902"/>
                  <a:pt x="6842" y="7905"/>
                  <a:pt x="6871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70240" y="3205080"/>
            <a:ext cx="3000600" cy="411120"/>
          </a:xfrm>
          <a:custGeom>
            <a:avLst/>
            <a:gdLst/>
            <a:ahLst/>
            <a:rect l="l" t="t" r="r" b="b"/>
            <a:pathLst>
              <a:path w="8335" h="1142">
                <a:moveTo>
                  <a:pt x="11584" y="8930"/>
                </a:moveTo>
                <a:cubicBezTo>
                  <a:pt x="11717" y="8930"/>
                  <a:pt x="12023" y="8987"/>
                  <a:pt x="12129" y="8905"/>
                </a:cubicBezTo>
              </a:path>
              <a:path w="8335" h="1142">
                <a:moveTo>
                  <a:pt x="12303" y="8905"/>
                </a:moveTo>
                <a:cubicBezTo>
                  <a:pt x="12394" y="8905"/>
                  <a:pt x="12485" y="8905"/>
                  <a:pt x="12576" y="8905"/>
                </a:cubicBezTo>
              </a:path>
              <a:path w="8335" h="1142">
                <a:moveTo>
                  <a:pt x="12700" y="8905"/>
                </a:moveTo>
                <a:cubicBezTo>
                  <a:pt x="12816" y="8905"/>
                  <a:pt x="12931" y="8905"/>
                  <a:pt x="13047" y="8905"/>
                </a:cubicBezTo>
              </a:path>
              <a:path w="8335" h="1142">
                <a:moveTo>
                  <a:pt x="15032" y="8979"/>
                </a:moveTo>
                <a:cubicBezTo>
                  <a:pt x="15561" y="8979"/>
                  <a:pt x="16241" y="9050"/>
                  <a:pt x="16718" y="8954"/>
                </a:cubicBezTo>
                <a:cubicBezTo>
                  <a:pt x="16742" y="8949"/>
                  <a:pt x="16769" y="8957"/>
                  <a:pt x="16793" y="8954"/>
                </a:cubicBezTo>
              </a:path>
              <a:path w="8335" h="1142">
                <a:moveTo>
                  <a:pt x="17487" y="8930"/>
                </a:moveTo>
                <a:cubicBezTo>
                  <a:pt x="18297" y="8930"/>
                  <a:pt x="19108" y="8930"/>
                  <a:pt x="19918" y="8930"/>
                </a:cubicBezTo>
              </a:path>
              <a:path w="8335" h="1142">
                <a:moveTo>
                  <a:pt x="11757" y="10046"/>
                </a:moveTo>
                <a:cubicBezTo>
                  <a:pt x="11797" y="10033"/>
                  <a:pt x="11813" y="10021"/>
                  <a:pt x="11881" y="10021"/>
                </a:cubicBezTo>
                <a:cubicBezTo>
                  <a:pt x="11971" y="10021"/>
                  <a:pt x="12042" y="10000"/>
                  <a:pt x="12129" y="9996"/>
                </a:cubicBezTo>
                <a:cubicBezTo>
                  <a:pt x="12170" y="9994"/>
                  <a:pt x="12213" y="9996"/>
                  <a:pt x="12254" y="9996"/>
                </a:cubicBezTo>
              </a:path>
              <a:path w="8335" h="1142">
                <a:moveTo>
                  <a:pt x="12080" y="9897"/>
                </a:moveTo>
                <a:cubicBezTo>
                  <a:pt x="12196" y="9897"/>
                  <a:pt x="12311" y="9897"/>
                  <a:pt x="12427" y="9897"/>
                </a:cubicBezTo>
              </a:path>
              <a:path w="8335" h="1142">
                <a:moveTo>
                  <a:pt x="12626" y="9872"/>
                </a:moveTo>
                <a:cubicBezTo>
                  <a:pt x="12791" y="9872"/>
                  <a:pt x="12957" y="9872"/>
                  <a:pt x="13122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32040" y="2357280"/>
            <a:ext cx="179280" cy="3098880"/>
          </a:xfrm>
          <a:custGeom>
            <a:avLst/>
            <a:gdLst/>
            <a:ahLst/>
            <a:rect l="l" t="t" r="r" b="b"/>
            <a:pathLst>
              <a:path w="497" h="8609">
                <a:moveTo>
                  <a:pt x="7714" y="6548"/>
                </a:moveTo>
                <a:cubicBezTo>
                  <a:pt x="7714" y="6573"/>
                  <a:pt x="7714" y="6581"/>
                  <a:pt x="7714" y="6598"/>
                </a:cubicBezTo>
                <a:cubicBezTo>
                  <a:pt x="7679" y="6610"/>
                  <a:pt x="7689" y="6605"/>
                  <a:pt x="7689" y="6648"/>
                </a:cubicBezTo>
              </a:path>
              <a:path w="497" h="8609">
                <a:moveTo>
                  <a:pt x="7938" y="6598"/>
                </a:moveTo>
                <a:cubicBezTo>
                  <a:pt x="7917" y="6619"/>
                  <a:pt x="7870" y="6606"/>
                  <a:pt x="7838" y="6648"/>
                </a:cubicBezTo>
                <a:cubicBezTo>
                  <a:pt x="7800" y="6698"/>
                  <a:pt x="7791" y="6771"/>
                  <a:pt x="7764" y="6821"/>
                </a:cubicBezTo>
                <a:cubicBezTo>
                  <a:pt x="7739" y="6868"/>
                  <a:pt x="7699" y="6914"/>
                  <a:pt x="7689" y="6970"/>
                </a:cubicBezTo>
                <a:cubicBezTo>
                  <a:pt x="7674" y="7053"/>
                  <a:pt x="7700" y="7118"/>
                  <a:pt x="7714" y="7193"/>
                </a:cubicBezTo>
                <a:cubicBezTo>
                  <a:pt x="7728" y="7268"/>
                  <a:pt x="7734" y="7316"/>
                  <a:pt x="7764" y="7392"/>
                </a:cubicBezTo>
                <a:cubicBezTo>
                  <a:pt x="7788" y="7452"/>
                  <a:pt x="7816" y="7505"/>
                  <a:pt x="7838" y="7565"/>
                </a:cubicBezTo>
                <a:cubicBezTo>
                  <a:pt x="7865" y="7638"/>
                  <a:pt x="7877" y="7710"/>
                  <a:pt x="7913" y="7789"/>
                </a:cubicBezTo>
                <a:cubicBezTo>
                  <a:pt x="7964" y="7901"/>
                  <a:pt x="8033" y="7988"/>
                  <a:pt x="8062" y="8111"/>
                </a:cubicBezTo>
                <a:cubicBezTo>
                  <a:pt x="8107" y="8301"/>
                  <a:pt x="8103" y="8543"/>
                  <a:pt x="8062" y="8731"/>
                </a:cubicBezTo>
                <a:cubicBezTo>
                  <a:pt x="8036" y="8851"/>
                  <a:pt x="7992" y="9011"/>
                  <a:pt x="7938" y="9128"/>
                </a:cubicBezTo>
                <a:cubicBezTo>
                  <a:pt x="7904" y="9202"/>
                  <a:pt x="7875" y="9282"/>
                  <a:pt x="7838" y="9351"/>
                </a:cubicBezTo>
                <a:cubicBezTo>
                  <a:pt x="7819" y="9386"/>
                  <a:pt x="7805" y="9415"/>
                  <a:pt x="7789" y="9451"/>
                </a:cubicBezTo>
                <a:cubicBezTo>
                  <a:pt x="7777" y="9478"/>
                  <a:pt x="7756" y="9536"/>
                  <a:pt x="7739" y="9575"/>
                </a:cubicBezTo>
                <a:cubicBezTo>
                  <a:pt x="7712" y="9637"/>
                  <a:pt x="7668" y="9706"/>
                  <a:pt x="7640" y="9773"/>
                </a:cubicBezTo>
                <a:cubicBezTo>
                  <a:pt x="7622" y="9816"/>
                  <a:pt x="7591" y="9845"/>
                  <a:pt x="7590" y="9872"/>
                </a:cubicBezTo>
                <a:cubicBezTo>
                  <a:pt x="7586" y="9979"/>
                  <a:pt x="7620" y="10024"/>
                  <a:pt x="7665" y="10120"/>
                </a:cubicBezTo>
                <a:cubicBezTo>
                  <a:pt x="7716" y="10228"/>
                  <a:pt x="7790" y="10350"/>
                  <a:pt x="7813" y="10468"/>
                </a:cubicBezTo>
                <a:cubicBezTo>
                  <a:pt x="7947" y="11141"/>
                  <a:pt x="7707" y="11875"/>
                  <a:pt x="7863" y="12551"/>
                </a:cubicBezTo>
                <a:cubicBezTo>
                  <a:pt x="7890" y="12669"/>
                  <a:pt x="7928" y="12772"/>
                  <a:pt x="7938" y="12898"/>
                </a:cubicBezTo>
                <a:cubicBezTo>
                  <a:pt x="7975" y="13349"/>
                  <a:pt x="7973" y="13952"/>
                  <a:pt x="7913" y="14362"/>
                </a:cubicBezTo>
                <a:cubicBezTo>
                  <a:pt x="7907" y="14404"/>
                  <a:pt x="7897" y="14423"/>
                  <a:pt x="7888" y="14461"/>
                </a:cubicBezTo>
                <a:cubicBezTo>
                  <a:pt x="7877" y="14509"/>
                  <a:pt x="7866" y="14533"/>
                  <a:pt x="7863" y="14560"/>
                </a:cubicBezTo>
                <a:cubicBezTo>
                  <a:pt x="7859" y="14603"/>
                  <a:pt x="7839" y="14703"/>
                  <a:pt x="7838" y="14709"/>
                </a:cubicBezTo>
                <a:cubicBezTo>
                  <a:pt x="7831" y="14791"/>
                  <a:pt x="7826" y="14891"/>
                  <a:pt x="7863" y="14957"/>
                </a:cubicBezTo>
                <a:cubicBezTo>
                  <a:pt x="7899" y="15020"/>
                  <a:pt x="7966" y="15043"/>
                  <a:pt x="8012" y="15081"/>
                </a:cubicBezTo>
                <a:cubicBezTo>
                  <a:pt x="8028" y="15094"/>
                  <a:pt x="7992" y="15194"/>
                  <a:pt x="8012" y="15131"/>
                </a:cubicBezTo>
                <a:cubicBezTo>
                  <a:pt x="8031" y="15072"/>
                  <a:pt x="7993" y="15009"/>
                  <a:pt x="7987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4880" y="2820960"/>
            <a:ext cx="3259080" cy="1171440"/>
          </a:xfrm>
          <a:custGeom>
            <a:avLst/>
            <a:gdLst/>
            <a:ahLst/>
            <a:rect l="l" t="t" r="r" b="b"/>
            <a:pathLst>
              <a:path w="9055" h="3251">
                <a:moveTo>
                  <a:pt x="19075" y="7838"/>
                </a:moveTo>
                <a:cubicBezTo>
                  <a:pt x="19298" y="7838"/>
                  <a:pt x="19522" y="7838"/>
                  <a:pt x="19745" y="7838"/>
                </a:cubicBezTo>
              </a:path>
              <a:path w="9055" h="3251">
                <a:moveTo>
                  <a:pt x="14734" y="10021"/>
                </a:moveTo>
                <a:cubicBezTo>
                  <a:pt x="15445" y="10021"/>
                  <a:pt x="16156" y="10021"/>
                  <a:pt x="16867" y="10021"/>
                </a:cubicBezTo>
              </a:path>
              <a:path w="9055" h="3251">
                <a:moveTo>
                  <a:pt x="18380" y="9996"/>
                </a:moveTo>
                <a:cubicBezTo>
                  <a:pt x="18605" y="9996"/>
                  <a:pt x="18826" y="10013"/>
                  <a:pt x="19050" y="10021"/>
                </a:cubicBezTo>
                <a:cubicBezTo>
                  <a:pt x="19398" y="10033"/>
                  <a:pt x="19745" y="10059"/>
                  <a:pt x="20092" y="10071"/>
                </a:cubicBezTo>
                <a:cubicBezTo>
                  <a:pt x="20283" y="10078"/>
                  <a:pt x="20471" y="10096"/>
                  <a:pt x="20662" y="10096"/>
                </a:cubicBezTo>
                <a:cubicBezTo>
                  <a:pt x="20712" y="10096"/>
                  <a:pt x="20729" y="10096"/>
                  <a:pt x="20762" y="10096"/>
                </a:cubicBezTo>
              </a:path>
              <a:path w="9055" h="3251">
                <a:moveTo>
                  <a:pt x="11708" y="10988"/>
                </a:moveTo>
                <a:cubicBezTo>
                  <a:pt x="11748" y="10975"/>
                  <a:pt x="11764" y="10964"/>
                  <a:pt x="11832" y="10964"/>
                </a:cubicBezTo>
                <a:cubicBezTo>
                  <a:pt x="11931" y="10964"/>
                  <a:pt x="12030" y="10964"/>
                  <a:pt x="12129" y="10964"/>
                </a:cubicBezTo>
              </a:path>
              <a:path w="9055" h="3251">
                <a:moveTo>
                  <a:pt x="12254" y="10964"/>
                </a:moveTo>
                <a:cubicBezTo>
                  <a:pt x="12320" y="10964"/>
                  <a:pt x="12386" y="10964"/>
                  <a:pt x="12452" y="10964"/>
                </a:cubicBezTo>
              </a:path>
              <a:path w="9055" h="3251">
                <a:moveTo>
                  <a:pt x="12650" y="10964"/>
                </a:moveTo>
                <a:cubicBezTo>
                  <a:pt x="12791" y="10964"/>
                  <a:pt x="12931" y="10964"/>
                  <a:pt x="13072" y="10964"/>
                </a:cubicBezTo>
              </a:path>
              <a:path w="9055" h="3251">
                <a:moveTo>
                  <a:pt x="15032" y="10840"/>
                </a:moveTo>
                <a:cubicBezTo>
                  <a:pt x="15611" y="10840"/>
                  <a:pt x="16189" y="10840"/>
                  <a:pt x="16768" y="10840"/>
                </a:cubicBezTo>
              </a:path>
              <a:path w="9055" h="3251">
                <a:moveTo>
                  <a:pt x="17711" y="11088"/>
                </a:moveTo>
                <a:cubicBezTo>
                  <a:pt x="18579" y="11088"/>
                  <a:pt x="19447" y="11088"/>
                  <a:pt x="20315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结构体的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行为描述方式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为描述方式是对设计实体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数学模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描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优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需要关注设计功能的门级实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缺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有时不能进行逻辑综合或难于综合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41920" y="2633760"/>
            <a:ext cx="3751200" cy="63360"/>
          </a:xfrm>
          <a:custGeom>
            <a:avLst/>
            <a:gdLst/>
            <a:ahLst/>
            <a:rect l="l" t="t" r="r" b="b"/>
            <a:pathLst>
              <a:path w="10419" h="175">
                <a:moveTo>
                  <a:pt x="13171" y="7342"/>
                </a:moveTo>
                <a:cubicBezTo>
                  <a:pt x="13668" y="7342"/>
                  <a:pt x="14162" y="7367"/>
                  <a:pt x="14660" y="7367"/>
                </a:cubicBezTo>
                <a:cubicBezTo>
                  <a:pt x="15848" y="7367"/>
                  <a:pt x="17052" y="7410"/>
                  <a:pt x="18231" y="7317"/>
                </a:cubicBezTo>
                <a:cubicBezTo>
                  <a:pt x="18484" y="7297"/>
                  <a:pt x="18749" y="7312"/>
                  <a:pt x="19000" y="7342"/>
                </a:cubicBezTo>
                <a:cubicBezTo>
                  <a:pt x="19292" y="7377"/>
                  <a:pt x="19577" y="7399"/>
                  <a:pt x="19869" y="7417"/>
                </a:cubicBezTo>
                <a:cubicBezTo>
                  <a:pt x="20191" y="7437"/>
                  <a:pt x="20513" y="7462"/>
                  <a:pt x="20836" y="7466"/>
                </a:cubicBezTo>
                <a:cubicBezTo>
                  <a:pt x="21259" y="7471"/>
                  <a:pt x="21682" y="7475"/>
                  <a:pt x="22101" y="7491"/>
                </a:cubicBezTo>
                <a:cubicBezTo>
                  <a:pt x="22424" y="7503"/>
                  <a:pt x="22751" y="7481"/>
                  <a:pt x="23068" y="7466"/>
                </a:cubicBezTo>
                <a:cubicBezTo>
                  <a:pt x="23154" y="7462"/>
                  <a:pt x="23292" y="7444"/>
                  <a:pt x="23341" y="7441"/>
                </a:cubicBezTo>
                <a:cubicBezTo>
                  <a:pt x="23423" y="7436"/>
                  <a:pt x="23507" y="7444"/>
                  <a:pt x="23589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结构体的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数据流描述方式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19560" y="159984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位全加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143000"/>
            <a:ext cx="5105520" cy="33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RCHITECTURE dataflow OF add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GNAL tmp1,tmp2 : BI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mp1&lt;=a XOR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&lt;=tmp1 XOR cin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mp2&lt;=tmp1 AND c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&lt;=tmp2 OR (a AND b)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dataflow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352680" y="4335480"/>
          <a:ext cx="5477040" cy="25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335480"/>
                    <a:ext cx="54770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938160" y="1509840"/>
            <a:ext cx="4079880" cy="2562120"/>
          </a:xfrm>
          <a:custGeom>
            <a:avLst/>
            <a:gdLst/>
            <a:ahLst/>
            <a:rect l="l" t="t" r="r" b="b"/>
            <a:pathLst>
              <a:path w="11337" h="7120">
                <a:moveTo>
                  <a:pt x="10517" y="4415"/>
                </a:moveTo>
                <a:cubicBezTo>
                  <a:pt x="10606" y="4403"/>
                  <a:pt x="10702" y="4404"/>
                  <a:pt x="10790" y="4390"/>
                </a:cubicBezTo>
                <a:cubicBezTo>
                  <a:pt x="11127" y="4337"/>
                  <a:pt x="11465" y="4300"/>
                  <a:pt x="11807" y="4291"/>
                </a:cubicBezTo>
                <a:cubicBezTo>
                  <a:pt x="12029" y="4285"/>
                  <a:pt x="12288" y="4297"/>
                  <a:pt x="12502" y="4366"/>
                </a:cubicBezTo>
                <a:cubicBezTo>
                  <a:pt x="12613" y="4402"/>
                  <a:pt x="12636" y="4430"/>
                  <a:pt x="12750" y="4440"/>
                </a:cubicBezTo>
                <a:cubicBezTo>
                  <a:pt x="12900" y="4454"/>
                  <a:pt x="13736" y="4517"/>
                  <a:pt x="13816" y="4415"/>
                </a:cubicBezTo>
                <a:cubicBezTo>
                  <a:pt x="13828" y="4400"/>
                  <a:pt x="13833" y="4336"/>
                  <a:pt x="13841" y="4316"/>
                </a:cubicBezTo>
                <a:cubicBezTo>
                  <a:pt x="13856" y="4281"/>
                  <a:pt x="13857" y="4255"/>
                  <a:pt x="13866" y="4217"/>
                </a:cubicBezTo>
                <a:cubicBezTo>
                  <a:pt x="13866" y="4209"/>
                  <a:pt x="13866" y="4200"/>
                  <a:pt x="13866" y="4192"/>
                </a:cubicBezTo>
                <a:cubicBezTo>
                  <a:pt x="13745" y="4192"/>
                  <a:pt x="13632" y="4204"/>
                  <a:pt x="13519" y="4217"/>
                </a:cubicBezTo>
                <a:cubicBezTo>
                  <a:pt x="13446" y="4225"/>
                  <a:pt x="13416" y="4235"/>
                  <a:pt x="13345" y="4266"/>
                </a:cubicBezTo>
                <a:cubicBezTo>
                  <a:pt x="13327" y="4274"/>
                  <a:pt x="13318" y="4287"/>
                  <a:pt x="13271" y="4291"/>
                </a:cubicBezTo>
                <a:cubicBezTo>
                  <a:pt x="12403" y="4357"/>
                  <a:pt x="11490" y="4209"/>
                  <a:pt x="10641" y="4316"/>
                </a:cubicBezTo>
                <a:cubicBezTo>
                  <a:pt x="10550" y="4327"/>
                  <a:pt x="10472" y="4307"/>
                  <a:pt x="10393" y="4341"/>
                </a:cubicBezTo>
                <a:cubicBezTo>
                  <a:pt x="10391" y="4342"/>
                  <a:pt x="10324" y="4384"/>
                  <a:pt x="10319" y="4390"/>
                </a:cubicBezTo>
                <a:cubicBezTo>
                  <a:pt x="10288" y="4426"/>
                  <a:pt x="10288" y="4438"/>
                  <a:pt x="10269" y="4465"/>
                </a:cubicBezTo>
                <a:cubicBezTo>
                  <a:pt x="10280" y="4465"/>
                  <a:pt x="10283" y="4469"/>
                  <a:pt x="10319" y="4465"/>
                </a:cubicBezTo>
                <a:cubicBezTo>
                  <a:pt x="11023" y="4397"/>
                  <a:pt x="11754" y="4511"/>
                  <a:pt x="12452" y="4440"/>
                </a:cubicBezTo>
                <a:cubicBezTo>
                  <a:pt x="12501" y="4435"/>
                  <a:pt x="12564" y="4419"/>
                  <a:pt x="12601" y="4415"/>
                </a:cubicBezTo>
                <a:cubicBezTo>
                  <a:pt x="12691" y="4406"/>
                  <a:pt x="12789" y="4399"/>
                  <a:pt x="12874" y="4390"/>
                </a:cubicBezTo>
                <a:cubicBezTo>
                  <a:pt x="12947" y="4383"/>
                  <a:pt x="13035" y="4373"/>
                  <a:pt x="13097" y="4366"/>
                </a:cubicBezTo>
                <a:cubicBezTo>
                  <a:pt x="13219" y="4353"/>
                  <a:pt x="13360" y="4353"/>
                  <a:pt x="13469" y="4341"/>
                </a:cubicBezTo>
                <a:cubicBezTo>
                  <a:pt x="13524" y="4335"/>
                  <a:pt x="13534" y="4321"/>
                  <a:pt x="13568" y="4316"/>
                </a:cubicBezTo>
                <a:cubicBezTo>
                  <a:pt x="13622" y="4308"/>
                  <a:pt x="13746" y="4294"/>
                  <a:pt x="13767" y="4291"/>
                </a:cubicBezTo>
                <a:cubicBezTo>
                  <a:pt x="13815" y="4285"/>
                  <a:pt x="13867" y="4291"/>
                  <a:pt x="13915" y="4291"/>
                </a:cubicBezTo>
                <a:cubicBezTo>
                  <a:pt x="13882" y="4291"/>
                  <a:pt x="13899" y="4291"/>
                  <a:pt x="13866" y="4291"/>
                </a:cubicBezTo>
                <a:cubicBezTo>
                  <a:pt x="13164" y="4291"/>
                  <a:pt x="12455" y="4271"/>
                  <a:pt x="11757" y="4316"/>
                </a:cubicBezTo>
                <a:cubicBezTo>
                  <a:pt x="11455" y="4335"/>
                  <a:pt x="11142" y="4316"/>
                  <a:pt x="10840" y="4316"/>
                </a:cubicBezTo>
              </a:path>
              <a:path w="11337" h="7120">
                <a:moveTo>
                  <a:pt x="3249" y="6300"/>
                </a:moveTo>
                <a:cubicBezTo>
                  <a:pt x="3782" y="6300"/>
                  <a:pt x="4346" y="6334"/>
                  <a:pt x="4862" y="6276"/>
                </a:cubicBezTo>
                <a:cubicBezTo>
                  <a:pt x="5329" y="6224"/>
                  <a:pt x="5830" y="6276"/>
                  <a:pt x="6300" y="6276"/>
                </a:cubicBezTo>
              </a:path>
              <a:path w="11337" h="7120">
                <a:moveTo>
                  <a:pt x="6772" y="6251"/>
                </a:moveTo>
                <a:cubicBezTo>
                  <a:pt x="6794" y="6273"/>
                  <a:pt x="6838" y="6317"/>
                  <a:pt x="6871" y="6350"/>
                </a:cubicBezTo>
                <a:cubicBezTo>
                  <a:pt x="6903" y="6382"/>
                  <a:pt x="6951" y="6392"/>
                  <a:pt x="6995" y="6400"/>
                </a:cubicBezTo>
                <a:cubicBezTo>
                  <a:pt x="7045" y="6410"/>
                  <a:pt x="7061" y="6383"/>
                  <a:pt x="7094" y="6350"/>
                </a:cubicBezTo>
                <a:cubicBezTo>
                  <a:pt x="7124" y="6320"/>
                  <a:pt x="7163" y="6321"/>
                  <a:pt x="7193" y="6300"/>
                </a:cubicBezTo>
                <a:cubicBezTo>
                  <a:pt x="7229" y="6275"/>
                  <a:pt x="7269" y="6247"/>
                  <a:pt x="7293" y="6226"/>
                </a:cubicBezTo>
                <a:cubicBezTo>
                  <a:pt x="7326" y="6246"/>
                  <a:pt x="7365" y="6244"/>
                  <a:pt x="7417" y="6276"/>
                </a:cubicBezTo>
                <a:cubicBezTo>
                  <a:pt x="7459" y="6302"/>
                  <a:pt x="7468" y="6339"/>
                  <a:pt x="7516" y="6350"/>
                </a:cubicBezTo>
                <a:cubicBezTo>
                  <a:pt x="7690" y="6392"/>
                  <a:pt x="7945" y="6353"/>
                  <a:pt x="8111" y="6325"/>
                </a:cubicBezTo>
                <a:cubicBezTo>
                  <a:pt x="8155" y="6318"/>
                  <a:pt x="8232" y="6314"/>
                  <a:pt x="8260" y="6350"/>
                </a:cubicBezTo>
                <a:cubicBezTo>
                  <a:pt x="8291" y="6391"/>
                  <a:pt x="8313" y="6441"/>
                  <a:pt x="8359" y="6474"/>
                </a:cubicBezTo>
                <a:cubicBezTo>
                  <a:pt x="8381" y="6490"/>
                  <a:pt x="8447" y="6525"/>
                  <a:pt x="8458" y="6524"/>
                </a:cubicBezTo>
                <a:cubicBezTo>
                  <a:pt x="8510" y="6522"/>
                  <a:pt x="8543" y="6496"/>
                  <a:pt x="8582" y="6474"/>
                </a:cubicBezTo>
                <a:cubicBezTo>
                  <a:pt x="8604" y="6461"/>
                  <a:pt x="8694" y="6415"/>
                  <a:pt x="8706" y="6400"/>
                </a:cubicBezTo>
                <a:cubicBezTo>
                  <a:pt x="8706" y="6392"/>
                  <a:pt x="8706" y="6383"/>
                  <a:pt x="8706" y="6375"/>
                </a:cubicBezTo>
              </a:path>
              <a:path w="11337" h="7120">
                <a:moveTo>
                  <a:pt x="8855" y="6325"/>
                </a:moveTo>
                <a:cubicBezTo>
                  <a:pt x="8917" y="6334"/>
                  <a:pt x="8896" y="6338"/>
                  <a:pt x="8930" y="6375"/>
                </a:cubicBezTo>
                <a:cubicBezTo>
                  <a:pt x="8951" y="6397"/>
                  <a:pt x="8997" y="6442"/>
                  <a:pt x="9029" y="6474"/>
                </a:cubicBezTo>
                <a:cubicBezTo>
                  <a:pt x="9054" y="6499"/>
                  <a:pt x="9091" y="6510"/>
                  <a:pt x="9128" y="6499"/>
                </a:cubicBezTo>
                <a:cubicBezTo>
                  <a:pt x="9192" y="6479"/>
                  <a:pt x="9241" y="6406"/>
                  <a:pt x="9302" y="6375"/>
                </a:cubicBezTo>
                <a:cubicBezTo>
                  <a:pt x="9376" y="6338"/>
                  <a:pt x="9444" y="6309"/>
                  <a:pt x="9500" y="6276"/>
                </a:cubicBezTo>
                <a:cubicBezTo>
                  <a:pt x="9553" y="6245"/>
                  <a:pt x="9591" y="6255"/>
                  <a:pt x="9649" y="6300"/>
                </a:cubicBezTo>
                <a:cubicBezTo>
                  <a:pt x="9725" y="6359"/>
                  <a:pt x="9830" y="6393"/>
                  <a:pt x="9897" y="6449"/>
                </a:cubicBezTo>
                <a:cubicBezTo>
                  <a:pt x="9930" y="6477"/>
                  <a:pt x="9957" y="6517"/>
                  <a:pt x="9996" y="6548"/>
                </a:cubicBezTo>
                <a:cubicBezTo>
                  <a:pt x="10028" y="6528"/>
                  <a:pt x="10043" y="6527"/>
                  <a:pt x="10096" y="6499"/>
                </a:cubicBezTo>
                <a:cubicBezTo>
                  <a:pt x="10157" y="6466"/>
                  <a:pt x="10218" y="6421"/>
                  <a:pt x="10269" y="6375"/>
                </a:cubicBezTo>
                <a:cubicBezTo>
                  <a:pt x="10285" y="6360"/>
                  <a:pt x="10301" y="6364"/>
                  <a:pt x="10319" y="6350"/>
                </a:cubicBezTo>
                <a:cubicBezTo>
                  <a:pt x="10363" y="6394"/>
                  <a:pt x="10331" y="6393"/>
                  <a:pt x="10393" y="6400"/>
                </a:cubicBezTo>
                <a:cubicBezTo>
                  <a:pt x="10418" y="6400"/>
                  <a:pt x="10426" y="6400"/>
                  <a:pt x="10443" y="6400"/>
                </a:cubicBezTo>
              </a:path>
              <a:path w="11337" h="7120">
                <a:moveTo>
                  <a:pt x="3076" y="7888"/>
                </a:moveTo>
                <a:cubicBezTo>
                  <a:pt x="3051" y="7888"/>
                  <a:pt x="3026" y="7888"/>
                  <a:pt x="3001" y="7888"/>
                </a:cubicBezTo>
                <a:cubicBezTo>
                  <a:pt x="3001" y="7971"/>
                  <a:pt x="3001" y="8053"/>
                  <a:pt x="3001" y="8136"/>
                </a:cubicBezTo>
              </a:path>
              <a:path w="11337" h="7120">
                <a:moveTo>
                  <a:pt x="6077" y="8409"/>
                </a:moveTo>
                <a:cubicBezTo>
                  <a:pt x="6532" y="8409"/>
                  <a:pt x="6989" y="8400"/>
                  <a:pt x="7441" y="8434"/>
                </a:cubicBezTo>
                <a:cubicBezTo>
                  <a:pt x="7719" y="8455"/>
                  <a:pt x="9599" y="8450"/>
                  <a:pt x="9599" y="8409"/>
                </a:cubicBezTo>
                <a:cubicBezTo>
                  <a:pt x="9583" y="8401"/>
                  <a:pt x="9566" y="8392"/>
                  <a:pt x="9550" y="8384"/>
                </a:cubicBezTo>
              </a:path>
              <a:path w="11337" h="7120">
                <a:moveTo>
                  <a:pt x="3398" y="8384"/>
                </a:moveTo>
                <a:cubicBezTo>
                  <a:pt x="3532" y="8392"/>
                  <a:pt x="3659" y="8407"/>
                  <a:pt x="3795" y="8409"/>
                </a:cubicBezTo>
                <a:cubicBezTo>
                  <a:pt x="4044" y="8413"/>
                  <a:pt x="4289" y="8434"/>
                  <a:pt x="4539" y="8434"/>
                </a:cubicBezTo>
                <a:cubicBezTo>
                  <a:pt x="4708" y="8434"/>
                  <a:pt x="5012" y="8471"/>
                  <a:pt x="5135" y="8409"/>
                </a:cubicBezTo>
              </a:path>
              <a:path w="11337" h="7120">
                <a:moveTo>
                  <a:pt x="4415" y="9277"/>
                </a:moveTo>
                <a:cubicBezTo>
                  <a:pt x="4465" y="9277"/>
                  <a:pt x="4514" y="9277"/>
                  <a:pt x="4564" y="9277"/>
                </a:cubicBezTo>
              </a:path>
              <a:path w="11337" h="7120">
                <a:moveTo>
                  <a:pt x="2877" y="7938"/>
                </a:moveTo>
                <a:cubicBezTo>
                  <a:pt x="2855" y="7960"/>
                  <a:pt x="2847" y="7965"/>
                  <a:pt x="2853" y="7987"/>
                </a:cubicBezTo>
                <a:cubicBezTo>
                  <a:pt x="2842" y="8002"/>
                  <a:pt x="2795" y="8045"/>
                  <a:pt x="2778" y="8062"/>
                </a:cubicBezTo>
                <a:cubicBezTo>
                  <a:pt x="2756" y="8126"/>
                  <a:pt x="2716" y="8188"/>
                  <a:pt x="2704" y="8260"/>
                </a:cubicBezTo>
                <a:cubicBezTo>
                  <a:pt x="2695" y="8315"/>
                  <a:pt x="2685" y="8383"/>
                  <a:pt x="2679" y="8434"/>
                </a:cubicBezTo>
                <a:cubicBezTo>
                  <a:pt x="2658" y="8597"/>
                  <a:pt x="2685" y="8775"/>
                  <a:pt x="2704" y="8930"/>
                </a:cubicBezTo>
                <a:cubicBezTo>
                  <a:pt x="2715" y="9020"/>
                  <a:pt x="2737" y="9289"/>
                  <a:pt x="2679" y="9351"/>
                </a:cubicBezTo>
                <a:cubicBezTo>
                  <a:pt x="2641" y="9392"/>
                  <a:pt x="2643" y="9357"/>
                  <a:pt x="2604" y="9376"/>
                </a:cubicBezTo>
                <a:cubicBezTo>
                  <a:pt x="2608" y="9432"/>
                  <a:pt x="2594" y="9474"/>
                  <a:pt x="2629" y="9525"/>
                </a:cubicBezTo>
                <a:cubicBezTo>
                  <a:pt x="2662" y="9573"/>
                  <a:pt x="2670" y="9568"/>
                  <a:pt x="2679" y="9624"/>
                </a:cubicBezTo>
                <a:cubicBezTo>
                  <a:pt x="2763" y="10157"/>
                  <a:pt x="2679" y="10769"/>
                  <a:pt x="2679" y="11311"/>
                </a:cubicBezTo>
              </a:path>
              <a:path w="11337" h="7120">
                <a:moveTo>
                  <a:pt x="2753" y="11261"/>
                </a:moveTo>
                <a:cubicBezTo>
                  <a:pt x="2794" y="11261"/>
                  <a:pt x="2836" y="11261"/>
                  <a:pt x="2877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79920" y="5367240"/>
            <a:ext cx="1660320" cy="258840"/>
          </a:xfrm>
          <a:custGeom>
            <a:avLst/>
            <a:gdLst/>
            <a:ahLst/>
            <a:rect l="l" t="t" r="r" b="b"/>
            <a:pathLst>
              <a:path w="4614" h="720">
                <a:moveTo>
                  <a:pt x="10269" y="14908"/>
                </a:moveTo>
                <a:cubicBezTo>
                  <a:pt x="10864" y="14908"/>
                  <a:pt x="11460" y="14908"/>
                  <a:pt x="12055" y="14908"/>
                </a:cubicBezTo>
              </a:path>
              <a:path w="4614" h="720">
                <a:moveTo>
                  <a:pt x="10220" y="15602"/>
                </a:moveTo>
                <a:cubicBezTo>
                  <a:pt x="10297" y="15593"/>
                  <a:pt x="10241" y="15582"/>
                  <a:pt x="10344" y="15577"/>
                </a:cubicBezTo>
                <a:cubicBezTo>
                  <a:pt x="10585" y="15565"/>
                  <a:pt x="10824" y="15591"/>
                  <a:pt x="11063" y="15602"/>
                </a:cubicBezTo>
                <a:cubicBezTo>
                  <a:pt x="11255" y="15611"/>
                  <a:pt x="11440" y="15627"/>
                  <a:pt x="11633" y="15627"/>
                </a:cubicBezTo>
                <a:cubicBezTo>
                  <a:pt x="11860" y="15627"/>
                  <a:pt x="12202" y="15668"/>
                  <a:pt x="12378" y="15602"/>
                </a:cubicBezTo>
              </a:path>
              <a:path w="4614" h="720">
                <a:moveTo>
                  <a:pt x="13494" y="15304"/>
                </a:moveTo>
                <a:cubicBezTo>
                  <a:pt x="13744" y="15304"/>
                  <a:pt x="13994" y="15302"/>
                  <a:pt x="14238" y="15329"/>
                </a:cubicBezTo>
                <a:cubicBezTo>
                  <a:pt x="14430" y="15351"/>
                  <a:pt x="14639" y="15329"/>
                  <a:pt x="14833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79920" y="4581360"/>
            <a:ext cx="5321160" cy="1830600"/>
          </a:xfrm>
          <a:custGeom>
            <a:avLst/>
            <a:gdLst/>
            <a:ahLst/>
            <a:rect l="l" t="t" r="r" b="b"/>
            <a:pathLst>
              <a:path w="14784" h="5086">
                <a:moveTo>
                  <a:pt x="14883" y="15354"/>
                </a:moveTo>
                <a:cubicBezTo>
                  <a:pt x="14859" y="15330"/>
                  <a:pt x="14847" y="15343"/>
                  <a:pt x="14833" y="15304"/>
                </a:cubicBezTo>
                <a:cubicBezTo>
                  <a:pt x="14815" y="15253"/>
                  <a:pt x="14810" y="15185"/>
                  <a:pt x="14808" y="15131"/>
                </a:cubicBezTo>
                <a:cubicBezTo>
                  <a:pt x="14805" y="15035"/>
                  <a:pt x="14799" y="14929"/>
                  <a:pt x="14784" y="14833"/>
                </a:cubicBezTo>
                <a:cubicBezTo>
                  <a:pt x="14774" y="14771"/>
                  <a:pt x="14770" y="14700"/>
                  <a:pt x="14759" y="14635"/>
                </a:cubicBezTo>
                <a:cubicBezTo>
                  <a:pt x="14751" y="14590"/>
                  <a:pt x="14736" y="14545"/>
                  <a:pt x="14734" y="14486"/>
                </a:cubicBezTo>
                <a:cubicBezTo>
                  <a:pt x="14732" y="14408"/>
                  <a:pt x="14716" y="14328"/>
                  <a:pt x="14709" y="14263"/>
                </a:cubicBezTo>
                <a:cubicBezTo>
                  <a:pt x="14701" y="14186"/>
                  <a:pt x="14699" y="14116"/>
                  <a:pt x="14684" y="14039"/>
                </a:cubicBezTo>
                <a:cubicBezTo>
                  <a:pt x="14672" y="13980"/>
                  <a:pt x="14656" y="13916"/>
                  <a:pt x="14635" y="13866"/>
                </a:cubicBezTo>
                <a:cubicBezTo>
                  <a:pt x="14620" y="13831"/>
                  <a:pt x="14599" y="13803"/>
                  <a:pt x="14585" y="13767"/>
                </a:cubicBezTo>
                <a:cubicBezTo>
                  <a:pt x="14570" y="13727"/>
                  <a:pt x="14552" y="13683"/>
                  <a:pt x="14536" y="13643"/>
                </a:cubicBezTo>
                <a:cubicBezTo>
                  <a:pt x="14521" y="13606"/>
                  <a:pt x="14519" y="13619"/>
                  <a:pt x="14511" y="13568"/>
                </a:cubicBezTo>
                <a:cubicBezTo>
                  <a:pt x="14503" y="13521"/>
                  <a:pt x="14511" y="13466"/>
                  <a:pt x="14511" y="13419"/>
                </a:cubicBezTo>
                <a:cubicBezTo>
                  <a:pt x="14548" y="13407"/>
                  <a:pt x="14558" y="13398"/>
                  <a:pt x="14585" y="13395"/>
                </a:cubicBezTo>
                <a:cubicBezTo>
                  <a:pt x="14665" y="13386"/>
                  <a:pt x="14730" y="13417"/>
                  <a:pt x="14808" y="13419"/>
                </a:cubicBezTo>
                <a:cubicBezTo>
                  <a:pt x="15002" y="13425"/>
                  <a:pt x="15187" y="13457"/>
                  <a:pt x="15379" y="13469"/>
                </a:cubicBezTo>
                <a:cubicBezTo>
                  <a:pt x="15647" y="13486"/>
                  <a:pt x="15945" y="13472"/>
                  <a:pt x="16197" y="13444"/>
                </a:cubicBezTo>
                <a:cubicBezTo>
                  <a:pt x="16366" y="13425"/>
                  <a:pt x="16548" y="13444"/>
                  <a:pt x="16718" y="13444"/>
                </a:cubicBezTo>
              </a:path>
              <a:path w="14784" h="5086">
                <a:moveTo>
                  <a:pt x="10220" y="12998"/>
                </a:moveTo>
                <a:cubicBezTo>
                  <a:pt x="11659" y="12998"/>
                  <a:pt x="13100" y="13022"/>
                  <a:pt x="14536" y="13022"/>
                </a:cubicBezTo>
                <a:cubicBezTo>
                  <a:pt x="15412" y="13022"/>
                  <a:pt x="16289" y="13022"/>
                  <a:pt x="17165" y="13022"/>
                </a:cubicBezTo>
              </a:path>
              <a:path w="14784" h="5086">
                <a:moveTo>
                  <a:pt x="18083" y="13221"/>
                </a:moveTo>
                <a:cubicBezTo>
                  <a:pt x="18857" y="13221"/>
                  <a:pt x="19644" y="13186"/>
                  <a:pt x="20414" y="13246"/>
                </a:cubicBezTo>
                <a:cubicBezTo>
                  <a:pt x="21263" y="13312"/>
                  <a:pt x="22307" y="13246"/>
                  <a:pt x="23068" y="13246"/>
                </a:cubicBezTo>
                <a:cubicBezTo>
                  <a:pt x="23060" y="13246"/>
                  <a:pt x="23052" y="13246"/>
                  <a:pt x="23044" y="13246"/>
                </a:cubicBezTo>
              </a:path>
              <a:path w="14784" h="5086">
                <a:moveTo>
                  <a:pt x="15776" y="13841"/>
                </a:moveTo>
                <a:lnTo>
                  <a:pt x="15776" y="13841"/>
                </a:lnTo>
              </a:path>
              <a:path w="14784" h="5086">
                <a:moveTo>
                  <a:pt x="15999" y="13469"/>
                </a:moveTo>
                <a:cubicBezTo>
                  <a:pt x="16445" y="13469"/>
                  <a:pt x="16892" y="13469"/>
                  <a:pt x="17338" y="13469"/>
                </a:cubicBezTo>
              </a:path>
              <a:path w="14784" h="5086">
                <a:moveTo>
                  <a:pt x="15329" y="15379"/>
                </a:moveTo>
                <a:cubicBezTo>
                  <a:pt x="15390" y="15379"/>
                  <a:pt x="15415" y="15367"/>
                  <a:pt x="15478" y="15354"/>
                </a:cubicBezTo>
                <a:cubicBezTo>
                  <a:pt x="15569" y="15336"/>
                  <a:pt x="15682" y="15332"/>
                  <a:pt x="15776" y="15329"/>
                </a:cubicBezTo>
                <a:cubicBezTo>
                  <a:pt x="15878" y="15326"/>
                  <a:pt x="15969" y="15304"/>
                  <a:pt x="16073" y="15304"/>
                </a:cubicBezTo>
                <a:cubicBezTo>
                  <a:pt x="16142" y="15304"/>
                  <a:pt x="16190" y="15297"/>
                  <a:pt x="16247" y="15280"/>
                </a:cubicBezTo>
                <a:cubicBezTo>
                  <a:pt x="16380" y="15242"/>
                  <a:pt x="16728" y="15353"/>
                  <a:pt x="16793" y="15255"/>
                </a:cubicBezTo>
              </a:path>
              <a:path w="14784" h="5086">
                <a:moveTo>
                  <a:pt x="15453" y="14585"/>
                </a:moveTo>
                <a:cubicBezTo>
                  <a:pt x="15453" y="14593"/>
                  <a:pt x="15453" y="14602"/>
                  <a:pt x="15453" y="14610"/>
                </a:cubicBezTo>
                <a:cubicBezTo>
                  <a:pt x="15595" y="14610"/>
                  <a:pt x="16589" y="14676"/>
                  <a:pt x="16619" y="14585"/>
                </a:cubicBezTo>
              </a:path>
              <a:path w="14784" h="5086">
                <a:moveTo>
                  <a:pt x="17835" y="15007"/>
                </a:moveTo>
                <a:cubicBezTo>
                  <a:pt x="18036" y="15007"/>
                  <a:pt x="18231" y="15027"/>
                  <a:pt x="18430" y="15032"/>
                </a:cubicBezTo>
                <a:cubicBezTo>
                  <a:pt x="18901" y="15044"/>
                  <a:pt x="19373" y="15032"/>
                  <a:pt x="19844" y="15032"/>
                </a:cubicBezTo>
                <a:cubicBezTo>
                  <a:pt x="19847" y="15084"/>
                  <a:pt x="19864" y="15133"/>
                  <a:pt x="19869" y="15180"/>
                </a:cubicBezTo>
                <a:cubicBezTo>
                  <a:pt x="19889" y="15370"/>
                  <a:pt x="19893" y="15677"/>
                  <a:pt x="19844" y="15825"/>
                </a:cubicBezTo>
                <a:cubicBezTo>
                  <a:pt x="19833" y="15858"/>
                  <a:pt x="19799" y="15920"/>
                  <a:pt x="19794" y="15949"/>
                </a:cubicBezTo>
                <a:cubicBezTo>
                  <a:pt x="19757" y="16167"/>
                  <a:pt x="19794" y="16552"/>
                  <a:pt x="19794" y="16694"/>
                </a:cubicBezTo>
              </a:path>
              <a:path w="14784" h="5086">
                <a:moveTo>
                  <a:pt x="14833" y="16917"/>
                </a:moveTo>
                <a:cubicBezTo>
                  <a:pt x="14928" y="16917"/>
                  <a:pt x="15013" y="16901"/>
                  <a:pt x="15106" y="16892"/>
                </a:cubicBezTo>
                <a:cubicBezTo>
                  <a:pt x="15495" y="16853"/>
                  <a:pt x="15905" y="16892"/>
                  <a:pt x="16297" y="16892"/>
                </a:cubicBezTo>
              </a:path>
              <a:path w="14784" h="5086">
                <a:moveTo>
                  <a:pt x="15404" y="17810"/>
                </a:moveTo>
                <a:cubicBezTo>
                  <a:pt x="15455" y="17810"/>
                  <a:pt x="15490" y="17791"/>
                  <a:pt x="15528" y="17785"/>
                </a:cubicBezTo>
                <a:cubicBezTo>
                  <a:pt x="15658" y="17765"/>
                  <a:pt x="15799" y="17726"/>
                  <a:pt x="15925" y="17711"/>
                </a:cubicBezTo>
                <a:cubicBezTo>
                  <a:pt x="16286" y="17667"/>
                  <a:pt x="16676" y="17711"/>
                  <a:pt x="17041" y="17711"/>
                </a:cubicBezTo>
              </a:path>
              <a:path w="14784" h="5086">
                <a:moveTo>
                  <a:pt x="18033" y="17239"/>
                </a:moveTo>
                <a:cubicBezTo>
                  <a:pt x="18752" y="17239"/>
                  <a:pt x="19535" y="17316"/>
                  <a:pt x="20241" y="17214"/>
                </a:cubicBezTo>
                <a:cubicBezTo>
                  <a:pt x="20310" y="17204"/>
                  <a:pt x="20350" y="17213"/>
                  <a:pt x="20389" y="17190"/>
                </a:cubicBezTo>
              </a:path>
              <a:path w="14784" h="5086">
                <a:moveTo>
                  <a:pt x="19645" y="16793"/>
                </a:moveTo>
                <a:cubicBezTo>
                  <a:pt x="19757" y="16793"/>
                  <a:pt x="19870" y="16797"/>
                  <a:pt x="19968" y="16768"/>
                </a:cubicBezTo>
                <a:cubicBezTo>
                  <a:pt x="20037" y="16747"/>
                  <a:pt x="20144" y="16768"/>
                  <a:pt x="20216" y="16768"/>
                </a:cubicBezTo>
                <a:cubicBezTo>
                  <a:pt x="20229" y="16730"/>
                  <a:pt x="20245" y="16743"/>
                  <a:pt x="20290" y="16743"/>
                </a:cubicBezTo>
                <a:cubicBezTo>
                  <a:pt x="20323" y="16743"/>
                  <a:pt x="20356" y="16743"/>
                  <a:pt x="20389" y="16743"/>
                </a:cubicBezTo>
              </a:path>
              <a:path w="14784" h="5086">
                <a:moveTo>
                  <a:pt x="21977" y="17041"/>
                </a:moveTo>
                <a:cubicBezTo>
                  <a:pt x="22986" y="17041"/>
                  <a:pt x="23994" y="17041"/>
                  <a:pt x="25003" y="17041"/>
                </a:cubicBezTo>
              </a:path>
              <a:path w="14784" h="5086">
                <a:moveTo>
                  <a:pt x="10468" y="14635"/>
                </a:moveTo>
                <a:cubicBezTo>
                  <a:pt x="10539" y="14663"/>
                  <a:pt x="10568" y="14722"/>
                  <a:pt x="10641" y="14759"/>
                </a:cubicBezTo>
                <a:cubicBezTo>
                  <a:pt x="10682" y="14780"/>
                  <a:pt x="10722" y="14830"/>
                  <a:pt x="10765" y="14833"/>
                </a:cubicBezTo>
                <a:cubicBezTo>
                  <a:pt x="10830" y="14838"/>
                  <a:pt x="10898" y="14833"/>
                  <a:pt x="10964" y="14833"/>
                </a:cubicBezTo>
                <a:cubicBezTo>
                  <a:pt x="10923" y="14833"/>
                  <a:pt x="10872" y="14823"/>
                  <a:pt x="10840" y="14858"/>
                </a:cubicBezTo>
                <a:cubicBezTo>
                  <a:pt x="10790" y="14913"/>
                  <a:pt x="10711" y="14956"/>
                  <a:pt x="10666" y="15007"/>
                </a:cubicBezTo>
                <a:cubicBezTo>
                  <a:pt x="10652" y="15022"/>
                  <a:pt x="10628" y="15075"/>
                  <a:pt x="10616" y="15081"/>
                </a:cubicBezTo>
                <a:cubicBezTo>
                  <a:pt x="10600" y="15089"/>
                  <a:pt x="10556" y="15102"/>
                  <a:pt x="10542" y="15131"/>
                </a:cubicBezTo>
                <a:cubicBezTo>
                  <a:pt x="10542" y="15156"/>
                  <a:pt x="10542" y="15164"/>
                  <a:pt x="10517" y="15156"/>
                </a:cubicBezTo>
              </a:path>
              <a:path w="14784" h="5086">
                <a:moveTo>
                  <a:pt x="10616" y="15354"/>
                </a:moveTo>
                <a:cubicBezTo>
                  <a:pt x="10697" y="15418"/>
                  <a:pt x="10776" y="15473"/>
                  <a:pt x="10864" y="15528"/>
                </a:cubicBezTo>
                <a:cubicBezTo>
                  <a:pt x="10932" y="15571"/>
                  <a:pt x="11010" y="15628"/>
                  <a:pt x="11088" y="15652"/>
                </a:cubicBezTo>
                <a:cubicBezTo>
                  <a:pt x="11140" y="15668"/>
                  <a:pt x="11059" y="15652"/>
                  <a:pt x="11038" y="15652"/>
                </a:cubicBezTo>
                <a:cubicBezTo>
                  <a:pt x="10976" y="15652"/>
                  <a:pt x="10918" y="15641"/>
                  <a:pt x="10864" y="15677"/>
                </a:cubicBezTo>
                <a:cubicBezTo>
                  <a:pt x="10831" y="15699"/>
                  <a:pt x="10768" y="15694"/>
                  <a:pt x="10740" y="15726"/>
                </a:cubicBezTo>
                <a:cubicBezTo>
                  <a:pt x="10716" y="15753"/>
                  <a:pt x="10720" y="15751"/>
                  <a:pt x="10666" y="15751"/>
                </a:cubicBezTo>
                <a:cubicBezTo>
                  <a:pt x="10633" y="15751"/>
                  <a:pt x="10600" y="15751"/>
                  <a:pt x="10567" y="15751"/>
                </a:cubicBezTo>
              </a:path>
              <a:path w="14784" h="5086">
                <a:moveTo>
                  <a:pt x="10765" y="12750"/>
                </a:moveTo>
                <a:cubicBezTo>
                  <a:pt x="10765" y="12742"/>
                  <a:pt x="10765" y="12733"/>
                  <a:pt x="10765" y="12725"/>
                </a:cubicBezTo>
                <a:cubicBezTo>
                  <a:pt x="10820" y="12752"/>
                  <a:pt x="10833" y="12830"/>
                  <a:pt x="10889" y="12874"/>
                </a:cubicBezTo>
                <a:cubicBezTo>
                  <a:pt x="10942" y="12916"/>
                  <a:pt x="11005" y="12952"/>
                  <a:pt x="11013" y="13022"/>
                </a:cubicBezTo>
                <a:cubicBezTo>
                  <a:pt x="11013" y="13030"/>
                  <a:pt x="11013" y="13039"/>
                  <a:pt x="11013" y="13047"/>
                </a:cubicBezTo>
                <a:cubicBezTo>
                  <a:pt x="10943" y="13047"/>
                  <a:pt x="10966" y="13085"/>
                  <a:pt x="10914" y="13122"/>
                </a:cubicBezTo>
                <a:cubicBezTo>
                  <a:pt x="10877" y="13148"/>
                  <a:pt x="10806" y="13191"/>
                  <a:pt x="10765" y="13196"/>
                </a:cubicBezTo>
                <a:cubicBezTo>
                  <a:pt x="10738" y="13199"/>
                  <a:pt x="10719" y="13221"/>
                  <a:pt x="10691" y="13246"/>
                </a:cubicBezTo>
                <a:cubicBezTo>
                  <a:pt x="10669" y="13266"/>
                  <a:pt x="10620" y="13308"/>
                  <a:pt x="10592" y="13320"/>
                </a:cubicBezTo>
                <a:cubicBezTo>
                  <a:pt x="10559" y="13335"/>
                  <a:pt x="10567" y="13325"/>
                  <a:pt x="10567" y="13370"/>
                </a:cubicBezTo>
              </a:path>
              <a:path w="14784" h="5086">
                <a:moveTo>
                  <a:pt x="12105" y="14486"/>
                </a:moveTo>
                <a:cubicBezTo>
                  <a:pt x="12105" y="14930"/>
                  <a:pt x="12127" y="15388"/>
                  <a:pt x="12080" y="15825"/>
                </a:cubicBezTo>
                <a:cubicBezTo>
                  <a:pt x="12070" y="15921"/>
                  <a:pt x="12080" y="16026"/>
                  <a:pt x="12080" y="16123"/>
                </a:cubicBezTo>
                <a:cubicBezTo>
                  <a:pt x="12463" y="16123"/>
                  <a:pt x="12958" y="16070"/>
                  <a:pt x="13295" y="16148"/>
                </a:cubicBezTo>
                <a:cubicBezTo>
                  <a:pt x="13303" y="16148"/>
                  <a:pt x="13312" y="16148"/>
                  <a:pt x="13320" y="16148"/>
                </a:cubicBezTo>
                <a:cubicBezTo>
                  <a:pt x="13320" y="16054"/>
                  <a:pt x="13312" y="15965"/>
                  <a:pt x="13345" y="15875"/>
                </a:cubicBezTo>
                <a:cubicBezTo>
                  <a:pt x="13376" y="15791"/>
                  <a:pt x="13430" y="15709"/>
                  <a:pt x="13469" y="15627"/>
                </a:cubicBezTo>
                <a:cubicBezTo>
                  <a:pt x="13512" y="15536"/>
                  <a:pt x="13509" y="15429"/>
                  <a:pt x="13543" y="15329"/>
                </a:cubicBezTo>
                <a:cubicBezTo>
                  <a:pt x="13572" y="15246"/>
                  <a:pt x="13632" y="15143"/>
                  <a:pt x="13643" y="15056"/>
                </a:cubicBezTo>
                <a:cubicBezTo>
                  <a:pt x="13656" y="14953"/>
                  <a:pt x="13660" y="14778"/>
                  <a:pt x="13618" y="14684"/>
                </a:cubicBezTo>
                <a:cubicBezTo>
                  <a:pt x="13591" y="14624"/>
                  <a:pt x="13549" y="14572"/>
                  <a:pt x="13519" y="14511"/>
                </a:cubicBezTo>
                <a:cubicBezTo>
                  <a:pt x="13496" y="14465"/>
                  <a:pt x="13478" y="14445"/>
                  <a:pt x="13444" y="14436"/>
                </a:cubicBezTo>
                <a:cubicBezTo>
                  <a:pt x="13047" y="14336"/>
                  <a:pt x="12574" y="14520"/>
                  <a:pt x="12179" y="14461"/>
                </a:cubicBezTo>
                <a:cubicBezTo>
                  <a:pt x="12150" y="14457"/>
                  <a:pt x="12120" y="14439"/>
                  <a:pt x="12080" y="14436"/>
                </a:cubicBezTo>
                <a:cubicBezTo>
                  <a:pt x="12072" y="14436"/>
                  <a:pt x="12063" y="14436"/>
                  <a:pt x="12055" y="14436"/>
                </a:cubicBezTo>
              </a:path>
              <a:path w="14784" h="5086">
                <a:moveTo>
                  <a:pt x="16594" y="14560"/>
                </a:moveTo>
                <a:cubicBezTo>
                  <a:pt x="16594" y="14672"/>
                  <a:pt x="16591" y="14774"/>
                  <a:pt x="16619" y="14883"/>
                </a:cubicBezTo>
                <a:cubicBezTo>
                  <a:pt x="16645" y="14983"/>
                  <a:pt x="16669" y="15052"/>
                  <a:pt x="16669" y="15156"/>
                </a:cubicBezTo>
                <a:cubicBezTo>
                  <a:pt x="16669" y="15263"/>
                  <a:pt x="16669" y="15371"/>
                  <a:pt x="16669" y="15478"/>
                </a:cubicBezTo>
                <a:cubicBezTo>
                  <a:pt x="16800" y="15478"/>
                  <a:pt x="17543" y="15562"/>
                  <a:pt x="17636" y="15453"/>
                </a:cubicBezTo>
                <a:cubicBezTo>
                  <a:pt x="17656" y="15430"/>
                  <a:pt x="17705" y="15339"/>
                  <a:pt x="17711" y="15304"/>
                </a:cubicBezTo>
                <a:cubicBezTo>
                  <a:pt x="17735" y="15168"/>
                  <a:pt x="17708" y="15012"/>
                  <a:pt x="17686" y="14883"/>
                </a:cubicBezTo>
                <a:cubicBezTo>
                  <a:pt x="17666" y="14763"/>
                  <a:pt x="17679" y="14628"/>
                  <a:pt x="17661" y="14511"/>
                </a:cubicBezTo>
                <a:cubicBezTo>
                  <a:pt x="17655" y="14472"/>
                  <a:pt x="17661" y="14427"/>
                  <a:pt x="17661" y="14387"/>
                </a:cubicBezTo>
                <a:cubicBezTo>
                  <a:pt x="17615" y="14393"/>
                  <a:pt x="17600" y="14400"/>
                  <a:pt x="17562" y="14412"/>
                </a:cubicBezTo>
                <a:cubicBezTo>
                  <a:pt x="17391" y="14466"/>
                  <a:pt x="17214" y="14494"/>
                  <a:pt x="17041" y="14536"/>
                </a:cubicBezTo>
                <a:cubicBezTo>
                  <a:pt x="16955" y="14557"/>
                  <a:pt x="16859" y="14577"/>
                  <a:pt x="16768" y="14560"/>
                </a:cubicBezTo>
                <a:cubicBezTo>
                  <a:pt x="16719" y="14551"/>
                  <a:pt x="16666" y="14483"/>
                  <a:pt x="16644" y="14461"/>
                </a:cubicBezTo>
                <a:cubicBezTo>
                  <a:pt x="16636" y="14453"/>
                  <a:pt x="16627" y="14444"/>
                  <a:pt x="16619" y="14436"/>
                </a:cubicBezTo>
              </a:path>
              <a:path w="14784" h="5086">
                <a:moveTo>
                  <a:pt x="20638" y="16272"/>
                </a:moveTo>
                <a:cubicBezTo>
                  <a:pt x="20638" y="16359"/>
                  <a:pt x="20664" y="16391"/>
                  <a:pt x="20687" y="16470"/>
                </a:cubicBezTo>
                <a:cubicBezTo>
                  <a:pt x="20729" y="16612"/>
                  <a:pt x="20751" y="16782"/>
                  <a:pt x="20811" y="16917"/>
                </a:cubicBezTo>
                <a:cubicBezTo>
                  <a:pt x="20857" y="17020"/>
                  <a:pt x="20851" y="17108"/>
                  <a:pt x="20886" y="17214"/>
                </a:cubicBezTo>
                <a:cubicBezTo>
                  <a:pt x="20912" y="17293"/>
                  <a:pt x="20947" y="17364"/>
                  <a:pt x="20985" y="17438"/>
                </a:cubicBezTo>
                <a:cubicBezTo>
                  <a:pt x="21005" y="17478"/>
                  <a:pt x="21014" y="17484"/>
                  <a:pt x="21010" y="17512"/>
                </a:cubicBezTo>
                <a:cubicBezTo>
                  <a:pt x="21054" y="17502"/>
                  <a:pt x="21090" y="17468"/>
                  <a:pt x="21134" y="17462"/>
                </a:cubicBezTo>
                <a:cubicBezTo>
                  <a:pt x="21257" y="17444"/>
                  <a:pt x="21384" y="17429"/>
                  <a:pt x="21506" y="17413"/>
                </a:cubicBezTo>
                <a:cubicBezTo>
                  <a:pt x="21565" y="17405"/>
                  <a:pt x="21632" y="17395"/>
                  <a:pt x="21679" y="17388"/>
                </a:cubicBezTo>
                <a:cubicBezTo>
                  <a:pt x="21708" y="17383"/>
                  <a:pt x="21747" y="17382"/>
                  <a:pt x="21754" y="17363"/>
                </a:cubicBezTo>
                <a:cubicBezTo>
                  <a:pt x="21787" y="17279"/>
                  <a:pt x="21747" y="17081"/>
                  <a:pt x="21729" y="17016"/>
                </a:cubicBezTo>
                <a:cubicBezTo>
                  <a:pt x="21706" y="16934"/>
                  <a:pt x="21700" y="16849"/>
                  <a:pt x="21679" y="16768"/>
                </a:cubicBezTo>
                <a:cubicBezTo>
                  <a:pt x="21660" y="16693"/>
                  <a:pt x="21636" y="16614"/>
                  <a:pt x="21605" y="16545"/>
                </a:cubicBezTo>
                <a:cubicBezTo>
                  <a:pt x="21582" y="16495"/>
                  <a:pt x="21576" y="16485"/>
                  <a:pt x="21555" y="16446"/>
                </a:cubicBezTo>
                <a:cubicBezTo>
                  <a:pt x="21545" y="16428"/>
                  <a:pt x="21519" y="16396"/>
                  <a:pt x="21506" y="16371"/>
                </a:cubicBezTo>
                <a:cubicBezTo>
                  <a:pt x="21484" y="16329"/>
                  <a:pt x="21465" y="16302"/>
                  <a:pt x="21431" y="16272"/>
                </a:cubicBezTo>
                <a:cubicBezTo>
                  <a:pt x="21391" y="16237"/>
                  <a:pt x="21362" y="16247"/>
                  <a:pt x="21307" y="16247"/>
                </a:cubicBezTo>
                <a:cubicBezTo>
                  <a:pt x="21140" y="16247"/>
                  <a:pt x="20976" y="16319"/>
                  <a:pt x="20811" y="16346"/>
                </a:cubicBezTo>
                <a:cubicBezTo>
                  <a:pt x="20584" y="16383"/>
                  <a:pt x="20347" y="16398"/>
                  <a:pt x="20117" y="16421"/>
                </a:cubicBezTo>
                <a:cubicBezTo>
                  <a:pt x="20092" y="16421"/>
                  <a:pt x="20067" y="16421"/>
                  <a:pt x="20042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2360" y="2946240"/>
            <a:ext cx="2589480" cy="63720"/>
          </a:xfrm>
          <a:custGeom>
            <a:avLst/>
            <a:gdLst/>
            <a:ahLst/>
            <a:rect l="l" t="t" r="r" b="b"/>
            <a:pathLst>
              <a:path w="7194" h="174">
                <a:moveTo>
                  <a:pt x="3200" y="8334"/>
                </a:moveTo>
                <a:cubicBezTo>
                  <a:pt x="3410" y="8334"/>
                  <a:pt x="3609" y="8356"/>
                  <a:pt x="3820" y="8359"/>
                </a:cubicBezTo>
                <a:cubicBezTo>
                  <a:pt x="4103" y="8363"/>
                  <a:pt x="4464" y="8403"/>
                  <a:pt x="4738" y="8334"/>
                </a:cubicBezTo>
                <a:cubicBezTo>
                  <a:pt x="4838" y="8309"/>
                  <a:pt x="4932" y="8270"/>
                  <a:pt x="5035" y="8260"/>
                </a:cubicBezTo>
                <a:cubicBezTo>
                  <a:pt x="5123" y="8252"/>
                  <a:pt x="5223" y="8240"/>
                  <a:pt x="5308" y="8235"/>
                </a:cubicBezTo>
                <a:cubicBezTo>
                  <a:pt x="5636" y="8216"/>
                  <a:pt x="5976" y="8225"/>
                  <a:pt x="6300" y="8210"/>
                </a:cubicBezTo>
                <a:cubicBezTo>
                  <a:pt x="6553" y="8198"/>
                  <a:pt x="6830" y="8198"/>
                  <a:pt x="7069" y="8186"/>
                </a:cubicBezTo>
                <a:cubicBezTo>
                  <a:pt x="7944" y="8141"/>
                  <a:pt x="8826" y="8210"/>
                  <a:pt x="9699" y="8210"/>
                </a:cubicBezTo>
                <a:cubicBezTo>
                  <a:pt x="9923" y="8210"/>
                  <a:pt x="10207" y="8212"/>
                  <a:pt x="10393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结构体的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数据流描述方式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据流描述方式是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信号到信号的数据流的路径形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描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优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易于综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缺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要求设计人员对设计实体的功能实现要有一定的了解，有时还需要对内部电路有清楚的认识，具有一定的难度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结构体的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结构描述方式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67480" y="2666520"/>
            <a:ext cx="990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位全加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295280"/>
            <a:ext cx="5943600" cy="484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 structure OF add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 an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(    i1, i2 : 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 COMPONENT;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 or_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( i3, i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 COMPONEN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 xor_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(  a,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 COMPONEN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400800" y="1752480"/>
            <a:ext cx="1828800" cy="533520"/>
          </a:xfrm>
          <a:prstGeom prst="wedgeRoundRectCallout">
            <a:avLst>
              <a:gd name="adj1" fmla="val 174736"/>
              <a:gd name="adj2" fmla="val -25300"/>
              <a:gd name="adj3" fmla="val 1666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件声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080" y="965160"/>
            <a:ext cx="54000" cy="349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5730" y="2778"/>
                </a:moveTo>
                <a:cubicBezTo>
                  <a:pt x="5780" y="2778"/>
                  <a:pt x="5829" y="2778"/>
                  <a:pt x="5879" y="2778"/>
                </a:cubicBezTo>
                <a:cubicBezTo>
                  <a:pt x="5835" y="2756"/>
                  <a:pt x="5787" y="2714"/>
                  <a:pt x="5730" y="2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82960" y="2054160"/>
            <a:ext cx="2384280" cy="1901880"/>
          </a:xfrm>
          <a:custGeom>
            <a:avLst/>
            <a:gdLst/>
            <a:ahLst/>
            <a:rect l="l" t="t" r="r" b="b"/>
            <a:pathLst>
              <a:path w="6624" h="5284">
                <a:moveTo>
                  <a:pt x="8880" y="5705"/>
                </a:moveTo>
                <a:cubicBezTo>
                  <a:pt x="8960" y="5705"/>
                  <a:pt x="9024" y="5717"/>
                  <a:pt x="9103" y="5730"/>
                </a:cubicBezTo>
                <a:cubicBezTo>
                  <a:pt x="9366" y="5772"/>
                  <a:pt x="9632" y="5760"/>
                  <a:pt x="9897" y="5779"/>
                </a:cubicBezTo>
                <a:cubicBezTo>
                  <a:pt x="10155" y="5797"/>
                  <a:pt x="10407" y="5804"/>
                  <a:pt x="10666" y="5804"/>
                </a:cubicBezTo>
                <a:cubicBezTo>
                  <a:pt x="10816" y="5804"/>
                  <a:pt x="11025" y="5801"/>
                  <a:pt x="11137" y="5779"/>
                </a:cubicBezTo>
                <a:cubicBezTo>
                  <a:pt x="11207" y="5765"/>
                  <a:pt x="11268" y="5780"/>
                  <a:pt x="11311" y="5755"/>
                </a:cubicBezTo>
              </a:path>
              <a:path w="6624" h="5284">
                <a:moveTo>
                  <a:pt x="9227" y="6747"/>
                </a:moveTo>
                <a:cubicBezTo>
                  <a:pt x="9798" y="6747"/>
                  <a:pt x="10368" y="6747"/>
                  <a:pt x="10939" y="6747"/>
                </a:cubicBezTo>
              </a:path>
              <a:path w="6624" h="5284">
                <a:moveTo>
                  <a:pt x="11757" y="6697"/>
                </a:moveTo>
                <a:cubicBezTo>
                  <a:pt x="12104" y="6697"/>
                  <a:pt x="12452" y="6697"/>
                  <a:pt x="12799" y="6697"/>
                </a:cubicBezTo>
              </a:path>
              <a:path w="6624" h="5284">
                <a:moveTo>
                  <a:pt x="13841" y="6747"/>
                </a:moveTo>
                <a:cubicBezTo>
                  <a:pt x="14197" y="6747"/>
                  <a:pt x="14552" y="6747"/>
                  <a:pt x="14908" y="6747"/>
                </a:cubicBezTo>
              </a:path>
              <a:path w="6624" h="5284">
                <a:moveTo>
                  <a:pt x="9351" y="7813"/>
                </a:moveTo>
                <a:cubicBezTo>
                  <a:pt x="9417" y="7813"/>
                  <a:pt x="9472" y="7830"/>
                  <a:pt x="9525" y="7838"/>
                </a:cubicBezTo>
                <a:cubicBezTo>
                  <a:pt x="9808" y="7883"/>
                  <a:pt x="10131" y="7838"/>
                  <a:pt x="10418" y="7838"/>
                </a:cubicBezTo>
              </a:path>
              <a:path w="6624" h="5284">
                <a:moveTo>
                  <a:pt x="11683" y="7838"/>
                </a:moveTo>
                <a:cubicBezTo>
                  <a:pt x="11811" y="7838"/>
                  <a:pt x="11927" y="7847"/>
                  <a:pt x="12055" y="7863"/>
                </a:cubicBezTo>
                <a:cubicBezTo>
                  <a:pt x="12352" y="7899"/>
                  <a:pt x="12651" y="7888"/>
                  <a:pt x="12948" y="7913"/>
                </a:cubicBezTo>
                <a:cubicBezTo>
                  <a:pt x="13092" y="7925"/>
                  <a:pt x="13226" y="7955"/>
                  <a:pt x="13370" y="7962"/>
                </a:cubicBezTo>
              </a:path>
              <a:path w="6624" h="5284">
                <a:moveTo>
                  <a:pt x="9153" y="9996"/>
                </a:moveTo>
                <a:cubicBezTo>
                  <a:pt x="9231" y="9996"/>
                  <a:pt x="9305" y="9978"/>
                  <a:pt x="9376" y="9971"/>
                </a:cubicBezTo>
                <a:cubicBezTo>
                  <a:pt x="9484" y="9960"/>
                  <a:pt x="9593" y="9952"/>
                  <a:pt x="9699" y="9947"/>
                </a:cubicBezTo>
                <a:cubicBezTo>
                  <a:pt x="9826" y="9941"/>
                  <a:pt x="9958" y="9960"/>
                  <a:pt x="10071" y="9922"/>
                </a:cubicBezTo>
                <a:cubicBezTo>
                  <a:pt x="10165" y="9891"/>
                  <a:pt x="10301" y="9931"/>
                  <a:pt x="10368" y="9897"/>
                </a:cubicBezTo>
                <a:cubicBezTo>
                  <a:pt x="10411" y="9875"/>
                  <a:pt x="10550" y="9897"/>
                  <a:pt x="10592" y="9897"/>
                </a:cubicBezTo>
              </a:path>
              <a:path w="6624" h="5284">
                <a:moveTo>
                  <a:pt x="8285" y="10988"/>
                </a:moveTo>
                <a:cubicBezTo>
                  <a:pt x="8373" y="10988"/>
                  <a:pt x="8448" y="10976"/>
                  <a:pt x="8533" y="10964"/>
                </a:cubicBezTo>
                <a:cubicBezTo>
                  <a:pt x="8603" y="10954"/>
                  <a:pt x="8648" y="10959"/>
                  <a:pt x="8706" y="10939"/>
                </a:cubicBezTo>
                <a:cubicBezTo>
                  <a:pt x="8732" y="10930"/>
                  <a:pt x="8778" y="10939"/>
                  <a:pt x="8806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0080" y="1820880"/>
            <a:ext cx="241200" cy="2832120"/>
          </a:xfrm>
          <a:custGeom>
            <a:avLst/>
            <a:gdLst/>
            <a:ahLst/>
            <a:rect l="l" t="t" r="r" b="b"/>
            <a:pathLst>
              <a:path w="671" h="7864">
                <a:moveTo>
                  <a:pt x="3076" y="5060"/>
                </a:moveTo>
                <a:cubicBezTo>
                  <a:pt x="3064" y="5107"/>
                  <a:pt x="3066" y="5163"/>
                  <a:pt x="3051" y="5209"/>
                </a:cubicBezTo>
                <a:cubicBezTo>
                  <a:pt x="3023" y="5294"/>
                  <a:pt x="3004" y="5374"/>
                  <a:pt x="2977" y="5457"/>
                </a:cubicBezTo>
                <a:cubicBezTo>
                  <a:pt x="2958" y="5515"/>
                  <a:pt x="2943" y="5575"/>
                  <a:pt x="2927" y="5631"/>
                </a:cubicBezTo>
                <a:cubicBezTo>
                  <a:pt x="2917" y="5664"/>
                  <a:pt x="2906" y="5698"/>
                  <a:pt x="2902" y="5730"/>
                </a:cubicBezTo>
                <a:cubicBezTo>
                  <a:pt x="2893" y="5802"/>
                  <a:pt x="2931" y="5838"/>
                  <a:pt x="2952" y="5904"/>
                </a:cubicBezTo>
                <a:cubicBezTo>
                  <a:pt x="2975" y="5975"/>
                  <a:pt x="2974" y="6025"/>
                  <a:pt x="2977" y="6102"/>
                </a:cubicBezTo>
                <a:cubicBezTo>
                  <a:pt x="2981" y="6223"/>
                  <a:pt x="2994" y="6370"/>
                  <a:pt x="2952" y="6474"/>
                </a:cubicBezTo>
                <a:cubicBezTo>
                  <a:pt x="2940" y="6503"/>
                  <a:pt x="2935" y="6516"/>
                  <a:pt x="2902" y="6524"/>
                </a:cubicBezTo>
                <a:cubicBezTo>
                  <a:pt x="2879" y="6529"/>
                  <a:pt x="2851" y="6522"/>
                  <a:pt x="2828" y="6524"/>
                </a:cubicBezTo>
                <a:cubicBezTo>
                  <a:pt x="2828" y="6707"/>
                  <a:pt x="2817" y="6902"/>
                  <a:pt x="2803" y="7069"/>
                </a:cubicBezTo>
                <a:cubicBezTo>
                  <a:pt x="2781" y="7336"/>
                  <a:pt x="2804" y="7636"/>
                  <a:pt x="2828" y="7888"/>
                </a:cubicBezTo>
                <a:cubicBezTo>
                  <a:pt x="2837" y="7986"/>
                  <a:pt x="2830" y="8065"/>
                  <a:pt x="2853" y="8161"/>
                </a:cubicBezTo>
                <a:cubicBezTo>
                  <a:pt x="2865" y="8209"/>
                  <a:pt x="2884" y="8241"/>
                  <a:pt x="2902" y="8285"/>
                </a:cubicBezTo>
                <a:cubicBezTo>
                  <a:pt x="2925" y="8341"/>
                  <a:pt x="2952" y="8340"/>
                  <a:pt x="2977" y="8384"/>
                </a:cubicBezTo>
                <a:cubicBezTo>
                  <a:pt x="2994" y="8413"/>
                  <a:pt x="3006" y="8448"/>
                  <a:pt x="3026" y="8483"/>
                </a:cubicBezTo>
                <a:cubicBezTo>
                  <a:pt x="3060" y="8541"/>
                  <a:pt x="3077" y="8609"/>
                  <a:pt x="3125" y="8657"/>
                </a:cubicBezTo>
                <a:cubicBezTo>
                  <a:pt x="3148" y="8680"/>
                  <a:pt x="3152" y="8688"/>
                  <a:pt x="3175" y="8682"/>
                </a:cubicBezTo>
                <a:cubicBezTo>
                  <a:pt x="3175" y="8657"/>
                  <a:pt x="3175" y="8632"/>
                  <a:pt x="3175" y="8607"/>
                </a:cubicBezTo>
              </a:path>
              <a:path w="671" h="7864">
                <a:moveTo>
                  <a:pt x="3125" y="9302"/>
                </a:moveTo>
                <a:cubicBezTo>
                  <a:pt x="3087" y="9326"/>
                  <a:pt x="3089" y="9322"/>
                  <a:pt x="3051" y="9376"/>
                </a:cubicBezTo>
                <a:cubicBezTo>
                  <a:pt x="3041" y="9390"/>
                  <a:pt x="2996" y="9439"/>
                  <a:pt x="2977" y="9475"/>
                </a:cubicBezTo>
                <a:cubicBezTo>
                  <a:pt x="2960" y="9508"/>
                  <a:pt x="2943" y="9563"/>
                  <a:pt x="2927" y="9599"/>
                </a:cubicBezTo>
                <a:cubicBezTo>
                  <a:pt x="2916" y="9624"/>
                  <a:pt x="2883" y="9674"/>
                  <a:pt x="2877" y="9699"/>
                </a:cubicBezTo>
                <a:cubicBezTo>
                  <a:pt x="2789" y="10100"/>
                  <a:pt x="2877" y="10624"/>
                  <a:pt x="2877" y="11038"/>
                </a:cubicBezTo>
                <a:cubicBezTo>
                  <a:pt x="2835" y="11047"/>
                  <a:pt x="2784" y="11014"/>
                  <a:pt x="2778" y="11063"/>
                </a:cubicBezTo>
                <a:cubicBezTo>
                  <a:pt x="2768" y="11140"/>
                  <a:pt x="2838" y="11143"/>
                  <a:pt x="2853" y="11187"/>
                </a:cubicBezTo>
                <a:cubicBezTo>
                  <a:pt x="2871" y="11241"/>
                  <a:pt x="2871" y="11355"/>
                  <a:pt x="2877" y="11410"/>
                </a:cubicBezTo>
                <a:cubicBezTo>
                  <a:pt x="2921" y="11822"/>
                  <a:pt x="2754" y="12449"/>
                  <a:pt x="2902" y="12799"/>
                </a:cubicBezTo>
                <a:cubicBezTo>
                  <a:pt x="2926" y="12857"/>
                  <a:pt x="2905" y="12824"/>
                  <a:pt x="2952" y="12874"/>
                </a:cubicBezTo>
                <a:cubicBezTo>
                  <a:pt x="2969" y="12892"/>
                  <a:pt x="2981" y="12923"/>
                  <a:pt x="3026" y="12923"/>
                </a:cubicBezTo>
                <a:cubicBezTo>
                  <a:pt x="3076" y="12923"/>
                  <a:pt x="3068" y="12914"/>
                  <a:pt x="3101" y="12898"/>
                </a:cubicBezTo>
                <a:cubicBezTo>
                  <a:pt x="3222" y="12838"/>
                  <a:pt x="3334" y="12747"/>
                  <a:pt x="3448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65160" y="4759200"/>
            <a:ext cx="169920" cy="1206720"/>
          </a:xfrm>
          <a:custGeom>
            <a:avLst/>
            <a:gdLst/>
            <a:ahLst/>
            <a:rect l="l" t="t" r="r" b="b"/>
            <a:pathLst>
              <a:path w="472" h="3350">
                <a:moveTo>
                  <a:pt x="3150" y="13221"/>
                </a:moveTo>
                <a:cubicBezTo>
                  <a:pt x="3114" y="13239"/>
                  <a:pt x="3104" y="13225"/>
                  <a:pt x="3076" y="13246"/>
                </a:cubicBezTo>
                <a:cubicBezTo>
                  <a:pt x="3031" y="13280"/>
                  <a:pt x="3021" y="13319"/>
                  <a:pt x="3001" y="13370"/>
                </a:cubicBezTo>
                <a:cubicBezTo>
                  <a:pt x="2980" y="13426"/>
                  <a:pt x="2959" y="13478"/>
                  <a:pt x="2952" y="13543"/>
                </a:cubicBezTo>
                <a:cubicBezTo>
                  <a:pt x="2944" y="13610"/>
                  <a:pt x="2934" y="13655"/>
                  <a:pt x="2927" y="13717"/>
                </a:cubicBezTo>
                <a:cubicBezTo>
                  <a:pt x="2910" y="13871"/>
                  <a:pt x="2993" y="14263"/>
                  <a:pt x="2902" y="14362"/>
                </a:cubicBezTo>
                <a:cubicBezTo>
                  <a:pt x="2876" y="14390"/>
                  <a:pt x="2882" y="14383"/>
                  <a:pt x="2828" y="14387"/>
                </a:cubicBezTo>
                <a:cubicBezTo>
                  <a:pt x="2786" y="14390"/>
                  <a:pt x="2702" y="14366"/>
                  <a:pt x="2679" y="14412"/>
                </a:cubicBezTo>
                <a:cubicBezTo>
                  <a:pt x="2656" y="14458"/>
                  <a:pt x="2688" y="14552"/>
                  <a:pt x="2704" y="14585"/>
                </a:cubicBezTo>
                <a:cubicBezTo>
                  <a:pt x="2752" y="14684"/>
                  <a:pt x="2799" y="14787"/>
                  <a:pt x="2853" y="14883"/>
                </a:cubicBezTo>
                <a:cubicBezTo>
                  <a:pt x="2908" y="14979"/>
                  <a:pt x="2960" y="15021"/>
                  <a:pt x="2977" y="15131"/>
                </a:cubicBezTo>
                <a:cubicBezTo>
                  <a:pt x="3049" y="15584"/>
                  <a:pt x="2977" y="16109"/>
                  <a:pt x="2977" y="16570"/>
                </a:cubicBezTo>
                <a:cubicBezTo>
                  <a:pt x="3047" y="16570"/>
                  <a:pt x="3092" y="16565"/>
                  <a:pt x="3150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结构体的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结构描述方式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219320"/>
            <a:ext cx="5562360" cy="302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AL tmp1,tmp2,tmp3 : B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1: xor_2 PORT MAP (a,b,tmp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2: xor_2 PORT MAP (tmp1,cin,s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3: and_2 PORT MAP (tmp1,cin,tm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4: and_2 PORT MAP (a,b,tmp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5:or_2 PORT MAP (tmp2,tmp3,co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 structure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53080" y="1219320"/>
            <a:ext cx="2438640" cy="18856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多层次的设计中，通过调用库中的元件或已设计好的模块来对当前的设计进行描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4495680"/>
            <a:ext cx="3276720" cy="56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优点：可以将已有的设计成果应用在当前的设计中，因而可以大大提高设计效率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19720" y="4038480"/>
          <a:ext cx="47242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4724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554360" y="4776840"/>
            <a:ext cx="4214880" cy="1814400"/>
          </a:xfrm>
          <a:custGeom>
            <a:avLst/>
            <a:gdLst/>
            <a:ahLst/>
            <a:rect l="l" t="t" r="r" b="b"/>
            <a:pathLst>
              <a:path w="11709" h="5036">
                <a:moveTo>
                  <a:pt x="13022" y="15478"/>
                </a:moveTo>
                <a:cubicBezTo>
                  <a:pt x="13769" y="15478"/>
                  <a:pt x="14513" y="15484"/>
                  <a:pt x="15255" y="15528"/>
                </a:cubicBezTo>
                <a:cubicBezTo>
                  <a:pt x="15479" y="15541"/>
                  <a:pt x="15710" y="15515"/>
                  <a:pt x="15925" y="15503"/>
                </a:cubicBezTo>
                <a:cubicBezTo>
                  <a:pt x="16335" y="15480"/>
                  <a:pt x="16754" y="15503"/>
                  <a:pt x="17165" y="15503"/>
                </a:cubicBezTo>
                <a:cubicBezTo>
                  <a:pt x="17168" y="15443"/>
                  <a:pt x="17179" y="15403"/>
                  <a:pt x="17190" y="15354"/>
                </a:cubicBezTo>
                <a:cubicBezTo>
                  <a:pt x="17202" y="15300"/>
                  <a:pt x="17197" y="15256"/>
                  <a:pt x="17214" y="15205"/>
                </a:cubicBezTo>
                <a:cubicBezTo>
                  <a:pt x="17236" y="15141"/>
                  <a:pt x="17269" y="15074"/>
                  <a:pt x="17289" y="15007"/>
                </a:cubicBezTo>
                <a:cubicBezTo>
                  <a:pt x="17310" y="14937"/>
                  <a:pt x="17312" y="14867"/>
                  <a:pt x="17314" y="14784"/>
                </a:cubicBezTo>
                <a:cubicBezTo>
                  <a:pt x="17317" y="14640"/>
                  <a:pt x="17317" y="14490"/>
                  <a:pt x="17289" y="14362"/>
                </a:cubicBezTo>
                <a:cubicBezTo>
                  <a:pt x="17277" y="14307"/>
                  <a:pt x="17253" y="14260"/>
                  <a:pt x="17239" y="14213"/>
                </a:cubicBezTo>
                <a:cubicBezTo>
                  <a:pt x="17215" y="14133"/>
                  <a:pt x="17202" y="14085"/>
                  <a:pt x="17165" y="14015"/>
                </a:cubicBezTo>
                <a:cubicBezTo>
                  <a:pt x="17136" y="13960"/>
                  <a:pt x="17120" y="13960"/>
                  <a:pt x="17090" y="13915"/>
                </a:cubicBezTo>
                <a:cubicBezTo>
                  <a:pt x="17073" y="13890"/>
                  <a:pt x="17085" y="13872"/>
                  <a:pt x="17066" y="13841"/>
                </a:cubicBezTo>
                <a:cubicBezTo>
                  <a:pt x="17058" y="13829"/>
                  <a:pt x="17029" y="13780"/>
                  <a:pt x="17016" y="13767"/>
                </a:cubicBezTo>
                <a:cubicBezTo>
                  <a:pt x="16984" y="13735"/>
                  <a:pt x="16967" y="13736"/>
                  <a:pt x="16942" y="13717"/>
                </a:cubicBezTo>
                <a:cubicBezTo>
                  <a:pt x="16894" y="13680"/>
                  <a:pt x="16897" y="13677"/>
                  <a:pt x="16842" y="13643"/>
                </a:cubicBezTo>
                <a:cubicBezTo>
                  <a:pt x="16765" y="13595"/>
                  <a:pt x="16713" y="13565"/>
                  <a:pt x="16619" y="13543"/>
                </a:cubicBezTo>
                <a:cubicBezTo>
                  <a:pt x="16474" y="13508"/>
                  <a:pt x="16297" y="13481"/>
                  <a:pt x="16148" y="13469"/>
                </a:cubicBezTo>
                <a:cubicBezTo>
                  <a:pt x="15723" y="13435"/>
                  <a:pt x="15277" y="13470"/>
                  <a:pt x="14858" y="13444"/>
                </a:cubicBezTo>
                <a:cubicBezTo>
                  <a:pt x="14774" y="13439"/>
                  <a:pt x="14710" y="13425"/>
                  <a:pt x="14635" y="13419"/>
                </a:cubicBezTo>
                <a:cubicBezTo>
                  <a:pt x="14349" y="13395"/>
                  <a:pt x="14052" y="13400"/>
                  <a:pt x="13767" y="13395"/>
                </a:cubicBezTo>
                <a:cubicBezTo>
                  <a:pt x="13558" y="13391"/>
                  <a:pt x="13346" y="13405"/>
                  <a:pt x="13146" y="13419"/>
                </a:cubicBezTo>
                <a:cubicBezTo>
                  <a:pt x="13034" y="13427"/>
                  <a:pt x="12764" y="13378"/>
                  <a:pt x="12700" y="13444"/>
                </a:cubicBezTo>
                <a:cubicBezTo>
                  <a:pt x="12642" y="13504"/>
                  <a:pt x="12660" y="13543"/>
                  <a:pt x="12650" y="13618"/>
                </a:cubicBezTo>
                <a:cubicBezTo>
                  <a:pt x="12631" y="13762"/>
                  <a:pt x="12654" y="13928"/>
                  <a:pt x="12675" y="14064"/>
                </a:cubicBezTo>
                <a:cubicBezTo>
                  <a:pt x="12687" y="14141"/>
                  <a:pt x="12726" y="14210"/>
                  <a:pt x="12750" y="14288"/>
                </a:cubicBezTo>
                <a:cubicBezTo>
                  <a:pt x="12770" y="14355"/>
                  <a:pt x="12771" y="14390"/>
                  <a:pt x="12774" y="14461"/>
                </a:cubicBezTo>
                <a:cubicBezTo>
                  <a:pt x="12779" y="14572"/>
                  <a:pt x="12814" y="14610"/>
                  <a:pt x="12849" y="14709"/>
                </a:cubicBezTo>
                <a:cubicBezTo>
                  <a:pt x="12868" y="14763"/>
                  <a:pt x="12869" y="14824"/>
                  <a:pt x="12874" y="14883"/>
                </a:cubicBezTo>
                <a:cubicBezTo>
                  <a:pt x="12882" y="14970"/>
                  <a:pt x="12894" y="15083"/>
                  <a:pt x="12898" y="15156"/>
                </a:cubicBezTo>
                <a:cubicBezTo>
                  <a:pt x="12908" y="15328"/>
                  <a:pt x="12898" y="15504"/>
                  <a:pt x="12898" y="15677"/>
                </a:cubicBezTo>
              </a:path>
              <a:path w="11709" h="5036">
                <a:moveTo>
                  <a:pt x="18355" y="13295"/>
                </a:moveTo>
                <a:cubicBezTo>
                  <a:pt x="18350" y="13300"/>
                  <a:pt x="18285" y="13339"/>
                  <a:pt x="18281" y="13345"/>
                </a:cubicBezTo>
                <a:cubicBezTo>
                  <a:pt x="18267" y="13370"/>
                  <a:pt x="18245" y="13415"/>
                  <a:pt x="18231" y="13444"/>
                </a:cubicBezTo>
                <a:cubicBezTo>
                  <a:pt x="18215" y="13476"/>
                  <a:pt x="18198" y="13510"/>
                  <a:pt x="18182" y="13543"/>
                </a:cubicBezTo>
                <a:cubicBezTo>
                  <a:pt x="18165" y="13579"/>
                  <a:pt x="18154" y="13608"/>
                  <a:pt x="18132" y="13643"/>
                </a:cubicBezTo>
                <a:cubicBezTo>
                  <a:pt x="18111" y="13676"/>
                  <a:pt x="18101" y="13710"/>
                  <a:pt x="18083" y="13742"/>
                </a:cubicBezTo>
                <a:cubicBezTo>
                  <a:pt x="18063" y="13777"/>
                  <a:pt x="18049" y="13806"/>
                  <a:pt x="18033" y="13841"/>
                </a:cubicBezTo>
                <a:cubicBezTo>
                  <a:pt x="18025" y="13859"/>
                  <a:pt x="17993" y="13889"/>
                  <a:pt x="17983" y="13915"/>
                </a:cubicBezTo>
                <a:cubicBezTo>
                  <a:pt x="17967" y="13957"/>
                  <a:pt x="17949" y="13997"/>
                  <a:pt x="17934" y="14039"/>
                </a:cubicBezTo>
                <a:cubicBezTo>
                  <a:pt x="17919" y="14081"/>
                  <a:pt x="17914" y="14118"/>
                  <a:pt x="17909" y="14163"/>
                </a:cubicBezTo>
                <a:cubicBezTo>
                  <a:pt x="17890" y="14336"/>
                  <a:pt x="17873" y="14607"/>
                  <a:pt x="17934" y="14759"/>
                </a:cubicBezTo>
                <a:cubicBezTo>
                  <a:pt x="17952" y="14803"/>
                  <a:pt x="17964" y="14871"/>
                  <a:pt x="17983" y="14908"/>
                </a:cubicBezTo>
                <a:cubicBezTo>
                  <a:pt x="18014" y="14969"/>
                  <a:pt x="18034" y="14987"/>
                  <a:pt x="18058" y="15032"/>
                </a:cubicBezTo>
                <a:cubicBezTo>
                  <a:pt x="18074" y="15061"/>
                  <a:pt x="18054" y="15091"/>
                  <a:pt x="18083" y="15106"/>
                </a:cubicBezTo>
                <a:cubicBezTo>
                  <a:pt x="18295" y="15213"/>
                  <a:pt x="18806" y="15105"/>
                  <a:pt x="19025" y="15081"/>
                </a:cubicBezTo>
                <a:cubicBezTo>
                  <a:pt x="19181" y="15064"/>
                  <a:pt x="19342" y="15073"/>
                  <a:pt x="19496" y="15056"/>
                </a:cubicBezTo>
                <a:cubicBezTo>
                  <a:pt x="19549" y="15050"/>
                  <a:pt x="19594" y="15037"/>
                  <a:pt x="19645" y="15032"/>
                </a:cubicBezTo>
                <a:cubicBezTo>
                  <a:pt x="19768" y="15019"/>
                  <a:pt x="19896" y="15020"/>
                  <a:pt x="20017" y="15007"/>
                </a:cubicBezTo>
                <a:cubicBezTo>
                  <a:pt x="20074" y="15001"/>
                  <a:pt x="20114" y="14998"/>
                  <a:pt x="20166" y="14982"/>
                </a:cubicBezTo>
                <a:cubicBezTo>
                  <a:pt x="20186" y="14976"/>
                  <a:pt x="20240" y="14973"/>
                  <a:pt x="20265" y="14957"/>
                </a:cubicBezTo>
                <a:cubicBezTo>
                  <a:pt x="20289" y="14942"/>
                  <a:pt x="20274" y="14915"/>
                  <a:pt x="20315" y="14908"/>
                </a:cubicBezTo>
                <a:cubicBezTo>
                  <a:pt x="20368" y="14899"/>
                  <a:pt x="20413" y="14898"/>
                  <a:pt x="20464" y="14883"/>
                </a:cubicBezTo>
                <a:cubicBezTo>
                  <a:pt x="20495" y="14874"/>
                  <a:pt x="20532" y="14870"/>
                  <a:pt x="20563" y="14858"/>
                </a:cubicBezTo>
                <a:cubicBezTo>
                  <a:pt x="20594" y="14846"/>
                  <a:pt x="20600" y="14849"/>
                  <a:pt x="20638" y="14833"/>
                </a:cubicBezTo>
                <a:cubicBezTo>
                  <a:pt x="20643" y="14831"/>
                  <a:pt x="20687" y="14794"/>
                  <a:pt x="20712" y="14784"/>
                </a:cubicBezTo>
                <a:cubicBezTo>
                  <a:pt x="20742" y="14771"/>
                  <a:pt x="20753" y="14768"/>
                  <a:pt x="20762" y="14734"/>
                </a:cubicBezTo>
                <a:cubicBezTo>
                  <a:pt x="20770" y="14704"/>
                  <a:pt x="20783" y="14635"/>
                  <a:pt x="20786" y="14610"/>
                </a:cubicBezTo>
                <a:cubicBezTo>
                  <a:pt x="20816" y="14392"/>
                  <a:pt x="20810" y="14091"/>
                  <a:pt x="20762" y="13891"/>
                </a:cubicBezTo>
                <a:cubicBezTo>
                  <a:pt x="20747" y="13830"/>
                  <a:pt x="20730" y="13771"/>
                  <a:pt x="20712" y="13717"/>
                </a:cubicBezTo>
                <a:cubicBezTo>
                  <a:pt x="20700" y="13682"/>
                  <a:pt x="20700" y="13652"/>
                  <a:pt x="20687" y="13618"/>
                </a:cubicBezTo>
                <a:cubicBezTo>
                  <a:pt x="20674" y="13585"/>
                  <a:pt x="20664" y="13584"/>
                  <a:pt x="20638" y="13543"/>
                </a:cubicBezTo>
                <a:cubicBezTo>
                  <a:pt x="20621" y="13515"/>
                  <a:pt x="20624" y="13504"/>
                  <a:pt x="20588" y="13494"/>
                </a:cubicBezTo>
                <a:cubicBezTo>
                  <a:pt x="20223" y="13395"/>
                  <a:pt x="19728" y="13580"/>
                  <a:pt x="19397" y="13469"/>
                </a:cubicBezTo>
                <a:cubicBezTo>
                  <a:pt x="19356" y="13455"/>
                  <a:pt x="19312" y="13461"/>
                  <a:pt x="19273" y="13444"/>
                </a:cubicBezTo>
                <a:cubicBezTo>
                  <a:pt x="19223" y="13422"/>
                  <a:pt x="19223" y="13438"/>
                  <a:pt x="19174" y="13419"/>
                </a:cubicBezTo>
                <a:cubicBezTo>
                  <a:pt x="19143" y="13407"/>
                  <a:pt x="19138" y="13411"/>
                  <a:pt x="19100" y="13395"/>
                </a:cubicBezTo>
                <a:cubicBezTo>
                  <a:pt x="19087" y="13390"/>
                  <a:pt x="19063" y="13379"/>
                  <a:pt x="19025" y="13370"/>
                </a:cubicBezTo>
                <a:cubicBezTo>
                  <a:pt x="18992" y="13362"/>
                  <a:pt x="18941" y="13355"/>
                  <a:pt x="18901" y="13345"/>
                </a:cubicBezTo>
                <a:cubicBezTo>
                  <a:pt x="18869" y="13337"/>
                  <a:pt x="18859" y="13329"/>
                  <a:pt x="18827" y="13320"/>
                </a:cubicBezTo>
                <a:cubicBezTo>
                  <a:pt x="18786" y="13308"/>
                  <a:pt x="18782" y="13299"/>
                  <a:pt x="18752" y="13295"/>
                </a:cubicBezTo>
                <a:cubicBezTo>
                  <a:pt x="18716" y="13291"/>
                  <a:pt x="18679" y="13275"/>
                  <a:pt x="18653" y="13271"/>
                </a:cubicBezTo>
                <a:cubicBezTo>
                  <a:pt x="18562" y="13257"/>
                  <a:pt x="18434" y="13272"/>
                  <a:pt x="18380" y="13295"/>
                </a:cubicBezTo>
                <a:cubicBezTo>
                  <a:pt x="18346" y="13309"/>
                  <a:pt x="18363" y="13304"/>
                  <a:pt x="18331" y="13320"/>
                </a:cubicBezTo>
              </a:path>
              <a:path w="11709" h="5036">
                <a:moveTo>
                  <a:pt x="18207" y="15776"/>
                </a:moveTo>
                <a:cubicBezTo>
                  <a:pt x="18184" y="15801"/>
                  <a:pt x="18113" y="15830"/>
                  <a:pt x="18083" y="15875"/>
                </a:cubicBezTo>
                <a:cubicBezTo>
                  <a:pt x="17997" y="16004"/>
                  <a:pt x="17974" y="16125"/>
                  <a:pt x="17934" y="16272"/>
                </a:cubicBezTo>
                <a:cubicBezTo>
                  <a:pt x="17901" y="16393"/>
                  <a:pt x="17898" y="16497"/>
                  <a:pt x="17884" y="16619"/>
                </a:cubicBezTo>
                <a:cubicBezTo>
                  <a:pt x="17871" y="16727"/>
                  <a:pt x="17861" y="16830"/>
                  <a:pt x="17859" y="16942"/>
                </a:cubicBezTo>
                <a:cubicBezTo>
                  <a:pt x="17856" y="17109"/>
                  <a:pt x="17898" y="17212"/>
                  <a:pt x="17959" y="17363"/>
                </a:cubicBezTo>
                <a:cubicBezTo>
                  <a:pt x="18016" y="17504"/>
                  <a:pt x="18079" y="17654"/>
                  <a:pt x="18157" y="17785"/>
                </a:cubicBezTo>
                <a:cubicBezTo>
                  <a:pt x="18223" y="17896"/>
                  <a:pt x="18340" y="18046"/>
                  <a:pt x="18455" y="18107"/>
                </a:cubicBezTo>
                <a:cubicBezTo>
                  <a:pt x="18602" y="18185"/>
                  <a:pt x="18833" y="18267"/>
                  <a:pt x="19000" y="18281"/>
                </a:cubicBezTo>
                <a:cubicBezTo>
                  <a:pt x="19320" y="18308"/>
                  <a:pt x="19646" y="18306"/>
                  <a:pt x="19968" y="18306"/>
                </a:cubicBezTo>
                <a:cubicBezTo>
                  <a:pt x="20464" y="18306"/>
                  <a:pt x="21072" y="18400"/>
                  <a:pt x="21555" y="18281"/>
                </a:cubicBezTo>
                <a:cubicBezTo>
                  <a:pt x="21653" y="18257"/>
                  <a:pt x="21711" y="18207"/>
                  <a:pt x="21779" y="18157"/>
                </a:cubicBezTo>
                <a:cubicBezTo>
                  <a:pt x="21859" y="18098"/>
                  <a:pt x="21948" y="18042"/>
                  <a:pt x="22002" y="17959"/>
                </a:cubicBezTo>
                <a:cubicBezTo>
                  <a:pt x="22046" y="17891"/>
                  <a:pt x="22101" y="17719"/>
                  <a:pt x="22126" y="17636"/>
                </a:cubicBezTo>
                <a:cubicBezTo>
                  <a:pt x="22188" y="17432"/>
                  <a:pt x="22225" y="17280"/>
                  <a:pt x="22225" y="17066"/>
                </a:cubicBezTo>
                <a:cubicBezTo>
                  <a:pt x="22225" y="16906"/>
                  <a:pt x="22165" y="16718"/>
                  <a:pt x="22101" y="16570"/>
                </a:cubicBezTo>
                <a:cubicBezTo>
                  <a:pt x="22066" y="16490"/>
                  <a:pt x="22003" y="16346"/>
                  <a:pt x="21952" y="16272"/>
                </a:cubicBezTo>
                <a:cubicBezTo>
                  <a:pt x="21854" y="16131"/>
                  <a:pt x="21767" y="15956"/>
                  <a:pt x="21654" y="15825"/>
                </a:cubicBezTo>
                <a:cubicBezTo>
                  <a:pt x="21570" y="15727"/>
                  <a:pt x="21456" y="15637"/>
                  <a:pt x="21357" y="15553"/>
                </a:cubicBezTo>
                <a:cubicBezTo>
                  <a:pt x="21307" y="15511"/>
                  <a:pt x="21240" y="15462"/>
                  <a:pt x="21183" y="15429"/>
                </a:cubicBezTo>
                <a:cubicBezTo>
                  <a:pt x="21053" y="15354"/>
                  <a:pt x="20922" y="15366"/>
                  <a:pt x="20786" y="15329"/>
                </a:cubicBezTo>
                <a:cubicBezTo>
                  <a:pt x="20593" y="15276"/>
                  <a:pt x="20394" y="15237"/>
                  <a:pt x="20191" y="15230"/>
                </a:cubicBezTo>
                <a:cubicBezTo>
                  <a:pt x="19805" y="15217"/>
                  <a:pt x="19428" y="15217"/>
                  <a:pt x="19050" y="15180"/>
                </a:cubicBezTo>
                <a:cubicBezTo>
                  <a:pt x="18899" y="15165"/>
                  <a:pt x="18730" y="15165"/>
                  <a:pt x="18579" y="15156"/>
                </a:cubicBezTo>
                <a:cubicBezTo>
                  <a:pt x="18456" y="15149"/>
                  <a:pt x="18363" y="15192"/>
                  <a:pt x="18256" y="15205"/>
                </a:cubicBezTo>
                <a:cubicBezTo>
                  <a:pt x="18158" y="15217"/>
                  <a:pt x="18159" y="15222"/>
                  <a:pt x="18083" y="15255"/>
                </a:cubicBezTo>
                <a:cubicBezTo>
                  <a:pt x="18001" y="15291"/>
                  <a:pt x="17970" y="15314"/>
                  <a:pt x="17909" y="15379"/>
                </a:cubicBezTo>
                <a:cubicBezTo>
                  <a:pt x="17882" y="15408"/>
                  <a:pt x="17793" y="15508"/>
                  <a:pt x="17785" y="15528"/>
                </a:cubicBezTo>
                <a:cubicBezTo>
                  <a:pt x="17773" y="15556"/>
                  <a:pt x="17767" y="15598"/>
                  <a:pt x="17760" y="15627"/>
                </a:cubicBezTo>
                <a:cubicBezTo>
                  <a:pt x="17747" y="15681"/>
                  <a:pt x="17763" y="15746"/>
                  <a:pt x="17760" y="15801"/>
                </a:cubicBezTo>
              </a:path>
              <a:path w="11709" h="5036">
                <a:moveTo>
                  <a:pt x="22870" y="14709"/>
                </a:moveTo>
                <a:cubicBezTo>
                  <a:pt x="22829" y="14703"/>
                  <a:pt x="22801" y="14685"/>
                  <a:pt x="22746" y="14684"/>
                </a:cubicBezTo>
                <a:cubicBezTo>
                  <a:pt x="22660" y="14682"/>
                  <a:pt x="22580" y="14692"/>
                  <a:pt x="22498" y="14709"/>
                </a:cubicBezTo>
                <a:cubicBezTo>
                  <a:pt x="22441" y="14720"/>
                  <a:pt x="22352" y="14714"/>
                  <a:pt x="22299" y="14734"/>
                </a:cubicBezTo>
                <a:cubicBezTo>
                  <a:pt x="22201" y="14772"/>
                  <a:pt x="22091" y="14853"/>
                  <a:pt x="22002" y="14908"/>
                </a:cubicBezTo>
                <a:cubicBezTo>
                  <a:pt x="21934" y="14950"/>
                  <a:pt x="21903" y="14992"/>
                  <a:pt x="21853" y="15056"/>
                </a:cubicBezTo>
                <a:cubicBezTo>
                  <a:pt x="21821" y="15097"/>
                  <a:pt x="21786" y="15147"/>
                  <a:pt x="21754" y="15205"/>
                </a:cubicBezTo>
                <a:cubicBezTo>
                  <a:pt x="21708" y="15287"/>
                  <a:pt x="21701" y="15344"/>
                  <a:pt x="21679" y="15429"/>
                </a:cubicBezTo>
                <a:cubicBezTo>
                  <a:pt x="21665" y="15482"/>
                  <a:pt x="21655" y="15537"/>
                  <a:pt x="21654" y="15602"/>
                </a:cubicBezTo>
                <a:cubicBezTo>
                  <a:pt x="21648" y="15866"/>
                  <a:pt x="21612" y="16175"/>
                  <a:pt x="21704" y="16421"/>
                </a:cubicBezTo>
                <a:cubicBezTo>
                  <a:pt x="21740" y="16518"/>
                  <a:pt x="21790" y="16627"/>
                  <a:pt x="21828" y="16718"/>
                </a:cubicBezTo>
                <a:cubicBezTo>
                  <a:pt x="21865" y="16806"/>
                  <a:pt x="21909" y="16880"/>
                  <a:pt x="21952" y="16966"/>
                </a:cubicBezTo>
                <a:cubicBezTo>
                  <a:pt x="21985" y="17031"/>
                  <a:pt x="22013" y="17135"/>
                  <a:pt x="22051" y="17190"/>
                </a:cubicBezTo>
                <a:cubicBezTo>
                  <a:pt x="22068" y="17216"/>
                  <a:pt x="22159" y="17249"/>
                  <a:pt x="22175" y="17264"/>
                </a:cubicBezTo>
                <a:cubicBezTo>
                  <a:pt x="22264" y="17346"/>
                  <a:pt x="22340" y="17386"/>
                  <a:pt x="22448" y="17438"/>
                </a:cubicBezTo>
                <a:cubicBezTo>
                  <a:pt x="22485" y="17456"/>
                  <a:pt x="22534" y="17500"/>
                  <a:pt x="22572" y="17512"/>
                </a:cubicBezTo>
                <a:cubicBezTo>
                  <a:pt x="22637" y="17533"/>
                  <a:pt x="22679" y="17521"/>
                  <a:pt x="22746" y="17562"/>
                </a:cubicBezTo>
                <a:cubicBezTo>
                  <a:pt x="22842" y="17620"/>
                  <a:pt x="22886" y="17636"/>
                  <a:pt x="22994" y="17661"/>
                </a:cubicBezTo>
                <a:cubicBezTo>
                  <a:pt x="23091" y="17684"/>
                  <a:pt x="23191" y="17711"/>
                  <a:pt x="23292" y="17735"/>
                </a:cubicBezTo>
                <a:cubicBezTo>
                  <a:pt x="23414" y="17764"/>
                  <a:pt x="23539" y="17782"/>
                  <a:pt x="23664" y="17785"/>
                </a:cubicBezTo>
                <a:cubicBezTo>
                  <a:pt x="23737" y="17787"/>
                  <a:pt x="23830" y="17802"/>
                  <a:pt x="23887" y="17760"/>
                </a:cubicBezTo>
                <a:cubicBezTo>
                  <a:pt x="23907" y="17745"/>
                  <a:pt x="23933" y="17691"/>
                  <a:pt x="23961" y="17661"/>
                </a:cubicBezTo>
                <a:cubicBezTo>
                  <a:pt x="24016" y="17601"/>
                  <a:pt x="24100" y="17549"/>
                  <a:pt x="24135" y="17462"/>
                </a:cubicBezTo>
                <a:cubicBezTo>
                  <a:pt x="24180" y="17349"/>
                  <a:pt x="24235" y="17271"/>
                  <a:pt x="24284" y="17165"/>
                </a:cubicBezTo>
                <a:cubicBezTo>
                  <a:pt x="24323" y="17080"/>
                  <a:pt x="24347" y="16958"/>
                  <a:pt x="24358" y="16867"/>
                </a:cubicBezTo>
                <a:cubicBezTo>
                  <a:pt x="24369" y="16771"/>
                  <a:pt x="24376" y="16611"/>
                  <a:pt x="24333" y="16520"/>
                </a:cubicBezTo>
                <a:cubicBezTo>
                  <a:pt x="24269" y="16386"/>
                  <a:pt x="24195" y="16262"/>
                  <a:pt x="24135" y="16123"/>
                </a:cubicBezTo>
                <a:cubicBezTo>
                  <a:pt x="24091" y="16021"/>
                  <a:pt x="24057" y="15914"/>
                  <a:pt x="23986" y="15825"/>
                </a:cubicBezTo>
                <a:cubicBezTo>
                  <a:pt x="23937" y="15764"/>
                  <a:pt x="23899" y="15722"/>
                  <a:pt x="23862" y="15652"/>
                </a:cubicBezTo>
                <a:cubicBezTo>
                  <a:pt x="23830" y="15591"/>
                  <a:pt x="23801" y="15517"/>
                  <a:pt x="23763" y="15453"/>
                </a:cubicBezTo>
                <a:cubicBezTo>
                  <a:pt x="23737" y="15411"/>
                  <a:pt x="23712" y="15369"/>
                  <a:pt x="23688" y="15329"/>
                </a:cubicBezTo>
                <a:cubicBezTo>
                  <a:pt x="23654" y="15273"/>
                  <a:pt x="23594" y="15219"/>
                  <a:pt x="23564" y="15180"/>
                </a:cubicBezTo>
                <a:cubicBezTo>
                  <a:pt x="23554" y="15167"/>
                  <a:pt x="23521" y="15115"/>
                  <a:pt x="23515" y="15106"/>
                </a:cubicBezTo>
                <a:cubicBezTo>
                  <a:pt x="23490" y="15070"/>
                  <a:pt x="23468" y="15045"/>
                  <a:pt x="23440" y="15007"/>
                </a:cubicBezTo>
                <a:cubicBezTo>
                  <a:pt x="23417" y="14976"/>
                  <a:pt x="23377" y="14947"/>
                  <a:pt x="23366" y="14932"/>
                </a:cubicBezTo>
                <a:cubicBezTo>
                  <a:pt x="23340" y="14899"/>
                  <a:pt x="23311" y="14874"/>
                  <a:pt x="23292" y="14858"/>
                </a:cubicBezTo>
                <a:cubicBezTo>
                  <a:pt x="23257" y="14830"/>
                  <a:pt x="23239" y="14828"/>
                  <a:pt x="23217" y="14808"/>
                </a:cubicBezTo>
                <a:cubicBezTo>
                  <a:pt x="23202" y="14794"/>
                  <a:pt x="23175" y="14757"/>
                  <a:pt x="23143" y="14734"/>
                </a:cubicBezTo>
                <a:cubicBezTo>
                  <a:pt x="23128" y="14724"/>
                  <a:pt x="23101" y="14700"/>
                  <a:pt x="23068" y="14684"/>
                </a:cubicBezTo>
                <a:cubicBezTo>
                  <a:pt x="23047" y="14674"/>
                  <a:pt x="23017" y="14676"/>
                  <a:pt x="22994" y="14660"/>
                </a:cubicBezTo>
                <a:cubicBezTo>
                  <a:pt x="22972" y="14645"/>
                  <a:pt x="22950" y="14622"/>
                  <a:pt x="22920" y="14610"/>
                </a:cubicBezTo>
                <a:cubicBezTo>
                  <a:pt x="22859" y="14586"/>
                  <a:pt x="22879" y="14593"/>
                  <a:pt x="22820" y="14560"/>
                </a:cubicBezTo>
                <a:cubicBezTo>
                  <a:pt x="22788" y="14542"/>
                  <a:pt x="22781" y="14520"/>
                  <a:pt x="22746" y="14511"/>
                </a:cubicBezTo>
                <a:cubicBezTo>
                  <a:pt x="22701" y="14500"/>
                  <a:pt x="22644" y="14514"/>
                  <a:pt x="22597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87880" y="2394000"/>
            <a:ext cx="1233360" cy="1440"/>
          </a:xfrm>
          <a:custGeom>
            <a:avLst/>
            <a:gdLst/>
            <a:ahLst/>
            <a:rect l="l" t="t" r="r" b="b"/>
            <a:pathLst>
              <a:path w="3424" h="1">
                <a:moveTo>
                  <a:pt x="11633" y="6648"/>
                </a:moveTo>
                <a:cubicBezTo>
                  <a:pt x="12774" y="6648"/>
                  <a:pt x="13915" y="6648"/>
                  <a:pt x="15056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25760" y="2367000"/>
            <a:ext cx="3892320" cy="7920"/>
          </a:xfrm>
          <a:custGeom>
            <a:avLst/>
            <a:gdLst/>
            <a:ahLst/>
            <a:rect l="l" t="t" r="r" b="b"/>
            <a:pathLst>
              <a:path w="10816" h="26">
                <a:moveTo>
                  <a:pt x="4514" y="6598"/>
                </a:moveTo>
                <a:cubicBezTo>
                  <a:pt x="6582" y="6598"/>
                  <a:pt x="8632" y="6573"/>
                  <a:pt x="10691" y="6573"/>
                </a:cubicBezTo>
                <a:cubicBezTo>
                  <a:pt x="12237" y="6573"/>
                  <a:pt x="13783" y="6573"/>
                  <a:pt x="15329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33680" y="2741760"/>
            <a:ext cx="4090680" cy="17280"/>
          </a:xfrm>
          <a:custGeom>
            <a:avLst/>
            <a:gdLst/>
            <a:ahLst/>
            <a:rect l="l" t="t" r="r" b="b"/>
            <a:pathLst>
              <a:path w="11362" h="51">
                <a:moveTo>
                  <a:pt x="4539" y="7615"/>
                </a:moveTo>
                <a:cubicBezTo>
                  <a:pt x="4859" y="7615"/>
                  <a:pt x="5165" y="7660"/>
                  <a:pt x="5482" y="7665"/>
                </a:cubicBezTo>
                <a:cubicBezTo>
                  <a:pt x="6794" y="7684"/>
                  <a:pt x="8204" y="7703"/>
                  <a:pt x="9475" y="7640"/>
                </a:cubicBezTo>
                <a:cubicBezTo>
                  <a:pt x="11605" y="7534"/>
                  <a:pt x="13766" y="7640"/>
                  <a:pt x="15900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32680" y="4037040"/>
            <a:ext cx="1268280" cy="669960"/>
          </a:xfrm>
          <a:custGeom>
            <a:avLst/>
            <a:gdLst/>
            <a:ahLst/>
            <a:rect l="l" t="t" r="r" b="b"/>
            <a:pathLst>
              <a:path w="3523" h="1861">
                <a:moveTo>
                  <a:pt x="20563" y="11906"/>
                </a:moveTo>
                <a:cubicBezTo>
                  <a:pt x="20544" y="11880"/>
                  <a:pt x="20545" y="11866"/>
                  <a:pt x="20513" y="11832"/>
                </a:cubicBezTo>
                <a:cubicBezTo>
                  <a:pt x="20491" y="11809"/>
                  <a:pt x="20487" y="11782"/>
                  <a:pt x="20464" y="11757"/>
                </a:cubicBezTo>
                <a:cubicBezTo>
                  <a:pt x="20430" y="11720"/>
                  <a:pt x="20424" y="11721"/>
                  <a:pt x="20389" y="11683"/>
                </a:cubicBezTo>
                <a:cubicBezTo>
                  <a:pt x="20355" y="11646"/>
                  <a:pt x="20289" y="11611"/>
                  <a:pt x="20265" y="11584"/>
                </a:cubicBezTo>
                <a:cubicBezTo>
                  <a:pt x="20236" y="11552"/>
                  <a:pt x="20209" y="11526"/>
                  <a:pt x="20191" y="11509"/>
                </a:cubicBezTo>
                <a:cubicBezTo>
                  <a:pt x="20165" y="11485"/>
                  <a:pt x="20144" y="11451"/>
                  <a:pt x="20117" y="11435"/>
                </a:cubicBezTo>
                <a:cubicBezTo>
                  <a:pt x="20085" y="11417"/>
                  <a:pt x="20069" y="11426"/>
                  <a:pt x="20042" y="11410"/>
                </a:cubicBezTo>
                <a:cubicBezTo>
                  <a:pt x="20004" y="11388"/>
                  <a:pt x="19982" y="11353"/>
                  <a:pt x="19943" y="11336"/>
                </a:cubicBezTo>
                <a:cubicBezTo>
                  <a:pt x="19901" y="11318"/>
                  <a:pt x="19840" y="11300"/>
                  <a:pt x="19794" y="11286"/>
                </a:cubicBezTo>
                <a:cubicBezTo>
                  <a:pt x="19749" y="11272"/>
                  <a:pt x="19692" y="11246"/>
                  <a:pt x="19645" y="11237"/>
                </a:cubicBezTo>
                <a:cubicBezTo>
                  <a:pt x="19604" y="11230"/>
                  <a:pt x="19587" y="11217"/>
                  <a:pt x="19546" y="11212"/>
                </a:cubicBezTo>
                <a:cubicBezTo>
                  <a:pt x="19294" y="11181"/>
                  <a:pt x="18832" y="11142"/>
                  <a:pt x="18604" y="11237"/>
                </a:cubicBezTo>
                <a:cubicBezTo>
                  <a:pt x="18557" y="11257"/>
                  <a:pt x="18541" y="11266"/>
                  <a:pt x="18504" y="11286"/>
                </a:cubicBezTo>
                <a:cubicBezTo>
                  <a:pt x="18494" y="11292"/>
                  <a:pt x="18457" y="11321"/>
                  <a:pt x="18430" y="11336"/>
                </a:cubicBezTo>
                <a:cubicBezTo>
                  <a:pt x="18365" y="11373"/>
                  <a:pt x="18361" y="11413"/>
                  <a:pt x="18306" y="11460"/>
                </a:cubicBezTo>
                <a:cubicBezTo>
                  <a:pt x="18267" y="11494"/>
                  <a:pt x="18210" y="11532"/>
                  <a:pt x="18182" y="11559"/>
                </a:cubicBezTo>
                <a:cubicBezTo>
                  <a:pt x="18144" y="11596"/>
                  <a:pt x="18144" y="11596"/>
                  <a:pt x="18107" y="11633"/>
                </a:cubicBezTo>
                <a:cubicBezTo>
                  <a:pt x="18046" y="11694"/>
                  <a:pt x="18013" y="11767"/>
                  <a:pt x="17959" y="11832"/>
                </a:cubicBezTo>
                <a:cubicBezTo>
                  <a:pt x="17912" y="11889"/>
                  <a:pt x="17837" y="11942"/>
                  <a:pt x="17785" y="12005"/>
                </a:cubicBezTo>
                <a:cubicBezTo>
                  <a:pt x="17763" y="12031"/>
                  <a:pt x="17725" y="12062"/>
                  <a:pt x="17711" y="12080"/>
                </a:cubicBezTo>
                <a:cubicBezTo>
                  <a:pt x="17685" y="12113"/>
                  <a:pt x="17663" y="12142"/>
                  <a:pt x="17636" y="12179"/>
                </a:cubicBezTo>
                <a:cubicBezTo>
                  <a:pt x="17596" y="12234"/>
                  <a:pt x="17572" y="12295"/>
                  <a:pt x="17537" y="12353"/>
                </a:cubicBezTo>
                <a:cubicBezTo>
                  <a:pt x="17518" y="12385"/>
                  <a:pt x="17472" y="12413"/>
                  <a:pt x="17462" y="12427"/>
                </a:cubicBezTo>
                <a:cubicBezTo>
                  <a:pt x="17443" y="12452"/>
                  <a:pt x="17441" y="12465"/>
                  <a:pt x="17413" y="12502"/>
                </a:cubicBezTo>
                <a:cubicBezTo>
                  <a:pt x="17384" y="12541"/>
                  <a:pt x="17356" y="12588"/>
                  <a:pt x="17338" y="12626"/>
                </a:cubicBezTo>
                <a:cubicBezTo>
                  <a:pt x="17328" y="12646"/>
                  <a:pt x="17314" y="12650"/>
                  <a:pt x="17314" y="12700"/>
                </a:cubicBezTo>
                <a:cubicBezTo>
                  <a:pt x="17314" y="12735"/>
                  <a:pt x="17343" y="12852"/>
                  <a:pt x="17363" y="12874"/>
                </a:cubicBezTo>
                <a:cubicBezTo>
                  <a:pt x="17417" y="12936"/>
                  <a:pt x="17490" y="12977"/>
                  <a:pt x="17587" y="12998"/>
                </a:cubicBezTo>
                <a:cubicBezTo>
                  <a:pt x="17689" y="13021"/>
                  <a:pt x="17778" y="13020"/>
                  <a:pt x="17884" y="13022"/>
                </a:cubicBezTo>
                <a:cubicBezTo>
                  <a:pt x="17978" y="13024"/>
                  <a:pt x="18071" y="13041"/>
                  <a:pt x="18157" y="13047"/>
                </a:cubicBezTo>
                <a:cubicBezTo>
                  <a:pt x="18534" y="13071"/>
                  <a:pt x="18935" y="13041"/>
                  <a:pt x="19298" y="13072"/>
                </a:cubicBezTo>
                <a:cubicBezTo>
                  <a:pt x="19623" y="13099"/>
                  <a:pt x="20090" y="13133"/>
                  <a:pt x="20389" y="13047"/>
                </a:cubicBezTo>
                <a:cubicBezTo>
                  <a:pt x="20446" y="13031"/>
                  <a:pt x="20461" y="13004"/>
                  <a:pt x="20513" y="12973"/>
                </a:cubicBezTo>
                <a:cubicBezTo>
                  <a:pt x="20563" y="12943"/>
                  <a:pt x="20592" y="12930"/>
                  <a:pt x="20613" y="12898"/>
                </a:cubicBezTo>
                <a:cubicBezTo>
                  <a:pt x="20631" y="12871"/>
                  <a:pt x="20623" y="12825"/>
                  <a:pt x="20638" y="12799"/>
                </a:cubicBezTo>
                <a:cubicBezTo>
                  <a:pt x="20650" y="12778"/>
                  <a:pt x="20693" y="12738"/>
                  <a:pt x="20712" y="12700"/>
                </a:cubicBezTo>
                <a:cubicBezTo>
                  <a:pt x="20745" y="12631"/>
                  <a:pt x="20815" y="12572"/>
                  <a:pt x="20836" y="12502"/>
                </a:cubicBezTo>
                <a:cubicBezTo>
                  <a:pt x="20871" y="12387"/>
                  <a:pt x="20847" y="12129"/>
                  <a:pt x="20811" y="12030"/>
                </a:cubicBezTo>
                <a:cubicBezTo>
                  <a:pt x="20798" y="11994"/>
                  <a:pt x="20791" y="11943"/>
                  <a:pt x="20762" y="11906"/>
                </a:cubicBezTo>
                <a:cubicBezTo>
                  <a:pt x="20752" y="11893"/>
                  <a:pt x="20703" y="11865"/>
                  <a:pt x="20687" y="11832"/>
                </a:cubicBezTo>
                <a:cubicBezTo>
                  <a:pt x="20671" y="11798"/>
                  <a:pt x="20651" y="11775"/>
                  <a:pt x="20638" y="11757"/>
                </a:cubicBezTo>
                <a:cubicBezTo>
                  <a:pt x="20611" y="11721"/>
                  <a:pt x="20591" y="11690"/>
                  <a:pt x="20563" y="11658"/>
                </a:cubicBezTo>
                <a:cubicBezTo>
                  <a:pt x="20545" y="11637"/>
                  <a:pt x="20531" y="11628"/>
                  <a:pt x="20513" y="11609"/>
                </a:cubicBezTo>
                <a:cubicBezTo>
                  <a:pt x="20489" y="11584"/>
                  <a:pt x="20477" y="11572"/>
                  <a:pt x="20439" y="11534"/>
                </a:cubicBezTo>
                <a:cubicBezTo>
                  <a:pt x="20420" y="11515"/>
                  <a:pt x="20374" y="11441"/>
                  <a:pt x="20365" y="11435"/>
                </a:cubicBezTo>
                <a:cubicBezTo>
                  <a:pt x="20337" y="11417"/>
                  <a:pt x="20321" y="11423"/>
                  <a:pt x="20290" y="11410"/>
                </a:cubicBezTo>
                <a:cubicBezTo>
                  <a:pt x="20266" y="11400"/>
                  <a:pt x="20222" y="11364"/>
                  <a:pt x="20216" y="11361"/>
                </a:cubicBezTo>
                <a:cubicBezTo>
                  <a:pt x="20162" y="11337"/>
                  <a:pt x="20094" y="11307"/>
                  <a:pt x="20042" y="11286"/>
                </a:cubicBezTo>
                <a:cubicBezTo>
                  <a:pt x="20015" y="11275"/>
                  <a:pt x="19970" y="11264"/>
                  <a:pt x="19943" y="11261"/>
                </a:cubicBezTo>
                <a:cubicBezTo>
                  <a:pt x="19855" y="11250"/>
                  <a:pt x="19759" y="11261"/>
                  <a:pt x="19670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04960" y="2982960"/>
            <a:ext cx="4581720" cy="160200"/>
          </a:xfrm>
          <a:custGeom>
            <a:avLst/>
            <a:gdLst/>
            <a:ahLst/>
            <a:rect l="l" t="t" r="r" b="b"/>
            <a:pathLst>
              <a:path w="12725" h="447">
                <a:moveTo>
                  <a:pt x="4738" y="8731"/>
                </a:moveTo>
                <a:cubicBezTo>
                  <a:pt x="5139" y="8731"/>
                  <a:pt x="5524" y="8682"/>
                  <a:pt x="5928" y="8682"/>
                </a:cubicBezTo>
                <a:cubicBezTo>
                  <a:pt x="6729" y="8682"/>
                  <a:pt x="7569" y="8740"/>
                  <a:pt x="8359" y="8632"/>
                </a:cubicBezTo>
                <a:cubicBezTo>
                  <a:pt x="8575" y="8602"/>
                  <a:pt x="8784" y="8586"/>
                  <a:pt x="9004" y="8582"/>
                </a:cubicBezTo>
                <a:cubicBezTo>
                  <a:pt x="9292" y="8576"/>
                  <a:pt x="9563" y="8550"/>
                  <a:pt x="9847" y="8533"/>
                </a:cubicBezTo>
                <a:cubicBezTo>
                  <a:pt x="10265" y="8507"/>
                  <a:pt x="10704" y="8508"/>
                  <a:pt x="11112" y="8483"/>
                </a:cubicBezTo>
                <a:cubicBezTo>
                  <a:pt x="11384" y="8466"/>
                  <a:pt x="11665" y="8450"/>
                  <a:pt x="11931" y="8434"/>
                </a:cubicBezTo>
                <a:cubicBezTo>
                  <a:pt x="12210" y="8417"/>
                  <a:pt x="12496" y="8413"/>
                  <a:pt x="12774" y="8384"/>
                </a:cubicBezTo>
                <a:cubicBezTo>
                  <a:pt x="13033" y="8358"/>
                  <a:pt x="13284" y="8299"/>
                  <a:pt x="13543" y="8285"/>
                </a:cubicBezTo>
                <a:cubicBezTo>
                  <a:pt x="14210" y="8250"/>
                  <a:pt x="14889" y="8289"/>
                  <a:pt x="15553" y="8310"/>
                </a:cubicBezTo>
                <a:cubicBezTo>
                  <a:pt x="16188" y="8330"/>
                  <a:pt x="16827" y="8310"/>
                  <a:pt x="17462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60680" y="3456000"/>
            <a:ext cx="3832200" cy="88920"/>
          </a:xfrm>
          <a:custGeom>
            <a:avLst/>
            <a:gdLst/>
            <a:ahLst/>
            <a:rect l="l" t="t" r="r" b="b"/>
            <a:pathLst>
              <a:path w="10642" h="249">
                <a:moveTo>
                  <a:pt x="4614" y="9723"/>
                </a:moveTo>
                <a:cubicBezTo>
                  <a:pt x="4824" y="9743"/>
                  <a:pt x="5025" y="9789"/>
                  <a:pt x="5234" y="9798"/>
                </a:cubicBezTo>
                <a:cubicBezTo>
                  <a:pt x="5540" y="9811"/>
                  <a:pt x="5846" y="9820"/>
                  <a:pt x="6152" y="9823"/>
                </a:cubicBezTo>
                <a:cubicBezTo>
                  <a:pt x="7169" y="9834"/>
                  <a:pt x="8187" y="9847"/>
                  <a:pt x="9203" y="9847"/>
                </a:cubicBezTo>
                <a:cubicBezTo>
                  <a:pt x="9604" y="9847"/>
                  <a:pt x="10019" y="9799"/>
                  <a:pt x="10418" y="9748"/>
                </a:cubicBezTo>
                <a:cubicBezTo>
                  <a:pt x="10741" y="9706"/>
                  <a:pt x="11060" y="9658"/>
                  <a:pt x="11385" y="9649"/>
                </a:cubicBezTo>
                <a:cubicBezTo>
                  <a:pt x="11866" y="9636"/>
                  <a:pt x="12347" y="9660"/>
                  <a:pt x="12824" y="9674"/>
                </a:cubicBezTo>
                <a:cubicBezTo>
                  <a:pt x="13097" y="9682"/>
                  <a:pt x="13359" y="9645"/>
                  <a:pt x="13618" y="9624"/>
                </a:cubicBezTo>
                <a:cubicBezTo>
                  <a:pt x="13735" y="9615"/>
                  <a:pt x="13849" y="9606"/>
                  <a:pt x="13965" y="9599"/>
                </a:cubicBezTo>
                <a:cubicBezTo>
                  <a:pt x="14392" y="9572"/>
                  <a:pt x="14827" y="9599"/>
                  <a:pt x="15255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下层元件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219320"/>
            <a:ext cx="4038480" cy="2624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ITY and_2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T(  i1, i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and_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TECTURE a OF and_2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1&lt;=i1 AND i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a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4038480"/>
            <a:ext cx="3886200" cy="2533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ITY or_2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T(   i3, i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r_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TECTURE a OF or_2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2&lt;=i3 OR i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438280"/>
            <a:ext cx="3886200" cy="253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ITY xor_2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T(   i5, i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xor_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TECTURE a OF xor_2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&lt;=a XOR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1295280"/>
            <a:ext cx="1905120" cy="533520"/>
          </a:xfrm>
          <a:prstGeom prst="wedgeRoundRectCallout">
            <a:avLst>
              <a:gd name="adj1" fmla="val -73000"/>
              <a:gd name="adj2" fmla="val 166370"/>
              <a:gd name="adj3" fmla="val 16667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二输入与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6172200"/>
            <a:ext cx="2057400" cy="457200"/>
          </a:xfrm>
          <a:prstGeom prst="wedgeRoundRectCallout">
            <a:avLst>
              <a:gd name="adj1" fmla="val -68981"/>
              <a:gd name="adj2" fmla="val -153472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输入或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219320"/>
            <a:ext cx="2133720" cy="914400"/>
          </a:xfrm>
          <a:prstGeom prst="wedgeEllipseCallout">
            <a:avLst>
              <a:gd name="adj1" fmla="val -10712"/>
              <a:gd name="adj2" fmla="val 1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二输入异或门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57840" y="2581200"/>
            <a:ext cx="1785960" cy="2079720"/>
          </a:xfrm>
          <a:custGeom>
            <a:avLst/>
            <a:gdLst/>
            <a:ahLst/>
            <a:rect l="l" t="t" r="r" b="b"/>
            <a:pathLst>
              <a:path w="4962" h="5780">
                <a:moveTo>
                  <a:pt x="13494" y="7541"/>
                </a:moveTo>
                <a:cubicBezTo>
                  <a:pt x="13494" y="7533"/>
                  <a:pt x="13494" y="7524"/>
                  <a:pt x="13494" y="7516"/>
                </a:cubicBezTo>
                <a:cubicBezTo>
                  <a:pt x="13546" y="7516"/>
                  <a:pt x="13543" y="7518"/>
                  <a:pt x="13543" y="7466"/>
                </a:cubicBezTo>
              </a:path>
              <a:path w="4962" h="5780">
                <a:moveTo>
                  <a:pt x="18008" y="12948"/>
                </a:moveTo>
                <a:cubicBezTo>
                  <a:pt x="18120" y="12948"/>
                  <a:pt x="18225" y="12940"/>
                  <a:pt x="18331" y="12923"/>
                </a:cubicBezTo>
                <a:cubicBezTo>
                  <a:pt x="18372" y="12923"/>
                  <a:pt x="18380" y="12923"/>
                  <a:pt x="18405" y="12923"/>
                </a:cubicBezTo>
                <a:cubicBezTo>
                  <a:pt x="18420" y="12877"/>
                  <a:pt x="18439" y="12919"/>
                  <a:pt x="18455" y="12874"/>
                </a:cubicBezTo>
              </a:path>
              <a:path w="4962" h="5780">
                <a:moveTo>
                  <a:pt x="17066" y="12849"/>
                </a:moveTo>
                <a:cubicBezTo>
                  <a:pt x="17127" y="12849"/>
                  <a:pt x="17166" y="12834"/>
                  <a:pt x="17214" y="12824"/>
                </a:cubicBezTo>
                <a:cubicBezTo>
                  <a:pt x="17271" y="12812"/>
                  <a:pt x="17331" y="12810"/>
                  <a:pt x="17388" y="12799"/>
                </a:cubicBezTo>
              </a:path>
              <a:path w="4962" h="5780">
                <a:moveTo>
                  <a:pt x="14387" y="7169"/>
                </a:moveTo>
                <a:cubicBezTo>
                  <a:pt x="14379" y="7191"/>
                  <a:pt x="14341" y="7232"/>
                  <a:pt x="14337" y="7243"/>
                </a:cubicBezTo>
                <a:cubicBezTo>
                  <a:pt x="14313" y="7313"/>
                  <a:pt x="14304" y="7373"/>
                  <a:pt x="14288" y="7441"/>
                </a:cubicBezTo>
                <a:cubicBezTo>
                  <a:pt x="14268" y="7527"/>
                  <a:pt x="14244" y="7623"/>
                  <a:pt x="14238" y="7714"/>
                </a:cubicBezTo>
                <a:cubicBezTo>
                  <a:pt x="14222" y="7962"/>
                  <a:pt x="14185" y="8323"/>
                  <a:pt x="14263" y="8558"/>
                </a:cubicBezTo>
                <a:cubicBezTo>
                  <a:pt x="14306" y="8689"/>
                  <a:pt x="14349" y="8790"/>
                  <a:pt x="14362" y="8930"/>
                </a:cubicBezTo>
                <a:cubicBezTo>
                  <a:pt x="14387" y="9214"/>
                  <a:pt x="14382" y="9550"/>
                  <a:pt x="14337" y="9823"/>
                </a:cubicBezTo>
                <a:cubicBezTo>
                  <a:pt x="14321" y="9917"/>
                  <a:pt x="14307" y="9945"/>
                  <a:pt x="14263" y="10021"/>
                </a:cubicBezTo>
                <a:cubicBezTo>
                  <a:pt x="14239" y="10062"/>
                  <a:pt x="14221" y="10061"/>
                  <a:pt x="14213" y="10096"/>
                </a:cubicBezTo>
                <a:cubicBezTo>
                  <a:pt x="14187" y="10210"/>
                  <a:pt x="14262" y="10269"/>
                  <a:pt x="14288" y="10368"/>
                </a:cubicBezTo>
                <a:cubicBezTo>
                  <a:pt x="14308" y="10446"/>
                  <a:pt x="14303" y="10526"/>
                  <a:pt x="14312" y="10616"/>
                </a:cubicBezTo>
                <a:cubicBezTo>
                  <a:pt x="14325" y="10750"/>
                  <a:pt x="14390" y="10861"/>
                  <a:pt x="14412" y="10988"/>
                </a:cubicBezTo>
                <a:cubicBezTo>
                  <a:pt x="14427" y="11075"/>
                  <a:pt x="14430" y="11174"/>
                  <a:pt x="14436" y="11261"/>
                </a:cubicBezTo>
                <a:cubicBezTo>
                  <a:pt x="14472" y="11802"/>
                  <a:pt x="14436" y="12355"/>
                  <a:pt x="14436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0800" y="1411200"/>
            <a:ext cx="2073240" cy="2286000"/>
          </a:xfrm>
          <a:custGeom>
            <a:avLst/>
            <a:gdLst/>
            <a:ahLst/>
            <a:rect l="l" t="t" r="r" b="b"/>
            <a:pathLst>
              <a:path w="5756" h="6351">
                <a:moveTo>
                  <a:pt x="5283" y="4341"/>
                </a:moveTo>
                <a:cubicBezTo>
                  <a:pt x="5345" y="4349"/>
                  <a:pt x="5392" y="4363"/>
                  <a:pt x="5457" y="4366"/>
                </a:cubicBezTo>
                <a:cubicBezTo>
                  <a:pt x="5567" y="4370"/>
                  <a:pt x="5666" y="4390"/>
                  <a:pt x="5779" y="4390"/>
                </a:cubicBezTo>
                <a:cubicBezTo>
                  <a:pt x="6020" y="4390"/>
                  <a:pt x="6267" y="4402"/>
                  <a:pt x="6499" y="4366"/>
                </a:cubicBezTo>
                <a:cubicBezTo>
                  <a:pt x="6594" y="4351"/>
                  <a:pt x="6707" y="4349"/>
                  <a:pt x="6796" y="4341"/>
                </a:cubicBezTo>
                <a:cubicBezTo>
                  <a:pt x="6938" y="4328"/>
                  <a:pt x="7079" y="4332"/>
                  <a:pt x="7218" y="4316"/>
                </a:cubicBezTo>
                <a:cubicBezTo>
                  <a:pt x="7312" y="4305"/>
                  <a:pt x="7400" y="4312"/>
                  <a:pt x="7491" y="4291"/>
                </a:cubicBezTo>
                <a:cubicBezTo>
                  <a:pt x="7565" y="4274"/>
                  <a:pt x="7642" y="4254"/>
                  <a:pt x="7714" y="4242"/>
                </a:cubicBezTo>
                <a:cubicBezTo>
                  <a:pt x="7778" y="4232"/>
                  <a:pt x="7882" y="4223"/>
                  <a:pt x="7913" y="4217"/>
                </a:cubicBezTo>
                <a:cubicBezTo>
                  <a:pt x="7949" y="4210"/>
                  <a:pt x="8001" y="4217"/>
                  <a:pt x="8037" y="4217"/>
                </a:cubicBezTo>
              </a:path>
              <a:path w="5756" h="6351">
                <a:moveTo>
                  <a:pt x="2803" y="3919"/>
                </a:moveTo>
                <a:cubicBezTo>
                  <a:pt x="2786" y="3940"/>
                  <a:pt x="2755" y="3975"/>
                  <a:pt x="2729" y="4018"/>
                </a:cubicBezTo>
                <a:cubicBezTo>
                  <a:pt x="2704" y="4059"/>
                  <a:pt x="2694" y="4103"/>
                  <a:pt x="2679" y="4142"/>
                </a:cubicBezTo>
                <a:cubicBezTo>
                  <a:pt x="2661" y="4189"/>
                  <a:pt x="2622" y="4242"/>
                  <a:pt x="2604" y="4291"/>
                </a:cubicBezTo>
                <a:cubicBezTo>
                  <a:pt x="2589" y="4332"/>
                  <a:pt x="2563" y="4420"/>
                  <a:pt x="2555" y="4465"/>
                </a:cubicBezTo>
                <a:cubicBezTo>
                  <a:pt x="2518" y="4689"/>
                  <a:pt x="2555" y="4956"/>
                  <a:pt x="2555" y="5184"/>
                </a:cubicBezTo>
                <a:cubicBezTo>
                  <a:pt x="2483" y="5184"/>
                  <a:pt x="2419" y="5175"/>
                  <a:pt x="2381" y="5159"/>
                </a:cubicBezTo>
                <a:cubicBezTo>
                  <a:pt x="2345" y="5144"/>
                  <a:pt x="2336" y="5144"/>
                  <a:pt x="2307" y="5135"/>
                </a:cubicBezTo>
                <a:cubicBezTo>
                  <a:pt x="2299" y="5135"/>
                  <a:pt x="2290" y="5135"/>
                  <a:pt x="2282" y="5135"/>
                </a:cubicBezTo>
                <a:cubicBezTo>
                  <a:pt x="2303" y="5173"/>
                  <a:pt x="2332" y="5216"/>
                  <a:pt x="2356" y="5259"/>
                </a:cubicBezTo>
                <a:cubicBezTo>
                  <a:pt x="2373" y="5289"/>
                  <a:pt x="2390" y="5326"/>
                  <a:pt x="2406" y="5358"/>
                </a:cubicBezTo>
                <a:cubicBezTo>
                  <a:pt x="2428" y="5401"/>
                  <a:pt x="2428" y="5406"/>
                  <a:pt x="2431" y="5457"/>
                </a:cubicBezTo>
                <a:cubicBezTo>
                  <a:pt x="2465" y="5981"/>
                  <a:pt x="2431" y="6520"/>
                  <a:pt x="2431" y="7045"/>
                </a:cubicBezTo>
                <a:cubicBezTo>
                  <a:pt x="2503" y="7045"/>
                  <a:pt x="2571" y="7027"/>
                  <a:pt x="2629" y="7020"/>
                </a:cubicBezTo>
                <a:cubicBezTo>
                  <a:pt x="2702" y="7011"/>
                  <a:pt x="2684" y="7015"/>
                  <a:pt x="2729" y="6995"/>
                </a:cubicBezTo>
              </a:path>
              <a:path w="5756" h="6351">
                <a:moveTo>
                  <a:pt x="2753" y="7615"/>
                </a:moveTo>
                <a:lnTo>
                  <a:pt x="2753" y="7615"/>
                </a:lnTo>
              </a:path>
              <a:path w="5756" h="6351">
                <a:moveTo>
                  <a:pt x="5110" y="5259"/>
                </a:moveTo>
                <a:cubicBezTo>
                  <a:pt x="5162" y="5264"/>
                  <a:pt x="5208" y="5277"/>
                  <a:pt x="5259" y="5283"/>
                </a:cubicBezTo>
                <a:cubicBezTo>
                  <a:pt x="5422" y="5301"/>
                  <a:pt x="5590" y="5324"/>
                  <a:pt x="5755" y="5333"/>
                </a:cubicBezTo>
                <a:cubicBezTo>
                  <a:pt x="6050" y="5349"/>
                  <a:pt x="6392" y="5350"/>
                  <a:pt x="6672" y="5308"/>
                </a:cubicBezTo>
                <a:cubicBezTo>
                  <a:pt x="6712" y="5302"/>
                  <a:pt x="6756" y="5308"/>
                  <a:pt x="6796" y="5308"/>
                </a:cubicBezTo>
              </a:path>
              <a:path w="5756" h="6351">
                <a:moveTo>
                  <a:pt x="6052" y="6226"/>
                </a:moveTo>
                <a:cubicBezTo>
                  <a:pt x="6128" y="6226"/>
                  <a:pt x="6177" y="6221"/>
                  <a:pt x="6251" y="6201"/>
                </a:cubicBezTo>
                <a:cubicBezTo>
                  <a:pt x="6390" y="6164"/>
                  <a:pt x="6555" y="6135"/>
                  <a:pt x="6697" y="6127"/>
                </a:cubicBezTo>
                <a:cubicBezTo>
                  <a:pt x="6837" y="6119"/>
                  <a:pt x="7210" y="6127"/>
                  <a:pt x="7069" y="6127"/>
                </a:cubicBezTo>
                <a:cubicBezTo>
                  <a:pt x="7061" y="6127"/>
                  <a:pt x="7053" y="6127"/>
                  <a:pt x="7045" y="6127"/>
                </a:cubicBezTo>
              </a:path>
              <a:path w="5756" h="6351">
                <a:moveTo>
                  <a:pt x="2704" y="7367"/>
                </a:moveTo>
                <a:cubicBezTo>
                  <a:pt x="2651" y="7380"/>
                  <a:pt x="2650" y="7378"/>
                  <a:pt x="2604" y="7417"/>
                </a:cubicBezTo>
                <a:cubicBezTo>
                  <a:pt x="2579" y="7438"/>
                  <a:pt x="2566" y="7427"/>
                  <a:pt x="2555" y="7466"/>
                </a:cubicBezTo>
                <a:cubicBezTo>
                  <a:pt x="2545" y="7500"/>
                  <a:pt x="2535" y="7532"/>
                  <a:pt x="2530" y="7565"/>
                </a:cubicBezTo>
                <a:cubicBezTo>
                  <a:pt x="2484" y="7837"/>
                  <a:pt x="2530" y="8157"/>
                  <a:pt x="2530" y="8434"/>
                </a:cubicBezTo>
                <a:cubicBezTo>
                  <a:pt x="2495" y="8439"/>
                  <a:pt x="2456" y="8414"/>
                  <a:pt x="2456" y="8458"/>
                </a:cubicBezTo>
                <a:cubicBezTo>
                  <a:pt x="2456" y="8545"/>
                  <a:pt x="2523" y="8524"/>
                  <a:pt x="2555" y="8582"/>
                </a:cubicBezTo>
                <a:cubicBezTo>
                  <a:pt x="2582" y="8631"/>
                  <a:pt x="2581" y="8707"/>
                  <a:pt x="2604" y="8756"/>
                </a:cubicBezTo>
                <a:cubicBezTo>
                  <a:pt x="2615" y="8780"/>
                  <a:pt x="2669" y="8851"/>
                  <a:pt x="2679" y="8905"/>
                </a:cubicBezTo>
                <a:cubicBezTo>
                  <a:pt x="2728" y="9173"/>
                  <a:pt x="2681" y="9514"/>
                  <a:pt x="2654" y="9773"/>
                </a:cubicBezTo>
                <a:cubicBezTo>
                  <a:pt x="2646" y="9851"/>
                  <a:pt x="2616" y="10230"/>
                  <a:pt x="2679" y="10269"/>
                </a:cubicBezTo>
                <a:cubicBezTo>
                  <a:pt x="2687" y="10269"/>
                  <a:pt x="2696" y="10269"/>
                  <a:pt x="2704" y="10269"/>
                </a:cubicBezTo>
              </a:path>
              <a:path w="5756" h="6351">
                <a:moveTo>
                  <a:pt x="5060" y="9624"/>
                </a:moveTo>
                <a:cubicBezTo>
                  <a:pt x="5212" y="9624"/>
                  <a:pt x="5357" y="9642"/>
                  <a:pt x="5507" y="9649"/>
                </a:cubicBezTo>
                <a:cubicBezTo>
                  <a:pt x="5770" y="9662"/>
                  <a:pt x="6037" y="9676"/>
                  <a:pt x="6300" y="9699"/>
                </a:cubicBezTo>
                <a:cubicBezTo>
                  <a:pt x="6407" y="9708"/>
                  <a:pt x="6494" y="9723"/>
                  <a:pt x="6598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28920" y="3411360"/>
            <a:ext cx="1241280" cy="98640"/>
          </a:xfrm>
          <a:custGeom>
            <a:avLst/>
            <a:gdLst/>
            <a:ahLst/>
            <a:rect l="l" t="t" r="r" b="b"/>
            <a:pathLst>
              <a:path w="3449" h="274">
                <a:moveTo>
                  <a:pt x="6747" y="9475"/>
                </a:moveTo>
                <a:cubicBezTo>
                  <a:pt x="6866" y="9475"/>
                  <a:pt x="6975" y="9487"/>
                  <a:pt x="7094" y="9500"/>
                </a:cubicBezTo>
                <a:cubicBezTo>
                  <a:pt x="7473" y="9542"/>
                  <a:pt x="7858" y="9613"/>
                  <a:pt x="8235" y="9674"/>
                </a:cubicBezTo>
                <a:cubicBezTo>
                  <a:pt x="8389" y="9699"/>
                  <a:pt x="8527" y="9736"/>
                  <a:pt x="8682" y="9748"/>
                </a:cubicBezTo>
              </a:path>
              <a:path w="3449" h="274">
                <a:moveTo>
                  <a:pt x="9500" y="9649"/>
                </a:moveTo>
                <a:cubicBezTo>
                  <a:pt x="9732" y="9649"/>
                  <a:pt x="9963" y="9649"/>
                  <a:pt x="10195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38240" y="6224760"/>
            <a:ext cx="1670040" cy="44280"/>
          </a:xfrm>
          <a:custGeom>
            <a:avLst/>
            <a:gdLst/>
            <a:ahLst/>
            <a:rect l="l" t="t" r="r" b="b"/>
            <a:pathLst>
              <a:path w="4639" h="125">
                <a:moveTo>
                  <a:pt x="6896" y="17338"/>
                </a:moveTo>
                <a:cubicBezTo>
                  <a:pt x="6982" y="17338"/>
                  <a:pt x="7059" y="17358"/>
                  <a:pt x="7144" y="17363"/>
                </a:cubicBezTo>
                <a:cubicBezTo>
                  <a:pt x="7400" y="17378"/>
                  <a:pt x="7657" y="17399"/>
                  <a:pt x="7913" y="17413"/>
                </a:cubicBezTo>
                <a:cubicBezTo>
                  <a:pt x="8003" y="17418"/>
                  <a:pt x="8096" y="17413"/>
                  <a:pt x="8186" y="17413"/>
                </a:cubicBezTo>
              </a:path>
              <a:path w="4639" h="125">
                <a:moveTo>
                  <a:pt x="8930" y="17289"/>
                </a:moveTo>
                <a:cubicBezTo>
                  <a:pt x="9089" y="17289"/>
                  <a:pt x="9243" y="17306"/>
                  <a:pt x="9401" y="17314"/>
                </a:cubicBezTo>
                <a:cubicBezTo>
                  <a:pt x="9576" y="17323"/>
                  <a:pt x="9746" y="17338"/>
                  <a:pt x="9922" y="17338"/>
                </a:cubicBezTo>
                <a:cubicBezTo>
                  <a:pt x="9980" y="17338"/>
                  <a:pt x="9988" y="17338"/>
                  <a:pt x="10021" y="17338"/>
                </a:cubicBezTo>
              </a:path>
              <a:path w="4639" h="125">
                <a:moveTo>
                  <a:pt x="5383" y="17338"/>
                </a:moveTo>
                <a:cubicBezTo>
                  <a:pt x="5535" y="17338"/>
                  <a:pt x="5679" y="17341"/>
                  <a:pt x="5829" y="17363"/>
                </a:cubicBezTo>
                <a:cubicBezTo>
                  <a:pt x="6112" y="17404"/>
                  <a:pt x="6412" y="17405"/>
                  <a:pt x="6697" y="17413"/>
                </a:cubicBezTo>
                <a:cubicBezTo>
                  <a:pt x="6755" y="17415"/>
                  <a:pt x="6892" y="17423"/>
                  <a:pt x="6846" y="17388"/>
                </a:cubicBezTo>
                <a:cubicBezTo>
                  <a:pt x="6803" y="17388"/>
                  <a:pt x="6789" y="17371"/>
                  <a:pt x="6796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160" y="4214880"/>
            <a:ext cx="189000" cy="2044800"/>
          </a:xfrm>
          <a:custGeom>
            <a:avLst/>
            <a:gdLst/>
            <a:ahLst/>
            <a:rect l="l" t="t" r="r" b="b"/>
            <a:pathLst>
              <a:path w="522" h="5681">
                <a:moveTo>
                  <a:pt x="2778" y="11708"/>
                </a:moveTo>
                <a:cubicBezTo>
                  <a:pt x="2743" y="11819"/>
                  <a:pt x="2658" y="11950"/>
                  <a:pt x="2629" y="12055"/>
                </a:cubicBezTo>
                <a:cubicBezTo>
                  <a:pt x="2595" y="12177"/>
                  <a:pt x="2607" y="12374"/>
                  <a:pt x="2604" y="12502"/>
                </a:cubicBezTo>
                <a:cubicBezTo>
                  <a:pt x="2600" y="12669"/>
                  <a:pt x="2639" y="12730"/>
                  <a:pt x="2679" y="12874"/>
                </a:cubicBezTo>
                <a:cubicBezTo>
                  <a:pt x="2714" y="13001"/>
                  <a:pt x="2740" y="13140"/>
                  <a:pt x="2778" y="13271"/>
                </a:cubicBezTo>
                <a:cubicBezTo>
                  <a:pt x="2810" y="13382"/>
                  <a:pt x="2826" y="13479"/>
                  <a:pt x="2828" y="13593"/>
                </a:cubicBezTo>
                <a:cubicBezTo>
                  <a:pt x="2832" y="13808"/>
                  <a:pt x="2843" y="14030"/>
                  <a:pt x="2803" y="14238"/>
                </a:cubicBezTo>
                <a:cubicBezTo>
                  <a:pt x="2792" y="14298"/>
                  <a:pt x="2780" y="14328"/>
                  <a:pt x="2753" y="14387"/>
                </a:cubicBezTo>
                <a:cubicBezTo>
                  <a:pt x="2727" y="14444"/>
                  <a:pt x="2679" y="14456"/>
                  <a:pt x="2654" y="14486"/>
                </a:cubicBezTo>
                <a:cubicBezTo>
                  <a:pt x="2644" y="14498"/>
                  <a:pt x="2585" y="14553"/>
                  <a:pt x="2580" y="14560"/>
                </a:cubicBezTo>
                <a:cubicBezTo>
                  <a:pt x="2570" y="14575"/>
                  <a:pt x="2557" y="14624"/>
                  <a:pt x="2555" y="14635"/>
                </a:cubicBezTo>
                <a:cubicBezTo>
                  <a:pt x="2532" y="14789"/>
                  <a:pt x="2569" y="14969"/>
                  <a:pt x="2580" y="15106"/>
                </a:cubicBezTo>
                <a:cubicBezTo>
                  <a:pt x="2609" y="15484"/>
                  <a:pt x="2582" y="15881"/>
                  <a:pt x="2530" y="16247"/>
                </a:cubicBezTo>
                <a:cubicBezTo>
                  <a:pt x="2510" y="16392"/>
                  <a:pt x="2448" y="16522"/>
                  <a:pt x="2406" y="16669"/>
                </a:cubicBezTo>
                <a:cubicBezTo>
                  <a:pt x="2381" y="16756"/>
                  <a:pt x="2383" y="16846"/>
                  <a:pt x="2381" y="16942"/>
                </a:cubicBezTo>
                <a:cubicBezTo>
                  <a:pt x="2380" y="17011"/>
                  <a:pt x="2365" y="17108"/>
                  <a:pt x="2356" y="17140"/>
                </a:cubicBezTo>
                <a:cubicBezTo>
                  <a:pt x="2344" y="17184"/>
                  <a:pt x="2340" y="17181"/>
                  <a:pt x="2332" y="17214"/>
                </a:cubicBezTo>
                <a:cubicBezTo>
                  <a:pt x="2321" y="17261"/>
                  <a:pt x="2312" y="17306"/>
                  <a:pt x="2307" y="17363"/>
                </a:cubicBezTo>
                <a:cubicBezTo>
                  <a:pt x="2307" y="17371"/>
                  <a:pt x="2307" y="17380"/>
                  <a:pt x="2307" y="17388"/>
                </a:cubicBezTo>
                <a:cubicBezTo>
                  <a:pt x="2308" y="17384"/>
                  <a:pt x="2326" y="17322"/>
                  <a:pt x="2332" y="17289"/>
                </a:cubicBezTo>
                <a:cubicBezTo>
                  <a:pt x="2340" y="17256"/>
                  <a:pt x="2348" y="17223"/>
                  <a:pt x="2356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26120" y="2795760"/>
            <a:ext cx="561960" cy="598320"/>
          </a:xfrm>
          <a:custGeom>
            <a:avLst/>
            <a:gdLst/>
            <a:ahLst/>
            <a:rect l="l" t="t" r="r" b="b"/>
            <a:pathLst>
              <a:path w="1564" h="1663">
                <a:moveTo>
                  <a:pt x="17487" y="8086"/>
                </a:moveTo>
                <a:cubicBezTo>
                  <a:pt x="17477" y="8058"/>
                  <a:pt x="17453" y="8041"/>
                  <a:pt x="17413" y="8037"/>
                </a:cubicBezTo>
                <a:cubicBezTo>
                  <a:pt x="17371" y="8032"/>
                  <a:pt x="17261" y="8020"/>
                  <a:pt x="17239" y="8062"/>
                </a:cubicBezTo>
                <a:cubicBezTo>
                  <a:pt x="17218" y="8103"/>
                  <a:pt x="17180" y="8117"/>
                  <a:pt x="17165" y="8161"/>
                </a:cubicBezTo>
                <a:cubicBezTo>
                  <a:pt x="17156" y="8187"/>
                  <a:pt x="17155" y="8289"/>
                  <a:pt x="17140" y="8310"/>
                </a:cubicBezTo>
                <a:cubicBezTo>
                  <a:pt x="17117" y="8342"/>
                  <a:pt x="17115" y="8371"/>
                  <a:pt x="17115" y="8434"/>
                </a:cubicBezTo>
                <a:cubicBezTo>
                  <a:pt x="17115" y="8442"/>
                  <a:pt x="17115" y="8450"/>
                  <a:pt x="17115" y="8458"/>
                </a:cubicBezTo>
                <a:cubicBezTo>
                  <a:pt x="17153" y="8458"/>
                  <a:pt x="17185" y="8473"/>
                  <a:pt x="17190" y="8434"/>
                </a:cubicBezTo>
                <a:cubicBezTo>
                  <a:pt x="17191" y="8424"/>
                  <a:pt x="17229" y="8367"/>
                  <a:pt x="17239" y="8359"/>
                </a:cubicBezTo>
                <a:cubicBezTo>
                  <a:pt x="17281" y="8325"/>
                  <a:pt x="17311" y="8331"/>
                  <a:pt x="17338" y="8310"/>
                </a:cubicBezTo>
                <a:cubicBezTo>
                  <a:pt x="17363" y="8291"/>
                  <a:pt x="17386" y="8255"/>
                  <a:pt x="17388" y="8235"/>
                </a:cubicBezTo>
                <a:cubicBezTo>
                  <a:pt x="17394" y="8189"/>
                  <a:pt x="17400" y="8175"/>
                  <a:pt x="17413" y="8136"/>
                </a:cubicBezTo>
                <a:cubicBezTo>
                  <a:pt x="17419" y="8118"/>
                  <a:pt x="17413" y="7975"/>
                  <a:pt x="17413" y="8037"/>
                </a:cubicBezTo>
                <a:cubicBezTo>
                  <a:pt x="17413" y="8101"/>
                  <a:pt x="17435" y="8152"/>
                  <a:pt x="17462" y="8210"/>
                </a:cubicBezTo>
                <a:cubicBezTo>
                  <a:pt x="17492" y="8273"/>
                  <a:pt x="17492" y="8324"/>
                  <a:pt x="17512" y="8384"/>
                </a:cubicBezTo>
                <a:cubicBezTo>
                  <a:pt x="17531" y="8440"/>
                  <a:pt x="17594" y="8502"/>
                  <a:pt x="17611" y="8533"/>
                </a:cubicBezTo>
                <a:cubicBezTo>
                  <a:pt x="17621" y="8551"/>
                  <a:pt x="17647" y="8579"/>
                  <a:pt x="17686" y="8558"/>
                </a:cubicBezTo>
                <a:cubicBezTo>
                  <a:pt x="17744" y="8526"/>
                  <a:pt x="17814" y="8503"/>
                  <a:pt x="17884" y="8483"/>
                </a:cubicBezTo>
                <a:cubicBezTo>
                  <a:pt x="18001" y="8454"/>
                  <a:pt x="18051" y="8439"/>
                  <a:pt x="18132" y="8409"/>
                </a:cubicBezTo>
              </a:path>
              <a:path w="1564" h="1663">
                <a:moveTo>
                  <a:pt x="18281" y="7764"/>
                </a:moveTo>
                <a:cubicBezTo>
                  <a:pt x="18281" y="8012"/>
                  <a:pt x="18281" y="8706"/>
                  <a:pt x="18281" y="8458"/>
                </a:cubicBezTo>
                <a:cubicBezTo>
                  <a:pt x="18281" y="8341"/>
                  <a:pt x="18271" y="8287"/>
                  <a:pt x="18331" y="8210"/>
                </a:cubicBezTo>
                <a:cubicBezTo>
                  <a:pt x="18359" y="8174"/>
                  <a:pt x="18383" y="8107"/>
                  <a:pt x="18430" y="8086"/>
                </a:cubicBezTo>
                <a:cubicBezTo>
                  <a:pt x="18438" y="8086"/>
                  <a:pt x="18447" y="8086"/>
                  <a:pt x="18455" y="8086"/>
                </a:cubicBezTo>
                <a:cubicBezTo>
                  <a:pt x="18464" y="8125"/>
                  <a:pt x="18487" y="8139"/>
                  <a:pt x="18504" y="8161"/>
                </a:cubicBezTo>
                <a:cubicBezTo>
                  <a:pt x="18544" y="8214"/>
                  <a:pt x="18558" y="8176"/>
                  <a:pt x="18579" y="8260"/>
                </a:cubicBezTo>
                <a:cubicBezTo>
                  <a:pt x="18593" y="8314"/>
                  <a:pt x="18562" y="8305"/>
                  <a:pt x="18529" y="8334"/>
                </a:cubicBezTo>
                <a:cubicBezTo>
                  <a:pt x="18493" y="8366"/>
                  <a:pt x="18463" y="8380"/>
                  <a:pt x="18430" y="8409"/>
                </a:cubicBezTo>
                <a:cubicBezTo>
                  <a:pt x="18380" y="8454"/>
                  <a:pt x="18347" y="8458"/>
                  <a:pt x="18281" y="8458"/>
                </a:cubicBezTo>
                <a:cubicBezTo>
                  <a:pt x="18256" y="8458"/>
                  <a:pt x="18248" y="8458"/>
                  <a:pt x="18256" y="8434"/>
                </a:cubicBezTo>
              </a:path>
              <a:path w="1564" h="1663">
                <a:moveTo>
                  <a:pt x="17760" y="9203"/>
                </a:moveTo>
                <a:cubicBezTo>
                  <a:pt x="17744" y="9182"/>
                  <a:pt x="17720" y="9133"/>
                  <a:pt x="17711" y="9128"/>
                </a:cubicBezTo>
                <a:cubicBezTo>
                  <a:pt x="17673" y="9109"/>
                  <a:pt x="17640" y="9044"/>
                  <a:pt x="17611" y="9029"/>
                </a:cubicBezTo>
                <a:cubicBezTo>
                  <a:pt x="17586" y="9016"/>
                  <a:pt x="17505" y="9006"/>
                  <a:pt x="17487" y="8979"/>
                </a:cubicBezTo>
                <a:cubicBezTo>
                  <a:pt x="17466" y="8948"/>
                  <a:pt x="17464" y="8954"/>
                  <a:pt x="17413" y="8954"/>
                </a:cubicBezTo>
                <a:cubicBezTo>
                  <a:pt x="17325" y="8954"/>
                  <a:pt x="17280" y="8941"/>
                  <a:pt x="17214" y="9004"/>
                </a:cubicBezTo>
                <a:cubicBezTo>
                  <a:pt x="17191" y="9026"/>
                  <a:pt x="17077" y="9108"/>
                  <a:pt x="17066" y="9128"/>
                </a:cubicBezTo>
                <a:cubicBezTo>
                  <a:pt x="17054" y="9149"/>
                  <a:pt x="17019" y="9198"/>
                  <a:pt x="17016" y="9227"/>
                </a:cubicBezTo>
                <a:cubicBezTo>
                  <a:pt x="17009" y="9291"/>
                  <a:pt x="17016" y="9361"/>
                  <a:pt x="17016" y="9426"/>
                </a:cubicBezTo>
                <a:cubicBezTo>
                  <a:pt x="17272" y="9426"/>
                  <a:pt x="17529" y="9426"/>
                  <a:pt x="17785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67760" y="4705200"/>
            <a:ext cx="10620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20464" y="13072"/>
                </a:moveTo>
                <a:cubicBezTo>
                  <a:pt x="20563" y="13072"/>
                  <a:pt x="20663" y="13072"/>
                  <a:pt x="20762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四、结构体的三种子结构描述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块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BLOCK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结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描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子程序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UBPROGRA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结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描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过程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ROCEDURE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函数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FUNCTION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进程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ROCESS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结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描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的历史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初提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布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EEE 10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更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EEE 116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我国国家技术监督局指定的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用技术规范》推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我国电子设计自动化硬件描述语言的国家标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1848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181848"/>
                </a:solidFill>
                <a:latin typeface="宋体"/>
              </a:rPr>
              <a:t>进程（</a:t>
            </a:r>
            <a:r>
              <a:rPr b="1" lang="zh-CN" sz="3600" spc="-1" strike="noStrike">
                <a:solidFill>
                  <a:srgbClr val="181848"/>
                </a:solidFill>
                <a:latin typeface="Times New Roman"/>
              </a:rPr>
              <a:t>PROCESS</a:t>
            </a:r>
            <a:r>
              <a:rPr b="1" lang="zh-CN" sz="3600" spc="-1" strike="noStrike">
                <a:solidFill>
                  <a:srgbClr val="181848"/>
                </a:solidFill>
                <a:latin typeface="宋体"/>
              </a:rPr>
              <a:t>）结构描述</a:t>
            </a:r>
            <a:endParaRPr b="0" lang="en-US" sz="36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程语句用来设计某一个功能独立的电路，它本身是并行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语句的语法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进程标号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 PROCESS 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敏感信号表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进程语句说明部分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&lt;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进程语句部分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&gt;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END PROCESS 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进程标号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2514600"/>
            <a:ext cx="1904760" cy="457200"/>
          </a:xfrm>
          <a:prstGeom prst="wedgeRoundRectCallout">
            <a:avLst>
              <a:gd name="adj1" fmla="val -47750"/>
              <a:gd name="adj2" fmla="val 16666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有、可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4495680"/>
            <a:ext cx="1523880" cy="609840"/>
          </a:xfrm>
          <a:prstGeom prst="wedgeRoundRectCallout">
            <a:avLst>
              <a:gd name="adj1" fmla="val -98439"/>
              <a:gd name="adj2" fmla="val 74481"/>
              <a:gd name="adj3" fmla="val 16667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顺序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进程的启动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有敏感信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当敏感信号发生变化时，进程就被启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无敏感信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应在进程语句中有其它形式的敏感信号激励，当激励条件满足时，进程被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WA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WAIT F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WAIT UNTI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WAIT 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面的条件表达式或时间表达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注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在进程有敏感信号时，进程语句中不允许再显示出现前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WA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语句中的任何一种语句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进程的同步描述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个结构体中，可以有多个进程，由于进程语句本身是并行语句，因此，这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多个进程之间是并行关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一个进程的内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语句是顺序执行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3505320"/>
            <a:ext cx="7315200" cy="314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USE IEEE.STD_LOGIC_UNSIGNED.A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NTITY example2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ORT( cl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 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D_LOGI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 OU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D_LOGIC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ND example2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RCHITECTURE a OF example2 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IGNAL counter : STD_LOGIC_VECTOR(2 DOWNTO 0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进程的同步描述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90720"/>
            <a:ext cx="6248520" cy="5533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unt:  PROCESS (c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F (clk'EVENT AND clk='1'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unter&lt;=counter+'1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IF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utput: PROCESS (cou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F(counter&lt;"101"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&lt;='1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&lt;='0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352680" y="4838760"/>
          <a:ext cx="57913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838760"/>
                    <a:ext cx="57913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仿真波形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2392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4724" t="21732" r="4724" b="62998"/>
          <a:stretch/>
        </p:blipFill>
        <p:spPr>
          <a:xfrm>
            <a:off x="380880" y="2133720"/>
            <a:ext cx="8553600" cy="236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48"/>
                </a:solidFill>
                <a:latin typeface="Times New Roman"/>
              </a:rPr>
              <a:t>五、</a:t>
            </a:r>
            <a:r>
              <a:rPr b="1" lang="zh-CN" sz="28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2800" spc="-1" strike="noStrike">
                <a:solidFill>
                  <a:srgbClr val="181848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181848"/>
                </a:solidFill>
                <a:latin typeface="宋体"/>
              </a:rPr>
              <a:t>对象、数据类型及运算操作符</a:t>
            </a:r>
            <a:r>
              <a:rPr b="1" lang="zh-CN" sz="28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对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数据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运算操作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（一）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的对象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象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保持数据的单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对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类对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ONSTA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VARIAB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象的类型指明该对象所能具有的数据类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对象的作用范围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对象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全局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程序包或实体说明部分被说明的对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本设计的实体说明和本设计的任何结构体中都可以被引用，这就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对象的全局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对象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局部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在结构体说明部分被说明的对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仅可以在该结构体中被引用，这就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对象的局部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常量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量是指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在设计实体中不会发生变化的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常量可以在程序包和实体说明部分进行说明，也可以在结构体和进程中说明，并且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可以是任何数据类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CONSTANT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常量名：数据类型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表达式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ONSTANT pi : REAL :=3.1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只能一次赋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所赋的值应该与定义的数据类型一致，否则会出现错误。常量的赋值用符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“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常量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量的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作用范围由它被说明的位置决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在程序包和实体说明部分说明的常量被全局化，即在本设计的实体说明和本设计的任何结构体中都可以被引用；在结构体和进程中说明的常量被局部化，即只能在说明它的结构体和进程中被引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的特点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功能强大，设计灵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大的硬件描述能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与工艺无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易于共享与复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支持广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具有描述模拟电路的功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信号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84160" y="1371240"/>
            <a:ext cx="8259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信号是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电路内部硬件连接的抽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对应着硬件设计的一条连接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SIGNAL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信号名 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数据类型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表达式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SIGNAL reset : = STD_LOGIC : =’1’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信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可以连续赋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所赋的值都应该与定义的数据类型一致，信号的赋值用符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&lt;=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如果在说明信号的时候没有指定初始值，则认为它取默认值，即该类型的最左值或最小值。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信号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0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信号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赋值不是立即生效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信号的赋值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一定的延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生效，信号的值在设计实体中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可以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，但它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某一时刻只有一个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信号的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作用范围由它被说明的位置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在程序包和实体说明部分说明的信号被全局化，在结构体中说明的信号被局部化，即只能在说明它的结构体中被引用。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变量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量主要用于对暂时数据进行局部存储，它是一个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局部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只能在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进程语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过程语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函数语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说明区域中加以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VARIABLE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变量名：数据类型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表达式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</a:rPr>
              <a:t>VARIABLE enable := STD_LOGI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可以连续赋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所赋的值都应该与定义的数据类型一致，变量的赋值用符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“：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如果在说明变量的时候没有指定初始值，则认为它去默认值，即该类型的最左值或最小值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4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变量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量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赋值是直接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立即生效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变量的值在设计实体中是可以改变的，但它在某一时刻只有一个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量的作用范围是说明它的进程、过程或函数，在其它部分是无效的，因此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要将一个变量的值用于作用范围之外，需要将该变量的值赋给一个相同类型的信号。 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95280" y="0"/>
            <a:ext cx="7391520" cy="66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IBRARY IEE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 IEEE.STD_LOGIC_1164.A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 IEEE.STD_LOGIC_UNSIGNED.A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TITY exampl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RT(cl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D_LOG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OU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D_LOGI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examp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RCHITECTURE a OF exampl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GNAL temp : STD_LOGIC_VECTOR(0 TO 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unt: PROCESS (c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VARIABLE counter: STD_LOGIC_VECTOR(0 TO 2):="000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F (clk'EVENT AND clk='1'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unter:=counter+'1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emp&lt;=coun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924680" y="0"/>
            <a:ext cx="655920" cy="1752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举例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009920" y="1828440"/>
            <a:ext cx="1630440" cy="6858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举例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304920"/>
            <a:ext cx="5333760" cy="33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: PROCESS (te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(temp="111")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&lt;='1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&lt;='0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66680" y="3962520"/>
          <a:ext cx="777240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777240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5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信号与变量的区别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信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赋值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有延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变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赋值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没有延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信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是多个进程的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全局信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而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变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能在定义它的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进程中可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信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硬件中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连线的抽象描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它的功能是保存变化的数据值和连接子元件，信号在元件的端口连接元件；而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变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硬件中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没有类似的对应关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主要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应用于高层次的建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信号与变量之间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可以相互赋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但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保证两者的类型一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（二）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的数据类型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强类型语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每个对象只能具有一个数据类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并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只能具有那个数据类型的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某个对象进行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操作的类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必须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与该对象的类型相匹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同类型的数据不能直接进行代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数据类型相同而位长不同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也不能进行代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（二） 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的数据类型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用的五类数据类型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标量类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复合类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子类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文件类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存取类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准的数据类型，还可以由用户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自定义数据类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十种标准数据类型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整数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INTEGER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数学中的整数定义一样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整数的范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2 147 483 647~2 147 483 64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NSTANT max :INTEGER :=12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IGNAL num:INTEGER  RANGE 0 TO 1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ARIABLE f:INTEGER  RANGE 6 TO 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学习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的注意事项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牢记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硬件描述语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能把它当成纯软件语言来掌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的描述与硬件有密切联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</a:rPr>
              <a:t>实数（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REAL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范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1.0E38~+1.0E3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实数书写时一定要有小数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NSTANT max :REAL :=128.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GNAL num: REAL  RANGE 0.0 TO 1.0E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ARIABLE f:REAL  RANGE 6.0 TO 9.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1848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181848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位（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BIT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）</a:t>
            </a:r>
            <a:br>
              <a:rPr sz="3600"/>
            </a:br>
            <a:r>
              <a:rPr b="1" lang="zh-CN" sz="3600" spc="-1" strike="noStrike">
                <a:solidFill>
                  <a:srgbClr val="181848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181848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位矢量（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BIT_VECTOR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IGNAL tmp:BIT:=’0’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IGNAL tmp:BIT_VECTOR(0 TO1):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布尔量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BOOLEAN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与位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不同，无数值含义，只能进行关系运算，如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句中进行判断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字符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CHARACTER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如：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字符串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STRING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如：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tern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8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、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</a:rPr>
              <a:t>时间（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TIME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</a:rPr>
              <a:t>）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84160" y="190512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包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整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部分，而且两部分之间至少有一个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空格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如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 fs, 100 ns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错误等级（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SEVERITY LEVEL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NO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ARN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ERR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自然数（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NATURAL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整数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用户定义的数据类型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枚举类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NUMERATE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数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数、浮点数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组类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存取类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类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录类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ECO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时间类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用户定义数据类型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TYPE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数据类型名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IS </a:t>
            </a:r>
            <a:r>
              <a:rPr b="1" lang="zh-CN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约束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YPE  BIT  IS (‘0’, ‘1’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YPE  STD_LOGIC  IS (‘U’, ‘X’, ‘0’,‘1’ ‘Z’, ‘W’, ‘L’’ ‘H’, ‘-‘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TYPE state_type IS (s0,s1,s2,s3,s4,s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用户定义的子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UBTYPE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digit  IS  INTEGER  RANGE 0 TO 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数据类型的转换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14400" y="1295280"/>
            <a:ext cx="8000640" cy="5181480"/>
            <a:chOff x="914400" y="1295280"/>
            <a:chExt cx="8000640" cy="5181480"/>
          </a:xfrm>
        </p:grpSpPr>
        <p:grpSp>
          <p:nvGrpSpPr>
            <p:cNvPr id="291" name=""/>
            <p:cNvGrpSpPr/>
            <p:nvPr/>
          </p:nvGrpSpPr>
          <p:grpSpPr>
            <a:xfrm>
              <a:off x="919440" y="1300320"/>
              <a:ext cx="7989480" cy="5170680"/>
              <a:chOff x="919440" y="1300320"/>
              <a:chExt cx="7989480" cy="517068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919440" y="1300320"/>
                <a:ext cx="4149000" cy="738360"/>
                <a:chOff x="919440" y="1300320"/>
                <a:chExt cx="4149000" cy="7383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997200" y="1300320"/>
                  <a:ext cx="399348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函    数    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919440" y="1300320"/>
                  <a:ext cx="414900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5068800" y="1300320"/>
                <a:ext cx="3840120" cy="738360"/>
                <a:chOff x="5068800" y="1300320"/>
                <a:chExt cx="3840120" cy="7383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146200" y="1300320"/>
                  <a:ext cx="3684600" cy="73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500" spc="-1" strike="noStrike">
                      <a:solidFill>
                        <a:srgbClr val="000000"/>
                      </a:solidFill>
                      <a:latin typeface="Times New Roman"/>
                    </a:rPr>
                    <a:t>功      能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068800" y="1300320"/>
                  <a:ext cx="3840120" cy="73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919440" y="2039040"/>
                <a:ext cx="4149000" cy="1969560"/>
                <a:chOff x="919440" y="2039040"/>
                <a:chExt cx="4149000" cy="19695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997200" y="2039040"/>
                  <a:ext cx="3993480" cy="19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STD_LOGIC_1164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程序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TO_STD_LOGIC_VECTOR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TO_BIT_VECTOR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TO_STD_LOGIC 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TO_BIT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919440" y="2039040"/>
                  <a:ext cx="4149000" cy="196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068800" y="2039040"/>
                <a:ext cx="3840120" cy="1969560"/>
                <a:chOff x="5068800" y="2039040"/>
                <a:chExt cx="3840120" cy="19695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146200" y="2039040"/>
                  <a:ext cx="3684600" cy="19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_VECTOR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转换为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STD_LOGIC_VEC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STD_LOGIC_VECTOR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转换为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_VEC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转换为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STD_LOGI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STD_LOGIC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转换为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068800" y="2039040"/>
                  <a:ext cx="3840120" cy="196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919440" y="4008960"/>
                <a:ext cx="4149000" cy="1477080"/>
                <a:chOff x="919440" y="4008960"/>
                <a:chExt cx="4149000" cy="14770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997200" y="4008960"/>
                  <a:ext cx="3993480" cy="14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STD_LOGIC_ARITH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程序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V_STD_LOGIC_VECTOR(A,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位长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V_INTEGER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919440" y="4008960"/>
                  <a:ext cx="4149000" cy="14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068800" y="4008960"/>
                <a:ext cx="3840120" cy="1477080"/>
                <a:chOff x="5068800" y="4008960"/>
                <a:chExt cx="3840120" cy="14770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146200" y="4008960"/>
                  <a:ext cx="3684600" cy="14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INTEGER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、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UNSIGNED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、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SIGNED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转换为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STD_LOGIC_VEC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UNSIGNED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、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SIGNED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转换为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INTEG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068800" y="4008960"/>
                  <a:ext cx="3840120" cy="147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919440" y="5486400"/>
                <a:ext cx="4149000" cy="984600"/>
                <a:chOff x="919440" y="5486400"/>
                <a:chExt cx="4149000" cy="9846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997200" y="5486400"/>
                  <a:ext cx="399348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STD_LOGIC_UNSIGN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程序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CONV_INTEGER(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919440" y="5486400"/>
                  <a:ext cx="4149000" cy="98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068800" y="5486400"/>
                <a:ext cx="3840120" cy="984600"/>
                <a:chOff x="5068800" y="5486400"/>
                <a:chExt cx="3840120" cy="9846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146200" y="5486400"/>
                  <a:ext cx="368460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5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STD_LOGIC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转换为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INTEG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068800" y="5486400"/>
                  <a:ext cx="3840120" cy="98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6" name=""/>
            <p:cNvSpPr/>
            <p:nvPr/>
          </p:nvSpPr>
          <p:spPr>
            <a:xfrm>
              <a:off x="914400" y="1295280"/>
              <a:ext cx="8000640" cy="518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1848"/>
                </a:solidFill>
                <a:latin typeface="宋体"/>
              </a:rPr>
              <a:t>例：四选一电路</a:t>
            </a:r>
            <a:r>
              <a:rPr b="1" lang="zh-CN" sz="4000" spc="-1" strike="noStrike">
                <a:solidFill>
                  <a:srgbClr val="181848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181848"/>
                </a:solidFill>
                <a:latin typeface="宋体"/>
              </a:rPr>
              <a:t>数据类型转换</a:t>
            </a:r>
            <a:r>
              <a:rPr b="1" lang="zh-CN" sz="4000" spc="-1" strike="noStrike">
                <a:solidFill>
                  <a:srgbClr val="181848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219320"/>
            <a:ext cx="7238880" cy="484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IBRARY iee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 ieee.std_logic_1164.A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 ieee.std_logic_unsigned.A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TITY sel1in4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RT(a: 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D_LOGIC_VECTOR(1 downto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: 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D_LOGIC_VECTOR(3 downto 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: OU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D_LOGI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sel1in4;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RCHITECTURE  sel  OF  sel1in4 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&lt;=d(conv_integer(a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 s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（三）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的运算操作符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操作数的类型应该和运算操作符所要求的类型一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逻辑运算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七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逻辑运算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NO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或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与非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NAN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或非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N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异或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X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异或非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XN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（三）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的运算操作符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逻辑运算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操作对象：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BI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BOOLEA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STD_LOGI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类型的对象或这些类型组成的数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逻辑运算符左边和右边的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数据类型必须一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对于数组，还要求数组的维数相同，且结果也是相同维数的数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45" dur="indefinite" restart="never" nodeType="tmRoot">
          <p:childTnLst>
            <p:seq>
              <p:cTn id="1846" dur="indefinite" nodeType="mainSeq">
                <p:childTnLst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（三）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的运算操作符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36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优先级高于其它六个，其它六个的级别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左右没有优先级差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通常采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加括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方法了解决左右没有优先级差别的问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语句的一些规定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VHD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字母的大、小写没有区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单引号内的字符常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双引号内的字符串除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以分号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作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语句结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标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注释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双短线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 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算术运算符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减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乘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除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模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M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余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RE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乘方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*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绝对值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B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号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负号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逻辑左移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逻辑右移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R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算术左移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L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算术右移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R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逻辑循环左移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R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逻辑循环右移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RO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关系运算符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（六种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）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等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于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/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于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于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于等于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&lt;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于等于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&gt;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系运算符的运算结果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类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并置运算符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——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&amp;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置运算符主要适用于位和位矢量的连接，它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并置运算符右边的内容连接在左边的内容之后形成一个新的数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运算操作符的优先级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286000" y="2133720"/>
            <a:ext cx="0" cy="366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228600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00200" y="1523880"/>
            <a:ext cx="6408720" cy="4947120"/>
            <a:chOff x="1600200" y="1523880"/>
            <a:chExt cx="6408720" cy="4947120"/>
          </a:xfrm>
        </p:grpSpPr>
        <p:grpSp>
          <p:nvGrpSpPr>
            <p:cNvPr id="335" name=""/>
            <p:cNvGrpSpPr/>
            <p:nvPr/>
          </p:nvGrpSpPr>
          <p:grpSpPr>
            <a:xfrm>
              <a:off x="1604880" y="1526400"/>
              <a:ext cx="6399360" cy="4944600"/>
              <a:chOff x="1604880" y="1526400"/>
              <a:chExt cx="6399360" cy="494460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1604880" y="1526400"/>
                <a:ext cx="2147760" cy="513360"/>
                <a:chOff x="1604880" y="1526400"/>
                <a:chExt cx="2147760" cy="5133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673280" y="1526400"/>
                  <a:ext cx="201132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优先级顺序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604880" y="1526400"/>
                  <a:ext cx="214776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752640" y="1526400"/>
                <a:ext cx="4251600" cy="513360"/>
                <a:chOff x="3752640" y="1526400"/>
                <a:chExt cx="4251600" cy="5133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821040" y="1526400"/>
                  <a:ext cx="41148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运算操作符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752640" y="1526400"/>
                  <a:ext cx="42516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1604880" y="2039760"/>
                <a:ext cx="2147760" cy="4401360"/>
                <a:chOff x="1604880" y="2039760"/>
                <a:chExt cx="2147760" cy="44013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673280" y="2039760"/>
                  <a:ext cx="2011320" cy="44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低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604880" y="2039760"/>
                  <a:ext cx="2147760" cy="44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752640" y="2039760"/>
                <a:ext cx="4251600" cy="513360"/>
                <a:chOff x="3752640" y="2039760"/>
                <a:chExt cx="4251600" cy="5133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821040" y="2039760"/>
                  <a:ext cx="41148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**     NOT     AB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752640" y="2039760"/>
                  <a:ext cx="42516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752640" y="2553480"/>
                <a:ext cx="4251600" cy="513360"/>
                <a:chOff x="3752640" y="2553480"/>
                <a:chExt cx="4251600" cy="5133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821040" y="2553480"/>
                  <a:ext cx="41148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*    /    MOD    REM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52640" y="2553480"/>
                  <a:ext cx="42516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752640" y="3066840"/>
                <a:ext cx="4251600" cy="513360"/>
                <a:chOff x="3752640" y="3066840"/>
                <a:chExt cx="4251600" cy="5133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821040" y="3066840"/>
                  <a:ext cx="41148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（正号）  </a:t>
                  </a: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（负号）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752640" y="3066840"/>
                  <a:ext cx="42516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752640" y="3580560"/>
                <a:ext cx="4251600" cy="513360"/>
                <a:chOff x="3752640" y="3580560"/>
                <a:chExt cx="4251600" cy="5133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821040" y="3580560"/>
                  <a:ext cx="41148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（加）     </a:t>
                  </a: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zh-CN" sz="2600" spc="-1" strike="noStrike">
                      <a:solidFill>
                        <a:srgbClr val="000000"/>
                      </a:solidFill>
                      <a:latin typeface="Times New Roman"/>
                    </a:rPr>
                    <a:t>（减）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752640" y="3580560"/>
                  <a:ext cx="42516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752640" y="4093920"/>
                <a:ext cx="4251600" cy="752040"/>
                <a:chOff x="3752640" y="4093920"/>
                <a:chExt cx="4251600" cy="7520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821040" y="4093920"/>
                  <a:ext cx="4114800" cy="7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LL  SRL  SLA  SRA  ROL  R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752640" y="4093920"/>
                  <a:ext cx="4251600" cy="75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3752640" y="4845960"/>
                <a:ext cx="4251600" cy="513360"/>
                <a:chOff x="3752640" y="4845960"/>
                <a:chExt cx="4251600" cy="5133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821040" y="4845960"/>
                  <a:ext cx="4114800" cy="5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Times New Roman"/>
                    </a:rPr>
                    <a:t>=   /=   &lt;   &lt;=   &gt;  &gt;=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752640" y="4845960"/>
                  <a:ext cx="4251600" cy="51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3752640" y="5359680"/>
                <a:ext cx="4251600" cy="1111320"/>
                <a:chOff x="3752640" y="5359680"/>
                <a:chExt cx="4251600" cy="111132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3821040" y="5360760"/>
                  <a:ext cx="4114800" cy="1110240"/>
                  <a:chOff x="3821040" y="5360760"/>
                  <a:chExt cx="4114800" cy="11102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3821040" y="5360760"/>
                    <a:ext cx="4114800" cy="44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D    OR    NAND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821040" y="5845320"/>
                    <a:ext cx="4114800" cy="62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OR    XOR    XNOR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>
                  <a:off x="3752640" y="5359680"/>
                  <a:ext cx="4251600" cy="108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1600200" y="1523880"/>
              <a:ext cx="6408720" cy="4920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语句的一些规定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种名称的命名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数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下划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一个字符必须是字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最后一个字符不能是下划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也不能连用下划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命名不能与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VHDL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的保留字或关键字相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二、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程序的基本结构</a:t>
            </a:r>
            <a:r>
              <a:rPr b="0" lang="zh-CN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5181480" cy="4343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全加器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描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NTITY adde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ORT( a, b,cin  : 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 ,co     : OUT  BI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ND add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RCHITECTURE a OF adde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&lt;=a XOR b XOR ci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o&lt;=((a XOR b) AND cin) OR (a AND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ND 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74320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419720"/>
            <a:ext cx="304560" cy="2209680"/>
          </a:xfrm>
          <a:custGeom>
            <a:avLst/>
            <a:gdLst>
              <a:gd name="textAreaLeft" fmla="*/ 0 w 304560"/>
              <a:gd name="textAreaRight" fmla="*/ 109800 w 30456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2819520"/>
            <a:ext cx="457200" cy="1313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体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19920" y="1066680"/>
          <a:ext cx="281916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066680"/>
                    <a:ext cx="281916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3520" y="990720"/>
            <a:ext cx="4572000" cy="1295280"/>
          </a:xfrm>
          <a:prstGeom prst="wedgeRoundRectCallout">
            <a:avLst>
              <a:gd name="adj1" fmla="val 71875"/>
              <a:gd name="adj2" fmla="val 27328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体说明描 述了一个设计对外的输入、输出接口以及一些用于结构体的参数定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72200" y="3124080"/>
          <a:ext cx="297180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124080"/>
                    <a:ext cx="29718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791320" y="5943600"/>
            <a:ext cx="3352680" cy="914400"/>
          </a:xfrm>
          <a:prstGeom prst="wedgeRoundRectCallout">
            <a:avLst>
              <a:gd name="adj1" fmla="val 32527"/>
              <a:gd name="adj2" fmla="val -125000"/>
              <a:gd name="adj3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体描述的是设计实体的行为和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4876920"/>
            <a:ext cx="38124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构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（一）</a:t>
            </a:r>
            <a:r>
              <a:rPr b="1" lang="zh-CN" sz="4400" spc="-1" strike="noStrike">
                <a:solidFill>
                  <a:srgbClr val="181848"/>
                </a:solidFill>
                <a:latin typeface="Times New Roman"/>
              </a:rPr>
              <a:t>VHDL</a:t>
            </a:r>
            <a:r>
              <a:rPr b="1" lang="zh-CN" sz="4400" spc="-1" strike="noStrike">
                <a:solidFill>
                  <a:srgbClr val="181848"/>
                </a:solidFill>
                <a:latin typeface="宋体"/>
              </a:rPr>
              <a:t>相关语句说明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4038480" cy="304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实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Entit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NTITY &lt;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实体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&gt;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类属参数说明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端口说明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ND &lt;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实体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1676520"/>
            <a:ext cx="3505320" cy="2684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TITY add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RT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, b,cin  : 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 ,co  : OUT  B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D add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5105520"/>
            <a:ext cx="7925040" cy="1263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体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实体的命名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AXPLUSII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中要求实体名必须与存盘文件名相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4:02:46Z</dcterms:created>
  <dc:creator>home</dc:creator>
  <dc:description/>
  <dc:language>en-US</dc:language>
  <cp:lastModifiedBy>a226</cp:lastModifiedBy>
  <dcterms:modified xsi:type="dcterms:W3CDTF">2006-03-08T12:12:45Z</dcterms:modified>
  <cp:revision>59</cp:revision>
  <dc:subject/>
  <dc:title>VHDL入门</dc:title>
</cp:coreProperties>
</file>