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2398-1651-4AA5-81A6-33E75473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2BA-3072-4DE1-885B-11923AC9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14F0-91EF-490F-A7E7-4D484C30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5DC-F326-44A2-8E72-FDD6B28A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C424-1D0C-47D8-BC82-5E3718BC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BEA2-74BE-447E-A4D0-455F3D32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C643-3F9E-46E0-8705-7B83FFC9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9FA2-9804-4AE9-8DB1-6EB7E3BD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DD78-85AC-4E32-9ED4-AE0BB447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AE1C-F306-46BF-85C9-C6CEFC7A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7338-3920-408B-B0C2-DEB6E243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08D-7E72-480B-999B-5A36A6B2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0622-61EB-4C02-A3AD-B33087BF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952A-50BD-45F9-B70C-1BDDA2BE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BAD8-D6EA-4749-BB89-97DF9780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9818-8317-4728-9B42-13811696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226F-B558-4782-BD9D-0CA9D839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3EF6-3DC9-4235-A8B4-CFA562C8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DF1-4060-44FB-B8E0-E2169D14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4CE2-775A-4D90-A650-00F82F1A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481-6534-41D6-B676-DCEA0690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4F70-613C-43CE-88E0-E5C85E43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FED6-5C00-4B83-A0E8-A51715D2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7C02-0D74-4B91-B095-5EAA05E6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2FD6-352B-4CA2-886B-F964BE4E2E9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1C75-16E2-4128-BE17-98E65237B70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WB01237_" descr=""/>
          <p:cNvPicPr/>
          <p:nvPr/>
        </p:nvPicPr>
        <p:blipFill>
          <a:blip r:embed="rId1"/>
          <a:stretch/>
        </p:blipFill>
        <p:spPr>
          <a:xfrm>
            <a:off x="2057400" y="396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8" name="WB01237_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066680" y="14479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第六章  时序逻辑电路设计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2590920"/>
            <a:ext cx="304812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6.1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触发器</a:t>
            </a:r>
            <a:endParaRPr b="0" lang="en-US" sz="4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6.2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计数器</a:t>
            </a:r>
            <a:endParaRPr b="0" lang="en-US" sz="4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09480" y="762120"/>
            <a:ext cx="76201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cntm60v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ARCHITECTU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cntm60v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signal 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ent2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: std_logic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BEGIN  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PROCESS (clk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VARIABLE tmpl,tmph :std_logic_vector(3 downto 0)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IF(clear='0') THE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tmpl:="0000"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tmph:=“0000”;            - -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异步清零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ELSIF(clk'EVENT AND clk = '1') THEN             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09480" y="304920"/>
            <a:ext cx="784872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load='0' THE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tmpl:=dl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tmph:=dh;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- -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同步置数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elsif(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en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='1') the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if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(tmpl="1001") the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tmpl:=“0000”;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- -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个位计数器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9+1=0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f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(tmph="0101") the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tmph:=“0000”;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- -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十位计数器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5+1=0  59+1=0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else                  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       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tmph:=tmph+1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end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if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tmpl:=tmpl+1;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if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;    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1295280"/>
            <a:ext cx="822960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;                                           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--end lf (load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END IF;                                     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--end if clea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ql &lt;= tmpl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ent2 &lt;= tmpl(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) and tmpl(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) and en;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qh&lt;=tmph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cout&lt;=tmph(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) and tmph(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) and ent2;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                      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- -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计数器为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59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时进位信号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out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输出‘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END  PROCESS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END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71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9840" y="304920"/>
          <a:ext cx="8839080" cy="55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" y="304920"/>
                    <a:ext cx="8839080" cy="55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057400" y="6095880"/>
            <a:ext cx="5334120" cy="4597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60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进制计数器波形仿真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380880"/>
            <a:ext cx="830592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在时序电路中，是以时钟信号作为驱动信号的，也就是说时序电路是在时钟信号的边沿到来时，它的状态才会发生改变。因此，在时序电路中时钟信号是非常重要的，它是时序电路的执行条件和同步信号。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在用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VHDL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描述时序逻辑电路时，通常采用时钟进程的形式来描述，也就是说，时序逻辑电路中进程的敏感信号是时钟信号。时钟作为敏感信号的描述方式有两种：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1.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时钟信号显示地出现在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ROCESS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语句后面的敏感信号表中。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2.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时钟信号没有显示地出现在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ROCESS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语句后面的敏感信号表中，而是出现在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AIT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语句的后面。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在时序逻辑电路中，时钟是采用边沿来触发的，时钟边沿分为上升沿和下降沿。以下是这两种边沿的描述方式。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对于上升沿，其物理意义是指时钟信号的逻辑值是从‘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跳变到‘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。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下面是时钟上升沿的几种描述形式：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066680" y="533520"/>
            <a:ext cx="62485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400b"/>
                </a:solidFill>
                <a:latin typeface="Arial"/>
              </a:rPr>
              <a:t>上升沿描述</a:t>
            </a:r>
            <a:r>
              <a:rPr b="1" lang="en-US" sz="2000" spc="-1" strike="noStrike">
                <a:solidFill>
                  <a:srgbClr val="e9400b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  <a:ea typeface="黑体"/>
              </a:rPr>
              <a:t>描述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  <a:ea typeface="黑体"/>
              </a:rPr>
              <a:t>：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label1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PROCESS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clk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BEGI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IF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clk’EVENT AND clk = ‘1’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THE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┇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AND PROCESS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  <a:ea typeface="黑体"/>
              </a:rPr>
              <a:t>描述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label2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PROCESS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clk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BEGI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WAIT UNTIL clk = ‘1’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┇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ND PROCESS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；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066680" y="457200"/>
            <a:ext cx="7086600" cy="60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下降沿描述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  <a:ea typeface="黑体"/>
              </a:rPr>
              <a:t>描述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  <a:ea typeface="黑体"/>
              </a:rPr>
              <a:t>：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label1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PROCESS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clk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BEGI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IF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clk’EVENT AND clk = ‘0’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THE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┇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AND PROCESS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  <a:ea typeface="黑体"/>
              </a:rPr>
              <a:t>描述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label2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ROCESS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clk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BEGI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WAIT UNTIL clk = ‘0’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┇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AND PROCESS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；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094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6.1 JK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触发器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914400"/>
            <a:ext cx="77724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例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[]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JKff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(J,K: IN STD_LOGIC;           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clk: IN STD_LOGIC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set: IN STD_LOGIC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reset: IN STD_LOGIC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Q,QB: OUT STD_LOGIC)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JKff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JKff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SIGNAL Q_temp,QB_temp: STD_LOGIC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334120" y="1676520"/>
          <a:ext cx="3276360" cy="26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676520"/>
                    <a:ext cx="32763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457200"/>
            <a:ext cx="82296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ROCESS (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clk,set,reset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IF (set ='0' AND reset ='1')THE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Q_temp  &lt;= '1'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QB_temp &lt;= '0'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LSIF (set ='1' AND reset ='0')THE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Q_temp  &lt;= '0'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QB_temp &lt;= '1'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LSIF (clk'EVENT AND clk = '1')THE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IF(J='0' AND K='1')THE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Q_temp  &lt;= '0'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QB_temp &lt;= '1'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533520"/>
            <a:ext cx="80010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LSIF(J='1' AND K='0')THE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Q_temp  &lt;= '1'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QB_temp &lt;= '0'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LSIF(J='1' AND K='1')THE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Q_temp  &lt;= NOT Q_temp 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QB_temp &lt;= NOT QB_temp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IF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IF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Q  &lt;= Q_temp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QB &lt;= QB_temp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PROCESS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behave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20500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21" name="JK触发器器波形1" descr=""/>
          <p:cNvPicPr/>
          <p:nvPr/>
        </p:nvPicPr>
        <p:blipFill>
          <a:blip r:embed="rId1"/>
          <a:stretch/>
        </p:blipFill>
        <p:spPr>
          <a:xfrm>
            <a:off x="152280" y="325440"/>
            <a:ext cx="8686800" cy="5051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590920" y="5715000"/>
            <a:ext cx="4495680" cy="4597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JK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触发器仿真波形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04920" y="380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6.2   60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进制递增计数器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1066680"/>
            <a:ext cx="82296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use ieee.std_logic_unsigned.all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ENTITY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 cntm60v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PORT(  en    :  IN     std_logic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clear :  IN     std_logic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load  :  IN     std_logic;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dl,dh :  IN     std_logic_vector(3 downto 0)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clk   :  IN     std_logic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cout  :  out    std_logic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ql    :  buffer   std_logic_vector(3 downto 0)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6f89f7"/>
                </a:solidFill>
                <a:latin typeface="Times New Roman"/>
              </a:rPr>
              <a:t>qh    :  buffer   std_logic_vector(3 downto 0) );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648320" y="762120"/>
          <a:ext cx="411480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762120"/>
                    <a:ext cx="41148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09:02:01Z</dcterms:created>
  <dc:creator>fap</dc:creator>
  <dc:description/>
  <dc:language>en-US</dc:language>
  <cp:lastModifiedBy>mm</cp:lastModifiedBy>
  <dcterms:modified xsi:type="dcterms:W3CDTF">2005-03-07T05:49:58Z</dcterms:modified>
  <cp:revision>216</cp:revision>
  <dc:subject/>
  <dc:title>  第一章  数字电路基础 </dc:title>
</cp:coreProperties>
</file>