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69A-AF18-4C8F-A8F1-DC0F5DC3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356-6645-49CD-942D-7ABA87AC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B47-AFD4-4138-9CB2-AEB75538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768-E32C-41E7-9255-090E41D1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EBE1-E3B9-404D-AE2B-435ED09B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48D3-C78B-485C-8A1D-C2D372FA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7E4B-9D4C-4CD5-B789-A164552D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3913-B8E7-4411-8E6C-97FA8B2E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D73B-6DC5-4506-BF15-3F5D9A88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009C-4A17-4116-AE5C-24433DF4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C8A1-B213-4342-AE26-9BA0C8E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2DA-6D50-45A3-80DD-860C8B21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F8FA-092E-4B31-BC17-049443D7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2A77-DFB6-4349-B480-4BC747D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8D0E-05E2-440D-A44E-AC221F75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129F-3BD1-4DAF-8C09-B72D70D2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34B4-F1A2-48B4-81DD-060F1627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A34-44FC-4C44-96B0-B419382E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762-8466-4319-9DA1-44D21A47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A2D-E193-4118-87BF-C255AE6A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170-0A54-4FE5-A5AC-F85BADE2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A19-B703-424C-A76F-2A2AABCB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74D-F2FA-429B-8D5E-E4AEB6B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D8E-8751-46B6-9B67-60BD328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84CC-613E-48EE-B751-9DF8B6D44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F018-3EFC-4407-8F90-CAF8BFFCCF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09080" cy="676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8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梅花是我们中华民族与中国的精神象征，具有强大而普遍的感染力和推动力。梅花象征坚韧不拔，不屈不挠，奋勇当先，自强不息的精神品质。迎雪吐艳，凌寒飘香，铁骨冰心的崇高品质和坚贞气节鼓励了一代又一代中国人不畏艰险，奋勇开拓，创造了优秀的生活与文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4000" y="117360"/>
            <a:ext cx="41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朱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里清江醉墨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寒枝瘦凛冰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今白黑浑休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作人间时世妆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04400" cy="6981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4880" y="0"/>
            <a:ext cx="2131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树寒梅白玉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临村路傍溪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近水花先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是经冬雪未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44280"/>
            <a:ext cx="3382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梅花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无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见寒梅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开汉水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春色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是弄珠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34920" y="-98280"/>
            <a:ext cx="9102600" cy="698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35280" y="333360"/>
            <a:ext cx="381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家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里已知春信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梅点缀琼枝腻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脸半开娇旖旎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庭际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人浴出新妆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76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260280"/>
            <a:ext cx="60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卜算子•咏梅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泽东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雨送春归，飞雪迎春到。已是悬崖百丈冰，犹有花枝俏。 　　俏也不争春，只把春来报。待到山花烂漫时，她在丛中笑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9036000" cy="676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60360" y="260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江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 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庭院深深深几许，云窗雾阁春迟，为谁憔悴损芳姿。夜来清梦好，应是发南枝。    玉瘦檀轻无限恨，南楼羌管休吹。浓香吹尽有谁知，暖风迟日也，别到杏花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2-11-24T07:12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