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99A-993F-4DCD-8BE9-4A1D686D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F53-B28C-4C01-8045-63CD16EB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D75-574A-4B8A-9160-BD8B8C78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661-499E-4601-96D9-864A5A81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BB15-5245-42B6-B554-43E97912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78E0-9263-48C4-B89F-EE882369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6A1-E597-4235-B5FD-D0DCE575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F732-27B8-4F35-A78F-554615C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D66-24CA-4B11-B1B2-E21125C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0AA4-B1F6-42C1-A4F6-8A0E873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CA8-2F32-4013-907B-9F4D417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989-D325-49C5-9AB6-482F1DE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ADEB-8F38-4F78-A9C8-10B367B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2B61-2090-4C12-B11B-A3E5149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0351-A23F-4517-8B5B-976EB27D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E196-C357-477B-82F4-9A0B4439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2BE-9EA8-4A98-BC96-39454A74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879-1341-4642-BE69-F515C51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84E-0984-4D0F-B9A5-67EE217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FC1-BAA8-4907-A9A2-A756FE49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50C-9296-480C-B349-1F5BFAC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5D4-5A60-4591-B8E1-55800E0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B64-B32C-45B7-BD64-73549756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98D-5281-4987-8210-24FC1E0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B78-AA64-4927-82A6-E7284F1E0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1FB3-BD85-4F40-97BB-6EA682AA2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09080" cy="676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梅花是我们中华民族与中国的精神象征，具有强大而普遍的感染力和推动力。梅花象征坚韧不拔，不屈不挠，奋勇当先，自强不息的精神品质。迎雪吐艳，凌寒飘香，铁骨冰心的崇高品质和坚贞气节鼓励了一代又一代中国人不畏艰险，奋勇开拓，创造了优秀的生活与文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4000" y="117360"/>
            <a:ext cx="41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里清江醉墨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寒枝瘦凛冰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白黑浑休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作人间时世妆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04400" cy="698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4880" y="0"/>
            <a:ext cx="2131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树寒梅白玉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临村路傍溪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近水花先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经冬雪未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4280"/>
            <a:ext cx="338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梅花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无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见寒梅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开汉水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春色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弄珠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34920" y="-98280"/>
            <a:ext cx="9102600" cy="698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333360"/>
            <a:ext cx="38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家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里已知春信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梅点缀琼枝腻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脸半开娇旖旎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庭际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人浴出新妆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76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260280"/>
            <a:ext cx="60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卜算子•咏梅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泽东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雨送春归，飞雪迎春到。已是悬崖百丈冰，犹有花枝俏。 　　俏也不争春，只把春来报。待到山花烂漫时，她在丛中笑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9036000" cy="676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26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江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庭院深深深几许，云窗雾阁春迟，为谁憔悴损芳姿。夜来清梦好，应是发南枝。    玉瘦檀轻无限恨，南楼羌管休吹。浓香吹尽有谁知，暖风迟日也，别到杏花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2-11-24T07:12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