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11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4.wmf" ContentType="image/x-wmf"/>
  <Override PartName="/ppt/media/image2.jpeg" ContentType="image/jpeg"/>
  <Override PartName="/ppt/media/image23.jpeg" ContentType="image/jpeg"/>
  <Override PartName="/ppt/media/image3.jpeg" ContentType="image/jpeg"/>
  <Override PartName="/ppt/media/image15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34920" y="434880"/>
            <a:ext cx="2448000" cy="61776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rcRect l="66547" t="89835" r="2102" b="2845"/>
          <a:stretch/>
        </p:blipFill>
        <p:spPr>
          <a:xfrm>
            <a:off x="6164280" y="6318360"/>
            <a:ext cx="2867040" cy="503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iecool.net/vector/show/66/32016.htm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1"/>
          <a:stretch/>
        </p:blipFill>
        <p:spPr>
          <a:xfrm>
            <a:off x="5413320" y="3938760"/>
            <a:ext cx="3730680" cy="2919240"/>
          </a:xfrm>
          <a:prstGeom prst="rect">
            <a:avLst/>
          </a:prstGeom>
          <a:ln w="0">
            <a:noFill/>
          </a:ln>
        </p:spPr>
      </p:pic>
      <p:sp>
        <p:nvSpPr>
          <p:cNvPr id="41" name=""/>
          <p:cNvSpPr/>
          <p:nvPr/>
        </p:nvSpPr>
        <p:spPr>
          <a:xfrm>
            <a:off x="2133720" y="1905120"/>
            <a:ext cx="601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用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VISIO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绘制流程图（入门版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666880" y="3657600"/>
            <a:ext cx="35053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培训讲师：陈晓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培训时间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09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9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、步骤分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动物矢量图下载矢量图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78400" y="2895480"/>
            <a:ext cx="3052800" cy="31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添加横向节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0" t="0" r="0" b="6251"/>
          <a:stretch/>
        </p:blipFill>
        <p:spPr>
          <a:xfrm>
            <a:off x="685800" y="1066680"/>
            <a:ext cx="7848720" cy="533412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2895480" y="2133720"/>
            <a:ext cx="3353040" cy="380880"/>
          </a:xfrm>
          <a:prstGeom prst="wedgeEllipseCallout">
            <a:avLst>
              <a:gd name="adj1" fmla="val -102175"/>
              <a:gd name="adj2" fmla="val 11833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选中基本流程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743200" y="4038480"/>
            <a:ext cx="3124080" cy="838440"/>
          </a:xfrm>
          <a:prstGeom prst="wedgeEllipseCallout">
            <a:avLst>
              <a:gd name="adj1" fmla="val -105537"/>
              <a:gd name="adj2" fmla="val -18958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将此图标“拖”到右边，放在合适的位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rcRect l="0" t="0" r="0" b="6251"/>
          <a:stretch/>
        </p:blipFill>
        <p:spPr>
          <a:xfrm>
            <a:off x="914400" y="1219320"/>
            <a:ext cx="7543800" cy="495288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301680" y="380880"/>
            <a:ext cx="854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添加横向节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124080" y="4495680"/>
            <a:ext cx="3124440" cy="838440"/>
          </a:xfrm>
          <a:prstGeom prst="wedgeEllipseCallout">
            <a:avLst>
              <a:gd name="adj1" fmla="val -32976"/>
              <a:gd name="adj2" fmla="val -19204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选中方框，鼠标点住绿点，调节方框大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添加横向节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rcRect l="0" t="0" r="0" b="6251"/>
          <a:stretch/>
        </p:blipFill>
        <p:spPr>
          <a:xfrm>
            <a:off x="838080" y="1295280"/>
            <a:ext cx="7467840" cy="525168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3048120" y="5181480"/>
            <a:ext cx="3124080" cy="1219320"/>
          </a:xfrm>
          <a:prstGeom prst="wedgeEllipseCallout">
            <a:avLst>
              <a:gd name="adj1" fmla="val -46444"/>
              <a:gd name="adj2" fmla="val -18073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选中方框，按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Ctrl+c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再按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Ctrl+v,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复制调节好的方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257800" y="3886200"/>
            <a:ext cx="3124080" cy="914400"/>
          </a:xfrm>
          <a:prstGeom prst="wedgeEllipseCallout">
            <a:avLst>
              <a:gd name="adj1" fmla="val -86384"/>
              <a:gd name="adj2" fmla="val -8784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移动复制的方框到其它“道次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867280" y="5105520"/>
            <a:ext cx="3124440" cy="1218960"/>
          </a:xfrm>
          <a:prstGeom prst="wedgeEllipseCallout">
            <a:avLst>
              <a:gd name="adj1" fmla="val -127592"/>
              <a:gd name="adj2" fmla="val -16823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方法二：选中方框，按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Ctrl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直接拖动到合适的位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添加横向节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rcRect l="0" t="0" r="0" b="6251"/>
          <a:stretch/>
        </p:blipFill>
        <p:spPr>
          <a:xfrm>
            <a:off x="838080" y="1066680"/>
            <a:ext cx="7543800" cy="530388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3048120" y="5181480"/>
            <a:ext cx="3124080" cy="1219320"/>
          </a:xfrm>
          <a:prstGeom prst="wedgeEllipseCallout">
            <a:avLst>
              <a:gd name="adj1" fmla="val -38518"/>
              <a:gd name="adj2" fmla="val -17825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双击此处，添加字母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字体大小和格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6251"/>
          <a:stretch/>
        </p:blipFill>
        <p:spPr>
          <a:xfrm>
            <a:off x="838080" y="1219320"/>
            <a:ext cx="7543800" cy="510516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4191120" y="3352680"/>
            <a:ext cx="3124080" cy="1219320"/>
          </a:xfrm>
          <a:prstGeom prst="wedgeEllipseCallout">
            <a:avLst>
              <a:gd name="adj1" fmla="val -107268"/>
              <a:gd name="adj2" fmla="val -12226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选中字母后，调节字母字字号大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绘制流程主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rcRect l="0" t="0" r="0" b="7294"/>
          <a:stretch/>
        </p:blipFill>
        <p:spPr>
          <a:xfrm>
            <a:off x="838080" y="1447920"/>
            <a:ext cx="7543800" cy="516888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2895480" y="1905120"/>
            <a:ext cx="3048120" cy="1066680"/>
          </a:xfrm>
          <a:prstGeom prst="wedgeEllipseCallout">
            <a:avLst>
              <a:gd name="adj1" fmla="val -85106"/>
              <a:gd name="adj2" fmla="val 28571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选择所需要的流程图标’拖“到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对应的位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657600" y="4191120"/>
            <a:ext cx="2514600" cy="609480"/>
          </a:xfrm>
          <a:prstGeom prst="wedgeEllipseCallout">
            <a:avLst>
              <a:gd name="adj1" fmla="val -48675"/>
              <a:gd name="adj2" fmla="val -6562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添加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rcRect l="0" t="0" r="0" b="6251"/>
          <a:stretch/>
        </p:blipFill>
        <p:spPr>
          <a:xfrm>
            <a:off x="762120" y="1523880"/>
            <a:ext cx="7543800" cy="53056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5943600" y="1143000"/>
            <a:ext cx="2514600" cy="609480"/>
          </a:xfrm>
          <a:prstGeom prst="wedgeEllipseCallout">
            <a:avLst>
              <a:gd name="adj1" fmla="val -108962"/>
              <a:gd name="adj2" fmla="val 7265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点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486400" y="2133720"/>
            <a:ext cx="2590920" cy="1143000"/>
          </a:xfrm>
          <a:prstGeom prst="wedgeEllipseCallout">
            <a:avLst>
              <a:gd name="adj1" fmla="val -122671"/>
              <a:gd name="adj2" fmla="val 3791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鼠标放此处出现红框，点击鼠标左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638680" y="3505320"/>
            <a:ext cx="2514600" cy="838080"/>
          </a:xfrm>
          <a:prstGeom prst="wedgeEllipseCallout">
            <a:avLst>
              <a:gd name="adj1" fmla="val -132953"/>
              <a:gd name="adj2" fmla="val -6704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拖至此处出项红框放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添加链接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301680" y="380880"/>
            <a:ext cx="8540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添加线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294"/>
          <a:stretch/>
        </p:blipFill>
        <p:spPr>
          <a:xfrm>
            <a:off x="838080" y="1219320"/>
            <a:ext cx="7543800" cy="533376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1066680" y="2438280"/>
            <a:ext cx="2438640" cy="533520"/>
          </a:xfrm>
          <a:prstGeom prst="wedgeEllipseCallout">
            <a:avLst>
              <a:gd name="adj1" fmla="val 102671"/>
              <a:gd name="adj2" fmla="val -14018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选中绘图工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486400" y="2133720"/>
            <a:ext cx="2438280" cy="838080"/>
          </a:xfrm>
          <a:prstGeom prst="wedgeEllipseCallout">
            <a:avLst>
              <a:gd name="adj1" fmla="val -62175"/>
              <a:gd name="adj2" fmla="val 6534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选中需要添加的图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638680" y="3886200"/>
            <a:ext cx="2438640" cy="1219320"/>
          </a:xfrm>
          <a:prstGeom prst="wedgeEllipseCallout">
            <a:avLst>
              <a:gd name="adj1" fmla="val -86004"/>
              <a:gd name="adj2" fmla="val -3163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按鼠标左键，拉到需要的长度，放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编辑添加的线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rcRect l="0" t="0" r="0" b="6251"/>
          <a:stretch/>
        </p:blipFill>
        <p:spPr>
          <a:xfrm>
            <a:off x="838080" y="1219320"/>
            <a:ext cx="7620120" cy="53575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152280" y="4114800"/>
            <a:ext cx="2514600" cy="838080"/>
          </a:xfrm>
          <a:prstGeom prst="wedgeEllipseCallout">
            <a:avLst>
              <a:gd name="adj1" fmla="val 98041"/>
              <a:gd name="adj2" fmla="val -1073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鼠标放于图形上右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791320" y="3124080"/>
            <a:ext cx="2514600" cy="838440"/>
          </a:xfrm>
          <a:prstGeom prst="wedgeEllipseCallout">
            <a:avLst>
              <a:gd name="adj1" fmla="val -27208"/>
              <a:gd name="adj2" fmla="val 18125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选线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13716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培训大纲</a:t>
            </a:r>
            <a:br>
              <a:rPr sz="2800"/>
            </a:br>
            <a:br>
              <a:rPr sz="28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认识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VISIO</a:t>
            </a:r>
            <a:br>
              <a:rPr sz="2400"/>
            </a:b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流程图绘制步骤分解</a:t>
            </a:r>
            <a:br>
              <a:rPr sz="2400"/>
            </a:b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作业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01680" y="380880"/>
            <a:ext cx="8540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编辑添加的线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0" t="0" r="0" b="7294"/>
          <a:stretch/>
        </p:blipFill>
        <p:spPr>
          <a:xfrm>
            <a:off x="685800" y="1371600"/>
            <a:ext cx="7620120" cy="52992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0" y="1219320"/>
            <a:ext cx="2514600" cy="838080"/>
          </a:xfrm>
          <a:prstGeom prst="wedgeEllipseCallout">
            <a:avLst>
              <a:gd name="adj1" fmla="val 82324"/>
              <a:gd name="adj2" fmla="val 17386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可以调节线条是直线还是虚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2743200"/>
            <a:ext cx="2514600" cy="838080"/>
          </a:xfrm>
          <a:prstGeom prst="wedgeEllipseCallout">
            <a:avLst>
              <a:gd name="adj1" fmla="val 86740"/>
              <a:gd name="adj2" fmla="val 267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可以调节线条的粗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3962520"/>
            <a:ext cx="2514600" cy="838080"/>
          </a:xfrm>
          <a:prstGeom prst="wedgeEllipseCallout">
            <a:avLst>
              <a:gd name="adj1" fmla="val 80555"/>
              <a:gd name="adj2" fmla="val -9753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可以调节线条的颜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486400" y="1600200"/>
            <a:ext cx="2514600" cy="838080"/>
          </a:xfrm>
          <a:prstGeom prst="wedgeEllipseCallout">
            <a:avLst>
              <a:gd name="adj1" fmla="val -33268"/>
              <a:gd name="adj2" fmla="val 14621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调节线条方向及形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867280" y="4267080"/>
            <a:ext cx="2514600" cy="838440"/>
          </a:xfrm>
          <a:prstGeom prst="wedgeEllipseCallout">
            <a:avLst>
              <a:gd name="adj1" fmla="val -47032"/>
              <a:gd name="adj2" fmla="val -10871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调节线条端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箭头的大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28600" y="4952880"/>
            <a:ext cx="2438280" cy="1447920"/>
          </a:xfrm>
          <a:prstGeom prst="wedgeEllipseCallout">
            <a:avLst>
              <a:gd name="adj1" fmla="val 86847"/>
              <a:gd name="adj2" fmla="val -12390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可以调节线条端的形状，在放大倍数较大时能表现出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选择其它大类图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rcRect l="0" t="0" r="0" b="7294"/>
          <a:stretch/>
        </p:blipFill>
        <p:spPr>
          <a:xfrm>
            <a:off x="533520" y="1295280"/>
            <a:ext cx="7772400" cy="540396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4191120" y="2819520"/>
            <a:ext cx="3886200" cy="1523880"/>
          </a:xfrm>
          <a:prstGeom prst="wedgeEllipseCallout">
            <a:avLst>
              <a:gd name="adj1" fmla="val -122629"/>
              <a:gd name="adj2" fmla="val -567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可以在此路径下选择其它大类的绘图，如其他工程图，地图等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337760" y="1447920"/>
            <a:ext cx="87192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09480" y="1676520"/>
            <a:ext cx="335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作业：请编制流程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4267080" y="3581280"/>
            <a:ext cx="3200400" cy="26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895480" y="2438280"/>
            <a:ext cx="3310200" cy="8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VISIO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有哪些功能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用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VISIO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绘制流程图的作用和效果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934320" y="533520"/>
            <a:ext cx="190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认识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VIS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当借助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Visio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来理解复杂的处理过程、系统构造、组织方式或理念想法时，它可帮助用户将思路清晰程度提高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33%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当使用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Visio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作为策略、概念、战术或资源规划解决方案时，用户的工作效率可以提高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26%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同时可将实现规划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Arial"/>
              </a:rPr>
              <a:t>目标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所需的时间节省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8%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。 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705720" y="533520"/>
            <a:ext cx="190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认识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VIS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964040" y="2133720"/>
            <a:ext cx="2774880" cy="28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rcRect l="16405" t="17709" r="17188" b="20835"/>
          <a:stretch/>
        </p:blipFill>
        <p:spPr>
          <a:xfrm>
            <a:off x="2057400" y="1523880"/>
            <a:ext cx="6477120" cy="44960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rcRect l="16405" t="17709" r="17188" b="20835"/>
          <a:stretch/>
        </p:blipFill>
        <p:spPr>
          <a:xfrm>
            <a:off x="2057400" y="1523880"/>
            <a:ext cx="6477120" cy="44960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533520" y="2209680"/>
            <a:ext cx="761760" cy="304920"/>
          </a:xfrm>
          <a:prstGeom prst="wedgeEllipseCallout">
            <a:avLst>
              <a:gd name="adj1" fmla="val 178541"/>
              <a:gd name="adj2" fmla="val 28802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4495680"/>
            <a:ext cx="762120" cy="304920"/>
          </a:xfrm>
          <a:prstGeom prst="wedgeEllipseCallout">
            <a:avLst>
              <a:gd name="adj1" fmla="val 456666"/>
              <a:gd name="adj2" fmla="val -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352680" y="6095880"/>
            <a:ext cx="762120" cy="304920"/>
          </a:xfrm>
          <a:prstGeom prst="wedgeEllipseCallout">
            <a:avLst>
              <a:gd name="adj1" fmla="val 440833"/>
              <a:gd name="adj2" fmla="val -1390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54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建立新的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visio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文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04920" y="0"/>
            <a:ext cx="8540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绘制“泳道图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rcRect l="0" t="0" r="0" b="6251"/>
          <a:stretch/>
        </p:blipFill>
        <p:spPr>
          <a:xfrm>
            <a:off x="609480" y="1523880"/>
            <a:ext cx="7010640" cy="46483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6781680" y="838080"/>
            <a:ext cx="762120" cy="304920"/>
          </a:xfrm>
          <a:prstGeom prst="wedgeEllipseCallout">
            <a:avLst>
              <a:gd name="adj1" fmla="val -293750"/>
              <a:gd name="adj2" fmla="val 7067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486400" y="2514600"/>
            <a:ext cx="2819520" cy="533520"/>
          </a:xfrm>
          <a:prstGeom prst="wedgeEllipseCallout">
            <a:avLst>
              <a:gd name="adj1" fmla="val -89638"/>
              <a:gd name="adj2" fmla="val 27708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根据需要填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58000" y="4038480"/>
            <a:ext cx="762120" cy="304920"/>
          </a:xfrm>
          <a:prstGeom prst="wedgeEllipseCallout">
            <a:avLst>
              <a:gd name="adj1" fmla="val -408958"/>
              <a:gd name="adj2" fmla="val 19739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01680" y="380880"/>
            <a:ext cx="8540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添加或减少“道次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rcRect l="0" t="0" r="0" b="6251"/>
          <a:stretch/>
        </p:blipFill>
        <p:spPr>
          <a:xfrm>
            <a:off x="762120" y="1295280"/>
            <a:ext cx="7619760" cy="495324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52280" y="4952880"/>
            <a:ext cx="3353040" cy="838440"/>
          </a:xfrm>
          <a:prstGeom prst="wedgeEllipseCallout">
            <a:avLst>
              <a:gd name="adj1" fmla="val -24240"/>
              <a:gd name="adj2" fmla="val -24791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添加：将此图标“拖”到右边，放开鼠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334120" y="4876920"/>
            <a:ext cx="2895480" cy="990360"/>
          </a:xfrm>
          <a:prstGeom prst="wedgeEllipseCallout">
            <a:avLst>
              <a:gd name="adj1" fmla="val -20175"/>
              <a:gd name="adj2" fmla="val -2174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减少：选中需删除的栏位，按“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delete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01680" y="380880"/>
            <a:ext cx="8540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填加执行主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rcRect l="0" t="0" r="0" b="6251"/>
          <a:stretch/>
        </p:blipFill>
        <p:spPr>
          <a:xfrm>
            <a:off x="838080" y="1295280"/>
            <a:ext cx="7620120" cy="51055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2286000" y="5105520"/>
            <a:ext cx="3809880" cy="761760"/>
          </a:xfrm>
          <a:prstGeom prst="wedgeEllipseCallout">
            <a:avLst>
              <a:gd name="adj1" fmla="val -8291"/>
              <a:gd name="adj2" fmla="val -34020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依次双击此处文字，添加需要的文字—执行主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301680" y="380880"/>
            <a:ext cx="854064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填加执行主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rcRect l="0" t="0" r="0" b="6251"/>
          <a:stretch/>
        </p:blipFill>
        <p:spPr>
          <a:xfrm>
            <a:off x="1066680" y="1295280"/>
            <a:ext cx="739152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henxj</cp:lastModifiedBy>
  <dcterms:modified xsi:type="dcterms:W3CDTF">2009-03-19T06:03:15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