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%E6%B2%B3%E6%B0%B4%E5%A3%B02.wav" ContentType="audio/x-wav"/>
  <Override PartName="/ppt/media/image12.jpeg" ContentType="image/jpeg"/>
  <Override PartName="/ppt/media/image10.png" ContentType="image/png"/>
  <Override PartName="/ppt/media/image27.jpeg" ContentType="image/jpeg"/>
  <Override PartName="/ppt/media/image2.gif" ContentType="image/gif"/>
  <Override PartName="/ppt/media/image11.png" ContentType="image/png"/>
  <Override PartName="/ppt/media/image6.png" ContentType="image/png"/>
  <Override PartName="/ppt/media/image7.png" ContentType="image/png"/>
  <Override PartName="/ppt/media/image4.gif" ContentType="image/gif"/>
  <Override PartName="/ppt/media/image14.jpeg" ContentType="image/jpeg"/>
  <Override PartName="/ppt/media/image5.gif" ContentType="image/gif"/>
  <Override PartName="/ppt/media/image8.png" ContentType="image/png"/>
  <Override PartName="/ppt/media/image9.png" ContentType="image/png"/>
  <Override PartName="/ppt/media/image16.png" ContentType="image/png"/>
  <Override PartName="/ppt/media/image13.gif" ContentType="image/gif"/>
  <Override PartName="/ppt/media/chimes.wav" ContentType="audio/x-wav"/>
  <Override PartName="/ppt/media/image15.png" ContentType="image/png"/>
  <Override PartName="/ppt/media/image17.png" ContentType="image/png"/>
  <Override PartName="/ppt/media/type.wav" ContentType="audio/x-wav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1.gif" ContentType="image/gif"/>
  <Override PartName="/ppt/media/image24.png" ContentType="image/png"/>
  <Override PartName="/ppt/media/image25.jpeg" ContentType="image/jpeg"/>
  <Override PartName="/ppt/media/image3.gif" ContentType="image/gif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AB60-0838-46C4-B283-0452F900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54A4-3E4A-4EC7-8010-B2D723DF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A59D-8973-4EE3-85D3-5FB8D68D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4B90-CE01-480C-B903-06603A43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2179-75EE-4ED3-9766-8D6B0271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A824-08DE-4E21-8912-0054866D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744D-59E2-4FC2-A64D-2A62E579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FBDA-E2DF-49E4-B627-383B522C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9827-B919-442A-84BB-FF5A2BF6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27AD-2C9C-4EE2-A6F2-7519E1C2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7141-5235-40C8-A991-103DE461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1409-7EF0-4F15-B194-24402B3B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52F5-174A-4C6B-A853-156FD8E3A0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" Target="slide11.xml"/><Relationship Id="rId4" Type="http://schemas.openxmlformats.org/officeDocument/2006/relationships/image" Target="../media/image9.png"/><Relationship Id="rId5" Type="http://schemas.openxmlformats.org/officeDocument/2006/relationships/slide" Target="slide11.xm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audio" Target="../media/&#27827;&#27700;&#22768;2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1.xml"/><Relationship Id="rId3" Type="http://schemas.openxmlformats.org/officeDocument/2006/relationships/image" Target="../media/image9.png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image" Target="../media/image11.png"/><Relationship Id="rId44" Type="http://schemas.openxmlformats.org/officeDocument/2006/relationships/image" Target="../media/image11.png"/><Relationship Id="rId45" Type="http://schemas.openxmlformats.org/officeDocument/2006/relationships/image" Target="../media/image11.png"/><Relationship Id="rId46" Type="http://schemas.openxmlformats.org/officeDocument/2006/relationships/image" Target="../media/image11.png"/><Relationship Id="rId47" Type="http://schemas.openxmlformats.org/officeDocument/2006/relationships/image" Target="../media/image11.png"/><Relationship Id="rId48" Type="http://schemas.openxmlformats.org/officeDocument/2006/relationships/image" Target="../media/image11.png"/><Relationship Id="rId49" Type="http://schemas.openxmlformats.org/officeDocument/2006/relationships/image" Target="../media/image11.png"/><Relationship Id="rId50" Type="http://schemas.openxmlformats.org/officeDocument/2006/relationships/image" Target="../media/image11.png"/><Relationship Id="rId51" Type="http://schemas.openxmlformats.org/officeDocument/2006/relationships/image" Target="../media/image11.png"/><Relationship Id="rId52" Type="http://schemas.openxmlformats.org/officeDocument/2006/relationships/image" Target="../media/image11.png"/><Relationship Id="rId5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4221000"/>
            <a:ext cx="1735200" cy="1733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8360" y="907920"/>
            <a:ext cx="2027160" cy="809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979640" y="5805360"/>
            <a:ext cx="1773360" cy="571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737480" y="6191280"/>
            <a:ext cx="1406520" cy="666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308720" y="1197000"/>
            <a:ext cx="1150920" cy="719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403280" y="2276640"/>
            <a:ext cx="6048360" cy="16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求平均数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44360" y="620640"/>
            <a:ext cx="8820360" cy="590400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47640" y="430200"/>
            <a:ext cx="8496360" cy="642780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3851280" y="5516640"/>
            <a:ext cx="3529080" cy="1010520"/>
            <a:chOff x="3851280" y="5516640"/>
            <a:chExt cx="3529080" cy="1010520"/>
          </a:xfrm>
        </p:grpSpPr>
        <p:sp>
          <p:nvSpPr>
            <p:cNvPr id="205" name="未知"/>
            <p:cNvSpPr/>
            <p:nvPr/>
          </p:nvSpPr>
          <p:spPr>
            <a:xfrm>
              <a:off x="3851280" y="5516640"/>
              <a:ext cx="3313080" cy="1008000"/>
            </a:xfrm>
            <a:custGeom>
              <a:avLst/>
              <a:gdLst/>
              <a:ahLst/>
              <a:rect l="l" t="t" r="r" b="b"/>
              <a:pathLst>
                <a:path w="2087" h="635">
                  <a:moveTo>
                    <a:pt x="0" y="635"/>
                  </a:moveTo>
                  <a:lnTo>
                    <a:pt x="2087" y="635"/>
                  </a:lnTo>
                  <a:lnTo>
                    <a:pt x="1860" y="227"/>
                  </a:lnTo>
                  <a:lnTo>
                    <a:pt x="1044" y="0"/>
                  </a:lnTo>
                  <a:lnTo>
                    <a:pt x="273" y="227"/>
                  </a:lnTo>
                  <a:lnTo>
                    <a:pt x="0" y="6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11640" y="5762880"/>
              <a:ext cx="316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ff00"/>
                  </a:solidFill>
                  <a:latin typeface="Arial"/>
                  <a:ea typeface="华文新魏"/>
                </a:rPr>
                <a:t>我的收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164360" y="5013360"/>
            <a:ext cx="1504800" cy="1495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547640" y="1052640"/>
            <a:ext cx="547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平均数和原来那些数相比，处在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中间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位置，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比最大的数要小，比最小的数要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14480" y="288756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66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）先求出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总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748040" y="3116160"/>
            <a:ext cx="3352680" cy="459720"/>
            <a:chOff x="4748040" y="3116160"/>
            <a:chExt cx="3352680" cy="459720"/>
          </a:xfrm>
        </p:grpSpPr>
        <p:sp>
          <p:nvSpPr>
            <p:cNvPr id="211" name=""/>
            <p:cNvSpPr/>
            <p:nvPr/>
          </p:nvSpPr>
          <p:spPr>
            <a:xfrm>
              <a:off x="4748040" y="33447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00320" y="311616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把各个部分数加起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900000" y="385596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66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）再求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平均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21040" y="48211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总数</a:t>
            </a:r>
            <a:r>
              <a:rPr b="1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÷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份数</a:t>
            </a:r>
            <a:r>
              <a:rPr b="1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=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平均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11640" y="447840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92360" y="1125360"/>
            <a:ext cx="5543640" cy="1511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08000" y="6165720"/>
            <a:ext cx="1403280" cy="647640"/>
            <a:chOff x="108000" y="6165720"/>
            <a:chExt cx="1403280" cy="647640"/>
          </a:xfrm>
        </p:grpSpPr>
        <p:grpSp>
          <p:nvGrpSpPr>
            <p:cNvPr id="218" name=""/>
            <p:cNvGrpSpPr/>
            <p:nvPr/>
          </p:nvGrpSpPr>
          <p:grpSpPr>
            <a:xfrm>
              <a:off x="142920" y="6165720"/>
              <a:ext cx="1368360" cy="647640"/>
              <a:chOff x="142920" y="6165720"/>
              <a:chExt cx="1368360" cy="647640"/>
            </a:xfrm>
          </p:grpSpPr>
          <p:sp>
            <p:nvSpPr>
              <p:cNvPr id="219" name="">
                <a:hlinkClick r:id="rId3" action="ppaction://hlinksldjump"/>
              </p:cNvPr>
              <p:cNvSpPr/>
              <p:nvPr/>
            </p:nvSpPr>
            <p:spPr>
              <a:xfrm>
                <a:off x="142920" y="6165720"/>
                <a:ext cx="1368360" cy="647640"/>
              </a:xfrm>
              <a:prstGeom prst="ellipse">
                <a:avLst/>
              </a:prstGeom>
              <a:gradFill rotWithShape="0">
                <a:gsLst>
                  <a:gs pos="0">
                    <a:srgbClr val="ffe181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12640" y="6238800"/>
                <a:ext cx="565200" cy="503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1" name="">
              <a:hlinkClick r:id="rId5" action="ppaction://hlinksldjump"/>
            </p:cNvPr>
            <p:cNvSpPr/>
            <p:nvPr/>
          </p:nvSpPr>
          <p:spPr>
            <a:xfrm>
              <a:off x="108000" y="6165720"/>
              <a:ext cx="1403280" cy="620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8" dur="250" autoRev="1" fill="hold"/>
                                        <p:tgtEl>
                                          <p:spTgt spid="2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980"/>
                            </p:stCondLst>
                            <p:childTnLst>
                              <p:par>
                                <p:cTn id="7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614520"/>
            <a:ext cx="9144000" cy="59101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 flipV="1">
            <a:off x="4427640" y="620640"/>
            <a:ext cx="144360" cy="244800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 rot="19694400">
            <a:off x="2987640" y="1051920"/>
            <a:ext cx="144360" cy="2447640"/>
          </a:xfrm>
          <a:custGeom>
            <a:avLst/>
            <a:gdLst>
              <a:gd name="textAreaLeft" fmla="*/ 51840 w 144360"/>
              <a:gd name="textAreaRight" fmla="*/ 92520 w 144360"/>
              <a:gd name="textAreaTop" fmla="*/ 878040 h 2447640"/>
              <a:gd name="textAreaBottom" fmla="*/ 156960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 rot="18542400">
            <a:off x="2053080" y="1914480"/>
            <a:ext cx="144360" cy="244836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360"/>
              <a:gd name="textAreaBottom" fmla="*/ 1569960 h 24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 rot="17506200">
            <a:off x="1474920" y="3068640"/>
            <a:ext cx="144720" cy="2447640"/>
          </a:xfrm>
          <a:custGeom>
            <a:avLst/>
            <a:gdLst>
              <a:gd name="textAreaLeft" fmla="*/ 51840 w 144720"/>
              <a:gd name="textAreaRight" fmla="*/ 92880 w 144720"/>
              <a:gd name="textAreaTop" fmla="*/ 878040 h 2447640"/>
              <a:gd name="textAreaBottom" fmla="*/ 156960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 rot="16534800">
            <a:off x="1259640" y="4221720"/>
            <a:ext cx="144360" cy="244800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050920" y="1197000"/>
            <a:ext cx="5372280" cy="25034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2627280" y="2349360"/>
            <a:ext cx="4032360" cy="33530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0" name=""/>
          <p:cNvSpPr/>
          <p:nvPr/>
        </p:nvSpPr>
        <p:spPr>
          <a:xfrm flipH="1" flipV="1" rot="1905600">
            <a:off x="5868000" y="1051920"/>
            <a:ext cx="144360" cy="244800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 rot="3057600">
            <a:off x="6803280" y="1917360"/>
            <a:ext cx="144360" cy="244836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360"/>
              <a:gd name="textAreaBottom" fmla="*/ 1569960 h 24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 rot="4093800">
            <a:off x="7381080" y="3068280"/>
            <a:ext cx="144720" cy="2448000"/>
          </a:xfrm>
          <a:custGeom>
            <a:avLst/>
            <a:gdLst>
              <a:gd name="textAreaLeft" fmla="*/ 51840 w 144720"/>
              <a:gd name="textAreaRight" fmla="*/ 92880 w 14472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 flipV="1" rot="5065200">
            <a:off x="7596000" y="4221720"/>
            <a:ext cx="144360" cy="244800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5" dur="250" autoRev="1" fill="hold"/>
                                        <p:tgtEl>
                                          <p:spTgt spid="2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6" dur="25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97" dur="25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8" dur="25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0" dur="250" autoRev="1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1" dur="250" autoRev="1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02" dur="250" autoRev="1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4" dur="250" autoRev="1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5" dur="250" autoRev="1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06" dur="250" autoRev="1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8" dur="250" autoRev="1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9" dur="250" autoRev="1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250" autoRev="1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250" autoRev="1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13" dur="250" autoRev="1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4" dur="250" autoRev="1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6" dur="250" autoRev="1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17" dur="250" autoRev="1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8" dur="250" autoRev="1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0" dur="250" autoRev="1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21" dur="250" autoRev="1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2" dur="250" autoRev="1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4" dur="250" autoRev="1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25" dur="250" autoRev="1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6" dur="250" autoRev="1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8" dur="250" autoRev="1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29" dur="250" autoRev="1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0" dur="250" autoRev="1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900000" y="3268800"/>
            <a:ext cx="1452600" cy="2752560"/>
            <a:chOff x="900000" y="3268800"/>
            <a:chExt cx="1452600" cy="275256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971280" y="3645000"/>
              <a:ext cx="1381320" cy="23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900000" y="3268800"/>
              <a:ext cx="1438200" cy="2752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6804000" y="3355920"/>
            <a:ext cx="1619280" cy="28004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2771640" y="3139920"/>
            <a:ext cx="1714680" cy="30196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4491000" y="3146400"/>
            <a:ext cx="2457360" cy="31622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68360" y="101124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用四个同样的杯子装水，每个杯子分别标有水面的高度，这四个杯子水面的平均高度是多少厘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71640" y="2852640"/>
            <a:ext cx="136836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87640" y="2852640"/>
            <a:ext cx="136836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59280" y="2852640"/>
            <a:ext cx="136836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75640" y="2852640"/>
            <a:ext cx="136836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500"/>
                            </p:stCondLst>
                            <p:childTnLst>
                              <p:par>
                                <p:cTn id="8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8200" y="141300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下面是一只母鸡六个月产蛋的统计表。根据题目中给的数据，算出这只母鸡平均每月产多少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755640" y="2708280"/>
          <a:ext cx="7620120" cy="121932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  <a:gridCol w="1066680"/>
                <a:gridCol w="1066680"/>
                <a:gridCol w="1143000"/>
                <a:gridCol w="1143000"/>
                <a:gridCol w="106704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月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一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二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三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四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五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六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</a:tr>
            </a:tbl>
          </a:graphicData>
        </a:graphic>
      </p:graphicFrame>
      <p:sp>
        <p:nvSpPr>
          <p:cNvPr id="248" name=""/>
          <p:cNvSpPr/>
          <p:nvPr/>
        </p:nvSpPr>
        <p:spPr>
          <a:xfrm>
            <a:off x="0" y="549360"/>
            <a:ext cx="63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Times New Roman"/>
                <a:ea typeface="方正大黑简体"/>
              </a:rPr>
              <a:t>想一想：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下面哪个列式才对</a:t>
            </a:r>
            <a:r>
              <a:rPr b="1" i="1" lang="zh-CN" sz="4800" spc="-1" strike="noStrike">
                <a:solidFill>
                  <a:srgbClr val="009900"/>
                </a:solidFill>
                <a:latin typeface="Times New Roman"/>
                <a:ea typeface="方正大黑简体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6880" y="43657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20+23+26+28+30+29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÷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6880" y="57373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20+23+26+28+30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÷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0920" y="509256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20+23+26+28+30+29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） 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÷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09560" y="4941720"/>
            <a:ext cx="53751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300720" y="4354560"/>
            <a:ext cx="26640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6" dur="250" autoRev="1" fill="hold"/>
                                        <p:tgtEl>
                                          <p:spTgt spid="2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000"/>
                            </p:stCondLst>
                            <p:childTnLst>
                              <p:par>
                                <p:cTn id="8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765000"/>
            <a:ext cx="8820000" cy="590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837072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332000" y="4508640"/>
            <a:ext cx="738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游泳池的平均水深是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120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厘米，小明身高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140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厘米，他在游泳池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学游泳，会不会有危险？为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411280" y="907920"/>
            <a:ext cx="4969080" cy="33386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 rot="5400000">
            <a:off x="281520" y="1813680"/>
            <a:ext cx="2232000" cy="85248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想一想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59" name=""/>
          <p:cNvSpPr/>
          <p:nvPr/>
        </p:nvSpPr>
        <p:spPr>
          <a:xfrm>
            <a:off x="3565440" y="4508640"/>
            <a:ext cx="2014560" cy="64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B2%B3%E6%B0%B4%E5%A3%B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2000"/>
                            </p:stCondLst>
                            <p:childTnLst>
                              <p:par>
                                <p:cTn id="8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9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0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2000"/>
                            </p:stCondLst>
                            <p:childTnLst>
                              <p:par>
                                <p:cTn id="9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68360" y="2349360"/>
            <a:ext cx="8137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春节期间丽江旅游人数平均每天为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万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丽江旅游收入平均每天为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0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万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丽江今年三月份平均每天气温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摄氏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我校三年级学生平均年龄是９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我校三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班平均身高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2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王老师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008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年平均每月用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8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千瓦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西部最缺水的地区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平均每人每天用水只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千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76360" y="692280"/>
            <a:ext cx="712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在我们生活中，平均数无处不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请你读一读下面的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566100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请你找一找在我们生活中还有哪些平均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95280" y="333360"/>
            <a:ext cx="84247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求平均数的计算方法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量较小时使用比较方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总数量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÷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总份数 ＝平均数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求平均数的一般方法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8360" y="1197000"/>
            <a:ext cx="35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①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.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移多补少法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9640" y="2133720"/>
            <a:ext cx="31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②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5040" y="3646440"/>
            <a:ext cx="8413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均数的特点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均数和原来那些数相比，处在</a:t>
            </a:r>
            <a:r>
              <a:rPr b="0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中间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位置，比最大的数要小，比最小的数要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5640" y="105408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3300"/>
                </a:solidFill>
                <a:latin typeface="Arial"/>
              </a:rPr>
              <a:t>看谁算的快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7440" y="2278080"/>
            <a:ext cx="636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一个西瓜平均分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份，每人一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38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苹果，分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小朋友吃，平均每位小朋友有几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54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平均分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份，每份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3341520"/>
            <a:ext cx="1577880" cy="2076480"/>
          </a:xfrm>
          <a:prstGeom prst="rect">
            <a:avLst/>
          </a:prstGeom>
          <a:solidFill>
            <a:srgbClr val="5e88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2240" y="3840120"/>
            <a:ext cx="1492200" cy="1577880"/>
          </a:xfrm>
          <a:prstGeom prst="rect">
            <a:avLst/>
          </a:prstGeom>
          <a:solidFill>
            <a:srgbClr val="5e88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5240" y="4255920"/>
            <a:ext cx="1492200" cy="1162080"/>
          </a:xfrm>
          <a:prstGeom prst="rect">
            <a:avLst/>
          </a:prstGeom>
          <a:solidFill>
            <a:srgbClr val="5e88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67440" y="4089240"/>
            <a:ext cx="1493640" cy="1328760"/>
          </a:xfrm>
          <a:prstGeom prst="rect">
            <a:avLst/>
          </a:prstGeom>
          <a:solidFill>
            <a:srgbClr val="5e88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 rot="16200000">
            <a:off x="3810240" y="4033800"/>
            <a:ext cx="2738160" cy="8424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 rot="16200000">
            <a:off x="851040" y="4006800"/>
            <a:ext cx="2738160" cy="8424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 rot="16200000">
            <a:off x="2346480" y="4006800"/>
            <a:ext cx="2738160" cy="8424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4880" y="987480"/>
            <a:ext cx="788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把挡板拿开，里面的水会怎么样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3933720"/>
            <a:ext cx="1530360" cy="1486080"/>
          </a:xfrm>
          <a:prstGeom prst="rect">
            <a:avLst/>
          </a:prstGeom>
          <a:solidFill>
            <a:srgbClr val="5e88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78000" y="3933720"/>
            <a:ext cx="1530360" cy="1486080"/>
          </a:xfrm>
          <a:prstGeom prst="rect">
            <a:avLst/>
          </a:prstGeom>
          <a:solidFill>
            <a:srgbClr val="5e88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73440" y="3933720"/>
            <a:ext cx="1530360" cy="1486080"/>
          </a:xfrm>
          <a:prstGeom prst="rect">
            <a:avLst/>
          </a:prstGeom>
          <a:solidFill>
            <a:srgbClr val="5e88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67440" y="3933720"/>
            <a:ext cx="1530360" cy="1486080"/>
          </a:xfrm>
          <a:prstGeom prst="rect">
            <a:avLst/>
          </a:prstGeom>
          <a:solidFill>
            <a:srgbClr val="5e88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未知"/>
          <p:cNvSpPr/>
          <p:nvPr/>
        </p:nvSpPr>
        <p:spPr>
          <a:xfrm>
            <a:off x="684360" y="2852640"/>
            <a:ext cx="5976720" cy="2571840"/>
          </a:xfrm>
          <a:custGeom>
            <a:avLst/>
            <a:gdLst/>
            <a:ahLst/>
            <a:rect l="l" t="t" r="r" b="b"/>
            <a:pathLst>
              <a:path w="3266" h="1724">
                <a:moveTo>
                  <a:pt x="0" y="0"/>
                </a:moveTo>
                <a:lnTo>
                  <a:pt x="0" y="1724"/>
                </a:lnTo>
                <a:lnTo>
                  <a:pt x="3266" y="1724"/>
                </a:lnTo>
                <a:lnTo>
                  <a:pt x="3266" y="0"/>
                </a:lnTo>
              </a:path>
            </a:pathLst>
          </a:custGeom>
          <a:solidFill>
            <a:srgbClr val="ffffff">
              <a:alpha val="24000"/>
            </a:srgbClr>
          </a:solidFill>
          <a:ln w="63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04000" y="3976560"/>
            <a:ext cx="73080" cy="1368720"/>
          </a:xfrm>
          <a:custGeom>
            <a:avLst/>
            <a:gdLst>
              <a:gd name="textAreaLeft" fmla="*/ 0 w 73080"/>
              <a:gd name="textAreaRight" fmla="*/ 26280 w 730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42840" y="426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平均高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740720" y="155736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822240"/>
            <a:ext cx="71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怎样移动才能使每排小球个数同样多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22040" y="5329080"/>
            <a:ext cx="4578840" cy="703440"/>
          </a:xfrm>
          <a:prstGeom prst="rect">
            <a:avLst/>
          </a:prstGeom>
          <a:solidFill>
            <a:srgbClr val="a1d7bf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5  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是 </a:t>
            </a: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平均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30200" y="1844640"/>
            <a:ext cx="792360" cy="79236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66920" y="1844640"/>
            <a:ext cx="792360" cy="79236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1840" y="1844640"/>
            <a:ext cx="792360" cy="79236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1844640"/>
            <a:ext cx="792000" cy="79236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8360" y="1844640"/>
            <a:ext cx="792000" cy="79236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58920" y="2997360"/>
            <a:ext cx="792000" cy="792000"/>
          </a:xfrm>
          <a:prstGeom prst="ellipse">
            <a:avLst/>
          </a:prstGeom>
          <a:gradFill rotWithShape="0">
            <a:gsLst>
              <a:gs pos="0">
                <a:srgbClr val="ff6699"/>
              </a:gs>
              <a:gs pos="100000">
                <a:srgbClr val="75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95640" y="2997360"/>
            <a:ext cx="792000" cy="792000"/>
          </a:xfrm>
          <a:prstGeom prst="ellipse">
            <a:avLst/>
          </a:prstGeom>
          <a:gradFill rotWithShape="0">
            <a:gsLst>
              <a:gs pos="0">
                <a:srgbClr val="ff6699"/>
              </a:gs>
              <a:gs pos="100000">
                <a:srgbClr val="75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30560" y="2997360"/>
            <a:ext cx="792000" cy="792000"/>
          </a:xfrm>
          <a:prstGeom prst="ellipse">
            <a:avLst/>
          </a:prstGeom>
          <a:gradFill rotWithShape="0">
            <a:gsLst>
              <a:gs pos="0">
                <a:srgbClr val="ff6699"/>
              </a:gs>
              <a:gs pos="100000">
                <a:srgbClr val="75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38560" y="2997360"/>
            <a:ext cx="792360" cy="792000"/>
          </a:xfrm>
          <a:prstGeom prst="ellipse">
            <a:avLst/>
          </a:prstGeom>
          <a:gradFill rotWithShape="0">
            <a:gsLst>
              <a:gs pos="0">
                <a:srgbClr val="ff6699"/>
              </a:gs>
              <a:gs pos="100000">
                <a:srgbClr val="75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48360" y="2997360"/>
            <a:ext cx="792000" cy="792000"/>
          </a:xfrm>
          <a:prstGeom prst="ellipse">
            <a:avLst/>
          </a:prstGeom>
          <a:gradFill rotWithShape="0">
            <a:gsLst>
              <a:gs pos="0">
                <a:srgbClr val="ff6699"/>
              </a:gs>
              <a:gs pos="100000">
                <a:srgbClr val="75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0200" y="4149720"/>
            <a:ext cx="792360" cy="792000"/>
          </a:xfrm>
          <a:prstGeom prst="ellipse">
            <a:avLst/>
          </a:prstGeom>
          <a:gradFill rotWithShape="0">
            <a:gsLst>
              <a:gs pos="0">
                <a:srgbClr val="669900"/>
              </a:gs>
              <a:gs pos="100000">
                <a:srgbClr val="2f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66920" y="4149720"/>
            <a:ext cx="792360" cy="792000"/>
          </a:xfrm>
          <a:prstGeom prst="ellipse">
            <a:avLst/>
          </a:prstGeom>
          <a:gradFill rotWithShape="0">
            <a:gsLst>
              <a:gs pos="0">
                <a:srgbClr val="669900"/>
              </a:gs>
              <a:gs pos="100000">
                <a:srgbClr val="2f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1120" y="1916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1120" y="30751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9920" y="42274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54560" y="1844640"/>
            <a:ext cx="792360" cy="79236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83280" y="2997360"/>
            <a:ext cx="792360" cy="792000"/>
          </a:xfrm>
          <a:prstGeom prst="ellipse">
            <a:avLst/>
          </a:prstGeom>
          <a:gradFill rotWithShape="0">
            <a:gsLst>
              <a:gs pos="0">
                <a:srgbClr val="ff6699"/>
              </a:gs>
              <a:gs pos="100000">
                <a:srgbClr val="75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91280" y="2997360"/>
            <a:ext cx="792360" cy="792000"/>
          </a:xfrm>
          <a:prstGeom prst="ellipse">
            <a:avLst/>
          </a:prstGeom>
          <a:gradFill rotWithShape="0">
            <a:gsLst>
              <a:gs pos="0">
                <a:srgbClr val="ff6699"/>
              </a:gs>
              <a:gs pos="100000">
                <a:srgbClr val="75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80000" y="32194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每排都是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2276640"/>
            <a:ext cx="287280" cy="2447640"/>
          </a:xfrm>
          <a:custGeom>
            <a:avLst/>
            <a:gdLst>
              <a:gd name="textAreaLeft" fmla="*/ 0 w 287280"/>
              <a:gd name="textAreaRight" fmla="*/ 103680 w 287280"/>
              <a:gd name="textAreaTop" fmla="*/ 63720 h 2447640"/>
              <a:gd name="textAreaBottom" fmla="*/ 238392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2680" y="1916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2680" y="30751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1120" y="42274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7 L -0.31875 0.33079 E">
                                      <p:cBhvr>
                                        <p:cTn id="20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1267 0.16783 E">
                                      <p:cBhvr>
                                        <p:cTn id="212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1267 0.16783 E">
                                      <p:cBhvr>
                                        <p:cTn id="21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71640" y="433944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华文新魏"/>
              </a:rPr>
              <a:t>像这样，几个不相等的量，在总数不变的前提下，通过移多补少，会得到一个相等的数，我们把这个相等的数叫做这几个数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平均数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8000" y="6165720"/>
            <a:ext cx="1403280" cy="647640"/>
            <a:chOff x="108000" y="6165720"/>
            <a:chExt cx="1403280" cy="647640"/>
          </a:xfrm>
        </p:grpSpPr>
        <p:grpSp>
          <p:nvGrpSpPr>
            <p:cNvPr id="96" name=""/>
            <p:cNvGrpSpPr/>
            <p:nvPr/>
          </p:nvGrpSpPr>
          <p:grpSpPr>
            <a:xfrm>
              <a:off x="142920" y="6165720"/>
              <a:ext cx="1368360" cy="647640"/>
              <a:chOff x="142920" y="6165720"/>
              <a:chExt cx="1368360" cy="647640"/>
            </a:xfrm>
          </p:grpSpPr>
          <p:sp>
            <p:nvSpPr>
              <p:cNvPr id="97" name="">
                <a:hlinkClick r:id="rId2" action="ppaction://hlinksldjump"/>
              </p:cNvPr>
              <p:cNvSpPr/>
              <p:nvPr/>
            </p:nvSpPr>
            <p:spPr>
              <a:xfrm>
                <a:off x="142920" y="6165720"/>
                <a:ext cx="1368360" cy="647640"/>
              </a:xfrm>
              <a:prstGeom prst="ellipse">
                <a:avLst/>
              </a:prstGeom>
              <a:gradFill rotWithShape="0">
                <a:gsLst>
                  <a:gs pos="0">
                    <a:srgbClr val="ffe181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2640" y="6238800"/>
                <a:ext cx="565200" cy="503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9" name="">
              <a:hlinkClick r:id="rId4" action="ppaction://hlinksldjump"/>
            </p:cNvPr>
            <p:cNvSpPr/>
            <p:nvPr/>
          </p:nvSpPr>
          <p:spPr>
            <a:xfrm>
              <a:off x="108000" y="6165720"/>
              <a:ext cx="1403280" cy="620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04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2708280"/>
            <a:ext cx="3671640" cy="1871640"/>
          </a:xfrm>
          <a:prstGeom prst="cloudCallout">
            <a:avLst>
              <a:gd name="adj1" fmla="val 95393"/>
              <a:gd name="adj2" fmla="val 44064"/>
            </a:avLst>
          </a:prstGeom>
          <a:solidFill>
            <a:srgbClr val="ffff99">
              <a:alpha val="7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们组平均每个人收集了多少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4000" y="836640"/>
            <a:ext cx="2160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红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43640" y="2421000"/>
            <a:ext cx="2160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兰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4941720"/>
            <a:ext cx="2160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丽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80000" y="5445000"/>
            <a:ext cx="194328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明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47640" y="836640"/>
            <a:ext cx="358920" cy="1152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979640" y="836640"/>
            <a:ext cx="358920" cy="1152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406600" y="836640"/>
            <a:ext cx="365040" cy="1152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838600" y="836640"/>
            <a:ext cx="365040" cy="1152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3270240" y="836640"/>
            <a:ext cx="365040" cy="1152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3703680" y="836640"/>
            <a:ext cx="365040" cy="1152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4140360" y="836640"/>
            <a:ext cx="365040" cy="1152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4572000" y="836640"/>
            <a:ext cx="365040" cy="1152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4998960" y="836640"/>
            <a:ext cx="365040" cy="1152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0"/>
          <a:stretch/>
        </p:blipFill>
        <p:spPr>
          <a:xfrm>
            <a:off x="5430960" y="836640"/>
            <a:ext cx="365040" cy="1152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1"/>
          <a:stretch/>
        </p:blipFill>
        <p:spPr>
          <a:xfrm>
            <a:off x="5862600" y="836640"/>
            <a:ext cx="365040" cy="1152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2"/>
          <a:stretch/>
        </p:blipFill>
        <p:spPr>
          <a:xfrm>
            <a:off x="6294600" y="836640"/>
            <a:ext cx="365040" cy="1152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3"/>
          <a:stretch/>
        </p:blipFill>
        <p:spPr>
          <a:xfrm>
            <a:off x="6799320" y="836640"/>
            <a:ext cx="365040" cy="115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4"/>
          <a:stretch/>
        </p:blipFill>
        <p:spPr>
          <a:xfrm>
            <a:off x="1116000" y="836640"/>
            <a:ext cx="365040" cy="115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5"/>
          <a:stretch/>
        </p:blipFill>
        <p:spPr>
          <a:xfrm>
            <a:off x="1547640" y="2205000"/>
            <a:ext cx="358920" cy="1152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6"/>
          <a:stretch/>
        </p:blipFill>
        <p:spPr>
          <a:xfrm>
            <a:off x="1979640" y="2205000"/>
            <a:ext cx="358920" cy="1152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7"/>
          <a:stretch/>
        </p:blipFill>
        <p:spPr>
          <a:xfrm>
            <a:off x="2406600" y="220500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8"/>
          <a:stretch/>
        </p:blipFill>
        <p:spPr>
          <a:xfrm>
            <a:off x="2838600" y="220500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9"/>
          <a:stretch/>
        </p:blipFill>
        <p:spPr>
          <a:xfrm>
            <a:off x="3270240" y="220500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0"/>
          <a:stretch/>
        </p:blipFill>
        <p:spPr>
          <a:xfrm>
            <a:off x="3703680" y="220500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1"/>
          <a:stretch/>
        </p:blipFill>
        <p:spPr>
          <a:xfrm>
            <a:off x="4140360" y="220500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2"/>
          <a:stretch/>
        </p:blipFill>
        <p:spPr>
          <a:xfrm>
            <a:off x="4572000" y="220500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3"/>
          <a:stretch/>
        </p:blipFill>
        <p:spPr>
          <a:xfrm>
            <a:off x="4998960" y="220500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4"/>
          <a:stretch/>
        </p:blipFill>
        <p:spPr>
          <a:xfrm>
            <a:off x="5430960" y="220500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5"/>
          <a:stretch/>
        </p:blipFill>
        <p:spPr>
          <a:xfrm>
            <a:off x="5862600" y="220500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6"/>
          <a:stretch/>
        </p:blipFill>
        <p:spPr>
          <a:xfrm>
            <a:off x="1116000" y="220500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7"/>
          <a:stretch/>
        </p:blipFill>
        <p:spPr>
          <a:xfrm>
            <a:off x="1547640" y="3573360"/>
            <a:ext cx="358920" cy="1152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8"/>
          <a:stretch/>
        </p:blipFill>
        <p:spPr>
          <a:xfrm>
            <a:off x="1979640" y="3573360"/>
            <a:ext cx="358920" cy="1152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9"/>
          <a:stretch/>
        </p:blipFill>
        <p:spPr>
          <a:xfrm>
            <a:off x="2406600" y="357336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0"/>
          <a:stretch/>
        </p:blipFill>
        <p:spPr>
          <a:xfrm>
            <a:off x="2838600" y="357336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1"/>
          <a:stretch/>
        </p:blipFill>
        <p:spPr>
          <a:xfrm>
            <a:off x="3270240" y="357336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2"/>
          <a:stretch/>
        </p:blipFill>
        <p:spPr>
          <a:xfrm>
            <a:off x="3703680" y="357336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3"/>
          <a:stretch/>
        </p:blipFill>
        <p:spPr>
          <a:xfrm>
            <a:off x="4140360" y="357336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4"/>
          <a:stretch/>
        </p:blipFill>
        <p:spPr>
          <a:xfrm>
            <a:off x="4572000" y="357336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5"/>
          <a:stretch/>
        </p:blipFill>
        <p:spPr>
          <a:xfrm>
            <a:off x="4998960" y="357336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6"/>
          <a:stretch/>
        </p:blipFill>
        <p:spPr>
          <a:xfrm>
            <a:off x="5430960" y="357336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7"/>
          <a:stretch/>
        </p:blipFill>
        <p:spPr>
          <a:xfrm>
            <a:off x="1116000" y="357336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8"/>
          <a:stretch/>
        </p:blipFill>
        <p:spPr>
          <a:xfrm>
            <a:off x="1547640" y="4941720"/>
            <a:ext cx="358920" cy="1152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9"/>
          <a:stretch/>
        </p:blipFill>
        <p:spPr>
          <a:xfrm>
            <a:off x="1979640" y="4941720"/>
            <a:ext cx="358920" cy="1152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0"/>
          <a:stretch/>
        </p:blipFill>
        <p:spPr>
          <a:xfrm>
            <a:off x="2411280" y="4941720"/>
            <a:ext cx="365400" cy="1152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1"/>
          <a:stretch/>
        </p:blipFill>
        <p:spPr>
          <a:xfrm>
            <a:off x="2838600" y="494172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2"/>
          <a:stretch/>
        </p:blipFill>
        <p:spPr>
          <a:xfrm>
            <a:off x="3270240" y="494172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3"/>
          <a:stretch/>
        </p:blipFill>
        <p:spPr>
          <a:xfrm>
            <a:off x="3703680" y="494172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4"/>
          <a:stretch/>
        </p:blipFill>
        <p:spPr>
          <a:xfrm>
            <a:off x="4140360" y="494172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5"/>
          <a:stretch/>
        </p:blipFill>
        <p:spPr>
          <a:xfrm>
            <a:off x="4572000" y="494172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6"/>
          <a:stretch/>
        </p:blipFill>
        <p:spPr>
          <a:xfrm>
            <a:off x="5003640" y="4941720"/>
            <a:ext cx="365400" cy="1152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7"/>
          <a:stretch/>
        </p:blipFill>
        <p:spPr>
          <a:xfrm>
            <a:off x="5430960" y="494172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8"/>
          <a:stretch/>
        </p:blipFill>
        <p:spPr>
          <a:xfrm>
            <a:off x="5862600" y="494172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9"/>
          <a:stretch/>
        </p:blipFill>
        <p:spPr>
          <a:xfrm>
            <a:off x="6300720" y="494172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0"/>
          <a:stretch/>
        </p:blipFill>
        <p:spPr>
          <a:xfrm>
            <a:off x="6799320" y="494172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1"/>
          <a:stretch/>
        </p:blipFill>
        <p:spPr>
          <a:xfrm>
            <a:off x="1116000" y="494172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2"/>
          <a:stretch/>
        </p:blipFill>
        <p:spPr>
          <a:xfrm>
            <a:off x="7230960" y="4941720"/>
            <a:ext cx="365400" cy="1152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87280" y="623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900000" y="404280"/>
            <a:ext cx="0" cy="597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623736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197000"/>
            <a:ext cx="10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小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56536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小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933720"/>
            <a:ext cx="107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小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522936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小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58920" y="61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5892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9236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4000" y="6093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5600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8764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1964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5600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1964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5164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8472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94836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8036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6308640"/>
            <a:ext cx="79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     1    2    3   4     5    6    7    8    9   10  11   12  13  14  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75480" y="836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32720" y="620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32720" y="2565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32720" y="414972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04000" y="2205000"/>
            <a:ext cx="234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平均每个人收集了多少个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48148E-006 L -0.05885 0.19954 E">
                                      <p:cBhvr>
                                        <p:cTn id="63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7 L -0.10607 -0.19954 E">
                                      <p:cBhvr>
                                        <p:cTn id="643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1829 L -0.10607 -0.19954 E">
                                      <p:cBhvr>
                                        <p:cTn id="64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203840" y="1425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35080" y="76500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就是相当于，把我们组收集的矿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瓶平均分成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47000" y="282564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 + 12 + 11 + 15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05680" y="3402000"/>
            <a:ext cx="17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 52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92360" y="3978360"/>
            <a:ext cx="203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 1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76480" y="5024520"/>
            <a:ext cx="16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这一组平均每人收集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516720" y="2060640"/>
            <a:ext cx="1371600" cy="1292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-2624040" y="0"/>
            <a:ext cx="1171728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6560" y="704880"/>
            <a:ext cx="477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9800" y="109044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003300"/>
                </a:solidFill>
                <a:latin typeface="Arial"/>
                <a:ea typeface="黑体"/>
              </a:rPr>
              <a:t>开动脑筋想一想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6560" y="2494080"/>
            <a:ext cx="648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平均数的方法是什么呢？试着谈一谈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均数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动要求：小组讨论，组长总结发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3-20T06:58:12Z</dcterms:modified>
  <cp:revision>3</cp:revision>
  <dc:subject/>
  <dc:title>幻灯片 1</dc:title>
</cp:coreProperties>
</file>