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56CD-FD86-4D76-A700-8C0C368255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好课件要交流，浙教版初中科学课件交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群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77246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瑞安市东山中学　杨直梭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47821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有点烦之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rayzs.blog.zjol.com.cn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好课件要交流，浙教版初中科学课件交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群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77246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瑞安市东山中学　杨直梭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47821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92E-0EC9-4849-945F-5172087F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680" y="3825720"/>
            <a:ext cx="77724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2DB7-6D56-460A-AC41-26652588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3792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49360" y="1413000"/>
            <a:ext cx="3792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680" y="3825720"/>
            <a:ext cx="3792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9360" y="3825720"/>
            <a:ext cx="3792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D71-FCA1-4518-8C43-B4278656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25023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94680" y="1413000"/>
            <a:ext cx="25023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2320" y="1413000"/>
            <a:ext cx="25023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680" y="3825720"/>
            <a:ext cx="25023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94680" y="3825720"/>
            <a:ext cx="25023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2320" y="3825720"/>
            <a:ext cx="25023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4C7-BD1A-43C5-8E88-718755AA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680" y="141300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CA3-3B13-430A-8E05-5A087C4D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991-EEC1-4954-97AC-339CDABE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3792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413000"/>
            <a:ext cx="3792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42F-E8AC-498B-A84A-64BAFCDE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AA2-9C12-4F15-B5B2-20F0B05E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1960" y="44280"/>
            <a:ext cx="7772400" cy="48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88A-F24E-41CF-A9FC-78E5C474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3792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413000"/>
            <a:ext cx="3792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3825720"/>
            <a:ext cx="3792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51F1-8E76-40C9-ABBA-609513F0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3792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413000"/>
            <a:ext cx="3792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9360" y="3825720"/>
            <a:ext cx="3792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922-5448-4A76-A3E6-6F436D6B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3792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413000"/>
            <a:ext cx="3792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3825720"/>
            <a:ext cx="77724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B03-D056-4515-BF73-FF10E178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920" y="1125360"/>
            <a:ext cx="6899400" cy="17172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0066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8900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0000ff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765000"/>
            <a:ext cx="15264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41300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220D-4181-43FB-AEFB-C0610A91C59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ShockwaveFlash1"/>
          <p:cNvGraphicFramePr/>
          <p:nvPr/>
        </p:nvGraphicFramePr>
        <p:xfrm>
          <a:off x="8172360" y="0"/>
          <a:ext cx="97164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" name="ShockwaveFlash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172360" y="0"/>
                    <a:ext cx="971640" cy="476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844640"/>
            <a:ext cx="5110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4076280"/>
            <a:ext cx="4640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99520" y="3357720"/>
            <a:ext cx="5496120" cy="389880"/>
            <a:chOff x="299520" y="3357720"/>
            <a:chExt cx="5496120" cy="389880"/>
          </a:xfrm>
        </p:grpSpPr>
        <p:sp>
          <p:nvSpPr>
            <p:cNvPr id="56" name=""/>
            <p:cNvSpPr/>
            <p:nvPr/>
          </p:nvSpPr>
          <p:spPr>
            <a:xfrm flipH="1" flipV="1" rot="16200000">
              <a:off x="2971080" y="837720"/>
              <a:ext cx="151920" cy="549612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006600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2598120" y="3357720"/>
              <a:ext cx="782280" cy="389880"/>
              <a:chOff x="2598120" y="3357720"/>
              <a:chExt cx="782280" cy="3898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2598120" y="3358080"/>
                <a:ext cx="782280" cy="389520"/>
                <a:chOff x="2598120" y="3358080"/>
                <a:chExt cx="782280" cy="3895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2659680" y="3475440"/>
                  <a:ext cx="720720" cy="27216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598120" y="3358080"/>
                  <a:ext cx="780840" cy="34848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" name=""/>
              <p:cNvSpPr/>
              <p:nvPr/>
            </p:nvSpPr>
            <p:spPr>
              <a:xfrm>
                <a:off x="2620080" y="3416040"/>
                <a:ext cx="29952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116520" y="3357720"/>
                <a:ext cx="5220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101400" y="3389760"/>
                <a:ext cx="269280" cy="23580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"/>
          <p:cNvSpPr/>
          <p:nvPr/>
        </p:nvSpPr>
        <p:spPr>
          <a:xfrm>
            <a:off x="0" y="0"/>
            <a:ext cx="7885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1960" y="44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2:42:36Z</dcterms:created>
  <dc:creator>微软用户</dc:creator>
  <dc:description/>
  <dc:language>en-US</dc:language>
  <cp:lastModifiedBy>微软用户</cp:lastModifiedBy>
  <dcterms:modified xsi:type="dcterms:W3CDTF">2010-09-08T13:07:50Z</dcterms:modified>
  <cp:revision>21</cp:revision>
  <dc:subject/>
  <dc:title>幻灯片 1</dc:title>
</cp:coreProperties>
</file>