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5D80-0C89-47D9-9198-5D855FD3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3D3-34CE-412B-AF97-096B7E56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138D1-AEE3-434A-8331-D205CE24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FECC7-3946-47DE-890D-B4711348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04D6D-060E-4CC9-885C-DCF98458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6F64D-FE50-4A92-BEDD-022E7494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09C99-BDC9-4D33-80E1-B549DFCF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02AE6-B270-4E33-8C5A-BD4DDF65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CF09A-90BF-4102-83B0-F66E63E3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689B2-AAF4-4563-A197-450303A6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62C83-4F48-4F94-8794-B0AB536F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99B9B-3CA9-4116-B1BC-81FDA36E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9A1-B270-4674-9B2D-51635BAF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985C6-D2F8-455D-AE9C-08DBAAF0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7704E-C666-412C-A6CC-123E86D8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F4519-B93C-4804-839B-818F4092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068FA-3137-4BFC-A589-43EECFD0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16576-18AF-48F2-9D52-50B97902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C68AC-B27C-41C1-B362-EBAF8CEF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10859-62E5-48FC-8CC8-ECDFCB74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A7723-7891-4F36-85C7-2948F77E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E316C-3C2A-4975-AE81-BCD7E75C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9C84E-5A93-4EDD-B54F-AED5D1DE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34F-8647-450E-A36F-D963EEF9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51A06-532F-4A90-B046-9919670F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3CF070-04A2-4D10-8342-2CC9061E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161587-AB51-4C2C-BA3D-E26AA70A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DD383F-1A71-4644-88E9-C334FF04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F27484-2A47-4AEB-A09A-5BD0FDB6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9153EB-0ED4-4D2C-8C4E-63F9D3C2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6DCD48-6648-403C-A131-09FB3C5C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0B3A8C-8269-41AB-8A08-F35B7AC2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D667C4-F235-40D6-A89A-EA600752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E3DA49-D552-410C-BE32-6DCD578D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5D65-24AA-41D6-B290-F12BBE4C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885CD6-6B42-4817-98F1-A179F2BF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9F1F18-1055-4406-9452-25BFB339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EA65B5-36F4-4BC8-AF72-69CCABE8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C4041-3A5D-4C9A-9D43-D5064544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C6F47-1ABE-4F83-99DD-EBDAB9BD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3B447-B948-4345-8F1B-CA6511DC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F0DA4-68A8-4F81-B935-ECDAEE3D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EFA2D-6484-4709-AE06-87404248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A799A-E613-45E7-9762-041D35B4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51DF1-6E76-44B8-B046-369E2412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2151-91A8-449E-9056-056F1EDA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E25C1-604D-473F-ADB0-EBD1014D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0761A-A72E-45AB-84B2-CCCD96C7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E5E7D-02A4-40E0-88EA-BF1E84C5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5888F-B8E4-4863-BD7A-F1BEB995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13E43-BFCF-4503-8BCC-B52FB088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8C67F1-CCF0-4804-9F7B-9ACC2163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D2A684-73DC-4B41-AF82-BBD5C6B2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1FD839-CC68-4E48-8CA5-D3726A7F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D69B66-171C-4C8E-B48C-1F9ED010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58CE58-7B97-4296-B6C2-C9189859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4756-92A1-4260-9BF1-A8AC56D0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00DD30-263C-4017-9FA2-DA47801C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B8AC35-0FDF-456F-B31B-7758ABB7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7ACA1-9689-4FC8-8EDC-8EAA1257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A8D849-6D22-4CCF-80ED-62B69369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3989F6-C0DC-4F44-9694-6132E549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B2D92E-5FFF-4558-B0A5-04C87D72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A7EDF4-4178-4E16-B055-09E2EF0B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9CFD58-B79E-47A4-825C-BE149CBC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DC5245-CEB5-4043-B4C5-BFE16602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A762EA-ADE9-4D90-8010-11750E4A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1683-DB46-4215-8271-92C744BF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8BC482-D670-461F-BD2D-4FCBDA2F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CF2ACB-0505-4A00-A828-F6D6ECFE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B0D67C-D4C0-48CD-985C-DECA5B01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AEC34E-A234-4D5D-A3A9-C69F9DD0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339A72-1CF7-4760-8CD8-F072313A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5EB25F-7509-496F-BFA9-B3613C58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F1F17C-E149-4FA1-84CF-31346BB5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8A8F85-FDFE-4018-AD4C-352012DB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63E9DC-25D2-4C65-8671-77406074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45AD-FF6C-4C06-A8CA-ED2D1E69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5E9A-6B6D-4505-A366-B57FB0F5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82B1-336D-4CC5-96A1-C7C53DDF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48B1-3E37-474F-9AE7-E53C1A66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8BB2-03A1-4C2D-8CBB-BAE02ADF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F074-81F5-4A49-AAEB-AD39DFDF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1325-9E1D-425C-8183-D0DB4B5D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3278-2739-4B95-A087-DC3241A6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D83F-AD30-4AFA-AB2A-7DC5CD96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D1E81-7AAF-4FF2-9BC5-DE6776CA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4B801-A0B7-422E-9D28-DC426A4D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244CB-01C7-4C47-91FF-0925A0D0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A8E1B-2256-454B-870C-BCD2AEFF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3E2B3-8E8C-4D60-9071-3D318AFE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8E9F-FB4E-4478-9E66-F2843E98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81349-3F5B-4BD3-AB8E-75DFB6F3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56AF9-5999-4BE0-AFEA-13BFDFEC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B3430-6650-4950-AFB8-1A697034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5856C-14EA-4321-928A-7079C623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AFA98-87D0-4FB0-B9C6-E31FCDF8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385E6-D349-488B-B9F2-A081683A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C998C-01AE-4E3D-8CEC-3564823B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7CE1E-BDF6-49BF-8199-BB8F6658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4A63A-4324-45E9-8A0C-23BF020B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A57C2-65F3-45F2-878C-C9264FF5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3497-E5A9-4562-96C8-2CCE8284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41848-C9DD-4DE5-AC57-88D8E281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D8AC7-DB01-487C-A171-239733AE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3C191-5F14-4873-99F4-B3FD5821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4F455-90EB-4602-9771-3875830E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443DF-B421-4A6D-91A6-656E5FC4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97820-7620-4465-9CBA-63A590FE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F000E-DFB3-48DB-8DDE-2F8D5547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1BF3A-82C2-48DE-8E5A-27D0F5A8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DC9D3-73FA-4395-AFFE-391C0EC0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7B5A0-06EA-410F-AC6E-526E8D91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BE10-157A-4C1F-9CB8-000924F1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935EB-B0A5-4327-BA1D-EEAF1694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A7C1E-436E-4AEC-ACE2-55CF654A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890DD-FCE0-480A-A1BB-D12A9C5C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BD2B1-E85E-4CA3-A1F6-EBDA7318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437C6-81CF-4038-8E82-8FD37770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15EC1-A08B-4C8F-9CA5-AEC8994E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65624-10F4-4293-A185-C3FEEBF0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250C9-E01E-4E63-B23F-131E3A14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88A88-FACF-49EC-B0CA-4600E416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760A3-7EB7-4BFC-A3CA-E4273C21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EB47-6188-4FF4-A441-A28800AE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F64A7-17A2-4A2D-9422-969F1F69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85BBC-B489-42E2-9642-11450F19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05908-1DBD-4D9F-8C8B-AB06151D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5AAFC-488C-44D3-8FF1-CCEAAE99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C5ED6-C5DA-4C4F-8E8E-F129ECC2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415CA-6A26-4A4E-84F8-D58C6AEA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FF3ED-C002-4E64-8A65-31AD6059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08EF3-3702-415A-B9D7-59FCE5BC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721A1-D3C9-425B-996E-F3E32EB5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A4077-D3F4-47A7-B101-C8C80759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F26C-08C8-4E89-8DF4-4C455231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4F7AA-2555-44AA-BF2C-7ACEC7A6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98665-CA29-471A-8F5F-8FC42C3D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7E980-07C0-4EAF-8F41-F0986BDB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8F78C-9C5A-48ED-8738-1D18C05F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BBBBB-73EE-4196-A498-696EDE29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7AC5C-05E6-4271-B13E-A282046D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F4802-737D-43EA-8E2B-A08EA8E0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C7783-1169-48F0-81D1-69A1A89F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DAECC-6764-49EA-BA3E-04A7A161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E9547-1C29-4EE2-9F69-E378B11B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A941-5AF2-41D1-9ED7-EA964671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F59C1-A895-466B-AD8B-67CC42B9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96F24-B495-4A3E-9F1D-443C4958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3DB5F-83E4-4C0D-AF2D-A5E2454B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D96AA-2BA9-455A-A689-3E4E48AB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77ED0-600B-4FEE-BCD7-22D832BE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75647-935D-4488-AD5C-4BE4D698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7D07F-4AD4-44A6-BA58-1DBB2421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B0AAA-1384-41FB-906E-4C35264E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A10BD-B036-465D-8833-C8035403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43C53-4066-409C-A361-04FA7EC5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FC08-1083-4A79-9EE2-F705B756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8C57E-7E3B-44EF-A0DF-F3D21D10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92BD1-2919-4277-A80D-A4D9BBA0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F5ABE-CF3F-4B1F-B62F-806B5042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CC9A4-5D53-4C35-B02D-F19867D1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56137-AE85-4B8C-91C0-0023FF9A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00223-6AB3-43CE-8B3B-28F06B91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D2625-6FE4-4F16-BAC4-0E633DA1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AF534-75B3-4974-8669-6B032006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D2D35-E67F-451A-A06E-6253F416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5F002-9B95-4C0B-9A37-44D373D6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938F-2504-4A05-9058-FC0C65726A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28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ftr" idx="29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0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F6C9-79AA-4484-9FB5-B531714659F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9042-85EC-4D58-8EF5-496A30791A5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3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3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4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8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8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D941-D093-494B-BE36-8C71F48F530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3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097C-3C17-48DC-9081-FB9A3A1F4E6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9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E6BD-D49A-412A-A189-E2D0399C245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82D5-1853-4166-8E75-10BAC20AF8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660B-CE77-4BDE-913C-961E816DB12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7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8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8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0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2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8E89-4428-4C18-A10B-5DCDAB31EF7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7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A934-604C-4C16-BB41-55BFA8CE9C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2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D2BD-E1C8-4085-91B1-96379094CE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AA0A-5CB4-497C-B2E1-184636BEBB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4B6F-1912-47EA-A32A-6F26CE8C50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CE18-3191-4220-83B4-A9CB1AEEDF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4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250920" y="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cc"/>
                </a:solidFill>
                <a:latin typeface="Times New Roman"/>
                <a:ea typeface="隶书"/>
              </a:rPr>
              <a:t>《论语》十则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0" y="765000"/>
            <a:ext cx="9144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　</a:t>
            </a:r>
            <a:r>
              <a:rPr b="1" lang="zh-CN" sz="4800" spc="-1" strike="noStrike">
                <a:solidFill>
                  <a:srgbClr val="66ff33"/>
                </a:solidFill>
                <a:latin typeface="Arial"/>
                <a:ea typeface="楷体_GB2312"/>
              </a:rPr>
              <a:t>子曰：“见　贤　　　思齐焉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Arial"/>
                <a:ea typeface="楷体_GB2312"/>
              </a:rPr>
              <a:t>　</a:t>
            </a:r>
            <a:r>
              <a:rPr b="1" lang="zh-CN" sz="4800" spc="-1" strike="noStrike">
                <a:solidFill>
                  <a:srgbClr val="66ff33"/>
                </a:solidFill>
                <a:latin typeface="Arial"/>
                <a:ea typeface="楷体_GB2312"/>
              </a:rPr>
              <a:t>见　不贤　　而内自省也。”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084720" y="2492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Arial"/>
              </a:rPr>
              <a:t>ĭ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ng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17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孔子说：“　看见德行优秀的人　要想着向他看齐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386064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看见　不优秀的人　就要从内心反省自己。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2195640" y="4581360"/>
            <a:ext cx="51130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2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ccff"/>
                  </a:solidFill>
                  <a:miter/>
                </a:ln>
                <a:solidFill>
                  <a:srgbClr val="ffcc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见贤思齐</a:t>
            </a:r>
            <a:endParaRPr b="1" lang="en-US" sz="1800" spc="1" strike="noStrike">
              <a:ln w="12600">
                <a:solidFill>
                  <a:srgbClr val="ffccff"/>
                </a:solidFill>
                <a:miter/>
              </a:ln>
              <a:solidFill>
                <a:srgbClr val="ffcc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7" name="">
            <a:hlinkClick r:id="" action="ppaction://hlinkshowjump?jump=nextslide"/>
          </p:cNvPr>
          <p:cNvSpPr/>
          <p:nvPr/>
        </p:nvSpPr>
        <p:spPr>
          <a:xfrm>
            <a:off x="8604360" y="6524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0469" y="3794"/>
                </a:moveTo>
                <a:lnTo>
                  <a:pt x="24482" y="10800"/>
                </a:lnTo>
                <a:lnTo>
                  <a:pt x="10469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0" y="40464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子贡问曰：“有一言而可以终身行之者乎？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子曰：“其恕乎！己所不欲，　勿施于人。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341360"/>
            <a:ext cx="96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子贡问：“       有一句话　可以作为终身遵守的准则吗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789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孔子说：“是宽容啊！自己不想承受的，不要施加给别人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908000" y="2349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sh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1116000" y="4724280"/>
            <a:ext cx="6985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ff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己所不欲勿施于人</a:t>
            </a:r>
            <a:endParaRPr b="1" lang="en-US" sz="4000" spc="1" strike="noStrike">
              <a:ln w="0">
                <a:noFill/>
              </a:ln>
              <a:solidFill>
                <a:srgbClr val="ff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03" name="">
            <a:hlinkClick r:id="" action="ppaction://hlinkshowjump?jump=nextslide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3794"/>
                </a:moveTo>
                <a:lnTo>
                  <a:pt x="26801" y="10800"/>
                </a:lnTo>
                <a:lnTo>
                  <a:pt x="12788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0" y="765000"/>
            <a:ext cx="8893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曾子曰：“士不可以　　不弘毅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　　　任重　　　而道远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0" y="1757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曾子说：“读书人不可以　没有远大的抱负和坚强的意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4360" y="350028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承担的责任重大，艰险的道路还很长．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1763640" y="4292640"/>
            <a:ext cx="597708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ffccff"/>
                </a:solidFill>
                <a:latin typeface="华文行楷"/>
              </a:rPr>
              <a:t>任重道远</a:t>
            </a:r>
            <a:endParaRPr b="1" lang="en-US" sz="6000" spc="1" strike="noStrike">
              <a:ln w="9360">
                <a:solidFill>
                  <a:srgbClr val="ffccff"/>
                </a:solidFill>
                <a:miter/>
              </a:ln>
              <a:solidFill>
                <a:srgbClr val="ffccff"/>
              </a:solidFill>
              <a:latin typeface="华文行楷"/>
              <a:ea typeface="华文行楷"/>
            </a:endParaRPr>
          </a:p>
        </p:txBody>
      </p:sp>
      <p:sp>
        <p:nvSpPr>
          <p:cNvPr id="808" name="">
            <a:hlinkClick r:id="" action="ppaction://hlinkshowjump?jump=nextslide"/>
          </p:cNvPr>
          <p:cNvSpPr/>
          <p:nvPr/>
        </p:nvSpPr>
        <p:spPr>
          <a:xfrm>
            <a:off x="8639280" y="6597720"/>
            <a:ext cx="504720" cy="260280"/>
          </a:xfrm>
          <a:custGeom>
            <a:avLst/>
            <a:gdLst>
              <a:gd name="textAreaLeft" fmla="*/ 16560 w 504720"/>
              <a:gd name="textAreaRight" fmla="*/ 488160 w 5047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1857" h="21600">
                <a:moveTo>
                  <a:pt x="0" y="0"/>
                </a:moveTo>
                <a:lnTo>
                  <a:pt x="41857" y="0"/>
                </a:lnTo>
                <a:lnTo>
                  <a:pt x="41857" y="21600"/>
                </a:lnTo>
                <a:lnTo>
                  <a:pt x="0" y="21600"/>
                </a:lnTo>
                <a:close/>
              </a:path>
              <a:path fill="lightenLess" w="41857" h="21600">
                <a:moveTo>
                  <a:pt x="0" y="0"/>
                </a:moveTo>
                <a:lnTo>
                  <a:pt x="41857" y="0"/>
                </a:lnTo>
                <a:lnTo>
                  <a:pt x="40457" y="1400"/>
                </a:lnTo>
                <a:lnTo>
                  <a:pt x="1400" y="1400"/>
                </a:lnTo>
                <a:close/>
              </a:path>
              <a:path fill="darken" w="41857" h="21600">
                <a:moveTo>
                  <a:pt x="41857" y="0"/>
                </a:moveTo>
                <a:lnTo>
                  <a:pt x="41857" y="21600"/>
                </a:lnTo>
                <a:lnTo>
                  <a:pt x="40457" y="20200"/>
                </a:lnTo>
                <a:lnTo>
                  <a:pt x="40457" y="1400"/>
                </a:lnTo>
                <a:close/>
              </a:path>
              <a:path fill="darkenLess" w="41857" h="21600">
                <a:moveTo>
                  <a:pt x="41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57" y="20200"/>
                </a:lnTo>
                <a:close/>
              </a:path>
              <a:path fill="lighten" w="41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57" h="21600">
                <a:moveTo>
                  <a:pt x="13922" y="3794"/>
                </a:moveTo>
                <a:lnTo>
                  <a:pt x="27935" y="10800"/>
                </a:lnTo>
                <a:lnTo>
                  <a:pt x="13922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0" y="404640"/>
            <a:ext cx="96854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子曰：“富与贵是人之所欲也，不以其道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得之，不处也。　贫与贱是人之所恶也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不以其道得之，　　　不去也。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1125360"/>
            <a:ext cx="65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孔子说：“财富和地位是人们向往的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804000" y="1125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不凭仁义之道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312588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去得到它，就不应该占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356000" y="3141720"/>
            <a:ext cx="47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贫穷和低贱是人们厌恶的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486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讲仁义道德反而受穷而卑微，也不应该抛弃仁义道德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524720" y="1773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w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6" name="">
            <a:hlinkClick r:id="" action="ppaction://hlinkshowjump?jump=nextslide"/>
          </p:cNvPr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3794"/>
                </a:moveTo>
                <a:lnTo>
                  <a:pt x="23400" y="10800"/>
                </a:lnTo>
                <a:lnTo>
                  <a:pt x="9387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0" y="118584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　　　　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子贡问君子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　　子曰：“先行其言而后从之。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68360" y="1700280"/>
            <a:ext cx="6624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187280" y="21178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子贡请教怎样才能做一个君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826920" y="3917880"/>
            <a:ext cx="74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孔子说：“先行动，有关行动的话以后再发表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1" name="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250920" y="981000"/>
            <a:ext cx="92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子曰：“君子成人之美，　不成人之恶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小人反是。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1830240"/>
            <a:ext cx="95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孔子说：“君子应该成全别人的好事，不促成别人的坏事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50920" y="3645000"/>
            <a:ext cx="32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小人与此相反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8317080" y="42372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6" name="">
            <a:hlinkClick r:id="" action="ppaction://hlinkshowjump?jump=nextslide"/>
          </p:cNvPr>
          <p:cNvSpPr/>
          <p:nvPr/>
        </p:nvSpPr>
        <p:spPr>
          <a:xfrm>
            <a:off x="8459640" y="6524640"/>
            <a:ext cx="684360" cy="333360"/>
          </a:xfrm>
          <a:custGeom>
            <a:avLst/>
            <a:gdLst>
              <a:gd name="textAreaLeft" fmla="*/ 21600 w 684360"/>
              <a:gd name="textAreaRight" fmla="*/ 662760 w 684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4318" h="21600">
                <a:moveTo>
                  <a:pt x="0" y="0"/>
                </a:moveTo>
                <a:lnTo>
                  <a:pt x="44318" y="0"/>
                </a:lnTo>
                <a:lnTo>
                  <a:pt x="44318" y="21600"/>
                </a:lnTo>
                <a:lnTo>
                  <a:pt x="0" y="21600"/>
                </a:lnTo>
                <a:close/>
              </a:path>
              <a:path fill="lightenLess" w="44318" h="21600">
                <a:moveTo>
                  <a:pt x="0" y="0"/>
                </a:moveTo>
                <a:lnTo>
                  <a:pt x="44318" y="0"/>
                </a:lnTo>
                <a:lnTo>
                  <a:pt x="42918" y="1400"/>
                </a:lnTo>
                <a:lnTo>
                  <a:pt x="1400" y="1400"/>
                </a:lnTo>
                <a:close/>
              </a:path>
              <a:path fill="darken" w="44318" h="21600">
                <a:moveTo>
                  <a:pt x="44318" y="0"/>
                </a:moveTo>
                <a:lnTo>
                  <a:pt x="44318" y="21600"/>
                </a:lnTo>
                <a:lnTo>
                  <a:pt x="42918" y="20200"/>
                </a:lnTo>
                <a:lnTo>
                  <a:pt x="42918" y="1400"/>
                </a:lnTo>
                <a:close/>
              </a:path>
              <a:path fill="darkenLess" w="44318" h="21600">
                <a:moveTo>
                  <a:pt x="44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18" y="20200"/>
                </a:lnTo>
                <a:close/>
              </a:path>
              <a:path fill="lighten" w="44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318" h="21600">
                <a:moveTo>
                  <a:pt x="15153" y="3794"/>
                </a:moveTo>
                <a:lnTo>
                  <a:pt x="29166" y="10800"/>
                </a:lnTo>
                <a:lnTo>
                  <a:pt x="15153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1835280" y="4508640"/>
            <a:ext cx="5762520" cy="20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ffccff"/>
                  </a:solidFill>
                  <a:miter/>
                </a:ln>
                <a:solidFill>
                  <a:srgbClr val="ff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彩云"/>
              </a:rPr>
              <a:t>成人之美</a:t>
            </a:r>
            <a:endParaRPr b="1" lang="en-US" sz="6000" spc="1" strike="noStrike">
              <a:ln w="12600">
                <a:solidFill>
                  <a:srgbClr val="ffccff"/>
                </a:solidFill>
                <a:miter/>
              </a:ln>
              <a:solidFill>
                <a:srgbClr val="ff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0" y="476280"/>
            <a:ext cx="9144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　　子曰：“　富　而可求也，　　　　　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　　　　　　虽执鞭之士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吾亦为之。如不可求，　从吾所好。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0" y="126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　　　孔子说：“　做官　如果能通过修养仁德而获得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485460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我也尽力去做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521080" y="4925880"/>
            <a:ext cx="66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如果不能获得，就从事我爱好的职业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16360" y="321300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即使是低微的官职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020000" y="3645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h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à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o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4" name="">
            <a:hlinkClick r:id="" action="ppaction://hlinkshowjump?jump=nextslide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0" y="549360"/>
            <a:ext cx="9685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子在齐闻《韶》，　三月不知肉味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曰：“　不图为乐之至于斯也。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4000" y="134136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孔子在齐地听了《韶乐》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716360" y="12682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三个月吃肉都吃不出肉味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321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说：“　没想到音乐的创作竟能达到如此高的境界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132000" y="19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yu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0" name="">
            <a:hlinkClick r:id="" action="ppaction://hlinkshowjump?jump=nextslide"/>
          </p:cNvPr>
          <p:cNvSpPr/>
          <p:nvPr/>
        </p:nvSpPr>
        <p:spPr>
          <a:xfrm>
            <a:off x="8388360" y="6453360"/>
            <a:ext cx="755640" cy="404640"/>
          </a:xfrm>
          <a:custGeom>
            <a:avLst/>
            <a:gdLst>
              <a:gd name="textAreaLeft" fmla="*/ 25920 w 755640"/>
              <a:gd name="textAreaRight" fmla="*/ 729720 w 755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0320" h="21600">
                <a:moveTo>
                  <a:pt x="0" y="0"/>
                </a:moveTo>
                <a:lnTo>
                  <a:pt x="40320" y="0"/>
                </a:lnTo>
                <a:lnTo>
                  <a:pt x="40320" y="21600"/>
                </a:lnTo>
                <a:lnTo>
                  <a:pt x="0" y="21600"/>
                </a:lnTo>
                <a:close/>
              </a:path>
              <a:path fill="lightenLess" w="40320" h="21600">
                <a:moveTo>
                  <a:pt x="0" y="0"/>
                </a:moveTo>
                <a:lnTo>
                  <a:pt x="40320" y="0"/>
                </a:lnTo>
                <a:lnTo>
                  <a:pt x="38920" y="1400"/>
                </a:lnTo>
                <a:lnTo>
                  <a:pt x="1400" y="1400"/>
                </a:lnTo>
                <a:close/>
              </a:path>
              <a:path fill="darken" w="40320" h="21600">
                <a:moveTo>
                  <a:pt x="40320" y="0"/>
                </a:moveTo>
                <a:lnTo>
                  <a:pt x="40320" y="21600"/>
                </a:lnTo>
                <a:lnTo>
                  <a:pt x="38920" y="20200"/>
                </a:lnTo>
                <a:lnTo>
                  <a:pt x="38920" y="1400"/>
                </a:lnTo>
                <a:close/>
              </a:path>
              <a:path fill="darkenLess" w="40320" h="21600">
                <a:moveTo>
                  <a:pt x="40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920" y="20200"/>
                </a:lnTo>
                <a:close/>
              </a:path>
              <a:path fill="lighten" w="40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320" h="21600">
                <a:moveTo>
                  <a:pt x="13154" y="3794"/>
                </a:moveTo>
                <a:lnTo>
                  <a:pt x="27166" y="10800"/>
                </a:lnTo>
                <a:lnTo>
                  <a:pt x="1315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34920" y="115920"/>
            <a:ext cx="9540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（点）曰：“莫春者，　春服既成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冠者五六人，童子六七人，　浴乎沂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风乎舞雩，            咏而归。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907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　（曾点）说：“到了暮春三月，春天的衣服已经做好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16000" y="2708280"/>
            <a:ext cx="56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五六个成年人，　　六七个少年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156360" y="270828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在沂河边洗澡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443700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在舞雩台上吹风，（然后）唱着歌回家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89080" y="53910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夫子喟然叹曰：“吾与点也！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900000" y="609300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孔夫子叹了口气说：“我赞赏曾点说的啊！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-71280" y="1413000"/>
            <a:ext cx="20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gu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à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n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7740720" y="1413000"/>
            <a:ext cx="211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yí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577880" y="3213000"/>
            <a:ext cx="119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y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774800" y="4869000"/>
            <a:ext cx="17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kuì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2" name="">
            <a:hlinkClick r:id="rId1" action="ppaction://hlinksldjump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7493"/>
                </a:moveTo>
                <a:lnTo>
                  <a:pt x="10360" y="7493"/>
                </a:lnTo>
                <a:lnTo>
                  <a:pt x="10360" y="12828"/>
                </a:lnTo>
                <a:cubicBezTo>
                  <a:pt x="10360" y="13751"/>
                  <a:pt x="11161" y="14482"/>
                  <a:pt x="12197" y="14482"/>
                </a:cubicBezTo>
                <a:lnTo>
                  <a:pt x="13859" y="14482"/>
                </a:lnTo>
                <a:cubicBezTo>
                  <a:pt x="14895" y="14482"/>
                  <a:pt x="15695" y="13751"/>
                  <a:pt x="15695" y="12828"/>
                </a:cubicBezTo>
                <a:lnTo>
                  <a:pt x="15695" y="7493"/>
                </a:lnTo>
                <a:lnTo>
                  <a:pt x="13859" y="7493"/>
                </a:lnTo>
                <a:lnTo>
                  <a:pt x="17367" y="3985"/>
                </a:lnTo>
                <a:lnTo>
                  <a:pt x="21039" y="7493"/>
                </a:lnTo>
                <a:lnTo>
                  <a:pt x="19203" y="7493"/>
                </a:lnTo>
                <a:lnTo>
                  <a:pt x="19203" y="12828"/>
                </a:lnTo>
                <a:cubicBezTo>
                  <a:pt x="19203" y="15596"/>
                  <a:pt x="16627" y="18155"/>
                  <a:pt x="13859" y="18155"/>
                </a:cubicBezTo>
                <a:lnTo>
                  <a:pt x="12197" y="18155"/>
                </a:lnTo>
                <a:cubicBezTo>
                  <a:pt x="9429" y="18155"/>
                  <a:pt x="6852" y="15596"/>
                  <a:pt x="6852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802800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7301" y="11916"/>
                </a:moveTo>
                <a:lnTo>
                  <a:pt x="17806" y="4910"/>
                </a:lnTo>
                <a:lnTo>
                  <a:pt x="17806" y="18922"/>
                </a:lnTo>
                <a:close/>
              </a:path>
              <a:path fill="darken" w="21600" h="23832">
                <a:moveTo>
                  <a:pt x="3794" y="4910"/>
                </a:moveTo>
                <a:lnTo>
                  <a:pt x="5456" y="4910"/>
                </a:lnTo>
                <a:lnTo>
                  <a:pt x="5456" y="18922"/>
                </a:lnTo>
                <a:lnTo>
                  <a:pt x="3794" y="189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0" y="115920"/>
            <a:ext cx="961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a883a"/>
                </a:solidFill>
                <a:latin typeface="Arial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fa883a"/>
                </a:solidFill>
                <a:latin typeface="Arial"/>
                <a:ea typeface="楷体_GB2312"/>
              </a:rPr>
              <a:t>告诉我们做人的道德修养，要多“自省”，讲恕道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042920" y="148428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cc"/>
                </a:solidFill>
                <a:latin typeface="Arial"/>
                <a:ea typeface="楷体_GB2312"/>
              </a:rPr>
              <a:t>（一）至（三）则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-108000" y="2205000"/>
            <a:ext cx="982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a883a"/>
                </a:solidFill>
                <a:latin typeface="Arial"/>
                <a:ea typeface="楷体_GB2312"/>
              </a:rPr>
              <a:t>　　告诉我们人要有追求，有抱负，对富贵取之有道，要重实践，能成人之美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187280" y="3645000"/>
            <a:ext cx="51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cc"/>
                </a:solidFill>
                <a:latin typeface="Arial"/>
                <a:ea typeface="楷体_GB2312"/>
              </a:rPr>
              <a:t>（四）至（八）则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4437000"/>
            <a:ext cx="997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fa883a"/>
                </a:solidFill>
                <a:latin typeface="Arial"/>
                <a:ea typeface="楷体_GB2312"/>
              </a:rPr>
              <a:t>告诉我们人要有艺术修养，要亲近自然，锻炼身体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258920" y="5805360"/>
            <a:ext cx="50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cc"/>
                </a:solidFill>
                <a:latin typeface="Arial"/>
                <a:ea typeface="楷体_GB2312"/>
              </a:rPr>
              <a:t>（九）、（十）则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3921840" y="115920"/>
            <a:ext cx="104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 baseline="2000">
                <a:solidFill>
                  <a:srgbClr val="ffff66"/>
                </a:solidFill>
                <a:latin typeface="Times New Roman"/>
                <a:ea typeface="黑体"/>
              </a:rPr>
              <a:t>《论语》十则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624400" y="3087720"/>
            <a:ext cx="242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、字词解释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内容理解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4" name="">
            <a:hlinkClick r:id="rId1" action="ppaction://hlinksldjump"/>
          </p:cNvPr>
          <p:cNvSpPr/>
          <p:nvPr/>
        </p:nvSpPr>
        <p:spPr>
          <a:xfrm>
            <a:off x="1116000" y="134136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１、关于孔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5" name="">
            <a:hlinkClick r:id="rId2" action="ppaction://hlinksldjump"/>
          </p:cNvPr>
          <p:cNvSpPr/>
          <p:nvPr/>
        </p:nvSpPr>
        <p:spPr>
          <a:xfrm>
            <a:off x="1116000" y="220500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２、关于《论语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042920" y="378936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（一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771640" y="38196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二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560" y="38196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三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003640" y="378936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四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084720" y="381960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五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547640" y="4653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六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771640" y="465300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七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995640" y="4653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八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003640" y="465300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九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119640" y="4653000"/>
            <a:ext cx="19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十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6" name="">
            <a:hlinkClick r:id="rId3" action="ppaction://hlinksldjump"/>
          </p:cNvPr>
          <p:cNvSpPr/>
          <p:nvPr/>
        </p:nvSpPr>
        <p:spPr>
          <a:xfrm>
            <a:off x="1189080" y="537372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４、讨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4782960" y="0"/>
            <a:ext cx="4361040" cy="685800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0" y="692280"/>
            <a:ext cx="47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孔子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前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551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－前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479)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名丘，字仲尼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我国古代伟大的思想家、教育家，儒家学派的创始人，其核心思想是“仁”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被誉为“万世师表”、“千古圣人”，世界十大思想家之首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1965240" y="600876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75080" y="5805360"/>
            <a:ext cx="567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相传孔子出生地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----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山东曲阜</a:t>
            </a:r>
            <a:r>
              <a:rPr b="0" lang="zh-CN" sz="4000" spc="-1" strike="noStrike">
                <a:solidFill>
                  <a:srgbClr val="66ff33"/>
                </a:solidFill>
                <a:latin typeface="Times New Roman"/>
                <a:ea typeface="隶书"/>
              </a:rPr>
              <a:t>尼山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全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8209080" cy="489600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3309120" y="566748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孔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孔子嫡系子孙居住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157200" y="189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山东曲阜“三孔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" descr=""/>
          <p:cNvPicPr/>
          <p:nvPr/>
        </p:nvPicPr>
        <p:blipFill>
          <a:blip r:embed="rId2"/>
          <a:stretch/>
        </p:blipFill>
        <p:spPr>
          <a:xfrm>
            <a:off x="108000" y="0"/>
            <a:ext cx="8893080" cy="566100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3484800" y="566748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孔庙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祭祀孔子的地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3931200" y="566748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孔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孔子墓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32360" cy="573408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3"/>
          <a:stretch/>
        </p:blipFill>
        <p:spPr>
          <a:xfrm>
            <a:off x="4957920" y="0"/>
            <a:ext cx="4186080" cy="5734080"/>
          </a:xfrm>
          <a:prstGeom prst="rect">
            <a:avLst/>
          </a:prstGeom>
          <a:ln w="0">
            <a:noFill/>
          </a:ln>
        </p:spPr>
      </p:pic>
      <p:sp>
        <p:nvSpPr>
          <p:cNvPr id="780" name="">
            <a:hlinkClick r:id="rId4" action="ppaction://hlinksldjump"/>
          </p:cNvPr>
          <p:cNvSpPr/>
          <p:nvPr/>
        </p:nvSpPr>
        <p:spPr>
          <a:xfrm>
            <a:off x="849636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9232" y="10800"/>
                </a:moveTo>
                <a:lnTo>
                  <a:pt x="19737" y="3794"/>
                </a:lnTo>
                <a:lnTo>
                  <a:pt x="19737" y="17806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7387" y="3794"/>
                </a:lnTo>
                <a:lnTo>
                  <a:pt x="7387" y="17806"/>
                </a:lnTo>
                <a:lnTo>
                  <a:pt x="5724" y="1780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395280" y="4428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　　《论语》属语录体散文，是孔子弟子及其再传弟子关于孔子言行的记录，共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篇。内容有孔子谈话，答弟子问及弟子间的相互讨论。它是研究孔子思想的主要依据。南宋时，朱熹把它列为“四书”（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《孟子》、《中庸》、《大学》、《论语》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）之一，成为儒家的重要经典。宋朝宰相赵普曾赞颂说“半部《论语》治天下”。本文十则是儒家修身之言，讲的是做人之道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">
            <a:hlinkClick r:id="rId1" action="ppaction://hlinksldjump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7301" y="10925"/>
                </a:moveTo>
                <a:lnTo>
                  <a:pt x="17806" y="3918"/>
                </a:lnTo>
                <a:lnTo>
                  <a:pt x="17806" y="17931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5456" y="3918"/>
                </a:lnTo>
                <a:lnTo>
                  <a:pt x="5456" y="17931"/>
                </a:lnTo>
                <a:lnTo>
                  <a:pt x="3794" y="1793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792000" y="1052640"/>
            <a:ext cx="83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曾子曰：“吾日三省乎吾身——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2637000"/>
            <a:ext cx="97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为人谋而不忠乎？　与朋友交而不信乎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42920" y="4221000"/>
            <a:ext cx="37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传不习乎？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440000" y="1916280"/>
            <a:ext cx="57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曾子说：“我每天三次反省自己—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5013360"/>
            <a:ext cx="65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（老师）传授的知识不去复习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3500280"/>
            <a:ext cx="60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替别人出谋划策却不诚心诚意吗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221440" y="355752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与朋友交往却不诚实吗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427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Arial"/>
              </a:rPr>
              <a:t>ĭ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ng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1" name="">
            <a:hlinkClick r:id="" action="ppaction://hlinkshowjump?jump=nextslide"/>
          </p:cNvPr>
          <p:cNvSpPr/>
          <p:nvPr/>
        </p:nvSpPr>
        <p:spPr>
          <a:xfrm>
            <a:off x="8496360" y="6453360"/>
            <a:ext cx="647640" cy="404640"/>
          </a:xfrm>
          <a:custGeom>
            <a:avLst/>
            <a:gdLst>
              <a:gd name="textAreaLeft" fmla="*/ 25920 w 647640"/>
              <a:gd name="textAreaRight" fmla="*/ 621720 w 647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4560" h="21600">
                <a:moveTo>
                  <a:pt x="0" y="0"/>
                </a:moveTo>
                <a:lnTo>
                  <a:pt x="34560" y="0"/>
                </a:lnTo>
                <a:lnTo>
                  <a:pt x="34560" y="21600"/>
                </a:lnTo>
                <a:lnTo>
                  <a:pt x="0" y="21600"/>
                </a:lnTo>
                <a:close/>
              </a:path>
              <a:path fill="lightenLess" w="34560" h="21600">
                <a:moveTo>
                  <a:pt x="0" y="0"/>
                </a:moveTo>
                <a:lnTo>
                  <a:pt x="34560" y="0"/>
                </a:lnTo>
                <a:lnTo>
                  <a:pt x="33160" y="1400"/>
                </a:lnTo>
                <a:lnTo>
                  <a:pt x="1400" y="1400"/>
                </a:lnTo>
                <a:close/>
              </a:path>
              <a:path fill="darken" w="34560" h="21600">
                <a:moveTo>
                  <a:pt x="34560" y="0"/>
                </a:moveTo>
                <a:lnTo>
                  <a:pt x="34560" y="21600"/>
                </a:lnTo>
                <a:lnTo>
                  <a:pt x="33160" y="20200"/>
                </a:lnTo>
                <a:lnTo>
                  <a:pt x="33160" y="1400"/>
                </a:lnTo>
                <a:close/>
              </a:path>
              <a:path fill="darkenLess" w="34560" h="21600">
                <a:moveTo>
                  <a:pt x="34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0" y="20200"/>
                </a:lnTo>
                <a:close/>
              </a:path>
              <a:path fill="lighten" w="34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0" h="21600">
                <a:moveTo>
                  <a:pt x="10274" y="3794"/>
                </a:moveTo>
                <a:lnTo>
                  <a:pt x="24286" y="10800"/>
                </a:lnTo>
                <a:lnTo>
                  <a:pt x="1027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07:13:18Z</dcterms:created>
  <dc:creator>现代信息技术中心</dc:creator>
  <dc:description/>
  <dc:language>en-US</dc:language>
  <cp:lastModifiedBy>现代信息技术中心</cp:lastModifiedBy>
  <dcterms:modified xsi:type="dcterms:W3CDTF">2005-10-11T04:41:49Z</dcterms:modified>
  <cp:revision>40</cp:revision>
  <dc:subject/>
  <dc:title>幻灯片 1</dc:title>
</cp:coreProperties>
</file>