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3B103-6F9E-4421-A9C1-9746984A7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819600"/>
            <a:ext cx="82296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CFD69-5738-408E-B9BB-E56D6D7E2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819600"/>
            <a:ext cx="40158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819600"/>
            <a:ext cx="40158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223BB-838F-4286-AB8E-306EBD87F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819600"/>
            <a:ext cx="26496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819600"/>
            <a:ext cx="26496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819600"/>
            <a:ext cx="26496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0C40A-174C-4326-BE28-A5C11B59E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5850A-0984-4905-9D0D-2DD3225C0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483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A8B54-E89A-4340-BC0E-52B70A426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8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77CEF-C496-4669-91EA-F627B378F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48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48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40629-85D1-4D6E-A47D-82961FB90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81202-B6A6-4BB2-9828-3449521D0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AD1E7-67A3-44AD-880B-BA5516CD7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48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819600"/>
            <a:ext cx="40158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ECFA1-F2CB-451E-8968-DEF8BF1B3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483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5D4BF-BEE5-4E8C-AAAF-0DA42419A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48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819600"/>
            <a:ext cx="40158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3EE7F-D0B8-401B-8132-95DC08254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819600"/>
            <a:ext cx="82296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ABBB8-4977-499F-8EFB-D1BFAD6AF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819600"/>
            <a:ext cx="82296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B67DA-26F4-4929-9E92-75FB0F231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819600"/>
            <a:ext cx="40158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819600"/>
            <a:ext cx="40158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067DE-5AA9-4032-AF45-B69D00954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819600"/>
            <a:ext cx="26496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819600"/>
            <a:ext cx="26496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819600"/>
            <a:ext cx="26496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20E40-4813-4D04-AE37-65673927D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8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6837B-996A-4008-8FA1-1B15F2DBD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48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48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25AD6-6953-439D-938E-BB3ADA103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596C5-FB93-4FBC-A5F2-701D9F09E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9C84C-38F5-4D2A-858E-55F4DDA7E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48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819600"/>
            <a:ext cx="40158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1B0FA-C334-4592-A8F1-84A77E2FC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48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819600"/>
            <a:ext cx="40158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1A0D5-9D56-47AF-ABD3-DD1CE8329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19600"/>
            <a:ext cx="82296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4369C-721E-4ED9-AC0C-9DB69DDBC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2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grpSp>
        <p:nvGrpSpPr>
          <p:cNvPr id="1" name=""/>
          <p:cNvGrpSpPr/>
          <p:nvPr/>
        </p:nvGrpSpPr>
        <p:grpSpPr>
          <a:xfrm>
            <a:off x="304920" y="2106720"/>
            <a:ext cx="8572320" cy="3686040"/>
            <a:chOff x="304920" y="2106720"/>
            <a:chExt cx="8572320" cy="3686040"/>
          </a:xfrm>
        </p:grpSpPr>
        <p:grpSp>
          <p:nvGrpSpPr>
            <p:cNvPr id="2" name=""/>
            <p:cNvGrpSpPr/>
            <p:nvPr/>
          </p:nvGrpSpPr>
          <p:grpSpPr>
            <a:xfrm>
              <a:off x="304920" y="2106720"/>
              <a:ext cx="8572320" cy="3686040"/>
              <a:chOff x="304920" y="2106720"/>
              <a:chExt cx="8572320" cy="3686040"/>
            </a:xfrm>
          </p:grpSpPr>
          <p:sp>
            <p:nvSpPr>
              <p:cNvPr id="3" name="圆角矩形 4"/>
              <p:cNvSpPr/>
              <p:nvPr/>
            </p:nvSpPr>
            <p:spPr>
              <a:xfrm>
                <a:off x="304920" y="2106720"/>
                <a:ext cx="8572320" cy="3686040"/>
              </a:xfrm>
              <a:prstGeom prst="roundRect">
                <a:avLst>
                  <a:gd name="adj" fmla="val 0"/>
                </a:avLst>
              </a:prstGeom>
              <a:solidFill>
                <a:srgbClr val="ffffff">
                  <a:alpha val="4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圆角矩形 3"/>
              <p:cNvSpPr/>
              <p:nvPr/>
            </p:nvSpPr>
            <p:spPr>
              <a:xfrm>
                <a:off x="379440" y="2229480"/>
                <a:ext cx="8423280" cy="3440520"/>
              </a:xfrm>
              <a:prstGeom prst="roundRect">
                <a:avLst>
                  <a:gd name="adj" fmla="val 0"/>
                </a:avLst>
              </a:prstGeom>
              <a:solidFill>
                <a:srgbClr val="ffffff">
                  <a:alpha val="4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" name="Text Box 11"/>
            <p:cNvSpPr/>
            <p:nvPr/>
          </p:nvSpPr>
          <p:spPr>
            <a:xfrm>
              <a:off x="438120" y="3029400"/>
              <a:ext cx="8305920" cy="157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2A12E-7A48-4728-953F-72F83588AE2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Text Box 26"/>
          <p:cNvSpPr/>
          <p:nvPr/>
        </p:nvSpPr>
        <p:spPr>
          <a:xfrm>
            <a:off x="0" y="1447920"/>
            <a:ext cx="9144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48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8040" y="4114440"/>
            <a:ext cx="777240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4CCDC-0CE8-4601-8358-D35F765B673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8040" y="4114440"/>
            <a:ext cx="777240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295280" y="5105520"/>
            <a:ext cx="6400800" cy="83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</a:tabLst>
            </a:pPr>
            <a:endParaRPr b="0" lang="zh-CN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11430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33520" y="2437920"/>
            <a:ext cx="8229600" cy="30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zh-CN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113-01-01T00:00:00Z</dcterms:created>
  <dc:creator/>
  <dc:description/>
  <cp:keywords/>
  <dc:language>en-US</dc:language>
  <cp:lastModifiedBy>GZB</cp:lastModifiedBy>
  <cp:lastPrinted>1899-12-30T00:00:00Z</cp:lastPrinted>
  <dcterms:modified xsi:type="dcterms:W3CDTF">2012-09-09T09:36:12Z</dcterms:modified>
  <cp:revision>39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394</vt:lpwstr>
  </property>
  <property fmtid="{D5CDD505-2E9C-101B-9397-08002B2CF9AE}" pid="3" name="NXTAG2">
    <vt:lpwstr>000800ba02000000000001024140</vt:lpwstr>
  </property>
  <property fmtid="{D5CDD505-2E9C-101B-9397-08002B2CF9AE}" pid="4" name="Version">
    <vt:r8>1</vt:r8>
  </property>
</Properties>
</file>