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26E-797D-46A5-88B1-DFEE7E3F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134-EC48-4391-9A70-F49B9028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A10-87EC-4D35-A3EE-D8A4A663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1BD-ABD1-4039-8B06-993CD628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8A20-B36C-407F-8D3F-3CCA7D49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50C7-59BB-4BC0-919D-4EBF245B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2EEA-C966-4BDB-9187-F0DD8B1C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2BC5-4967-497D-A7FD-1A35383E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5486-60B6-410A-A5DB-91E9CD4C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B132-D2FF-407E-8269-15F1C861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A9B4-B091-42AB-A4EF-CC160E6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E72-DCCD-44A1-8E04-2EA0A112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871C-B9F2-49FB-A868-1C5A5E3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9762-C794-4846-9563-4A4EF87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9C82-B62A-4DC0-8959-3061CB6B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627D-73FA-4E11-A86F-89FE30EC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0DFA-6BD5-4A54-91D8-B4377064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CE0-2043-4437-B3CF-1E781005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47A-089B-4504-A8E1-0CE64B34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A60-36FA-48F9-B978-BFF3F449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1AB-796D-45F2-B43C-D2740ED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0AE-128F-4777-8A87-32CB6C96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733-3B0C-402A-80FB-5CEF4BA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D59-36E0-4605-95DA-A3A4732A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"/>
            <p:cNvGrpSpPr/>
            <p:nvPr/>
          </p:nvGrpSpPr>
          <p:grpSpPr>
            <a:xfrm>
              <a:off x="1050840" y="6202440"/>
              <a:ext cx="536040" cy="655200"/>
              <a:chOff x="1050840" y="6202440"/>
              <a:chExt cx="536040" cy="655200"/>
            </a:xfrm>
          </p:grpSpPr>
          <p:sp>
            <p:nvSpPr>
              <p:cNvPr id="2" name="未知"/>
              <p:cNvSpPr/>
              <p:nvPr/>
            </p:nvSpPr>
            <p:spPr>
              <a:xfrm rot="18580800">
                <a:off x="1137240" y="623448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321560" y="6467040"/>
                <a:ext cx="31680" cy="3906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7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11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3969-E5B1-41E4-9500-6CC38262F3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95080" y="-15480"/>
            <a:ext cx="1239120" cy="574200"/>
            <a:chOff x="7795080" y="-15480"/>
            <a:chExt cx="1239120" cy="574200"/>
          </a:xfrm>
        </p:grpSpPr>
        <p:grpSp>
          <p:nvGrpSpPr>
            <p:cNvPr id="17" name=""/>
            <p:cNvGrpSpPr/>
            <p:nvPr/>
          </p:nvGrpSpPr>
          <p:grpSpPr>
            <a:xfrm>
              <a:off x="7795080" y="-15480"/>
              <a:ext cx="451440" cy="574200"/>
              <a:chOff x="7795080" y="-15480"/>
              <a:chExt cx="451440" cy="574200"/>
            </a:xfrm>
          </p:grpSpPr>
          <p:sp>
            <p:nvSpPr>
              <p:cNvPr id="18" name="未知"/>
              <p:cNvSpPr/>
              <p:nvPr/>
            </p:nvSpPr>
            <p:spPr>
              <a:xfrm rot="18580800">
                <a:off x="786528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2400000">
                <a:off x="80438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02188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8188560" y="-15480"/>
              <a:ext cx="451440" cy="574200"/>
              <a:chOff x="8188560" y="-15480"/>
              <a:chExt cx="451440" cy="574200"/>
            </a:xfrm>
          </p:grpSpPr>
          <p:sp>
            <p:nvSpPr>
              <p:cNvPr id="22" name="未知"/>
              <p:cNvSpPr/>
              <p:nvPr/>
            </p:nvSpPr>
            <p:spPr>
              <a:xfrm rot="18580800">
                <a:off x="8258760" y="1728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rot="2400000">
                <a:off x="843732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41536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8582040" y="-15480"/>
              <a:ext cx="452160" cy="574200"/>
              <a:chOff x="8582040" y="-15480"/>
              <a:chExt cx="452160" cy="574200"/>
            </a:xfrm>
          </p:grpSpPr>
          <p:sp>
            <p:nvSpPr>
              <p:cNvPr id="26" name="未知"/>
              <p:cNvSpPr/>
              <p:nvPr/>
            </p:nvSpPr>
            <p:spPr>
              <a:xfrm rot="18580800">
                <a:off x="8652600" y="1692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2400000">
                <a:off x="883116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09200" y="21492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2049-070B-47BC-AE73-488DE1EB1A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40" y="518760"/>
            <a:ext cx="4543200" cy="191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消防安全</a:t>
            </a:r>
            <a:br>
              <a:rPr sz="48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9240" y="360504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茅箭区实验学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讲人：黎  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燃烧的产物及危害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散发于空气中且能看到的燃烧产物叫做烟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气中主要有害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氮氧化合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气的危害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空气中含有大量二氧化碳时，人会感到缺氧，达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时，感到呼吸急促困难头痛、浑身乏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严重窒息以致死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氧化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氧化碳在空气中的含量达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人吸气数次后失去知觉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~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可中毒死亡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烟气的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氧化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人的呼吸道的粘膜和眼睛的角膜有刺激，在空气中的含量达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05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人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时间内有生命危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氮氧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遇水可形成硝酸，对呼吸器官产生强烈刺激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腐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用，轻则胸闷、咳嗽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重则昏迷、肺水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tubao6.jpg (10031 字节)"/>
          <p:cNvPicPr/>
          <p:nvPr/>
        </p:nvPicPr>
        <p:blipFill>
          <a:blip r:embed="rId1"/>
          <a:stretch/>
        </p:blipFill>
        <p:spPr>
          <a:xfrm>
            <a:off x="1370160" y="2419200"/>
            <a:ext cx="1461960" cy="14781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" descr=""/>
          <p:cNvPicPr/>
          <p:nvPr/>
        </p:nvPicPr>
        <p:blipFill>
          <a:blip r:embed="rId2"/>
          <a:stretch/>
        </p:blipFill>
        <p:spPr>
          <a:xfrm>
            <a:off x="3651120" y="2498760"/>
            <a:ext cx="2060640" cy="19018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4320" y="2211480"/>
            <a:ext cx="2477880" cy="2477880"/>
            <a:chOff x="3424320" y="2211480"/>
            <a:chExt cx="2477880" cy="2477880"/>
          </a:xfrm>
        </p:grpSpPr>
        <p:sp>
          <p:nvSpPr>
            <p:cNvPr id="155" name="Rectangle 6"/>
            <p:cNvSpPr/>
            <p:nvPr/>
          </p:nvSpPr>
          <p:spPr>
            <a:xfrm>
              <a:off x="3557520" y="2498760"/>
              <a:ext cx="2171520" cy="2009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3424320" y="2211480"/>
              <a:ext cx="2477880" cy="24778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8"/>
            <p:cNvSpPr/>
            <p:nvPr/>
          </p:nvSpPr>
          <p:spPr>
            <a:xfrm>
              <a:off x="3526920" y="2323440"/>
              <a:ext cx="2262960" cy="226296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3521160" y="3078360"/>
              <a:ext cx="2317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消防标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知多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tubao3.jpg (9981 字节)"/>
          <p:cNvPicPr/>
          <p:nvPr/>
        </p:nvPicPr>
        <p:blipFill>
          <a:blip r:embed="rId3"/>
          <a:stretch/>
        </p:blipFill>
        <p:spPr>
          <a:xfrm>
            <a:off x="2354400" y="622440"/>
            <a:ext cx="1565280" cy="1414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yubao4.jpg (9993 字节)"/>
          <p:cNvPicPr/>
          <p:nvPr/>
        </p:nvPicPr>
        <p:blipFill>
          <a:blip r:embed="rId4"/>
          <a:stretch/>
        </p:blipFill>
        <p:spPr>
          <a:xfrm>
            <a:off x="5164200" y="736560"/>
            <a:ext cx="1477800" cy="131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tubao5.jpg (10012 字节)"/>
          <p:cNvPicPr/>
          <p:nvPr/>
        </p:nvPicPr>
        <p:blipFill>
          <a:blip r:embed="rId5"/>
          <a:stretch/>
        </p:blipFill>
        <p:spPr>
          <a:xfrm>
            <a:off x="6635880" y="2652840"/>
            <a:ext cx="1407960" cy="1352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tubao7.jpg (10178 字节)"/>
          <p:cNvPicPr/>
          <p:nvPr/>
        </p:nvPicPr>
        <p:blipFill>
          <a:blip r:embed="rId6"/>
          <a:stretch/>
        </p:blipFill>
        <p:spPr>
          <a:xfrm>
            <a:off x="2763720" y="4543560"/>
            <a:ext cx="1425600" cy="1477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tubao8.jpg (10404 字节)"/>
          <p:cNvPicPr/>
          <p:nvPr/>
        </p:nvPicPr>
        <p:blipFill>
          <a:blip r:embed="rId7"/>
          <a:stretch/>
        </p:blipFill>
        <p:spPr>
          <a:xfrm>
            <a:off x="5143680" y="4626000"/>
            <a:ext cx="1393560" cy="1411200"/>
          </a:xfrm>
          <a:prstGeom prst="rect">
            <a:avLst/>
          </a:prstGeom>
          <a:ln w="0">
            <a:noFill/>
          </a:ln>
        </p:spPr>
      </p:pic>
      <p:sp>
        <p:nvSpPr>
          <p:cNvPr id="170" name="矩形 2"/>
          <p:cNvSpPr/>
          <p:nvPr/>
        </p:nvSpPr>
        <p:spPr>
          <a:xfrm>
            <a:off x="2661120" y="205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用水灭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5582520" y="2025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吸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6974280" y="4060800"/>
            <a:ext cx="729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烟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155304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放易燃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3020760" y="60213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带火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5416920" y="6002280"/>
            <a:ext cx="1003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禁止燃放鞭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的基本方法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98360" y="1305000"/>
            <a:ext cx="874728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冷却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就是将灭火剂直接喷洒在燃烧着的物体上，将可燃物质的温度降低到燃点以下，终止燃烧。如用水灭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隔离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就是将燃烧物体与附近的可燃物质隔离或疏散开，使燃烧停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窒息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就是阻止空气流入燃烧区，或用不燃物质冲淡空气，使燃烧物质断绝氧气的助燃而熄灭。如用泡沫灭油类火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Adobe 黑体 Std R"/>
              </a:rPr>
              <a:t>抑制灭火法</a:t>
            </a: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，也称化学中断法，就是使灭火剂参与到燃烧反应历程中，使燃烧过程中产生的游离基消失，而形成稳定分子或低活性游离基，使燃烧反应停止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如干粉灭火剂灭气体火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023840" y="2216160"/>
            <a:ext cx="1719360" cy="3097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3743280" y="2300400"/>
            <a:ext cx="1670040" cy="305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3"/>
          <a:stretch/>
        </p:blipFill>
        <p:spPr>
          <a:xfrm>
            <a:off x="6032520" y="2319480"/>
            <a:ext cx="2585880" cy="29732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860400" y="1173240"/>
            <a:ext cx="74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泡沫灭火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使用方法 ：主要适用于扑救各种油类火灾、木材、纤维、橡胶等固体可燃物火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68160" y="5535720"/>
            <a:ext cx="253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有手握着压把，左手托着灭火器底部，轻轻地取下灭火器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3370320" y="5536080"/>
            <a:ext cx="28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右手提着灭火器到现场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032520" y="565884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右手捂住喷嘴，左手执筒底边缘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46280" y="2162160"/>
            <a:ext cx="1660320" cy="3541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4067280" y="1231920"/>
            <a:ext cx="4543200" cy="3068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3"/>
          <a:stretch/>
        </p:blipFill>
        <p:spPr>
          <a:xfrm>
            <a:off x="5094360" y="3824280"/>
            <a:ext cx="3108240" cy="28116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816120" y="1841040"/>
            <a:ext cx="16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把灭火器颠倒过来呈垂直状态，用劲上下晃动几下，然后放开喷嘴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860400" y="1173240"/>
            <a:ext cx="74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干粉灭火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使用方法：适用于扑救各种易燃、可燃液体和易燃、可燃气体火灾，以及电器设备火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1046160" y="2405160"/>
            <a:ext cx="1847880" cy="3219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2925720" y="2281320"/>
            <a:ext cx="2541600" cy="3162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3"/>
          <a:stretch/>
        </p:blipFill>
        <p:spPr>
          <a:xfrm>
            <a:off x="5732640" y="2529000"/>
            <a:ext cx="251136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44800" y="728640"/>
            <a:ext cx="2855880" cy="3176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565200" y="728640"/>
            <a:ext cx="3168720" cy="352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3"/>
          <a:stretch/>
        </p:blipFill>
        <p:spPr>
          <a:xfrm>
            <a:off x="3733920" y="3905280"/>
            <a:ext cx="4700520" cy="2665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149560" y="9968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拔掉保险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" descr=""/>
          <p:cNvPicPr/>
          <p:nvPr/>
        </p:nvPicPr>
        <p:blipFill>
          <a:blip r:embed="rId1"/>
          <a:stretch/>
        </p:blipFill>
        <p:spPr>
          <a:xfrm>
            <a:off x="3651120" y="2498760"/>
            <a:ext cx="2060640" cy="1901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24320" y="2211480"/>
            <a:ext cx="2477880" cy="2477880"/>
            <a:chOff x="3424320" y="2211480"/>
            <a:chExt cx="2477880" cy="2477880"/>
          </a:xfrm>
        </p:grpSpPr>
        <p:sp>
          <p:nvSpPr>
            <p:cNvPr id="204" name="Rectangle 6"/>
            <p:cNvSpPr/>
            <p:nvPr/>
          </p:nvSpPr>
          <p:spPr>
            <a:xfrm>
              <a:off x="3557520" y="2498760"/>
              <a:ext cx="2171520" cy="20095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7"/>
            <p:cNvSpPr/>
            <p:nvPr/>
          </p:nvSpPr>
          <p:spPr>
            <a:xfrm>
              <a:off x="3424320" y="2211480"/>
              <a:ext cx="2477880" cy="24778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3526920" y="2323440"/>
              <a:ext cx="2262960" cy="226296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9"/>
            <p:cNvSpPr/>
            <p:nvPr/>
          </p:nvSpPr>
          <p:spPr>
            <a:xfrm>
              <a:off x="3521160" y="3078360"/>
              <a:ext cx="2317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消防标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知多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10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C:\WINDOWS\Desktop\QJ Zou 1\消防標記.files\aq_14.jpeg"/>
          <p:cNvPicPr/>
          <p:nvPr/>
        </p:nvPicPr>
        <p:blipFill>
          <a:blip r:embed="rId2"/>
          <a:stretch/>
        </p:blipFill>
        <p:spPr>
          <a:xfrm>
            <a:off x="2724120" y="565200"/>
            <a:ext cx="140004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C:\WINDOWS\Desktop\QJ Zou 1\消防標記.files\aq_13.jpeg"/>
          <p:cNvPicPr/>
          <p:nvPr/>
        </p:nvPicPr>
        <p:blipFill>
          <a:blip r:embed="rId3"/>
          <a:stretch/>
        </p:blipFill>
        <p:spPr>
          <a:xfrm>
            <a:off x="5403960" y="565200"/>
            <a:ext cx="1400040" cy="1523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C:\WINDOWS\Desktop\QJ Zou 1\消防標記.files\aq_17.jpeg"/>
          <p:cNvPicPr/>
          <p:nvPr/>
        </p:nvPicPr>
        <p:blipFill>
          <a:blip r:embed="rId4"/>
          <a:stretch/>
        </p:blipFill>
        <p:spPr>
          <a:xfrm>
            <a:off x="1327320" y="2595600"/>
            <a:ext cx="1630080" cy="1550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:\WINDOWS\Desktop\QJ Zou 1\消防標記.files\aq_18.jpeg"/>
          <p:cNvPicPr/>
          <p:nvPr/>
        </p:nvPicPr>
        <p:blipFill>
          <a:blip r:embed="rId5"/>
          <a:stretch/>
        </p:blipFill>
        <p:spPr>
          <a:xfrm>
            <a:off x="2949480" y="4780080"/>
            <a:ext cx="1371600" cy="1303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007.jpg (6242 字节)"/>
          <p:cNvPicPr/>
          <p:nvPr/>
        </p:nvPicPr>
        <p:blipFill>
          <a:blip r:embed="rId6"/>
          <a:stretch/>
        </p:blipFill>
        <p:spPr>
          <a:xfrm>
            <a:off x="6080040" y="2552760"/>
            <a:ext cx="1676520" cy="1593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008.jpg (6433 字节)"/>
          <p:cNvPicPr/>
          <p:nvPr/>
        </p:nvPicPr>
        <p:blipFill>
          <a:blip r:embed="rId7"/>
          <a:stretch/>
        </p:blipFill>
        <p:spPr>
          <a:xfrm>
            <a:off x="5016600" y="4724280"/>
            <a:ext cx="1487520" cy="141624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3059640" y="2048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紧急出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9"/>
          <p:cNvSpPr/>
          <p:nvPr/>
        </p:nvSpPr>
        <p:spPr>
          <a:xfrm>
            <a:off x="5747040" y="202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紧急出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6553440" y="412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疏散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1864080" y="412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推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3329280" y="6075360"/>
            <a:ext cx="455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拉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5582160" y="6083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5259282612fa6c3b8b82a140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1801800" y="2606760"/>
            <a:ext cx="6630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亲爱的同学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是人类的朋友，它带给我们光明．推动着人类社会走向文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但火，能烧掉茂密的森林，广阔的草原，高大的楼房，甚至夺取人们宝贵的生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失去控制的火会成为一种具有很人破坏力的灾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应该怎样防火，救火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今天这节课，我们大家就一起来讨论一下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712800" y="1868400"/>
            <a:ext cx="807876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心爆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爆炸性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心火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易燃物质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心火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tubao9.jpg (8476 字节)"/>
          <p:cNvPicPr/>
          <p:nvPr/>
        </p:nvPicPr>
        <p:blipFill>
          <a:blip r:embed="rId1"/>
          <a:stretch/>
        </p:blipFill>
        <p:spPr>
          <a:xfrm>
            <a:off x="1228680" y="2044800"/>
            <a:ext cx="1849320" cy="1871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tubao10.jpg (8413 字节)"/>
          <p:cNvPicPr/>
          <p:nvPr/>
        </p:nvPicPr>
        <p:blipFill>
          <a:blip r:embed="rId2"/>
          <a:stretch/>
        </p:blipFill>
        <p:spPr>
          <a:xfrm>
            <a:off x="5421240" y="3757680"/>
            <a:ext cx="1673280" cy="172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tubao11.jpg (8709 字节)"/>
          <p:cNvPicPr/>
          <p:nvPr/>
        </p:nvPicPr>
        <p:blipFill>
          <a:blip r:embed="rId3"/>
          <a:stretch/>
        </p:blipFill>
        <p:spPr>
          <a:xfrm>
            <a:off x="4552920" y="835200"/>
            <a:ext cx="1873440" cy="160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85520" y="1161720"/>
            <a:ext cx="77072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灭火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48360" y="324324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上消火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305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42814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017.jpg (7664 字节)"/>
          <p:cNvPicPr/>
          <p:nvPr/>
        </p:nvPicPr>
        <p:blipFill>
          <a:blip r:embed="rId1"/>
          <a:stretch/>
        </p:blipFill>
        <p:spPr>
          <a:xfrm>
            <a:off x="927000" y="1662120"/>
            <a:ext cx="1584360" cy="1506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019.jpg (6859 字节)"/>
          <p:cNvPicPr/>
          <p:nvPr/>
        </p:nvPicPr>
        <p:blipFill>
          <a:blip r:embed="rId2"/>
          <a:stretch/>
        </p:blipFill>
        <p:spPr>
          <a:xfrm>
            <a:off x="3592440" y="1728720"/>
            <a:ext cx="1511280" cy="1435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5"/>
          <p:cNvSpPr/>
          <p:nvPr/>
        </p:nvSpPr>
        <p:spPr>
          <a:xfrm>
            <a:off x="18108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6" descr="020.jpg (6816 字节)"/>
          <p:cNvPicPr/>
          <p:nvPr/>
        </p:nvPicPr>
        <p:blipFill>
          <a:blip r:embed="rId3"/>
          <a:stretch/>
        </p:blipFill>
        <p:spPr>
          <a:xfrm>
            <a:off x="6327720" y="1741320"/>
            <a:ext cx="1440000" cy="13701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7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8" descr="018.jpg (6823 字节)"/>
          <p:cNvPicPr/>
          <p:nvPr/>
        </p:nvPicPr>
        <p:blipFill>
          <a:blip r:embed="rId4"/>
          <a:stretch/>
        </p:blipFill>
        <p:spPr>
          <a:xfrm>
            <a:off x="927000" y="3745080"/>
            <a:ext cx="1584360" cy="15048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9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0" descr="016.jpg (6431 字节)"/>
          <p:cNvPicPr/>
          <p:nvPr/>
        </p:nvPicPr>
        <p:blipFill>
          <a:blip r:embed="rId5"/>
          <a:stretch/>
        </p:blipFill>
        <p:spPr>
          <a:xfrm>
            <a:off x="6326280" y="3817800"/>
            <a:ext cx="1441440" cy="1370160"/>
          </a:xfrm>
          <a:prstGeom prst="rect">
            <a:avLst/>
          </a:prstGeom>
          <a:ln w="0">
            <a:noFill/>
          </a:ln>
        </p:spPr>
      </p:pic>
      <p:sp>
        <p:nvSpPr>
          <p:cNvPr id="249" name="标题 1"/>
          <p:cNvSpPr/>
          <p:nvPr/>
        </p:nvSpPr>
        <p:spPr>
          <a:xfrm>
            <a:off x="584280" y="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"/>
          <p:cNvSpPr/>
          <p:nvPr/>
        </p:nvSpPr>
        <p:spPr>
          <a:xfrm>
            <a:off x="3484440" y="326232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下消火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"/>
          <p:cNvSpPr/>
          <p:nvPr/>
        </p:nvSpPr>
        <p:spPr>
          <a:xfrm>
            <a:off x="6283440" y="5267160"/>
            <a:ext cx="18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灭火设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"/>
          <p:cNvSpPr/>
          <p:nvPr/>
        </p:nvSpPr>
        <p:spPr>
          <a:xfrm>
            <a:off x="837720" y="5168880"/>
            <a:ext cx="17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防水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火场逃生的基本原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716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持冷静的头脑和稳定的心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迅速撤离危险区，不要贪恋财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个人防护，防止或减少烟气的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过烟火区时，要爬行或昼量使身体贴近地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万不要乘坐电梯逃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上着火可就地打滚或用厚重的衣物压灭火焰，不可奔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随便开启门窗，以避免火势迅速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惊惶失措，盲目跳楼逃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校园防火灭火常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7280" y="1299960"/>
            <a:ext cx="826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报火警的方法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现火灾后应立即拨打火警电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并讲清起火的详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址、起火部位、着火物质、火势大小，报警人姓名及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号码，并到路口迎候消防车。消防队救火不收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火场逃生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火场逃生要迅速，动作要快，要树立时间就是生命、逃生第一的思想。逃生时必须冷静，认准安全出口，沿疏散指示标志逃出。在逃生时要防止中毒，尽量避免大声呼喊，防止烟雾进入口腔；用水打湿衣服后捂住口鼻，一时找不到水，可用饮料来打湿衣服代替；并采取低姿行走或匍匐前进，减少烟气对人体的危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1619280" y="6021360"/>
            <a:ext cx="216000" cy="144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66"/>
                </a:solidFill>
                <a:latin typeface="Arial"/>
              </a:rPr>
              <a:t>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-90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12840" y="4681440"/>
            <a:ext cx="3122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一只手捂住口鼻，另一只手保护头部，身体尽量弯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6" descr="\\Hlh\胡念红共享\2012年9至12照片\防火灾演习\DSC_0182.JPG"/>
          <p:cNvPicPr/>
          <p:nvPr/>
        </p:nvPicPr>
        <p:blipFill>
          <a:blip r:embed="rId1"/>
          <a:stretch/>
        </p:blipFill>
        <p:spPr>
          <a:xfrm rot="21180000">
            <a:off x="366840" y="511200"/>
            <a:ext cx="5078160" cy="357192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3" descr="\\Hlh\胡念红共享\2012年9至12照片\防火灾演习\DSC_0189.JPG"/>
          <p:cNvPicPr/>
          <p:nvPr/>
        </p:nvPicPr>
        <p:blipFill>
          <a:blip r:embed="rId2"/>
          <a:stretch/>
        </p:blipFill>
        <p:spPr>
          <a:xfrm rot="360000">
            <a:off x="3736800" y="3103560"/>
            <a:ext cx="5019840" cy="33796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722920" y="1327320"/>
            <a:ext cx="3122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紧跟老师，分别从前后门小跑出教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1" descr="\\Hlh\胡念红共享\2012年9至12照片\防火灾演习\DSC_0220.JPG"/>
          <p:cNvPicPr/>
          <p:nvPr/>
        </p:nvPicPr>
        <p:blipFill>
          <a:blip r:embed="rId1"/>
          <a:stretch/>
        </p:blipFill>
        <p:spPr>
          <a:xfrm rot="240000">
            <a:off x="3579480" y="3070080"/>
            <a:ext cx="5253120" cy="34228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16000" y="4838760"/>
            <a:ext cx="31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出教学楼后，迅速到操场的各班指定地点集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4" descr="\\Hlh\胡念红共享\2012年9至12照片\防火灾演习\DSC_0209.JPG"/>
          <p:cNvPicPr/>
          <p:nvPr/>
        </p:nvPicPr>
        <p:blipFill>
          <a:blip r:embed="rId2"/>
          <a:stretch/>
        </p:blipFill>
        <p:spPr>
          <a:xfrm rot="21240000">
            <a:off x="260280" y="473040"/>
            <a:ext cx="5146920" cy="3510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613480" y="1131840"/>
            <a:ext cx="3749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楼梯时，保持靠右行，不推挤打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比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95400" y="614520"/>
            <a:ext cx="8953200" cy="64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高层楼发生火灾后，不能（  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乘电梯下楼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湿毛巾堵住口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楼梯跑下楼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使用灭火器扑救火灾时要对准火焰（  ）喷射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部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家中经常使用的物品中属易燃易爆物品的是（ 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啫喱水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餐洗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洗发水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单位或家庭维修中使用溶剂和油漆时除了杜绝一切火种，还应该注意（ ）。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湿度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温度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通风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据统计，因火灾亡的人中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以上属于（ ）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被火直接烧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烟气窒息致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楼或惊吓致死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楼内失火应（ ）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疏散通道逃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乘坐电梯逃离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现场看热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62360" y="506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843520" y="13953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7002000" y="2255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1914480" y="345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526800" y="4335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714760" y="52135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则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23800" y="3022560"/>
            <a:ext cx="3905280" cy="27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648320" y="3060720"/>
            <a:ext cx="4038480" cy="26971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573120" y="1201680"/>
            <a:ext cx="80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2004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日印度南部泰米尔纳德邦的一所中学发生火灾，造成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75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名师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伤亡。其中绝大部分是女生，数名教师也在火灾中死亡。另外还有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0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受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当遇到火灾时，要迅速向（ ）逃生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着火相反的方向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员多的方向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安全出口的方向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燃气用具使用完毕后，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关掉灶具阀门，总阀门可以不关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要关掉总阀门，灶具阀门可以不关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首先关掉灶具阀门，然后关掉总阀门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火灾初起阶段是扑救火灾（ ）的阶段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不利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有利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较不利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在相对封闭的房间里发生火灾时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能随便开启门窗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只能开窗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只能开门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当打开房间闻到煤气气味时，要迅速 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灯寻找漏气部位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点火查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打开门窗通风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当打开房间闻到煤气气味时，要迅速 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灯寻找漏气部位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点火查看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打开门窗通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93380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705200" y="1066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219800" y="48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219800" y="58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101200" y="2743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338160" y="3809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53416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被困在火场时，下列求救方法错误的是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窗口、阳台或屋顶处向外大声呼叫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白天可挥动鲜艳布条发出求救信号，晚上可挥动手电筒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声哭泣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点蚊香时，正确的做法是（ 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蚊香固定在专用铁架上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放在窗帘旁边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放在蚊账、床单附近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发生火灾时，正确的安全疏散主要有三个方向，向下可以跑到地面，向上可以爬到屋顶，还可以（ ）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躲到角落里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向外逃到阳台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钻到阁楼、大橱等处避难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中小学生在发生火灾时，不正确的做法是（ 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勇敢深入火场灭火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远离着火区域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往上风方向撤离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7574040" y="11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61276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986400" y="403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8091000" y="541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2e2d5b6c76558dd9421694f1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918800" y="9036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亲爱的同学们，这节课你学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大家分享一下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则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6640" y="3487680"/>
            <a:ext cx="4038840" cy="268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5035680" y="825480"/>
            <a:ext cx="3879720" cy="5738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477720" y="860400"/>
            <a:ext cx="410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2008-03-14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南京东南大学一办公楼发生火灾，受灾面积达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00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平方米，消防部门出动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余辆消防车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50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扑救，大火经过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个多小时被朴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则案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b_59861714"/>
          <p:cNvPicPr/>
          <p:nvPr/>
        </p:nvPicPr>
        <p:blipFill>
          <a:blip r:embed="rId1"/>
          <a:stretch/>
        </p:blipFill>
        <p:spPr>
          <a:xfrm>
            <a:off x="393840" y="2975040"/>
            <a:ext cx="4076640" cy="2711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_59861716"/>
          <p:cNvPicPr/>
          <p:nvPr/>
        </p:nvPicPr>
        <p:blipFill>
          <a:blip r:embed="rId2"/>
          <a:stretch/>
        </p:blipFill>
        <p:spPr>
          <a:xfrm>
            <a:off x="4606920" y="3022560"/>
            <a:ext cx="4038480" cy="26352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477720" y="127008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上海“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11·15”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特别重大火灾事故遇难人数上升到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58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，其中男性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22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，女性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36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。火灾发生后，上海市静安区共接到向街道等单位申报的失踪人员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56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人。目前，遇难者与家属的</a:t>
            </a:r>
            <a:r>
              <a:rPr b="1" lang="en-US" sz="2400" spc="-1" strike="noStrike">
                <a:solidFill>
                  <a:srgbClr val="ffaa01"/>
                </a:solidFill>
                <a:latin typeface="黑体"/>
                <a:ea typeface="黑体"/>
              </a:rPr>
              <a:t>DNA</a:t>
            </a:r>
            <a:r>
              <a:rPr b="1" lang="zh-CN" sz="2400" spc="-1" strike="noStrike">
                <a:solidFill>
                  <a:srgbClr val="ffaa01"/>
                </a:solidFill>
                <a:latin typeface="黑体"/>
                <a:ea typeface="黑体"/>
              </a:rPr>
              <a:t>比认工作正在进行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7" descr="EC5143B9AEEAD5D8D8C619399C44E7D0"/>
          <p:cNvPicPr/>
          <p:nvPr/>
        </p:nvPicPr>
        <p:blipFill>
          <a:blip r:embed="rId1"/>
          <a:stretch/>
        </p:blipFill>
        <p:spPr>
          <a:xfrm>
            <a:off x="0" y="9360"/>
            <a:ext cx="4572000" cy="684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290507160_HwFkdJ"/>
          <p:cNvPicPr/>
          <p:nvPr/>
        </p:nvPicPr>
        <p:blipFill>
          <a:blip r:embed="rId2"/>
          <a:stretch/>
        </p:blipFill>
        <p:spPr>
          <a:xfrm>
            <a:off x="4462560" y="23760"/>
            <a:ext cx="4681440" cy="684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5" descr="4d5cbf22g9513ea5b357f&amp;690"/>
          <p:cNvPicPr/>
          <p:nvPr/>
        </p:nvPicPr>
        <p:blipFill>
          <a:blip r:embed="rId1"/>
          <a:stretch/>
        </p:blipFill>
        <p:spPr>
          <a:xfrm>
            <a:off x="0" y="0"/>
            <a:ext cx="4965840" cy="330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20101116093112879"/>
          <p:cNvPicPr/>
          <p:nvPr/>
        </p:nvPicPr>
        <p:blipFill>
          <a:blip r:embed="rId2"/>
          <a:stretch/>
        </p:blipFill>
        <p:spPr>
          <a:xfrm>
            <a:off x="0" y="3301920"/>
            <a:ext cx="5226120" cy="3556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1290507160_RMfPVd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海胶州路大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上海火灾中那些感人的画面_clip.avi" descr=""/>
          <p:cNvPicPr/>
          <p:nvPr/>
        </p:nvPicPr>
        <p:blipFill>
          <a:blip r:embed="rId1"/>
          <a:stretch/>
        </p:blipFill>
        <p:spPr>
          <a:xfrm>
            <a:off x="914400" y="623880"/>
            <a:ext cx="7288200" cy="588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867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未知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854360" y="4772160"/>
            <a:ext cx="6883200" cy="13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99cc00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854360" y="2959200"/>
            <a:ext cx="6883200" cy="132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50000">
                <a:srgbClr val="99cc00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燃烧的三要素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854360" y="1155600"/>
            <a:ext cx="6883200" cy="4798440"/>
            <a:chOff x="1854360" y="1155600"/>
            <a:chExt cx="6883200" cy="4798440"/>
          </a:xfrm>
        </p:grpSpPr>
        <p:sp>
          <p:nvSpPr>
            <p:cNvPr id="139" name="AutoShape 7"/>
            <p:cNvSpPr/>
            <p:nvPr/>
          </p:nvSpPr>
          <p:spPr>
            <a:xfrm>
              <a:off x="1854360" y="1155600"/>
              <a:ext cx="6883200" cy="1320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99cc00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8"/>
            <p:cNvSpPr/>
            <p:nvPr/>
          </p:nvSpPr>
          <p:spPr>
            <a:xfrm>
              <a:off x="2277720" y="1404720"/>
              <a:ext cx="627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可燃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能与空气中的氧或其它氧化剂起剧烈反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2277720" y="3193920"/>
              <a:ext cx="600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助燃物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帮助和支持燃烧的物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>
              <a:off x="2320560" y="5006880"/>
              <a:ext cx="600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着火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引起可燃物燃烧的能量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44"/>
          <p:cNvSpPr/>
          <p:nvPr/>
        </p:nvSpPr>
        <p:spPr>
          <a:xfrm>
            <a:off x="216000" y="3137040"/>
            <a:ext cx="939600" cy="939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" descr=""/>
          <p:cNvPicPr/>
          <p:nvPr/>
        </p:nvPicPr>
        <p:blipFill>
          <a:blip r:embed="rId1"/>
          <a:srcRect l="0" t="15068" r="0" b="0"/>
          <a:stretch/>
        </p:blipFill>
        <p:spPr>
          <a:xfrm>
            <a:off x="131760" y="2778120"/>
            <a:ext cx="1208160" cy="145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dc:language>en-US</dc:language>
  <cp:lastModifiedBy>微软用户</cp:lastModifiedBy>
  <dcterms:modified xsi:type="dcterms:W3CDTF">2015-07-01T09:48:16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