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AE8-4575-4F09-80D3-BB008402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9BC-0FD5-4783-8470-717ED25C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B90-650B-44CF-938E-05375A9C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2432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8864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6036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2432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8864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E13-A7F7-4A9B-B7BB-263FD3ED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010-2431-4391-925E-6A3EF31A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2178-AA75-41B3-BA1E-955E87EC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F88D-5C38-41D5-9883-F5F7D1B0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CE4D-D1C3-41B5-9123-1E8D81DA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ED79-5C2F-4CAE-8874-EEBCCA60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854-9A75-4183-9B8F-B878AC5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DBB-5951-4150-BC3F-36D4046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316-9F66-4FEC-BFE0-357B304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7D3D-F94B-4AEF-A98A-FA5D4EB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E21-17B2-4FF9-8872-D9618C28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B63B-729E-464A-B174-D6DF3CD8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28D8-1B69-4813-94AA-84145C3D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432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588640" y="386064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6036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2432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588640" y="4375080"/>
            <a:ext cx="206064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56DF-C397-4327-AB5F-26793555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FEB-6A8C-4A39-8DFF-5CAB33DE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4F3-1A75-486E-AEA4-576D1F3E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CED-9122-4F64-8303-6A500EF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11280" y="213336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EA6-CB9F-4FD5-89DD-3C9AAE60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4C2-C22B-4995-A7A1-3B3E9CD1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40320" y="437508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22C-0789-47A0-B5F6-8A1ED58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036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40320" y="3860640"/>
            <a:ext cx="312336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0360" y="4375080"/>
            <a:ext cx="6400800" cy="4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4E5-1A20-4841-B463-62735B67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0" y="620640"/>
            <a:ext cx="8713800" cy="583272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70000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667280" y="6093000"/>
            <a:ext cx="1081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fld id="{8EBE16E8-0583-468D-AB62-C6581D8C9CBC}" type="slidenum"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771640" y="189000"/>
            <a:ext cx="57628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11111"/>
              </a:gs>
              <a:gs pos="100000">
                <a:srgbClr val="333333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413000"/>
            <a:ext cx="8353440" cy="43923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732720" y="5661000"/>
            <a:ext cx="1493640" cy="10288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68360" y="1413000"/>
            <a:ext cx="8351640" cy="43210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969696"/>
            </a:solidFill>
            <a:miter/>
          </a:ln>
          <a:effectLst>
            <a:outerShdw dist="109184" dir="2128307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89000"/>
            <a:ext cx="8496000" cy="6553080"/>
          </a:xfrm>
          <a:prstGeom prst="roundRect">
            <a:avLst>
              <a:gd name="adj" fmla="val 2764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0162-3EBF-4A04-AA34-BAD424D125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4285"/>
          <a:stretch/>
        </p:blipFill>
        <p:spPr>
          <a:xfrm>
            <a:off x="5940360" y="5000760"/>
            <a:ext cx="2808360" cy="1668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3360" y="476280"/>
            <a:ext cx="215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765000"/>
            <a:ext cx="215640" cy="216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476280"/>
            <a:ext cx="216000" cy="216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43280" y="259920"/>
            <a:ext cx="5618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55F-4CF9-4408-81FB-36515A5FE1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60360" y="386064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765000"/>
            <a:ext cx="1584360" cy="432000"/>
          </a:xfrm>
          <a:prstGeom prst="rect">
            <a:avLst/>
          </a:prstGeom>
          <a:noFill/>
          <a:ln w="9360">
            <a:solidFill>
              <a:srgbClr val="96969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51:22Z</dcterms:created>
  <dc:creator/>
  <dc:description/>
  <cp:keywords/>
  <dc:language>en-US</dc:language>
  <cp:lastModifiedBy>GZB</cp:lastModifiedBy>
  <cp:lastPrinted>1899-12-30T00:00:00Z</cp:lastPrinted>
  <dcterms:modified xsi:type="dcterms:W3CDTF">2012-09-09T03:49:4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