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9.png" ContentType="image/pn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C3D-A99B-47A5-BA54-C9ABC062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6DA-BE04-476C-A40D-9538F40C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FD6-A057-4EFB-9CD8-41475360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054-A728-487B-A2B4-7653FBFD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922-B502-45CA-A182-B0A10A83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59D-31EF-4858-903A-414F6CAB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1CD-B139-4DB2-8215-863631D6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CD4-8A16-4861-BEEC-20A46BFD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F14-8AD1-4EC9-9079-7B38B92C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FC7-4ACF-48CB-92E5-B62B6F4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8F1-59FB-4C82-BACC-CBD19633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B6F-757D-47E3-9DC3-8FC7AEE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C9E2-0346-401F-A3DE-8B23369E62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907920"/>
            <a:ext cx="806436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中宋"/>
              </a:rPr>
              <a:t>火烧圆明园教学课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7650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黑体"/>
              </a:rPr>
              <a:t>买卖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19640" y="0"/>
            <a:ext cx="5545080" cy="3784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4000" y="3184560"/>
            <a:ext cx="8569080" cy="367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73600" y="3141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黑体"/>
              </a:rPr>
              <a:t>山乡村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72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平湖秋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6227640" cy="378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-541440" y="3094200"/>
            <a:ext cx="6050160" cy="3763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867280" y="4724280"/>
            <a:ext cx="30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雷锋夕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3357720"/>
            <a:ext cx="489564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51360" y="3500280"/>
            <a:ext cx="18262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黑体"/>
              </a:rPr>
              <a:t>狮子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5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0" y="342432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33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92120" y="2421000"/>
            <a:ext cx="10036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安澜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0" r="3337" b="3229"/>
          <a:stretch/>
        </p:blipFill>
        <p:spPr>
          <a:xfrm>
            <a:off x="0" y="-387360"/>
            <a:ext cx="9144000" cy="3560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-17136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蓬莱瑶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rcRect l="1125" t="4823" r="3337" b="0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299736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66"/>
                </a:solidFill>
                <a:latin typeface="Times New Roman"/>
                <a:ea typeface="黑体"/>
              </a:rPr>
              <a:t>武陵春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3868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819520" y="3338640"/>
            <a:ext cx="6324480" cy="351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99320" y="1219320"/>
            <a:ext cx="324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</a:rPr>
              <a:t>西洋景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9548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836640"/>
            <a:ext cx="106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是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16600" y="836640"/>
            <a:ext cx="561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园林艺术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瑰宝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、建筑艺术的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精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9280" y="3068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的毁灭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1700280"/>
            <a:ext cx="741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不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建筑宏伟，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收藏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最珍贵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历史文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                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692360" y="189000"/>
            <a:ext cx="3581280" cy="47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257800" y="152280"/>
            <a:ext cx="3753000" cy="478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64000" y="530064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青　铜　礼　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6280"/>
            <a:ext cx="11430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收藏文物最珍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124000" y="5157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96360" y="5157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692360" y="169920"/>
            <a:ext cx="7272360" cy="480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05320" y="5334120"/>
            <a:ext cx="40194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名 人 书 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1692360" y="-603360"/>
            <a:ext cx="7272360" cy="554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1692360" y="189000"/>
            <a:ext cx="7299360" cy="475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360" y="5300640"/>
            <a:ext cx="4038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奇 珍 异 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1692360" y="152280"/>
            <a:ext cx="7299360" cy="471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1692360" y="189000"/>
            <a:ext cx="242892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4140360" y="189000"/>
            <a:ext cx="2489040" cy="47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6629400" y="189000"/>
            <a:ext cx="2320920" cy="47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>
            <a:lum bright="6000"/>
          </a:blip>
          <a:stretch/>
        </p:blipFill>
        <p:spPr>
          <a:xfrm>
            <a:off x="1692360" y="189000"/>
            <a:ext cx="7272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4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9500"/>
                            </p:stCondLst>
                            <p:childTnLst>
                              <p:par>
                                <p:cTn id="25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2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6500"/>
                            </p:stCondLst>
                            <p:childTnLst>
                              <p:par>
                                <p:cTn id="2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81080" y="907920"/>
            <a:ext cx="979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不但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还收藏着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8120" y="2565360"/>
            <a:ext cx="709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所以，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又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当时世界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4784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46080" y="836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建筑宏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8000" y="162864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最珍贵的历史文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8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最大的博物馆、艺术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12536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的毁灭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9600" y="907920"/>
            <a:ext cx="646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在地球上某个地方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曾经有一个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奇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它的名字叫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圆明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     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雨果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47400" y="1700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曾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333360"/>
            <a:ext cx="76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近乎超人的民族所能幻想到的一切都汇集于此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只要想象出一种无法描述的建筑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种如同月宫似的仙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那就是圆明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.”         ----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雨果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620640"/>
            <a:ext cx="84596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读一读，想一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是怎样被毁灭的？用“——”画出相关的句子并读一读，抓住重点词语说说你从中体会到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353440" cy="682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40464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86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，英、法联军侵入北京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闯进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圆明园。他们把园内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凡是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能拿走的东西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统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掠走，拿不动的，就用大车或牲口搬运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实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运不走的，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任意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破坏、毁掉。为了销毁罪证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，三千多名侵略军奉命在园内放火。大火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连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烧三天，烟云笼罩整个北京城。我国这一园林艺术的瑰宝、建筑艺术的精华，就这样被化为灰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0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12536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的毁灭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1484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有一把火曾把耻辱烙在每一个中国人的脸上，同时在每一个中国人的心里烙上了深深的仇恨。这把火腾空燃烧的时候，一个拥有黄河和长江滚滚波涛的民族，一个拥有亿万双有力的手和亿万双泪汪汪的眼睛的民族，却只能握着空拳，眼睁睁看着这座万园之园化为一片灰烬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549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《火烧圆明园》电影解说词里有这样一段话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47240" y="260280"/>
            <a:ext cx="547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●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焚毁圆明园的前几天，英法联军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清方交出北京安定门 “代为看守”。英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联军分四批入城，并将司令部设在国子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英法联军列队入城之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清军士兵夹道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迎，北京居民观者如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0720" y="3141720"/>
            <a:ext cx="613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，英法联军攻陷张家湾和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州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攻下八里桥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咸丰皇帝吓破了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派他六弟恭亲王奕为钦差大臣，留守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京，主持和议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清晨，咸丰皇帝带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后妃、皇子、亲王和一批大臣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慌忙逃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热河行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今河北承德避暑山庄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43680" y="0"/>
            <a:ext cx="583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，这伙强盗抢劫了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寿山、玉泉山和香山等几处属园中所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珍贵文物，并进行第二次大焚烧，烧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述几处属园的殿阁建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2133720"/>
            <a:ext cx="816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时，逃到热河的咸丰皇帝竟下谕“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委曲将就，以期保全大局”。奕秉承此旨意，全盘接受英、法提出的条件，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分别与额尔金和葛罗在礼部大堂交换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《天津条约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并签订了中英、中法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《北京条约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又同俄国签订了中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《北京条约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这些丧权辱国的不平等条约，使中国的半殖民地程度进一步加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使中国人民的灾难更为深重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00800" y="3573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抢劫后的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大水法废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04600" y="166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远霪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0320" y="26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方外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4365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95840" y="2430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历史永远不会忘记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04840" y="191628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圆明园的毁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124000" y="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假如此时此刻，你就站在圆明园的废墟旁，你会想到什么？想说些什么？把想到的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题目是“圆明园的毁灭”，可为什么用较大篇幅写它辉煌的过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课文用较大篇幅写圆明园的辉煌过去，突出了它的雄伟壮观和收藏的大量无价之宝，而正是这样一座世界闻名的壮观园林，这样一座世界上最大的博物馆、艺术馆，竟然在几天之内化为一片灰烬。这两部分内容紧密联系，更能激起人们对侵略者无比憎恨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14640" y="76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探究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94840" y="2019240"/>
            <a:ext cx="502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人建议在圆明园的旧址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重建圆明园，恢复它的原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22160" y="39862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对这个问题，你有什么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90760" cy="3500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4392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203640" y="3186000"/>
            <a:ext cx="3143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549360"/>
            <a:ext cx="86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夺取财宝，英法联军从四面八方冲进圆明园，有的搬走景泰蓝瓷器，有的抢走绣花长袍，有的挑选高级大衣，有的拿去镶嵌珠宝的挂钟，有的背着大口袋，装满了各种各样的珠宝，有的咱宽大的口袋里装满了金条和金叶，有的身缠着织锦绸缎，有的帽子里放满了红兰宝石，珍珠和水晶石，有的脖子上挂着翡翠项圈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35360" y="189000"/>
            <a:ext cx="5057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侵略者除了大肆掠夺、抢劫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被他们糟蹋的东西更是不计其数，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子里的绸缎、衣服扔了一地，工兵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带着大斧，把家具镜子统统砸碎，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上边的宝石，另一些人凶狠地向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烛台开枪射击，以此取乐。大部分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士兵手抡木棍，将不能带走的东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全部捣碎。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，法国军队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撤离圆明园时，这处秀丽园林已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毁坏得惨不忍睹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76500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的毁灭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世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7840" y="516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907920"/>
            <a:ext cx="788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圆明园在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价值，在 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也有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价值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04400" y="8366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祖国文化史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440" y="328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24760" y="249228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文化史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656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0440" y="1628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39880" y="907920"/>
            <a:ext cx="570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在北京西北郊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是一座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举世闻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皇家园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439560" y="620640"/>
            <a:ext cx="95835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6769080" cy="497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6769440" cy="5015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1188" t="1663" r="0" b="1663"/>
          <a:stretch/>
        </p:blipFill>
        <p:spPr>
          <a:xfrm>
            <a:off x="1908000" y="260280"/>
            <a:ext cx="6936120" cy="485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835280" y="260280"/>
            <a:ext cx="7011720" cy="485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19640" y="56610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金碧辉煌的殿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979640" y="5229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596360" y="53006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763640" y="260280"/>
            <a:ext cx="7056360" cy="489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59280" y="5589720"/>
            <a:ext cx="48765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玲珑剔透的亭台楼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1547640" y="333360"/>
            <a:ext cx="7267680" cy="496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549360"/>
            <a:ext cx="114300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园中景观多而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75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2:56:24Z</dcterms:created>
  <dc:creator>841505</dc:creator>
  <dc:description/>
  <dc:language>en-US</dc:language>
  <cp:lastModifiedBy>USER</cp:lastModifiedBy>
  <dcterms:modified xsi:type="dcterms:W3CDTF">2009-06-26T06:30:51Z</dcterms:modified>
  <cp:revision>13</cp:revision>
  <dc:subject/>
  <dc:title>幻灯片 1</dc:title>
</cp:coreProperties>
</file>