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4F0-512B-4DA0-B69B-E0E8A131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1BD-531E-4C23-98A9-E73FAD9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B31-0F5B-438E-AC2E-18DAE592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D37-14B8-4806-AB35-D6FB6915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9C5-F7BF-4FCE-91F0-842780F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7C6-14E3-4659-8732-A78369F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1E5-506C-4A7C-A13E-D47B149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980-83E2-4168-B7CB-69F8F599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787-C3CB-4784-A74D-97B7007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993-409E-46D5-BB8E-04F61A1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A5B-4174-4726-A578-BF2D3BA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EC4-7155-478A-845B-CC02A72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ADD-F955-4FA7-BCCE-48B4BBA9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013cfa1dfb1c5aa471064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6"/>
          <p:cNvSpPr/>
          <p:nvPr/>
        </p:nvSpPr>
        <p:spPr>
          <a:xfrm>
            <a:off x="762120" y="21337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迎各位家长朋友光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572411292352"/>
          <p:cNvPicPr/>
          <p:nvPr/>
        </p:nvPicPr>
        <p:blipFill>
          <a:blip r:embed="rId2"/>
          <a:stretch/>
        </p:blipFill>
        <p:spPr>
          <a:xfrm>
            <a:off x="20574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200572411292352"/>
          <p:cNvPicPr/>
          <p:nvPr/>
        </p:nvPicPr>
        <p:blipFill>
          <a:blip r:embed="rId3"/>
          <a:stretch/>
        </p:blipFill>
        <p:spPr>
          <a:xfrm>
            <a:off x="-152280" y="-8380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200572411292352"/>
          <p:cNvPicPr/>
          <p:nvPr/>
        </p:nvPicPr>
        <p:blipFill>
          <a:blip r:embed="rId4"/>
          <a:stretch/>
        </p:blipFill>
        <p:spPr>
          <a:xfrm>
            <a:off x="68580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200572411292352"/>
          <p:cNvPicPr/>
          <p:nvPr/>
        </p:nvPicPr>
        <p:blipFill>
          <a:blip r:embed="rId5"/>
          <a:stretch/>
        </p:blipFill>
        <p:spPr>
          <a:xfrm>
            <a:off x="5638680" y="-12952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00572411292352"/>
          <p:cNvPicPr/>
          <p:nvPr/>
        </p:nvPicPr>
        <p:blipFill>
          <a:blip r:embed="rId6"/>
          <a:stretch/>
        </p:blipFill>
        <p:spPr>
          <a:xfrm>
            <a:off x="2286000" y="54100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200572411292352"/>
          <p:cNvPicPr/>
          <p:nvPr/>
        </p:nvPicPr>
        <p:blipFill>
          <a:blip r:embed="rId7"/>
          <a:stretch/>
        </p:blipFill>
        <p:spPr>
          <a:xfrm>
            <a:off x="-304920" y="525780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200572411292352"/>
          <p:cNvPicPr/>
          <p:nvPr/>
        </p:nvPicPr>
        <p:blipFill>
          <a:blip r:embed="rId8"/>
          <a:stretch/>
        </p:blipFill>
        <p:spPr>
          <a:xfrm>
            <a:off x="6781680" y="51814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0572411292352"/>
          <p:cNvPicPr/>
          <p:nvPr/>
        </p:nvPicPr>
        <p:blipFill>
          <a:blip r:embed="rId9"/>
          <a:stretch/>
        </p:blipFill>
        <p:spPr>
          <a:xfrm>
            <a:off x="4648320" y="5257800"/>
            <a:ext cx="2828880" cy="2238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39625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汉仪趣味体简"/>
                <a:ea typeface="汉仪趣味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434340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一班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015.4.5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1066680" y="609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094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礼仪教育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666880" y="685800"/>
            <a:ext cx="3467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《潜能阅读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380880" y="533520"/>
            <a:ext cx="3276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区角活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幼儿在园的一日活动中，区角活动是重要的环节之一，区角活动有着它独特之处，其最大的特点在于：它给予了幼儿自由的游戏空间和自主的游戏氛围，是幼儿自我学习、自我发现、自我完善的活动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在此活动中可以培养宝宝们做事的坚持性，可引导他们与同伴建立起友好的关系，学会如何谦让、如何分享。而且，不同的区域还可发展宝宝不同的智能。为使幼儿园区角活动有序、有效的进行，让每一个幼儿都能在这些区角中得到均衡发展，本学期，根据幼儿的年龄特点及幼儿发展需要，我们将开展八个区域活动，美工区，益智区，娃娃家，建筑区，结构区，图书区，小超市，自然角下面我就简单对每个区角做个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图示 9" descr=""/>
          <p:cNvPicPr/>
          <p:nvPr/>
        </p:nvPicPr>
        <p:blipFill>
          <a:blip r:embed="rId2"/>
          <a:stretch/>
        </p:blipFill>
        <p:spPr>
          <a:xfrm>
            <a:off x="444600" y="1292400"/>
            <a:ext cx="840744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304920"/>
            <a:ext cx="4647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班一日作息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685800" y="152280"/>
            <a:ext cx="2743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要保育工作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685800" y="228600"/>
            <a:ext cx="420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、本学期重大活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6094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五、家长协助事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现行的方式主要是个别交谈、电话联系、开家长会、向家长开放半日活动、家长园地和家园联系手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工作的配合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孩子升入中班后，我们将加强幼儿的日常的常规训练和行为习惯的培养。特别是幼儿的午餐习惯、午睡习惯、学习习惯和行为习惯的培养。习惯的培养光靠幼儿园的教育肯定是不够，需要家长在家里和我们在目标和要求上达成一致，持续地共同来培养和督促幼儿使其形成一定的习惯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80880"/>
            <a:ext cx="5715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生活自理能力的培养上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4508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家长不能包办代替到底，放开手，给孩子一个动手尝试的机会。（结合中班的要求来讲）在课程的实施过程中需要家长配合的实在很多。比如：带物品、帮助孩子完成调查表或者帮助孩子查资料等等，这些都需要您的配合，因为您的积极配合是我们活动开展的关键，也是孩子获得发展的重要因素。在这里我对小班阶段每位家长给予我们的支持表示由衷地感谢，也希望在以后的工作中家长们能一如既往地支持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4572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育儿经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81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．孩子在家家长也应配合督促他们有个好的卫生习惯，如在家开饭前可以让孩子自己动手摆桌椅、餐具端饭、分筷子。同时还要教育孩子文明进餐，坐姿要端正，嚼的时候不发出难听的声音；饭后也要主动地收拾碗筷、餐桌面，教育孩子参加家务劳动，帮助成为有责任感、爱劳动的人。让幼儿做力所能及的事情：叠衣服、被子、收拾玩具、整理自己的房间。让他们先做简单的事，这样孩子才有信心去完成。参加劳动，既是学习的过程又是锻炼的过程，在这个过程中和会有成功和失败。教育孩子战后胜困难、不怕失败树立信心，学会自己的事自己做。提高责任感。如果孩子没有完成分配给他的家务活，比如饭前的准备工作，你可以对他说：“要是你收拾好了桌子我们就可以开饭了。”慢慢的孩子就会意识到其行为所产生的好坏不同的效果。这样就懂得了自己在家中的作用和责任了。不要用金钱作为对孩子从事家务劳动或其他成绩的奖励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10"/>
          <p:cNvSpPr/>
          <p:nvPr/>
        </p:nvSpPr>
        <p:spPr>
          <a:xfrm>
            <a:off x="685800" y="533520"/>
            <a:ext cx="4038480" cy="6426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家长会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34120" y="25146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472428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班级情况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学习习惯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1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中班幼儿年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2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本学期教材及区角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3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一日作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3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主要保育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4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本学期重大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5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家长协助事项以及育儿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培养孩子珍惜时间？许多孩子不会珍惜时间，这和家长对孩子的娇惯有很大的关系。有的孩子早上爱睡觉每天早上一遍又一遍的叫，知道上学迟到，爸妈还得帮忙穿衣服，叠被子。这样不利于培养孩子的时间观念，也助长了孩子依赖父母的习惯。不要觉得孩子还小“树大自然直”，对孩子做事少闻少问，正确的行为不鼓励强化，错误的行为不坚决制止，时间长了，问题就会越来越突出，好习惯没有养成，却形成了许多坏习惯。在家要配合幼儿园培养幼儿的好的、科学的作息习惯，树立孩子的时间观念培养孩子做事专一，抓紧时间的习惯。让孩子早睡早起，有充分的睡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533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乱发脾气时家长应立即指出他的错误，并对他的错误冷淡下来，不理睬他，直到孩子软下来，再给他讲道理。当孩子有进步时，如实同一件事，现在不再发脾气或减轻了，要及时地表扬鼓励，久而久之，孩子正确的行为得到了巩固，错误的行为就会消除。不要让孩子感到乱发脾气的好处，更不要急急忙忙向孩子妥协。要让他知道发脾气不会让大家喜欢，乱发脾气不会有收获，这样孩子在乱发脾气达不到目的的过程中，学会会自我控制，慢慢就会改掉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坐不住怎么办？安安静静的坐着或长时间专注做一件事，对于大多数的孩子是一件很困难的事。好动，坐不住的孩子很难专心听讲。孩子坐不住和“多动症”并不是一回事，一般来说，孩子坐不住不是一种病态，是特定年龄所表现的一种特定的行为特征。如：坐椅子上不停的左右摇晃、跪在椅子上，或一会站一会坐，喜欢打扰别人；在教室里不会轻轻的走，到处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533520"/>
            <a:ext cx="2667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活动中培养兴趣，爱玩是孩子的天性，父母可以和孩子做有意思的游戏：搭积木、橡皮泥、拼图画画、讲故事情节长的故事，让孩子在比较长的时间里专心做事情，可锻炼孩子的持久力、意志力里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游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头人’当说到“不许说不许动”时要求双方停止活动，可以锻炼自我控制能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奖励与惩罚 如果用各种办法都不行时，尤其是孩子应该做自己的事情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晚上睡觉的时间）家长一定要严厉得责令他立即安静做自己的事，如果孩子一贯很闹，突然能安静时哪怕是几分钟，也要鼓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533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本班老师电话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18288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李婷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1640" y="175248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730903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QQ:165378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 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3200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4" descr=""/>
          <p:cNvPicPr/>
          <p:nvPr/>
        </p:nvPicPr>
        <p:blipFill>
          <a:blip r:embed="rId2"/>
          <a:stretch/>
        </p:blipFill>
        <p:spPr>
          <a:xfrm>
            <a:off x="2730600" y="133200"/>
            <a:ext cx="3700440" cy="1177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720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不再接听电话，有事请拨打幼儿园统一电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5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8570880" cy="981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94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尊敬的家长，幼儿园教育不万能，但幼儿园会尽力，家庭教育不可少，望家长多重视。总之，要多给自己的孩子一点关爱，多为他们的成长作些准备。每一个成功的孩子背后都有一位成功的家长，教育好孩子是我们共同的责任，需要我们共同努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cab8fb3df341b458ee90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Text Box 4"/>
          <p:cNvSpPr/>
          <p:nvPr/>
        </p:nvSpPr>
        <p:spPr>
          <a:xfrm>
            <a:off x="144792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380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入则孝，出则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3962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出必告，返必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3520" y="990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用正确的方式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孩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让孩子也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父母、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吊绳秋千0004"/>
          <p:cNvPicPr/>
          <p:nvPr/>
        </p:nvPicPr>
        <p:blipFill>
          <a:blip r:embed="rId2"/>
          <a:stretch/>
        </p:blipFill>
        <p:spPr>
          <a:xfrm>
            <a:off x="0" y="6058080"/>
            <a:ext cx="9372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1028055565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Text Box 3"/>
          <p:cNvSpPr/>
          <p:nvPr/>
        </p:nvSpPr>
        <p:spPr>
          <a:xfrm>
            <a:off x="1676520" y="2819520"/>
            <a:ext cx="5790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大家工作顺利，合家欢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汉仪秀英体简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13" descr="小人0008"/>
          <p:cNvPicPr/>
          <p:nvPr/>
        </p:nvPicPr>
        <p:blipFill>
          <a:blip r:embed="rId2"/>
          <a:stretch/>
        </p:blipFill>
        <p:spPr>
          <a:xfrm>
            <a:off x="0" y="0"/>
            <a:ext cx="23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小人0009"/>
          <p:cNvPicPr/>
          <p:nvPr/>
        </p:nvPicPr>
        <p:blipFill>
          <a:blip r:embed="rId3"/>
          <a:stretch/>
        </p:blipFill>
        <p:spPr>
          <a:xfrm>
            <a:off x="5105520" y="6153120"/>
            <a:ext cx="4038480" cy="70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80880" y="238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另外一位老师是相超。对工作都很认真负责，对孩子也很有耐心和细心。希望各位家长以后多多支持我们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572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班级情况介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5410080" cy="40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066680"/>
            <a:ext cx="83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们中一班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位老师。我叫李婷婷，是中一班的班主任。我今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岁，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七月获得了青岛市级骨干教师的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7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二、学习习惯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11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601120" cy="3382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 Box 53"/>
          <p:cNvSpPr/>
          <p:nvPr/>
        </p:nvSpPr>
        <p:spPr>
          <a:xfrm>
            <a:off x="533520" y="533520"/>
            <a:ext cx="761976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、中班幼儿的年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注意力集中了。集中精力从事某种活动的时间也较以前延长，小班一堂课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，中班为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0—2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能动能静。反应快，动作灵活，活泼好动特点在中班孩子身上表现尤为突出。他们总是不停的变换姿势和活动方式。如动动手、伸伸腿或做小动作、自由的奔跑等，不能很好的控制自己，掌握自己的行动，显得比小班幼儿自由放松，甚至无拘无束。但是，这里有一个问题，就是中班的孩子好动，因此，孩子与孩子间容易产生肢体的接触，特别是一些比较调皮的孩子会有攻击性行为。这是中班孩子一个较普遍的特点。所以本学期老师会不停地提醒孩子接下去该做什么了，帮助他们养成幼儿园生活、学习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嘴巴甜。这一阶段的孩子连贯性语言开始发展，运用语言交往的积极性明显提高。比较爱讲话，甚至不分场合和时间，甚至讨好老师，比如喜欢在老师面前告状。根据这个特点，我们时刻要求孩子回答问题完整，能说一整句，就不说半句，能说半句，就不说两个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孩子产生攻击性行为多了的原因有很多，比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一，幼儿平时喜欢看一些攻击性强的电视，如警匪片、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奥特曼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等，幼儿的模仿力较强，好奇心也教强，比如：他们在平时看了攻击性强的镜头，如奥特曼打怪兽后就像尝尝当宇宙英雄的感觉。于是来到幼儿园就把其他小朋友当作怪兽打。结果被打疼的幼儿就哭者来告诉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二，现在的孩子都养尊处优，在家里当惯了小公主，小皇子，要什么给什么的日子。因此在幼儿园里受了一点委屈就动手打人。 第三，攻击性行为和肢体摩擦是中班孩子的一个特点，到了这个年龄孩子会产生渴望与人交往的心理，但是往往力不从心，不知道如何发起交往，因此才会有肢体的冲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标注 4">
            <a:hlinkClick r:id="rId2" action="ppaction://hlinksldjump"/>
          </p:cNvPr>
          <p:cNvSpPr/>
          <p:nvPr/>
        </p:nvSpPr>
        <p:spPr>
          <a:xfrm>
            <a:off x="3352680" y="4419720"/>
            <a:ext cx="1981440" cy="990360"/>
          </a:xfrm>
          <a:prstGeom prst="downArrowCallout">
            <a:avLst>
              <a:gd name="adj1" fmla="val 25011"/>
              <a:gd name="adj2" fmla="val 25009"/>
              <a:gd name="adj3" fmla="val 25000"/>
              <a:gd name="adj4" fmla="val 6497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19"/>
          <p:cNvSpPr/>
          <p:nvPr/>
        </p:nvSpPr>
        <p:spPr>
          <a:xfrm>
            <a:off x="7621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需要我们正确对待，耐心地在实际生活中多教孩子一些正确的交往方式，多鼓励。不要采取简单的方法去制止和责备。我希望家长能摆好一个心态，就是孩子本身并不是有意识的去“打架”，所以希望家长谅解，也多配合我们的工作，在活动中向幼儿灌输团结友爱的思想。比如多多向幼儿讲述一些团结友爱的故事，激发幼儿的团结意识，和我们一起指导幼儿正确与人交往的技巧，减少幼儿攻击性行为的产生。 （宋佳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、本学期教材与区角介绍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141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绍教材：本学期我们继续使用五大领域的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术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引导幼儿进一步学习多种绘画方法，体验不同艺术表现形式的魅力。鼓励幼儿运用色彩、线条、形状等大胆进行美术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普通话表达，发音清楚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完整的句子较连贯地讲述自己经历的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讲述观察到的事物和现象，进行简单的归纳和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乐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索求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514600" y="1523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765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3808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弟子规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4-04T01:14:21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