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E8935-4816-4FF9-8EB6-3993B26FB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159B6-9170-473B-B061-2D8D5C26B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EFACD-3F36-453C-B943-03298668E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5A984-48A9-439B-B5F9-919B59F4B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2DC3B-FD8A-469A-8F2C-590FA9E76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576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D1A3D-0D27-4C35-A0F5-52AB6F836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3CCBA-59FF-4DDD-AB58-1E72AFF9D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C2ECD-90AE-4874-8811-DDA8B772F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40AF0-538C-4FB1-8762-ECA028E7E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C11C9-3034-4C0F-9688-8146371E5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4B34D-85F1-4C85-9878-D777EE848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7A47A-5D86-429D-BAE4-FBB52F2D4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576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9640" y="1341000"/>
            <a:ext cx="806472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E4C16-E470-4122-A8CF-AB48F521763D}" type="slidenum">
              <a:rPr b="0" i="1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hyperlink" Target="http://t.sina.com.cn/iwps/" TargetMode="External"/><Relationship Id="rId4" Type="http://schemas.openxmlformats.org/officeDocument/2006/relationships/image" Target="../media/image5.jpeg"/><Relationship Id="rId5" Type="http://schemas.openxmlformats.org/officeDocument/2006/relationships/hyperlink" Target="http://t.qq.com/kingsoftwps/%0D" TargetMode="External"/><Relationship Id="rId6" Type="http://schemas.openxmlformats.org/officeDocument/2006/relationships/image" Target="../media/image6.jpeg"/><Relationship Id="rId7" Type="http://schemas.openxmlformats.org/officeDocument/2006/relationships/image" Target="../media/image7.png"/><Relationship Id="rId8" Type="http://schemas.openxmlformats.org/officeDocument/2006/relationships/hyperlink" Target="http://www.wps.cn/moban/%0D" TargetMode="External"/><Relationship Id="rId9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6"/>
          <p:cNvSpPr/>
          <p:nvPr/>
        </p:nvSpPr>
        <p:spPr>
          <a:xfrm>
            <a:off x="4033800" y="4286160"/>
            <a:ext cx="4681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"/>
          <p:cNvSpPr/>
          <p:nvPr/>
        </p:nvSpPr>
        <p:spPr>
          <a:xfrm>
            <a:off x="5494320" y="4719600"/>
            <a:ext cx="32209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10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806472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zh-CN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C9EE5CB396054df19B979EC0F7B01197#&#9;#图片框 34"/>
          <p:cNvPicPr/>
          <p:nvPr/>
        </p:nvPicPr>
        <p:blipFill>
          <a:blip r:embed="rId1"/>
          <a:stretch/>
        </p:blipFill>
        <p:spPr>
          <a:xfrm>
            <a:off x="1619280" y="907920"/>
            <a:ext cx="6502320" cy="48769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93F89F9C865247b18379B32E3FE8034F#&#9;#图片框 35"/>
          <p:cNvPicPr/>
          <p:nvPr/>
        </p:nvPicPr>
        <p:blipFill>
          <a:blip r:embed="rId2"/>
          <a:stretch/>
        </p:blipFill>
        <p:spPr>
          <a:xfrm>
            <a:off x="1692360" y="1343160"/>
            <a:ext cx="1657440" cy="91116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B4E55EC4134047329A4B12D55A5EE310#&#9;#图片框 36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182680" y="3143160"/>
            <a:ext cx="576360" cy="56196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D9D11583AD2F440784893F80D387CAEC#&#9;#图片框 37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197080" y="3790800"/>
            <a:ext cx="530280" cy="540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2701800" y="3278160"/>
            <a:ext cx="4318200" cy="12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http://t.sina.com.cn/iwps/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http://t.qq.com/kingsoftwps/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956F6D7C2D274828957DC3722AA84D88#&#9;#图片框 39"/>
          <p:cNvPicPr/>
          <p:nvPr/>
        </p:nvPicPr>
        <p:blipFill>
          <a:blip r:embed="rId7"/>
          <a:stretch/>
        </p:blipFill>
        <p:spPr>
          <a:xfrm>
            <a:off x="2413080" y="2565360"/>
            <a:ext cx="3044880" cy="36216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3279600" y="5673600"/>
            <a:ext cx="547056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更多模板下载：</a:t>
            </a:r>
            <a:r>
              <a:rPr b="0" i="1" lang="zh-CN" sz="1600" spc="-1" strike="noStrike" u="sng">
                <a:solidFill>
                  <a:srgbClr val="009999"/>
                </a:solidFill>
                <a:uFillTx/>
                <a:latin typeface="Arial"/>
                <a:ea typeface="微软雅黑"/>
                <a:hlinkClick r:id="rId8"/>
              </a:rPr>
              <a:t>http://www.wps.cn/moban/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3T00:13:00Z</dcterms:created>
  <dc:creator/>
  <dc:description/>
  <cp:keywords/>
  <dc:language>en-US</dc:language>
  <cp:lastModifiedBy>GZB</cp:lastModifiedBy>
  <cp:lastPrinted>1899-12-30T00:00:00Z</cp:lastPrinted>
  <dcterms:modified xsi:type="dcterms:W3CDTF">2012-09-09T03:18:52Z</dcterms:modified>
  <cp:revision>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855</vt:lpwstr>
  </property>
  <property fmtid="{D5CDD505-2E9C-101B-9397-08002B2CF9AE}" pid="3" name="NXTAG2">
    <vt:lpwstr>000800c401000000000001024140</vt:lpwstr>
  </property>
</Properties>
</file>